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BA9E-8BA3-45D2-AB9D-260FC8C81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gnitive: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عرف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D023-9607-41A7-8D92-874E96E43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6E3-2E9C-43EE-A80C-CC3F0E25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B4C-061B-4BB1-9E22-600C6657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7E1C9-AB3F-4BAC-A972-FEAC6C45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FABF8-9974-4927-8B62-2771ED18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E61C2-5219-49FF-A6E5-67C98054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BB82D-3C04-4DB0-B0A3-65D4A5EA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B8304-C44F-471E-B76A-28E48BDB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512AD-8845-4A37-9BCB-1F5825AF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B1069-60C8-476A-9B76-4A7D3832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9BD99-38DC-4DBC-A4BB-7DF7F009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98A77-A1D0-4015-A5C6-5C7F2D52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6AB-3B73-4AE1-B08A-1210F13A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EA04-B368-45C4-BBAF-25B8D562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E217-16F4-40FC-A1D2-FF18486C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8C00-5D48-42A6-9F72-AB04341F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DD31-C34D-4DE1-9E75-6E27EF07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A6DE-6EC8-4421-AB85-7ED6BA8B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E696-FF2E-4155-B8B4-420CA52C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5A85-8B8F-4FFF-A042-5F501B7A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A602-A52F-49B2-8F79-FA41B16B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B1E2-0297-476E-AEC6-432B8B00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1729-9A36-454D-BEF4-5A9D5093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4410-8A9A-4900-A444-1CBF370F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232F-DD5F-4231-BC48-599B1FAB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CE03-9E38-44BB-B277-1D06C35F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5A18-BC42-4996-BAF7-FEB9EDC4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E7194-54E5-4BE1-96D1-9A7D2758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51B1F-7B53-4F91-9D3E-6491D94B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B0F6C-68EC-44CD-84A9-F3B20132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BF626-763A-42E3-A567-73C8C361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8B8E2-B2FC-4DEC-9166-4B6BF443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0612-4F1F-4F36-87C1-45AD2323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C6C62-6991-4D9F-A558-6AB05240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813C9-4BDF-4D8C-A265-89225729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E4A8E-50D2-4488-8293-CA566992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EBB6E-809A-445A-80D8-4FD5AEA5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40193-B3FE-4CC3-BEFC-712643E1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234E9-E0FB-489A-82B0-C60970D9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19BD2-25A3-4BED-99DF-DCA85944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59986-3F39-478A-85E1-1E4DA1C2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BCBE9-C7D7-4C98-A49E-51959716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771A6-D0F9-44A9-A9B0-828A524A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2E3-C7B2-48CB-BC41-11FF5206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F249C-E01A-43AB-B0FC-A9666B9F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82CE5-E112-418E-B57D-F3FA831D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CB84F-256F-455F-A189-94FACE32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D2822-14B9-4D88-B5E5-6378DFEA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CF9D2-F5B0-4465-B6F0-3AACF1BD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AA62B-D313-42FC-B3FD-CB40AD1A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FD6BD-26F4-44FD-8C50-F43B5E40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6F513-E6FA-4DAC-972C-8527DC03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6CE3F-94BE-4FF7-A158-0AA4E20F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2FA1E-E019-41A9-85C5-7DC79415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678A-9656-4B94-89C0-AFDD052C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D730A-D8DD-4023-8154-98837E2A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55F6A-6CF8-4DE5-9056-5EF92CAA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9606C-D95C-45B0-A9F0-55453DF1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16532-0694-44D1-A8DB-3998A828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CF63C-20F1-443B-8EFB-7951EA8D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82205-8376-4517-BF28-574F71C7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9D62B-DF5E-49E3-A05E-C5F85483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1E73B-8FD5-4643-91E9-1D3CD2E0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3DF2A-F9E2-4D02-B9B4-137F108D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B06BD-853D-47E3-A2E6-FF8EC154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0E88-A730-4FA6-9129-10CA7C48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EB60E-5DFD-4DD1-8A0D-40169E2D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C70E6-7A31-4888-8289-511CE5E0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1EBCD-8418-4C01-A9A8-7B8B3305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772EE-FCA9-4696-BFA3-B3FA2F7A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F492DD-88A5-45C2-8418-F6BD0633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86E39C-3486-4AD2-B36C-5C8EF1F8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F65CB-E4F8-4AFC-B37C-221F2973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0B4EC1-ABD1-4F11-9FE5-EF18E2E1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E19641-613A-4768-8234-40FA1197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40ED0-DE93-4CFB-A884-AD74385E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936-6B7B-403E-BFCC-1B1E6710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722757-ACA5-45C2-92B7-6A863FAB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0D9DA0-DD6E-4E94-814A-EAC4A1A5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8DF943-707A-4D6A-8F2B-74A0C629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ED609-FA8A-4BFC-90E1-981CB819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6F015-9382-4384-9FF5-C33085E2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526D7-3A3D-4200-BF2B-26260EF8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20B34-FF8F-4495-BD30-1F91AF4A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BCDE6-4747-4C9E-BAA0-3215D9BD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7B7BD-04A4-4E38-8AD7-F6D30B54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A0846-F4E5-4517-9E20-EF1BF647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80C2-B9DE-4C6C-AF4D-58124934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3F2F9-9C84-4D60-87EB-A65E748C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17DA4-AD81-4552-9D33-621E489A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0F1FF-443C-4561-8437-CDFC8129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57C04-AE91-465A-8B30-0576F598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1804D-8F08-49DA-8B78-F4D45A1E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1CE0BF-C8A7-4353-9450-644009FA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217E95-1E07-45C1-B611-873C381F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A90AAC-0E32-4563-831A-0BC49B1C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3474CD-F8DB-467B-94F6-9F2BC8B2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79ED28-8B80-4618-89D9-2A2FE2C1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D59D-B8F6-4D1F-B7DE-701448B3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C7BE43-2532-4BD8-A940-2573AA8F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CA8984-4EEB-4515-8048-92FC82C8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81D2DC-69CE-4C77-AA34-650F2E9D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64538E-E0FD-4B9D-9E21-0381F267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D73780-5C24-44DB-BCDF-9BE7FBBA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715C3E-92F2-44C5-8F41-20E76B26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B3E054-ACC7-4895-9BC8-99FD49DD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1C8EF-6798-4B11-B7B1-68E763E1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FBDCF-A7FA-416A-AF75-8BB77815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88910-A05C-4EFF-86B9-2C9CC9E4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2057-9851-4B48-BB5E-B7404A47FD8B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43000" y="6408720"/>
            <a:ext cx="558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AB61-E026-4BEF-86F1-48868D700EF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KSU-Logo"/>
          <p:cNvPicPr/>
          <p:nvPr/>
        </p:nvPicPr>
        <p:blipFill>
          <a:blip r:embed="rId2"/>
          <a:stretch/>
        </p:blipFill>
        <p:spPr>
          <a:xfrm>
            <a:off x="76320" y="58006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F0B3-AB6A-4296-8B50-782A719AD7D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CE13-F9CE-4DD2-B749-ABAC0E2FDA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ight Triangle 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9984-F4E2-4200-962A-BD1906BDFE8A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80880" y="6416640"/>
            <a:ext cx="6019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7E88-ADE3-479B-884C-17617DCF64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8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1" name="Chevron 11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12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07FA-8FAD-4145-9621-F0507ECB34F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02CB-6F21-48A5-B982-50D5C34C3C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7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C4DC-038C-4475-86A7-5BFF0AC10B3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D036-BAB3-47DF-8E8A-5AB80F34FF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EDEF-0AE9-43D3-9B15-964AC3C13CC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B20D-5182-4AE4-A8B4-C96A45993E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8"/>
          </p:nvPr>
        </p:nvSpPr>
        <p:spPr>
          <a:xfrm>
            <a:off x="456840" y="6408720"/>
            <a:ext cx="627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65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7559-2EB3-4A5D-BA17-25177335DBF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A8A3-C224-47B9-91A3-3D054209CB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D43B-2172-49FB-9F28-552645056CE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E718-32FE-4F8E-93F7-019982B6FB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456840" y="6408720"/>
            <a:ext cx="627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3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56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B943-C1B8-4737-931A-C46A50309EBA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250E-2AF1-4658-816F-62C432EA80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7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Rectangle 10" descr=""/>
          <p:cNvPicPr/>
          <p:nvPr/>
        </p:nvPicPr>
        <p:blipFill>
          <a:blip r:embed="rId1"/>
          <a:stretch/>
        </p:blipFill>
        <p:spPr>
          <a:xfrm>
            <a:off x="609480" y="536400"/>
            <a:ext cx="7851960" cy="38833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066320" y="464832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hapter 3. Information Input and Process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art – I*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Prepared by: Ahmed M. El-Sherbeeny, PhD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*(Adapted from Slides by: </a:t>
            </a:r>
            <a:r>
              <a:rPr b="1" i="1" lang="en-US" sz="1900" spc="-1" strike="noStrike">
                <a:solidFill>
                  <a:srgbClr val="000000"/>
                </a:solidFill>
                <a:latin typeface="Lucida Sans Unicode"/>
              </a:rPr>
              <a:t>Dr. Khaled Al-Saleh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7F71-8A99-4E5C-80F3-09A3A9F9FE0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rma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it can be measured (part I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it can be displayed (part II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it can be coded (part II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4655-56B9-4BE0-9868-22CB659190B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rmation Processing is AK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gnitive Psycholog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gnitive Engineer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ngineering Psycholog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jectives of Information Theor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nding an operational definition of inform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nding a method for measuring inform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te,  most concepts of Info. Theory are descriptive (i.e.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qualitativ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s.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quantitativ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rmation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(De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duction of Uncertainty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mphasis is on “highly unlikely” even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xample (information in car)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asten seat belt”: likely event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 not imp. in Info. Th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emperature warning”: unlikely event ⇒ imp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BC67-795E-46D6-B583-B59ED98E7F0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se 1: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≥ 1 equally likely alternative event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 amount of information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[Bits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 number of equally likely alternativ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.g.: 2 equally likely alternatives ⇒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⇒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i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De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: “amount of info. to decide between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equally likely (i.e. 50%-50%) alternatives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.g.: 4 equally likely alternatives⇒               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.g.: equally likely digits (0-9)⇒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.g.: equally likely letters (a-z)⇒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ote, for each of above, unit [bit] must be state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3" descr=""/>
          <p:cNvPicPr/>
          <p:nvPr/>
        </p:nvPicPr>
        <p:blipFill>
          <a:blip r:embed="rId2"/>
          <a:stretch/>
        </p:blipFill>
        <p:spPr>
          <a:xfrm>
            <a:off x="2762280" y="1324080"/>
            <a:ext cx="3763800" cy="96192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18" descr=""/>
          <p:cNvPicPr/>
          <p:nvPr/>
        </p:nvPicPr>
        <p:blipFill>
          <a:blip r:embed="rId3"/>
          <a:stretch/>
        </p:blipFill>
        <p:spPr>
          <a:xfrm>
            <a:off x="6629400" y="2971800"/>
            <a:ext cx="2124000" cy="4478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0" descr=""/>
          <p:cNvPicPr/>
          <p:nvPr/>
        </p:nvPicPr>
        <p:blipFill>
          <a:blip r:embed="rId4"/>
          <a:stretch/>
        </p:blipFill>
        <p:spPr>
          <a:xfrm>
            <a:off x="6334200" y="4267080"/>
            <a:ext cx="2124000" cy="4478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6" descr=""/>
          <p:cNvPicPr/>
          <p:nvPr/>
        </p:nvPicPr>
        <p:blipFill>
          <a:blip r:embed="rId5"/>
          <a:stretch/>
        </p:blipFill>
        <p:spPr>
          <a:xfrm>
            <a:off x="6248520" y="4876920"/>
            <a:ext cx="2733480" cy="4474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8" descr=""/>
          <p:cNvPicPr/>
          <p:nvPr/>
        </p:nvPicPr>
        <p:blipFill>
          <a:blip r:embed="rId6"/>
          <a:stretch/>
        </p:blipFill>
        <p:spPr>
          <a:xfrm>
            <a:off x="6248520" y="5495760"/>
            <a:ext cx="2733480" cy="447840"/>
          </a:xfrm>
          <a:prstGeom prst="rect">
            <a:avLst/>
          </a:prstGeom>
          <a:ln w="0">
            <a:noFill/>
          </a:ln>
        </p:spPr>
      </p:pic>
      <p:sp>
        <p:nvSpPr>
          <p:cNvPr id="434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C861-4FA5-4A09-97EE-BB25F4A4C64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se 2: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≥ 1 non-equally likely alternative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mount of information [Bits] for single event, 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 probability of occurrence of single event, 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ote, this is not usually significa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(i.e. for individual event basi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" descr=""/>
          <p:cNvPicPr/>
          <p:nvPr/>
        </p:nvPicPr>
        <p:blipFill>
          <a:blip r:embed="rId2"/>
          <a:stretch/>
        </p:blipFill>
        <p:spPr>
          <a:xfrm>
            <a:off x="3124080" y="1295280"/>
            <a:ext cx="2514600" cy="10242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3" descr=""/>
          <p:cNvPicPr/>
          <p:nvPr/>
        </p:nvPicPr>
        <p:blipFill>
          <a:blip r:embed="rId3"/>
          <a:stretch/>
        </p:blipFill>
        <p:spPr>
          <a:xfrm>
            <a:off x="1238400" y="2295360"/>
            <a:ext cx="285480" cy="44784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5" descr=""/>
          <p:cNvPicPr/>
          <p:nvPr/>
        </p:nvPicPr>
        <p:blipFill>
          <a:blip r:embed="rId4"/>
          <a:stretch/>
        </p:blipFill>
        <p:spPr>
          <a:xfrm>
            <a:off x="1219320" y="2819520"/>
            <a:ext cx="276120" cy="447480"/>
          </a:xfrm>
          <a:prstGeom prst="rect">
            <a:avLst/>
          </a:prstGeom>
          <a:ln w="0">
            <a:noFill/>
          </a:ln>
        </p:spPr>
      </p:pic>
      <p:sp>
        <p:nvSpPr>
          <p:cNvPr id="452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519D-E405-47E9-A801-CC22EE1E61D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se 3: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verage info. of non-equally likely series of event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verage information [Bits] from all ev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robability of occurrence of single event, 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 num. of non-equally likely alternatives/ev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.g.: 2 alternatives (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nemy attacks by land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  <a:ea typeface="Lucida Sans Unicode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0.9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nemy attacks by sea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  <a:ea typeface="Lucida Sans Unicode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0.1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2"/>
          <a:stretch/>
        </p:blipFill>
        <p:spPr>
          <a:xfrm>
            <a:off x="1219320" y="2971800"/>
            <a:ext cx="276120" cy="44784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1" descr=""/>
          <p:cNvPicPr/>
          <p:nvPr/>
        </p:nvPicPr>
        <p:blipFill>
          <a:blip r:embed="rId3"/>
          <a:stretch/>
        </p:blipFill>
        <p:spPr>
          <a:xfrm>
            <a:off x="2971800" y="1419120"/>
            <a:ext cx="3352680" cy="131760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4"/>
          <a:stretch/>
        </p:blipFill>
        <p:spPr>
          <a:xfrm>
            <a:off x="1152360" y="2514600"/>
            <a:ext cx="524160" cy="4478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5"/>
          <a:stretch/>
        </p:blipFill>
        <p:spPr>
          <a:xfrm>
            <a:off x="1828800" y="4924440"/>
            <a:ext cx="2981160" cy="117144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9" descr=""/>
          <p:cNvPicPr/>
          <p:nvPr/>
        </p:nvPicPr>
        <p:blipFill>
          <a:blip r:embed="rId6"/>
          <a:stretch/>
        </p:blipFill>
        <p:spPr>
          <a:xfrm>
            <a:off x="4876920" y="5191200"/>
            <a:ext cx="3952800" cy="6760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11" descr=""/>
          <p:cNvPicPr/>
          <p:nvPr/>
        </p:nvPicPr>
        <p:blipFill>
          <a:blip r:embed="rId7"/>
          <a:stretch/>
        </p:blipFill>
        <p:spPr>
          <a:xfrm>
            <a:off x="2448000" y="5943600"/>
            <a:ext cx="5400720" cy="647640"/>
          </a:xfrm>
          <a:prstGeom prst="rect">
            <a:avLst/>
          </a:prstGeom>
          <a:ln w="0">
            <a:noFill/>
          </a:ln>
        </p:spPr>
      </p:pic>
      <p:sp>
        <p:nvSpPr>
          <p:cNvPr id="478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9C6C-B19D-45E4-B7B0-E51E6B38B4F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se 4: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dundanc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f 2 occurrences: equally likely ⇒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  <a:ea typeface="Lucida Sans Unicode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  <a:ea typeface="Lucida Sans Unicode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= 0.5 (i.e. 50 % each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  <a:ea typeface="Lucida Sans Unicode"/>
              </a:rPr>
              <a:t>max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 e.g. in last slide, departure from max. inf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= 1 – 0.47 = 0.53 = 53%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ote, as departure from equal prob. ↑ ⇒ %Red. ↑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.g.: not all English letters equally likely: “th”,“qu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%Red. of English language = 68 %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S. How about Arabic languag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3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6234120" cy="838080"/>
          </a:xfrm>
          <a:prstGeom prst="rect">
            <a:avLst/>
          </a:prstGeom>
          <a:ln w="0">
            <a:noFill/>
          </a:ln>
        </p:spPr>
      </p:pic>
      <p:sp>
        <p:nvSpPr>
          <p:cNvPr id="501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00FA-DD9A-469A-B148-7390CF5F9B9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533160" y="83808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periment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ubjects: exposed to different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timul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time is measur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.g. 4 lights – 4 butt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ick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(1952)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Varied number of stimuli (eq. likely alternative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e foun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s # of eq. likely alt.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↑ ⇒ reaction time to stimulus ↑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action time vs. Stimulus (in Bits)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inear fun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yman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(1953)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Kept number of stimuli (alternatives) fix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Varied prob. of occurrence of events ⇒ info. Var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e found: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“Hick-Hyman Law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GAIN: Reaction time vs. Stimulus (in Bits):  linear function!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2484-6CCB-4776-991F-29A84B22AA9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40:45Z</dcterms:created>
  <dc:creator>IMedia</dc:creator>
  <dc:description/>
  <dc:language>en-US</dc:language>
  <cp:lastModifiedBy>User</cp:lastModifiedBy>
  <dcterms:modified xsi:type="dcterms:W3CDTF">2014-10-13T21:01:34Z</dcterms:modified>
  <cp:revision>341</cp:revision>
  <dc:subject/>
  <dc:title>Photo Album</dc:title>
</cp:coreProperties>
</file>