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19F3-0FA8-41E3-AB3B-BA279D621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nitive: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معرف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45AF-66DA-4E1E-9FBD-E48B4DC1B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A7E-B0FF-44E2-BBF9-84C302E2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3B5-9750-460B-B77E-9199413B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BA64E-4692-4E93-A6CC-FD50260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615D6-5C91-40FD-94E0-E053CB3E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181B6-FEA8-4C9B-AA5B-3B80BA2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1B582-43A9-4E7F-97D0-0C0E988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ECF35-9273-4552-A6D6-0B4F327A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16065-FF62-4424-903B-B1033F7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26735-48C0-42A5-9959-1A999BAB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F338F-1C11-46EB-90A6-3B2854F9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B6D35-D9AA-4CEA-A007-FCF0B025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958-0BB6-46DA-907F-EE235417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1BC-0522-4767-833B-F2D6540F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E3CE-F6B8-4218-95E1-36D7D706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7C33-3C9C-4487-B619-13D9789D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66D1-D24B-4146-BF61-9615164F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F903-0035-4EE4-883B-79F838E4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92DC-9527-4F8C-9972-E9D03429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A0BF-3CD7-4F7C-9F01-ED1F724C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B5AB-FD3A-4DC1-B8F4-F5E1C583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E94-3374-4DAB-AC23-C5C684A7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E993-D126-459D-B3DE-D0BB830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C020-1720-43E9-99B1-95976E6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543A-9ED8-4095-9549-8AFB644B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D44A-C555-4986-9DDF-92BB831A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4B16-A2A0-4F29-ADB5-4C721126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32235-879B-410F-A2D2-78D9BA8C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C49B-280B-49A7-BA56-C86D7F4B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EFF7-0770-4A61-93C4-ADAA936F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3202-94AB-4DB8-A2CD-A658B94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461B-722E-4EAF-822F-B5925661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F35-9CE0-4BB1-ADF7-9677F51C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AC02-611E-4B49-8EEE-B589F1A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8CF0-136D-4165-88EE-2A7D1FAF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7B62-C9B1-492A-A3F2-999A65B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3DCBD-448C-4632-B546-00CA5B78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2A28-54B4-4AE4-A34C-226F22A9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3B4F-31E7-483A-BA7A-7095EEB4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7336-F319-493F-9E27-4838D4F5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4394F-126A-4E76-AF6C-1C58DCC4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FF223-8CCF-4DF7-82E9-75CA7CEE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23E9B-7ABC-4DAA-A821-661F59FE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11D-E6E5-4F10-9843-4657BB1A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2A32D-861B-43D7-A0A8-8997219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70A7D-0232-4FA7-8583-17E6C5EF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17F9B-81E0-4881-AF0D-35BEE18E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84FAB-32C8-4C31-9FB0-F63F6D7B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8330-2140-4D44-9E45-AFA3CDF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42DE-DC4E-43B8-9016-CBBF299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9050F-D1D8-4A8A-A67E-694026CD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A853-6074-447F-AE87-95ADA239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F6E72-E95D-4192-9AD1-A7317532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4E5F0-1844-4A54-A116-EF6AB111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C7B-032D-4D4E-8E74-857A27D7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967B8-3226-4BB6-99B7-38145729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6345C-FA67-4092-9733-B8BAD6B8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67260-D986-48D6-AC2A-A770C7DE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5F8D9-6D90-4F8A-A827-D5FBA488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9B85D-6FC8-4463-B44D-DF616627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7B1B-A4A7-4204-B9A0-092E0524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5A909-32CE-4900-8005-55EFD5A6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434A-F9E1-4F5D-9EF1-C45A078B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EF4DC-2D79-41D6-A08B-5DE0992B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C6944-172C-49EE-822D-69686863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CCB-39DC-4131-BCC6-223A75BF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DF3E3-F22F-47E8-8972-93D94097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86996-741C-4DF7-AC0B-235EBD3D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35FB8-33C2-4C76-84DB-A891135D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7B686-ADDB-408F-A29C-C58F468A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01465-F987-4950-89BC-D368C78A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CE60E-B46D-4896-85F9-89564755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50BCC-8403-4096-AA60-C6368B68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7F073-9A3E-46BF-A489-E63A92F7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F4413-CACD-4B9E-97B6-5D4CDD91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99814-871A-423F-83C2-FB2260E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176-2050-4360-A487-E2A14A8A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6106E-3EE2-4D34-9DC4-BE298D38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077CD-BBB2-48CA-97C8-3B22055A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E13D1-2E7F-4543-B5CC-9CB0B51E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97D8-AF50-4266-AB4E-2CBA615A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3C140-D678-4F31-9A91-E2B3399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76DDE-3294-4D9F-8901-2BC18FEC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E1E21-9648-4774-AA11-1CA72B7E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2CF56-2C6F-4BFC-AD6C-07C16F4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DBC8F-886B-43D7-A60E-24137FB6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D806C-646C-49AE-AE8C-1A37E898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C60-786C-4468-936A-9CA6441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A547F-A430-4718-BA5E-85F257C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D8727-A78F-4C60-B500-BF27B1CE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167A-8E50-4F30-9EE9-180C5028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62844-D634-4665-ADD8-88821DFF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7BA1F-D70C-44B1-A412-A645D92C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192F52-625F-4234-8BEE-701D9459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D9BC65-282F-48CB-8217-4B9C5025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42DA0-D98D-4EE0-936B-0714007D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E88E2-80B1-4975-B93C-C5F03882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79D96-291B-4235-A3F5-9764C3B1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F55-95F4-484A-9AEC-9389F17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06666-7984-491B-8BCF-09B3053B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F24B75-82D6-41B6-A9E4-844D0810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710A24-6C91-458A-B006-4F043058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5779D-E129-4291-98FA-B0D63CE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45AD68-533C-4AF3-A4F9-88DF87FD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16801-9E64-4565-BB7D-8F5D4525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381B2-3B87-4972-BB84-7782971F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43F53-C228-440D-929C-BF485568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0F28D-6D12-4A3B-AF60-56CD6A2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8B34C-25AD-437F-B8DC-F32011EF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F597-F9DB-4081-AFBF-1117D564C54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F618-97B7-4499-A909-BF9C40EBD71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98D3-A471-4B68-B674-6ED5FAF76E6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1F38-C54D-417C-90A3-75E008F9F6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4150-60CE-4EE4-B833-41F01E47C4F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A60B-F33C-406E-BEAA-D7AF54E662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940B-C44E-4989-984C-5DEE21CBA51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061D-0EAF-44C9-A569-EA4D8D8067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787A-AF92-42D2-9E75-C4ABA5C06AA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318B-B854-45C9-92EA-C1E4F54E7E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9297-44B0-46CB-A1EA-C1BDDAC7710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285C-7134-441A-B308-D047ADC74F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A8EF-CC35-4EA6-9ACF-DDB1C36E806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139C-E927-4946-AF32-6374D92BA3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259-6C2D-4FD7-9278-D51391C1BC4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4396-8FD9-4620-9BBC-1DAC03F96D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C1BE-9ABA-4139-82F7-C0C16472743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76AB-894D-4DE5-979F-151C5400E9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7851960" cy="38833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apter 3. Information Input and Process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 – I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*(Adapted from Slides by: 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Dr. Khaled Al-Saleh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78CF-04C7-47B7-A08B-81D1C8BF63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measured (part 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displayed (part I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coded (part I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05D5-FE12-4DDD-8120-9472ECD2E6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Processing is AK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gnitive Psycholog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gnitive Engineer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gineering Psycholog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jectives of Information Theor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ding an operational definition of infor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ding a method for measuring inform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,  most concepts of Info. Theory are descriptive (i.e.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qualitativ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s.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quantitative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De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duction of Uncertainty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mphasis is on “highly unlikely” ev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ample (information in car)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asten seat belt”: likely event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not imp. in Info. Th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emperature warning”: unlikely event ⇒ imp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B2FB-6FA1-400A-8023-957F977177A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e 1: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 1 equally likely alternative even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amount of informatio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Bits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number of equally likely alternati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2 equally likely alternatives ⇒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⇒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i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D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: “amount of info. to decide between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equally likely (i.e. 50%-50%) alternatives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4 equally likely alternatives⇒               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equally likely digits (0-9)⇒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equally likely letters (a-z)⇒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te, for each of above, unit [bit] must be stat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3" descr=""/>
          <p:cNvPicPr/>
          <p:nvPr/>
        </p:nvPicPr>
        <p:blipFill>
          <a:blip r:embed="rId2"/>
          <a:stretch/>
        </p:blipFill>
        <p:spPr>
          <a:xfrm>
            <a:off x="2762280" y="1324080"/>
            <a:ext cx="3763800" cy="9619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8" descr=""/>
          <p:cNvPicPr/>
          <p:nvPr/>
        </p:nvPicPr>
        <p:blipFill>
          <a:blip r:embed="rId3"/>
          <a:stretch/>
        </p:blipFill>
        <p:spPr>
          <a:xfrm>
            <a:off x="6629400" y="2971800"/>
            <a:ext cx="2124000" cy="4478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0" descr=""/>
          <p:cNvPicPr/>
          <p:nvPr/>
        </p:nvPicPr>
        <p:blipFill>
          <a:blip r:embed="rId4"/>
          <a:stretch/>
        </p:blipFill>
        <p:spPr>
          <a:xfrm>
            <a:off x="6334200" y="4267080"/>
            <a:ext cx="2124000" cy="4478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6" descr=""/>
          <p:cNvPicPr/>
          <p:nvPr/>
        </p:nvPicPr>
        <p:blipFill>
          <a:blip r:embed="rId5"/>
          <a:stretch/>
        </p:blipFill>
        <p:spPr>
          <a:xfrm>
            <a:off x="6248520" y="4876920"/>
            <a:ext cx="2733480" cy="4474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8" descr=""/>
          <p:cNvPicPr/>
          <p:nvPr/>
        </p:nvPicPr>
        <p:blipFill>
          <a:blip r:embed="rId6"/>
          <a:stretch/>
        </p:blipFill>
        <p:spPr>
          <a:xfrm>
            <a:off x="6248520" y="5495760"/>
            <a:ext cx="2733480" cy="4478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1ACF-C91A-49BB-876D-0DD9FD9D932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e 2: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≥ 1 non-equally likely alternative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mount of information [Bits] for single event, 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probability of occurrence of single event, 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te, this is not usually significa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i.e. for individual event basi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2514600" cy="10242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3"/>
          <a:stretch/>
        </p:blipFill>
        <p:spPr>
          <a:xfrm>
            <a:off x="1238400" y="2295360"/>
            <a:ext cx="285480" cy="4478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5" descr=""/>
          <p:cNvPicPr/>
          <p:nvPr/>
        </p:nvPicPr>
        <p:blipFill>
          <a:blip r:embed="rId4"/>
          <a:stretch/>
        </p:blipFill>
        <p:spPr>
          <a:xfrm>
            <a:off x="1219320" y="2819520"/>
            <a:ext cx="276120" cy="447480"/>
          </a:xfrm>
          <a:prstGeom prst="rect">
            <a:avLst/>
          </a:prstGeom>
          <a:ln w="0">
            <a:noFill/>
          </a:ln>
        </p:spPr>
      </p:pic>
      <p:sp>
        <p:nvSpPr>
          <p:cNvPr id="45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25D9-AF77-4845-A681-44E545A30D8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e 3: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verage info. of non-equally likely series of event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verage information [Bits] from all ev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robability of occurrence of single event, 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 num. of non-equally likely alternatives/ev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2 alternatives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nemy attacks by land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0.9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nemy attacks by sea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0.1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276120" cy="44784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" descr=""/>
          <p:cNvPicPr/>
          <p:nvPr/>
        </p:nvPicPr>
        <p:blipFill>
          <a:blip r:embed="rId3"/>
          <a:stretch/>
        </p:blipFill>
        <p:spPr>
          <a:xfrm>
            <a:off x="2971800" y="1419120"/>
            <a:ext cx="3352680" cy="131760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4"/>
          <a:stretch/>
        </p:blipFill>
        <p:spPr>
          <a:xfrm>
            <a:off x="1152360" y="2514600"/>
            <a:ext cx="524160" cy="44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5"/>
          <a:stretch/>
        </p:blipFill>
        <p:spPr>
          <a:xfrm>
            <a:off x="1828800" y="4924440"/>
            <a:ext cx="2981160" cy="117144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9" descr=""/>
          <p:cNvPicPr/>
          <p:nvPr/>
        </p:nvPicPr>
        <p:blipFill>
          <a:blip r:embed="rId6"/>
          <a:stretch/>
        </p:blipFill>
        <p:spPr>
          <a:xfrm>
            <a:off x="4876920" y="5191200"/>
            <a:ext cx="3952800" cy="6760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1" descr=""/>
          <p:cNvPicPr/>
          <p:nvPr/>
        </p:nvPicPr>
        <p:blipFill>
          <a:blip r:embed="rId7"/>
          <a:stretch/>
        </p:blipFill>
        <p:spPr>
          <a:xfrm>
            <a:off x="2448000" y="5943600"/>
            <a:ext cx="5400720" cy="647640"/>
          </a:xfrm>
          <a:prstGeom prst="rect">
            <a:avLst/>
          </a:prstGeom>
          <a:ln w="0">
            <a:noFill/>
          </a:ln>
        </p:spPr>
      </p:pic>
      <p:sp>
        <p:nvSpPr>
          <p:cNvPr id="478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FABD-2B8E-4CBB-A678-B0FAD5A8487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se 4: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f 2 occurrences: equally likely ⇒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 0.5 (i.e. 50 % eac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  <a:ea typeface="Lucida Sans Unicode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 e.g. in last slide, departure from max. inf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 1 – 0.47 = 0.53 = 53%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te, as departure from equal prob. ↑ ⇒ %Red. ↑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: not all English letters equally likely: “th”,“qu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⇒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%Red. of English language = 68 %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S. How about Arabic languag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6234120" cy="8380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65F7-63ED-4A9F-A2F0-C2679C4B32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eriment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bjects: exposed to different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timul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time is measur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.g. 4 lights – 4 butt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ick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1952)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ried number of stimuli (eq. likely alternative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e foun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s # of eq. likely alt.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↑ ⇒ reaction time to stimulus ↑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action time vs. Stimulus (in Bit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inear fun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yman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1953)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Kept number of stimuli (alternatives) fix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ried prob. of occurrence of events ⇒ info. Var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e found: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“Hick-Hyman Law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GAIN: Reaction time vs. Stimulus (in Bits):  linear function!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269-9B3B-47D2-97F9-EE50E36DF9A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dcterms:modified xsi:type="dcterms:W3CDTF">2014-10-13T21:01:34Z</dcterms:modified>
  <cp:revision>341</cp:revision>
  <dc:subject/>
  <dc:title>Photo Album</dc:title>
</cp:coreProperties>
</file>