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4B9-DD92-4761-9EF3-545F8B27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F97-4836-419E-8299-84322A7D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84937-8502-44B0-BE44-1EB5F1DC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A434-31C5-4951-B2AF-C95076A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5C645-93AE-406E-80D8-00C7CD9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A738-823B-4298-B1F0-D8256AA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A37AA-3BE4-418C-AC77-9B1CE2D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0CA1A-A7B1-40A2-BC31-B281217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5D136-67B8-4D93-B48C-87BEE6F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477A6-F36A-453F-AAF8-9BAAC1EF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1F8E1-6EC5-4A23-95B4-6C2EF952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BC4-6472-4127-8912-3809B107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66E-647F-456A-A3BB-CF0C6BA4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90F-DB20-4CD2-AEC4-9F862F07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58DC-41FD-4A7F-A42F-AEBDC94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655-A045-4E4C-B07D-53A0DF8E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4BAF-C166-4A09-BAB7-47A4C2EF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502-1BD1-45BF-B22D-FD6161E8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590-FE8D-4420-9B10-B37D10A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4F09-9F63-4C63-AE6D-3643302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6B9-0DDD-48E2-9660-5D419A5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592-E011-433B-ABC9-68C35128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E7F-2F5B-45C2-AFFB-842423E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751-C70B-427D-B505-C79421C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2E4-4C6F-4DFD-8032-E86BC7B0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8D2A-2F55-462B-A7DE-A8231344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426C-603D-4015-B9F4-BCCD7851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A803-5F54-43C0-A223-C9B80F5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2AB9-383C-46A7-B426-F3A80C0C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4856-B135-4559-B7F1-0785481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C96C-5248-4314-8106-1E0CD88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88F-7095-48D2-93BC-5DCD239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A420-CA3F-473F-90BC-DFDA4E7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A139-4226-47EF-AC11-247B408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8B83-97D8-4CBB-A976-ABACCBAB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45AC-82F4-4280-82B1-BF8528B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33E5-8F29-4070-9053-389877DF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2599-806F-48BC-A974-9C6F1503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C7EF-9695-4315-93AA-88E97940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3171-CD6A-4845-9050-7DF1924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7B20-1A41-479E-B8DA-3E9CE1FC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1821-41B3-41F2-A810-8879931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7A8-0C91-4CAD-BA44-041C43DF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1687-05BD-4E2F-AE6D-19042A7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DD6A-9D2A-4201-A64C-08EFECA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ED52-B74C-4F37-B572-974233E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EE50-87CC-4C62-89E1-85DFE07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5F75-08DF-4399-9457-B0F96A1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AEB0-BA53-4700-B839-B080F86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0BC6-B99F-4237-859A-C0848387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5477-FA85-4994-8804-A72AB307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3EAD-4985-41CC-A013-45F55751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4C3D-126C-498D-AA2A-AD0A29D7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57B-D4DB-4EB6-850C-D225CBD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2E4D-484D-4279-B309-9C24655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E227-D218-4209-93E8-AC00D84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7F67-4992-4251-81C2-A31BF58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0BE0-C433-4B05-B7BE-2668B96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026A-0C5C-465D-90ED-BBEAC11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6129-5FAC-4B1D-9752-FE72970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A82E-D8E0-4EF7-8D12-8D086A4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769D-0F9D-493D-97F9-E1F0059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7B5C-BA8E-4EB6-A4D3-CA4705B3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5BB0-30DF-4A49-A8C4-308C1949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12B-A829-4AE3-A0CB-BDBB2DD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000D-A92F-4A8C-83CE-51A78BB7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59F58-FF85-4023-8446-EB33414E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36C43-0938-4F69-ADAD-C8FD870B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00B7B-22D0-44EE-9405-91CAA36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488B0-F88C-40CF-823C-986D051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14D5F-53C2-4965-B965-CDB1DAE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6931C-87A0-4888-A1CE-04A23618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47C81-08CF-4B3F-860D-472BE61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B50D0-9765-4AEC-AC0B-B5F5FA6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8BB35-82FF-44E0-B62C-97EE4DD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339-29EC-46D0-9445-1EE3EB1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18ED5-7187-4BAF-8678-2C6A8DE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372CD-781F-47C2-9127-8D3FC509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ECF17-119F-484B-9DD5-7A5F777A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C4B25-B9AC-4A3F-8B85-128F0D57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1658B-6327-4447-8CCD-DC045CF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16A2-4BE3-4580-9324-D8CE624B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D352-0767-4492-9736-859DF6D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7438-D0FE-408F-9AC1-172B9E5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EFC1-5A55-487E-889F-9B3BFD8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F048-9490-4152-88F4-CA69070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E33-9C1E-4B93-99FD-A22DDF9B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795C-324E-435C-93F0-904E4D5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A0DE-BEC4-4CC2-94A7-EFC2D54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491E-AC42-4F59-8E29-4FF94BB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D2C9-D39D-48C7-AFEF-DB72AEE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562F-4F90-4FD8-BAA2-9E20DDF3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C4611-ECDF-423A-9FB0-3E51178C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DE5F5-906D-4A73-87CB-207C0BE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9FEDD-15B8-4B41-A6A3-86CF1CC3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DE966-9D06-44B2-9F9E-C0D4E79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B21C3-07B3-4EB7-8B7C-F4A5CCF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A52-62C2-41CC-A856-C0685C7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10836-BBCA-4D68-86A9-6A296EE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BCA3D3-C742-4E19-81B4-88FB1B7C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6DDE9-4EEB-4730-84E8-E43C16F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44628-46AE-45D9-9C5E-07FFE88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7E735-C295-4B3D-9F47-C26D089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7EB10-EA7D-42AF-826D-ED0609D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6FAB9-F16C-481A-A1FE-C0C35D33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25DBC-5DC3-4711-AA58-D79829C7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2157-3679-445D-A4EC-72E58D1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CE51-AE84-4DB1-8C30-0A17DFF6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045-C0A4-4D0A-BC9A-ECEC56EA11F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2976-C713-4AA8-9A0E-4C4FF2BF32F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781-8E34-494B-B2B3-6CF98B276D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482-0C91-44DD-B724-C2E43C77BD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18D5-6DA3-41CD-9A2C-9929531125A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8453-F1CE-4AAC-9041-155D7DE859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74F-936B-4D4B-A726-D20ABEA5D6D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EE53-AB19-472B-AE24-6ED721B58A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C5CC-7707-4254-AE81-040D73F350B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7C01-9BC1-403F-AB8E-645D5CF020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0D15-847B-4E05-9183-88290667C37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82F-779E-4922-8D08-ACB418CB06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669-D9B5-45E5-9162-95785E46EFC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062-3C2A-402A-8DB7-BCFAA165A3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587-01F0-4F1F-9FDC-C94E5E53F6A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3112-FC99-4C5A-8163-CECE7F716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097-F6D5-4FCE-BC9C-E507739AF5F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3FD4-6A23-4EAE-8858-307F881815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3. Information Input and Proces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I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4E24-00A5-4D6F-8D7A-E0EA3F8A18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is coded along various dimen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ying the size, brightness, color and shape of targets on a computer scre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ying the frequency, intensity, or on-off pattern of an audio warning signa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f the above variations constitutes a dimension of the displayed stimulus, or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imulus dimens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E05-6139-4165-A841-85468D682F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fulness of any stimulus dimension in conveying information depends on the ability of people 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dentify a stimulus based on its position along the stimulus dimension (such as identifying a target as bright or dim, large or smal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an example of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absolute judgment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tinguish between two or more stimuli which differ along the stimulus dimension (such as indicating which of the two stimuli is brighter or larg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an example of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relative judgment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2F55-6900-4377-BD91-73083F2E31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ectabilit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imulus must be detectable by human sensory mechanisms under expected environmental condi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is worker able to see the control knob in min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riminabil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ry code symbol must be discriminable (differentiable) from other symbo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coding levels is impor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eaningfulne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ding system should use codes meaningful to us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 could b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inherent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in the code (e.g. bent arrow on traffic sig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learne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e.g. red color for dang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fulness: related to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nceptual compatibil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E791-4696-44D0-A7CC-B7B125F30C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Standardisation 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of codes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 coding system is to be used by different people in different situations, it is important that the codes be standardised, and kept the same for different situ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 meaning of the red color in different parts of a fact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Use of 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multidimensional cod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is can increase the number and discriminability of coding stimuli us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6B7E-492F-4D83-B3BE-A07311FB74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the relationship between the stimuli and the responses to human expectat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major goal in any design is to make it compatible with human expectat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lated to the process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formation transform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e degree of compatibility,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ecording must be done to process in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leads to faster learning and response time, less errors, and reduced mental worklo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like things that work as they expect them to wor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023-CAAC-4BB8-A7C9-DA4B1836F5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Four types of compatibili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oda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1. Conceptual compatibili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lated to degree that codes, symbols correspond to conceptual associations people hav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t relates to how meaningful codes and symbols are to people who use the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: airplane symbol to denote an airport on a map means much more than a square or cir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: creating meaningful abbreviations and names for computer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C70A-6C96-446D-999D-D0377203BE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2. Movement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ates to the relationship between the movement of the displays and controls and the response of the system being displayed or controll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to increase the volume on the radio, we expect to turn the knob clockwi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upward movement of a pointer is expected to correspond to an increase in a parame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3. Spatial Compati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s to the physical arrangement in space of controls and their associated displ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how displays are lined-up with respect to corresponding control knob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F4F8-B08D-44A8-9364-99F00775B41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odality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s to the fact that certain stimuli-response modality combinations are more compatible with some tasks than with oth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responding to a verbal command that needs verbal action is faster than responding to a written or displayed command requiring the same verbal a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78C-67FF-4FD7-8C02-D7B204A959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measured (part 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display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cod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170-A866-4F68-B11D-46A582CFA4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information input and processing depends on the sensory reception of relevan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xternal stimu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hich contain th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iginal source of information (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al stimulu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is some object, event, or environmental condi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from the distal stimulus may come to 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l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direct observation of plane), 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ndirectl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radar or telescop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E86-38E8-4DBA-BFD8-05075A5194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case of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direct sens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 new distal stimuli may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ded stimuli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visual or auditory displays), or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produced stimuli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TV, radio, hearing aid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both cases the coded or reproduced stimuli become the actual distal stimuli to the human sensory recepto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factors are required whe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dire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nsing appl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term that applies to any indirect method of presenting information (e.g. highway traffic sign, radio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AA4-C550-4B2B-BC36-C668362340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presented by displays can b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 information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hanges continuously or is subject to change through time. Examples are: traffic lights, radar displays, temperature gau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 information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emains fixed over time. e.g: alphanumeric data, traffic signs, charts, graphs, label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e that static information presented through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VD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s (video display terminals) is considered static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AD6-EF3A-4B2C-9F5A-0880671194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ntita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such as temperature or spe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a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represents approximate value, trend or rate of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u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reflects the condition of a system (such as on or off, and traffic light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arning and sign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indicating danger or emerg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6A62-C53C-4DDE-855E-0F384755BE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presentation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pictorial or graphical representation of objects, areas, or other configurations, e.g. photographs, maps, heartbeat oscill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ntific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used to identify a condition, situation or object, e.g. traffic lanes, colored pip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phanumeric and symbol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e.g. signs, labels, printed material, computer printou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ime-pha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display of pulsed or time-phased signals. The duration and inter-signal intervals are controll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D5E-1CD6-484A-A9BD-382250C9B2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ual or auditory displays? Tactual sense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lection of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nsory modal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pends on a number of consider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ble 3.1 helps in making a decision regarding visual or auditory presentation of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2430360" y="3276720"/>
            <a:ext cx="6713640" cy="3581280"/>
          </a:xfrm>
          <a:prstGeom prst="rect">
            <a:avLst/>
          </a:prstGeom>
          <a:ln w="0">
            <a:noFill/>
          </a:ln>
        </p:spPr>
      </p:pic>
      <p:sp>
        <p:nvSpPr>
          <p:cNvPr id="43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F27-A508-4F61-9AAC-65D974E83F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d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s place when the original stimulus information is converted to a new form and displayed symbolicall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adar screens where the aircrafts are converted and presented as dots on the scr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ps displaying populations of different cities with different symbol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69E0-39E5-41ED-9837-4408C32BB3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13T21:01:54Z</dcterms:modified>
  <cp:revision>368</cp:revision>
  <dc:subject/>
  <dc:title>Photo Album</dc:title>
</cp:coreProperties>
</file>