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B757-E7C9-422B-9537-E5672A93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75F-4927-4010-88B3-1EFD10BF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AD86E-AA32-4BEA-AEED-41CED06A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F6E85-B1EB-4A2E-91C0-93D25145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425BB-0892-4F23-8C90-5B2E4580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B237B-D641-4A09-8CD9-F3782771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62532-6ED4-4825-9ECE-38431B11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E00E7-5501-4652-B3B6-1C91A131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3BDE6-1546-4019-9DDE-21BF4B21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091FB-9139-4404-83AB-68C17B75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7F02C-D736-45A9-B71A-B85C97A7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076F-4FBC-49F3-91BB-DB2A382B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E10B-900E-4BD0-9D85-E8DF9925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A3A6-49FC-4618-9DF5-72EB3205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754D-0A61-4418-B940-493E1032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661A-EE0C-4991-B4B7-D584D4DB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A741-5382-4D2B-8E0D-C48C3B87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6597-152F-412B-ABF3-83685E4E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65E1-0C61-4EE0-AFEC-7403C11E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8585-28F1-400F-B3DA-E81E8D55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B64C-5ADE-4FF9-BB6B-1DF4BE2D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15E4-1C44-43DD-AC59-1063E06D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5DC4-CAE0-4D2F-955F-90FB4B65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7C61-E124-49BC-ADC5-F7460AF1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FB6C-07CA-4EF7-A6DD-F0FCF54A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05ED-86F2-46C3-8CD3-A8CBB7BB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1B882-7C75-4B15-AEF8-737801F1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5F168-F406-4EC4-BDA9-8F11A103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A92CF-4DD5-4CA0-B76C-0B840A9A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00AFF-1D34-49AC-9136-AC9EA947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0C1BF-3B85-46FF-B477-C41EA6A9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08B-DC1F-4030-9A53-6AD224E4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98C9B-C577-488F-9A4F-E350841C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A0E67-A26A-45CA-AE3D-F728605B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CD4C7-F9B9-4976-BC21-47E8E62F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50236-6ABD-472A-9132-87ED2051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04059-787A-4998-B7B6-F0B22C76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E8CF1-2B4C-41D6-A70E-62F8D309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28AC0-0A94-400A-B7A6-F2F73049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95EB5-01CC-493F-B18A-943820CA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721E3-C263-4B67-8C42-606DE155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B2CD6-25F3-463D-848F-DB3CB959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6F0-F183-4D9B-AE27-431040BB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D8868-0FC9-4796-9F6D-E73805F9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301C0-B2D1-4F97-A4DF-1D51134C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8C3FB-B8DF-4870-B776-FA0953FF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BE233-5FB4-4C36-83C0-26E36CAB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1CA40-E43C-4A69-9EF4-15ECB984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5F500-B413-4122-8C86-0752B8EC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E618B-D116-41C2-8796-559545F0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0AFE1-A2C5-430B-898D-C62CA8F5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DB65B-BF04-43BF-A818-3CBF97BA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B3F30-C247-49A0-916A-BB2B23A3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1E4F-A94D-4A72-A66F-92009CD1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FF76B-84BD-4536-9B61-34ADCEAA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9AE76-993A-435A-A6E6-A3431D34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3AAAC-B3C9-42FD-9125-C12ED136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19B06-204F-45B8-A872-6013A7FF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3D2A8-3164-43F7-98AC-8CC09492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7A061-F955-4A6E-8BAD-81F5AC3B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E0840-E18C-44ED-9809-3C3AD78D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B099A-E08D-415B-86B5-01160F60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1E431-EEB9-412B-840E-5DE56B1B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6568D-DBD8-4994-ABCC-F6B00624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4A8-2AAD-4CB0-834C-FD6579DA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4775A-A43A-4C9C-BAA2-DF543166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ECCEE6-8420-4739-AD88-6C06A636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8B63EB-95E5-4057-A162-42368FC8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B875E8-D51B-435D-B089-EB0CEB84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E4C015-0A14-4E46-A101-38BB8D26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55369C-7865-48CA-B5F4-E79A8BF4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E9967E-68F6-449A-ABE1-5B684DD9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6E64B6-6CB3-49C2-A56F-992956C5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870434-F07C-4339-988A-A49B8AE0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69D8DB-4DEE-48B4-9405-0C90EE76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083-E391-44E9-9021-737B5D0F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BADA58-A816-4C12-A7B5-7330A213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4E376A-581B-4AD3-AFC8-F225E7F1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C5A7FF-6806-437A-A399-8CB89B61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E3E13-8540-4CC1-9D9B-9AC57730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1BD2D-C28E-4E93-9CFE-42C481DC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FA23F-69B9-48AA-A513-C8353D89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055F0-130D-454E-967E-C6E976FD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4F228-FD79-4581-B80B-F68CD627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90C44-6F7B-4692-A5F8-5A62B68F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66D76-2531-4742-8B99-451D8EE3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D318-9C77-4469-87F8-7F96197C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7A9DB-604B-4C52-A5D5-25541147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2CA6E-5958-421D-AFBA-7C81F4FB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65CF8-4A6E-4EE2-BCD8-90FB48FA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8C06C-CDF6-42F2-8960-470B580D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D716C-D6CB-44F9-A4F1-5B2947A4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152E99-AFC6-4DCA-A03B-1EEEF969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68F0A6-7256-4524-A17E-55D333C1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6CBED9-4940-4BD3-9DAF-AE87872E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19EA2E-1525-4875-89A9-4F53AF0D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55E9C6-1CC3-4D6B-A808-BB0B9A69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1E9-926A-4DB0-A58B-23CE19D2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30F614-E68D-4AC4-8AD3-9322C1F2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ECD17D-C1DB-4A87-8DD0-DE17CD33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4005D7-1248-4E34-83F0-CD3A83E9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7FD6A3-D237-4F9C-960B-B9FAE543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111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99E293-E419-4D78-821D-F3892232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111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38F7BE-CA66-4241-93D4-60AC7690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111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9A9B1D-3E9B-4C6E-BC9B-D1AB6960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8AF9F-51DB-4CD2-A913-BB791E0C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09E29-C907-4A0B-B811-9D164621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50486-3C8C-4653-8288-57303915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65E6-B29A-42BE-AF2A-F577F22A0212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43000" y="6408720"/>
            <a:ext cx="558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0723-E38A-4B3D-B0C4-5B8F4C268EB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KSU-Logo"/>
          <p:cNvPicPr/>
          <p:nvPr/>
        </p:nvPicPr>
        <p:blipFill>
          <a:blip r:embed="rId2"/>
          <a:stretch/>
        </p:blipFill>
        <p:spPr>
          <a:xfrm>
            <a:off x="76320" y="580068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150F-0F21-44D3-9A77-84655FC9E78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8D34-5A1A-4893-8332-133BE61BA2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ight Triangle 6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896D-38C5-416E-A520-2EFC7362C7BB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80880" y="6416640"/>
            <a:ext cx="6019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613E-BEC6-419B-8ADD-9D07957AE44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8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1" name="Chevron 11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12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9862-4D53-4E1B-8672-80587803F5B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2C59-A6FB-4829-B14A-BD8EE3316C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7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69CB-FFF8-439A-940A-0DA4F65A909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ACA3-0CC1-412D-AB2E-35786D3EC5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6DC2-C663-4A16-B6B1-745B4FA6B97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63CC-BF0F-4F41-8EE3-A65A3B6735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8"/>
          </p:nvPr>
        </p:nvSpPr>
        <p:spPr>
          <a:xfrm>
            <a:off x="456840" y="6408720"/>
            <a:ext cx="627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65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7772-4CFB-48AC-8118-7A67E09D111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5CC1-02DB-4393-A132-A12846B6A7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BB0D-196F-4E79-A115-AF4BFC13CAC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E490-9014-47EB-9AD6-AE4372AB27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456840" y="6408720"/>
            <a:ext cx="627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E-442 Human Factors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l-Sherbeeny, PhD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3" name="Right Triangle 9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Straight Connector 10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56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D7E5-4C7D-463E-94C8-5170F43F0C68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E-442 Human Factors  El-Sherbeeny, PhD Fall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ED0E-F77E-4C6C-8474-0B5E7A8FEAB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7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Rectangle 10" descr=""/>
          <p:cNvPicPr/>
          <p:nvPr/>
        </p:nvPicPr>
        <p:blipFill>
          <a:blip r:embed="rId1"/>
          <a:stretch/>
        </p:blipFill>
        <p:spPr>
          <a:xfrm>
            <a:off x="609480" y="536400"/>
            <a:ext cx="7851960" cy="38833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066320" y="464832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hapter 3. Information Input and Process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art – II*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Prepared by: Ahmed M. El-Sherbeeny, PhD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*(Adapted from Slides by: </a:t>
            </a:r>
            <a:r>
              <a:rPr b="1" i="1" lang="en-US" sz="1900" spc="-1" strike="noStrike">
                <a:solidFill>
                  <a:srgbClr val="000000"/>
                </a:solidFill>
                <a:latin typeface="Lucida Sans Unicode"/>
              </a:rPr>
              <a:t>Dr. Khaled Al-Saleh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35F0-BA2C-41B2-9718-96158481123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rmation is coded along various dimens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arying the size, brightness, color and shape of targets on a computer scre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arying the frequency, intensity, or on-off pattern of an audio warning signal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of the above variations constitutes a dimension of the displayed stimulus, or 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timulus dimensio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50A2-C0D6-43B6-B165-AB4DAF659AB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usefulness of any stimulus dimension in conveying information depends on the ability of people 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dentify a stimulus based on its position along the stimulus dimension (such as identifying a target as bright or dim, large or small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s is an example of 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absolute judgment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istinguish between two or more stimuli which differ along the stimulus dimension (such as indicating which of the two stimuli is brighter or larger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s is an example of 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relative judgment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131E-9D99-4659-8568-8E96180BEE8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tectability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cod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imulus must be detectable by human sensory mechanisms under expected environmental condi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.g. is worker able to see the control knob in min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iscriminabilit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cod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very code symbol must be discriminable (differentiable) from other symbo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number of coding levels is importa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eaningfulnes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cod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ding system should use codes meaningful to us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eaning could b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inherent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in the code (e.g. bent arrow on traffic sig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1680" indent="-22392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or 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learned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(e.g. red color for danger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eaningfulness: related to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conceptual compatibilit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CC63-F688-485A-8FF9-6B803501465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</a:rPr>
              <a:t>Standardisation </a:t>
            </a: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of codes</a:t>
            </a:r>
            <a:r>
              <a:rPr b="1" lang="en-GB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en a coding system is to be used by different people in different situations, it is important that the codes be standardised, and kept the same for different situ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e.g. meaning of the red color in different parts of a factor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Use of </a:t>
            </a:r>
            <a:r>
              <a:rPr b="1" lang="en-GB" sz="2800" spc="-1" strike="noStrike">
                <a:solidFill>
                  <a:srgbClr val="000000"/>
                </a:solidFill>
                <a:latin typeface="Lucida Sans Unicode"/>
              </a:rPr>
              <a:t>multidimensional cod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this can increase the number and discriminability of coding stimuli use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44F6-A1B8-44C5-A5DE-D2550DC53B1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is the relationship between the stimuli and the responses to human expectation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major goal in any design is to make it compatible with human expectation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t is related to the process of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information transform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great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the degree of compatibility,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les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recording must be done to process inform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s leads to faster learning and response time, less errors, and reduced mental workloa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eople like things that work as they expect them to work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FC5C-60F4-4F93-B33D-90C032F4AF2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Four types of compatibility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Conceptu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Mov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Spati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Modal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</a:rPr>
              <a:t>1. Conceptual compatibility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related to degree that codes, symbols correspond to conceptual associations people hav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It relates to how meaningful codes and symbols are to people who use the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e.g.: airplane symbol to denote an airport on a map means much more than a square or circ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e.g.: creating meaningful abbreviations and names for computer applic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598D-6DA3-4E80-8921-61F603C6BD8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2. Movement compatibilit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lates to the relationship between the movement of the displays and controls and the response of the system being displayed or controlle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.g.: to increase the volume on the radio, we expect to turn the knob clockwis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.g.: upward movement of a pointer is expected to correspond to an increase in a paramet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3. Spatial Compatibil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fers to the physical arrangement in space of controls and their associated display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.g. how displays are lined-up with respect to corresponding control knob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860B-104F-4973-A2EB-1CDB80D3FEA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Modality compatibility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fers to the fact that certain stimuli-response modality combinations are more compatible with some tasks than with other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.g.: responding to a verbal command that needs verbal action is faster than responding to a written or displayed command requiring the same verbal acti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3104-2982-4619-B3FA-8261523E807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rma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it can be measured (part I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it can be displayed (part II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it can be coded (part II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07C9-72A0-48E6-8D05-A2ABC81CDA0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uman information input and processing depends on the sensory reception of relevan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xternal stimul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hich contain the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original source of information (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istal stimulu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is some object, event, or environmental condi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rmation from the distal stimulus may come to u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irectl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(e.g. direct observation of plane), o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indirectl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(e.g. radar or telescope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2283-50DC-44C9-B00B-BD2256A26F5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the case of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ndirect sens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the new distal stimuli may b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coded stimuli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(e.g. visual or auditory displays), or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reproduced stimuli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(e.g. TV, radio, hearing aid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 both cases the coded or reproduced stimuli become the actual distal stimuli to the human sensory receptor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uman factors are required when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indirec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ensing appli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ispla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term that applies to any indirect method of presenting information (e.g. highway traffic sign, radio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4341-4C4B-4671-9B91-15C5444C187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rmation presented by displays can b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ynamic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tatic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ynamic information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changes continuously or is subject to change through time. Examples are: traffic lights, radar displays, temperature gaug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tatic information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remains fixed over time. e.g: alphanumeric data, traffic signs, charts, graphs, labels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e that static information presented through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VD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’s (video display terminals) is considered static inform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A36E-8DFE-47E7-A986-DDBC4D86CA1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Quantitati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such as temperature or spee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Qualitati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represents approximate value, trend or rate of chan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tatu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reflects the condition of a system (such as on or off, and traffic light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arning and signa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indicating danger or emergen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640D-4AC1-4A7A-AD9F-2EB11FA44E2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presentationa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pictorial or graphical representation of objects, areas, or other configurations, e.g. photographs, maps, heartbeat oscilloscop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dentificatio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used to identify a condition, situation or object, e.g. traffic lanes, colored pip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lphanumeric and symbolic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e.g. signs, labels, printed material, computer printou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ime-phase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display of pulsed or time-phased signals. The duration and inter-signal intervals are controll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DB5E-F716-44EE-9F5F-49C9A76EE30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sual or auditory displays? Tactual sense?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election of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ensory modalit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epends on a number of considera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ble 3.1 helps in making a decision regarding visual or auditory presentation of inform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2"/>
          <a:stretch/>
        </p:blipFill>
        <p:spPr>
          <a:xfrm>
            <a:off x="2430360" y="3276720"/>
            <a:ext cx="6713640" cy="3581280"/>
          </a:xfrm>
          <a:prstGeom prst="rect">
            <a:avLst/>
          </a:prstGeom>
          <a:ln w="0">
            <a:noFill/>
          </a:ln>
        </p:spPr>
      </p:pic>
      <p:sp>
        <p:nvSpPr>
          <p:cNvPr id="431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76EE-099F-4AF1-BB06-962DD58EEF8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822240" y="49356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Rectangle 3" descr=""/>
          <p:cNvPicPr/>
          <p:nvPr/>
        </p:nvPicPr>
        <p:blipFill>
          <a:blip r:embed="rId1"/>
          <a:stretch/>
        </p:blipFill>
        <p:spPr>
          <a:xfrm>
            <a:off x="384120" y="304920"/>
            <a:ext cx="8229600" cy="60948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d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akes place when the original stimulus information is converted to a new form and displayed symbolicall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s ar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adar screens where the aircrafts are converted and presented as dots on the scre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ps displaying populations of different cities with different symbol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9F12-7871-4F13-8979-5383FCA557A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40:45Z</dcterms:created>
  <dc:creator>IMedia</dc:creator>
  <dc:description/>
  <dc:language>en-US</dc:language>
  <cp:lastModifiedBy>User</cp:lastModifiedBy>
  <dcterms:modified xsi:type="dcterms:W3CDTF">2014-10-13T21:01:54Z</dcterms:modified>
  <cp:revision>368</cp:revision>
  <dc:subject/>
  <dc:title>Photo Album</dc:title>
</cp:coreProperties>
</file>