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1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C778C-7B38-4019-967A-709EFDF43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7FAD2-E8D3-4BA5-B47A-750231863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F6BB9-9CA1-4C08-96FE-D0556BF3D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3AF11-C34F-4853-A10A-8F6150614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830E0-FC85-4D80-AC22-C8345F267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7A2FE-8EFE-4DC8-8208-62E32A007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D4EB5-28BE-4665-87C2-DA74ECD01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2E35B-C4AB-4F1E-A8BD-1D0D77A5E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36B94-082C-4808-B654-16A516967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2FBA2-A600-48AC-B677-AD38E81A7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97910-843C-45A1-BC71-03FE5C90A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40118-31CF-4880-B74E-6A0082537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3A063-3599-4D1B-BFBD-CD1709C5D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C3FA0-5CFA-42F9-AB39-B17B7672F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949D5-A3CC-4609-9C9D-45C538207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7FC6E-FB20-4E2C-BACB-E52006B2D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F2D9A-D02A-4942-B565-60348E5D4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BC8DB7-AD78-4131-8373-BDF248000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E21170-42EB-4CF4-8124-0560239AC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AFA157-2B94-41D2-BDA8-64A8ECDDD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8E44A2-77CF-4F3A-9FA3-0CA0F19B4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AC913A-7B55-439A-8438-CFB8B75B0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2C89A-7B47-480B-9BEC-834DA0FA5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F7C3C9-C317-4E7D-80BF-A2F2B5226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89B73B-C11B-4D94-8BAC-4408917DF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A0FAC9-700A-402D-ABFB-877628353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A5C1D6-1C09-4C24-949D-0E0EDC6AC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049F73-1116-4312-BF40-2EC13C1AF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413D36-6D2B-4B26-A810-1002E1469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BD588F-1FF3-4882-9A00-022633D86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14E7A3-6BB4-4F83-8D84-C9930A860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E074B1-9DF6-492F-A75F-CEF2A2449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8B4E52-B669-4DC0-9D08-2C0A1B301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40CCD-1571-4855-B2E6-3418B24C3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1BB464-74F4-4B96-ADE7-745B9EB67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9F0684-67B3-4E65-A3E8-75C09240C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F1C249-82AF-4C86-B30A-6B345F4FE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BCECFE-4EF1-4293-BD63-F43C757D1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973D31-530D-4A58-A6D3-9DD68220D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A3D39A-6566-4B91-84B0-E5301A01C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73BDBF-0300-48F6-8BF5-851B32E46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917751-1649-4E0D-828A-7DBA3D84C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6B4679-42D8-49EA-A8AB-612D504C5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66C21B-61F6-4FA8-BD8B-1B97C71A9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FF57C-3408-469D-8C8C-8102E42BB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914D41-05B3-4F0F-BCB2-1B0D1D195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AA07D7-4DA3-4FFE-9A5B-5B06CDFC4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74EAEC-7539-4671-AA03-A0A4E1AB9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1DEBA6-B4EA-415F-8465-8B9A35AA5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C792CF-2FED-484A-A182-8878E06C3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BC32CB-43FB-405D-A157-6D104FFD0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BAC435-9737-4C6E-9ADB-1B6AD8037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27CFEB-0E95-44CC-84E0-A3D045F0B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6F223F-FBCD-4DD8-AABF-89CB3A0A8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2D57E0-2A82-4C3E-8767-3EFDADE1E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E5C6D-FFAF-48E9-812E-1D9909837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FE85CC-8F40-4DC2-8201-06F29E162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CB5797-F821-4100-979F-5A8370607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7916A0-5582-43C3-9173-7ACF89FE3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CCDA91-E42A-44E8-AB28-797C71930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E88934-1A85-4F0B-827F-863F4A10C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A01B4A-4B11-4E63-927B-9BF333C44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19F7FC-F943-436B-A9D3-76EFCC648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9CB896-297B-4025-AF80-380164AD6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7A70F2-AA56-4EF1-8BBB-80BA9FACA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4F3646-6D27-4B2E-80CD-B4775206F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8DFD0-1236-4748-B0B8-6387868A9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B4BC74-CBDF-464E-A8E9-E7C29FEA3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FC2E6A-F55C-4152-B553-9DC31E2F1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1EB4E9-E429-4F62-BFEB-ACD2BB8D7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86DCAB-4EA0-462B-9E7B-E7359E2F4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3C86B6-9B47-4A07-B407-641D64AA6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07877D-51E9-4513-9468-2CEEF650C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C64071-EA9A-4F0D-B576-5202815C3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FA17A2-B05C-45AB-9DAB-73BF98F20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0A8C32-F3D2-4E08-AE10-21FF77C7F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899F1B-C12B-4BD0-BDD4-12C12FA11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3EAB1-EA9D-4A8D-951D-A51D3CDEF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C47C9C-47FC-493C-99EB-1F645EAF0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57306A-5205-4B3C-A87B-47958AF5A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DD3616-78A9-43D1-A75E-D4098206B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E39B29-466B-410D-AFBA-9BF3136E3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2110BE-F6C2-47FC-9960-0C615825E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1C03E-6C8D-44A5-8DC7-69670C275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دائري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شكل بيضاوي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دائرة مجوفة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دائرة مجوفة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مستطيل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Gill Sans MT"/>
                <a:ea typeface="Majalla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5a788"/>
                </a:solidFill>
                <a:latin typeface="Gill Sans MT"/>
                <a:ea typeface="Majalla U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Gill Sans MT"/>
                <a:ea typeface="Majalla U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84892-3E36-4CF3-BFE7-F2111ECA411B}" type="slidenum">
              <a:rPr b="0" lang="ar-SA" sz="1200" spc="-1" strike="noStrike">
                <a:solidFill>
                  <a:srgbClr val="b5a788"/>
                </a:solidFill>
                <a:latin typeface="Gill Sans MT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مستطيل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دائري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شكل بيضاوي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دائرة مجوفة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دائرة مجوفة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مستطيل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مستطيل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شكل بيضاوي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شكل بيضاوي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شكل بيضاوي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Gill Sans MT"/>
                <a:ea typeface="Majalla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5a788"/>
                </a:solidFill>
                <a:latin typeface="Gill Sans MT"/>
                <a:ea typeface="Majalla U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Gill Sans MT"/>
                <a:ea typeface="Majalla U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BB40B-6DE8-46E2-AA2D-F7D2A1085E61}" type="slidenum">
              <a:rPr b="0" lang="ar-SA" sz="1200" spc="-1" strike="noStrike">
                <a:solidFill>
                  <a:srgbClr val="b5a788"/>
                </a:solidFill>
                <a:latin typeface="Gill Sans MT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مستطيل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مستطيل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شكل بيضاوي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شكل بيضاوي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شكل بيضاوي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Gill Sans MT"/>
                <a:ea typeface="Majalla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5a788"/>
                </a:solidFill>
                <a:latin typeface="Gill Sans MT"/>
                <a:ea typeface="Majalla U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Gill Sans MT"/>
                <a:ea typeface="Majalla U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668A2-73B7-4F20-ADDF-817F9D09F0F2}" type="slidenum">
              <a:rPr b="0" lang="ar-SA" sz="1200" spc="-1" strike="noStrike">
                <a:solidFill>
                  <a:srgbClr val="b5a788"/>
                </a:solidFill>
                <a:latin typeface="Gill Sans MT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Gill Sans MT"/>
                <a:ea typeface="Majalla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5a788"/>
                </a:solidFill>
                <a:latin typeface="Gill Sans MT"/>
                <a:ea typeface="Majalla U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Gill Sans MT"/>
                <a:ea typeface="Majalla U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EF164-6AF4-4518-B217-0F920B97E99E}" type="slidenum">
              <a:rPr b="0" lang="ar-SA" sz="1200" spc="-1" strike="noStrike">
                <a:solidFill>
                  <a:srgbClr val="b5a788"/>
                </a:solidFill>
                <a:latin typeface="Gill Sans MT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مستطيل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مستطيل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Gill Sans MT"/>
                <a:ea typeface="Majalla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5a788"/>
                </a:solidFill>
                <a:latin typeface="Gill Sans MT"/>
                <a:ea typeface="Majalla U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Gill Sans MT"/>
                <a:ea typeface="Majalla U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8BF68-C1EE-4330-971D-0C6C62951884}" type="slidenum">
              <a:rPr b="0" lang="ar-SA" sz="1200" spc="-1" strike="noStrike">
                <a:solidFill>
                  <a:srgbClr val="b5a788"/>
                </a:solidFill>
                <a:latin typeface="Gill Sans MT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Gill Sans MT"/>
                <a:ea typeface="Majalla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5a788"/>
                </a:solidFill>
                <a:latin typeface="Gill Sans MT"/>
                <a:ea typeface="Majalla U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Gill Sans MT"/>
                <a:ea typeface="Majalla U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C3DEE-1B59-4C97-8EBF-B70A2E6E20B3}" type="slidenum">
              <a:rPr b="0" lang="ar-SA" sz="1200" spc="-1" strike="noStrike">
                <a:solidFill>
                  <a:srgbClr val="b5a788"/>
                </a:solidFill>
                <a:latin typeface="Gill Sans MT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مستطيل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مستطيل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مخطط انسيابي: معالجة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مخطط انسيابي: معالجة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Gill Sans MT"/>
                <a:ea typeface="Majalla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5a788"/>
                </a:solidFill>
                <a:latin typeface="Gill Sans MT"/>
                <a:ea typeface="Majalla U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Gill Sans MT"/>
                <a:ea typeface="Majalla U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85E24-CA03-44CF-8277-8F8926C3DED9}" type="slidenum">
              <a:rPr b="0" lang="ar-SA" sz="1200" spc="-1" strike="noStrike">
                <a:solidFill>
                  <a:srgbClr val="b5a788"/>
                </a:solidFill>
                <a:latin typeface="Gill Sans MT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صورة 3" descr="SCAIRNXC5CARX9RYPCAZFUA37CACC6QGVCA54D3GACAG2HXBBCA93Y5U4CA30EQM1CA2OJYMCCARB7RM5CA3WF7Q2CA5KU06WCAE5OS3UCAWNHRQ9CAXFZLMHCADKULXSCAE5GZUUCABSSHTUCAX72FH3.jpg"/>
          <p:cNvPicPr/>
          <p:nvPr/>
        </p:nvPicPr>
        <p:blipFill>
          <a:blip r:embed="rId2"/>
          <a:stretch/>
        </p:blipFill>
        <p:spPr>
          <a:xfrm>
            <a:off x="3780000" y="1052640"/>
            <a:ext cx="3960720" cy="2089080"/>
          </a:xfrm>
          <a:prstGeom prst="rect">
            <a:avLst/>
          </a:prstGeom>
          <a:ln w="0">
            <a:noFill/>
          </a:ln>
        </p:spPr>
      </p:pic>
      <p:sp>
        <p:nvSpPr>
          <p:cNvPr id="319" name="مستطيل 4"/>
          <p:cNvSpPr/>
          <p:nvPr/>
        </p:nvSpPr>
        <p:spPr>
          <a:xfrm>
            <a:off x="-332280" y="3244680"/>
            <a:ext cx="650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ff0000"/>
                </a:solidFill>
                <a:latin typeface="Gill Sans MT"/>
                <a:cs typeface="Majalla UI"/>
              </a:rPr>
              <a:t>النمو الأخلاقي للأطفال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300" spc="-1" strike="noStrike">
                <a:solidFill>
                  <a:srgbClr val="572314"/>
                </a:solidFill>
                <a:latin typeface="Gill Sans MT"/>
              </a:rPr>
              <a:t>مستويات النمو الخلقي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28320" indent="-25416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c0654c"/>
                </a:solidFill>
                <a:latin typeface="Gill Sans MT"/>
              </a:rPr>
              <a:t>يمر السلوك الخلقي بمراحل ومستويات يتلو بعضها بعضاً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b0f0"/>
                </a:solidFill>
                <a:latin typeface="Gill Sans MT"/>
              </a:rPr>
              <a:t>لايصل الطفل إلى مستوى من تلك المستويات حتى يكون قد مارس فعلاً المستوى الذي قبله </a:t>
            </a:r>
            <a:r>
              <a:rPr b="0" lang="ar-SA" sz="32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ar-SA" sz="3200" spc="-1" strike="noStrike">
                <a:solidFill>
                  <a:srgbClr val="c0654c"/>
                </a:solidFill>
                <a:latin typeface="Gill Sans MT"/>
              </a:rPr>
              <a:t>وهذه المستويات هي 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Gill Sans MT"/>
              </a:rPr>
              <a:t>1</a:t>
            </a:r>
            <a:r>
              <a:rPr b="0" lang="ar-SA" sz="3200" spc="-1" strike="noStrike">
                <a:solidFill>
                  <a:srgbClr val="000000"/>
                </a:solidFill>
                <a:latin typeface="Gill Sans MT"/>
              </a:rPr>
              <a:t>- مستوى ماقبل السلوك الأخلاقي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Gill Sans MT"/>
              </a:rPr>
              <a:t>2</a:t>
            </a:r>
            <a:r>
              <a:rPr b="0" lang="ar-SA" sz="3200" spc="-1" strike="noStrike">
                <a:solidFill>
                  <a:srgbClr val="000000"/>
                </a:solidFill>
                <a:latin typeface="Gill Sans MT"/>
              </a:rPr>
              <a:t>- مستوى السلوك الخلقي لإرضاء الآخرين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Gill Sans MT"/>
              </a:rPr>
              <a:t>3</a:t>
            </a:r>
            <a:r>
              <a:rPr b="0" lang="ar-SA" sz="3200" spc="-1" strike="noStrike">
                <a:solidFill>
                  <a:srgbClr val="000000"/>
                </a:solidFill>
                <a:latin typeface="Gill Sans MT"/>
              </a:rPr>
              <a:t>- مستوى السلوك الأخلاقي القائم على التقبل الذاتي للقيم الخلقية 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52" dur="2000" fill="hold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54" dur="2000" fill="hold"/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56" dur="2000" fill="hold"/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58" dur="2000" fill="hold"/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0" dur="2000" fill="hold"/>
                                        <p:tgtEl>
                                          <p:spTgt spid="3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2" dur="2000" fill="hold"/>
                                        <p:tgtEl>
                                          <p:spTgt spid="3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300" spc="-1" strike="noStrike">
                <a:solidFill>
                  <a:srgbClr val="572314"/>
                </a:solidFill>
                <a:latin typeface="Gill Sans MT"/>
              </a:rPr>
              <a:t>مراحل النمو الخلقي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0000"/>
                </a:solidFill>
                <a:latin typeface="Gill Sans MT"/>
              </a:rPr>
              <a:t>نمو السلوك الأخلاقي </a:t>
            </a:r>
            <a:r>
              <a:rPr b="0" lang="ar-SA" sz="3200" spc="-1" strike="noStrike">
                <a:solidFill>
                  <a:srgbClr val="000000"/>
                </a:solidFill>
                <a:latin typeface="Gill Sans MT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r" rtl="1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c0654c"/>
                </a:solidFill>
                <a:latin typeface="Arial Unicode MS"/>
                <a:cs typeface="Arial Unicode MS"/>
              </a:rPr>
              <a:t>كان سقراط يعتقد بان الفضيلة علم والرذيلة جهل وقد اثبت هذا الاعتقاد خطأه وذلك لان المعرفة الأخلاقية وحدها لاتكفل السلوك الخلقي 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40" name="صورة 3" descr="2CA1U0O6MCAHV8YR6CA216BETCAWQ2TYZCA9KZPVVCAK0K19CCAADP4MHCAM7XQ3VCA9ZW1RSCAEV9GXQCA4GV89YCA2I0G3DCA24MV7JCAV0OQFPCA28OKFUCAXOZ8L8CAF5HANOCAE9WIMHCACBISC0.jpg"/>
          <p:cNvPicPr/>
          <p:nvPr/>
        </p:nvPicPr>
        <p:blipFill>
          <a:blip r:embed="rId2"/>
          <a:stretch/>
        </p:blipFill>
        <p:spPr>
          <a:xfrm>
            <a:off x="1835280" y="4508640"/>
            <a:ext cx="230508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7ec3d4"/>
                </a:solidFill>
                <a:latin typeface="Gill Sans MT"/>
              </a:rPr>
              <a:t>إن سلوك الأطفال والكبار في موقف معين يكون لهم الخيار فيه يتحدد من خلال مجموعة من العوامل وهي 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Gill Sans MT"/>
              </a:rPr>
              <a:t>1</a:t>
            </a:r>
            <a:r>
              <a:rPr b="0" lang="ar-SA" sz="3200" spc="-1" strike="noStrike">
                <a:solidFill>
                  <a:srgbClr val="ff6699"/>
                </a:solidFill>
                <a:latin typeface="Gill Sans MT"/>
              </a:rPr>
              <a:t>- الضغوط الاجتماعية 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99"/>
                </a:solidFill>
                <a:latin typeface="Gill Sans MT"/>
              </a:rPr>
              <a:t>2</a:t>
            </a:r>
            <a:r>
              <a:rPr b="0" lang="ar-SA" sz="3200" spc="-1" strike="noStrike">
                <a:solidFill>
                  <a:srgbClr val="ff6699"/>
                </a:solidFill>
                <a:latin typeface="Gill Sans MT"/>
              </a:rPr>
              <a:t>- مشاعر الفرد نفسه 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99"/>
                </a:solidFill>
                <a:latin typeface="Gill Sans MT"/>
              </a:rPr>
              <a:t>3</a:t>
            </a:r>
            <a:r>
              <a:rPr b="0" lang="ar-SA" sz="3200" spc="-1" strike="noStrike">
                <a:solidFill>
                  <a:srgbClr val="ff6699"/>
                </a:solidFill>
                <a:latin typeface="Gill Sans MT"/>
              </a:rPr>
              <a:t>- الطريقة التي يعامله بها الآخرون 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99"/>
                </a:solidFill>
                <a:latin typeface="Gill Sans MT"/>
              </a:rPr>
              <a:t>4</a:t>
            </a:r>
            <a:r>
              <a:rPr b="0" lang="ar-SA" sz="3200" spc="-1" strike="noStrike">
                <a:solidFill>
                  <a:srgbClr val="ff6699"/>
                </a:solidFill>
                <a:latin typeface="Gill Sans MT"/>
              </a:rPr>
              <a:t>- رغبات الفرد وآماله في تلك اللحظة 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42" name="صورة 2" descr="2CAZTVUWACA52M9JOCA09KY0VCA7MI16XCAHLSO7LCAEM1YZBCA9M33JKCA6DEWADCAW5F5IACAGAOX7MCAFT0RT3CAL3Q2CBCAE5CPQCCA1R4761CAUKRQI2CAXEL58JCAXDJO19CA805GPGCAWC0B5J.jpg"/>
          <p:cNvPicPr/>
          <p:nvPr/>
        </p:nvPicPr>
        <p:blipFill>
          <a:blip r:embed="rId2"/>
          <a:stretch/>
        </p:blipFill>
        <p:spPr>
          <a:xfrm>
            <a:off x="1258920" y="4653000"/>
            <a:ext cx="216072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68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7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74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6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77" dur="500"/>
                                        <p:tgtEl>
                                          <p:spTgt spid="3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80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9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2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5" dur="500"/>
                                        <p:tgtEl>
                                          <p:spTgt spid="3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8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900" spc="-1" strike="noStrike">
                <a:solidFill>
                  <a:srgbClr val="572314"/>
                </a:solidFill>
                <a:latin typeface="Gill Sans MT"/>
              </a:rPr>
              <a:t>يتعلم الطفل السلوك الخلقي من خلال ثلاث طرق: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Gill Sans MT"/>
              </a:rPr>
              <a:t>1</a:t>
            </a:r>
            <a:r>
              <a:rPr b="0" lang="ar-SA" sz="3200" spc="-1" strike="noStrike">
                <a:solidFill>
                  <a:srgbClr val="000000"/>
                </a:solidFill>
                <a:latin typeface="Gill Sans MT"/>
              </a:rPr>
              <a:t>- المحاولة والخطأ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Gill Sans MT"/>
              </a:rPr>
              <a:t>2</a:t>
            </a:r>
            <a:r>
              <a:rPr b="0" lang="ar-SA" sz="3200" spc="-1" strike="noStrike">
                <a:solidFill>
                  <a:srgbClr val="000000"/>
                </a:solidFill>
                <a:latin typeface="Gill Sans MT"/>
              </a:rPr>
              <a:t>- التلقين والتعلم المباشر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Gill Sans MT"/>
              </a:rPr>
              <a:t>3</a:t>
            </a:r>
            <a:r>
              <a:rPr b="0" lang="ar-SA" sz="3200" spc="-1" strike="noStrike">
                <a:solidFill>
                  <a:srgbClr val="000000"/>
                </a:solidFill>
                <a:latin typeface="Gill Sans MT"/>
              </a:rPr>
              <a:t>- التقمص والتمثل والتوحد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45" name="صورة 3" descr="YCAJJJ0NVCAM2173VCAJX259ICAJMULOECA84DIJ9CA5B84L4CAO8J3FVCAYJD95ECA4TH0KRCA1MI4HLCAE6EBLKCA9BIH3BCAAPHJ0FCANO7CCGCA2RZF13CA4SNBWGCAZNLVWQCA6IK3KOCASVAQTW.jpg"/>
          <p:cNvPicPr/>
          <p:nvPr/>
        </p:nvPicPr>
        <p:blipFill>
          <a:blip r:embed="rId2"/>
          <a:stretch/>
        </p:blipFill>
        <p:spPr>
          <a:xfrm>
            <a:off x="1619280" y="1341360"/>
            <a:ext cx="2305080" cy="1285920"/>
          </a:xfrm>
          <a:prstGeom prst="rect">
            <a:avLst/>
          </a:prstGeom>
          <a:ln w="0">
            <a:noFill/>
          </a:ln>
        </p:spPr>
      </p:pic>
      <p:pic>
        <p:nvPicPr>
          <p:cNvPr id="346" name="صورة 4" descr="1CA3MB27YCA37TT2VCAGZQJPDCAGL3WXSCAT37J8QCA5CS9NMCAC4K8ULCAZBJVMVCAMZRAWPCAT92PSJCAHQCC7VCA2UP1WGCAYWQ02TCAG0KH7LCAT86DTZCAZ9V8H0CA00G2ELCA3HBZDXCAK73NUX.jpg"/>
          <p:cNvPicPr/>
          <p:nvPr/>
        </p:nvPicPr>
        <p:blipFill>
          <a:blip r:embed="rId3"/>
          <a:stretch/>
        </p:blipFill>
        <p:spPr>
          <a:xfrm>
            <a:off x="1692360" y="2924280"/>
            <a:ext cx="2448000" cy="1225440"/>
          </a:xfrm>
          <a:prstGeom prst="rect">
            <a:avLst/>
          </a:prstGeom>
          <a:ln w="0">
            <a:noFill/>
          </a:ln>
        </p:spPr>
      </p:pic>
      <p:pic>
        <p:nvPicPr>
          <p:cNvPr id="347" name="صورة 5" descr="9CAXTNKDJCAE3JJQQCA3AUQOECAAVP0B8CA3RG115CASUT7JICAM2QXAPCA72KN7TCABKF774CAL2ZYS8CAIXH4OSCA9KZIJOCAXOCZVRCASNU70UCAYEPVYJCA6LZNOACAIT7OTMCAM1GAXUCAN6RFSV.jpg"/>
          <p:cNvPicPr/>
          <p:nvPr/>
        </p:nvPicPr>
        <p:blipFill>
          <a:blip r:embed="rId4"/>
          <a:stretch/>
        </p:blipFill>
        <p:spPr>
          <a:xfrm>
            <a:off x="1619280" y="4653000"/>
            <a:ext cx="2305080" cy="151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300" spc="-1" strike="noStrike">
                <a:solidFill>
                  <a:srgbClr val="572314"/>
                </a:solidFill>
                <a:latin typeface="Gill Sans MT"/>
              </a:rPr>
              <a:t>نمو المفاهيم الخلقية 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457200" y="1412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28320" indent="-25416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0000"/>
                </a:solidFill>
                <a:latin typeface="Gill Sans MT"/>
              </a:rPr>
              <a:t>أي تعلم مبادئ الخطأ والصواب في صورتها المجردة واللفظية وهذا التعلم يتواكب مع نمو القدرات العقلية عند الطفل 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2a6d7d"/>
                </a:solidFill>
                <a:latin typeface="Gill Sans MT"/>
              </a:rPr>
              <a:t>العوامل التي تزيد من صعوبة تعلم الطفل للمبادئ الخلقية 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7ec3d4"/>
                </a:solidFill>
                <a:latin typeface="Gill Sans MT"/>
              </a:rPr>
              <a:t>مستوى النمو العقلي للطفل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7ec3d4"/>
                </a:solidFill>
                <a:latin typeface="Gill Sans MT"/>
              </a:rPr>
              <a:t>نوع التعلم الذي يتم من خلاله تعلم السلوك الأخلاقي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7ec3d4"/>
                </a:solidFill>
                <a:latin typeface="Gill Sans MT"/>
              </a:rPr>
              <a:t>اختلاف القواعد الخلقية بصدد الصواب والخطأ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7ec3d4"/>
                </a:solidFill>
                <a:latin typeface="Gill Sans MT"/>
              </a:rPr>
              <a:t>تباين السلوك في المواقف الأخلاقية المختلفة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7ec3d4"/>
                </a:solidFill>
                <a:latin typeface="Gill Sans MT"/>
              </a:rPr>
              <a:t>الصراع مع الضغوط الاجتماعية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900" spc="-1" strike="noStrike">
                <a:solidFill>
                  <a:srgbClr val="572314"/>
                </a:solidFill>
                <a:latin typeface="Gill Sans MT"/>
              </a:rPr>
              <a:t>مظاهر النمو الخلقي في مراحل النمو المختلفة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31920" indent="-25704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0000"/>
                </a:solidFill>
                <a:latin typeface="Gill Sans MT"/>
              </a:rPr>
              <a:t>الطفولة المبكرة</a:t>
            </a:r>
            <a:r>
              <a:rPr b="0" lang="ar-SA" sz="3200" spc="-1" strike="noStrike">
                <a:solidFill>
                  <a:srgbClr val="000000"/>
                </a:solidFill>
                <a:latin typeface="Gill Sans MT"/>
              </a:rPr>
              <a:t> .. لم يصل إلى درجة النضج العقلي بما يسمح له بتعلم المبادئ الأخلاقية المجردة .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Gill Sans MT"/>
              </a:rPr>
              <a:t>ولكنه يدرك أن سوء السلوك بأنه ماينهى عنه الأب أو الأم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0000"/>
                </a:solidFill>
                <a:latin typeface="Gill Sans MT"/>
              </a:rPr>
              <a:t>الطفولة الوسطى </a:t>
            </a:r>
            <a:r>
              <a:rPr b="0" lang="ar-SA" sz="3200" spc="-1" strike="noStrike">
                <a:solidFill>
                  <a:srgbClr val="000000"/>
                </a:solidFill>
                <a:latin typeface="Gill Sans MT"/>
              </a:rPr>
              <a:t>..يمكنه الاحتفاظ بتعليمات السلوك الأخلاقي من موقف لآخر 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0000"/>
                </a:solidFill>
                <a:latin typeface="Gill Sans MT"/>
              </a:rPr>
              <a:t>الطفولة المتأخرة </a:t>
            </a:r>
            <a:r>
              <a:rPr b="0" lang="ar-SA" sz="3200" spc="-1" strike="noStrike">
                <a:solidFill>
                  <a:srgbClr val="000000"/>
                </a:solidFill>
                <a:latin typeface="Gill Sans MT"/>
              </a:rPr>
              <a:t>.. يزداد فهمهم للقيم الأخلاقية ويتأثرون بالقيم الأخلاقية السائدة في المجتمع .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300" spc="-1" strike="noStrike">
                <a:solidFill>
                  <a:srgbClr val="572314"/>
                </a:solidFill>
                <a:latin typeface="Gill Sans MT"/>
              </a:rPr>
              <a:t>المبادئ الخلقية في الإسلام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Gill Sans MT"/>
              </a:rPr>
              <a:t>التوحيد .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Gill Sans MT"/>
              </a:rPr>
              <a:t>        الحرية .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Gill Sans MT"/>
              </a:rPr>
              <a:t>            العدالة .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Gill Sans MT"/>
              </a:rPr>
              <a:t>                   الإخاء .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Gill Sans MT"/>
              </a:rPr>
              <a:t>                         المساواة .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54" name="صورة 3" descr="HCA2XYBGCCA5KTL1VCA6Y9ZT7CA8NLDEFCAUX2GJJCAE3URU5CAD2QZU1CAKIXQEHCANGTG27CA57CJ8GCAJJRZGGCAMDM3RTCABZ8XUZCARIGA2WCAC9O8LKCAF72QUPCAWWNRHFCAJ2TA09CAB1R24L.jpg"/>
          <p:cNvPicPr/>
          <p:nvPr/>
        </p:nvPicPr>
        <p:blipFill>
          <a:blip r:embed="rId2"/>
          <a:stretch/>
        </p:blipFill>
        <p:spPr>
          <a:xfrm>
            <a:off x="1763640" y="1557360"/>
            <a:ext cx="2592360" cy="13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00b050"/>
                </a:solidFill>
                <a:latin typeface="Arabic Typesetting"/>
                <a:cs typeface="Arabic Typesetting"/>
              </a:rPr>
              <a:t>يمكننا تحديد مجالين للأخلاق :</a:t>
            </a:r>
            <a:endParaRPr b="0" lang="en-US" sz="7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c0654c"/>
                </a:solidFill>
                <a:latin typeface="Gill Sans MT"/>
              </a:rPr>
              <a:t>المجال الأول </a:t>
            </a:r>
            <a:r>
              <a:rPr b="0" lang="ar-SA" sz="3200" spc="-1" strike="noStrike">
                <a:solidFill>
                  <a:srgbClr val="000000"/>
                </a:solidFill>
                <a:latin typeface="Gill Sans MT"/>
              </a:rPr>
              <a:t>: </a:t>
            </a:r>
            <a:r>
              <a:rPr b="0" lang="ar-SA" sz="3200" spc="-1" strike="noStrike">
                <a:solidFill>
                  <a:srgbClr val="cc3399"/>
                </a:solidFill>
                <a:latin typeface="Gill Sans MT"/>
              </a:rPr>
              <a:t>يدفع الفرد الى الامتثال لمعايير المجتمع وقيمه .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cc3399"/>
                </a:solidFill>
                <a:latin typeface="Gill Sans MT"/>
              </a:rPr>
              <a:t>وهذه المعايير الأخلاقية تتعدل وتتطور وتتأثر بالتنشئة الاجتماعية ..وتختلف من مجتمع لآخر وتختلف من عصر لآخر في المجتمع نفسه .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c0654c"/>
                </a:solidFill>
                <a:latin typeface="Gill Sans MT"/>
              </a:rPr>
              <a:t>المجال الثاني </a:t>
            </a:r>
            <a:r>
              <a:rPr b="0" lang="ar-SA" sz="3200" spc="-1" strike="noStrike">
                <a:solidFill>
                  <a:srgbClr val="000000"/>
                </a:solidFill>
                <a:latin typeface="Gill Sans MT"/>
              </a:rPr>
              <a:t>: </a:t>
            </a:r>
            <a:r>
              <a:rPr b="0" lang="ar-SA" sz="3200" spc="-1" strike="noStrike">
                <a:solidFill>
                  <a:srgbClr val="cc3399"/>
                </a:solidFill>
                <a:latin typeface="Gill Sans MT"/>
              </a:rPr>
              <a:t>يدفع الفرد الى اشباع الغايات المثلى بغض النظر عن عادات المجتمع ومعاييره </a:t>
            </a:r>
            <a:r>
              <a:rPr b="0" lang="ar-SA" sz="3200" spc="-1" strike="noStrike">
                <a:solidFill>
                  <a:srgbClr val="000000"/>
                </a:solidFill>
                <a:latin typeface="Gill Sans MT"/>
              </a:rPr>
              <a:t>.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0000"/>
                </a:solidFill>
                <a:latin typeface="Gill Sans MT"/>
              </a:rPr>
              <a:t>النمو الخلقي .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b0f0"/>
                </a:solidFill>
                <a:latin typeface="Gill Sans MT"/>
              </a:rPr>
              <a:t>يحدث تدريجيا .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c0654c"/>
                </a:solidFill>
                <a:latin typeface="Gill Sans MT"/>
              </a:rPr>
              <a:t>لايحدث فجأة .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2a6d7d"/>
                </a:solidFill>
                <a:latin typeface="Gill Sans MT"/>
              </a:rPr>
              <a:t>لاتوجد فواصل حاسمة بين كل مرحلة من مراحله.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88631"/>
                </a:solidFill>
                <a:latin typeface="Gill Sans MT"/>
              </a:rPr>
              <a:t>لايحدث بمحض الصدفة .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37f26"/>
                </a:solidFill>
                <a:latin typeface="Gill Sans MT"/>
              </a:rPr>
              <a:t>يحتاج إلى جهود وأساليب مدروسة .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3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3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3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3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300" spc="-1" strike="noStrike">
                <a:solidFill>
                  <a:srgbClr val="572314"/>
                </a:solidFill>
                <a:latin typeface="Gill Sans MT"/>
              </a:rPr>
              <a:t>العوامل المؤثرة في النمو الخلقي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24" name="عنصر نائب للمحتوى 3" descr=""/>
          <p:cNvPicPr/>
          <p:nvPr/>
        </p:nvPicPr>
        <p:blipFill>
          <a:blip r:embed="rId2"/>
          <a:stretch/>
        </p:blipFill>
        <p:spPr>
          <a:xfrm>
            <a:off x="1427040" y="1378080"/>
            <a:ext cx="7515360" cy="488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300" spc="-1" strike="noStrike">
                <a:solidFill>
                  <a:srgbClr val="572314"/>
                </a:solidFill>
                <a:latin typeface="Gill Sans MT"/>
              </a:rPr>
              <a:t>عامل الوراثة والنمو الخلقي 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323640" y="1484280"/>
            <a:ext cx="856908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710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88631"/>
                </a:solidFill>
                <a:latin typeface="Gill Sans MT"/>
              </a:rPr>
              <a:t>يؤكد</a:t>
            </a:r>
            <a:r>
              <a:rPr b="1" lang="ar-SA" sz="3200" spc="-1" strike="noStrike">
                <a:solidFill>
                  <a:srgbClr val="f88631"/>
                </a:solidFill>
                <a:latin typeface="Gill Sans MT"/>
              </a:rPr>
              <a:t> </a:t>
            </a:r>
            <a:r>
              <a:rPr b="1" lang="ar-SA" sz="2800" spc="-1" strike="noStrike">
                <a:solidFill>
                  <a:srgbClr val="f88631"/>
                </a:solidFill>
                <a:latin typeface="Gill Sans MT"/>
              </a:rPr>
              <a:t>أنصار الوراثة أهمية العوامل الفطرية في الأخلاق 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7ec3d4"/>
                </a:solidFill>
                <a:latin typeface="Gill Sans MT"/>
              </a:rPr>
              <a:t>أكدت دراسة إن الضعف الخلقي الموروث ينتشر في اسر معينه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7ec3d4"/>
                </a:solidFill>
                <a:latin typeface="Gill Sans MT"/>
              </a:rPr>
              <a:t>عبر الأجيال المتعاقبة 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0654c"/>
                </a:solidFill>
                <a:latin typeface="Gill Sans MT"/>
              </a:rPr>
              <a:t>يعتقد البعض بوراثية الإجرام 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88631"/>
                </a:solidFill>
                <a:latin typeface="Gill Sans MT"/>
              </a:rPr>
              <a:t>يعتقد البعض إن الطفل يرث السِمات الخلقية المحددة كالأمانة والصدق عن والديه 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 algn="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b9d77a"/>
                </a:solidFill>
                <a:latin typeface="Arial Unicode MS"/>
                <a:cs typeface="Arial Unicode MS"/>
              </a:rPr>
              <a:t>أن فكرة إرجاع الأخلاق إلى الوراثة تخلص الآباء والمربين من مسؤولياتهم إزاء تربية الطفل تربية خلقية سليمة 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300" spc="-1" strike="noStrike">
                <a:solidFill>
                  <a:srgbClr val="572314"/>
                </a:solidFill>
                <a:latin typeface="Gill Sans MT"/>
              </a:rPr>
              <a:t>عامل البيئة والنمو الخلقي .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178920" y="1916280"/>
            <a:ext cx="871380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95560" indent="-22860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7ec3d4"/>
                </a:solidFill>
                <a:latin typeface="Gill Sans MT"/>
              </a:rPr>
              <a:t>يؤكد أنصار هذا الاتجاه على أهمية البيئة في تنميه الجانب الأخلاقي 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95560" indent="-22860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e17b7c"/>
                </a:solidFill>
                <a:latin typeface="Gill Sans MT"/>
              </a:rPr>
              <a:t>أسلوب التربية القائم على الحب يؤدي إلى تنمية الضمير </a:t>
            </a:r>
            <a:r>
              <a:rPr b="1" lang="ar-SA" sz="28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95560" indent="-22860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88631"/>
                </a:solidFill>
                <a:latin typeface="Gill Sans MT"/>
              </a:rPr>
              <a:t>الحماية الزائدة والخضوع لِرغبة الطفل يؤدِيان إلى زيادة نزوات الطفل </a:t>
            </a:r>
            <a:r>
              <a:rPr b="1" lang="ar-SA" sz="28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95560" indent="-22860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8898c3"/>
                </a:solidFill>
                <a:latin typeface="Gill Sans MT"/>
              </a:rPr>
              <a:t>المنزل والمدرسة لهما دور كبير في نمو السلوك الخلقي 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95560" indent="-22860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e17b7c"/>
                </a:solidFill>
                <a:latin typeface="Gill Sans MT"/>
              </a:rPr>
              <a:t>السلوك الخلقي للأطفال يتدهور عند ضعف الإدارة المدرسية 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95560" indent="-22860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0000"/>
                </a:solidFill>
                <a:latin typeface="Gill Sans MT"/>
              </a:rPr>
              <a:t>ارتياد أماكن العبادة يؤثر في السلوك الخلقي الإيجابي 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95560" indent="-22860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0654c"/>
                </a:solidFill>
                <a:latin typeface="Gill Sans MT"/>
              </a:rPr>
              <a:t>الطبقة الاجتماعية تؤثر في النمو الأخلاقي ( دراسة امريكية 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95560" indent="-22860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3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3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3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3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72314"/>
                </a:solidFill>
                <a:latin typeface="Gill Sans MT"/>
              </a:rPr>
              <a:t>الجهاز النفسي والنمو الخلقي 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457200" y="1052280"/>
            <a:ext cx="822960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302760" indent="-23436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0654c"/>
                </a:solidFill>
                <a:latin typeface="Gill Sans MT"/>
              </a:rPr>
              <a:t>الذات هي الجانب الواقي في شخصية الفرد 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02760" indent="-23436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0066"/>
                </a:solidFill>
                <a:latin typeface="Gill Sans MT"/>
              </a:rPr>
              <a:t>تتكون الذات في الطفولة ويعاد تكوينها في المراهقة 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02760" indent="-23436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cc33"/>
                </a:solidFill>
                <a:latin typeface="Gill Sans MT"/>
              </a:rPr>
              <a:t>الذات العليا تعبر عن الضمير وهي السلطة الضابطة العليا في الإنسان</a:t>
            </a:r>
            <a:r>
              <a:rPr b="0" lang="ar-SA" sz="2800" spc="-1" strike="noStrike">
                <a:solidFill>
                  <a:srgbClr val="000000"/>
                </a:solidFill>
                <a:latin typeface="Gill Sans MT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02760" indent="-23436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0000"/>
                </a:solidFill>
                <a:latin typeface="Gill Sans MT"/>
              </a:rPr>
              <a:t>وظائف الضمير 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02760" indent="-23436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0654c"/>
                </a:solidFill>
                <a:latin typeface="Gill Sans MT"/>
              </a:rPr>
              <a:t>1</a:t>
            </a:r>
            <a:r>
              <a:rPr b="0" lang="ar-SA" sz="2800" spc="-1" strike="noStrike">
                <a:solidFill>
                  <a:srgbClr val="c0654c"/>
                </a:solidFill>
                <a:latin typeface="Gill Sans MT"/>
              </a:rPr>
              <a:t>- مقاومة الإغراء   </a:t>
            </a:r>
            <a:r>
              <a:rPr b="0" lang="ar-SA" sz="2800" spc="-1" strike="noStrike">
                <a:solidFill>
                  <a:srgbClr val="000000"/>
                </a:solidFill>
                <a:latin typeface="Gill Sans MT"/>
              </a:rPr>
              <a:t>2</a:t>
            </a:r>
            <a:r>
              <a:rPr b="0" lang="ar-SA" sz="2800" spc="-1" strike="noStrike">
                <a:solidFill>
                  <a:srgbClr val="c0654c"/>
                </a:solidFill>
                <a:latin typeface="Gill Sans MT"/>
              </a:rPr>
              <a:t>- الشعور بالذنب 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02760" indent="-23436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2a6d7d"/>
                </a:solidFill>
                <a:latin typeface="Gill Sans MT"/>
              </a:rPr>
              <a:t>إذا زادت سيطرة الضمير في الشخصية يصبح الفرد عبداً لمجموعة من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02760" indent="-23436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2a6d7d"/>
                </a:solidFill>
                <a:latin typeface="Gill Sans MT"/>
              </a:rPr>
              <a:t>العادات والتقاليد ومشاعر الذنب والتأنيب 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02760" indent="-23436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0000"/>
                </a:solidFill>
                <a:latin typeface="Gill Sans MT"/>
              </a:rPr>
              <a:t>العوامل المسؤولة عن نمو الضمير 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02760" indent="-23436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37f26"/>
                </a:solidFill>
                <a:latin typeface="Gill Sans MT"/>
              </a:rPr>
              <a:t>معايير الثقافة الاجتماعية – النمو العقلي للطفل – علاقة الطفل بأبويه </a:t>
            </a:r>
            <a:r>
              <a:rPr b="0" lang="ar-SA" sz="28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02760" indent="-23436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2a6d7d"/>
                </a:solidFill>
                <a:latin typeface="Gill Sans MT"/>
              </a:rPr>
              <a:t>مثاليات الذات هو مفهوم يدل على فكرة الفرد عن نفسه في صورتها المثالية 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02760" indent="-23436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02760" indent="-23436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02760" indent="-23436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3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3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3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3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3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3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3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3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3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3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72314"/>
                </a:solidFill>
                <a:latin typeface="Gill Sans MT"/>
              </a:rPr>
              <a:t>العلاقة بين هذه العوامل الثلاثة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250560" y="1628640"/>
            <a:ext cx="849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710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0000"/>
                </a:solidFill>
                <a:latin typeface="Gill Sans MT"/>
              </a:rPr>
              <a:t>الوراثة      </a:t>
            </a:r>
            <a:r>
              <a:rPr b="0" lang="ar-SA" sz="4000" spc="-1" strike="noStrike">
                <a:solidFill>
                  <a:srgbClr val="000000"/>
                </a:solidFill>
                <a:latin typeface="Gill Sans MT"/>
              </a:rPr>
              <a:t>و   ا</a:t>
            </a:r>
            <a:r>
              <a:rPr b="0" lang="ar-SA" sz="4000" spc="-1" strike="noStrike">
                <a:solidFill>
                  <a:srgbClr val="2a6d7d"/>
                </a:solidFill>
                <a:latin typeface="Gill Sans MT"/>
              </a:rPr>
              <a:t>لبيئة</a:t>
            </a:r>
            <a:r>
              <a:rPr b="0" lang="ar-SA" sz="40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ar-SA" sz="4000" spc="-1" strike="noStrike">
                <a:solidFill>
                  <a:srgbClr val="637f26"/>
                </a:solidFill>
                <a:latin typeface="Gill Sans MT"/>
              </a:rPr>
              <a:t>و   الجهاز النفسي 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Gill Sans MT"/>
              </a:rPr>
              <a:t>         </a:t>
            </a:r>
            <a:r>
              <a:rPr b="0" lang="ar-SA" sz="2800" spc="-1" strike="noStrike">
                <a:solidFill>
                  <a:srgbClr val="c0654c"/>
                </a:solidFill>
                <a:latin typeface="Gill Sans MT"/>
              </a:rPr>
              <a:t>علاقة تفاعل ولها تأثير متبادل في النمو الخلقي </a:t>
            </a:r>
            <a:r>
              <a:rPr b="0" lang="ar-SA" sz="28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e17b7c"/>
                </a:solidFill>
                <a:latin typeface="Gill Sans MT"/>
              </a:rPr>
              <a:t>وبصفتنا مربين فإننا نهتم بالعوامل البيئية لأن ذلك سوف يوسع مقدرتنا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e17b7c"/>
                </a:solidFill>
                <a:latin typeface="Gill Sans MT"/>
              </a:rPr>
              <a:t>على مساعدة الأطفال على النمو الخلقي السوي 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9" dur="500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4" dur="500"/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9" dur="500"/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4" dur="500"/>
                                        <p:tgtEl>
                                          <p:spTgt spid="3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300" spc="-1" strike="noStrike">
                <a:solidFill>
                  <a:srgbClr val="572314"/>
                </a:solidFill>
                <a:latin typeface="Gill Sans MT"/>
              </a:rPr>
              <a:t>العوامل الأساسية للنمو الأخلاقي الجيد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e17b7c"/>
                </a:solidFill>
                <a:latin typeface="Gill Sans MT"/>
              </a:rPr>
              <a:t>الصحة الجسمية الجيدة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67d42"/>
                </a:solidFill>
                <a:latin typeface="Gill Sans MT"/>
              </a:rPr>
              <a:t>الأمان الانفعالي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88631"/>
                </a:solidFill>
                <a:latin typeface="Gill Sans MT"/>
              </a:rPr>
              <a:t>توفر منافذ للتعبير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7ec3d4"/>
                </a:solidFill>
                <a:latin typeface="Gill Sans MT"/>
              </a:rPr>
              <a:t>التدريب المستمر على التحكم وضبط النفس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2d050"/>
                </a:solidFill>
                <a:latin typeface="Gill Sans MT"/>
              </a:rPr>
              <a:t>وجود جو اجتماعي رحب وواسع وملئ بالتسامح والتعاطف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35" name="صورة 3" descr="YCAYWN4RICAMKI5FNCA4XRCRVCAGMNJ6YCAY8I4NOCAVKH9MCCAE1WTDHCA59FV09CAGJS0O3CA73CZXXCAZLDK5BCAX274DPCA39EX16CAAY2FMFCA8PFQFOCAW85ULQCAJFYV0UCAICQIRJCAS18GW9.jpg"/>
          <p:cNvPicPr/>
          <p:nvPr/>
        </p:nvPicPr>
        <p:blipFill>
          <a:blip r:embed="rId2"/>
          <a:stretch/>
        </p:blipFill>
        <p:spPr>
          <a:xfrm>
            <a:off x="1547640" y="4581360"/>
            <a:ext cx="3095640" cy="18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3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3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3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3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46" dur="2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6T18:19:40Z</dcterms:created>
  <dc:creator>vista</dc:creator>
  <dc:description/>
  <dc:language>en-US</dc:language>
  <cp:lastModifiedBy>DELL</cp:lastModifiedBy>
  <dcterms:modified xsi:type="dcterms:W3CDTF">2011-12-11T16:53:09Z</dcterms:modified>
  <cp:revision>31</cp:revision>
  <dc:subject/>
  <dc:title>الشريحة 1</dc:title>
</cp:coreProperties>
</file>