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1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CF02A-4233-494B-AC0D-DF08BC99B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AB7F9-1702-45EE-B28A-C76026EDC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8E20E-3B4D-4E83-BF71-E73D96818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1BD66-500E-438F-B524-0FC3DDE2D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914DC-98DA-4758-B7E6-13C3C200C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2F2CF-5B4A-4211-A418-623E3693E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CE5A8-DC4C-49B0-A7FA-2C91023B0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7F42A-8923-4654-8D56-58A0CBA72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B6B65-F690-4F1D-AE84-6CAA9191B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6CB7B-0F5C-4A47-8CB6-13526C4AC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8E421-FF62-4162-A42B-D9DF0E650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25F57-9E51-4DF5-AA1F-90A72ACC7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8500A-5F81-4E8B-8FC5-8C04778CD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2B943-9116-4E65-B9F5-8DB9EF9DC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21AAB-E363-419E-BD6D-7C64B2A70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FDAB7-968F-4173-98DB-E88B5DBE8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F3DE9-6EA2-4290-A42E-FBD9680FA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DEED73-B142-4E1F-B5AB-33D00AA9A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FD8290-85EC-428C-9D4E-1E027D6BE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229605-BC19-425F-9923-1D76CE029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7EF0DF-F552-4428-BFDA-E0937893A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E98078-1C68-494F-830D-1368541C3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B6DF5-7CFB-417A-A1E8-C816B4FE7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E87D04-2712-49B1-9850-6A3916FEF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C7D051-DA0A-48DB-BD99-C6DF9C841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E42ED0-AC98-40B5-8ADA-08366E5B4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CD227E-58E3-4483-B2E7-DB836A688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7C2B40-602C-4244-809D-766C59391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EF92A5-F794-472B-A66C-9A4DE99D1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50EF3C-DC25-48EC-A88D-28D2A5FE0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9BD750-BDE2-48A2-9BD4-605153757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69C7E4-A7BE-4D09-BC83-7B70F210E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514303-CDB3-4D74-9C64-3D3ADDD8E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065F5-EA38-48B9-AA1A-50AD701BA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5523EF-3BF8-4381-8410-0945D36F7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A34691-7430-4D62-A660-5F7ED31A0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93319B-9B02-47C7-9034-14E4277D5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0BC148-FEC2-4EA2-B2D0-81070D3D7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085333-17D0-4BE0-B59D-C2A3BE5D8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D22494-D705-49E7-A40C-68939234B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3632A1-851D-4593-B15C-44FFD2843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0F8325-59D9-4E72-80EA-48B0C7196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EE3E8A-A7EC-458F-980F-5976EC443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5E042B-0CA8-402D-B987-121D7CD35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AAFA9-126C-4E65-B932-FA664DFFF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E697F5-554D-4983-A300-0F2F70DD1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6BA007-98A6-44FB-B3F2-284408469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2356A5-50DE-4AFB-9A79-7BC8CAD0E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8ADD35-2478-4523-BD95-86782489F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3E50E0-57D3-49F3-9470-0759C51D7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57B877-6ED0-4D31-9BA3-4C952DE12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5ACC14-9F0B-4A98-9876-E7A435122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58A568-FBA5-4541-8FBF-F88DAF7D3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03BA74-4E43-4923-BAB5-A8C22FEA6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9E9790-8A02-4322-91D5-BC8A07A4D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C79E8-4E61-43DE-A6CA-55CBB90DC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B7835B-2B48-4537-805B-2347564B1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E324E6-FE7F-428E-8D2A-DD6F2B223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07238C-EA26-4A39-910B-B6EBF70F5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CF3B86-3482-47CA-B0CB-CCD659197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D171EB-89FC-4F49-903E-CC7AF73A7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5AEE7B-4491-4381-A355-CB6AB5064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3A4EAD-2D6B-49D3-A0AF-0906778B0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7F7261-3734-428B-B94E-B240D15CA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AB3CE2-122B-49F5-90C1-C0420BB34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F0D3A2-D439-47CC-85C6-105B58319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B61F2-56D8-4D9D-9A36-AA75371DA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FE3ECD-8458-42BA-A299-D925B55A7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A0B564-CFDC-494C-A7A8-D03CC458E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30014B-7903-43CC-9E68-28D2A039F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932702-62FD-4850-A733-FB71D3376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DE3FD9-0176-45CC-A3B3-DC938C3DC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24D483-5477-4238-BE80-76AA496E2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B412C6-BE47-4DF6-A722-0271AD5E4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DB4FCA-2466-4D34-BEEB-B008A6330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4ACF0A-F2A4-496B-B00F-DF05CE5CD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AB260F-A13A-433F-84C0-BAF26D52B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3A523-68D2-48F0-8C04-30526632B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E274C8-12DD-431A-AEF1-EBE69D3F4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DD0DE3-6783-460E-93CF-5931E9A13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B936EF-0114-4184-9A98-F9E9F7873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310FB5-837F-46F0-8CA5-A0B4F0359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8EEEED-E9FD-4FDD-95A4-285EEC9F4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9C560-5DB7-4B31-9AEB-2592E8813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دائري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شكل بيضاوي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دائرة مجوفة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دائرة مجوفة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مستطيل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Gill Sans MT"/>
                <a:ea typeface="Majalla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5a788"/>
                </a:solidFill>
                <a:latin typeface="Gill Sans MT"/>
                <a:ea typeface="Majalla U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Gill Sans MT"/>
                <a:ea typeface="Majalla U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1BF59-7323-44EE-9B9B-145B68685FB6}" type="slidenum">
              <a:rPr b="0" lang="ar-SA" sz="1200" spc="-1" strike="noStrike">
                <a:solidFill>
                  <a:srgbClr val="b5a788"/>
                </a:solidFill>
                <a:latin typeface="Gill Sans MT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مستطيل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دائري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شكل بيضاوي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دائرة مجوفة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دائرة مجوفة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مستطيل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مستطيل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شكل بيضاوي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شكل بيضاوي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شكل بيضاوي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Gill Sans MT"/>
                <a:ea typeface="Majalla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5a788"/>
                </a:solidFill>
                <a:latin typeface="Gill Sans MT"/>
                <a:ea typeface="Majalla U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Gill Sans MT"/>
                <a:ea typeface="Majalla U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C899B-29D9-48E2-9873-F6BC91DA7BE3}" type="slidenum">
              <a:rPr b="0" lang="ar-SA" sz="1200" spc="-1" strike="noStrike">
                <a:solidFill>
                  <a:srgbClr val="b5a788"/>
                </a:solidFill>
                <a:latin typeface="Gill Sans MT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مستطيل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مستطيل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شكل بيضاوي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شكل بيضاوي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شكل بيضاوي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Gill Sans MT"/>
                <a:ea typeface="Majalla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5a788"/>
                </a:solidFill>
                <a:latin typeface="Gill Sans MT"/>
                <a:ea typeface="Majalla U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Gill Sans MT"/>
                <a:ea typeface="Majalla U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030D8-7148-463E-B760-A6852F251651}" type="slidenum">
              <a:rPr b="0" lang="ar-SA" sz="1200" spc="-1" strike="noStrike">
                <a:solidFill>
                  <a:srgbClr val="b5a788"/>
                </a:solidFill>
                <a:latin typeface="Gill Sans MT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Gill Sans MT"/>
                <a:ea typeface="Majalla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5a788"/>
                </a:solidFill>
                <a:latin typeface="Gill Sans MT"/>
                <a:ea typeface="Majalla U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Gill Sans MT"/>
                <a:ea typeface="Majalla U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C0F46-3536-47B8-9FB5-7AE30B0F163C}" type="slidenum">
              <a:rPr b="0" lang="ar-SA" sz="1200" spc="-1" strike="noStrike">
                <a:solidFill>
                  <a:srgbClr val="b5a788"/>
                </a:solidFill>
                <a:latin typeface="Gill Sans MT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مستطيل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مستطيل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Gill Sans MT"/>
                <a:ea typeface="Majalla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5a788"/>
                </a:solidFill>
                <a:latin typeface="Gill Sans MT"/>
                <a:ea typeface="Majalla U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Gill Sans MT"/>
                <a:ea typeface="Majalla U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4F525-8F69-4B3C-9042-8A748C6015FB}" type="slidenum">
              <a:rPr b="0" lang="ar-SA" sz="1200" spc="-1" strike="noStrike">
                <a:solidFill>
                  <a:srgbClr val="b5a788"/>
                </a:solidFill>
                <a:latin typeface="Gill Sans MT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Gill Sans MT"/>
                <a:ea typeface="Majalla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5a788"/>
                </a:solidFill>
                <a:latin typeface="Gill Sans MT"/>
                <a:ea typeface="Majalla U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Gill Sans MT"/>
                <a:ea typeface="Majalla U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D1705-6DBC-48B5-9F19-315A8FBE3E46}" type="slidenum">
              <a:rPr b="0" lang="ar-SA" sz="1200" spc="-1" strike="noStrike">
                <a:solidFill>
                  <a:srgbClr val="b5a788"/>
                </a:solidFill>
                <a:latin typeface="Gill Sans MT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مستطيل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مستطيل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مخطط انسيابي: معالجة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مخطط انسيابي: معالجة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Gill Sans MT"/>
                <a:ea typeface="Majalla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5a788"/>
                </a:solidFill>
                <a:latin typeface="Gill Sans MT"/>
                <a:ea typeface="Majalla U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Gill Sans MT"/>
                <a:ea typeface="Majalla U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7C80F-43F9-48A1-BA8D-4BD3AC71FF80}" type="slidenum">
              <a:rPr b="0" lang="ar-SA" sz="1200" spc="-1" strike="noStrike">
                <a:solidFill>
                  <a:srgbClr val="b5a788"/>
                </a:solidFill>
                <a:latin typeface="Gill Sans MT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صورة 3" descr="SCAIRNXC5CARX9RYPCAZFUA37CACC6QGVCA54D3GACAG2HXBBCA93Y5U4CA30EQM1CA2OJYMCCARB7RM5CA3WF7Q2CA5KU06WCAE5OS3UCAWNHRQ9CAXFZLMHCADKULXSCAE5GZUUCABSSHTUCAX72FH3.jpg"/>
          <p:cNvPicPr/>
          <p:nvPr/>
        </p:nvPicPr>
        <p:blipFill>
          <a:blip r:embed="rId2"/>
          <a:stretch/>
        </p:blipFill>
        <p:spPr>
          <a:xfrm>
            <a:off x="3780000" y="1052640"/>
            <a:ext cx="3960720" cy="2089080"/>
          </a:xfrm>
          <a:prstGeom prst="rect">
            <a:avLst/>
          </a:prstGeom>
          <a:ln w="0">
            <a:noFill/>
          </a:ln>
        </p:spPr>
      </p:pic>
      <p:sp>
        <p:nvSpPr>
          <p:cNvPr id="319" name="مستطيل 4"/>
          <p:cNvSpPr/>
          <p:nvPr/>
        </p:nvSpPr>
        <p:spPr>
          <a:xfrm>
            <a:off x="-332280" y="3244680"/>
            <a:ext cx="650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ff0000"/>
                </a:solidFill>
                <a:latin typeface="Gill Sans MT"/>
                <a:cs typeface="Majalla UI"/>
              </a:rPr>
              <a:t>النمو الأخلاقي للأطفال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300" spc="-1" strike="noStrike">
                <a:solidFill>
                  <a:srgbClr val="572314"/>
                </a:solidFill>
                <a:latin typeface="Gill Sans MT"/>
              </a:rPr>
              <a:t>مستويات النمو الخلقي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28320" indent="-25416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c0654c"/>
                </a:solidFill>
                <a:latin typeface="Gill Sans MT"/>
              </a:rPr>
              <a:t>يمر السلوك الخلقي بمراحل ومستويات يتلو بعضها بعضاً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b0f0"/>
                </a:solidFill>
                <a:latin typeface="Gill Sans MT"/>
              </a:rPr>
              <a:t>لايصل الطفل إلى مستوى من تلك المستويات حتى يكون قد مارس فعلاً المستوى الذي قبله </a:t>
            </a:r>
            <a:r>
              <a:rPr b="0" lang="ar-SA" sz="32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ar-SA" sz="3200" spc="-1" strike="noStrike">
                <a:solidFill>
                  <a:srgbClr val="c0654c"/>
                </a:solidFill>
                <a:latin typeface="Gill Sans MT"/>
              </a:rPr>
              <a:t>وهذه المستويات هي 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Gill Sans MT"/>
              </a:rPr>
              <a:t>1</a:t>
            </a:r>
            <a:r>
              <a:rPr b="0" lang="ar-SA" sz="3200" spc="-1" strike="noStrike">
                <a:solidFill>
                  <a:srgbClr val="000000"/>
                </a:solidFill>
                <a:latin typeface="Gill Sans MT"/>
              </a:rPr>
              <a:t>- مستوى ماقبل السلوك الأخلاقي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Gill Sans MT"/>
              </a:rPr>
              <a:t>2</a:t>
            </a:r>
            <a:r>
              <a:rPr b="0" lang="ar-SA" sz="3200" spc="-1" strike="noStrike">
                <a:solidFill>
                  <a:srgbClr val="000000"/>
                </a:solidFill>
                <a:latin typeface="Gill Sans MT"/>
              </a:rPr>
              <a:t>- مستوى السلوك الخلقي لإرضاء الآخرين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Gill Sans MT"/>
              </a:rPr>
              <a:t>3</a:t>
            </a:r>
            <a:r>
              <a:rPr b="0" lang="ar-SA" sz="3200" spc="-1" strike="noStrike">
                <a:solidFill>
                  <a:srgbClr val="000000"/>
                </a:solidFill>
                <a:latin typeface="Gill Sans MT"/>
              </a:rPr>
              <a:t>- مستوى السلوك الأخلاقي القائم على التقبل الذاتي للقيم الخلقية 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52" dur="2000" fill="hold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54" dur="2000" fill="hold"/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56" dur="2000" fill="hold"/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58" dur="2000" fill="hold"/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0" dur="2000" fill="hold"/>
                                        <p:tgtEl>
                                          <p:spTgt spid="3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2" dur="2000" fill="hold"/>
                                        <p:tgtEl>
                                          <p:spTgt spid="3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300" spc="-1" strike="noStrike">
                <a:solidFill>
                  <a:srgbClr val="572314"/>
                </a:solidFill>
                <a:latin typeface="Gill Sans MT"/>
              </a:rPr>
              <a:t>مراحل النمو الخلقي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0000"/>
                </a:solidFill>
                <a:latin typeface="Gill Sans MT"/>
              </a:rPr>
              <a:t>نمو السلوك الأخلاقي </a:t>
            </a:r>
            <a:r>
              <a:rPr b="0" lang="ar-SA" sz="3200" spc="-1" strike="noStrike">
                <a:solidFill>
                  <a:srgbClr val="000000"/>
                </a:solidFill>
                <a:latin typeface="Gill Sans MT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r" rtl="1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c0654c"/>
                </a:solidFill>
                <a:latin typeface="Arial Unicode MS"/>
                <a:cs typeface="Arial Unicode MS"/>
              </a:rPr>
              <a:t>كان سقراط يعتقد بان الفضيلة علم والرذيلة جهل وقد اثبت هذا الاعتقاد خطأه وذلك لان المعرفة الأخلاقية وحدها لاتكفل السلوك الخلقي 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40" name="صورة 3" descr="2CA1U0O6MCAHV8YR6CA216BETCAWQ2TYZCA9KZPVVCAK0K19CCAADP4MHCAM7XQ3VCA9ZW1RSCAEV9GXQCA4GV89YCA2I0G3DCA24MV7JCAV0OQFPCA28OKFUCAXOZ8L8CAF5HANOCAE9WIMHCACBISC0.jpg"/>
          <p:cNvPicPr/>
          <p:nvPr/>
        </p:nvPicPr>
        <p:blipFill>
          <a:blip r:embed="rId2"/>
          <a:stretch/>
        </p:blipFill>
        <p:spPr>
          <a:xfrm>
            <a:off x="1835280" y="4508640"/>
            <a:ext cx="230508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7ec3d4"/>
                </a:solidFill>
                <a:latin typeface="Gill Sans MT"/>
              </a:rPr>
              <a:t>إن سلوك الأطفال والكبار في موقف معين يكون لهم الخيار فيه يتحدد من خلال مجموعة من العوامل وهي 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Gill Sans MT"/>
              </a:rPr>
              <a:t>1</a:t>
            </a:r>
            <a:r>
              <a:rPr b="0" lang="ar-SA" sz="3200" spc="-1" strike="noStrike">
                <a:solidFill>
                  <a:srgbClr val="ff6699"/>
                </a:solidFill>
                <a:latin typeface="Gill Sans MT"/>
              </a:rPr>
              <a:t>- الضغوط الاجتماعية 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99"/>
                </a:solidFill>
                <a:latin typeface="Gill Sans MT"/>
              </a:rPr>
              <a:t>2</a:t>
            </a:r>
            <a:r>
              <a:rPr b="0" lang="ar-SA" sz="3200" spc="-1" strike="noStrike">
                <a:solidFill>
                  <a:srgbClr val="ff6699"/>
                </a:solidFill>
                <a:latin typeface="Gill Sans MT"/>
              </a:rPr>
              <a:t>- مشاعر الفرد نفسه 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99"/>
                </a:solidFill>
                <a:latin typeface="Gill Sans MT"/>
              </a:rPr>
              <a:t>3</a:t>
            </a:r>
            <a:r>
              <a:rPr b="0" lang="ar-SA" sz="3200" spc="-1" strike="noStrike">
                <a:solidFill>
                  <a:srgbClr val="ff6699"/>
                </a:solidFill>
                <a:latin typeface="Gill Sans MT"/>
              </a:rPr>
              <a:t>- الطريقة التي يعامله بها الآخرون 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99"/>
                </a:solidFill>
                <a:latin typeface="Gill Sans MT"/>
              </a:rPr>
              <a:t>4</a:t>
            </a:r>
            <a:r>
              <a:rPr b="0" lang="ar-SA" sz="3200" spc="-1" strike="noStrike">
                <a:solidFill>
                  <a:srgbClr val="ff6699"/>
                </a:solidFill>
                <a:latin typeface="Gill Sans MT"/>
              </a:rPr>
              <a:t>- رغبات الفرد وآماله في تلك اللحظة 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42" name="صورة 2" descr="2CAZTVUWACA52M9JOCA09KY0VCA7MI16XCAHLSO7LCAEM1YZBCA9M33JKCA6DEWADCAW5F5IACAGAOX7MCAFT0RT3CAL3Q2CBCAE5CPQCCA1R4761CAUKRQI2CAXEL58JCAXDJO19CA805GPGCAWC0B5J.jpg"/>
          <p:cNvPicPr/>
          <p:nvPr/>
        </p:nvPicPr>
        <p:blipFill>
          <a:blip r:embed="rId2"/>
          <a:stretch/>
        </p:blipFill>
        <p:spPr>
          <a:xfrm>
            <a:off x="1258920" y="4653000"/>
            <a:ext cx="216072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68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7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74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6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77" dur="500"/>
                                        <p:tgtEl>
                                          <p:spTgt spid="3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80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9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2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5" dur="500"/>
                                        <p:tgtEl>
                                          <p:spTgt spid="3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8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900" spc="-1" strike="noStrike">
                <a:solidFill>
                  <a:srgbClr val="572314"/>
                </a:solidFill>
                <a:latin typeface="Gill Sans MT"/>
              </a:rPr>
              <a:t>يتعلم الطفل السلوك الخلقي من خلال ثلاث طرق: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Gill Sans MT"/>
              </a:rPr>
              <a:t>1</a:t>
            </a:r>
            <a:r>
              <a:rPr b="0" lang="ar-SA" sz="3200" spc="-1" strike="noStrike">
                <a:solidFill>
                  <a:srgbClr val="000000"/>
                </a:solidFill>
                <a:latin typeface="Gill Sans MT"/>
              </a:rPr>
              <a:t>- المحاولة والخطأ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Gill Sans MT"/>
              </a:rPr>
              <a:t>2</a:t>
            </a:r>
            <a:r>
              <a:rPr b="0" lang="ar-SA" sz="3200" spc="-1" strike="noStrike">
                <a:solidFill>
                  <a:srgbClr val="000000"/>
                </a:solidFill>
                <a:latin typeface="Gill Sans MT"/>
              </a:rPr>
              <a:t>- التلقين والتعلم المباشر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Gill Sans MT"/>
              </a:rPr>
              <a:t>3</a:t>
            </a:r>
            <a:r>
              <a:rPr b="0" lang="ar-SA" sz="3200" spc="-1" strike="noStrike">
                <a:solidFill>
                  <a:srgbClr val="000000"/>
                </a:solidFill>
                <a:latin typeface="Gill Sans MT"/>
              </a:rPr>
              <a:t>- التقمص والتمثل والتوحد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45" name="صورة 3" descr="YCAJJJ0NVCAM2173VCAJX259ICAJMULOECA84DIJ9CA5B84L4CAO8J3FVCAYJD95ECA4TH0KRCA1MI4HLCAE6EBLKCA9BIH3BCAAPHJ0FCANO7CCGCA2RZF13CA4SNBWGCAZNLVWQCA6IK3KOCASVAQTW.jpg"/>
          <p:cNvPicPr/>
          <p:nvPr/>
        </p:nvPicPr>
        <p:blipFill>
          <a:blip r:embed="rId2"/>
          <a:stretch/>
        </p:blipFill>
        <p:spPr>
          <a:xfrm>
            <a:off x="1619280" y="1341360"/>
            <a:ext cx="2305080" cy="1285920"/>
          </a:xfrm>
          <a:prstGeom prst="rect">
            <a:avLst/>
          </a:prstGeom>
          <a:ln w="0">
            <a:noFill/>
          </a:ln>
        </p:spPr>
      </p:pic>
      <p:pic>
        <p:nvPicPr>
          <p:cNvPr id="346" name="صورة 4" descr="1CA3MB27YCA37TT2VCAGZQJPDCAGL3WXSCAT37J8QCA5CS9NMCAC4K8ULCAZBJVMVCAMZRAWPCAT92PSJCAHQCC7VCA2UP1WGCAYWQ02TCAG0KH7LCAT86DTZCAZ9V8H0CA00G2ELCA3HBZDXCAK73NUX.jpg"/>
          <p:cNvPicPr/>
          <p:nvPr/>
        </p:nvPicPr>
        <p:blipFill>
          <a:blip r:embed="rId3"/>
          <a:stretch/>
        </p:blipFill>
        <p:spPr>
          <a:xfrm>
            <a:off x="1692360" y="2924280"/>
            <a:ext cx="2448000" cy="1225440"/>
          </a:xfrm>
          <a:prstGeom prst="rect">
            <a:avLst/>
          </a:prstGeom>
          <a:ln w="0">
            <a:noFill/>
          </a:ln>
        </p:spPr>
      </p:pic>
      <p:pic>
        <p:nvPicPr>
          <p:cNvPr id="347" name="صورة 5" descr="9CAXTNKDJCAE3JJQQCA3AUQOECAAVP0B8CA3RG115CASUT7JICAM2QXAPCA72KN7TCABKF774CAL2ZYS8CAIXH4OSCA9KZIJOCAXOCZVRCASNU70UCAYEPVYJCA6LZNOACAIT7OTMCAM1GAXUCAN6RFSV.jpg"/>
          <p:cNvPicPr/>
          <p:nvPr/>
        </p:nvPicPr>
        <p:blipFill>
          <a:blip r:embed="rId4"/>
          <a:stretch/>
        </p:blipFill>
        <p:spPr>
          <a:xfrm>
            <a:off x="1619280" y="4653000"/>
            <a:ext cx="2305080" cy="151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300" spc="-1" strike="noStrike">
                <a:solidFill>
                  <a:srgbClr val="572314"/>
                </a:solidFill>
                <a:latin typeface="Gill Sans MT"/>
              </a:rPr>
              <a:t>نمو المفاهيم الخلقية 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457200" y="1412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28320" indent="-25416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0000"/>
                </a:solidFill>
                <a:latin typeface="Gill Sans MT"/>
              </a:rPr>
              <a:t>أي تعلم مبادئ الخطأ والصواب في صورتها المجردة واللفظية وهذا التعلم يتواكب مع نمو القدرات العقلية عند الطفل 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2a6d7d"/>
                </a:solidFill>
                <a:latin typeface="Gill Sans MT"/>
              </a:rPr>
              <a:t>العوامل التي تزيد من صعوبة تعلم الطفل للمبادئ الخلقية 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7ec3d4"/>
                </a:solidFill>
                <a:latin typeface="Gill Sans MT"/>
              </a:rPr>
              <a:t>مستوى النمو العقلي للطفل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7ec3d4"/>
                </a:solidFill>
                <a:latin typeface="Gill Sans MT"/>
              </a:rPr>
              <a:t>نوع التعلم الذي يتم من خلاله تعلم السلوك الأخلاقي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7ec3d4"/>
                </a:solidFill>
                <a:latin typeface="Gill Sans MT"/>
              </a:rPr>
              <a:t>اختلاف القواعد الخلقية بصدد الصواب والخطأ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7ec3d4"/>
                </a:solidFill>
                <a:latin typeface="Gill Sans MT"/>
              </a:rPr>
              <a:t>تباين السلوك في المواقف الأخلاقية المختلفة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7ec3d4"/>
                </a:solidFill>
                <a:latin typeface="Gill Sans MT"/>
              </a:rPr>
              <a:t>الصراع مع الضغوط الاجتماعية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900" spc="-1" strike="noStrike">
                <a:solidFill>
                  <a:srgbClr val="572314"/>
                </a:solidFill>
                <a:latin typeface="Gill Sans MT"/>
              </a:rPr>
              <a:t>مظاهر النمو الخلقي في مراحل النمو المختلفة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31920" indent="-25704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0000"/>
                </a:solidFill>
                <a:latin typeface="Gill Sans MT"/>
              </a:rPr>
              <a:t>الطفولة المبكرة</a:t>
            </a:r>
            <a:r>
              <a:rPr b="0" lang="ar-SA" sz="3200" spc="-1" strike="noStrike">
                <a:solidFill>
                  <a:srgbClr val="000000"/>
                </a:solidFill>
                <a:latin typeface="Gill Sans MT"/>
              </a:rPr>
              <a:t> .. لم يصل إلى درجة النضج العقلي بما يسمح له بتعلم المبادئ الأخلاقية المجردة .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Gill Sans MT"/>
              </a:rPr>
              <a:t>ولكنه يدرك أن سوء السلوك بأنه ماينهى عنه الأب أو الأم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0000"/>
                </a:solidFill>
                <a:latin typeface="Gill Sans MT"/>
              </a:rPr>
              <a:t>الطفولة الوسطى </a:t>
            </a:r>
            <a:r>
              <a:rPr b="0" lang="ar-SA" sz="3200" spc="-1" strike="noStrike">
                <a:solidFill>
                  <a:srgbClr val="000000"/>
                </a:solidFill>
                <a:latin typeface="Gill Sans MT"/>
              </a:rPr>
              <a:t>..يمكنه الاحتفاظ بتعليمات السلوك الأخلاقي من موقف لآخر 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0000"/>
                </a:solidFill>
                <a:latin typeface="Gill Sans MT"/>
              </a:rPr>
              <a:t>الطفولة المتأخرة </a:t>
            </a:r>
            <a:r>
              <a:rPr b="0" lang="ar-SA" sz="3200" spc="-1" strike="noStrike">
                <a:solidFill>
                  <a:srgbClr val="000000"/>
                </a:solidFill>
                <a:latin typeface="Gill Sans MT"/>
              </a:rPr>
              <a:t>.. يزداد فهمهم للقيم الأخلاقية ويتأثرون بالقيم الأخلاقية السائدة في المجتمع .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300" spc="-1" strike="noStrike">
                <a:solidFill>
                  <a:srgbClr val="572314"/>
                </a:solidFill>
                <a:latin typeface="Gill Sans MT"/>
              </a:rPr>
              <a:t>المبادئ الخلقية في الإسلام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Gill Sans MT"/>
              </a:rPr>
              <a:t>التوحيد .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Gill Sans MT"/>
              </a:rPr>
              <a:t>        الحرية .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Gill Sans MT"/>
              </a:rPr>
              <a:t>            العدالة .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Gill Sans MT"/>
              </a:rPr>
              <a:t>                   الإخاء .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Gill Sans MT"/>
              </a:rPr>
              <a:t>                         المساواة .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54" name="صورة 3" descr="HCA2XYBGCCA5KTL1VCA6Y9ZT7CA8NLDEFCAUX2GJJCAE3URU5CAD2QZU1CAKIXQEHCANGTG27CA57CJ8GCAJJRZGGCAMDM3RTCABZ8XUZCARIGA2WCAC9O8LKCAF72QUPCAWWNRHFCAJ2TA09CAB1R24L.jpg"/>
          <p:cNvPicPr/>
          <p:nvPr/>
        </p:nvPicPr>
        <p:blipFill>
          <a:blip r:embed="rId2"/>
          <a:stretch/>
        </p:blipFill>
        <p:spPr>
          <a:xfrm>
            <a:off x="1763640" y="1557360"/>
            <a:ext cx="2592360" cy="13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00b050"/>
                </a:solidFill>
                <a:latin typeface="Arabic Typesetting"/>
                <a:cs typeface="Arabic Typesetting"/>
              </a:rPr>
              <a:t>يمكننا تحديد مجالين للأخلاق :</a:t>
            </a:r>
            <a:endParaRPr b="0" lang="en-US" sz="7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c0654c"/>
                </a:solidFill>
                <a:latin typeface="Gill Sans MT"/>
              </a:rPr>
              <a:t>المجال الأول </a:t>
            </a:r>
            <a:r>
              <a:rPr b="0" lang="ar-SA" sz="3200" spc="-1" strike="noStrike">
                <a:solidFill>
                  <a:srgbClr val="000000"/>
                </a:solidFill>
                <a:latin typeface="Gill Sans MT"/>
              </a:rPr>
              <a:t>: </a:t>
            </a:r>
            <a:r>
              <a:rPr b="0" lang="ar-SA" sz="3200" spc="-1" strike="noStrike">
                <a:solidFill>
                  <a:srgbClr val="cc3399"/>
                </a:solidFill>
                <a:latin typeface="Gill Sans MT"/>
              </a:rPr>
              <a:t>يدفع الفرد الى الامتثال لمعايير المجتمع وقيمه .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cc3399"/>
                </a:solidFill>
                <a:latin typeface="Gill Sans MT"/>
              </a:rPr>
              <a:t>وهذه المعايير الأخلاقية تتعدل وتتطور وتتأثر بالتنشئة الاجتماعية ..وتختلف من مجتمع لآخر وتختلف من عصر لآخر في المجتمع نفسه .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c0654c"/>
                </a:solidFill>
                <a:latin typeface="Gill Sans MT"/>
              </a:rPr>
              <a:t>المجال الثاني </a:t>
            </a:r>
            <a:r>
              <a:rPr b="0" lang="ar-SA" sz="3200" spc="-1" strike="noStrike">
                <a:solidFill>
                  <a:srgbClr val="000000"/>
                </a:solidFill>
                <a:latin typeface="Gill Sans MT"/>
              </a:rPr>
              <a:t>: </a:t>
            </a:r>
            <a:r>
              <a:rPr b="0" lang="ar-SA" sz="3200" spc="-1" strike="noStrike">
                <a:solidFill>
                  <a:srgbClr val="cc3399"/>
                </a:solidFill>
                <a:latin typeface="Gill Sans MT"/>
              </a:rPr>
              <a:t>يدفع الفرد الى اشباع الغايات المثلى بغض النظر عن عادات المجتمع ومعاييره </a:t>
            </a:r>
            <a:r>
              <a:rPr b="0" lang="ar-SA" sz="3200" spc="-1" strike="noStrike">
                <a:solidFill>
                  <a:srgbClr val="000000"/>
                </a:solidFill>
                <a:latin typeface="Gill Sans MT"/>
              </a:rPr>
              <a:t>.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0000"/>
                </a:solidFill>
                <a:latin typeface="Gill Sans MT"/>
              </a:rPr>
              <a:t>النمو الخلقي .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b0f0"/>
                </a:solidFill>
                <a:latin typeface="Gill Sans MT"/>
              </a:rPr>
              <a:t>يحدث تدريجيا .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c0654c"/>
                </a:solidFill>
                <a:latin typeface="Gill Sans MT"/>
              </a:rPr>
              <a:t>لايحدث فجأة .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2a6d7d"/>
                </a:solidFill>
                <a:latin typeface="Gill Sans MT"/>
              </a:rPr>
              <a:t>لاتوجد فواصل حاسمة بين كل مرحلة من مراحله.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88631"/>
                </a:solidFill>
                <a:latin typeface="Gill Sans MT"/>
              </a:rPr>
              <a:t>لايحدث بمحض الصدفة .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37f26"/>
                </a:solidFill>
                <a:latin typeface="Gill Sans MT"/>
              </a:rPr>
              <a:t>يحتاج إلى جهود وأساليب مدروسة .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3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3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3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3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300" spc="-1" strike="noStrike">
                <a:solidFill>
                  <a:srgbClr val="572314"/>
                </a:solidFill>
                <a:latin typeface="Gill Sans MT"/>
              </a:rPr>
              <a:t>العوامل المؤثرة في النمو الخلقي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24" name="عنصر نائب للمحتوى 3" descr=""/>
          <p:cNvPicPr/>
          <p:nvPr/>
        </p:nvPicPr>
        <p:blipFill>
          <a:blip r:embed="rId2"/>
          <a:stretch/>
        </p:blipFill>
        <p:spPr>
          <a:xfrm>
            <a:off x="1427040" y="1378080"/>
            <a:ext cx="7515360" cy="488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300" spc="-1" strike="noStrike">
                <a:solidFill>
                  <a:srgbClr val="572314"/>
                </a:solidFill>
                <a:latin typeface="Gill Sans MT"/>
              </a:rPr>
              <a:t>عامل الوراثة والنمو الخلقي 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323640" y="1484280"/>
            <a:ext cx="856908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710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88631"/>
                </a:solidFill>
                <a:latin typeface="Gill Sans MT"/>
              </a:rPr>
              <a:t>يؤكد</a:t>
            </a:r>
            <a:r>
              <a:rPr b="1" lang="ar-SA" sz="3200" spc="-1" strike="noStrike">
                <a:solidFill>
                  <a:srgbClr val="f88631"/>
                </a:solidFill>
                <a:latin typeface="Gill Sans MT"/>
              </a:rPr>
              <a:t> </a:t>
            </a:r>
            <a:r>
              <a:rPr b="1" lang="ar-SA" sz="2800" spc="-1" strike="noStrike">
                <a:solidFill>
                  <a:srgbClr val="f88631"/>
                </a:solidFill>
                <a:latin typeface="Gill Sans MT"/>
              </a:rPr>
              <a:t>أنصار الوراثة أهمية العوامل الفطرية في الأخلاق 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7ec3d4"/>
                </a:solidFill>
                <a:latin typeface="Gill Sans MT"/>
              </a:rPr>
              <a:t>أكدت دراسة إن الضعف الخلقي الموروث ينتشر في اسر معينه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7ec3d4"/>
                </a:solidFill>
                <a:latin typeface="Gill Sans MT"/>
              </a:rPr>
              <a:t>عبر الأجيال المتعاقبة 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0654c"/>
                </a:solidFill>
                <a:latin typeface="Gill Sans MT"/>
              </a:rPr>
              <a:t>يعتقد البعض بوراثية الإجرام 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88631"/>
                </a:solidFill>
                <a:latin typeface="Gill Sans MT"/>
              </a:rPr>
              <a:t>يعتقد البعض إن الطفل يرث السِمات الخلقية المحددة كالأمانة والصدق عن والديه 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 algn="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b9d77a"/>
                </a:solidFill>
                <a:latin typeface="Arial Unicode MS"/>
                <a:cs typeface="Arial Unicode MS"/>
              </a:rPr>
              <a:t>أن فكرة إرجاع الأخلاق إلى الوراثة تخلص الآباء والمربين من مسؤولياتهم إزاء تربية الطفل تربية خلقية سليمة 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300" spc="-1" strike="noStrike">
                <a:solidFill>
                  <a:srgbClr val="572314"/>
                </a:solidFill>
                <a:latin typeface="Gill Sans MT"/>
              </a:rPr>
              <a:t>عامل البيئة والنمو الخلقي .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178920" y="1916280"/>
            <a:ext cx="871380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95560" indent="-22860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7ec3d4"/>
                </a:solidFill>
                <a:latin typeface="Gill Sans MT"/>
              </a:rPr>
              <a:t>يؤكد أنصار هذا الاتجاه على أهمية البيئة في تنميه الجانب الأخلاقي 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95560" indent="-22860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e17b7c"/>
                </a:solidFill>
                <a:latin typeface="Gill Sans MT"/>
              </a:rPr>
              <a:t>أسلوب التربية القائم على الحب يؤدي إلى تنمية الضمير </a:t>
            </a:r>
            <a:r>
              <a:rPr b="1" lang="ar-SA" sz="28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95560" indent="-22860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88631"/>
                </a:solidFill>
                <a:latin typeface="Gill Sans MT"/>
              </a:rPr>
              <a:t>الحماية الزائدة والخضوع لِرغبة الطفل يؤدِيان إلى زيادة نزوات الطفل </a:t>
            </a:r>
            <a:r>
              <a:rPr b="1" lang="ar-SA" sz="28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95560" indent="-22860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8898c3"/>
                </a:solidFill>
                <a:latin typeface="Gill Sans MT"/>
              </a:rPr>
              <a:t>المنزل والمدرسة لهما دور كبير في نمو السلوك الخلقي 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95560" indent="-22860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e17b7c"/>
                </a:solidFill>
                <a:latin typeface="Gill Sans MT"/>
              </a:rPr>
              <a:t>السلوك الخلقي للأطفال يتدهور عند ضعف الإدارة المدرسية 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95560" indent="-22860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0000"/>
                </a:solidFill>
                <a:latin typeface="Gill Sans MT"/>
              </a:rPr>
              <a:t>ارتياد أماكن العبادة يؤثر في السلوك الخلقي الإيجابي 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95560" indent="-22860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0654c"/>
                </a:solidFill>
                <a:latin typeface="Gill Sans MT"/>
              </a:rPr>
              <a:t>الطبقة الاجتماعية تؤثر في النمو الأخلاقي ( دراسة امريكية 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95560" indent="-22860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3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3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3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3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72314"/>
                </a:solidFill>
                <a:latin typeface="Gill Sans MT"/>
              </a:rPr>
              <a:t>الجهاز النفسي والنمو الخلقي 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457200" y="1052280"/>
            <a:ext cx="822960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302760" indent="-23436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0654c"/>
                </a:solidFill>
                <a:latin typeface="Gill Sans MT"/>
              </a:rPr>
              <a:t>الذات هي الجانب الواقي في شخصية الفرد 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02760" indent="-23436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0066"/>
                </a:solidFill>
                <a:latin typeface="Gill Sans MT"/>
              </a:rPr>
              <a:t>تتكون الذات في الطفولة ويعاد تكوينها في المراهقة 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02760" indent="-23436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cc33"/>
                </a:solidFill>
                <a:latin typeface="Gill Sans MT"/>
              </a:rPr>
              <a:t>الذات العليا تعبر عن الضمير وهي السلطة الضابطة العليا في الإنسان</a:t>
            </a:r>
            <a:r>
              <a:rPr b="0" lang="ar-SA" sz="2800" spc="-1" strike="noStrike">
                <a:solidFill>
                  <a:srgbClr val="000000"/>
                </a:solidFill>
                <a:latin typeface="Gill Sans MT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02760" indent="-23436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0000"/>
                </a:solidFill>
                <a:latin typeface="Gill Sans MT"/>
              </a:rPr>
              <a:t>وظائف الضمير 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02760" indent="-23436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0654c"/>
                </a:solidFill>
                <a:latin typeface="Gill Sans MT"/>
              </a:rPr>
              <a:t>1</a:t>
            </a:r>
            <a:r>
              <a:rPr b="0" lang="ar-SA" sz="2800" spc="-1" strike="noStrike">
                <a:solidFill>
                  <a:srgbClr val="c0654c"/>
                </a:solidFill>
                <a:latin typeface="Gill Sans MT"/>
              </a:rPr>
              <a:t>- مقاومة الإغراء   </a:t>
            </a:r>
            <a:r>
              <a:rPr b="0" lang="ar-SA" sz="2800" spc="-1" strike="noStrike">
                <a:solidFill>
                  <a:srgbClr val="000000"/>
                </a:solidFill>
                <a:latin typeface="Gill Sans MT"/>
              </a:rPr>
              <a:t>2</a:t>
            </a:r>
            <a:r>
              <a:rPr b="0" lang="ar-SA" sz="2800" spc="-1" strike="noStrike">
                <a:solidFill>
                  <a:srgbClr val="c0654c"/>
                </a:solidFill>
                <a:latin typeface="Gill Sans MT"/>
              </a:rPr>
              <a:t>- الشعور بالذنب 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02760" indent="-23436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2a6d7d"/>
                </a:solidFill>
                <a:latin typeface="Gill Sans MT"/>
              </a:rPr>
              <a:t>إذا زادت سيطرة الضمير في الشخصية يصبح الفرد عبداً لمجموعة من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02760" indent="-23436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2a6d7d"/>
                </a:solidFill>
                <a:latin typeface="Gill Sans MT"/>
              </a:rPr>
              <a:t>العادات والتقاليد ومشاعر الذنب والتأنيب 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02760" indent="-23436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0000"/>
                </a:solidFill>
                <a:latin typeface="Gill Sans MT"/>
              </a:rPr>
              <a:t>العوامل المسؤولة عن نمو الضمير 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02760" indent="-23436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37f26"/>
                </a:solidFill>
                <a:latin typeface="Gill Sans MT"/>
              </a:rPr>
              <a:t>معايير الثقافة الاجتماعية – النمو العقلي للطفل – علاقة الطفل بأبويه </a:t>
            </a:r>
            <a:r>
              <a:rPr b="0" lang="ar-SA" sz="28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02760" indent="-23436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2a6d7d"/>
                </a:solidFill>
                <a:latin typeface="Gill Sans MT"/>
              </a:rPr>
              <a:t>مثاليات الذات هو مفهوم يدل على فكرة الفرد عن نفسه في صورتها المثالية 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02760" indent="-23436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02760" indent="-23436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02760" indent="-23436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3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3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3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3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3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3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3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3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3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3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72314"/>
                </a:solidFill>
                <a:latin typeface="Gill Sans MT"/>
              </a:rPr>
              <a:t>العلاقة بين هذه العوامل الثلاثة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250560" y="1628640"/>
            <a:ext cx="849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710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0000"/>
                </a:solidFill>
                <a:latin typeface="Gill Sans MT"/>
              </a:rPr>
              <a:t>الوراثة      </a:t>
            </a:r>
            <a:r>
              <a:rPr b="0" lang="ar-SA" sz="4000" spc="-1" strike="noStrike">
                <a:solidFill>
                  <a:srgbClr val="000000"/>
                </a:solidFill>
                <a:latin typeface="Gill Sans MT"/>
              </a:rPr>
              <a:t>و   ا</a:t>
            </a:r>
            <a:r>
              <a:rPr b="0" lang="ar-SA" sz="4000" spc="-1" strike="noStrike">
                <a:solidFill>
                  <a:srgbClr val="2a6d7d"/>
                </a:solidFill>
                <a:latin typeface="Gill Sans MT"/>
              </a:rPr>
              <a:t>لبيئة</a:t>
            </a:r>
            <a:r>
              <a:rPr b="0" lang="ar-SA" sz="40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ar-SA" sz="4000" spc="-1" strike="noStrike">
                <a:solidFill>
                  <a:srgbClr val="637f26"/>
                </a:solidFill>
                <a:latin typeface="Gill Sans MT"/>
              </a:rPr>
              <a:t>و   الجهاز النفسي 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Gill Sans MT"/>
              </a:rPr>
              <a:t>         </a:t>
            </a:r>
            <a:r>
              <a:rPr b="0" lang="ar-SA" sz="2800" spc="-1" strike="noStrike">
                <a:solidFill>
                  <a:srgbClr val="c0654c"/>
                </a:solidFill>
                <a:latin typeface="Gill Sans MT"/>
              </a:rPr>
              <a:t>علاقة تفاعل ولها تأثير متبادل في النمو الخلقي </a:t>
            </a:r>
            <a:r>
              <a:rPr b="0" lang="ar-SA" sz="28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e17b7c"/>
                </a:solidFill>
                <a:latin typeface="Gill Sans MT"/>
              </a:rPr>
              <a:t>وبصفتنا مربين فإننا نهتم بالعوامل البيئية لأن ذلك سوف يوسع مقدرتنا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e17b7c"/>
                </a:solidFill>
                <a:latin typeface="Gill Sans MT"/>
              </a:rPr>
              <a:t>على مساعدة الأطفال على النمو الخلقي السوي 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9" dur="500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4" dur="500"/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9" dur="500"/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4" dur="500"/>
                                        <p:tgtEl>
                                          <p:spTgt spid="3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300" spc="-1" strike="noStrike">
                <a:solidFill>
                  <a:srgbClr val="572314"/>
                </a:solidFill>
                <a:latin typeface="Gill Sans MT"/>
              </a:rPr>
              <a:t>العوامل الأساسية للنمو الأخلاقي الجيد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e17b7c"/>
                </a:solidFill>
                <a:latin typeface="Gill Sans MT"/>
              </a:rPr>
              <a:t>الصحة الجسمية الجيدة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67d42"/>
                </a:solidFill>
                <a:latin typeface="Gill Sans MT"/>
              </a:rPr>
              <a:t>الأمان الانفعالي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88631"/>
                </a:solidFill>
                <a:latin typeface="Gill Sans MT"/>
              </a:rPr>
              <a:t>توفر منافذ للتعبير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7ec3d4"/>
                </a:solidFill>
                <a:latin typeface="Gill Sans MT"/>
              </a:rPr>
              <a:t>التدريب المستمر على التحكم وضبط النفس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2d050"/>
                </a:solidFill>
                <a:latin typeface="Gill Sans MT"/>
              </a:rPr>
              <a:t>وجود جو اجتماعي رحب وواسع وملئ بالتسامح والتعاطف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35" name="صورة 3" descr="YCAYWN4RICAMKI5FNCA4XRCRVCAGMNJ6YCAY8I4NOCAVKH9MCCAE1WTDHCA59FV09CAGJS0O3CA73CZXXCAZLDK5BCAX274DPCA39EX16CAAY2FMFCA8PFQFOCAW85ULQCAJFYV0UCAICQIRJCAS18GW9.jpg"/>
          <p:cNvPicPr/>
          <p:nvPr/>
        </p:nvPicPr>
        <p:blipFill>
          <a:blip r:embed="rId2"/>
          <a:stretch/>
        </p:blipFill>
        <p:spPr>
          <a:xfrm>
            <a:off x="1547640" y="4581360"/>
            <a:ext cx="3095640" cy="18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3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3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3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3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46" dur="2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6T18:19:40Z</dcterms:created>
  <dc:creator>vista</dc:creator>
  <dc:description/>
  <dc:language>en-US</dc:language>
  <cp:lastModifiedBy>DELL</cp:lastModifiedBy>
  <dcterms:modified xsi:type="dcterms:W3CDTF">2011-12-11T16:53:09Z</dcterms:modified>
  <cp:revision>31</cp:revision>
  <dc:subject/>
  <dc:title>الشريحة 1</dc:title>
</cp:coreProperties>
</file>