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0A9-7800-4317-BC21-46C46946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11F-DAD4-4400-9681-37E63AF3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035-3B50-46C4-9FAA-2DCF237D9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30A-A221-4C13-83A2-00945154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710-9D2C-461C-A2B7-98207FD6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DED-4F95-4E1A-850D-5323359A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6C59-41C6-43B8-93B6-3F656F86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BDF-77F4-4E54-AF2C-9A90C2F2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954-2474-474F-A82B-2726F9E5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D00-98E1-4FC8-9025-E8771AE9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0E4-DA73-4D1E-9ADB-E607FAAF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B51-3DDA-4091-82DC-238DF322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27A6-8C2E-4E2C-A901-14190879E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 u="sng">
                <a:solidFill>
                  <a:srgbClr val="ffff00"/>
                </a:solidFill>
                <a:uFillTx/>
                <a:latin typeface="Calibri"/>
              </a:rPr>
              <a:t>3</a:t>
            </a:r>
            <a:r>
              <a:rPr b="1" i="1" lang="en-GB" sz="4000" spc="-1" strike="noStrike" u="sng" baseline="30000">
                <a:solidFill>
                  <a:srgbClr val="ffff00"/>
                </a:solidFill>
                <a:uFillTx/>
                <a:latin typeface="Calibri"/>
              </a:rPr>
              <a:t>rd</a:t>
            </a:r>
            <a:r>
              <a:rPr b="1" i="1" lang="en-GB" sz="4000" spc="-1" strike="noStrike" u="sng">
                <a:solidFill>
                  <a:srgbClr val="ffff00"/>
                </a:solidFill>
                <a:uFillTx/>
                <a:latin typeface="Calibri"/>
              </a:rPr>
              <a:t> Year Toxicology Core Fact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Content Placeholder 3"/>
          <p:cNvSpPr/>
          <p:nvPr/>
        </p:nvSpPr>
        <p:spPr>
          <a:xfrm>
            <a:off x="990720" y="2895480"/>
            <a:ext cx="7619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Zohair A. Al Aseri MD, FRCPC EM &amp; C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hairman and Assistant Professor , D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llege of Medicine King Saud Univers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ultant Emergency Medicine and Intensivi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ing Saud University, Medical 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alibri"/>
              </a:rPr>
              <a:t>Nicotinic toxidrome (recalled by days of the week) is characterised by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066680" y="2136600"/>
            <a:ext cx="5791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onday: Mio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uesday: Tachycardia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Wednesday: Weaknes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ursday: Tremor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Friday: Fasciculation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aturday: Seizur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unday: Somnol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Toxins accessible to haemodialysi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600200" y="220968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Ur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alicyl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ophyl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lcohols (isopropanol, methanol), Ethylene gly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oric acid, barbitu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Lith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Paracetamol (Acetaminophen),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Q; Acetaminophen (paracetamol) can undergo all of the following biotransformation reactions EXCEP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43000" y="2133720"/>
            <a:ext cx="6629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e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N-oxi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Glucuroni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ulph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e.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Glutathione conju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nswer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N-acetyl-p-benzoquinonimine (NAPQI) is the toxic metabolic product of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85800" y="2413080"/>
            <a:ext cx="746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cetyl-salisyl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cetamiophen (paracetamo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fanem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Ibuprof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swer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Q..N-Acetyl cystiene (NAC) is used as antidote for acetaminophen. The decision to use is ideally based on Acetaminophen blood levels measured at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62120" y="2438280"/>
            <a:ext cx="815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2 Hours from time of i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4 Hours from time of i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8 Hours from time of i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.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24 Hours from time of ing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swer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Salicylic acid (aspirin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731520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Opio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7315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NTID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762120"/>
          <a:ext cx="8839080" cy="5959440"/>
        </p:xfrm>
        <a:graphic>
          <a:graphicData uri="http://schemas.openxmlformats.org/drawingml/2006/table">
            <a:tbl>
              <a:tblPr/>
              <a:tblGrid>
                <a:gridCol w="4419360"/>
                <a:gridCol w="4419720"/>
              </a:tblGrid>
              <a:tr h="35100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Antid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Calibri"/>
                          <a:ea typeface="Calibri"/>
                        </a:rPr>
                        <a:t>Indication (agen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0600"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-acetylcystein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Ethanol/fomepizole (4-MP)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xygen/hyperbaric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loxone/nalmefen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hysostigmin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tropine/pralidoxime (2-PAM)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ethylene blu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itri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eferoxamin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mercaprol (BAL)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uccimer (DMSA)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Fab fragment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lucago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odium bicarbonat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alcium/insulin/dextros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extrose, glucagon, octreot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cetaminophe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ethanol/ethylene glycol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arbon monoxid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pioid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nticholinergic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rganophosphate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Methemoglobinemia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yanide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ron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Arsenic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Lead, mercury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Digoxin, colchicine, crotalid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Beta-blocker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ricyclic antidepressant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Calcium channel antagonists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ral hypoglyce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2920" marR="52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alibri"/>
              </a:rPr>
              <a:t>1-Following drugs can cause Bradycardia (PACED)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990720" y="220968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Propranolol (beta-blockers), poppies (opiates), propoxyphene, physostigmin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nticholinesterase drugs, antiarrhythm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lonidine, calcium channel blocker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Ethanol or other alcoho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Digoxin, digita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Following drugs can cause Tachycardia (FAST)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609480" y="228600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Free base or other forms of cocaine,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ticholinergics, antihistamines, antipsychotics, amphetamines, alcohol withdrawa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ympathomimetics (cocaine, caffeine, amphetamines, PCP), solvent abuse, strychni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eophylline, TCAs, thyroid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alibri"/>
              </a:rPr>
              <a:t>Hypothermia (COOLS) may be seen in poisoning with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685800" y="2413080"/>
            <a:ext cx="7086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arbon monoxid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pioid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Oral hypoglycemics, insuli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Liquor (alcohols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Sedative-hypn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Hyperthermia (NASA) may seen in poisoning with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685800" y="2274840"/>
            <a:ext cx="7467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Neuroleptic malignant syndrome, nicoti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tihistamines, alcohol withdrawa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alicylates, sympathomimetics, serotonin syndrom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ticholinergics, antidepressants, antipsych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Hypotesion (CRASH) may seen in poisoning with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533520" y="227484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lonidine, calcium channel blocker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odenticides (containing arsenic, cyanide)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tidepressants, aminophylline, antihypertensiv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edative-hypnotic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Heroin or other opi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Hypertension (CT SCAN) may occur after poisoning with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990720" y="227484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ocai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hyroid supplement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ympathomimetic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affei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nticholinergics, amphetamin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Nicot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Poisoning with following may lead to an elevated anion gap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304920" y="1444680"/>
            <a:ext cx="8534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thanol, metformin, massive overdos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Ethylene glyco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Tolue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lcoholic ketoacido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cetaminophen (large overdoses)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Cyanide, carbon monoxide, colchicin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Isoniazid, iron, ibuprofe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Generalized seizure-producing toxin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Acetylsalicylic acid or other salicylate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araldehyde, phenform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Cholinergic toxidrome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(caused by organophosphorus, carbamate, pilocarpine) is characteris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685800" y="2743200"/>
            <a:ext cx="6172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iarrhea, diaphore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Urinatio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io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radycardia, bronchosecretion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Emesi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Lacrimation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Lethargic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ali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8T05:53:15Z</dcterms:created>
  <dc:creator>admin</dc:creator>
  <dc:description/>
  <dc:language>en-US</dc:language>
  <cp:lastModifiedBy>admin</cp:lastModifiedBy>
  <dcterms:modified xsi:type="dcterms:W3CDTF">2014-05-18T06:57:10Z</dcterms:modified>
  <cp:revision>2</cp:revision>
  <dc:subject/>
  <dc:title>3rd Year Toxicology Core Facts:</dc:title>
</cp:coreProperties>
</file>