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DB27-0034-4AAC-8A78-26BFA17D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75A-2017-49BB-8B2E-AD072FA8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763-E206-4112-B67E-7705DC0C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8311-73A1-4C9E-AC32-28179715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CA24-CAEF-4954-B199-773F491A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E6C1-07A7-4A9F-9F7C-734B48C4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7BC-24CA-42D6-9DFE-8FE9B0C1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F9F4-ED38-4BFB-B7EB-E93F1830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EE7-D163-47E2-8269-05B129E2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621-51D0-4407-8D79-D04B94F0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4D1-0F54-42E1-AAC5-B0CFE919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725-9392-4806-9E5C-BCEBA0E2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3B0F-D684-4F50-B30C-252186A6E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 u="sng">
                <a:solidFill>
                  <a:srgbClr val="ffff00"/>
                </a:solidFill>
                <a:uFillTx/>
                <a:latin typeface="Calibri"/>
              </a:rPr>
              <a:t>3</a:t>
            </a:r>
            <a:r>
              <a:rPr b="1" i="1" lang="en-GB" sz="4000" spc="-1" strike="noStrike" u="sng" baseline="30000">
                <a:solidFill>
                  <a:srgbClr val="ffff00"/>
                </a:solidFill>
                <a:uFillTx/>
                <a:latin typeface="Calibri"/>
              </a:rPr>
              <a:t>rd</a:t>
            </a:r>
            <a:r>
              <a:rPr b="1" i="1" lang="en-GB" sz="4000" spc="-1" strike="noStrike" u="sng">
                <a:solidFill>
                  <a:srgbClr val="ffff00"/>
                </a:solidFill>
                <a:uFillTx/>
                <a:latin typeface="Calibri"/>
              </a:rPr>
              <a:t> Year Toxicology Core Fac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Content Placeholder 3"/>
          <p:cNvSpPr/>
          <p:nvPr/>
        </p:nvSpPr>
        <p:spPr>
          <a:xfrm>
            <a:off x="990720" y="2895480"/>
            <a:ext cx="7619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Zohair A. Al Aseri MD, FRCPC EM &amp; C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airman and Assistant Professor , D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llege of Medicine King Saud Univers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ltant Emergency Medicine and Intensivi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ing Saud University, Medical 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alibri"/>
              </a:rPr>
              <a:t>Nicotinic toxidrome (recalled by days of the week) is characterised by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1066680" y="2136600"/>
            <a:ext cx="5791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Monday: Miosi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uesday: Tachycardia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Wednesday: Weaknes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ursday: Tremor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Friday: Fasciculation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aturday: Seizure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unday: Somnol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Toxins accessible to haemodialysi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600200" y="22096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Ur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alicyl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ophyl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lcohols (isopropanol, methanol), Ethylene gly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Boric acid, barbitu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Lith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Paracetamol (Acetaminophen),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Q; Acetaminophen (paracetamol) can undergo all of the following biotransformation reactions EXCEP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143000" y="2133720"/>
            <a:ext cx="662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Dea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b.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N-oxi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Glucuroni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d.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Sulph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e.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Glutathione conju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nswer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N-acetyl-p-benzoquinonimine (NAPQI) is the toxic metabolic product of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85800" y="2413080"/>
            <a:ext cx="7467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cetyl-salisylic ac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b.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cetamiophen (paracetamo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Mefanemic Ac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d.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Ibuprof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nswer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Q..N-Acetyl cystiene (NAC) is used as antidote for acetaminophen. The decision to use is ideally based on Acetaminophen blood levels measured at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762120" y="2438280"/>
            <a:ext cx="81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2 Hours from time of ing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b.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4 Hours from time of ing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8 Hours from time of ing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d.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24 Hours from time of ing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nswer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Salicylic acid (aspiri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31520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Opio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731520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NTID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04920" y="762120"/>
          <a:ext cx="8839080" cy="5959440"/>
        </p:xfrm>
        <a:graphic>
          <a:graphicData uri="http://schemas.openxmlformats.org/drawingml/2006/table">
            <a:tbl>
              <a:tblPr/>
              <a:tblGrid>
                <a:gridCol w="4419360"/>
                <a:gridCol w="4419720"/>
              </a:tblGrid>
              <a:tr h="351000"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Antid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Indication (ag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0600"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-acetylcystein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thanol/fomepizole (4-MP)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xygen/hyperbaric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aloxone/nalmefen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hysostigmin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tropine/pralidoxime (2-PAM)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Methylene blu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itrite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eferoxamin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imercaprol (BAL)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uccimer (DMSA)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Fab fragment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lucagon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odium bicarbonat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alcium/insulin/dextros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extrose, glucagon, octreot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cetaminophen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Methanol/ethylene glycol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arbon monoxid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ioid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nticholinergic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rganophosphate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Methemoglobinemia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yanid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ron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rsenic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Lead, mercur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igoxin, colchicine, crotalid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Beta-blocker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ricyclic antidepressant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alcium channel antagonist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ral hypoglyce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alibri"/>
              </a:rPr>
              <a:t>1-Following drugs can cause Bradycardia (PACED)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990720" y="2209680"/>
            <a:ext cx="78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Propranolol (beta-blockers), poppies (opiates), propoxyphene, physostigmin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nticholinesterase drugs, antiarrhythm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lonidine, calcium channel blocker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Ethanol or other alcohol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Digoxin, digital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Following drugs can cause Tachycardia (FAST)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609480" y="2286000"/>
            <a:ext cx="853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Free base or other forms of cocaine,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nticholinergics, antihistamines, antipsychotics, amphetamines, alcohol withdrawal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ympathomimetics (cocaine, caffeine, amphetamines, PCP), solvent abuse, strychnin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ophylline, TCAs, thyroid horm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alibri"/>
              </a:rPr>
              <a:t>Hypothermia (COOLS) may be seen in poisoning with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685800" y="2413080"/>
            <a:ext cx="7086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arbon monoxid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Opioid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Oral hypoglycemics, insuli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Liquor (alcohols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Sedative-hypn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Hyperthermia (NASA) may seen in poisoning with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685800" y="2274840"/>
            <a:ext cx="746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Neuroleptic malignant syndrome, nicotin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ntihistamines, alcohol withdrawal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alicylates, sympathomimetics, serotonin syndrom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nticholinergics, antidepressants, antipsycho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Hypotesion (CRASH) may seen in poisoning with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533520" y="227484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Clonidine, calcium channel blocker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Rodenticides (containing arsenic, cyanide)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ntidepressants, aminophylline, antihypertensive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edative-hypnotic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Heroin or other opi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Hypertension (CT SCAN) may occur after poisoning with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990720" y="2274840"/>
            <a:ext cx="723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Cocain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yroid supplement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ympathomimetic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Caffein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nticholinergics, amphetamine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Nicot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Poisoning with following may lead to an elevated anion gap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304920" y="144468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Methanol, metformin, massive overdose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Ethylene glycol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oluen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lcoholic ketoacidosi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cetaminophen (large overdoses)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Cyanide, carbon monoxide, colchicin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Isoniazid, iron, ibuprofen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Diabetic ketoacidosi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Generalized seizure-producing toxin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cetylsalicylic acid or other salicylate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araldehyde, phenfor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Cholinergic toxidrome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(caused by organophosphorus, carbamate, pilocarpine) is characteris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685800" y="2743200"/>
            <a:ext cx="6172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Diarrhea, diaphoresi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Urination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Miosi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Bradycardia, bronchosecretion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Emesi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Lacrimation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Lethargic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ali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8T05:53:15Z</dcterms:created>
  <dc:creator>admin</dc:creator>
  <dc:description/>
  <dc:language>en-US</dc:language>
  <cp:lastModifiedBy>admin</cp:lastModifiedBy>
  <dcterms:modified xsi:type="dcterms:W3CDTF">2014-05-18T06:57:10Z</dcterms:modified>
  <cp:revision>2</cp:revision>
  <dc:subject/>
  <dc:title>3rd Year Toxicology Core Facts:</dc:title>
</cp:coreProperties>
</file>