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6C3-7683-44A6-88CE-3B43D58C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3B8-815B-419C-A533-94BAF110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A81-C6FC-4795-B83B-6C5D00AE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0BB-EB4B-4B8E-8E73-AF2AEBAF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AB7A-33BA-42AF-9538-CE5B0E16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CA5-5A79-45B2-AA6E-C7C88562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E8E6-9A8C-4024-A3CE-B09CBBF3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C2FF-228A-4E02-A5CC-EB65517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4330-E003-40B3-8753-13CA11A6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6A9F-4F20-49F4-B00B-D7057F17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05ED-75F6-4DAB-B4E0-683396BB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30A-53B3-4FB7-8B22-AB716CBC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FC76-FF59-46B6-9C7B-A45741B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0397-6777-442A-9957-D2CABB22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3398-3BD3-458E-835E-E542A4B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9D1C-E370-47E7-B9EC-19835950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ADA6-975D-4FD2-A8DA-55463E7C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5F3A-6F6C-43FA-B27C-98C4CA48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C9E1-CCC1-4BAF-8FF8-F03DE633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3745-D806-4F2E-9C34-E3E6229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9876-64FC-4308-A62C-5BD160B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2A99-3625-4649-9D2E-165549E7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194-1118-4BE7-8281-74AFBA4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BBA1-75EC-4C0E-B5FB-72C937C0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7814-AE4F-487A-BF87-56AD1B4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E0B4-6925-4DDD-94C4-9B4F41A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A0A8-1933-42DC-A0CB-189FFA6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CC4F-72C4-41FA-B146-531CCF21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6720-A5DE-4D71-AD5A-2D714AE1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7DD7-A217-41DF-BAEA-72B82510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9499-9DDA-4863-B688-59228373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4E286-8C67-48C1-A5DD-43E250C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BB6F-D124-4F9A-A40D-4ABB43F9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B39-D55B-426A-AEE4-9A711CB9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1546-441F-4055-803D-A71DF66B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41AE-525F-4425-A4A7-3E7061B4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DB32E-1B5E-4ED1-A309-AE49D0A0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D9D8-9425-4F2F-AEB1-67C18B85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FE58-7202-440F-9AFA-A09AC97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6B16-AAAB-42E4-95FC-3AC6293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C6E3-FD40-46FF-89A4-051CEE00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95E9-C250-4298-8920-50A2D991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630D-47AC-4ACE-BA38-A6576A73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7735E-CBA1-40D0-BB00-E48EC61D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A54-7577-4070-83ED-6E151E0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597B-0885-4CA6-98D3-EA909961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0118-90E9-402E-B41F-0617A95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2A20-1BB9-4453-B6DF-7A34F796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2B14-56C2-4077-A043-E648CDC7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A76CA-388B-4383-96C9-65EF3B3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1CDDF-9F8F-4833-8C6F-62AA2C1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4FD5-4340-4F43-B770-B69A2E0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2D3A-FDBC-4B68-9541-59738C6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387AF-13E2-48FA-8014-F53A1272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7361C-E9A6-4980-80BA-BDCFB688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946-1937-48C7-8850-7768BF26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57A0-28E0-4FBF-AFDE-849CBC39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39D30-B1C2-4EC2-B712-EB2914E7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49CFF-0994-4338-8ED1-D82A00F6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3810E-6A64-4418-9AD9-0374A620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F01A9-CAC7-4006-8F2A-EDAFC88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9029-E9BA-46DD-981F-8EF06B50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3A874-FFAD-43B6-85B9-CAA4A7D7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EE34-75AA-4BE8-AF79-4D251226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B7F4A-4B16-4AF6-83FA-269C6647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9F936-04B4-4B7A-8C1B-0051A5C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D51-1472-4F28-A71A-F445C4F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CA01-E0B4-4AA1-A048-C0CFD073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917AD-CDB8-4F00-B03C-B84FE349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695E-513D-487F-8502-9ACF1532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0D3FC-B800-4A71-8924-1E553606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D8B4F-44A7-4CDB-BCB6-4DEAE1B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7904-FA02-4578-B950-7EFB7AA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BC9D4-BD46-421F-9AF8-64C7B240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B06EA-608A-48B2-8677-0DE5BC1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6124-E997-4A43-9506-126C71F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6443-D7A9-47A5-9AA6-3892DEE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136-72FC-40B3-BF1B-E582177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9CF90-50FD-493A-8D64-DEA40A5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A236-45F0-49B2-B613-CD60BB33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DEB6-B76D-4CED-BF14-02497C29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A8D3B-75A3-4753-99D1-5B9AA8CB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FE19-EBFC-4D67-931F-C6F6EFA3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4DC-0AA5-4BD0-A667-7C1296F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B7C5-A7C3-4695-8A92-2E26C9210A44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53E6-BFCF-4BB3-86B9-791FF815D67D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AAFB-229C-4DFC-BFC5-FEC1C0E4BCC7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7F11-0274-442E-BD15-DB069B8E8265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81E5-AC25-4821-B6C5-B70F8C8E0A8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8D98-762B-4CE3-8A00-5FAAD7F0F0CB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C770-1347-41F1-BD8D-A962F04B6022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- فروبــــــــــــــل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2223"/>
                </a:solidFill>
                <a:latin typeface="Gill Sans MT"/>
              </a:rPr>
              <a:t>الاتجاه النفسي في الترب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92000" y="404280"/>
            <a:ext cx="52563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فريدرك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أولا  / حياته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لاد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الدي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شأ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عليم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4" descr="untitled"/>
          <p:cNvPicPr/>
          <p:nvPr/>
        </p:nvPicPr>
        <p:blipFill>
          <a:blip r:embed="rId1"/>
          <a:stretch/>
        </p:blipFill>
        <p:spPr>
          <a:xfrm>
            <a:off x="34920" y="46080"/>
            <a:ext cx="2212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8868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المعهد التربوي الدولي الألمان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4" descr="untitled5"/>
          <p:cNvPicPr/>
          <p:nvPr/>
        </p:nvPicPr>
        <p:blipFill>
          <a:blip r:embed="rId1"/>
          <a:stretch/>
        </p:blipFill>
        <p:spPr>
          <a:xfrm>
            <a:off x="1763640" y="1773360"/>
            <a:ext cx="6553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152280"/>
            <a:ext cx="68709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معهد فروبل للأطفال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4" descr="493817874_5e27060559"/>
          <p:cNvPicPr/>
          <p:nvPr/>
        </p:nvPicPr>
        <p:blipFill>
          <a:blip r:embed="rId1"/>
          <a:stretch/>
        </p:blipFill>
        <p:spPr>
          <a:xfrm>
            <a:off x="4788000" y="2060640"/>
            <a:ext cx="4248000" cy="468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493817880_6200aad065"/>
          <p:cNvPicPr/>
          <p:nvPr/>
        </p:nvPicPr>
        <p:blipFill>
          <a:blip r:embed="rId2"/>
          <a:stretch/>
        </p:blipFill>
        <p:spPr>
          <a:xfrm>
            <a:off x="179280" y="1343160"/>
            <a:ext cx="4327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أول من استخدم اسم :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 روضة الأطفال 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2808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نيا / المؤثرات التى تأثر بها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050920" y="2331720"/>
            <a:ext cx="605016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ــشـأتـه الـريـفـيـ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أثـره ببستـالـوز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قـرآتـه الـمتـنـوعـ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لثا / آراء فروبل في التربية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التربية السليمة تكون بمراعاة مراحل نمو الطفل.( متاثر ببستالوزي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حاجة الصغار إلى الرعاية والحماية إلى جانب التعليم.(النمو الخلقي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عدم تدخل المعلم في عملية التعليم والتدريب مباشر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كان يفضل المرأه في التعليم لرياض الأطفا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هدف التربية هو النمو المتكامل الذي يشمل الجسم والعقل والروح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وجوب دخول الطفل الروض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أن خبرات الطفولة المبكرة ذات تأثير عميق في نمو شخصية الراش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ضرورة الإشراف على الطفل والتأكد من أنه يوجد وسط ظروف ملائمة ومناسب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آمن فروبل بحتمية استغلال قدرات الطفل الطبيعية وإمكاناته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شاد فروبل باللعب على أنه أكثر المهارات أهمية في تحقيق النمو الإمثل للطف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نادى ببناء المواد الدراسية على أساس فكرة الترابط والاستمرار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كد ضرورة معاملة كل طفل على حسب إمكانياته.( الفروق الفردية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4" descr="untitledb"/>
          <p:cNvPicPr/>
          <p:nvPr/>
        </p:nvPicPr>
        <p:blipFill>
          <a:blip r:embed="rId1"/>
          <a:stretch/>
        </p:blipFill>
        <p:spPr>
          <a:xfrm>
            <a:off x="34920" y="44280"/>
            <a:ext cx="1623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4360" y="907560"/>
            <a:ext cx="7812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572314"/>
                </a:solidFill>
                <a:uFillTx/>
                <a:latin typeface="Gill Sans MT"/>
              </a:rPr>
              <a:t>رابعا / آراؤه في تربية طفل ما قبل المدرسة 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7640" y="169992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6" name="Organization Chart 2"/>
          <p:cNvGrpSpPr/>
          <p:nvPr/>
        </p:nvGrpSpPr>
        <p:grpSpPr>
          <a:xfrm>
            <a:off x="144360" y="2249640"/>
            <a:ext cx="8604000" cy="2979000"/>
            <a:chOff x="144360" y="2249640"/>
            <a:chExt cx="8604000" cy="2979000"/>
          </a:xfrm>
        </p:grpSpPr>
        <p:cxnSp>
          <p:nvCxnSpPr>
            <p:cNvPr id="337" name="_s1028"/>
            <p:cNvCxnSpPr>
              <a:stCxn id="338" idx="0"/>
              <a:endCxn id="339" idx="2"/>
            </p:cNvCxnSpPr>
            <p:nvPr/>
          </p:nvCxnSpPr>
          <p:spPr>
            <a:xfrm flipV="1" rot="16200000">
              <a:off x="5628600" y="2258640"/>
              <a:ext cx="596160" cy="296028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0" name="_s1029"/>
            <p:cNvCxnSpPr>
              <a:stCxn id="341" idx="0"/>
              <a:endCxn id="339" idx="2"/>
            </p:cNvCxnSpPr>
            <p:nvPr/>
          </p:nvCxnSpPr>
          <p:spPr>
            <a:xfrm flipV="1">
              <a:off x="4446720" y="3440880"/>
              <a:ext cx="2520" cy="59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1030"/>
            <p:cNvCxnSpPr>
              <a:stCxn id="343" idx="0"/>
              <a:endCxn id="339" idx="2"/>
            </p:cNvCxnSpPr>
            <p:nvPr/>
          </p:nvCxnSpPr>
          <p:spPr>
            <a:xfrm flipH="1" flipV="1" rot="5400000">
              <a:off x="2669040" y="2259000"/>
              <a:ext cx="596160" cy="295992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9" name="_s1031"/>
            <p:cNvSpPr/>
            <p:nvPr/>
          </p:nvSpPr>
          <p:spPr>
            <a:xfrm>
              <a:off x="2696400" y="2249640"/>
              <a:ext cx="349956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اعتمدت فكرته عن رياض الأطفال على ثلاث حقائ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144360" y="4037040"/>
              <a:ext cx="268668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الوصول إلى المهارة في العم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3"/>
            <p:cNvSpPr/>
            <p:nvPr/>
          </p:nvSpPr>
          <p:spPr>
            <a:xfrm>
              <a:off x="3103560" y="4037040"/>
              <a:ext cx="26852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الحصول على المعرف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4"/>
            <p:cNvSpPr/>
            <p:nvPr/>
          </p:nvSpPr>
          <p:spPr>
            <a:xfrm>
              <a:off x="6061320" y="4037040"/>
              <a:ext cx="26870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نمو القوى العقلية والجسمية والنفس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6200" y="203040"/>
            <a:ext cx="7850520" cy="665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 اقتراح منهج يسير عليه نظام الدراسة في روضة الأطفال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  العناية بتربية الحواس التي هي أبواب العق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ابتدع ألعاب لتشكل الوسائل والمنهج والكتاب ميزة طريقته في تربي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الرسم بالنسبة لحيا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ألعاب الحركة عند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5" descr="untitled1"/>
          <p:cNvPicPr/>
          <p:nvPr/>
        </p:nvPicPr>
        <p:blipFill>
          <a:blip r:embed="rId1"/>
          <a:stretch/>
        </p:blipFill>
        <p:spPr>
          <a:xfrm>
            <a:off x="250920" y="1835280"/>
            <a:ext cx="4174920" cy="3681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untitled4"/>
          <p:cNvPicPr/>
          <p:nvPr/>
        </p:nvPicPr>
        <p:blipFill>
          <a:blip r:embed="rId2"/>
          <a:stretch/>
        </p:blipFill>
        <p:spPr>
          <a:xfrm>
            <a:off x="4714920" y="1844640"/>
            <a:ext cx="388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8:31:58Z</dcterms:created>
  <dc:creator>ام يزيد</dc:creator>
  <dc:description/>
  <dc:language>en-US</dc:language>
  <cp:lastModifiedBy>aaaa</cp:lastModifiedBy>
  <dcterms:modified xsi:type="dcterms:W3CDTF">2013-02-08T20:29:57Z</dcterms:modified>
  <cp:revision>5</cp:revision>
  <dc:subject/>
  <dc:title>2- فروبــــــــــــــل</dc:title>
</cp:coreProperties>
</file>