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F3B4-3F39-4226-9C72-A0400725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A7F0-B03C-440D-B878-1EDC33E4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3A3D-8F45-4FD2-AD9A-82A6261F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BE3-55D6-40CE-8991-74F03D1E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5788-6F39-4421-8275-E5F137D2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1B8A-AC6E-4148-A32F-9CE257A9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18F4-A2C1-4872-A20A-0527157C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B9D6-0A0D-4333-8EF7-F2FF5E37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7286-CC52-4773-80C3-8F5430D9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F5B7-4FA1-414F-A9FC-14453228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48E6-4C4D-41FE-A490-B01E2668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646-B865-403C-A5D2-3C58C132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A452-85F0-4035-B685-126560A0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36DD-0168-4C1C-8004-A8BD6646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BDBC-F286-434D-8D15-FE1E78E8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9766-D460-45BD-8E8F-5EB95AF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9C24-7CA0-49A8-81FF-059D2319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AE420-5418-436B-87C8-C41A0FD3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A4FD9-D531-483E-B2A3-E2BEB29C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7998-7795-4B36-B41E-06709AA3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55EE1-B0A1-44EC-B0BB-3CD11C70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062C-9F5E-41E5-94AB-AF41BCF3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D51-539A-47F3-BB2B-52B398BF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1180D-6DB8-4008-A393-01D75779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F4CB-D3BA-4F7B-A7C3-2DA9808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B1CCB-E6F5-4946-9B70-36CF59E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3985C-C2CE-4C7B-91FB-BA5FDC13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A9D6-B13B-4D80-A2E3-343F4329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A8A72-FBF0-485C-9471-96C896B6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EE919-5CAF-4DE3-801C-78BE163F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73D90-EE8C-49AC-9D4B-AC01F2CB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17640-325D-4249-A5CA-AE4FF51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65D2-2A99-464C-B8A6-443763D0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4A4-E0B6-4B4A-8215-CE376B6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0D5B-54D3-4D73-9DA3-C8BF5432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5B50-31D0-4E6B-8194-0819F48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03B2-DF08-4127-829C-3A072904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D0B66-1A9C-4CAB-9E79-7E12EF2A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3616B-DCDF-4BB9-A404-73A77E4E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4EC77-B8DE-4773-AD98-4CD3CAF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DD8A-272F-4987-BFEA-30714AF9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5551-1CCC-44AA-8D25-4D7B57E2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0FF83-8DCE-486F-BE1F-D065B5A1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9AB3-692E-47E9-8C64-31F7A6FA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8CA-F67F-4033-B0BF-B1ED05F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BCE11-FEAC-427B-BDAA-ED4801E3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61354-232A-4729-B115-239CEDD8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7A86-BEB7-41C4-9ABC-34F70CF0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F0FB-908F-4AC3-88B2-0F62D4E1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9BDB-9957-410F-BF2D-371C3BA9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1186B-37DC-4CC4-B09F-70D9C5B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2B6F0-ADDD-40DD-918A-D3200A42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48EF9-66F0-420C-90A7-448F5680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2DC3-10D3-4053-9FD8-CFF36F2E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ABB1B-66C3-47ED-BD47-64203C63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FFC9-F25C-4E52-81C0-1FBCA708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E6B9-1829-417C-88DD-11C91FDC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B60A9-32D7-4516-A4D5-D0CAA20F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99323-C2FF-4E0C-8512-1A5C6831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B40D6-78A2-4060-824C-7711DDB4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C9CA-41DA-4146-A080-C2CD98BB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EE074-23B5-4CC7-AE69-76AAC8A0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DF103-ECAA-4287-A4BC-4CB79AD7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0E213-7E27-4EFD-845F-AA9C5490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0EC64-924E-4B28-8ADE-765F680C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A3B44-9046-4877-A363-C6A7774F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88E-187B-4AB5-B3AE-26B6754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D10D-6492-4F3B-B160-6E677D53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0B68-758A-4108-9FA1-FFC244D8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917D-39BB-4E16-8100-E6D3DF4F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3340D-9C1E-4001-A6BD-4E497FA0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18653-F2AB-4158-B242-52DC69C4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3F2E9-3CE2-4EDF-BAC6-37A9170F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6FDC1-4F3B-4695-8457-2BEA470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731D4-15CC-4C74-A810-C1952E7A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6A910-15BB-4F8B-907F-2D78FB22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36E6B-BAF5-4D29-8C48-44901FD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09F-8713-4580-B1D4-C902C7B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9CCA4-C0CF-4932-A385-18E6B274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29CDD-F7C1-484A-A245-42B8B0F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F5718-01A6-4E29-84DE-B5FEA464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A2985-8272-42DB-9790-CD9D6D36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6A25-B857-4973-85AB-7569EF78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417-2B88-43F1-8B5C-64AD978D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08C1-CC58-4763-8665-7BC1106D8F83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35E8-BD53-4E2D-B1C5-F6D29EC27A15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E973-EBC2-464C-9324-7B8EF543B7AA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04E6-2496-447C-ABC0-AFA713980C61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A0F9-94A1-4252-A982-E7E5B10AC7DA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618A-78B2-4E24-A227-8532B8EFB3A8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23D-CB23-4FBB-9213-8372783962A2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2</a:t>
            </a: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- فروبــــــــــــــل </a:t>
            </a:r>
            <a:endParaRPr b="0" lang="en-US" sz="6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2223"/>
                </a:solidFill>
                <a:latin typeface="Gill Sans MT"/>
              </a:rPr>
              <a:t>الاتجاه النفسي في الترب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92000" y="404280"/>
            <a:ext cx="52563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فريدرك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Gill Sans MT"/>
              </a:rPr>
              <a:t>أولا  / حياته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لاد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والدي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شأت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عليمه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2" name="Picture 4" descr="untitled"/>
          <p:cNvPicPr/>
          <p:nvPr/>
        </p:nvPicPr>
        <p:blipFill>
          <a:blip r:embed="rId1"/>
          <a:stretch/>
        </p:blipFill>
        <p:spPr>
          <a:xfrm>
            <a:off x="34920" y="46080"/>
            <a:ext cx="22129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8868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المعهد التربوي الدولي الألماني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4" name="Picture 4" descr="untitled5"/>
          <p:cNvPicPr/>
          <p:nvPr/>
        </p:nvPicPr>
        <p:blipFill>
          <a:blip r:embed="rId1"/>
          <a:stretch/>
        </p:blipFill>
        <p:spPr>
          <a:xfrm>
            <a:off x="1763640" y="1773360"/>
            <a:ext cx="65534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920" y="152280"/>
            <a:ext cx="687096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معهد فروبل للأطفال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4" descr="493817874_5e27060559"/>
          <p:cNvPicPr/>
          <p:nvPr/>
        </p:nvPicPr>
        <p:blipFill>
          <a:blip r:embed="rId1"/>
          <a:stretch/>
        </p:blipFill>
        <p:spPr>
          <a:xfrm>
            <a:off x="4788000" y="2060640"/>
            <a:ext cx="4248000" cy="4680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493817880_6200aad065"/>
          <p:cNvPicPr/>
          <p:nvPr/>
        </p:nvPicPr>
        <p:blipFill>
          <a:blip r:embed="rId2"/>
          <a:stretch/>
        </p:blipFill>
        <p:spPr>
          <a:xfrm>
            <a:off x="179280" y="1343160"/>
            <a:ext cx="4327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أول من استخدم اسم :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0000"/>
                </a:solidFill>
                <a:latin typeface="Gill Sans MT"/>
              </a:rPr>
              <a:t>     روضة الأطفال 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2808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نيا / المؤثرات التى تأثر بها فروبل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050920" y="2331720"/>
            <a:ext cx="605016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نــشـأتـه الـريـفـيـ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أثـره ببستـالـوز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قـرآتـه الـمتـنـوعـ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72314"/>
                </a:solidFill>
                <a:uFillTx/>
                <a:latin typeface="Gill Sans MT"/>
              </a:rPr>
              <a:t>ثالثا / آراء فروبل في التربية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736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التربية السليمة تكون بمراعاة مراحل نمو الطفل.( متاثر ببستالوزي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حاجة الصغار إلى الرعاية والحماية إلى جانب التعليم.(النمو الخلقي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عدم تدخل المعلم في عملية التعليم والتدريب مباشر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كان يفضل المرأه في التعليم لرياض الأطفا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ن هدف التربية هو النمو المتكامل الذي يشمل الجسم والعقل والروح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وجوب دخول الطفل الروض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ايمانه بأن خبرات الطفولة المبكرة ذات تأثير عميق في نمو شخصية الراش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ضرورة الإشراف على الطفل والتأكد من أنه يوجد وسط ظروف ملائمة ومناسبة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آمن فروبل بحتمية استغلال قدرات الطفل الطبيعية وإمكاناته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شاد فروبل باللعب على أنه أكثر المهارات أهمية في تحقيق النمو الإمثل للطفل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نادى ببناء المواد الدراسية على أساس فكرة الترابط والاستمرار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3600" indent="-211680" algn="r" rtl="1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أكد ضرورة معاملة كل طفل على حسب إمكانياته.( الفروق الفردية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3" name="Picture 4" descr="untitledb"/>
          <p:cNvPicPr/>
          <p:nvPr/>
        </p:nvPicPr>
        <p:blipFill>
          <a:blip r:embed="rId1"/>
          <a:stretch/>
        </p:blipFill>
        <p:spPr>
          <a:xfrm>
            <a:off x="34920" y="44280"/>
            <a:ext cx="1623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4360" y="907560"/>
            <a:ext cx="7812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572314"/>
                </a:solidFill>
                <a:uFillTx/>
                <a:latin typeface="Gill Sans MT"/>
              </a:rPr>
              <a:t>رابعا / آراؤه في تربية طفل ما قبل المدرسة :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7640" y="1699920"/>
            <a:ext cx="828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6" name="Organization Chart 2"/>
          <p:cNvGrpSpPr/>
          <p:nvPr/>
        </p:nvGrpSpPr>
        <p:grpSpPr>
          <a:xfrm>
            <a:off x="144360" y="2249640"/>
            <a:ext cx="8604000" cy="2979000"/>
            <a:chOff x="144360" y="2249640"/>
            <a:chExt cx="8604000" cy="2979000"/>
          </a:xfrm>
        </p:grpSpPr>
        <p:cxnSp>
          <p:nvCxnSpPr>
            <p:cNvPr id="337" name="_s1028"/>
            <p:cNvCxnSpPr>
              <a:stCxn id="338" idx="0"/>
              <a:endCxn id="339" idx="2"/>
            </p:cNvCxnSpPr>
            <p:nvPr/>
          </p:nvCxnSpPr>
          <p:spPr>
            <a:xfrm flipV="1" rot="16200000">
              <a:off x="5628600" y="2258640"/>
              <a:ext cx="596160" cy="296028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0" name="_s1029"/>
            <p:cNvCxnSpPr>
              <a:stCxn id="341" idx="0"/>
              <a:endCxn id="339" idx="2"/>
            </p:cNvCxnSpPr>
            <p:nvPr/>
          </p:nvCxnSpPr>
          <p:spPr>
            <a:xfrm flipV="1">
              <a:off x="4446720" y="3440880"/>
              <a:ext cx="2520" cy="59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42" name="_s1030"/>
            <p:cNvCxnSpPr>
              <a:stCxn id="343" idx="0"/>
              <a:endCxn id="339" idx="2"/>
            </p:cNvCxnSpPr>
            <p:nvPr/>
          </p:nvCxnSpPr>
          <p:spPr>
            <a:xfrm flipH="1" flipV="1" rot="5400000">
              <a:off x="2669040" y="2259000"/>
              <a:ext cx="596160" cy="2959920"/>
            </a:xfrm>
            <a:prstGeom prst="bentConnector3">
              <a:avLst>
                <a:gd name="adj1" fmla="val 195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9" name="_s1031"/>
            <p:cNvSpPr/>
            <p:nvPr/>
          </p:nvSpPr>
          <p:spPr>
            <a:xfrm>
              <a:off x="2696400" y="2249640"/>
              <a:ext cx="349956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اعتمدت فكرته عن رياض الأطفال على ثلاث حقائ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144360" y="4037040"/>
              <a:ext cx="268668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الوصول إلى المهارة في العم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033"/>
            <p:cNvSpPr/>
            <p:nvPr/>
          </p:nvSpPr>
          <p:spPr>
            <a:xfrm>
              <a:off x="3103560" y="4037040"/>
              <a:ext cx="26852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الحصول على المعرف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034"/>
            <p:cNvSpPr/>
            <p:nvPr/>
          </p:nvSpPr>
          <p:spPr>
            <a:xfrm>
              <a:off x="6061320" y="4037040"/>
              <a:ext cx="2687040" cy="1191600"/>
            </a:xfrm>
            <a:prstGeom prst="roundRect">
              <a:avLst>
                <a:gd name="adj" fmla="val 16667"/>
              </a:avLst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7680" rIns="67680" tIns="33840" bIns="3384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Comic Sans MS"/>
                  <a:cs typeface="Arial"/>
                </a:rPr>
                <a:t>نمو القوى العقلية والجسمية والنفس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66200" y="203040"/>
            <a:ext cx="7850520" cy="665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Gill Sans MT"/>
              </a:rPr>
              <a:t>  اقتراح منهج يسير عليه نظام الدراسة في روضة الأطفال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  العناية بتربية الحواس التي هي أبواب العق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 ابتدع ألعاب لتشكل الوسائل والمنهج والكتاب ميزة طريقته في تربي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الرسم بالنسبة لحياة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أهمية ألعاب الحركة عند الطفل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5" descr="untitled1"/>
          <p:cNvPicPr/>
          <p:nvPr/>
        </p:nvPicPr>
        <p:blipFill>
          <a:blip r:embed="rId1"/>
          <a:stretch/>
        </p:blipFill>
        <p:spPr>
          <a:xfrm>
            <a:off x="250920" y="1835280"/>
            <a:ext cx="4174920" cy="3681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untitled4"/>
          <p:cNvPicPr/>
          <p:nvPr/>
        </p:nvPicPr>
        <p:blipFill>
          <a:blip r:embed="rId2"/>
          <a:stretch/>
        </p:blipFill>
        <p:spPr>
          <a:xfrm>
            <a:off x="4714920" y="1844640"/>
            <a:ext cx="3887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8:31:58Z</dcterms:created>
  <dc:creator>ام يزيد</dc:creator>
  <dc:description/>
  <dc:language>en-US</dc:language>
  <cp:lastModifiedBy>aaaa</cp:lastModifiedBy>
  <dcterms:modified xsi:type="dcterms:W3CDTF">2013-02-08T20:29:57Z</dcterms:modified>
  <cp:revision>5</cp:revision>
  <dc:subject/>
  <dc:title>2- فروبــــــــــــــل</dc:title>
</cp:coreProperties>
</file>