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97FC-4770-4756-9AC2-829AB87BFF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F01-BC6B-44EF-89EA-B9C3008607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8A0-5190-4C59-AC21-D5943D94E1C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FA9-3523-4CB0-BA73-AFDC78E7B2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577-E3F5-4272-B7CF-D10AF024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3452-90B1-4FBB-909A-FD2A6A3F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835-6D78-421F-8F72-9CCD05F0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C40-2DA3-4089-B995-4ED8CB3B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1DD9-5A49-47DB-BDC1-39C943E9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907F-6566-4858-9564-B8B31F4F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550-B9FD-4140-B59C-FEBFF061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D16-9A93-44DD-9E37-8205E6F5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912B-128A-4957-8A8F-04A7860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A96-030A-401C-A816-97B7CF6B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E0A-DBC0-45DC-B0B6-F66DC846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3C1-171B-4420-A599-DE3A74B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3203-718A-4DD9-8C4A-73A38D13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C364-35BA-4C66-90CF-095CC665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5C1D-5583-4964-9670-DB89F5E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DEB-9B23-433B-8D93-7D44932C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1F1D-4E7B-47D7-90C7-80A738F2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48507-F404-4D61-A19A-A60C0BF8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BF60B-CAFA-4745-9B10-6126C7DF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61796-3E9C-460D-AFF2-53821B36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85317-AE90-4702-BD0A-74AD9E00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E65F9-3556-421A-B075-3369F03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291-6C26-4679-9612-3D05EC5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825B0-BC1C-43F9-BA83-19974ECD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A4CB6-2328-42E1-8535-5D7E6926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84097-8BA8-4F9A-8648-700613B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976BB-1E16-4873-AC09-E66C4F8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20739-DC7E-40D7-A5B5-AC0AA961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6EBE5-0DE9-4472-B03F-586A63C8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5DB57-6DFF-4D09-B611-25B2E65B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B8FF-747E-4921-97B6-0CBDB8D2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5209-9C62-4E46-9F96-16DC1477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A3CE-619C-4A45-9AB5-CC8A08A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DFC-ABB7-42AC-AFB0-5AB429E3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3D05-ED44-467A-B67E-EA7A2C0C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2EB7-C18A-4E49-A273-947B6B2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E7864-6453-43C6-8CBF-E27EDB76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5C77-3225-4FD5-8446-B593C15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B40F-B072-4672-9EA8-EB500D8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1030-9970-4944-BC70-42B2800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7DB4-E644-45FC-9F21-254CB7E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4595-962F-4365-9A07-CD525C39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BF08-EEB2-4C70-B660-64CE0E5B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F9-A862-4904-AC42-2AF1C02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1F4-221F-4DEA-8A98-1DC941A8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195-5BA1-4AD8-A63C-8F274BB5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D52-AB6E-4B83-91F0-7AA4353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CD3-E94F-4B30-92DE-12E074F7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6B2-A727-41A1-B1A1-36FDD75CF9A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0A4A-579F-4AFD-899D-9DB182249499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F60-637E-4A40-AD28-EF17D599F035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096-39EA-4518-A3C4-58A9FA342E98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1B6-87D6-4A9F-846E-AF2224803639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C2F-F692-420D-A48B-3EFC9F5D1B43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534-CDB3-45FA-96FF-A88C6FDCEBF5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587-AF1D-4AB9-A8F8-BE31285113CF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User</cp:lastModifiedBy>
  <dcterms:modified xsi:type="dcterms:W3CDTF">2010-10-24T09:18:02Z</dcterms:modified>
  <cp:revision>81</cp:revision>
  <dc:subject/>
  <dc:title>Isotonicity</dc:title>
</cp:coreProperties>
</file>