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FB5F1-853C-419D-B18B-0A4BB5C6F2BA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ubcutaneous" TargetMode="External"/><Relationship Id="rId2" Type="http://schemas.openxmlformats.org/officeDocument/2006/relationships/hyperlink" Target="http://en.wikipedia.org/wiki/Saline_%28medicine%29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7CBE-451F-4D84-87BC-E7010703D18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bcutaneous infu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s th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ubcutaneo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dministration of fluids to the body. This would often be in the form of a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al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glucos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7B28-A8FE-45F8-B934-A1A22D22E7C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ligative proper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e properties of solutions that depend on the number of molecules in a given volume of solvent and not on the properties (e.g. size or mass) of the molecu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B27C-A248-48A9-9038-E4F76B4E091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214-83CA-4E1A-8AB2-6968F4D84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A07-196E-4F00-A6AC-0F5A60E9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2A28-E49B-4B17-9614-D5B0E061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58EF-1B8A-4574-AE48-A6F5EE14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4159-F986-4E42-A4BE-31D6A52A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810D-4F1B-4631-B54F-AAC16142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2E0C-E27D-4E13-9ACC-8934E2F1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3F5B-FD6C-4DB9-8C55-A1EF8923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CA28-94CF-49DA-B5B1-07D394A5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7029-1BFF-4A30-BACB-321E44BE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A90F-C5A2-445B-BE5F-6DFAC4F1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C6BB-A520-45EB-B9CC-685F666B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30CE-B3AF-4CB6-918F-35D543BB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7A06-CBCD-49B7-9661-09656C799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15D2-7E97-4634-846E-3F44E17D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3A70-07F6-4792-BDAB-7BA19192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C72E-8245-4709-A82A-E331BC706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58926-F9CC-4C5A-B3AF-BED0EF7F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646A4-C4FF-4BAC-BDC6-5F5225C1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B35B80-81E3-4034-9CC4-C6AC9CFA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1362B-2377-415D-8034-92DE52A0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975C79-1CAB-4F26-8573-F031E1C1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FE60-6829-46F6-B190-AEE8F921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11538-1B99-46CD-9ABA-F3BB582B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E9CB8-9269-4D05-B154-D0F26843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AC54C-62F3-4071-9AA8-1CB8DD79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71AE0-4320-4181-98EC-3B966FBD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347FB-0944-4107-ACAF-E7A06A76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E19E1D-BE5F-46D1-A3E4-FBC1F5624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3B40D2-9273-4254-B5EB-2D9ED1627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80C83-4CA2-4105-9006-A2D290FD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59FD7-9CC5-427B-BB1F-AEE89D7F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D8592-A328-4630-BA7F-13B8E531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E74-99D5-4572-BD8A-D04040D2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68026-8915-41FF-9B20-A710E68A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C82D8-1D74-485D-A7F9-9DED0000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C2C6D-7D65-48BF-BF29-34BC0E61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68B34-DBFF-46C9-86C8-BCF91F3F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40EB9-2E18-4F38-B565-AE51491B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1EA82-534E-4E9A-B446-56EF218E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4D856-0068-49CA-8778-8E9239CD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5FF0E-74DE-4F54-A942-C8AB7DCF0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754B0-7F84-4F78-B8EE-D6B1ABF9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AFE-E96D-4484-8596-B99EE792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2DA-521A-49CA-9CF3-BD1AC34B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061-C383-48BE-8A4D-620B95B7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CD4-7B30-4F11-9100-BDDB5BA6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A947-B9DA-4276-B13D-6FA51763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E3E6-3F39-4DA0-8C36-EA934118EF5C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DA2D-EFA2-4F1E-8927-9073542CC397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C57F-6A50-46D5-AAC3-62924E35886E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0F7C-81AF-4341-A8D4-8B5143F030AE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79E4-F232-47B0-882E-424793DB34F3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FED2-A0A6-4D98-BA86-88C87FE527D7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79AA-3309-4999-9D69-91C68C25B816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23F7-EB7A-4445-BB02-0A2ABA702867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840" y="17856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Isotonicity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7601040" y="4285800"/>
            <a:ext cx="15429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PHT 43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c. gm/100 ml of adjusting subst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.p.d of 1% of unadjusted substance(table) X percentage strengt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f.p.d of 1% of adjusting substance (tabl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2952720" y="2143080"/>
                <a:ext cx="323856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285840" y="3714840"/>
                <a:ext cx="1235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428760" y="4857840"/>
                <a:ext cx="858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500040" y="6000840"/>
                <a:ext cx="7142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1" descr=""/>
          <p:cNvPicPr/>
          <p:nvPr/>
        </p:nvPicPr>
        <p:blipFill>
          <a:blip r:embed="rId1"/>
          <a:stretch/>
        </p:blipFill>
        <p:spPr>
          <a:xfrm>
            <a:off x="2500200" y="5857920"/>
            <a:ext cx="3181320" cy="10000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NaCl is required to render 100 ml of a 1% soln. of apomorphin HCL isotonic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.p.d of 1%NaCl=0.58º, F.p.d of 1%drug=0.08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% drug                   0.08º   (0.52º- 0.08º=0.44º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% NaCl                  0.58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% NaCl                 0.44º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770040" y="3500280"/>
                <a:ext cx="23889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º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6573960" y="3770280"/>
                <a:ext cx="207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5"/>
              <p:cNvSpPr txBox="1"/>
              <p:nvPr/>
            </p:nvSpPr>
            <p:spPr>
              <a:xfrm>
                <a:off x="3270240" y="3500280"/>
                <a:ext cx="29624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º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º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º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Right Arrow 7"/>
          <p:cNvSpPr/>
          <p:nvPr/>
        </p:nvSpPr>
        <p:spPr>
          <a:xfrm>
            <a:off x="2428920" y="471492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ight Arrow 8"/>
          <p:cNvSpPr/>
          <p:nvPr/>
        </p:nvSpPr>
        <p:spPr>
          <a:xfrm>
            <a:off x="2428920" y="5143680"/>
            <a:ext cx="1000080" cy="28548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ight Arrow 9"/>
          <p:cNvSpPr/>
          <p:nvPr/>
        </p:nvSpPr>
        <p:spPr>
          <a:xfrm rot="10800000">
            <a:off x="2500200" y="557208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6500880" y="5214960"/>
                <a:ext cx="207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0" name="Picture 8" descr=""/>
          <p:cNvPicPr/>
          <p:nvPr/>
        </p:nvPicPr>
        <p:blipFill>
          <a:blip r:embed="rId2"/>
          <a:stretch/>
        </p:blipFill>
        <p:spPr>
          <a:xfrm>
            <a:off x="5643720" y="5143680"/>
            <a:ext cx="761760" cy="1571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6415200" y="5715000"/>
            <a:ext cx="165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63" name="Content Placeholder 2"/>
          <p:cNvGrpSpPr/>
          <p:nvPr/>
        </p:nvGrpSpPr>
        <p:grpSpPr>
          <a:xfrm>
            <a:off x="444600" y="2236680"/>
            <a:ext cx="8254800" cy="4353120"/>
            <a:chOff x="444600" y="2236680"/>
            <a:chExt cx="8254800" cy="4353120"/>
          </a:xfrm>
        </p:grpSpPr>
        <p:pic>
          <p:nvPicPr>
            <p:cNvPr id="26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44600" y="2236680"/>
              <a:ext cx="825480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57200" y="2249640"/>
              <a:ext cx="8229600" cy="43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adjust isotonicity of procaine HCl 3% using NaCl ? Fpd of 1%NaCl=0.57º, f.p.d of 1% drug=0.112º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2952720" y="3432240"/>
                <a:ext cx="254808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3000240" y="4689360"/>
                <a:ext cx="22860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)</m:t>
                    </m:r>
                    <m:eqArr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6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1285920" y="5857920"/>
                <a:ext cx="5857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l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rPr>
                        <m:lit/>
                        <m:nor/>
                      </m:rPr>
                      <m:t xml:space="preserve">NaC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aCl equivalent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Cl equivalent “E”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mount of NaCl that is equivalent to(i.e., has the same osmotic effect (same f.p.d) as ) 1 gm of dru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st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alculate  E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dd NaCl to reach 0.9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E</a:t>
            </a:r>
            <a:r>
              <a:rPr b="0" lang="en-US" sz="4000" spc="-1" strike="noStrike" baseline="-25000">
                <a:solidFill>
                  <a:srgbClr val="424456"/>
                </a:solidFill>
                <a:latin typeface="Trebuchet MS"/>
              </a:rPr>
              <a:t>NaCl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214200" y="2714760"/>
                <a:ext cx="3915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4789440" y="2714760"/>
                <a:ext cx="38797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so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4857840" y="3857760"/>
                <a:ext cx="37908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aC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5"/>
              <p:cNvSpPr txBox="1"/>
              <p:nvPr/>
            </p:nvSpPr>
            <p:spPr>
              <a:xfrm>
                <a:off x="6788160" y="4799160"/>
                <a:ext cx="1998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t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TextBox 11"/>
          <p:cNvSpPr/>
          <p:nvPr/>
        </p:nvSpPr>
        <p:spPr>
          <a:xfrm>
            <a:off x="4286160" y="3857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3146400" y="5821200"/>
                <a:ext cx="22986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ug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8"/>
              <p:cNvSpPr txBox="1"/>
              <p:nvPr/>
            </p:nvSpPr>
            <p:spPr>
              <a:xfrm>
                <a:off x="3929040" y="2286000"/>
                <a:ext cx="1287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0"/>
              <p:cNvSpPr txBox="1"/>
              <p:nvPr/>
            </p:nvSpPr>
            <p:spPr>
              <a:xfrm>
                <a:off x="1171440" y="4786200"/>
                <a:ext cx="1757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t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1"/>
              <p:cNvSpPr txBox="1"/>
              <p:nvPr/>
            </p:nvSpPr>
            <p:spPr>
              <a:xfrm>
                <a:off x="4856040" y="4786200"/>
                <a:ext cx="16448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t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2"/>
              <p:cNvSpPr txBox="1"/>
              <p:nvPr/>
            </p:nvSpPr>
            <p:spPr>
              <a:xfrm>
                <a:off x="6786720" y="5357880"/>
                <a:ext cx="1923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3"/>
              <p:cNvSpPr txBox="1"/>
              <p:nvPr/>
            </p:nvSpPr>
            <p:spPr>
              <a:xfrm>
                <a:off x="368280" y="3825720"/>
                <a:ext cx="3625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amount of NaC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500040" y="3071880"/>
                <a:ext cx="822816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eight of NaCl in gm per 100 m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 make solution isotoni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rug%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weight of drug in gm per 100 ml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aCl equivalent weight to 1gm of drug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isotonic solution of NaC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1808280" y="2571840"/>
                <a:ext cx="4309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drug%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00040" y="18572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f drug (M.wt=187,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iso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3.4)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NaCl needed to make 2% of this drug isotonic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5072040" y="2928960"/>
                <a:ext cx="19209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071800" y="2643120"/>
                <a:ext cx="22986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ug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857160" y="4714920"/>
                <a:ext cx="3489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u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857160" y="5572080"/>
                <a:ext cx="3362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Right Arrow 7"/>
          <p:cNvSpPr/>
          <p:nvPr/>
        </p:nvSpPr>
        <p:spPr>
          <a:xfrm>
            <a:off x="4500720" y="478620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033880" y="4714920"/>
                <a:ext cx="35654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u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5" name="Picture 8" descr=""/>
          <p:cNvPicPr/>
          <p:nvPr/>
        </p:nvPicPr>
        <p:blipFill>
          <a:blip r:embed="rId1"/>
          <a:stretch/>
        </p:blipFill>
        <p:spPr>
          <a:xfrm>
            <a:off x="7643880" y="5214960"/>
            <a:ext cx="761760" cy="15717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2"/>
          <a:stretch/>
        </p:blipFill>
        <p:spPr>
          <a:xfrm>
            <a:off x="4643280" y="5357880"/>
            <a:ext cx="2886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amount of NaCl needed to adjust 1.5% Atropine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0.12g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0.9 –(W x 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9 –(1.5x 0.12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72 gm of NaCl should be ad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tretch/>
        </p:blipFill>
        <p:spPr>
          <a:xfrm>
            <a:off x="5572080" y="4857840"/>
            <a:ext cx="762120" cy="1571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2071800" y="4929120"/>
            <a:ext cx="3341520" cy="1500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tretch/>
        </p:blipFill>
        <p:spPr>
          <a:xfrm>
            <a:off x="6343560" y="492912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ite – Vincent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incip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st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ddition of H2O to drug to make it isotonic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nd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ddition of isotonic vehicle to bring solution to final volum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amount of H</a:t>
            </a:r>
            <a:r>
              <a:rPr b="0" lang="en-US" sz="4000" spc="-1" strike="noStrike" baseline="-25000">
                <a:solidFill>
                  <a:srgbClr val="424456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se preparing 30ml of 1% drug isotonic with body fluid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0.16g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gm                       100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                            30ml        =0.3g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ount of NaCl eq. to 0.3 dru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3 x 0.16 =0.048g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9 gm                         100 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048 gm                      ? ml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5.3 ml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8072280" y="4734000"/>
            <a:ext cx="928800" cy="2124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7639200" y="3643200"/>
            <a:ext cx="1504800" cy="1152720"/>
          </a:xfrm>
          <a:prstGeom prst="rect">
            <a:avLst/>
          </a:prstGeom>
          <a:ln w="0">
            <a:noFill/>
          </a:ln>
        </p:spPr>
      </p:pic>
      <p:sp>
        <p:nvSpPr>
          <p:cNvPr id="308" name="Right Arrow 6"/>
          <p:cNvSpPr/>
          <p:nvPr/>
        </p:nvSpPr>
        <p:spPr>
          <a:xfrm>
            <a:off x="2071800" y="335772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ight Arrow 7"/>
          <p:cNvSpPr/>
          <p:nvPr/>
        </p:nvSpPr>
        <p:spPr>
          <a:xfrm rot="10800000">
            <a:off x="1999800" y="3786120"/>
            <a:ext cx="1357560" cy="21456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ight Arrow 8"/>
          <p:cNvSpPr/>
          <p:nvPr/>
        </p:nvSpPr>
        <p:spPr>
          <a:xfrm>
            <a:off x="2428920" y="521496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9"/>
          <p:cNvSpPr/>
          <p:nvPr/>
        </p:nvSpPr>
        <p:spPr>
          <a:xfrm>
            <a:off x="2571840" y="564372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357880" y="3643200"/>
            <a:ext cx="1285920" cy="50004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928800" y="6000840"/>
            <a:ext cx="1285920" cy="50004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"/>
          <p:cNvPicPr/>
          <p:nvPr/>
        </p:nvPicPr>
        <p:blipFill>
          <a:blip r:embed="rId3"/>
          <a:stretch/>
        </p:blipFill>
        <p:spPr>
          <a:xfrm>
            <a:off x="5286240" y="5219640"/>
            <a:ext cx="2648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smosi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Osmosis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the diffusion of solvent through a semi-permeable membran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ater always flows from lower solute concentration [dilute solution] to higher solute concentration until a balance is produce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Osmotic pressure</a:t>
            </a:r>
            <a:r>
              <a:rPr b="1" lang="en-US" sz="26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s the force that cause this diffusion 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Tonicity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a measure of the                                     osmotic pressure of two solutions                       separated by a semi-permeable                                 membran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5924520" y="4316400"/>
            <a:ext cx="306720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ne step equ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V :      volume of H</a:t>
            </a:r>
            <a:r>
              <a:rPr b="0" lang="en-US" sz="2400" spc="-1" strike="noStrike" baseline="-25000">
                <a:solidFill>
                  <a:srgbClr val="53548a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O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W:      weight of drug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111.1= 100/0.9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st exa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357280" y="2428920"/>
                <a:ext cx="3308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2214720" y="5429160"/>
                <a:ext cx="33764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3143160" y="6143760"/>
                <a:ext cx="1621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    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I</a:t>
            </a:r>
            <a:r>
              <a:rPr b="0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28760" y="121428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volume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 and then complete with isotonic sol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henacaine HCl                   0.06 gm  (E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NaC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0.16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ric acid                              0.3 gm     (E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NaC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0.5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erile distilled H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 up to    100 ml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 = 111.1 x(weight x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 =111.1 x [(0.06x0.16)+(0.3x0.5)] = 17.7 ml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785880" y="1714680"/>
            <a:ext cx="7429320" cy="214308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1"/>
          <a:stretch/>
        </p:blipFill>
        <p:spPr>
          <a:xfrm>
            <a:off x="6858000" y="5143680"/>
            <a:ext cx="762120" cy="1571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2"/>
          <a:stretch/>
        </p:blipFill>
        <p:spPr>
          <a:xfrm>
            <a:off x="785880" y="5072040"/>
            <a:ext cx="6143400" cy="1500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486560" y="478620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22960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Types of Tonicity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705200" y="4370400"/>
            <a:ext cx="3732480" cy="249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357200" y="1785960"/>
          <a:ext cx="6786720" cy="2620800"/>
        </p:xfrm>
        <a:graphic>
          <a:graphicData uri="http://schemas.openxmlformats.org/drawingml/2006/table">
            <a:tbl>
              <a:tblPr/>
              <a:tblGrid>
                <a:gridCol w="2262240"/>
                <a:gridCol w="2262240"/>
                <a:gridCol w="2262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  <a:ea typeface="Arial"/>
                        </a:rPr>
                        <a:t>Hypo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  <a:ea typeface="Arial"/>
                        </a:rPr>
                        <a:t>iso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  <a:ea typeface="Arial"/>
                        </a:rPr>
                        <a:t>Hyper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NaCl 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NaCl 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NaCl 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6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›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we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equilib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hrin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353880" y="4280040"/>
            <a:ext cx="38642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using isotonic solution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Picture 5" descr="SDXTMPPPT01.emf"/>
          <p:cNvPicPr/>
          <p:nvPr/>
        </p:nvPicPr>
        <p:blipFill>
          <a:blip r:embed="rId1"/>
          <a:stretch/>
        </p:blipFill>
        <p:spPr>
          <a:xfrm>
            <a:off x="457200" y="2286000"/>
            <a:ext cx="83296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09120"/>
            <a:ext cx="81435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sotonicity &amp; route of administrat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bcu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aneou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jec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not necessarily “small dose” but isotonicity reduce pain.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ypodermoclysi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“Large volume”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ramuscular inj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or slightly hypertonic  to increase  penetration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ravenous inj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“Large volume ”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otonic cause haemolysis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ertonic solution may be administered slowly into a vein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ertonic large volume administered through a cannula into large vessels.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5840" y="609120"/>
            <a:ext cx="85010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sotonicity &amp; route of administration 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cont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rathecal inj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Should be isotonic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ye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Rapid diluted by tear, but most of it is isotonic to decrease irritation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ye lo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Preferably isotonic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sal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Isotonic, but not essentially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8072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lasses of adjustment of isotonicity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lass 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ing substac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o lower f.p of solution to -0.52º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reezing point depression (FPD) “cryoscopic method”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aCL equivalent method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lass I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ing H2O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White –Vincent meth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reezing point depression (f.p.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ezing Po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Freezing Po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solv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L c       L : constant ,   c : conc.(molarit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lligative propert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Depend on concetr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same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.p.d             same conc.             same tonic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9% NaCl is isotonic i.e.  F.p.d = 0.52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Right Arrow 3"/>
          <p:cNvSpPr/>
          <p:nvPr/>
        </p:nvSpPr>
        <p:spPr>
          <a:xfrm>
            <a:off x="2928960" y="4286160"/>
            <a:ext cx="857160" cy="142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ight Arrow 4"/>
          <p:cNvSpPr/>
          <p:nvPr/>
        </p:nvSpPr>
        <p:spPr>
          <a:xfrm>
            <a:off x="5572080" y="428616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-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Freezing point depression (FPD) “cryoscopic method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”.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0040" y="1857240"/>
            <a:ext cx="81439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.P. of blood &amp; tears = - 0.52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solution have F.P. = - 0.52º is isotonic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solution have F.P.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›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0.52º is hypo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0.4º hypo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0.6º  hyper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solute to hypotonic solution to reach f.p.d of blood (- 0.52º 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20:04:28Z</dcterms:created>
  <dc:creator>M.Tayel</dc:creator>
  <dc:description/>
  <dc:language>en-US</dc:language>
  <cp:lastModifiedBy>User</cp:lastModifiedBy>
  <dcterms:modified xsi:type="dcterms:W3CDTF">2010-10-24T09:18:02Z</dcterms:modified>
  <cp:revision>81</cp:revision>
  <dc:subject/>
  <dc:title>Isotonicity</dc:title>
</cp:coreProperties>
</file>