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A58F-A50A-4A32-8528-F0FB4CA6F7B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6D6E-914B-48F6-91E7-E0BB0558802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A6F9-49E2-436C-B269-8730621F30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F942-146D-4E83-8620-7DBE4608C97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D03-3839-4804-9976-D227C013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DF9-6344-486F-BBD9-59B1C78C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CCC3-DC1C-4B0E-B42A-761BA169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2FF1-4318-476C-AFCE-9130431E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3A21C-76DA-4608-A69A-084C9551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17DE-CA0E-4958-8DF6-77FEC6A7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12ED-CB47-4B4D-969E-39A6BA8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D14D-434E-4F09-80D8-3C2820C7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E355-DB24-462B-A6F6-C2711A3A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2F5E-B9FC-4989-805E-C6D98431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9E35-4CCA-4D20-9A0A-3E70A3A1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5633-08C1-46CF-B0F4-FE3B9954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DC20-CD3E-4C99-8EB4-6F174BF5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275E-C743-4B8C-AED7-1E6C9E13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D1E6-B363-42B2-88AF-6F0330D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E0B1-08D2-4ABC-B7F6-EA8FA945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0B3B-E898-42D3-BA7A-3C817936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8EE81-C908-493A-BE7B-66D46DAC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56B95-C3DD-476B-9E16-75F51F59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D11E45-FF17-47DA-A857-7908DC8C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40FF27-251D-43AD-AFE7-CF8CF5F8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C9C06-CE98-42F0-93FE-554A5B0D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E40-4BA0-482B-BE55-E9A431F6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BF7F35-389E-4E6A-8DBE-76874DBEB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29985-60A7-4C61-8961-8045D11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8EF750-CBA0-4712-9069-3E7BD785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EE4F71-E702-4F22-9935-4A6BCEB3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04FA4-2A5D-421E-A05A-1BB61C31F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F3EE4-865C-4863-8F03-8C93E6D1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6266E-CEF9-4040-8F33-1AD81EBF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E3A65-5732-41FA-AC55-C6EE6242C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8057D-2027-4243-AE94-8966D8A4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19AA2-9D9D-4B7F-A7B8-02653476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1B2-869E-4DB4-8123-B2B8A2EC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69B5A-858F-43FD-BA62-6B130533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096B1-6C35-4139-AE8C-40017F18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FA28-F163-45DF-A669-7527CBD6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A424-92DC-4BC1-A002-859F81C5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275D8-B617-4A2A-97F4-DF55CBC3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33156-140A-4217-BC5D-9C5C31CB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21514-4DA9-4FFB-8608-58C4A63B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860CD-7E0B-47D0-A7F8-957EB615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87023-F10E-4B7A-8CFC-93182D8C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FBCD-C551-4FF3-817A-FEF82F3F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157B-DE27-4D38-9E02-A2296D3E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E245-EE35-440E-8EA7-114D17A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F541-0CE0-441F-9968-D7588331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773-1DF5-4BB8-B0C6-4CE90545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37B0-F7CA-4AB6-B18D-C5FB8F35F676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17E3-A5D3-45AC-AA2E-8C3676FA7007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7F06-445A-4C36-B319-78898526D70F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BCDF-7133-414D-AC16-3B6F1AF57316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D5D05-1F42-4EB7-BF02-827F2217344C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72DC-08C5-4442-B391-FE65848AABD2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9C95-0D46-4387-B6A4-466F81E50F03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80F0-6377-4B49-8DDC-2D85B608F775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  <a:ea typeface="Arial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  <a:ea typeface="Arial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User</cp:lastModifiedBy>
  <dcterms:modified xsi:type="dcterms:W3CDTF">2010-10-24T09:18:02Z</dcterms:modified>
  <cp:revision>81</cp:revision>
  <dc:subject/>
  <dc:title>Isotonicity</dc:title>
</cp:coreProperties>
</file>