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32C7-8EE6-4578-8542-8D6515F2BA3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ubcutaneous" TargetMode="External"/><Relationship Id="rId2" Type="http://schemas.openxmlformats.org/officeDocument/2006/relationships/hyperlink" Target="http://en.wikipedia.org/wiki/Saline_%28medicine%29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57C0-2F2B-46F4-B04D-09689FE345A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bcutaneous infus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s the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ubcutaneo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dministration of fluids to the body. This would often be in the form of a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ali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glucos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6BCF-10B7-4AFC-B6B5-BDE2DE61089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ligative propert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e properties of solutions that depend on the number of molecules in a given volume of solvent and not on the properties (e.g. size or mass) of the molecu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B4A9-6B37-483E-8FD8-187172A720E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1D67-65E4-429E-97E2-ECFB22F6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C34-0261-48A3-976E-EA6CDD9B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E145-5772-4D7A-94A7-5EBA0E79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A59A-6B61-4422-B1AD-0A905260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B6FC-BAEC-482C-A49C-12401CB1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0CEF-9866-4741-B9B4-72DDC418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9F45-9CD8-4B4B-990A-1555B3E0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C574-E5A4-477F-A1F0-71565F5D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5BDD-4894-44CA-9138-831625AC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9586-F8DF-41C6-A397-821B6CBF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3167-4AEC-4B97-BF88-4EBFBC1F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553-8F72-49FE-A0C7-A936C168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0DE0-601C-4491-A024-9FAFB9F2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189A-2937-4106-BB4F-717C2282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93B2-EA78-4679-AEA0-953A5483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ECBC-744A-41BD-8763-C55D986E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F8E2-C7F3-4C05-A39C-D6E958DC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9E4AD-D645-4A95-8E49-BCD39F86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30FDC-651D-4840-B389-89C7FA6F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FB456-F1F2-496D-97E7-91FFDB39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F1827-AB27-471E-8345-4C560CDA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850C4-7000-4619-97EE-0B42F336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E34A-B096-4419-98AA-B5384AB6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8A510-C2D1-4372-965D-BEF42A5A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4B78F-B833-4ED3-98FB-4FB10AF6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5C5F5-96FA-41D5-8EE5-1E9AC3F8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1E79F-3DDA-4321-A4FA-FA26498B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13753-6C2A-4E4A-9030-EFF16EBB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0CE2C-0DCB-404A-B568-676374A7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980A1-EBFE-47ED-8393-08726DF0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41B63-085A-484A-9C1D-6892A397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0155E-2BC3-40CC-A711-93194CDF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2F9BB-818F-4630-93A3-A24C284D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244A-F8F6-403C-B131-5AF05F9E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53C82-E17D-4B6C-BA83-8F0E74E3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7FED6-DCD0-4F12-B79F-06C589B7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F96EB-D534-4EED-B8D7-81D66495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D4506-B3B4-4643-A35E-9F58632B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36824-693E-41DA-BC7A-5DFA6A1D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96DAE-1860-41B1-8FF7-183E5227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9D0DE-013C-4C47-B89C-61320783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1008E-4FBF-42CF-9F03-1AC85B2E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9A495-FCD7-4DF7-AF31-2DB1446B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F22-BA71-47CC-805E-39708C14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4F9-17C8-4CB1-94C1-2A34973D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6494-7F9C-4713-91E6-D10B2F34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B35-90FA-45C8-ABAB-828FF7CE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1A7-6BF7-4369-8EB0-7228CFE5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793E-C28A-48FA-851F-17E1EA27A05F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٥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C879-2BA7-433B-AF7E-ECA2BB8C5FC0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E5D3-468A-42F2-A08F-7D36E3B9EC7A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٥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3798-D761-43E3-900C-5FD06C4EF6CC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2535-5C97-442A-B583-C27C63AA7503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٥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30F6-AED6-47E7-803F-DE083F6F752C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2FC3-80DE-4C15-B6B0-98D922985F11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٥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293B-ACAF-4720-A367-490214C5E523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840" y="17856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rebuchet MS"/>
              </a:rPr>
              <a:t>Isotonicity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7601040" y="4285800"/>
            <a:ext cx="15429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PHT 43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c. gm/100 ml of adjusting subst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.p.d of 1% of unadjusted substance(table) X percentage strength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f.p.d of 1% of adjusting substance (tabl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6"/>
              <p:cNvSpPr txBox="1"/>
              <p:nvPr/>
            </p:nvSpPr>
            <p:spPr>
              <a:xfrm>
                <a:off x="2952720" y="2143080"/>
                <a:ext cx="323856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8"/>
              <p:cNvSpPr txBox="1"/>
              <p:nvPr/>
            </p:nvSpPr>
            <p:spPr>
              <a:xfrm>
                <a:off x="285840" y="3714840"/>
                <a:ext cx="1235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428760" y="4857840"/>
                <a:ext cx="858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0"/>
              <p:cNvSpPr txBox="1"/>
              <p:nvPr/>
            </p:nvSpPr>
            <p:spPr>
              <a:xfrm>
                <a:off x="500040" y="6000840"/>
                <a:ext cx="7142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1" descr=""/>
          <p:cNvPicPr/>
          <p:nvPr/>
        </p:nvPicPr>
        <p:blipFill>
          <a:blip r:embed="rId1"/>
          <a:stretch/>
        </p:blipFill>
        <p:spPr>
          <a:xfrm>
            <a:off x="2500200" y="5857920"/>
            <a:ext cx="3181320" cy="10000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NaCl is required to render 100 ml of a 1% soln. of apomorphin HCL isotonic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.p.d of 1%NaCl=0.58º, F.p.d of 1%drug=0.08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% drug                   0.08º   (0.52º- 0.08º=0.44º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% NaCl                  0.58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% NaCl                 0.44º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770040" y="3500280"/>
                <a:ext cx="23889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º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6573960" y="3770280"/>
                <a:ext cx="2070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5"/>
              <p:cNvSpPr txBox="1"/>
              <p:nvPr/>
            </p:nvSpPr>
            <p:spPr>
              <a:xfrm>
                <a:off x="3270240" y="3500280"/>
                <a:ext cx="29624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º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º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º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Right Arrow 7"/>
          <p:cNvSpPr/>
          <p:nvPr/>
        </p:nvSpPr>
        <p:spPr>
          <a:xfrm>
            <a:off x="2428920" y="471492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ight Arrow 8"/>
          <p:cNvSpPr/>
          <p:nvPr/>
        </p:nvSpPr>
        <p:spPr>
          <a:xfrm>
            <a:off x="2428920" y="5143680"/>
            <a:ext cx="1000080" cy="28548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ight Arrow 9"/>
          <p:cNvSpPr/>
          <p:nvPr/>
        </p:nvSpPr>
        <p:spPr>
          <a:xfrm rot="10800000">
            <a:off x="2500200" y="557208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6500880" y="5214960"/>
                <a:ext cx="2070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0" name="Picture 8" descr=""/>
          <p:cNvPicPr/>
          <p:nvPr/>
        </p:nvPicPr>
        <p:blipFill>
          <a:blip r:embed="rId2"/>
          <a:stretch/>
        </p:blipFill>
        <p:spPr>
          <a:xfrm>
            <a:off x="5643720" y="5143680"/>
            <a:ext cx="761760" cy="1571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>
            <a:off x="6415200" y="5715000"/>
            <a:ext cx="165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63" name="Content Placeholder 2"/>
          <p:cNvGrpSpPr/>
          <p:nvPr/>
        </p:nvGrpSpPr>
        <p:grpSpPr>
          <a:xfrm>
            <a:off x="444600" y="2236680"/>
            <a:ext cx="8254800" cy="4353120"/>
            <a:chOff x="444600" y="2236680"/>
            <a:chExt cx="8254800" cy="4353120"/>
          </a:xfrm>
        </p:grpSpPr>
        <p:pic>
          <p:nvPicPr>
            <p:cNvPr id="26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44600" y="2236680"/>
              <a:ext cx="825480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57200" y="2249640"/>
              <a:ext cx="8229600" cy="43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adjust isotonicity of procaine HCl 3% using NaCl ? Fpd of 1%NaCl=0.57º, f.p.d of 1% drug=0.112º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2952720" y="3432240"/>
                <a:ext cx="254808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3000240" y="4689360"/>
                <a:ext cx="228600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)</m:t>
                    </m:r>
                    <m:eqArr>
                      <m:e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6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1285920" y="5857920"/>
                <a:ext cx="5857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l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rPr>
                        <m:lit/>
                        <m:nor/>
                      </m:rPr>
                      <m:t xml:space="preserve">NaC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aCl equivalent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Cl equivalent “E”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mount of NaCl that is equivalent to(i.e., has the same osmotic effect (same f.p.d) as ) 1 gm of dru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st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alculate  E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dd NaCl to reach 0.9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E</a:t>
            </a:r>
            <a:r>
              <a:rPr b="0" lang="en-US" sz="4000" spc="-1" strike="noStrike" baseline="-25000">
                <a:solidFill>
                  <a:srgbClr val="424456"/>
                </a:solidFill>
                <a:latin typeface="Trebuchet MS"/>
              </a:rPr>
              <a:t>NaCl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214200" y="2714760"/>
                <a:ext cx="3915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4789440" y="2714760"/>
                <a:ext cx="387972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so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4"/>
              <p:cNvSpPr txBox="1"/>
              <p:nvPr/>
            </p:nvSpPr>
            <p:spPr>
              <a:xfrm>
                <a:off x="4857840" y="3857760"/>
                <a:ext cx="37908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aC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5"/>
              <p:cNvSpPr txBox="1"/>
              <p:nvPr/>
            </p:nvSpPr>
            <p:spPr>
              <a:xfrm>
                <a:off x="6788160" y="4799160"/>
                <a:ext cx="1998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t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TextBox 11"/>
          <p:cNvSpPr/>
          <p:nvPr/>
        </p:nvSpPr>
        <p:spPr>
          <a:xfrm>
            <a:off x="4286160" y="38577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6"/>
              <p:cNvSpPr txBox="1"/>
              <p:nvPr/>
            </p:nvSpPr>
            <p:spPr>
              <a:xfrm>
                <a:off x="3146400" y="5821200"/>
                <a:ext cx="22986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so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rug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8"/>
              <p:cNvSpPr txBox="1"/>
              <p:nvPr/>
            </p:nvSpPr>
            <p:spPr>
              <a:xfrm>
                <a:off x="3929040" y="2286000"/>
                <a:ext cx="1287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0"/>
              <p:cNvSpPr txBox="1"/>
              <p:nvPr/>
            </p:nvSpPr>
            <p:spPr>
              <a:xfrm>
                <a:off x="1171440" y="4786200"/>
                <a:ext cx="1757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t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1"/>
              <p:cNvSpPr txBox="1"/>
              <p:nvPr/>
            </p:nvSpPr>
            <p:spPr>
              <a:xfrm>
                <a:off x="4856040" y="4786200"/>
                <a:ext cx="16448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t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2"/>
              <p:cNvSpPr txBox="1"/>
              <p:nvPr/>
            </p:nvSpPr>
            <p:spPr>
              <a:xfrm>
                <a:off x="6786720" y="5357880"/>
                <a:ext cx="1923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13"/>
              <p:cNvSpPr txBox="1"/>
              <p:nvPr/>
            </p:nvSpPr>
            <p:spPr>
              <a:xfrm>
                <a:off x="368280" y="3825720"/>
                <a:ext cx="3625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amount of NaC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500040" y="3071880"/>
                <a:ext cx="8228160" cy="22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weight of NaCl in gm per 100 m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 make solution isotoni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rug%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weight of drug in gm per 100 ml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aCl equivalent weight to 1gm of drug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isotonic solution of NaC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1808280" y="2571840"/>
                <a:ext cx="4309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drug%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00040" y="18572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f drug (M.wt=187,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iso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3.4)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NaCl needed to make 2% of this drug isotonic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5072040" y="2928960"/>
                <a:ext cx="19209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2071800" y="2643120"/>
                <a:ext cx="22986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so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rug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857160" y="4714920"/>
                <a:ext cx="3489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ru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857160" y="5572080"/>
                <a:ext cx="3362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Right Arrow 7"/>
          <p:cNvSpPr/>
          <p:nvPr/>
        </p:nvSpPr>
        <p:spPr>
          <a:xfrm>
            <a:off x="4500720" y="478620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5033880" y="4714920"/>
                <a:ext cx="35654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ru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5" name="Picture 8" descr=""/>
          <p:cNvPicPr/>
          <p:nvPr/>
        </p:nvPicPr>
        <p:blipFill>
          <a:blip r:embed="rId1"/>
          <a:stretch/>
        </p:blipFill>
        <p:spPr>
          <a:xfrm>
            <a:off x="7643880" y="5214960"/>
            <a:ext cx="761760" cy="15717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2"/>
          <a:stretch/>
        </p:blipFill>
        <p:spPr>
          <a:xfrm>
            <a:off x="4643280" y="5357880"/>
            <a:ext cx="2886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amount of NaCl needed to adjust 1.5% Atropine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0.12gm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0.9 –(W x 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9 –(1.5x 0.12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72 gm of NaCl should be ad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tretch/>
        </p:blipFill>
        <p:spPr>
          <a:xfrm>
            <a:off x="5572080" y="4857840"/>
            <a:ext cx="762120" cy="1571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2071800" y="4929120"/>
            <a:ext cx="3341520" cy="1500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3"/>
          <a:stretch/>
        </p:blipFill>
        <p:spPr>
          <a:xfrm>
            <a:off x="6343560" y="4929120"/>
            <a:ext cx="1657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ite – Vincent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incip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st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Addition of H2O to drug to make it isotonic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nd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addition of isotonic vehicle to bring solution to final volume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amount of H</a:t>
            </a:r>
            <a:r>
              <a:rPr b="0" lang="en-US" sz="4000" spc="-1" strike="noStrike" baseline="-25000">
                <a:solidFill>
                  <a:srgbClr val="424456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se preparing 30ml of 1% drug isotonic with body fluid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0.16gm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gm                       100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                            30ml        =0.3g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ount of NaCl eq. to 0.3 dru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3 x 0.16 =0.048g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9 gm                         100 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048 gm                      ? ml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5.3 ml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8072280" y="4734000"/>
            <a:ext cx="928800" cy="2124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2"/>
          <a:stretch/>
        </p:blipFill>
        <p:spPr>
          <a:xfrm>
            <a:off x="7639200" y="3643200"/>
            <a:ext cx="1504800" cy="1152720"/>
          </a:xfrm>
          <a:prstGeom prst="rect">
            <a:avLst/>
          </a:prstGeom>
          <a:ln w="0">
            <a:noFill/>
          </a:ln>
        </p:spPr>
      </p:pic>
      <p:sp>
        <p:nvSpPr>
          <p:cNvPr id="308" name="Right Arrow 6"/>
          <p:cNvSpPr/>
          <p:nvPr/>
        </p:nvSpPr>
        <p:spPr>
          <a:xfrm>
            <a:off x="2071800" y="335772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ight Arrow 7"/>
          <p:cNvSpPr/>
          <p:nvPr/>
        </p:nvSpPr>
        <p:spPr>
          <a:xfrm rot="10800000">
            <a:off x="1999800" y="3786120"/>
            <a:ext cx="1357560" cy="21456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ight Arrow 8"/>
          <p:cNvSpPr/>
          <p:nvPr/>
        </p:nvSpPr>
        <p:spPr>
          <a:xfrm>
            <a:off x="2428920" y="521496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9"/>
          <p:cNvSpPr/>
          <p:nvPr/>
        </p:nvSpPr>
        <p:spPr>
          <a:xfrm>
            <a:off x="2571840" y="564372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357880" y="3643200"/>
            <a:ext cx="1285920" cy="50004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928800" y="6000840"/>
            <a:ext cx="1285920" cy="50004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"/>
          <p:cNvPicPr/>
          <p:nvPr/>
        </p:nvPicPr>
        <p:blipFill>
          <a:blip r:embed="rId3"/>
          <a:stretch/>
        </p:blipFill>
        <p:spPr>
          <a:xfrm>
            <a:off x="5286240" y="5219640"/>
            <a:ext cx="26481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smosi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Osmosis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is the diffusion of solvent through a semi-permeable membran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ater always flows from lower solute concentration [dilute solution] to higher solute concentration until a balance is produce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Osmotic pressure</a:t>
            </a:r>
            <a:r>
              <a:rPr b="1" lang="en-US" sz="26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s the force that cause this diffusion 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Tonicity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is a measure of the                                     osmotic pressure of two solutions                       separated by a semi-permeable                                 membran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5924520" y="4316400"/>
            <a:ext cx="306720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ne step equ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V :      volume of H</a:t>
            </a:r>
            <a:r>
              <a:rPr b="0" lang="en-US" sz="2400" spc="-1" strike="noStrike" baseline="-25000">
                <a:solidFill>
                  <a:srgbClr val="53548a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O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W:      weight of drug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111.1= 100/0.9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st examp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2357280" y="2428920"/>
                <a:ext cx="3308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2214720" y="5429160"/>
                <a:ext cx="33764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3143160" y="6143760"/>
                <a:ext cx="1621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24456"/>
                </a:solidFill>
                <a:latin typeface="Trebuchet MS"/>
                <a:ea typeface="Tahoma"/>
              </a:rPr>
              <a:t>    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I</a:t>
            </a:r>
            <a:r>
              <a:rPr b="0" lang="ar-SA" sz="4000" spc="-1" strike="noStrike">
                <a:solidFill>
                  <a:srgbClr val="424456"/>
                </a:solidFill>
                <a:latin typeface="Trebuchet MS"/>
                <a:ea typeface="Tahoma"/>
              </a:rPr>
              <a:t>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28760" y="121428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 volume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 and then complete with isotonic solu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henacaine HCl                   0.06 gm  (E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NaCl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=0.16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oric acid                              0.3 gm     (E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NaCl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=0.5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erile distilled H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O up to    100 ml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 = 111.1 x(weight x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 =111.1 x [(0.06x0.16)+(0.3x0.5)] = 17.7 ml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785880" y="1714680"/>
            <a:ext cx="7429320" cy="214308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1"/>
          <a:stretch/>
        </p:blipFill>
        <p:spPr>
          <a:xfrm>
            <a:off x="6858000" y="5143680"/>
            <a:ext cx="762120" cy="1571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"/>
          <p:cNvPicPr/>
          <p:nvPr/>
        </p:nvPicPr>
        <p:blipFill>
          <a:blip r:embed="rId2"/>
          <a:stretch/>
        </p:blipFill>
        <p:spPr>
          <a:xfrm>
            <a:off x="785880" y="5072040"/>
            <a:ext cx="6143400" cy="15001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7486560" y="4786200"/>
            <a:ext cx="1657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22960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Types of Tonicity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4705200" y="4370400"/>
            <a:ext cx="3732480" cy="249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357200" y="1785960"/>
          <a:ext cx="6786720" cy="2620800"/>
        </p:xfrm>
        <a:graphic>
          <a:graphicData uri="http://schemas.openxmlformats.org/drawingml/2006/table">
            <a:tbl>
              <a:tblPr/>
              <a:tblGrid>
                <a:gridCol w="2262240"/>
                <a:gridCol w="2262240"/>
                <a:gridCol w="2262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  <a:ea typeface="Arial"/>
                        </a:rPr>
                        <a:t>Hypo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  <a:ea typeface="Arial"/>
                        </a:rPr>
                        <a:t>iso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  <a:ea typeface="Arial"/>
                        </a:rPr>
                        <a:t>Hyper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NaCl 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NaCl 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NaCl 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6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›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we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equilib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hrin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353880" y="4280040"/>
            <a:ext cx="38642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using isotonic solution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1" name="Picture 5" descr="SDXTMPPPT01.emf"/>
          <p:cNvPicPr/>
          <p:nvPr/>
        </p:nvPicPr>
        <p:blipFill>
          <a:blip r:embed="rId1"/>
          <a:stretch/>
        </p:blipFill>
        <p:spPr>
          <a:xfrm>
            <a:off x="457200" y="2286000"/>
            <a:ext cx="83296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09120"/>
            <a:ext cx="81435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sotonicity &amp; route of administratio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bcu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taneou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jec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not necessarily “small dose” but isotonicity reduce pain.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ypodermoclysi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“Large volume”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Intramuscular inj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or slightly hypertonic  to increase  penetration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Intravenous inj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“Large volume ”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otonic cause haemolysis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ertonic solution may be administered slowly into a vein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ertonic large volume administered through a cannula into large vessels.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5840" y="609120"/>
            <a:ext cx="85010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sotonicity &amp; route of administration 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cont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rathecal inj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Should be isotonic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ye dr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Rapid diluted by tear, but most of it is isotonic to decrease irritation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ye lo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Preferably isotonic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sal dr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Isotonic, but not essentially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80726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lasses of adjustment of isotonicity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lass 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ding substace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o lower f.p of solution to -0.52º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reezing point depression (FPD) “cryoscopic method”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aCL equivalent method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lass I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ding H2O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White –Vincent metho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reezing point depression (f.p.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eezing Po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Freezing Po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solven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Δ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Δ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L c       L : constant ,   c : conc.(molarit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olligative propert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Depend on concetra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same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.p.d             same conc.             same tonicit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9% NaCl is isotonic i.e.  F.p.d = 0.52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Right Arrow 3"/>
          <p:cNvSpPr/>
          <p:nvPr/>
        </p:nvSpPr>
        <p:spPr>
          <a:xfrm>
            <a:off x="2928960" y="4286160"/>
            <a:ext cx="857160" cy="142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ight Arrow 4"/>
          <p:cNvSpPr/>
          <p:nvPr/>
        </p:nvSpPr>
        <p:spPr>
          <a:xfrm>
            <a:off x="5572080" y="428616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-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Freezing point depression (FPD) “cryoscopic method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”.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0040" y="1857240"/>
            <a:ext cx="81439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.P. of blood &amp; tears = - 0.52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solution have F.P. = - 0.52º is isotonic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solution have F.P.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›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0.52º is hypo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0.4º hypo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0.6º  hyper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 solute to hypotonic solution to reach f.p.d of blood (- 0.52º 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20:04:28Z</dcterms:created>
  <dc:creator>M.Tayel</dc:creator>
  <dc:description/>
  <dc:language>en-US</dc:language>
  <cp:lastModifiedBy>User</cp:lastModifiedBy>
  <dcterms:modified xsi:type="dcterms:W3CDTF">2010-10-24T09:18:02Z</dcterms:modified>
  <cp:revision>81</cp:revision>
  <dc:subject/>
  <dc:title>Isotonicity</dc:title>
</cp:coreProperties>
</file>