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camera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68C-209D-4ECE-AF17-6D98ABBE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BBF-B46E-462B-B6E8-4EAFBCFB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E0F-7FFF-4D76-92A4-AF7711D7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499-E045-42D9-AA14-3C3323A3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4AE-D221-438A-9CD8-30CC9EA6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A4E-1162-46E9-BA72-5EA5E3C7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A04-FEE7-439A-9588-1A7641C1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EAE-451D-4E32-8C8A-62CF70D2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623-5DFA-4D80-A334-D070B0E7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4BA-1BB8-4745-9741-F4746EB6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F11-D88C-4E30-A591-A611638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5C7-07E4-4D01-878C-6A70C08E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0F3D-780B-41C9-A59E-8F79D42A0DC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8600" y="1832040"/>
            <a:ext cx="868680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nucleus contains most of the genes in a eukaryotic cel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 genes are located in mitochondria and chloroplas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nucleus averages about 5 microns in diamet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nucleus is separated from the cytoplasm by a double membr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are separated by 20-40 n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the double membranes are fused, a pore allows large macromolecules and particles to pass throug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nucleus contains an eukaryotic cell’s genetic libr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04920" y="228600"/>
            <a:ext cx="83818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ooth ER is rich in enzymes and plays a role in a variety of metabolic proc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zymes of smooth ER synthesize lipids, including oils, phospholipids, and stero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includes the sex hormones of vertebrates and adrenal stero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ooth ER also catalyzes a key step in the mobilization of glucose from stored glycogen in the l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zyme removes the phosphate group from glucose phosphate, a product of glycogen hydrolysis, permitting glucose to exit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04920" y="228600"/>
            <a:ext cx="8381880" cy="63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enzymes in the smooth ER of the liver help detoxify drugs and poi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include alcohol and barbitu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exposure leads to proliferation of smooth ER, increasing tolerance to the target and other dru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cle cells are rich in enzymes that pump calcium ions from the cytosol to the cistern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erve impulse stimulates a muscle cell, calcium rushes from the ER into the cytosol, triggering cont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enzymes then pump the calcium back, readying the cell for the next stim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04920" y="60948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 ER is especially abundant in those cells that secrete prot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polypeptide is synthesized by the ribosome, it is threaded into the cisternal space through a pore formed by a protein in the ER membr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f these polypeptide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prote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polypeptide to which an oligosaccharide is att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ecretory proteins are packag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 vesic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carry them to their next s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04920" y="1127160"/>
            <a:ext cx="83818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 ER is also a membrane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bound proteins are synthesized directly into the membr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zymes in the rough ER also synthesize phospholipids from precursors in the cyto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ER membrane expands, parts can be transferred as transport vesicles to other components of the endomembrane syst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28600" y="1562040"/>
            <a:ext cx="86868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ny transport vesicles from the ER travel to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modification of their conte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Golgi is a center of manufacturing, warehousing, sorting, and shipp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Golgi apparatus is especially extensive in cells specialized for secre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4428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Golgi apparatus finishes, sorts, and ships cell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5280" y="4838760"/>
            <a:ext cx="871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Golgi apparatus consists of flattened membranous sacs - cisternae - looking like a sac of pita b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-334800" y="115920"/>
            <a:ext cx="922788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membrane of each cisterna separates its internal space from the cytos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side of the Golgi,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ide, receives material by fusing with vesicles, while the other side,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ide, buds off vesicles that travel to other si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0" r="0" b="10164"/>
          <a:stretch/>
        </p:blipFill>
        <p:spPr>
          <a:xfrm>
            <a:off x="270000" y="2421000"/>
            <a:ext cx="8839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04920" y="358920"/>
            <a:ext cx="853416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ring their transit from the cis to trans pole, products from the ER are modified to reach their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ncludes modifications of the oligosaccharide portion of glycoprotei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Golgi can also manufacture its own macromolecules, including pectin and other noncellulose polysaccharid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ring processing material is moved from cisterna to cisterna, each with its own set of enzym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ally, the Golgi tags, sorts, and packages materials into transport vesic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28600" y="990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yso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embrane-bounded sac of hydrolytic enzymes that digests macro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ysosomes are digestive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1181160" y="2286000"/>
            <a:ext cx="678168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1298520" y="61722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3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8600" y="655560"/>
            <a:ext cx="86868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sosomal enzymes can hydrolyze proteins, fats, polysaccharides, and nucleic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enzymes work best at pH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ins in the lysosomal membrane pump hydrogen ions from the cytosol to the lumen of the lysos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rupturing one or a few lysosomes has little impact on a cell, but massive leakage from lysosomes can destroy an cell by autodig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ysosomes creates a space where the cell can digest macromolecules saf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28600"/>
            <a:ext cx="838188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ysosomal enzymes and membrane are synthesized by rough ER and then transferred to the Golg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ast so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sosom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lg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3276720" y="1523880"/>
            <a:ext cx="5651280" cy="4884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3312000" y="615636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04920" y="228600"/>
            <a:ext cx="3352680" cy="55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clear side of the envelope is lined b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clear lam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network of intermediate filaments that maintain the shape of the nucle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3809880" y="152280"/>
            <a:ext cx="5257800" cy="6096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711960" y="624852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304920" y="228600"/>
            <a:ext cx="838188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sosomes can fuse with food vacuoles, formed when a food item is brought into the cell b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gocyto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polymers are digested, their monomers pass out to the cytosol to become nutrients of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sosomes can als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se with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elle or pa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ytos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cycl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cess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topha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ews the c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55598" t="10405" r="0" b="4629"/>
          <a:stretch/>
        </p:blipFill>
        <p:spPr>
          <a:xfrm>
            <a:off x="4267080" y="2940120"/>
            <a:ext cx="4534200" cy="36129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191120" y="2971800"/>
            <a:ext cx="76176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272840" y="6172200"/>
            <a:ext cx="98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3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04920" y="228600"/>
            <a:ext cx="838188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ysosomes play a critical role in the programmed destruction of cells in multicellular org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cess allows reconstruction during the developmental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inherited diseases affect lysosomal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individuals lack a functioning version of a normal hydrolytic enzy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sosomes are engorged with indigestable subst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diseases include Pompe’s disease in the liver and Tay-Sachs disease in the br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28600" y="2050920"/>
            <a:ext cx="86868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ochondria and chloroplasts are the organelles that convert energy to forms that cells can use fo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sites of cellular respiration, generating ATP from the catabolism of sugars, fats, and other fuels in the presence of oxy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-270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tochondria is the main energy transformers of animal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04920" y="890640"/>
            <a:ext cx="8381880" cy="44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tochondria is not part of the endomembrane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ts proteins come primarily from free ribosomes in the cytosol and a few from their own ribosom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tochondria have small quantities of DNA that direct the synthesis of the polypeptides produced by these internal ribosom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tochondria grows and reproduce as semiautonomous organel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8600" y="216000"/>
            <a:ext cx="838188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most all eukaryotic cells have mitochondr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one very large mitochondrion or hundreds to thousands in individual mitochondr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umber of mitochondria is correlated with aerobic metabolic activ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typical mitochondrion is 1-10 microns lo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tochondria are quite dynamic: moving, changing shape, and divid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24000" y="4097160"/>
            <a:ext cx="838188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tochondria have a smooth outer membrane and a highly folded inner membrane,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rista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creates a fluid-filled space between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ristae present ample surface area for the enzymes that synthesize AT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28600" y="22860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inner membrane encloses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tochondri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 fluid-filled space with DNA, ribosomes, and enzyme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704880" y="1773360"/>
            <a:ext cx="7734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04920" y="228600"/>
            <a:ext cx="838188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omembrane system plays a key role in the synthesis (and hydrolysis) of macromolecules in the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rio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molecu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ir vario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1905120"/>
            <a:ext cx="5029200" cy="3989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16560" y="609588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1433160"/>
            <a:ext cx="86868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oxisomes contain enzymes that transfer hydrogen from various substrates to oxy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termediate product of this process is hydrogen peroxide 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, a poison, but the peroxisome has another enzyme that converts 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o wa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me peroxisomes break fatty acids down to smaller molecules that are transported to mitochondria for fu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s detoxify alcohol and other harmful compou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ized peroxisomes, glyoxysomes, convert the fatty acids in seeds to sugars, an easier energy and carbon source to transpo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eroxisomes generate and degrade 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in performing various metabolic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38188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xisomes are bounded by a single membr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form not from the endomembrane system, but by incorporation of proteins and lipids from the cytos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split in tw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y reac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ertain siz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3962520" y="2209680"/>
            <a:ext cx="4851360" cy="4202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962880" y="61722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28600" y="1386000"/>
            <a:ext cx="868680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ytoskele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network of fibers extending throughout the cytoplas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ytoskeleto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ganizes th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uctures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tivities of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4191120" y="2249640"/>
            <a:ext cx="4876560" cy="4456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3083400" y="615636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4920" y="387360"/>
            <a:ext cx="838188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nucleus, the DNA and associated proteins are organized into fibrous material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romat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normal cell they appear as diffuse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 when the cell prepares to divide, the chromatin fibers coil up to be seen as separate structures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ukaryotic species has a characteristic number of chromos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ypical human cell has 46 chromosomes, but sex cells (eggs and sperm) have only 23 chromosom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28600" y="2227320"/>
            <a:ext cx="86868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vides mechanical support and maintains shape of the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bers act like a geodesic dome to stabilize a balance between opposing fo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toskeleton provides anchorage for many organelles and cytosolic enzy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toskeleton is dynamic, dismantling in one part and reassembling in another to change cell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oviding structural support to the cell, the cytoskeleton also functions in cell motility and 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152280" y="1905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228600"/>
            <a:ext cx="899172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ytoskeleton also plays a major role in cell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tilit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nvolves both changes in cell location and limited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vements of parts of the cel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ytoskeleton interacts with motor protei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cilia and flagella motor proteins pull components of the cytoskeleton past each oth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also true in muscle cel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0" t="0" r="9861" b="60013"/>
          <a:stretch/>
        </p:blipFill>
        <p:spPr>
          <a:xfrm>
            <a:off x="4191120" y="4419720"/>
            <a:ext cx="4876560" cy="2382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4438800" y="646128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28600" y="3962520"/>
            <a:ext cx="403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tor molecules also carry vesicles or organelles to various destinations along “monorails’ provided by the cytoskelet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52280" y="228600"/>
            <a:ext cx="876312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actions of motor proteins and the cytoskeleton circulates materials within a cell via stream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ently, evidence is accumulating that the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ytoskeleton may transmit mechanical signals that rearrange the nucleoli and other structur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52145" r="14085" b="3099"/>
          <a:stretch/>
        </p:blipFill>
        <p:spPr>
          <a:xfrm>
            <a:off x="4572000" y="4125960"/>
            <a:ext cx="4495680" cy="2579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355200" y="6232680"/>
            <a:ext cx="98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76320" y="2712960"/>
            <a:ext cx="8839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are three main types of fibers in the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ytoskeleton: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crotub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crofilam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ermediate filam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80880" y="231840"/>
            <a:ext cx="845820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4920" y="228600"/>
            <a:ext cx="8381880" cy="41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tubules, the thickest fibers, are hollow rods about 25 microns in diam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tubule fibers are constructed of the globular protein, tubulin, and they grow or shrink as more tubulin molecules are added or rem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chromosomes during cell divis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function is as tracks that guide motor proteins carrying organelles to their 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04920" y="4363920"/>
            <a:ext cx="8381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cells, microtubules grow out from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ntro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ar the nucl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microtubules resist compression to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19051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232200" y="61722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04920" y="228600"/>
            <a:ext cx="84582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animal cells, the centrosome has a pair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entrio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each with nine triplets of microtubules arranged in a r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ring cell division th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entrioles replic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4920" y="228600"/>
            <a:ext cx="838188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tubules are the central structural supports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agel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move unicellular and small multicellular organisms by propelling water past the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se structures are anchored in a large structure, they move fluid over a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cilia sweep mucus carrying trapped debris from the lu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286000" y="4352760"/>
            <a:ext cx="6211800" cy="212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137520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76320" y="0"/>
            <a:ext cx="906768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ilia usually occur in large numbers on the cell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y are about 0.25 microns in diameter and 2-20 microns lo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are usually just one or a few flagella per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el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lagella are the same width as cilia, but 10-200 microns lo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04920" y="2514600"/>
            <a:ext cx="83818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flagellum has an undulatory mov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ce is generated parallel to the flagellum’s ax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0" t="0" r="0" b="51210"/>
          <a:stretch/>
        </p:blipFill>
        <p:spPr>
          <a:xfrm>
            <a:off x="457200" y="3657600"/>
            <a:ext cx="861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0" t="48790" r="0" b="3711"/>
          <a:stretch/>
        </p:blipFill>
        <p:spPr>
          <a:xfrm>
            <a:off x="380880" y="2743200"/>
            <a:ext cx="8610840" cy="3041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310320" y="5562720"/>
            <a:ext cx="98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3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04920" y="228600"/>
            <a:ext cx="838188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ia move more like oars with alternating power and recovery str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generate force perpendicular to the cilia’s 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04920" y="228600"/>
            <a:ext cx="8381880" cy="62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pite of their differences, both cilia and flagella have the same ultra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have a core of microtubules sheathed by the plasma membr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e doublets of microtubules arranged around a pair at the center, the “9 + 2” patt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“wheels” of proteins connect outer doublets to each other and to the 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er doublets are also connected by motor prote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lium or flagellum is anchored in the cell b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al body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ose structure is identical to a centri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228600"/>
            <a:ext cx="8610480" cy="63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nucleus is a region of densely stained fibers and granules adjoining chromatin,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cleol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nucleolus, ribosomal RNA (rRNA) is synthesized and assembled with proteins from the cytoplasm to form ribosomal sub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bunits pass from the nuclear pores to the cytoplasm where they combine to form ribos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cleus directs protein synthesis by synthesizing messenger RNA (mRN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RNA travels to the cytoplasm and combines with ribosomes to translate its genetic message into the primary structure of a specific polypep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19040" y="228600"/>
            <a:ext cx="8305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04920" y="228600"/>
            <a:ext cx="853416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nding of cilia and flagella is driven by the arms of a motor protein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n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 to dynein of a phosphate group from ATP and its removal causes conformation changes in the prot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ein arms alternate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b, move, and rel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er microtub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in cross-links lim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ing and the force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ed as be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724280" y="2438280"/>
            <a:ext cx="4267440" cy="40626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3737160" y="61722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04920" y="228600"/>
            <a:ext cx="8534160" cy="46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filaments, the thinnest class of the cytoskeletal fibers, are solid rods of the globular prote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ctin microfilament consists of a twisted double chain of actin sub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filaments are designed to resist 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other proteins, they form a three-dimensional network just inside the plasma membra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53416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muscle cells, thousands of actin filaments are arranged parallel to one anoth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cker filaments, composed of a motor protein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yos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interdigitate with the thinner actin fib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yosin molecules walk along the actin filament, pulling stacks of actin fibers together and shortening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120" r="49399" b="49803"/>
          <a:stretch/>
        </p:blipFill>
        <p:spPr>
          <a:xfrm>
            <a:off x="2590920" y="3581280"/>
            <a:ext cx="5486400" cy="28879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1603080" y="61722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04920" y="228600"/>
            <a:ext cx="853416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other cells, these actin-myosin aggregates are less organized but still cause localized contra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ontracting belt of microfilaments divides the cytoplasm of animals cells during cell divis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calized contraction also drives amoeboid mov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ellular extensions, extend and contract through the reversible assembly and contraction of actin subunits into microfila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rcRect l="0" t="50343" r="49399" b="4722"/>
          <a:stretch/>
        </p:blipFill>
        <p:spPr>
          <a:xfrm>
            <a:off x="2819520" y="3962520"/>
            <a:ext cx="4647960" cy="2195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526400" y="6232680"/>
            <a:ext cx="98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04920" y="228600"/>
            <a:ext cx="853416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lant cells (and others), actin-myosin interactions and sol-gel transformations dri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toplasmic strea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reates a circular flow of cytoplasm in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peeds the distribution of materials within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49902" t="19943" r="199" b="25872"/>
          <a:stretch/>
        </p:blipFill>
        <p:spPr>
          <a:xfrm>
            <a:off x="2514600" y="3108240"/>
            <a:ext cx="5410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1529280" y="5927760"/>
            <a:ext cx="959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1168560"/>
            <a:ext cx="8686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bosomes contain  rRNA and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ibosome is composed of two subunits that combine to carry out protein 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ibosomes build a cell’s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rcRect l="0" t="0" r="0" b="8186"/>
          <a:stretch/>
        </p:blipFill>
        <p:spPr>
          <a:xfrm>
            <a:off x="304920" y="2987640"/>
            <a:ext cx="8610480" cy="3260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308160" y="601992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4920" y="228600"/>
            <a:ext cx="853416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types that synthesize large quantities of proteins (e.g., pancreas) have large numbers of ribosomes and prominent nucle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ribosom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bosomes, are suspended in the cytosol and synthesize proteins that function within the cytos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ribosom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bosomes, are attached to the outside of the endoplasmic reticul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ynthesize proteins that are either included into membranes or for export from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bosomes can shift between roles depending on the polypeptides they are synthesiz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28600" y="1219320"/>
            <a:ext cx="86868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ny of the internal membranes in a eukaryotic cell are part of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omembrane syste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membranes are either in direct contact or connected via transfer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esic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sacs of membr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spite of these links, these membranes have diverse functions and structur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fact, the membranes are even modified during lif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omembrane system includes the nuclear envelope, endoplasmic reticulum, Golgi apparatus, lysosomes, vacuoles, and the plasma membr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Endomembra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28600" y="2292480"/>
            <a:ext cx="868680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oplasmic reticul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ccounts for half the membranes in a eukaryotic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 includes membranous tubules and internal, fluid-filled spaces, the cistern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 membrane is continuous with the nuclear envelope and the cisternal space of the ER is continuous with the space between the two membranes of the nuclear envel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1522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endoplasmic reticulum manufacturers membranes and performs many other biosynthetic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>
            <a:off x="152280" y="1981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04920" y="228600"/>
            <a:ext cx="4724280" cy="60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, albeit connected, regions of ER that differ in structure and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ooth 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ks smooth because it lacks ribos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ugh 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ks rough because ribosomes (bound ribosomes) are attached to the outside, including the outside of the nuclear envelo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5181480" y="380880"/>
            <a:ext cx="36864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499280" y="615636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32:11Z</dcterms:created>
  <dc:creator>Home</dc:creator>
  <dc:description/>
  <dc:language>en-US</dc:language>
  <cp:lastModifiedBy>User</cp:lastModifiedBy>
  <dcterms:modified xsi:type="dcterms:W3CDTF">2015-02-17T10:57:15Z</dcterms:modified>
  <cp:revision>19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