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17.gif" ContentType="image/gif"/>
  <Override PartName="/ppt/media/image21.png" ContentType="image/png"/>
  <Override PartName="/ppt/media/image19.png" ContentType="image/png"/>
  <Override PartName="/ppt/media/image26.gif" ContentType="image/gif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18.jpeg" ContentType="image/jpeg"/>
  <Override PartName="/ppt/media/image22.gif" ContentType="image/gif"/>
  <Override PartName="/ppt/media/image33.jpeg" ContentType="image/jpeg"/>
  <Override PartName="/ppt/media/image6.png" ContentType="image/png"/>
  <Override PartName="/ppt/media/image25.png" ContentType="image/png"/>
  <Override PartName="/ppt/media/image32.gif" ContentType="image/gif"/>
  <Override PartName="/ppt/media/image30.png" ContentType="image/png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stour" initials="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10-12-24T23:45:19.109000000" idx="1">
    <p:pos x="1786" y="3138"/>
    <p:text>],om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681B-A527-4D54-99B8-700FC20AD0A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esced :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ملتئ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1E4E-BC92-47F9-811C-122B07A6B8B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iving up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يستسلم أو يتخلى ع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6386-6AD5-4982-816A-E76472A4965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xiety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قل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E.P.A: US environmental pollution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veness: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تصا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ysema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نتفا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ysfunction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عط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8A4E-F60B-45F6-97C6-1E32E2D1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EE0-5E6C-44FA-91D4-43A6D516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67EF-4601-4191-A5EE-FF4D64A9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D80-8F72-4844-8C9E-4BCD81FF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4EA2-DC3D-4D36-A794-FD57BD44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1DA9-32A7-4866-BA2D-0EABF9BE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F69C-EB82-4DBE-94B9-47180C8F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2F10-1CEC-4090-9936-CA78C0E1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1904-1A9A-4105-B691-30CBE21F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D234-443B-4ECC-B17C-DE3DDD44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E1A2-F3EB-4A24-9122-980A907F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3A9-7362-40A9-BDE1-E856726A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E048-F8D8-498B-A924-F5A28DFE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EB4A-9946-4325-88D0-BE6072FC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6643-61E4-4AA2-B9CA-C79BFEA6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9B7C-F3A4-40B1-A410-F1AAB30B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F5D1-3E00-4179-8279-63750182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0DBBE-4A3B-4821-A56C-04B696ED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A7C88-B873-4023-9E9F-4095242A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CA3FE-BFD8-401D-8356-48BB6316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0661B-98F7-4446-B94B-D58415A8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A75AF-0D62-46AE-B4E0-E0E9B74E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6A3C-4DA1-410F-BB8D-3A24DF5D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3ABB5-521F-46EC-B012-0C7AA79A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FFC6E-3D61-43E1-8370-4074D065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C2FB5-5E40-4388-8675-B4473266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C7B67-CF53-4AE2-BA71-4DB4BD9D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11F37-52A5-46A8-92A2-7C4DA1BB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DC22F-1959-45FD-881B-8083F14D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BADA2-5737-4CCE-A26F-0D072A20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D3E76-FFC3-4EE8-AAFA-1029A192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E5E4D-AFB3-46AA-9646-9E1791B3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149AC-64C9-499D-9E51-F353030E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38D0-F2C1-40E9-9E58-2ABC049E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4A35E-43F2-481F-AC67-7BF6539B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B9E1B-2301-4A14-A8B5-C646B97F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37B90-5425-4E11-AE61-F864A3C6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71F2D-BAD6-4D67-A7D0-E943E1E1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264D3-6906-4054-A827-0C102EFD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2417B-0427-46A8-9D43-6049E8D7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E0D03-FD23-436D-A908-261A8090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A26F7-AC71-4EBA-AFCC-B41B9D1D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EAF5D-2366-400B-9521-79CA08CC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1581-8644-4E1C-9DE7-DF292F09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300D-2B68-4DE3-A8E1-7A83EE49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0FD-A0FC-4256-8BC3-721CD1D0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1A3F-1EA5-4E3C-8821-64891825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702-A220-44CB-A1D4-7FF4C1DC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D749-0023-47C1-B80B-ADCBDEC165DD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45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5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58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62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0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A2BA-FA16-4E3D-AC0B-5BAAB21A6C8D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DA40-1146-48CF-853A-4B28E4B4960C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171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172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86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90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94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98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202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20D0-C6E1-4A7F-B4F2-F0838967F08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gi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3" descr="omaya11"/>
          <p:cNvPicPr/>
          <p:nvPr/>
        </p:nvPicPr>
        <p:blipFill>
          <a:blip r:embed="rId1"/>
          <a:stretch/>
        </p:blipFill>
        <p:spPr>
          <a:xfrm>
            <a:off x="3962520" y="2590920"/>
            <a:ext cx="3600360" cy="23493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moking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99000"/>
          </a:bodyPr>
          <a:p>
            <a:pPr marL="339480" indent="-339480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1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-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Larynx cancer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: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2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-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Oesophageal Cancer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3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-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Oral Cancer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: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4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-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Stomach Cancer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5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-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Liver Cancer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6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-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Pancreas Cancer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7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-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Colorectal Cancer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8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-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Kidney Cancer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9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-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Blood Cancer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0" y="189000"/>
            <a:ext cx="6553080" cy="1152360"/>
          </a:xfrm>
          <a:prstGeom prst="wedgeRoundRectCallout">
            <a:avLst>
              <a:gd name="adj1" fmla="val -32217"/>
              <a:gd name="adj2" fmla="val 69972"/>
              <a:gd name="adj3" fmla="val 16667"/>
            </a:avLst>
          </a:prstGeom>
          <a:blipFill rotWithShape="0">
            <a:blip r:embed="rId2">
              <a:alphaModFix amt="98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Smoking increases the risk of the cancer in the following organs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2" descr="larynx-cancer-0704-b"/>
          <p:cNvPicPr/>
          <p:nvPr/>
        </p:nvPicPr>
        <p:blipFill>
          <a:blip r:embed="rId3"/>
          <a:stretch/>
        </p:blipFill>
        <p:spPr>
          <a:xfrm>
            <a:off x="5148360" y="1557360"/>
            <a:ext cx="31687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3" descr="imgPhotoEsophagealCancer"/>
          <p:cNvPicPr/>
          <p:nvPr/>
        </p:nvPicPr>
        <p:blipFill>
          <a:blip r:embed="rId4"/>
          <a:stretch/>
        </p:blipFill>
        <p:spPr>
          <a:xfrm>
            <a:off x="5796000" y="1773360"/>
            <a:ext cx="2527200" cy="2232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4" descr="stomach cancer"/>
          <p:cNvPicPr/>
          <p:nvPr/>
        </p:nvPicPr>
        <p:blipFill>
          <a:blip r:embed="rId5"/>
          <a:stretch/>
        </p:blipFill>
        <p:spPr>
          <a:xfrm>
            <a:off x="5508720" y="1773360"/>
            <a:ext cx="2539800" cy="2336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5" descr="Oral_Cancers_tongue"/>
          <p:cNvPicPr/>
          <p:nvPr/>
        </p:nvPicPr>
        <p:blipFill>
          <a:blip r:embed="rId6"/>
          <a:stretch/>
        </p:blipFill>
        <p:spPr>
          <a:xfrm>
            <a:off x="5219640" y="2133720"/>
            <a:ext cx="2951280" cy="2735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6" descr="liver cancer2"/>
          <p:cNvPicPr/>
          <p:nvPr/>
        </p:nvPicPr>
        <p:blipFill>
          <a:blip r:embed="rId7"/>
          <a:stretch/>
        </p:blipFill>
        <p:spPr>
          <a:xfrm>
            <a:off x="5148360" y="1773360"/>
            <a:ext cx="3240000" cy="2879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7" descr="PancreaticCancer"/>
          <p:cNvPicPr/>
          <p:nvPr/>
        </p:nvPicPr>
        <p:blipFill>
          <a:blip r:embed="rId8"/>
          <a:stretch/>
        </p:blipFill>
        <p:spPr>
          <a:xfrm>
            <a:off x="5003640" y="1916280"/>
            <a:ext cx="3168720" cy="27032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8" descr="Colorectal_cancer_endo_2"/>
          <p:cNvPicPr/>
          <p:nvPr/>
        </p:nvPicPr>
        <p:blipFill>
          <a:blip r:embed="rId9"/>
          <a:stretch/>
        </p:blipFill>
        <p:spPr>
          <a:xfrm>
            <a:off x="5580000" y="2421000"/>
            <a:ext cx="2592360" cy="2565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9" descr="kidney cancer"/>
          <p:cNvPicPr/>
          <p:nvPr/>
        </p:nvPicPr>
        <p:blipFill>
          <a:blip r:embed="rId10"/>
          <a:stretch/>
        </p:blipFill>
        <p:spPr>
          <a:xfrm>
            <a:off x="5364000" y="2565360"/>
            <a:ext cx="2808360" cy="23036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0" descr="blood cancer"/>
          <p:cNvPicPr/>
          <p:nvPr/>
        </p:nvPicPr>
        <p:blipFill>
          <a:blip r:embed="rId11"/>
          <a:stretch/>
        </p:blipFill>
        <p:spPr>
          <a:xfrm>
            <a:off x="4788000" y="2781360"/>
            <a:ext cx="3384360" cy="25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1" descr="smoking hazards"/>
          <p:cNvPicPr/>
          <p:nvPr/>
        </p:nvPicPr>
        <p:blipFill>
          <a:blip r:embed="rId12"/>
          <a:stretch/>
        </p:blipFill>
        <p:spPr>
          <a:xfrm>
            <a:off x="2340000" y="2205000"/>
            <a:ext cx="4824360" cy="3888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2" descr="Smoking_face_3"/>
          <p:cNvPicPr/>
          <p:nvPr/>
        </p:nvPicPr>
        <p:blipFill>
          <a:blip r:embed="rId13"/>
          <a:stretch/>
        </p:blipFill>
        <p:spPr>
          <a:xfrm>
            <a:off x="7020000" y="0"/>
            <a:ext cx="180000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6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Verdana"/>
              </a:rPr>
              <a:t>Chronic Horseness&amp;Laryngeal Polyps:</a:t>
            </a:r>
            <a:br>
              <a:rPr sz="3200"/>
            </a:b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Persistant horse voice&amp;Vocal cord polyps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</a:rPr>
              <a:t>Gum,Dental and Mouth Disease: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periodontal disease&amp;poor mouth hygiene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</a:rPr>
              <a:t>Stroke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6600cc"/>
                </a:solidFill>
                <a:latin typeface="Verdana"/>
              </a:rPr>
              <a:t>Atherosclerosis&amp;throbus formation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94" name="Picture 4" descr="showlettermh8[1]"/>
          <p:cNvPicPr/>
          <p:nvPr/>
        </p:nvPicPr>
        <p:blipFill>
          <a:blip r:embed="rId1"/>
          <a:stretch/>
        </p:blipFill>
        <p:spPr>
          <a:xfrm>
            <a:off x="7020000" y="1413000"/>
            <a:ext cx="2124000" cy="2160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stroke3"/>
          <p:cNvPicPr/>
          <p:nvPr/>
        </p:nvPicPr>
        <p:blipFill>
          <a:blip r:embed="rId2"/>
          <a:stretch/>
        </p:blipFill>
        <p:spPr>
          <a:xfrm>
            <a:off x="250920" y="4149720"/>
            <a:ext cx="2808360" cy="2158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stroke"/>
          <p:cNvPicPr/>
          <p:nvPr/>
        </p:nvPicPr>
        <p:blipFill>
          <a:blip r:embed="rId3"/>
          <a:stretch/>
        </p:blipFill>
        <p:spPr>
          <a:xfrm>
            <a:off x="3419640" y="3927600"/>
            <a:ext cx="2638440" cy="2597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stroke2"/>
          <p:cNvPicPr/>
          <p:nvPr/>
        </p:nvPicPr>
        <p:blipFill>
          <a:blip r:embed="rId4"/>
          <a:stretch/>
        </p:blipFill>
        <p:spPr>
          <a:xfrm>
            <a:off x="6222960" y="3716280"/>
            <a:ext cx="2705040" cy="2881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4954922"/>
          <p:cNvPicPr/>
          <p:nvPr/>
        </p:nvPicPr>
        <p:blipFill>
          <a:blip r:embed="rId5"/>
          <a:stretch/>
        </p:blipFill>
        <p:spPr>
          <a:xfrm>
            <a:off x="7524720" y="0"/>
            <a:ext cx="1619280" cy="1341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How Cigarette Smoking Damages the Lungs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1"/>
          <a:stretch/>
        </p:blipFill>
        <p:spPr>
          <a:xfrm>
            <a:off x="3398760" y="1600200"/>
            <a:ext cx="44798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COPD5"/>
          <p:cNvPicPr/>
          <p:nvPr/>
        </p:nvPicPr>
        <p:blipFill>
          <a:blip r:embed="rId1"/>
          <a:stretch/>
        </p:blipFill>
        <p:spPr>
          <a:xfrm>
            <a:off x="2362320" y="1600200"/>
            <a:ext cx="662940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92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e4005c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gradFill rotWithShape="0">
            <a:gsLst>
              <a:gs pos="0">
                <a:srgbClr val="e4005c"/>
              </a:gs>
              <a:gs pos="50000">
                <a:srgbClr val="00ffff"/>
              </a:gs>
              <a:gs pos="100000">
                <a:srgbClr val="e4005c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Miscarriage    2-Pre-mature Delivery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Stillbirth        4-Low Birth Weight     5-S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nicotine,carbon monoxide&amp;other harmful chemic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nters her blood stream, p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irectly into the baby’s body &amp;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revent the baby from getting essential nutrients&amp;Oxygen for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Oval 4"/>
          <p:cNvGrpSpPr/>
          <p:nvPr/>
        </p:nvGrpSpPr>
        <p:grpSpPr>
          <a:xfrm>
            <a:off x="-12600" y="-12600"/>
            <a:ext cx="6145200" cy="1323720"/>
            <a:chOff x="-12600" y="-12600"/>
            <a:chExt cx="6145200" cy="1323720"/>
          </a:xfrm>
        </p:grpSpPr>
        <p:pic>
          <p:nvPicPr>
            <p:cNvPr id="309" name="Oval 4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6145200" cy="13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896760" y="190440"/>
              <a:ext cx="4327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WordArt 6"/>
          <p:cNvSpPr txBox="1"/>
          <p:nvPr/>
        </p:nvSpPr>
        <p:spPr>
          <a:xfrm>
            <a:off x="179280" y="404640"/>
            <a:ext cx="589608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ffects of Smoking on Pregnancy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2" name="Picture 7" descr="Pregnant"/>
          <p:cNvPicPr/>
          <p:nvPr/>
        </p:nvPicPr>
        <p:blipFill>
          <a:blip r:embed="rId2"/>
          <a:stretch/>
        </p:blipFill>
        <p:spPr>
          <a:xfrm>
            <a:off x="7093080" y="0"/>
            <a:ext cx="1871640" cy="1989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pregnant smoker"/>
          <p:cNvPicPr/>
          <p:nvPr/>
        </p:nvPicPr>
        <p:blipFill>
          <a:blip r:embed="rId3"/>
          <a:stretch/>
        </p:blipFill>
        <p:spPr>
          <a:xfrm>
            <a:off x="971640" y="2565360"/>
            <a:ext cx="2017800" cy="1800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smoking &amp;pregnancy"/>
          <p:cNvPicPr/>
          <p:nvPr/>
        </p:nvPicPr>
        <p:blipFill>
          <a:blip r:embed="rId4"/>
          <a:stretch/>
        </p:blipFill>
        <p:spPr>
          <a:xfrm>
            <a:off x="5580000" y="2565360"/>
            <a:ext cx="2376720" cy="1655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4" descr="effect on foetus"/>
          <p:cNvPicPr/>
          <p:nvPr/>
        </p:nvPicPr>
        <p:blipFill>
          <a:blip r:embed="rId5"/>
          <a:stretch/>
        </p:blipFill>
        <p:spPr>
          <a:xfrm>
            <a:off x="3635280" y="2781360"/>
            <a:ext cx="1584360" cy="14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gradFill rotWithShape="0">
            <a:gsLst>
              <a:gs pos="0">
                <a:srgbClr val="c36c03"/>
              </a:gs>
              <a:gs pos="100000">
                <a:srgbClr val="5a3201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f the mother smokes, the baby is exposed to the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nicotine and other smoke poisons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from her breast milk.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Nicotine could cause numerous unwanted symptoms in the baby (such as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restlessness, a rapid heartbeat, vomiting, or diarrhea)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ffff"/>
                </a:solidFill>
                <a:uFillTx/>
                <a:latin typeface="Arial"/>
              </a:rPr>
              <a:t>*</a:t>
            </a:r>
            <a:r>
              <a:rPr b="1" lang="en-US" sz="2800" spc="-1" strike="noStrike" u="sng">
                <a:solidFill>
                  <a:srgbClr val="00ffff"/>
                </a:solidFill>
                <a:uFillTx/>
                <a:latin typeface="Arial"/>
              </a:rPr>
              <a:t>Smoking affects Oral Contraceptives</a:t>
            </a:r>
            <a:r>
              <a:rPr b="1" lang="en-US" sz="2800" spc="-1" strike="noStrike" u="sng">
                <a:solidFill>
                  <a:srgbClr val="00ffff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Women who are smoking&amp;using oral contraceptives are ten times more at risk of Heart attack&amp;Stroke compared to those who are smoking but not taking contracep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7"/>
          <p:cNvSpPr/>
          <p:nvPr/>
        </p:nvSpPr>
        <p:spPr>
          <a:xfrm>
            <a:off x="0" y="0"/>
            <a:ext cx="5400720" cy="1224000"/>
          </a:xfrm>
          <a:prstGeom prst="ellipse">
            <a:avLst/>
          </a:prstGeom>
          <a:gradFill rotWithShape="0">
            <a:gsLst>
              <a:gs pos="0">
                <a:srgbClr val="ffff00">
                  <a:alpha val="98039"/>
                </a:srgbClr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WordArt 11"/>
          <p:cNvSpPr txBox="1"/>
          <p:nvPr/>
        </p:nvSpPr>
        <p:spPr>
          <a:xfrm>
            <a:off x="395280" y="333360"/>
            <a:ext cx="4753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Tahoma"/>
              </a:rPr>
              <a:t>Effect of Smoking on Lactation</a:t>
            </a:r>
            <a:endParaRPr b="0" lang="en-US" sz="2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latin typeface="Tahoma"/>
              <a:ea typeface="Tahoma"/>
            </a:endParaRPr>
          </a:p>
        </p:txBody>
      </p:sp>
      <p:pic>
        <p:nvPicPr>
          <p:cNvPr id="320" name="Picture 13" descr="babysmoke"/>
          <p:cNvPicPr/>
          <p:nvPr/>
        </p:nvPicPr>
        <p:blipFill>
          <a:blip r:embed="rId2"/>
          <a:stretch/>
        </p:blipFill>
        <p:spPr>
          <a:xfrm>
            <a:off x="5580000" y="189000"/>
            <a:ext cx="1644840" cy="12096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5" descr="smoker woman"/>
          <p:cNvPicPr/>
          <p:nvPr/>
        </p:nvPicPr>
        <p:blipFill>
          <a:blip r:embed="rId3"/>
          <a:stretch/>
        </p:blipFill>
        <p:spPr>
          <a:xfrm>
            <a:off x="7885080" y="3141720"/>
            <a:ext cx="1116000" cy="2016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baby"/>
          <p:cNvPicPr/>
          <p:nvPr/>
        </p:nvPicPr>
        <p:blipFill>
          <a:blip r:embed="rId4"/>
          <a:stretch/>
        </p:blipFill>
        <p:spPr>
          <a:xfrm>
            <a:off x="7380360" y="189000"/>
            <a:ext cx="15112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Environmental Tobacco Smoke (ETS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819160" y="1066320"/>
            <a:ext cx="6172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stream – smoke drawn through tobacco while inh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de stream – smoke from the burning end of a cigarette or exhaled by a smo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untary or passive smokers – breath smoke from someone else’s smoking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out 10 nonsmoking Americans are exposed to 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74284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"/>
              </a:rPr>
              <a:t>Risks From E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743200" y="83772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destream smoke contains more carcinogenic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destream smoke has 2 times more tar and nicotine, 5 times more carbon monoxide, 50 times more amm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S is responsible for 3,000 lung cancer deaths, 35,000 CVD deaths, 13,000 deaths from other can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Protecting Yourself and Others from Secondhand Smoke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rcRect l="0" t="0" r="0" b="16886"/>
          <a:stretch/>
        </p:blipFill>
        <p:spPr>
          <a:xfrm>
            <a:off x="-228600" y="990720"/>
            <a:ext cx="937260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riteria for Nicotine dependency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361960" y="685440"/>
            <a:ext cx="6553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l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thdrawal symptoms when use dis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d in greater amounts over longer period of time than int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persistent desire or unsuccessful efforts to cut down or q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eat deal of time spent using the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 rot="20709000">
            <a:off x="360720" y="5346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ort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orte"/>
              </a:rPr>
              <a:t>nico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21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6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666520" y="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005c"/>
                </a:solidFill>
                <a:latin typeface="Castellar"/>
              </a:rPr>
              <a:t>Smoking</a:t>
            </a:r>
            <a:r>
              <a:rPr b="1" lang="en-US" sz="4400" spc="-1" strike="noStrike">
                <a:solidFill>
                  <a:srgbClr val="e4005c"/>
                </a:solidFill>
                <a:latin typeface="Castellar"/>
              </a:rPr>
              <a:t>……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666520" y="837720"/>
            <a:ext cx="6172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6600"/>
                </a:solidFill>
                <a:uFillTx/>
                <a:latin typeface="Elephant"/>
              </a:rPr>
              <a:t>Tobacco </a:t>
            </a:r>
            <a:r>
              <a:rPr b="0" lang="en-US" sz="3200" spc="-1" strike="noStrike">
                <a:solidFill>
                  <a:srgbClr val="ff6600"/>
                </a:solidFill>
                <a:latin typeface="Elephant"/>
              </a:rPr>
              <a:t> has been known and used for centuries</a:t>
            </a:r>
            <a:r>
              <a:rPr b="0" lang="en-US" sz="3200" spc="-1" strike="noStrike">
                <a:solidFill>
                  <a:srgbClr val="ff6600"/>
                </a:solidFill>
                <a:latin typeface="Elephan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It can be snuff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It can be chew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It can be placed between gum&amp; lips;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It can be smok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6600"/>
                </a:solidFill>
                <a:latin typeface="Arial"/>
              </a:rPr>
              <a:t>Criteria for Nicotine dependency</a:t>
            </a:r>
            <a:r>
              <a:rPr b="1" lang="en-GB" sz="3600" spc="-1" strike="noStrike">
                <a:solidFill>
                  <a:srgbClr val="ff66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742840" y="1371600"/>
            <a:ext cx="6095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iving up important social, </a:t>
            </a:r>
            <a:r>
              <a:rPr b="0" i="1" lang="en-GB" sz="3200" spc="-1" strike="noStrike">
                <a:solidFill>
                  <a:srgbClr val="ff6600"/>
                </a:solidFill>
                <a:latin typeface="Arial"/>
              </a:rPr>
              <a:t>occupation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, or recreational activities because of use of the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tinued use despite knowledge of medical problems related to use and/or social&amp; legal problems resulting from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666520" y="151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Withdrawal of nicotine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590560" y="838080"/>
            <a:ext cx="65530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t refers to the cessation of nicotine use by an individual in whom dependence is establi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en the use of products containing nicotine is stopped abruptly, </a:t>
            </a:r>
            <a:r>
              <a:rPr b="0" i="1" lang="en-GB" sz="3200" spc="-1" strike="noStrike">
                <a:solidFill>
                  <a:srgbClr val="ff99ff"/>
                </a:solidFill>
                <a:latin typeface="Arial"/>
              </a:rPr>
              <a:t>within 24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hours the user will likely experience maximal physical and/or psychological withdrawal sympt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 rot="19981200">
            <a:off x="359280" y="565200"/>
            <a:ext cx="135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ort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orte"/>
              </a:rPr>
              <a:t>nicot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6600"/>
                </a:solidFill>
                <a:latin typeface="Arial"/>
              </a:rPr>
              <a:t>Criteria for Nicotine withdrawal syndr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514600" y="1295280"/>
            <a:ext cx="6934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ysphoric or depressed m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som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rritability, frustration, and 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fficulty concent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tles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reased hear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creased appetite or weight 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ravings for tobac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 rot="21141000">
            <a:off x="255600" y="74916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ort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orte"/>
              </a:rPr>
              <a:t>nico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21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1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33 L 0.125 -0.16667 L 0.158 -0.04533 L 0.249 0 L 0.158 0.04533 L 0.125 0.16667 L 0.091 0.04533 L 0 0 Z">
                                      <p:cBhvr>
                                        <p:cTn id="472" dur="2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33 L 0.125 -0.16667 L 0.158 -0.04533 L 0.249 0 L 0.158 0.04533 L 0.125 0.16667 L 0.091 0.04533 L 0 0 Z">
                                      <p:cBhvr>
                                        <p:cTn id="476" dur="2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33 L 0.125 -0.16667 L 0.158 -0.04533 L 0.249 0 L 0.158 0.04533 L 0.125 0.16667 L 0.091 0.04533 L 0 0 Z">
                                      <p:cBhvr>
                                        <p:cTn id="480" dur="2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33 L 0.125 -0.16667 L 0.158 -0.04533 L 0.249 0 L 0.158 0.04533 L 0.125 0.16667 L 0.091 0.04533 L 0 0 Z">
                                      <p:cBhvr>
                                        <p:cTn id="484" dur="2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33 L 0.125 -0.16667 L 0.158 -0.04533 L 0.249 0 L 0.158 0.04533 L 0.125 0.16667 L 0.091 0.04533 L 0 0 Z">
                                      <p:cBhvr>
                                        <p:cTn id="488" dur="2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33 L 0.125 -0.16667 L 0.158 -0.04533 L 0.249 0 L 0.158 0.04533 L 0.125 0.16667 L 0.091 0.04533 L 0 0 Z">
                                      <p:cBhvr>
                                        <p:cTn id="492" dur="2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33 L 0.125 -0.16667 L 0.158 -0.04533 L 0.249 0 L 0.158 0.04533 L 0.125 0.16667 L 0.091 0.04533 L 0 0 Z">
                                      <p:cBhvr>
                                        <p:cTn id="496" dur="2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33 L 0.125 -0.16667 L 0.158 -0.04533 L 0.249 0 L 0.158 0.04533 L 0.125 0.16667 L 0.091 0.04533 L 0 0 Z">
                                      <p:cBhvr>
                                        <p:cTn id="500" dur="2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33 L 0.125 -0.16667 L 0.158 -0.04533 L 0.249 0 L 0.158 0.04533 L 0.125 0.16667 L 0.091 0.04533 L 0 0 Z">
                                      <p:cBhvr>
                                        <p:cTn id="504" dur="2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74284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600" spc="-1" strike="noStrike">
                <a:solidFill>
                  <a:srgbClr val="ff6600"/>
                </a:solidFill>
                <a:latin typeface="Arial"/>
              </a:rPr>
              <a:t>Criteria for Nicotine withdrawal syndrome</a:t>
            </a:r>
            <a:r>
              <a:rPr b="0" lang="en-GB" sz="32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438280" y="114300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A-D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ost symptoms diminish over a </a:t>
            </a:r>
            <a:r>
              <a:rPr b="0" i="1" lang="en-GB" sz="3200" spc="-1" strike="noStrike">
                <a:solidFill>
                  <a:srgbClr val="ff99ff"/>
                </a:solidFill>
                <a:latin typeface="Arial"/>
              </a:rPr>
              <a:t>few weeks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99ff"/>
                </a:solidFill>
                <a:latin typeface="Arial"/>
              </a:rPr>
              <a:t>Relapse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is common within </a:t>
            </a:r>
            <a:r>
              <a:rPr b="0" i="1" lang="en-GB" sz="3200" spc="-1" strike="noStrike">
                <a:solidFill>
                  <a:srgbClr val="ff99ff"/>
                </a:solidFill>
                <a:latin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99ff"/>
                </a:solidFill>
                <a:latin typeface="Arial"/>
              </a:rPr>
              <a:t>week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when the withdrawal symptoms are at pea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99ff"/>
                </a:solidFill>
                <a:latin typeface="Arial"/>
              </a:rPr>
              <a:t>Cravings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for tobacco, </a:t>
            </a:r>
            <a:r>
              <a:rPr b="0" i="1" lang="en-GB" sz="3200" spc="-1" strike="noStrike">
                <a:solidFill>
                  <a:srgbClr val="ff99ff"/>
                </a:solidFill>
                <a:latin typeface="Arial"/>
              </a:rPr>
              <a:t>increased appetite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i="1" lang="en-GB" sz="3200" spc="-1" strike="noStrike">
                <a:solidFill>
                  <a:srgbClr val="ff99ff"/>
                </a:solidFill>
                <a:latin typeface="Arial"/>
              </a:rPr>
              <a:t>weight gai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may persist for months or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 rot="20577600">
            <a:off x="544680" y="647280"/>
            <a:ext cx="12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orte"/>
              </a:rPr>
              <a:t>Nicotine</a:t>
            </a:r>
            <a:r>
              <a:rPr b="1" lang="en-US" sz="18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21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11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666520" y="-3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"/>
              </a:rPr>
              <a:t>Quitt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2743200" y="761760"/>
            <a:ext cx="6400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otine replacement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e g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e p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al sp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e inha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Recommended Therapies for Smoking Cessation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346" name="Picture 4" descr=""/>
          <p:cNvPicPr/>
          <p:nvPr/>
        </p:nvPicPr>
        <p:blipFill>
          <a:blip r:embed="rId1"/>
          <a:srcRect l="0" t="0" r="0" b="44072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rcRect l="0" t="54243" r="0" b="0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"/>
          <p:cNvPicPr/>
          <p:nvPr/>
        </p:nvPicPr>
        <p:blipFill>
          <a:blip r:embed="rId2"/>
          <a:srcRect l="0" t="0" r="0" b="93341"/>
          <a:stretch/>
        </p:blipFill>
        <p:spPr>
          <a:xfrm>
            <a:off x="0" y="685800"/>
            <a:ext cx="914400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Benefits Of Quitting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743200" y="685440"/>
            <a:ext cx="6400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issues damaged by smoking can repair themselves in the absence of sm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ways are cleared of muc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lation impr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s of taste and smell are rest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end of 10 smoke-free years, the ex-smoker can expect to live a normal life s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005c"/>
                </a:solidFill>
                <a:latin typeface="Castellar"/>
              </a:rPr>
              <a:t>Smoking</a:t>
            </a:r>
            <a:r>
              <a:rPr b="1" lang="en-US" sz="4400" spc="-1" strike="noStrike">
                <a:solidFill>
                  <a:srgbClr val="e4005c"/>
                </a:solidFill>
                <a:latin typeface="Castellar"/>
              </a:rPr>
              <a:t>……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666520" y="1143000"/>
            <a:ext cx="6172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36c03"/>
                </a:solidFill>
                <a:latin typeface="Elephant"/>
              </a:rPr>
              <a:t>The most popular method of tobacco use is smoking</a:t>
            </a:r>
            <a:r>
              <a:rPr b="0" lang="en-US" sz="4000" spc="-1" strike="noStrike">
                <a:solidFill>
                  <a:srgbClr val="c36c03"/>
                </a:solidFill>
                <a:latin typeface="Arial"/>
              </a:rPr>
              <a:t>→ cigarett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ecame popular in the early 1900s-before this time tobacco was usually chewed or smoked in pipe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nnual Deaths Attributable to Smoking in the United States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3497400" y="1600200"/>
            <a:ext cx="428292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Tobacco Produc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666880" y="685440"/>
            <a:ext cx="6477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gar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gars – contains 23 poisons, 43 carcin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is – small hand-rolled, flavored cigarettes, contain 3 times more CO and nicotine, and 5 times more tar than cigar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keless tobac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wing tobac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u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Elephant"/>
              </a:rPr>
              <a:t>Effects of tobacco smoking</a:t>
            </a:r>
            <a:r>
              <a:rPr b="1" lang="en-US" sz="4000" spc="-1" strike="noStrike">
                <a:solidFill>
                  <a:srgbClr val="ff6600"/>
                </a:solidFill>
                <a:latin typeface="Elephant"/>
              </a:rPr>
              <a:t>: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666880" y="19810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The primary drug in tobacco is</a:t>
            </a: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 </a:t>
            </a:r>
            <a:r>
              <a:rPr b="0" lang="en-US" sz="3600" spc="-1" strike="noStrike">
                <a:solidFill>
                  <a:srgbClr val="c36c03"/>
                </a:solidFill>
                <a:latin typeface="Elephant"/>
              </a:rPr>
              <a:t>nicot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There is 1-2 mg nicotine in one cigarette and 90% of this amount being absorbed when inhal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Tobacco And Its Effec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742840" y="837720"/>
            <a:ext cx="6248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ke contains 4,700 chemical sub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e – chemical stimu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e impairs the cleansing function of c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 – condensed particulate matter from smoke that accumulates in the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enols – chemical irritant in smoke that may combine with other chemicals to contribute to the development of lung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monoxide – tobacco smoke contains 800 times the level considered safe by the U.S.E.P.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Physiological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Effects Of Nicotine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743200" y="761760"/>
            <a:ext cx="6400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e is a powerful central nervous system stimu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e increases heart and respiratory rates, constricts blood vessels, and raises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e decreases blood sugar levels and increase hu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e poisoning sympto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zz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head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pu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u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Health Hazards Of Smok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743200" y="761760"/>
            <a:ext cx="6400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vascular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let adhes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nic bronch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ys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al dys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m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00:02:58Z</dcterms:created>
  <dc:creator>Customer</dc:creator>
  <dc:description/>
  <dc:language>en-US</dc:language>
  <cp:lastModifiedBy>ksu</cp:lastModifiedBy>
  <dcterms:modified xsi:type="dcterms:W3CDTF">2012-03-06T06:43:15Z</dcterms:modified>
  <cp:revision>245</cp:revision>
  <dc:subject/>
  <dc:title>Epilepsy…</dc:title>
</cp:coreProperties>
</file>