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17.gif" ContentType="image/gif"/>
  <Override PartName="/ppt/media/image21.png" ContentType="image/png"/>
  <Override PartName="/ppt/media/image19.png" ContentType="image/png"/>
  <Override PartName="/ppt/media/image26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18.jpeg" ContentType="image/jpeg"/>
  <Override PartName="/ppt/media/image22.gif" ContentType="image/gif"/>
  <Override PartName="/ppt/media/image33.jpeg" ContentType="image/jpeg"/>
  <Override PartName="/ppt/media/image6.png" ContentType="image/png"/>
  <Override PartName="/ppt/media/image25.png" ContentType="image/png"/>
  <Override PartName="/ppt/media/image32.gif" ContentType="image/gif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astour" initials="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0-12-24T23:45:19.109000000" idx="1">
    <p:pos x="1786" y="3138"/>
    <p:text>],om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1852-8F31-4897-A3BE-FF61EC0540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esced 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لتئ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CA17-3673-42F9-8443-BDD75AAED3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ving up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يستسلم أو يتخلى ع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9EDA-F1FA-4528-9FB6-F9634D7FB8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xiety</a:t>
            </a: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 قل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E.P.A: US environmental pollution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ness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تصا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ysema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نتفا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ysfunction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عط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795-672A-46A1-A28D-8D8EEA3E5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4BF-45C9-49B1-ABE1-2767C5F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B0AA-31A1-487F-B2C8-9D352485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1EC-2B1B-48A6-B837-45030D82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3FF4-BA42-4316-8047-9BA6835C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B5A4-BA79-4E2B-88DB-A8716B3D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FDE-9A78-41D8-82E0-A42BED3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48F0-B565-4709-B478-03D7E587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2B95-8408-44FE-AF9E-0B856D69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4EA5-4256-49C2-9960-428D1B7E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2350-888A-4D65-846F-64776B15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68B-264A-4C37-909E-028D5E3B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C0B1-7F11-49F1-B5B1-3D8DF0A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BC5D-D9F1-41BE-A979-C1396087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D139-E6F6-40CD-B1D0-1C7E3934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1D5-E41A-4B37-8059-B9E51AE0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CBB0-94C0-4080-8862-68F613AA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239BE-F38D-4B44-8135-C2F24946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0D50-A9D3-42F1-9F8A-AD3B72E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49D2-A1D1-42DF-A90B-84A237A2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5502-6937-4EB8-9C26-92C94137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E81B-4959-4AC3-B158-18C8F3E1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BEE-1867-425D-80C8-C31EFF11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997B9-2A99-4E7F-B130-D86FE090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7AB8-AF8F-437C-AC41-75ADA904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4D863-5A02-4D6B-8971-5A5B39FA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5DF3A-FC9F-4F86-8568-551F95B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2BD4-2D39-4D81-9307-E3807239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8543-A376-4A7C-9B68-71CFBB81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5600-2C9E-4A40-8292-9833652E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21238-4CBB-4D40-913A-35CC43E2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B1AD8-16C8-4CAB-8CE5-71D79210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A3D71-EA2B-46F4-A4AB-FB5C60A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3DB-502E-469B-A420-36E67D9F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9C76-04FA-4E55-8FA9-2711476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D4B6-303D-4D0D-B02D-57C1BDA3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8EB58-B9D1-4C51-A763-3C28E941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21AE-54BA-4637-8CE1-630D533E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CB22C-4FC2-466E-B605-4506D7C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9D4B-F1AD-48F0-BE9C-F070C9EE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7B5F-1D84-495E-98ED-B0E4C57A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A525-9B1A-4A32-B980-9D0E644E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AC878-E496-4EFB-AE42-DC7EA946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A7A-D82A-4BB4-A652-92B10B53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A5A-DEFD-4782-8AE2-74E61D1E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A084-90FF-4E1B-814F-91B8A0C3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7176-78E8-4345-9C44-CCC5BA56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C2A-450F-4E59-8401-AB59516F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D0E3-4E4A-4F14-922E-360F94F0E66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5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8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2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0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4BBC-C541-437C-9DD7-CDFD567C319A}" type="slidenum">
              <a:rPr b="0" lang="ar-SA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161B-A593-4F10-89D6-6BA1AF84F94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71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172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86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90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94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98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202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11A2-0557-45BF-BA9D-319D6EBF1C1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gi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3" descr="omaya11"/>
          <p:cNvPicPr/>
          <p:nvPr/>
        </p:nvPicPr>
        <p:blipFill>
          <a:blip r:embed="rId1"/>
          <a:stretch/>
        </p:blipFill>
        <p:spPr>
          <a:xfrm>
            <a:off x="3962520" y="2590920"/>
            <a:ext cx="3600360" cy="2349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oking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 fontScale="99000"/>
          </a:bodyPr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1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Larynx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Oesophageal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3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Oral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Stomach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5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Liver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6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Pancreas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7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Colorectal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8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Kidney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9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-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Blood Cancer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0" y="189000"/>
            <a:ext cx="6553080" cy="1152360"/>
          </a:xfrm>
          <a:prstGeom prst="wedgeRoundRectCallout">
            <a:avLst>
              <a:gd name="adj1" fmla="val -32217"/>
              <a:gd name="adj2" fmla="val 69972"/>
              <a:gd name="adj3" fmla="val 16667"/>
            </a:avLst>
          </a:prstGeom>
          <a:blipFill rotWithShape="0">
            <a:blip r:embed="rId2">
              <a:alphaModFix amt="98000"/>
            </a:blip>
            <a:srcRect/>
            <a:stretch/>
          </a:blip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Smoking increases the risk of the cancer in the following organs</a:t>
            </a:r>
            <a:r>
              <a:rPr b="0" lang="en-US" sz="1800" spc="-1" strike="noStrike">
                <a:solidFill>
                  <a:srgbClr val="0000ff"/>
                </a:solidFill>
                <a:latin typeface="Tahoma"/>
                <a:ea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2" descr="larynx-cancer-0704-b"/>
          <p:cNvPicPr/>
          <p:nvPr/>
        </p:nvPicPr>
        <p:blipFill>
          <a:blip r:embed="rId3"/>
          <a:stretch/>
        </p:blipFill>
        <p:spPr>
          <a:xfrm>
            <a:off x="5148360" y="155736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3" descr="imgPhotoEsophagealCancer"/>
          <p:cNvPicPr/>
          <p:nvPr/>
        </p:nvPicPr>
        <p:blipFill>
          <a:blip r:embed="rId4"/>
          <a:stretch/>
        </p:blipFill>
        <p:spPr>
          <a:xfrm>
            <a:off x="5796000" y="1773360"/>
            <a:ext cx="2527200" cy="2232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4" descr="stomach cancer"/>
          <p:cNvPicPr/>
          <p:nvPr/>
        </p:nvPicPr>
        <p:blipFill>
          <a:blip r:embed="rId5"/>
          <a:stretch/>
        </p:blipFill>
        <p:spPr>
          <a:xfrm>
            <a:off x="5508720" y="1773360"/>
            <a:ext cx="2539800" cy="2336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5" descr="Oral_Cancers_tongue"/>
          <p:cNvPicPr/>
          <p:nvPr/>
        </p:nvPicPr>
        <p:blipFill>
          <a:blip r:embed="rId6"/>
          <a:stretch/>
        </p:blipFill>
        <p:spPr>
          <a:xfrm>
            <a:off x="5219640" y="2133720"/>
            <a:ext cx="2951280" cy="2735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liver cancer2"/>
          <p:cNvPicPr/>
          <p:nvPr/>
        </p:nvPicPr>
        <p:blipFill>
          <a:blip r:embed="rId7"/>
          <a:stretch/>
        </p:blipFill>
        <p:spPr>
          <a:xfrm>
            <a:off x="5148360" y="1773360"/>
            <a:ext cx="324000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PancreaticCancer"/>
          <p:cNvPicPr/>
          <p:nvPr/>
        </p:nvPicPr>
        <p:blipFill>
          <a:blip r:embed="rId8"/>
          <a:stretch/>
        </p:blipFill>
        <p:spPr>
          <a:xfrm>
            <a:off x="5003640" y="1916280"/>
            <a:ext cx="3168720" cy="2703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8" descr="Colorectal_cancer_endo_2"/>
          <p:cNvPicPr/>
          <p:nvPr/>
        </p:nvPicPr>
        <p:blipFill>
          <a:blip r:embed="rId9"/>
          <a:stretch/>
        </p:blipFill>
        <p:spPr>
          <a:xfrm>
            <a:off x="5580000" y="2421000"/>
            <a:ext cx="2592360" cy="25653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9" descr="kidney cancer"/>
          <p:cNvPicPr/>
          <p:nvPr/>
        </p:nvPicPr>
        <p:blipFill>
          <a:blip r:embed="rId10"/>
          <a:stretch/>
        </p:blipFill>
        <p:spPr>
          <a:xfrm>
            <a:off x="5364000" y="2565360"/>
            <a:ext cx="2808360" cy="2303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0" descr="blood cancer"/>
          <p:cNvPicPr/>
          <p:nvPr/>
        </p:nvPicPr>
        <p:blipFill>
          <a:blip r:embed="rId11"/>
          <a:stretch/>
        </p:blipFill>
        <p:spPr>
          <a:xfrm>
            <a:off x="4788000" y="2781360"/>
            <a:ext cx="3384360" cy="25207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1" descr="smoking hazards"/>
          <p:cNvPicPr/>
          <p:nvPr/>
        </p:nvPicPr>
        <p:blipFill>
          <a:blip r:embed="rId12"/>
          <a:stretch/>
        </p:blipFill>
        <p:spPr>
          <a:xfrm>
            <a:off x="2340000" y="2205000"/>
            <a:ext cx="4824360" cy="388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2" descr="Smoking_face_3"/>
          <p:cNvPicPr/>
          <p:nvPr/>
        </p:nvPicPr>
        <p:blipFill>
          <a:blip r:embed="rId13"/>
          <a:stretch/>
        </p:blipFill>
        <p:spPr>
          <a:xfrm>
            <a:off x="7020000" y="0"/>
            <a:ext cx="18000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Verdana"/>
              </a:rPr>
              <a:t>Chronic Horseness&amp;Laryngeal Polyps:</a:t>
            </a:r>
            <a:br>
              <a:rPr sz="3200"/>
            </a:b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Persistant horse voice&amp;Vocal cord polyps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Gum,Dental and Mouth Disease: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periodontal disease&amp;poor mouth hygiene</a:t>
            </a:r>
            <a:br>
              <a:rPr sz="2800"/>
            </a:br>
            <a:br>
              <a:rPr sz="2800"/>
            </a:br>
            <a:r>
              <a:rPr b="1" lang="en-US" sz="2800" spc="-1" strike="noStrike" u="sng">
                <a:solidFill>
                  <a:srgbClr val="0000ff"/>
                </a:solidFill>
                <a:uFillTx/>
                <a:latin typeface="Verdana"/>
              </a:rPr>
              <a:t>Stroke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6600cc"/>
                </a:solidFill>
                <a:latin typeface="Verdana"/>
              </a:rPr>
              <a:t>Atherosclerosis&amp;throbus formation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94" name="Picture 4" descr="showlettermh8[1]"/>
          <p:cNvPicPr/>
          <p:nvPr/>
        </p:nvPicPr>
        <p:blipFill>
          <a:blip r:embed="rId1"/>
          <a:stretch/>
        </p:blipFill>
        <p:spPr>
          <a:xfrm>
            <a:off x="7020000" y="1413000"/>
            <a:ext cx="2124000" cy="21603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stroke3"/>
          <p:cNvPicPr/>
          <p:nvPr/>
        </p:nvPicPr>
        <p:blipFill>
          <a:blip r:embed="rId2"/>
          <a:stretch/>
        </p:blipFill>
        <p:spPr>
          <a:xfrm>
            <a:off x="250920" y="4149720"/>
            <a:ext cx="2808360" cy="2158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stroke"/>
          <p:cNvPicPr/>
          <p:nvPr/>
        </p:nvPicPr>
        <p:blipFill>
          <a:blip r:embed="rId3"/>
          <a:stretch/>
        </p:blipFill>
        <p:spPr>
          <a:xfrm>
            <a:off x="3419640" y="3927600"/>
            <a:ext cx="2638440" cy="2597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stroke2"/>
          <p:cNvPicPr/>
          <p:nvPr/>
        </p:nvPicPr>
        <p:blipFill>
          <a:blip r:embed="rId4"/>
          <a:stretch/>
        </p:blipFill>
        <p:spPr>
          <a:xfrm>
            <a:off x="6222960" y="3716280"/>
            <a:ext cx="2705040" cy="2881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4954922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34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How Cigarette Smoking Damages the Lung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3398760" y="1600200"/>
            <a:ext cx="4479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COPD5"/>
          <p:cNvPicPr/>
          <p:nvPr/>
        </p:nvPicPr>
        <p:blipFill>
          <a:blip r:embed="rId1"/>
          <a:stretch/>
        </p:blipFill>
        <p:spPr>
          <a:xfrm>
            <a:off x="2362320" y="1600200"/>
            <a:ext cx="66294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92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4005c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gradFill rotWithShape="0">
            <a:gsLst>
              <a:gs pos="0">
                <a:srgbClr val="e4005c"/>
              </a:gs>
              <a:gs pos="50000">
                <a:srgbClr val="00ffff"/>
              </a:gs>
              <a:gs pos="100000">
                <a:srgbClr val="e4005c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Miscarriage    2-Pre-mature Delivery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Stillbirth        4-Low Birth Weight     5-S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icotine,carbon monoxide&amp;other harmful chemica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nters her blood stream, p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irectly into the baby’s body &amp;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revent the baby from getting essential nutrients&amp;Oxygen for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Oval 4"/>
          <p:cNvGrpSpPr/>
          <p:nvPr/>
        </p:nvGrpSpPr>
        <p:grpSpPr>
          <a:xfrm>
            <a:off x="-12600" y="-12600"/>
            <a:ext cx="6145200" cy="1323720"/>
            <a:chOff x="-12600" y="-12600"/>
            <a:chExt cx="6145200" cy="1323720"/>
          </a:xfrm>
        </p:grpSpPr>
        <p:pic>
          <p:nvPicPr>
            <p:cNvPr id="309" name="Oval 4" descr=""/>
            <p:cNvPicPr/>
            <p:nvPr/>
          </p:nvPicPr>
          <p:blipFill>
            <a:blip r:embed="rId1"/>
            <a:stretch/>
          </p:blipFill>
          <p:spPr>
            <a:xfrm>
              <a:off x="-12600" y="-12600"/>
              <a:ext cx="614520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896760" y="190440"/>
              <a:ext cx="4327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WordArt 6"/>
          <p:cNvSpPr txBox="1"/>
          <p:nvPr/>
        </p:nvSpPr>
        <p:spPr>
          <a:xfrm>
            <a:off x="179280" y="404640"/>
            <a:ext cx="589608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ffects of Smoking on Pregnancy</a:t>
            </a:r>
            <a:endParaRPr b="0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2" name="Picture 7" descr="Pregnant"/>
          <p:cNvPicPr/>
          <p:nvPr/>
        </p:nvPicPr>
        <p:blipFill>
          <a:blip r:embed="rId2"/>
          <a:stretch/>
        </p:blipFill>
        <p:spPr>
          <a:xfrm>
            <a:off x="7093080" y="0"/>
            <a:ext cx="1871640" cy="1989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pregnant smoker"/>
          <p:cNvPicPr/>
          <p:nvPr/>
        </p:nvPicPr>
        <p:blipFill>
          <a:blip r:embed="rId3"/>
          <a:stretch/>
        </p:blipFill>
        <p:spPr>
          <a:xfrm>
            <a:off x="971640" y="2565360"/>
            <a:ext cx="2017800" cy="1800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smoking &amp;pregnancy"/>
          <p:cNvPicPr/>
          <p:nvPr/>
        </p:nvPicPr>
        <p:blipFill>
          <a:blip r:embed="rId4"/>
          <a:stretch/>
        </p:blipFill>
        <p:spPr>
          <a:xfrm>
            <a:off x="5580000" y="256536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effect on foetus"/>
          <p:cNvPicPr/>
          <p:nvPr/>
        </p:nvPicPr>
        <p:blipFill>
          <a:blip r:embed="rId5"/>
          <a:stretch/>
        </p:blipFill>
        <p:spPr>
          <a:xfrm>
            <a:off x="3635280" y="2781360"/>
            <a:ext cx="1584360" cy="143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gradFill rotWithShape="0">
            <a:gsLst>
              <a:gs pos="0">
                <a:srgbClr val="c36c03"/>
              </a:gs>
              <a:gs pos="100000">
                <a:srgbClr val="5a3201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f the mother smokes, the baby is exposed to the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nicotine and other smoke poisons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rom her breast milk.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Nicotine could cause numerous unwanted symptoms in the baby (such as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estlessness, a rapid heartbeat, vomiting, or diarrhea)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*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Smoking affects Oral Contraceptives</a:t>
            </a:r>
            <a:r>
              <a:rPr b="1" lang="en-US" sz="2800" spc="-1" strike="noStrike" u="sng">
                <a:solidFill>
                  <a:srgbClr val="00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Women who are smoking&amp;using oral contraceptives are ten times more at risk of Heart attack&amp;Stroke compared to those who are smoking but not taking contracep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0" y="0"/>
            <a:ext cx="5400720" cy="1224000"/>
          </a:xfrm>
          <a:prstGeom prst="ellipse">
            <a:avLst/>
          </a:prstGeom>
          <a:gradFill rotWithShape="0">
            <a:gsLst>
              <a:gs pos="0">
                <a:srgbClr val="ffff00">
                  <a:alpha val="98039"/>
                </a:srgbClr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1"/>
          <p:cNvSpPr txBox="1"/>
          <p:nvPr/>
        </p:nvSpPr>
        <p:spPr>
          <a:xfrm>
            <a:off x="395280" y="333360"/>
            <a:ext cx="475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Effect of Smoking on Lactation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320" name="Picture 13" descr="babysmoke"/>
          <p:cNvPicPr/>
          <p:nvPr/>
        </p:nvPicPr>
        <p:blipFill>
          <a:blip r:embed="rId2"/>
          <a:stretch/>
        </p:blipFill>
        <p:spPr>
          <a:xfrm>
            <a:off x="5580000" y="189000"/>
            <a:ext cx="1644840" cy="12096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5" descr="smoker woman"/>
          <p:cNvPicPr/>
          <p:nvPr/>
        </p:nvPicPr>
        <p:blipFill>
          <a:blip r:embed="rId3"/>
          <a:stretch/>
        </p:blipFill>
        <p:spPr>
          <a:xfrm>
            <a:off x="7885080" y="3141720"/>
            <a:ext cx="1116000" cy="201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baby"/>
          <p:cNvPicPr/>
          <p:nvPr/>
        </p:nvPicPr>
        <p:blipFill>
          <a:blip r:embed="rId4"/>
          <a:stretch/>
        </p:blipFill>
        <p:spPr>
          <a:xfrm>
            <a:off x="7380360" y="189000"/>
            <a:ext cx="151128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Environmental Tobacco Smoke (ETS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819160" y="10663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stream – smoke drawn through tobacco while in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stream – smoke from the burning end of a cigarette or exhaled by a sm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untary or passive smokers – breath smoke from someone else’s smokin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out 10 nonsmoking Americans are exposed to 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"/>
              </a:rPr>
              <a:t>Risks From E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43200" y="83772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stream smoke contains more carcinoge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stream smoke has 2 times more tar and nicotine, 5 times more carbon monoxide, 50 times more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S is responsible for 3,000 lung cancer deaths, 35,000 CVD deaths, 13,000 deaths from other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Protecting Yourself and Others from Secondhand Smok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rcRect l="0" t="0" r="0" b="16886"/>
          <a:stretch/>
        </p:blipFill>
        <p:spPr>
          <a:xfrm>
            <a:off x="-228600" y="990720"/>
            <a:ext cx="93726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riteria for Nicotine dependency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361960" y="685440"/>
            <a:ext cx="6553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le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drawal symptoms when use dis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in greater amounts over longer period of time than in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ersistent desire or unsuccessful efforts to cut down or q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great deal of time spent using th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 rot="20709000">
            <a:off x="360720" y="53460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1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63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Smoking</a:t>
            </a: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……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666520" y="837720"/>
            <a:ext cx="6172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Elephant"/>
              </a:rPr>
              <a:t>Tobacco </a:t>
            </a:r>
            <a:r>
              <a:rPr b="0" lang="en-US" sz="3200" spc="-1" strike="noStrike">
                <a:solidFill>
                  <a:srgbClr val="ff6600"/>
                </a:solidFill>
                <a:latin typeface="Elephant"/>
              </a:rPr>
              <a:t> has been known and used for centuries</a:t>
            </a:r>
            <a:r>
              <a:rPr b="0" lang="en-US" sz="3200" spc="-1" strike="noStrike">
                <a:solidFill>
                  <a:srgbClr val="ff6600"/>
                </a:solidFill>
                <a:latin typeface="Elephan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snuffed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chew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placed between gum&amp; lips;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It can be smo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Criteria for Nicotine dependency</a:t>
            </a: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742840" y="1371600"/>
            <a:ext cx="6095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ing up important social, </a:t>
            </a:r>
            <a:r>
              <a:rPr b="0" i="1" lang="en-GB" sz="3200" spc="-1" strike="noStrike">
                <a:solidFill>
                  <a:srgbClr val="ff6600"/>
                </a:solidFill>
                <a:latin typeface="Arial"/>
              </a:rPr>
              <a:t>occupation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or recreational activities because of use of the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inued use despite knowledge of medical problems related to use and/or social&amp; legal problems resulting from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Withdrawal of nicotin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590560" y="838080"/>
            <a:ext cx="6553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 refers to the cessation of nicotine use by an individual in whom dependence is establis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When the use of products containing nicotine is stopped abruptly,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within 24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hours the user will likely experience maximal physical and/or psychological withdrawal symp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 rot="19981200">
            <a:off x="359280" y="565200"/>
            <a:ext cx="135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1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Criteria for Nicotine withdrawal syndrom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4600" y="1295280"/>
            <a:ext cx="6934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ysphoric or depressed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rritability, frustration, and 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fficulty concent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st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reased hear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creased appetite or weight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ravings for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 rot="21141000">
            <a:off x="255600" y="74916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1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1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73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77" dur="2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81" dur="2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85" dur="2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89" dur="2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93" dur="2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497" dur="2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501" dur="2000" fill="hold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33 L 0.125 -0.16667 L 0.158 -0.04533 L 0.249 0 L 0.158 0.04533 L 0.125 0.16667 L 0.091 0.04533 L 0 0 Z">
                                      <p:cBhvr>
                                        <p:cTn id="505" dur="2000" fill="hold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428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600" spc="-1" strike="noStrike">
                <a:solidFill>
                  <a:srgbClr val="ff6600"/>
                </a:solidFill>
                <a:latin typeface="Arial"/>
              </a:rPr>
              <a:t>Criteria for Nicotine withdrawal syndrome</a:t>
            </a: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438280" y="11430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A-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ost symptoms diminish over a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few week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Relaps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is common within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week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when the withdrawal symptoms are at pea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Craving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for tobacco,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increased appetit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GB" sz="3200" spc="-1" strike="noStrike">
                <a:solidFill>
                  <a:srgbClr val="ff99ff"/>
                </a:solidFill>
                <a:latin typeface="Arial"/>
              </a:rPr>
              <a:t>weight gai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may persist for months o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 rot="20577600">
            <a:off x="544680" y="647280"/>
            <a:ext cx="121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Nicotine</a:t>
            </a:r>
            <a:r>
              <a:rPr b="1" lang="en-US" sz="18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21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512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"/>
              </a:rPr>
              <a:t>Quitt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74320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tine replacemen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g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al sp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nha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Recommended Therapies for Smoking Cessation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46" name="Picture 4" descr=""/>
          <p:cNvPicPr/>
          <p:nvPr/>
        </p:nvPicPr>
        <p:blipFill>
          <a:blip r:embed="rId1"/>
          <a:srcRect l="0" t="0" r="0" b="44072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rcRect l="0" t="54243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2"/>
          <a:srcRect l="0" t="0" r="0" b="93341"/>
          <a:stretch/>
        </p:blipFill>
        <p:spPr>
          <a:xfrm>
            <a:off x="0" y="685800"/>
            <a:ext cx="914400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Benefits Of Quitting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743200" y="68544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issues damaged by smoking can repair themselves in the absence of sm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ways are cleared of muc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tion im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s of taste and smell are rest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10 smoke-free years, the ex-smoker can expect to live a normal lif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Smoking</a:t>
            </a:r>
            <a:r>
              <a:rPr b="1" lang="en-US" sz="4400" spc="-1" strike="noStrike">
                <a:solidFill>
                  <a:srgbClr val="e4005c"/>
                </a:solidFill>
                <a:latin typeface="Castellar"/>
              </a:rPr>
              <a:t>……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666520" y="1143000"/>
            <a:ext cx="6172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36c03"/>
                </a:solidFill>
                <a:latin typeface="Elephant"/>
              </a:rPr>
              <a:t>The most popular method of tobacco use is smoking</a:t>
            </a:r>
            <a:r>
              <a:rPr b="0" lang="en-US" sz="4000" spc="-1" strike="noStrike">
                <a:solidFill>
                  <a:srgbClr val="c36c03"/>
                </a:solidFill>
                <a:latin typeface="Arial"/>
              </a:rPr>
              <a:t>→ cigaret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ecame popular in the early 1900s-before this time tobacco was usually chewed or smoked in pip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nual Deaths Attributable to Smoking in the United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3497400" y="1600200"/>
            <a:ext cx="428292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obacco Produc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666880" y="685440"/>
            <a:ext cx="6477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gars – contains 23 poisons, 43 carcin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s – small hand-rolled, flavored cigarettes, contain 3 times more CO and nicotine, and 5 times more tar than cigar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less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wing toba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Elephant"/>
              </a:rPr>
              <a:t>Effects of tobacco smoking</a:t>
            </a:r>
            <a:r>
              <a:rPr b="1" lang="en-US" sz="4000" spc="-1" strike="noStrike">
                <a:solidFill>
                  <a:srgbClr val="ff6600"/>
                </a:solidFill>
                <a:latin typeface="Elephant"/>
              </a:rPr>
              <a:t>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666880" y="1981080"/>
            <a:ext cx="647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The primary drug in tobacco is</a:t>
            </a: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 </a:t>
            </a:r>
            <a:r>
              <a:rPr b="0" lang="en-US" sz="3600" spc="-1" strike="noStrike">
                <a:solidFill>
                  <a:srgbClr val="c36c03"/>
                </a:solidFill>
                <a:latin typeface="Elephant"/>
              </a:rPr>
              <a:t>nicoti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There is 1-2 mg nicotine in one cigarette and 90% of this amount being absorbed when inhal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obacco And Its Effec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742840" y="837720"/>
            <a:ext cx="6248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e contains 4,700 chemical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– chemical stimu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mpairs the cleansing function of c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 – condensed particulate matter from smoke that accumulates in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ls – chemical irritant in smoke that may combine with other chemicals to contribute to the development of lung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monoxide – tobacco smoke contains 800 times the level considered safe by the U.S.E.P.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hysiological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Effects Of Nicotin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4320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s a powerful central nervous system stimu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increases heart and respiratory rates, constricts blood vessels, and raises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decreases blood sugar levels and increase 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ine poisoning sympt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zz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head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u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971440" y="-36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Health Hazards Of Smoking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743200" y="761760"/>
            <a:ext cx="6400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 adhe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bronch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hys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al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m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0:02:58Z</dcterms:created>
  <dc:creator>Customer</dc:creator>
  <dc:description/>
  <dc:language>en-US</dc:language>
  <cp:lastModifiedBy>ksu</cp:lastModifiedBy>
  <dcterms:modified xsi:type="dcterms:W3CDTF">2012-03-06T06:43:15Z</dcterms:modified>
  <cp:revision>245</cp:revision>
  <dc:subject/>
  <dc:title>Epilepsy…</dc:title>
</cp:coreProperties>
</file>