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BEE3-E4AA-4608-88E8-9387FF513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83FC-1CAE-430F-9E4F-76DE21573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A4CC-0369-4F6B-AA99-919F0777A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CBA0-C236-45C3-9BBE-16B269E93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7BC1-144D-4810-B377-5A4817AA4B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68F0-DE6C-40F8-A433-26D037E7A4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AA29-66AA-4B0D-BD39-A500E885B8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F85F-64AC-49C9-A025-C88D0DB3E2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AEF6F-DC6B-4E72-8E3B-09EA327C15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DB92-A478-4A38-8259-92AE18277F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C2D9-0C8A-403D-8E90-469C0A3770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9425-54E6-4C50-9F44-8E1598389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C25E-EDF9-4386-A3FD-C8DF9EE256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712E-344E-420F-B158-DE814D4436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207A-58B4-4B8A-904E-6F7A6A2462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370A-02DC-4CFC-8FB9-7FDB19EEC5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E79A-1741-464F-A18A-8E7646F7BE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493-002C-4B30-93A5-71D207E7EF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A15-47D8-4617-B470-9EDB18D1B8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4A7-4F09-464F-A61C-EE98C70A2B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E16-CEFF-4D96-8394-CAF5D26D1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066-1ED9-4379-9A5A-72955DDEB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467C-F2F6-4B7D-A455-7B8CBF606D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E75-0D80-4088-A126-DB3D625E3F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014-BAC5-445B-9418-4D503213A2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D20-FE48-46D1-9EDF-EF3F7784AD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F16-E0D0-4E50-98F4-C62500BD94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111-12FD-41FC-B8B8-3AFDF9E9E1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345-BC80-4645-968B-C758303D8B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918-CBB4-4F37-AF98-E102E48219E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78DAE-0EC8-4599-BCCD-8FDDB57AC5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BA073-AFCC-4A9C-B05E-BDF58F1710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2123F-3480-45F7-A6CC-B38C00E5A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8DBA-048E-4BB2-A2D6-91041FEA52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CEB6A-5945-4177-8511-C537147006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69E5A-0A9B-47A2-AAC9-EC2906339F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B3CC8-2220-40D4-BFC1-8EE5ADD1F1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B5906-927F-4F20-B007-B003800347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620AA-29A5-442A-82D6-5020D966EC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27CEB-F232-479D-9EBD-D9FA457292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FB9F9-527A-4A0D-A422-646B9EB96E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2B208-1525-4269-9D0A-A019859D9B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D0D6-3B4A-4E24-9790-BFA96CD6C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CBC7-7D5B-4CBC-8979-554E1E71A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A42B-0648-4D1F-9096-36A8CA512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D3CA-E890-414F-A570-726F92744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E297-C268-4507-A82B-32AA53E07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8F6D-434B-4C50-A418-5A227DD97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84C7-3ED2-44B4-9B45-62E0FFD66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19F9-5D48-4129-A87B-8F68FEA6C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55B0-EDC2-4CE8-82D7-3093E3044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7E00-20BA-4FD5-BFC8-C6040DE69F3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BF2-7B2F-4ABD-A6DF-2247658ECAD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y into subclasses representing job rol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8" name="Picture 9" descr="DS3-Figure 12-02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916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3D8-8F3B-4343-BBD8-81DC2A93386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pecialization/generalization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y into job roles and contracts of employment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9" descr="DS3-Figure 12-03"/>
          <p:cNvPicPr/>
          <p:nvPr/>
        </p:nvPicPr>
        <p:blipFill>
          <a:blip r:embed="rId1"/>
          <a:stretch/>
        </p:blipFill>
        <p:spPr>
          <a:xfrm>
            <a:off x="380880" y="1447920"/>
            <a:ext cx="8229600" cy="475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9D66-CA5F-4102-89C2-EB90C96C877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ER diagram with shared subclass and subclass with its own subclas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9" descr="DS3-Figure 12-04"/>
          <p:cNvPicPr/>
          <p:nvPr/>
        </p:nvPicPr>
        <p:blipFill>
          <a:blip r:embed="rId1"/>
          <a:stretch/>
        </p:blipFill>
        <p:spPr>
          <a:xfrm>
            <a:off x="533520" y="1447920"/>
            <a:ext cx="6705360" cy="5011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A855-966A-4AD1-85B0-EFEE23AA189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72812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constraints that may apply to a specialization/generaliz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 constraints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 constrain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4DD9-F965-4968-A5DB-5F84311256C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on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every member in superclass must participate as a 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ember of a subclas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y be </a:t>
            </a:r>
            <a:r>
              <a:rPr b="1" i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datory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r </a:t>
            </a:r>
            <a:r>
              <a:rPr b="1" i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onal</a:t>
            </a: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 constrai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relationship between members of the subclasses and indicates whether member of a superclass can be a member of one, or more than one, subclas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y be 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joint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r </a:t>
            </a:r>
            <a:r>
              <a:rPr b="1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ndisjoint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8CB-01C8-496F-A269-04BEAF4355B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e are four categories of constraints of specialization and gener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mandatory and 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Mandatory, 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optional and 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Optional, 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mandatory and nondisjoint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mandatory, An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optional and nondisjoint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</a:t>
            </a:r>
            <a:r>
              <a:rPr b="0" lang="en-AU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MS PGothic"/>
              </a:rPr>
              <a:t> (Optional, An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43C-AEF0-48D5-935B-142910A9D7F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Staff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uperviso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2" name="Picture 5" descr="C12NF05"/>
          <p:cNvPicPr/>
          <p:nvPr/>
        </p:nvPicPr>
        <p:blipFill>
          <a:blip r:embed="rId1"/>
          <a:srcRect l="31801" t="-930" r="0" b="0"/>
          <a:stretch/>
        </p:blipFill>
        <p:spPr>
          <a:xfrm>
            <a:off x="826920" y="1557360"/>
            <a:ext cx="6985080" cy="4773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681F-E47F-40C0-8F5C-29FDA6958D0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Business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6" name="Picture 4" descr="DS3-Figure 12-06"/>
          <p:cNvPicPr/>
          <p:nvPr/>
        </p:nvPicPr>
        <p:blipFill>
          <a:blip r:embed="rId1"/>
          <a:stretch/>
        </p:blipFill>
        <p:spPr>
          <a:xfrm>
            <a:off x="1447920" y="1752480"/>
            <a:ext cx="5790960" cy="4017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20A-448F-41E4-84E8-315B5A4E048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DreamHome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worked example - Person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perclass with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Staff, PrivateOwner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, and 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28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subclasses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0" name="Picture 5" descr="C12NF07"/>
          <p:cNvPicPr/>
          <p:nvPr/>
        </p:nvPicPr>
        <p:blipFill>
          <a:blip r:embed="rId1"/>
          <a:srcRect l="0" t="-1154" r="29571" b="0"/>
          <a:stretch/>
        </p:blipFill>
        <p:spPr>
          <a:xfrm>
            <a:off x="1476360" y="1484280"/>
            <a:ext cx="5200560" cy="49910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6498-145A-495D-9518-99D5AE2F5D1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3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80408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imitations of basic concepts of the ER model and requirements to represent more complex applications using additional data modeling concept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st useful additional data modeling concept of Enhanced ER (EER) model is called specialization/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diagrammatic technique for displaying specialization/generalizationin an EER diagram using UM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0FD-15FB-4A92-B8FF-F2364E8F9B0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ce 1980s there has been an increase in emergence of new database applications with more demanding requir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ic concepts of ER modeling are not sufficient to represent requirements of newer, more complex applic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sponse is development of additional ‘semantic’ modeling concep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AB9-5684-4A56-AB76-F465037948B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Enhanced Entity-Relationship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mantic concepts are incorporated into the original ER model and called the Enhanced Entity-Relationship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amples of additional concept of EER model is called specialization / general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864-BE01-4FC3-86B2-D60101AC3EC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per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 entity type that includes one or more distinct subgroupings of its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distinct subgrouping of occurrences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entity may be classified as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alesPersonne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creta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-Staff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is superclas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Manager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SalesPersonnel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Secretary are subcla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755A-85F3-4EC7-AC66-A8762045B32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relationship between a supercalss and any one of its subclasses is is called a Superclass/subclas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ple: Staff/Manager has a Superclass/subclass  relationshi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perclass/subclass relationship is one-to-one (1:1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Superclass may contain overlapping or distinct subclass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t all members of a superclass need be a member of a subcla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1AFE-A236-427B-A98B-AD67A97E1B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n entity in a subclass represents same ‘real world’ object as in superclass, and may possess subclass-specific attributes, as well as those associated with the superclas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2CD-6942-4E0E-8D55-193342C8885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llStaff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 holding details of all staff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0" name="Picture 3" descr="DS3-Figure 12-01"/>
          <p:cNvPicPr/>
          <p:nvPr/>
        </p:nvPicPr>
        <p:blipFill>
          <a:blip r:embed="rId1"/>
          <a:stretch/>
        </p:blipFill>
        <p:spPr>
          <a:xfrm>
            <a:off x="457200" y="1447920"/>
            <a:ext cx="8153280" cy="40669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A4F7-0F2C-46A6-8372-B9314F0A90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pecialization /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pecializatio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cess of maximizing differences between members of an entity by identifying their distinguishing characteristic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op-down approach to define a set of superclasses and their related subc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cess of minimizing differences between entities by identifying their common characteristic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bottom-up approa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2 of textbook
Database Systems: A Practical Approach to Design, Implementation, and Management</dc:description>
  <dc:language>en-US</dc:language>
  <cp:lastModifiedBy>Sahar Bayoumi</cp:lastModifiedBy>
  <cp:lastPrinted>1998-06-24T16:37:58Z</cp:lastPrinted>
  <dcterms:modified xsi:type="dcterms:W3CDTF">2015-02-16T12:42:13Z</dcterms:modified>
  <cp:revision>90</cp:revision>
  <dc:subject>Database Systems</dc:subject>
  <dc:title>Chapter 12</dc:title>
</cp:coreProperties>
</file>