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F200-9D10-45C7-9541-E32967F57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68D7-6A0F-43FF-A0EA-0D8FA1313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0B32-8C88-446F-8633-9588A7D29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A82F-9CF6-4A01-96E4-511353CD6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CDB4-675E-40B1-9F3B-6DF7745C19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8910-2F15-4A1E-88F4-B011174EF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9E2A-BE09-4F77-A447-A8113B976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4FF5-3000-4724-A4B5-312429CA2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1ECE-7BD1-4370-8301-7F96CEAE8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5BEC-2AA7-402F-8498-9A7385FE5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8739-8E43-410B-A572-09B01E3C64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D59C-818B-4628-9367-33B0D2D0B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2D4B-73D4-40C2-A9DF-AEADC75437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1CB9-8CC4-4944-90B1-B88386C0DA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1C53-4BF6-4344-B3DD-76082447FF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4089-3EE8-4393-AF81-D12BC4D25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732D-2CF1-4180-B24E-0B9DBDB5CB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252-326E-4672-A421-328312653F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4C3-6A86-4ABD-B227-82203F684C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62B-590D-4042-9F43-217BC09C1F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301-F141-48A2-B88A-84FCBB2D4A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39C-058E-489E-BAB3-942407397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CF21-8B4A-44F8-9926-657E00196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22D-626C-4231-B316-E849541C74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E67-D80A-432C-AA52-4098954BDA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6A7-D3C3-4ABF-BB6D-883638EA39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2D4-B4D9-495F-A389-E5186D1D39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335-F744-4ADE-8C78-79DFA43F43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7D6-A29B-4498-B49E-D59A2B2E49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0D3-455A-4DA0-ABAC-60D85F4B76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A46B-42C9-4FE8-82D9-3150C6C665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F497C-5E88-4C11-95D0-E76099A858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6A5ED-544D-4491-8EBC-1EF1B33B0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6349-9B0E-46BE-8696-AE819BA482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1EA2B-0D52-41A1-A377-11997EF330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0AAF8-C420-47C0-828F-94F3916AE2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233AD-F380-4200-8784-7024199975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22A31-F05E-4695-AFB5-07B36D77D2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13586-CB9D-49C3-B6F8-F4B2151E47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384AB-41A0-4211-B425-09E3D371E5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02A3C-D7BD-4F9B-9184-DC64340CA0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F3680-0430-4F5F-B185-B9796F9A30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79F9D-722D-4C3A-B82D-71300C939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A482-12D6-408E-8EBE-A7F4294D3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DAA3-0DC3-46C8-B68F-95D58285D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97AC-D6F9-4EF4-BA5E-98303A33C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DDE5-E71A-4AAB-BE87-1BC3CBA3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AA2B-42CB-4186-9CB6-3269467DC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063-5A86-410C-8023-C2662C87D2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1B2-4276-431F-80E5-948CFDCC7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167-A129-4E78-95DC-E3CB48CD1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5AC-24DE-4348-A152-963063C6881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09C-4DFD-4836-9215-B40D7EE93F3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y into subclasses representing job rol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9" descr="DS3-Figure 12-02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16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ED95-9DFC-4C35-9CB9-CD24E0DFCCF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y into job roles and contracts of employment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9" descr="DS3-Figure 12-03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75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51D-C19D-40AA-B76F-B0A6A5BC3D8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ER diagram with shared subclass and subclass with its own subcla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9" descr="DS3-Figure 12-04"/>
          <p:cNvPicPr/>
          <p:nvPr/>
        </p:nvPicPr>
        <p:blipFill>
          <a:blip r:embed="rId1"/>
          <a:stretch/>
        </p:blipFill>
        <p:spPr>
          <a:xfrm>
            <a:off x="533520" y="1447920"/>
            <a:ext cx="6705360" cy="5011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C336-DBA2-4A03-B72A-796FF67B795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constraints that may apply to a specialization/generaliz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constraints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 constrain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3DE-641D-4E7C-BD90-DCE88BE6398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every member in superclass must participate as a 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ember of a subclas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y be </a:t>
            </a:r>
            <a:r>
              <a:rPr b="1" i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datory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r </a:t>
            </a:r>
            <a:r>
              <a:rPr b="1" i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onal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 constrai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relationship between members of the subclasses and indicates whether member of a superclass can be a member of one, or more than one, subclas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y be 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r 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ndisjoint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1FF-40B7-4699-A006-6CF904F7B6F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e are four categories of constraints of specialization and gener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mandatory and 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Mandatory, 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optional and 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Optional, 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mandatory and non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mandatory, An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optional and nondisjoint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Optional, An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57F-5531-4876-90E4-CD269497A3D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Staff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o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2" name="Picture 5" descr="C12NF05"/>
          <p:cNvPicPr/>
          <p:nvPr/>
        </p:nvPicPr>
        <p:blipFill>
          <a:blip r:embed="rId1"/>
          <a:srcRect l="31801" t="-930" r="0" b="0"/>
          <a:stretch/>
        </p:blipFill>
        <p:spPr>
          <a:xfrm>
            <a:off x="826920" y="1557360"/>
            <a:ext cx="6985080" cy="4773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4A8-6CF5-406B-8384-D7E66CF4979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Business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6" name="Picture 4" descr="DS3-Figure 12-06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017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C3C-D0A6-4113-8FD3-53543739182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Person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taff, 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,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0" name="Picture 5" descr="C12NF07"/>
          <p:cNvPicPr/>
          <p:nvPr/>
        </p:nvPicPr>
        <p:blipFill>
          <a:blip r:embed="rId1"/>
          <a:srcRect l="0" t="-1154" r="29571" b="0"/>
          <a:stretch/>
        </p:blipFill>
        <p:spPr>
          <a:xfrm>
            <a:off x="1476360" y="1484280"/>
            <a:ext cx="5200560" cy="4991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7E3F-A38C-45CE-8368-EFB2DA2ECC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3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80408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imitations of basic concepts of the ER model and requirements to represent more complex applications using additional data modeling concep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st useful additional data modeling concept of Enhanced ER (EER) model is called specialization/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diagrammatic technique for displaying specialization/generalizationin an EER diagram using UM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EE95-A490-40EB-AEFC-E0F9F5CA8D3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ce 1980s there has been an increase in emergence of new database applications with more demanding requir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ic concepts of ER modeling are not sufficient to represent requirements of newer, more complex appl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ponse is development of additional ‘semantic’ modeling concep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93A-C899-4939-A3B7-3F5F667581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 concepts are incorporated into the original ER model and called the Enhanced Entity-Relationship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amples of additional concept of EER model is called specialization / 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E40A-7BEA-4095-B810-002B50634AC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 entity type that includes one or more distinct subgroupings of its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distinct subgrouping of occurrences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entity may be classified as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alesPersonne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creta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-Staff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is supercla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SalesPersonnel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Secretary are subcla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4F3-EDFD-4536-97EE-71257149118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relationship between a supercalss and any one of its subclasses is is called a Superclass/subclas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ple: Staff/Manager has a Superclass/subclass  relationshi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perclass/subclass relationship is one-to-one (1:1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uperclass may contain overlapping or distinct subclass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t all members of a superclass need be a member of a subcla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B9F-ACC3-47CF-8C79-F761B52A909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 entity in a subclass represents same ‘real world’ object as in superclass, and may possess subclass-specific attributes, as well as those associated with the superclas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583C-A9CE-4226-88BA-1CFB98445E7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ll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 holding details of all staff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0" name="Picture 3" descr="DS3-Figure 12-01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4066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D67D-1F0A-44F6-ABA3-90B4ECF2677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pecializatio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cess of maximizing differences between members of an entity by identifying their distinguishing characteristic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op-down approach to define a set of superclasses and their related subc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cess of minimizing differences between entities by identifying their common characteristic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bottom-up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2 of textbook
Database Systems: A Practical Approach to Design, Implementation, and Management</dc:description>
  <dc:language>en-US</dc:language>
  <cp:lastModifiedBy>Sahar Bayoumi</cp:lastModifiedBy>
  <cp:lastPrinted>1998-06-24T16:37:58Z</cp:lastPrinted>
  <dcterms:modified xsi:type="dcterms:W3CDTF">2015-02-16T12:42:13Z</dcterms:modified>
  <cp:revision>90</cp:revision>
  <dc:subject>Database Systems</dc:subject>
  <dc:title>Chapter 12</dc:title>
</cp:coreProperties>
</file>