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F6A3-7C87-46E6-8693-65DBB7D9D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20FE-BB8F-4B9E-B6B9-2242C485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1F94-37C5-4043-8536-12F8723C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DC9E-D140-4F77-9B80-A53F90C0E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9B68-F34C-4DF6-85B1-C2BD4018D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4033-C40F-413D-B259-F041E98A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674D-1B44-464C-BA2B-DF66B8B5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6FA3-62C3-44FD-8EA6-73E3471F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620B-2C9B-46D2-A214-C7C97503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4822-B3B4-4988-B2F4-18D6A1ED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0E1A-7E3D-48D0-B831-5843D4FE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1952-0DAA-44F7-82E4-2FE2F7CD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ED60-5C44-4160-BC07-84FE4CE3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1B88-EADC-4429-8E64-11D440F2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172C-5763-470D-A762-110E9CBD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18F5-C61A-4E7B-951A-7B07A9F25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0957-B676-4E02-ADEC-9D3D0A2D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0F0ED-65F8-47EB-80B3-37EFF3CD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3973F-F416-4F8A-B4E6-57DB17C7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15AA1-08FF-4EA2-BF09-6880CBF4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9F4D2-D0BA-48AF-BDAD-E5274CA7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28538-5E05-4D06-AFE5-84FA3C74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51AA-C3CF-44A0-8347-22A63176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FE219-1147-4313-AD2E-4076C16D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B65C8-A6F9-4012-BF22-D4451AA4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559FA-278E-477F-81AF-8B395A4D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C9FBD-185D-42A1-A751-F16D0852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C25A0-1DC1-4F22-A899-C163B8C2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9F45C-8368-4EA4-9021-D0936132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BF24E-9D93-43DC-B5BF-CBCFA4763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4459A-B9E5-4F40-98D5-21B7B4A1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2B6DD-E7D5-4F16-820C-6444290F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D47EF-E777-43D1-B2C5-0E977E76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9812-5FC2-4A09-BBBD-B2D8F64B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BD3E8-AC14-4C84-9EB3-35B3D40D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F45AC-06A6-43DD-8096-EE24A6AD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327E8-CE9C-4186-9B6E-77BC1D9A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CD8EC-2173-4B2A-9D19-BCBFBBA7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63C6E-ABCD-4B01-883E-3DF165FB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FC7F8-A720-4858-A4D4-2A0EFC7B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D79FA-D4CA-42E7-8107-91869869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0F493-87E8-4344-9102-301B18E1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25469-8DCD-4149-B21C-58790AB1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BA0B-9603-474F-8179-514AAA6B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1AB7-4D54-45E9-B4EF-F0202753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8453-4639-43ED-A698-ED027754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1947-6114-497A-ADE8-0C14E9C4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D1FD-A6EF-4E6A-94EC-3DD10CA2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D67D-CD15-4F89-AB5B-B39E0E374EAF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B55E-DABA-46CD-8BC3-7A70BD1CB395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AF13-052D-46A6-A899-D55F42EBE77D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F3D1-E962-4080-9BA5-F79FFCAA8F1B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493560" y="35388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286000"/>
            <a:ext cx="7854840" cy="2695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stellar"/>
              </a:rPr>
              <a:t>Parenteral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stellar"/>
              </a:rPr>
              <a:t>quality control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50920" y="148428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90840" indent="-690840" algn="ctr">
              <a:lnSpc>
                <a:spcPct val="13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USP Rabbit Pyrogen Test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690840" indent="-690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Result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90840" indent="-6908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emperature decreases are considered as zero ris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90840" indent="-6908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f no rabbit shows an individual tempe rise of  0.5 C or more above its control temperature, the product meets the requirements for the absence of pyrogen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90840" indent="-6908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f any rabbit shows an individual temperature rise of 0.5 or more,continue the test using five other rabbits.I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not more than thre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of the eight rabbits show individual rises in temperature of 0.5 or more and if the sum of the eight individual maximum temperature rises do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not exceed 3.3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,the material under examination meets the requirements for the absence of pyrogens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698400" indent="-698400" algn="ctr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nstantia"/>
              </a:rPr>
              <a:t>B. Human Cell-Based Pyrogen Test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698400" indent="-69840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yrogens induce human monocytes to release pro-inflammatory cytokines such as Interleukin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98400" indent="-69840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est methods include incubation of a test sample with monocytes in whole blood or in cultured cell lines and analysis of a specific cytokine after a suitable tim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79280" y="148428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90840" indent="-69084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C. Bacterial Endotoxins Test (LAL Test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90840" indent="-690840">
              <a:lnSpc>
                <a:spcPct val="16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 Limulus amebocyte lysate (LAL) reagent is the basis for an in vitro pyrogen test method that is specific for bacterial endotoxin pyroge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90840" indent="-690840">
              <a:lnSpc>
                <a:spcPct val="16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LAL reagent was obtained horseshoe crab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14200" y="1500120"/>
            <a:ext cx="54295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83280" indent="-68328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C. Bacterial Endotoxins Test (LAL Tes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83280" indent="-683280">
              <a:lnSpc>
                <a:spcPct val="14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qual volumes of test solution and LAL reagent are mixed in glass test tubes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83280" indent="-683280">
              <a:lnSpc>
                <a:spcPct val="14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fter incubation at 37 C for 1 h, the tubes are observed for clot formation after inverting them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83280" indent="-683280">
              <a:lnSpc>
                <a:spcPct val="14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ormation of a solid gel clot that withstands inversion of the tube constitutes a positive test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5715000" y="1500120"/>
            <a:ext cx="32860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 algn="just">
              <a:lnSpc>
                <a:spcPct val="13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Since erythrocytes have a diameter of approximately 4.5 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m, particles of more than 5 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m should be the basis for evaluation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3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The unaided eye can see particles approximately 50 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m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3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1" lang="en-US" sz="3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1" lang="en-US" sz="3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particles can be seen by the light scattered from them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Full batch inspecti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ight obscuration particle count te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Microscopic particle count te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713160" indent="-713160" algn="ctr">
              <a:lnSpc>
                <a:spcPct val="14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nstantia"/>
              </a:rPr>
              <a:t>Full batch inspection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713160" indent="-713160">
              <a:lnSpc>
                <a:spcPct val="14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00% batch inspection is recommended by GMP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13160" indent="-713160">
              <a:lnSpc>
                <a:spcPct val="14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on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70120" indent="-493560">
              <a:lnSpc>
                <a:spcPct val="14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y human inspection for all the unit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70120" indent="-493560">
              <a:lnSpc>
                <a:spcPct val="14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under a good light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70120" indent="-493560">
              <a:lnSpc>
                <a:spcPct val="14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nd against a black and white backgroun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13160" indent="-713160">
              <a:lnSpc>
                <a:spcPct val="14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utomated inspection machines are also</a:t>
            </a: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 used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78080" indent="-478080" algn="ctr">
              <a:lnSpc>
                <a:spcPct val="14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nstantia"/>
              </a:rPr>
              <a:t>B. Light obscuration particle count test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lnSpc>
                <a:spcPct val="14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Use a suitable apparatus based on the principle of light blockage which allows an automatic determination of the size of particles and the number of particles according to size. 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lnSpc>
                <a:spcPct val="14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A shadow casts by the particle as it passes through a high intensity light beam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98960" indent="-498960" algn="ctr"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nstantia"/>
              </a:rPr>
              <a:t>B. Light obscuration particle count test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Mix the contents of the sample by slowly inverting the container 20 times successively.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If necessary, cautiously remove the sealing closure. Clean the outer surfaces of the container opening using a jet of particle-free water and remove the closure, avoiding any contamination of the contents.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98960" indent="-498960" algn="ctr">
              <a:lnSpc>
                <a:spcPct val="15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nstantia"/>
              </a:rPr>
              <a:t>B. Light obscuration particle count tes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For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large-volume parenterals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, single units are tested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For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small-volume parenterals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 less than 25 ml in volume: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5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ontents of  10 or more units are combined in a cleaned container to obtain a volume of not less than 25 ml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5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 diluting to 25 ml with particle-free water or with an appropriate particle-free solvent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Powders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 for parenteral use are reconstituted with particle-free water or with an appropriate particle-free solvent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renteral Quality Control Tes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4 main tests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terility test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yrogen test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articulate matter  test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ackage integrity test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04000" indent="-50400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. Microscopic particle count tes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04000" indent="-50400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sample is filtered through a membrane filter under ultra clean condition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4000" indent="-50400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laced under   a suitable binocular microscope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4000" indent="-50400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unt the number of particles that are equal to or greater than 10 μm and the number of particles that are equal to or greater than 25 μ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D- Package integr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>
              <a:lnSpc>
                <a:spcPct val="15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Bubble tes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Dye Challenge tes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Microbial Challenge tes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Particulate Transmissi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D- Package integr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 algn="ctr">
              <a:lnSpc>
                <a:spcPct val="14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1. Bubble test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4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package is submerged in water or other suitable clear, colorless solvent.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4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 vacuum is exerted on the test syste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4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 package is examined visually for evidence of gaseous leakage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D- Package integr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2. Dye Challenge tes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 algn="just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ontainers are Immersed in a Dye Solution (1% methylene blue solution)  and Subjected to Pressure or  Vacuum Variance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D- Package integr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 algn="ctr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3. Microbial Challenge test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3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ntainers are Immersed in a Microbial Suspension (Pressure Differential) or Containers are Subjected to a Microbial Aerosol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3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cubat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.B.: Container Contents Must Support Microbial Growth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D- Package integr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4. Particulate Transmissi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packages are placed in a chamber and subjected to a charged aerosolized dust.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units are removed from the chamber and examined for dust entry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A- Sterility testing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embrane filtration sterility test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irect transfer sterility test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Product flush sterility test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A- Steril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14200" y="1356840"/>
            <a:ext cx="878688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 algn="ctr">
              <a:lnSpc>
                <a:spcPct val="13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embrane filtration sterility test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icroorganisms will be collected on the surface of a 0.45 micron pore size filter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ashing the filters with fluids to remove inhibitory properties  (Bacteriostatic / Fungistatic properties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s filter is segmented and transferred to appropriate media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06480" indent="-514440">
              <a:lnSpc>
                <a:spcPct val="15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luid thioglycollate medium (FTM): support the growth of anaerobic and aerobic microorganism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06480" indent="-514440">
              <a:lnSpc>
                <a:spcPct val="15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oybean casein digest medium (SCDM)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upport a wide range of aerobic bacteria and fungi (i.e. yeasts and molds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incubation time is 7 day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A- Steril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08000" y="1197000"/>
            <a:ext cx="87868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09040" indent="-509040" algn="ctr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nstantia"/>
              </a:rPr>
              <a:t>2. Direct transfer sterility testing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thod of choice for medical de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test article is completely immersed in the test med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lete immersion recommended: 2500 mL Max. Volu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transferring, the samples are incubated for 14 day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alibri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A- Steril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14200" y="1356840"/>
            <a:ext cx="878688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 algn="ctr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3. Product flush sterility test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commended for transfusion and infusion assemblies that indicate a sterile fluid pathway that cannot be cu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products are flushed with flui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elute is membrane filtered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filter is placed into med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is method is not generally use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14200" y="1500120"/>
            <a:ext cx="878688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USP Rabbit Pyrogen Te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uman Cell-Based Pyrogen Te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Bacterial Endotoxins Test (LAL Test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14200" y="1500120"/>
            <a:ext cx="878688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735480" indent="-735480" algn="ctr">
              <a:lnSpc>
                <a:spcPct val="13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USP Rabbit Pyrogen Te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735480" indent="-735480">
              <a:lnSpc>
                <a:spcPct val="15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Rabbits show a physiological response to pyrogen similar to humans.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735480" indent="-735480">
              <a:lnSpc>
                <a:spcPct val="15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Not valid for products that could mask the test by having a physiological effect on the rabbit.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735480" indent="-735480">
              <a:lnSpc>
                <a:spcPct val="13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 algn="ctr">
              <a:lnSpc>
                <a:spcPct val="13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USP Rabbit Pyrogen Test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Method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Groups of three healthy, mature rabbits are chosen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ccurate thermometers are inserted into the rectum of the rabbits to record their body temperature (control temp 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est solutions are warmed to 37 C prior to injection and then injected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abbit temperatures are recorded at 30 min intervals between 1  and 3 h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07:11:25Z</dcterms:created>
  <dc:creator>USER</dc:creator>
  <dc:description/>
  <dc:language>en-US</dc:language>
  <cp:lastModifiedBy>User</cp:lastModifiedBy>
  <dcterms:modified xsi:type="dcterms:W3CDTF">2011-11-27T07:28:26Z</dcterms:modified>
  <cp:revision>16</cp:revision>
  <dc:subject/>
  <dc:title>PHT 434</dc:title>
</cp:coreProperties>
</file>