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277-C2A2-4729-AEB3-462C7692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DD0-DBFB-4F20-9B3A-D06C3EB5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9A2-F099-42ED-9852-04A079AC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BA4-4D11-4BCA-811B-C5B0B267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CFC9-50B7-4BF5-A9B8-E4AB4591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412D-DC94-4F8D-83B3-607961A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D68-1A67-4200-AEEF-EEF2844D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21E4-991A-411C-91D5-4384945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58C9-837B-4348-A5DD-C5C485B9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8263-3DD5-4214-A9FF-FF1A535D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4554-B24A-4F22-91EF-98B5301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D20-F7B4-4D2D-B239-19264FF1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8702-8DD6-4AD5-A5B1-2AEA7D4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9C12-C039-462F-924E-ED362899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BCB3-47A5-4D17-8A8E-13396F40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50D4-7071-4B74-A15F-038FAC47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5A9D-D52C-44BD-966B-2813F19F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0CF3-79FF-4035-B7CE-6BB937C5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1C49-891B-4544-AAC1-9571CEA5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E250-3B95-45D8-AD23-E4C4425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64A1-11AB-423B-AB72-859A3DCB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ED576-281A-44D0-8F78-88C60018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5AC-926A-4AA4-9D78-31AEE821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FCBE-FCC1-4A4C-A3F0-E20A1AF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89E9-652D-49CE-9E81-97B3805E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2FC8-31D3-4238-BE01-07DAEEA4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CA09-7762-4BE9-9B1E-18CB311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B731-7C3F-4FEF-A73F-8D528D95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2D38-412C-4E4D-B6F5-73F0A358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0FF9-BF27-4501-9EC2-2CDA12C8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B9FB-F3F7-461B-8CF1-70417FCB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26D6-7B34-4417-BBDD-49A8CB2A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03BE-694F-4441-BF04-147BD369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166-07B1-4972-9C7E-9C21BE6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0C2D-1F4C-4B1F-8F85-2EC5B9D5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52A1-6026-4CB2-9BD1-1D4F8F3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014A-B03B-4C70-B01A-A21DF10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7299-3ADE-4E34-8162-EE2E7FE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8DB1A-CF0C-4D13-9649-2611A1DD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CC76-B204-45B4-934B-49B828C2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F06F-9814-4E90-810A-D2D2697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1C18-F26C-468B-B2B4-AEE438AB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8F03-E6C0-46CF-8170-CD294784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35B-8CC6-48A5-B059-07EBE951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99A-4419-4FDA-8CD4-AD1EEA09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2EC-E0D1-4BCF-A8CE-E751FA1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821-89C9-4DBE-95F1-F952BFC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3BC-2C01-4C8A-9525-02063BB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D93A-7385-4E8B-B09D-04E6552E375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4574-345E-40B5-BCBB-48B8869BE91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B46F-0AB6-414E-AEBE-35C141F5D17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8F0-EECE-4017-AAA1-8413AC6B030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any rabbit shows an individual temperature rise of 0.5 or more,continue the test using five other rabbits.I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more than thr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eight rabbits show individual rises in temperature of 0.5 or more and if the sum of the eight individual maximum temperature rises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exceed 3.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,the material under examination meets the requirements for the absence of pyrogen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98400" indent="-69840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13160" indent="-7131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tomated inspection machines are also</a:t>
            </a: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1197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User</cp:lastModifiedBy>
  <dcterms:modified xsi:type="dcterms:W3CDTF">2011-11-27T07:28:26Z</dcterms:modified>
  <cp:revision>16</cp:revision>
  <dc:subject/>
  <dc:title>PHT 434</dc:title>
</cp:coreProperties>
</file>