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9A38-27D3-43C3-8F11-9C156EE03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3139920" y="514440"/>
            <a:ext cx="3430800" cy="2571840"/>
          </a:xfrm>
          <a:prstGeom prst="rect">
            <a:avLst/>
          </a:prstGeom>
          <a:ln w="0">
            <a:noFill/>
          </a:ln>
        </p:spPr>
      </p:sp>
      <p:sp>
        <p:nvSpPr>
          <p:cNvPr id="6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E872-432E-48F9-A9DA-FB02460D8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3139920" y="514440"/>
            <a:ext cx="3430800" cy="2571840"/>
          </a:xfrm>
          <a:prstGeom prst="rect">
            <a:avLst/>
          </a:prstGeom>
          <a:ln w="0">
            <a:noFill/>
          </a:ln>
        </p:spPr>
      </p:sp>
      <p:sp>
        <p:nvSpPr>
          <p:cNvPr id="6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61AD-4C09-4CBF-B367-D597E356C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3139920" y="514440"/>
            <a:ext cx="3430800" cy="2571840"/>
          </a:xfrm>
          <a:prstGeom prst="rect">
            <a:avLst/>
          </a:prstGeom>
          <a:ln w="0">
            <a:noFill/>
          </a:ln>
        </p:spPr>
      </p:sp>
      <p:sp>
        <p:nvSpPr>
          <p:cNvPr id="6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2661-9B9A-48A9-9407-6D04323D7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3139920" y="514440"/>
            <a:ext cx="3430800" cy="2571840"/>
          </a:xfrm>
          <a:prstGeom prst="rect">
            <a:avLst/>
          </a:prstGeom>
          <a:ln w="0">
            <a:noFill/>
          </a:ln>
        </p:spPr>
      </p:sp>
      <p:sp>
        <p:nvSpPr>
          <p:cNvPr id="6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F7F8-44E6-4D06-BCA8-5F626F5E8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3139920" y="514440"/>
            <a:ext cx="3430800" cy="2571840"/>
          </a:xfrm>
          <a:prstGeom prst="rect">
            <a:avLst/>
          </a:prstGeom>
          <a:ln w="0">
            <a:noFill/>
          </a:ln>
        </p:spPr>
      </p:sp>
      <p:sp>
        <p:nvSpPr>
          <p:cNvPr id="6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2E90-B171-4456-A5BD-114105BE1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3139920" y="514440"/>
            <a:ext cx="3430800" cy="2571840"/>
          </a:xfrm>
          <a:prstGeom prst="rect">
            <a:avLst/>
          </a:prstGeom>
          <a:ln w="0">
            <a:noFill/>
          </a:ln>
        </p:spPr>
      </p:sp>
      <p:sp>
        <p:nvSpPr>
          <p:cNvPr id="6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F27-42A9-429F-919D-0FF5285FC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139920" y="514440"/>
            <a:ext cx="3430800" cy="2571840"/>
          </a:xfrm>
          <a:prstGeom prst="rect">
            <a:avLst/>
          </a:prstGeom>
          <a:ln w="0">
            <a:noFill/>
          </a:ln>
        </p:spPr>
      </p:sp>
      <p:sp>
        <p:nvSpPr>
          <p:cNvPr id="6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BF02-2467-419D-AA8C-BA1AE6B35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139920" y="514440"/>
            <a:ext cx="3430800" cy="2571840"/>
          </a:xfrm>
          <a:prstGeom prst="rect">
            <a:avLst/>
          </a:prstGeom>
          <a:ln w="0">
            <a:noFill/>
          </a:ln>
        </p:spPr>
      </p:sp>
      <p:sp>
        <p:nvSpPr>
          <p:cNvPr id="70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AABF-D99C-4FE8-9036-49C2A4C00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139920" y="514440"/>
            <a:ext cx="3430800" cy="2571840"/>
          </a:xfrm>
          <a:prstGeom prst="rect">
            <a:avLst/>
          </a:prstGeom>
          <a:ln w="0">
            <a:noFill/>
          </a:ln>
        </p:spPr>
      </p:sp>
      <p:sp>
        <p:nvSpPr>
          <p:cNvPr id="70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F5F4-B200-4EA4-961D-E372461DF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139920" y="514440"/>
            <a:ext cx="3430800" cy="2571840"/>
          </a:xfrm>
          <a:prstGeom prst="rect">
            <a:avLst/>
          </a:prstGeom>
          <a:ln w="0">
            <a:noFill/>
          </a:ln>
        </p:spPr>
      </p:sp>
      <p:sp>
        <p:nvSpPr>
          <p:cNvPr id="70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7F97-0DB7-4846-B17F-E8C1A967F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139920" y="514440"/>
            <a:ext cx="3430800" cy="2571840"/>
          </a:xfrm>
          <a:prstGeom prst="rect">
            <a:avLst/>
          </a:prstGeom>
          <a:ln w="0">
            <a:noFill/>
          </a:ln>
        </p:spPr>
      </p:sp>
      <p:sp>
        <p:nvSpPr>
          <p:cNvPr id="71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F47-5160-41E2-9DDE-3123D4AD0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3139920" y="514440"/>
            <a:ext cx="3430800" cy="2571840"/>
          </a:xfrm>
          <a:prstGeom prst="rect">
            <a:avLst/>
          </a:prstGeom>
          <a:ln w="0">
            <a:noFill/>
          </a:ln>
        </p:spPr>
      </p:sp>
      <p:sp>
        <p:nvSpPr>
          <p:cNvPr id="6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832F-415C-469E-A4A5-F4729B2F5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139920" y="514440"/>
            <a:ext cx="3430800" cy="2571840"/>
          </a:xfrm>
          <a:prstGeom prst="rect">
            <a:avLst/>
          </a:prstGeom>
          <a:ln w="0">
            <a:noFill/>
          </a:ln>
        </p:spPr>
      </p:sp>
      <p:sp>
        <p:nvSpPr>
          <p:cNvPr id="71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DE2F-461E-4DCD-8513-33C7CA7B8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139920" y="514440"/>
            <a:ext cx="3430800" cy="2571840"/>
          </a:xfrm>
          <a:prstGeom prst="rect">
            <a:avLst/>
          </a:prstGeom>
          <a:ln w="0">
            <a:noFill/>
          </a:ln>
        </p:spPr>
      </p:sp>
      <p:sp>
        <p:nvSpPr>
          <p:cNvPr id="71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8821-7E13-495C-AC93-6114FAA47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139920" y="514440"/>
            <a:ext cx="3430800" cy="2571840"/>
          </a:xfrm>
          <a:prstGeom prst="rect">
            <a:avLst/>
          </a:prstGeom>
          <a:ln w="0">
            <a:noFill/>
          </a:ln>
        </p:spPr>
      </p:sp>
      <p:sp>
        <p:nvSpPr>
          <p:cNvPr id="72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DC47-6783-4D68-920F-45C50AD1C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3139920" y="514440"/>
            <a:ext cx="3430800" cy="2571840"/>
          </a:xfrm>
          <a:prstGeom prst="rect">
            <a:avLst/>
          </a:prstGeom>
          <a:ln w="0">
            <a:noFill/>
          </a:ln>
        </p:spPr>
      </p:sp>
      <p:sp>
        <p:nvSpPr>
          <p:cNvPr id="72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4DC1-3C75-4990-9998-E9AD83067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139920" y="514440"/>
            <a:ext cx="3430800" cy="2571840"/>
          </a:xfrm>
          <a:prstGeom prst="rect">
            <a:avLst/>
          </a:prstGeom>
          <a:ln w="0">
            <a:noFill/>
          </a:ln>
        </p:spPr>
      </p:sp>
      <p:sp>
        <p:nvSpPr>
          <p:cNvPr id="72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6047-490C-4DAF-A218-847936652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3139920" y="514440"/>
            <a:ext cx="3430800" cy="2571840"/>
          </a:xfrm>
          <a:prstGeom prst="rect">
            <a:avLst/>
          </a:prstGeom>
          <a:ln w="0">
            <a:noFill/>
          </a:ln>
        </p:spPr>
      </p:sp>
      <p:sp>
        <p:nvSpPr>
          <p:cNvPr id="72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BB05-0557-4FA2-A3D9-0AD239C11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139920" y="514440"/>
            <a:ext cx="3430800" cy="2571840"/>
          </a:xfrm>
          <a:prstGeom prst="rect">
            <a:avLst/>
          </a:prstGeom>
          <a:ln w="0">
            <a:noFill/>
          </a:ln>
        </p:spPr>
      </p:sp>
      <p:sp>
        <p:nvSpPr>
          <p:cNvPr id="73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43E9-BA20-4462-9D79-C08B20BF4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3139920" y="514440"/>
            <a:ext cx="3430800" cy="2571840"/>
          </a:xfrm>
          <a:prstGeom prst="rect">
            <a:avLst/>
          </a:prstGeom>
          <a:ln w="0">
            <a:noFill/>
          </a:ln>
        </p:spPr>
      </p:sp>
      <p:sp>
        <p:nvSpPr>
          <p:cNvPr id="73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C25B-4896-46F7-9AD2-0DDBE8CED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139920" y="514440"/>
            <a:ext cx="3430800" cy="2571840"/>
          </a:xfrm>
          <a:prstGeom prst="rect">
            <a:avLst/>
          </a:prstGeom>
          <a:ln w="0">
            <a:noFill/>
          </a:ln>
        </p:spPr>
      </p:sp>
      <p:sp>
        <p:nvSpPr>
          <p:cNvPr id="73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CE3B-6246-44A2-8533-E39B4C2CA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3139920" y="514440"/>
            <a:ext cx="3430800" cy="2571840"/>
          </a:xfrm>
          <a:prstGeom prst="rect">
            <a:avLst/>
          </a:prstGeom>
          <a:ln w="0">
            <a:noFill/>
          </a:ln>
        </p:spPr>
      </p:sp>
      <p:sp>
        <p:nvSpPr>
          <p:cNvPr id="74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C4E4-DED0-410D-A999-E2F4FC4E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3139920" y="514440"/>
            <a:ext cx="3430800" cy="2571840"/>
          </a:xfrm>
          <a:prstGeom prst="rect">
            <a:avLst/>
          </a:prstGeom>
          <a:ln w="0">
            <a:noFill/>
          </a:ln>
        </p:spPr>
      </p:sp>
      <p:sp>
        <p:nvSpPr>
          <p:cNvPr id="6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C731-FD9C-4DC3-B053-24BD59B6D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3139920" y="514440"/>
            <a:ext cx="3430800" cy="2571840"/>
          </a:xfrm>
          <a:prstGeom prst="rect">
            <a:avLst/>
          </a:prstGeom>
          <a:ln w="0">
            <a:noFill/>
          </a:ln>
        </p:spPr>
      </p:sp>
      <p:sp>
        <p:nvSpPr>
          <p:cNvPr id="74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23CB-E921-47EB-BFAA-C1C20FA75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139920" y="514440"/>
            <a:ext cx="3430800" cy="2571840"/>
          </a:xfrm>
          <a:prstGeom prst="rect">
            <a:avLst/>
          </a:prstGeom>
          <a:ln w="0">
            <a:noFill/>
          </a:ln>
        </p:spPr>
      </p:sp>
      <p:sp>
        <p:nvSpPr>
          <p:cNvPr id="74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57F6-3AA3-49C2-B2E1-DA0B99F50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139920" y="514440"/>
            <a:ext cx="3430800" cy="2571840"/>
          </a:xfrm>
          <a:prstGeom prst="rect">
            <a:avLst/>
          </a:prstGeom>
          <a:ln w="0">
            <a:noFill/>
          </a:ln>
        </p:spPr>
      </p:sp>
      <p:sp>
        <p:nvSpPr>
          <p:cNvPr id="75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98A0-C862-4DAF-B605-F34BCF724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139920" y="514440"/>
            <a:ext cx="3430800" cy="2571840"/>
          </a:xfrm>
          <a:prstGeom prst="rect">
            <a:avLst/>
          </a:prstGeom>
          <a:ln w="0">
            <a:noFill/>
          </a:ln>
        </p:spPr>
      </p:sp>
      <p:sp>
        <p:nvSpPr>
          <p:cNvPr id="75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8B14-9C35-4ACB-978A-E4D419BB5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139920" y="514440"/>
            <a:ext cx="3430800" cy="2571840"/>
          </a:xfrm>
          <a:prstGeom prst="rect">
            <a:avLst/>
          </a:prstGeom>
          <a:ln w="0">
            <a:noFill/>
          </a:ln>
        </p:spPr>
      </p:sp>
      <p:sp>
        <p:nvSpPr>
          <p:cNvPr id="75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2244-1D69-411C-9744-BACD2BD90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139920" y="514440"/>
            <a:ext cx="3430800" cy="2571840"/>
          </a:xfrm>
          <a:prstGeom prst="rect">
            <a:avLst/>
          </a:prstGeom>
          <a:ln w="0">
            <a:noFill/>
          </a:ln>
        </p:spPr>
      </p:sp>
      <p:sp>
        <p:nvSpPr>
          <p:cNvPr id="75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E6D4-D283-40DA-AA03-17218B02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139920" y="514440"/>
            <a:ext cx="3430800" cy="2571840"/>
          </a:xfrm>
          <a:prstGeom prst="rect">
            <a:avLst/>
          </a:prstGeom>
          <a:ln w="0">
            <a:noFill/>
          </a:ln>
        </p:spPr>
      </p:sp>
      <p:sp>
        <p:nvSpPr>
          <p:cNvPr id="76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D9EF-53CD-4258-B93A-2383CD966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139920" y="514440"/>
            <a:ext cx="3430800" cy="2571840"/>
          </a:xfrm>
          <a:prstGeom prst="rect">
            <a:avLst/>
          </a:prstGeom>
          <a:ln w="0">
            <a:noFill/>
          </a:ln>
        </p:spPr>
      </p:sp>
      <p:sp>
        <p:nvSpPr>
          <p:cNvPr id="76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2007-1D91-464D-809E-CCAEE84BA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139920" y="514440"/>
            <a:ext cx="3430800" cy="2571840"/>
          </a:xfrm>
          <a:prstGeom prst="rect">
            <a:avLst/>
          </a:prstGeom>
          <a:ln w="0">
            <a:noFill/>
          </a:ln>
        </p:spPr>
      </p:sp>
      <p:sp>
        <p:nvSpPr>
          <p:cNvPr id="76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8CFB-62E0-4DF8-BDD6-ACAB83E53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139920" y="514440"/>
            <a:ext cx="3430800" cy="2571840"/>
          </a:xfrm>
          <a:prstGeom prst="rect">
            <a:avLst/>
          </a:prstGeom>
          <a:ln w="0">
            <a:noFill/>
          </a:ln>
        </p:spPr>
      </p:sp>
      <p:sp>
        <p:nvSpPr>
          <p:cNvPr id="77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BF9B-F08E-453D-95DC-7E927A9DB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139920" y="514440"/>
            <a:ext cx="3430800" cy="2571840"/>
          </a:xfrm>
          <a:prstGeom prst="rect">
            <a:avLst/>
          </a:prstGeom>
          <a:ln w="0">
            <a:noFill/>
          </a:ln>
        </p:spPr>
      </p:sp>
      <p:sp>
        <p:nvSpPr>
          <p:cNvPr id="6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5202-2CD7-48F6-8C7B-911081854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139920" y="514440"/>
            <a:ext cx="3430800" cy="2571840"/>
          </a:xfrm>
          <a:prstGeom prst="rect">
            <a:avLst/>
          </a:prstGeom>
          <a:ln w="0">
            <a:noFill/>
          </a:ln>
        </p:spPr>
      </p:sp>
      <p:sp>
        <p:nvSpPr>
          <p:cNvPr id="77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C44B-71EF-4ECE-A169-5874ADD6F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139920" y="514440"/>
            <a:ext cx="3430800" cy="2571840"/>
          </a:xfrm>
          <a:prstGeom prst="rect">
            <a:avLst/>
          </a:prstGeom>
          <a:ln w="0">
            <a:noFill/>
          </a:ln>
        </p:spPr>
      </p:sp>
      <p:sp>
        <p:nvSpPr>
          <p:cNvPr id="77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91EE-19DE-4AB7-A634-2310568F4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39920" y="514440"/>
            <a:ext cx="3430800" cy="2571840"/>
          </a:xfrm>
          <a:prstGeom prst="rect">
            <a:avLst/>
          </a:prstGeom>
          <a:ln w="0">
            <a:noFill/>
          </a:ln>
        </p:spPr>
      </p:sp>
      <p:sp>
        <p:nvSpPr>
          <p:cNvPr id="78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5FD8-FD3D-455B-915E-DAB1BBB71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139920" y="514440"/>
            <a:ext cx="3430800" cy="2571840"/>
          </a:xfrm>
          <a:prstGeom prst="rect">
            <a:avLst/>
          </a:prstGeom>
          <a:ln w="0">
            <a:noFill/>
          </a:ln>
        </p:spPr>
      </p:sp>
      <p:sp>
        <p:nvSpPr>
          <p:cNvPr id="78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0283-186A-4806-A744-99CD91538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3139920" y="514440"/>
            <a:ext cx="3430800" cy="2571840"/>
          </a:xfrm>
          <a:prstGeom prst="rect">
            <a:avLst/>
          </a:prstGeom>
          <a:ln w="0">
            <a:noFill/>
          </a:ln>
        </p:spPr>
      </p:sp>
      <p:sp>
        <p:nvSpPr>
          <p:cNvPr id="6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E270-E95E-4659-AEED-8D187269E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3139920" y="514440"/>
            <a:ext cx="3430800" cy="2571840"/>
          </a:xfrm>
          <a:prstGeom prst="rect">
            <a:avLst/>
          </a:prstGeom>
          <a:ln w="0">
            <a:noFill/>
          </a:ln>
        </p:spPr>
      </p:sp>
      <p:sp>
        <p:nvSpPr>
          <p:cNvPr id="6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A6C-193E-42E3-832C-B83434E99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3139920" y="514440"/>
            <a:ext cx="3430800" cy="2571840"/>
          </a:xfrm>
          <a:prstGeom prst="rect">
            <a:avLst/>
          </a:prstGeom>
          <a:ln w="0">
            <a:noFill/>
          </a:ln>
        </p:spPr>
      </p:sp>
      <p:sp>
        <p:nvSpPr>
          <p:cNvPr id="6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FC11-DF95-4EA6-B555-A988F651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139920" y="514440"/>
            <a:ext cx="3430800" cy="2571840"/>
          </a:xfrm>
          <a:prstGeom prst="rect">
            <a:avLst/>
          </a:prstGeom>
          <a:ln w="0">
            <a:noFill/>
          </a:ln>
        </p:spPr>
      </p:sp>
      <p:sp>
        <p:nvSpPr>
          <p:cNvPr id="6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9A8F-192A-4620-9401-CBE3F7DFE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3139920" y="514440"/>
            <a:ext cx="3430800" cy="2571840"/>
          </a:xfrm>
          <a:prstGeom prst="rect">
            <a:avLst/>
          </a:prstGeom>
          <a:ln w="0">
            <a:noFill/>
          </a:ln>
        </p:spPr>
      </p:sp>
      <p:sp>
        <p:nvSpPr>
          <p:cNvPr id="6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7FA3-A597-4A52-805B-A539584A1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11F41-977C-4E97-A100-1C0BD96A9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7DEB4-4E63-4A93-81B9-B748EBA8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17FA0-7D3D-409E-A74B-8E419E762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8EBAC-3164-4C04-8441-4A251AB77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76FA-F4DD-4169-9807-215C1F8D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8B25-7BA8-42D2-9927-6AAFF067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7A7E-40F4-462F-B9D4-352965FB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B693-3141-465C-B10A-83B868A1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27A1-0407-4CA1-9655-B64AD157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7AD0-D0F4-4E5A-8B32-DC6ADFCA0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BDC8-7EC9-42A5-AD0A-B9BD0D9D1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F1D9-57E0-453D-85B2-962867887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5A3C-3599-426A-B8CF-161DF40AEF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0980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grpSp>
        <p:nvGrpSpPr>
          <p:cNvPr id="59" name="Slide Number Placeholder 7"/>
          <p:cNvGrpSpPr/>
          <p:nvPr/>
        </p:nvGrpSpPr>
        <p:grpSpPr>
          <a:xfrm>
            <a:off x="8296200" y="6334200"/>
            <a:ext cx="903240" cy="609480"/>
            <a:chOff x="8296200" y="6334200"/>
            <a:chExt cx="903240" cy="609480"/>
          </a:xfrm>
        </p:grpSpPr>
        <p:pic>
          <p:nvPicPr>
            <p:cNvPr id="60" name="Slide Number Placeholder 7" descr=""/>
            <p:cNvPicPr/>
            <p:nvPr/>
          </p:nvPicPr>
          <p:blipFill>
            <a:blip r:embed="rId1"/>
            <a:stretch/>
          </p:blipFill>
          <p:spPr>
            <a:xfrm>
              <a:off x="8296200" y="6334200"/>
              <a:ext cx="903240" cy="60948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F5B7-4DD6-473C-8584-F9C4C2F1E38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3"/>
          <p:cNvSpPr/>
          <p:nvPr/>
        </p:nvSpPr>
        <p:spPr>
          <a:xfrm>
            <a:off x="539640" y="836640"/>
            <a:ext cx="828360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flora and fauna,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isonous plants and disease- carrying animals can affect community health  Plants and animals offer resources as well as dang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plants and animals pose possible threats to hea</a:t>
            </a:r>
            <a:r>
              <a:rPr b="0" lang="en-US" sz="2400" spc="-1" strike="noStrike">
                <a:solidFill>
                  <a:srgbClr val="ff0000"/>
                </a:solidFill>
                <a:latin typeface="Arial"/>
              </a:rPr>
              <a:t>lth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8ECE-B1D2-4C9C-A1E4-20CC0024B40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3"/>
          <p:cNvSpPr/>
          <p:nvPr/>
        </p:nvSpPr>
        <p:spPr>
          <a:xfrm>
            <a:off x="395280" y="1285920"/>
            <a:ext cx="8064360" cy="47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The human-made 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 human influences on environment (housing, dams, farming, type of industry, chemical waste, air pollution, and so forth) can influence levels of community we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major indus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ve air, land, and water been affected by humans? What is the quality of housing?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highways allow access to health institutions? </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E6A0-112D-4CC2-A8C2-E39ECB47225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826920" y="209520"/>
            <a:ext cx="824724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
          <p:cNvSpPr/>
          <p:nvPr/>
        </p:nvSpPr>
        <p:spPr>
          <a:xfrm>
            <a:off x="395280" y="765000"/>
            <a:ext cx="839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otal population of community is the second dimension to be examines. The health of any community is greatly influenced by the attributes of its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healthy community has leaders who are aware of the population’s characteristics, know its various needs, and respond to those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can better understand any community by knowing about its population variables: </a:t>
            </a:r>
            <a:r>
              <a:rPr b="1" lang="en-US" sz="2400" spc="-1" strike="noStrike">
                <a:solidFill>
                  <a:srgbClr val="ff0000"/>
                </a:solidFill>
                <a:latin typeface="Comic Sans MS"/>
              </a:rPr>
              <a:t>size, density, composition, rate of growth or decline, cultural characteristics, social class structure, and mobility.</a:t>
            </a:r>
            <a:endParaRPr b="0" lang="en-US" sz="24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B252-D2CA-4BAB-81B1-5A2B5F96580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50920" y="907920"/>
            <a:ext cx="85723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pulation variab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pulation Siz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people influences number and size of health instit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affects homogeneity of the population and its nee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population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re community?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n urban, suburban, rural community? </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592B-A4E3-4736-AE08-0980F3C737E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3"/>
          <p:cNvSpPr/>
          <p:nvPr/>
        </p:nvSpPr>
        <p:spPr>
          <a:xfrm>
            <a:off x="900000" y="1285920"/>
            <a:ext cx="7344000" cy="28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800" spc="-1" strike="noStrike">
                <a:solidFill>
                  <a:srgbClr val="000000"/>
                </a:solidFill>
                <a:latin typeface="Comic Sans MS"/>
              </a:rPr>
              <a:t>2) Density</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reased density may increase stres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and low density often affect the availability of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density of the population per square mile?</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EE79-3A42-49D8-95E9-94378152404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3"/>
          <p:cNvSpPr/>
          <p:nvPr/>
        </p:nvSpPr>
        <p:spPr>
          <a:xfrm>
            <a:off x="214200" y="1285920"/>
            <a:ext cx="857268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Composi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osition of the population often determines types of health need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age composition of the communit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sex composition of the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marital status of community members?</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2B14-9A68-4C56-9681-F77AB5CC340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3"/>
          <p:cNvSpPr/>
          <p:nvPr/>
        </p:nvSpPr>
        <p:spPr>
          <a:xfrm>
            <a:off x="755640" y="907920"/>
            <a:ext cx="7777080" cy="369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Rate of growth or declin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pidly growing communities may place excessive demands on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rked decline in population may signal a poorly functioning community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s population size changed over the past two decad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health implications of this change?</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F984-710E-4558-A8EE-B9E3D500C96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3"/>
          <p:cNvSpPr/>
          <p:nvPr/>
        </p:nvSpPr>
        <p:spPr>
          <a:xfrm>
            <a:off x="468360" y="907920"/>
            <a:ext cx="8283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a:t>
            </a:r>
            <a:r>
              <a:rPr b="0" lang="en-US" sz="2400" spc="-1" strike="noStrike">
                <a:solidFill>
                  <a:srgbClr val="000000"/>
                </a:solidFill>
                <a:latin typeface="Comic Sans MS"/>
              </a:rPr>
              <a:t>Cultural differen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eeds vary among sub-cultural and ethnic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tilization of health services varies with culture. Health  practices and extent of knowledge are affected by cul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is the ethnic breakdown of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racial groups are represented?</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subcultural populations exist in the community?</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o any of the subcultural groups have unique health needs and practi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re different ethnic and cultural groups included in health planning?</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5836-20D2-4318-9922-4C76BCF74DB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3"/>
          <p:cNvSpPr/>
          <p:nvPr/>
        </p:nvSpPr>
        <p:spPr>
          <a:xfrm>
            <a:off x="214200" y="1285920"/>
            <a:ext cx="8572680" cy="405576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Social clas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differences influence the utilization of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composition influences cost of public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percentage of the population falls into each social class?</a:t>
            </a: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do class differences suggest for health needs and services?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0323-14A0-49A5-BCA4-67274CCE14B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179280" y="836640"/>
            <a:ext cx="8572680" cy="582372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7) Mobility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bility of the population affects continuity of care. Mobility affects availability of service to highly mobile populations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into and out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within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there any specific populations, such as migrant workers, that are highly mobile? </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e pattern of mobility affect the health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 community organized to meet the health needs of mobile groups?</a:t>
            </a:r>
            <a:endParaRPr b="0" lang="en-US" sz="24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1FC3-3F0D-40AC-9B5D-1B8D5044936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3" name="Rectangle 13"/>
          <p:cNvSpPr/>
          <p:nvPr/>
        </p:nvSpPr>
        <p:spPr>
          <a:xfrm>
            <a:off x="285840" y="1285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grpSp>
        <p:nvGrpSpPr>
          <p:cNvPr id="74" name="Slide Number Placeholder 7"/>
          <p:cNvGrpSpPr/>
          <p:nvPr/>
        </p:nvGrpSpPr>
        <p:grpSpPr>
          <a:xfrm>
            <a:off x="8296200" y="6334200"/>
            <a:ext cx="903240" cy="609480"/>
            <a:chOff x="8296200" y="6334200"/>
            <a:chExt cx="903240" cy="609480"/>
          </a:xfrm>
        </p:grpSpPr>
        <p:pic>
          <p:nvPicPr>
            <p:cNvPr id="75" name="Slide Number Placeholder 7" descr=""/>
            <p:cNvPicPr/>
            <p:nvPr/>
          </p:nvPicPr>
          <p:blipFill>
            <a:blip r:embed="rId1"/>
            <a:stretch/>
          </p:blipFill>
          <p:spPr>
            <a:xfrm>
              <a:off x="8296200" y="6334200"/>
              <a:ext cx="903240" cy="60948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BFEE-76E0-4C84-8E0F-A5400C300D5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179280" y="83664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I.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parts of a community’s social system that interact and influence the system are called </a:t>
            </a:r>
            <a:r>
              <a:rPr b="1" lang="en-US" sz="2400" spc="-1" strike="noStrike">
                <a:solidFill>
                  <a:srgbClr val="000099"/>
                </a:solidFill>
                <a:latin typeface="Comic Sans MS"/>
              </a:rPr>
              <a:t>social system variables</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assessing a community’s health, developing new services for the mentally ill within the community, or promoting the health of the elderly, the community health nurse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grpSp>
        <p:nvGrpSpPr>
          <p:cNvPr id="329" name="Slide Number Placeholder 7"/>
          <p:cNvGrpSpPr/>
          <p:nvPr/>
        </p:nvGrpSpPr>
        <p:grpSpPr>
          <a:xfrm>
            <a:off x="8296200" y="6334200"/>
            <a:ext cx="903240" cy="609480"/>
            <a:chOff x="8296200" y="6334200"/>
            <a:chExt cx="903240" cy="609480"/>
          </a:xfrm>
        </p:grpSpPr>
        <p:pic>
          <p:nvPicPr>
            <p:cNvPr id="330" name="Slide Number Placeholder 7" descr=""/>
            <p:cNvPicPr/>
            <p:nvPr/>
          </p:nvPicPr>
          <p:blipFill>
            <a:blip r:embed="rId1"/>
            <a:stretch/>
          </p:blipFill>
          <p:spPr>
            <a:xfrm>
              <a:off x="8296200" y="6334200"/>
              <a:ext cx="903240" cy="60948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8487-73C1-4ADF-BE07-ECC2C99ADB9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
          <p:cNvSpPr/>
          <p:nvPr/>
        </p:nvSpPr>
        <p:spPr>
          <a:xfrm>
            <a:off x="539640" y="836640"/>
            <a:ext cx="8283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System variables includ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lth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mily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onomic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ional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ligious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fare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itic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reation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g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 system </a:t>
            </a:r>
            <a:endParaRPr b="0" lang="en-US" sz="2800" spc="-1" strike="noStrike">
              <a:solidFill>
                <a:srgbClr val="000000"/>
              </a:solidFill>
              <a:latin typeface="Arial"/>
            </a:endParaRPr>
          </a:p>
        </p:txBody>
      </p:sp>
      <p:grpSp>
        <p:nvGrpSpPr>
          <p:cNvPr id="343" name="Slide Number Placeholder 7"/>
          <p:cNvGrpSpPr/>
          <p:nvPr/>
        </p:nvGrpSpPr>
        <p:grpSpPr>
          <a:xfrm>
            <a:off x="8296200" y="6334200"/>
            <a:ext cx="903240" cy="609480"/>
            <a:chOff x="8296200" y="6334200"/>
            <a:chExt cx="903240" cy="609480"/>
          </a:xfrm>
        </p:grpSpPr>
        <p:pic>
          <p:nvPicPr>
            <p:cNvPr id="344" name="Slide Number Placeholder 7" descr=""/>
            <p:cNvPicPr/>
            <p:nvPr/>
          </p:nvPicPr>
          <p:blipFill>
            <a:blip r:embed="rId1"/>
            <a:stretch/>
          </p:blipFill>
          <p:spPr>
            <a:xfrm>
              <a:off x="8296200" y="6334200"/>
              <a:ext cx="903240" cy="60948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EBBF-7DDE-4130-B07F-6A463742973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13"/>
          <p:cNvSpPr/>
          <p:nvPr/>
        </p:nvSpPr>
        <p:spPr>
          <a:xfrm>
            <a:off x="611280" y="128592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CHN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asocial system consist of parts, such as the local government , families and hospitals that are linked together.</a:t>
            </a:r>
            <a:r>
              <a:rPr b="1" lang="en-US" sz="2400" spc="-1" strike="noStrike">
                <a:solidFill>
                  <a:srgbClr val="000000"/>
                </a:solidFill>
                <a:latin typeface="Comic Sans MS"/>
              </a:rPr>
              <a:t> The parts interact and influence each other</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ach of the ten major systems of a community includes a number of subsystems that are made up of organizations. Member of the community  occupy roles in these organizations  </a:t>
            </a:r>
            <a:endParaRPr b="0" lang="en-US" sz="2400" spc="-1" strike="noStrike">
              <a:solidFill>
                <a:srgbClr val="000000"/>
              </a:solidFill>
              <a:latin typeface="Arial"/>
            </a:endParaRPr>
          </a:p>
        </p:txBody>
      </p:sp>
      <p:grpSp>
        <p:nvGrpSpPr>
          <p:cNvPr id="357" name="Slide Number Placeholder 7"/>
          <p:cNvGrpSpPr/>
          <p:nvPr/>
        </p:nvGrpSpPr>
        <p:grpSpPr>
          <a:xfrm>
            <a:off x="8296200" y="6334200"/>
            <a:ext cx="903240" cy="609480"/>
            <a:chOff x="8296200" y="6334200"/>
            <a:chExt cx="903240" cy="609480"/>
          </a:xfrm>
        </p:grpSpPr>
        <p:pic>
          <p:nvPicPr>
            <p:cNvPr id="358" name="Slide Number Placeholder 7" descr=""/>
            <p:cNvPicPr/>
            <p:nvPr/>
          </p:nvPicPr>
          <p:blipFill>
            <a:blip r:embed="rId1"/>
            <a:stretch/>
          </p:blipFill>
          <p:spPr>
            <a:xfrm>
              <a:off x="8296200" y="6334200"/>
              <a:ext cx="903240" cy="609480"/>
            </a:xfrm>
            <a:prstGeom prst="rect">
              <a:avLst/>
            </a:prstGeom>
            <a:ln w="0">
              <a:noFill/>
            </a:ln>
          </p:spPr>
        </p:pic>
        <p:sp>
          <p:nvSpPr>
            <p:cNvPr id="3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AED1-3369-47EA-8461-7D9F5E93CFF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3"/>
          <p:cNvSpPr/>
          <p:nvPr/>
        </p:nvSpPr>
        <p:spPr>
          <a:xfrm>
            <a:off x="395280" y="907920"/>
            <a:ext cx="8280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omic Sans MS"/>
              </a:rPr>
              <a:t>The Health Care Delivery System as Part of the Social Syst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ust examine all the systems in a community and must understand how they inter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lth system is of particular impor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ying the health system in a community can be compared with assessing an individual cli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grpSp>
        <p:nvGrpSpPr>
          <p:cNvPr id="371" name="Slide Number Placeholder 7"/>
          <p:cNvGrpSpPr/>
          <p:nvPr/>
        </p:nvGrpSpPr>
        <p:grpSpPr>
          <a:xfrm>
            <a:off x="8296200" y="6334200"/>
            <a:ext cx="903240" cy="609480"/>
            <a:chOff x="8296200" y="6334200"/>
            <a:chExt cx="903240" cy="609480"/>
          </a:xfrm>
        </p:grpSpPr>
        <p:pic>
          <p:nvPicPr>
            <p:cNvPr id="372" name="Slide Number Placeholder 7" descr=""/>
            <p:cNvPicPr/>
            <p:nvPr/>
          </p:nvPicPr>
          <p:blipFill>
            <a:blip r:embed="rId1"/>
            <a:stretch/>
          </p:blipFill>
          <p:spPr>
            <a:xfrm>
              <a:off x="8296200" y="6334200"/>
              <a:ext cx="903240" cy="609480"/>
            </a:xfrm>
            <a:prstGeom prst="rect">
              <a:avLst/>
            </a:prstGeom>
            <a:ln w="0">
              <a:noFill/>
            </a:ln>
          </p:spPr>
        </p:pic>
        <p:sp>
          <p:nvSpPr>
            <p:cNvPr id="3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5991-6574-413C-BF2D-7E7D71F4BE3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6"/>
          <p:cNvGrpSpPr/>
          <p:nvPr/>
        </p:nvGrpSpPr>
        <p:grpSpPr>
          <a:xfrm>
            <a:off x="8648640" y="498600"/>
            <a:ext cx="306360" cy="122040"/>
            <a:chOff x="8648640" y="498600"/>
            <a:chExt cx="306360" cy="122040"/>
          </a:xfrm>
        </p:grpSpPr>
        <p:sp>
          <p:nvSpPr>
            <p:cNvPr id="3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214200" y="620640"/>
            <a:ext cx="89298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S OF COMMUNITY NEEDS ASSESSMENT</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community health nurse is ready to determine the community’s needs. Assessment is the first step of the nursing proc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ssessment involves two major activities. The first is collection of pertinent data, and the second is analysis and interpretation of data. These actions overlap and are repeated constantly throughout the assessment. While assessing a community’s ability to enhance its health, the nurse may simultaneously 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YPES OF COMMUNITY NEEDS ASSESSMENT</a:t>
            </a:r>
            <a:endParaRPr b="0" lang="en-US" sz="1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9739-715F-485C-94B0-ED505F266D0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684360" y="98100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needs assessment is the process of determining </a:t>
            </a:r>
            <a:r>
              <a:rPr b="0" lang="en-US" sz="2400" spc="-1" strike="noStrike">
                <a:solidFill>
                  <a:srgbClr val="000000"/>
                </a:solidFill>
                <a:latin typeface="Comic Sans MS"/>
              </a:rPr>
              <a:t>the real or perceived needs of a defined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ype of assessment depends on variables such as: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needs that exist,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goals to be achieved, and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resources available for carrying out the study</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it is difficult to determine the type of assessment needed in advance, the decision will be facilitated by understanding several different types of community assessment</a:t>
            </a:r>
            <a:endParaRPr b="0" lang="en-US" sz="2400" spc="-1" strike="noStrike">
              <a:solidFill>
                <a:srgbClr val="000000"/>
              </a:solidFill>
              <a:latin typeface="Arial"/>
            </a:endParaRPr>
          </a:p>
        </p:txBody>
      </p:sp>
      <p:sp>
        <p:nvSpPr>
          <p:cNvPr id="40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YPES OF COMMUNITY NEEDS ASSESSMENT</a:t>
            </a:r>
            <a:endParaRPr b="0" lang="en-US" sz="1800" spc="-1" strike="noStrike">
              <a:solidFill>
                <a:srgbClr val="000000"/>
              </a:solidFill>
              <a:latin typeface="Arial"/>
            </a:endParaRPr>
          </a:p>
        </p:txBody>
      </p:sp>
      <p:grpSp>
        <p:nvGrpSpPr>
          <p:cNvPr id="401" name="Slide Number Placeholder 7"/>
          <p:cNvGrpSpPr/>
          <p:nvPr/>
        </p:nvGrpSpPr>
        <p:grpSpPr>
          <a:xfrm>
            <a:off x="8296200" y="6334200"/>
            <a:ext cx="903240" cy="609480"/>
            <a:chOff x="8296200" y="6334200"/>
            <a:chExt cx="903240" cy="609480"/>
          </a:xfrm>
        </p:grpSpPr>
        <p:pic>
          <p:nvPicPr>
            <p:cNvPr id="402" name="Slide Number Placeholder 7" descr=""/>
            <p:cNvPicPr/>
            <p:nvPr/>
          </p:nvPicPr>
          <p:blipFill>
            <a:blip r:embed="rId1"/>
            <a:stretch/>
          </p:blipFill>
          <p:spPr>
            <a:xfrm>
              <a:off x="8296200" y="6334200"/>
              <a:ext cx="903240" cy="609480"/>
            </a:xfrm>
            <a:prstGeom prst="rect">
              <a:avLst/>
            </a:prstGeom>
            <a:ln w="0">
              <a:noFill/>
            </a:ln>
          </p:spPr>
        </p:pic>
        <p:sp>
          <p:nvSpPr>
            <p:cNvPr id="4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AADD-0EEF-41D7-9B14-3276B750D2B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395280" y="857160"/>
            <a:ext cx="835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1) Comprehensive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s to discover all relevant community health inform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begins with a review of existing studies and all the data presently available on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urvey compiles all the demographic information on the population, such as its size, density, and compos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comprehensive assessment is an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consuming process, it is seldom performed. </a:t>
            </a:r>
            <a:endParaRPr b="0" lang="en-US" sz="2400" spc="-1" strike="noStrike">
              <a:solidFill>
                <a:srgbClr val="000000"/>
              </a:solidFill>
              <a:latin typeface="Arial"/>
            </a:endParaRPr>
          </a:p>
        </p:txBody>
      </p:sp>
      <p:sp>
        <p:nvSpPr>
          <p:cNvPr id="41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15" name="Slide Number Placeholder 7"/>
          <p:cNvGrpSpPr/>
          <p:nvPr/>
        </p:nvGrpSpPr>
        <p:grpSpPr>
          <a:xfrm>
            <a:off x="8296200" y="6334200"/>
            <a:ext cx="903240" cy="609480"/>
            <a:chOff x="8296200" y="6334200"/>
            <a:chExt cx="903240" cy="609480"/>
          </a:xfrm>
        </p:grpSpPr>
        <p:pic>
          <p:nvPicPr>
            <p:cNvPr id="416" name="Slide Number Placeholder 7" descr=""/>
            <p:cNvPicPr/>
            <p:nvPr/>
          </p:nvPicPr>
          <p:blipFill>
            <a:blip r:embed="rId1"/>
            <a:stretch/>
          </p:blipFill>
          <p:spPr>
            <a:xfrm>
              <a:off x="8296200" y="6334200"/>
              <a:ext cx="903240" cy="609480"/>
            </a:xfrm>
            <a:prstGeom prst="rect">
              <a:avLst/>
            </a:prstGeom>
            <a:ln w="0">
              <a:noFill/>
            </a:ln>
          </p:spPr>
        </p:pic>
        <p:sp>
          <p:nvSpPr>
            <p:cNvPr id="4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0C2F-CBAF-4A2B-A3E6-C0A59728AC0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6"/>
          <p:cNvGrpSpPr/>
          <p:nvPr/>
        </p:nvGrpSpPr>
        <p:grpSpPr>
          <a:xfrm>
            <a:off x="8648640" y="498600"/>
            <a:ext cx="306360" cy="122040"/>
            <a:chOff x="8648640" y="498600"/>
            <a:chExt cx="306360" cy="122040"/>
          </a:xfrm>
        </p:grpSpPr>
        <p:sp>
          <p:nvSpPr>
            <p:cNvPr id="4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395280" y="85716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probably gathering a certain amount of firsthand data, to gain a working knowledge  and general understanding of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an approach, sometimes called a “windshield survey,” is used by nursing students in community assessment courses and by new staff members in community health agen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drive (or walk) around the community; find health, social, and governmental services; obtain literature; introduce themselves and explain that they are working in the area; and generally become familiar with the community. </a:t>
            </a:r>
            <a:endParaRPr b="0" lang="en-US" sz="2400" spc="-1" strike="noStrike">
              <a:solidFill>
                <a:srgbClr val="000000"/>
              </a:solidFill>
              <a:latin typeface="Arial"/>
            </a:endParaRPr>
          </a:p>
        </p:txBody>
      </p:sp>
      <p:sp>
        <p:nvSpPr>
          <p:cNvPr id="428"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29" name="Slide Number Placeholder 7"/>
          <p:cNvGrpSpPr/>
          <p:nvPr/>
        </p:nvGrpSpPr>
        <p:grpSpPr>
          <a:xfrm>
            <a:off x="8296200" y="6334200"/>
            <a:ext cx="903240" cy="609480"/>
            <a:chOff x="8296200" y="6334200"/>
            <a:chExt cx="903240" cy="609480"/>
          </a:xfrm>
        </p:grpSpPr>
        <p:pic>
          <p:nvPicPr>
            <p:cNvPr id="430" name="Slide Number Placeholder 7" descr=""/>
            <p:cNvPicPr/>
            <p:nvPr/>
          </p:nvPicPr>
          <p:blipFill>
            <a:blip r:embed="rId1"/>
            <a:stretch/>
          </p:blipFill>
          <p:spPr>
            <a:xfrm>
              <a:off x="8296200" y="6334200"/>
              <a:ext cx="903240" cy="609480"/>
            </a:xfrm>
            <a:prstGeom prst="rect">
              <a:avLst/>
            </a:prstGeom>
            <a:ln w="0">
              <a:noFill/>
            </a:ln>
          </p:spPr>
        </p:pic>
        <p:sp>
          <p:nvSpPr>
            <p:cNvPr id="4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E661-258B-42A8-BACF-12B8A2774B8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6"/>
          <p:cNvGrpSpPr/>
          <p:nvPr/>
        </p:nvGrpSpPr>
        <p:grpSpPr>
          <a:xfrm>
            <a:off x="8648640" y="498600"/>
            <a:ext cx="306360" cy="122040"/>
            <a:chOff x="8648640" y="498600"/>
            <a:chExt cx="306360" cy="122040"/>
          </a:xfrm>
        </p:grpSpPr>
        <p:sp>
          <p:nvSpPr>
            <p:cNvPr id="4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3"/>
          <p:cNvSpPr/>
          <p:nvPr/>
        </p:nvSpPr>
        <p:spPr>
          <a:xfrm>
            <a:off x="395280" y="85716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assessment is needed whenever the community health nurse works with families, groups, organizations, or popul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442"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43" name="Slide Number Placeholder 7"/>
          <p:cNvGrpSpPr/>
          <p:nvPr/>
        </p:nvGrpSpPr>
        <p:grpSpPr>
          <a:xfrm>
            <a:off x="8296200" y="6334200"/>
            <a:ext cx="903240" cy="609480"/>
            <a:chOff x="8296200" y="6334200"/>
            <a:chExt cx="903240" cy="609480"/>
          </a:xfrm>
        </p:grpSpPr>
        <p:pic>
          <p:nvPicPr>
            <p:cNvPr id="444" name="Slide Number Placeholder 7" descr=""/>
            <p:cNvPicPr/>
            <p:nvPr/>
          </p:nvPicPr>
          <p:blipFill>
            <a:blip r:embed="rId1"/>
            <a:stretch/>
          </p:blipFill>
          <p:spPr>
            <a:xfrm>
              <a:off x="8296200" y="6334200"/>
              <a:ext cx="903240" cy="609480"/>
            </a:xfrm>
            <a:prstGeom prst="rect">
              <a:avLst/>
            </a:prstGeom>
            <a:ln w="0">
              <a:noFill/>
            </a:ln>
          </p:spPr>
        </p:pic>
        <p:sp>
          <p:nvSpPr>
            <p:cNvPr id="4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2029-6E2B-4701-9F82-6870958BB4B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s with a single problem and assesses the community in terms of that problem. Assume that when you check around for services available for the deaf child you discover that there are none confronted with this problem, one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one deaf child, you could make a problem-ori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assessm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step would be to discover the incidence of childhood deafness, both in the community and in the st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You might begin interviewing officials its schools health institutions to find out what has been done in the past with such problems  </a:t>
            </a:r>
            <a:endParaRPr b="0" lang="en-US" sz="2400" spc="-1" strike="noStrike">
              <a:solidFill>
                <a:srgbClr val="000000"/>
              </a:solidFill>
              <a:latin typeface="Arial"/>
            </a:endParaRPr>
          </a:p>
        </p:txBody>
      </p:sp>
      <p:sp>
        <p:nvSpPr>
          <p:cNvPr id="45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57" name="Slide Number Placeholder 7"/>
          <p:cNvGrpSpPr/>
          <p:nvPr/>
        </p:nvGrpSpPr>
        <p:grpSpPr>
          <a:xfrm>
            <a:off x="8296200" y="6334200"/>
            <a:ext cx="903240" cy="609480"/>
            <a:chOff x="8296200" y="6334200"/>
            <a:chExt cx="903240" cy="609480"/>
          </a:xfrm>
        </p:grpSpPr>
        <p:pic>
          <p:nvPicPr>
            <p:cNvPr id="458" name="Slide Number Placeholder 7" descr=""/>
            <p:cNvPicPr/>
            <p:nvPr/>
          </p:nvPicPr>
          <p:blipFill>
            <a:blip r:embed="rId1"/>
            <a:stretch/>
          </p:blipFill>
          <p:spPr>
            <a:xfrm>
              <a:off x="8296200" y="6334200"/>
              <a:ext cx="903240" cy="609480"/>
            </a:xfrm>
            <a:prstGeom prst="rect">
              <a:avLst/>
            </a:prstGeom>
            <a:ln w="0">
              <a:noFill/>
            </a:ln>
          </p:spPr>
        </p:pic>
        <p:sp>
          <p:nvSpPr>
            <p:cNvPr id="4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5B10-F33A-4992-8B66-0562E694116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8" name="Rectangle 13"/>
          <p:cNvSpPr/>
          <p:nvPr/>
        </p:nvSpPr>
        <p:spPr>
          <a:xfrm>
            <a:off x="714240" y="1643040"/>
            <a:ext cx="8143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ty health nurses work with clients at several levels: as individuals, families, groups, subpopulations, populations, and communities. Community as a client refers to the concept of community-wide group of people as the focus of nursing services </a:t>
            </a:r>
            <a:endParaRPr b="0" lang="en-US" sz="3600" spc="-1" strike="noStrike">
              <a:solidFill>
                <a:srgbClr val="000000"/>
              </a:solidFill>
              <a:latin typeface="Arial"/>
            </a:endParaRPr>
          </a:p>
        </p:txBody>
      </p:sp>
      <p:grpSp>
        <p:nvGrpSpPr>
          <p:cNvPr id="89" name="Slide Number Placeholder 7"/>
          <p:cNvGrpSpPr/>
          <p:nvPr/>
        </p:nvGrpSpPr>
        <p:grpSpPr>
          <a:xfrm>
            <a:off x="8296200" y="6334200"/>
            <a:ext cx="903240" cy="609480"/>
            <a:chOff x="8296200" y="6334200"/>
            <a:chExt cx="903240" cy="609480"/>
          </a:xfrm>
        </p:grpSpPr>
        <p:pic>
          <p:nvPicPr>
            <p:cNvPr id="90" name="Slide Number Placeholder 7" descr=""/>
            <p:cNvPicPr/>
            <p:nvPr/>
          </p:nvPicPr>
          <p:blipFill>
            <a:blip r:embed="rId1"/>
            <a:stretch/>
          </p:blipFill>
          <p:spPr>
            <a:xfrm>
              <a:off x="8296200" y="6334200"/>
              <a:ext cx="903240" cy="60948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B38E-DBB2-4E72-89C1-E73CE42F467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Group 6"/>
          <p:cNvGrpSpPr/>
          <p:nvPr/>
        </p:nvGrpSpPr>
        <p:grpSpPr>
          <a:xfrm>
            <a:off x="8648640" y="498600"/>
            <a:ext cx="306360" cy="122040"/>
            <a:chOff x="8648640" y="498600"/>
            <a:chExt cx="306360" cy="122040"/>
          </a:xfrm>
        </p:grpSpPr>
        <p:sp>
          <p:nvSpPr>
            <p:cNvPr id="4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blem-oriented assessment is commonly used when familiarization is not sufficient and a compreh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is too expensiv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type of assessment is responsive to a particular need. The data collected will be useful in any kind of planning for a community response to the problem.</a:t>
            </a:r>
            <a:endParaRPr b="0" lang="en-US" sz="2400" spc="-1" strike="noStrike">
              <a:solidFill>
                <a:srgbClr val="000000"/>
              </a:solidFill>
              <a:latin typeface="Arial"/>
            </a:endParaRPr>
          </a:p>
        </p:txBody>
      </p:sp>
      <p:sp>
        <p:nvSpPr>
          <p:cNvPr id="47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71" name="Slide Number Placeholder 7"/>
          <p:cNvGrpSpPr/>
          <p:nvPr/>
        </p:nvGrpSpPr>
        <p:grpSpPr>
          <a:xfrm>
            <a:off x="8296200" y="6334200"/>
            <a:ext cx="903240" cy="609480"/>
            <a:chOff x="8296200" y="6334200"/>
            <a:chExt cx="903240" cy="609480"/>
          </a:xfrm>
        </p:grpSpPr>
        <p:pic>
          <p:nvPicPr>
            <p:cNvPr id="472" name="Slide Number Placeholder 7" descr=""/>
            <p:cNvPicPr/>
            <p:nvPr/>
          </p:nvPicPr>
          <p:blipFill>
            <a:blip r:embed="rId1"/>
            <a:stretch/>
          </p:blipFill>
          <p:spPr>
            <a:xfrm>
              <a:off x="8296200" y="6334200"/>
              <a:ext cx="903240" cy="609480"/>
            </a:xfrm>
            <a:prstGeom prst="rect">
              <a:avLst/>
            </a:prstGeom>
            <a:ln w="0">
              <a:noFill/>
            </a:ln>
          </p:spPr>
        </p:pic>
        <p:sp>
          <p:nvSpPr>
            <p:cNvPr id="4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26F9-EACD-4371-A6F6-8CCEA3EBA48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6"/>
          <p:cNvGrpSpPr/>
          <p:nvPr/>
        </p:nvGrpSpPr>
        <p:grpSpPr>
          <a:xfrm>
            <a:off x="8648640" y="498600"/>
            <a:ext cx="306360" cy="122040"/>
            <a:chOff x="8648640" y="498600"/>
            <a:chExt cx="306360" cy="122040"/>
          </a:xfrm>
        </p:grpSpPr>
        <p:sp>
          <p:nvSpPr>
            <p:cNvPr id="4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4) Community Subsystem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N focuses on a single dimension of community lif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useful way for a team to conduct a more thorough community assessment. They could share their findings and create a more comprehensive picture of community and its nee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the nurse might decide to survey chur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religious organizations to discover their roles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p:txBody>
      </p:sp>
      <p:sp>
        <p:nvSpPr>
          <p:cNvPr id="48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85" name="Slide Number Placeholder 7"/>
          <p:cNvGrpSpPr/>
          <p:nvPr/>
        </p:nvGrpSpPr>
        <p:grpSpPr>
          <a:xfrm>
            <a:off x="8296200" y="6334200"/>
            <a:ext cx="903240" cy="609480"/>
            <a:chOff x="8296200" y="6334200"/>
            <a:chExt cx="903240" cy="609480"/>
          </a:xfrm>
        </p:grpSpPr>
        <p:pic>
          <p:nvPicPr>
            <p:cNvPr id="486" name="Slide Number Placeholder 7" descr=""/>
            <p:cNvPicPr/>
            <p:nvPr/>
          </p:nvPicPr>
          <p:blipFill>
            <a:blip r:embed="rId1"/>
            <a:stretch/>
          </p:blipFill>
          <p:spPr>
            <a:xfrm>
              <a:off x="8296200" y="6334200"/>
              <a:ext cx="903240" cy="609480"/>
            </a:xfrm>
            <a:prstGeom prst="rect">
              <a:avLst/>
            </a:prstGeom>
            <a:ln w="0">
              <a:noFill/>
            </a:ln>
          </p:spPr>
        </p:pic>
        <p:sp>
          <p:nvSpPr>
            <p:cNvPr id="4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D121-0F96-4162-928D-9C44243B484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5) Community Assets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focuses on the strengths and capacities of a community rather than the problems alo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s assessment begins with what is present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The capacities and skills of community memb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dentified, with a focus on creating or rebuilding relationships among local residents, associations, and institutions to multiply power and effectivenes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provide tools to conduct a complete functional community assessment and serves as a guide to the community for the nu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99" name="Slide Number Placeholder 7"/>
          <p:cNvGrpSpPr/>
          <p:nvPr/>
        </p:nvGrpSpPr>
        <p:grpSpPr>
          <a:xfrm>
            <a:off x="8296200" y="6334200"/>
            <a:ext cx="903240" cy="609480"/>
            <a:chOff x="8296200" y="6334200"/>
            <a:chExt cx="903240" cy="609480"/>
          </a:xfrm>
        </p:grpSpPr>
        <p:pic>
          <p:nvPicPr>
            <p:cNvPr id="500" name="Slide Number Placeholder 7" descr=""/>
            <p:cNvPicPr/>
            <p:nvPr/>
          </p:nvPicPr>
          <p:blipFill>
            <a:blip r:embed="rId1"/>
            <a:stretch/>
          </p:blipFill>
          <p:spPr>
            <a:xfrm>
              <a:off x="8296200" y="6334200"/>
              <a:ext cx="903240" cy="609480"/>
            </a:xfrm>
            <a:prstGeom prst="rect">
              <a:avLst/>
            </a:prstGeom>
            <a:ln w="0">
              <a:noFill/>
            </a:ln>
          </p:spPr>
        </p:pic>
        <p:sp>
          <p:nvSpPr>
            <p:cNvPr id="5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0D46-1226-4D0D-B8B6-57B2B4ABCE3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6"/>
          <p:cNvGrpSpPr/>
          <p:nvPr/>
        </p:nvGrpSpPr>
        <p:grpSpPr>
          <a:xfrm>
            <a:off x="8648640" y="498600"/>
            <a:ext cx="306360" cy="122040"/>
            <a:chOff x="8648640" y="498600"/>
            <a:chExt cx="306360" cy="122040"/>
          </a:xfrm>
        </p:grpSpPr>
        <p:sp>
          <p:nvSpPr>
            <p:cNvPr id="5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OMMUNITY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eeds may be assessed by a varie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Regardless of the assessment method used,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be collected. Data collection in community health requires the exercise of sound professional judgment, effective communication techniques, and special investigative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important methods are discussed here: </a:t>
            </a:r>
            <a:r>
              <a:rPr b="0" lang="en-US" sz="2400" spc="-1" strike="noStrike">
                <a:solidFill>
                  <a:srgbClr val="000099"/>
                </a:solidFill>
                <a:latin typeface="Comic Sans MS"/>
              </a:rPr>
              <a:t>surveys, descriptive epidemiologic studies, community forums or t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meetings, and 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omic Sans MS"/>
              </a:rPr>
              <a:t>Community  Assessment  method </a:t>
            </a:r>
            <a:endParaRPr b="0" lang="en-US" sz="1800" spc="-1" strike="noStrike">
              <a:solidFill>
                <a:srgbClr val="000000"/>
              </a:solidFill>
              <a:latin typeface="Arial"/>
            </a:endParaRPr>
          </a:p>
        </p:txBody>
      </p:sp>
      <p:grpSp>
        <p:nvGrpSpPr>
          <p:cNvPr id="513" name="Slide Number Placeholder 7"/>
          <p:cNvGrpSpPr/>
          <p:nvPr/>
        </p:nvGrpSpPr>
        <p:grpSpPr>
          <a:xfrm>
            <a:off x="8296200" y="6334200"/>
            <a:ext cx="903240" cy="609480"/>
            <a:chOff x="8296200" y="6334200"/>
            <a:chExt cx="903240" cy="609480"/>
          </a:xfrm>
        </p:grpSpPr>
        <p:pic>
          <p:nvPicPr>
            <p:cNvPr id="514" name="Slide Number Placeholder 7" descr=""/>
            <p:cNvPicPr/>
            <p:nvPr/>
          </p:nvPicPr>
          <p:blipFill>
            <a:blip r:embed="rId1"/>
            <a:stretch/>
          </p:blipFill>
          <p:spPr>
            <a:xfrm>
              <a:off x="8296200" y="6334200"/>
              <a:ext cx="903240" cy="609480"/>
            </a:xfrm>
            <a:prstGeom prst="rect">
              <a:avLst/>
            </a:prstGeom>
            <a:ln w="0">
              <a:noFill/>
            </a:ln>
          </p:spPr>
        </p:pic>
        <p:sp>
          <p:nvSpPr>
            <p:cNvPr id="5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0799-D2F9-4268-97B2-1D2D0D62E4F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3"/>
          <p:cNvSpPr/>
          <p:nvPr/>
        </p:nvSpPr>
        <p:spPr>
          <a:xfrm>
            <a:off x="826920" y="836640"/>
            <a:ext cx="72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Surve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urvey is an assessment method in which a series of questions is used to collect data for analysis of a specific group or area. Surveys are commonly used to provide a broad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data that will be helpful when used in conjunction with other sources or if other sources are not available. </a:t>
            </a:r>
            <a:endParaRPr b="0" lang="en-US" sz="2400" spc="-1" strike="noStrike">
              <a:solidFill>
                <a:srgbClr val="000000"/>
              </a:solidFill>
              <a:latin typeface="Arial"/>
            </a:endParaRPr>
          </a:p>
        </p:txBody>
      </p:sp>
      <p:sp>
        <p:nvSpPr>
          <p:cNvPr id="52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y  Assessment  Method </a:t>
            </a:r>
            <a:endParaRPr b="0" lang="en-US" sz="1800" spc="-1" strike="noStrike">
              <a:solidFill>
                <a:srgbClr val="000000"/>
              </a:solidFill>
              <a:latin typeface="Arial"/>
            </a:endParaRPr>
          </a:p>
        </p:txBody>
      </p:sp>
      <p:grpSp>
        <p:nvGrpSpPr>
          <p:cNvPr id="527" name="Slide Number Placeholder 7"/>
          <p:cNvGrpSpPr/>
          <p:nvPr/>
        </p:nvGrpSpPr>
        <p:grpSpPr>
          <a:xfrm>
            <a:off x="8296200" y="6334200"/>
            <a:ext cx="903240" cy="609480"/>
            <a:chOff x="8296200" y="6334200"/>
            <a:chExt cx="903240" cy="609480"/>
          </a:xfrm>
        </p:grpSpPr>
        <p:pic>
          <p:nvPicPr>
            <p:cNvPr id="528" name="Slide Number Placeholder 7" descr=""/>
            <p:cNvPicPr/>
            <p:nvPr/>
          </p:nvPicPr>
          <p:blipFill>
            <a:blip r:embed="rId1"/>
            <a:stretch/>
          </p:blipFill>
          <p:spPr>
            <a:xfrm>
              <a:off x="8296200" y="6334200"/>
              <a:ext cx="903240" cy="609480"/>
            </a:xfrm>
            <a:prstGeom prst="rect">
              <a:avLst/>
            </a:prstGeom>
            <a:ln w="0">
              <a:noFill/>
            </a:ln>
          </p:spPr>
        </p:pic>
        <p:sp>
          <p:nvSpPr>
            <p:cNvPr id="5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5D3F-FFCA-4210-BAB4-9F2B47F1E72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scriptive Epidemiologic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assessment method is a descriptive epidemiologic study, which examines the amount and distribution of a disease or health condition in a population by person (Who is affected?), by place (Where does the condition occur?), and by time (When do the cases occu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 to their value in assessing the health status of a population, descriptive epidemiologic studies are useful for suggesting which individuals are at greatest risk and where and when the condition might occur. They are also useful for health planning purposes and for suggesting hypotheses concerning disease etiology.</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munity  Assessment  Method </a:t>
            </a:r>
            <a:endParaRPr b="0" lang="en-US" sz="1800" spc="-1" strike="noStrike">
              <a:solidFill>
                <a:srgbClr val="000000"/>
              </a:solidFill>
              <a:latin typeface="Arial"/>
            </a:endParaRPr>
          </a:p>
        </p:txBody>
      </p:sp>
      <p:grpSp>
        <p:nvGrpSpPr>
          <p:cNvPr id="541" name="Slide Number Placeholder 7"/>
          <p:cNvGrpSpPr/>
          <p:nvPr/>
        </p:nvGrpSpPr>
        <p:grpSpPr>
          <a:xfrm>
            <a:off x="8296200" y="6334200"/>
            <a:ext cx="903240" cy="609480"/>
            <a:chOff x="8296200" y="6334200"/>
            <a:chExt cx="903240" cy="609480"/>
          </a:xfrm>
        </p:grpSpPr>
        <p:pic>
          <p:nvPicPr>
            <p:cNvPr id="542" name="Slide Number Placeholder 7" descr=""/>
            <p:cNvPicPr/>
            <p:nvPr/>
          </p:nvPicPr>
          <p:blipFill>
            <a:blip r:embed="rId1"/>
            <a:stretch/>
          </p:blipFill>
          <p:spPr>
            <a:xfrm>
              <a:off x="8296200" y="6334200"/>
              <a:ext cx="903240" cy="609480"/>
            </a:xfrm>
            <a:prstGeom prst="rect">
              <a:avLst/>
            </a:prstGeom>
            <a:ln w="0">
              <a:noFill/>
            </a:ln>
          </p:spPr>
        </p:pic>
        <p:sp>
          <p:nvSpPr>
            <p:cNvPr id="5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3802-791E-4643-9EEA-3A8B86F1CE1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6"/>
          <p:cNvGrpSpPr/>
          <p:nvPr/>
        </p:nvGrpSpPr>
        <p:grpSpPr>
          <a:xfrm>
            <a:off x="8648640" y="498600"/>
            <a:ext cx="306360" cy="122040"/>
            <a:chOff x="8648640" y="498600"/>
            <a:chExt cx="306360" cy="122040"/>
          </a:xfrm>
        </p:grpSpPr>
        <p:sp>
          <p:nvSpPr>
            <p:cNvPr id="5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Community Forums or Town Hall Meet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forum or town hall meeting is a qualit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method designed to obtain community opin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takes place in the neighborhood of the people invol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haps in a school gymnasium or an auditorium. The participants are selected to participate by invitation from the group organizing the forum. Members come from within the community and represent all segments of the community that are involved with the issue.</a:t>
            </a:r>
            <a:endParaRPr b="0" lang="en-US" sz="2400" spc="-1" strike="noStrike">
              <a:solidFill>
                <a:srgbClr val="000000"/>
              </a:solidFill>
              <a:latin typeface="Arial"/>
            </a:endParaRPr>
          </a:p>
        </p:txBody>
      </p:sp>
      <p:sp>
        <p:nvSpPr>
          <p:cNvPr id="55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grpSp>
        <p:nvGrpSpPr>
          <p:cNvPr id="555" name="Slide Number Placeholder 7"/>
          <p:cNvGrpSpPr/>
          <p:nvPr/>
        </p:nvGrpSpPr>
        <p:grpSpPr>
          <a:xfrm>
            <a:off x="8296200" y="6334200"/>
            <a:ext cx="903240" cy="609480"/>
            <a:chOff x="8296200" y="6334200"/>
            <a:chExt cx="903240" cy="609480"/>
          </a:xfrm>
        </p:grpSpPr>
        <p:pic>
          <p:nvPicPr>
            <p:cNvPr id="556" name="Slide Number Placeholder 7" descr=""/>
            <p:cNvPicPr/>
            <p:nvPr/>
          </p:nvPicPr>
          <p:blipFill>
            <a:blip r:embed="rId1"/>
            <a:stretch/>
          </p:blipFill>
          <p:spPr>
            <a:xfrm>
              <a:off x="8296200" y="6334200"/>
              <a:ext cx="903240" cy="609480"/>
            </a:xfrm>
            <a:prstGeom prst="rect">
              <a:avLst/>
            </a:prstGeom>
            <a:ln w="0">
              <a:noFill/>
            </a:ln>
          </p:spPr>
        </p:pic>
        <p:sp>
          <p:nvSpPr>
            <p:cNvPr id="5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1201-7A6D-4189-BFF2-75F89283A06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8648640" y="498600"/>
            <a:ext cx="306360" cy="122040"/>
            <a:chOff x="8648640" y="498600"/>
            <a:chExt cx="306360" cy="122040"/>
          </a:xfrm>
        </p:grpSpPr>
        <p:sp>
          <p:nvSpPr>
            <p:cNvPr id="5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3"/>
          <p:cNvSpPr/>
          <p:nvPr/>
        </p:nvSpPr>
        <p:spPr>
          <a:xfrm>
            <a:off x="214200" y="9810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fourth assessment method, focus groups, is similar to the community forum or town hall meeting in that it is designed to obtain grassroots opinion. However, it has some differences. First, there is only a small group of participants, usually 5 to 15 people. The members chosen for the group are homogeneous with respect to speci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variables. For example, a focus group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st of female community health nurses, young women in their first pregnancy,</a:t>
            </a:r>
            <a:endParaRPr b="0" lang="en-US" sz="2400" spc="-1" strike="noStrike">
              <a:solidFill>
                <a:srgbClr val="000000"/>
              </a:solidFill>
              <a:latin typeface="Arial"/>
            </a:endParaRPr>
          </a:p>
        </p:txBody>
      </p:sp>
      <p:sp>
        <p:nvSpPr>
          <p:cNvPr id="56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ommunity  Assessment  Method </a:t>
            </a:r>
            <a:endParaRPr b="0" lang="en-US" sz="1800" spc="-1" strike="noStrike">
              <a:solidFill>
                <a:srgbClr val="000000"/>
              </a:solidFill>
              <a:latin typeface="Arial"/>
            </a:endParaRPr>
          </a:p>
        </p:txBody>
      </p:sp>
      <p:grpSp>
        <p:nvGrpSpPr>
          <p:cNvPr id="569" name="Slide Number Placeholder 7"/>
          <p:cNvGrpSpPr/>
          <p:nvPr/>
        </p:nvGrpSpPr>
        <p:grpSpPr>
          <a:xfrm>
            <a:off x="8296200" y="6334200"/>
            <a:ext cx="903240" cy="609480"/>
            <a:chOff x="8296200" y="6334200"/>
            <a:chExt cx="903240" cy="609480"/>
          </a:xfrm>
        </p:grpSpPr>
        <p:pic>
          <p:nvPicPr>
            <p:cNvPr id="570" name="Slide Number Placeholder 7" descr=""/>
            <p:cNvPicPr/>
            <p:nvPr/>
          </p:nvPicPr>
          <p:blipFill>
            <a:blip r:embed="rId1"/>
            <a:stretch/>
          </p:blipFill>
          <p:spPr>
            <a:xfrm>
              <a:off x="8296200" y="6334200"/>
              <a:ext cx="903240" cy="609480"/>
            </a:xfrm>
            <a:prstGeom prst="rect">
              <a:avLst/>
            </a:prstGeom>
            <a:ln w="0">
              <a:noFill/>
            </a:ln>
          </p:spPr>
        </p:pic>
        <p:sp>
          <p:nvSpPr>
            <p:cNvPr id="5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9617-73D0-4A24-83B1-9433C761348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6"/>
          <p:cNvGrpSpPr/>
          <p:nvPr/>
        </p:nvGrpSpPr>
        <p:grpSpPr>
          <a:xfrm>
            <a:off x="8648640" y="498600"/>
            <a:ext cx="306360" cy="122040"/>
            <a:chOff x="8648640" y="498600"/>
            <a:chExt cx="306360" cy="122040"/>
          </a:xfrm>
        </p:grpSpPr>
        <p:sp>
          <p:nvSpPr>
            <p:cNvPr id="5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755640" y="85716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places the community health nurse can look for data to enhance and complete a community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ources can be primary or secondary, and they can be from international, national, state, or local sources.</a:t>
            </a:r>
            <a:endParaRPr b="0" lang="en-US" sz="2400" spc="-1" strike="noStrike">
              <a:solidFill>
                <a:srgbClr val="000000"/>
              </a:solidFill>
              <a:latin typeface="Arial"/>
            </a:endParaRPr>
          </a:p>
        </p:txBody>
      </p:sp>
      <p:sp>
        <p:nvSpPr>
          <p:cNvPr id="58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583" name="Slide Number Placeholder 7"/>
          <p:cNvGrpSpPr/>
          <p:nvPr/>
        </p:nvGrpSpPr>
        <p:grpSpPr>
          <a:xfrm>
            <a:off x="8296200" y="6334200"/>
            <a:ext cx="903240" cy="609480"/>
            <a:chOff x="8296200" y="6334200"/>
            <a:chExt cx="903240" cy="609480"/>
          </a:xfrm>
        </p:grpSpPr>
        <p:pic>
          <p:nvPicPr>
            <p:cNvPr id="584" name="Slide Number Placeholder 7" descr=""/>
            <p:cNvPicPr/>
            <p:nvPr/>
          </p:nvPicPr>
          <p:blipFill>
            <a:blip r:embed="rId1"/>
            <a:stretch/>
          </p:blipFill>
          <p:spPr>
            <a:xfrm>
              <a:off x="8296200" y="6334200"/>
              <a:ext cx="903240" cy="60948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3124-0813-4BE0-8B61-FC432C88193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ake use of many sources in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on. Community members, including formal lea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 leaders, and community inhabitants, can frequent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 the most accurate insights and comprehensive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gathered by talking to people provides prim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because the data are obtained directly from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a:t>
            </a:r>
            <a:endParaRPr b="0" lang="en-US" sz="2400" spc="-1" strike="noStrike">
              <a:solidFill>
                <a:srgbClr val="000000"/>
              </a:solidFill>
              <a:latin typeface="Arial"/>
            </a:endParaRPr>
          </a:p>
        </p:txBody>
      </p:sp>
      <p:sp>
        <p:nvSpPr>
          <p:cNvPr id="5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grpSp>
        <p:nvGrpSpPr>
          <p:cNvPr id="597" name="Slide Number Placeholder 7"/>
          <p:cNvGrpSpPr/>
          <p:nvPr/>
        </p:nvGrpSpPr>
        <p:grpSpPr>
          <a:xfrm>
            <a:off x="8296200" y="6334200"/>
            <a:ext cx="903240" cy="609480"/>
            <a:chOff x="8296200" y="6334200"/>
            <a:chExt cx="903240" cy="609480"/>
          </a:xfrm>
        </p:grpSpPr>
        <p:pic>
          <p:nvPicPr>
            <p:cNvPr id="598" name="Slide Number Placeholder 7" descr=""/>
            <p:cNvPicPr/>
            <p:nvPr/>
          </p:nvPicPr>
          <p:blipFill>
            <a:blip r:embed="rId1"/>
            <a:stretch/>
          </p:blipFill>
          <p:spPr>
            <a:xfrm>
              <a:off x="8296200" y="6334200"/>
              <a:ext cx="903240" cy="60948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DE69-8AC7-4C93-879C-D6D5E6A841A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03" name="Rectangle 13"/>
          <p:cNvSpPr/>
          <p:nvPr/>
        </p:nvSpPr>
        <p:spPr>
          <a:xfrm>
            <a:off x="285840" y="1285920"/>
            <a:ext cx="85723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as having three featur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yst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1443-70D4-48BC-A6C4-E1A74D8FEC5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statistics, Census Bureau data, reference books, research reports, and community health nurses. Because secondary data may not totally describe the community and do not necessarily reflect community self-perceptions, they may need augmentation or further validation</a:t>
            </a:r>
            <a:endParaRPr b="0" lang="en-US" sz="2400" spc="-1" strike="noStrike">
              <a:solidFill>
                <a:srgbClr val="000000"/>
              </a:solidFill>
              <a:latin typeface="Arial"/>
            </a:endParaRPr>
          </a:p>
        </p:txBody>
      </p:sp>
      <p:sp>
        <p:nvSpPr>
          <p:cNvPr id="61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11" name="Slide Number Placeholder 7"/>
          <p:cNvGrpSpPr/>
          <p:nvPr/>
        </p:nvGrpSpPr>
        <p:grpSpPr>
          <a:xfrm>
            <a:off x="8296200" y="6334200"/>
            <a:ext cx="903240" cy="609480"/>
            <a:chOff x="8296200" y="6334200"/>
            <a:chExt cx="903240" cy="609480"/>
          </a:xfrm>
        </p:grpSpPr>
        <p:pic>
          <p:nvPicPr>
            <p:cNvPr id="612" name="Slide Number Placeholder 7" descr=""/>
            <p:cNvPicPr/>
            <p:nvPr/>
          </p:nvPicPr>
          <p:blipFill>
            <a:blip r:embed="rId1"/>
            <a:stretch/>
          </p:blipFill>
          <p:spPr>
            <a:xfrm>
              <a:off x="8296200" y="6334200"/>
              <a:ext cx="903240" cy="609480"/>
            </a:xfrm>
            <a:prstGeom prst="rect">
              <a:avLst/>
            </a:prstGeom>
            <a:ln w="0">
              <a:noFill/>
            </a:ln>
          </p:spPr>
        </p:pic>
        <p:sp>
          <p:nvSpPr>
            <p:cNvPr id="6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FFFF-1A7D-48F6-9C98-4D874865AE3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6"/>
          <p:cNvGrpSpPr/>
          <p:nvPr/>
        </p:nvGrpSpPr>
        <p:grpSpPr>
          <a:xfrm>
            <a:off x="8648640" y="498600"/>
            <a:ext cx="306360" cy="122040"/>
            <a:chOff x="8648640" y="498600"/>
            <a:chExt cx="306360" cy="122040"/>
          </a:xfrm>
        </p:grpSpPr>
        <p:sp>
          <p:nvSpPr>
            <p:cNvPr id="6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nternation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tional data are collected by several agencies, including the World Health Organization (WHO) and its six regional offices and health organizations, such as the 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Health Organization. In addition, the Un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s and global specialty organizations that focus on certain populations or health problems, such as the United Nations Children’s Fund, are major sources of intern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related data. WHO publishes an annual report of their activity (World Health Organization, 2003), and international statistics for diseases and illness trends can be found on the Internet.</a:t>
            </a:r>
            <a:endParaRPr b="0" lang="en-US" sz="2400" spc="-1" strike="noStrike">
              <a:solidFill>
                <a:srgbClr val="000000"/>
              </a:solidFill>
              <a:latin typeface="Arial"/>
            </a:endParaRPr>
          </a:p>
        </p:txBody>
      </p:sp>
      <p:sp>
        <p:nvSpPr>
          <p:cNvPr id="62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25" name="Slide Number Placeholder 7"/>
          <p:cNvGrpSpPr/>
          <p:nvPr/>
        </p:nvGrpSpPr>
        <p:grpSpPr>
          <a:xfrm>
            <a:off x="8296200" y="6334200"/>
            <a:ext cx="903240" cy="609480"/>
            <a:chOff x="8296200" y="6334200"/>
            <a:chExt cx="903240" cy="609480"/>
          </a:xfrm>
        </p:grpSpPr>
        <p:pic>
          <p:nvPicPr>
            <p:cNvPr id="626" name="Slide Number Placeholder 7" descr=""/>
            <p:cNvPicPr/>
            <p:nvPr/>
          </p:nvPicPr>
          <p:blipFill>
            <a:blip r:embed="rId1"/>
            <a:stretch/>
          </p:blipFill>
          <p:spPr>
            <a:xfrm>
              <a:off x="8296200" y="6334200"/>
              <a:ext cx="903240" cy="609480"/>
            </a:xfrm>
            <a:prstGeom prst="rect">
              <a:avLst/>
            </a:prstGeom>
            <a:ln w="0">
              <a:noFill/>
            </a:ln>
          </p:spPr>
        </p:pic>
        <p:sp>
          <p:nvSpPr>
            <p:cNvPr id="62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05A0-1461-4054-A8D8-D4D4528FE0D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6"/>
          <p:cNvGrpSpPr/>
          <p:nvPr/>
        </p:nvGrpSpPr>
        <p:grpSpPr>
          <a:xfrm>
            <a:off x="8648640" y="498600"/>
            <a:ext cx="306360" cy="122040"/>
            <a:chOff x="8648640" y="498600"/>
            <a:chExt cx="306360" cy="122040"/>
          </a:xfrm>
        </p:grpSpPr>
        <p:sp>
          <p:nvSpPr>
            <p:cNvPr id="6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63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39" name="Slide Number Placeholder 7"/>
          <p:cNvGrpSpPr/>
          <p:nvPr/>
        </p:nvGrpSpPr>
        <p:grpSpPr>
          <a:xfrm>
            <a:off x="8296200" y="6334200"/>
            <a:ext cx="903240" cy="609480"/>
            <a:chOff x="8296200" y="6334200"/>
            <a:chExt cx="903240" cy="609480"/>
          </a:xfrm>
        </p:grpSpPr>
        <p:pic>
          <p:nvPicPr>
            <p:cNvPr id="640" name="Slide Number Placeholder 7" descr=""/>
            <p:cNvPicPr/>
            <p:nvPr/>
          </p:nvPicPr>
          <p:blipFill>
            <a:blip r:embed="rId1"/>
            <a:stretch/>
          </p:blipFill>
          <p:spPr>
            <a:xfrm>
              <a:off x="8296200" y="6334200"/>
              <a:ext cx="903240" cy="609480"/>
            </a:xfrm>
            <a:prstGeom prst="rect">
              <a:avLst/>
            </a:prstGeom>
            <a:ln w="0">
              <a:noFill/>
            </a:ln>
          </p:spPr>
        </p:pic>
        <p:sp>
          <p:nvSpPr>
            <p:cNvPr id="6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8C0A-7962-4218-82E6-7EECDAE440E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6"/>
          <p:cNvGrpSpPr/>
          <p:nvPr/>
        </p:nvGrpSpPr>
        <p:grpSpPr>
          <a:xfrm>
            <a:off x="8648640" y="498600"/>
            <a:ext cx="306360" cy="122040"/>
            <a:chOff x="8648640" y="498600"/>
            <a:chExt cx="306360" cy="122040"/>
          </a:xfrm>
        </p:grpSpPr>
        <p:sp>
          <p:nvSpPr>
            <p:cNvPr id="6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2268360" y="0"/>
            <a:ext cx="648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AT IS A HEALTHY COMMUNITY?</a:t>
            </a:r>
            <a:endParaRPr b="0" lang="en-US" sz="1800" spc="-1" strike="noStrike">
              <a:solidFill>
                <a:srgbClr val="000000"/>
              </a:solidFill>
              <a:latin typeface="Arial"/>
            </a:endParaRPr>
          </a:p>
        </p:txBody>
      </p:sp>
      <p:sp>
        <p:nvSpPr>
          <p:cNvPr id="652" name="Rectangle 13"/>
          <p:cNvSpPr/>
          <p:nvPr/>
        </p:nvSpPr>
        <p:spPr>
          <a:xfrm>
            <a:off x="179280" y="692280"/>
            <a:ext cx="8785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A HEALTHY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their complexity, criteria for healthy communities must be discussed cautiously. At present, there is not wide agreement on such criteria, but four important characteristics of a competent or healthy community were outlined by Cottrell (1976) and are still relevant today. A competent community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llaborate effectively in identifying community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gree on ways and means to implement the agreed-up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ollaborate effectively to take the required actions</a:t>
            </a:r>
            <a:endParaRPr b="0" lang="en-US" sz="2400" spc="-1" strike="noStrike">
              <a:solidFill>
                <a:srgbClr val="000000"/>
              </a:solidFill>
              <a:latin typeface="Arial"/>
            </a:endParaRPr>
          </a:p>
        </p:txBody>
      </p:sp>
      <p:grpSp>
        <p:nvGrpSpPr>
          <p:cNvPr id="653" name="Slide Number Placeholder 7"/>
          <p:cNvGrpSpPr/>
          <p:nvPr/>
        </p:nvGrpSpPr>
        <p:grpSpPr>
          <a:xfrm>
            <a:off x="8296200" y="6334200"/>
            <a:ext cx="903240" cy="609480"/>
            <a:chOff x="8296200" y="6334200"/>
            <a:chExt cx="903240" cy="609480"/>
          </a:xfrm>
        </p:grpSpPr>
        <p:pic>
          <p:nvPicPr>
            <p:cNvPr id="654" name="Slide Number Placeholder 7" descr=""/>
            <p:cNvPicPr/>
            <p:nvPr/>
          </p:nvPicPr>
          <p:blipFill>
            <a:blip r:embed="rId1"/>
            <a:stretch/>
          </p:blipFill>
          <p:spPr>
            <a:xfrm>
              <a:off x="8296200" y="6334200"/>
              <a:ext cx="903240" cy="609480"/>
            </a:xfrm>
            <a:prstGeom prst="rect">
              <a:avLst/>
            </a:prstGeom>
            <a:ln w="0">
              <a:noFill/>
            </a:ln>
          </p:spPr>
        </p:pic>
        <p:sp>
          <p:nvSpPr>
            <p:cNvPr id="6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555A-2982-4B37-B83E-32E2AEBB281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1403280" y="857160"/>
            <a:ext cx="645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tion</a:t>
            </a:r>
            <a:endParaRPr b="0" lang="en-US" sz="3200" spc="-1" strike="noStrike">
              <a:solidFill>
                <a:srgbClr val="000000"/>
              </a:solidFill>
              <a:latin typeface="Arial"/>
            </a:endParaRPr>
          </a:p>
        </p:txBody>
      </p:sp>
      <p:sp>
        <p:nvSpPr>
          <p:cNvPr id="118" name="Rectangle 13"/>
          <p:cNvSpPr/>
          <p:nvPr/>
        </p:nvSpPr>
        <p:spPr>
          <a:xfrm>
            <a:off x="611280" y="1285920"/>
            <a:ext cx="806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 physical community carries out its daily existence in a specific geographic location. The health of a community is affected by location of health services, geographic the features, climate, plants, animals, and the humanmade environmen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grpSp>
        <p:nvGrpSpPr>
          <p:cNvPr id="119" name="Slide Number Placeholder 7"/>
          <p:cNvGrpSpPr/>
          <p:nvPr/>
        </p:nvGrpSpPr>
        <p:grpSpPr>
          <a:xfrm>
            <a:off x="8296200" y="6334200"/>
            <a:ext cx="903240" cy="609480"/>
            <a:chOff x="8296200" y="6334200"/>
            <a:chExt cx="903240" cy="609480"/>
          </a:xfrm>
        </p:grpSpPr>
        <p:pic>
          <p:nvPicPr>
            <p:cNvPr id="120" name="Slide Number Placeholder 7" descr=""/>
            <p:cNvPicPr/>
            <p:nvPr/>
          </p:nvPicPr>
          <p:blipFill>
            <a:blip r:embed="rId1"/>
            <a:stretch/>
          </p:blipFill>
          <p:spPr>
            <a:xfrm>
              <a:off x="8296200" y="6334200"/>
              <a:ext cx="903240" cy="60948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2D0E-CD84-4620-BED5-E958465A936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3"/>
          <p:cNvSpPr/>
          <p:nvPr/>
        </p:nvSpPr>
        <p:spPr>
          <a:xfrm>
            <a:off x="285840" y="907920"/>
            <a:ext cx="88581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ation variabl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boundari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is the community locat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its boundar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 part of a larger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smaller communities does it include? </a:t>
            </a:r>
            <a:endParaRPr b="0" lang="en-US" sz="2400" spc="-1" strike="noStrike">
              <a:solidFill>
                <a:srgbClr val="000000"/>
              </a:solidFill>
              <a:latin typeface="Arial"/>
            </a:endParaRPr>
          </a:p>
        </p:txBody>
      </p:sp>
      <p:grpSp>
        <p:nvGrpSpPr>
          <p:cNvPr id="133" name="Slide Number Placeholder 7"/>
          <p:cNvGrpSpPr/>
          <p:nvPr/>
        </p:nvGrpSpPr>
        <p:grpSpPr>
          <a:xfrm>
            <a:off x="8296200" y="6334200"/>
            <a:ext cx="903240" cy="609480"/>
            <a:chOff x="8296200" y="6334200"/>
            <a:chExt cx="903240" cy="609480"/>
          </a:xfrm>
        </p:grpSpPr>
        <p:pic>
          <p:nvPicPr>
            <p:cNvPr id="134" name="Slide Number Placeholder 7" descr=""/>
            <p:cNvPicPr/>
            <p:nvPr/>
          </p:nvPicPr>
          <p:blipFill>
            <a:blip r:embed="rId1"/>
            <a:stretch/>
          </p:blipFill>
          <p:spPr>
            <a:xfrm>
              <a:off x="8296200" y="6334200"/>
              <a:ext cx="903240" cy="60948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A876-1D87-46D1-8A13-80F9CDEC09D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3"/>
          <p:cNvSpPr/>
          <p:nvPr/>
        </p:nvSpPr>
        <p:spPr>
          <a:xfrm>
            <a:off x="285840" y="83664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ocation of health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 major health institutions loc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necessary health institutions are outside the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y?</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065A-8ABF-49B5-AF0F-C6592CB87D4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539640" y="907920"/>
            <a:ext cx="7993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r>
              <a:rPr b="1" lang="en-US" sz="2800" spc="-1" strike="noStrike">
                <a:solidFill>
                  <a:srgbClr val="000000"/>
                </a:solidFill>
                <a:latin typeface="Comic Sans MS"/>
              </a:rPr>
              <a:t>geographic featur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jury, death, and destruction may be caused by floods, earthquakes, volcanoes, tornadoes, or hurrica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major landforms are in or near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pose possible thre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offer opportunities for healthful activities?</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16D3-7EF3-479A-A8BC-72BEFF3E7D7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684360" y="836640"/>
            <a:ext cx="792000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lim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remes of heat and cold affect health and illness. Extremes of temperature and precipitation may tax community’s coping abi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average temperature and precipi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extre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climatic features affect health and fit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the community prepared to cope with emergencies?</a:t>
            </a: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CBEC-9835-4CCB-AA81-7EE33AABEDE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3:55Z</dcterms:modified>
  <cp:revision>229</cp:revision>
  <dc:subject/>
  <dc:title>Slide 1</dc:title>
</cp:coreProperties>
</file>