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368-69D0-472E-861B-9D9E1589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6B4-4105-44F0-88D1-00F5ED7C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F1B-EAEA-42A4-AF62-054A5E8A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20F-3CAC-4015-8EF8-1FC95E21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3FA-11D9-4752-BBE2-EE356699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645-7D48-499E-B7C2-FB7C3F86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404-E6A6-4CF5-BCFB-C8F2FBA3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1EA-2D1E-4CA5-AFBB-B5D4EBDE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635-E8EA-46E0-9EAD-716FD658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25D2-D81D-4464-B8AA-7FCC5E40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187-E008-4DC9-9131-F963E8E0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381-1CBB-41E8-909B-225C66E2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AF0E-F50C-4E90-AEA1-DCB4E1017B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حاضرة الراب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شعة المرئية وانعكاسها من مواد السط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100080" y="27000"/>
            <a:ext cx="894384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85920" y="498600"/>
            <a:ext cx="8372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-119160" y="22320"/>
            <a:ext cx="93823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04920" y="23184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114480" y="69840"/>
            <a:ext cx="89154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0" y="457200"/>
            <a:ext cx="91519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0" y="264960"/>
            <a:ext cx="91440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-9360" y="79200"/>
            <a:ext cx="9162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165320" y="44280"/>
            <a:ext cx="744516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171360" y="88920"/>
            <a:ext cx="880128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104760" y="208080"/>
            <a:ext cx="89344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223920" y="-4680"/>
            <a:ext cx="95918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19080" y="19080"/>
            <a:ext cx="91821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0" y="-825480"/>
            <a:ext cx="9144000" cy="75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363600"/>
                <a:tab algn="l" pos="615960"/>
                <a:tab algn="l" pos="968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تأثير الخصائص الكهربائية للسطح على أشعة الرا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363600"/>
                <a:tab algn="l" pos="615960"/>
                <a:tab algn="l" pos="968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615960"/>
                <a:tab algn="l" pos="968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تقاس الخصائص الكهربائية للمادة بما يسمى  ثابت العازل المركب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electric Constant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ذي يؤثر في كمية الطاقة الكهرومغناطيسية  المنعكس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615960"/>
                <a:tab algn="l" pos="968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ترتبط قيمة ثابت العازل المركب في المواد بتوفر الشحنات الكهربائية الحر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ee Electrical Charges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فيها. فإذا كانت  قيمة ثابت العازل للمادة كبيرة فان المادة تعكس كمية كبيرة من الأشعة الكهرومغناطيسية المرسلة من  الرادار، وتمتص قليلا منها مثل المياه والمعادن  الفلز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615960"/>
                <a:tab algn="l" pos="968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المياه  مثلا تعكس (انعكاس براق) معظم الأشعة الساقطة من الرادار؛ وذلك لأن  قيمة ثابت العازل فيها يصل إل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في النطا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615960"/>
                <a:tab algn="l" pos="968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أما إذا  انخفضت قيمة ثابت العازل للمادة فإنها تمتص كمية  كبيرة من الطاقة مؤدية إلى تغلغلها إلى ما تحت  السط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615960"/>
                <a:tab algn="l" pos="968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والمواد الطبيعية الجافة يتراوح ثابت العازل فيها مابي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إلى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، ولذلك تسمح بتغلغل طاقة الرادار في نطا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إلى أعماق تصل إلى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أمتا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-223920" y="0"/>
            <a:ext cx="949644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76040" y="-28440"/>
            <a:ext cx="949608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38160" y="42840"/>
            <a:ext cx="922032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38160" y="-33480"/>
            <a:ext cx="9067680" cy="692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255600" y="76320"/>
            <a:ext cx="9399600" cy="68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76040" y="-195120"/>
            <a:ext cx="9496080" cy="72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را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faculty.ksu.edu.sa/geography-alsaleh/default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-76320" y="117360"/>
            <a:ext cx="92966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57240" y="522360"/>
            <a:ext cx="90295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6480" y="838080"/>
            <a:ext cx="913752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شكل6"/>
          <p:cNvPicPr/>
          <p:nvPr/>
        </p:nvPicPr>
        <p:blipFill>
          <a:blip r:embed="rId1"/>
          <a:srcRect l="10889" t="46200" r="42271" b="36230"/>
          <a:stretch/>
        </p:blipFill>
        <p:spPr>
          <a:xfrm>
            <a:off x="689040" y="3106800"/>
            <a:ext cx="7007040" cy="367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871992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-152280" y="274680"/>
            <a:ext cx="935352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-96840" y="353880"/>
            <a:ext cx="931716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7520" y="79200"/>
            <a:ext cx="90489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2:12:04Z</dcterms:created>
  <dc:creator>may</dc:creator>
  <dc:description/>
  <dc:language>en-US</dc:language>
  <cp:lastModifiedBy>mey</cp:lastModifiedBy>
  <dcterms:modified xsi:type="dcterms:W3CDTF">2014-03-02T12:04:57Z</dcterms:modified>
  <cp:revision>109</cp:revision>
  <dc:subject/>
  <dc:title>Slide 1</dc:title>
</cp:coreProperties>
</file>