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46B-9049-412F-BA3C-82473E9F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48A-C891-4A72-B10B-367E9E8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B31-CA04-441C-B12B-31043C5D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7F9-A517-45E1-B0BC-FDB32F6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463-81FE-4DA5-88D3-61EA6BA3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D19-6DDC-4D85-A319-19611561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B3A-2D0D-439C-9E10-DA083DBA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7B2-81E7-45F2-8FA4-C14AE83B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824-7906-4803-A9B0-55BE5CD6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EED-EA8E-4FE9-9BDC-F592F75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E1D-C680-43B7-82F9-5B93D377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CA9-AACF-4C41-8564-8A28DD8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99B3-DD74-4774-909B-30D922BBE3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حاضر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شعة المرئية وانعكاسها من مواد السط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100080" y="27000"/>
            <a:ext cx="8943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85920" y="498600"/>
            <a:ext cx="8372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-119160" y="22320"/>
            <a:ext cx="9382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114480" y="69840"/>
            <a:ext cx="89154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457200"/>
            <a:ext cx="91519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0" y="264960"/>
            <a:ext cx="9144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-9360" y="79200"/>
            <a:ext cx="9162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165320" y="44280"/>
            <a:ext cx="744516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171360" y="88920"/>
            <a:ext cx="88012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104760" y="208080"/>
            <a:ext cx="89344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223920" y="-4680"/>
            <a:ext cx="9591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9080" y="19080"/>
            <a:ext cx="9182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-825480"/>
            <a:ext cx="914400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تأثير الخصائص الكهربائية للسطح على أشعة الرا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تقاس الخصائص الكهربائية للمادة بما يسمى  ثابت العازل المركب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electric Constant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ذي يؤثر في كمية الطاقة الكهرومغناطيسية  المنعكس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ترتبط قيمة ثابت العازل المركب في المواد بتوفر الشحنات الكهربائية الحر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ee Electrical Charges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فيها. فإذا كانت  قيمة ثابت العازل للمادة كبيرة فان المادة تعكس كمية كبيرة من الأشعة الكهرومغناطيسية المرسلة من  الرادار، وتمتص قليلا منها مثل المياه والمعادن  الفلز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المياه  مثلا تعكس (انعكاس براق) معظم الأشعة الساقطة من الرادار؛ وذلك لأن  قيمة ثابت العازل فيها يصل إ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في النطا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أما إذا  انخفضت قيمة ثابت العازل للمادة فإنها تمتص كمية  كبيرة من الطاقة مؤدية إلى تغلغلها إلى ما تحت  السط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والمواد الطبيعية الجافة يتراوح ثابت العازل فيها مابي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إل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، ولذلك تسمح بتغلغل طاقة الرادار في نطا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إلى أعماق تصل إل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أمت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-223920" y="0"/>
            <a:ext cx="949644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76040" y="-28440"/>
            <a:ext cx="94960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38160" y="42840"/>
            <a:ext cx="92203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38160" y="-33480"/>
            <a:ext cx="906768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255600" y="76320"/>
            <a:ext cx="9399600" cy="68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76040" y="-195120"/>
            <a:ext cx="9496080" cy="72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-76320" y="117360"/>
            <a:ext cx="9296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7240" y="522360"/>
            <a:ext cx="90295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480" y="838080"/>
            <a:ext cx="913752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شكل6"/>
          <p:cNvPicPr/>
          <p:nvPr/>
        </p:nvPicPr>
        <p:blipFill>
          <a:blip r:embed="rId1"/>
          <a:srcRect l="10889" t="46200" r="42271" b="36230"/>
          <a:stretch/>
        </p:blipFill>
        <p:spPr>
          <a:xfrm>
            <a:off x="689040" y="3106800"/>
            <a:ext cx="7007040" cy="367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7199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-152280" y="274680"/>
            <a:ext cx="93535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96840" y="353880"/>
            <a:ext cx="931716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7520" y="79200"/>
            <a:ext cx="90489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2:12:04Z</dcterms:created>
  <dc:creator>may</dc:creator>
  <dc:description/>
  <dc:language>en-US</dc:language>
  <cp:lastModifiedBy>mey</cp:lastModifiedBy>
  <dcterms:modified xsi:type="dcterms:W3CDTF">2014-03-02T12:04:57Z</dcterms:modified>
  <cp:revision>109</cp:revision>
  <dc:subject/>
  <dc:title>Slide 1</dc:title>
</cp:coreProperties>
</file>