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0032-BFA1-4617-A916-3DE13576D5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8E65-42ED-4BD1-8423-F12208F3B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89C7-3C47-4EED-869C-C0187A98D3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40EA-96D7-4DA0-84AC-4F9314B7AF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3E32-347E-4230-843B-FC6D1C816F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6DFB-594B-4E64-A7AC-56C517DD4A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3A02-F3F4-476C-BE61-5A65F1614C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CEF3-249B-4095-94FC-48CE1ED34A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85A2-804A-4BDF-8172-71F701C7BF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7BC0-BC32-475A-A1AC-407E4ABD55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43AA-CF5D-42EF-83D4-B15826D334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F987-5B37-4D2C-BBCF-568AA196F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DEF7-050C-4A40-8AD3-B36199312C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37AD-888F-4F9B-A4F6-158496AB1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C70-1E65-4371-8B9D-29A100A9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9520-49E6-49D9-9272-C7CA4F5E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A3B-1850-489F-98D6-BD030B79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17A-D6B9-4245-927B-28B43A70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F35E-C305-4815-A3A2-BF2AC610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15A6-18BF-403F-AE73-1E29B64F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9053-B27C-4430-A7EA-CDF9A3BD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265F1-4A1F-4462-A02C-75BBE640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4B37-F047-4C69-9969-D884169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B0BF-8697-43AB-B5EF-B957C5F0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4AB1-A2D8-4CA7-B94B-1E54EA50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6A4-E168-44D8-B9CF-9BCC8317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600F-7928-4852-B9DE-B1DEB7FA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1174-43CC-46CD-8AAD-F0B394B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34C9-2AE2-4F46-89E8-D18179F8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0758-8697-460E-B170-055EEA50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33E5-BD2C-4617-B924-1277BDE6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E64D-CE7E-4D19-8F45-BB9BCEBA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9DD0-07E0-4262-995F-12845BE1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1EEC-36B2-4951-B804-63A6ED91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FD41F-434E-4A77-A0A9-B6A5407F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D305-37B4-46D3-AA2E-436D1F7A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B92-B37C-4471-ABC1-593A8355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6299-54CD-4910-963A-A7468BC1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BDF1-8D39-4F42-8305-9D16153B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7C3F-5BA8-47C3-8445-EB5B3B60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0B61-25C4-44AF-AFDC-E1035AD4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941D-42BC-4672-B8B7-9BC9B9B4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FEBD-BC2F-47C6-947F-00FBEB58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E607-D4B8-4391-802F-6DAF89ED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756E-9C54-419F-96C0-21D10431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50A8-2F4E-4FCF-8E43-4649FCC3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B44EB-84C2-41B7-BEFF-F88BAAF4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4BF7-FEAD-4D00-A3B4-C4543DFA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45076-390B-4926-995E-FE51AFF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162B9-347B-4438-BDB2-03F12075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B0121-AE33-41D4-A665-BFB6127D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A169C-2895-43A5-B427-A236C31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F570B-957D-413A-9ED5-1DAEECAC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F363-328F-4D80-A55C-C4582F75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7E8DA-E918-40C9-96F0-01DE4304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EC1A8-292D-4126-9D1C-E75FB0BA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D43B0-ABDC-4323-91C8-F71D121B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E8B9B-187B-41F5-BB13-AE9E6E54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541-863C-4096-B0AF-E32687F1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F8D4C-AB94-4481-AA60-53F026AA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8017-42A7-40EF-9268-95A3CA6B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227C4-5BE7-40F3-B472-63A36508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5E885-9E7C-4C1E-9F9B-32792881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54B97-1DAB-4D2F-B348-C2AD3ADE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5B3C1-4393-4065-A6AB-D8177C9D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D6B89-BC79-46A6-A86E-728E0201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AEA3B-B1CA-4137-B84E-57E5F6B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8D5F5-DC33-4D8D-8361-664DC42B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D17D4-E7B7-4D02-B210-395D4A5C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33F-76F1-441F-A8F2-14477CA7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DE868-9FC7-46C3-8537-C5650E7A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B329C-13DC-459A-8F2E-D65F8CA5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2965D-A913-4F18-BEC3-E0A52826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0E4DB-D191-40D2-BA9A-264C8F23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D5F98-4344-4547-8954-AE89F0F4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1A642-29D8-41FF-BC31-03311B09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5F00B-9A4A-4D96-A75E-4D18829D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EB05F-032C-4320-BCFF-4F3C7778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4C9C2-0E65-495E-8516-0BEE336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99536-5DB5-4578-AEE7-B952AE27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81A-E4D4-4E46-8C6D-DD815094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1EAE3-8835-4F6A-AB7C-64E2A32E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2667-32A5-4E2D-B97D-1F53424F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AD8CF-701F-45E3-9F19-79849345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F1F96-4C90-4880-9B4C-C0F52D32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0E5D9-1363-4E27-B8C3-C7A8D89E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D7503-5DEF-464E-997E-5B3D01A7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788E7-98EE-4D95-AAD4-44B9206D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90AE9-5699-4CC2-A1BD-98EC702D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AEB01-94E6-47AA-85ED-CD0B5997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C9719-B2DF-466B-8031-2AA9DE75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D35A-C646-4533-BA18-10DDBA99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A2597-E342-4CD4-9F72-27DF7638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6970-3628-4416-861D-A5E60BEA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78A84-ED19-4BE6-AE53-920CE981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C418E-A4CF-49C0-9D0E-8CB7C3AB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C1E40-33D2-40E5-A047-1578FBD5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AD42-7EB7-4CF3-9A65-14265E42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4446-574C-4FEE-A6F2-02DAF096D55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71DE-8E45-48E9-B2E7-517F977F393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65BA-8B47-44FF-8A89-7FA162D5988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887B-761E-428A-89B9-815301D2476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2253-EC78-4B39-B296-1C827552792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F9EC-7245-4F9D-B5B5-61E0C507C97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1297-2985-4D61-93E9-A87BEA3F43A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D2DE-2CF9-4312-8FDB-C44387430D8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1925-5EF5-4EE1-BDE9-168DFAEB6A6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FAB3-E80B-4547-90FE-5BF3DC98203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A9F5-C6B6-48A7-83CF-BA56CCC01A6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4404-1A09-4764-B022-9FE5B7AEA3B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1680" y="12175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1680" y="12823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4680" y="137016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4680" y="143496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6560" y="14731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6560" y="15379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2E81-E412-47D3-B7AD-5B4334B6008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1EBB-5D9A-4995-AF97-85D8D9BBDDB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biotic Sensitivity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273af"/>
                </a:solidFill>
                <a:uFillTx/>
                <a:latin typeface="Corbe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1)   Broth dilut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2)   Agar diffusion (solid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a)   Kirby-Bauer test (= disc tes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 b)  Stock’s method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a) Kirby-Bauer Test  </a:t>
            </a:r>
            <a:r>
              <a:rPr b="0" lang="en-GB" sz="3200" spc="-1" strike="noStrike">
                <a:solidFill>
                  <a:srgbClr val="ff0066"/>
                </a:solidFill>
                <a:latin typeface="Consolas"/>
              </a:rPr>
              <a:t>(disc diffusion test) (Sold agar test)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47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resh organism suspended in broth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0.5 MaCfaraland standar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wab organism all over the plate even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Place discs containing specified concentration of different antibiotics on the pl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Kirby-Bauer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Incubate 37C x 24h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Measure diameter of Clear zone around the  disc .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Inhibition zon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Use tables to assess if zone size indica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     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resistance or sensitivity to that antibiot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Kirby-Bauer Test 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disc diffusion test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7" name="Content Placeholder 3" descr="antibiotika3"/>
          <p:cNvPicPr/>
          <p:nvPr/>
        </p:nvPicPr>
        <p:blipFill>
          <a:blip r:embed="rId1"/>
          <a:stretch/>
        </p:blipFill>
        <p:spPr>
          <a:xfrm>
            <a:off x="990720" y="2438280"/>
            <a:ext cx="4546440" cy="32133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38" name="Picture 4" descr="antibiotika2"/>
          <p:cNvPicPr/>
          <p:nvPr/>
        </p:nvPicPr>
        <p:blipFill>
          <a:blip r:embed="rId2"/>
          <a:stretch/>
        </p:blipFill>
        <p:spPr>
          <a:xfrm>
            <a:off x="5943600" y="2438280"/>
            <a:ext cx="2655720" cy="3200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How to Streak the sensitivity plate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merge swab then remove excess by pressing against wall of tub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db1"/>
                </a:solidFill>
                <a:latin typeface="Corbel"/>
              </a:rPr>
              <a:t>Do one line in the center of plate by swab then spread even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b6ff"/>
                </a:solidFill>
                <a:latin typeface="Corbel"/>
              </a:rPr>
              <a:t>Add antibiotic disks using needl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orbel"/>
              </a:rPr>
              <a:t>Always work near flame to avoid contamin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Don’t put disk near the ed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Oval 3"/>
          <p:cNvSpPr/>
          <p:nvPr/>
        </p:nvSpPr>
        <p:spPr>
          <a:xfrm>
            <a:off x="7924680" y="281952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f6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5"/>
          <p:cNvSpPr/>
          <p:nvPr/>
        </p:nvSpPr>
        <p:spPr>
          <a:xfrm flipH="1">
            <a:off x="8381520" y="2971800"/>
            <a:ext cx="1800" cy="60804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B)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pretation based on comparison betwe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zones seen with the test organism &amp; those of the known sensitive contro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3276720" y="3429000"/>
            <a:ext cx="2743200" cy="2666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5"/>
          <p:cNvSpPr/>
          <p:nvPr/>
        </p:nvSpPr>
        <p:spPr>
          <a:xfrm>
            <a:off x="3352680" y="4724280"/>
            <a:ext cx="2667240" cy="3816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7" name="Straight Arrow Connector 7"/>
          <p:cNvCxnSpPr/>
          <p:nvPr/>
        </p:nvCxnSpPr>
        <p:spPr>
          <a:xfrm flipV="1">
            <a:off x="5562720" y="3657240"/>
            <a:ext cx="915120" cy="38160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48" name="TextBox 8"/>
          <p:cNvSpPr/>
          <p:nvPr/>
        </p:nvSpPr>
        <p:spPr>
          <a:xfrm>
            <a:off x="6486480" y="3352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Q.C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Straight Arrow Connector 10"/>
          <p:cNvCxnSpPr/>
          <p:nvPr/>
        </p:nvCxnSpPr>
        <p:spPr>
          <a:xfrm>
            <a:off x="5410080" y="5334120"/>
            <a:ext cx="991440" cy="45792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50" name="TextBox 12"/>
          <p:cNvSpPr/>
          <p:nvPr/>
        </p:nvSpPr>
        <p:spPr>
          <a:xfrm>
            <a:off x="6474240" y="56386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est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5"/>
          <p:cNvSpPr/>
          <p:nvPr/>
        </p:nvSpPr>
        <p:spPr>
          <a:xfrm>
            <a:off x="3886200" y="4572000"/>
            <a:ext cx="30492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Straight Arrow Connector 18"/>
          <p:cNvCxnSpPr>
            <a:stCxn id="452" idx="6"/>
          </p:cNvCxnSpPr>
          <p:nvPr/>
        </p:nvCxnSpPr>
        <p:spPr>
          <a:xfrm flipV="1">
            <a:off x="5409720" y="4419360"/>
            <a:ext cx="1677240" cy="3052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triangle" w="med"/>
          </a:ln>
        </p:spPr>
      </p:cxnSp>
      <p:sp>
        <p:nvSpPr>
          <p:cNvPr id="454" name="TextBox 19"/>
          <p:cNvSpPr/>
          <p:nvPr/>
        </p:nvSpPr>
        <p:spPr>
          <a:xfrm>
            <a:off x="709668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Antibiotic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rcRect l="18750" t="14307" r="16252" b="14031"/>
          <a:stretch/>
        </p:blipFill>
        <p:spPr>
          <a:xfrm>
            <a:off x="228600" y="1600200"/>
            <a:ext cx="4883040" cy="4038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rcRect l="26251" t="15000" r="20002" b="15000"/>
          <a:stretch/>
        </p:blipFill>
        <p:spPr>
          <a:xfrm>
            <a:off x="5029200" y="1600200"/>
            <a:ext cx="4130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157a"/>
                </a:solidFill>
                <a:latin typeface="Consolas"/>
              </a:rPr>
              <a:t>Results of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 &gt; C    or     T = C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  Sensiti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&lt; C 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Resistanc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  <p:pic>
        <p:nvPicPr>
          <p:cNvPr id="462" name="Content Placeholder 7" descr="sensi disc dispenser.jpg"/>
          <p:cNvPicPr/>
          <p:nvPr/>
        </p:nvPicPr>
        <p:blipFill>
          <a:blip r:embed="rId2"/>
          <a:stretch/>
        </p:blipFill>
        <p:spPr>
          <a:xfrm>
            <a:off x="914400" y="533520"/>
            <a:ext cx="4267080" cy="4267080"/>
          </a:xfrm>
          <a:prstGeom prst="rect">
            <a:avLst/>
          </a:prstGeom>
          <a:ln w="31680">
            <a:solidFill>
              <a:srgbClr val="ea157a"/>
            </a:solidFill>
            <a:miter/>
          </a:ln>
        </p:spPr>
      </p:pic>
      <p:sp>
        <p:nvSpPr>
          <p:cNvPr id="463" name="TextBox 8"/>
          <p:cNvSpPr/>
          <p:nvPr/>
        </p:nvSpPr>
        <p:spPr>
          <a:xfrm>
            <a:off x="789480" y="5562720"/>
            <a:ext cx="80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ttp://rfdp.seafdec.org.ph/publication/manual/antibiotics/chapter2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5" name="Content Placeholder 3" descr="disk zone reader.gif"/>
          <p:cNvPicPr/>
          <p:nvPr/>
        </p:nvPicPr>
        <p:blipFill>
          <a:blip r:embed="rId1"/>
          <a:stretch/>
        </p:blipFill>
        <p:spPr>
          <a:xfrm>
            <a:off x="2133720" y="1371600"/>
            <a:ext cx="4574880" cy="5126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nsolas"/>
              </a:rPr>
              <a:t>Sir Alexander Fleming</a:t>
            </a:r>
            <a:br>
              <a:rPr sz="3600"/>
            </a:br>
            <a:r>
              <a:rPr b="0" lang="en-GB" sz="2500" spc="-1" strike="noStrike">
                <a:solidFill>
                  <a:srgbClr val="ff0066"/>
                </a:solidFill>
                <a:latin typeface="Consolas"/>
              </a:rPr>
              <a:t>(1881 –1955)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5" descr="fleming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73600"/>
          </a:xfrm>
          <a:prstGeom prst="rect">
            <a:avLst/>
          </a:prstGeom>
          <a:ln w="25560">
            <a:solidFill>
              <a:srgbClr val="ff0066"/>
            </a:solidFill>
            <a:miter/>
          </a:ln>
        </p:spPr>
      </p:pic>
      <p:sp>
        <p:nvSpPr>
          <p:cNvPr id="388" name="TextBox 5"/>
          <p:cNvSpPr/>
          <p:nvPr/>
        </p:nvSpPr>
        <p:spPr>
          <a:xfrm>
            <a:off x="3976920" y="1905120"/>
            <a:ext cx="4803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One sometimes finds what one is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looking for“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enicil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990720" y="480060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He observed inhibition of staphylococci on an ag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plate contamin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by a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0066"/>
                </a:solidFill>
                <a:latin typeface="Arial"/>
              </a:rPr>
              <a:t>Penicillium</a:t>
            </a: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 m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8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1371600" y="2209680"/>
            <a:ext cx="2386080" cy="2286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157a"/>
                </a:solidFill>
                <a:latin typeface="Consolas"/>
              </a:rPr>
              <a:t>Antibiotics are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Natural or synthetic products that are used to kill or stop the growth of Bacteria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ostatic - stop growth (don't kill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cidal – kil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Classification According to Mode of A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2971800" y="2209680"/>
            <a:ext cx="3886200" cy="2895840"/>
          </a:xfrm>
          <a:prstGeom prst="ellipse">
            <a:avLst/>
          </a:prstGeom>
          <a:solidFill>
            <a:srgbClr val="fbd0e4"/>
          </a:solidFill>
          <a:ln w="7632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3048120" y="2286000"/>
            <a:ext cx="3733560" cy="2743200"/>
          </a:xfrm>
          <a:prstGeom prst="ellipse">
            <a:avLst/>
          </a:prstGeom>
          <a:solidFill>
            <a:srgbClr val="f7a1ca"/>
          </a:solidFill>
          <a:ln w="76320">
            <a:solidFill>
              <a:srgbClr val="f7a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3352680" y="2438280"/>
            <a:ext cx="3124440" cy="2438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0" name="Curved Connector 35"/>
          <p:cNvCxnSpPr/>
          <p:nvPr/>
        </p:nvCxnSpPr>
        <p:spPr>
          <a:xfrm flipH="1" rot="16200000">
            <a:off x="4686120" y="3237840"/>
            <a:ext cx="68652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1" name="Curved Connector 37"/>
          <p:cNvCxnSpPr/>
          <p:nvPr/>
        </p:nvCxnSpPr>
        <p:spPr>
          <a:xfrm flipV="1" rot="16200000">
            <a:off x="5028480" y="3656880"/>
            <a:ext cx="686520" cy="533880"/>
          </a:xfrm>
          <a:prstGeom prst="curvedConnector5">
            <a:avLst>
              <a:gd name="adj1" fmla="val 36044"/>
              <a:gd name="adj2" fmla="val 50000"/>
              <a:gd name="adj3" fmla="val 36044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2" name="Curved Connector 41"/>
          <p:cNvCxnSpPr/>
          <p:nvPr/>
        </p:nvCxnSpPr>
        <p:spPr>
          <a:xfrm flipV="1" rot="16200000">
            <a:off x="4266720" y="2666160"/>
            <a:ext cx="610200" cy="457920"/>
          </a:xfrm>
          <a:prstGeom prst="curvedConnector5">
            <a:avLst>
              <a:gd name="adj1" fmla="val 43270"/>
              <a:gd name="adj2" fmla="val 49960"/>
              <a:gd name="adj3" fmla="val 4327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3" name="Curved Connector 47"/>
          <p:cNvCxnSpPr/>
          <p:nvPr/>
        </p:nvCxnSpPr>
        <p:spPr>
          <a:xfrm flipH="1" rot="16200000">
            <a:off x="4495680" y="2895120"/>
            <a:ext cx="610560" cy="610560"/>
          </a:xfrm>
          <a:prstGeom prst="curvedConnector5">
            <a:avLst>
              <a:gd name="adj1" fmla="val 56696"/>
              <a:gd name="adj2" fmla="val 49970"/>
              <a:gd name="adj3" fmla="val 56696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4" name="Curved Connector 60"/>
          <p:cNvCxnSpPr/>
          <p:nvPr/>
        </p:nvCxnSpPr>
        <p:spPr>
          <a:xfrm flipV="1" rot="16200000">
            <a:off x="5333400" y="3961800"/>
            <a:ext cx="648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sp>
        <p:nvSpPr>
          <p:cNvPr id="405" name="Oval 63"/>
          <p:cNvSpPr/>
          <p:nvPr/>
        </p:nvSpPr>
        <p:spPr>
          <a:xfrm>
            <a:off x="38862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43434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48006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Straight Connector 75" descr=""/>
          <p:cNvPicPr/>
          <p:nvPr/>
        </p:nvPicPr>
        <p:blipFill>
          <a:blip r:embed="rId1"/>
          <a:stretch/>
        </p:blipFill>
        <p:spPr>
          <a:xfrm>
            <a:off x="3651120" y="4243320"/>
            <a:ext cx="1756080" cy="1954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0"/>
          <p:cNvSpPr/>
          <p:nvPr/>
        </p:nvSpPr>
        <p:spPr>
          <a:xfrm>
            <a:off x="3513960" y="3733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" name="Straight Arrow Connector 82"/>
          <p:cNvCxnSpPr/>
          <p:nvPr/>
        </p:nvCxnSpPr>
        <p:spPr>
          <a:xfrm>
            <a:off x="2133720" y="2819520"/>
            <a:ext cx="1372320" cy="38160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11" name="Rectangle 84" descr=""/>
          <p:cNvPicPr/>
          <p:nvPr/>
        </p:nvPicPr>
        <p:blipFill>
          <a:blip r:embed="rId2"/>
          <a:stretch/>
        </p:blipFill>
        <p:spPr>
          <a:xfrm>
            <a:off x="6924600" y="1590840"/>
            <a:ext cx="2073240" cy="1542960"/>
          </a:xfrm>
          <a:prstGeom prst="rect">
            <a:avLst/>
          </a:prstGeom>
          <a:ln w="0">
            <a:noFill/>
          </a:ln>
        </p:spPr>
      </p:pic>
      <p:cxnSp>
        <p:nvCxnSpPr>
          <p:cNvPr id="412" name="Straight Arrow Connector 87"/>
          <p:cNvCxnSpPr/>
          <p:nvPr/>
        </p:nvCxnSpPr>
        <p:spPr>
          <a:xfrm flipH="1" flipV="1">
            <a:off x="5257080" y="3656880"/>
            <a:ext cx="1677240" cy="1220040"/>
          </a:xfrm>
          <a:prstGeom prst="straightConnector1">
            <a:avLst/>
          </a:prstGeom>
          <a:ln w="38160">
            <a:solidFill>
              <a:srgbClr val="007eea"/>
            </a:solidFill>
            <a:miter/>
            <a:tailEnd len="med" type="triangle" w="med"/>
          </a:ln>
        </p:spPr>
      </p:cxnSp>
      <p:cxnSp>
        <p:nvCxnSpPr>
          <p:cNvPr id="413" name="Straight Arrow Connector 89"/>
          <p:cNvCxnSpPr/>
          <p:nvPr/>
        </p:nvCxnSpPr>
        <p:spPr>
          <a:xfrm flipH="1">
            <a:off x="6552720" y="2133360"/>
            <a:ext cx="457920" cy="686520"/>
          </a:xfrm>
          <a:prstGeom prst="straightConnector1">
            <a:avLst/>
          </a:prstGeom>
          <a:ln w="3816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4" name="Straight Arrow Connector 90"/>
          <p:cNvCxnSpPr/>
          <p:nvPr/>
        </p:nvCxnSpPr>
        <p:spPr>
          <a:xfrm flipH="1">
            <a:off x="2590560" y="4114800"/>
            <a:ext cx="1219680" cy="838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415" name="Rectangle 94" descr=""/>
          <p:cNvPicPr/>
          <p:nvPr/>
        </p:nvPicPr>
        <p:blipFill>
          <a:blip r:embed="rId3"/>
          <a:stretch/>
        </p:blipFill>
        <p:spPr>
          <a:xfrm>
            <a:off x="1060560" y="2657520"/>
            <a:ext cx="1616040" cy="1085760"/>
          </a:xfrm>
          <a:prstGeom prst="rect">
            <a:avLst/>
          </a:prstGeom>
          <a:ln w="0">
            <a:noFill/>
          </a:ln>
        </p:spPr>
      </p:pic>
      <p:pic>
        <p:nvPicPr>
          <p:cNvPr id="416" name="Rectangle 98" descr=""/>
          <p:cNvPicPr/>
          <p:nvPr/>
        </p:nvPicPr>
        <p:blipFill>
          <a:blip r:embed="rId4"/>
          <a:stretch/>
        </p:blipFill>
        <p:spPr>
          <a:xfrm>
            <a:off x="6699240" y="4791240"/>
            <a:ext cx="1841400" cy="1238040"/>
          </a:xfrm>
          <a:prstGeom prst="rect">
            <a:avLst/>
          </a:prstGeom>
          <a:ln w="0">
            <a:noFill/>
          </a:ln>
        </p:spPr>
      </p:pic>
      <p:grpSp>
        <p:nvGrpSpPr>
          <p:cNvPr id="417" name="Rectangle 102"/>
          <p:cNvGrpSpPr/>
          <p:nvPr/>
        </p:nvGrpSpPr>
        <p:grpSpPr>
          <a:xfrm>
            <a:off x="1743120" y="5095800"/>
            <a:ext cx="1768320" cy="1158840"/>
            <a:chOff x="1743120" y="5095800"/>
            <a:chExt cx="1768320" cy="1158840"/>
          </a:xfrm>
        </p:grpSpPr>
        <p:pic>
          <p:nvPicPr>
            <p:cNvPr id="418" name="Rectangle 102" descr=""/>
            <p:cNvPicPr/>
            <p:nvPr/>
          </p:nvPicPr>
          <p:blipFill>
            <a:blip r:embed="rId5"/>
            <a:stretch/>
          </p:blipFill>
          <p:spPr>
            <a:xfrm>
              <a:off x="1743120" y="5095800"/>
              <a:ext cx="17683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828800" y="5181480"/>
              <a:ext cx="1600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Inhibit protein synth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strain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organisms obtained from the American Type Culture Collection (ATCC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should be grown in standard condition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have a known recorded sensitivity to antibiot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Medium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How to prepare standard inoculum size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inoculum should have turbidity equivalent to 0.5 McFarland stand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uld be from a freshly overnight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McFaraland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ade by dissolving barium sulphate in water with different concentra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.5 McFaraland have a turbidity equivalent to 1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Apple User</cp:lastModifiedBy>
  <dcterms:modified xsi:type="dcterms:W3CDTF">2012-04-27T16:59:18Z</dcterms:modified>
  <cp:revision>146</cp:revision>
  <dc:subject/>
  <dc:title>Slide 1</dc:title>
</cp:coreProperties>
</file>