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98BF-175F-488D-AA86-91BB71D93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B941-DC8E-46AE-8F75-28EEFAAA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3C62-6BD4-4BDF-9BED-01B117F1B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8CA1-2378-4B40-8F24-F8FFE7DB1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17C-3B56-404A-A21C-F75BFA9510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9E82-9142-4BB6-9D18-284C106174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D9CC-DABA-4663-AD82-04D8A672F2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320E-1860-49BA-B0D2-BF0D9FAD9D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42BF-FDA5-4A29-8E58-0870B1CBC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253-C290-4633-9A9D-155E3CBFB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9AC9-F316-42F5-B2C0-03A9E6BEC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B0C6-2C74-416E-82F0-A07BEB1D0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F2D-7923-4BCE-BEC8-71FCDBD390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C13A-7242-4BFF-AF86-D39D7B0C4D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87F-EBEC-4502-9C51-F69240F4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D26-8AEF-4B25-9A8C-FADD6AC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3B0-5B15-43C2-A9C6-D358B518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538-9BCA-4744-BC30-162C65EA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2298-A133-47DC-8E95-2B72C659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E5A7-00E0-41EA-860C-FD80B51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6A25-F0E5-4A32-A2F1-C6A332C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8934-6328-440D-A504-3E31C4E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A406-DA60-4822-AD85-21313DD0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FB4D-F2A4-48D5-84F0-24D770A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FFC3-2BA0-49DB-AE37-B7658D9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2B6-DE3F-4D12-83E8-3462158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7EED-C468-48C2-A8BA-2FA0D00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5C06-0C83-4BFD-B924-9D9877E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6859-BCC0-4FBD-BF6B-33BCC898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24B3-4FBD-4092-8E41-5A4B2B77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79A9-FD8C-49E7-A0FC-B2D23F2B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780B-0686-42C3-BEC9-B67D85B0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923A-2BA4-4EB3-A434-08D46A12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15C2-954F-485E-BB7B-C525B24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CFD7-3D9D-4FDB-A86B-283244E7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DFCF-B9F9-49FB-A059-7804453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18C-6B9E-4865-BAE9-C4482A4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C685-8BA0-463D-B49C-E793D10E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5DE1-EBBF-4CD9-AC77-2E404C1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5859-0183-4267-874C-EDB1DE5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03B6-4E02-46D5-BF21-E4B58DFA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C1D1-BE26-4D51-97FA-1273260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6362-CB39-44AA-A198-6955667F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580F-2F3D-4E27-8403-78E6F5AD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B0D5-1503-4617-8B4F-EB098A68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576E-7897-42CF-AB02-54131E3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9023-6D63-408B-B830-9241724E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263-991F-45D5-AE56-25F662E8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27AA-A3E3-4F2E-A126-14A09A7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ACDD-03E0-4ED7-B86E-ACA605C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7768-6352-435F-B69B-C39C546B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949D-3652-43B5-817D-D6831CE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3296-C8DD-4FCD-AE04-B006C22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A60E-914A-4D00-AA85-DEF4858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FA49-1D3D-492A-8B1D-E45BBB6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BB03-6562-447F-91A1-7D4E0604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9EA2-43F6-4FA8-AE00-A2656B37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7ADC-6902-4DBC-B586-99D80D09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0F4-8E92-43B1-B1FF-1A0021BF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B704-08ED-4B51-8608-AA1F41E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6799-CF43-48A2-B432-F464F69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AC79-2E2B-47FD-BB06-CCBBBD54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4B85-AF73-402C-87F0-8FB1CE06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7E933-4609-4D9F-8F17-857B443D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5995-4F9D-462C-AB07-584A509D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BBFD8-3874-45AB-981B-2E87F3D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5F0CF-1CDA-48CC-AC1F-BFBD5335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2522-40B2-43A7-B9C4-3D11BE9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8334-CFD5-4171-82C0-8F2904BD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C64-0485-4611-9A9F-E82B009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0179-537D-46CA-9760-A03978C4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230AD-9DF6-4FDA-AD1F-FF4EEE1A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A96C-3259-42AA-8ABA-96612A03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BAF49-73E5-4A50-ABE6-BC7B315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91ECA-B6BB-4D8C-95A5-D20FC478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FD7B3-9999-46DC-B1BE-BADB6028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68F5-3FB8-4D0F-813D-C9BADA5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1FD1-7CE9-4630-9015-FC5C39F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6BB0D-964E-4BEB-B077-C8E906D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3E349-B969-48C7-BD93-4B4F0AE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13F-4594-4EB3-89AA-5961669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CD3F8-6F8E-47B0-859D-7C607421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5B02-D3D5-4AEA-8630-1B181DE0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8697E-BA59-4D3F-8EFB-9E74F950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8C74-B7BD-43D2-A12B-0E6E063D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3BE8-E43D-4A45-8149-E0C9E2E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08DD-5479-4F09-ACDA-06D5FC4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0880-783C-46DE-92A3-FFC5D167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A935C-FF32-4D4A-938E-D19EE409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DDF9-0A9B-4028-AC80-A62C3E3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0661-48BA-434E-908F-CE3D80C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113-3865-46BB-9CFB-0AD7BA5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E60F2-DB73-4E8C-BD36-EB79D35E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4E31-904A-414D-8A66-8B878CB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52E31-6B25-421B-A4A6-B344616C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3BF8-146F-4BFE-95D6-0C163AA3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4803-FA99-456C-A5FB-CA99941A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5F8-C8AC-4735-B827-6304166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57CE-FB4B-4176-8C78-0FC1F331B17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706-B762-4542-BB02-6ECDD85733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50F4-3E43-4955-B4D6-6C3C8E0A0B9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A90-0601-4801-A6B6-72DA3DDA16C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DDA8-3EFC-41E6-BD7F-3DDC1B40EFE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7787-BB0D-4DA5-A299-E2892D24E65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128-E6F4-4353-B2FE-D231765C725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4D3-5EF9-491B-9FF7-7D10186B260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AC29-4F90-4DD4-8B8D-D06008FED3E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6D18-9B5A-43D4-80D0-64261BB8415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36E-3CDE-4EE4-BAE2-AF45A9C295F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A361-6365-4118-A5B2-B5602A40E9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8463-DA69-4D5D-833A-305FA869878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61B0-253A-43F0-BE0E-13074E085F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a) Kirby-Bauer Test  </a:t>
            </a: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(disc diffusion test) (Sold agar test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47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resh organism suspended in broth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0.5 MaCfaraland standar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wab organism all over the plate even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Place discs containing specified concentration of different antibiotics on the pl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Kirby-Bauer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Incubate 37C x 24h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Measure diameter of Clear zone around the  disc .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Inhibition zon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Use tables to assess if zone size indic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resistance or sensitivity to that antibiot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Kirby-Bauer Test 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disc diffusion test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Content Placeholder 3" descr="antibiotika3"/>
          <p:cNvPicPr/>
          <p:nvPr/>
        </p:nvPicPr>
        <p:blipFill>
          <a:blip r:embed="rId1"/>
          <a:stretch/>
        </p:blipFill>
        <p:spPr>
          <a:xfrm>
            <a:off x="990720" y="2438280"/>
            <a:ext cx="4546440" cy="32133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38" name="Picture 4" descr="antibiotika2"/>
          <p:cNvPicPr/>
          <p:nvPr/>
        </p:nvPicPr>
        <p:blipFill>
          <a:blip r:embed="rId2"/>
          <a:stretch/>
        </p:blipFill>
        <p:spPr>
          <a:xfrm>
            <a:off x="5943600" y="2438280"/>
            <a:ext cx="2655720" cy="3200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How to Streak the sensitivity plat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merge swab then remove excess by pressing against wall of tu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db1"/>
                </a:solidFill>
                <a:latin typeface="Corbel"/>
              </a:rPr>
              <a:t>Do one line in the center of plate by swab then spread even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b6ff"/>
                </a:solidFill>
                <a:latin typeface="Corbel"/>
              </a:rPr>
              <a:t>Add antibiotic disks using need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orbel"/>
              </a:rPr>
              <a:t>Always work near flame to avoid contami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Don’t put disk near the ed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7924680" y="28195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f6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H="1">
            <a:off x="8381520" y="2971800"/>
            <a:ext cx="1800" cy="60804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B)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pretation based on comparison betw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zones seen with the test organism &amp; those of the known sensitive contr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3276720" y="3429000"/>
            <a:ext cx="2743200" cy="2666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5"/>
          <p:cNvSpPr/>
          <p:nvPr/>
        </p:nvSpPr>
        <p:spPr>
          <a:xfrm>
            <a:off x="3352680" y="4724280"/>
            <a:ext cx="2667240" cy="3816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7"/>
          <p:cNvCxnSpPr/>
          <p:nvPr/>
        </p:nvCxnSpPr>
        <p:spPr>
          <a:xfrm flipV="1">
            <a:off x="5562720" y="3657240"/>
            <a:ext cx="915120" cy="38160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48" name="TextBox 8"/>
          <p:cNvSpPr/>
          <p:nvPr/>
        </p:nvSpPr>
        <p:spPr>
          <a:xfrm>
            <a:off x="6486480" y="3352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Q.C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Straight Arrow Connector 10"/>
          <p:cNvCxnSpPr/>
          <p:nvPr/>
        </p:nvCxnSpPr>
        <p:spPr>
          <a:xfrm>
            <a:off x="5410080" y="5334120"/>
            <a:ext cx="991440" cy="45792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50" name="TextBox 12"/>
          <p:cNvSpPr/>
          <p:nvPr/>
        </p:nvSpPr>
        <p:spPr>
          <a:xfrm>
            <a:off x="6474240" y="56386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est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886200" y="4572000"/>
            <a:ext cx="30492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52" idx="6"/>
          </p:cNvCxnSpPr>
          <p:nvPr/>
        </p:nvCxnSpPr>
        <p:spPr>
          <a:xfrm flipV="1">
            <a:off x="5409720" y="4419360"/>
            <a:ext cx="1677240" cy="305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triangle" w="med"/>
          </a:ln>
        </p:spPr>
      </p:cxnSp>
      <p:sp>
        <p:nvSpPr>
          <p:cNvPr id="454" name="TextBox 19"/>
          <p:cNvSpPr/>
          <p:nvPr/>
        </p:nvSpPr>
        <p:spPr>
          <a:xfrm>
            <a:off x="709668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Antibiotic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18750" t="14307" r="16252" b="14031"/>
          <a:stretch/>
        </p:blipFill>
        <p:spPr>
          <a:xfrm>
            <a:off x="228600" y="1600200"/>
            <a:ext cx="4883040" cy="4038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6251" t="15000" r="20002" b="15000"/>
          <a:stretch/>
        </p:blipFill>
        <p:spPr>
          <a:xfrm>
            <a:off x="5029200" y="1600200"/>
            <a:ext cx="4130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157a"/>
                </a:solidFill>
                <a:latin typeface="Consolas"/>
              </a:rPr>
              <a:t>Results of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 &gt; C    or     T = C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  Sensiti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&lt; C 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Resistan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  <p:pic>
        <p:nvPicPr>
          <p:cNvPr id="462" name="Content Placeholder 7" descr="sensi disc dispenser.jpg"/>
          <p:cNvPicPr/>
          <p:nvPr/>
        </p:nvPicPr>
        <p:blipFill>
          <a:blip r:embed="rId2"/>
          <a:stretch/>
        </p:blipFill>
        <p:spPr>
          <a:xfrm>
            <a:off x="914400" y="533520"/>
            <a:ext cx="4267080" cy="4267080"/>
          </a:xfrm>
          <a:prstGeom prst="rect">
            <a:avLst/>
          </a:prstGeom>
          <a:ln w="31680">
            <a:solidFill>
              <a:srgbClr val="ea157a"/>
            </a:solidFill>
            <a:miter/>
          </a:ln>
        </p:spPr>
      </p:pic>
      <p:sp>
        <p:nvSpPr>
          <p:cNvPr id="463" name="TextBox 8"/>
          <p:cNvSpPr/>
          <p:nvPr/>
        </p:nvSpPr>
        <p:spPr>
          <a:xfrm>
            <a:off x="789480" y="5562720"/>
            <a:ext cx="80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://rfdp.seafdec.org.ph/publication/manual/antibiotics/chapter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5" name="Content Placeholder 3" descr="disk zone reader.gif"/>
          <p:cNvPicPr/>
          <p:nvPr/>
        </p:nvPicPr>
        <p:blipFill>
          <a:blip r:embed="rId1"/>
          <a:stretch/>
        </p:blipFill>
        <p:spPr>
          <a:xfrm>
            <a:off x="2133720" y="1371600"/>
            <a:ext cx="4574880" cy="5126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nsolas"/>
              </a:rPr>
              <a:t>Sir Alexander Fleming</a:t>
            </a:r>
            <a:br>
              <a:rPr sz="3600"/>
            </a:br>
            <a:r>
              <a:rPr b="0" lang="en-GB" sz="2500" spc="-1" strike="noStrike">
                <a:solidFill>
                  <a:srgbClr val="ff0066"/>
                </a:solidFill>
                <a:latin typeface="Consolas"/>
              </a:rPr>
              <a:t>(1881 –1955)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5" descr="fleming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73600"/>
          </a:xfrm>
          <a:prstGeom prst="rect">
            <a:avLst/>
          </a:prstGeom>
          <a:ln w="25560">
            <a:solidFill>
              <a:srgbClr val="ff0066"/>
            </a:solidFill>
            <a:miter/>
          </a:ln>
        </p:spPr>
      </p:pic>
      <p:sp>
        <p:nvSpPr>
          <p:cNvPr id="388" name="TextBox 5"/>
          <p:cNvSpPr/>
          <p:nvPr/>
        </p:nvSpPr>
        <p:spPr>
          <a:xfrm>
            <a:off x="3976920" y="1905120"/>
            <a:ext cx="480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One sometimes finds what one is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looking for“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enicil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990720" y="480060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He observed inhibition of staphylococci on an ag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plate contamin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by a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66"/>
                </a:solidFill>
                <a:latin typeface="Arial"/>
              </a:rPr>
              <a:t>Penicillium</a:t>
            </a: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 m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8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1371600" y="2209680"/>
            <a:ext cx="238608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Classification According to Mode of A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2971800" y="2209680"/>
            <a:ext cx="3886200" cy="2895840"/>
          </a:xfrm>
          <a:prstGeom prst="ellipse">
            <a:avLst/>
          </a:prstGeom>
          <a:solidFill>
            <a:srgbClr val="fbd0e4"/>
          </a:solidFill>
          <a:ln w="7632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3048120" y="2286000"/>
            <a:ext cx="3733560" cy="2743200"/>
          </a:xfrm>
          <a:prstGeom prst="ellipse">
            <a:avLst/>
          </a:prstGeom>
          <a:solidFill>
            <a:srgbClr val="f7a1ca"/>
          </a:solidFill>
          <a:ln w="76320">
            <a:solidFill>
              <a:srgbClr val="f7a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3352680" y="2438280"/>
            <a:ext cx="3124440" cy="243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Curved Connector 35"/>
          <p:cNvCxnSpPr/>
          <p:nvPr/>
        </p:nvCxnSpPr>
        <p:spPr>
          <a:xfrm flipH="1" rot="16200000">
            <a:off x="4686120" y="323784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1" name="Curved Connector 37"/>
          <p:cNvCxnSpPr/>
          <p:nvPr/>
        </p:nvCxnSpPr>
        <p:spPr>
          <a:xfrm flipV="1" rot="16200000">
            <a:off x="5028480" y="3656880"/>
            <a:ext cx="686520" cy="533880"/>
          </a:xfrm>
          <a:prstGeom prst="curvedConnector5">
            <a:avLst>
              <a:gd name="adj1" fmla="val 36044"/>
              <a:gd name="adj2" fmla="val 50000"/>
              <a:gd name="adj3" fmla="val 36044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2" name="Curved Connector 41"/>
          <p:cNvCxnSpPr/>
          <p:nvPr/>
        </p:nvCxnSpPr>
        <p:spPr>
          <a:xfrm flipV="1" rot="16200000">
            <a:off x="4266720" y="2666160"/>
            <a:ext cx="610200" cy="457920"/>
          </a:xfrm>
          <a:prstGeom prst="curvedConnector5">
            <a:avLst>
              <a:gd name="adj1" fmla="val 43270"/>
              <a:gd name="adj2" fmla="val 49960"/>
              <a:gd name="adj3" fmla="val 4327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3" name="Curved Connector 47"/>
          <p:cNvCxnSpPr/>
          <p:nvPr/>
        </p:nvCxnSpPr>
        <p:spPr>
          <a:xfrm flipH="1" rot="16200000">
            <a:off x="4495680" y="2895120"/>
            <a:ext cx="610560" cy="610560"/>
          </a:xfrm>
          <a:prstGeom prst="curvedConnector5">
            <a:avLst>
              <a:gd name="adj1" fmla="val 56696"/>
              <a:gd name="adj2" fmla="val 49970"/>
              <a:gd name="adj3" fmla="val 56696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4" name="Curved Connector 60"/>
          <p:cNvCxnSpPr/>
          <p:nvPr/>
        </p:nvCxnSpPr>
        <p:spPr>
          <a:xfrm flipV="1" rot="16200000">
            <a:off x="5333400" y="3961800"/>
            <a:ext cx="648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sp>
        <p:nvSpPr>
          <p:cNvPr id="405" name="Oval 63"/>
          <p:cNvSpPr/>
          <p:nvPr/>
        </p:nvSpPr>
        <p:spPr>
          <a:xfrm>
            <a:off x="38862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43434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48006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traight Connector 75" descr=""/>
          <p:cNvPicPr/>
          <p:nvPr/>
        </p:nvPicPr>
        <p:blipFill>
          <a:blip r:embed="rId1"/>
          <a:stretch/>
        </p:blipFill>
        <p:spPr>
          <a:xfrm>
            <a:off x="3651120" y="4243320"/>
            <a:ext cx="1756080" cy="1954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0"/>
          <p:cNvSpPr/>
          <p:nvPr/>
        </p:nvSpPr>
        <p:spPr>
          <a:xfrm>
            <a:off x="3513960" y="3733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Straight Arrow Connector 82"/>
          <p:cNvCxnSpPr/>
          <p:nvPr/>
        </p:nvCxnSpPr>
        <p:spPr>
          <a:xfrm>
            <a:off x="2133720" y="2819520"/>
            <a:ext cx="1372320" cy="38160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11" name="Rectangle 84" descr=""/>
          <p:cNvPicPr/>
          <p:nvPr/>
        </p:nvPicPr>
        <p:blipFill>
          <a:blip r:embed="rId2"/>
          <a:stretch/>
        </p:blipFill>
        <p:spPr>
          <a:xfrm>
            <a:off x="6924600" y="1590840"/>
            <a:ext cx="2073240" cy="154296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7"/>
          <p:cNvCxnSpPr/>
          <p:nvPr/>
        </p:nvCxnSpPr>
        <p:spPr>
          <a:xfrm flipH="1" flipV="1">
            <a:off x="5257080" y="3656880"/>
            <a:ext cx="1677240" cy="1220040"/>
          </a:xfrm>
          <a:prstGeom prst="straightConnector1">
            <a:avLst/>
          </a:prstGeom>
          <a:ln w="38160">
            <a:solidFill>
              <a:srgbClr val="007eea"/>
            </a:solidFill>
            <a:miter/>
            <a:tailEnd len="med" type="triangle" w="med"/>
          </a:ln>
        </p:spPr>
      </p:cxnSp>
      <p:cxnSp>
        <p:nvCxnSpPr>
          <p:cNvPr id="413" name="Straight Arrow Connector 89"/>
          <p:cNvCxnSpPr/>
          <p:nvPr/>
        </p:nvCxnSpPr>
        <p:spPr>
          <a:xfrm flipH="1">
            <a:off x="6552720" y="2133360"/>
            <a:ext cx="457920" cy="686520"/>
          </a:xfrm>
          <a:prstGeom prst="straightConnector1">
            <a:avLst/>
          </a:prstGeom>
          <a:ln w="3816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4" name="Straight Arrow Connector 90"/>
          <p:cNvCxnSpPr/>
          <p:nvPr/>
        </p:nvCxnSpPr>
        <p:spPr>
          <a:xfrm flipH="1">
            <a:off x="2590560" y="4114800"/>
            <a:ext cx="121968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415" name="Rectangle 94" descr=""/>
          <p:cNvPicPr/>
          <p:nvPr/>
        </p:nvPicPr>
        <p:blipFill>
          <a:blip r:embed="rId3"/>
          <a:stretch/>
        </p:blipFill>
        <p:spPr>
          <a:xfrm>
            <a:off x="1060560" y="2657520"/>
            <a:ext cx="1616040" cy="1085760"/>
          </a:xfrm>
          <a:prstGeom prst="rect">
            <a:avLst/>
          </a:prstGeom>
          <a:ln w="0">
            <a:noFill/>
          </a:ln>
        </p:spPr>
      </p:pic>
      <p:pic>
        <p:nvPicPr>
          <p:cNvPr id="416" name="Rectangle 98" descr=""/>
          <p:cNvPicPr/>
          <p:nvPr/>
        </p:nvPicPr>
        <p:blipFill>
          <a:blip r:embed="rId4"/>
          <a:stretch/>
        </p:blipFill>
        <p:spPr>
          <a:xfrm>
            <a:off x="6699240" y="4791240"/>
            <a:ext cx="1841400" cy="1238040"/>
          </a:xfrm>
          <a:prstGeom prst="rect">
            <a:avLst/>
          </a:prstGeom>
          <a:ln w="0">
            <a:noFill/>
          </a:ln>
        </p:spPr>
      </p:pic>
      <p:grpSp>
        <p:nvGrpSpPr>
          <p:cNvPr id="417" name="Rectangle 102"/>
          <p:cNvGrpSpPr/>
          <p:nvPr/>
        </p:nvGrpSpPr>
        <p:grpSpPr>
          <a:xfrm>
            <a:off x="1743120" y="5095800"/>
            <a:ext cx="1768320" cy="1158840"/>
            <a:chOff x="1743120" y="5095800"/>
            <a:chExt cx="1768320" cy="1158840"/>
          </a:xfrm>
        </p:grpSpPr>
        <p:pic>
          <p:nvPicPr>
            <p:cNvPr id="418" name="Rectangle 102" descr=""/>
            <p:cNvPicPr/>
            <p:nvPr/>
          </p:nvPicPr>
          <p:blipFill>
            <a:blip r:embed="rId5"/>
            <a:stretch/>
          </p:blipFill>
          <p:spPr>
            <a:xfrm>
              <a:off x="1743120" y="5095800"/>
              <a:ext cx="17683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828800" y="518148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Inhibit protein 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6:59:18Z</dcterms:modified>
  <cp:revision>146</cp:revision>
  <dc:subject/>
  <dc:title>Slide 1</dc:title>
</cp:coreProperties>
</file>