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B847-BA75-4014-BD6A-D21899AF8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360E-37FD-46E0-86EB-EBFFED09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E795-DD38-4303-BDB4-BC913BFB5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C2A7-432A-4FC7-AAC1-654769C1C9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0303-A0EA-4A4E-95BF-C00BE6EC6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CCE-0661-4B44-A9AC-3607293371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8B06-3C85-421E-8799-10F6FFB58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3198-056F-4881-951F-CC9B22A9B4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5CD3-E921-4B9A-AF0C-70AEC1501D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387-8846-47D0-A398-127A61E8EB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3B07-18B1-452B-ACDC-CA09DBF24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ED95-60D2-4D4A-A6BE-1149687723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D92C-1905-4A72-A297-5FF1AEFE0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3790-74DB-4C97-A0A8-B8DC1B9A26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FB5-CDAE-4A14-9BB1-6C0F1FB4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8B2-8F68-4427-BB20-5B5630F4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B562-8234-489D-ACD0-8191612B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885-758E-4B11-B32A-7E164489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4779-1F29-4265-8B43-E2CC9973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98BB-A347-47BA-9188-E6C7386B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0FDC-B33D-41F8-BBDF-5071D7D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DB44-31D1-414E-8421-1F5F150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F270-230B-403E-8DD6-9C7AC455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2AFA-9685-46A1-8FC9-240791EC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AFE-A262-46EA-8C76-14783401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BE5-B611-4107-8257-98B0A8B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D6B1-2F68-473A-9418-729849B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4F8-C13F-476C-A820-5D02CD5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A7A5-D052-49C7-86B9-5C9FB7E3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F764-7081-4103-9028-3FD8E1AA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A140-31A3-4AFF-89E0-87DB031B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20DB-A483-48F7-B9C3-ECCFD402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9C82-D821-4207-B24F-CB2CD400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876E1-4299-411D-AD71-DCED9409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884C-9E32-41AA-BFA3-42D244AB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92D8-F57A-43EB-B0F8-C2238088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B2-AC74-484C-8686-4BE5DAA2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2E5E-133B-4C47-B1C5-6046C5AE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DC17-FC94-416F-84F1-55E6EEB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AF3D-E8A5-4511-BEE0-5E8687C3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13DF-A06E-4D3A-9C7D-28FC691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B9C5-8653-4B0C-930F-CA96631A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B658-C979-4BF9-992D-7FD6BC38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467BE-A18A-438A-B856-F8583386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A151B-AEC1-4415-8B76-6B2798BC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8049F-0D49-4EB8-BF88-4C268027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6883-3A40-4727-B834-E83ADAFB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8C8-D99A-4F4A-8D77-E96C0122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4113-A58C-457F-966C-65100E6A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7C574-5448-425A-AC34-206F5522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0DD29-0FE1-4C90-9CCA-01A45A1C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D6C4-9B3E-4C49-A1EC-A1A97396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A3AF6-5F85-464C-84AA-D49F265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7D05-33E5-4680-A049-D6E6F71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8D41-BB8C-4F54-B430-C62B1280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65D2-E361-4815-800D-4C8C9FEF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1814E-DCB4-43C9-BA79-86A5E6B9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5F5F5-C51A-4570-BC2B-03D4F325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108-CB1F-4C7E-BC23-39F074F4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5AF9D-BD1B-4BFF-8C15-C22E45A9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A1D2-1F53-4BF9-B13B-94374DBA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C952-4A71-4C71-8875-B202700E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E10E-DB28-46B3-9364-D44E4782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FEF6A-5C2A-4EA6-A786-A8E2753B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B111-6FC4-476D-932A-DACB256C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1F710-0869-47FA-A0FD-9BD24E6B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471C5-7EF4-49CB-BE5A-8858E159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A1D52-74C2-4E2B-B45E-0959AC5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64F2-222B-4321-81F2-AFB9251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8A6-D9E9-4082-BA5F-A64DFC05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F42A4-A769-48EB-9F1E-F5822470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C024-3508-4145-836E-4A154828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52D4-7784-4A99-AED8-AA9B96EC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8700-26D6-439E-8BAD-6521AB1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A8E6E-57D0-4CAF-B077-FB36FE0D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A3A1C-1E23-4CF4-922E-02E80687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F416-C783-4722-B499-E5975E44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F8E5F-9672-4487-BE4B-F0754012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B0A5-7926-4E07-B87F-7BA0D4A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8B68-82D8-446D-957D-D841C8A6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1BA-72D3-4822-BD5F-9C264D1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21057-D474-4607-918D-A1D63F6E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34E68-2760-4655-8EBE-97182CB7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E89FF-DA98-4206-9702-2ABAEC6C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A20E-2C18-4B66-8225-54F9E1C2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4B1AD-0F2C-4753-AE24-B39B9E17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712A-1A3B-4911-89B8-829E4E5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85E4E-A7F5-4D22-88BC-6990808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6AF3-47C9-4000-856C-B62659E0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A08F-0182-4A81-8ED2-88016F2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8735B-49E2-4F3B-AD9D-96C0AD77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1B0-3F1B-4FE3-BE5F-2376B94A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7875E-7AA8-4CBC-97BD-49DF5CA4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0F51-63DB-47B3-9465-0CF8E75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E32C7-62E0-45EA-B3F0-DBE81F80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61DE4-F335-4424-AABB-59FCD19F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DA654-C8FE-476E-870B-D0C1F1849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3B4E-0847-43B1-AD2C-C8E24070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31ED-EA2D-4007-96D4-7953956F811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3986-24B1-41C0-AD41-D69792E7BFA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060B-85EC-4979-93D0-1FAB7A945519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24E5-3B4A-4AC9-B238-6191A097F1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BFE9-B4B8-4B19-91F8-B6A263A3F34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787-7794-4A71-916B-EA0C478BB40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028-C8A2-4FE8-8543-40906055E35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DCE5-F188-4DBF-9166-C81AE4C724E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6B7-B7FC-4FB6-A905-22CF916348D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E54F-4C1C-4940-8B3D-7F3C0528461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3F6-0556-4C78-8FDE-3144E1217C7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6BDF-D86B-44F2-BAA8-31A4317614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D36A-9258-490C-B407-EABC460C967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6E6D-C5B7-4703-A236-F046045F97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600"/>
            </a:br>
            <a:r>
              <a:rPr b="0" lang="en-GB" sz="25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6:59:18Z</dcterms:modified>
  <cp:revision>146</cp:revision>
  <dc:subject/>
  <dc:title>Slide 1</dc:title>
</cp:coreProperties>
</file>