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759D-78A5-4A98-8AEB-1650B45A4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D252-2B8D-4640-96A0-276D877E0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9DD6-1408-436E-A56C-5B13AF0D73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570C-44C3-463E-96F3-D4C84493FB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281D-32C6-4022-ACE4-89D06EC5CC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9B6D-FE53-48CC-AB1F-E6D25F2A7D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01BE-D505-4BAB-B644-056F14AB1F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2E60-4DA9-4A47-B6B7-9B49D83235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605A-1DC4-40AC-9759-A779795956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1CF4-831B-45E3-9892-EB87E226DA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A74E-A317-4E54-960E-135E0CB7FA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E0C7-9F13-4683-800A-64B7A8D6F5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EE69-5A7C-4811-9270-CE394C032A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48DE-4DB2-4548-8667-544361BA0C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CF8-13C2-4341-8F77-28FC7DCE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2E7-6FF7-4017-A8E3-BA4B3CB7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758-93FE-405A-9AB8-49D67EF4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1EB-E8C9-49E9-9D64-5E0C3997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40A5-1B95-49AA-ADDE-2C3438BF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C264-311E-4EC0-989A-CBB0802C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2EF7-80F0-4A27-B263-1D3264D5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3E22-8C61-44F6-A994-9D7DC898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9300-2D8E-4289-96D8-381376EB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6CC2-3391-4303-88A0-6EAD455B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9B21-E531-4577-B534-C55AB9B1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A4E-D35D-49C6-8568-9587C0C1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E1AB-887E-4D4C-A503-682EDAD4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A0E1-566B-463C-9672-483A1805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D2AD-137A-4D0C-8C34-C71D20D9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70C4-8EAF-41E1-80C5-4E1DC5C1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7214-49F6-402D-ADB6-E75C59EE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FA905-96F1-43E9-A15B-80BE01B7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7EF26-A9A4-47B6-976C-CC24B23C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D08F-37B8-4966-B1C4-C201038D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F7A4D-5412-415D-97D5-D672C900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0DA3D-93EF-4642-8620-00D4A8E2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0B6-F91A-4256-9A71-D53585D3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61136-A8B4-43FD-AB21-93BBF423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1A74-6B6C-4AEA-B372-20DD4F7E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6316-F86E-428D-A5E6-459355FC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E70C4-7AFC-4050-8D47-6BAF9C7B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5A309-3320-4205-8AB9-75A385AD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3C19D-DAFC-45FF-84F5-922AAA84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706DE-F4F0-44DE-B238-549AF424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4A45-2B29-44BA-90CC-0E508FAA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CE31-0443-4290-82C4-9B621B3A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6CF50-B944-4124-B82D-04D83CA5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B70-7857-45EA-860C-10A9A891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AAF28-1BB7-4B08-9597-36B25D17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E349F-0978-4FC5-98B4-A657DB30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9EC4C-6D80-40B3-8557-7E0D5E17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0C89C-932E-4BC0-8DD8-FC1B7B27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D3C27-2038-442D-84B0-E511E049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806C7-83AE-4FF1-ABBD-D420B9FD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320BB-CACC-4C5C-B2A1-A933265C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F14F1-DD39-4077-983C-5B059584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10240-D279-49B7-BE24-92B74FCF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ED363-7C14-4D69-A133-7477A62E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DFB-E3C3-4DCE-976A-1C0535CA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0159D-2051-4A20-BB8C-0ADFE62C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4930D-7AED-4DBE-B04E-382622B7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61028-2742-4C56-AD70-34313BBB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91AEC-FDC7-45CD-A252-1A800BD4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E66CC-70D2-4855-BF22-8B85A98D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D7EA3-91F6-42F5-87AB-A4ED223B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51696-9435-489A-AF5C-0774C1C9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02B3A-4792-45A1-9744-8E2973DF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2D182-D452-4919-9469-F1894617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C8858-FA4E-401B-9368-4B93F618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B71-9A3E-48DE-9679-CFFDC8FF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3ABD1-B659-461E-B7C6-25C265AE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1B702-01A5-443C-AE15-7726801D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A6587-BF49-4925-A824-1F89577B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AE83B-95BA-4674-83FC-6D154237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95C44-2D78-4095-A241-84BEC4F2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63288-2D98-4550-A0A2-53F7185E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768D6-61A1-41BA-B971-61E2CE31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36438-A19D-46C1-9D5B-0049E1F6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B999D-CF60-4197-8786-1ABD7A33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0E775-6596-42CE-95D5-0016942F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B6E-672F-43D7-897B-0AAD1C73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669A9-BCA3-415D-8937-6C60E8BE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57F96-8D6D-41BB-A637-1529D5F4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2B67B-7E0B-46F8-A5B6-8247E2BB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89D84-2D5B-4EDF-95E1-70F70E8D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EDBF9-ED53-4AA5-ACD3-3042F451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3FD18-AAFC-4D8D-9382-0CB4634A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0A4E2-950E-4A4E-BEB2-6FCDE14E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99D19-0AB3-40C8-A914-B2EBF214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AE156-AF7C-44EF-8399-A9D7C24D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73872-B965-447F-A9D3-05AB2EAB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799-02DF-4DEE-BFCE-96578740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B57EE-10F1-4CEA-A44B-612E0326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08190-B5AC-46E5-943F-B35286F3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CB674-529E-4993-A6B8-B460B038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CEC62-04D6-4843-8522-2F4BF45E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E01C0-9CE8-43CA-B5C9-1BCFDDD6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675-1FBC-4D3E-A4C2-119997CE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AA8A-7A69-45FC-8AB2-E87A3842C4B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798A-AFD1-40FD-BA30-F2188B8CC71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0A4B-8D24-4B91-9387-0D82D3D0897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0C42-FDB9-42E0-93AE-7351F56C8EF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9498-D56F-41ED-A7E2-024C7C2E65A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D149-BB48-4A31-B8FD-3017A634329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3FB4-8E9A-4282-8423-BEC34A68174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1398-950E-470E-8D41-A852F81F17A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BB5C-66CF-415C-9811-3E948CC4E43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16BC-E731-4ADF-9F34-E6ECAB300A9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5C8F-48B0-456A-A804-0B046466171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2ED3-EE13-4083-B426-18F6B6902CE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1680" y="121752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1680" y="128232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4680" y="137016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4680" y="143496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6560" y="147312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6560" y="153792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6795-D8CD-49B4-9B60-BE3876CD2B3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8467-F1C9-446C-8E60-5259F81C525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21463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rbel"/>
              </a:rPr>
              <a:t>Lab  #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header_02"/>
          <p:cNvPicPr/>
          <p:nvPr/>
        </p:nvPicPr>
        <p:blipFill>
          <a:blip r:embed="rId2"/>
          <a:stretch/>
        </p:blipFill>
        <p:spPr>
          <a:xfrm>
            <a:off x="106668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eader_03"/>
          <p:cNvPicPr/>
          <p:nvPr/>
        </p:nvPicPr>
        <p:blipFill>
          <a:blip r:embed="rId3"/>
          <a:stretch/>
        </p:blipFill>
        <p:spPr>
          <a:xfrm>
            <a:off x="1701720" y="228600"/>
            <a:ext cx="723960" cy="857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eader_04"/>
          <p:cNvPicPr/>
          <p:nvPr/>
        </p:nvPicPr>
        <p:blipFill>
          <a:blip r:embed="rId4"/>
          <a:stretch/>
        </p:blipFill>
        <p:spPr>
          <a:xfrm>
            <a:off x="242244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eader_05"/>
          <p:cNvPicPr/>
          <p:nvPr/>
        </p:nvPicPr>
        <p:blipFill>
          <a:blip r:embed="rId5"/>
          <a:stretch/>
        </p:blipFill>
        <p:spPr>
          <a:xfrm>
            <a:off x="3048120" y="228600"/>
            <a:ext cx="733320" cy="857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eader_06"/>
          <p:cNvPicPr/>
          <p:nvPr/>
        </p:nvPicPr>
        <p:blipFill>
          <a:blip r:embed="rId6"/>
          <a:stretch/>
        </p:blipFill>
        <p:spPr>
          <a:xfrm>
            <a:off x="7308720" y="228600"/>
            <a:ext cx="67644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header_09"/>
          <p:cNvPicPr/>
          <p:nvPr/>
        </p:nvPicPr>
        <p:blipFill>
          <a:blip r:embed="rId7"/>
          <a:stretch/>
        </p:blipFill>
        <p:spPr>
          <a:xfrm>
            <a:off x="6372360" y="22860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eader_08"/>
          <p:cNvPicPr/>
          <p:nvPr/>
        </p:nvPicPr>
        <p:blipFill>
          <a:blip r:embed="rId8"/>
          <a:stretch/>
        </p:blipFill>
        <p:spPr>
          <a:xfrm>
            <a:off x="5651640" y="228600"/>
            <a:ext cx="74268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header_07"/>
          <p:cNvPicPr/>
          <p:nvPr/>
        </p:nvPicPr>
        <p:blipFill>
          <a:blip r:embed="rId9"/>
          <a:stretch/>
        </p:blipFill>
        <p:spPr>
          <a:xfrm>
            <a:off x="4788000" y="228600"/>
            <a:ext cx="885600" cy="857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header_10"/>
          <p:cNvPicPr/>
          <p:nvPr/>
        </p:nvPicPr>
        <p:blipFill>
          <a:blip r:embed="rId10"/>
          <a:stretch/>
        </p:blipFill>
        <p:spPr>
          <a:xfrm>
            <a:off x="3768840" y="228600"/>
            <a:ext cx="1085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Antibiotic Sensitivity T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273af"/>
                </a:solidFill>
                <a:uFillTx/>
                <a:latin typeface="Corbel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b6ff"/>
                </a:solidFill>
                <a:latin typeface="Corbel"/>
              </a:rPr>
              <a:t>1)   Broth dilutio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b6ff"/>
                </a:solidFill>
                <a:latin typeface="Corbel"/>
              </a:rPr>
              <a:t>2)   Agar diffusion (solid)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-a)   Kirby-Bauer test (= disc test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- b)  Stock’s method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66"/>
                </a:solidFill>
                <a:latin typeface="Consolas"/>
              </a:rPr>
              <a:t>a) Kirby-Bauer Test  </a:t>
            </a:r>
            <a:r>
              <a:rPr b="0" lang="en-GB" sz="3200" spc="-1" strike="noStrike">
                <a:solidFill>
                  <a:srgbClr val="ff0066"/>
                </a:solidFill>
                <a:latin typeface="Consolas"/>
              </a:rPr>
              <a:t>(disc diffusion test) (Sold agar test)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38080" y="190476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resh organism suspended in broth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(0.5 MaCfaraland standard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wab organism all over the plate evenl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Place discs containing specified concentration of different antibiotics on the plat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Kirby-Bauer T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Incubate 37C x 24h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Measure diameter of Clear zone around the  disc .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(Inhibition zon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Use tables to assess if zone size indicat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     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resistance or sensitivity to that antibiot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66"/>
                </a:solidFill>
                <a:latin typeface="Consolas"/>
              </a:rPr>
              <a:t>Kirby-Bauer Test  </a:t>
            </a:r>
            <a:r>
              <a:rPr b="0" lang="en-GB" sz="4000" spc="-1" strike="noStrike">
                <a:solidFill>
                  <a:srgbClr val="ff0066"/>
                </a:solidFill>
                <a:latin typeface="Consolas"/>
              </a:rPr>
              <a:t>(disc diffusion test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7" name="Content Placeholder 3" descr="antibiotika3"/>
          <p:cNvPicPr/>
          <p:nvPr/>
        </p:nvPicPr>
        <p:blipFill>
          <a:blip r:embed="rId1"/>
          <a:stretch/>
        </p:blipFill>
        <p:spPr>
          <a:xfrm>
            <a:off x="990720" y="2438280"/>
            <a:ext cx="4546440" cy="321336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38" name="Picture 4" descr="antibiotika2"/>
          <p:cNvPicPr/>
          <p:nvPr/>
        </p:nvPicPr>
        <p:blipFill>
          <a:blip r:embed="rId2"/>
          <a:stretch/>
        </p:blipFill>
        <p:spPr>
          <a:xfrm>
            <a:off x="5943600" y="2438280"/>
            <a:ext cx="2655720" cy="32004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nsolas"/>
              </a:rPr>
              <a:t>How to Streak the sensitivity plate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mmerge swab then remove excess by pressing against wall of tub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db1"/>
                </a:solidFill>
                <a:latin typeface="Corbel"/>
              </a:rPr>
              <a:t>Do one line in the center of plate by swab then spread even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b6ff"/>
                </a:solidFill>
                <a:latin typeface="Corbel"/>
              </a:rPr>
              <a:t>Add antibiotic disks using needl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Corbel"/>
              </a:rPr>
              <a:t>Always work near flame to avoid contamin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Don’t put disk near the ed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Oval 3"/>
          <p:cNvSpPr/>
          <p:nvPr/>
        </p:nvSpPr>
        <p:spPr>
          <a:xfrm>
            <a:off x="7924680" y="281952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f6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traight Connector 5"/>
          <p:cNvSpPr/>
          <p:nvPr/>
        </p:nvSpPr>
        <p:spPr>
          <a:xfrm flipH="1">
            <a:off x="8381520" y="2971800"/>
            <a:ext cx="1800" cy="60804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nsolas"/>
              </a:rPr>
              <a:t>B) Stockes Method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erpretation based on comparison betwe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zones seen with the test organism &amp; those of the known sensitive contro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Oval 3"/>
          <p:cNvSpPr/>
          <p:nvPr/>
        </p:nvSpPr>
        <p:spPr>
          <a:xfrm>
            <a:off x="3276720" y="3429000"/>
            <a:ext cx="2743200" cy="2666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Straight Connector 5"/>
          <p:cNvSpPr/>
          <p:nvPr/>
        </p:nvSpPr>
        <p:spPr>
          <a:xfrm>
            <a:off x="3352680" y="4724280"/>
            <a:ext cx="2667240" cy="3816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7" name="Straight Arrow Connector 7"/>
          <p:cNvCxnSpPr/>
          <p:nvPr/>
        </p:nvCxnSpPr>
        <p:spPr>
          <a:xfrm flipV="1">
            <a:off x="5562720" y="3657240"/>
            <a:ext cx="915120" cy="381600"/>
          </a:xfrm>
          <a:prstGeom prst="straightConnector1">
            <a:avLst/>
          </a:prstGeom>
          <a:ln w="118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48" name="TextBox 8"/>
          <p:cNvSpPr/>
          <p:nvPr/>
        </p:nvSpPr>
        <p:spPr>
          <a:xfrm>
            <a:off x="6486480" y="33526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Q.C orga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9" name="Straight Arrow Connector 10"/>
          <p:cNvCxnSpPr/>
          <p:nvPr/>
        </p:nvCxnSpPr>
        <p:spPr>
          <a:xfrm>
            <a:off x="5410080" y="5334120"/>
            <a:ext cx="991440" cy="457920"/>
          </a:xfrm>
          <a:prstGeom prst="straightConnector1">
            <a:avLst/>
          </a:prstGeom>
          <a:ln w="118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50" name="TextBox 12"/>
          <p:cNvSpPr/>
          <p:nvPr/>
        </p:nvSpPr>
        <p:spPr>
          <a:xfrm>
            <a:off x="6474240" y="56386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Test orga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15"/>
          <p:cNvSpPr/>
          <p:nvPr/>
        </p:nvSpPr>
        <p:spPr>
          <a:xfrm>
            <a:off x="3886200" y="4572000"/>
            <a:ext cx="304920" cy="304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6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3" name="Straight Arrow Connector 18"/>
          <p:cNvCxnSpPr>
            <a:stCxn id="452" idx="6"/>
          </p:cNvCxnSpPr>
          <p:nvPr/>
        </p:nvCxnSpPr>
        <p:spPr>
          <a:xfrm flipV="1">
            <a:off x="5409720" y="4419360"/>
            <a:ext cx="1677240" cy="30528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triangle" w="med"/>
          </a:ln>
        </p:spPr>
      </p:cxnSp>
      <p:sp>
        <p:nvSpPr>
          <p:cNvPr id="454" name="TextBox 19"/>
          <p:cNvSpPr/>
          <p:nvPr/>
        </p:nvSpPr>
        <p:spPr>
          <a:xfrm>
            <a:off x="709668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Antibiotic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rcRect l="18750" t="14307" r="16252" b="14031"/>
          <a:stretch/>
        </p:blipFill>
        <p:spPr>
          <a:xfrm>
            <a:off x="228600" y="1600200"/>
            <a:ext cx="4883040" cy="4038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"/>
          <p:cNvPicPr/>
          <p:nvPr/>
        </p:nvPicPr>
        <p:blipFill>
          <a:blip r:embed="rId2"/>
          <a:srcRect l="26251" t="15000" r="20002" b="15000"/>
          <a:stretch/>
        </p:blipFill>
        <p:spPr>
          <a:xfrm>
            <a:off x="5029200" y="1600200"/>
            <a:ext cx="41306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157a"/>
                </a:solidFill>
                <a:latin typeface="Consolas"/>
              </a:rPr>
              <a:t>Results of Stockes Method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T &gt; C    or     T = C  </a:t>
            </a:r>
            <a:r>
              <a:rPr b="1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   Sensiti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T&lt; C   </a:t>
            </a:r>
            <a:r>
              <a:rPr b="1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 Resistanc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  <p:pic>
        <p:nvPicPr>
          <p:cNvPr id="462" name="Content Placeholder 7" descr="sensi disc dispenser.jpg"/>
          <p:cNvPicPr/>
          <p:nvPr/>
        </p:nvPicPr>
        <p:blipFill>
          <a:blip r:embed="rId2"/>
          <a:stretch/>
        </p:blipFill>
        <p:spPr>
          <a:xfrm>
            <a:off x="914400" y="533520"/>
            <a:ext cx="4267080" cy="4267080"/>
          </a:xfrm>
          <a:prstGeom prst="rect">
            <a:avLst/>
          </a:prstGeom>
          <a:ln w="31680">
            <a:solidFill>
              <a:srgbClr val="ea157a"/>
            </a:solidFill>
            <a:miter/>
          </a:ln>
        </p:spPr>
      </p:pic>
      <p:sp>
        <p:nvSpPr>
          <p:cNvPr id="463" name="TextBox 8"/>
          <p:cNvSpPr/>
          <p:nvPr/>
        </p:nvSpPr>
        <p:spPr>
          <a:xfrm>
            <a:off x="789480" y="5562720"/>
            <a:ext cx="80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ttp://rfdp.seafdec.org.ph/publication/manual/antibiotics/chapter2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65" name="Content Placeholder 3" descr="disk zone reader.gif"/>
          <p:cNvPicPr/>
          <p:nvPr/>
        </p:nvPicPr>
        <p:blipFill>
          <a:blip r:embed="rId1"/>
          <a:stretch/>
        </p:blipFill>
        <p:spPr>
          <a:xfrm>
            <a:off x="2133720" y="1371600"/>
            <a:ext cx="4574880" cy="5126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Consolas"/>
              </a:rPr>
              <a:t>Sir Alexander Fleming</a:t>
            </a:r>
            <a:br>
              <a:rPr sz="3600"/>
            </a:br>
            <a:r>
              <a:rPr b="0" lang="en-GB" sz="2500" spc="-1" strike="noStrike">
                <a:solidFill>
                  <a:srgbClr val="ff0066"/>
                </a:solidFill>
                <a:latin typeface="Consolas"/>
              </a:rPr>
              <a:t>(1881 –1955)</a:t>
            </a:r>
            <a:endParaRPr b="0" lang="en-US" sz="25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Picture 5" descr="fleming"/>
          <p:cNvPicPr/>
          <p:nvPr/>
        </p:nvPicPr>
        <p:blipFill>
          <a:blip r:embed="rId1"/>
          <a:stretch/>
        </p:blipFill>
        <p:spPr>
          <a:xfrm>
            <a:off x="4876920" y="3581280"/>
            <a:ext cx="3886200" cy="2973600"/>
          </a:xfrm>
          <a:prstGeom prst="rect">
            <a:avLst/>
          </a:prstGeom>
          <a:ln w="25560">
            <a:solidFill>
              <a:srgbClr val="ff0066"/>
            </a:solidFill>
            <a:miter/>
          </a:ln>
        </p:spPr>
      </p:pic>
      <p:sp>
        <p:nvSpPr>
          <p:cNvPr id="388" name="TextBox 5"/>
          <p:cNvSpPr/>
          <p:nvPr/>
        </p:nvSpPr>
        <p:spPr>
          <a:xfrm>
            <a:off x="3976920" y="1905120"/>
            <a:ext cx="48031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One sometimes finds what one is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looking for“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Penicill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990720" y="480060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He observed inhibition of staphylococci on an ag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plate contamin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by a</a:t>
            </a: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ff0066"/>
                </a:solidFill>
                <a:latin typeface="Arial"/>
              </a:rPr>
              <a:t>Penicillium</a:t>
            </a: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 m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8" descr="http://www.accessexcellence.org/AE/AEC/CC/images/s5.gif"/>
          <p:cNvPicPr/>
          <p:nvPr/>
        </p:nvPicPr>
        <p:blipFill>
          <a:blip r:embed="rId2"/>
          <a:stretch/>
        </p:blipFill>
        <p:spPr>
          <a:xfrm>
            <a:off x="1371600" y="2209680"/>
            <a:ext cx="2386080" cy="2286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9000"/>
          </a:bodyPr>
          <a:p>
            <a:pPr marL="3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Corbel"/>
              </a:rPr>
              <a:t>Thank You</a:t>
            </a:r>
            <a:endParaRPr b="0" lang="en-US" sz="8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Picture 3" descr="pseudo sens plate.jpg"/>
          <p:cNvPicPr/>
          <p:nvPr/>
        </p:nvPicPr>
        <p:blipFill>
          <a:blip r:embed="rId1"/>
          <a:stretch/>
        </p:blipFill>
        <p:spPr>
          <a:xfrm>
            <a:off x="1523880" y="28004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157a"/>
                </a:solidFill>
                <a:latin typeface="Consolas"/>
              </a:rPr>
              <a:t>Antibiotics are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rbel"/>
              </a:rPr>
              <a:t>Natural or synthetic products that are used to kill or stop the growth of Bacteria 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bacteriostatic - stop growth (don't kill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  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bactericidal – kill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Classification According to Mode of Action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2971800" y="2209680"/>
            <a:ext cx="3886200" cy="2895840"/>
          </a:xfrm>
          <a:prstGeom prst="ellipse">
            <a:avLst/>
          </a:prstGeom>
          <a:solidFill>
            <a:srgbClr val="fbd0e4"/>
          </a:solidFill>
          <a:ln w="7632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3048120" y="2286000"/>
            <a:ext cx="3733560" cy="2743200"/>
          </a:xfrm>
          <a:prstGeom prst="ellipse">
            <a:avLst/>
          </a:prstGeom>
          <a:solidFill>
            <a:srgbClr val="f7a1ca"/>
          </a:solidFill>
          <a:ln w="76320">
            <a:solidFill>
              <a:srgbClr val="f7a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3352680" y="2438280"/>
            <a:ext cx="3124440" cy="2438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D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0" name="Curved Connector 35"/>
          <p:cNvCxnSpPr/>
          <p:nvPr/>
        </p:nvCxnSpPr>
        <p:spPr>
          <a:xfrm flipH="1" rot="16200000">
            <a:off x="4686120" y="3237840"/>
            <a:ext cx="686520" cy="61056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1" name="Curved Connector 37"/>
          <p:cNvCxnSpPr/>
          <p:nvPr/>
        </p:nvCxnSpPr>
        <p:spPr>
          <a:xfrm flipV="1" rot="16200000">
            <a:off x="5028480" y="3656880"/>
            <a:ext cx="686520" cy="533880"/>
          </a:xfrm>
          <a:prstGeom prst="curvedConnector5">
            <a:avLst>
              <a:gd name="adj1" fmla="val 36044"/>
              <a:gd name="adj2" fmla="val 50000"/>
              <a:gd name="adj3" fmla="val 36044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2" name="Curved Connector 41"/>
          <p:cNvCxnSpPr/>
          <p:nvPr/>
        </p:nvCxnSpPr>
        <p:spPr>
          <a:xfrm flipV="1" rot="16200000">
            <a:off x="4266720" y="2666160"/>
            <a:ext cx="610200" cy="457920"/>
          </a:xfrm>
          <a:prstGeom prst="curvedConnector5">
            <a:avLst>
              <a:gd name="adj1" fmla="val 43270"/>
              <a:gd name="adj2" fmla="val 49960"/>
              <a:gd name="adj3" fmla="val 43270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3" name="Curved Connector 47"/>
          <p:cNvCxnSpPr/>
          <p:nvPr/>
        </p:nvCxnSpPr>
        <p:spPr>
          <a:xfrm flipH="1" rot="16200000">
            <a:off x="4495680" y="2895120"/>
            <a:ext cx="610560" cy="610560"/>
          </a:xfrm>
          <a:prstGeom prst="curvedConnector5">
            <a:avLst>
              <a:gd name="adj1" fmla="val 56696"/>
              <a:gd name="adj2" fmla="val 49970"/>
              <a:gd name="adj3" fmla="val 56696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4" name="Curved Connector 60"/>
          <p:cNvCxnSpPr/>
          <p:nvPr/>
        </p:nvCxnSpPr>
        <p:spPr>
          <a:xfrm flipV="1" rot="16200000">
            <a:off x="5333400" y="3961800"/>
            <a:ext cx="648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1880">
            <a:solidFill>
              <a:srgbClr val="7fd13b"/>
            </a:solidFill>
            <a:miter/>
          </a:ln>
        </p:spPr>
      </p:cxnSp>
      <p:sp>
        <p:nvSpPr>
          <p:cNvPr id="405" name="Oval 63"/>
          <p:cNvSpPr/>
          <p:nvPr/>
        </p:nvSpPr>
        <p:spPr>
          <a:xfrm>
            <a:off x="38862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64"/>
          <p:cNvSpPr/>
          <p:nvPr/>
        </p:nvSpPr>
        <p:spPr>
          <a:xfrm>
            <a:off x="43434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65"/>
          <p:cNvSpPr/>
          <p:nvPr/>
        </p:nvSpPr>
        <p:spPr>
          <a:xfrm>
            <a:off x="48006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Straight Connector 75" descr=""/>
          <p:cNvPicPr/>
          <p:nvPr/>
        </p:nvPicPr>
        <p:blipFill>
          <a:blip r:embed="rId1"/>
          <a:stretch/>
        </p:blipFill>
        <p:spPr>
          <a:xfrm>
            <a:off x="3651120" y="4243320"/>
            <a:ext cx="1756080" cy="1954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80"/>
          <p:cNvSpPr/>
          <p:nvPr/>
        </p:nvSpPr>
        <p:spPr>
          <a:xfrm>
            <a:off x="3513960" y="37339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" name="Straight Arrow Connector 82"/>
          <p:cNvCxnSpPr/>
          <p:nvPr/>
        </p:nvCxnSpPr>
        <p:spPr>
          <a:xfrm>
            <a:off x="2133720" y="2819520"/>
            <a:ext cx="1372320" cy="38160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pic>
        <p:nvPicPr>
          <p:cNvPr id="411" name="Rectangle 84" descr=""/>
          <p:cNvPicPr/>
          <p:nvPr/>
        </p:nvPicPr>
        <p:blipFill>
          <a:blip r:embed="rId2"/>
          <a:stretch/>
        </p:blipFill>
        <p:spPr>
          <a:xfrm>
            <a:off x="6924600" y="1590840"/>
            <a:ext cx="2073240" cy="1542960"/>
          </a:xfrm>
          <a:prstGeom prst="rect">
            <a:avLst/>
          </a:prstGeom>
          <a:ln w="0">
            <a:noFill/>
          </a:ln>
        </p:spPr>
      </p:pic>
      <p:cxnSp>
        <p:nvCxnSpPr>
          <p:cNvPr id="412" name="Straight Arrow Connector 87"/>
          <p:cNvCxnSpPr/>
          <p:nvPr/>
        </p:nvCxnSpPr>
        <p:spPr>
          <a:xfrm flipH="1" flipV="1">
            <a:off x="5257080" y="3656880"/>
            <a:ext cx="1677240" cy="1220040"/>
          </a:xfrm>
          <a:prstGeom prst="straightConnector1">
            <a:avLst/>
          </a:prstGeom>
          <a:ln w="38160">
            <a:solidFill>
              <a:srgbClr val="007eea"/>
            </a:solidFill>
            <a:miter/>
            <a:tailEnd len="med" type="triangle" w="med"/>
          </a:ln>
        </p:spPr>
      </p:cxnSp>
      <p:cxnSp>
        <p:nvCxnSpPr>
          <p:cNvPr id="413" name="Straight Arrow Connector 89"/>
          <p:cNvCxnSpPr/>
          <p:nvPr/>
        </p:nvCxnSpPr>
        <p:spPr>
          <a:xfrm flipH="1">
            <a:off x="6552720" y="2133360"/>
            <a:ext cx="457920" cy="686520"/>
          </a:xfrm>
          <a:prstGeom prst="straightConnector1">
            <a:avLst/>
          </a:prstGeom>
          <a:ln w="38160">
            <a:solidFill>
              <a:srgbClr val="ea157a"/>
            </a:solidFill>
            <a:miter/>
            <a:tailEnd len="med" type="triangle" w="med"/>
          </a:ln>
        </p:spPr>
      </p:cxnSp>
      <p:cxnSp>
        <p:nvCxnSpPr>
          <p:cNvPr id="414" name="Straight Arrow Connector 90"/>
          <p:cNvCxnSpPr/>
          <p:nvPr/>
        </p:nvCxnSpPr>
        <p:spPr>
          <a:xfrm flipH="1">
            <a:off x="2590560" y="4114800"/>
            <a:ext cx="1219680" cy="83880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pic>
        <p:nvPicPr>
          <p:cNvPr id="415" name="Rectangle 94" descr=""/>
          <p:cNvPicPr/>
          <p:nvPr/>
        </p:nvPicPr>
        <p:blipFill>
          <a:blip r:embed="rId3"/>
          <a:stretch/>
        </p:blipFill>
        <p:spPr>
          <a:xfrm>
            <a:off x="1060560" y="2657520"/>
            <a:ext cx="1616040" cy="1085760"/>
          </a:xfrm>
          <a:prstGeom prst="rect">
            <a:avLst/>
          </a:prstGeom>
          <a:ln w="0">
            <a:noFill/>
          </a:ln>
        </p:spPr>
      </p:pic>
      <p:pic>
        <p:nvPicPr>
          <p:cNvPr id="416" name="Rectangle 98" descr=""/>
          <p:cNvPicPr/>
          <p:nvPr/>
        </p:nvPicPr>
        <p:blipFill>
          <a:blip r:embed="rId4"/>
          <a:stretch/>
        </p:blipFill>
        <p:spPr>
          <a:xfrm>
            <a:off x="6699240" y="4791240"/>
            <a:ext cx="1841400" cy="1238040"/>
          </a:xfrm>
          <a:prstGeom prst="rect">
            <a:avLst/>
          </a:prstGeom>
          <a:ln w="0">
            <a:noFill/>
          </a:ln>
        </p:spPr>
      </p:pic>
      <p:grpSp>
        <p:nvGrpSpPr>
          <p:cNvPr id="417" name="Rectangle 102"/>
          <p:cNvGrpSpPr/>
          <p:nvPr/>
        </p:nvGrpSpPr>
        <p:grpSpPr>
          <a:xfrm>
            <a:off x="1743120" y="5095800"/>
            <a:ext cx="1768320" cy="1158840"/>
            <a:chOff x="1743120" y="5095800"/>
            <a:chExt cx="1768320" cy="1158840"/>
          </a:xfrm>
        </p:grpSpPr>
        <p:pic>
          <p:nvPicPr>
            <p:cNvPr id="418" name="Rectangle 102" descr=""/>
            <p:cNvPicPr/>
            <p:nvPr/>
          </p:nvPicPr>
          <p:blipFill>
            <a:blip r:embed="rId5"/>
            <a:stretch/>
          </p:blipFill>
          <p:spPr>
            <a:xfrm>
              <a:off x="1743120" y="5095800"/>
              <a:ext cx="17683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828800" y="5181480"/>
              <a:ext cx="1600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Inhibit protein synth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4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Control strain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se are organisms obtained from the American Type Culture Collection (ATCC)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y should be grown in standard condition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y have a known recorded sensitivity to antibiotic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uller Hinton Medium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t is a special media used for sensitivity testing, it dose not interfere with test results it has a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P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electrolyt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90720" y="2514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ndard inoculum siz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tandard concentration of bacterial cells to be inoculat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How to prepare standard inoculum size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ndard inoculum should have turbidity equivalent to 0.5 McFarland standar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hould be from a freshly overnight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McFaraland: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se are made by dissolving barium sulphate in water with different concentration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0.5 McFaraland have a turbidity equivalent to 1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be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20:24:40Z</dcterms:created>
  <dc:creator>mm</dc:creator>
  <dc:description/>
  <dc:language>en-US</dc:language>
  <cp:lastModifiedBy>Apple User</cp:lastModifiedBy>
  <dcterms:modified xsi:type="dcterms:W3CDTF">2012-04-27T16:59:18Z</dcterms:modified>
  <cp:revision>146</cp:revision>
  <dc:subject/>
  <dc:title>Slide 1</dc:title>
</cp:coreProperties>
</file>