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B0EE-735D-4246-836D-7C201804E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324E-2C63-457A-B8DB-7EEF3876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00BC-93BB-4FF5-86EB-2367D9BAC6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270D-58BD-47E6-9D27-0486572DF1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330D-196A-414F-A0DD-99B5EB21D6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E6D9-42D4-4901-BA73-374AFE1B7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0CDE-03FB-46D4-88AB-66D1758C06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898C-BEF3-4270-9B70-203042F2D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2E0B-9969-48F5-A8D8-39240521DC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A326-E7C9-43D5-B217-68D7ED6C23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4C99-762A-4350-9820-52E6BBC1E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BE7-9F52-493D-943F-3106545BF7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BC3A-2B53-440D-8024-F93CD6FEE4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1DC0-7943-403B-B614-7CCFF19361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98EA-D589-47FB-A0E7-91B43125D4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056C-8C0A-4A4A-849D-6F198A728C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CE5-1A53-40B8-9904-22E07C3E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9E2-9288-4547-AC9C-409590D7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F2A7-C608-4B66-85B0-C906263E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0F3E-AA5A-4309-AAAA-1D58C555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D2F6-CB61-4E7F-852E-A708538C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4419-57CF-4404-AB50-8DAADB0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FFA-45ED-41ED-9685-ECC635EF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BED9-AD84-4A39-BA71-6D2EFD39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125-4ABC-4F36-92F7-D7B0A23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A540-3A91-474E-A620-F5DF7302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EEC3-0431-4E41-A9C3-9CDAF66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4EB-31CB-4FAA-A62C-A9882F7D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280B-3D78-44A0-8977-C69C8753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1E1F-2B90-4B52-8F87-2B549B3E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D7F8-B2A8-4896-A21A-F4E401C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6A17-551D-40B4-BF23-930A5F02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EB9C-F8AD-43A7-959C-9C048899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F7C22-71C2-4FCD-895A-9F776798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62F8C-CD9A-4990-A57C-F1B21898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C9E6-92DE-4140-B323-AE032788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2D0D-3323-4168-A945-4470DCF2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0386-B6EB-4BF9-9420-4C33C69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33D-D69C-4CC4-9B58-3C810277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BCBA-CB6B-4A3A-B18E-E53D03C0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4E65B-06D2-4AA2-936F-48980320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7F26-9C98-4D44-BA02-A1B5FAD0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46C8-243F-4EC3-B4B0-33E1D3B9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1845-E0FE-488E-84A3-5119393A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803EB-454F-47CD-936F-9633D0D7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BF170-9A35-4FB7-9EB5-8CA0BD09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B9EDF-B271-44D0-8CC9-2DF9C305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9BAD7-F59F-43B3-8E81-F602D92A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3D4C2-E2CB-4496-AB52-F824E1F6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225-3BE1-4422-AA0D-205F46D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48648-5066-4B85-86C4-EEA11737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ADDE-FAEF-409C-8F8F-5B3A7B8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8E8B-2A40-4BD8-8913-6D6F210F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32F93-611B-4996-94B6-4BDEDEA8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D9AF-9F4C-40A8-808F-63198D75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E3C2-4B8E-4383-B093-668E74A3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E538-C580-40FB-9DF1-DDF93D3A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2CB05-7852-4C4E-9DA2-F9EAAF5F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9B96-7498-4BDF-BC96-52A37212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04411-1585-4E01-BFB3-F54E6C70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87D-CCF1-4FC5-91F9-8B3AF13E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8EA11-7007-4E8D-AA71-501F7E4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B4F91-592D-4AD0-A667-16EB4902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7050-258C-486F-B76F-44861E9A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890F0-5573-4F95-8CC9-1E7E7284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4C651-C8BD-4EB3-A1CF-0FD5863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28AF-11C5-4663-8AF6-1FD1112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FFAE-0E52-4303-BEE6-4C938E4E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DF98C-7061-4022-811A-C6D6C1E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CFCC-40F8-4A41-98BE-193EA744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F1118-3503-450C-B5EA-6E3BC4D0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0C0-3103-4513-B611-A45D40DC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B464-8FC2-4C4F-AA76-E1647636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4408F-0D64-4200-8620-B0424FE9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2B38-8FB5-4DA5-9766-3F0FA7DB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ABD7-C85D-48B4-8937-9484A81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F8F94-9A64-4B1E-BC60-2276893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72A5-9D80-473E-9C57-90C95F12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24253-BDEA-4FEE-87DB-FFB7D562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7DA7-9E31-4321-9710-76FCC05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409EF-B459-4249-AC61-643EDFE3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5B69-B0E3-432A-88D7-465E0CA5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BC9-7121-4C46-AB20-0C3ED1E2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FCDF-F027-4C8B-9275-894D5531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16FB0-D495-405A-85B8-2897B61B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9439-3375-4015-BDD0-3EEDAC6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55421-4354-4E0E-8BC8-1E269BB6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5022-DA8E-4E03-8D60-CAAAD8FA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FEA8-7FE8-4119-8200-3306A4DD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C6BA-8E35-4D76-A77F-C1A965E6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2D0E-21CB-4BE5-9CDC-76C9A86B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87DF-FBEF-4B21-8BE2-EA7C355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B7F55-9044-4B81-9E39-88468E9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38C-68F3-45FF-B577-D88351A3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8FC2E-F783-4C9B-8E24-3D3D0A4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67D2-6FAD-4AC2-BB2B-5666B7E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63DD0-FF0B-4AE5-8DC2-9571A1DB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E292D-DDAE-453E-A8FD-BF941102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8CAC-EA3D-4C61-95C7-9AE71F61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E1C-DAB0-4F02-89BE-11AFF290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F53D-75B5-4F80-A294-B9DC14F1A81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F19E-61E5-4E0B-994D-C8A1FA95249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B44-9F98-4D2B-BA98-C78011E48A3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4E9C-E1C0-4BF5-AD57-2C8415E7C99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170E-9114-4E39-A78F-CD4EA3DB5AD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3AE-5DCF-4CF7-844E-7E888262B9C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B105-F67E-4007-9CB1-EAEC69A90391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2657-4813-4821-ADC8-A2F564E2AB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F44A-16B3-4FFB-A1B1-7D586CE97D7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E35-54E9-4E24-8D69-93C14279349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E30C-A977-4550-8010-865E5359B61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82D-7CA4-4185-AA01-490BEE688F1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960" y="12823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17A-9023-4E59-A2E7-6F9994A97246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0705-4870-4634-92DB-562D3EAB79B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2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5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00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01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Broth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Apple User</cp:lastModifiedBy>
  <dcterms:modified xsi:type="dcterms:W3CDTF">2012-04-27T17:03:02Z</dcterms:modified>
  <cp:revision>168</cp:revision>
  <dc:subject/>
  <dc:title>Slide 1</dc:title>
</cp:coreProperties>
</file>