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0B8-CAE9-4B87-AC17-B86852227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5F9-4D49-48FC-A4EE-421E5B44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CDD-71ED-4157-A2D6-0251AEDE5C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383-AD08-4289-B52F-9572FBE24F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F81F-6874-43BC-BEB0-BD78EA982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6BCF-88AB-4542-99ED-BADAE72BA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87A-9F47-4F1B-B912-C6B397ADF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84D-B47A-44DC-839C-12EA2FCD3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F8A3-25C8-4022-8798-2AC84A1CE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5EE-9238-476E-8F37-D91E41488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7A0E-1DD7-4EC5-A93F-7A3CD3DD2C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76CC-BB21-45BD-935F-E10EB08D70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E49-48C3-443E-B449-2B19837349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BD3-4324-44F3-81A2-6C9537C86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E23B-21FF-4C20-BDF8-583B65343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F0A-DD06-4BC3-B4EF-A308755A14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353-4F3B-4058-A58D-36F46148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C02-D0E3-4564-892D-22B83B5A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509-D3B9-4DF6-9AD0-B429AF13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00A-EFC0-4E7A-BB51-B9D7C4AB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832-FAC6-4DB6-BADF-18007CB1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F508-81CC-4DE1-9F86-965FA357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C1D7-C9BE-4DFE-9DAC-2099BD7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9E59-C91D-4CB3-8566-FF20DA06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EC3A-0BA0-404E-892F-255B57B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940-79E8-4B58-A0C4-C6707F7D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34C-E916-46F8-8D12-476224D2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505-A76F-489A-A35B-6A654C6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7AF3-E035-4958-A3AB-AE24B02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6194-45EF-45E6-B98C-59F1100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B846-EADD-4108-9072-AD76AB0E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97B1-6647-4BB7-BC4C-F1DC4078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E1A3-B425-4FB8-AB23-CA65047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9431-52B7-4899-8C98-5FF4483F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40FA-E3C1-4EDF-9F4B-DF8F4ED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4254-D1E3-4998-B6E0-C00B03A3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A91B-ECB9-49D2-AC1B-B2918A38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72EA-8FEE-47B4-98F3-9F7A3E9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728-272F-49BE-99D7-F0F52EF5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FEEF-AC77-4068-8B81-18EDC373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4980-3F81-4667-801E-48DCFF0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87CF-05C9-4E44-BF0C-D170DE38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221F-2E92-43BF-99E1-08FCE76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66DE-AAB3-4843-B91D-A77DC36A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99EF-EE9E-4805-B385-09D7D8D3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9072-E666-47D2-B1A2-F17F5C5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D1BAD-F510-43BC-A6EC-63343C3E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0B7B-7EBA-4082-87C3-2816C2C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1BE7-E23B-44CB-B3D8-44A97E8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CF7-D8D9-44F4-8CF8-7E70913E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DDDE-458E-4DDC-A69D-3C564A1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C15A-9B29-480C-91FB-DD591C93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95EF-33BC-43E1-8E38-2712E068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5FE8-28CF-496E-925C-2CA0497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4728-828E-487F-9B18-7E3785C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54C7-EFC6-41BF-A636-8CF3898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5DF7-38F0-4AA9-A0F1-6F41576E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9BD7-6862-47BA-8191-B6E5AE28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977A-3E5B-4B6B-861D-0528369E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E2BF9-3130-4EE7-B82D-74B0DA70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1EA-441B-4434-B4FA-7222ABB8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29FFF-48A9-4ACE-8A1A-28DF040E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8823-B956-4236-B33C-17F13B0E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85E1-6367-4631-B29C-41FB4AD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BF29-C45B-4178-BC4C-238296E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61C0-092D-42D9-BFF1-96B7120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02033-8A60-4D0C-B15B-37BF19E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1D9A-D77C-48C4-A43C-31A0799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BDC6-D03D-4C86-B226-D0CED8CD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FE97B-D201-4EA7-818D-D06ADE3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3AB4-0BBB-41B6-B964-306557CF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79E-700B-4134-B582-7F63360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3042-B201-4CCA-BF16-8B16C331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A5264-D37C-43AB-85DA-405698B3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EAD59-4881-45B0-90DE-273E3B0E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2D98-35E4-45DD-992D-98CE5EB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F9B5-33E4-487D-A67B-640A1DB7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BEB47-0327-424F-BECE-0444F73F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1567-E050-4CE3-90F0-9CE1E720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26D78-FCC2-4941-8F11-9A7B0EB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06706-D0D6-49D8-A2CF-05768DB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3E159-F74B-4C0A-A55B-DB7BC80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993-3DAC-490D-A6ED-3C684D1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EF810-7DE0-46E1-A473-505B6698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79F7-BC50-4434-A2D7-A17E2288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C9EE-A3CC-46BD-82BB-75ECE1CE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00F9-416B-45ED-A2F0-DF2BCA4D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7FBB7-AC6D-487A-A05A-75E7E43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BB85-4A3E-4FEA-A4EA-8C1D27A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6E0F-E167-4E1C-BD27-6AE2B55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E7DE-B78C-41D3-8111-545FD3A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B79D-A507-454A-BFCA-4A70A8DD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FC09-A44E-496E-B4D1-EDC8484F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B7A-6332-43B1-8537-9C31A4E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ACC9-65D1-4DF0-B0EC-FDD031D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B294-D1F0-4A4A-9C03-4CBB293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D677-CC50-4F38-B68E-BBF0E5A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8C705-EC23-43D0-AA5C-FD98C06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17A7-7B99-457E-A243-3876D2AF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A13-1290-4D0A-B201-0A17658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456-8ED0-4D7E-8E12-3DFEE20ECF0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DD4-B40B-4E64-9F08-7E2D02E765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57A1-4AE2-4D83-BF6D-42B1FB32253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4BF-2217-46BE-864E-155E6DF8A1D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EEA1-31B8-4EE5-A7E9-C0A574003B0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E2C7-F5C1-40B7-80A9-AA6303951E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5E45-817C-46F6-AE18-9A4F066D00E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6A6D-77BB-4E20-8968-8088A12BC8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355-FAA4-45CE-95F0-F158714CCC6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65D5-66A7-4FFE-98DC-800A54DB6D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858-9B16-44FB-86A9-AD21F55774C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CF96-AD5D-4D29-B2DB-BB09D81615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075-94FD-4C45-872E-639E3D31EDF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57D0-2FA4-4CBD-867B-003C9C639A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7:03:02Z</dcterms:modified>
  <cp:revision>168</cp:revision>
  <dc:subject/>
  <dc:title>Slide 1</dc:title>
</cp:coreProperties>
</file>