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3D2D-E066-4199-9874-1405DC232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E5F-70AC-4266-A5CD-9E7A0DE6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AB4-2A02-4C92-A319-048FDB1D5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4E65-F6E1-4754-BCA6-41A53F3A9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111C-BFBC-4875-A9A3-4BD60008A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987A-4B3E-4E01-AC3D-F5E3E97C2B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0318-149E-4584-9D9A-E7E9F77DCB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22FE-48AB-4A23-860E-A427F88EB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FB5-B53F-4360-9937-5DDBE1577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73E-9F94-4B3C-8B7E-AED056756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E7E6-40F8-4A86-8612-E136D97E2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C5B-5CFF-4909-97BF-E9185103F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827-8EED-4AD2-B5BB-B7C841299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578-F6EF-4DB1-B08E-B47EBD392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2E1E-11A5-440C-A05A-9FAAF503A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CF2C-310B-4450-A3F9-1B99485FD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BC8-C34D-4DDF-A548-29726557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811-452F-41E7-B59B-BDFBE81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1A4-49E8-42A4-B67D-A9C58E0F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E67-DE8A-4318-9046-268553AC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9525-61A2-4245-9A54-910069F9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F83-ACF8-42BC-A4FC-5CF684B6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44B6-1444-46F3-A972-020C4255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A1B0-B583-4939-8C24-6710EEC2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7E6-25EF-451F-829E-DAE6FAA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A58A-AB86-415A-9697-E9154EAA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45F-C817-4261-9D26-6038099A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28F-506D-469E-B38C-6A75F43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2C39-529F-48E6-B851-53392C5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E6C-DC1E-4594-B4F7-C4E513A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10E2-F461-420D-9D1E-7248823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C60C-7BB3-4D5B-BEDA-0575C59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615E-8D73-42AA-A013-69DD5685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2458-08C1-487C-B393-F2236846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CDB4-7D45-47F3-AF30-144AEBAA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A4F3-9F89-49F6-A8C5-14C11C23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DCE4-C114-44CC-BB2E-E380EAC2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4C30-42EA-48B0-A9DB-161C070F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E7C-BE19-4A74-B511-03BA2470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9E38-0972-4DD9-97A2-348132E0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22C5-23BD-4B44-B567-6B0D16E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2CB5-ECB4-4ADE-B678-A48558A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2ED7-655C-44EA-9D07-D7CB54A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BD24-A0AE-4654-80C0-2FD7531A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27754-16F2-40D6-ADAE-D729BFE8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4C91-9FD2-4B0B-BA8D-46A47A37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4C3E-05CF-4DCA-A836-0307E59B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51BC-FE69-4690-BE1C-D1EC212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07638-53BA-4E92-95F2-B32A3648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10C-E75A-4CEF-9616-22341DB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686B-BE96-4176-9D38-7F5B2CD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2CD8-86C7-48AE-9DC7-8463335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195B-5EF9-46D5-9833-D3A2CC1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DE55-2D07-4B24-B8AE-24BA835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76EF-7A9D-4002-8A5B-2AAA805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DAB8-B176-404E-8222-A046D2CB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CFA2-56D0-486C-8368-E014854E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1CE3-E5C6-423E-904B-311B3EC3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CBB1-2827-4660-8F1B-567797A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1882-39B9-4D61-8A35-FCCE0E5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9E4-E52E-4091-AF08-5486FE42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EFE80-ECAE-41AC-A401-B4E85F2E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E013-C303-4B47-AF23-01E73317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CA91-9B8B-4BA1-9F50-A5C9032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CFBF7-D541-4AD3-ABDD-CCC85BD1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22C2-89EA-4FE9-9E35-9C1A06B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C450-A209-4F2D-8039-1D08478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7271-EF47-4837-8466-58A6D64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E955-96E6-4904-811D-4133BDE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0D5E-D30C-42CB-97BE-476550C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AD3A-702A-4CC7-B8FD-9F50447E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AFA-A373-48C3-A80E-4C98ABBF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C053-BCC2-4ED9-927A-A5691DA6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5A89-01C4-4A75-9658-89F3F7F4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43991-2E31-457C-8557-BE847F7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A09B-9264-48A5-8D5E-7FF8531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5530C-299F-4D9A-B0B9-56068933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294F-5DF8-42AD-BDC7-47B7D86B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5E302-03E6-4714-896C-5236F24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A614E-8702-4746-BF21-1686578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FB46-34FC-4A27-A918-2B49922C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DAEBB-3C11-4A3E-ABAB-73F5D719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6F1-A2E3-4B3F-8D18-415D0BC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AAC5D-F9B3-4768-8227-8CF3F7CA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7C947-7856-4216-9C20-2B42137F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647B-17F2-46F6-8B5A-AAFFC487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E570-6940-472C-8683-D6D35C4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01BF-E0A7-49D3-A28E-B8920D6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9D9CA-995C-4ED3-B1ED-820B092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7890-F209-4AFC-B62B-43E8625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7C1F9-4431-4C8A-AB1D-E41F8CD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E484-C7EC-4FC2-B112-D36A558C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FAAE-4C01-4F70-BAFC-935D852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F4F-282B-4D9B-A206-3A2E9D1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F246-A894-4CAE-B3B1-8C14802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41F1-B727-47F1-8916-E2E6745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73BC-1B5A-4255-8A86-1FD94B86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8F86-E09C-4746-9004-0F314B13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A2BD6-56E2-4C78-8B21-4469FD64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63B-B911-4B2C-AD85-B7974578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74AB-0708-4949-BA57-287A4C950F3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3F80-49F0-429B-BA6A-9F1BC41BCA8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566-D0E4-4DA8-A82F-1602B8DABE6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E654-060B-429E-9DDC-9BCEB2A175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728C-75E0-4941-8A72-7410FD1138E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205-BCFD-4DE4-91AE-105530909A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940-AC56-4D2D-9297-B92461E7A2C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91A-0A7B-4D42-B4D0-06DEBDC72E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1C01-2F1F-4E82-845F-CC654D18798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A6E8-BC23-47C8-B358-88D229DA07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57B7-2C33-499D-AC6C-A839ACA4266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CEF-6FC2-4299-A35B-4DE70C0A056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20A-84C8-43ED-A0DB-37EDE9B639A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149-913D-405A-8ECB-C10E143A485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TNE Friend</cp:lastModifiedBy>
  <dcterms:modified xsi:type="dcterms:W3CDTF">2012-04-29T10:28:09Z</dcterms:modified>
  <cp:revision>168</cp:revision>
  <dc:subject/>
  <dc:title>Slide 1</dc:title>
</cp:coreProperties>
</file>