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C558-3E7F-440D-B075-F7B8E24EB1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EC1-FAA7-4034-9392-3BE61335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40EA-FCB9-4F78-9ABA-3E45A4CE9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58E8-E37F-4ED8-BE97-E692BFE24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FDA-348B-4933-B491-684CA858C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C5C9-4740-4542-BA5F-49E092505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B46-CBF8-41BA-B989-BB0365BA9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E5B-B3FA-4A5B-9484-8BA796731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16D2-16DC-430B-822F-B15B057E2A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6DC-BFE4-4798-A740-447A762FD8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63A1-F36B-4C3C-A443-18DF7E136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88B4-468A-46AF-82BC-799E500B4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1D37-91DD-418A-8D80-DA2A67C2F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8DE1-959F-43A3-AB28-FB33E2F9B5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040D-CBA5-415B-BC7F-E5BCE9D5A6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A672-2C6F-41AE-B6DE-91DEE24ED0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76E-698E-4F76-B5AE-03862E18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C5A1-BA18-4668-9504-E32B4957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23F-0B0D-476C-AF6C-DEEF5AEA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2AE-FB83-4C13-AD56-6D34439A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82FF-9DB7-48B3-8337-6AF5AC55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3F56-6F18-4925-AC65-AE3F932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E8D0-08A0-417E-A137-8353273D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C8CE-6840-439D-A3F5-AFF14EEC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7B4B-6E46-4D4E-9D9B-A768364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7CB1-82DE-4959-9377-24CB25BF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6736-8F33-4EE8-8D39-7EED8CA2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448-60D9-4ECF-BD26-F69D4ACD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13CA-E09C-41EA-A4C0-BF4E5F6E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73EE-0915-42AD-A7E3-58C64EC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9AA-799F-4B16-9A33-DF95314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7826-003F-49CE-891A-0B64F2DC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2780-E55A-411F-BA8F-6A30B26C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9C38E-CAD7-4333-92BF-D303FA07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0B7EF-1C72-4C07-804E-529EEB27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E0DE-CAA2-43AE-AEDC-1BE5AB98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0B04-D1C5-40FF-A861-AEF95239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FBB3-84D7-40F2-A183-FC4F842D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706-E21E-4D69-9841-BCB6F51F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274C-DAC1-4417-BA12-5D88AF69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8A716-77F7-44A2-88EC-135483C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C9137-2962-409A-9F23-6A0907B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888D-0DCD-4E07-9393-8E37DB82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D8D2-396C-4E47-817F-019A1F83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4E73B-5EF5-4B4B-AEE6-E24B1EA5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3398-B9C9-4FD9-9A0E-6F652171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18BF-3187-4D8A-ACF6-50BFF1A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0D861-7362-4958-836C-0C8FD96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81EFD-AEF6-4199-B62F-15EAC2EA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E00-C977-4ECC-A8CC-76A5C170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B6F8E-E4DA-494F-AC86-9AB92CF0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CF6B-9232-4FFF-8C0E-BC879C9F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5728-001F-4A52-A77B-B8977F0F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63C5-2DBC-4CF7-8F44-B88A201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F3DD2-2F76-48BA-AB4F-080A9E3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6E0C-0817-4087-98AC-3A289F88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F283A-BC43-47B2-98A1-45B9724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52850-926B-4E16-8FCE-57235279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B72C8-17CE-45B2-A9C9-92BB86F0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150C-9C3C-49F1-B9A2-95320B42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EF2-0522-4566-9FBE-9C032F3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8CA70-5042-4DBE-A169-15EC4BA3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82B5-8B76-484F-9577-338E065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9185A-2696-40EC-90EC-F188F9F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4F698-3223-4DAA-A2B2-1DA31DC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28651-43F4-46B6-858A-F203250A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ABA73-3A35-43A6-9F23-19AB963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5084-ADFE-4039-8478-F911395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38E47-5DF0-46AB-9084-D0316D8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8E06-A396-4DF5-A500-1D14EAE4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C8C0-53A9-4F80-96B2-13C9DC4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BF59-D657-45DE-9384-A688154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52CD-BC87-4578-9BA8-F07208A4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9E50-82E1-4500-A3E3-F24ACF7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270A0-038B-4547-A5E8-01AB14FD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84A52-498B-4C9F-AC01-9A337C92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E7129-47AB-415D-AF7F-012EAD74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C210-D8A5-487D-9FC6-F5586411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B54DB-FA11-4D4A-8E7B-ADF3700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0B34-989A-4361-84F0-3276F53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9F9C9-DB5F-4884-AF18-9FC4ADE6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DDA0C-DD00-407C-8EDD-F90D6F6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1D4-37DB-448A-BDF1-4BA0246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7644-0C1C-49E8-B49A-251F305A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735E9-F17A-4224-BE0D-1495CC62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B0580-570A-4607-8A70-D355C9B4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E9A4B-5E12-4999-B55A-36B7A47C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EE924-A4DC-4487-B1AC-75EAB6AC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AE0F3-3B69-4287-9E9E-E4A30A1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12628-5007-4E2F-AFD3-231C7EA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CFEA-7A9C-4CD0-B861-0FC7B5B8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3E718-13D2-4B39-82F0-A69151A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CF60D-D2CB-4E04-B996-78AD22C8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7F4E-38EB-45F1-BF1B-905760EF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FDAA-94C3-497B-9DBD-10880BD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60EB3-0E9F-4204-94CF-E4D98CA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4E00-1195-4589-94F1-3E03A0D6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0B39-B001-4351-A94A-3E2DDA54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1C4D9-0405-45A6-8321-24331F7B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E24-0783-4A80-8B5E-A8E13800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7BA8-21DE-4241-847B-C6E62EE3589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502E-AB01-408B-9B74-F18AF70ECC6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31D3-5407-4B7E-93ED-B5F9416237D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BDF-57DE-4C9B-81BF-D61EC87C01E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92F4-14B1-4507-B2CA-32F0DA985765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B0F7-3220-410B-8337-1950DA74B6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572-093E-4786-93DB-3E0A18BF0D1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CB48-C2DB-4F74-82AE-D83202CC9C2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380B-AA19-41E6-BE3C-2D95026F6442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3AA-977D-469F-84A9-45C234CA390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E93-BCBB-4FE8-8410-3741A6A753A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84DC-6548-4303-B39D-75B307C8DAE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0960" y="12823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5840" y="14731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5840" y="15379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087E-F10D-4995-91B9-96CA15D32C9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0E63-31FB-43AF-8F62-F7133214964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2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pare 2 sets of 9 sterile tube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broth in each tub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 ml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antibiotic of interest in tube #1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tube #1 &amp; add to next tube &amp; so on tell tube #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35680" indent="-4726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ke 1 ml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ube #8 &amp; discard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1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est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1 using a pastuer pipet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d one drop of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organism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each tube of set 2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cubate 24 hr  x  37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582480" indent="-5140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99072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C </a:t>
            </a:r>
            <a:r>
              <a:rPr b="0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t tube showing no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87960" indent="-265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Tube #9 has no antibiotic </a:t>
            </a:r>
            <a:r>
              <a:rPr b="0" lang="en-US" sz="3000" spc="-1" strike="noStrike">
                <a:solidFill>
                  <a:srgbClr val="c5f3ff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c5f3ff"/>
                </a:solidFill>
                <a:latin typeface="Corbel"/>
              </a:rPr>
              <a:t> has to be turbi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Flowchart: Magnetic Disk 5"/>
          <p:cNvSpPr/>
          <p:nvPr/>
        </p:nvSpPr>
        <p:spPr>
          <a:xfrm>
            <a:off x="23623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Flowchart: Magnetic Disk 7"/>
          <p:cNvSpPr/>
          <p:nvPr/>
        </p:nvSpPr>
        <p:spPr>
          <a:xfrm>
            <a:off x="16765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Flowchart: Magnetic Disk 8"/>
          <p:cNvSpPr/>
          <p:nvPr/>
        </p:nvSpPr>
        <p:spPr>
          <a:xfrm>
            <a:off x="9144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Flowchart: Magnetic Disk 9"/>
          <p:cNvSpPr/>
          <p:nvPr/>
        </p:nvSpPr>
        <p:spPr>
          <a:xfrm>
            <a:off x="31240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Flowchart: Magnetic Disk 10"/>
          <p:cNvSpPr/>
          <p:nvPr/>
        </p:nvSpPr>
        <p:spPr>
          <a:xfrm>
            <a:off x="38098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Flowchart: Magnetic Disk 11"/>
          <p:cNvSpPr/>
          <p:nvPr/>
        </p:nvSpPr>
        <p:spPr>
          <a:xfrm>
            <a:off x="44956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Flowchart: Magnetic Disk 12"/>
          <p:cNvSpPr/>
          <p:nvPr/>
        </p:nvSpPr>
        <p:spPr>
          <a:xfrm>
            <a:off x="518148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Flowchart: Magnetic Disk 13"/>
          <p:cNvSpPr/>
          <p:nvPr/>
        </p:nvSpPr>
        <p:spPr>
          <a:xfrm>
            <a:off x="5943600" y="2743200"/>
            <a:ext cx="30492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Flowchart: Magnetic Disk 14"/>
          <p:cNvSpPr/>
          <p:nvPr/>
        </p:nvSpPr>
        <p:spPr>
          <a:xfrm>
            <a:off x="6705720" y="2743200"/>
            <a:ext cx="304560" cy="19051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3" name="Straight Arrow Connector 16"/>
          <p:cNvCxnSpPr/>
          <p:nvPr/>
        </p:nvCxnSpPr>
        <p:spPr>
          <a:xfrm flipH="1">
            <a:off x="6933600" y="2057040"/>
            <a:ext cx="610200" cy="6865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424" name="TextBox 18"/>
          <p:cNvSpPr/>
          <p:nvPr/>
        </p:nvSpPr>
        <p:spPr>
          <a:xfrm>
            <a:off x="160308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22"/>
          <p:cNvSpPr/>
          <p:nvPr/>
        </p:nvSpPr>
        <p:spPr>
          <a:xfrm>
            <a:off x="840960" y="4724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23"/>
          <p:cNvSpPr/>
          <p:nvPr/>
        </p:nvSpPr>
        <p:spPr>
          <a:xfrm>
            <a:off x="30510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24"/>
          <p:cNvSpPr/>
          <p:nvPr/>
        </p:nvSpPr>
        <p:spPr>
          <a:xfrm>
            <a:off x="37368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25"/>
          <p:cNvSpPr/>
          <p:nvPr/>
        </p:nvSpPr>
        <p:spPr>
          <a:xfrm>
            <a:off x="442260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6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26"/>
          <p:cNvSpPr/>
          <p:nvPr/>
        </p:nvSpPr>
        <p:spPr>
          <a:xfrm>
            <a:off x="51843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27"/>
          <p:cNvSpPr/>
          <p:nvPr/>
        </p:nvSpPr>
        <p:spPr>
          <a:xfrm>
            <a:off x="587016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28"/>
          <p:cNvSpPr/>
          <p:nvPr/>
        </p:nvSpPr>
        <p:spPr>
          <a:xfrm>
            <a:off x="66322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30"/>
          <p:cNvSpPr/>
          <p:nvPr/>
        </p:nvSpPr>
        <p:spPr>
          <a:xfrm>
            <a:off x="22888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57a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33"/>
          <p:cNvSpPr/>
          <p:nvPr/>
        </p:nvSpPr>
        <p:spPr>
          <a:xfrm>
            <a:off x="7416720" y="17524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Control tub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7d6ff"/>
                </a:solidFill>
                <a:latin typeface="Arial"/>
              </a:rPr>
              <a:t>Only organis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35"/>
          <p:cNvSpPr/>
          <p:nvPr/>
        </p:nvSpPr>
        <p:spPr>
          <a:xfrm>
            <a:off x="9144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traight Connector 38"/>
          <p:cNvSpPr/>
          <p:nvPr/>
        </p:nvSpPr>
        <p:spPr>
          <a:xfrm>
            <a:off x="23623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Straight Connector 39"/>
          <p:cNvSpPr/>
          <p:nvPr/>
        </p:nvSpPr>
        <p:spPr>
          <a:xfrm>
            <a:off x="31240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Straight Connector 40"/>
          <p:cNvSpPr/>
          <p:nvPr/>
        </p:nvSpPr>
        <p:spPr>
          <a:xfrm>
            <a:off x="38098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traight Connector 41"/>
          <p:cNvSpPr/>
          <p:nvPr/>
        </p:nvSpPr>
        <p:spPr>
          <a:xfrm>
            <a:off x="44956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42"/>
          <p:cNvSpPr/>
          <p:nvPr/>
        </p:nvSpPr>
        <p:spPr>
          <a:xfrm>
            <a:off x="518148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Straight Connector 43"/>
          <p:cNvSpPr/>
          <p:nvPr/>
        </p:nvSpPr>
        <p:spPr>
          <a:xfrm>
            <a:off x="5943600" y="4038480"/>
            <a:ext cx="30492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Straight Connector 44"/>
          <p:cNvSpPr/>
          <p:nvPr/>
        </p:nvSpPr>
        <p:spPr>
          <a:xfrm>
            <a:off x="67057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45"/>
          <p:cNvSpPr/>
          <p:nvPr/>
        </p:nvSpPr>
        <p:spPr>
          <a:xfrm>
            <a:off x="1676520" y="4038480"/>
            <a:ext cx="304560" cy="1800"/>
          </a:xfrm>
          <a:prstGeom prst="line">
            <a:avLst/>
          </a:prstGeom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Flowchart: Preparation 49"/>
          <p:cNvSpPr/>
          <p:nvPr/>
        </p:nvSpPr>
        <p:spPr>
          <a:xfrm rot="5400000">
            <a:off x="43459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Flowchart: Preparation 50"/>
          <p:cNvSpPr/>
          <p:nvPr/>
        </p:nvSpPr>
        <p:spPr>
          <a:xfrm rot="5400000">
            <a:off x="50317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Flowchart: Preparation 51"/>
          <p:cNvSpPr/>
          <p:nvPr/>
        </p:nvSpPr>
        <p:spPr>
          <a:xfrm rot="5400000">
            <a:off x="579384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Flowchart: Preparation 52"/>
          <p:cNvSpPr/>
          <p:nvPr/>
        </p:nvSpPr>
        <p:spPr>
          <a:xfrm rot="5400000">
            <a:off x="6556320" y="4187880"/>
            <a:ext cx="603360" cy="30456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lowchart: Preparation 53"/>
          <p:cNvSpPr/>
          <p:nvPr/>
        </p:nvSpPr>
        <p:spPr>
          <a:xfrm rot="5400000">
            <a:off x="3660120" y="4187520"/>
            <a:ext cx="603360" cy="304920"/>
          </a:xfrm>
          <a:prstGeom prst="flowChartPreparation">
            <a:avLst/>
          </a:prstGeom>
          <a:solidFill>
            <a:srgbClr val="ffe39d"/>
          </a:solidFill>
          <a:ln w="19080">
            <a:solidFill>
              <a:srgbClr val="ffe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53320" y="518148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55"/>
          <p:cNvSpPr/>
          <p:nvPr/>
        </p:nvSpPr>
        <p:spPr>
          <a:xfrm>
            <a:off x="1986480" y="518148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1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56"/>
          <p:cNvSpPr/>
          <p:nvPr/>
        </p:nvSpPr>
        <p:spPr>
          <a:xfrm>
            <a:off x="2748600" y="54100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625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57"/>
          <p:cNvSpPr/>
          <p:nvPr/>
        </p:nvSpPr>
        <p:spPr>
          <a:xfrm>
            <a:off x="3510720" y="518148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312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58"/>
          <p:cNvSpPr/>
          <p:nvPr/>
        </p:nvSpPr>
        <p:spPr>
          <a:xfrm>
            <a:off x="4120200" y="54864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0156 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Box 60"/>
          <p:cNvSpPr/>
          <p:nvPr/>
        </p:nvSpPr>
        <p:spPr>
          <a:xfrm>
            <a:off x="1299960" y="54100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i="1" lang="en-US" sz="1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g/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Trouble shooting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turbi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started with low antibiotic conc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resistant organism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antibiotic not work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f all tubes clear except tube #9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? Started with high antibiotic conc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onsolas"/>
              </a:rPr>
              <a:t>Resul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I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The  more resistant the organism is </a:t>
            </a:r>
            <a:r>
              <a:rPr b="0" i="1" lang="en-US" sz="3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fff00"/>
                </a:solidFill>
                <a:latin typeface="Corbel"/>
              </a:rPr>
              <a:t>   the higher the M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MBC </a:t>
            </a:r>
            <a:r>
              <a:rPr b="0" i="1" lang="en-US" sz="3000" spc="-1" strike="noStrike">
                <a:solidFill>
                  <a:srgbClr val="f7a1ca"/>
                </a:solidFill>
                <a:latin typeface="Wingdings"/>
                <a:ea typeface="Wingdings"/>
              </a:rPr>
              <a:t></a:t>
            </a:r>
            <a:r>
              <a:rPr b="0" i="1" lang="en-US" sz="3000" spc="-1" strike="noStrike">
                <a:solidFill>
                  <a:srgbClr val="f7a1ca"/>
                </a:solidFill>
                <a:latin typeface="Corbel"/>
              </a:rPr>
              <a:t> </a:t>
            </a:r>
            <a:r>
              <a:rPr b="0" i="1" lang="en-US" sz="3000" spc="-1" strike="noStrike">
                <a:solidFill>
                  <a:srgbClr val="a7d6ff"/>
                </a:solidFill>
                <a:latin typeface="Corbel"/>
              </a:rPr>
              <a:t>the last dilution at which no growth is observed ; And its </a:t>
            </a:r>
            <a:r>
              <a:rPr b="0" lang="en-US" sz="3000" spc="-1" strike="noStrike">
                <a:solidFill>
                  <a:srgbClr val="a7d6ff"/>
                </a:solidFill>
                <a:latin typeface="Corbel"/>
              </a:rPr>
              <a:t>subculture have no growth on  plate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a157a"/>
                </a:solidFill>
                <a:latin typeface="Consolas"/>
              </a:rPr>
              <a:t>MIC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9" name="Content Placeholder 3" descr="MIC FIGUR.gif"/>
          <p:cNvPicPr/>
          <p:nvPr/>
        </p:nvPicPr>
        <p:blipFill>
          <a:blip r:embed="rId1"/>
          <a:srcRect l="0" t="0" r="22667" b="0"/>
          <a:stretch/>
        </p:blipFill>
        <p:spPr>
          <a:xfrm>
            <a:off x="0" y="1676520"/>
            <a:ext cx="9120240" cy="481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0" name="Rectangle 15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6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157a"/>
                </a:solidFill>
                <a:latin typeface="Consolas"/>
              </a:rPr>
              <a:t>MBC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4" name="Content Placeholder 3" descr="mbc figur.gif"/>
          <p:cNvPicPr/>
          <p:nvPr/>
        </p:nvPicPr>
        <p:blipFill>
          <a:blip r:embed="rId1"/>
          <a:srcRect l="0" t="0" r="22790" b="0"/>
          <a:stretch/>
        </p:blipFill>
        <p:spPr>
          <a:xfrm>
            <a:off x="0" y="1600200"/>
            <a:ext cx="9144000" cy="4834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65" name="Rectangle 4"/>
          <p:cNvSpPr/>
          <p:nvPr/>
        </p:nvSpPr>
        <p:spPr>
          <a:xfrm>
            <a:off x="1447920" y="1676520"/>
            <a:ext cx="11430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5"/>
          <p:cNvSpPr/>
          <p:nvPr/>
        </p:nvSpPr>
        <p:spPr>
          <a:xfrm>
            <a:off x="1143000" y="5334120"/>
            <a:ext cx="1600200" cy="1066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28600" y="1676520"/>
            <a:ext cx="868680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Etest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strip test)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8" descr="mic_etest-72"/>
          <p:cNvPicPr/>
          <p:nvPr/>
        </p:nvPicPr>
        <p:blipFill>
          <a:blip r:embed="rId1"/>
          <a:stretch/>
        </p:blipFill>
        <p:spPr>
          <a:xfrm>
            <a:off x="914400" y="1828800"/>
            <a:ext cx="3740040" cy="359424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0" name="Picture 6" descr="mic_etest_close-200"/>
          <p:cNvPicPr/>
          <p:nvPr/>
        </p:nvPicPr>
        <p:blipFill>
          <a:blip r:embed="rId2"/>
          <a:stretch/>
        </p:blipFill>
        <p:spPr>
          <a:xfrm>
            <a:off x="4876920" y="1752480"/>
            <a:ext cx="1770120" cy="366552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1" name="Picture 7" descr="mic_etest_menisc-400"/>
          <p:cNvPicPr/>
          <p:nvPr/>
        </p:nvPicPr>
        <p:blipFill>
          <a:blip r:embed="rId3"/>
          <a:stretch/>
        </p:blipFill>
        <p:spPr>
          <a:xfrm>
            <a:off x="6858000" y="2743200"/>
            <a:ext cx="2021040" cy="17859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72" name="Picture 2" descr=""/>
          <p:cNvPicPr/>
          <p:nvPr/>
        </p:nvPicPr>
        <p:blipFill>
          <a:blip r:embed="rId4"/>
          <a:stretch/>
        </p:blipFill>
        <p:spPr>
          <a:xfrm>
            <a:off x="6781680" y="22860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Microsca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760" y="1770120"/>
            <a:ext cx="479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standard size microtiter tra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ection of growt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hoto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24 h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luorimetrical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short incub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ata managed using computer-based algorithm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5" name="Picture 4" descr=""/>
          <p:cNvPicPr/>
          <p:nvPr/>
        </p:nvPicPr>
        <p:blipFill>
          <a:blip r:embed="rId1"/>
          <a:srcRect l="3564" t="39235" r="83159" b="38143"/>
          <a:stretch/>
        </p:blipFill>
        <p:spPr>
          <a:xfrm>
            <a:off x="5638680" y="1676520"/>
            <a:ext cx="2819520" cy="22096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6" name="Content Placeholder 5" descr=""/>
          <p:cNvPicPr/>
          <p:nvPr/>
        </p:nvPicPr>
        <p:blipFill>
          <a:blip r:embed="rId2"/>
          <a:srcRect l="17432" t="39235" r="69214" b="38143"/>
          <a:stretch/>
        </p:blipFill>
        <p:spPr>
          <a:xfrm>
            <a:off x="5638680" y="4191120"/>
            <a:ext cx="2819520" cy="198108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77" name="Picture 2" descr=""/>
          <p:cNvPicPr/>
          <p:nvPr/>
        </p:nvPicPr>
        <p:blipFill>
          <a:blip r:embed="rId3"/>
          <a:stretch/>
        </p:blipFill>
        <p:spPr>
          <a:xfrm>
            <a:off x="35812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Phoenix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64760" y="1770120"/>
            <a:ext cx="4411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oth Microdilution tes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r growth detection it usese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dox indicator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acterial turbidity testing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0" name="Content Placeholder 4" descr=""/>
          <p:cNvPicPr/>
          <p:nvPr/>
        </p:nvPicPr>
        <p:blipFill>
          <a:blip r:embed="rId1"/>
          <a:srcRect l="17585" t="65818" r="72178" b="12195"/>
          <a:stretch/>
        </p:blipFill>
        <p:spPr>
          <a:xfrm>
            <a:off x="5410080" y="3505320"/>
            <a:ext cx="2878200" cy="2743200"/>
          </a:xfrm>
          <a:prstGeom prst="rect">
            <a:avLst/>
          </a:prstGeom>
          <a:ln w="9360">
            <a:solidFill>
              <a:srgbClr val="b216b2"/>
            </a:solidFill>
            <a:miter/>
          </a:ln>
        </p:spPr>
      </p:pic>
      <p:pic>
        <p:nvPicPr>
          <p:cNvPr id="481" name="Picture 2" descr="http://www.bd.com/ds/images/products/img_phoenix-panels_100px.jpg"/>
          <p:cNvPicPr/>
          <p:nvPr/>
        </p:nvPicPr>
        <p:blipFill>
          <a:blip r:embed="rId2"/>
          <a:stretch/>
        </p:blipFill>
        <p:spPr>
          <a:xfrm>
            <a:off x="5867280" y="1600200"/>
            <a:ext cx="1968480" cy="175248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pic>
        <p:nvPicPr>
          <p:cNvPr id="482" name="Picture 2" descr=""/>
          <p:cNvPicPr/>
          <p:nvPr/>
        </p:nvPicPr>
        <p:blipFill>
          <a:blip r:embed="rId3"/>
          <a:stretch/>
        </p:blipFill>
        <p:spPr>
          <a:xfrm>
            <a:off x="3809880" y="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m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c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robi</a:t>
            </a:r>
            <a:r>
              <a:rPr b="1" lang="de-DE" sz="4000" spc="-1" strike="noStrike">
                <a:solidFill>
                  <a:srgbClr val="ff0066"/>
                </a:solidFill>
                <a:latin typeface="Consolas"/>
              </a:rPr>
              <a:t>al</a:t>
            </a: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 Therap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273af"/>
                </a:solidFill>
                <a:latin typeface="Corbel"/>
              </a:rPr>
              <a:t>Natural antibiotic agents:</a:t>
            </a:r>
            <a:r>
              <a:rPr b="0" lang="en-GB" sz="2800" spc="-1" strike="noStrike">
                <a:solidFill>
                  <a:srgbClr val="f273a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7a1ca"/>
                </a:solidFill>
                <a:latin typeface="Corbel"/>
              </a:rPr>
              <a:t>Produced by microorganism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1b6ff"/>
                </a:solidFill>
                <a:latin typeface="Corbel"/>
              </a:rPr>
              <a:t>Penicillium notatum</a:t>
            </a:r>
            <a:r>
              <a:rPr b="0" lang="en-GB" sz="2600" spc="-1" strike="noStrike">
                <a:solidFill>
                  <a:srgbClr val="ff0066"/>
                </a:solidFill>
                <a:latin typeface="Corbel"/>
              </a:rPr>
              <a:t> </a:t>
            </a: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– penicillin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emi-synthetic antibiotic agents:</a:t>
            </a:r>
            <a:r>
              <a:rPr b="0" lang="en-GB" sz="2800" spc="-1" strike="noStrike">
                <a:solidFill>
                  <a:srgbClr val="f7a1ca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modified natural agents (large group of modern antibiotics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7a1ca"/>
                </a:solidFill>
                <a:latin typeface="Corbel"/>
              </a:rPr>
              <a:t>synthetic antibiotic agent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d6ecff"/>
                </a:solidFill>
                <a:latin typeface="Corbel"/>
              </a:rPr>
              <a:t>Chemically related to natural antibiotics but completely industrially manufacture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Vitek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65120" y="1770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Uses thin plastic card, comprising 30 well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linked by capillari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cterial suspension will rehydrate reagent in well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rowth determined turbidometrically every 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for 15 h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an test up to 20 antibiotic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5" name="Content Placeholder 4" descr="http://tbn2.google.com/images?q=tbn:KyB6geVMIvOXHM:http://www.biomerieux-usa.com/images/products/vitek2/three_cards.jpg"/>
          <p:cNvPicPr/>
          <p:nvPr/>
        </p:nvPicPr>
        <p:blipFill>
          <a:blip r:embed="rId1"/>
          <a:stretch/>
        </p:blipFill>
        <p:spPr>
          <a:xfrm>
            <a:off x="5562720" y="1371600"/>
            <a:ext cx="2286000" cy="19810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6" name="Picture 5" descr="http://tbn1.google.com/images?q=tbn:x7LF9nF86AWaPM:http://www.clpmag.com/issues/images/2007-07/2007-07_03-06.jpg"/>
          <p:cNvPicPr/>
          <p:nvPr/>
        </p:nvPicPr>
        <p:blipFill>
          <a:blip r:embed="rId2"/>
          <a:stretch/>
        </p:blipFill>
        <p:spPr>
          <a:xfrm>
            <a:off x="5029200" y="3505320"/>
            <a:ext cx="3565440" cy="2666880"/>
          </a:xfrm>
          <a:prstGeom prst="rect">
            <a:avLst/>
          </a:prstGeom>
          <a:ln w="9360">
            <a:solidFill>
              <a:srgbClr val="e02cbe"/>
            </a:solidFill>
            <a:miter/>
          </a:ln>
        </p:spPr>
      </p:pic>
      <p:pic>
        <p:nvPicPr>
          <p:cNvPr id="487" name="Picture 2" descr=""/>
          <p:cNvPicPr/>
          <p:nvPr/>
        </p:nvPicPr>
        <p:blipFill>
          <a:blip r:embed="rId3"/>
          <a:stretch/>
        </p:blipFill>
        <p:spPr>
          <a:xfrm>
            <a:off x="342900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90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Why do we do sensitivity testing?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which drug we use to the patient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Know the dose of antibio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It is important to use the lowest effective concentration of the antibiotic to avoid toxicity in patient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Organism Used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tandard Organism </a:t>
            </a:r>
            <a:br>
              <a:rPr sz="3200"/>
            </a:b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(Quality Control organism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9718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aphylococcus  aureus  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5923 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seudomonas aeruginosa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TCC 2785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scherichia coli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ATCC 2592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nterococcus faecalis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 ATCC 29212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Klepsiella pneumoni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 ATCC 700603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eptococcus pneumoniae              ATCC 49619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aemophilus influenzae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               ATCC 49247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Content Placeholder 4" descr="ATCC swab.jpg"/>
          <p:cNvPicPr/>
          <p:nvPr/>
        </p:nvPicPr>
        <p:blipFill>
          <a:blip r:embed="rId1"/>
          <a:stretch/>
        </p:blipFill>
        <p:spPr>
          <a:xfrm>
            <a:off x="5638680" y="31240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7372440" y="0"/>
            <a:ext cx="17715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395" name="Content Placeholder 3" descr=""/>
          <p:cNvPicPr/>
          <p:nvPr/>
        </p:nvPicPr>
        <p:blipFill>
          <a:blip r:embed="rId1"/>
          <a:srcRect l="9589" t="10728" r="22102" b="36663"/>
          <a:stretch/>
        </p:blipFill>
        <p:spPr>
          <a:xfrm>
            <a:off x="609480" y="0"/>
            <a:ext cx="815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Broth Dilution Method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rbel"/>
              </a:rPr>
              <a:t>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antibiotic</a:t>
            </a: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dilution seri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rbel"/>
              </a:rPr>
              <a:t>       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bacterial suspensio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2400" spc="-1" strike="noStrike">
                <a:solidFill>
                  <a:srgbClr val="a7d6ff"/>
                </a:solidFill>
                <a:latin typeface="Corbel"/>
              </a:rPr>
              <a:t>(standard amount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6ecff"/>
                </a:solidFill>
                <a:latin typeface="Corbel"/>
              </a:rPr>
              <a:t>          </a:t>
            </a:r>
            <a:r>
              <a:rPr b="1" lang="en-GB" sz="2400" spc="-1" strike="noStrike">
                <a:solidFill>
                  <a:srgbClr val="d6ecff"/>
                </a:solidFill>
                <a:latin typeface="Corbel"/>
              </a:rPr>
              <a:t>growth 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2209680" y="4419720"/>
            <a:ext cx="0" cy="609480"/>
          </a:xfrm>
          <a:prstGeom prst="line">
            <a:avLst/>
          </a:prstGeom>
          <a:ln w="57240">
            <a:solidFill>
              <a:srgbClr val="d6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6" descr="mic_macdil_tet-72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18000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00" name="Picture 7" descr="mic_macrodil_tet_break-200"/>
          <p:cNvPicPr/>
          <p:nvPr/>
        </p:nvPicPr>
        <p:blipFill>
          <a:blip r:embed="rId2"/>
          <a:stretch/>
        </p:blipFill>
        <p:spPr>
          <a:xfrm>
            <a:off x="6324480" y="3657600"/>
            <a:ext cx="2133720" cy="3011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sp>
        <p:nvSpPr>
          <p:cNvPr id="401" name="TextBox 6"/>
          <p:cNvSpPr/>
          <p:nvPr/>
        </p:nvSpPr>
        <p:spPr>
          <a:xfrm>
            <a:off x="304920" y="58672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ea157a"/>
                </a:solidFill>
                <a:latin typeface="Arial"/>
              </a:rPr>
              <a:t>MIC – minimal inhibitory 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Inhibitory Concentration MI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stop growth of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inimum Bactericidal Concentration MBC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lowest concentration of antimicrobial required to kill bacteri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Broth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TNE Friend</cp:lastModifiedBy>
  <dcterms:modified xsi:type="dcterms:W3CDTF">2012-04-29T10:28:09Z</dcterms:modified>
  <cp:revision>168</cp:revision>
  <dc:subject/>
  <dc:title>Slide 1</dc:title>
</cp:coreProperties>
</file>