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4F61-2B80-4A32-8238-DF842C04E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37CF-80C2-44A5-B374-2F4A9C359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0AD8-E78A-4417-8D9D-C188731940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9A88-1A36-4B09-9B46-62E15CEC80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2366-01F5-4B97-816D-BB4BA2D1D4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AB20-AD3A-479C-96D3-0A5C50A537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7BD8-733C-4D2A-B9FA-FB71F95FE0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E3EB-2A0E-412F-A4E3-4FBCAE9DEC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ED2E-D6B7-4BE4-A523-137ADD5540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3EF8-F19F-4BA5-9334-9F9FF8A2B4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80FC-7AD1-41BC-AD6B-54275251A2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3E0C-38DB-4B3A-8106-E0272C7AB7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1151-8BDB-48D9-9105-975B26060B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C9DB-C510-4F08-A475-76C71CA82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51A8-7DFF-45C8-931D-21C45FB226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3026-03F8-4816-82EC-E000C36F81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99B-20D5-4EC8-B497-02F0B0E9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FDB-F810-4824-AE17-57AE0AE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B97-8E02-411C-9372-90C8699E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435-F45A-434E-BAF2-7199EC98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21D7-F38A-4C98-A5FD-C766C9E3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6933-923A-4635-A1A8-FEAB29CF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3F0A-DC84-4048-99BC-4AB8A71E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3BAD-704B-4333-80B0-98C22219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B224-7DA1-4C8D-87E3-EB1EC600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24B4-0F61-4293-BB26-21C1F357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7775-AAB9-43E0-8331-14CB21A0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61F-4AF1-494C-9662-4A207BEF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6DD0-BBA3-43C5-AE18-76CB9B73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3EE3-A3EE-435D-844D-296659CA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F5B2-C9D1-4BAE-8C6B-778078C7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46C9-ACD9-46FD-A5CF-49D9DAB7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4FF0-F792-45C8-8254-D17873CA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5AAF-FCBC-4B8F-B269-1F11FB1C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CEE6-B929-4A71-B2B5-8A8F32AB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6E07-6184-4EF2-B3FD-A82EE58E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A699-B7D6-47B3-9F21-E14C80A9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38742-C2BF-4FA0-A6B3-900192DB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998-9959-45BC-89F6-938EF995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3A3B-2374-4C83-BAF3-51373F72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4E8B3-A8DE-44D7-8692-FF18D58C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8913-9F58-425B-8D17-582140B7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DC97-1A59-42F3-B029-0663AD8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7428-ED27-4C99-9A2F-BCBA7D81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23A0C-B675-41F7-9464-1F46B3C0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AA36-AC24-45F9-AD8C-174EAFBB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0D09-16BD-462A-B2BB-937B6174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D59C-294F-4D8C-B218-FC9644E9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B51E1-4FA4-4926-9398-7C500157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F36-4F6D-4443-ACDB-427C5130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A99D8-9E2F-4A87-B6CB-5467B3EE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038E-A017-43D8-B3E5-69C43FE5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1A5C5-E763-4A72-A1D5-542342B5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E3DA-6872-4A91-855B-7086AD2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6976E-D711-4CB4-91F6-67BD5CD1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1C68-6784-4F54-BE47-63122EAB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C69D-453F-4D2D-8F6D-0086D503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20EF1-4192-4D49-AA31-137E0129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70E0B-78DE-4157-8A70-E79D25E3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3BBD8-7F5E-4B1C-B5DC-A4023A3D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E98-2283-4ADA-BF9D-BAD4D950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8F6F6-DB18-4FFB-89F3-39E25C87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05F16-5056-4E7F-A072-65D26B80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61F7-0F7D-40E4-8D8C-4DFF7F7E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6C885-25DB-4BB4-BD45-9295792B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4FB2E-8774-4929-96E0-6BAA64FE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1B55-C8A8-433D-9337-8D2F5CFA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14550-3984-4399-8B2E-D9828F6A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C09F0-0F0A-4AC2-B0FA-8B77F6BD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B8C6-DBC8-4054-AE76-9FF03E47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7D7E2-7C9B-4CF0-954A-4E33F4EC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7CF-BD6F-4A3D-A8EA-F4C44F5F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CADAF-241A-4058-B9C2-2761EDD3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8BD1B-91BA-463D-A275-37EF7126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FE3A-8D07-4F3B-AB0F-ABE8305F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6D149-83E2-4821-95E2-D015E82B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F038-64F0-4F80-A6C3-6C13B5D3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7B07E-F4FB-4195-92F4-CDD271F8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5976-7D6E-4940-A399-2334157D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63BF6-A0E2-45AD-AEFA-EB210A78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43FCF-8716-4A6C-959E-8E95763D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DAADC-4982-4322-9F26-E38DBF4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51D-2B38-4F31-B092-73A1972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06E33-6580-4DD5-A12D-86C283A8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A91C9-697F-43C7-B1A9-4E95495E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B2AF6-58DA-40C0-BF21-17CD9C86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E7BD5-148E-4B25-9EDD-506A41EA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F0947-B647-41EF-A70E-90E624FA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86A82-AE4A-4BD2-B13A-87C6B3A1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9B906-08EB-40BD-8E19-46CEA29F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6244A-2819-490A-BC8A-2E738018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471F0-09EF-4CEE-BAAF-1E50F2DA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669E7-1CFD-4EB8-B605-7520BCD0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3B1-8469-4CC2-80AA-06128E5A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CAB79-A2F7-4F78-BD28-A227799D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02737-173A-4434-84DF-F113440C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572C8-F93D-4CD2-848F-BC3980ED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785F6-856C-40F8-BE88-82A0486B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86034-2C85-4C89-B6FA-98144D0A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A94-5F9E-4D07-9B9E-60F24FC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26B9-1553-4340-BA16-420A0254FE7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A386-84AD-456B-928A-3281CB93D26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DD71-EA9C-4029-AC07-FF74E8F21AF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CBBB-B2ED-40F8-8566-AD00B75A3BD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580C-0337-4670-8ADC-EBB05ED836E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30CB-3B13-416D-B1AE-04A030594A8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DFCC-0839-4BEC-8987-E8BC1A7B120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7E9A-4D39-47BE-96CA-2990182054F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D2AF-399A-4A7D-B243-5C93D483973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50B9-F53B-407A-BB32-17F7A386F08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768D-F35A-4771-A313-B30337B8772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1ED1-5FE4-4AAD-805F-2778DAE23CF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0960" y="12823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5840" y="14731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5840" y="15379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D9D1-4F33-4013-8447-F06FB44F002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697A-F8C2-4D6A-BCF9-3DE7B24B472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are 2 sets of 9 sterile tub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broth in each tub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antibiotic of interest in tube #1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tube #1 &amp; add to next tube &amp; so on tell tube #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ube #8 &amp; discar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1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est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1 using a pastuer pipet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one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cubate 24 hr  x  37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C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t tube showing no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Tube #9 has no antibiotic </a:t>
            </a:r>
            <a:r>
              <a:rPr b="0" lang="en-US" sz="3000" spc="-1" strike="noStrike">
                <a:solidFill>
                  <a:srgbClr val="c5f3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 has to be turbi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Flowchart: Magnetic Disk 5"/>
          <p:cNvSpPr/>
          <p:nvPr/>
        </p:nvSpPr>
        <p:spPr>
          <a:xfrm>
            <a:off x="23623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lowchart: Magnetic Disk 7"/>
          <p:cNvSpPr/>
          <p:nvPr/>
        </p:nvSpPr>
        <p:spPr>
          <a:xfrm>
            <a:off x="16765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lowchart: Magnetic Disk 8"/>
          <p:cNvSpPr/>
          <p:nvPr/>
        </p:nvSpPr>
        <p:spPr>
          <a:xfrm>
            <a:off x="9144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lowchart: Magnetic Disk 9"/>
          <p:cNvSpPr/>
          <p:nvPr/>
        </p:nvSpPr>
        <p:spPr>
          <a:xfrm>
            <a:off x="31240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lowchart: Magnetic Disk 10"/>
          <p:cNvSpPr/>
          <p:nvPr/>
        </p:nvSpPr>
        <p:spPr>
          <a:xfrm>
            <a:off x="38098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lowchart: Magnetic Disk 11"/>
          <p:cNvSpPr/>
          <p:nvPr/>
        </p:nvSpPr>
        <p:spPr>
          <a:xfrm>
            <a:off x="44956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lowchart: Magnetic Disk 12"/>
          <p:cNvSpPr/>
          <p:nvPr/>
        </p:nvSpPr>
        <p:spPr>
          <a:xfrm>
            <a:off x="51814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lowchart: Magnetic Disk 13"/>
          <p:cNvSpPr/>
          <p:nvPr/>
        </p:nvSpPr>
        <p:spPr>
          <a:xfrm>
            <a:off x="59436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lowchart: Magnetic Disk 14"/>
          <p:cNvSpPr/>
          <p:nvPr/>
        </p:nvSpPr>
        <p:spPr>
          <a:xfrm>
            <a:off x="67057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3" name="Straight Arrow Connector 16"/>
          <p:cNvCxnSpPr/>
          <p:nvPr/>
        </p:nvCxnSpPr>
        <p:spPr>
          <a:xfrm flipH="1">
            <a:off x="6933600" y="2057040"/>
            <a:ext cx="61020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24" name="TextBox 18"/>
          <p:cNvSpPr/>
          <p:nvPr/>
        </p:nvSpPr>
        <p:spPr>
          <a:xfrm>
            <a:off x="160308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2"/>
          <p:cNvSpPr/>
          <p:nvPr/>
        </p:nvSpPr>
        <p:spPr>
          <a:xfrm>
            <a:off x="84096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3"/>
          <p:cNvSpPr/>
          <p:nvPr/>
        </p:nvSpPr>
        <p:spPr>
          <a:xfrm>
            <a:off x="30510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24"/>
          <p:cNvSpPr/>
          <p:nvPr/>
        </p:nvSpPr>
        <p:spPr>
          <a:xfrm>
            <a:off x="37368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4422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26"/>
          <p:cNvSpPr/>
          <p:nvPr/>
        </p:nvSpPr>
        <p:spPr>
          <a:xfrm>
            <a:off x="51843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27"/>
          <p:cNvSpPr/>
          <p:nvPr/>
        </p:nvSpPr>
        <p:spPr>
          <a:xfrm>
            <a:off x="58701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28"/>
          <p:cNvSpPr/>
          <p:nvPr/>
        </p:nvSpPr>
        <p:spPr>
          <a:xfrm>
            <a:off x="66322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30"/>
          <p:cNvSpPr/>
          <p:nvPr/>
        </p:nvSpPr>
        <p:spPr>
          <a:xfrm>
            <a:off x="22888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33"/>
          <p:cNvSpPr/>
          <p:nvPr/>
        </p:nvSpPr>
        <p:spPr>
          <a:xfrm>
            <a:off x="7416720" y="17524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Control tu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Only organis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traight Connector 35"/>
          <p:cNvSpPr/>
          <p:nvPr/>
        </p:nvSpPr>
        <p:spPr>
          <a:xfrm>
            <a:off x="9144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traight Connector 38"/>
          <p:cNvSpPr/>
          <p:nvPr/>
        </p:nvSpPr>
        <p:spPr>
          <a:xfrm>
            <a:off x="23623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Straight Connector 39"/>
          <p:cNvSpPr/>
          <p:nvPr/>
        </p:nvSpPr>
        <p:spPr>
          <a:xfrm>
            <a:off x="31240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Straight Connector 40"/>
          <p:cNvSpPr/>
          <p:nvPr/>
        </p:nvSpPr>
        <p:spPr>
          <a:xfrm>
            <a:off x="38098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traight Connector 41"/>
          <p:cNvSpPr/>
          <p:nvPr/>
        </p:nvSpPr>
        <p:spPr>
          <a:xfrm>
            <a:off x="44956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42"/>
          <p:cNvSpPr/>
          <p:nvPr/>
        </p:nvSpPr>
        <p:spPr>
          <a:xfrm>
            <a:off x="51814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Straight Connector 43"/>
          <p:cNvSpPr/>
          <p:nvPr/>
        </p:nvSpPr>
        <p:spPr>
          <a:xfrm>
            <a:off x="59436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traight Connector 44"/>
          <p:cNvSpPr/>
          <p:nvPr/>
        </p:nvSpPr>
        <p:spPr>
          <a:xfrm>
            <a:off x="67057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45"/>
          <p:cNvSpPr/>
          <p:nvPr/>
        </p:nvSpPr>
        <p:spPr>
          <a:xfrm>
            <a:off x="16765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lowchart: Preparation 49"/>
          <p:cNvSpPr/>
          <p:nvPr/>
        </p:nvSpPr>
        <p:spPr>
          <a:xfrm rot="5400000">
            <a:off x="43459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lowchart: Preparation 50"/>
          <p:cNvSpPr/>
          <p:nvPr/>
        </p:nvSpPr>
        <p:spPr>
          <a:xfrm rot="5400000">
            <a:off x="50317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Flowchart: Preparation 51"/>
          <p:cNvSpPr/>
          <p:nvPr/>
        </p:nvSpPr>
        <p:spPr>
          <a:xfrm rot="5400000">
            <a:off x="579384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Flowchart: Preparation 52"/>
          <p:cNvSpPr/>
          <p:nvPr/>
        </p:nvSpPr>
        <p:spPr>
          <a:xfrm rot="5400000">
            <a:off x="6556320" y="4187880"/>
            <a:ext cx="603360" cy="30456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lowchart: Preparation 53"/>
          <p:cNvSpPr/>
          <p:nvPr/>
        </p:nvSpPr>
        <p:spPr>
          <a:xfrm rot="5400000">
            <a:off x="36601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53320" y="51814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55"/>
          <p:cNvSpPr/>
          <p:nvPr/>
        </p:nvSpPr>
        <p:spPr>
          <a:xfrm>
            <a:off x="1986480" y="518148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1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56"/>
          <p:cNvSpPr/>
          <p:nvPr/>
        </p:nvSpPr>
        <p:spPr>
          <a:xfrm>
            <a:off x="2748600" y="54100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6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57"/>
          <p:cNvSpPr/>
          <p:nvPr/>
        </p:nvSpPr>
        <p:spPr>
          <a:xfrm>
            <a:off x="3510720" y="51814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312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8"/>
          <p:cNvSpPr/>
          <p:nvPr/>
        </p:nvSpPr>
        <p:spPr>
          <a:xfrm>
            <a:off x="4120200" y="54864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156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60"/>
          <p:cNvSpPr/>
          <p:nvPr/>
        </p:nvSpPr>
        <p:spPr>
          <a:xfrm>
            <a:off x="1299960" y="54100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Trouble shooting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turbi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started with low antibiotic conc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resistant organ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antibiotic not work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clear except tube #9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 Started with high antibiotic conc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I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The  more resistant the organism is </a:t>
            </a:r>
            <a:r>
              <a:rPr b="0" i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   the higher the M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B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 ; And its </a:t>
            </a:r>
            <a:r>
              <a:rPr b="0" lang="en-US" sz="3000" spc="-1" strike="noStrike">
                <a:solidFill>
                  <a:srgbClr val="a7d6ff"/>
                </a:solidFill>
                <a:latin typeface="Corbel"/>
              </a:rPr>
              <a:t>subculture have no growth on  pla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MIC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9" name="Content Placeholder 3" descr="MIC FIGUR.gif"/>
          <p:cNvPicPr/>
          <p:nvPr/>
        </p:nvPicPr>
        <p:blipFill>
          <a:blip r:embed="rId1"/>
          <a:srcRect l="0" t="0" r="22667" b="0"/>
          <a:stretch/>
        </p:blipFill>
        <p:spPr>
          <a:xfrm>
            <a:off x="0" y="1676520"/>
            <a:ext cx="9120240" cy="481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0" name="Rectangle 15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6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157a"/>
                </a:solidFill>
                <a:latin typeface="Consolas"/>
              </a:rPr>
              <a:t>MBC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4" name="Content Placeholder 3" descr="mbc figur.gif"/>
          <p:cNvPicPr/>
          <p:nvPr/>
        </p:nvPicPr>
        <p:blipFill>
          <a:blip r:embed="rId1"/>
          <a:srcRect l="0" t="0" r="22790" b="0"/>
          <a:stretch/>
        </p:blipFill>
        <p:spPr>
          <a:xfrm>
            <a:off x="0" y="1600200"/>
            <a:ext cx="9144000" cy="483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5" name="Rectangle 4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Etest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strip test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8" descr="mic_etest-72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359424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0" name="Picture 6" descr="mic_etest_close-200"/>
          <p:cNvPicPr/>
          <p:nvPr/>
        </p:nvPicPr>
        <p:blipFill>
          <a:blip r:embed="rId2"/>
          <a:stretch/>
        </p:blipFill>
        <p:spPr>
          <a:xfrm>
            <a:off x="4876920" y="1752480"/>
            <a:ext cx="1770120" cy="366552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1" name="Picture 7" descr="mic_etest_menisc-400"/>
          <p:cNvPicPr/>
          <p:nvPr/>
        </p:nvPicPr>
        <p:blipFill>
          <a:blip r:embed="rId3"/>
          <a:stretch/>
        </p:blipFill>
        <p:spPr>
          <a:xfrm>
            <a:off x="6858000" y="2743200"/>
            <a:ext cx="2021040" cy="17859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2" name="Picture 2" descr=""/>
          <p:cNvPicPr/>
          <p:nvPr/>
        </p:nvPicPr>
        <p:blipFill>
          <a:blip r:embed="rId4"/>
          <a:stretch/>
        </p:blipFill>
        <p:spPr>
          <a:xfrm>
            <a:off x="6781680" y="22860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Microsca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760" y="1770120"/>
            <a:ext cx="479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standard size microtiter tra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ection of growt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hoto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24 h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luori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short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ata managed using computer-based algorithm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rcRect l="3564" t="39235" r="83159" b="38143"/>
          <a:stretch/>
        </p:blipFill>
        <p:spPr>
          <a:xfrm>
            <a:off x="5638680" y="1676520"/>
            <a:ext cx="2819520" cy="22096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6" name="Content Placeholder 5" descr=""/>
          <p:cNvPicPr/>
          <p:nvPr/>
        </p:nvPicPr>
        <p:blipFill>
          <a:blip r:embed="rId2"/>
          <a:srcRect l="17432" t="39235" r="69214" b="38143"/>
          <a:stretch/>
        </p:blipFill>
        <p:spPr>
          <a:xfrm>
            <a:off x="5638680" y="4191120"/>
            <a:ext cx="2819520" cy="19810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7" name="Picture 2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Phoenix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4760" y="1770120"/>
            <a:ext cx="441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roth Microdilution te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growth detection it usese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dox indicato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acterial turbidity test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0" name="Content Placeholder 4" descr=""/>
          <p:cNvPicPr/>
          <p:nvPr/>
        </p:nvPicPr>
        <p:blipFill>
          <a:blip r:embed="rId1"/>
          <a:srcRect l="17585" t="65818" r="72178" b="12195"/>
          <a:stretch/>
        </p:blipFill>
        <p:spPr>
          <a:xfrm>
            <a:off x="5410080" y="3505320"/>
            <a:ext cx="2878200" cy="274320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81" name="Picture 2" descr="http://www.bd.com/ds/images/products/img_phoenix-panels_100px.jpg"/>
          <p:cNvPicPr/>
          <p:nvPr/>
        </p:nvPicPr>
        <p:blipFill>
          <a:blip r:embed="rId2"/>
          <a:stretch/>
        </p:blipFill>
        <p:spPr>
          <a:xfrm>
            <a:off x="5867280" y="1600200"/>
            <a:ext cx="1968480" cy="17524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482" name="Picture 2" descr=""/>
          <p:cNvPicPr/>
          <p:nvPr/>
        </p:nvPicPr>
        <p:blipFill>
          <a:blip r:embed="rId3"/>
          <a:stretch/>
        </p:blipFill>
        <p:spPr>
          <a:xfrm>
            <a:off x="3809880" y="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m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c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rob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al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 Thera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273af"/>
                </a:solidFill>
                <a:latin typeface="Corbel"/>
              </a:rPr>
              <a:t>Natural antibiotic agents:</a:t>
            </a:r>
            <a:r>
              <a:rPr b="0" lang="en-GB" sz="2800" spc="-1" strike="noStrike">
                <a:solidFill>
                  <a:srgbClr val="f273a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7a1ca"/>
                </a:solidFill>
                <a:latin typeface="Corbel"/>
              </a:rPr>
              <a:t>Produced by microorganism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1b6ff"/>
                </a:solidFill>
                <a:latin typeface="Corbel"/>
              </a:rPr>
              <a:t>Penicillium notatum</a:t>
            </a:r>
            <a:r>
              <a:rPr b="0" lang="en-GB" sz="2600" spc="-1" strike="noStrike">
                <a:solidFill>
                  <a:srgbClr val="ff0066"/>
                </a:solidFill>
                <a:latin typeface="Corbel"/>
              </a:rPr>
              <a:t> </a:t>
            </a: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– penicillin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emi-synthetic antibiotic agents:</a:t>
            </a:r>
            <a:r>
              <a:rPr b="0" lang="en-GB" sz="2800" spc="-1" strike="noStrike">
                <a:solidFill>
                  <a:srgbClr val="f7a1ca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modified natural agents (large group of modern antibiotic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ynthetic antibiotic agent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related to natural antibiotics but completely industrially manufactur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Vite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thin plastic card, comprising 30 well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linked by capillari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acterial suspension will rehydrate reagent in well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rowth determined turbidometrically every 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for 15 h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an test up to 20 antibio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5" name="Content Placeholder 4" descr="http://tbn2.google.com/images?q=tbn:KyB6geVMIvOXHM:http://www.biomerieux-usa.com/images/products/vitek2/three_cards.jpg"/>
          <p:cNvPicPr/>
          <p:nvPr/>
        </p:nvPicPr>
        <p:blipFill>
          <a:blip r:embed="rId1"/>
          <a:stretch/>
        </p:blipFill>
        <p:spPr>
          <a:xfrm>
            <a:off x="5562720" y="1371600"/>
            <a:ext cx="2286000" cy="19810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6" name="Picture 5" descr="http://tbn1.google.com/images?q=tbn:x7LF9nF86AWaPM:http://www.clpmag.com/issues/images/2007-07/2007-07_03-06.jpg"/>
          <p:cNvPicPr/>
          <p:nvPr/>
        </p:nvPicPr>
        <p:blipFill>
          <a:blip r:embed="rId2"/>
          <a:stretch/>
        </p:blipFill>
        <p:spPr>
          <a:xfrm>
            <a:off x="5029200" y="3505320"/>
            <a:ext cx="3565440" cy="26668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7" name="Picture 2" descr=""/>
          <p:cNvPicPr/>
          <p:nvPr/>
        </p:nvPicPr>
        <p:blipFill>
          <a:blip r:embed="rId3"/>
          <a:stretch/>
        </p:blipFill>
        <p:spPr>
          <a:xfrm>
            <a:off x="342900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0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Why do we do sensitivity testing?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380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which drug we use to the pati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the dose of antibiot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It is important to use the lowest effective concentration of the antibiotic to avoid toxicity in patient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Organism Used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tandard Organism 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(Quality Control organism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971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aphylococcus  aureus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5923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seudomonas aeruginosa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785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scherichia coli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ATCC 2592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nterococcus faecalis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 ATCC 2921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lepsiella pneumoni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ATCC 700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reptococcus pneumoniae              ATCC 49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emophilus influenz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ATCC 4924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Content Placeholder 4" descr="ATCC swab.jpg"/>
          <p:cNvPicPr/>
          <p:nvPr/>
        </p:nvPicPr>
        <p:blipFill>
          <a:blip r:embed="rId1"/>
          <a:stretch/>
        </p:blipFill>
        <p:spPr>
          <a:xfrm>
            <a:off x="5638680" y="3124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395" name="Content Placeholder 3" descr=""/>
          <p:cNvPicPr/>
          <p:nvPr/>
        </p:nvPicPr>
        <p:blipFill>
          <a:blip r:embed="rId1"/>
          <a:srcRect l="9589" t="10728" r="22102" b="36663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rbel"/>
              </a:rPr>
              <a:t>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antibiotic</a:t>
            </a: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dilution seri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rbel"/>
              </a:rPr>
              <a:t>       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bacterial suspens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standard amoun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growth 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2209680" y="4419720"/>
            <a:ext cx="0" cy="609480"/>
          </a:xfrm>
          <a:prstGeom prst="line">
            <a:avLst/>
          </a:prstGeom>
          <a:ln w="57240">
            <a:solidFill>
              <a:srgbClr val="d6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6" descr="mic_macdil_tet-72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18000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00" name="Picture 7" descr="mic_macrodil_tet_break-200"/>
          <p:cNvPicPr/>
          <p:nvPr/>
        </p:nvPicPr>
        <p:blipFill>
          <a:blip r:embed="rId2"/>
          <a:stretch/>
        </p:blipFill>
        <p:spPr>
          <a:xfrm>
            <a:off x="6324480" y="3657600"/>
            <a:ext cx="2133720" cy="3011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sp>
        <p:nvSpPr>
          <p:cNvPr id="401" name="TextBox 6"/>
          <p:cNvSpPr/>
          <p:nvPr/>
        </p:nvSpPr>
        <p:spPr>
          <a:xfrm>
            <a:off x="3049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MIC – minimal inhibitory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Inhibitory Concentration MI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stop growth of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Bactericidal Concentration MB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kill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Broth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Apple User</cp:lastModifiedBy>
  <dcterms:modified xsi:type="dcterms:W3CDTF">2012-04-27T17:03:02Z</dcterms:modified>
  <cp:revision>168</cp:revision>
  <dc:subject/>
  <dc:title>Slide 1</dc:title>
</cp:coreProperties>
</file>