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7FC0-6C1D-434E-B1E3-734D4623FA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34A5-2AF6-45C8-A62B-32EC44336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3F5D-F533-4FF4-A70E-F265360A75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5672-BBF2-46AE-B4C3-A4FE091420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775C-77C6-42A6-9E2C-3366F8DDCC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3EBB-34CB-4372-A273-0D257C892B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9B6D-C0C6-44F6-8390-FCC09599D1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7EA8-5702-497A-842F-B259C5A291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EAF0-EC46-41C0-AE71-E8711C0F69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E77C-655A-48AA-B6CD-2459B9BED2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7346-8258-44A3-8B32-2B174C58A5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4810-A517-4284-BA10-50305131F6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0FF1-A500-447C-8D83-023315E1AB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413B-03CA-4A00-A74C-32DE694BEE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769F-02A0-4400-94C9-C3A63DE3D1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D060-8AF6-4F40-97E4-212C6CD419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58A-D6FA-4071-9F66-A79B7C0B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B27-4D12-4842-8557-C9D2A3CF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4C1C-2737-4BE8-A13E-7A8D68DB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4C7-5A2D-48AB-98C4-603D1479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ABAB-EF1E-4264-A8D5-46666C5D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69BF-A7CD-4188-A836-7A1032F9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B3B4-F4D4-4875-A7E9-34E7AF77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B4C8-41CC-4135-8DBB-07F029EE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2DD5-10F8-4CA5-8B40-779515ED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82E9-0684-4103-ABAE-9B6AB05F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A0BD-F785-4DE1-ACE6-C5B1FF3A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95D-2E05-4610-8A35-42472B86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B43C-5C0A-4328-8C84-44714CE4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8FAE-7D86-499B-B261-985FDEFE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C01E-4479-4C2D-BDAC-10E7421C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F6CA-0585-4A31-A609-C474D79E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A215-1C99-4B20-B5FD-3F914496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A863-FBEB-408A-B5F2-7FF21707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6D660-8339-411D-A380-8EA1C7C3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888B-9B71-43FF-A784-84D46FB9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1204-EA30-4300-A1F8-1B0E0511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8FD38-1095-4848-84CA-834B7C3D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C9F-A463-4EF7-83C2-73555704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34A7-1728-4E2C-B13E-209B1791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4F34-EFE0-4B1B-B0DD-2C79B1D4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F9E6-969F-4B0B-8D9B-494C8274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3C30F-F1DE-4A9F-AB2C-35BAAD3E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FF6B-1D24-496E-89A6-56338216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F6E8-33F8-4A3D-A683-F56E53EFF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975D-13A7-4EFA-B98D-4AE9D2FC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D329-4534-431D-B06A-DFFA9145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5BD9-24C5-4E84-BAEA-82A77AF0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B3511-77D6-487E-8FC1-EC28BBAE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562-B4DA-4D43-9C0B-4483D845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5B22-D70C-4C84-9C33-B79B827D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200D-A2EF-4D87-BA1A-1AB56989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C310-8E17-43A1-81FD-1741B5D9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48621-C92C-4023-97C5-8CBD9D1F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FF3F8-E061-4956-8804-C9A13770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247DF-AA96-4E43-9DC5-3FBFB797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95563-9AED-49A2-B33D-AC27C128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4CC8E-757A-4855-8BF2-AD9DAB8D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5F617-4B51-4805-9482-D31F2F6C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64E9-74A6-4624-BC37-E1A89867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00C-3802-4C43-905B-F6775016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0DB5D-2F44-4C8C-9534-6F6F27F5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7621-6C30-4704-9C81-40D25EB2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6A246-AAF7-4318-BECD-A8BF8B1B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4010-5001-40D4-839F-9593EBBC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D3209-AD4E-48DF-ACEB-88D8392D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A31BC-3689-4C8B-A037-D59DD877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EA4BF-FA27-46F4-8945-5DC641C1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E23C4-1642-471F-8950-621C9C26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DCF0D-269D-431B-A2EE-78AA0F8A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151D3-8919-4938-9A7F-E5E2CC18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109-1472-4841-BE31-3AB0DEF7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99AE2-529E-4810-AD70-17EE6FFD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F60DB-6FCA-4C6E-81EF-21C6360E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7A673-9D64-467B-9A27-05CAE6D0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6541D-F430-42F1-8528-F5C0D3FF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3AFAE-2AF9-4717-B6B8-846BA297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F44DB-56CD-4DAD-925F-157CFF61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F6286-2A8C-4152-B808-8646B44C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2AEE2-65A9-4D9D-8A5B-F7898904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DE6A4-92B5-48A6-A3AE-E64C601A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2AD94-D53E-4298-966F-37A9D399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652-3F58-4F1F-9274-4AAFC01E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9A820-D715-428A-B3EC-2085833E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242A0-D5B7-498C-88C3-A7CD9141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9F2BD-1212-40B7-AFCE-76FAA8D6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5D5E0-F16B-4B43-9F60-B8D4A196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838AA-153B-4A15-BB1A-AA535981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EE089-EE9D-4764-A0F3-18F7EFCB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9FD58-F76A-42BB-91FC-93AE433D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A0838-3349-4311-9AEC-B4C0C3D1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6401A-1A97-4C2E-9A26-CB92F501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22747-C4B8-4DEE-86CA-6AF3B891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127-32D6-4ABE-B568-865921CF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511D-E7C2-4D8C-98BB-334D4220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9BF84-6E16-4521-9C5A-99FF4B16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864C5-4839-4ABD-840C-E43F29A4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45B9F-36D8-411C-9787-336215B2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A6481-7D6F-4847-9F3C-57C54A0B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F3F-8D96-41E6-BA1A-7C3DA846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A0F7-A063-46AE-A205-DC6DE79EA11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0392-D124-48FA-9444-4982C511E1B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E27C-D261-4409-B925-D36D9075E62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74F0-2B75-4767-ADEC-6C77515CBD6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B0BC-A0F0-4F0A-918D-3EBE840966E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ED13-FF49-4046-BFDE-A7E522450E1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398B-8F37-4336-91B7-8EC405C89B4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809-E7FD-4112-A8F5-01D813810A6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345E-370E-4195-81AE-39B1142453B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5B37-9718-4593-94A4-E9DBDE5D63E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3DF7-1F07-43C8-8EF1-0B72D288436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CFD6-D244-4851-A55B-054E1D53677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0960" y="128232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5840" y="14731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5840" y="15379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9BC-508A-4C55-8E93-10799715EC0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5564-F487-46A8-B064-E06DC196BC1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2146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pare 2 sets of 9 sterile tub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broth in each tub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antibiotic of interest in tube #1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tube #1 &amp; add to next tube &amp; so on tell tube #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ube #8 &amp; discard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1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est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1 using a pastuer pipet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one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2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cubate 24 hr  x  37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C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t tube showing no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Tube #9 has no antibiotic </a:t>
            </a:r>
            <a:r>
              <a:rPr b="0" lang="en-US" sz="3000" spc="-1" strike="noStrike">
                <a:solidFill>
                  <a:srgbClr val="c5f3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 has to be turbi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Flowchart: Magnetic Disk 5"/>
          <p:cNvSpPr/>
          <p:nvPr/>
        </p:nvSpPr>
        <p:spPr>
          <a:xfrm>
            <a:off x="23623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lowchart: Magnetic Disk 7"/>
          <p:cNvSpPr/>
          <p:nvPr/>
        </p:nvSpPr>
        <p:spPr>
          <a:xfrm>
            <a:off x="16765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lowchart: Magnetic Disk 8"/>
          <p:cNvSpPr/>
          <p:nvPr/>
        </p:nvSpPr>
        <p:spPr>
          <a:xfrm>
            <a:off x="9144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lowchart: Magnetic Disk 9"/>
          <p:cNvSpPr/>
          <p:nvPr/>
        </p:nvSpPr>
        <p:spPr>
          <a:xfrm>
            <a:off x="31240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lowchart: Magnetic Disk 10"/>
          <p:cNvSpPr/>
          <p:nvPr/>
        </p:nvSpPr>
        <p:spPr>
          <a:xfrm>
            <a:off x="38098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lowchart: Magnetic Disk 11"/>
          <p:cNvSpPr/>
          <p:nvPr/>
        </p:nvSpPr>
        <p:spPr>
          <a:xfrm>
            <a:off x="44956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lowchart: Magnetic Disk 12"/>
          <p:cNvSpPr/>
          <p:nvPr/>
        </p:nvSpPr>
        <p:spPr>
          <a:xfrm>
            <a:off x="51814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lowchart: Magnetic Disk 13"/>
          <p:cNvSpPr/>
          <p:nvPr/>
        </p:nvSpPr>
        <p:spPr>
          <a:xfrm>
            <a:off x="59436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lowchart: Magnetic Disk 14"/>
          <p:cNvSpPr/>
          <p:nvPr/>
        </p:nvSpPr>
        <p:spPr>
          <a:xfrm>
            <a:off x="67057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3" name="Straight Arrow Connector 16"/>
          <p:cNvCxnSpPr/>
          <p:nvPr/>
        </p:nvCxnSpPr>
        <p:spPr>
          <a:xfrm flipH="1">
            <a:off x="6933600" y="2057040"/>
            <a:ext cx="61020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24" name="TextBox 18"/>
          <p:cNvSpPr/>
          <p:nvPr/>
        </p:nvSpPr>
        <p:spPr>
          <a:xfrm>
            <a:off x="160308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2"/>
          <p:cNvSpPr/>
          <p:nvPr/>
        </p:nvSpPr>
        <p:spPr>
          <a:xfrm>
            <a:off x="84096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23"/>
          <p:cNvSpPr/>
          <p:nvPr/>
        </p:nvSpPr>
        <p:spPr>
          <a:xfrm>
            <a:off x="30510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24"/>
          <p:cNvSpPr/>
          <p:nvPr/>
        </p:nvSpPr>
        <p:spPr>
          <a:xfrm>
            <a:off x="37368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4422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26"/>
          <p:cNvSpPr/>
          <p:nvPr/>
        </p:nvSpPr>
        <p:spPr>
          <a:xfrm>
            <a:off x="51843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27"/>
          <p:cNvSpPr/>
          <p:nvPr/>
        </p:nvSpPr>
        <p:spPr>
          <a:xfrm>
            <a:off x="58701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28"/>
          <p:cNvSpPr/>
          <p:nvPr/>
        </p:nvSpPr>
        <p:spPr>
          <a:xfrm>
            <a:off x="66322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30"/>
          <p:cNvSpPr/>
          <p:nvPr/>
        </p:nvSpPr>
        <p:spPr>
          <a:xfrm>
            <a:off x="22888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33"/>
          <p:cNvSpPr/>
          <p:nvPr/>
        </p:nvSpPr>
        <p:spPr>
          <a:xfrm>
            <a:off x="7416720" y="17524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Control tu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Only organis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Straight Connector 35"/>
          <p:cNvSpPr/>
          <p:nvPr/>
        </p:nvSpPr>
        <p:spPr>
          <a:xfrm>
            <a:off x="9144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traight Connector 38"/>
          <p:cNvSpPr/>
          <p:nvPr/>
        </p:nvSpPr>
        <p:spPr>
          <a:xfrm>
            <a:off x="23623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Straight Connector 39"/>
          <p:cNvSpPr/>
          <p:nvPr/>
        </p:nvSpPr>
        <p:spPr>
          <a:xfrm>
            <a:off x="31240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Straight Connector 40"/>
          <p:cNvSpPr/>
          <p:nvPr/>
        </p:nvSpPr>
        <p:spPr>
          <a:xfrm>
            <a:off x="38098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traight Connector 41"/>
          <p:cNvSpPr/>
          <p:nvPr/>
        </p:nvSpPr>
        <p:spPr>
          <a:xfrm>
            <a:off x="44956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42"/>
          <p:cNvSpPr/>
          <p:nvPr/>
        </p:nvSpPr>
        <p:spPr>
          <a:xfrm>
            <a:off x="51814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Straight Connector 43"/>
          <p:cNvSpPr/>
          <p:nvPr/>
        </p:nvSpPr>
        <p:spPr>
          <a:xfrm>
            <a:off x="59436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traight Connector 44"/>
          <p:cNvSpPr/>
          <p:nvPr/>
        </p:nvSpPr>
        <p:spPr>
          <a:xfrm>
            <a:off x="67057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traight Connector 45"/>
          <p:cNvSpPr/>
          <p:nvPr/>
        </p:nvSpPr>
        <p:spPr>
          <a:xfrm>
            <a:off x="16765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lowchart: Preparation 49"/>
          <p:cNvSpPr/>
          <p:nvPr/>
        </p:nvSpPr>
        <p:spPr>
          <a:xfrm rot="5400000">
            <a:off x="43459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lowchart: Preparation 50"/>
          <p:cNvSpPr/>
          <p:nvPr/>
        </p:nvSpPr>
        <p:spPr>
          <a:xfrm rot="5400000">
            <a:off x="50317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Flowchart: Preparation 51"/>
          <p:cNvSpPr/>
          <p:nvPr/>
        </p:nvSpPr>
        <p:spPr>
          <a:xfrm rot="5400000">
            <a:off x="579384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Flowchart: Preparation 52"/>
          <p:cNvSpPr/>
          <p:nvPr/>
        </p:nvSpPr>
        <p:spPr>
          <a:xfrm rot="5400000">
            <a:off x="6556320" y="4187880"/>
            <a:ext cx="603360" cy="30456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Flowchart: Preparation 53"/>
          <p:cNvSpPr/>
          <p:nvPr/>
        </p:nvSpPr>
        <p:spPr>
          <a:xfrm rot="5400000">
            <a:off x="36601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53320" y="518148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55"/>
          <p:cNvSpPr/>
          <p:nvPr/>
        </p:nvSpPr>
        <p:spPr>
          <a:xfrm>
            <a:off x="1986480" y="518148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1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56"/>
          <p:cNvSpPr/>
          <p:nvPr/>
        </p:nvSpPr>
        <p:spPr>
          <a:xfrm>
            <a:off x="2748600" y="54100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6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57"/>
          <p:cNvSpPr/>
          <p:nvPr/>
        </p:nvSpPr>
        <p:spPr>
          <a:xfrm>
            <a:off x="3510720" y="51814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312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8"/>
          <p:cNvSpPr/>
          <p:nvPr/>
        </p:nvSpPr>
        <p:spPr>
          <a:xfrm>
            <a:off x="4120200" y="54864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156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60"/>
          <p:cNvSpPr/>
          <p:nvPr/>
        </p:nvSpPr>
        <p:spPr>
          <a:xfrm>
            <a:off x="1299960" y="54100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25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Trouble shooting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turbi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started with low antibiotic conc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resistant organ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antibiotic not work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clear except tube #9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 Started with high antibiotic conc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I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The  more resistant the organism is </a:t>
            </a:r>
            <a:r>
              <a:rPr b="0" i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   the higher the M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B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 ; And its </a:t>
            </a:r>
            <a:r>
              <a:rPr b="0" lang="en-US" sz="3000" spc="-1" strike="noStrike">
                <a:solidFill>
                  <a:srgbClr val="a7d6ff"/>
                </a:solidFill>
                <a:latin typeface="Corbel"/>
              </a:rPr>
              <a:t>subculture have no growth on  pla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MIC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9" name="Content Placeholder 3" descr="MIC FIGUR.gif"/>
          <p:cNvPicPr/>
          <p:nvPr/>
        </p:nvPicPr>
        <p:blipFill>
          <a:blip r:embed="rId1"/>
          <a:srcRect l="0" t="0" r="22667" b="0"/>
          <a:stretch/>
        </p:blipFill>
        <p:spPr>
          <a:xfrm>
            <a:off x="0" y="1676520"/>
            <a:ext cx="9120240" cy="481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0" name="Rectangle 15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6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157a"/>
                </a:solidFill>
                <a:latin typeface="Consolas"/>
              </a:rPr>
              <a:t>MBC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4" name="Content Placeholder 3" descr="mbc figur.gif"/>
          <p:cNvPicPr/>
          <p:nvPr/>
        </p:nvPicPr>
        <p:blipFill>
          <a:blip r:embed="rId1"/>
          <a:srcRect l="0" t="0" r="22790" b="0"/>
          <a:stretch/>
        </p:blipFill>
        <p:spPr>
          <a:xfrm>
            <a:off x="0" y="1600200"/>
            <a:ext cx="9144000" cy="483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5" name="Rectangle 4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5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Etest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strip test)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8" descr="mic_etest-72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359424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0" name="Picture 6" descr="mic_etest_close-200"/>
          <p:cNvPicPr/>
          <p:nvPr/>
        </p:nvPicPr>
        <p:blipFill>
          <a:blip r:embed="rId2"/>
          <a:stretch/>
        </p:blipFill>
        <p:spPr>
          <a:xfrm>
            <a:off x="4876920" y="1752480"/>
            <a:ext cx="1770120" cy="366552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1" name="Picture 7" descr="mic_etest_menisc-400"/>
          <p:cNvPicPr/>
          <p:nvPr/>
        </p:nvPicPr>
        <p:blipFill>
          <a:blip r:embed="rId3"/>
          <a:stretch/>
        </p:blipFill>
        <p:spPr>
          <a:xfrm>
            <a:off x="6858000" y="2743200"/>
            <a:ext cx="2021040" cy="17859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2" name="Picture 2" descr=""/>
          <p:cNvPicPr/>
          <p:nvPr/>
        </p:nvPicPr>
        <p:blipFill>
          <a:blip r:embed="rId4"/>
          <a:stretch/>
        </p:blipFill>
        <p:spPr>
          <a:xfrm>
            <a:off x="6781680" y="22860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Microsca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760" y="1770120"/>
            <a:ext cx="479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standard size microtiter tra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ection of growt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hoto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24 h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luori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short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ata managed using computer-based algorithm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rcRect l="3564" t="39235" r="83159" b="38143"/>
          <a:stretch/>
        </p:blipFill>
        <p:spPr>
          <a:xfrm>
            <a:off x="5638680" y="1676520"/>
            <a:ext cx="2819520" cy="22096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76" name="Content Placeholder 5" descr=""/>
          <p:cNvPicPr/>
          <p:nvPr/>
        </p:nvPicPr>
        <p:blipFill>
          <a:blip r:embed="rId2"/>
          <a:srcRect l="17432" t="39235" r="69214" b="38143"/>
          <a:stretch/>
        </p:blipFill>
        <p:spPr>
          <a:xfrm>
            <a:off x="5638680" y="4191120"/>
            <a:ext cx="2819520" cy="19810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77" name="Picture 2" descr=""/>
          <p:cNvPicPr/>
          <p:nvPr/>
        </p:nvPicPr>
        <p:blipFill>
          <a:blip r:embed="rId3"/>
          <a:stretch/>
        </p:blipFill>
        <p:spPr>
          <a:xfrm>
            <a:off x="35812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Phoenix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64760" y="1770120"/>
            <a:ext cx="441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roth Microdilution tes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growth detection it usese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dox indicator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acterial turbidity testin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0" name="Content Placeholder 4" descr=""/>
          <p:cNvPicPr/>
          <p:nvPr/>
        </p:nvPicPr>
        <p:blipFill>
          <a:blip r:embed="rId1"/>
          <a:srcRect l="17585" t="65818" r="72178" b="12195"/>
          <a:stretch/>
        </p:blipFill>
        <p:spPr>
          <a:xfrm>
            <a:off x="5410080" y="3505320"/>
            <a:ext cx="2878200" cy="274320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81" name="Picture 2" descr="http://www.bd.com/ds/images/products/img_phoenix-panels_100px.jpg"/>
          <p:cNvPicPr/>
          <p:nvPr/>
        </p:nvPicPr>
        <p:blipFill>
          <a:blip r:embed="rId2"/>
          <a:stretch/>
        </p:blipFill>
        <p:spPr>
          <a:xfrm>
            <a:off x="5867280" y="1600200"/>
            <a:ext cx="1968480" cy="17524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482" name="Picture 2" descr=""/>
          <p:cNvPicPr/>
          <p:nvPr/>
        </p:nvPicPr>
        <p:blipFill>
          <a:blip r:embed="rId3"/>
          <a:stretch/>
        </p:blipFill>
        <p:spPr>
          <a:xfrm>
            <a:off x="3809880" y="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m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c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rob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al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 Thera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273af"/>
                </a:solidFill>
                <a:latin typeface="Corbel"/>
              </a:rPr>
              <a:t>Natural antibiotic agents:</a:t>
            </a:r>
            <a:r>
              <a:rPr b="0" lang="en-GB" sz="2800" spc="-1" strike="noStrike">
                <a:solidFill>
                  <a:srgbClr val="f273a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7a1ca"/>
                </a:solidFill>
                <a:latin typeface="Corbel"/>
              </a:rPr>
              <a:t>Produced by microorganisms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1b6ff"/>
                </a:solidFill>
                <a:latin typeface="Corbel"/>
              </a:rPr>
              <a:t>Penicillium notatum</a:t>
            </a:r>
            <a:r>
              <a:rPr b="0" lang="en-GB" sz="2600" spc="-1" strike="noStrike">
                <a:solidFill>
                  <a:srgbClr val="ff0066"/>
                </a:solidFill>
                <a:latin typeface="Corbel"/>
              </a:rPr>
              <a:t> </a:t>
            </a: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– penicillin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emi-synthetic antibiotic agents:</a:t>
            </a:r>
            <a:r>
              <a:rPr b="0" lang="en-GB" sz="2800" spc="-1" strike="noStrike">
                <a:solidFill>
                  <a:srgbClr val="f7a1ca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modified natural agents (large group of modern antibiotic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ynthetic antibiotic agent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related to natural antibiotics but completely industrially manufactur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Vite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thin plastic card, comprising 30 well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linked by capillari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acterial suspension will rehydrate reagent in well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rowth determined turbidometrically every 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for 15 h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an test up to 20 antibiotic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5" name="Content Placeholder 4" descr="http://tbn2.google.com/images?q=tbn:KyB6geVMIvOXHM:http://www.biomerieux-usa.com/images/products/vitek2/three_cards.jpg"/>
          <p:cNvPicPr/>
          <p:nvPr/>
        </p:nvPicPr>
        <p:blipFill>
          <a:blip r:embed="rId1"/>
          <a:stretch/>
        </p:blipFill>
        <p:spPr>
          <a:xfrm>
            <a:off x="5562720" y="1371600"/>
            <a:ext cx="2286000" cy="19810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86" name="Picture 5" descr="http://tbn1.google.com/images?q=tbn:x7LF9nF86AWaPM:http://www.clpmag.com/issues/images/2007-07/2007-07_03-06.jpg"/>
          <p:cNvPicPr/>
          <p:nvPr/>
        </p:nvPicPr>
        <p:blipFill>
          <a:blip r:embed="rId2"/>
          <a:stretch/>
        </p:blipFill>
        <p:spPr>
          <a:xfrm>
            <a:off x="5029200" y="3505320"/>
            <a:ext cx="3565440" cy="26668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87" name="Picture 2" descr=""/>
          <p:cNvPicPr/>
          <p:nvPr/>
        </p:nvPicPr>
        <p:blipFill>
          <a:blip r:embed="rId3"/>
          <a:stretch/>
        </p:blipFill>
        <p:spPr>
          <a:xfrm>
            <a:off x="342900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90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Why do we do sensitivity testing?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380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which drug we use to the pati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the dose of antibiot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It is important to use the lowest effective concentration of the antibiotic to avoid toxicity in patient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Organism Used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tandard Organism 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(Quality Control organism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9718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aphylococcus  aureus 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5923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seudomonas aeruginosa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785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scherichia coli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ATCC 2592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nterococcus faecalis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 ATCC 2921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Klepsiella pneumoni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ATCC 700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reptococcus pneumoniae              ATCC 49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emophilus influenz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ATCC 4924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Content Placeholder 4" descr="ATCC swab.jpg"/>
          <p:cNvPicPr/>
          <p:nvPr/>
        </p:nvPicPr>
        <p:blipFill>
          <a:blip r:embed="rId1"/>
          <a:stretch/>
        </p:blipFill>
        <p:spPr>
          <a:xfrm>
            <a:off x="5638680" y="3124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395" name="Content Placeholder 3" descr=""/>
          <p:cNvPicPr/>
          <p:nvPr/>
        </p:nvPicPr>
        <p:blipFill>
          <a:blip r:embed="rId1"/>
          <a:srcRect l="9589" t="10728" r="22102" b="36663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rbel"/>
              </a:rPr>
              <a:t>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antibiotic</a:t>
            </a: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dilution seri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rbel"/>
              </a:rPr>
              <a:t>       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bacterial suspens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standard amoun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growth 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2209680" y="4419720"/>
            <a:ext cx="0" cy="609480"/>
          </a:xfrm>
          <a:prstGeom prst="line">
            <a:avLst/>
          </a:prstGeom>
          <a:ln w="57240">
            <a:solidFill>
              <a:srgbClr val="d6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6" descr="mic_macdil_tet-72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18000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00" name="Picture 7" descr="mic_macrodil_tet_break-200"/>
          <p:cNvPicPr/>
          <p:nvPr/>
        </p:nvPicPr>
        <p:blipFill>
          <a:blip r:embed="rId2"/>
          <a:stretch/>
        </p:blipFill>
        <p:spPr>
          <a:xfrm>
            <a:off x="6324480" y="3657600"/>
            <a:ext cx="2133720" cy="3011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sp>
        <p:nvSpPr>
          <p:cNvPr id="401" name="TextBox 6"/>
          <p:cNvSpPr/>
          <p:nvPr/>
        </p:nvSpPr>
        <p:spPr>
          <a:xfrm>
            <a:off x="3049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MIC – minimal inhibitory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Inhibitory Concentration MI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stop growth of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Bactericidal Concentration MB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kill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Broth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Apple User</cp:lastModifiedBy>
  <dcterms:modified xsi:type="dcterms:W3CDTF">2012-04-27T17:03:02Z</dcterms:modified>
  <cp:revision>168</cp:revision>
  <dc:subject/>
  <dc:title>Slide 1</dc:title>
</cp:coreProperties>
</file>