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4222-928F-409D-B19E-F258F9E9DA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D9AB-7085-4102-A8F0-D9FA40B39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F415-0FB6-40CC-95B5-EBC13A7D73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32FC-A152-49D9-A3B0-219232F1B7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5466-629E-4518-8457-DA54E9C5CE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4484-BB27-445E-BDAD-EFD8D03DBF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8646-FB93-4BAF-B575-522BC3FD3F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D37D-F45F-48D1-B936-628602C3FF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786B-B620-4842-B040-D610654524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2D75-A6E7-46BD-976F-BCB8EE389A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7463-F965-4E15-A9C8-330581029B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2B00-1C35-4285-B84B-A1A9AA191C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1B1A-C904-419F-B889-98DF258B0A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FD3D-F1D7-4F3A-A968-3ECD459335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232-21BA-41F1-ABC3-DBAE1E1C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BCE-6393-4433-9232-DED52142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F4C-CE44-43EF-8072-41B28079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97F-1982-4832-A985-D2556BF1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0A68-86EE-4E77-A01B-F5F8690A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4A81-AD79-4629-AB49-17306601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5D05-83C0-42EF-B8E4-EE5BCF69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B0B8-644A-4129-9065-4AF4A986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0284-2465-4E0E-95F2-65F1363F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4D46-A15F-4E5A-B7B6-575E7F1A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3775-484D-41F6-A021-83392ECA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AE4-D3FE-4EEB-BA1C-B604E2A3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985A-8AC8-41A4-AD27-32DBE57E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7943-6BD4-4554-92C7-13C7B065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C0F5-60BF-413C-8447-FEB90A50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B889-CDB3-4167-9108-7093E92A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50F0-9E64-4FC8-B9B1-CFC0F327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7A5B-318D-4430-B081-5A7E8BB1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245BF-FC11-45D0-9360-25FB3640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76EB-268D-4B76-8109-F17BC1CC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BE57-A271-4AAF-9041-CE9A7BC4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19AE6-9119-461F-A22B-F66F9DD9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B97-F36D-49AF-82B3-1972BBE8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1B295-7E8B-4293-BAD9-43BC261D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2FE9C-547B-4EF2-8810-11CF2D46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D99A-61F3-465D-841A-8DEAC207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FAFEA-F74C-48C0-8423-F67F1DA1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1352-643F-4DD5-8F0F-92B157A2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2021-EA00-41D1-8377-3AC0BBEE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38544-FD26-4CE1-9897-59A8C762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157A4-0879-4667-81A9-FFA7E86F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B3BCC-49AC-48A2-B1B6-3F2DE16C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8BF19-082A-4B3F-9DAA-0E7B8A28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996-0BE5-4163-B30F-EF520255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6C443-A928-40CB-8A27-A35748D7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160AF-01F8-4C78-8410-AC8CE7E9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EBA06-B1C7-4BDC-9E0F-15470848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BAC0C-165F-49F7-8D87-3E2F71D2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D5E23-7451-46B4-A11F-297F885B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51C11-BCB7-4992-A0E1-265E612E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C7620-AC2A-400A-87F8-CF8B4682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65006-D1B0-4852-8FD1-8CE200A4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D301F-8925-4199-AE83-B67607C7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ECE47-CC1F-46F8-AE97-A1BF2A94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324-778E-4544-B599-71EA0AF8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067D7-2766-4F91-A240-90EC5EB2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6104E-CF71-45DE-BF22-F8DE97A2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75605-0178-49B4-A70F-776DD06E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38C78-E0E2-4705-BD29-03B61C27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A8F33-6F7D-40F9-B77C-C8CFED28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0189E-D88E-4EDC-AD19-495C4507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700D8-8B6F-490B-9841-097E1FFD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0D04C-E19D-440B-BDC7-455DAD54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633F7-B4BB-43C2-8377-25568F30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DED62-4691-4790-974B-21A8FFCE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BAAE-92EF-41A4-AA40-FB2F77C4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3C7C5-DF72-4DD8-B107-088F174F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C1722-6418-496A-990A-118E7DBE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AA285-8A19-4FCB-8D21-D4AB1F6D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3E675-7162-4CCF-AA04-3475B929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8B643-9178-453E-ACC4-5DF53E3C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0C8D0-6A32-442D-8CB9-6AC69955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8154D-8692-4E3C-8F39-AEB932D4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A22A7-8103-459E-82F9-B94268A5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DABF0-1FDF-43E9-BCC9-32494D0D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E4378-C3D6-4D30-80C1-0D79D599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3B7-F75D-4FCB-B4AF-F1B90F3E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06B03-DCDA-414F-BDBA-05DB7123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24F0D-1A56-4811-B93F-FC028F29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3B493-5423-4FF9-8538-0ECD9DA2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29A48-D701-43D1-8A61-2B8C4436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315CF-6238-43B2-9A42-D68C7C5B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B3AEC-5AF5-466E-BE76-A658037D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5AF90-67E6-4520-A5BA-99B17C70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E6EB8-CA82-4D57-BF3E-66AB1DD7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8FA17-1328-41EE-99AA-0653E307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F6328-3EA8-4FA1-A1E4-38344347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16B-836D-4B8A-9086-58291137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D0F3B-7D6D-4062-AD45-23AC32A9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38BC9-F31E-4599-883D-22C25282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F80B6-C11B-4AC5-A32F-77F5A57B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95736-C1E2-4D60-AB1F-21275C7B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8F9A8-8AD3-476C-AA62-139344DC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2FC0-DC79-47DC-9DD0-F928668C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301A-DFFC-489B-9AF7-83A1BF65575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2041-887C-4172-B72C-329B2EA6CB5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E667-F011-4693-9EA6-556C26CBE7A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C27C-384E-416D-9D3E-11600974F6A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57F6-4C7C-47FF-9953-59EB5860459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EC4C-F270-411C-957D-98DE1AF5875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F277-E52B-42FE-9927-78CD2DA64E5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7356-446C-46FD-B8E5-1AA8E0D1EA7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8831-5F0F-43B4-972B-FEE7DFCCFF0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0B39-2737-4783-B6DB-E8ED91B3BDB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F001-B07F-4A74-B403-43FBAC19F3A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1832-4512-4277-A755-597A6F2AE85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1680" y="121752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1680" y="128232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4680" y="137016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4680" y="143496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6560" y="147312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6560" y="153792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FD5F-14E5-46F4-AC30-7115CC42039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2239-2479-4D1C-81DC-788FCD52507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21463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rbel"/>
              </a:rPr>
              <a:t>Lab  #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header_02"/>
          <p:cNvPicPr/>
          <p:nvPr/>
        </p:nvPicPr>
        <p:blipFill>
          <a:blip r:embed="rId2"/>
          <a:stretch/>
        </p:blipFill>
        <p:spPr>
          <a:xfrm>
            <a:off x="106668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eader_03"/>
          <p:cNvPicPr/>
          <p:nvPr/>
        </p:nvPicPr>
        <p:blipFill>
          <a:blip r:embed="rId3"/>
          <a:stretch/>
        </p:blipFill>
        <p:spPr>
          <a:xfrm>
            <a:off x="1701720" y="228600"/>
            <a:ext cx="723960" cy="857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eader_04"/>
          <p:cNvPicPr/>
          <p:nvPr/>
        </p:nvPicPr>
        <p:blipFill>
          <a:blip r:embed="rId4"/>
          <a:stretch/>
        </p:blipFill>
        <p:spPr>
          <a:xfrm>
            <a:off x="242244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eader_05"/>
          <p:cNvPicPr/>
          <p:nvPr/>
        </p:nvPicPr>
        <p:blipFill>
          <a:blip r:embed="rId5"/>
          <a:stretch/>
        </p:blipFill>
        <p:spPr>
          <a:xfrm>
            <a:off x="3048120" y="228600"/>
            <a:ext cx="733320" cy="857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eader_06"/>
          <p:cNvPicPr/>
          <p:nvPr/>
        </p:nvPicPr>
        <p:blipFill>
          <a:blip r:embed="rId6"/>
          <a:stretch/>
        </p:blipFill>
        <p:spPr>
          <a:xfrm>
            <a:off x="7308720" y="228600"/>
            <a:ext cx="67644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header_09"/>
          <p:cNvPicPr/>
          <p:nvPr/>
        </p:nvPicPr>
        <p:blipFill>
          <a:blip r:embed="rId7"/>
          <a:stretch/>
        </p:blipFill>
        <p:spPr>
          <a:xfrm>
            <a:off x="6372360" y="22860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eader_08"/>
          <p:cNvPicPr/>
          <p:nvPr/>
        </p:nvPicPr>
        <p:blipFill>
          <a:blip r:embed="rId8"/>
          <a:stretch/>
        </p:blipFill>
        <p:spPr>
          <a:xfrm>
            <a:off x="5651640" y="228600"/>
            <a:ext cx="74268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header_07"/>
          <p:cNvPicPr/>
          <p:nvPr/>
        </p:nvPicPr>
        <p:blipFill>
          <a:blip r:embed="rId9"/>
          <a:stretch/>
        </p:blipFill>
        <p:spPr>
          <a:xfrm>
            <a:off x="4788000" y="228600"/>
            <a:ext cx="885600" cy="857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header_10"/>
          <p:cNvPicPr/>
          <p:nvPr/>
        </p:nvPicPr>
        <p:blipFill>
          <a:blip r:embed="rId10"/>
          <a:stretch/>
        </p:blipFill>
        <p:spPr>
          <a:xfrm>
            <a:off x="3768840" y="228600"/>
            <a:ext cx="1085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Antibiotic Sensitivity T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273af"/>
                </a:solidFill>
                <a:uFillTx/>
                <a:latin typeface="Corbel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b6ff"/>
                </a:solidFill>
                <a:latin typeface="Corbel"/>
              </a:rPr>
              <a:t>1)   Broth dilutio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b6ff"/>
                </a:solidFill>
                <a:latin typeface="Corbel"/>
              </a:rPr>
              <a:t>2)   Agar diffusion (solid)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-a)   Kirby-Bauer test (= disc test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- b)  Stock’s method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66"/>
                </a:solidFill>
                <a:latin typeface="Consolas"/>
              </a:rPr>
              <a:t>a) Kirby-Bauer Test  </a:t>
            </a:r>
            <a:r>
              <a:rPr b="0" lang="en-GB" sz="3200" spc="-1" strike="noStrike">
                <a:solidFill>
                  <a:srgbClr val="ff0066"/>
                </a:solidFill>
                <a:latin typeface="Consolas"/>
              </a:rPr>
              <a:t>(disc diffusion test) (Sold agar test)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838080" y="190476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resh organism suspended in broth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  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(0.5 MaCfaraland standard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wab organism all over the plate evenl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Place discs containing specified concentration of different antibiotics on the plat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Kirby-Bauer T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Incubate 37C x 24h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Measure diameter of Clear zone around the  disc .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(Inhibition zon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Use tables to assess if zone size indicat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     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resistance or sensitivity to that antibiot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66"/>
                </a:solidFill>
                <a:latin typeface="Consolas"/>
              </a:rPr>
              <a:t>Kirby-Bauer Test  </a:t>
            </a:r>
            <a:r>
              <a:rPr b="0" lang="en-GB" sz="4000" spc="-1" strike="noStrike">
                <a:solidFill>
                  <a:srgbClr val="ff0066"/>
                </a:solidFill>
                <a:latin typeface="Consolas"/>
              </a:rPr>
              <a:t>(disc diffusion test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7" name="Content Placeholder 3" descr="antibiotika3"/>
          <p:cNvPicPr/>
          <p:nvPr/>
        </p:nvPicPr>
        <p:blipFill>
          <a:blip r:embed="rId1"/>
          <a:stretch/>
        </p:blipFill>
        <p:spPr>
          <a:xfrm>
            <a:off x="990720" y="2438280"/>
            <a:ext cx="4546440" cy="321336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38" name="Picture 4" descr="antibiotika2"/>
          <p:cNvPicPr/>
          <p:nvPr/>
        </p:nvPicPr>
        <p:blipFill>
          <a:blip r:embed="rId2"/>
          <a:stretch/>
        </p:blipFill>
        <p:spPr>
          <a:xfrm>
            <a:off x="5943600" y="2438280"/>
            <a:ext cx="2655720" cy="32004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nsolas"/>
              </a:rPr>
              <a:t>How to Streak the sensitivity plate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mmerge swab then remove excess by pressing against wall of tub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db1"/>
                </a:solidFill>
                <a:latin typeface="Corbel"/>
              </a:rPr>
              <a:t>Do one line in the center of plate by swab then spread even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b6ff"/>
                </a:solidFill>
                <a:latin typeface="Corbel"/>
              </a:rPr>
              <a:t>Add antibiotic disks using needl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Corbel"/>
              </a:rPr>
              <a:t>Always work near flame to avoid contamin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Don’t put disk near the ed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Oval 3"/>
          <p:cNvSpPr/>
          <p:nvPr/>
        </p:nvSpPr>
        <p:spPr>
          <a:xfrm>
            <a:off x="7924680" y="281952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f6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traight Connector 5"/>
          <p:cNvSpPr/>
          <p:nvPr/>
        </p:nvSpPr>
        <p:spPr>
          <a:xfrm flipH="1">
            <a:off x="8381520" y="2971800"/>
            <a:ext cx="1800" cy="60804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nsolas"/>
              </a:rPr>
              <a:t>B) Stockes Method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terpretation based on comparison betwe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zones seen with the test organism &amp; those of the known sensitive contro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Oval 3"/>
          <p:cNvSpPr/>
          <p:nvPr/>
        </p:nvSpPr>
        <p:spPr>
          <a:xfrm>
            <a:off x="3276720" y="3429000"/>
            <a:ext cx="2743200" cy="2666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Straight Connector 5"/>
          <p:cNvSpPr/>
          <p:nvPr/>
        </p:nvSpPr>
        <p:spPr>
          <a:xfrm>
            <a:off x="3352680" y="4724280"/>
            <a:ext cx="2667240" cy="3816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7" name="Straight Arrow Connector 7"/>
          <p:cNvCxnSpPr/>
          <p:nvPr/>
        </p:nvCxnSpPr>
        <p:spPr>
          <a:xfrm flipV="1">
            <a:off x="5562720" y="3657240"/>
            <a:ext cx="915120" cy="381600"/>
          </a:xfrm>
          <a:prstGeom prst="straightConnector1">
            <a:avLst/>
          </a:prstGeom>
          <a:ln w="118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48" name="TextBox 8"/>
          <p:cNvSpPr/>
          <p:nvPr/>
        </p:nvSpPr>
        <p:spPr>
          <a:xfrm>
            <a:off x="6486480" y="33526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Q.C orga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9" name="Straight Arrow Connector 10"/>
          <p:cNvCxnSpPr/>
          <p:nvPr/>
        </p:nvCxnSpPr>
        <p:spPr>
          <a:xfrm>
            <a:off x="5410080" y="5334120"/>
            <a:ext cx="991440" cy="457920"/>
          </a:xfrm>
          <a:prstGeom prst="straightConnector1">
            <a:avLst/>
          </a:prstGeom>
          <a:ln w="118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50" name="TextBox 12"/>
          <p:cNvSpPr/>
          <p:nvPr/>
        </p:nvSpPr>
        <p:spPr>
          <a:xfrm>
            <a:off x="6474240" y="56386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Test orga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15"/>
          <p:cNvSpPr/>
          <p:nvPr/>
        </p:nvSpPr>
        <p:spPr>
          <a:xfrm>
            <a:off x="3886200" y="4572000"/>
            <a:ext cx="304920" cy="304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6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3" name="Straight Arrow Connector 18"/>
          <p:cNvCxnSpPr>
            <a:stCxn id="452" idx="6"/>
          </p:cNvCxnSpPr>
          <p:nvPr/>
        </p:nvCxnSpPr>
        <p:spPr>
          <a:xfrm flipV="1">
            <a:off x="5409720" y="4419360"/>
            <a:ext cx="1677240" cy="30528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triangle" w="med"/>
          </a:ln>
        </p:spPr>
      </p:cxnSp>
      <p:sp>
        <p:nvSpPr>
          <p:cNvPr id="454" name="TextBox 19"/>
          <p:cNvSpPr/>
          <p:nvPr/>
        </p:nvSpPr>
        <p:spPr>
          <a:xfrm>
            <a:off x="709668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Antibiotic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rcRect l="18750" t="14307" r="16252" b="14031"/>
          <a:stretch/>
        </p:blipFill>
        <p:spPr>
          <a:xfrm>
            <a:off x="228600" y="1600200"/>
            <a:ext cx="4883040" cy="4038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"/>
          <p:cNvPicPr/>
          <p:nvPr/>
        </p:nvPicPr>
        <p:blipFill>
          <a:blip r:embed="rId2"/>
          <a:srcRect l="26251" t="15000" r="20002" b="15000"/>
          <a:stretch/>
        </p:blipFill>
        <p:spPr>
          <a:xfrm>
            <a:off x="5029200" y="1600200"/>
            <a:ext cx="41306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157a"/>
                </a:solidFill>
                <a:latin typeface="Consolas"/>
              </a:rPr>
              <a:t>Results of Stockes Method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T &gt; C    or     T = C  </a:t>
            </a:r>
            <a:r>
              <a:rPr b="1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   Sensiti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T&lt; C   </a:t>
            </a:r>
            <a:r>
              <a:rPr b="1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 Resistanc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  <p:pic>
        <p:nvPicPr>
          <p:cNvPr id="462" name="Content Placeholder 7" descr="sensi disc dispenser.jpg"/>
          <p:cNvPicPr/>
          <p:nvPr/>
        </p:nvPicPr>
        <p:blipFill>
          <a:blip r:embed="rId2"/>
          <a:stretch/>
        </p:blipFill>
        <p:spPr>
          <a:xfrm>
            <a:off x="914400" y="533520"/>
            <a:ext cx="4267080" cy="4267080"/>
          </a:xfrm>
          <a:prstGeom prst="rect">
            <a:avLst/>
          </a:prstGeom>
          <a:ln w="31680">
            <a:solidFill>
              <a:srgbClr val="ea157a"/>
            </a:solidFill>
            <a:miter/>
          </a:ln>
        </p:spPr>
      </p:pic>
      <p:sp>
        <p:nvSpPr>
          <p:cNvPr id="463" name="TextBox 8"/>
          <p:cNvSpPr/>
          <p:nvPr/>
        </p:nvSpPr>
        <p:spPr>
          <a:xfrm>
            <a:off x="789480" y="5562720"/>
            <a:ext cx="80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ttp://rfdp.seafdec.org.ph/publication/manual/antibiotics/chapter2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65" name="Content Placeholder 3" descr="disk zone reader.gif"/>
          <p:cNvPicPr/>
          <p:nvPr/>
        </p:nvPicPr>
        <p:blipFill>
          <a:blip r:embed="rId1"/>
          <a:stretch/>
        </p:blipFill>
        <p:spPr>
          <a:xfrm>
            <a:off x="2133720" y="1371600"/>
            <a:ext cx="4574880" cy="5126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Consolas"/>
              </a:rPr>
              <a:t>Sir Alexander Fleming</a:t>
            </a:r>
            <a:br>
              <a:rPr sz="3200"/>
            </a:br>
            <a:r>
              <a:rPr b="0" lang="en-GB" sz="2300" spc="-1" strike="noStrike">
                <a:solidFill>
                  <a:srgbClr val="ff0066"/>
                </a:solidFill>
                <a:latin typeface="Consolas"/>
              </a:rPr>
              <a:t>(1881 –1955)</a:t>
            </a:r>
            <a:endParaRPr b="0" lang="en-US" sz="23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Picture 5" descr="fleming"/>
          <p:cNvPicPr/>
          <p:nvPr/>
        </p:nvPicPr>
        <p:blipFill>
          <a:blip r:embed="rId1"/>
          <a:stretch/>
        </p:blipFill>
        <p:spPr>
          <a:xfrm>
            <a:off x="4876920" y="3581280"/>
            <a:ext cx="3886200" cy="2973600"/>
          </a:xfrm>
          <a:prstGeom prst="rect">
            <a:avLst/>
          </a:prstGeom>
          <a:ln w="25560">
            <a:solidFill>
              <a:srgbClr val="ff0066"/>
            </a:solidFill>
            <a:miter/>
          </a:ln>
        </p:spPr>
      </p:pic>
      <p:sp>
        <p:nvSpPr>
          <p:cNvPr id="388" name="TextBox 5"/>
          <p:cNvSpPr/>
          <p:nvPr/>
        </p:nvSpPr>
        <p:spPr>
          <a:xfrm>
            <a:off x="3976920" y="1905120"/>
            <a:ext cx="48031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One sometimes finds what one is 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looking for“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Penicill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990720" y="480060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He observed inhibition of staphylococci on an ag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plate contamin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by a</a:t>
            </a: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ff0066"/>
                </a:solidFill>
                <a:latin typeface="Arial"/>
              </a:rPr>
              <a:t>Penicillium</a:t>
            </a: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 m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8" descr="http://www.accessexcellence.org/AE/AEC/CC/images/s5.gif"/>
          <p:cNvPicPr/>
          <p:nvPr/>
        </p:nvPicPr>
        <p:blipFill>
          <a:blip r:embed="rId2"/>
          <a:stretch/>
        </p:blipFill>
        <p:spPr>
          <a:xfrm>
            <a:off x="1371600" y="2209680"/>
            <a:ext cx="2386080" cy="2286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9000"/>
          </a:bodyPr>
          <a:p>
            <a:pPr marL="3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ff"/>
                </a:solidFill>
                <a:latin typeface="Corbel"/>
              </a:rPr>
              <a:t>Thank You</a:t>
            </a:r>
            <a:endParaRPr b="0" lang="en-US" sz="8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9" name="Picture 3" descr="pseudo sens plate.jpg"/>
          <p:cNvPicPr/>
          <p:nvPr/>
        </p:nvPicPr>
        <p:blipFill>
          <a:blip r:embed="rId1"/>
          <a:stretch/>
        </p:blipFill>
        <p:spPr>
          <a:xfrm>
            <a:off x="1523880" y="28004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a157a"/>
                </a:solidFill>
                <a:latin typeface="Consolas"/>
              </a:rPr>
              <a:t>Antibiotics are: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80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rbel"/>
              </a:rPr>
              <a:t>Natural or synthetic products that are used to kill or stop the growth of Bacteria 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bacteriostatic - stop growth (don't kill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  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bactericidal – kill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Classification According to Mode of Action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2971800" y="2209680"/>
            <a:ext cx="3886200" cy="2895840"/>
          </a:xfrm>
          <a:prstGeom prst="ellipse">
            <a:avLst/>
          </a:prstGeom>
          <a:solidFill>
            <a:srgbClr val="fbd0e4"/>
          </a:solidFill>
          <a:ln w="7632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3048120" y="2286000"/>
            <a:ext cx="3733560" cy="2743200"/>
          </a:xfrm>
          <a:prstGeom prst="ellipse">
            <a:avLst/>
          </a:prstGeom>
          <a:solidFill>
            <a:srgbClr val="f7a1ca"/>
          </a:solidFill>
          <a:ln w="76320">
            <a:solidFill>
              <a:srgbClr val="f7a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3352680" y="2438280"/>
            <a:ext cx="3124440" cy="2438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D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0" name="Curved Connector 35"/>
          <p:cNvCxnSpPr/>
          <p:nvPr/>
        </p:nvCxnSpPr>
        <p:spPr>
          <a:xfrm flipH="1" rot="16200000">
            <a:off x="4686120" y="3237840"/>
            <a:ext cx="686520" cy="61056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1" name="Curved Connector 37"/>
          <p:cNvCxnSpPr/>
          <p:nvPr/>
        </p:nvCxnSpPr>
        <p:spPr>
          <a:xfrm flipV="1" rot="16200000">
            <a:off x="5028480" y="3656880"/>
            <a:ext cx="686520" cy="533880"/>
          </a:xfrm>
          <a:prstGeom prst="curvedConnector5">
            <a:avLst>
              <a:gd name="adj1" fmla="val 36044"/>
              <a:gd name="adj2" fmla="val 50000"/>
              <a:gd name="adj3" fmla="val 36044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2" name="Curved Connector 41"/>
          <p:cNvCxnSpPr/>
          <p:nvPr/>
        </p:nvCxnSpPr>
        <p:spPr>
          <a:xfrm flipV="1" rot="16200000">
            <a:off x="4266720" y="2666160"/>
            <a:ext cx="610200" cy="457920"/>
          </a:xfrm>
          <a:prstGeom prst="curvedConnector5">
            <a:avLst>
              <a:gd name="adj1" fmla="val 43270"/>
              <a:gd name="adj2" fmla="val 49960"/>
              <a:gd name="adj3" fmla="val 43270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3" name="Curved Connector 47"/>
          <p:cNvCxnSpPr/>
          <p:nvPr/>
        </p:nvCxnSpPr>
        <p:spPr>
          <a:xfrm flipH="1" rot="16200000">
            <a:off x="4495680" y="2895120"/>
            <a:ext cx="610560" cy="610560"/>
          </a:xfrm>
          <a:prstGeom prst="curvedConnector5">
            <a:avLst>
              <a:gd name="adj1" fmla="val 56696"/>
              <a:gd name="adj2" fmla="val 49970"/>
              <a:gd name="adj3" fmla="val 56696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4" name="Curved Connector 60"/>
          <p:cNvCxnSpPr/>
          <p:nvPr/>
        </p:nvCxnSpPr>
        <p:spPr>
          <a:xfrm flipV="1" rot="16200000">
            <a:off x="5333400" y="3961800"/>
            <a:ext cx="648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1880">
            <a:solidFill>
              <a:srgbClr val="7fd13b"/>
            </a:solidFill>
            <a:miter/>
          </a:ln>
        </p:spPr>
      </p:cxnSp>
      <p:sp>
        <p:nvSpPr>
          <p:cNvPr id="405" name="Oval 63"/>
          <p:cNvSpPr/>
          <p:nvPr/>
        </p:nvSpPr>
        <p:spPr>
          <a:xfrm>
            <a:off x="38862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64"/>
          <p:cNvSpPr/>
          <p:nvPr/>
        </p:nvSpPr>
        <p:spPr>
          <a:xfrm>
            <a:off x="43434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65"/>
          <p:cNvSpPr/>
          <p:nvPr/>
        </p:nvSpPr>
        <p:spPr>
          <a:xfrm>
            <a:off x="48006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Straight Connector 75" descr=""/>
          <p:cNvPicPr/>
          <p:nvPr/>
        </p:nvPicPr>
        <p:blipFill>
          <a:blip r:embed="rId1"/>
          <a:stretch/>
        </p:blipFill>
        <p:spPr>
          <a:xfrm>
            <a:off x="3651120" y="4243320"/>
            <a:ext cx="1756080" cy="1954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80"/>
          <p:cNvSpPr/>
          <p:nvPr/>
        </p:nvSpPr>
        <p:spPr>
          <a:xfrm>
            <a:off x="3513960" y="37339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" name="Straight Arrow Connector 82"/>
          <p:cNvCxnSpPr/>
          <p:nvPr/>
        </p:nvCxnSpPr>
        <p:spPr>
          <a:xfrm>
            <a:off x="2133720" y="2819520"/>
            <a:ext cx="1372320" cy="38160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pic>
        <p:nvPicPr>
          <p:cNvPr id="411" name="Rectangle 84" descr=""/>
          <p:cNvPicPr/>
          <p:nvPr/>
        </p:nvPicPr>
        <p:blipFill>
          <a:blip r:embed="rId2"/>
          <a:stretch/>
        </p:blipFill>
        <p:spPr>
          <a:xfrm>
            <a:off x="6924600" y="1590840"/>
            <a:ext cx="2073240" cy="1542960"/>
          </a:xfrm>
          <a:prstGeom prst="rect">
            <a:avLst/>
          </a:prstGeom>
          <a:ln w="0">
            <a:noFill/>
          </a:ln>
        </p:spPr>
      </p:pic>
      <p:cxnSp>
        <p:nvCxnSpPr>
          <p:cNvPr id="412" name="Straight Arrow Connector 87"/>
          <p:cNvCxnSpPr/>
          <p:nvPr/>
        </p:nvCxnSpPr>
        <p:spPr>
          <a:xfrm flipH="1" flipV="1">
            <a:off x="5257080" y="3656880"/>
            <a:ext cx="1677240" cy="1220040"/>
          </a:xfrm>
          <a:prstGeom prst="straightConnector1">
            <a:avLst/>
          </a:prstGeom>
          <a:ln w="38160">
            <a:solidFill>
              <a:srgbClr val="007eea"/>
            </a:solidFill>
            <a:miter/>
            <a:tailEnd len="med" type="triangle" w="med"/>
          </a:ln>
        </p:spPr>
      </p:cxnSp>
      <p:cxnSp>
        <p:nvCxnSpPr>
          <p:cNvPr id="413" name="Straight Arrow Connector 89"/>
          <p:cNvCxnSpPr/>
          <p:nvPr/>
        </p:nvCxnSpPr>
        <p:spPr>
          <a:xfrm flipH="1">
            <a:off x="6552720" y="2133360"/>
            <a:ext cx="457920" cy="686520"/>
          </a:xfrm>
          <a:prstGeom prst="straightConnector1">
            <a:avLst/>
          </a:prstGeom>
          <a:ln w="38160">
            <a:solidFill>
              <a:srgbClr val="ea157a"/>
            </a:solidFill>
            <a:miter/>
            <a:tailEnd len="med" type="triangle" w="med"/>
          </a:ln>
        </p:spPr>
      </p:cxnSp>
      <p:cxnSp>
        <p:nvCxnSpPr>
          <p:cNvPr id="414" name="Straight Arrow Connector 90"/>
          <p:cNvCxnSpPr/>
          <p:nvPr/>
        </p:nvCxnSpPr>
        <p:spPr>
          <a:xfrm flipH="1">
            <a:off x="2590560" y="4114800"/>
            <a:ext cx="1219680" cy="83880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</p:cxnSp>
      <p:pic>
        <p:nvPicPr>
          <p:cNvPr id="415" name="Rectangle 94" descr=""/>
          <p:cNvPicPr/>
          <p:nvPr/>
        </p:nvPicPr>
        <p:blipFill>
          <a:blip r:embed="rId3"/>
          <a:stretch/>
        </p:blipFill>
        <p:spPr>
          <a:xfrm>
            <a:off x="1060560" y="2657520"/>
            <a:ext cx="1616040" cy="1085760"/>
          </a:xfrm>
          <a:prstGeom prst="rect">
            <a:avLst/>
          </a:prstGeom>
          <a:ln w="0">
            <a:noFill/>
          </a:ln>
        </p:spPr>
      </p:pic>
      <p:pic>
        <p:nvPicPr>
          <p:cNvPr id="416" name="Rectangle 98" descr=""/>
          <p:cNvPicPr/>
          <p:nvPr/>
        </p:nvPicPr>
        <p:blipFill>
          <a:blip r:embed="rId4"/>
          <a:stretch/>
        </p:blipFill>
        <p:spPr>
          <a:xfrm>
            <a:off x="6699240" y="4791240"/>
            <a:ext cx="1841400" cy="1238040"/>
          </a:xfrm>
          <a:prstGeom prst="rect">
            <a:avLst/>
          </a:prstGeom>
          <a:ln w="0">
            <a:noFill/>
          </a:ln>
        </p:spPr>
      </p:pic>
      <p:grpSp>
        <p:nvGrpSpPr>
          <p:cNvPr id="417" name="Rectangle 102"/>
          <p:cNvGrpSpPr/>
          <p:nvPr/>
        </p:nvGrpSpPr>
        <p:grpSpPr>
          <a:xfrm>
            <a:off x="1743120" y="5095800"/>
            <a:ext cx="1768320" cy="1158840"/>
            <a:chOff x="1743120" y="5095800"/>
            <a:chExt cx="1768320" cy="1158840"/>
          </a:xfrm>
        </p:grpSpPr>
        <p:pic>
          <p:nvPicPr>
            <p:cNvPr id="418" name="Rectangle 102" descr=""/>
            <p:cNvPicPr/>
            <p:nvPr/>
          </p:nvPicPr>
          <p:blipFill>
            <a:blip r:embed="rId5"/>
            <a:stretch/>
          </p:blipFill>
          <p:spPr>
            <a:xfrm>
              <a:off x="1743120" y="5095800"/>
              <a:ext cx="17683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828800" y="5181480"/>
              <a:ext cx="1600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Inhibit protein synth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4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Control strain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se are organisms obtained from the American Type Culture Collection (ATCC)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y should be grown in standard condition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y have a known recorded sensitivity to antibiotic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uller Hinton Medium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t is a special media used for sensitivity testing, it dose not interfere with test results it has a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P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electrolyt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90720" y="2514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ndard inoculum siz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standard concentration of bacterial cells to be inoculat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How to prepare standard inoculum size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ndard inoculum should have turbidity equivalent to 0.5 McFarland standar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hould be from a freshly overnight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McFaraland: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se are made by dissolving barium sulphate in water with different concentration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0.5 McFaraland have a turbidity equivalent to 1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be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20:24:40Z</dcterms:created>
  <dc:creator>mm</dc:creator>
  <dc:description/>
  <dc:language>en-US</dc:language>
  <cp:lastModifiedBy>TNE Friend</cp:lastModifiedBy>
  <dcterms:modified xsi:type="dcterms:W3CDTF">2012-04-29T10:23:18Z</dcterms:modified>
  <cp:revision>147</cp:revision>
  <dc:subject/>
  <dc:title>Slide 1</dc:title>
</cp:coreProperties>
</file>