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198F-87A1-4466-AA33-3BDD06547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682-594C-4EE0-BD11-72B85B1C8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8D69-2B3D-4A73-BF6E-F983ADBC1F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0E52-DDFF-4AF9-A05A-CFEE5318C4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4436-82BF-43E9-A5BB-CE818A214B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1BA6-87ED-483A-B5DF-22CB13C54F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9060-0C36-4AEC-8032-78EC55B72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83C2-F628-443D-96FB-2AD600049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B307-3ACC-4117-8CE7-69C9B7F45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BC11-EE3B-470B-9722-12FB9A998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01E8-BFE7-463C-9561-D26A898015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D6C-5774-4362-B67D-7895452670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8D84-2477-4FB1-854A-0036C5D191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AFA9-7DE9-4EA0-A2D6-489CEC05D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204-9B15-4803-88BE-8690D2D3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44A-24F8-43E7-93CB-55B4F0B5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FDA-D3B9-400A-BE4C-7115A8A5F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6C1-D6A9-493B-B285-4D1A73A5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C17D-49F8-483C-857D-E09E6175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6514-5263-4FB9-B84C-B5572389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79D7-1654-43D1-A764-E7C36E1F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887D-D27E-444A-B552-1BB020DD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CA2E-5F3E-477C-9C5E-C1A8B7ED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593E-5A0F-47F6-B810-6672E2C7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9C60-06EB-420A-9C23-9914A7F6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A67-0E6A-477F-ADCA-56FAFC14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0EC9-D065-4CDC-96A6-B4D14414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6168-C710-48C4-B45A-56C60CF1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D3F9E-C7DE-43D0-B0CD-9C1C582A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F80D-182E-427B-BB9D-2016289E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8B5F-A766-4E80-8E9B-5A2F49EA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C573-19B5-4074-8ADD-13B20EBB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41D0-E22E-4B81-90D0-BD3D4D6C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18CB4-D1CF-45B9-9AB9-E39F85C5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B97B-9471-46D1-8872-3AC06922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440E-DC51-4D8F-B0C8-3120C86D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E43-2FF8-4529-8172-F4FDE0F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38E5-21B2-4708-99B5-9E097630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32925-4CFB-4B60-A415-57765213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AE17-BF6D-41AA-A39B-1049A817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BBFC6-582E-491E-8E28-E3041FA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FDEA3-8DD2-413A-BF62-3F0191DA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F5570-6BCE-4338-8E51-8F1289F2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35CB-5275-4A3D-94C1-95C6E1A9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3C00-B162-4263-8ECE-5AC2421F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A445-1BC4-4700-9F84-B109CAF5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91C4-9042-45E7-9B59-EEA90F2E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E87-A87A-47B4-A654-9820E0D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D1BE-7291-499F-BC5D-A8B81692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B445-A959-4AE9-A84D-93F78E1D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2DE2-E981-418D-A9CB-E83EC5FF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3827-1A0D-4811-83A4-57D8A81F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15A80-D51F-41B1-AF2C-9F057BF3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E8856-5FCB-452A-93EC-6D2EBCF3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DF27-BA78-42B3-AD2B-3AED58A7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5E2A-8031-414C-BA8D-33CEE75D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0DABB-ED09-4A9D-9E7D-B3518981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8F12-9B6B-44A8-B89C-1F00163A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DE8-116D-4AB1-BFF2-F387D93B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218A1-ED7B-4BBB-A9FF-6320417F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3114-C9A0-4B66-915F-BB1874AD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F5E4A-FA35-4153-A110-6994951C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4B7FF-34C2-4BB8-BB35-5E03D6EA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A0C7-19B5-4D45-B496-51D58348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230A-A438-4BF1-A887-16CF7E60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2A77-480C-4D3E-9D6B-C85CDB79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E042-3CA2-49DC-9DCA-2E1A7AC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F8C1-D640-46B4-9EA3-4475522D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6732D-E1A3-4715-93E0-85D306AF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DBF-666A-494D-A3D8-326BC874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DBD46-B655-4566-AC19-75ECD625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49559-7771-4308-B75E-CDF79FFF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0829-651D-4EAF-8170-1FBE044B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B825-19C2-4041-9EEE-84F414EF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31157-6A66-405F-B882-02FC4B30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96025-C7EB-4BF3-8CA7-19F945F9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0CAA5-DE40-44F3-AEFB-27D106DB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FAAC-925A-48DF-8BAE-3C08467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FB220-F181-4D12-BACE-952B512A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E101C-0D2E-4E07-BA8B-60EE957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EF6-50F9-48F9-BFEE-7545F75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F53A-C321-440A-8078-A420AA85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81082-9E7C-436C-B789-9E4A3B5C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96316-0FEF-40F5-AADC-942D134B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D646E-274F-4DD1-8269-A745BC4E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38BD-85ED-42A3-AE51-46949358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AC7B7-581A-4179-9B68-11ABF47B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F6F7F-69E9-4482-A28F-BC66BD23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1CB0-0249-4B4A-91B3-9FD9C48E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123FF-DBED-466E-9302-4EF83E59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24297-8697-4498-BB52-A504C6FC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797-E474-419A-917E-50DB8CF3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5BA23-572A-4934-A17C-C83D0201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F27F8-B83A-4E63-82B6-C943DAB7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274D-CE54-410F-A345-58997594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16017-A240-447F-AA8E-BF07E46E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8E894-AFFA-4E05-B309-BF021C40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0E9-0914-44FF-B033-90AF2297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9B95-C22C-4482-81A9-567E84888CF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E01D-753A-4B29-9582-62EB9451FF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A06-D7BC-4689-A5E6-CF04E922B1F8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37B5-637C-4829-8F6F-38D87006FE6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CA7D-DB40-467F-A4B5-AD08EBD9F5A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C8E2-EAED-4A23-AF1D-4F4B1A74A89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AF58-828A-4309-A3C4-23AC0E7A1D5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C4F-8B0E-49D3-83D0-867C84F3DB0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AB0-982A-4378-A577-1D614566CACE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4DFB-5D43-45B1-BC23-F6ACBD09CB7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A27-768B-483B-8E64-A4563E9D9B60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8F92-A1CD-45F3-B7AA-BC7A196A59F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1680" y="12175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1680" y="12823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4680" y="137016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4680" y="143496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6560" y="1473120"/>
              <a:ext cx="637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00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6560" y="1537920"/>
              <a:ext cx="637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6FF4-ED55-465F-9652-208F222AD6F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346D-A203-4FD3-B736-6B3BDCA1DDA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21463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orbel"/>
              </a:rPr>
              <a:t>Lab  # 1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4" descr="header_02"/>
          <p:cNvPicPr/>
          <p:nvPr/>
        </p:nvPicPr>
        <p:blipFill>
          <a:blip r:embed="rId2"/>
          <a:stretch/>
        </p:blipFill>
        <p:spPr>
          <a:xfrm>
            <a:off x="106668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eader_03"/>
          <p:cNvPicPr/>
          <p:nvPr/>
        </p:nvPicPr>
        <p:blipFill>
          <a:blip r:embed="rId3"/>
          <a:stretch/>
        </p:blipFill>
        <p:spPr>
          <a:xfrm>
            <a:off x="1701720" y="228600"/>
            <a:ext cx="723960" cy="8571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header_04"/>
          <p:cNvPicPr/>
          <p:nvPr/>
        </p:nvPicPr>
        <p:blipFill>
          <a:blip r:embed="rId4"/>
          <a:stretch/>
        </p:blipFill>
        <p:spPr>
          <a:xfrm>
            <a:off x="2422440" y="228600"/>
            <a:ext cx="685800" cy="857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eader_05"/>
          <p:cNvPicPr/>
          <p:nvPr/>
        </p:nvPicPr>
        <p:blipFill>
          <a:blip r:embed="rId5"/>
          <a:stretch/>
        </p:blipFill>
        <p:spPr>
          <a:xfrm>
            <a:off x="3048120" y="228600"/>
            <a:ext cx="733320" cy="857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header_06"/>
          <p:cNvPicPr/>
          <p:nvPr/>
        </p:nvPicPr>
        <p:blipFill>
          <a:blip r:embed="rId6"/>
          <a:stretch/>
        </p:blipFill>
        <p:spPr>
          <a:xfrm>
            <a:off x="7308720" y="228600"/>
            <a:ext cx="676440" cy="8571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header_09"/>
          <p:cNvPicPr/>
          <p:nvPr/>
        </p:nvPicPr>
        <p:blipFill>
          <a:blip r:embed="rId7"/>
          <a:stretch/>
        </p:blipFill>
        <p:spPr>
          <a:xfrm>
            <a:off x="6372360" y="228600"/>
            <a:ext cx="1000080" cy="857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header_08"/>
          <p:cNvPicPr/>
          <p:nvPr/>
        </p:nvPicPr>
        <p:blipFill>
          <a:blip r:embed="rId8"/>
          <a:stretch/>
        </p:blipFill>
        <p:spPr>
          <a:xfrm>
            <a:off x="5651640" y="228600"/>
            <a:ext cx="742680" cy="857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header_07"/>
          <p:cNvPicPr/>
          <p:nvPr/>
        </p:nvPicPr>
        <p:blipFill>
          <a:blip r:embed="rId9"/>
          <a:stretch/>
        </p:blipFill>
        <p:spPr>
          <a:xfrm>
            <a:off x="4788000" y="228600"/>
            <a:ext cx="885600" cy="8571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2" descr="header_10"/>
          <p:cNvPicPr/>
          <p:nvPr/>
        </p:nvPicPr>
        <p:blipFill>
          <a:blip r:embed="rId10"/>
          <a:stretch/>
        </p:blipFill>
        <p:spPr>
          <a:xfrm>
            <a:off x="3768840" y="228600"/>
            <a:ext cx="1085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Antibiotic Sensitivity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273af"/>
                </a:solidFill>
                <a:uFillTx/>
                <a:latin typeface="Corbel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1)   Broth dilution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b6ff"/>
                </a:solidFill>
                <a:latin typeface="Corbel"/>
              </a:rPr>
              <a:t>2)   Agar diffusion (solid)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ffcc00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a)   Kirby-Bauer test (= disc test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- b)  Stock’s methods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a) Kirby-Bauer Test  </a:t>
            </a: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(disc diffusion test) (Sold agar test)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838080" y="19047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Fresh organism suspended in broth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0.5 MaCfaraland standar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Swab organism all over the plate evenl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Place discs containing specified concentration of different antibiotics on the plat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Kirby-Bauer Te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Incubate 37C x 24h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Measure diameter of Clear zone around the  disc .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(Inhibition zon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Use tables to assess if zone size indicat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     </a:t>
            </a:r>
            <a:r>
              <a:rPr b="0" lang="en-US" sz="3000" spc="-1" strike="noStrike">
                <a:solidFill>
                  <a:srgbClr val="d6ecff"/>
                </a:solidFill>
                <a:latin typeface="Corbel"/>
              </a:rPr>
              <a:t>resistance or sensitivity to that antibioti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66"/>
                </a:solidFill>
                <a:latin typeface="Consolas"/>
              </a:rPr>
              <a:t>Kirby-Bauer Test  </a:t>
            </a:r>
            <a:r>
              <a:rPr b="0" lang="en-GB" sz="4000" spc="-1" strike="noStrike">
                <a:solidFill>
                  <a:srgbClr val="ff0066"/>
                </a:solidFill>
                <a:latin typeface="Consolas"/>
              </a:rPr>
              <a:t>(disc diffusion test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37" name="Content Placeholder 3" descr="antibiotika3"/>
          <p:cNvPicPr/>
          <p:nvPr/>
        </p:nvPicPr>
        <p:blipFill>
          <a:blip r:embed="rId1"/>
          <a:stretch/>
        </p:blipFill>
        <p:spPr>
          <a:xfrm>
            <a:off x="990720" y="2438280"/>
            <a:ext cx="4546440" cy="321336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  <p:pic>
        <p:nvPicPr>
          <p:cNvPr id="438" name="Picture 4" descr="antibiotika2"/>
          <p:cNvPicPr/>
          <p:nvPr/>
        </p:nvPicPr>
        <p:blipFill>
          <a:blip r:embed="rId2"/>
          <a:stretch/>
        </p:blipFill>
        <p:spPr>
          <a:xfrm>
            <a:off x="5943600" y="2438280"/>
            <a:ext cx="2655720" cy="3200400"/>
          </a:xfrm>
          <a:prstGeom prst="rect">
            <a:avLst/>
          </a:prstGeom>
          <a:ln w="9360">
            <a:solidFill>
              <a:srgbClr val="ea15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How to Streak the sensitivity plate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merge swab then remove excess by pressing against wall of tub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db1"/>
                </a:solidFill>
                <a:latin typeface="Corbel"/>
              </a:rPr>
              <a:t>Do one line in the center of plate by swab then spread even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1b6ff"/>
                </a:solidFill>
                <a:latin typeface="Corbel"/>
              </a:rPr>
              <a:t>Add antibiotic disks using needl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Corbel"/>
              </a:rPr>
              <a:t>Always work near flame to avoid contamin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Don’t put disk near the edg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Oval 3"/>
          <p:cNvSpPr/>
          <p:nvPr/>
        </p:nvSpPr>
        <p:spPr>
          <a:xfrm>
            <a:off x="7924680" y="2819520"/>
            <a:ext cx="91440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f6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Straight Connector 5"/>
          <p:cNvSpPr/>
          <p:nvPr/>
        </p:nvSpPr>
        <p:spPr>
          <a:xfrm flipH="1">
            <a:off x="8381520" y="2971800"/>
            <a:ext cx="1800" cy="60804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Consolas"/>
              </a:rPr>
              <a:t>B)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pretation based on comparison betwee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zones seen with the test organism &amp; those of the known sensitive contro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3276720" y="3429000"/>
            <a:ext cx="2743200" cy="26668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5"/>
          <p:cNvSpPr/>
          <p:nvPr/>
        </p:nvSpPr>
        <p:spPr>
          <a:xfrm>
            <a:off x="3352680" y="4724280"/>
            <a:ext cx="2667240" cy="38160"/>
          </a:xfrm>
          <a:prstGeom prst="line">
            <a:avLst/>
          </a:prstGeom>
          <a:ln w="11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7" name="Straight Arrow Connector 7"/>
          <p:cNvCxnSpPr/>
          <p:nvPr/>
        </p:nvCxnSpPr>
        <p:spPr>
          <a:xfrm flipV="1">
            <a:off x="5562720" y="3657240"/>
            <a:ext cx="915120" cy="38160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48" name="TextBox 8"/>
          <p:cNvSpPr/>
          <p:nvPr/>
        </p:nvSpPr>
        <p:spPr>
          <a:xfrm>
            <a:off x="6486480" y="3352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Q.C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9" name="Straight Arrow Connector 10"/>
          <p:cNvCxnSpPr/>
          <p:nvPr/>
        </p:nvCxnSpPr>
        <p:spPr>
          <a:xfrm>
            <a:off x="5410080" y="5334120"/>
            <a:ext cx="991440" cy="457920"/>
          </a:xfrm>
          <a:prstGeom prst="straightConnector1">
            <a:avLst/>
          </a:prstGeom>
          <a:ln w="118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50" name="TextBox 12"/>
          <p:cNvSpPr/>
          <p:nvPr/>
        </p:nvSpPr>
        <p:spPr>
          <a:xfrm>
            <a:off x="6474240" y="563868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Test org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Oval 15"/>
          <p:cNvSpPr/>
          <p:nvPr/>
        </p:nvSpPr>
        <p:spPr>
          <a:xfrm>
            <a:off x="3886200" y="4572000"/>
            <a:ext cx="30492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Oval 16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52" idx="6"/>
          </p:cNvCxnSpPr>
          <p:nvPr/>
        </p:nvCxnSpPr>
        <p:spPr>
          <a:xfrm flipV="1">
            <a:off x="5409720" y="4419360"/>
            <a:ext cx="1677240" cy="30528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triangle" w="med"/>
          </a:ln>
        </p:spPr>
      </p:cxnSp>
      <p:sp>
        <p:nvSpPr>
          <p:cNvPr id="454" name="TextBox 19"/>
          <p:cNvSpPr/>
          <p:nvPr/>
        </p:nvSpPr>
        <p:spPr>
          <a:xfrm>
            <a:off x="7096680" y="426708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Antibiotic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rcRect l="18750" t="14307" r="16252" b="14031"/>
          <a:stretch/>
        </p:blipFill>
        <p:spPr>
          <a:xfrm>
            <a:off x="228600" y="1600200"/>
            <a:ext cx="4883040" cy="403848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"/>
          <p:cNvPicPr/>
          <p:nvPr/>
        </p:nvPicPr>
        <p:blipFill>
          <a:blip r:embed="rId2"/>
          <a:srcRect l="26251" t="15000" r="20002" b="15000"/>
          <a:stretch/>
        </p:blipFill>
        <p:spPr>
          <a:xfrm>
            <a:off x="5029200" y="1600200"/>
            <a:ext cx="413064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157a"/>
                </a:solidFill>
                <a:latin typeface="Consolas"/>
              </a:rPr>
              <a:t>Results of Stockes Method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 &gt; C    or     T = C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  Sensitiv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T&lt; C   </a:t>
            </a:r>
            <a:r>
              <a:rPr b="1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US" sz="3600" spc="-1" strike="noStrike">
                <a:solidFill>
                  <a:srgbClr val="ffffff"/>
                </a:solidFill>
                <a:latin typeface="Corbel"/>
              </a:rPr>
              <a:t> Resistanc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  <p:pic>
        <p:nvPicPr>
          <p:cNvPr id="462" name="Content Placeholder 7" descr="sensi disc dispenser.jpg"/>
          <p:cNvPicPr/>
          <p:nvPr/>
        </p:nvPicPr>
        <p:blipFill>
          <a:blip r:embed="rId2"/>
          <a:stretch/>
        </p:blipFill>
        <p:spPr>
          <a:xfrm>
            <a:off x="914400" y="533520"/>
            <a:ext cx="4267080" cy="4267080"/>
          </a:xfrm>
          <a:prstGeom prst="rect">
            <a:avLst/>
          </a:prstGeom>
          <a:ln w="31680">
            <a:solidFill>
              <a:srgbClr val="ea157a"/>
            </a:solidFill>
            <a:miter/>
          </a:ln>
        </p:spPr>
      </p:pic>
      <p:sp>
        <p:nvSpPr>
          <p:cNvPr id="463" name="TextBox 8"/>
          <p:cNvSpPr/>
          <p:nvPr/>
        </p:nvSpPr>
        <p:spPr>
          <a:xfrm>
            <a:off x="789480" y="5562720"/>
            <a:ext cx="80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ttp://rfdp.seafdec.org.ph/publication/manual/antibiotics/chapter2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c1eeff"/>
              </a:solidFill>
              <a:latin typeface="Consolas"/>
              <a:ea typeface="Tahoma"/>
            </a:endParaRPr>
          </a:p>
        </p:txBody>
      </p:sp>
      <p:pic>
        <p:nvPicPr>
          <p:cNvPr id="465" name="Content Placeholder 3" descr="disk zone reader.gif"/>
          <p:cNvPicPr/>
          <p:nvPr/>
        </p:nvPicPr>
        <p:blipFill>
          <a:blip r:embed="rId1"/>
          <a:stretch/>
        </p:blipFill>
        <p:spPr>
          <a:xfrm>
            <a:off x="2133720" y="1371600"/>
            <a:ext cx="4574880" cy="5126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66"/>
                </a:solidFill>
                <a:latin typeface="Consolas"/>
              </a:rPr>
              <a:t>Sir Alexander Fleming</a:t>
            </a:r>
            <a:br>
              <a:rPr sz="3200"/>
            </a:br>
            <a:r>
              <a:rPr b="0" lang="en-GB" sz="2300" spc="-1" strike="noStrike">
                <a:solidFill>
                  <a:srgbClr val="ff0066"/>
                </a:solidFill>
                <a:latin typeface="Consolas"/>
              </a:rPr>
              <a:t>(1881 –1955)</a:t>
            </a:r>
            <a:endParaRPr b="0" lang="en-US" sz="23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7" name="Picture 5" descr="fleming"/>
          <p:cNvPicPr/>
          <p:nvPr/>
        </p:nvPicPr>
        <p:blipFill>
          <a:blip r:embed="rId1"/>
          <a:stretch/>
        </p:blipFill>
        <p:spPr>
          <a:xfrm>
            <a:off x="4876920" y="3581280"/>
            <a:ext cx="3886200" cy="2973600"/>
          </a:xfrm>
          <a:prstGeom prst="rect">
            <a:avLst/>
          </a:prstGeom>
          <a:ln w="25560">
            <a:solidFill>
              <a:srgbClr val="ff0066"/>
            </a:solidFill>
            <a:miter/>
          </a:ln>
        </p:spPr>
      </p:pic>
      <p:sp>
        <p:nvSpPr>
          <p:cNvPr id="388" name="TextBox 5"/>
          <p:cNvSpPr/>
          <p:nvPr/>
        </p:nvSpPr>
        <p:spPr>
          <a:xfrm>
            <a:off x="3976920" y="1905120"/>
            <a:ext cx="4803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One sometimes finds what one is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a7d6ff"/>
                </a:solidFill>
                <a:latin typeface="Arial"/>
              </a:rPr>
              <a:t>looking for“</a:t>
            </a:r>
            <a:br>
              <a:rPr sz="2000"/>
            </a:b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Penicil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990720" y="480060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He observed inhibition of staphylococci on an ag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plate contamina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7d6ff"/>
                </a:solidFill>
                <a:latin typeface="Arial"/>
              </a:rPr>
              <a:t>by a</a:t>
            </a:r>
            <a:r>
              <a:rPr b="1" lang="en-GB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ff0066"/>
                </a:solidFill>
                <a:latin typeface="Arial"/>
              </a:rPr>
              <a:t>Penicillium</a:t>
            </a: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 m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8" descr="http://www.accessexcellence.org/AE/AEC/CC/images/s5.gif"/>
          <p:cNvPicPr/>
          <p:nvPr/>
        </p:nvPicPr>
        <p:blipFill>
          <a:blip r:embed="rId2"/>
          <a:stretch/>
        </p:blipFill>
        <p:spPr>
          <a:xfrm>
            <a:off x="1371600" y="2209680"/>
            <a:ext cx="2386080" cy="2286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6781680" y="152280"/>
            <a:ext cx="17719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9000"/>
          </a:bodyPr>
          <a:p>
            <a:pPr marL="37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ff"/>
                </a:solidFill>
                <a:latin typeface="Corbel"/>
              </a:rPr>
              <a:t>Thank You</a:t>
            </a:r>
            <a:endParaRPr b="0" lang="en-US" sz="8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69" name="Picture 3" descr="pseudo sens plate.jpg"/>
          <p:cNvPicPr/>
          <p:nvPr/>
        </p:nvPicPr>
        <p:blipFill>
          <a:blip r:embed="rId1"/>
          <a:stretch/>
        </p:blipFill>
        <p:spPr>
          <a:xfrm>
            <a:off x="1523880" y="28004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a157a"/>
                </a:solidFill>
                <a:latin typeface="Consolas"/>
              </a:rPr>
              <a:t>Antibiotics are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rbel"/>
              </a:rPr>
              <a:t>Natural or synthetic products that are used to kill or stop the growth of Bacteria 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ostatic - stop growth (don't kill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2001"/>
              </a:spcBef>
              <a:buClr>
                <a:srgbClr val="d6ec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  </a:t>
            </a:r>
            <a:r>
              <a:rPr b="0" lang="en-GB" sz="3200" spc="-1" strike="noStrike">
                <a:solidFill>
                  <a:srgbClr val="d6ecff"/>
                </a:solidFill>
                <a:latin typeface="Corbel"/>
              </a:rPr>
              <a:t>bactericidal – kill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66"/>
                </a:solidFill>
                <a:latin typeface="Consolas"/>
              </a:rPr>
              <a:t>Classification According to Mode of A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2971800" y="2209680"/>
            <a:ext cx="3886200" cy="2895840"/>
          </a:xfrm>
          <a:prstGeom prst="ellipse">
            <a:avLst/>
          </a:prstGeom>
          <a:solidFill>
            <a:srgbClr val="fbd0e4"/>
          </a:solidFill>
          <a:ln w="7632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3048120" y="2286000"/>
            <a:ext cx="3733560" cy="2743200"/>
          </a:xfrm>
          <a:prstGeom prst="ellipse">
            <a:avLst/>
          </a:prstGeom>
          <a:solidFill>
            <a:srgbClr val="f7a1ca"/>
          </a:solidFill>
          <a:ln w="76320">
            <a:solidFill>
              <a:srgbClr val="f7a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3352680" y="2438280"/>
            <a:ext cx="3124440" cy="2438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D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0" name="Curved Connector 35"/>
          <p:cNvCxnSpPr/>
          <p:nvPr/>
        </p:nvCxnSpPr>
        <p:spPr>
          <a:xfrm flipH="1" rot="16200000">
            <a:off x="4686120" y="3237840"/>
            <a:ext cx="68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1" name="Curved Connector 37"/>
          <p:cNvCxnSpPr/>
          <p:nvPr/>
        </p:nvCxnSpPr>
        <p:spPr>
          <a:xfrm flipV="1" rot="16200000">
            <a:off x="5028480" y="3656880"/>
            <a:ext cx="686520" cy="533880"/>
          </a:xfrm>
          <a:prstGeom prst="curvedConnector5">
            <a:avLst>
              <a:gd name="adj1" fmla="val 36044"/>
              <a:gd name="adj2" fmla="val 50000"/>
              <a:gd name="adj3" fmla="val 36044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2" name="Curved Connector 41"/>
          <p:cNvCxnSpPr/>
          <p:nvPr/>
        </p:nvCxnSpPr>
        <p:spPr>
          <a:xfrm flipV="1" rot="16200000">
            <a:off x="4266720" y="2666160"/>
            <a:ext cx="610200" cy="457920"/>
          </a:xfrm>
          <a:prstGeom prst="curvedConnector5">
            <a:avLst>
              <a:gd name="adj1" fmla="val 43270"/>
              <a:gd name="adj2" fmla="val 49960"/>
              <a:gd name="adj3" fmla="val 43270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3" name="Curved Connector 47"/>
          <p:cNvCxnSpPr/>
          <p:nvPr/>
        </p:nvCxnSpPr>
        <p:spPr>
          <a:xfrm flipH="1" rot="16200000">
            <a:off x="4495680" y="2895120"/>
            <a:ext cx="610560" cy="610560"/>
          </a:xfrm>
          <a:prstGeom prst="curvedConnector5">
            <a:avLst>
              <a:gd name="adj1" fmla="val 56696"/>
              <a:gd name="adj2" fmla="val 49970"/>
              <a:gd name="adj3" fmla="val 56696"/>
            </a:avLst>
          </a:prstGeom>
          <a:ln w="11880">
            <a:solidFill>
              <a:srgbClr val="7fd13b"/>
            </a:solidFill>
            <a:miter/>
          </a:ln>
        </p:spPr>
      </p:cxnSp>
      <p:cxnSp>
        <p:nvCxnSpPr>
          <p:cNvPr id="404" name="Curved Connector 60"/>
          <p:cNvCxnSpPr/>
          <p:nvPr/>
        </p:nvCxnSpPr>
        <p:spPr>
          <a:xfrm flipV="1" rot="16200000">
            <a:off x="5333400" y="3961800"/>
            <a:ext cx="648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1880">
            <a:solidFill>
              <a:srgbClr val="7fd13b"/>
            </a:solidFill>
            <a:miter/>
          </a:ln>
        </p:spPr>
      </p:cxnSp>
      <p:sp>
        <p:nvSpPr>
          <p:cNvPr id="405" name="Oval 63"/>
          <p:cNvSpPr/>
          <p:nvPr/>
        </p:nvSpPr>
        <p:spPr>
          <a:xfrm>
            <a:off x="38862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64"/>
          <p:cNvSpPr/>
          <p:nvPr/>
        </p:nvSpPr>
        <p:spPr>
          <a:xfrm>
            <a:off x="43434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65"/>
          <p:cNvSpPr/>
          <p:nvPr/>
        </p:nvSpPr>
        <p:spPr>
          <a:xfrm>
            <a:off x="4800600" y="4038480"/>
            <a:ext cx="380880" cy="457200"/>
          </a:xfrm>
          <a:prstGeom prst="ellipse">
            <a:avLst/>
          </a:prstGeom>
          <a:solidFill>
            <a:srgbClr val="fbd0e4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Straight Connector 75" descr=""/>
          <p:cNvPicPr/>
          <p:nvPr/>
        </p:nvPicPr>
        <p:blipFill>
          <a:blip r:embed="rId1"/>
          <a:stretch/>
        </p:blipFill>
        <p:spPr>
          <a:xfrm>
            <a:off x="3651120" y="4243320"/>
            <a:ext cx="1756080" cy="1954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80"/>
          <p:cNvSpPr/>
          <p:nvPr/>
        </p:nvSpPr>
        <p:spPr>
          <a:xfrm>
            <a:off x="3513960" y="373392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" name="Straight Arrow Connector 82"/>
          <p:cNvCxnSpPr/>
          <p:nvPr/>
        </p:nvCxnSpPr>
        <p:spPr>
          <a:xfrm>
            <a:off x="2133720" y="2819520"/>
            <a:ext cx="1372320" cy="381600"/>
          </a:xfrm>
          <a:prstGeom prst="straightConnector1">
            <a:avLst/>
          </a:prstGeom>
          <a:ln w="5724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11" name="Rectangle 84" descr=""/>
          <p:cNvPicPr/>
          <p:nvPr/>
        </p:nvPicPr>
        <p:blipFill>
          <a:blip r:embed="rId2"/>
          <a:stretch/>
        </p:blipFill>
        <p:spPr>
          <a:xfrm>
            <a:off x="6924600" y="1590840"/>
            <a:ext cx="2073240" cy="1542960"/>
          </a:xfrm>
          <a:prstGeom prst="rect">
            <a:avLst/>
          </a:prstGeom>
          <a:ln w="0">
            <a:noFill/>
          </a:ln>
        </p:spPr>
      </p:pic>
      <p:cxnSp>
        <p:nvCxnSpPr>
          <p:cNvPr id="412" name="Straight Arrow Connector 87"/>
          <p:cNvCxnSpPr/>
          <p:nvPr/>
        </p:nvCxnSpPr>
        <p:spPr>
          <a:xfrm flipH="1" flipV="1">
            <a:off x="5257080" y="3656880"/>
            <a:ext cx="1677240" cy="1220040"/>
          </a:xfrm>
          <a:prstGeom prst="straightConnector1">
            <a:avLst/>
          </a:prstGeom>
          <a:ln w="38160">
            <a:solidFill>
              <a:srgbClr val="007eea"/>
            </a:solidFill>
            <a:miter/>
            <a:tailEnd len="med" type="triangle" w="med"/>
          </a:ln>
        </p:spPr>
      </p:cxnSp>
      <p:cxnSp>
        <p:nvCxnSpPr>
          <p:cNvPr id="413" name="Straight Arrow Connector 89"/>
          <p:cNvCxnSpPr/>
          <p:nvPr/>
        </p:nvCxnSpPr>
        <p:spPr>
          <a:xfrm flipH="1">
            <a:off x="6552720" y="2133360"/>
            <a:ext cx="457920" cy="686520"/>
          </a:xfrm>
          <a:prstGeom prst="straightConnector1">
            <a:avLst/>
          </a:prstGeom>
          <a:ln w="38160">
            <a:solidFill>
              <a:srgbClr val="ea157a"/>
            </a:solidFill>
            <a:miter/>
            <a:tailEnd len="med" type="arrow" w="med"/>
          </a:ln>
        </p:spPr>
      </p:cxnSp>
      <p:cxnSp>
        <p:nvCxnSpPr>
          <p:cNvPr id="414" name="Straight Arrow Connector 90"/>
          <p:cNvCxnSpPr/>
          <p:nvPr/>
        </p:nvCxnSpPr>
        <p:spPr>
          <a:xfrm flipH="1">
            <a:off x="2590560" y="4114800"/>
            <a:ext cx="1219680" cy="83880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pic>
        <p:nvPicPr>
          <p:cNvPr id="415" name="Rectangle 94" descr=""/>
          <p:cNvPicPr/>
          <p:nvPr/>
        </p:nvPicPr>
        <p:blipFill>
          <a:blip r:embed="rId3"/>
          <a:stretch/>
        </p:blipFill>
        <p:spPr>
          <a:xfrm>
            <a:off x="1060560" y="2657520"/>
            <a:ext cx="1616040" cy="1085760"/>
          </a:xfrm>
          <a:prstGeom prst="rect">
            <a:avLst/>
          </a:prstGeom>
          <a:ln w="0">
            <a:noFill/>
          </a:ln>
        </p:spPr>
      </p:pic>
      <p:pic>
        <p:nvPicPr>
          <p:cNvPr id="416" name="Rectangle 98" descr=""/>
          <p:cNvPicPr/>
          <p:nvPr/>
        </p:nvPicPr>
        <p:blipFill>
          <a:blip r:embed="rId4"/>
          <a:stretch/>
        </p:blipFill>
        <p:spPr>
          <a:xfrm>
            <a:off x="6699240" y="4791240"/>
            <a:ext cx="1841400" cy="1238040"/>
          </a:xfrm>
          <a:prstGeom prst="rect">
            <a:avLst/>
          </a:prstGeom>
          <a:ln w="0">
            <a:noFill/>
          </a:ln>
        </p:spPr>
      </p:pic>
      <p:grpSp>
        <p:nvGrpSpPr>
          <p:cNvPr id="417" name="Rectangle 102"/>
          <p:cNvGrpSpPr/>
          <p:nvPr/>
        </p:nvGrpSpPr>
        <p:grpSpPr>
          <a:xfrm>
            <a:off x="1743120" y="5095800"/>
            <a:ext cx="1768320" cy="1158840"/>
            <a:chOff x="1743120" y="5095800"/>
            <a:chExt cx="1768320" cy="1158840"/>
          </a:xfrm>
        </p:grpSpPr>
        <p:pic>
          <p:nvPicPr>
            <p:cNvPr id="418" name="Rectangle 102" descr=""/>
            <p:cNvPicPr/>
            <p:nvPr/>
          </p:nvPicPr>
          <p:blipFill>
            <a:blip r:embed="rId5"/>
            <a:stretch/>
          </p:blipFill>
          <p:spPr>
            <a:xfrm>
              <a:off x="1743120" y="5095800"/>
              <a:ext cx="17683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828800" y="5181480"/>
              <a:ext cx="1600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rbel"/>
                </a:rPr>
                <a:t>Inhibit protein synthes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Control strain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se are organisms obtained from the American Type Culture Collection (ATCC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should be grown in standard condition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y have a known recorded sensitivity to antibio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Muller Hinton Medium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It is a special media used for sensitivity testing, it dose not interfere with test results it has 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P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andard electroly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Consolas"/>
              </a:rPr>
              <a:t>Definitions: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90720" y="2514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Standard inoculum siz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 standard concentration of bacterial cells to be inoculated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nsolas"/>
              </a:rPr>
              <a:t>How to prepare standard inoculum size: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9144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ndard inoculum should have turbidity equivalent to 0.5 McFarland standar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hould be from a freshly overnight growth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eeff"/>
                </a:solidFill>
                <a:latin typeface="Consolas"/>
              </a:rPr>
              <a:t>McFaraland: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se are made by dissolving barium sulphate in water with different concentration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0.5 McFaraland have a turbidity equivalent to 1x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rbe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20:24:40Z</dcterms:created>
  <dc:creator>mm</dc:creator>
  <dc:description/>
  <dc:language>en-US</dc:language>
  <cp:lastModifiedBy>TNE Friend</cp:lastModifiedBy>
  <dcterms:modified xsi:type="dcterms:W3CDTF">2012-04-29T10:23:18Z</dcterms:modified>
  <cp:revision>147</cp:revision>
  <dc:subject/>
  <dc:title>Slide 1</dc:title>
</cp:coreProperties>
</file>