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7099300"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7099200" cy="1022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493" name="PlaceHolder 1"/>
          <p:cNvSpPr>
            <a:spLocks noGrp="1"/>
          </p:cNvSpPr>
          <p:nvPr>
            <p:ph type="hdr"/>
          </p:nvPr>
        </p:nvSpPr>
        <p:spPr>
          <a:xfrm>
            <a:off x="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1"/>
          </p:nvPr>
        </p:nvSpPr>
        <p:spPr>
          <a:xfrm>
            <a:off x="402120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993600" y="766440"/>
            <a:ext cx="5112000" cy="3833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496" name="PlaceHolder 4"/>
          <p:cNvSpPr>
            <a:spLocks noGrp="1"/>
          </p:cNvSpPr>
          <p:nvPr>
            <p:ph type="body"/>
          </p:nvPr>
        </p:nvSpPr>
        <p:spPr>
          <a:xfrm>
            <a:off x="709560" y="4856040"/>
            <a:ext cx="568008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2"/>
          </p:nvPr>
        </p:nvSpPr>
        <p:spPr>
          <a:xfrm>
            <a:off x="0" y="9710640"/>
            <a:ext cx="3076560" cy="5112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3"/>
          </p:nvPr>
        </p:nvSpPr>
        <p:spPr>
          <a:xfrm>
            <a:off x="4021200" y="9710640"/>
            <a:ext cx="3076560" cy="511200"/>
          </a:xfrm>
          <a:prstGeom prst="rect">
            <a:avLst/>
          </a:prstGeom>
          <a:noFill/>
          <a:ln w="0">
            <a:noFill/>
          </a:ln>
        </p:spPr>
        <p:txBody>
          <a:bodyPr lIns="96480" rIns="9648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GB" sz="12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8DE33D6-5FAC-425E-882F-F0F5FB2BA7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4021200" y="971064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C45C613-9987-4397-887A-4E92BE3BCA9A}" type="slidenum">
              <a:rPr b="0" lang="en-GB" sz="1200" spc="-1" strike="noStrike">
                <a:solidFill>
                  <a:srgbClr val="336666"/>
                </a:solidFill>
                <a:latin typeface="Arial"/>
              </a:rPr>
              <a:t>&lt;number&gt;</a:t>
            </a:fld>
            <a:endParaRPr b="0" lang="en-US" sz="1200" spc="-1" strike="noStrike">
              <a:solidFill>
                <a:srgbClr val="336666"/>
              </a:solidFill>
              <a:latin typeface="Arial"/>
            </a:endParaRPr>
          </a:p>
        </p:txBody>
      </p:sp>
      <p:sp>
        <p:nvSpPr>
          <p:cNvPr id="541" name="PlaceHolder 1"/>
          <p:cNvSpPr>
            <a:spLocks noGrp="1"/>
          </p:cNvSpPr>
          <p:nvPr>
            <p:ph type="sldImg"/>
          </p:nvPr>
        </p:nvSpPr>
        <p:spPr>
          <a:xfrm>
            <a:off x="993600" y="766800"/>
            <a:ext cx="5112000" cy="3833640"/>
          </a:xfrm>
          <a:prstGeom prst="rect">
            <a:avLst/>
          </a:prstGeom>
          <a:ln w="0">
            <a:noFill/>
          </a:ln>
        </p:spPr>
      </p:sp>
      <p:sp>
        <p:nvSpPr>
          <p:cNvPr id="542" name="PlaceHolder 2"/>
          <p:cNvSpPr>
            <a:spLocks noGrp="1"/>
          </p:cNvSpPr>
          <p:nvPr>
            <p:ph type="body"/>
          </p:nvPr>
        </p:nvSpPr>
        <p:spPr>
          <a:xfrm>
            <a:off x="709560" y="4856040"/>
            <a:ext cx="5680080" cy="460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93600" y="766800"/>
            <a:ext cx="5112000" cy="3833640"/>
          </a:xfrm>
          <a:prstGeom prst="rect">
            <a:avLst/>
          </a:prstGeom>
          <a:ln w="0">
            <a:noFill/>
          </a:ln>
        </p:spPr>
      </p:sp>
      <p:sp>
        <p:nvSpPr>
          <p:cNvPr id="544" name="PlaceHolder 2"/>
          <p:cNvSpPr>
            <a:spLocks noGrp="1"/>
          </p:cNvSpPr>
          <p:nvPr>
            <p:ph type="body"/>
          </p:nvPr>
        </p:nvSpPr>
        <p:spPr>
          <a:xfrm>
            <a:off x="709560" y="4856040"/>
            <a:ext cx="568008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 2: dscuss different things marketed: people, place etc</a:t>
            </a:r>
            <a:endParaRPr b="0" lang="en-US" sz="1200" spc="-1" strike="noStrike">
              <a:solidFill>
                <a:srgbClr val="000000"/>
              </a:solidFill>
              <a:latin typeface="Arial"/>
            </a:endParaRPr>
          </a:p>
        </p:txBody>
      </p:sp>
      <p:sp>
        <p:nvSpPr>
          <p:cNvPr id="545" name="Slide Number Placeholder 3"/>
          <p:cNvSpPr/>
          <p:nvPr/>
        </p:nvSpPr>
        <p:spPr>
          <a:xfrm>
            <a:off x="4021200" y="971064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CEB9593-A595-4679-A231-24108AABB397}" type="slidenum">
              <a:rPr b="0" lang="en-GB"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084E5E-0DE2-4C1C-A91A-6A4E515E8C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7E6107-1D4E-410A-A50F-E795FC4863A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C2EE8A-7288-4388-B81A-2A981754C9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F3A3BA-59EF-4A67-86B7-95459373DA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9C636B-7D43-4F1B-BF69-88EF78FA45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5910F4-FF29-4C2B-B1A4-FB3058AE97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908641-79BC-47DD-8F37-2D0407900D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DD7396-311D-4220-969B-278183CB96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2E1DCB-5FE9-44DA-9ED0-96DE785E31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35269F-68BB-44B5-9329-5E85E04A82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56769A-501B-43D6-B0EE-E9F9867242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DF2855-0FAD-4DF7-8E6C-98B578D31F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F7E7BB-AACE-4C40-A188-69F6B5AEA4D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88018A-20F4-4279-9E7D-07795DA550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4A655B-131A-4F10-972D-2D6A212942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F952C4-4AEB-4409-93F5-EAD96E4262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DD8F11-9C76-499C-B9E2-2E6897B097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A9DF42-B4FF-4961-B8CC-1513FC82C2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04276E-029A-419E-B3AE-AC36E38E6E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11F013-2AE5-4451-A331-299B745BE2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C68769-7B25-4B25-A59E-28DCFFDB6D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CA9CA5-34E8-4F11-BC00-D98250CBC5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F2016E-7F0F-4EEA-9867-5241A59676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21F10C7-C61E-45B9-9657-7796117B017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AB51FE-12B1-4D87-8AC4-363A9551A4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2234867-FAA9-4F27-99C9-395BDDE8143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CAA315-A602-488C-A69A-A7DEC364B3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5B417B-3CC3-4621-9E78-71EBEC742EC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A50F68-5A1A-495D-B02F-1AB8C2EFAD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944E22-B633-421A-A498-A34AE4DF62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6DE217-98D9-4A59-9C98-49362008B2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D4DD3F-70DB-4B7C-B7F1-461C05169E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ED60CD-B9EB-42A5-AC5D-CA81A5E633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F45C17-F2F0-4797-908E-3BDABA3AA7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B883095-9E02-4CBB-B22F-CF3B428356C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840FC2-47E4-4995-B366-09F696ACFF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4CCC6ED-FFD2-4712-A35B-FD10440C599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A1E15C1-865E-470B-BC07-788ED3379C5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EFF832A-736C-4E0F-B653-E499012C6E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EB20C9F-F856-4D6E-B49F-F595DFC50E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8FF604-0FA5-4073-8408-5852122264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5A750AE-CDAC-4B54-B6BA-EB1A6A0C26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05FC627-7E34-4A63-AB4F-12746F1BB2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6202FB-F19C-4EFE-9237-6C2980EA88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DBBC1E-18A8-4DD1-A2DC-C1868B1FD1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3B0126-49FA-44A7-8259-C34BE5A907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2389EB8-24B5-4F14-B0CC-A671BDC59C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1733030-84CD-4850-A847-AEA6F2317B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050EE8C-ADC9-43BE-AB76-2CE1A1E89E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4C29415-E73B-4751-A252-EB36AA85BB8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A0CB1E3-3B39-4D9E-A44B-0BF04EA27C3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82748E3-AD7A-42FD-AFEE-7656CFA18A3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867B121-723D-4546-9B05-646CCF6CF15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251AF68-2398-4025-9525-C1FE8A0962C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6BA537F-D243-460A-9218-F66FE02A34F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EB261C-E821-4882-AC3C-30D01E41DA6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5257D40-2EBF-437E-B8FF-DDC283E1BB8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97DE056-63C0-4F20-B8AE-6E16FEBE195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59C2672-E96E-4C89-AB1D-3C7A80B5E21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3F64BFF-4065-4985-96EB-EF47C5E7F39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E6DEF7A-FE0A-4B79-B61C-68F6241C2FB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33B7067-0F41-4209-96A3-3EEB11E03AA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9A8E13B-D8DE-4721-A174-8818316A5F2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08E48C7-9A74-4BD0-B6CC-DFD4355F9E9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D9FECD2-CFCC-46B1-94CE-7C8A193980C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C1976C3-ADBE-439D-A947-8F8220745D7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FB43B3-3877-4FE3-A0E8-C946BA803B6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6D25168-134F-4D85-B0A4-0452DDB9D90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B817482-4DC9-430D-A668-19851F4207F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2030D18-87A1-4DED-9620-C6CC02CD4B0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4E3AB84-371A-4F51-9716-3402A11B217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4DF6989-3E45-4C5B-A731-E6CFE16B09F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556CF49-81A0-472D-9DA2-15789BD7983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39EA52C-AE29-49DD-892E-5597E6B8AD2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583DE69-C5B1-4E0D-952E-B712AE9DF2BA}"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D5B1816-7BB3-488C-A1B8-4D1B511820B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BFBD099-389B-4F82-BCC8-B423C38E982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A19855-87A2-4ADE-86ED-71C38C52906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5C91EC0-146F-4DCE-9B51-DB4E38F3FE7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E042619-08E5-40E3-AE60-6C27503827B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55C7600-426E-4A74-A84C-F2B3ACE8C72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4EF763D-98A2-4594-822E-FD25F589C48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4A50059-8188-4BE7-9048-28514C5CDE3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83C2C63-3B61-4CCB-B379-6B1EFE603DC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81F11C6-72F1-48F1-B4B0-67CA0A012DA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2C9335F-2C19-4E5B-B5CE-C7E24C92371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9A76D9E-0670-48BA-958F-709DCD9D8B9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7AAFF351-1DAD-475D-A1A9-2EA49AB1D3E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F25652-8A0E-4F2A-B9C8-4D60B0A5A6C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D9A04C9-F0A8-4179-B4D1-75E83BD87D7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7C7DFEC-927C-4063-A4D4-2103BB971EA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7B62AD8-5006-4A1F-8992-4D35AD48F3E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D5D5D4E-32CC-45D4-95CA-D7965F5B26F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A5062C7-0C66-4B1D-9A2E-1DF9809E991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F68C927-A1AC-41C4-943D-453C6C5F668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5041FBF-B31E-486F-B3DE-EC08CDB294A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3D8C8EC-BF0C-4BD1-BC3C-A8F64CE98B0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82F6386-3C8A-42EE-9291-71C65A5826D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43961F8-0772-49B5-94ED-4E52BAD553D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DFCD52-F699-4EAB-8433-8873DBCD97C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302742A-A46A-42DA-AADB-7C8A5F75927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619D1E2-C680-4BAE-8709-A0507CBE757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589F06D-DF51-400C-9586-3C30C96B323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1C3F8FD-E1A5-42D3-8E51-8F094408347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09FE688-D1E8-46FF-9A49-98494139D38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5ADE5AF-902A-4B0E-86C7-FDD7F293ECB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7BE466A-2D5D-4369-8E96-F390C5BEDA6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812E2BA-1662-480A-8F59-B7A3B12FCAF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1F7871D-AE41-49FE-93F3-4E0A4E29C04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EFDC606-8477-4C81-BA26-4D5E304E26E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42F1DC-DC03-4B8B-8CC9-F5ED0B0435B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C886D2C-2DF3-4FFA-88F0-30E8E34B248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53BF0E8-C868-4DC1-8986-1FB5847989E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80557B8-045C-4F77-B3FD-61CAF4398D3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A809051-68C1-477A-84DE-F57628FBA8D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5A4B86F-016E-4E25-9480-31F52A49F71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9BA7D4-0150-4E67-AC1F-025313A853D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03CA2F-F669-40E0-BAB0-3151354179E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736756-E55C-4E57-A7AD-01300A03F70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05DF6A-3C17-41B4-933D-54949B2A9AC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4DD08D-CF5E-4E42-AA64-160B0C598E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F92935-C9ED-44A3-8AA0-01B9F1FB623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C58145-B2F6-44B6-B34B-B0E94352960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D02BAA-5DF3-49B4-A27B-BC3CEDD7763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8DACF6-4C69-44B9-89A0-D26636BC587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037CE2-6392-4FD5-8E6E-5CD941ADB45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17DB79-7BC0-49EF-A751-E4CA8384F13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44B9EC-C0C8-4461-A3C2-29CEDB669F5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9B70E2-AA51-45E7-AB21-31AC34DF0C6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F6FA44-465A-4B23-B647-69BBA564BE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351A82-47B2-4348-86FF-8323C1C8A9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43BEFA-56C4-485E-B530-A421DEA5D9F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sldNum" idx="2"/>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8F160-7DCD-4FAF-BE52-7A56081590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3"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4"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5"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0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0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0" name="PlaceHolder 5"/>
          <p:cNvSpPr>
            <a:spLocks noGrp="1"/>
          </p:cNvSpPr>
          <p:nvPr>
            <p:ph type="sldNum" idx="27"/>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0570-E824-4335-BEF9-805ACE623D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48"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49"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0"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5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3"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4"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5" name="PlaceHolder 5"/>
          <p:cNvSpPr>
            <a:spLocks noGrp="1"/>
          </p:cNvSpPr>
          <p:nvPr>
            <p:ph type="sldNum" idx="30"/>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82FFA-5DA0-41E6-AEB4-EABD846181B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5"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 name="PlaceHolder 3"/>
          <p:cNvSpPr>
            <a:spLocks noGrp="1"/>
          </p:cNvSpPr>
          <p:nvPr>
            <p:ph type="ftr" idx="3"/>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sldNum" idx="4"/>
          </p:nvPr>
        </p:nvSpPr>
        <p:spPr>
          <a:xfrm>
            <a:off x="7384680" y="6248520"/>
            <a:ext cx="12193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A1EB-A6E0-4EE9-A5CA-F79E16D729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9"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0"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1"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4" name="PlaceHolder 3"/>
          <p:cNvSpPr>
            <a:spLocks noGrp="1"/>
          </p:cNvSpPr>
          <p:nvPr>
            <p:ph type="dt" idx="5"/>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5" name="PlaceHolder 4"/>
          <p:cNvSpPr>
            <a:spLocks noGrp="1"/>
          </p:cNvSpPr>
          <p:nvPr>
            <p:ph type="ftr" idx="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6" name="PlaceHolder 5"/>
          <p:cNvSpPr>
            <a:spLocks noGrp="1"/>
          </p:cNvSpPr>
          <p:nvPr>
            <p:ph type="sldNum" idx="7"/>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DE89E-F4DE-4635-876A-EACE0AE752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9" name="PlaceHolder 3"/>
          <p:cNvSpPr>
            <a:spLocks noGrp="1"/>
          </p:cNvSpPr>
          <p:nvPr>
            <p:ph type="dt" idx="8"/>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0" name="PlaceHolder 4"/>
          <p:cNvSpPr>
            <a:spLocks noGrp="1"/>
          </p:cNvSpPr>
          <p:nvPr>
            <p:ph type="ftr" idx="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1" name="PlaceHolder 5"/>
          <p:cNvSpPr>
            <a:spLocks noGrp="1"/>
          </p:cNvSpPr>
          <p:nvPr>
            <p:ph type="sldNum" idx="10"/>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F15F6-F180-4472-BC3A-D3A3E7D1AE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0"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1"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8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4" name="PlaceHolder 3"/>
          <p:cNvSpPr>
            <a:spLocks noGrp="1"/>
          </p:cNvSpPr>
          <p:nvPr>
            <p:ph type="dt" idx="1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5" name="PlaceHolder 4"/>
          <p:cNvSpPr>
            <a:spLocks noGrp="1"/>
          </p:cNvSpPr>
          <p:nvPr>
            <p:ph type="ftr" idx="1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6" name="PlaceHolder 5"/>
          <p:cNvSpPr>
            <a:spLocks noGrp="1"/>
          </p:cNvSpPr>
          <p:nvPr>
            <p:ph type="sldNum" idx="13"/>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8119-B959-4E63-94DE-179A7922AE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2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9" name="PlaceHolder 3"/>
          <p:cNvSpPr>
            <a:spLocks noGrp="1"/>
          </p:cNvSpPr>
          <p:nvPr>
            <p:ph type="dt" idx="14"/>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0" name="PlaceHolder 4"/>
          <p:cNvSpPr>
            <a:spLocks noGrp="1"/>
          </p:cNvSpPr>
          <p:nvPr>
            <p:ph type="ftr" idx="1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1" name="PlaceHolder 5"/>
          <p:cNvSpPr>
            <a:spLocks noGrp="1"/>
          </p:cNvSpPr>
          <p:nvPr>
            <p:ph type="sldNum" idx="16"/>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C7CB-FF16-406C-BEFE-B4C7B97235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9"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0"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1"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74" name="PlaceHolder 3"/>
          <p:cNvSpPr>
            <a:spLocks noGrp="1"/>
          </p:cNvSpPr>
          <p:nvPr>
            <p:ph type="dt" idx="17"/>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5" name="PlaceHolder 4"/>
          <p:cNvSpPr>
            <a:spLocks noGrp="1"/>
          </p:cNvSpPr>
          <p:nvPr>
            <p:ph type="ftr" idx="1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6" name="PlaceHolder 5"/>
          <p:cNvSpPr>
            <a:spLocks noGrp="1"/>
          </p:cNvSpPr>
          <p:nvPr>
            <p:ph type="sldNum" idx="19"/>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550B-5D16-4E35-9C18-41BFF217E8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1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19" name="PlaceHolder 3"/>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0" name="PlaceHolder 4"/>
          <p:cNvSpPr>
            <a:spLocks noGrp="1"/>
          </p:cNvSpPr>
          <p:nvPr>
            <p:ph type="sldNum" idx="21"/>
          </p:nvPr>
        </p:nvSpPr>
        <p:spPr>
          <a:xfrm>
            <a:off x="738036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C7AC-D310-408D-A18E-6FB059DAB2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8"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9"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0"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6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63"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4"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5" name="PlaceHolder 5"/>
          <p:cNvSpPr>
            <a:spLocks noGrp="1"/>
          </p:cNvSpPr>
          <p:nvPr>
            <p:ph type="sldNum" idx="24"/>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4F1B-1B9F-44E7-BAC0-2EDCA4FE2B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KT 420 </a:t>
            </a:r>
            <a:br>
              <a:rPr sz="3600"/>
            </a:br>
            <a:r>
              <a:rPr b="0" lang="en-US" sz="3600" spc="-1" strike="noStrike">
                <a:solidFill>
                  <a:srgbClr val="000000"/>
                </a:solidFill>
                <a:latin typeface="Arial"/>
              </a:rPr>
              <a:t>Contemporary Issues in Marketing</a:t>
            </a:r>
            <a:endParaRPr b="0" lang="en-US" sz="3600" spc="-1" strike="noStrike">
              <a:solidFill>
                <a:srgbClr val="000000"/>
              </a:solidFill>
              <a:latin typeface="Arial"/>
            </a:endParaRPr>
          </a:p>
        </p:txBody>
      </p:sp>
      <p:sp>
        <p:nvSpPr>
          <p:cNvPr id="500"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hapter 1</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arketing in the Contemporary Organization</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marketing functions are dispersed throughout the organization. Today, marketing in many large companies is less of a department and more a diaspora of skills and capabilities spread across and even outside the organizatio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29A2-F1A9-458B-AD22-5C74779F1EF2}"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27" name="PlaceHolder 1"/>
          <p:cNvSpPr>
            <a:spLocks noGrp="1"/>
          </p:cNvSpPr>
          <p:nvPr>
            <p:ph type="title"/>
          </p:nvPr>
        </p:nvSpPr>
        <p:spPr>
          <a:xfrm>
            <a:off x="1523880" y="404640"/>
            <a:ext cx="701064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Future of Marketing’s role in the Organization</a:t>
            </a:r>
            <a:br>
              <a:rPr sz="2400"/>
            </a:br>
            <a:r>
              <a:rPr b="1" lang="en-US" sz="1600" spc="-1" strike="noStrike">
                <a:solidFill>
                  <a:srgbClr val="3c7777"/>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7777"/>
                </a:solidFill>
                <a:latin typeface="Arial"/>
              </a:rPr>
              <a:t>What do Consumers think of Marketing?</a:t>
            </a:r>
            <a:endParaRPr b="0" lang="en-US" sz="2800" spc="-1" strike="noStrike">
              <a:solidFill>
                <a:srgbClr val="000000"/>
              </a:solidFill>
              <a:latin typeface="Arial"/>
            </a:endParaRPr>
          </a:p>
        </p:txBody>
      </p:sp>
      <p:sp>
        <p:nvSpPr>
          <p:cNvPr id="529" name=""/>
          <p:cNvSpPr txBox="1"/>
          <p:nvPr/>
        </p:nvSpPr>
        <p:spPr>
          <a:xfrm>
            <a:off x="684360" y="1905120"/>
            <a:ext cx="785016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purpose of marketing is to serve customers, so their views about marketing need attentio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by Yankelovich (cited in Sheth and Sisodia, 2006) says that 60% respondents had negative views about advertising and marketing activiti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ki and Etzel (2005) observed that out of four marketing activities, product quality carries more importance in influencing customers, followed by price, retail service and advertising. </a:t>
            </a:r>
            <a:endParaRPr b="0" lang="en-US" sz="2400" spc="-1" strike="noStrike">
              <a:solidFill>
                <a:srgbClr val="000000"/>
              </a:solidFill>
              <a:latin typeface="Arial"/>
            </a:endParaRPr>
          </a:p>
        </p:txBody>
      </p:sp>
      <p:sp>
        <p:nvSpPr>
          <p:cNvPr id="530"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BB3EE-3237-4F17-8BE9-5CC32DE6783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971280" y="1700280"/>
            <a:ext cx="74912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Customers are positive about creativity, fun, humorous advertising and attractive peopl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On the negative side consumers feel marketers are  lying, deception, deceitful, annoying, manipulating, gimmicking, exaggerating, invading, intruding and brainwashing.</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In terms of marketing practices telemarketing, online pop-up advertisements and junk mail were viewed most negativel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B118-95DC-4218-AD8F-9E50AA83E6B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33" name="PlaceHolder 1"/>
          <p:cNvSpPr>
            <a:spLocks noGrp="1"/>
          </p:cNvSpPr>
          <p:nvPr>
            <p:ph type="title"/>
          </p:nvPr>
        </p:nvSpPr>
        <p:spPr>
          <a:xfrm>
            <a:off x="1523880" y="404640"/>
            <a:ext cx="701064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What do Consumers think of Marketing?</a:t>
            </a:r>
            <a:br>
              <a:rPr sz="2400"/>
            </a:br>
            <a:r>
              <a:rPr b="1" lang="en-US" sz="1600" spc="-1" strike="noStrike">
                <a:solidFill>
                  <a:srgbClr val="3c7777"/>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7777"/>
                </a:solidFill>
                <a:latin typeface="Arial"/>
              </a:rPr>
              <a:t>Doing Marketing in a Different Way…</a:t>
            </a:r>
            <a:endParaRPr b="0" lang="en-US" sz="2800" spc="-1" strike="noStrike">
              <a:solidFill>
                <a:srgbClr val="000000"/>
              </a:solidFill>
              <a:latin typeface="Arial"/>
            </a:endParaRPr>
          </a:p>
        </p:txBody>
      </p:sp>
      <p:sp>
        <p:nvSpPr>
          <p:cNvPr id="535" name=""/>
          <p:cNvSpPr txBox="1"/>
          <p:nvPr/>
        </p:nvSpPr>
        <p:spPr>
          <a:xfrm>
            <a:off x="1523880" y="1905120"/>
            <a:ext cx="7010640" cy="4114800"/>
          </a:xfrm>
          <a:prstGeom prst="rect">
            <a:avLst/>
          </a:prstGeom>
          <a:noFill/>
          <a:ln w="0">
            <a:noFill/>
          </a:ln>
        </p:spPr>
        <p:txBody>
          <a:bodyPr anchor="t">
            <a:normAutofit/>
          </a:bodyPr>
          <a:p>
            <a:pPr marL="514440" indent="-514440">
              <a:lnSpc>
                <a:spcPct val="9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ill the Scholarship-Practitioner gap in marketing:</a:t>
            </a:r>
            <a:r>
              <a:rPr b="0" lang="en-US" sz="2200" spc="-1" strike="noStrike">
                <a:solidFill>
                  <a:srgbClr val="000000"/>
                </a:solidFill>
                <a:latin typeface="Times New Roman"/>
                <a:ea typeface="Times New Roman"/>
              </a:rPr>
              <a:t> Scholars should broaden their conception of practitioner audience, to embrace not only marketing but Strategic Management, Operations, Supply Chain, HR, Finance etc. The concept of ‘customer focus’ and ‘competing through service’ should be adapted by all business functions.</a:t>
            </a:r>
            <a:endParaRPr b="0" lang="en-US" sz="2200" spc="-1" strike="noStrike">
              <a:solidFill>
                <a:srgbClr val="000000"/>
              </a:solidFill>
              <a:latin typeface="Arial"/>
            </a:endParaRPr>
          </a:p>
          <a:p>
            <a:pPr marL="514440" indent="-514440">
              <a:lnSpc>
                <a:spcPct val="9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ruitful partnership between academics and business leaders: </a:t>
            </a:r>
            <a:r>
              <a:rPr b="0" lang="en-US" sz="2200" spc="-1" strike="noStrike">
                <a:solidFill>
                  <a:srgbClr val="000000"/>
                </a:solidFill>
                <a:latin typeface="Times New Roman"/>
                <a:ea typeface="Times New Roman"/>
              </a:rPr>
              <a:t>Business leaders should reflect on the role of marketing in their organizations. They can give insights of challenges they face, and ways in which marketing is affecting their businesses.</a:t>
            </a:r>
            <a:endParaRPr b="0" lang="en-US" sz="2200" spc="-1" strike="noStrike">
              <a:solidFill>
                <a:srgbClr val="000000"/>
              </a:solidFill>
              <a:latin typeface="Arial"/>
            </a:endParaRPr>
          </a:p>
        </p:txBody>
      </p:sp>
      <p:sp>
        <p:nvSpPr>
          <p:cNvPr id="536"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CE2BC-2BAE-455D-95BB-23DCA6C249B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1523880" y="1904760"/>
            <a:ext cx="7010640" cy="2460600"/>
          </a:xfrm>
          <a:prstGeom prst="rect">
            <a:avLst/>
          </a:prstGeom>
          <a:noFill/>
          <a:ln w="0">
            <a:noFill/>
          </a:ln>
        </p:spPr>
        <p:txBody>
          <a:bodyPr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reate systems to bring the customer closer: </a:t>
            </a:r>
            <a:r>
              <a:rPr b="0" lang="en-US" sz="2400" spc="-1" strike="noStrike">
                <a:solidFill>
                  <a:srgbClr val="000000"/>
                </a:solidFill>
                <a:latin typeface="Times New Roman"/>
                <a:ea typeface="Times New Roman"/>
              </a:rPr>
              <a:t>Systems to create mutual value, rather than directing the creation of value by consumer alone. Internet has resulted in ‘do it yourself’ form of marketing where middlemen are eliminated. E.g. eBay, online marketing, e-payment etc.</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AC00-2D25-4220-9325-80CD3221C21E}"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39" name="PlaceHolder 1"/>
          <p:cNvSpPr>
            <a:spLocks noGrp="1"/>
          </p:cNvSpPr>
          <p:nvPr>
            <p:ph type="title"/>
          </p:nvPr>
        </p:nvSpPr>
        <p:spPr>
          <a:xfrm>
            <a:off x="1523880" y="404640"/>
            <a:ext cx="701064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Doing Marketing in a different way?</a:t>
            </a:r>
            <a:br>
              <a:rPr sz="2400"/>
            </a:br>
            <a:r>
              <a:rPr b="1" lang="en-US" sz="1600" spc="-1" strike="noStrike">
                <a:solidFill>
                  <a:srgbClr val="3c7777"/>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bjective</a:t>
            </a:r>
            <a:endParaRPr b="0" lang="en-US" sz="4200" spc="-1" strike="noStrike">
              <a:solidFill>
                <a:srgbClr val="000000"/>
              </a:solidFill>
              <a:latin typeface="Arial"/>
            </a:endParaRPr>
          </a:p>
        </p:txBody>
      </p:sp>
      <p:sp>
        <p:nvSpPr>
          <p:cNvPr id="502" name=""/>
          <p:cNvSpPr txBox="1"/>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current debates about the nature of the marketing role in contemporary organization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 a background context for the specific topics that will be discussed in future chapter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 topics that currently impact the way marketing is researched and practiced</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3"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49C8F-9FF1-4827-A72E-69AAE1D4164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547640" y="620280"/>
            <a:ext cx="7010640" cy="71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Definitions of Marketing: Critique/Analysis</a:t>
            </a:r>
            <a:endParaRPr b="0" lang="en-US" sz="2400" spc="-1" strike="noStrike">
              <a:solidFill>
                <a:srgbClr val="000000"/>
              </a:solidFill>
              <a:latin typeface="Arial"/>
            </a:endParaRPr>
          </a:p>
        </p:txBody>
      </p:sp>
      <p:sp>
        <p:nvSpPr>
          <p:cNvPr id="505" name=""/>
          <p:cNvSpPr txBox="1"/>
          <p:nvPr/>
        </p:nvSpPr>
        <p:spPr>
          <a:xfrm>
            <a:off x="394920" y="1905120"/>
            <a:ext cx="81392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as a phenomenon has changed significantly over the last several years.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ields of study have emerged such as relationship marketing, services marketing and the network perspective on business-to-business marketing.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mpts have been made to redefine both the terminology and the environment of marketing.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lars are concerned about the direction in which marketing conceptualizations are moving (Wilkie, 2005; Gronroos, 2006).</a:t>
            </a:r>
            <a:endParaRPr b="0" lang="en-US" sz="2400" spc="-1" strike="noStrike">
              <a:solidFill>
                <a:srgbClr val="000000"/>
              </a:solidFill>
              <a:latin typeface="Arial"/>
            </a:endParaRPr>
          </a:p>
        </p:txBody>
      </p:sp>
      <p:sp>
        <p:nvSpPr>
          <p:cNvPr id="506"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D01C-44C3-457A-AD8B-387B868246D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826920" y="1905120"/>
            <a:ext cx="7848720" cy="3395520"/>
          </a:xfrm>
          <a:prstGeom prst="rect">
            <a:avLst/>
          </a:prstGeom>
          <a:noFill/>
          <a:ln w="0">
            <a:noFill/>
          </a:ln>
        </p:spPr>
        <p:txBody>
          <a:bodyPr anchor="t">
            <a:normAutofit/>
          </a:bodyPr>
          <a:p>
            <a:pPr marL="228600" indent="-22860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ral issues raised for the definition of Marketing by AMA (2004):</a:t>
            </a:r>
            <a:endParaRPr b="0" lang="en-US" sz="2600" spc="-1" strike="noStrike">
              <a:solidFill>
                <a:srgbClr val="000000"/>
              </a:solidFill>
              <a:latin typeface="Arial"/>
            </a:endParaRPr>
          </a:p>
          <a:p>
            <a:pPr marL="22860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Marketing is an organizational function and a set of business processes for creating, communicating, and delivering value to customers and for managing customer relationships in ways that benefit the organization and its stakeholders.”</a:t>
            </a:r>
            <a:endParaRPr b="0" lang="en-US" sz="2800" spc="-1" strike="noStrike">
              <a:solidFill>
                <a:srgbClr val="000000"/>
              </a:solidFill>
              <a:latin typeface="Arial"/>
            </a:endParaRPr>
          </a:p>
        </p:txBody>
      </p:sp>
      <p:sp>
        <p:nvSpPr>
          <p:cNvPr id="508"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1FF24-AC87-45D9-BB3B-B3FAADD16A0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09" name="Rectangle 5"/>
          <p:cNvSpPr/>
          <p:nvPr/>
        </p:nvSpPr>
        <p:spPr>
          <a:xfrm>
            <a:off x="1763640" y="620640"/>
            <a:ext cx="56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Definitions of Marketing: Critique/Analysis</a:t>
            </a:r>
            <a:br>
              <a:rPr sz="1800"/>
            </a:br>
            <a:r>
              <a:rPr b="0" lang="en-US" sz="1400" spc="-1" strike="noStrike">
                <a:solidFill>
                  <a:srgbClr val="336666"/>
                </a:solidFill>
                <a:latin typeface="Arial"/>
              </a:rPr>
              <a:t>Continued………….</a:t>
            </a:r>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1187280" y="170028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concerns were related to its conception of the role of marketing within the organization, the role of consumers within the marketing relation and the wider societal role of marketing.</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was considered to view </a:t>
            </a:r>
            <a:r>
              <a:rPr b="0" lang="en-US" sz="2000" spc="-1" strike="noStrike" u="sng">
                <a:solidFill>
                  <a:srgbClr val="000000"/>
                </a:solidFill>
                <a:uFillTx/>
                <a:latin typeface="Arial"/>
              </a:rPr>
              <a:t>marketing as one function amongst others</a:t>
            </a:r>
            <a:r>
              <a:rPr b="0" lang="en-US" sz="2000" spc="-1" strike="noStrike">
                <a:solidFill>
                  <a:srgbClr val="000000"/>
                </a:solidFill>
                <a:latin typeface="Arial"/>
              </a:rPr>
              <a:t>, and that such a conception of marketing is ill equipped to deal with new forms of relationships with customers. (Gronroos, 2006)</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sumers are defined to have value delivered to them </a:t>
            </a:r>
            <a:r>
              <a:rPr b="0" lang="en-US" sz="2000" spc="-1" strike="noStrike">
                <a:solidFill>
                  <a:srgbClr val="000000"/>
                </a:solidFill>
                <a:latin typeface="Arial"/>
              </a:rPr>
              <a:t>although this is becomes a social problem  as all marketers simply propose too much consumption for each consumer. (Wilkie, 2005, p. 8).</a:t>
            </a:r>
            <a:endParaRPr b="0" lang="en-US" sz="2000" spc="-1" strike="noStrike">
              <a:solidFill>
                <a:srgbClr val="000000"/>
              </a:solidFill>
              <a:latin typeface="Arial"/>
            </a:endParaRPr>
          </a:p>
        </p:txBody>
      </p:sp>
      <p:sp>
        <p:nvSpPr>
          <p:cNvPr id="511"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284A-C3F6-4D2D-BC22-1DAFB679839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12" name="Rectangle 5"/>
          <p:cNvSpPr/>
          <p:nvPr/>
        </p:nvSpPr>
        <p:spPr>
          <a:xfrm>
            <a:off x="1763640" y="620640"/>
            <a:ext cx="56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Definitions of Marketing: Critique/Analysis</a:t>
            </a:r>
            <a:br>
              <a:rPr sz="1800"/>
            </a:br>
            <a:r>
              <a:rPr b="0" lang="en-US" sz="1400" spc="-1" strike="noStrike">
                <a:solidFill>
                  <a:srgbClr val="336666"/>
                </a:solidFill>
                <a:latin typeface="Arial"/>
              </a:rPr>
              <a:t>Continued………….</a:t>
            </a:r>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1547640" y="148428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rketing system is structured as if </a:t>
            </a:r>
            <a:r>
              <a:rPr b="0" lang="en-US" sz="2100" spc="-1" strike="noStrike" u="sng">
                <a:solidFill>
                  <a:srgbClr val="000000"/>
                </a:solidFill>
                <a:uFillTx/>
                <a:latin typeface="Arial"/>
              </a:rPr>
              <a:t>finance is not important </a:t>
            </a:r>
            <a:r>
              <a:rPr b="0" lang="en-US" sz="2100" spc="-1" strike="noStrike">
                <a:solidFill>
                  <a:srgbClr val="000000"/>
                </a:solidFill>
                <a:latin typeface="Arial"/>
              </a:rPr>
              <a:t>for the consumer.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Delivery of value to customers</a:t>
            </a:r>
            <a:r>
              <a:rPr b="0" lang="en-US" sz="2100" spc="-1" strike="noStrike">
                <a:solidFill>
                  <a:srgbClr val="000000"/>
                </a:solidFill>
                <a:latin typeface="Arial"/>
              </a:rPr>
              <a:t> also ignores their role in actively producing value (Vargo and Lusch, 2004). Value is considered to  emerge both in interactions between</a:t>
            </a:r>
            <a:r>
              <a:rPr b="0" i="1" lang="en-US" sz="2100" spc="-1" strike="noStrike">
                <a:solidFill>
                  <a:srgbClr val="000000"/>
                </a:solidFill>
                <a:latin typeface="Arial"/>
              </a:rPr>
              <a:t> </a:t>
            </a:r>
            <a:r>
              <a:rPr b="0" lang="en-US" sz="2100" spc="-1" strike="noStrike">
                <a:solidFill>
                  <a:srgbClr val="000000"/>
                </a:solidFill>
                <a:latin typeface="Arial"/>
              </a:rPr>
              <a:t>the consumer and supplier, and also through a series of subsequent consumption practices by consumer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MA (2004) definition </a:t>
            </a:r>
            <a:r>
              <a:rPr b="0" lang="en-US" sz="2100" spc="-1" strike="noStrike" u="sng">
                <a:solidFill>
                  <a:srgbClr val="000000"/>
                </a:solidFill>
                <a:uFillTx/>
                <a:latin typeface="Arial"/>
              </a:rPr>
              <a:t>only captures the role of the marketing manager</a:t>
            </a:r>
            <a:r>
              <a:rPr b="0" lang="en-US" sz="2100" spc="-1" strike="noStrike">
                <a:solidFill>
                  <a:srgbClr val="000000"/>
                </a:solidFill>
                <a:latin typeface="Arial"/>
              </a:rPr>
              <a:t>, and ignores the wider role of marketing within society.</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definition of marketing that embraces a macro-marketing perspective where marketers engage with the ‘big issues’ in society.</a:t>
            </a:r>
            <a:endParaRPr b="0" lang="en-US" sz="2100" spc="-1" strike="noStrike">
              <a:solidFill>
                <a:srgbClr val="000000"/>
              </a:solidFill>
              <a:latin typeface="Arial"/>
            </a:endParaRPr>
          </a:p>
        </p:txBody>
      </p:sp>
      <p:sp>
        <p:nvSpPr>
          <p:cNvPr id="514"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7E93-9294-4D3B-812F-CB3BBFE408A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15" name="Rectangle 1"/>
          <p:cNvSpPr/>
          <p:nvPr/>
        </p:nvSpPr>
        <p:spPr>
          <a:xfrm>
            <a:off x="1763640" y="620640"/>
            <a:ext cx="56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Definitions of Marketing: Critique/Analysis</a:t>
            </a:r>
            <a:br>
              <a:rPr sz="1800"/>
            </a:br>
            <a:r>
              <a:rPr b="0" lang="en-US" sz="1400" spc="-1" strike="noStrike">
                <a:solidFill>
                  <a:srgbClr val="336666"/>
                </a:solidFill>
                <a:latin typeface="Arial"/>
              </a:rPr>
              <a:t>Continued………….</a:t>
            </a:r>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1042920" y="1905120"/>
            <a:ext cx="7491600" cy="4114800"/>
          </a:xfrm>
          <a:prstGeom prst="rect">
            <a:avLst/>
          </a:prstGeom>
          <a:noFill/>
          <a:ln w="0">
            <a:noFill/>
          </a:ln>
        </p:spPr>
        <p:txBody>
          <a:bodyPr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to debate generated by earlier 2004 definition of marketing, the AMA produced a second updated version in 2007, as below:</a:t>
            </a:r>
            <a:endParaRPr b="0" lang="en-US" sz="2800" spc="-1" strike="noStrike">
              <a:solidFill>
                <a:srgbClr val="000000"/>
              </a:solidFill>
              <a:latin typeface="Arial"/>
            </a:endParaRPr>
          </a:p>
          <a:p>
            <a:pPr lvl="1" marL="45720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a:t>
            </a:r>
            <a:r>
              <a:rPr b="0" i="1" lang="en-US" sz="2400" spc="-1" strike="noStrike">
                <a:solidFill>
                  <a:srgbClr val="000000"/>
                </a:solidFill>
                <a:latin typeface="Arial"/>
              </a:rPr>
              <a:t>Marketing is the activity, set of institutions, and processes for creating, communicating, delivering, and exchanging offerings that have value for customers, clients, partners, and society at larg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F889-C030-4B3F-A3CF-630F114DCFE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18" name="Rectangle 4"/>
          <p:cNvSpPr/>
          <p:nvPr/>
        </p:nvSpPr>
        <p:spPr>
          <a:xfrm>
            <a:off x="1763640" y="620640"/>
            <a:ext cx="56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Definitions of Marketing: Critique/Analysis</a:t>
            </a:r>
            <a:br>
              <a:rPr sz="1800"/>
            </a:br>
            <a:r>
              <a:rPr b="0" lang="en-US" sz="1400" spc="-1" strike="noStrike">
                <a:solidFill>
                  <a:srgbClr val="336666"/>
                </a:solidFill>
                <a:latin typeface="Arial"/>
              </a:rPr>
              <a:t>Continued………….</a:t>
            </a:r>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404640"/>
            <a:ext cx="701064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Future of Marketing’s role in the Organization</a:t>
            </a:r>
            <a:br>
              <a:rPr sz="2400"/>
            </a:br>
            <a:endParaRPr b="0" lang="en-US" sz="2400" spc="-1" strike="noStrike">
              <a:solidFill>
                <a:srgbClr val="000000"/>
              </a:solidFill>
              <a:latin typeface="Arial"/>
            </a:endParaRPr>
          </a:p>
        </p:txBody>
      </p:sp>
      <p:sp>
        <p:nvSpPr>
          <p:cNvPr id="520" name=""/>
          <p:cNvSpPr txBox="1"/>
          <p:nvPr/>
        </p:nvSpPr>
        <p:spPr>
          <a:xfrm>
            <a:off x="900000" y="1700280"/>
            <a:ext cx="7586640" cy="4114800"/>
          </a:xfrm>
          <a:prstGeom prst="rect">
            <a:avLst/>
          </a:prstGeom>
          <a:noFill/>
          <a:ln w="0">
            <a:noFill/>
          </a:ln>
        </p:spPr>
        <p:txBody>
          <a:bodyPr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Arial"/>
              </a:rPr>
              <a:t>In a survey of 30 large US companies more than 30 per cent indicated that they spend less than 10 per cent of their time discussing marketing or customer related issues at board level. (McGovern et al., 2004)</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ing the closure of corporate marketing departments, companies have plugged the gap by creating the position of Chief Marketing Officer (CMO).</a:t>
            </a:r>
            <a:endParaRPr b="0" lang="en-US" sz="2800" spc="-1" strike="noStrike">
              <a:solidFill>
                <a:srgbClr val="000000"/>
              </a:solidFill>
              <a:latin typeface="Arial"/>
            </a:endParaRPr>
          </a:p>
        </p:txBody>
      </p:sp>
      <p:sp>
        <p:nvSpPr>
          <p:cNvPr id="521"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2B8C-B6CD-4CFF-B776-47F26439F17E}"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rns about the high turnover of these positions because: Position is often ill-defined, little formal authority, corporate expectations are frequently unrealistic</a:t>
            </a:r>
            <a:endParaRPr b="0" lang="en-US" sz="2300" spc="-1" strike="noStrike">
              <a:solidFill>
                <a:srgbClr val="000000"/>
              </a:solidFill>
              <a:latin typeface="Arial"/>
            </a:endParaRPr>
          </a:p>
          <a:p>
            <a:pPr marL="343080" indent="-343080">
              <a:lnSpc>
                <a:spcPct val="8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ension between CMOs and other board members due to the creative approach taken by successful marketers, which is at odds with the more structured and disciplined approach required in other parts of the organization.</a:t>
            </a:r>
            <a:endParaRPr b="0" lang="en-US" sz="2300" spc="-1" strike="noStrike">
              <a:solidFill>
                <a:srgbClr val="000000"/>
              </a:solidFill>
              <a:latin typeface="Arial"/>
            </a:endParaRPr>
          </a:p>
          <a:p>
            <a:pPr marL="343080" indent="-343080">
              <a:lnSpc>
                <a:spcPct val="8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difficulties in measuring marketing outcomes mean that marketers struggle to demonstrate returns on organizational investments in marketing programs.</a:t>
            </a:r>
            <a:endParaRPr b="0" lang="en-US" sz="2300" spc="-1" strike="noStrike">
              <a:solidFill>
                <a:srgbClr val="000000"/>
              </a:solidFill>
              <a:latin typeface="Arial"/>
            </a:endParaRPr>
          </a:p>
        </p:txBody>
      </p:sp>
      <p:sp>
        <p:nvSpPr>
          <p:cNvPr id="523"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7960-C8FA-4149-8CC8-56D6F99C851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24" name="PlaceHolder 1"/>
          <p:cNvSpPr>
            <a:spLocks noGrp="1"/>
          </p:cNvSpPr>
          <p:nvPr>
            <p:ph type="title"/>
          </p:nvPr>
        </p:nvSpPr>
        <p:spPr>
          <a:xfrm>
            <a:off x="1523880" y="404640"/>
            <a:ext cx="701064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Future of Marketing’s role in the Organization</a:t>
            </a:r>
            <a:br>
              <a:rPr sz="2400"/>
            </a:br>
            <a:r>
              <a:rPr b="1" lang="en-US" sz="1600" spc="-1" strike="noStrike">
                <a:solidFill>
                  <a:srgbClr val="3c7777"/>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06:49:52Z</dcterms:created>
  <dc:creator>Yasser Mahfooz</dc:creator>
  <dc:description/>
  <dc:language>en-US</dc:language>
  <cp:lastModifiedBy>User</cp:lastModifiedBy>
  <cp:lastPrinted>2013-09-24T21:01:33Z</cp:lastPrinted>
  <dcterms:modified xsi:type="dcterms:W3CDTF">2014-02-03T10:21:42Z</dcterms:modified>
  <cp:revision>351</cp:revision>
  <dc:subject/>
  <dc:title>Slide 1</dc:title>
</cp:coreProperties>
</file>