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190C-48FD-433F-A16E-0957EE64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431A-6F5D-4169-8572-8AB4C07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9B2B-610B-49EE-BD51-3B0F8DA6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8C49-3165-4FDB-9FB3-82F6B3AD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702D-3DF7-4C26-AE03-724BA76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9D18-4C33-4766-8E4A-30F822B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8FE9-4570-4B95-90C1-78AF9B8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9D25-6C61-41E3-AF36-B9D92B0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781F-7143-4A08-82EF-3913A18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7178-DEE7-4B83-ACF2-9DD8D71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8351-1EFB-4744-AF3A-50EAA53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605B-0456-4379-976A-986298C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1B3-035C-4B6E-BECD-60E343938A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MKT 420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ontemporary Issues in Marketing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Chapter 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arly Developments in Marke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DEMAND STIMULATION AND THE ‘DUAL CORE ’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MARKETING CONCEPT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 ,1958 has said that “ companies produce products which a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eeded by the people or demanded by customers, rather companies als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y to produce something which customers feel they in fact do not ne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m, but customers are educated that there is a need created by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hich realizes the customer to buy the product” this is term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s dual core marketing concep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dual core concept resulted in marketing research rather marke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which was being practiced till then,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altman and Burger ,197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o so far as so identify a shift in the way ‘market research ’ wa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anslated into ‘marketing research ’. This change appears to have be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ed previously by Engel, who discussed the need to: ( cont : next slid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“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stinguish between marketing research and market research 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basis that the latter applies only to fact-finding, with perhap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me analysis of a single-market or marketing area, whereas the broad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rm includes not only the collection of facts about particular market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t about marketing organizations, marketing methods and policies,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alysis of the facts, and the deduction of appropriate conclusions there-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rom “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WORLD WAR II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uring World War II industry massively expanded on the back of 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quirements of the Army, Navy and other military bodies sinc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pective governments were biggest buyers what industry produc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aging from food, medicine, automobiles, electronic equipment etc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fter the end of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War II industry was left with huge capacities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duction facilities in USA, Europe and Japan which were going under-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utiliz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o cater to this situation where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said it was the fear tha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y losing site of consumers that really motivated firms to begin to hi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vailable marketing research agenci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91520"/>
            <a:ext cx="9144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2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950s witnessed the increased use of psychological and psychoanalyt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ory and techniques in marketing research. Consultants such as Erne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chter, who were well versed in such methods, claimed to be able to ta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to consumer motivations beyond those available to questionnai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ies, drawing out subconscious motives that were influential force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ructuring consumer behavio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is type of ‘motivation research ’ was interested in understanding  wh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s bought specific products and tried to understand consu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ying motives and behaviour through a range of qualitative researc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roaches, including in-depth interviews and ethnograph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BEHAVIOURAL REVOLUTION IN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ORY AND PRACTICE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assarjian, 1989 says that the revolutionary marketing theo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elopment using behavioural sciences as bases started with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itiatives of Ford and Carnegie foundation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artels, 1988 says t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ese two foundations have pushed 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agemen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ducators were pushed to earn PhD degrees and to ‘upgrade’ thei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skills, mainly in terms of improving their ability to manipul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plex mathematics. It was the funding provided by the For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undation that ‘ served to usher in a new age for marketing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this Foundations financially supported a whole rang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f textbooks, seminars and, training programmes that diffused thei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tific vision for business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0700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4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ernan,1995a, 1995b : Research had to be objective, scientific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rigorous,  Academic journals soon reflected this emphasi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ably the newly founded </a:t>
            </a:r>
            <a:r>
              <a:rPr b="0" i="1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urnal of Marketing Research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 published research paper in this journals had to contain so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ement of Mathematical symbolism or involve ‘laborato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experimental design, computer simulation, operation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mathematical models, and high powered statistic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odock, 1991 : industry felt the behavioural revolution did not provid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uch hoped for insights into market and consumer behaviou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chnical sophistication does not necessarily guarantee success. To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y researchers are tied up with their numbers, statistics and rat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ales – all of which have their place – but they lose sight of the reas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r it all, which is insight into the consum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‘IRRELEVANCE ’ OF MARKETING SCIENCE: MARKETING AND THE MILITARY –INDUSTRIAL COMPLEX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awson, 1971 ; Wilkie and Moore, 2003, 2006 ; Shapiro, 2006 )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ritics rallied against the growing irrelevance of ‘market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ce ’, which was perceived to be ignoring the impact of marketing 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ciety, focusing instead exclusively on issues related to managerial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m competitiveness.  Observers called for marketing intellectuals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ote attention to research issues that were central to contemporar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olicy debates; or to study the impact of marketing on society, and vic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versa – that is, the study of macro-market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ovement away from a preoccupation with managerial, technica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sues, was instigated by younger marketing academics rebelling agains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lignment of marketing with the ‘military –industrial complex ’ (i.e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ig business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Cambria"/>
              </a:rPr>
              <a:t>ENGAGING WITH SOCIETY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Lib, 2007 : in view of the vociferous criticism that took place in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ges of the </a:t>
            </a: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Journal of Public Policy and Marketing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lsewhere, marketing has been redefined in such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 way that it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impact on society is taken into account. The latest defini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f marketing calls </a:t>
            </a: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‘marketing ’ ‘the activity, set of institutions fo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creating, communicating, delivering, and exchanging offerings tha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0000"/>
                </a:solidFill>
                <a:latin typeface="Calibri"/>
              </a:rPr>
              <a:t>have value for customers, clients, partners, and society at large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In line with this broadening of the scholarly and definitional focu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f marketing, many researchers have, since the mid to l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1980s, engaged in research that studies ‘people’, not customer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or consumers necessaril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E EARLY DEVELOPMENT OF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OUGHT: A COMPLEX BEGINNING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in his study revealed that the earliest record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nglish language use of the term “Marketing” as a nou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was in 1561. ( Shaw, 1995 , p. 16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found that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n 1880 cookery book called ‘Mi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rloa’s New Cookbook and Marketing Guide ’ had discuss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, In this cookery book, Shaw tells us, the ter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 ’ related to ‘buying and selling activities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Robert Bartels, 1988 told the term ‘marketing ’ was first used ‘as 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noun ’, that is, as a label for a particular practice, someti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between 1906 and 1911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The American Encyclopaedic Dictionary (1896) defin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ing as “the act or process of transacting busines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s ” as well as “goods offered for sale and purchased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century later, Webster’s Collegiate Dictionary (199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continues to define marketing as “the act or process of sell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or purchasing in a market ”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FIRST COURSES ON MARKETING IN THE EARLY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WENTIETH CENTURY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 know that the earliest courses were delivered in 190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t the Universities of Michigan, California and Illinois. These wer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 called ‘marketing ’ per se, but labelled with a variety of oth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ames such as ‘Distributive and Regulative Industries ’, ‘trade’ o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merce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course in marketing offered at the University of Michigan b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r. E.D. Jones in 1902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n a more theoretical level, there is some agreement in the histor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iterature that marketing developed as a form of ‘applied economics ’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cf. Cassels, 1936 ; Jones and Monieson, 1990 ). Scholars sa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lied economics’ because early and later marketing thought of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tested the assumptions of classical and neoclassical economic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675e47"/>
                </a:solidFill>
                <a:latin typeface="Cambria"/>
              </a:rPr>
              <a:t>STUDYING THE MARKETPLACE</a:t>
            </a: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scholars required material for their own teaching, they needed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y marketing related topics in real lif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was studied products from their point of production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ufacture, all the way through to their distribution to the ultim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ld,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1941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for instance, describes a number of his own researc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jects where he ‘personally followed shipments of butter and eggs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ther commodities from the country shipper in Minnesota through th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holesalers, jobbers, and retailers to New York, Chicago, and oth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ities. He analyzed each item of expense involved in this passag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rough the channels of trade ’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448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9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nes and Monieson, 2008 had opined that marketing conceptualiz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volved the processes involved in moving a product from its point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gin – where it was harvested, for example – to the final consumer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as a result of scholarly and public concern over marketplace efficienc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what was called ‘the marketing proble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projects undertaken at the time (1910–1920), asked question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bout whether there were any elements in the supply chain that could b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iminated to save costs. In other words, were certain intermediari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middlemen) actually adding any value to a product, such as getting it to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right place, at the right time, in a satisfactory condition, or did they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imply only add further cost to the produc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cost factor was notably important to people living in the late 1920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1930s US, as the Great Depression left many people unemployed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acking the financial wherewithal and ability to search for the highes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quality, cheapest products; so any efficiency savings that could be mad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 terms of the distribution of products was considered a very importan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ubjec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place was no longer a sellers ’ market, business faced a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t situation that it had not confronted on a large scale previously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mand was less than supply hence marketers needed to underst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 behaviour for which marketing research evolved. Due to ev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rowing competition from 1950 marketers started focusing 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dvertising and other promotions took over the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THE MARKETING CONCEPT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55:58Z</dcterms:created>
  <dc:creator>krandheer</dc:creator>
  <dc:description/>
  <dc:language>en-US</dc:language>
  <cp:lastModifiedBy>User</cp:lastModifiedBy>
  <dcterms:modified xsi:type="dcterms:W3CDTF">2014-02-03T10:25:26Z</dcterms:modified>
  <cp:revision>106</cp:revision>
  <dc:subject/>
  <dc:title>Slide 1</dc:title>
</cp:coreProperties>
</file>