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DB76-FBEC-403B-AA03-73F17178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D09A-EF04-4534-B356-3BB84E01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9ACD-7A69-4E0A-97DD-AF786DD9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0A4C-B9BF-4D5A-AE15-D6E41C44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B684-6F7F-43E6-937B-66364A3E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41B4-405A-4C00-A4E4-FF462249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F7B8-A89E-414D-80D3-B94B134B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2D0B-FF7F-40A8-B796-1EB39D47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525F-1287-42EC-94CC-4969CDC8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38FC-BB63-4917-94B1-3F917BC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6299-77AC-45C8-86D0-2E7103A5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DB50-9B02-4DC8-90EE-F4F82719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A173-BE48-4E04-8863-5D0579920B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MKT 420 </a:t>
            </a:r>
            <a:br>
              <a:rPr sz="4000"/>
            </a:b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Contemporary Issues in Marketing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Chapter 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Early Developments in Marke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DEMAND STIMULATION AND THE ‘DUAL CORE ’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MARKETING CONCEPT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 ,1958 has said that “ companies produce products which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eeded by the people or demanded by customers, rather companies also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ry to produce something which customers feel they in fact do not ne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m, but customers are educated that there is a need created by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hich realizes the customer to buy the product” this is term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s dual core marketing concep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dual core concept resulted in marketing research rather marke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which was being practiced till then,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altman and Burger ,197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go so far as so identify a shift in the way ‘market research ’ wa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ranslated into ‘marketing research ’. This change appears to have be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ed previously by Engel, who discussed the need to: ( cont : next slid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“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istinguish between marketing research and market research 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basis that the latter applies only to fact-finding, with perhap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ome analysis of a single-market or marketing area, whereas the broad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erm includes not only the collection of facts about particular markets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ut about marketing organizations, marketing methods and policies,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alysis of the facts, and the deduction of appropriate conclusions there-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rom “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WORLD WAR II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uring World War II industry massively expanded on the back of 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quirements of the Army, Navy and other military bodies sinc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pective governments were biggest buyers what industry produc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aging from food, medicine, automobiles, electronic equipment etc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fter the end of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War II industry was left with huge capacities of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roduction facilities in USA, Europe and Japan which were going under-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utilize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o cater to this situation where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adajewski, 2006 said it was the fear tha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y losing site of consumers that really motivated firms to begin to hi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available marketing research agencie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191520"/>
            <a:ext cx="9144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2200" spc="-1" strike="noStrike">
              <a:solidFill>
                <a:srgbClr val="675e47"/>
              </a:soli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950s witnessed the increased use of psychological and psychoanalytic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ory and techniques in marketing research. Consultants such as Erne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ichter, who were well versed in such methods, claimed to be able to tap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to consumer motivations beyond those available to questionnai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udies, drawing out subconscious motives that were influential forces i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ructuring consumer behaviou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is type of ‘motivation research ’ was interested in understanding  wh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s bought specific products and tried to understand consum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uying motives and behaviour through a range of qualitative research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pproaches, including in-depth interviews and ethnography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BEHAVIOURAL REVOLUTION IN MARKETING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ORY AND PRACTICE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Kassarjian, 1989 says that the revolutionary marketing theor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velopment using behavioural sciences as bases started with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itiatives of Ford and Carnegie foundation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artels, 1988 says t</a:t>
            </a: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ese two foundations have pushed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agemen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ducators were pushed to earn PhD degrees and to ‘upgrade’ thei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skills, mainly in terms of improving their ability to manipul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mplex mathematics. It was the funding provided by the For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oundation that ‘ served to usher in a new age for marketing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adajewski, 2006 this Foundations financially supported a whole rang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f textbooks, seminars and, training programmes that diffused thei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ientific vision for business researc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20700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2400" spc="-1" strike="noStrike">
              <a:solidFill>
                <a:srgbClr val="675e47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Kernan,1995a, 1995b : Research had to be objective, scientific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rigorous,  Academic journals soon reflected this emphasis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ably the newly founded </a:t>
            </a:r>
            <a:r>
              <a:rPr b="0" i="1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Journal of Marketing Research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 published research paper in this journals had to contain som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lement of Mathematical symbolism or involve ‘laborator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, experimental design, computer simulation, operation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, mathematical models, and high powered statistic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odock, 1991 : industry felt the behavioural revolution did not provid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much hoped for insights into market and consumer behaviour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echnical sophistication does not necessarily guarantee success. Too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y researchers are tied up with their numbers, statistics and rating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ales – all of which have their place – but they lose sight of the reas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or it all, which is insight into the consum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‘IRRELEVANCE ’ OF MARKETING SCIENCE: MARKETING AND THE MILITARY –INDUSTRIAL COMPLEX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awson, 1971 ; Wilkie and Moore, 2003, 2006 ; Shapiro, 2006 ) 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ritics rallied against the growing irrelevance of ‘marketing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ience ’, which was perceived to be ignoring the impact of marketing 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ociety, focusing instead exclusively on issues related to managerial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m competitiveness.  Observers called for marketing intellectuals to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vote attention to research issues that were central to contemporar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olicy debates; or to study the impact of marketing on society, and vic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versa – that is, the study of macro-marketing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movement away from a preoccupation with managerial, technical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sues, was instigated by younger marketing academics rebelling agains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alignment of marketing with the ‘military –industrial complex ’ (i.e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ig business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675e47"/>
                </a:solidFill>
                <a:latin typeface="Cambria"/>
              </a:rPr>
              <a:t>ENGAGING WITH SOCIETY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Lib, 2007 : in view of the vociferous criticism that took place in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pages of the </a:t>
            </a: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Journal of Public Policy and Marketing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elsewhere, marketing has been redefined in such 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a way that it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impact on society is taken into account. The latest defini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of marketing calls </a:t>
            </a:r>
            <a:r>
              <a:rPr b="0" lang="en-IN" sz="2400" spc="-1" strike="noStrike">
                <a:solidFill>
                  <a:srgbClr val="ff0000"/>
                </a:solidFill>
                <a:latin typeface="Calibri"/>
              </a:rPr>
              <a:t>‘marketing ’ ‘the activity, set of institutions fo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0000"/>
                </a:solidFill>
                <a:latin typeface="Calibri"/>
              </a:rPr>
              <a:t>creating, communicating, delivering, and exchanging offerings tha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0000"/>
                </a:solidFill>
                <a:latin typeface="Calibri"/>
              </a:rPr>
              <a:t>have value for customers, clients, partners, and society at large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In line with this broadening of the scholarly and definitional focu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Of marketing, many researchers have, since the mid to l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1980s, engaged in research that studies ‘people’, not customer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or consumers necessarily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Cambria"/>
              </a:rPr>
              <a:t>THE EARLY DEVELOPMENT OF MARKETING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Cambria"/>
              </a:rPr>
              <a:t>THOUGHT: A COMPLEX BEGINNING</a:t>
            </a:r>
            <a:br>
              <a:rPr sz="2200"/>
            </a:b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Shaw , 1995 in his study revealed that the earliest record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English language use of the term “Marketing” as a nou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was in 1561. ( Shaw, 1995 , p. 16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Shaw , 1995 found that 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an 1880 cookery book called ‘Mis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Parloa’s New Cookbook and Marketing Guide ’ had discuss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marketing, In this cookery book, Shaw tells us, the ter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marketing ’ related to ‘buying and selling activities ’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Robert Bartels, 1988 told the term ‘marketing ’ was first used ‘as 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noun ’, that is, as a label for a particular practice, sometim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between 1906 and 1911 ’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The American Encyclopaedic Dictionary (1896) defin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marketing as “the act or process of transacting business i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markets ” as well as “goods offered for sale and purchased i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a marke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A century later, Webster’s Collegiate Dictionary (1994)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continues to define marketing as “the act or process of selling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or purchasing in a market ”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FIRST COURSES ON MARKETING IN THE EARLY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WENTIETH CENTURY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 know that the earliest courses were delivered in 190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t the Universities of Michigan, California and Illinois. These we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 called ‘marketing ’ per se, but labelled with a variety of oth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ames such as ‘Distributive and Regulative Industries ’, ‘trade’ o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mmerce’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st course in marketing offered at the University of Michigan b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r. E.D. Jones in 1902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n a more theoretical level, there is some agreement in the historic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literature that marketing developed as a form of ‘applied economics ’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cf. Cassels, 1936 ; Jones and Monieson, 1990 ). Scholars sa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pplied economics’ because early and later marketing thought oft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tested the assumptions of classical and neoclassical economic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675e47"/>
                </a:solidFill>
                <a:latin typeface="Cambria"/>
              </a:rPr>
              <a:t>STUDYING THE MARKETPLACE</a:t>
            </a:r>
            <a:endParaRPr b="0" lang="en-US" sz="29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st scholars required material for their own teaching, they needed to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udy marketing related topics in real lif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was studied products from their point of production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ufacture, all the way through to their distribution to the ultim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ld, 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1941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for instance, describes a number of his own research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rojects where he ‘personally followed shipments of butter and eggs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ther commodities from the country shipper in Minnesota through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holesalers, jobbers, and retailers to New York, Chicago, and oth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ities. He analyzed each item of expense involved in this passag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rough the channels of trade ’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4480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N" sz="2900" spc="-1" strike="noStrike">
              <a:solidFill>
                <a:srgbClr val="675e47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Jones and Monieson, 2008 had opined that marketing conceptualiz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volved the processes involved in moving a product from its point of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gin – where it was harvested, for example – to the final consumer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as a result of scholarly and public concern over marketplace efficienc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what was called ‘the marketing problem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projects undertaken at the time (1910–1920), asked question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bout whether there were any elements in the supply chain that could b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liminated to save costs. In other words, were certain intermediari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middlemen) actually adding any value to a product, such as getting it to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right place, at the right time, in a satisfactory condition, or did the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imply only add further cost to the produc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cost factor was notably important to people living in the late 1920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1930s US, as the Great Depression left many people unemployed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Lacking the financial wherewithal and ability to search for the highes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quality, cheapest products; so any efficiency savings that could be mad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 terms of the distribution of products was considered a very importan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ubjec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place was no longer a sellers ’ market, business faced a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t situation that it had not confronted on a large scale previously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mand was less than supply hence marketers needed to underst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 behaviour for which marketing research evolved. Due to ev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growing competition from 1950 marketers started focusing 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dvertising and other promotions took over the marke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   </a:t>
            </a: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THE MARKETING CONCEPT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5331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bster, 1988 claimed that until the mid-1950s, the busines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equated “marketing ” with “selling.”Under this traditional view of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, the key to profitability was greater sales volume,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’s responsibility was to sell what the factory could produ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igh pressure selling was still used in some industries, and not all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ere equally attentive to customer requirements. The sa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 true even nowaday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, 1958 had tried to work on new concepts of custom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entation and customer satisfaction. Other concepts which also gain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ce were new product development, product line improvement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researc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   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5331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bster, 1988 claimed that until the mid-1950s, the busines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equated “marketing ” with “selling.”Under this traditional view of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, the key to profitability was greater sales volume,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’s responsibility was to sell what the factory could produ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igh pressure selling was still used in some industries, and not all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ere equally attentive to customer requirements. The sa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 true even nowaday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, 1958 had tried to work on new concepts of custom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entation and customer satisfaction. Other concepts which also gain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ce were new product development, product line improvement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researc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3:55:58Z</dcterms:created>
  <dc:creator>krandheer</dc:creator>
  <dc:description/>
  <dc:language>en-US</dc:language>
  <cp:lastModifiedBy>User</cp:lastModifiedBy>
  <dcterms:modified xsi:type="dcterms:W3CDTF">2014-02-03T10:25:26Z</dcterms:modified>
  <cp:revision>106</cp:revision>
  <dc:subject/>
  <dc:title>Slide 1</dc:title>
</cp:coreProperties>
</file>