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6039-61EE-4473-9303-78F1FD06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04DA-ADDD-44AA-92DA-1349C060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69CB-5FEC-495B-BEF7-A9E2CDC3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F661-83F4-4D04-8CF5-2A965C67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C8D8-95F1-46CC-BC13-4BB859BE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EE80-11D2-4A60-B9C4-E063A66B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308C-A130-4E54-A741-518F65CD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A563-CF13-45AD-A474-A872DB7E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F292-ABA2-4C75-8B80-B4A9B6E2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9C9E-91F0-4D15-BD8A-BB3B290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ABCC-BF87-4FCD-B679-4D10572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20C5-3145-4EA5-A5CF-9B779823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379F-88F9-48F1-BD72-BABF5ECBF0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MKT 420 </a:t>
            </a:r>
            <a:br>
              <a:rPr sz="4000"/>
            </a:b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Contemporary Issues in Marketing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Chapter 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arly Developments in Marke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DEMAND STIMULATION AND THE ‘DUAL CORE ’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MARKETING CONCEPT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 ,1958 has said that “ companies produce products which ar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eeded by the people or demanded by customers, rather companies als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ry to produce something which customers feel they in fact do not nee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m, but customers are educated that there is a need created by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hich realizes the customer to buy the product” this is terme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s dual core marketing concep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dual core concept resulted in marketing research rather marke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which was being practiced till then,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Zaltman and Burger ,1975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go so far as so identify a shift in the way ‘market research ’ wa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ranslated into ‘marketing research ’. This change appears to have be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ed previously by Engel, who discussed the need to: ( cont : next slid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2189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“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istinguish between marketing research and market research 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basis that the latter applies only to fact-finding, with perhap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me analysis of a single-market or marketing area, whereas the broad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erm includes not only the collection of facts about particular markets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ut about marketing organizations, marketing methods and policies,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alysis of the facts, and the deduction of appropriate conclusions there-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rom “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WORLD WAR II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7617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uring World War II industry massively expanded on the back of 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quirements of the Army, Navy and other military bodies sinc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pective governments were biggest buyers what industry produce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aging from food, medicine, automobiles, electronic equipment etc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fter the end of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War II industry was left with huge capacities o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roduction facilities in USA, Europe and Japan which were going under-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utiliz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o cater to this situation where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adajewski, 2006 said it was the fear tha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y losing site of consumers that really motivated firms to begin to hir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vailable marketing research agenci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685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950s witnessed the increased use of psychological and psychoanalytic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ory and techniques in marketing research. Consultants such as Ernes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ichter, who were well versed in such methods, claimed to be able to ta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to consumer motivations beyond those available to questionnair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udies, drawing out subconscious motives that were influential forces i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ructuring consumer behaviou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is type of ‘motivation research ’ was interested in understanding  wh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s bought specific products and tried to understand consum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uying motives and behaviour through a range of qualitative research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pproaches, including in-depth interviews and ethnograph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6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BEHAVIOURAL REVOLUTION IN MARKETING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ORY AND PRACTICE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Kassarjian, 1989 says that the revolutionary marketing theor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velopment using behavioural sciences as bases started with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itiatives of Ford and Carnegie founda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artels, 1988 says 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ese two foundations have pushed 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agemen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ducators were pushed to earn PhD degrees and to ‘upgrade’ thei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skills, mainly in terms of improving their ability to manipulat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mplex mathematics. It was the funding provided by the For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oundation that ‘ served to usher in a new age for marketing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adajewski, 2006 this Foundations financially supported a whole rang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f textbooks, seminars and, training programmes that diffused thei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ientific vision for business researc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Kernan,1995a, 1995b : Research had to be objective, scientific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rigorous,  Academic journals soon reflected this emphasis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ably the newly founded </a:t>
            </a:r>
            <a:r>
              <a:rPr b="0" i="1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Journal of Marketing Research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 published research paper in this journals had to contain som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lement of Mathematical symbolism or involve ‘laborator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, experimental design, computer simulation, opera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, mathematical models, and high powered statistic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odock, 1991 : industry felt the behavioural revolution did not provid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much hoped for insights into market and consumer behaviour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echnical sophistication does not necessarily guarantee success. To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y researchers are tied up with their numbers, statistics and rat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ales – all of which have their place – but they lose sight of the reas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or it all, which is insight into the consum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‘IRRELEVANCE ’ OF MARKETING SCIENCE: MARKETING AND THE MILITARY –INDUSTRIAL COMPLEX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awson, 1971 ; Wilkie and Moore, 2003, 2006 ; Shapiro, 2006 )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ritics rallied against the growing irrelevance of ‘market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cience ’, which was perceived to be ignoring the impact of marketing 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ociety, focusing instead exclusively on issues related to managerial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m competitiveness.  Observers called for marketing intellectuals t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vote attention to research issues that were central to contemporar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olicy debates; or to study the impact of marketing on society, and vic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versa – that is, the study of macro-marke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movement away from a preoccupation with managerial, technica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sues, was instigated by younger marketing academics rebelling agains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lignment of marketing with the ‘military –industrial complex ’ (i.e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ig business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675e47"/>
                </a:solidFill>
                <a:latin typeface="Cambria"/>
              </a:rPr>
              <a:t>ENGAGING WITH SOCIETY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Lib, 2007 : in view of the vociferous criticism that took place in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pages of the </a:t>
            </a:r>
            <a:r>
              <a:rPr b="0" i="1" lang="en-IN" sz="2200" spc="-1" strike="noStrike">
                <a:solidFill>
                  <a:srgbClr val="2f2b20"/>
                </a:solidFill>
                <a:latin typeface="Calibri"/>
              </a:rPr>
              <a:t>Journal of Public Policy and Marketing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200" spc="-1" strike="noStrike">
                <a:solidFill>
                  <a:srgbClr val="2f2b20"/>
                </a:solidFill>
                <a:latin typeface="Calibri"/>
              </a:rPr>
              <a:t>elsewhere, marketing has been redefined in such </a:t>
            </a: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a way that it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impact on society is taken into account. The latest defini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of marketing calls </a:t>
            </a:r>
            <a:r>
              <a:rPr b="0" lang="en-IN" sz="2200" spc="-1" strike="noStrike">
                <a:solidFill>
                  <a:srgbClr val="ff0000"/>
                </a:solidFill>
                <a:latin typeface="Calibri"/>
              </a:rPr>
              <a:t>‘marketing ’ ‘the activity, set of institutions fo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0000"/>
                </a:solidFill>
                <a:latin typeface="Calibri"/>
              </a:rPr>
              <a:t>creating, communicating, delivering, and exchanging offerings tha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0000"/>
                </a:solidFill>
                <a:latin typeface="Calibri"/>
              </a:rPr>
              <a:t>have value for customers, clients, partners, and society at large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In line with this broadening of the scholarly and definitional focu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Of marketing, many researchers have, since the mid to lat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1980s, engaged in research that studies ‘people’, not customer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or consumers necessaril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Cambria"/>
              </a:rPr>
              <a:t>THE EARLY DEVELOPMENT OF MARKETING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Cambria"/>
              </a:rPr>
              <a:t>THOUGHT: A COMPLEX BEGINNING</a:t>
            </a:r>
            <a:br>
              <a:rPr sz="2200"/>
            </a:b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8380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Shaw , 1995 in his study revealed that the earliest record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English language use of the term “Marketing” as a nou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was in 1561. ( Shaw, 1995 , p. 16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Shaw , 1995 found that 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an 1880 cookery book called ‘Mis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Parloa’s New Cookbook and Marketing Guide ’ had discussed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marketing, In this cookery book, Shaw tells us, the ter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marketing ’ related to ‘buying and selling activities 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Robert Bartels, 1988 told the term ‘marketing ’ was first used ‘as 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noun ’, that is, as a label for a particular practice, sometim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‘</a:t>
            </a:r>
            <a:r>
              <a:rPr b="0" lang="en-IN" sz="2400" spc="-1" strike="noStrike">
                <a:solidFill>
                  <a:srgbClr val="2f2b20"/>
                </a:solidFill>
                <a:latin typeface="Calibri"/>
              </a:rPr>
              <a:t>between 1906 and 1911 ’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The American Encyclopaedic Dictionary (1896) defin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marketing as “the act or process of transacting business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markets ” as well as “goods offered for sale and purchased i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a marke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A century later, Webster’s Collegiate Dictionary (199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continues to define marketing as “the act or process of selli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f2b20"/>
                </a:solidFill>
                <a:latin typeface="Calibri"/>
              </a:rPr>
              <a:t>or purchasing in a market ”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HE FIRST COURSES ON MARKETING IN THE EARLY</a:t>
            </a:r>
            <a:br>
              <a:rPr sz="2200"/>
            </a:br>
            <a:r>
              <a:rPr b="1" lang="en-IN" sz="22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TWENTIETH CENTURY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 know that the earliest courses were delivered in 190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t the Universities of Michigan, California and Illinois. These wer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ot called ‘marketing ’ per se, but labelled with a variety of oth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names such as ‘Distributive and Regulative Industries ’, ‘trade’ o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‘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mmerce’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st course in marketing offered at the University of Michigan b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r. E.D. Jones in 1902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n a more theoretical level, there is some agreement in the historic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literature that marketing developed as a form of ‘applied economics ’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cf. Cassels, 1936 ; Jones and Monieson, 1990 ). Scholars sa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‘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pplied economics’ because early and later marketing thought oft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tested the assumptions of classical and neoclassical economic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675e47"/>
                </a:solidFill>
                <a:latin typeface="Cambria"/>
              </a:rPr>
              <a:t>STUDYING THE MARKETPLACE</a:t>
            </a:r>
            <a:endParaRPr b="0" lang="en-US" sz="2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192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First scholars required material for their own teaching, they needed t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tudy marketing related topics in real lif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was studied products from their point of production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nufacture, all the way through to their distribution to the ultimat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ld, </a:t>
            </a:r>
            <a:r>
              <a:rPr b="0" lang="en-IN" sz="2200" spc="-1" strike="noStrike">
                <a:solidFill>
                  <a:srgbClr val="2f2b20"/>
                </a:solidFill>
                <a:latin typeface="Calibri"/>
              </a:rPr>
              <a:t>1941</a:t>
            </a: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for instance, describes a number of his own research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Projects where he ‘personally followed shipments of butter and eggs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ther commodities from the country shipper in Minnesota through th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holesalers, jobbers, and retailers to New York, Chicago, and oth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ities. He analyzed each item of expense involved in this passag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rough the channels of trade ’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4480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N" sz="2900" spc="-1" strike="noStrike">
              <a:solidFill>
                <a:srgbClr val="675e47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Jones and Monieson, 2008 had opined that marketing conceptualizati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volved the processes involved in moving a product from its point o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gin – where it was harvested, for example – to the final consumer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as a result of scholarly and public concern over marketplace efficienc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what was called ‘the marketing proble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Research projects undertaken at the time (1910–1920), asked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bout whether there were any elements in the supply chain that could b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liminated to save costs. In other words, were certain intermediari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middlemen) actually adding any value to a product, such as getting it t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right place, at the right time, in a satisfactory condition, or did the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imply only add further cost to the produc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cost factor was notably important to people living in the late 1920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nd 1930s US, as the Great Depression left many people unemployed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Lacking the financial wherewithal and ability to search for the highes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quality, cheapest products; so any efficiency savings that could be mad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n terms of the distribution of products was considered a very importan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subjec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place was no longer a sellers ’ market, business faced a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t situation that it had not confronted on a large scale previously: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demand was less than supply hence marketers needed to underst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consumer behaviour for which marketing research evolved. Due to ev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growing competition from 1950 marketers started focusing 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Advertising and other promotions took over the market</a:t>
            </a:r>
            <a:r>
              <a:rPr b="0" lang="en-IN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   </a:t>
            </a: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THE MARKETING CONCEPT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5331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bster, 1988 claimed that until the mid-1950s, the busines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equated “marketing ” with “selling.”Under this traditional view o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, the key to profitability was greater sales volume,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’s responsibility was to sell what the factory could produ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igh pressure selling was still used in some industries, and not al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ere equally attentive to customer requirements. The sam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 true even nowadays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, 1958 had tried to work on new concepts of custom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entation and customer satisfaction. Other concepts which also gain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ce were new product development, product line improvement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researc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100" spc="-1" strike="noStrike">
                <a:solidFill>
                  <a:srgbClr val="675e47"/>
                </a:solidFill>
                <a:latin typeface="Cambria"/>
              </a:rPr>
              <a:t>    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5331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ebster, 1988 claimed that until the mid-1950s, the busines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world equated “marketing ” with “selling.”Under this traditional view o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, the key to profitability was greater sales volume, and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’s responsibility was to sell what the factory could produ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High pressure selling was still used in some industries, and not al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ers were equally attentive to customer requirements. The sam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s true even nowadays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Borch, 1958 had tried to work on new concepts of custome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orientation and customer satisfaction. Other concepts which also gain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Importance were new product development, product line improvement,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marketing researc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3:55:58Z</dcterms:created>
  <dc:creator>krandheer</dc:creator>
  <dc:description/>
  <dc:language>en-US</dc:language>
  <cp:lastModifiedBy>User</cp:lastModifiedBy>
  <dcterms:modified xsi:type="dcterms:W3CDTF">2014-02-24T10:22:45Z</dcterms:modified>
  <cp:revision>108</cp:revision>
  <dc:subject/>
  <dc:title>Slide 1</dc:title>
</cp:coreProperties>
</file>