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1F23-FDCC-4680-836A-07066AE5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A8707-2BEA-490B-AB29-7A1BDBCF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C41C-B392-42A5-9F73-AADCD91E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931F-EF84-4154-ADDE-9B802B4F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2F794-FE9D-455E-83CE-2B182E75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02F32-29A6-4368-ACCF-9D2038ED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B19E-52DA-473F-9009-8D7FAC55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38A5-8A88-4EDF-93E5-33D8C894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18124-2D7E-4F43-AA44-EB6DEE78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B027E-07AA-49F4-938A-67A0DCB3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2434-9191-41FD-A285-057D3720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74110-F6DF-492D-BD5C-B6831D96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2E4E-EBF5-49E4-865E-1541E60FEE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MKT 420 </a:t>
            </a:r>
            <a:br>
              <a:rPr sz="4000"/>
            </a:b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Contemporary Issues in Marketing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2666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Chapter 2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Early Developments in Market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100" spc="-1" strike="noStrike">
                <a:solidFill>
                  <a:srgbClr val="675e47"/>
                </a:solidFill>
                <a:latin typeface="Cambria"/>
              </a:rPr>
              <a:t> </a:t>
            </a:r>
            <a:r>
              <a:rPr b="1" lang="en-IN" sz="22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DEMAND STIMULATION AND THE ‘DUAL CORE ’</a:t>
            </a:r>
            <a:br>
              <a:rPr sz="2200"/>
            </a:br>
            <a:r>
              <a:rPr b="1" lang="en-IN" sz="22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MARKETING CONCEPT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orch ,1958 has said that “ companies produce products which ar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needed by the people or demanded by customers, rather companies also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ry to produce something which customers feel they in fact do not need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m, but customers are educated that there is a need created by th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ers which realizes the customer to buy the product” this is termed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s dual core marketing concep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dual core concept resulted in marketing research rather marke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search which was being practiced till then, </a:t>
            </a: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Zaltman and Burger ,1975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go so far as so identify a shift in the way ‘market research ’ wa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ranslated into ‘marketing research ’. This change appears to have bee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noted previously by Engel, who discussed the need to: ( cont : next slide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1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2189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“ </a:t>
            </a: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istinguish between marketing research and market research 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basis that the latter applies only to fact-finding, with perhap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ome analysis of a single-market or marketing area, whereas the broader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erm includes not only the collection of facts about particular markets,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ut about marketing organizations, marketing methods and policies, th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nalysis of the facts, and the deduction of appropriate conclusions there-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From “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100" spc="-1" strike="noStrike">
                <a:solidFill>
                  <a:srgbClr val="675e47"/>
                </a:solidFill>
                <a:latin typeface="Cambria"/>
              </a:rPr>
              <a:t>WORLD WAR II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7617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uring World War II industry massively expanded on the back of  th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quirements of the Army, Navy and other military bodies sinc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spective governments were biggest buyers what industry produced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aging from food, medicine, automobiles, electronic equipment etc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fter the end of </a:t>
            </a: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orld War II industry was left with huge capacities of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production facilities in USA, Europe and Japan which were going under-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utilize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o cater to this situation where </a:t>
            </a: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adajewski, 2006 said it was the fear tha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y losing site of consumers that really motivated firms to begin to hir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available marketing research agenci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6854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950s witnessed the increased use of psychological and psychoanalytica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ory and techniques in marketing research. Consultants such as Ernes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ichter, who were well versed in such methods, claimed to be able to tap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nto consumer motivations beyond those available to questionnair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tudies, drawing out subconscious motives that were influential forces i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tructuring consumer behaviou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is type of ‘motivation research ’ was interested in understanding  why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onsumers bought specific products and tried to understand consumer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uying motives and behaviour through a range of qualitative research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pproaches, including in-depth interviews and ethnography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6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2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THE BEHAVIOURAL REVOLUTION IN MARKETING</a:t>
            </a:r>
            <a:br>
              <a:rPr sz="2200"/>
            </a:br>
            <a:r>
              <a:rPr b="1" lang="en-IN" sz="22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THEORY AND PRACTICE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Kassarjian, 1989 says that the revolutionary marketing theory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evelopment using behavioural sciences as bases started with th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nitiatives of Ford and Carnegie foundatio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artels, 1988 says t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hese two foundations have pushed </a:t>
            </a: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nagemen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ducators were pushed to earn PhD degrees and to ‘upgrade’ their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search skills, mainly in terms of improving their ability to manipulat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omplex mathematics. It was the funding provided by the Ford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Foundation that ‘ served to usher in a new age for marketing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adajewski, 2006 this Foundations financially supported a whole rang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of textbooks, seminars and, training programmes that diffused their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cientific vision for business research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Kernan,1995a, 1995b : Research had to be objective, scientific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nd rigorous,  Academic journals soon reflected this emphasis,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notably the newly founded </a:t>
            </a:r>
            <a:r>
              <a:rPr b="0" i="1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Journal of Marketing Research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 published research paper in this journals had to contain som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lement of Mathematical symbolism or involve ‘laboratory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search, experimental design, computer simulation, operation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search, mathematical models, and high powered statistic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Hodock, 1991 : industry felt the behavioural revolution did not provid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much hoped for insights into market and consumer behaviour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echnical sophistication does not necessarily guarantee success. Too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ny researchers are tied up with their numbers, statistics and rating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cales – all of which have their place – but they lose sight of the reaso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for it all, which is insight into the consume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2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THE ‘IRRELEVANCE ’ OF MARKETING SCIENCE: MARKETING AND THE MILITARY –INDUSTRIAL COMPLEX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awson, 1971 ; Wilkie and Moore, 2003, 2006 ; Shapiro, 2006 ) 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ritics rallied against the growing irrelevance of ‘marketing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cience ’, which was perceived to be ignoring the impact of marketing o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ociety, focusing instead exclusively on issues related to managerial and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firm competitiveness.  Observers called for marketing intellectuals to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evote attention to research issues that were central to contemporary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policy debates; or to study the impact of marketing on society, and vic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versa – that is, the study of macro-market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movement away from a preoccupation with managerial, technica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ssues, was instigated by younger marketing academics rebelling agains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alignment of marketing with the ‘military –industrial complex ’ (i.e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ig business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675e47"/>
                </a:solidFill>
                <a:latin typeface="Cambria"/>
              </a:rPr>
              <a:t>ENGAGING WITH SOCIETY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2280" y="12189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Calibri"/>
              </a:rPr>
              <a:t>Lib, 2007 : in view of the vociferous criticism that took place in th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Calibri"/>
              </a:rPr>
              <a:t>pages of the </a:t>
            </a:r>
            <a:r>
              <a:rPr b="0" i="1" lang="en-IN" sz="2200" spc="-1" strike="noStrike">
                <a:solidFill>
                  <a:srgbClr val="2f2b20"/>
                </a:solidFill>
                <a:latin typeface="Calibri"/>
              </a:rPr>
              <a:t>Journal of Public Policy and Marketing and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200" spc="-1" strike="noStrike">
                <a:solidFill>
                  <a:srgbClr val="2f2b20"/>
                </a:solidFill>
                <a:latin typeface="Calibri"/>
              </a:rPr>
              <a:t>elsewhere, marketing has been redefined in such </a:t>
            </a:r>
            <a:r>
              <a:rPr b="0" lang="en-IN" sz="2200" spc="-1" strike="noStrike">
                <a:solidFill>
                  <a:srgbClr val="2f2b20"/>
                </a:solidFill>
                <a:latin typeface="Calibri"/>
              </a:rPr>
              <a:t>a way that it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Calibri"/>
              </a:rPr>
              <a:t>impact on society is taken into account. The latest defini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Calibri"/>
              </a:rPr>
              <a:t>of marketing calls </a:t>
            </a:r>
            <a:r>
              <a:rPr b="0" lang="en-IN" sz="2200" spc="-1" strike="noStrike">
                <a:solidFill>
                  <a:srgbClr val="ff0000"/>
                </a:solidFill>
                <a:latin typeface="Calibri"/>
              </a:rPr>
              <a:t>‘marketing ’ ‘the activity, set of institutions for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0000"/>
                </a:solidFill>
                <a:latin typeface="Calibri"/>
              </a:rPr>
              <a:t>creating, communicating, delivering, and exchanging offerings tha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0000"/>
                </a:solidFill>
                <a:latin typeface="Calibri"/>
              </a:rPr>
              <a:t>have value for customers, clients, partners, and society at large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Calibri"/>
              </a:rPr>
              <a:t>In line with this broadening of the scholarly and definitional focu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Calibri"/>
              </a:rPr>
              <a:t>Of marketing, many researchers have, since the mid to lat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Calibri"/>
              </a:rPr>
              <a:t>1980s, engaged in research that studies ‘people’, not customer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Calibri"/>
              </a:rPr>
              <a:t>or consumers necessarily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en-IN" sz="2200" spc="-1" strike="noStrike">
                <a:solidFill>
                  <a:srgbClr val="675e47"/>
                </a:solidFill>
                <a:latin typeface="Cambria"/>
              </a:rPr>
              <a:t>THE EARLY DEVELOPMENT OF MARKETING</a:t>
            </a:r>
            <a:br>
              <a:rPr sz="2200"/>
            </a:br>
            <a:r>
              <a:rPr b="1" lang="en-IN" sz="2200" spc="-1" strike="noStrike">
                <a:solidFill>
                  <a:srgbClr val="675e47"/>
                </a:solidFill>
                <a:latin typeface="Cambria"/>
              </a:rPr>
              <a:t>THOUGHT: A COMPLEX BEGINNING</a:t>
            </a:r>
            <a:br>
              <a:rPr sz="2200"/>
            </a:b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880" y="8380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Shaw , 1995 in his study revealed that the earliest recorde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English language use of the term “Marketing” as a nou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was in 1561. ( Shaw, 1995 , p. 16)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Shaw , 1995 found that </a:t>
            </a: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an 1880 cookery book called ‘Mis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Parloa’s New Cookbook and Marketing Guide ’ had discusse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marketing, In this cookery book, Shaw tells us, the ter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‘</a:t>
            </a: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marketing ’ related to ‘buying and selling activities ’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Robert Bartels, 1988 told the term ‘marketing ’ was first used ‘as 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noun ’, that is, as a label for a particular practice, sometim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‘</a:t>
            </a: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between 1906 and 1911 ’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The American Encyclopaedic Dictionary (1896) defin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marketing as “the act or process of transacting business i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markets ” as well as “goods offered for sale and purchased i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a marke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A century later, Webster’s Collegiate Dictionary (1994)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continues to define marketing as “the act or process of selling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or purchasing in a market ”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2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THE FIRST COURSES ON MARKETING IN THE EARLY</a:t>
            </a:r>
            <a:br>
              <a:rPr sz="2200"/>
            </a:br>
            <a:r>
              <a:rPr b="1" lang="en-IN" sz="22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TWENTIETH CENTURY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e know that the earliest courses were delivered in 1902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t the Universities of Michigan, California and Illinois. These wer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Not called ‘marketing ’ per se, but labelled with a variety of other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names such as ‘Distributive and Regulative Industries ’, ‘trade’ or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‘</a:t>
            </a: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ommerce’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First course in marketing offered at the University of Michigan by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r. E.D. Jones in 1902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On a more theoretical level, there is some agreement in the historica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literature that marketing developed as a form of ‘applied economics ’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cf. Cassels, 1936 ; Jones and Monieson, 1990 ). Scholars say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‘</a:t>
            </a: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pplied economics’ because early and later marketing thought ofte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ontested the assumptions of classical and neoclassical economic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900" spc="-1" strike="noStrike">
                <a:solidFill>
                  <a:srgbClr val="675e47"/>
                </a:solidFill>
                <a:latin typeface="Cambria"/>
              </a:rPr>
              <a:t>STUDYING THE MARKETPLACE</a:t>
            </a:r>
            <a:endParaRPr b="0" lang="en-US" sz="29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1920" y="6094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First scholars required material for their own teaching, they needed to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tudy marketing related topics in real lif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 was studied products from their point of production and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nufacture, all the way through to their distribution to the ultimat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onsume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eld, </a:t>
            </a:r>
            <a:r>
              <a:rPr b="0" lang="en-IN" sz="2200" spc="-1" strike="noStrike">
                <a:solidFill>
                  <a:srgbClr val="2f2b20"/>
                </a:solidFill>
                <a:latin typeface="Calibri"/>
              </a:rPr>
              <a:t>1941</a:t>
            </a: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for instance, describes a number of his own research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Projects where he ‘personally followed shipments of butter and eggs and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Other commodities from the country shipper in Minnesota through th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holesalers, jobbers, and retailers to New York, Chicago, and other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ities. He analyzed each item of expense involved in this passag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rough the channels of trade ’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244800"/>
            <a:ext cx="82296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IN" sz="2900" spc="-1" strike="noStrike">
              <a:solidFill>
                <a:srgbClr val="675e47"/>
              </a:solidFill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Jones and Monieson, 2008 had opined that marketing conceptualizatio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nvolved the processes involved in moving a product from its point of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origin – where it was harvested, for example – to the final consumer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as a result of scholarly and public concern over marketplace efficiency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nd what was called ‘the marketing problem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search projects undertaken at the time (1910–1920), asked question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bout whether there were any elements in the supply chain that could b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liminated to save costs. In other words, were certain intermediarie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middlemen) actually adding any value to a product, such as getting it to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right place, at the right time, in a satisfactory condition, or did they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imply only add further cost to the produc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cost factor was notably important to people living in the late 1920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nd 1930s US, as the Great Depression left many people unemployed,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Lacking the financial wherewithal and ability to search for the highes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quality, cheapest products; so any efficiency savings that could be mad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n terms of the distribution of products was considered a very importan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ubjec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place was no longer a sellers ’ market, business faced a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mportant situation that it had not confronted on a large scale previously: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emand was less than supply hence marketers needed to understand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onsumer behaviour for which marketing research evolved. Due to ever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growing competition from 1950 marketers started focusing o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dvertising and other promotions took over the market</a:t>
            </a: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100" spc="-1" strike="noStrike">
                <a:solidFill>
                  <a:srgbClr val="675e47"/>
                </a:solidFill>
                <a:latin typeface="Cambria"/>
              </a:rPr>
              <a:t>    </a:t>
            </a:r>
            <a:r>
              <a:rPr b="1" lang="en-IN" sz="4100" spc="-1" strike="noStrike">
                <a:solidFill>
                  <a:srgbClr val="675e47"/>
                </a:solidFill>
                <a:latin typeface="Cambria"/>
              </a:rPr>
              <a:t>THE MARKETING CONCEPT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5331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ebster, 1988 claimed that until the mid-1950s, the busines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orld equated “marketing ” with “selling.”Under this traditional view of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, the key to profitability was greater sales volume, and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’s responsibility was to sell what the factory could produc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High pressure selling was still used in some industries, and not al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ers were equally attentive to customer requirements. The sam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s true even nowadays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orch, 1958 had tried to work on new concepts of customer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orientation and customer satisfaction. Other concepts which also gain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mportance were new product development, product line improvement,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 research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100" spc="-1" strike="noStrike">
                <a:solidFill>
                  <a:srgbClr val="675e47"/>
                </a:solidFill>
                <a:latin typeface="Cambria"/>
              </a:rPr>
              <a:t>    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5331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ebster, 1988 claimed that until the mid-1950s, the busines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orld equated “marketing ” with “selling.”Under this traditional view of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, the key to profitability was greater sales volume, and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’s responsibility was to sell what the factory could produc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High pressure selling was still used in some industries, and not al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ers were equally attentive to customer requirements. The sam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s true even nowadays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orch, 1958 had tried to work on new concepts of customer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orientation and customer satisfaction. Other concepts which also gain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mportance were new product development, product line improvement,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 research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3:55:58Z</dcterms:created>
  <dc:creator>krandheer</dc:creator>
  <dc:description/>
  <dc:language>en-US</dc:language>
  <cp:lastModifiedBy>User</cp:lastModifiedBy>
  <dcterms:modified xsi:type="dcterms:W3CDTF">2014-02-24T10:22:45Z</dcterms:modified>
  <cp:revision>108</cp:revision>
  <dc:subject/>
  <dc:title>Slide 1</dc:title>
</cp:coreProperties>
</file>