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493"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93600" y="766440"/>
            <a:ext cx="5112000" cy="3833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496" name="PlaceHolder 4"/>
          <p:cNvSpPr>
            <a:spLocks noGrp="1"/>
          </p:cNvSpPr>
          <p:nvPr>
            <p:ph type="body"/>
          </p:nvPr>
        </p:nvSpPr>
        <p:spPr>
          <a:xfrm>
            <a:off x="709560" y="4856040"/>
            <a:ext cx="568008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2"/>
          </p:nvPr>
        </p:nvSpPr>
        <p:spPr>
          <a:xfrm>
            <a:off x="0" y="971064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4021200" y="9710640"/>
            <a:ext cx="3076560" cy="5112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4B636CD-8603-461A-866F-3D08FEA24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21200" y="971064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CD7FC73-2DF1-4494-B4BA-5C541E0CDAFE}" type="slidenum">
              <a:rPr b="0" lang="en-GB" sz="1200" spc="-1" strike="noStrike">
                <a:solidFill>
                  <a:srgbClr val="336666"/>
                </a:solidFill>
                <a:latin typeface="Arial"/>
              </a:rPr>
              <a:t>&lt;number&gt;</a:t>
            </a:fld>
            <a:endParaRPr b="0" lang="en-US" sz="1200" spc="-1" strike="noStrike">
              <a:solidFill>
                <a:srgbClr val="336666"/>
              </a:solidFill>
              <a:latin typeface="Arial"/>
            </a:endParaRPr>
          </a:p>
        </p:txBody>
      </p:sp>
      <p:sp>
        <p:nvSpPr>
          <p:cNvPr id="541" name="PlaceHolder 1"/>
          <p:cNvSpPr>
            <a:spLocks noGrp="1"/>
          </p:cNvSpPr>
          <p:nvPr>
            <p:ph type="sldImg"/>
          </p:nvPr>
        </p:nvSpPr>
        <p:spPr>
          <a:xfrm>
            <a:off x="993600" y="766800"/>
            <a:ext cx="5112000" cy="3833640"/>
          </a:xfrm>
          <a:prstGeom prst="rect">
            <a:avLst/>
          </a:prstGeom>
          <a:ln w="0">
            <a:noFill/>
          </a:ln>
        </p:spPr>
      </p:sp>
      <p:sp>
        <p:nvSpPr>
          <p:cNvPr id="542"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E694CB-1EC2-4F2D-BA6A-DE07989A1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BA7CE1-A099-4BCA-8D35-75A6B25550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731C2-1578-4D40-8597-3E3291BD6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86635-C35F-4198-9697-2BC96C6D4F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770371-C2B3-4879-8E74-EED65166B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B3F581-0FE3-43AA-AA13-8B298D005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AC3F0-856B-47B3-A577-0F2AE87D9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B1409-E6E6-403A-9640-77B8A95C7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03A61-9AC3-4F0A-B690-F717054C1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E9AC53-ED1A-4FD3-B2A3-626FE29D90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EC467-11B3-460F-86B8-AF1E41269B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A5DCE9-3213-4911-976F-F48575C6F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33312-21D1-490F-AA13-45F7301D11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75B03-5A85-4F2D-AC2D-153A1F8EB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A0F07C-3519-4057-9E7C-049DF37EFF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AC10F-52F8-4F2D-BA92-E524653C7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3B673-3DC2-4699-B036-17E9CF357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9E1E83-186F-4F61-BE4A-8ACE59F30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A4147-FCCF-49D3-BB6B-53A028109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DE86B-BD0F-4A1A-BB22-57811A471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EFEFA-9275-403A-8D42-70A1880CE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709F5-8662-4292-A45B-A38DE92E25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5558AF-B6CB-4D0C-BB68-8A88EC7180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96E9CD-BB52-4515-A6C6-98C8614FDB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4D800-03C0-425C-A1DE-5A5680658A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D73793-8752-4A70-86EC-11BFE22552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E3DE2A-F44F-4B4A-A858-882261BA87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85C5A4-D339-4468-B729-A36F57F413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3DA2FA-C7DD-443B-BD98-952737C697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6767B0-D16B-4FB1-B1F7-2675719B7F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4E22D3-8510-4899-9C21-2A20747340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0974C0-F77A-4009-9A34-7B744A345A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449969-D471-421C-AD26-ED7070432B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09E06C-AC79-48E3-ACC0-DDED8A83F1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C21A449-8CD0-4B39-9801-84FE4C12B3D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0A60B6-E6C3-46A5-81AF-97AD715C99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BDD91E-CB95-4F30-A907-C7E234238A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CD8057-51A3-4E7B-9B0F-155F642EE9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68EB93-E43A-4E62-BF13-3AF172D736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FDF662-829C-4364-80E5-A582AC0EBA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131281-C974-4078-BDE2-A389ACDFE1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ACA32D-118B-4C2E-849D-59B326A23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239A76-837C-4911-8DE2-C9A28872E5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BB3A2F-D4C0-44A3-A2D7-C802FC817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BE12AD-18B6-4A2E-AD83-907DA74AA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A9233F-9B13-4B50-8165-27CE82E6B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E0C661-9993-4289-B149-A6FF50B14A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38A105-4C34-4F36-8DB6-0CBA9AA08F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2435EE-8EBE-4A14-B658-C4753212EF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7800B7-C248-4E96-A2D0-0791ACCCAE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4105E0C-A62E-4A30-B63B-0AFEFAB7ED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AB908DD-C305-461C-BAFB-A7E8253DDF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EBC08B-BF2E-40DF-880F-B12B35EC6D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AF4970-6DB4-42EE-A44D-9BD374C2C7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D065B0-EA99-421D-8A17-231534C2B7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441302-D47C-412C-9000-E6A182AD70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C1DC0E-2E3A-4731-9362-66FEFA2A3B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D33E61-6666-4381-BEA8-4FC1196711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3627E6-F535-4953-BDA9-CC7E8D3113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0CE0AA-2887-4DB9-97AC-2D5148BFFB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8BD7F2-BC03-42D3-84F6-269F41066A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6E3AF9-CEDB-40F3-B1FE-B03574E03C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AB51169-12F2-49D9-8866-29A0A373581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165F101-1A0E-4D9C-9E0D-DD1734BAD43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CEB918-FB54-490B-962D-DF4A2D8D57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5168B3-9AE5-4BC3-B4C5-494FE5EDFB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BB9E9-5FA0-4BCC-92E4-FC34DC2099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711E19-743F-4138-9DF6-1141FD22B7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07BD07-1119-4E23-9498-BE7465C5F2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AB9379-2133-48D9-876C-910E16DDED8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2647574-689A-40F8-B77D-D81481B53C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160A5A-9BF7-4E8D-99BC-5FEFFBEC5D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FEA0B4-6E74-45C8-A838-959F8435EE7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7CF770-31B8-48DB-9530-9667FB8249C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A1C3FE8-4277-4317-9DDB-0E50F180471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CBD3F6D-CE03-4703-AF67-9C6EBA6FD79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DA6AAE-CBC5-41F9-AA04-515676FB92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3A0F30-4659-4D84-8E8B-E573EBA4F7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3E40E0-02C2-4156-9FCA-95FBF00EB9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98D44D5-62EE-4CD1-9CCF-139733018F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1FE3F4-2373-47E1-BD30-8CE8BE1FBA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18CFA4-39F7-467F-B38C-E80680B690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F2AF50-AA87-436D-BF15-0605FC15C4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042849-5775-41FC-A471-60F69B5FA1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773694-EACE-4E6C-9275-7FCED7BC64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670A6A-7FC3-4271-9B22-230B31D8B0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4DEBD17-D27F-4779-BA0D-BCDACF1CE2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BA05C35-26D0-4158-ACAC-7574B4E0E5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E7C31C-99C6-4D2F-9DF8-349850EAE1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7AC9449-B270-4AE3-809A-93A9E21ABCE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7219801-192F-47FA-AC34-F96C1EC1186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14C3FB4-38CE-42DE-8C59-E1B51C1FAE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8F54D1-3459-4C3D-873E-4AF0841AF4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E634751-E292-4DDC-99F7-0A8F5FBBA71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0BB9D17-2BE1-456B-BE23-C7D70BF82D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7CC4A0E-A58E-4727-A60E-7D17202F7A8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146DB6-F46B-46C1-A2A4-9D877192E3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F102C0-BB06-48EA-A0BB-99264A1B066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1571BE0-CF84-4B6D-A828-718CAC5F4BB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57C6B5-862D-42D7-ABBF-0270B6EEE9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A17930-BD28-48F7-952C-067D2E7B8B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0028409-6F99-419D-B7AE-86FFC74FD04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A6EA5CE-6B52-4788-A159-0ED886497A2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60A7FCE-8BB1-4814-A3F2-42D850A202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5618D5-043E-4137-BAEC-FDFD9F5BB2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6896D7-D2D1-4B04-8E45-27331F5778D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871C33-E6DD-44C6-BC0D-7D074DB018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6D88CF-6042-482F-B4A0-597A979733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ED0F82-2D8E-410F-8F70-327294D07B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1A77F1-723F-46F7-A315-F2BD8C40B3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1F8E7-E999-4932-A899-1C983B9167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E66C7B-9BB7-4DE9-8BF5-7A5976588E1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C0444E-4A43-412A-BF3C-63AA8FD169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8559FD-05A4-48B3-BA4F-EE4B5E39611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54A9A63-ED58-4F6A-893E-9277A6A9F84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E6D6C9C-9386-477C-9306-1706B1ED2D7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E19361-2C43-4CC2-A52E-529CDFBF3B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406797-187C-433F-A3BD-DB57464DCE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C7694-542C-4A43-A09B-C4B6415502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E25032-6179-4275-8CD0-9602E8344F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D78F4-D029-41E8-AA50-F5C7E5FA0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C3D5B0-5C05-479F-B13A-16E1DCE940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EFE508-6651-4F3C-9025-37E66124DA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4B837-CA30-444E-93F4-EA1D7373A9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CC585-FE74-4A01-9FD5-D8D329F5826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8CDFD-DFC9-4933-B0D5-4E111B7036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50AC9-B3DA-4CB4-A2D4-F8D204F6FD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AF868A-1556-4AFD-B07C-3A084F25CF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84E37-FA86-452A-A570-F75B7FE8A3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23C9A6-7A1C-4B82-B40B-36E7E3A1A3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9709B8-8942-4756-97BD-CB4A4CADEA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04AD7-0B43-4A4F-86CF-BF8CA5399C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sldNum" idx="2"/>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B2C0-3FBD-422D-B3F5-DB3C4DCF3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0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PlaceHolder 5"/>
          <p:cNvSpPr>
            <a:spLocks noGrp="1"/>
          </p:cNvSpPr>
          <p:nvPr>
            <p:ph type="sldNum" idx="2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424E-E701-45F3-8650-AA2B47220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4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5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4"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5" name="PlaceHolder 5"/>
          <p:cNvSpPr>
            <a:spLocks noGrp="1"/>
          </p:cNvSpPr>
          <p:nvPr>
            <p:ph type="sldNum" idx="3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606E-B7F9-40A4-A28E-EDC193A70D1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ftr" idx="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sldNum" idx="4"/>
          </p:nvPr>
        </p:nvSpPr>
        <p:spPr>
          <a:xfrm>
            <a:off x="7384680" y="6248520"/>
            <a:ext cx="12193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B5C4-C7EE-4294-9B33-58F7EEAB4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5"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6" name="PlaceHolder 5"/>
          <p:cNvSpPr>
            <a:spLocks noGrp="1"/>
          </p:cNvSpPr>
          <p:nvPr>
            <p:ph type="sldNum" idx="7"/>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0386-62FF-4420-AAD6-5C102D520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9"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5"/>
          <p:cNvSpPr>
            <a:spLocks noGrp="1"/>
          </p:cNvSpPr>
          <p:nvPr>
            <p:ph type="sldNum" idx="10"/>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51AE-8135-47E9-9394-C33246915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6" name="PlaceHolder 5"/>
          <p:cNvSpPr>
            <a:spLocks noGrp="1"/>
          </p:cNvSpPr>
          <p:nvPr>
            <p:ph type="sldNum" idx="13"/>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6E92-7C73-456F-B9F6-71DA3AFF2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9" name="PlaceHolder 3"/>
          <p:cNvSpPr>
            <a:spLocks noGrp="1"/>
          </p:cNvSpPr>
          <p:nvPr>
            <p:ph type="dt" idx="14"/>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0" name="PlaceHolder 4"/>
          <p:cNvSpPr>
            <a:spLocks noGrp="1"/>
          </p:cNvSpPr>
          <p:nvPr>
            <p:ph type="ftr" idx="1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PlaceHolder 5"/>
          <p:cNvSpPr>
            <a:spLocks noGrp="1"/>
          </p:cNvSpPr>
          <p:nvPr>
            <p:ph type="sldNum" idx="16"/>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BD20-3398-48D0-9F50-1BA750D18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1"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4" name="PlaceHolder 3"/>
          <p:cNvSpPr>
            <a:spLocks noGrp="1"/>
          </p:cNvSpPr>
          <p:nvPr>
            <p:ph type="dt" idx="1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PlaceHolder 4"/>
          <p:cNvSpPr>
            <a:spLocks noGrp="1"/>
          </p:cNvSpPr>
          <p:nvPr>
            <p:ph type="ftr" idx="1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PlaceHolder 5"/>
          <p:cNvSpPr>
            <a:spLocks noGrp="1"/>
          </p:cNvSpPr>
          <p:nvPr>
            <p:ph type="sldNum" idx="19"/>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078A-9783-4C91-B30A-C159A9139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9" name="PlaceHolder 3"/>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0" name="PlaceHolder 4"/>
          <p:cNvSpPr>
            <a:spLocks noGrp="1"/>
          </p:cNvSpPr>
          <p:nvPr>
            <p:ph type="sldNum" idx="21"/>
          </p:nvPr>
        </p:nvSpPr>
        <p:spPr>
          <a:xfrm>
            <a:off x="738036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8118-2EB8-4966-A884-91A7D77F4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0"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3"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PlaceHolder 5"/>
          <p:cNvSpPr>
            <a:spLocks noGrp="1"/>
          </p:cNvSpPr>
          <p:nvPr>
            <p:ph type="sldNum" idx="24"/>
          </p:nvPr>
        </p:nvSpPr>
        <p:spPr>
          <a:xfrm>
            <a:off x="723744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6928-350B-40AF-B896-829C753C9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KT 420 </a:t>
            </a:r>
            <a:br>
              <a:rPr sz="3600"/>
            </a:br>
            <a:r>
              <a:rPr b="0" lang="en-US" sz="3600" spc="-1" strike="noStrike">
                <a:solidFill>
                  <a:srgbClr val="000000"/>
                </a:solidFill>
                <a:latin typeface="Arial"/>
              </a:rPr>
              <a:t>Contemporary Issues in Marketing</a:t>
            </a:r>
            <a:endParaRPr b="0" lang="en-US" sz="3600" spc="-1" strike="noStrike">
              <a:solidFill>
                <a:srgbClr val="000000"/>
              </a:solidFill>
              <a:latin typeface="Arial"/>
            </a:endParaRPr>
          </a:p>
        </p:txBody>
      </p:sp>
      <p:sp>
        <p:nvSpPr>
          <p:cNvPr id="50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hapter 3</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rts Marketing</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3880" y="1905120"/>
            <a:ext cx="7010640" cy="4114800"/>
          </a:xfrm>
          <a:prstGeom prst="rect">
            <a:avLst/>
          </a:prstGeom>
          <a:noFill/>
          <a:ln w="0">
            <a:noFill/>
          </a:ln>
        </p:spPr>
        <p:txBody>
          <a:bodyPr anchor="t">
            <a:normAutofit fontScale="97000"/>
          </a:bodyPr>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rganizing dates and managing logistics of resources to locations.</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the resources and quality : standards vs actuals.</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ion of project.</a:t>
            </a: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ing of project.</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 </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6E7F-B224-4808-A042-FF0C4BC6928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27" name="PlaceHolder 1"/>
          <p:cNvSpPr>
            <a:spLocks noGrp="1"/>
          </p:cNvSpPr>
          <p:nvPr>
            <p:ph type="title"/>
          </p:nvPr>
        </p:nvSpPr>
        <p:spPr>
          <a:xfrm>
            <a:off x="1523520" y="190440"/>
            <a:ext cx="7296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DUCTION OF AR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UMPTION OF ART</a:t>
            </a:r>
            <a:endParaRPr b="0" lang="en-US" sz="4200" spc="-1" strike="noStrike">
              <a:solidFill>
                <a:srgbClr val="000000"/>
              </a:solidFill>
              <a:latin typeface="Arial"/>
            </a:endParaRPr>
          </a:p>
        </p:txBody>
      </p:sp>
      <p:sp>
        <p:nvSpPr>
          <p:cNvPr id="529"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of art is a marketing issues, where scientific marketing research techniques need to applied to understand about the expectations of consum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Physical and social stimuli of consumers need to be understood by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pleasure (positive versus negative character of a feel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arousal (strength of a feeling).</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dominance (lever of freedom associated with a feel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84A2-6BAD-4061-9EDC-FB4218CF718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otti(2000) has identified four main needs of arts consumpt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ultural (e.g. knowledg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symbolic (e.g. using the arts as a source of meaning for communicating personali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social (e.g. building social relationships through consumption of the ar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emot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D139-A0EC-43A8-B714-0779B5D1018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33" name="PlaceHolder 1"/>
          <p:cNvSpPr>
            <a:spLocks noGrp="1"/>
          </p:cNvSpPr>
          <p:nvPr>
            <p:ph type="title"/>
          </p:nvPr>
        </p:nvSpPr>
        <p:spPr>
          <a:xfrm>
            <a:off x="1403280" y="190440"/>
            <a:ext cx="74167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UMPTION OF ART  </a:t>
            </a:r>
            <a:br>
              <a:rPr sz="4200"/>
            </a:br>
            <a:r>
              <a:rPr b="0" lang="en-US" sz="4200" spc="-1" strike="noStrike">
                <a:solidFill>
                  <a:srgbClr val="000000"/>
                </a:solidFill>
                <a:latin typeface="Arial"/>
              </a:rPr>
              <a: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RT BRANDS</a:t>
            </a:r>
            <a:endParaRPr b="0" lang="en-US" sz="4200" spc="-1" strike="noStrike">
              <a:solidFill>
                <a:srgbClr val="000000"/>
              </a:solidFill>
              <a:latin typeface="Arial"/>
            </a:endParaRPr>
          </a:p>
        </p:txBody>
      </p:sp>
      <p:sp>
        <p:nvSpPr>
          <p:cNvPr id="535"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mmercial art branding is concerned with sign and symbol like any other product or servic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 Identity issue are of foremost important like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ttractivenes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Credibility</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uthenticity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Legitimac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roblems in Art branding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brand is always centered around artist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ime new creativity (ETNC)</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Fragrance of glamour should always keep floating </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DF3E-337E-48D3-A116-F220735C723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RT BRANDS </a:t>
            </a:r>
            <a:r>
              <a:rPr b="0" lang="en-US" sz="1600" spc="-1" strike="noStrike">
                <a:solidFill>
                  <a:srgbClr val="000000"/>
                </a:solidFill>
                <a:latin typeface="Arial"/>
              </a:rPr>
              <a:t>Continued…. </a:t>
            </a:r>
            <a:endParaRPr b="0" lang="en-US" sz="1600" spc="-1" strike="noStrike">
              <a:solidFill>
                <a:srgbClr val="000000"/>
              </a:solidFill>
              <a:latin typeface="Arial"/>
            </a:endParaRPr>
          </a:p>
        </p:txBody>
      </p:sp>
      <p:sp>
        <p:nvSpPr>
          <p:cNvPr id="538" name=""/>
          <p:cNvSpPr txBox="1"/>
          <p:nvPr/>
        </p:nvSpPr>
        <p:spPr>
          <a:xfrm>
            <a:off x="1523880" y="1905120"/>
            <a:ext cx="7010640" cy="3611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o-branding : Arts can be co-branded with other product or services lik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partne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fficial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Promotion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ories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usical spons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a:t>
            </a:r>
            <a:r>
              <a:rPr b="0" lang="en-IN" sz="2400" spc="-1" strike="noStrike">
                <a:solidFill>
                  <a:srgbClr val="000000"/>
                </a:solidFill>
                <a:latin typeface="Arial"/>
              </a:rPr>
              <a:t>er spons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70C6-826B-42BB-8F2F-7ED9D30789F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a:t>
            </a:r>
            <a:endParaRPr b="0" lang="en-US" sz="4400" spc="-1" strike="noStrike">
              <a:solidFill>
                <a:srgbClr val="000000"/>
              </a:solidFill>
              <a:latin typeface="Arial"/>
            </a:endParaRPr>
          </a:p>
        </p:txBody>
      </p:sp>
      <p:sp>
        <p:nvSpPr>
          <p:cNvPr id="502"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t>
            </a:r>
            <a:r>
              <a:rPr b="0" lang="en-US" sz="1800" spc="-1" strike="noStrike">
                <a:solidFill>
                  <a:srgbClr val="336666"/>
                </a:solidFill>
                <a:latin typeface="Arial"/>
              </a:rPr>
              <a:t>art as ‘a mode of representation which is intrinsically final, and which, although devoid of an end, has the effect of advancing the culture of the mental powers in the interests of social communication”.</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t>
            </a:r>
            <a:r>
              <a:rPr b="0" lang="en-US" sz="1800" spc="-1" strike="noStrike">
                <a:solidFill>
                  <a:srgbClr val="336666"/>
                </a:solidFill>
                <a:latin typeface="Arial"/>
              </a:rPr>
              <a:t>Art as ‘infectious communication of emotions ’ Music, in that sense, has been inseparable from people throughout the ages, and for hundreds of years has been used to warn about danger, wars, herald animal hunting or to make rain; it has also been an intrinsic element on social occasions such as coronations, weddings, funerals and banquets”.</a:t>
            </a:r>
            <a:endParaRPr b="0" lang="en-US" sz="1800" spc="-1" strike="noStrike">
              <a:solidFill>
                <a:srgbClr val="000000"/>
              </a:solidFill>
              <a:latin typeface="Arial"/>
            </a:endParaRPr>
          </a:p>
        </p:txBody>
      </p:sp>
      <p:sp>
        <p:nvSpPr>
          <p:cNvPr id="503"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473B-824F-4B9B-8E6A-C8BE2601CDF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is a construct which is contextually and strategically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ed by individuals and social institutions to discu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man signifying practice, whereby a historically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ted artist, working from his/her lived inner and out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s, and from his/her creative imaginatio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and configures material and symbolic resources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ideas, images, sounds, smells, tastes, act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gestures – in accordance with certain art-generic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and arranges them in an expressive text whic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different dimensions of human experienc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A2CF-7658-4B30-BC4A-F630F0CE4C2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t>
            </a:r>
            <a:r>
              <a:rPr b="0" i="1" lang="en-US" sz="2000" spc="-1" strike="noStrike">
                <a:solidFill>
                  <a:srgbClr val="000000"/>
                </a:solidFill>
                <a:latin typeface="Arial"/>
              </a:rPr>
              <a:t>artist was seen as a person of exceptional ability, a genius, who was </a:t>
            </a:r>
            <a:r>
              <a:rPr b="0" lang="en-US" sz="2000" spc="-1" strike="noStrike">
                <a:solidFill>
                  <a:srgbClr val="000000"/>
                </a:solidFill>
                <a:latin typeface="Arial"/>
              </a:rPr>
              <a:t>inspired to produce wonderfully original works of the creative  Imagination, suffering poverty, neglect, obscurity and a tragic, early  death in the proc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lobalization effect of Artis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rtist is anyone who produces art with commercial inten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8E35-4170-475A-827A-AECA47F59DA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66"/>
                </a:solidFill>
                <a:latin typeface="Arial"/>
              </a:rPr>
              <a:t>DEFINITIONS OF ART AND THE ARTIS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 OF ARTS MARKETING</a:t>
            </a:r>
            <a:endParaRPr b="0" lang="en-US" sz="4400" spc="-1" strike="noStrike">
              <a:solidFill>
                <a:srgbClr val="000000"/>
              </a:solidFill>
              <a:latin typeface="Arial"/>
            </a:endParaRPr>
          </a:p>
        </p:txBody>
      </p:sp>
      <p:sp>
        <p:nvSpPr>
          <p:cNvPr id="511" name=""/>
          <p:cNvSpPr txBox="1"/>
          <p:nvPr/>
        </p:nvSpPr>
        <p:spPr>
          <a:xfrm>
            <a:off x="1523880" y="1905120"/>
            <a:ext cx="701064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a:t>
            </a:r>
            <a:r>
              <a:rPr b="1" lang="en-US" sz="2800" spc="-1" strike="noStrike">
                <a:solidFill>
                  <a:srgbClr val="000000"/>
                </a:solidFill>
                <a:latin typeface="Arial"/>
              </a:rPr>
              <a:t> </a:t>
            </a:r>
            <a:r>
              <a:rPr b="0" lang="en-US" sz="2800" spc="-1" strike="noStrike">
                <a:solidFill>
                  <a:srgbClr val="000000"/>
                </a:solidFill>
                <a:latin typeface="Arial"/>
              </a:rPr>
              <a:t>a managerial tool, located within the domain of cultural Intermediaries and positions marketing mix as a method used by artists and arts organization to promote cultural goods on a very competitive arts market.</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EE05-4159-4FC6-BF27-F60A2136934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 WORLDS OR CULTURAL INDUSTRIES</a:t>
            </a:r>
            <a:endParaRPr b="0" lang="en-US" sz="4400" spc="-1" strike="noStrike">
              <a:solidFill>
                <a:srgbClr val="000000"/>
              </a:solidFill>
              <a:latin typeface="Arial"/>
            </a:endParaRPr>
          </a:p>
        </p:txBody>
      </p:sp>
      <p:sp>
        <p:nvSpPr>
          <p:cNvPr id="514"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 worlds are all the people whose activities are necessary to th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duction of the characteristic works which that world, and perhap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thers as well, define as ar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 worlds are </a:t>
            </a:r>
            <a:r>
              <a:rPr b="0" lang="en-US" sz="1600" spc="-1" strike="noStrike">
                <a:solidFill>
                  <a:srgbClr val="000000"/>
                </a:solidFill>
                <a:latin typeface="Arial"/>
              </a:rPr>
              <a:t>identified as those ‘cultural actors’ as producers (artist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public) and intermediaries (individuals and organizatio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ved in communication and distribution of ar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s worlds are nowadays widely perceived as an industry, with all it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cultural and political consequences. Arts marketing is usually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ed to the creative and cultural industries (CC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171B-875E-47F9-9319-F6431584A81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ART PROJECT</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In any art project, there may be a wide range of roles, including producer, director, artist, consumer, critic, investor, regulator, cultural intermediary, business intermediary, policy intermediary, owner, administrator, trustee, beneficiary, and market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The question is what roles can be defined as marketing roles. In a narrow sense, promotion/publicity, and selling products are marketing roles. But in a broad sense there are many important activities such as : see next slid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7701-0B26-45DF-A576-C60DB65EB02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ART PROJECT   </a:t>
            </a:r>
            <a:r>
              <a:rPr b="0" lang="en-US" sz="1600" spc="-1" strike="noStrike">
                <a:solidFill>
                  <a:srgbClr val="000000"/>
                </a:solidFill>
                <a:latin typeface="Arial"/>
              </a:rPr>
              <a:t>Continued….</a:t>
            </a:r>
            <a:endParaRPr b="0" lang="en-US" sz="1600" spc="-1" strike="noStrike">
              <a:solidFill>
                <a:srgbClr val="000000"/>
              </a:solidFill>
              <a:latin typeface="Arial"/>
            </a:endParaRPr>
          </a:p>
        </p:txBody>
      </p:sp>
      <p:sp>
        <p:nvSpPr>
          <p:cNvPr id="520" name=""/>
          <p:cNvSpPr txBox="1"/>
          <p:nvPr/>
        </p:nvSpPr>
        <p:spPr>
          <a:xfrm>
            <a:off x="1476000" y="1483920"/>
            <a:ext cx="7010280" cy="4753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anding is one of the core activities of art   market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ibution of the arts is also another core activity of art marketing.</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nt management of the art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and funding Fan club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 </a:t>
            </a:r>
            <a:r>
              <a:rPr b="0" lang="en-US" sz="2400" spc="-1" strike="noStrike">
                <a:solidFill>
                  <a:srgbClr val="336666"/>
                </a:solidFill>
                <a:latin typeface="Arial"/>
              </a:rPr>
              <a:t>Managing e-marketing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aging copyrights, patents, trade marks, logos, symbols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Managing pirac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B01B-8C24-4F91-BFF9-53773297D23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DUCTION OF ART</a:t>
            </a:r>
            <a:endParaRPr b="0" lang="en-US" sz="4200" spc="-1" strike="noStrike">
              <a:solidFill>
                <a:srgbClr val="000000"/>
              </a:solidFill>
              <a:latin typeface="Arial"/>
            </a:endParaRPr>
          </a:p>
        </p:txBody>
      </p:sp>
      <p:sp>
        <p:nvSpPr>
          <p:cNvPr id="523" name=""/>
          <p:cNvSpPr txBox="1"/>
          <p:nvPr/>
        </p:nvSpPr>
        <p:spPr>
          <a:xfrm>
            <a:off x="1547640" y="148428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ommercial production of art begins with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 Budget, theme, top artist, locat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next step involve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ourcing the resour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unds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  </a:t>
            </a:r>
            <a:r>
              <a:rPr b="0" lang="en-US" sz="2000" spc="-1" strike="noStrike">
                <a:solidFill>
                  <a:srgbClr val="336666"/>
                </a:solidFill>
                <a:latin typeface="Arial"/>
              </a:rPr>
              <a:t>Manpower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erial procurement</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quipment(studi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local and international laws, cultural issues, language issues, political issues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Slide Number Placeholder 3"/>
          <p:cNvSpPr/>
          <p:nvPr/>
        </p:nvSpPr>
        <p:spPr>
          <a:xfrm>
            <a:off x="7237440" y="6248520"/>
            <a:ext cx="12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A5AD-C727-4E66-822A-C8D59F5B7B3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6:49:52Z</dcterms:created>
  <dc:creator>Yasser Mahfooz</dc:creator>
  <dc:description/>
  <dc:language>en-US</dc:language>
  <cp:lastModifiedBy>User</cp:lastModifiedBy>
  <cp:lastPrinted>2013-09-24T21:01:33Z</cp:lastPrinted>
  <dcterms:modified xsi:type="dcterms:W3CDTF">2014-02-24T10:15:35Z</dcterms:modified>
  <cp:revision>346</cp:revision>
  <dc:subject/>
  <dc:title>Slide 1</dc:title>
</cp:coreProperties>
</file>