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7B01-8AC3-4EBD-B7CD-6651738829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F19B-B604-4EB3-BD75-B90D25AF3CD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1B19-E7A0-4373-9C89-E01874C99CF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9129-966F-4B84-B8C9-BE20BEB4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1B91-D640-4BB7-99EC-DEC9AC34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2604FF-2835-4222-A5EC-B858AD3B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3839AB-AC5D-4454-B395-5DEC3402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BCA303-A792-4E26-BBA7-CFFD9E14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726433-E7A4-45E6-AE22-AC701284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2C9B7B-37C8-46AF-B719-3895EF27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4F2880-6AC8-4F94-9F06-847B0073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9D9FBA-323F-418D-ADEE-7A3371AB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C1ABD-4CCA-4F13-96CE-2C48BE42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6560BE-25C9-4403-B8AE-9968FC7C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381C0D-06B3-4CAE-9E61-16A6452B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487F-AC0E-4D88-B980-EDF967B5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465958-E45C-460F-83D1-EF564DD8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BB6492-EC58-4A2F-8317-30D71B83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C372F-7AD1-43EF-B56A-BE848D8E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9C14DB-B8A8-4D82-9D41-9BB09DE4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ED8618-F98C-49A8-B4F6-C19A7A3B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C891FF-4426-45B6-9E08-5F5A8837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D7080B-6F88-4268-9EF1-E401254C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CC6A0C-927E-478A-A2EA-55193EC1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AEFFE0-7D5C-44BA-813C-C67F2EE2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911F50-F441-481E-8DDA-CBF27770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01C9-3E55-4E11-9038-25592131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1265A6-CF73-49DF-8B4A-3088AEFF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7A270-E598-4EBD-BCD4-9311E510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7BE8A-A971-4C52-AFE2-A2897CDE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D7347-1FDD-41D7-8FE2-F0A6D768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47960-60FC-44F2-AD02-4A57C14D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E1DCB-535C-4D8A-BE97-51C8BF1A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ADEF4-8275-4587-ABDD-F404CC4D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EB190-7327-432B-88CA-D1AFA400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CD0E8-C15E-4BC4-BC1F-05FDC01A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199D4-2ECB-4F0B-86DC-85C7C63A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2729-166C-4F2C-B418-41589EF5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8FE2D-EE76-447C-8C3B-6ED9C589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2D790-31C3-4AF0-B4C5-14EC2EDE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1CF42-29D0-483C-9A30-067FF159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746406-C73C-4697-9E5A-962D5911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D64B2C-7527-4519-98D9-1DB9BF89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586605-BC9C-4048-A0BB-9AEDF561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7D21B2-B450-49A3-80BE-0D1DAA61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073F22-462E-4EB7-9112-1D2805F4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A0261E-F3DD-4298-A149-C16C57FD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BFD322-25E8-4909-BA45-E24E2195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063E-AF2D-4969-93A2-08D6856E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7DE8D-B75D-46C4-9683-BCD8B0D2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949258-14CE-46E2-B2B3-809CC479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EF631B-5A89-4BAF-B055-82197BA2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DC38FE-B0EF-48FC-966A-1C59C221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ADB5C1-42DC-4B71-93C1-ACF226EB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BDAF-D76D-4731-86C0-C529434F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6C8B-A7BC-4868-9315-4A0D9B7D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5F0B-6193-4AB4-8AD3-541F5C61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72C7-30CC-4B00-96C8-491C2E8F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12FA-D755-4B35-BCB0-3501B7FC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7123-5E4A-4E1C-A55A-EBBF1ADA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81BD-5ECC-47B0-ABF9-2D5A9055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9CED-7C30-4EDB-B3D2-0F985CBD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F3D4-CC80-4AA7-B378-16EF50BB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DDFD-170E-4376-9823-35D94E5F8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5B84-189B-4EC7-9C95-3B1E869A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67E6C-0B9D-4C33-AC0F-2DEC67DF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9CA51-EC55-4D65-AB6F-7F0633A8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C79C5-1F2A-443A-8E01-C3FEF204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02C63-9CE6-4FF8-B3A5-E88FA57D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79D37-05B2-4E5B-8E30-11153010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FF9E-543B-4EF2-BE59-F6A1BDAF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F5644-5065-448E-B045-1381454E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C382F-4AC9-4B79-A9C4-A9BA14E0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BD4CE-1FAE-4168-9C27-0E739D95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4479B-E177-4548-86AD-98399BE6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06C13-1554-41CF-9506-5F3C8351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BEACE-D1D2-43DC-B030-4C9C7FB6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3FBFF-F2D8-4822-AEC4-AD02FB155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3B06D-8FC0-4FF9-B817-E18E603D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FF43F-2B1B-4E3F-AD5D-30B3D6D0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F92A8-33BC-4BE7-B666-449F918C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77D1-0EFD-4953-AD9E-FFFE57E1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1A7F6-576E-4A25-B6F1-39E73FD6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1FADB-449D-4709-B5BD-E605A33E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7563D-3C82-4600-9A1C-11DBD5FD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4128F-8A7A-4D2F-B06F-9B2A4CE7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C1089-5892-4C10-A1E4-82024CBE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3D4A8-AC86-4AD6-8A52-6167B736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39845-A9C4-4025-BBE3-BFD9EED9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5B110-6351-4166-AB53-B638D4F6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DEC01-AE85-4E71-A760-5DF48AC5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154AF-F9F2-4E97-AB81-9BA318BA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16CB-4EA3-4F44-8C40-7B0903B9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DE408-7EA7-45AE-B4E6-7F4DF9C3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6ABE9-4E21-4FDF-AF35-EC84025B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5B99A-01D3-4BE3-93B0-991C30A7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2F579-C7FB-463D-8098-665FBCF5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07398-8D27-4ABA-8642-31477861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7B323-4485-4DBA-8FB6-FAFCF756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DB455-E443-47EF-8D8B-5AF6C591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45989-D1CE-4E65-9F63-562FABA5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F22CE-6936-4406-911C-58E32F9B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672B3-E9E5-49E1-8F59-C847880A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7D61-D58F-4883-B6F6-FCE5F571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9BC27-50D4-4CD1-BB9E-34D071BE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BD779-DF9D-4C98-BC5E-747F9740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8ABF0-AC12-4EC3-8994-BE695A19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42F30-EE4C-4C98-A64A-547E1A03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804F8-A3F0-41B3-BE7F-28FA43EA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E9765-A298-4862-88EF-FF67697D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68DF0-3A16-45ED-BE04-05FBEE13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A4A5B-73F4-45BD-B3AE-873F57FE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F8590-4546-4891-9966-ABC087ED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305E3-46E7-4472-B986-17E860D4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C4C8-81F2-45B6-86D0-B50E86FD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7FF12-44B3-44AF-9B80-77A5F202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2B140-14DF-462D-ADE9-361CDB30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3631E-C753-4F6A-B180-40D45CA4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C020C-8558-4CAF-A7A4-4FEAA145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A6319-1FA5-4DD4-8A80-9D68FC6E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A4488-E09E-44FE-AEA3-DBA0CB65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5B52B-A469-427F-B732-BE2FA221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A0907-535C-45C4-97CE-FE805D3F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47F34-6252-40FE-B5D9-A2326BB6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B2832-0C7C-4B9E-85DF-259DD956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3A3F-3BC0-4074-BB65-FAEECCE4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BCC94-9606-447C-A984-6770F122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13CF7-2D0B-4A61-8959-0D635BE3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69DEB-DA0C-44B8-B4B4-AE3DBB05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E7CBD-8EE5-4AF8-8E10-51F0FD72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5A06C-6D8F-4710-A9AE-9CF4EACA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20ACC-EDC7-4B8B-8B1C-7315ED74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E4C3C-4D65-4FE8-AAD2-3CB1F6C4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C5BBF-0338-4F53-A533-F2659E4E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D4876-A9FE-4899-81D2-2BF5D92A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D8248-07A9-45B6-816C-F3DD0F32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580D-B4F3-413E-8EB1-420F26AF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DDF4A-5DD2-4A98-8FA9-9A660864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9265B-EB06-458D-9C52-C6B371B5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A96F2-DFED-42B5-BE41-A0D0C5AD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E0833-344B-4914-B212-367C70F6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23EA5-6610-4F58-8ECA-8908220E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ACBF1-9AF8-482A-96E1-F419914C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DDDA1-C0B2-403D-9E32-EB1AB48A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654FF8-E023-4743-8577-888E8A06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CF8141-0DE6-4645-8B60-7032E281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835498-562A-4388-920A-10182C62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مستطيل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مستطيل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مستطيل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مستطيل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مستطيل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رابط مستقيم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شكل بيضاوي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شكل بيضاوي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FD7B-69C8-4773-8A1F-EC9E01C37A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رابط مستقيم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مستطيل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مستطيل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مستطيل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مستطيل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مستطيل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مستطيل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مستطيل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شكل بيضاوي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شكل بيضاوي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مستطيل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1565-5F3B-4719-ADA1-D4134DD336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مستطيل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مستطيل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مستطيل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مستطيل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مستطيل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مستطيل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رابط مستقيم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شكل بيضاوي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شكل بيضاوي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FF37-7F05-4093-A3F3-760FDE1068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مستطيل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مستطيل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مستطيل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مستطيل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مستطيل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مستطيل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رابط مستقيم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شكل بيضاوي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شكل بيضاوي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722A-79A0-4C84-8157-4B16ABF463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مستطيل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مستطيل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مستطيل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مستطيل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مستطيل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رابط مستقيم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مستطيل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شكل بيضاوي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شكل بيضاوي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1EB8-2979-4AAF-9ECA-6F4C570C77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مستطيل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مستطيل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مستطيل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مستطيل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مستطيل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رابط مستقيم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شكل بيضاوي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شكل بيضاوي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0304-FE1B-4831-834F-FEB44178F3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مستطيل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مستطيل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مستطيل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مستطيل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مستطيل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مستطيل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مستطيل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رابط مستقيم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شكل بيضاوي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شكل بيضاوي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F673-D957-4F48-B168-D7ECF865F4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مستطيل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مستطيل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مستطيل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مستطيل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مستطيل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مستطيل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رابط مستقيم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شكل بيضاوي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شكل بيضاوي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رابط مستقيم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5582-4838-4A9F-94B5-186DBDCD03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رابط مستقيم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مستطيل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مستطيل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مستطيل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مستطيل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مستطيل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مستطيل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رابط مستقيم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مستطيل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شكل بيضاوي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شكل بيضاوي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B2F0-C4BB-4128-9256-E629EC4D7F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مستطيل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مستطيل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مستطيل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مستطيل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مستطيل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مستطيل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رابط مستقيم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شكل بيضاوي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شكل بيضاوي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D56A-BC6D-4F72-BA78-62FD06DC77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مستطيل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مستطيل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مستطيل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مستطيل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مستطيل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مستطيل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BC8B-BC99-4796-8250-866407FEC9B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مستطيل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مستطيل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مستطيل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مستطيل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مستطيل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مستطيل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مستطيل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رابط مستقيم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شكل بيضاوي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شكل بيضاوي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مستطيل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167F-D57F-40A4-B9DE-85BAE39E10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440000" y="3429000"/>
            <a:ext cx="7246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646b86"/>
                </a:solidFill>
                <a:latin typeface="Georgia"/>
                <a:cs typeface="Times New Roman"/>
              </a:rPr>
              <a:t>طالباتي العزيزات 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Rectangle 10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2E76-3451-46C4-A1E7-65B86E95F990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d16349"/>
                </a:solidFill>
                <a:latin typeface="Georgia"/>
              </a:rPr>
              <a:t>السلام عليكم و رحمة الله و بركاته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7b9899"/>
                </a:solidFill>
                <a:latin typeface="Georgia"/>
              </a:rPr>
              <a:t>د ) مصادر التعلم : اسم الكتاب المقرر و قائمة المراجع و المواقع الالكترونية 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عنصر نائب لرقم الشريحة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67EC-2299-4D99-96EC-CA8AB5277D30}" type="slidenum">
              <a:rPr b="0" lang="ar-SA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</a:rPr>
              <a:t>دراسات في المحاسبة المتخصصة , د. مصطفي خضير , الجمعية السعودية المحاسبية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</a:rPr>
              <a:t>محاسبة المنشآت المالية ,د. إيهاب إبراهيم , د. حسن مصطفي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</a:rPr>
              <a:t>موقع منتدى المحاسبين العرب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</a:rPr>
              <a:t>موقع منتدى المحاسبين الأردنيين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</a:rPr>
              <a:t>موقع الهيئة السعودية للمحاسبين القانونيين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</a:rPr>
              <a:t>مواقع اليوتيوب ذات العلاقة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</a:rPr>
              <a:t>مواقع المجلات العلمية ذات العلاقة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56760" y="5000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-</a:t>
            </a:r>
            <a:r>
              <a:rPr b="1" lang="ar-EG" sz="3300" spc="-1" strike="noStrike">
                <a:solidFill>
                  <a:srgbClr val="7b9899"/>
                </a:solidFill>
                <a:latin typeface="Georgia"/>
              </a:rPr>
              <a:t>هـ</a:t>
            </a: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  </a:t>
            </a:r>
            <a:r>
              <a:rPr b="1" lang="ar-SA" sz="3300" spc="-1" strike="noStrike">
                <a:solidFill>
                  <a:srgbClr val="7b9899"/>
                </a:solidFill>
                <a:latin typeface="Georgia"/>
              </a:rPr>
              <a:t>وصف المعرفة التي سيتم اكتسابها في المقرر</a:t>
            </a: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: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معرفة </a:t>
            </a: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الطالبة بطبيعة 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</a:rPr>
              <a:t>محاسبة المنشات المتخصصة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</a:rPr>
              <a:t>معرفة  الطالبة بأهداف محاسبة المنشات المتخصصة وأدواتها وكيفية تحقيق هذه الأهداف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معرفة الطالبة ببعض المشاكل المحاسبية فى التطبيق العملى، وكيفية التعامل معها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عنصر نائب لرقم الشريحة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9F9F-7B78-4B67-8DB6-259592C08822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300" spc="-1" strike="noStrike">
                <a:solidFill>
                  <a:srgbClr val="7b9899"/>
                </a:solidFill>
                <a:latin typeface="Georgia"/>
              </a:rPr>
              <a:t>و - </a:t>
            </a: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ar-EG" sz="3300" spc="-1" strike="noStrike">
                <a:solidFill>
                  <a:srgbClr val="7b9899"/>
                </a:solidFill>
                <a:latin typeface="Georgia"/>
              </a:rPr>
              <a:t>المهارات المعرفية المطلوب تطويرها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285480" y="2785680"/>
            <a:ext cx="8504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القدرة على تحليل و معالجة  القضايا و المشكلات  المحاسبية ذات الصلة بالمنشات المتخصصة بطريقة علمية ومنهجية 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عنصر نائب لرقم الشريحة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D475-59CF-47BC-89F2-7203BD120676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 u="sng">
                <a:solidFill>
                  <a:srgbClr val="7b9899"/>
                </a:solidFill>
                <a:uFillTx/>
                <a:latin typeface="Georgia"/>
              </a:rPr>
              <a:t>استراتيجيات التعلم المستخدمة في تطوير المهارات المعرفية: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عنصر نائب لرقم الشريحة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05FA-8795-4A15-BBD5-C8305C78AEC4}" type="slidenum">
              <a:rPr b="0" lang="ar-SA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-إعطاء الطالبة مشاكل وواجبات تتطلب جمع معلومات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و تنظيمها و تحليلها  و الوصول الي الخلاصة او التوصية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-الاطلاع على الاتجاهات ا لحديثة  ذات الصلة بالاطار الفكري المحاسبي  و اعداد ملخصات باهم نقاط التحدي و مصادرها و كيف يمكن التغلب عليها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b9899"/>
                </a:solidFill>
                <a:uFillTx/>
                <a:latin typeface="Georgia"/>
              </a:rPr>
              <a:t>استراتيجيات التعلم المستخدمة في تطوير</a:t>
            </a:r>
            <a:r>
              <a:rPr b="1" lang="ar-EG" sz="2800" spc="-1" strike="noStrike" u="sng">
                <a:solidFill>
                  <a:srgbClr val="7b9899"/>
                </a:solidFill>
                <a:uFillTx/>
                <a:latin typeface="Georgia"/>
              </a:rPr>
              <a:t> </a:t>
            </a:r>
            <a:r>
              <a:rPr b="1" lang="en-US" sz="2800" spc="-1" strike="noStrike" u="sng">
                <a:solidFill>
                  <a:srgbClr val="7b9899"/>
                </a:solidFill>
                <a:uFillTx/>
                <a:latin typeface="Georgia"/>
              </a:rPr>
              <a:t> المهارات والقدرات</a:t>
            </a:r>
            <a:r>
              <a:rPr b="1" lang="ar-SA" sz="2800" spc="-1" strike="noStrike" u="sng">
                <a:solidFill>
                  <a:srgbClr val="7b9899"/>
                </a:solidFill>
                <a:uFillTx/>
                <a:latin typeface="Georgia"/>
              </a:rPr>
              <a:t> الاخري</a:t>
            </a:r>
            <a:br>
              <a:rPr sz="2800"/>
            </a:b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فرق العمل ال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جماع</a:t>
            </a: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ي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التكليف الفردي بالواجبات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Georgia"/>
              </a:rPr>
              <a:t>المناقشة و الحوار داخل المحاضرة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Georgia"/>
              </a:rPr>
              <a:t>الزيارة العلمية لاحدي المنشات المتخصصة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Georgia"/>
              </a:rPr>
              <a:t>المقابلات الشخصية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Georgia"/>
              </a:rPr>
              <a:t>دراسة الحالة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عنصر نائب لرقم الشريحة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1990-9D36-4487-9CDF-FB95C16D36AA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7b9899"/>
                </a:solidFill>
                <a:latin typeface="Georgia"/>
              </a:rPr>
              <a:t>-  نظام تقويم الطالبات و قياس الأداء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 تقييم المعرفة المكتسبة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تقييم المهارات المعرفية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تقييم الاتجاهات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تقييم الرضا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عنصر نائب لرقم الشريحة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6897-42BF-4472-8F8E-EC7320CACB4B}" type="slidenum">
              <a:rPr b="0" lang="ar-SA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7b9899"/>
                </a:solidFill>
                <a:latin typeface="Georgia"/>
              </a:rPr>
              <a:t>طرق تقييم المعرفة المكتسبة ( التطبيق – التحليل – الاستدلال)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عنصر نائب لرقم الشريحة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D22D-7004-41CE-A050-3364D033C61D}" type="slidenum">
              <a:rPr b="1" lang="ar-SA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اعطاء الطالبات مشاكل محاسبية أو دراسات حالة معينة والطلب منهن دراستها وإيجاد حل لها ,مع متابعتهم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ا متحانات تحريرية فصلية ونهائية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المشاركة شفويا في الاجابة علي  عينة من الاسئلة  او التطبيقات المتاحة اثناء المحاضرة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مناقشة التحديات التي  تواجهة التطبيق و اقتراح الحلول الملائمة لها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7b9899"/>
                </a:solidFill>
                <a:latin typeface="Georgia"/>
              </a:rPr>
              <a:t> جدول تقييم الاداء زمنيا خلال الفصل الدراسي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عنصر نائب لرقم الشريحة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E213-E55E-42AD-BB2F-04EF78D97106}" type="slidenum">
              <a:rPr b="0" lang="ar-SA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457200" y="1600200"/>
          <a:ext cx="8229600" cy="4978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24397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Arial"/>
                          <a:cs typeface="AL-Mohanad Bold"/>
                        </a:rPr>
                        <a:t>نسبة الدرجة إلى درجة  التقييم النهائ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موعد و المكا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Arial"/>
                          <a:cs typeface="AL-Mohanad Bold"/>
                        </a:rPr>
                        <a:t>طبيعة مهمة التقييم  (مثلا: مقالة، أو اختبار قصير، أو مشروع جماعي، أو اختبار فصلي... ال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Arial"/>
                          <a:cs typeface="AL-Mohanad Bold"/>
                        </a:rPr>
                        <a:t>رقم التقيي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Arial"/>
                          <a:ea typeface="AL-Mohanad Bold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 /</a:t>
                      </a: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12/14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Arial"/>
                          <a:cs typeface="AL-Mohanad Bold"/>
                        </a:rPr>
                        <a:t>الامتحان الفصلي  لاو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Arial"/>
                          <a:ea typeface="AL-Mohanad Bold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ecb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Arial"/>
                          <a:ea typeface="AL-Mohanad Bold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Arial"/>
                          <a:ea typeface="Times New Roman"/>
                        </a:rPr>
                        <a:t>5/2/14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Arial"/>
                          <a:cs typeface="AL-Mohanad Bold"/>
                        </a:rPr>
                        <a:t>الامتحان الفصلي  الث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Arial"/>
                          <a:ea typeface="AL-Mohanad Bold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e7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Arial"/>
                          <a:ea typeface="AL-Mohanad Bold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Arial"/>
                          <a:cs typeface="Times New Roman"/>
                        </a:rPr>
                        <a:t>جدول الاختبارات النهائي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Arial"/>
                          <a:cs typeface="AL-Mohanad Bold"/>
                        </a:rPr>
                        <a:t>امتحان نهائ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ecb"/>
                    </a:solidFill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Arial"/>
                          <a:ea typeface="AL-Mohanad Bold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Arial"/>
                          <a:cs typeface="AL-Mohanad Bold"/>
                        </a:rPr>
                        <a:t>خلال الفصل حسب الادا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Arial"/>
                          <a:cs typeface="AL-Mohanad Bold"/>
                        </a:rPr>
                        <a:t>واجبات (وجبات، عمل جماعي ، عروض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Arial"/>
                          <a:ea typeface="AL-Mohanad Bold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500040"/>
            <a:ext cx="853452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1" lang="ar-SA" sz="3000" spc="-1" strike="noStrike">
                <a:solidFill>
                  <a:srgbClr val="7b9899"/>
                </a:solidFill>
                <a:latin typeface="Georgia"/>
              </a:rPr>
              <a:t>:</a:t>
            </a:r>
            <a:br>
              <a:rPr sz="3000"/>
            </a:br>
            <a:r>
              <a:rPr b="1" lang="ar-SA" sz="3000" spc="-1" strike="noStrike">
                <a:solidFill>
                  <a:srgbClr val="7b9899"/>
                </a:solidFill>
                <a:latin typeface="Georgia"/>
              </a:rPr>
              <a:t>– طرق تقييم المهارات المعرفية المكتسبة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01680" y="2000160"/>
            <a:ext cx="884232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 u="sng">
                <a:solidFill>
                  <a:srgbClr val="000000"/>
                </a:solidFill>
                <a:uFillTx/>
                <a:latin typeface="Georgia"/>
                <a:cs typeface="Times New Roman"/>
              </a:rPr>
              <a:t>ملاحظة الأداء أثناء  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المناقشة أثناء المحاضرة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الإجابة علي الأسئلة الشفوية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حل التطبيقات  و منا قشة الأفكار المطروحة علي أوراق العمل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عنصر نائب لرقم الشريحة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87C9-2597-4B78-93A1-612B6EF6F8A9}" type="slidenum">
              <a:rPr b="0" lang="ar-SA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7b9899"/>
                </a:solidFill>
                <a:latin typeface="Georgia"/>
              </a:rPr>
              <a:t>طرق تقييم الاتجاهات 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8" name="عنصر نائب لرقم الشريحة 2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0DF4-2182-4D32-8D85-4D9AB8234352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 u="sng">
                <a:solidFill>
                  <a:srgbClr val="000000"/>
                </a:solidFill>
                <a:uFillTx/>
                <a:latin typeface="Georgia"/>
                <a:cs typeface="Times New Roman"/>
              </a:rPr>
              <a:t>ملاحظة   : تقييم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مدي الالتزام بالحضور في القاعة التدريسية في المواعيد المقررة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مدي المشاركة بايجابية في حل التطبيقات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مدي الالتزام بالسلوك الملائم داخل القاعة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مدي التفاعل الايجابي أثناء المناقشة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عنصر نائب لرقم الشريحة 2"/>
          <p:cNvSpPr/>
          <p:nvPr/>
        </p:nvSpPr>
        <p:spPr>
          <a:xfrm>
            <a:off x="4343400" y="1036800"/>
            <a:ext cx="4572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1935-B8C4-4552-A443-6DA12A60E0CF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7" name="Picture 6" descr="زهرة 4"/>
          <p:cNvPicPr/>
          <p:nvPr/>
        </p:nvPicPr>
        <p:blipFill>
          <a:blip r:embed="rId1"/>
          <a:stretch/>
        </p:blipFill>
        <p:spPr>
          <a:xfrm>
            <a:off x="914400" y="1447920"/>
            <a:ext cx="7086600" cy="472428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b9899"/>
                </a:solidFill>
                <a:latin typeface="Georgia"/>
              </a:rPr>
              <a:t>مرحبا </a:t>
            </a:r>
            <a:br>
              <a:rPr sz="3200"/>
            </a:br>
            <a:r>
              <a:rPr b="1" lang="ar-SA" sz="3200" spc="-1" strike="noStrike">
                <a:solidFill>
                  <a:srgbClr val="7b9899"/>
                </a:solidFill>
                <a:latin typeface="Georgia"/>
              </a:rPr>
              <a:t>وكل فصل دراسي و أنتن في خير و توفيق من رب العالمين 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7b9899"/>
                </a:solidFill>
                <a:latin typeface="Georgia"/>
              </a:rPr>
              <a:t>قياس مستوي الرضا لدي الطالبة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عنصر نائب لرقم الشريحة 2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D9AD-B7E1-42F2-8F6B-442BCFF6AE66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01320" y="1115640"/>
            <a:ext cx="8413560" cy="393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Garamond"/>
                <a:ea typeface="Times New Roman"/>
              </a:rPr>
              <a:t>  من خلال تقييم الذاتي و الاستبيان للمحاور التالية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90360" algn="r" rtl="1">
              <a:lnSpc>
                <a:spcPct val="100000"/>
              </a:lnSpc>
              <a:buClr>
                <a:srgbClr val="002060"/>
              </a:buClr>
              <a:buSzPct val="85000"/>
              <a:buFont typeface="Garamond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Garamond"/>
                <a:cs typeface="Times New Roman"/>
              </a:rPr>
              <a:t>القدرة على العمل ضمن فريق (التحلي بروح العمل الجماعي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90360" algn="r" rtl="1">
              <a:lnSpc>
                <a:spcPct val="100000"/>
              </a:lnSpc>
              <a:buClr>
                <a:srgbClr val="002060"/>
              </a:buClr>
              <a:buSzPct val="85000"/>
              <a:buFont typeface="Garamond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Garamond"/>
                <a:cs typeface="Times New Roman"/>
              </a:rPr>
              <a:t>مهارات التطبيق الناجح.الفعال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90360" algn="r" rtl="1">
              <a:lnSpc>
                <a:spcPct val="100000"/>
              </a:lnSpc>
              <a:buClr>
                <a:srgbClr val="002060"/>
              </a:buClr>
              <a:buSzPct val="85000"/>
              <a:buFont typeface="Garamond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Garamond"/>
                <a:cs typeface="Times New Roman"/>
              </a:rPr>
              <a:t>مهارات الإلقاء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90360" algn="r" rtl="1">
              <a:lnSpc>
                <a:spcPct val="100000"/>
              </a:lnSpc>
              <a:buClr>
                <a:srgbClr val="002060"/>
              </a:buClr>
              <a:buSzPct val="85000"/>
              <a:buFont typeface="Garamond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Garamond"/>
                <a:cs typeface="Times New Roman"/>
              </a:rPr>
              <a:t>القدرة على التعامل مع الرأي الآخر -أو المخالف- بطريقة سليمة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90360" algn="r" rtl="1">
              <a:lnSpc>
                <a:spcPct val="100000"/>
              </a:lnSpc>
              <a:buClr>
                <a:srgbClr val="002060"/>
              </a:buClr>
              <a:buSzPct val="85000"/>
              <a:buFont typeface="Garamond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Garamond"/>
                <a:cs typeface="Times New Roman"/>
              </a:rPr>
              <a:t>الاستفادة من الآخرين والتعاون معه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90360" algn="r" rtl="1">
              <a:lnSpc>
                <a:spcPct val="100000"/>
              </a:lnSpc>
              <a:buClr>
                <a:srgbClr val="002060"/>
              </a:buClr>
              <a:buSzPct val="85000"/>
              <a:buFont typeface="Garamond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Garamond"/>
                <a:cs typeface="Times New Roman"/>
              </a:rPr>
              <a:t>القدرة على إدارة الحوارات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300" spc="-1" strike="noStrike">
                <a:solidFill>
                  <a:srgbClr val="7b9899"/>
                </a:solidFill>
                <a:latin typeface="Georgia"/>
              </a:rPr>
              <a:t>عمليات التحقق من مستويات إنجاز الطالبات</a:t>
            </a: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  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مراجعة عينة من الإجابات من قبل لجنة متخصصة بالقس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المراجعة والتصحيح الجماعي بالقس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المراجع الخارجي لعينة من أوراق إجابات الطلاب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عنصر نائب لرقم الشريحة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8ED8-A72D-4D9E-8C3C-DECD997F8BEA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320" y="499680"/>
            <a:ext cx="8534520" cy="9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7b9899"/>
                </a:solidFill>
                <a:latin typeface="Georgia"/>
              </a:rPr>
              <a:t>تقويم المقرر و عمليات التحسين: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7" name="عنصر نائب لرقم الشريحة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9897-C6CC-4304-9F83-3DD0464B1C9D}" type="slidenum">
              <a:rPr b="0" lang="ar-SA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الحصول على تغذية راجعة من الطالبة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نموذج التقييم الذاتي المعد من قبل الطالبة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قائمة الاستبيان التي توزع غلي الطالبات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 تقييم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  </a:t>
            </a: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عملية التعليم إما عن طريق الأستاذ أو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    </a:t>
            </a: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طريق القس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700" spc="-1" strike="noStrike">
                <a:solidFill>
                  <a:srgbClr val="000000"/>
                </a:solidFill>
                <a:latin typeface="Georgia"/>
              </a:rPr>
              <a:t>المراجعة الدورية للمقرر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eer review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عنوان 1" descr=""/>
          <p:cNvPicPr/>
          <p:nvPr/>
        </p:nvPicPr>
        <p:blipFill>
          <a:blip r:embed="rId1"/>
          <a:stretch/>
        </p:blipFill>
        <p:spPr>
          <a:xfrm>
            <a:off x="0" y="401760"/>
            <a:ext cx="8534520" cy="117792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            </a:t>
            </a: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تحديث مصادر التعلم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تشجيع استخدام التقنية الحديثة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           </a:t>
            </a: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تشجيع القراءات الخارجية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           </a:t>
            </a: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تشجيع الطالبات على التقديم والإلقاء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و المناقشات الجماعية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عنصر نائب لرقم الشريحة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7F82-D2EC-49D5-8CA2-BEE60DE8B426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7b9899"/>
                </a:solidFill>
                <a:latin typeface="Georgia"/>
              </a:rPr>
              <a:t>الي اللقاء والله ولي التوفيق 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3" name="عنصر نائب لرقم الشريحة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C1A4-1C13-4707-B7A6-B114697E7EA5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5" name="صورة 6" descr="تقرير 1 ربحية.jpg"/>
          <p:cNvPicPr/>
          <p:nvPr/>
        </p:nvPicPr>
        <p:blipFill>
          <a:blip r:embed="rId1"/>
          <a:stretch/>
        </p:blipFill>
        <p:spPr>
          <a:xfrm>
            <a:off x="357120" y="1428840"/>
            <a:ext cx="87868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1476360" y="34290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46b86"/>
                </a:solidFill>
                <a:latin typeface="Georgia"/>
                <a:cs typeface="Times New Roman"/>
              </a:rPr>
              <a:t>توصيف المقرر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Rectangle 10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1F88-E9E4-48B1-8697-B431668FC9B9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title"/>
          </p:nvPr>
        </p:nvSpPr>
        <p:spPr>
          <a:xfrm>
            <a:off x="1442520" y="1138320"/>
            <a:ext cx="7239240" cy="112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d16349"/>
                </a:solidFill>
                <a:latin typeface="Georgia"/>
              </a:rPr>
              <a:t> مقرر محاسبة المنشات المتخصصة </a:t>
            </a:r>
            <a:r>
              <a:rPr b="1" lang="ar-SA" sz="4200" spc="-1" strike="noStrike">
                <a:solidFill>
                  <a:srgbClr val="d16349"/>
                </a:solidFill>
                <a:latin typeface="Georgia"/>
              </a:rPr>
              <a:t>421</a:t>
            </a:r>
            <a:r>
              <a:rPr b="1" lang="ar-SA" sz="4200" spc="-1" strike="noStrike">
                <a:solidFill>
                  <a:srgbClr val="d16349"/>
                </a:solidFill>
                <a:latin typeface="Georgia"/>
              </a:rPr>
              <a:t>حسب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ar-SA" sz="3000" spc="-1" strike="noStrike">
                <a:solidFill>
                  <a:srgbClr val="7b9899"/>
                </a:solidFill>
                <a:latin typeface="Georgia"/>
              </a:rPr>
              <a:t>أ ) تحديد المقرر والمعلومات العامة 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عنصر نائب لرقم الشريحة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624E-2D0F-4CE6-A877-C9E9B78C4171}" type="slidenum">
              <a:rPr b="0" lang="ar-SA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1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 – اسم المقرر و رقمه:   محاسبة المنشات المتخصصة 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421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 حسب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2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 –  الساعات المعتمدة: 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3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 ساعات معتمدة للمحاضرة و التطبي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3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 – المستوى أو السنة التي سيتم تقديم هذه المقرر فيه: من المستوي السابع برنامج بكالوريوس  المحاسبة (مقرر اجباري 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4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 – يستفيد من المقرر قسم المحاسبة و قسم المالية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5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 – المتطلبات المسبقة لهذه المقرر.........................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6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– المتطلبات المصاحبة لهذه المقرر .........................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3137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7b9899"/>
                </a:solidFill>
                <a:latin typeface="Georgia"/>
              </a:rPr>
              <a:t>ب )أهداف المقرر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عنصر نائب لرقم الشريحة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D7DD-CA3F-4264-B0EC-3BA33286CBA2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370160" y="1835280"/>
            <a:ext cx="73152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lnSpc>
                <a:spcPct val="80000"/>
              </a:lnSpc>
              <a:spcBef>
                <a:spcPts val="8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000000"/>
                </a:solidFill>
                <a:latin typeface="Georgia"/>
                <a:ea typeface="Times New Roman"/>
              </a:rPr>
              <a:t>1</a:t>
            </a:r>
            <a:r>
              <a:rPr b="0" lang="ar-SA" sz="3300" spc="-1" strike="noStrike">
                <a:solidFill>
                  <a:srgbClr val="000000"/>
                </a:solidFill>
                <a:latin typeface="Georgia"/>
                <a:ea typeface="Times New Roman"/>
              </a:rPr>
              <a:t>- تعميق فهم الطالبة للأساس الفكري و الإطار التطبيقي  للمحاسبة </a:t>
            </a:r>
            <a:r>
              <a:rPr b="0" lang="ar-SA" sz="3300" spc="-1" strike="noStrike">
                <a:solidFill>
                  <a:srgbClr val="000000"/>
                </a:solidFill>
                <a:latin typeface="Georgia"/>
              </a:rPr>
              <a:t>وفقا لنوعية المنشاة المتخصصة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 algn="r" rtl="1">
              <a:lnSpc>
                <a:spcPct val="80000"/>
              </a:lnSpc>
              <a:spcBef>
                <a:spcPts val="8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000000"/>
                </a:solidFill>
                <a:latin typeface="Georgia"/>
                <a:ea typeface="Times New Roman"/>
              </a:rPr>
              <a:t>2</a:t>
            </a:r>
            <a:r>
              <a:rPr b="0" lang="ar-SA" sz="3300" spc="-1" strike="noStrike">
                <a:solidFill>
                  <a:srgbClr val="000000"/>
                </a:solidFill>
                <a:latin typeface="Georgia"/>
                <a:ea typeface="Times New Roman"/>
              </a:rPr>
              <a:t>- تعريف الطالبة بالمداخل و المناهج المختلفة لبناء إستراتيجية المعالجة المحاسبية وفقا لنوعية المنشاة المتخصصة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 algn="r" rtl="1">
              <a:lnSpc>
                <a:spcPct val="80000"/>
              </a:lnSpc>
              <a:spcBef>
                <a:spcPts val="8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000000"/>
                </a:solidFill>
                <a:latin typeface="Georgia"/>
                <a:ea typeface="Times New Roman"/>
              </a:rPr>
              <a:t>3</a:t>
            </a:r>
            <a:r>
              <a:rPr b="0" lang="ar-SA" sz="3300" spc="-1" strike="noStrike">
                <a:solidFill>
                  <a:srgbClr val="000000"/>
                </a:solidFill>
                <a:latin typeface="Georgia"/>
                <a:ea typeface="Times New Roman"/>
              </a:rPr>
              <a:t> - تطبيق الطالبة لأسس القياس و العرض و الإفصاح </a:t>
            </a:r>
            <a:r>
              <a:rPr b="0" lang="ar-SA" sz="3300" spc="-1" strike="noStrike">
                <a:solidFill>
                  <a:srgbClr val="000000"/>
                </a:solidFill>
                <a:latin typeface="Georgia"/>
              </a:rPr>
              <a:t>وفقا لنوعية المنشاة المتخصصة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 algn="r" rtl="1">
              <a:lnSpc>
                <a:spcPct val="80000"/>
              </a:lnSpc>
              <a:spcBef>
                <a:spcPts val="8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000000"/>
                </a:solidFill>
                <a:latin typeface="Georgia"/>
                <a:ea typeface="Times New Roman"/>
              </a:rPr>
              <a:t>4</a:t>
            </a:r>
            <a:r>
              <a:rPr b="0" lang="ar-SA" sz="3300" spc="-1" strike="noStrike">
                <a:solidFill>
                  <a:srgbClr val="000000"/>
                </a:solidFill>
                <a:latin typeface="Georgia"/>
                <a:ea typeface="Times New Roman"/>
              </a:rPr>
              <a:t>- تحقيق جودة المعالجة المحاسبية </a:t>
            </a:r>
            <a:r>
              <a:rPr b="0" lang="ar-SA" sz="3300" spc="-1" strike="noStrike">
                <a:solidFill>
                  <a:srgbClr val="000000"/>
                </a:solidFill>
                <a:latin typeface="Georgia"/>
              </a:rPr>
              <a:t>وفقا لنوعية المنشاة المتخصصة</a:t>
            </a:r>
            <a:r>
              <a:rPr b="0" lang="ar-SA" sz="33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 algn="r" rtl="1">
              <a:lnSpc>
                <a:spcPct val="80000"/>
              </a:lnSpc>
              <a:spcBef>
                <a:spcPts val="8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b9899"/>
                </a:solidFill>
                <a:latin typeface="Georgia"/>
              </a:rPr>
              <a:t>ج ) وصف المقرر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eorgia"/>
              </a:rPr>
              <a:t>يتناول هذا المقرر عملية تعريف الطالبة ببعض المشاكل المحاسبية فى التطبيق العملى والتى تترتب على تنوع مجالات النشاط المختلفة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1" lang="ar-SA" sz="3200" spc="-1" strike="noStrike">
                <a:solidFill>
                  <a:srgbClr val="000000"/>
                </a:solidFill>
                <a:latin typeface="Georgia"/>
              </a:rPr>
              <a:t>وتشمل محتويات المقرر الموضوعات التالي ذكرها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عنصر نائب لرقم الشريحة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DEDB-E3FC-42CC-AD28-11252000D81B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714240"/>
            <a:ext cx="853452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7b9899"/>
                </a:solidFill>
                <a:uFillTx/>
                <a:latin typeface="Georgia"/>
              </a:rPr>
              <a:t>المحاسبة فى المنشآت ذات الفروع .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680" y="1557360"/>
            <a:ext cx="84470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</a:rPr>
              <a:t>محاسبة الفروع الغير مستقلة 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</a:rPr>
              <a:t>التسعير بطريقة التكلفة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</a:rPr>
              <a:t>التسعير بطريقة سعر البيع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</a:rPr>
              <a:t>التسعير بطريقة السعر الافتراضي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</a:rPr>
              <a:t>محاسبة الفروع المستقلة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عنصر نائب لرقم الشريحة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8E99-5DE4-4A35-926F-80838A10DFD7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7b9899"/>
                </a:solidFill>
                <a:uFillTx/>
                <a:latin typeface="Georgia"/>
              </a:rPr>
              <a:t>المحاسبة فى البنوك 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28960" indent="-22896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</a:rPr>
              <a:t>مقدمة فى النظام المصرفى وطبيعة النظام المحاسبى فى البنوك التجارية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28960" indent="-22896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المحاسبة عن العمليات النقدية وحسابات الودائ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28960" indent="-22896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عمليات الأوراق المالية والتجارية 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28960" indent="-22896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عمليات الإعتمادات المستندية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28960" indent="-22896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عمليات منح الإئتمان وبطاقات الإئتمان 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28960" indent="-22896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عمليات الخدمة المصرفية و عمليات المقاصة 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28960" indent="-22896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الرقابة الداخلية والحسابات العامة 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28960" indent="-22896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القوائم المالية 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28960" indent="-228960"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28960" indent="-22896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عنصر نائب لرقم الشريحة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18A2-AF5C-4817-BCA5-1FFAE87BF982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المحاسبة فى شركات التأمين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طبيعة عمليات التأمين وأثرها على النظام المحاسبى 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القيود المركزية والقوائم المالية 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عنصر نائب لرقم الشريحة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BDF2-260A-4D15-8BF7-CB2E8E64CEF9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17:49:46Z</dcterms:created>
  <dc:creator>***</dc:creator>
  <dc:description/>
  <dc:language>en-US</dc:language>
  <cp:lastModifiedBy>user</cp:lastModifiedBy>
  <dcterms:modified xsi:type="dcterms:W3CDTF">2013-10-24T10:05:40Z</dcterms:modified>
  <cp:revision>49</cp:revision>
  <dc:subject/>
  <dc:title> مقرر نظرية  المحاسبة</dc:title>
</cp:coreProperties>
</file>