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21DD-B3EA-4970-B042-9433094A45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3AA7-6D33-4DDE-86E7-DBF44A4BAFE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56AC-D8D9-4311-B1CA-5908763CDEC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2C1F-C980-4CEB-8539-76D6C41D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7920-243E-4818-9F22-646975F0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BE0FB-C57A-47E1-BCF2-AB470459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438D07-5FB2-46DD-894F-8AA0D7D5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DEF8EA-A39C-435A-A91B-BFDACA7B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D4F068-7B8B-4912-8311-BD137512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E0DE7C-651B-408B-A5F0-24C94E89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96FA55-8B25-4BFE-A73C-87E4F33D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A0DDDF-1BAB-46A2-BC0D-D88FBBFE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AB4D97-ECEE-49E8-A8FB-6945FA9E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4B98D8-3418-4A29-94B4-86547B28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9CABDE-68C3-4A88-81F6-D6E635F16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C743-B39B-4AD4-9E5B-A75040CE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BD4811-544E-4B42-B50B-D0A1C0CE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C11EE5-8121-403A-9217-91D2681A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9ED6E7-AB2C-4E02-99D1-ADC2B1E9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16818-706D-4B5B-8587-F20269D5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430CF1-8033-4380-A22D-12A104A0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E92B1D-658A-4D59-A520-2C981B00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7C7D1F-444B-429F-A20F-B268E6F6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6FEDA7-64F8-40F2-BCF3-4D51335E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9A97C6-27C8-4CA7-9561-2E2DA0F3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AFE0BA-7D22-438C-B67C-D13B1D1E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205A-45D0-40CC-94B1-77A37919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B1E820-3249-4046-8FF0-81DB1EA1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AEFFB-94B2-4109-AD11-FB5518FF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0AE82-F70B-4B0B-A853-09349670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C93C5-AE19-4637-8CC2-9472E33B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A4D1D-8AEA-4899-BB28-95E9123F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90169-E89C-432A-A5C8-44FEBEE4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7C275-2EA8-4A50-997A-E64A30D4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C35F8-E47C-41D4-A8AD-9A88E2CC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440CF-CE37-4B5F-89FE-C274EDCA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EB193-9B4B-4905-82ED-CA98998B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E257-C7A9-4F37-8638-B06B221B7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9EEBC-E873-408F-92FA-1995C6A2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1DD61-E525-447D-9D47-5CC9A8B7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A5E18-5A2D-4505-A7B4-BF5C5036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AFC1B1-1816-4190-AF75-857ECA1D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148B09-1F4C-4D60-BCC6-D5BC08DB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C4D0D0-1229-49EE-BFE0-B7056DCF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356E5-B561-4D7D-9B62-0D547175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A1CBC3-7E69-41A0-A83B-CDAC34BC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DBF637-68F4-489B-A2B5-EA3F27D4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BAA02E-067C-4D73-86AD-6973C07F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50A7-D2AD-4B27-BF7F-25316002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DF8877-71FF-41F8-B816-A5B637E7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87F964-BC78-4AA4-9F1C-9AED6B63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523769-622F-41C3-B258-B97647D9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1D311A-2AFB-4B3D-8D88-87BD20A1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0498A3-3122-43EA-AA2A-21BC9DA0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2417-D1A9-408C-8D5E-0FBE6474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6EE3-078B-4F5F-BC2E-1DFEAC8A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92E2-61DF-42CA-82BF-4F2E3479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16DA-1F66-436E-80C4-22A6CEC5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D9D8-69B4-4D89-84C1-13FB4664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15C0-5A3A-4C35-B7C6-80E90B40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5891-4E71-45F7-981B-4DB9648B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620D-9D7E-45E9-A3E8-778C8D4B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EEEA-0062-4AA5-80B4-4FB6EEAF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FC40-E265-46AD-9371-5FCBCB1F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57D6-B312-417F-A239-D861ACB6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ABA22-6CC1-438E-9069-FFA2FFDE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23CE2-0651-4966-A736-E4FFA93D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09C56-5A00-4031-B5B3-870E2DC1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7FDCB-0BDB-44FA-B3DE-65CC0E95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1313C-61CB-4CE0-BAC6-ED3E8862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9049-D69F-48C5-92B2-E3EBBEFB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33CB5-C038-4FF5-8D90-E10A80C4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F5612-B55B-4B92-92F1-6C577757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108CC-86C6-4DA3-981B-759FB2CD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C548C-62C5-4677-81DF-55D245D7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A6127-048C-4581-846D-627EAE3C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099A5-E69D-467A-BD6A-F8A5BF8E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37984-EBEE-41D6-B669-8ED3BB2C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CAF76-F675-486C-9E0C-C1B273A8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D45E8-2C58-421F-BFCB-5EC7CC1D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63108-9DDB-40A2-A55B-94338BD2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2D9E-4EE4-4796-8455-3A4D7FBF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BA621-94FA-4D47-99E8-EC147252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03213-126B-4903-A9E1-03818265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B2232-EB8E-4BC9-9538-5E446F48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D9B08-2B86-4A39-A657-628A15DF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24ABC-B5CB-4A9A-B08F-CACB762E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89651-9E15-4AA3-AEDE-7DE19D35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D4330-9012-4A3A-96E9-F05ACD74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E8B8E-59EB-44BA-BFDC-77E9F555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E40AD-6DCA-4DE0-A31A-CD06202AA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17921-F874-41E7-AD35-2D6D1703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76E6-BDB7-46CA-9BF7-0053B4B5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D7D95-199B-4F6C-AE69-5A471A94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351AB-4888-4BE8-9735-CF422648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A48EA-05D7-41D5-A175-31ADA539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79012-66EE-48B9-8A8E-C1DE54EA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9B06C-CA1E-452D-B9ED-56C01492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74EF6-FB53-47A3-A7C3-FC91E8D7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ABB14-2C1F-4410-B95C-663D9673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1C1D8-05D4-4F10-9659-7A7DE445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38952-9396-49FE-A2BA-68DE4DC8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3AD40-20A4-4460-B3A8-8B8C82A6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F474-8234-4494-8CBF-C9C86AAB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BDB6E-7FC6-4A2C-97D4-57F5FAA2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9D3FD-7E7F-431E-A793-407EF51E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F3143-B7E9-4897-8235-C8D4BD6F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4414D-E8C4-4CD9-9B9A-B1EE8A82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418F4-0A83-4672-A156-137FE368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4CFD3-22FA-4B57-9C33-25687EA4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C40B1-1043-4600-9B2A-E9D5D1F8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FDCA8-F697-45C5-86B2-3FA765C7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2D3DC-A271-4717-93F2-50F48E8A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80540-D2D0-48EC-8665-7B069096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50AD-4676-496A-843A-183B45C3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D784B-C039-4868-A872-A074884F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94CA2-AEB2-457B-9ACE-3EE5FD69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AA9C1-E2D3-48FF-A3F9-8927187E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A2F4B-D50C-4E53-84D4-58B1581C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06F1E-118A-452B-B697-7E0EAB14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BA962-BA9E-4AA5-87F8-A6CBFE89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1E939-D4DA-4A64-8CB5-DAE9BF00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D4EAE-09EA-4AC6-8B7F-C78C3EE7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4FF09-46D0-4368-813D-EE48E18A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2AFAA-9045-4369-A6D2-3A7E0CEC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1837-8A1C-4DE3-A117-1FAA694D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ADA5C-57AC-494D-9027-99E4104B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E34F7-0EB7-4A5D-95A0-0C30105C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B8FE3-A5E9-44AA-AE63-E13DCCFB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66D28-ED3B-45D6-8D66-62005306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2CD6B-1146-4ACB-AE55-1E8D6F87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6EAE9-4738-4853-92D6-C2C65B59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459A6-CB86-4561-9AA1-E5EDC652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CE4A5-5D5F-4332-8FAD-D4908A14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E7F4D-6C3A-4B5E-8D2C-0B68BDC3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1C70D-0287-4594-A2EF-9EB09F90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296C-AAEF-4B31-A352-E44254DC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93D26-F29E-48A7-82E8-340F4214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53398-7E08-4165-890B-5620FC39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5257A-545E-4433-8588-9258CD01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8843E-4413-4BD3-967D-6DFA2367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B4EBD-D980-4911-B6EF-35639212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ED1A4-21B3-43B7-9FB7-2A146FC0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497A2-CC95-4E09-915B-D7DB7DDF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6B7BCE-5CEB-42BA-8791-CCAD4D85D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23C9A5-C76D-4907-81CD-E4A34BB3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89CCB2-25EB-4227-B96E-F457BDAC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مستطيل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مستطيل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مستطيل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مستطيل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مستطيل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رابط مستقيم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شكل بيضاوي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شكل بيضاوي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7064-7792-4CEE-B8FA-F6F6F41B21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رابط مستقيم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مستطيل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مستطيل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مستطيل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مستطيل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مستطيل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مستطيل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مستطيل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شكل بيضاوي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شكل بيضاوي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مستطيل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CB0E-B33C-412E-A229-5E3DD28067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مستطيل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مستطيل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مستطيل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مستطيل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مستطيل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مستطيل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رابط مستقيم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شكل بيضاوي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شكل بيضاوي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3F50-C06A-453D-82A9-A32434E7E9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مستطيل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مستطيل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مستطيل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مستطيل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مستطيل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مستطيل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رابط مستقيم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شكل بيضاوي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شكل بيضاوي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CC07-67CB-43F8-8AAE-B90F6B8C15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مستطيل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مستطيل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مستطيل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مستطيل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مستطيل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رابط مستقيم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مستطيل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شكل بيضاوي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شكل بيضاوي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A302-ABB5-4098-95D2-C3F45449CA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مستطيل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مستطيل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مستطيل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مستطيل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مستطيل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رابط مستقيم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شكل بيضاوي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شكل بيضاوي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1495-D1B9-4732-ABB4-003D76A575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مستطيل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مستطيل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مستطيل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مستطيل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مستطيل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مستطيل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مستطيل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رابط مستقيم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شكل بيضاوي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شكل بيضاوي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EA54-D2BC-4305-B746-BB24D31871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مستطيل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مستطيل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مستطيل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مستطيل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مستطيل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مستطيل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رابط مستقيم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شكل بيضاوي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شكل بيضاوي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رابط مستقيم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0C2E-842B-4221-A477-96E9D5E930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رابط مستقيم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مستطيل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مستطيل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مستطيل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مستطيل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مستطيل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مستطيل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رابط مستقيم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مستطيل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شكل بيضاوي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شكل بيضاوي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BF85-6DFD-4E53-B554-B9156BF915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مستطيل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مستطيل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مستطيل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مستطيل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مستطيل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مستطيل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رابط مستقيم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شكل بيضاوي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شكل بيضاوي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73F3-B07B-49E4-BEFA-40E923F372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مستطيل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مستطيل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مستطيل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مستطيل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مستطيل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مستطيل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7C77-2A61-4508-B3FD-35DB0AA2BE3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مستطيل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مستطيل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مستطيل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مستطيل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مستطيل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مستطيل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مستطيل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رابط مستقيم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شكل بيضاوي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شكل بيضاوي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مستطيل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291B-6F8D-4F47-8B38-28E191616B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440000" y="3429000"/>
            <a:ext cx="7246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646b86"/>
                </a:solidFill>
                <a:latin typeface="Georgia"/>
                <a:cs typeface="Times New Roman"/>
              </a:rPr>
              <a:t>طالباتي العزيزات 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Rectangle 10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0FBC-7A49-417D-960C-F7C285586557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d16349"/>
                </a:solidFill>
                <a:latin typeface="Georgia"/>
              </a:rPr>
              <a:t>السلام عليكم و رحمة الله و بركاته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7b9899"/>
                </a:solidFill>
                <a:latin typeface="Georgia"/>
              </a:rPr>
              <a:t>د ) مصادر التعلم : اسم الكتاب المقرر و قائمة المراجع و المواقع الالكترونية 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عنصر نائب لرقم الشريحة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3B7A-4A0E-4B1B-8427-EEC55BD9642D}" type="slidenum">
              <a:rPr b="0" lang="ar-SA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</a:rPr>
              <a:t>دراسات في المحاسبة المتخصصة , د. مصطفي خضير , الجمعية السعودية المحاسبية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</a:rPr>
              <a:t>محاسبة المنشآت المالية ,د. إيهاب إبراهيم , د. حسن مصطفي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</a:rPr>
              <a:t>موقع منتدى المحاسبين العرب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</a:rPr>
              <a:t>موقع منتدى المحاسبين الأردنيين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</a:rPr>
              <a:t>موقع الهيئة السعودية للمحاسبين القانونيين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</a:rPr>
              <a:t>مواقع اليوتيوب ذات العلاقة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</a:rPr>
              <a:t>مواقع المجلات العلمية ذات العلاقة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56760" y="5000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-</a:t>
            </a:r>
            <a:r>
              <a:rPr b="1" lang="ar-EG" sz="3300" spc="-1" strike="noStrike">
                <a:solidFill>
                  <a:srgbClr val="7b9899"/>
                </a:solidFill>
                <a:latin typeface="Georgia"/>
              </a:rPr>
              <a:t>هـ</a:t>
            </a: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  </a:t>
            </a:r>
            <a:r>
              <a:rPr b="1" lang="ar-SA" sz="3300" spc="-1" strike="noStrike">
                <a:solidFill>
                  <a:srgbClr val="7b9899"/>
                </a:solidFill>
                <a:latin typeface="Georgia"/>
              </a:rPr>
              <a:t>وصف المعرفة التي سيتم اكتسابها في المقرر</a:t>
            </a: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: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معرفة </a:t>
            </a: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الطالبة بطبيعة 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</a:rPr>
              <a:t>محاسبة المنشات المتخصصة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</a:rPr>
              <a:t>معرفة  الطالبة بأهداف محاسبة المنشات المتخصصة وأدواتها وكيفية تحقيق هذه الأهداف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معرفة الطالبة ببعض المشاكل المحاسبية فى التطبيق العملى، وكيفية التعامل معها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عنصر نائب لرقم الشريحة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FEE3-DEB7-4928-840A-7FF5476477EA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300" spc="-1" strike="noStrike">
                <a:solidFill>
                  <a:srgbClr val="7b9899"/>
                </a:solidFill>
                <a:latin typeface="Georgia"/>
              </a:rPr>
              <a:t>و - </a:t>
            </a: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ar-EG" sz="3300" spc="-1" strike="noStrike">
                <a:solidFill>
                  <a:srgbClr val="7b9899"/>
                </a:solidFill>
                <a:latin typeface="Georgia"/>
              </a:rPr>
              <a:t>المهارات المعرفية المطلوب تطويرها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285480" y="2785680"/>
            <a:ext cx="8504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القدرة على تحليل و معالجة  القضايا و المشكلات  المحاسبية ذات الصلة بالمنشات المتخصصة بطريقة علمية ومنهجية 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عنصر نائب لرقم الشريحة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6820-AE70-4C25-87E2-5B5326B8E198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 u="sng">
                <a:solidFill>
                  <a:srgbClr val="7b9899"/>
                </a:solidFill>
                <a:uFillTx/>
                <a:latin typeface="Georgia"/>
              </a:rPr>
              <a:t>استراتيجيات التعلم المستخدمة في تطوير المهارات المعرفية: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عنصر نائب لرقم الشريحة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681E-AA54-4737-B09D-19CDEF7D1945}" type="slidenum">
              <a:rPr b="0" lang="ar-SA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-إعطاء الطالبة مشاكل وواجبات تتطلب جمع معلومات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و تنظيمها و تحليلها  و الوصول الي الخلاصة او التوصية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-الاطلاع على الاتجاهات ا لحديثة  ذات الصلة بالاطار الفكري المحاسبي  و اعداد ملخصات باهم نقاط التحدي و مصادرها و كيف يمكن التغلب عليها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b9899"/>
                </a:solidFill>
                <a:uFillTx/>
                <a:latin typeface="Georgia"/>
              </a:rPr>
              <a:t>استراتيجيات التعلم المستخدمة في تطوير</a:t>
            </a:r>
            <a:r>
              <a:rPr b="1" lang="ar-EG" sz="2800" spc="-1" strike="noStrike" u="sng">
                <a:solidFill>
                  <a:srgbClr val="7b9899"/>
                </a:solidFill>
                <a:uFillTx/>
                <a:latin typeface="Georgia"/>
              </a:rPr>
              <a:t> </a:t>
            </a:r>
            <a:r>
              <a:rPr b="1" lang="en-US" sz="2800" spc="-1" strike="noStrike" u="sng">
                <a:solidFill>
                  <a:srgbClr val="7b9899"/>
                </a:solidFill>
                <a:uFillTx/>
                <a:latin typeface="Georgia"/>
              </a:rPr>
              <a:t> المهارات والقدرات</a:t>
            </a:r>
            <a:r>
              <a:rPr b="1" lang="ar-SA" sz="2800" spc="-1" strike="noStrike" u="sng">
                <a:solidFill>
                  <a:srgbClr val="7b9899"/>
                </a:solidFill>
                <a:uFillTx/>
                <a:latin typeface="Georgia"/>
              </a:rPr>
              <a:t> الاخري</a:t>
            </a:r>
            <a:br>
              <a:rPr sz="2800"/>
            </a:b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فرق العمل ال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جماع</a:t>
            </a: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ي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التكليف الفردي بالواجبات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Georgia"/>
              </a:rPr>
              <a:t>المناقشة و الحوار داخل المحاضرة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Georgia"/>
              </a:rPr>
              <a:t>الزيارة العلمية لاحدي المنشات المتخصصة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Georgia"/>
              </a:rPr>
              <a:t>المقابلات الشخصية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Georgia"/>
              </a:rPr>
              <a:t>دراسة الحالة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عنصر نائب لرقم الشريحة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35C4-3508-4FD0-8337-AC3E35B5C14F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7b9899"/>
                </a:solidFill>
                <a:latin typeface="Georgia"/>
              </a:rPr>
              <a:t>-  نظام تقويم الطالبات و قياس الأداء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 تقييم المعرفة المكتسبة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تقييم المهارات المعرفية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تقييم الاتجاهات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تقييم الرضا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عنصر نائب لرقم الشريحة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068A-E2E1-48CD-901C-67D046E3A9E0}" type="slidenum">
              <a:rPr b="0" lang="ar-SA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7b9899"/>
                </a:solidFill>
                <a:latin typeface="Georgia"/>
              </a:rPr>
              <a:t>طرق تقييم المعرفة المكتسبة ( التطبيق – التحليل – الاستدلال)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عنصر نائب لرقم الشريحة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6F67-3CE3-4BF3-B229-7B1E17C243F7}" type="slidenum">
              <a:rPr b="1" lang="ar-SA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اعطاء الطالبات مشاكل محاسبية أو دراسات حالة معينة والطلب منهن دراستها وإيجاد حل لها ,مع متابعتهم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ا متحانات تحريرية فصلية ونهائية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المشاركة شفويا في الاجابة علي  عينة من الاسئلة  او التطبيقات المتاحة اثناء المحاضرة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مناقشة التحديات التي  تواجهة التطبيق و اقتراح الحلول الملائمة لها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7b9899"/>
                </a:solidFill>
                <a:latin typeface="Georgia"/>
              </a:rPr>
              <a:t> جدول تقييم الاداء زمنيا خلال الفصل الدراسي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عنصر نائب لرقم الشريحة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A482-8012-45D0-B217-4E0C9A37CF8F}" type="slidenum">
              <a:rPr b="0" lang="ar-SA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457200" y="1600200"/>
          <a:ext cx="8229600" cy="4978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24397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Arial"/>
                          <a:cs typeface="AL-Mohanad Bold"/>
                        </a:rPr>
                        <a:t>نسبة الدرجة إلى درجة  التقييم النهائ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موعد و المكا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Arial"/>
                          <a:cs typeface="AL-Mohanad Bold"/>
                        </a:rPr>
                        <a:t>طبيعة مهمة التقييم  (مثلا: مقالة، أو اختبار قصير، أو مشروع جماعي، أو اختبار فصلي... ال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Arial"/>
                          <a:cs typeface="AL-Mohanad Bold"/>
                        </a:rPr>
                        <a:t>رقم التقيي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Arial"/>
                          <a:ea typeface="AL-Mohanad Bold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 /</a:t>
                      </a: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12/14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Arial"/>
                          <a:cs typeface="AL-Mohanad Bold"/>
                        </a:rPr>
                        <a:t>الامتحان الفصلي  لاو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Arial"/>
                          <a:ea typeface="AL-Mohanad Bold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ecb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Arial"/>
                          <a:ea typeface="AL-Mohanad Bold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Arial"/>
                          <a:ea typeface="Times New Roman"/>
                        </a:rPr>
                        <a:t>5/2/14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Arial"/>
                          <a:cs typeface="AL-Mohanad Bold"/>
                        </a:rPr>
                        <a:t>الامتحان الفصلي  الث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Arial"/>
                          <a:ea typeface="AL-Mohanad Bold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e7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Arial"/>
                          <a:ea typeface="AL-Mohanad Bold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Arial"/>
                          <a:cs typeface="Times New Roman"/>
                        </a:rPr>
                        <a:t>جدول الاختبارات النهائي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Arial"/>
                          <a:cs typeface="AL-Mohanad Bold"/>
                        </a:rPr>
                        <a:t>امتحان نهائ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ecb"/>
                    </a:solidFill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Arial"/>
                          <a:ea typeface="AL-Mohanad Bold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Arial"/>
                          <a:cs typeface="AL-Mohanad Bold"/>
                        </a:rPr>
                        <a:t>خلال الفصل حسب الادا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Arial"/>
                          <a:cs typeface="AL-Mohanad Bold"/>
                        </a:rPr>
                        <a:t>واجبات (وجبات، عمل جماعي ، عروض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34343"/>
                          </a:solidFill>
                          <a:latin typeface="Arial"/>
                          <a:ea typeface="AL-Mohanad Bold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500040"/>
            <a:ext cx="853452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1" lang="ar-SA" sz="3000" spc="-1" strike="noStrike">
                <a:solidFill>
                  <a:srgbClr val="7b9899"/>
                </a:solidFill>
                <a:latin typeface="Georgia"/>
              </a:rPr>
              <a:t>:</a:t>
            </a:r>
            <a:br>
              <a:rPr sz="3000"/>
            </a:br>
            <a:r>
              <a:rPr b="1" lang="ar-SA" sz="3000" spc="-1" strike="noStrike">
                <a:solidFill>
                  <a:srgbClr val="7b9899"/>
                </a:solidFill>
                <a:latin typeface="Georgia"/>
              </a:rPr>
              <a:t>– طرق تقييم المهارات المعرفية المكتسبة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01680" y="2000160"/>
            <a:ext cx="884232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 u="sng">
                <a:solidFill>
                  <a:srgbClr val="000000"/>
                </a:solidFill>
                <a:uFillTx/>
                <a:latin typeface="Georgia"/>
                <a:cs typeface="Times New Roman"/>
              </a:rPr>
              <a:t>ملاحظة الأداء أثناء  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المناقشة أثناء المحاضرة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الإجابة علي الأسئلة الشفوية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حل التطبيقات  و منا قشة الأفكار المطروحة علي أوراق العمل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عنصر نائب لرقم الشريحة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82BF-C670-4AFF-8668-5D3F3907313D}" type="slidenum">
              <a:rPr b="0" lang="ar-SA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7b9899"/>
                </a:solidFill>
                <a:latin typeface="Georgia"/>
              </a:rPr>
              <a:t>طرق تقييم الاتجاهات 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8" name="عنصر نائب لرقم الشريحة 2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5615-83A8-4F58-B9CE-62354F4E14EB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 u="sng">
                <a:solidFill>
                  <a:srgbClr val="000000"/>
                </a:solidFill>
                <a:uFillTx/>
                <a:latin typeface="Georgia"/>
                <a:cs typeface="Times New Roman"/>
              </a:rPr>
              <a:t>ملاحظة   : تقييم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مدي الالتزام بالحضور في القاعة التدريسية في المواعيد المقررة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مدي المشاركة بايجابية في حل التطبيقات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مدي الالتزام بالسلوك الملائم داخل القاعة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مدي التفاعل الايجابي أثناء المناقشة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عنصر نائب لرقم الشريحة 2"/>
          <p:cNvSpPr/>
          <p:nvPr/>
        </p:nvSpPr>
        <p:spPr>
          <a:xfrm>
            <a:off x="4343400" y="1036800"/>
            <a:ext cx="4572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F7ED-5389-4CEE-A0FB-ECD246A79957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7" name="Picture 6" descr="زهرة 4"/>
          <p:cNvPicPr/>
          <p:nvPr/>
        </p:nvPicPr>
        <p:blipFill>
          <a:blip r:embed="rId1"/>
          <a:stretch/>
        </p:blipFill>
        <p:spPr>
          <a:xfrm>
            <a:off x="914400" y="1447920"/>
            <a:ext cx="7086600" cy="472428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b9899"/>
                </a:solidFill>
                <a:latin typeface="Georgia"/>
              </a:rPr>
              <a:t>مرحبا </a:t>
            </a:r>
            <a:br>
              <a:rPr sz="3200"/>
            </a:br>
            <a:r>
              <a:rPr b="1" lang="ar-SA" sz="3200" spc="-1" strike="noStrike">
                <a:solidFill>
                  <a:srgbClr val="7b9899"/>
                </a:solidFill>
                <a:latin typeface="Georgia"/>
              </a:rPr>
              <a:t>وكل فصل دراسي و أنتن في خير و توفيق من رب العالمين 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7b9899"/>
                </a:solidFill>
                <a:latin typeface="Georgia"/>
              </a:rPr>
              <a:t>قياس مستوي الرضا لدي الطالبة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عنصر نائب لرقم الشريحة 2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0A28-CF51-4A58-B91B-4CE15D656215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01320" y="1115640"/>
            <a:ext cx="8413560" cy="393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Garamond"/>
                <a:ea typeface="Times New Roman"/>
              </a:rPr>
              <a:t>  من خلال تقييم الذاتي و الاستبيان للمحاور التالية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90360" algn="r" rtl="1">
              <a:lnSpc>
                <a:spcPct val="100000"/>
              </a:lnSpc>
              <a:buClr>
                <a:srgbClr val="002060"/>
              </a:buClr>
              <a:buSzPct val="85000"/>
              <a:buFont typeface="Garamond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Garamond"/>
                <a:cs typeface="Times New Roman"/>
              </a:rPr>
              <a:t>القدرة على العمل ضمن فريق (التحلي بروح العمل الجماعي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90360" algn="r" rtl="1">
              <a:lnSpc>
                <a:spcPct val="100000"/>
              </a:lnSpc>
              <a:buClr>
                <a:srgbClr val="002060"/>
              </a:buClr>
              <a:buSzPct val="85000"/>
              <a:buFont typeface="Garamond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Garamond"/>
                <a:cs typeface="Times New Roman"/>
              </a:rPr>
              <a:t>مهارات التطبيق الناجح.الفعال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90360" algn="r" rtl="1">
              <a:lnSpc>
                <a:spcPct val="100000"/>
              </a:lnSpc>
              <a:buClr>
                <a:srgbClr val="002060"/>
              </a:buClr>
              <a:buSzPct val="85000"/>
              <a:buFont typeface="Garamond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Garamond"/>
                <a:cs typeface="Times New Roman"/>
              </a:rPr>
              <a:t>مهارات الإلقاء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90360" algn="r" rtl="1">
              <a:lnSpc>
                <a:spcPct val="100000"/>
              </a:lnSpc>
              <a:buClr>
                <a:srgbClr val="002060"/>
              </a:buClr>
              <a:buSzPct val="85000"/>
              <a:buFont typeface="Garamond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Garamond"/>
                <a:cs typeface="Times New Roman"/>
              </a:rPr>
              <a:t>القدرة على التعامل مع الرأي الآخر -أو المخالف- بطريقة سليمة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90360" algn="r" rtl="1">
              <a:lnSpc>
                <a:spcPct val="100000"/>
              </a:lnSpc>
              <a:buClr>
                <a:srgbClr val="002060"/>
              </a:buClr>
              <a:buSzPct val="85000"/>
              <a:buFont typeface="Garamond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Garamond"/>
                <a:cs typeface="Times New Roman"/>
              </a:rPr>
              <a:t>الاستفادة من الآخرين والتعاون معه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90360" algn="r" rtl="1">
              <a:lnSpc>
                <a:spcPct val="100000"/>
              </a:lnSpc>
              <a:buClr>
                <a:srgbClr val="002060"/>
              </a:buClr>
              <a:buSzPct val="85000"/>
              <a:buFont typeface="Garamond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Garamond"/>
                <a:cs typeface="Times New Roman"/>
              </a:rPr>
              <a:t>القدرة على إدارة الحوارات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300" spc="-1" strike="noStrike">
                <a:solidFill>
                  <a:srgbClr val="7b9899"/>
                </a:solidFill>
                <a:latin typeface="Georgia"/>
              </a:rPr>
              <a:t>عمليات التحقق من مستويات إنجاز الطالبات</a:t>
            </a: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  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مراجعة عينة من الإجابات من قبل لجنة متخصصة بالقس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المراجعة والتصحيح الجماعي بالقس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المراجع الخارجي لعينة من أوراق إجابات الطلاب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عنصر نائب لرقم الشريحة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7CE9-ADD2-4807-805F-214FCC3680D1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320" y="499680"/>
            <a:ext cx="8534520" cy="9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7b9899"/>
                </a:solidFill>
                <a:latin typeface="Georgia"/>
              </a:rPr>
              <a:t>تقويم المقرر و عمليات التحسين: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7" name="عنصر نائب لرقم الشريحة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115F-4174-450A-8BC7-D31ABF62D9DA}" type="slidenum">
              <a:rPr b="0" lang="ar-SA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الحصول على تغذية راجعة من الطالبة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نموذج التقييم الذاتي المعد من قبل الطالبة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قائمة الاستبيان التي توزع غلي الطالبات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 تقييم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  </a:t>
            </a: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عملية التعليم إما عن طريق الأستاذ أو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    </a:t>
            </a: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طريق القس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700" spc="-1" strike="noStrike">
                <a:solidFill>
                  <a:srgbClr val="000000"/>
                </a:solidFill>
                <a:latin typeface="Georgia"/>
              </a:rPr>
              <a:t>المراجعة الدورية للمقرر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eer review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عنوان 1" descr=""/>
          <p:cNvPicPr/>
          <p:nvPr/>
        </p:nvPicPr>
        <p:blipFill>
          <a:blip r:embed="rId1"/>
          <a:stretch/>
        </p:blipFill>
        <p:spPr>
          <a:xfrm>
            <a:off x="0" y="401760"/>
            <a:ext cx="8534520" cy="117792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            </a:t>
            </a: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تحديث مصادر التعلم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تشجيع استخدام التقنية الحديثة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           </a:t>
            </a: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تشجيع القراءات الخارجية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           </a:t>
            </a: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تشجيع الطالبات على التقديم والإلقاء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ar-EG" sz="2700" spc="-1" strike="noStrike">
                <a:solidFill>
                  <a:srgbClr val="000000"/>
                </a:solidFill>
                <a:latin typeface="Georgia"/>
              </a:rPr>
              <a:t>و المناقشات الجماعية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عنصر نائب لرقم الشريحة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B79F-5BEE-4FCE-886F-16C27813779A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7b9899"/>
                </a:solidFill>
                <a:latin typeface="Georgia"/>
              </a:rPr>
              <a:t>الي اللقاء والله ولي التوفيق 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3" name="عنصر نائب لرقم الشريحة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970D-E7B2-4A3C-8F65-8DCA6A6289E2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5" name="صورة 6" descr="تقرير 1 ربحية.jpg"/>
          <p:cNvPicPr/>
          <p:nvPr/>
        </p:nvPicPr>
        <p:blipFill>
          <a:blip r:embed="rId1"/>
          <a:stretch/>
        </p:blipFill>
        <p:spPr>
          <a:xfrm>
            <a:off x="357120" y="1428840"/>
            <a:ext cx="87868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1476360" y="34290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46b86"/>
                </a:solidFill>
                <a:latin typeface="Georgia"/>
                <a:cs typeface="Times New Roman"/>
              </a:rPr>
              <a:t>توصيف المقرر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Rectangle 10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D759-AAF6-4E41-B35B-B633E79F78D4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title"/>
          </p:nvPr>
        </p:nvSpPr>
        <p:spPr>
          <a:xfrm>
            <a:off x="1442520" y="1138320"/>
            <a:ext cx="7239240" cy="112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d16349"/>
                </a:solidFill>
                <a:latin typeface="Georgia"/>
              </a:rPr>
              <a:t> مقرر محاسبة المنشات المتخصصة </a:t>
            </a:r>
            <a:r>
              <a:rPr b="1" lang="ar-SA" sz="4200" spc="-1" strike="noStrike">
                <a:solidFill>
                  <a:srgbClr val="d16349"/>
                </a:solidFill>
                <a:latin typeface="Georgia"/>
              </a:rPr>
              <a:t>421</a:t>
            </a:r>
            <a:r>
              <a:rPr b="1" lang="ar-SA" sz="4200" spc="-1" strike="noStrike">
                <a:solidFill>
                  <a:srgbClr val="d16349"/>
                </a:solidFill>
                <a:latin typeface="Georgia"/>
              </a:rPr>
              <a:t>حسب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ar-SA" sz="3000" spc="-1" strike="noStrike">
                <a:solidFill>
                  <a:srgbClr val="7b9899"/>
                </a:solidFill>
                <a:latin typeface="Georgia"/>
              </a:rPr>
              <a:t>أ ) تحديد المقرر والمعلومات العامة 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عنصر نائب لرقم الشريحة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6DE8-4E36-45D3-A223-8F3E62C0D4BA}" type="slidenum">
              <a:rPr b="0" lang="ar-SA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1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 – اسم المقرر و رقمه:   محاسبة المنشات المتخصصة 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421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 حسب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2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 –  الساعات المعتمدة: 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3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 ساعات معتمدة للمحاضرة و التطبي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3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 – المستوى أو السنة التي سيتم تقديم هذه المقرر فيه: من المستوي السابع برنامج بكالوريوس  المحاسبة (مقرر اجباري 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4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 – يستفيد من المقرر قسم المحاسبة و قسم المالية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5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 – المتطلبات المسبقة لهذه المقرر.........................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6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– المتطلبات المصاحبة لهذه المقرر .........................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1" lang="ar-SA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3137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7b9899"/>
                </a:solidFill>
                <a:latin typeface="Georgia"/>
              </a:rPr>
              <a:t>ب )أهداف المقرر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عنصر نائب لرقم الشريحة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2615-A5C6-44EC-921E-ACD6BF00FA91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370160" y="1835280"/>
            <a:ext cx="73152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lnSpc>
                <a:spcPct val="80000"/>
              </a:lnSpc>
              <a:spcBef>
                <a:spcPts val="8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000000"/>
                </a:solidFill>
                <a:latin typeface="Georgia"/>
                <a:ea typeface="Times New Roman"/>
              </a:rPr>
              <a:t>1</a:t>
            </a:r>
            <a:r>
              <a:rPr b="0" lang="ar-SA" sz="3300" spc="-1" strike="noStrike">
                <a:solidFill>
                  <a:srgbClr val="000000"/>
                </a:solidFill>
                <a:latin typeface="Georgia"/>
                <a:ea typeface="Times New Roman"/>
              </a:rPr>
              <a:t>- تعميق فهم الطالبة للأساس الفكري و الإطار التطبيقي  للمحاسبة </a:t>
            </a:r>
            <a:r>
              <a:rPr b="0" lang="ar-SA" sz="3300" spc="-1" strike="noStrike">
                <a:solidFill>
                  <a:srgbClr val="000000"/>
                </a:solidFill>
                <a:latin typeface="Georgia"/>
              </a:rPr>
              <a:t>وفقا لنوعية المنشاة المتخصصة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 algn="r" rtl="1">
              <a:lnSpc>
                <a:spcPct val="80000"/>
              </a:lnSpc>
              <a:spcBef>
                <a:spcPts val="8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000000"/>
                </a:solidFill>
                <a:latin typeface="Georgia"/>
                <a:ea typeface="Times New Roman"/>
              </a:rPr>
              <a:t>2</a:t>
            </a:r>
            <a:r>
              <a:rPr b="0" lang="ar-SA" sz="3300" spc="-1" strike="noStrike">
                <a:solidFill>
                  <a:srgbClr val="000000"/>
                </a:solidFill>
                <a:latin typeface="Georgia"/>
                <a:ea typeface="Times New Roman"/>
              </a:rPr>
              <a:t>- تعريف الطالبة بالمداخل و المناهج المختلفة لبناء إستراتيجية المعالجة المحاسبية وفقا لنوعية المنشاة المتخصصة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 algn="r" rtl="1">
              <a:lnSpc>
                <a:spcPct val="80000"/>
              </a:lnSpc>
              <a:spcBef>
                <a:spcPts val="8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000000"/>
                </a:solidFill>
                <a:latin typeface="Georgia"/>
                <a:ea typeface="Times New Roman"/>
              </a:rPr>
              <a:t>3</a:t>
            </a:r>
            <a:r>
              <a:rPr b="0" lang="ar-SA" sz="3300" spc="-1" strike="noStrike">
                <a:solidFill>
                  <a:srgbClr val="000000"/>
                </a:solidFill>
                <a:latin typeface="Georgia"/>
                <a:ea typeface="Times New Roman"/>
              </a:rPr>
              <a:t> - تطبيق الطالبة لأسس القياس و العرض و الإفصاح </a:t>
            </a:r>
            <a:r>
              <a:rPr b="0" lang="ar-SA" sz="3300" spc="-1" strike="noStrike">
                <a:solidFill>
                  <a:srgbClr val="000000"/>
                </a:solidFill>
                <a:latin typeface="Georgia"/>
              </a:rPr>
              <a:t>وفقا لنوعية المنشاة المتخصصة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 algn="r" rtl="1">
              <a:lnSpc>
                <a:spcPct val="80000"/>
              </a:lnSpc>
              <a:spcBef>
                <a:spcPts val="8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000000"/>
                </a:solidFill>
                <a:latin typeface="Georgia"/>
                <a:ea typeface="Times New Roman"/>
              </a:rPr>
              <a:t>4</a:t>
            </a:r>
            <a:r>
              <a:rPr b="0" lang="ar-SA" sz="3300" spc="-1" strike="noStrike">
                <a:solidFill>
                  <a:srgbClr val="000000"/>
                </a:solidFill>
                <a:latin typeface="Georgia"/>
                <a:ea typeface="Times New Roman"/>
              </a:rPr>
              <a:t>- تحقيق جودة المعالجة المحاسبية </a:t>
            </a:r>
            <a:r>
              <a:rPr b="0" lang="ar-SA" sz="3300" spc="-1" strike="noStrike">
                <a:solidFill>
                  <a:srgbClr val="000000"/>
                </a:solidFill>
                <a:latin typeface="Georgia"/>
              </a:rPr>
              <a:t>وفقا لنوعية المنشاة المتخصصة</a:t>
            </a:r>
            <a:r>
              <a:rPr b="0" lang="ar-SA" sz="33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 algn="r" rtl="1">
              <a:lnSpc>
                <a:spcPct val="80000"/>
              </a:lnSpc>
              <a:spcBef>
                <a:spcPts val="8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b9899"/>
                </a:solidFill>
                <a:latin typeface="Georgia"/>
              </a:rPr>
              <a:t>ج ) وصف المقرر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eorgia"/>
              </a:rPr>
              <a:t>يتناول هذا المقرر عملية تعريف الطالبة ببعض المشاكل المحاسبية فى التطبيق العملى والتى تترتب على تنوع مجالات النشاط المختلفة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1" lang="ar-SA" sz="3200" spc="-1" strike="noStrike">
                <a:solidFill>
                  <a:srgbClr val="000000"/>
                </a:solidFill>
                <a:latin typeface="Georgia"/>
              </a:rPr>
              <a:t>وتشمل محتويات المقرر الموضوعات التالي ذكرها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عنصر نائب لرقم الشريحة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C5AF-03E2-42AD-BB20-86CB963E9B84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714240"/>
            <a:ext cx="853452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7b9899"/>
                </a:solidFill>
                <a:uFillTx/>
                <a:latin typeface="Georgia"/>
              </a:rPr>
              <a:t>المحاسبة فى المنشآت ذات الفروع .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680" y="1557360"/>
            <a:ext cx="84470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</a:rPr>
              <a:t>محاسبة الفروع الغير مستقلة 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</a:rPr>
              <a:t>التسعير بطريقة التكلفة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</a:rPr>
              <a:t>التسعير بطريقة سعر البيع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</a:rPr>
              <a:t>التسعير بطريقة السعر الافتراضي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</a:rPr>
              <a:t>محاسبة الفروع المستقلة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عنصر نائب لرقم الشريحة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C882-4071-4017-B39A-FA2370129C42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7b9899"/>
                </a:solidFill>
                <a:uFillTx/>
                <a:latin typeface="Georgia"/>
              </a:rPr>
              <a:t>المحاسبة فى البنوك 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28960" indent="-22896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eorgia"/>
              </a:rPr>
              <a:t>مقدمة فى النظام المصرفى وطبيعة النظام المحاسبى فى البنوك التجارية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28960" indent="-22896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المحاسبة عن العمليات النقدية وحسابات الودائ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28960" indent="-22896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عمليات الأوراق المالية والتجارية 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28960" indent="-22896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عمليات الإعتمادات المستندية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28960" indent="-22896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عمليات منح الإئتمان وبطاقات الإئتمان 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28960" indent="-22896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عمليات الخدمة المصرفية و عمليات المقاصة 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28960" indent="-22896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الرقابة الداخلية والحسابات العامة 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28960" indent="-22896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القوائم المالية 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28960" indent="-228960"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28960" indent="-22896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عنصر نائب لرقم الشريحة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B4A5-95BD-4C05-91C6-D2C548561318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المحاسبة فى شركات التأمين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طبيعة عمليات التأمين وأثرها على النظام المحاسبى 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القيود المركزية والقوائم المالية 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عنصر نائب لرقم الشريحة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EAD2-E83B-4537-9A55-5E2D7BC1430D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17:49:46Z</dcterms:created>
  <dc:creator>***</dc:creator>
  <dc:description/>
  <dc:language>en-US</dc:language>
  <cp:lastModifiedBy>user</cp:lastModifiedBy>
  <dcterms:modified xsi:type="dcterms:W3CDTF">2013-10-24T10:05:40Z</dcterms:modified>
  <cp:revision>49</cp:revision>
  <dc:subject/>
  <dc:title> مقرر نظرية  المحاسبة</dc:title>
</cp:coreProperties>
</file>