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2F6-2045-4880-A7C5-52D4A589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D44-B387-45F1-8CB0-B04858D4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FD6-B0D5-4E05-A0BB-3327190D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69B-6BCE-4243-99BA-B4D09C32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046-23B1-4C8F-90ED-3E3882A9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635-3FBA-4509-9D23-D78AEE3F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E6E-A7AD-4E1E-B466-9C396F53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D03-64C8-4437-854F-46A55CEB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2AE-4255-4D17-9804-16C31184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18A-A56E-4EB6-B6DC-C2BD0103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DA5-E057-493E-B5F2-28174130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996-BB6E-4FB7-807F-205F734D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5AB1-9506-4008-93AD-48A9198F2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ACRANIAL PRESS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reased Intracranial Pressure</a:t>
            </a:r>
            <a:br>
              <a:rPr sz="4400"/>
            </a:b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Mechanisms of Increased IC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ed increases in ICP result in brainstem compression and herniation of the brain from one compartment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0508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Increased Intracranial Pres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848720" y="6400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Fig. 55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" descr="Fig"/>
          <p:cNvPicPr/>
          <p:nvPr/>
        </p:nvPicPr>
        <p:blipFill>
          <a:blip r:embed="rId1"/>
          <a:stretch/>
        </p:blipFill>
        <p:spPr>
          <a:xfrm>
            <a:off x="2819520" y="838080"/>
            <a:ext cx="3436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Hern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7543800" y="6324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Fig. 55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Fig"/>
          <p:cNvPicPr/>
          <p:nvPr/>
        </p:nvPicPr>
        <p:blipFill>
          <a:blip r:embed="rId1"/>
          <a:stretch/>
        </p:blipFill>
        <p:spPr>
          <a:xfrm>
            <a:off x="1295280" y="874800"/>
            <a:ext cx="655344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28600" y="1700280"/>
            <a:ext cx="63374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ITES FOR ICP MONITOR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pidural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barachnoi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raventricula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http://img.medscape.com/article/779/390/779390-fig3.jpg"/>
          <p:cNvPicPr/>
          <p:nvPr/>
        </p:nvPicPr>
        <p:blipFill>
          <a:blip r:embed="rId1"/>
          <a:stretch/>
        </p:blipFill>
        <p:spPr>
          <a:xfrm>
            <a:off x="3583080" y="1828800"/>
            <a:ext cx="5410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ttp://www.neuros.net/en/images/intravent_pressure_measurem.gif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48495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CP mentori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http://www.derangedphysiology.com/php/EVD/images/anatomy-of-the-evd.JPG"/>
          <p:cNvPicPr/>
          <p:nvPr/>
        </p:nvPicPr>
        <p:blipFill>
          <a:blip r:embed="rId1"/>
          <a:stretch/>
        </p:blipFill>
        <p:spPr>
          <a:xfrm>
            <a:off x="268200" y="533520"/>
            <a:ext cx="8610840" cy="64767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72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P mentori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Times New Roman"/>
              </a:rPr>
              <a:t>Nursing Care: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Change in level of conscious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Changes in vital signs (Cushing tri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dening pulse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chy/Bradycar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reased systolic B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rregular respi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Times New Roman"/>
              </a:rPr>
              <a:t>Nursing Care: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76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Ocular 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ecrease in motor strength and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ess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ess response to stim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cerebrate posturing (extens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es more serious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corticate posturing (flex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ecorticate and Decerebrate Postu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9" descr="Fig"/>
          <p:cNvPicPr/>
          <p:nvPr/>
        </p:nvPicPr>
        <p:blipFill>
          <a:blip r:embed="rId1"/>
          <a:stretch/>
        </p:blipFill>
        <p:spPr>
          <a:xfrm>
            <a:off x="4648320" y="1447920"/>
            <a:ext cx="4267080" cy="525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ttps://s-media-cache-ak0.pinimg.com/736x/61/26/7f/61267fb2e1859f7757e483876d35f336.jpg"/>
          <p:cNvPicPr/>
          <p:nvPr/>
        </p:nvPicPr>
        <p:blipFill>
          <a:blip r:embed="rId2"/>
          <a:stretch/>
        </p:blipFill>
        <p:spPr>
          <a:xfrm>
            <a:off x="76320" y="1447920"/>
            <a:ext cx="441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ccff"/>
                </a:solidFill>
                <a:latin typeface="Times New Roman"/>
              </a:rPr>
              <a:t>Nursing Care: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Head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ten continuous and worse in the mo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Vo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 preceded by nau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ject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acranial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15238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s to the pressure contained within the crania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v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mal range is between 0 to 15 mmH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P over 20 mm/Hg is considered elevated ICP, also known a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racranial hyperten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nagement team becomes concerned whenever a patient’s ICP is over 15 mm/Hg, but is especially concerned when it reaches levels of intracranial hyper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reased Intracranial Pressure</a:t>
            </a:r>
            <a:br>
              <a:rPr sz="4400"/>
            </a:b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Collaborative 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7631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yperventilation therapy: suctioning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yperventilate with 100%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dequate oxyge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intenance at 100 mm Hg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e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G analysis guides the oxygen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require mechanical venti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reased Intracranial Pressure</a:t>
            </a:r>
            <a:br>
              <a:rPr sz="4400"/>
            </a:b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Collaborative 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87631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rug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nnit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op diure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ticostero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rbitu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tiseizure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reased Intracranial Pressure</a:t>
            </a:r>
            <a:br>
              <a:rPr sz="4400"/>
            </a:b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Collaborative 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87631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Nutritional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tient is in hypermetabolic and hypercatabolic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ed for 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eep patient normovole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V 0.45% or 0.9% sodium ch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reased Intracranial Pressure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ursing Manag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7631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Overall goa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ICP W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Maintain patent ai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Normal fluid and electrolyt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No complications secondary to im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Respiratory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Fluid and electrolyt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reased Intracranial Pressure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ursing Manag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7631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verall goals (cont’d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Times New Roman"/>
              </a:rPr>
              <a:t>Body position maintained in head-up position: elevate HOB 30</a:t>
            </a:r>
            <a:r>
              <a:rPr b="1" lang="en-US" sz="36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Protection from injury: positioning/tu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Pai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Psychological consid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acranial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kull has three essential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-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in tissue = 7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 Blood = 1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 Cerebrospinal fluid (CSF) = 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ny increase in any of these tissues causes increased I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mponents of the B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924680" y="640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Fig. 55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" descr="Fig"/>
          <p:cNvPicPr/>
          <p:nvPr/>
        </p:nvPicPr>
        <p:blipFill>
          <a:blip r:embed="rId1"/>
          <a:stretch/>
        </p:blipFill>
        <p:spPr>
          <a:xfrm>
            <a:off x="914400" y="1193760"/>
            <a:ext cx="723888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Factors that influence ICP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terial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nous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raabdominal and intrathoracic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s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lood gases (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leve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acranial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degree to which these factors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ends on the ability of the brain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commodate to th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Regulation and Maintenance for IC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the volume in any one of the components (brain tissue, blood, and CS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creases within the cranial vault and the volume from another component is displaced, the total intracranial volume will not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acranial Pressure</a:t>
            </a:r>
            <a:br>
              <a:rPr sz="4400"/>
            </a:b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Regulation and Mainte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Normal compensatory 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teration of CSF absorption or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unting of CSF into spinal subarachnoid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unting of venous blood out of the sk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echanisms of Increased IC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s le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rebral ed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d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in inflam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bolic in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22:30:10Z</dcterms:created>
  <dc:creator>Mike</dc:creator>
  <dc:description/>
  <dc:language>en-US</dc:language>
  <cp:lastModifiedBy>Nasima Yahya Awaji</cp:lastModifiedBy>
  <dcterms:modified xsi:type="dcterms:W3CDTF">2016-09-25T08:59:00Z</dcterms:modified>
  <cp:revision>117</cp:revision>
  <dc:subject/>
  <dc:title>Intracranial Press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CD73DCE-DE81-46B5-B499-FE6648959402</vt:lpwstr>
  </property>
  <property fmtid="{D5CDD505-2E9C-101B-9397-08002B2CF9AE}" pid="3" name="ArticulatePath">
    <vt:lpwstr>422 NUR-IntracranialPressure1</vt:lpwstr>
  </property>
</Properties>
</file>