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38C0-D9A5-48B7-B368-6781434A2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1FDD-075C-4A37-BB4A-B9DC7A95D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9FD5-CB66-4198-8207-2B57D2843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C15B-E3BC-442B-9CB0-0D9F5731A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954A-805E-4EAE-A929-ED4DE05C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E635-8449-4C41-BB12-0DCA4ACE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4A49-61A4-4782-8390-FD17B7A0F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7A7E-BC87-41FA-AB67-9D736FE1D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BA24-FA7A-4A56-AF73-542344E51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D779-A51B-4066-BC7D-95632FC5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5A9A-ECAE-472D-A27B-FE25D5E2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5D8A-5C16-4BA3-B9B1-7B5D2A96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26B89-DA84-495F-A27A-C2A4C36529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TRACRANIAL PRESSUR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6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ncreased Intracranial Pressure</a:t>
            </a:r>
            <a:br>
              <a:rPr sz="4400"/>
            </a:br>
            <a:r>
              <a:rPr b="1" lang="en-US" sz="4000" spc="-1" strike="noStrike">
                <a:solidFill>
                  <a:srgbClr val="ccccff"/>
                </a:solidFill>
                <a:latin typeface="Times New Roman"/>
              </a:rPr>
              <a:t>Mechanisms of Increased IC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297180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ustained increases in ICP result in brainstem compression and herniation of the brain from one compartment to an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1050840" y="2174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Increased Intracranial Press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7848720" y="6400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Fig. 55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0" descr="Fig"/>
          <p:cNvPicPr/>
          <p:nvPr/>
        </p:nvPicPr>
        <p:blipFill>
          <a:blip r:embed="rId1"/>
          <a:stretch/>
        </p:blipFill>
        <p:spPr>
          <a:xfrm>
            <a:off x="2819520" y="838080"/>
            <a:ext cx="34369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Herni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7543800" y="6324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Fig. 55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7" descr="Fig"/>
          <p:cNvPicPr/>
          <p:nvPr/>
        </p:nvPicPr>
        <p:blipFill>
          <a:blip r:embed="rId1"/>
          <a:stretch/>
        </p:blipFill>
        <p:spPr>
          <a:xfrm>
            <a:off x="1295280" y="874800"/>
            <a:ext cx="6553440" cy="59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228600" y="1700280"/>
            <a:ext cx="633744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SITES FOR ICP MONITORING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pidural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ubarachnoid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traventricular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2" descr="http://img.medscape.com/article/779/390/779390-fig3.jpg"/>
          <p:cNvPicPr/>
          <p:nvPr/>
        </p:nvPicPr>
        <p:blipFill>
          <a:blip r:embed="rId1"/>
          <a:stretch/>
        </p:blipFill>
        <p:spPr>
          <a:xfrm>
            <a:off x="3583080" y="1828800"/>
            <a:ext cx="54100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http://www.neuros.net/en/images/intravent_pressure_measurem.gif"/>
          <p:cNvPicPr/>
          <p:nvPr/>
        </p:nvPicPr>
        <p:blipFill>
          <a:blip r:embed="rId1"/>
          <a:stretch/>
        </p:blipFill>
        <p:spPr>
          <a:xfrm>
            <a:off x="762120" y="1676520"/>
            <a:ext cx="7696080" cy="484956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CP mentoring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http://www.derangedphysiology.com/php/EVD/images/anatomy-of-the-evd.JPG"/>
          <p:cNvPicPr/>
          <p:nvPr/>
        </p:nvPicPr>
        <p:blipFill>
          <a:blip r:embed="rId1"/>
          <a:stretch/>
        </p:blipFill>
        <p:spPr>
          <a:xfrm>
            <a:off x="268200" y="533520"/>
            <a:ext cx="8610840" cy="647676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724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CP mentoring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ff"/>
                </a:solidFill>
                <a:latin typeface="Times New Roman"/>
              </a:rPr>
              <a:t>Nursing Care: Assess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Change in level of conscious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Changes in vital signs (Cushing tria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idening pulse pres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achy/Bradycar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creased systolic B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rregular respi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ff"/>
                </a:solidFill>
                <a:latin typeface="Times New Roman"/>
              </a:rPr>
              <a:t>Nursing Care: Assess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4876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Ocular sig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Decrease in motor strength and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ssess mov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ssess response to stimu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sses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ecerebrate posturing (extenso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dicates more serious dam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ecorticate posturing (flexo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Decorticate and Decerebrate Postu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9" descr="Fig"/>
          <p:cNvPicPr/>
          <p:nvPr/>
        </p:nvPicPr>
        <p:blipFill>
          <a:blip r:embed="rId1"/>
          <a:stretch/>
        </p:blipFill>
        <p:spPr>
          <a:xfrm>
            <a:off x="4648320" y="1447920"/>
            <a:ext cx="4267080" cy="5257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https://s-media-cache-ak0.pinimg.com/736x/61/26/7f/61267fb2e1859f7757e483876d35f336.jpg"/>
          <p:cNvPicPr/>
          <p:nvPr/>
        </p:nvPicPr>
        <p:blipFill>
          <a:blip r:embed="rId2"/>
          <a:stretch/>
        </p:blipFill>
        <p:spPr>
          <a:xfrm>
            <a:off x="76320" y="1447920"/>
            <a:ext cx="44193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ccff"/>
                </a:solidFill>
                <a:latin typeface="Times New Roman"/>
              </a:rPr>
              <a:t>Nursing Care: Assess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Heada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ften continuous and worse in the mo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Vom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ot preceded by naus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ject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ntracranial Press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80880" y="15238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ers to the pressure contained within the cranial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avit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normal range is between 0 to 15 mmH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CP over 20 mm/Hg is considered elevated ICP, also known as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racranial hypertens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anagement team becomes concerned whenever a patient’s ICP is over 15 mm/Hg, but is especially concerned when it reaches levels of intracranial hyper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ncreased Intracranial Pressure</a:t>
            </a:r>
            <a:br>
              <a:rPr sz="4400"/>
            </a:br>
            <a:r>
              <a:rPr b="1" lang="en-US" sz="4000" spc="-1" strike="noStrike">
                <a:solidFill>
                  <a:srgbClr val="ff66ff"/>
                </a:solidFill>
                <a:latin typeface="Times New Roman"/>
              </a:rPr>
              <a:t>Collaborative Ca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763120" cy="411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Hyperventilation therapy: suctioning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hyperventilate with 100% oxy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Adequate oxyge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intenance at 100 mm Hg 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re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BG analysis guides the oxygen thera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y require mechanical ventil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ncreased Intracranial Pressure</a:t>
            </a:r>
            <a:br>
              <a:rPr sz="4400"/>
            </a:br>
            <a:r>
              <a:rPr b="1" lang="en-US" sz="4000" spc="-1" strike="noStrike">
                <a:solidFill>
                  <a:srgbClr val="ff66ff"/>
                </a:solidFill>
                <a:latin typeface="Times New Roman"/>
              </a:rPr>
              <a:t>Collaborative Ca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2590920"/>
            <a:ext cx="8763120" cy="411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Drug therap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nnit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oop diure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rticostero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arbitur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ntiseizure dru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ncreased Intracranial Pressure</a:t>
            </a:r>
            <a:br>
              <a:rPr sz="4400"/>
            </a:br>
            <a:r>
              <a:rPr b="1" lang="en-US" sz="4000" spc="-1" strike="noStrike">
                <a:solidFill>
                  <a:srgbClr val="ff66ff"/>
                </a:solidFill>
                <a:latin typeface="Times New Roman"/>
              </a:rPr>
              <a:t>Collaborative Ca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2590920"/>
            <a:ext cx="8763120" cy="411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Nutritional therap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atient is in hypermetabolic and hypercatabolic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eed for gluc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eep patient normovolem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V 0.45% or 0.9% sodium chlor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06632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ncreased Intracranial Pressure</a:t>
            </a:r>
            <a:br>
              <a:rPr sz="44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Nursing Managemen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2362320"/>
            <a:ext cx="8763120" cy="411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ff"/>
                </a:solidFill>
                <a:latin typeface="Times New Roman"/>
              </a:rPr>
              <a:t>Overall goal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cc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Times New Roman"/>
              </a:rPr>
              <a:t>ICP WN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cc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Times New Roman"/>
              </a:rPr>
              <a:t>Maintain patent ai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cc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Times New Roman"/>
              </a:rPr>
              <a:t>Normal fluid and electrolyte bal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cc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Times New Roman"/>
              </a:rPr>
              <a:t>No complications secondary to immo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cc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Times New Roman"/>
              </a:rPr>
              <a:t>Respiratory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cc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Times New Roman"/>
              </a:rPr>
              <a:t>Fluid and electrolyte bal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ncreased Intracranial Pressure</a:t>
            </a:r>
            <a:br>
              <a:rPr sz="44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Nursing Managemen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8763120" cy="411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Overall goals (cont’d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ff"/>
                </a:solidFill>
                <a:latin typeface="Times New Roman"/>
              </a:rPr>
              <a:t>Body position maintained in head-up position: elevate HOB 30</a:t>
            </a:r>
            <a:r>
              <a:rPr b="1" lang="en-US" sz="36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Protection from injury: positioning/tu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Pain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Psychological consid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ntracranial Press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Skull has three essential compon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ff"/>
                </a:solidFill>
                <a:latin typeface="Times New Roman"/>
              </a:rPr>
              <a:t>-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rain tissue = 78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 Blood = 12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 Cerebrospinal fluid (CSF) = 1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Any increase in any of these tissues causes increased IC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Components of the Br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7924680" y="6400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Fig. 55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0" descr="Fig"/>
          <p:cNvPicPr/>
          <p:nvPr/>
        </p:nvPicPr>
        <p:blipFill>
          <a:blip r:embed="rId1"/>
          <a:stretch/>
        </p:blipFill>
        <p:spPr>
          <a:xfrm>
            <a:off x="914400" y="1193760"/>
            <a:ext cx="7238880" cy="56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Factors that influence ICP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839080" cy="411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rterial pres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enous pres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raabdominal and intrathoracic pres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os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emper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lood gases (C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level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ntracranial Press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degree to which these factors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IC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epends on the ability of the brain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ccommodate to the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Regulation and Maintenance for IC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f the volume in any one of the components (brain tissue, blood, and CS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creases within the cranial vault and the volume from another component is displaced, the total intracranial volume will not 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ntracranial Pressure</a:t>
            </a:r>
            <a:br>
              <a:rPr sz="4400"/>
            </a:b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Regulation and Mainten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Times New Roman"/>
              </a:rPr>
              <a:t>Normal compensatory adap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lteration of CSF absorption or p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hunting of CSF into spinal subarachnoid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hunting of venous blood out of the sku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Mechanisms of Increased IC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Ca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ss le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erebral ed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ead inju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rain inflam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etabolic ins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30T22:30:10Z</dcterms:created>
  <dc:creator>Mike</dc:creator>
  <dc:description/>
  <dc:language>en-US</dc:language>
  <cp:lastModifiedBy>Nasima Yahya Awaji</cp:lastModifiedBy>
  <dcterms:modified xsi:type="dcterms:W3CDTF">2016-09-25T08:59:00Z</dcterms:modified>
  <cp:revision>117</cp:revision>
  <dc:subject/>
  <dc:title>Intracranial Pressu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8CD73DCE-DE81-46B5-B499-FE6648959402</vt:lpwstr>
  </property>
  <property fmtid="{D5CDD505-2E9C-101B-9397-08002B2CF9AE}" pid="3" name="ArticulatePath">
    <vt:lpwstr>422 NUR-IntracranialPressure1</vt:lpwstr>
  </property>
</Properties>
</file>