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FB66-1FF0-4AD5-BE55-EE3C0EA1986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7A67-4D7E-48C7-8FB5-5B94B94FF2D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DE64-BE3E-4C91-A4AA-7D0296C9BE8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15D1-72A3-42FF-8D0E-103E183FC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54B0-BF3F-4FB0-8BA6-1C1EF2D3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92E8-1D88-4E5B-B932-6A4E10AC6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6202-DAA8-41A3-8FBA-8E6F55DD3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9162-CE1C-491F-A276-6F9EEE595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835B-E60E-4A00-8B9D-3F20F5F2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FFD2-19AB-495F-870F-2EE75E18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54FD-9717-4777-83CF-7B0E64E2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3A07-292A-4B3A-BFB9-3C191EA8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46EA-8EFF-4472-A888-C33F6900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CA32-0842-41F6-8805-17228966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94EE-4133-407A-AB69-01926D0A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DB59-00A5-4843-8A43-55C03F0D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FB19-6EC3-4721-AF06-95917B58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92EA-B589-443F-87C3-5C592798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6DE6-7C2E-4351-8686-F54EAA4C4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09DB-BF95-40BE-ABBD-E151CC011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4940-DA36-4CDD-BA37-53A47BFC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31DC-C0E8-4510-8B09-C1FCA634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3059-770E-4910-9B7E-AE3ED00E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6B37-9915-46A2-ABBD-B4A87FEE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0301-645F-4110-B318-94E6FC9F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BAA6-BECA-470D-9779-C3C4BCED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4E76-769F-4EDF-9EC0-A1601F7D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2008/F.ABUDAY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EA08-6A46-41FE-A0D4-8A8358CB3C8E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2008/F.ABUDAY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A2A0-B313-46FD-99EC-6FEAE72F1C9A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042560" y="43671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Verdana"/>
              </a:rPr>
              <a:t>NUR 42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A323-E2CF-4C7C-87C2-F850FCC39610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8772"/>
          <p:cNvPicPr/>
          <p:nvPr/>
        </p:nvPicPr>
        <p:blipFill>
          <a:blip r:embed="rId1"/>
          <a:srcRect l="61344" t="26361" r="879" b="35833"/>
          <a:stretch/>
        </p:blipFill>
        <p:spPr>
          <a:xfrm>
            <a:off x="1763640" y="2924280"/>
            <a:ext cx="6121440" cy="1441440"/>
          </a:xfrm>
          <a:prstGeom prst="rect">
            <a:avLst/>
          </a:prstGeom>
          <a:ln w="0">
            <a:noFill/>
          </a:ln>
        </p:spPr>
      </p:pic>
      <p:sp>
        <p:nvSpPr>
          <p:cNvPr id="101" name="WordArt 6"/>
          <p:cNvSpPr txBox="1"/>
          <p:nvPr/>
        </p:nvSpPr>
        <p:spPr>
          <a:xfrm>
            <a:off x="1403280" y="692280"/>
            <a:ext cx="6985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63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66ff"/>
                    </a:gs>
                    <a:gs pos="50000">
                      <a:srgbClr val="99cccc"/>
                    </a:gs>
                    <a:gs pos="100000">
                      <a:srgbClr val="6666ff"/>
                    </a:gs>
                  </a:gsLst>
                  <a:lin ang="5400000"/>
                </a:gradFill>
                <a:latin typeface="Times New Roman"/>
              </a:rPr>
              <a:t>CARDIAC PACING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66ff"/>
                  </a:gs>
                  <a:gs pos="50000">
                    <a:srgbClr val="99cccc"/>
                  </a:gs>
                  <a:gs pos="100000">
                    <a:srgbClr val="6666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2008/F.ABUDAYA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E380-B621-4D3E-BF45-1EC1DB5A73F4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Single chamber (unipola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8" name="Picture 5" descr="صورة2"/>
          <p:cNvPicPr/>
          <p:nvPr/>
        </p:nvPicPr>
        <p:blipFill>
          <a:blip r:embed="rId1"/>
          <a:stretch/>
        </p:blipFill>
        <p:spPr>
          <a:xfrm>
            <a:off x="1042920" y="1841400"/>
            <a:ext cx="6343560" cy="4324320"/>
          </a:xfrm>
          <a:prstGeom prst="rect">
            <a:avLst/>
          </a:prstGeom>
          <a:ln w="38160">
            <a:solidFill>
              <a:srgbClr val="ff66ff"/>
            </a:solidFill>
            <a:miter/>
          </a:ln>
        </p:spPr>
      </p:pic>
    </p:spTree>
  </p:cSld>
  <p:transition spd="slow">
    <p:randomBar dir="horz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2008/F.ABUDAYA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71DC-3B04-4623-84D9-142C439DADC1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صورة1"/>
          <p:cNvPicPr/>
          <p:nvPr/>
        </p:nvPicPr>
        <p:blipFill>
          <a:blip r:embed="rId1"/>
          <a:stretch/>
        </p:blipFill>
        <p:spPr>
          <a:xfrm>
            <a:off x="395280" y="1052640"/>
            <a:ext cx="8064360" cy="5371920"/>
          </a:xfrm>
          <a:prstGeom prst="rect">
            <a:avLst/>
          </a:prstGeom>
          <a:ln w="38160">
            <a:solidFill>
              <a:srgbClr val="ff66ff"/>
            </a:solidFill>
            <a:miter/>
          </a:ln>
        </p:spPr>
      </p:pic>
    </p:spTree>
  </p:cSld>
  <p:transition spd="slow">
    <p:randomBar dir="horz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2008/F.ABUDAYA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46D4-5FFD-4A5D-AC49-3CCA9DDCCA25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صورة3"/>
          <p:cNvPicPr/>
          <p:nvPr/>
        </p:nvPicPr>
        <p:blipFill>
          <a:blip r:embed="rId1"/>
          <a:stretch/>
        </p:blipFill>
        <p:spPr>
          <a:xfrm>
            <a:off x="755640" y="1557360"/>
            <a:ext cx="7777080" cy="4680000"/>
          </a:xfrm>
          <a:prstGeom prst="rect">
            <a:avLst/>
          </a:prstGeom>
          <a:ln w="38160">
            <a:solidFill>
              <a:srgbClr val="ff66ff"/>
            </a:solidFill>
            <a:miter/>
          </a:ln>
        </p:spPr>
      </p:pic>
    </p:spTree>
  </p:cSld>
  <p:transition spd="slow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2008/F.ABUDAYA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B3C8-E7E2-4A23-8C42-F3AD7ED03861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Pacing typ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Perman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Tempora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biventricula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horz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Types of pac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ff66ff"/>
                </a:solidFill>
                <a:uFillTx/>
                <a:latin typeface="Verdana"/>
              </a:rPr>
              <a:t>Permanent pacemak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Used to treat chronic heart conditio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Surgically placed transvenuosly under local anesthesi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Pulse generator placed in a pocket subcutaneously ,can be adjusted externall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rtl="1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horz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2008/F.ABUDAYA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4D88-3A7B-4916-9048-8803B7A10A6E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66ff"/>
                </a:solidFill>
                <a:uFillTx/>
                <a:latin typeface="Arial"/>
              </a:rPr>
              <a:t>Permanent pacemak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Picture 11" descr="CB008945"/>
          <p:cNvPicPr/>
          <p:nvPr/>
        </p:nvPicPr>
        <p:blipFill>
          <a:blip r:embed="rId1"/>
          <a:stretch/>
        </p:blipFill>
        <p:spPr>
          <a:xfrm>
            <a:off x="395280" y="1700280"/>
            <a:ext cx="4176720" cy="2305080"/>
          </a:xfrm>
          <a:prstGeom prst="rect">
            <a:avLst/>
          </a:prstGeom>
          <a:ln w="38160">
            <a:solidFill>
              <a:srgbClr val="ff66ff"/>
            </a:solidFill>
            <a:miter/>
          </a:ln>
        </p:spPr>
      </p:pic>
      <p:pic>
        <p:nvPicPr>
          <p:cNvPr id="155" name="Picture 13" descr="large_pacemaker"/>
          <p:cNvPicPr/>
          <p:nvPr/>
        </p:nvPicPr>
        <p:blipFill>
          <a:blip r:embed="rId2"/>
          <a:stretch/>
        </p:blipFill>
        <p:spPr>
          <a:xfrm>
            <a:off x="4932360" y="1700280"/>
            <a:ext cx="3960720" cy="4321080"/>
          </a:xfrm>
          <a:prstGeom prst="rect">
            <a:avLst/>
          </a:prstGeom>
          <a:ln w="38160">
            <a:solidFill>
              <a:srgbClr val="ff66ff"/>
            </a:solidFill>
            <a:miter/>
          </a:ln>
        </p:spPr>
      </p:pic>
      <p:pic>
        <p:nvPicPr>
          <p:cNvPr id="156" name="Picture 15" descr="20218-inter-prev"/>
          <p:cNvPicPr/>
          <p:nvPr/>
        </p:nvPicPr>
        <p:blipFill>
          <a:blip r:embed="rId3"/>
          <a:srcRect l="21727" t="0" r="13040" b="19365"/>
          <a:stretch/>
        </p:blipFill>
        <p:spPr>
          <a:xfrm>
            <a:off x="395280" y="4149720"/>
            <a:ext cx="4176720" cy="2708280"/>
          </a:xfrm>
          <a:prstGeom prst="rect">
            <a:avLst/>
          </a:prstGeom>
          <a:ln w="38160">
            <a:solidFill>
              <a:srgbClr val="ff66ff"/>
            </a:solidFill>
            <a:miter/>
          </a:ln>
        </p:spPr>
      </p:pic>
    </p:spTree>
  </p:cSld>
  <p:transition spd="slow">
    <p:randomBar dir="horz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5031-6781-4ABA-B1FC-545F47213D25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tens1"/>
          <p:cNvPicPr/>
          <p:nvPr/>
        </p:nvPicPr>
        <p:blipFill>
          <a:blip r:embed="rId1"/>
          <a:stretch/>
        </p:blipFill>
        <p:spPr>
          <a:xfrm>
            <a:off x="6372360" y="1413000"/>
            <a:ext cx="2771640" cy="5067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ypes of pacing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665964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66ff"/>
                </a:solidFill>
                <a:latin typeface="Verdana"/>
              </a:rPr>
              <a:t>Temporary pacemak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Placed during emergenc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Indicated for pts</a:t>
            </a:r>
            <a:r>
              <a:rPr b="1" lang="en-US" sz="29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 high degree heart block or unstable bradycardi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horz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0F76-4704-45C0-8B99-CA4AE1A6B71F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ff66ff"/>
                </a:solidFill>
                <a:uFillTx/>
                <a:latin typeface="Verdana"/>
              </a:rPr>
              <a:t>Biventricular pacemak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Used in sever heart failu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Utilize three leads in right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atrium, right ventricle and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     </a:t>
            </a: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left ventricle to coordinat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     </a:t>
            </a: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ventricular coordinatio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     </a:t>
            </a: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and improve cardia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     </a:t>
            </a: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out pu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539640" y="18900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ypes of pac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bivpm"/>
          <p:cNvPicPr/>
          <p:nvPr/>
        </p:nvPicPr>
        <p:blipFill>
          <a:blip r:embed="rId1"/>
          <a:srcRect l="2818" t="3824" r="35588" b="6715"/>
          <a:stretch/>
        </p:blipFill>
        <p:spPr>
          <a:xfrm>
            <a:off x="6300720" y="3141720"/>
            <a:ext cx="2266920" cy="3024000"/>
          </a:xfrm>
          <a:prstGeom prst="rect">
            <a:avLst/>
          </a:prstGeom>
          <a:ln w="28440">
            <a:solidFill>
              <a:srgbClr val="ff66ff"/>
            </a:solidFill>
            <a:miter/>
          </a:ln>
        </p:spPr>
      </p:pic>
    </p:spTree>
  </p:cSld>
  <p:transition spd="slow">
    <p:randomBar dir="horz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BD35-D240-46CC-ACA3-A6F6897D4E5B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66"/>
                </a:solidFill>
                <a:uFillTx/>
                <a:latin typeface="Arial"/>
              </a:rPr>
              <a:t>INSERTION SITES</a:t>
            </a:r>
            <a:r>
              <a:rPr b="0" lang="ar-SA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Left Subclavian (most reliable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Internal jugular (lower incidence of pneumothorax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Femoral vei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Brachial vei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horz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6060-AB63-4886-B373-F8A399823E59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Complic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Movement and dislocation of the l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Injur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Bleeding and hematom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Ventricular ectopy or VT from wall stimul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Infec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Cardiac tampon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rtl="1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horz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2008/F.ABUDAYA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7EF5-BE42-4335-BC2E-442A74A85839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Out lin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Introdu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Definition of cardiac pac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Clinical Indic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Pacemaker desig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Pacemaker fun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Types of pac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Nursing diagno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Nursing interven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Pt</a:t>
            </a:r>
            <a:r>
              <a:rPr b="1" lang="en-US" sz="29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s educ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4570-54CC-46E0-BFE8-2265B302CCF7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Arial"/>
              </a:rPr>
              <a:t>Nursing diagnosi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Decreased cardiac output related to potential pacemaker mal func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Risk for injury related to peumothorax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Impaired physical mobility related to restriction of movement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Acute pain related to surgical incision or external pacing stimuli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Disturbed body image related to pacemaker implementation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horz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3EF0-571A-4FEB-9D95-E0A38A136BCB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03280" y="4042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Nursing interven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26920" y="2103120"/>
            <a:ext cx="7848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66ff"/>
                </a:solidFill>
                <a:latin typeface="Verdana"/>
              </a:rPr>
              <a:t>Maintain adequate cardiac outpu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Record information after insertion pacemaker model ,mode, program setting,pt</a:t>
            </a:r>
            <a:r>
              <a:rPr b="1" lang="en-US" sz="25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s rhythm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Attach ECG for continues monitor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Analyze rhythm strips as per protoco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Monitor vital sign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Monitor urine outpu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Observe for dysrhythm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horz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F658-A054-41E3-AA07-F79067A8BCE7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CB008945"/>
          <p:cNvPicPr/>
          <p:nvPr/>
        </p:nvPicPr>
        <p:blipFill>
          <a:blip r:embed="rId1"/>
          <a:stretch/>
        </p:blipFill>
        <p:spPr>
          <a:xfrm>
            <a:off x="6948360" y="297000"/>
            <a:ext cx="2097360" cy="15843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3640" y="338040"/>
            <a:ext cx="731340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Nursing interven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8883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66ff"/>
                </a:solidFill>
                <a:latin typeface="Verdana"/>
              </a:rPr>
              <a:t>Avoid inju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Obtain  chest x-ray to check lead wire posi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Monitor for sign and symptom of hemothorax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Monitor for sign and symptom of pneumothorax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Evaluate evidence for bleed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horz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C053-5B31-4108-AA9A-7E7C7E4998F1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Nursing interven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66ff"/>
                </a:solidFill>
                <a:latin typeface="Verdana"/>
              </a:rPr>
              <a:t>Monitor for evidence of lead migration and perforation of hear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Observe for muscle twitching and hiccup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Evaluate chest pai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Auscultate foe friction rub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Observe for signs of cardiac tampona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rtl="1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horz"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91DC-A33E-4FFB-B61A-F1D2D092D24A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Nursing interven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66ff"/>
                </a:solidFill>
                <a:latin typeface="Verdana"/>
              </a:rPr>
              <a:t>Provide electrically safe environ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Protect exposed parts of electrode leads with rubber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Wear rubber gloves when touching a temporary pacing lea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horz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5CAC-F69A-454D-9D11-8758005DD141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Nursing interventio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36240" y="1773000"/>
            <a:ext cx="878508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Verdana"/>
              </a:rPr>
              <a:t>Be aware of hazards in the facility that can interfere pacemaker and cause failure</a:t>
            </a:r>
            <a:r>
              <a:rPr b="0" lang="en-US" sz="2400" spc="-1" strike="noStrike">
                <a:solidFill>
                  <a:srgbClr val="ff66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Avoid use of electrical raz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Avoid direct placement of defibrillator paddles over the generator, should be placed 4-5 inches awa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P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 with permanent pacemaker should never exposed to MRI because it may alter and erase the program mem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Caution must be used if pt will receive radiation therapy.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horz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5F98-1CA7-4CE2-981E-53234692E6A9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Nursing interven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66ff"/>
                </a:solidFill>
                <a:latin typeface="Verdana"/>
              </a:rPr>
              <a:t>Prevent accidental pacemaker malfunc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Use external plastic covering over external generator all tim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Secure temporary pace maker over pt</a:t>
            </a:r>
            <a:r>
              <a:rPr b="1" lang="en-US" sz="29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s chest or wrist never hang it over iv po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horz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92A5-BEA7-4BC2-B2F4-9C6F96296874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Nursing interven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66ff"/>
                </a:solidFill>
                <a:latin typeface="Verdana"/>
              </a:rPr>
              <a:t>Relieving anxie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66ff"/>
                </a:solidFill>
                <a:latin typeface="Verdana"/>
              </a:rPr>
              <a:t>Reliving pai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66ff"/>
                </a:solidFill>
                <a:latin typeface="Verdana"/>
              </a:rPr>
              <a:t>Maintaining a positive body imag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66ff"/>
                </a:solidFill>
                <a:latin typeface="Verdana"/>
              </a:rPr>
              <a:t>Minimizing the effect of immobi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Rest for 24-48 hrs post pacing inser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Deep breathing exerci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Restrict movement of affected extrem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horz"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34DF-34E3-4186-A026-11DD592EDD31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313760" cy="67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Patient educ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000" y="1116000"/>
            <a:ext cx="8962920" cy="57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Verdana"/>
              </a:rPr>
              <a:t>Anatomy and physiology of the hea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Verdana"/>
              </a:rPr>
              <a:t>Pacemaker fun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Verdana"/>
              </a:rPr>
              <a:t>Activ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pecific instruction include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Not to lift items over 1.4kg or perform difficult arm maneuv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Avoid excessive stretching or bending excessiv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Avoid contact sport,tennis,gulfing until advised by doct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xual activity can be resumed when desir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horz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1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1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1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1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10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10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DF84-A7B6-4F83-8C5D-A4AB0369B9C1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1194-inter-prev"/>
          <p:cNvPicPr/>
          <p:nvPr/>
        </p:nvPicPr>
        <p:blipFill>
          <a:blip r:embed="rId1"/>
          <a:srcRect l="9134" t="20248" r="7349" b="30014"/>
          <a:stretch/>
        </p:blipFill>
        <p:spPr>
          <a:xfrm>
            <a:off x="6588000" y="1484280"/>
            <a:ext cx="2305080" cy="1873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Patient educ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6327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66ff"/>
                </a:solidFill>
                <a:latin typeface="Verdana"/>
              </a:rPr>
              <a:t>Pacemaker failu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Teach pt to check own puls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     </a:t>
            </a: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at least weekly for 1 mi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Report slowing on the puls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     </a:t>
            </a: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less or greater than the setting rat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Report sign and symptom as palpitation ,fatigue ,dizziness ,prolonged hiccup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Verdana"/>
              </a:rPr>
              <a:t>Wear identification bracelet and carry a pacemaker identification cared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horz"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nodeType="clickEffect" fill="hold">
                      <p:stCondLst>
                        <p:cond delay="0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10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10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2008/F.ABUDAYA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F7D0-784A-4BAA-9D59-7BD90470F7A1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Normal conductive system of the hear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Picture 4" descr="heart"/>
          <p:cNvPicPr/>
          <p:nvPr/>
        </p:nvPicPr>
        <p:blipFill>
          <a:blip r:embed="rId1"/>
          <a:stretch/>
        </p:blipFill>
        <p:spPr>
          <a:xfrm>
            <a:off x="1403280" y="1773360"/>
            <a:ext cx="6912000" cy="453384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ransition spd="slow">
    <p:randomBar dir="horz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E812-D85C-4DEA-9BF0-3863A2AE0290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31640" y="-1717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Patient educ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99640" y="1125360"/>
            <a:ext cx="778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Verdana"/>
              </a:rPr>
              <a:t>Electromagnetic interfe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aution pt that EMI could interfere with pacemaker func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Explain that high energy radar, TV and radio transmetters,MRI,large motors antitheft devices and airport security alarmsmay affect the pacemaker func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each pt to move 4-6 m away from source and check pulse. it should return to norm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Household and kitchen appliance will not affect pacemak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404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horz"/>
  </p:transition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EA94-282D-4456-BEB1-622F1E815DAB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Patient educ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66ff"/>
                </a:solidFill>
                <a:latin typeface="Verdana"/>
              </a:rPr>
              <a:t>Care of pacemaker sit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Wear loose-fitt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     </a:t>
            </a: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clothes around pacemak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Watch sign and sympto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     </a:t>
            </a: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of infe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Keep incision site clea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     </a:t>
            </a: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and dry. not to scrub sit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Advise well balanced die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Picture 5" descr="large_pacemaker"/>
          <p:cNvPicPr/>
          <p:nvPr/>
        </p:nvPicPr>
        <p:blipFill>
          <a:blip r:embed="rId1"/>
          <a:stretch/>
        </p:blipFill>
        <p:spPr>
          <a:xfrm>
            <a:off x="6659640" y="2133720"/>
            <a:ext cx="2484360" cy="2889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10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10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10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10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2008/F.ABUDAYA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AEC4-B047-414C-9560-323064E9423B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Definition of cardiac pac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It is an electric device that delivers direct electrical stimulation to stimulate the myocardium to depolarize ,initiating a mechanical contraction</a:t>
            </a: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2008/F.ABUDAYA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9470-6258-4C8C-9FF6-80C1AD35EB3D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ual-chamber (bipolar) pacemak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Picture 4" descr="pacemaker-dwgs"/>
          <p:cNvPicPr/>
          <p:nvPr/>
        </p:nvPicPr>
        <p:blipFill>
          <a:blip r:embed="rId1"/>
          <a:stretch/>
        </p:blipFill>
        <p:spPr>
          <a:xfrm>
            <a:off x="250920" y="1700280"/>
            <a:ext cx="8713800" cy="4968720"/>
          </a:xfrm>
          <a:prstGeom prst="rect">
            <a:avLst/>
          </a:prstGeom>
          <a:ln w="38160">
            <a:solidFill>
              <a:srgbClr val="ff66ff"/>
            </a:solidFill>
            <a:miter/>
          </a:ln>
        </p:spPr>
      </p:pic>
    </p:spTree>
  </p:cSld>
  <p:transition spd="slow">
    <p:randomBar dir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2008/F.ABUDAYA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2831-7E3B-4E58-AA4D-F7A6FA05E031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Clinical Indic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Symptomatic bradycardi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Symptomatic heart bloc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2</a:t>
            </a:r>
            <a:r>
              <a:rPr b="1" lang="en-US" sz="2900" spc="-1" strike="noStrike" baseline="30000">
                <a:solidFill>
                  <a:srgbClr val="000066"/>
                </a:solidFill>
                <a:latin typeface="Verdana"/>
              </a:rPr>
              <a:t>nd</a:t>
            </a: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 degree heart block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3</a:t>
            </a:r>
            <a:r>
              <a:rPr b="1" lang="en-US" sz="2900" spc="-1" strike="noStrike" baseline="30000">
                <a:solidFill>
                  <a:srgbClr val="000066"/>
                </a:solidFill>
                <a:latin typeface="Verdana"/>
              </a:rPr>
              <a:t>rd</a:t>
            </a: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 or complete heart bloc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Bifasicular or transfasicular bundle branch block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horz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2008/F.ABUDAYA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05D7-F72C-45BE-8626-A3CDC0AC4ED2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Pacemaker Desig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66"/>
                </a:solidFill>
                <a:latin typeface="Verdana"/>
              </a:rPr>
              <a:t>Pulse generator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66"/>
                </a:solidFill>
                <a:latin typeface="Verdana"/>
              </a:rPr>
              <a:t>leads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horz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2008/F.ABUDAYA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D008-71EC-4033-B3E8-A5BDEA5252DC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Pacemaker Desig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02920" y="1915920"/>
            <a:ext cx="728028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66"/>
                </a:solidFill>
                <a:uFillTx/>
                <a:latin typeface="Verdana"/>
              </a:rPr>
              <a:t>Pulse generato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Transcutanus external pacing system house the generator in a piece of equipment similar to portable ECG monitor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4" descr="Pic-Fire060615EMS3"/>
          <p:cNvPicPr/>
          <p:nvPr/>
        </p:nvPicPr>
        <p:blipFill>
          <a:blip r:embed="rId1"/>
          <a:stretch/>
        </p:blipFill>
        <p:spPr>
          <a:xfrm>
            <a:off x="4211640" y="4302000"/>
            <a:ext cx="3600360" cy="23767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131" name="Picture 8" descr=""/>
          <p:cNvPicPr/>
          <p:nvPr/>
        </p:nvPicPr>
        <p:blipFill>
          <a:blip r:embed="rId2"/>
          <a:stretch/>
        </p:blipFill>
        <p:spPr>
          <a:xfrm>
            <a:off x="900000" y="4446720"/>
            <a:ext cx="2968560" cy="2232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FFD4-68CE-4072-8B32-314070900AB1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Pacemaker Desig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ff66ff"/>
                </a:solidFill>
                <a:uFillTx/>
                <a:latin typeface="Verdana"/>
              </a:rPr>
              <a:t>Pacemaker lea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66ff"/>
                </a:solidFill>
                <a:latin typeface="Verdana"/>
              </a:rPr>
              <a:t>Single chamber (unipolar) pacemak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Verdana"/>
              </a:rPr>
              <a:t>Lead placed in atrium or ventric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66ff"/>
                </a:solidFill>
                <a:latin typeface="Verdana"/>
              </a:rPr>
              <a:t>Dual-chamber (bipolar) pacemak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Verdana"/>
              </a:rPr>
              <a:t>One Lead located in the atrium and one in the ventric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horz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12:28Z</dcterms:created>
  <dc:creator>-</dc:creator>
  <dc:description/>
  <dc:language>en-US</dc:language>
  <cp:lastModifiedBy>Nasima Yahya Awaji</cp:lastModifiedBy>
  <dcterms:modified xsi:type="dcterms:W3CDTF">2016-09-25T08:59:21Z</dcterms:modified>
  <cp:revision>36</cp:revision>
  <dc:subject/>
  <dc:title>CARDIAC PAC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2D76BBF4-E759-4372-82B9-243A342766E3</vt:lpwstr>
  </property>
  <property fmtid="{D5CDD505-2E9C-101B-9397-08002B2CF9AE}" pid="3" name="ArticulatePath">
    <vt:lpwstr>422 NUR-pacemaker</vt:lpwstr>
  </property>
</Properties>
</file>