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EDB2-890F-40A0-8D48-F6D0F70C2D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8A2-F36C-40B2-9B22-457CDDA593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244-01F9-46E8-BB06-323BF55022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298-CD4A-47A4-85C2-01C25A2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1FC-21B9-458D-9BDE-1D92A368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8F7-AD09-4344-9481-AFF3078F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5D0-F44D-47DC-A337-8986E3E7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646-7E9A-4513-B183-A676B959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CE2-DCFF-4A64-9D29-E70492B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1995-A8C3-4A7E-BA3C-0E4839C6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463-4C93-4B12-BFBB-D826D1E7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171-C6CC-46B7-8F50-3ADCCA77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F509-AC2F-4951-AC2F-1FE66553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A960-49EF-4956-A384-99E6BE3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5DF-A107-4C01-B394-DB20F06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0AF9-D344-42CE-8584-8E0566C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7F5-A45F-4494-973B-E461341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D618-57CD-4C93-8D09-072BC2A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0C6D-69BC-402F-8C0B-F231D676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9FEC-1FD3-41C8-ABAA-47B234FB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20B-D5BC-4A70-835E-04F352D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8B3-171E-4124-AEA1-3073C62F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E17-DFF2-490D-9CCF-1867E01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542-6573-44C6-85BA-A9322E7E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74A-535E-414A-A902-701E3DE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7AC-0C32-49BE-B469-DBBBC28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57C-C87E-4E7B-843C-FE7B122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4E8-B180-4D3A-A841-EDDF6957997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63C-7F37-4FE5-BF68-3C333453631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43671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NUR 4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C67-D94E-4C11-AF8D-F1744185372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8772"/>
          <p:cNvPicPr/>
          <p:nvPr/>
        </p:nvPicPr>
        <p:blipFill>
          <a:blip r:embed="rId1"/>
          <a:srcRect l="61344" t="26361" r="879" b="35833"/>
          <a:stretch/>
        </p:blipFill>
        <p:spPr>
          <a:xfrm>
            <a:off x="1763640" y="2924280"/>
            <a:ext cx="6121440" cy="1441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1403280" y="69228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50000">
                      <a:srgbClr val="99cccc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Times New Roman"/>
              </a:rPr>
              <a:t>CARDIAC PACING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50000">
                    <a:srgbClr val="99cccc"/>
                  </a:gs>
                  <a:gs pos="100000">
                    <a:srgbClr val="66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B12-FD38-448C-9D5B-C391DC776AA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Single chamber (unipol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5" descr="صورة2"/>
          <p:cNvPicPr/>
          <p:nvPr/>
        </p:nvPicPr>
        <p:blipFill>
          <a:blip r:embed="rId1"/>
          <a:stretch/>
        </p:blipFill>
        <p:spPr>
          <a:xfrm>
            <a:off x="1042920" y="1841400"/>
            <a:ext cx="6343560" cy="432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94B-82A8-4E10-903D-BEEDD50002B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صورة1"/>
          <p:cNvPicPr/>
          <p:nvPr/>
        </p:nvPicPr>
        <p:blipFill>
          <a:blip r:embed="rId1"/>
          <a:stretch/>
        </p:blipFill>
        <p:spPr>
          <a:xfrm>
            <a:off x="395280" y="1052640"/>
            <a:ext cx="8064360" cy="53719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CB1-2073-48D5-95DB-97FB48B2444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صورة3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68000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584B-F3F3-469A-B141-52BDB39F774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acing ty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erman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empor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iventricul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ypes of pa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Permanent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d to treat chronic heart condi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urgically placed transvenuosly under local anesthes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ulse generator placed in a pocket subcutaneously ,can be adjusted external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27FB-52AC-4A08-82B6-01B7EC78D27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ff"/>
                </a:solidFill>
                <a:uFillTx/>
                <a:latin typeface="Arial"/>
              </a:rPr>
              <a:t>Permanent pacemak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11" descr="CB00894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2305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55" name="Picture 13" descr="large_pacemaker"/>
          <p:cNvPicPr/>
          <p:nvPr/>
        </p:nvPicPr>
        <p:blipFill>
          <a:blip r:embed="rId2"/>
          <a:stretch/>
        </p:blipFill>
        <p:spPr>
          <a:xfrm>
            <a:off x="4932360" y="1700280"/>
            <a:ext cx="3960720" cy="4321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56" name="Picture 15" descr="20218-inter-prev"/>
          <p:cNvPicPr/>
          <p:nvPr/>
        </p:nvPicPr>
        <p:blipFill>
          <a:blip r:embed="rId3"/>
          <a:srcRect l="21727" t="0" r="13040" b="19365"/>
          <a:stretch/>
        </p:blipFill>
        <p:spPr>
          <a:xfrm>
            <a:off x="395280" y="4149720"/>
            <a:ext cx="4176720" cy="27082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9F64-F48F-4C26-9B27-78731F07CD8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tens1"/>
          <p:cNvPicPr/>
          <p:nvPr/>
        </p:nvPicPr>
        <p:blipFill>
          <a:blip r:embed="rId1"/>
          <a:stretch/>
        </p:blipFill>
        <p:spPr>
          <a:xfrm>
            <a:off x="6372360" y="1413000"/>
            <a:ext cx="2771640" cy="5067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ypes of pac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66596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Temporary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laced during emergenc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dicated for pts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high degree heart block or unstable bradycard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AA9-91BD-4383-B8C3-E3E724CE82F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Biventricular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d in sever heart fail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tilize three leads in righ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trium, right ventricle a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left ventricle to coordina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ventricular coordin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nd improve cardia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ut 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8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ypes of pa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bivpm"/>
          <p:cNvPicPr/>
          <p:nvPr/>
        </p:nvPicPr>
        <p:blipFill>
          <a:blip r:embed="rId1"/>
          <a:srcRect l="2818" t="3824" r="35588" b="6715"/>
          <a:stretch/>
        </p:blipFill>
        <p:spPr>
          <a:xfrm>
            <a:off x="6300720" y="3141720"/>
            <a:ext cx="2266920" cy="30240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250-330A-4151-A3D3-C8672E48C86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INSERTION SITES</a:t>
            </a: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Left Subclavian (most reliable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ternal jugular (lower incidence of pneumothorax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Femoral ve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rachial ve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E2BC-E471-464B-8E14-16F0A557811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ompl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vement and dislocation of the l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n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Bleeding and hemato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Ventricular ectopy or VT from wall sti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nf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Cardiac tampon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FCAC-0FA0-47D9-96EB-803BEDD843F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Out 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Definition of cardiac pa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Clinical Ind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acemaker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acemaker fun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ypes of pa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Nursing dia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Nursing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t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 edu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6CD2-8859-41E1-BEA9-F4A7C766B71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Decreased cardiac output related to potential pacemaker mal fun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isk for injury related to peumothora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mpaired physical mobility related to restriction of moveme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cute pain related to surgical incision or external pacing stimul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Disturbed body image related to pacemaker implementatio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562-8F7A-4F73-9260-E9F954AB320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21031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ff"/>
                </a:solidFill>
                <a:latin typeface="Verdana"/>
              </a:rPr>
              <a:t>Maintain adequate cardiac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cord information after insertion pacemaker model ,mode, program setting,pt</a:t>
            </a: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s rhyth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ttach ECG for continues monito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nalyze rhythm strips as per protoc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nitor vital sig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nitor urine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Observe for dysrhyth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EECC-9B39-4BA4-B291-61C70962228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B008945"/>
          <p:cNvPicPr/>
          <p:nvPr/>
        </p:nvPicPr>
        <p:blipFill>
          <a:blip r:embed="rId1"/>
          <a:stretch/>
        </p:blipFill>
        <p:spPr>
          <a:xfrm>
            <a:off x="6948360" y="297000"/>
            <a:ext cx="2097360" cy="1584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804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88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Avoid inju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tain  chest x-ray to check lead wire pos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Monitor for sign and symptom of hemothora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Monitor for sign and symptom of pneumothora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Evaluate evidence for blee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9CE-0320-480D-99DD-3931D68AB53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onitor for evidence of lead migration and perforation of he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serve for muscle twitching and hiccu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Evaluate chest p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uscultate foe friction ru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serve for signs of cardiac tampon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27B5-A569-4A23-91A9-9D8D9BA68EF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Provide electrically safe environ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rotect exposed parts of electrode leads with rubb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ear rubber gloves when touching a temporary pacing l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E054-CC00-48B3-AD0E-ADDFBA8C93C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36240" y="1773000"/>
            <a:ext cx="878508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Be aware of hazards in the facility that can interfere pacemaker and cause failure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void use of electrical ra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void direct placement of defibrillator paddles over the generator, should be placed 4-5 inches a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 with permanent pacemaker should never exposed to MRI because it may alter and erase the program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ution must be used if pt will receive radiation therapy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3C0C-BF78-4DE5-B94B-1E8B16D2B2A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Prevent accidental pacemaker malfun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 external plastic covering over external generator all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ecure temporary pace maker over pt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 chest or wrist never hang it over iv po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D61D-A8A1-4100-AD7C-7FBF18D6185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Relieving anxie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Reliving pai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aintaining a positive body im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inimizing the effect of immo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Rest for 24-48 hrs post pacing inser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Deep breathing exerc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Restrict movement of affected extre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D55-9B3F-4876-919D-10BC68A3349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116000"/>
            <a:ext cx="896292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Anatomy and physiology of the he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Pacemaker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pecific instruction includ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Not to lift items over 1.4kg or perform difficult arm maneu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void excessive stretching or bending exces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void contact sport,tennis,gulfing until advised by do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xual activity can be resumed when des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AC6-DABA-447A-8101-F23358C992F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1194-inter-prev"/>
          <p:cNvPicPr/>
          <p:nvPr/>
        </p:nvPicPr>
        <p:blipFill>
          <a:blip r:embed="rId1"/>
          <a:srcRect l="9134" t="20248" r="7349" b="30014"/>
          <a:stretch/>
        </p:blipFill>
        <p:spPr>
          <a:xfrm>
            <a:off x="6588000" y="1484280"/>
            <a:ext cx="2305080" cy="18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6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ff"/>
                </a:solidFill>
                <a:latin typeface="Verdana"/>
              </a:rPr>
              <a:t>Pacemaker 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Teach pt to check own pul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t least weekly for 1 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port slowing on the pul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less or greater than the setting rat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port sign and symptom as palpitation ,fatigue ,dizziness ,prolonged hiccup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Wear identification bracelet and carry a pacemaker identification ca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E91C-949D-475B-8D1C-644A622728C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Normal conductive system of the hea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4" descr="heart"/>
          <p:cNvPicPr/>
          <p:nvPr/>
        </p:nvPicPr>
        <p:blipFill>
          <a:blip r:embed="rId1"/>
          <a:stretch/>
        </p:blipFill>
        <p:spPr>
          <a:xfrm>
            <a:off x="1403280" y="1773360"/>
            <a:ext cx="6912000" cy="4533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EAE-92C6-4C06-AF64-F072C5A113F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Electromagnetic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aution pt that EMI could interfere with pacemaker f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xplain that high energy radar, TV and radio transmetters,MRI,large motors antitheft devices and airport security alarmsmay affect the pacemaker f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each pt to move 4-6 m away from source and check pulse. it should return to nor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ousehold and kitchen appliance will not affect pacema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50B3-D1AD-49AC-9F05-7713946A3A7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Care of pacemaker si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ear loose-fi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clothes around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atch sign and symp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f inf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Keep incision site clea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nd dry. not to scrub si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dvise well balanced di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5" descr="large_pacemaker"/>
          <p:cNvPicPr/>
          <p:nvPr/>
        </p:nvPicPr>
        <p:blipFill>
          <a:blip r:embed="rId1"/>
          <a:stretch/>
        </p:blipFill>
        <p:spPr>
          <a:xfrm>
            <a:off x="6659640" y="2133720"/>
            <a:ext cx="2484360" cy="288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DE13-861F-4039-B8EB-008A4F3DFF7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Definition of cardiac pa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t is an electric device that delivers direct electrical stimulation to stimulate the myocardium to depolarize ,initiating a mechanical contraction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782-3457-401C-BD3C-FFEF1C386E5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al-chamber (bipolar) pacemak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pacemaker-dwgs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9687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7927-E99F-4368-939A-852D4BAC12D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linical Ind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ymptomatic bradycard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ymptomatic heart blo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en-US" sz="29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degree heart bloc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1" lang="en-US" sz="2900" spc="-1" strike="noStrike" baseline="30000">
                <a:solidFill>
                  <a:srgbClr val="000066"/>
                </a:solidFill>
                <a:latin typeface="Verdana"/>
              </a:rPr>
              <a:t>rd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or complete heart blo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ifasicular or transfasicular bundle branch block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309-F825-47C9-A348-28DE335B5DF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Verdana"/>
              </a:rPr>
              <a:t>Pulse genera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Verdana"/>
              </a:rPr>
              <a:t>lea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F9A3-7F72-47C0-9E20-B2283F7D07F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72802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66"/>
                </a:solidFill>
                <a:uFillTx/>
                <a:latin typeface="Verdana"/>
              </a:rPr>
              <a:t>Pulse gener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ranscutanus external pacing system house the generator in a piece of equipment similar to portable ECG monito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Pic-Fire060615EMS3"/>
          <p:cNvPicPr/>
          <p:nvPr/>
        </p:nvPicPr>
        <p:blipFill>
          <a:blip r:embed="rId1"/>
          <a:stretch/>
        </p:blipFill>
        <p:spPr>
          <a:xfrm>
            <a:off x="4211640" y="4302000"/>
            <a:ext cx="3600360" cy="237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900000" y="4446720"/>
            <a:ext cx="29685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192-2601-4099-ACA8-D6F5C58C436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Pacemaker l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Single chamber (unipolar)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Lead placed in atrium or ventri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Dual-chamber (bipolar)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ne Lead located in the atrium and one in the ventri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12:28Z</dcterms:created>
  <dc:creator>-</dc:creator>
  <dc:description/>
  <dc:language>en-US</dc:language>
  <cp:lastModifiedBy>Nasima Yahya Awaji</cp:lastModifiedBy>
  <dcterms:modified xsi:type="dcterms:W3CDTF">2016-09-25T08:59:21Z</dcterms:modified>
  <cp:revision>36</cp:revision>
  <dc:subject/>
  <dc:title>CARDIAC P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D76BBF4-E759-4372-82B9-243A342766E3</vt:lpwstr>
  </property>
  <property fmtid="{D5CDD505-2E9C-101B-9397-08002B2CF9AE}" pid="3" name="ArticulatePath">
    <vt:lpwstr>422 NUR-pacemaker</vt:lpwstr>
  </property>
</Properties>
</file>