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wmf" ContentType="image/x-wmf"/>
  <Override PartName="/ppt/media/image24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03A-207A-46AF-A3D1-0A92DA28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CC1-048A-45EB-985A-22C5BF18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27F-4BA6-48E1-8BC6-6160C009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D26-8908-4CAD-87E8-76B6825C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C0EE-C2AE-442F-89C0-AA750DC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A07-E48F-45A3-8BA4-87D09A9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061-2D01-4A46-A4A9-511AB70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2569-4E89-454F-9362-566C1B49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0B1-D748-497E-94BF-43980BB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9FA-64B2-469E-A6B2-59E0FC4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3804-5F09-4048-A51C-C217867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763-8548-429F-94CA-F526133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25CE-3064-4038-A33C-E4EC5C8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E9D-10F9-4B0D-884C-99C0FED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ADD-605A-474E-972C-37EDAC59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570-CCFA-4089-9DC8-7895B6BD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BB83-F846-47D0-993E-176532C0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B968-7DEC-4523-BE31-4E65ACC3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0410-8B0B-4DCF-8D75-383CB74C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19AA-5BEA-4D3D-A55F-20A8BFD1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4C11-11F1-4BC8-9F49-C744190D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46CA-24EB-44D9-A04F-0F7B4AC0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9C8-1836-4349-81FD-0A16033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0AC6-A736-424A-B9F8-7627E71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0C0D-8930-47C3-BDB6-3C46DE5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4C8C-7CDC-4DC1-8F40-37ADFA5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D583-98F9-48A0-95BC-9048A20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91D0-121E-4D1D-87D9-804C34CC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F53A-050D-4A67-9151-BEDF95C8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1377-C337-44B8-8AC4-2597D7B1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5C33-AE23-4B42-A0A3-BE3DA6E0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851C-EAF2-4842-8260-9CAF1C5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8078-8BE2-4DD8-89C6-AA8B8AA8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BCE-951B-4029-B86D-D737CAF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3C5E-53A1-4E7E-9515-EFFB1EF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BF69-F4AC-4C38-8AED-C9B6518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F677-16AB-4434-91EC-41C01DF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CE9C-191E-4581-A9A1-02C60E5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B881-15F3-4C0F-A77B-DED6BDE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13A4-92C4-41E0-B8E7-55470C5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C4F6-066B-453D-B136-7B121E0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67C7-A086-41EC-AA9F-B8735E49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E247-EE87-4281-A3E7-D419F11F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2608-BBD7-481F-AFC9-5DD4027E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DC5-DA81-4C66-A9B8-B3731B53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C853-C904-4582-92FF-2C2BC84D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9A64-813C-4FD7-88B5-666218A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BC13-FF14-4734-8911-5BD854C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C880-94CD-4F54-A2BE-64CF9E1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FF17-C7D9-46BF-BE6B-B01359F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0AD7-14C6-4A91-82D0-61534E6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CCE0C-CDAE-4B75-A045-5B91949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8B2F-718B-4643-AD95-6A5A735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9973-5BF9-4209-BF46-FDF0BF1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9972-B300-4CA4-92ED-1D65DD48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FCC-E0F5-4B35-AD9A-9534160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881E-B3D5-4245-8A95-1925DE6C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8DB7-F000-4313-ACAE-EEE61663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DC453-CB75-4320-AFC1-A29A55F2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51FCF-56D9-47AE-9392-17F0F6A2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F02C-BC12-4D40-8DAF-111CE734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D6BD-EFD6-4C39-8D82-4D5D33C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0B4C-ECD8-43DB-91E1-705B716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D260-47A7-4166-966A-8B5FA10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E561E-7FC7-4506-861C-B111DAE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E87E-6B99-4FC1-8A8F-A3F5801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B7A-229C-47B2-B828-2ED7267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717B-D771-49B2-A11F-5DF8014C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E0B3-3DF5-45A3-A2A2-7E2D8F4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0B15-2CB4-4063-BD07-99F7224C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F7FA-95F2-47A4-B930-AA8B9137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8AD8-E64C-428F-A0A9-60CD36B9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4C58-0FFB-4862-ADF3-7C501EC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2CFE2-F3F3-4D1E-944D-4C16B4A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6E43-5B39-4BE7-822A-5D3F185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55C8-1A56-4C73-A87C-7462AEE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05FE-BE14-401B-A909-59DEDCB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6CC-E504-41DC-97B6-0214EA0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A8A7-A992-4DF8-88D0-E6BBAEC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9AC2D-2CF5-49D4-BCB7-D06A0ED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39C1-49BC-4BAC-A81D-89D3F976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C480-E7F3-40FA-ACA9-B629BF75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7F8B-75D1-40E5-94C1-9072AC0B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3EF-6212-4CF3-8B49-770DD76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8DA-6FF6-4843-969F-5B4CFD21A6E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C91-A322-4EA9-95F3-E8CD83AEBDA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674-6826-4EC4-92D5-8871F60D3B57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5C9-178C-4446-A88F-DFC1F5B3CCF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E3F-0B03-4CA6-9A22-A2CD5C83519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C3D-C195-4D7B-83D0-05786EA5C8A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F58-32AC-4A56-8240-3398C48F386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dahloos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447chem</a:t>
            </a:r>
            <a:r>
              <a:rPr b="0" lang="ar-SA" sz="3600" spc="-1" strike="noStrike">
                <a:solidFill>
                  <a:srgbClr val="572314"/>
                </a:solidFill>
                <a:latin typeface="Gill Sans MT"/>
                <a:ea typeface="Akhbar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dvanced Organic Chemistry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txBody>
          <a:bodyPr anchor="t">
            <a:normAutofit fontScale="97000"/>
          </a:bodyPr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خلود احمد دهلو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بنى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لدور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/  مكتب /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T25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بريد الالكتروني</a:t>
            </a:r>
            <a:r>
              <a:rPr b="0" lang="ar-SA" sz="3200" spc="-1" strike="noStrike">
                <a:solidFill>
                  <a:srgbClr val="27130e"/>
                </a:solidFill>
                <a:latin typeface="Gill Sans MT"/>
              </a:rPr>
              <a:t> 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kdahloos@ksu.edu.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موقع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portal.ksu.edu.sa/node/27208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مذكر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كتاب مختارات في التحضيرات عضو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أ. د/ حسن الحازمي      أ. د محمد ذيب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215120" cy="1285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http://www.smsec.com/ar/encyc/2/images/alkaloids/7.jpg"/>
          <p:cNvPicPr/>
          <p:nvPr/>
        </p:nvPicPr>
        <p:blipFill>
          <a:blip r:embed="rId2"/>
          <a:stretch/>
        </p:blipFill>
        <p:spPr>
          <a:xfrm>
            <a:off x="1285920" y="2857680"/>
            <a:ext cx="5762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14680" y="428760"/>
            <a:ext cx="492912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Object 2"/>
          <p:cNvGraphicFramePr/>
          <p:nvPr/>
        </p:nvGraphicFramePr>
        <p:xfrm>
          <a:off x="1000080" y="1714680"/>
          <a:ext cx="7000920" cy="37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14680"/>
                    <a:ext cx="70009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مستطيل 5"/>
          <p:cNvSpPr/>
          <p:nvPr/>
        </p:nvSpPr>
        <p:spPr>
          <a:xfrm>
            <a:off x="938880" y="5857920"/>
            <a:ext cx="28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5715000" cy="1120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glycyrrhizinic"/>
          <p:cNvPicPr/>
          <p:nvPr/>
        </p:nvPicPr>
        <p:blipFill>
          <a:blip r:embed="rId2"/>
          <a:stretch/>
        </p:blipFill>
        <p:spPr>
          <a:xfrm>
            <a:off x="642960" y="2357280"/>
            <a:ext cx="771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4143600" cy="915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T761364A[1]"/>
          <p:cNvPicPr/>
          <p:nvPr/>
        </p:nvPicPr>
        <p:blipFill>
          <a:blip r:embed="rId2"/>
          <a:stretch/>
        </p:blipFill>
        <p:spPr>
          <a:xfrm>
            <a:off x="714240" y="2214720"/>
            <a:ext cx="4427640" cy="2952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4FAFB296"/>
          <p:cNvPicPr/>
          <p:nvPr/>
        </p:nvPicPr>
        <p:blipFill>
          <a:blip r:embed="rId3"/>
          <a:srcRect l="11805" t="15229" r="43927" b="10325"/>
          <a:stretch/>
        </p:blipFill>
        <p:spPr>
          <a:xfrm>
            <a:off x="5143680" y="214308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4791240" cy="571680"/>
          </a:xfrm>
          <a:prstGeom prst="rect">
            <a:avLst/>
          </a:prstGeom>
          <a:ln w="0">
            <a:noFill/>
          </a:ln>
        </p:spPr>
      </p:pic>
      <p:sp>
        <p:nvSpPr>
          <p:cNvPr id="352" name="مستطيل 5"/>
          <p:cNvSpPr/>
          <p:nvPr/>
        </p:nvSpPr>
        <p:spPr>
          <a:xfrm>
            <a:off x="1032480" y="16430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Hemiterpenes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1714680" y="2214720"/>
            <a:ext cx="58957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4357800" cy="762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anthraquinone"/>
          <p:cNvPicPr/>
          <p:nvPr/>
        </p:nvPicPr>
        <p:blipFill>
          <a:blip r:embed="rId2"/>
          <a:stretch/>
        </p:blipFill>
        <p:spPr>
          <a:xfrm>
            <a:off x="2643120" y="2214720"/>
            <a:ext cx="43941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3571560" cy="83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Object 3"/>
          <p:cNvGraphicFramePr/>
          <p:nvPr/>
        </p:nvGraphicFramePr>
        <p:xfrm>
          <a:off x="1143000" y="3071880"/>
          <a:ext cx="6929280" cy="20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71880"/>
                    <a:ext cx="69292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مربع نص 1"/>
          <p:cNvSpPr/>
          <p:nvPr/>
        </p:nvSpPr>
        <p:spPr>
          <a:xfrm>
            <a:off x="1373040" y="1214280"/>
            <a:ext cx="51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 MT"/>
              </a:rPr>
              <a:t>Res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 MT"/>
              </a:rPr>
              <a:t>Protine and 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928880" y="1071720"/>
            <a:ext cx="6438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633320" y="716400"/>
            <a:ext cx="65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تجارب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مقرر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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كيم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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ك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57200" y="1571760"/>
          <a:ext cx="6786720" cy="4279680"/>
        </p:xfrm>
        <a:graphic>
          <a:graphicData uri="http://schemas.openxmlformats.org/drawingml/2006/table">
            <a:tbl>
              <a:tblPr/>
              <a:tblGrid>
                <a:gridCol w="4411800"/>
                <a:gridCol w="237492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</a:t>
                      </a:r>
                      <a:r>
                        <a:rPr b="1" i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ـتـجـــرب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i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اسـب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قدمة + المسح الكيمي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سح الكيمي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زيوت الطيار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زيت(القرنفل+البرتقال+الزعت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فلافونيد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قلويد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اسيتانيلي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بارا برومواأسيتانيلي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الصاب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أسبر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ميثيل البرتق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بنزوات بواسطة الفينو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مرك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hracene-9,10-endo-a,b-Succinic anhydr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714240" y="1873440"/>
            <a:ext cx="799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درجة النهائ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در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ات على الحضور ونظافة الم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ة امتحانات قصي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درجة تقارير تسلم في وقت الم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امتحان فص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ة الامتحان النه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khbar MT"/>
              </a:rPr>
              <a:t>Organic Chemist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مربع نص 11"/>
          <p:cNvSpPr/>
          <p:nvPr/>
        </p:nvSpPr>
        <p:spPr>
          <a:xfrm>
            <a:off x="1047960" y="2928960"/>
            <a:ext cx="477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Natur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مستطيل 4"/>
          <p:cNvSpPr/>
          <p:nvPr/>
        </p:nvSpPr>
        <p:spPr>
          <a:xfrm>
            <a:off x="1285920" y="571680"/>
            <a:ext cx="457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Natur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http://upload.wikimedia.org/wikipedia/commons/thumb/6/6e/Diversity_of_plants_image_version_5.png/250px-Diversity_of_plants_image_version_5.png"/>
          <p:cNvPicPr/>
          <p:nvPr/>
        </p:nvPicPr>
        <p:blipFill>
          <a:blip r:embed="rId1"/>
          <a:stretch/>
        </p:blipFill>
        <p:spPr>
          <a:xfrm>
            <a:off x="2000160" y="2000160"/>
            <a:ext cx="3571920" cy="1928880"/>
          </a:xfrm>
          <a:prstGeom prst="rect">
            <a:avLst/>
          </a:prstGeom>
          <a:ln w="0">
            <a:noFill/>
          </a:ln>
        </p:spPr>
      </p:pic>
      <p:sp>
        <p:nvSpPr>
          <p:cNvPr id="327" name="مستطيل 6"/>
          <p:cNvSpPr/>
          <p:nvPr/>
        </p:nvSpPr>
        <p:spPr>
          <a:xfrm>
            <a:off x="1473480" y="43578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nimals,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135072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ndalus"/>
                <a:ea typeface="Andalus"/>
              </a:rPr>
              <a:t>use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http://www.aleppos.net/gallery/files/2/8/3/2/885253-001.jpg"/>
          <p:cNvPicPr/>
          <p:nvPr/>
        </p:nvPicPr>
        <p:blipFill>
          <a:blip r:embed="rId1"/>
          <a:srcRect l="0" t="0" r="0" b="10449"/>
          <a:stretch/>
        </p:blipFill>
        <p:spPr>
          <a:xfrm>
            <a:off x="1143000" y="1428840"/>
            <a:ext cx="5429160" cy="2143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www5.0zz0.com/2010/11/01/04/868710429.jpg"/>
          <p:cNvPicPr/>
          <p:nvPr/>
        </p:nvPicPr>
        <p:blipFill>
          <a:blip r:embed="rId2"/>
          <a:stretch/>
        </p:blipFill>
        <p:spPr>
          <a:xfrm>
            <a:off x="1143000" y="3857760"/>
            <a:ext cx="528624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upload.wikimedia.org/wikipedia/commons/thumb/0/0e/Simple_chem_distillation.PNG/220px-Simple_chem_distillation.PNG"/>
          <p:cNvPicPr/>
          <p:nvPr/>
        </p:nvPicPr>
        <p:blipFill>
          <a:blip r:embed="rId1"/>
          <a:stretch/>
        </p:blipFill>
        <p:spPr>
          <a:xfrm>
            <a:off x="1143000" y="1500120"/>
            <a:ext cx="4929120" cy="2000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www.hulinks.co.jp/software/cs/images/mestrec.png"/>
          <p:cNvPicPr/>
          <p:nvPr/>
        </p:nvPicPr>
        <p:blipFill>
          <a:blip r:embed="rId2"/>
          <a:stretch/>
        </p:blipFill>
        <p:spPr>
          <a:xfrm>
            <a:off x="928800" y="3714840"/>
            <a:ext cx="5943600" cy="2681280"/>
          </a:xfrm>
          <a:prstGeom prst="rect">
            <a:avLst/>
          </a:prstGeom>
          <a:ln w="0">
            <a:noFill/>
          </a:ln>
        </p:spPr>
      </p:pic>
      <p:sp>
        <p:nvSpPr>
          <p:cNvPr id="333" name="مربع نص 5"/>
          <p:cNvSpPr/>
          <p:nvPr/>
        </p:nvSpPr>
        <p:spPr>
          <a:xfrm>
            <a:off x="1317960" y="7858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Targe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مستطيل 2"/>
          <p:cNvSpPr/>
          <p:nvPr/>
        </p:nvSpPr>
        <p:spPr>
          <a:xfrm>
            <a:off x="1214280" y="1000080"/>
            <a:ext cx="7929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Metabo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Gill Sans MT"/>
              </a:rPr>
              <a:t>Primary metabolite</a:t>
            </a:r>
            <a:r>
              <a:rPr b="1" lang="en-US" sz="2400" spc="-1" strike="noStrike">
                <a:solidFill>
                  <a:srgbClr val="4f271c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volved in normal growth, development, andreproduction.Co2,energ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مستطيل 4"/>
          <p:cNvSpPr/>
          <p:nvPr/>
        </p:nvSpPr>
        <p:spPr>
          <a:xfrm>
            <a:off x="1214280" y="36432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teinsnot directly involved, Terpenes, alkaloids and phen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مستطيل 5"/>
          <p:cNvSpPr/>
          <p:nvPr/>
        </p:nvSpPr>
        <p:spPr>
          <a:xfrm>
            <a:off x="1288800" y="28576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Secondary metabo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مستطيل 4"/>
          <p:cNvSpPr/>
          <p:nvPr/>
        </p:nvSpPr>
        <p:spPr>
          <a:xfrm>
            <a:off x="1236600" y="500040"/>
            <a:ext cx="55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Gill Sans MT"/>
              </a:rPr>
              <a:t>Phytochemical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4857840" cy="1000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lh4.ggpht.com/-I6yVAm37Cys/T73wTnF0SaI/AAAAAAAAJko/seVTLjOwnbw/a47ea9f6_smush_Lactose_etc%25255B6%25255D.png"/>
          <p:cNvPicPr/>
          <p:nvPr/>
        </p:nvPicPr>
        <p:blipFill>
          <a:blip r:embed="rId2"/>
          <a:stretch/>
        </p:blipFill>
        <p:spPr>
          <a:xfrm>
            <a:off x="1285920" y="2571840"/>
            <a:ext cx="6929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20:02:41Z</dcterms:created>
  <dc:creator>hp</dc:creator>
  <dc:description/>
  <dc:language>en-US</dc:language>
  <cp:lastModifiedBy>HP</cp:lastModifiedBy>
  <dcterms:modified xsi:type="dcterms:W3CDTF">2016-09-27T22:32:48Z</dcterms:modified>
  <cp:revision>76</cp:revision>
  <dc:subject/>
  <dc:title>الكيمياء العضوية</dc:title>
</cp:coreProperties>
</file>