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wmf" ContentType="image/x-wmf"/>
  <Override PartName="/ppt/media/image24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8D8-90DD-4D9F-9B80-D844F5AF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209-5336-4BC3-A03F-2E4D4B8A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A79-2D8A-4111-AF1E-B25840A7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6AA-7006-4B78-BB9C-4AB7E3B1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B3B2-0AF1-4E49-AFC0-57E4D4F6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8AA5-4F97-4534-9280-6863B2B6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9F4B-5CA5-404D-9353-D3D3293A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FD16-11A4-4656-B9B3-A4579A57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BD58-5EF0-4A73-94A3-0CC6C813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C33A-572D-4365-8C08-CC80B0DB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CD0F-F2E6-479F-A8F7-8ECECC53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FC0-01E7-4FDE-8637-73EDD2C1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DC77-5672-45F3-810F-018469D9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51C3-B0AB-40B5-899F-E81E9A6B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F1A4-6F69-476E-B2D7-371C647E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9125-4029-4117-8B2A-89588E88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1DA2-82B8-4555-BC58-BB07B4F9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5BA8-0989-4021-BC48-F68E001C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2349-BF43-49D8-BBC5-D3249060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E476-CA5C-4BA4-972A-7A9D3E57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C5FC-795B-400A-BF84-F090C8AA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B8F7-9E2D-4F04-BDCC-3D44D30E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51A-591A-4CDE-BD27-44BCB283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4640-15FA-4CD0-90B5-7364E87E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747A-4BA9-4D1A-81CA-54B56710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1DAC-1B00-44B6-852C-ABA147F8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F2A4-4C2D-4DBB-8682-4F36F7F1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BBA3-75E6-4B18-BD31-6533A213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9CB5-2F1C-446B-817E-949B4A44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4782-F9B3-47EE-A52A-3B7899FB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7EB60-2158-436F-8CA4-00A0EBDE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2D4F-AF99-48EC-8DCD-E0B40E04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0510-5744-4CD5-914F-FB6E3EFA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D55-86F0-4DBC-8914-C07C7BF1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FBF3-93D9-429B-AE94-7C4D54D8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798F-A70E-4A60-BFAE-97B8992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CF16-E2B1-4AB2-AB1E-3858FDDB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3925-BB69-4762-B44C-C6F3E6DE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0985-1336-409F-B71A-700076AF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FA196-78D5-4F81-BEE3-26F2C3DF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A4F2-044D-4F77-9F92-2A1CC3FA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C432-04A7-49E0-A3E6-145A1855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A275-DE52-4DB7-BCF5-1A786CA6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3A30-0586-42E0-9E3E-3F6B1A28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FEE-F5FD-4F65-865D-863F5FBE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9CD3A-BB8F-4A72-BE76-AC9F461A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EAA15-1291-41A6-9E97-52E2D744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EA15A-273C-442E-897B-79329F1D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419CE-D2A2-4DB5-8A2E-11FB2CFF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9EEF-E1F9-481D-AAE0-9F973756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5E726-ECDE-4F22-8E43-A477C200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6ABD7-C550-4DC1-AA8C-F936AEFE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FBEF-D61D-4593-8926-0A84C029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6526-46B1-4D14-B5AA-9EC7A0A9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8459-5F27-4521-A424-08D8D5E8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10E-7BA1-4533-88CA-D5D71C6E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F082D-346A-4984-8682-70F3B5CC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CAE48-2943-40DE-8C1A-35368596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2FDB1-8544-4882-8532-B30BB068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640CB-C54D-4C91-A758-DF234072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9B5CF-9A81-466A-BBF7-11B702B1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1F0C-9F7A-4C3C-9FAA-96F5AD04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D1032-04C7-4379-97DB-A7A82EB4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0F888-3E91-4A10-9616-5A420122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946BE-C6B1-4FEC-9E02-6B43515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41991-FE99-483A-BD2A-51EE32E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728-5EED-4395-AF64-2CBCE40A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A6460-93FB-45CD-8856-9DC843BB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771D-137B-4D02-8B14-B68B36F1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032D8-C6F8-469C-B5E5-41D29596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1EAB7-555A-46A3-AA59-78773E4B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1C0C0-4FD9-4C20-A595-AB729EB3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FDE6E-4B60-43EE-94D1-84617423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8EB5E-47D0-4C5D-A41E-30DAD6C2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A5F87-7EEF-4028-BD5E-E6EA1A1E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0DA0A-770C-4B1D-9E91-91C83BF9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9381A-F955-4193-B143-D1ADF78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367-3444-499A-804C-AD3B3C6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7764-FDD0-4CDE-991D-8292383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79329-E732-4994-BC17-47D872B8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FBCF-FFF9-4C0B-AE08-23A517F9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40060-089F-48C2-AC97-45385194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F4615-9B67-47BA-889D-779E2CFF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14A-BA64-4C01-A693-9E5D17EC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B789-7FC0-4A03-BD54-857310803EF6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1F2A-2E48-4F12-BA5A-FF21DDBC2783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A37D-F0CE-49D0-84B3-31C77C632065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EA7C-B716-4149-B845-D04BB3121637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55CF-6A3F-4F95-BC0D-9AF1F75D8E41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9FFC-B4F5-4963-BE25-41CF006284DB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8B56-99C8-48B9-9AF6-CCEAC1E82AF5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dahloos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8229600" cy="14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447chem</a:t>
            </a:r>
            <a:r>
              <a:rPr b="0" lang="ar-SA" sz="3600" spc="-1" strike="noStrike">
                <a:solidFill>
                  <a:srgbClr val="572314"/>
                </a:solidFill>
                <a:latin typeface="Gill Sans MT"/>
                <a:ea typeface="Akhbar M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Advanced Organic Chemistry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txBody>
          <a:bodyPr anchor="t">
            <a:normAutofit fontScale="97000"/>
          </a:bodyPr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خلود احمد دهلو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مبنى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الدور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/  مكتب /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T25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بريد الالكتروني</a:t>
            </a:r>
            <a:r>
              <a:rPr b="0" lang="ar-SA" sz="3200" spc="-1" strike="noStrike">
                <a:solidFill>
                  <a:srgbClr val="27130e"/>
                </a:solidFill>
                <a:latin typeface="Gill Sans MT"/>
              </a:rPr>
              <a:t>  </a:t>
            </a: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kdahloos@ksu.edu.s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موقع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portal.ksu.edu.sa/node/27208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مذكر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كتاب مختارات في التحضيرات عضوي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أ. د/ حسن الحازمي      أ. د محمد ذيب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7215120" cy="1285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http://www.smsec.com/ar/encyc/2/images/alkaloids/7.jpg"/>
          <p:cNvPicPr/>
          <p:nvPr/>
        </p:nvPicPr>
        <p:blipFill>
          <a:blip r:embed="rId2"/>
          <a:stretch/>
        </p:blipFill>
        <p:spPr>
          <a:xfrm>
            <a:off x="1285920" y="2857680"/>
            <a:ext cx="5762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714680" y="428760"/>
            <a:ext cx="492912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Object 2"/>
          <p:cNvGraphicFramePr/>
          <p:nvPr/>
        </p:nvGraphicFramePr>
        <p:xfrm>
          <a:off x="1000080" y="1714680"/>
          <a:ext cx="7000920" cy="37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1714680"/>
                    <a:ext cx="70009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مستطيل 5"/>
          <p:cNvSpPr/>
          <p:nvPr/>
        </p:nvSpPr>
        <p:spPr>
          <a:xfrm>
            <a:off x="938880" y="5857920"/>
            <a:ext cx="28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5715000" cy="1120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glycyrrhizinic"/>
          <p:cNvPicPr/>
          <p:nvPr/>
        </p:nvPicPr>
        <p:blipFill>
          <a:blip r:embed="rId2"/>
          <a:stretch/>
        </p:blipFill>
        <p:spPr>
          <a:xfrm>
            <a:off x="642960" y="2357280"/>
            <a:ext cx="7715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4143600" cy="915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T761364A[1]"/>
          <p:cNvPicPr/>
          <p:nvPr/>
        </p:nvPicPr>
        <p:blipFill>
          <a:blip r:embed="rId2"/>
          <a:stretch/>
        </p:blipFill>
        <p:spPr>
          <a:xfrm>
            <a:off x="714240" y="2214720"/>
            <a:ext cx="4427640" cy="2952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4FAFB296"/>
          <p:cNvPicPr/>
          <p:nvPr/>
        </p:nvPicPr>
        <p:blipFill>
          <a:blip r:embed="rId3"/>
          <a:srcRect l="11805" t="15229" r="43927" b="10325"/>
          <a:stretch/>
        </p:blipFill>
        <p:spPr>
          <a:xfrm>
            <a:off x="5143680" y="2143080"/>
            <a:ext cx="3643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4791240" cy="571680"/>
          </a:xfrm>
          <a:prstGeom prst="rect">
            <a:avLst/>
          </a:prstGeom>
          <a:ln w="0">
            <a:noFill/>
          </a:ln>
        </p:spPr>
      </p:pic>
      <p:sp>
        <p:nvSpPr>
          <p:cNvPr id="352" name="مستطيل 5"/>
          <p:cNvSpPr/>
          <p:nvPr/>
        </p:nvSpPr>
        <p:spPr>
          <a:xfrm>
            <a:off x="1032480" y="164304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Hemiterpenes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2"/>
          <a:stretch/>
        </p:blipFill>
        <p:spPr>
          <a:xfrm>
            <a:off x="1714680" y="2214720"/>
            <a:ext cx="58957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4357800" cy="762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anthraquinone"/>
          <p:cNvPicPr/>
          <p:nvPr/>
        </p:nvPicPr>
        <p:blipFill>
          <a:blip r:embed="rId2"/>
          <a:stretch/>
        </p:blipFill>
        <p:spPr>
          <a:xfrm>
            <a:off x="2643120" y="2214720"/>
            <a:ext cx="43941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3571560" cy="83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Object 3"/>
          <p:cNvGraphicFramePr/>
          <p:nvPr/>
        </p:nvGraphicFramePr>
        <p:xfrm>
          <a:off x="1143000" y="3071880"/>
          <a:ext cx="6929280" cy="20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71880"/>
                    <a:ext cx="692928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مربع نص 1"/>
          <p:cNvSpPr/>
          <p:nvPr/>
        </p:nvSpPr>
        <p:spPr>
          <a:xfrm>
            <a:off x="1373040" y="1214280"/>
            <a:ext cx="51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Gill Sans MT"/>
              </a:rPr>
              <a:t>Res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Gill Sans MT"/>
              </a:rPr>
              <a:t>Protine and 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928880" y="1071720"/>
            <a:ext cx="643896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1633320" y="716400"/>
            <a:ext cx="650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cs typeface="AGA Arabesque Desktop"/>
              </a:rPr>
              <a:t>تجارب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ea typeface="AGA Arabesque Desktop"/>
              </a:rPr>
              <a:t>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cs typeface="AGA Arabesque Desktop"/>
              </a:rPr>
              <a:t>مقرر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ea typeface="AGA Arabesque Desktop"/>
              </a:rPr>
              <a:t>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cs typeface="AGA Arabesque Desktop"/>
              </a:rPr>
              <a:t>كيم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ea typeface="AGA Arabesque Desktop"/>
              </a:rPr>
              <a:t></a:t>
            </a:r>
            <a:r>
              <a:rPr b="0" lang="ar-SA" sz="4000" spc="-1" strike="noStrike">
                <a:solidFill>
                  <a:srgbClr val="ffffff"/>
                </a:solidFill>
                <a:latin typeface="AGA Arabesque Desktop"/>
                <a:cs typeface="AGA Arabesque Desktop"/>
              </a:rPr>
              <a:t>ك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357200" y="1571760"/>
          <a:ext cx="6786720" cy="4279680"/>
        </p:xfrm>
        <a:graphic>
          <a:graphicData uri="http://schemas.openxmlformats.org/drawingml/2006/table">
            <a:tbl>
              <a:tblPr/>
              <a:tblGrid>
                <a:gridCol w="4411800"/>
                <a:gridCol w="2374920"/>
              </a:tblGrid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</a:t>
                      </a:r>
                      <a:r>
                        <a:rPr b="1" i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ـتـجـــرب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i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اسـب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قدمة + المسح الكيميائ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مسح الكيميائ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خلاص الزيوت الطيار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زيت(القرنفل+البرتقال+الزعت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خلاص الفلافونيد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ستخلاص القلويد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الاسيتانيلي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بارا برومواأسيتانيلي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الصابو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الأسبر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الميثيل البرتق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البنزوات بواسطة الفينو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حضير مرك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hracene-9,10-endo-a,b-Succinic anhydr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714240" y="1873440"/>
            <a:ext cx="7994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درجة النهائي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در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درجات على الحضور ونظافة الم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درجة امتحانات قصير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درجة تقارير تسلم في وقت الم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امتحان فص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درجة الامتحان النه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khbar MT"/>
              </a:rPr>
              <a:t>Organic Chemist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مربع نص 11"/>
          <p:cNvSpPr/>
          <p:nvPr/>
        </p:nvSpPr>
        <p:spPr>
          <a:xfrm>
            <a:off x="1047960" y="2928960"/>
            <a:ext cx="477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Natural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مستطيل 4"/>
          <p:cNvSpPr/>
          <p:nvPr/>
        </p:nvSpPr>
        <p:spPr>
          <a:xfrm>
            <a:off x="1285920" y="571680"/>
            <a:ext cx="457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Natur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http://upload.wikimedia.org/wikipedia/commons/thumb/6/6e/Diversity_of_plants_image_version_5.png/250px-Diversity_of_plants_image_version_5.png"/>
          <p:cNvPicPr/>
          <p:nvPr/>
        </p:nvPicPr>
        <p:blipFill>
          <a:blip r:embed="rId1"/>
          <a:stretch/>
        </p:blipFill>
        <p:spPr>
          <a:xfrm>
            <a:off x="2000160" y="2000160"/>
            <a:ext cx="3571920" cy="1928880"/>
          </a:xfrm>
          <a:prstGeom prst="rect">
            <a:avLst/>
          </a:prstGeom>
          <a:ln w="0">
            <a:noFill/>
          </a:ln>
        </p:spPr>
      </p:pic>
      <p:sp>
        <p:nvSpPr>
          <p:cNvPr id="327" name="مستطيل 6"/>
          <p:cNvSpPr/>
          <p:nvPr/>
        </p:nvSpPr>
        <p:spPr>
          <a:xfrm>
            <a:off x="1473480" y="4357800"/>
            <a:ext cx="30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nimals, 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8840" y="356760"/>
            <a:ext cx="135072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Andalus"/>
                <a:ea typeface="Andalus"/>
              </a:rPr>
              <a:t>use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2" descr="http://www.aleppos.net/gallery/files/2/8/3/2/885253-001.jpg"/>
          <p:cNvPicPr/>
          <p:nvPr/>
        </p:nvPicPr>
        <p:blipFill>
          <a:blip r:embed="rId1"/>
          <a:srcRect l="0" t="0" r="0" b="10449"/>
          <a:stretch/>
        </p:blipFill>
        <p:spPr>
          <a:xfrm>
            <a:off x="1143000" y="1428840"/>
            <a:ext cx="5429160" cy="2143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http://www5.0zz0.com/2010/11/01/04/868710429.jpg"/>
          <p:cNvPicPr/>
          <p:nvPr/>
        </p:nvPicPr>
        <p:blipFill>
          <a:blip r:embed="rId2"/>
          <a:stretch/>
        </p:blipFill>
        <p:spPr>
          <a:xfrm>
            <a:off x="1143000" y="3857760"/>
            <a:ext cx="528624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http://upload.wikimedia.org/wikipedia/commons/thumb/0/0e/Simple_chem_distillation.PNG/220px-Simple_chem_distillation.PNG"/>
          <p:cNvPicPr/>
          <p:nvPr/>
        </p:nvPicPr>
        <p:blipFill>
          <a:blip r:embed="rId1"/>
          <a:stretch/>
        </p:blipFill>
        <p:spPr>
          <a:xfrm>
            <a:off x="1143000" y="1500120"/>
            <a:ext cx="4929120" cy="2000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http://www.hulinks.co.jp/software/cs/images/mestrec.png"/>
          <p:cNvPicPr/>
          <p:nvPr/>
        </p:nvPicPr>
        <p:blipFill>
          <a:blip r:embed="rId2"/>
          <a:stretch/>
        </p:blipFill>
        <p:spPr>
          <a:xfrm>
            <a:off x="928800" y="3714840"/>
            <a:ext cx="5943600" cy="2681280"/>
          </a:xfrm>
          <a:prstGeom prst="rect">
            <a:avLst/>
          </a:prstGeom>
          <a:ln w="0">
            <a:noFill/>
          </a:ln>
        </p:spPr>
      </p:pic>
      <p:sp>
        <p:nvSpPr>
          <p:cNvPr id="333" name="مربع نص 5"/>
          <p:cNvSpPr/>
          <p:nvPr/>
        </p:nvSpPr>
        <p:spPr>
          <a:xfrm>
            <a:off x="1317960" y="78588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Gill Sans MT"/>
              </a:rPr>
              <a:t>Targe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مستطيل 2"/>
          <p:cNvSpPr/>
          <p:nvPr/>
        </p:nvSpPr>
        <p:spPr>
          <a:xfrm>
            <a:off x="1214280" y="1000080"/>
            <a:ext cx="7929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Metabo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Gill Sans MT"/>
              </a:rPr>
              <a:t>Primary metabolite</a:t>
            </a:r>
            <a:r>
              <a:rPr b="1" lang="en-US" sz="2400" spc="-1" strike="noStrike">
                <a:solidFill>
                  <a:srgbClr val="4f271c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volved in normal growth, development, andreproduction.Co2,energ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مستطيل 4"/>
          <p:cNvSpPr/>
          <p:nvPr/>
        </p:nvSpPr>
        <p:spPr>
          <a:xfrm>
            <a:off x="1214280" y="36432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teinsnot directly involved, Terpenes, alkaloids and phen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مستطيل 5"/>
          <p:cNvSpPr/>
          <p:nvPr/>
        </p:nvSpPr>
        <p:spPr>
          <a:xfrm>
            <a:off x="1288800" y="28576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Secondary metabo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مستطيل 4"/>
          <p:cNvSpPr/>
          <p:nvPr/>
        </p:nvSpPr>
        <p:spPr>
          <a:xfrm>
            <a:off x="1236600" y="500040"/>
            <a:ext cx="55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Gill Sans MT"/>
              </a:rPr>
              <a:t>Phytochemical scre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4857840" cy="1000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http://lh4.ggpht.com/-I6yVAm37Cys/T73wTnF0SaI/AAAAAAAAJko/seVTLjOwnbw/a47ea9f6_smush_Lactose_etc%25255B6%25255D.png"/>
          <p:cNvPicPr/>
          <p:nvPr/>
        </p:nvPicPr>
        <p:blipFill>
          <a:blip r:embed="rId2"/>
          <a:stretch/>
        </p:blipFill>
        <p:spPr>
          <a:xfrm>
            <a:off x="1285920" y="2571840"/>
            <a:ext cx="69292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20:02:41Z</dcterms:created>
  <dc:creator>hp</dc:creator>
  <dc:description/>
  <dc:language>en-US</dc:language>
  <cp:lastModifiedBy>HP</cp:lastModifiedBy>
  <dcterms:modified xsi:type="dcterms:W3CDTF">2016-09-27T22:32:48Z</dcterms:modified>
  <cp:revision>76</cp:revision>
  <dc:subject/>
  <dc:title>الكيمياء العضوية</dc:title>
</cp:coreProperties>
</file>