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268F-FB28-4D5D-BF0D-B491356F5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7C33-3EEE-4706-8C75-09D9E31E26C1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2291-7780-4D04-B48B-385EED7E9732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91E2-41AC-4963-8687-0C8AE487F20C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036-5242-4DFD-A75D-4B0500B3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19E-7280-4FC7-8376-13A3C13D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202-AA42-435D-B28C-BC6C6425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942-4570-454D-A737-806D5F21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2B56-5441-499A-A982-05D8EBC2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7FC8-0B21-477C-BB08-D9F1F66E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94ED-F34D-4D48-8B2A-92AC48EF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23A7-A8F3-4F69-9220-6780B65B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2DAD-DD5E-4875-8487-768BE871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92CC-78FB-45E7-9D56-2C64A4F8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896D-F81F-4FA8-B9B6-B285ACB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EF3-52FF-4DD8-8E4A-8B72008B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7312-78D5-4FAD-A0D9-44DCC03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394F-4D89-4A76-A22C-19EEB9B1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C704-AAEC-4F1C-A976-E18A6C5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48D0-2D34-49D5-B4A2-BF226861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1A12-B5CB-4D7C-949E-2F1B26AC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465E-8590-4ED5-AE02-7F429340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FAB5-EB0C-49F3-BAD1-FB278B0A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85A7-0571-4977-8DA7-C5822926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C309-4E59-410E-88C7-95466B2E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35991-81C3-41C2-961F-43A77E16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2AA-D09B-4F5A-8975-2BEB71CC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318D-85F8-46A9-A456-13D2D3BE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5973-6570-4B5E-BB4D-9C70D4DC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5AAD-D71F-45EB-BDA4-14104096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5996-3A2E-4B7F-A0F1-A8E82D66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94C2-2AFA-4E25-948A-69114D8E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E019-56A5-4F5A-AB4B-D87263A8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BF86-7141-44FA-9FBC-314F5F9C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5305-9434-463B-BB1E-877D179C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8FFF-AA39-41FA-982E-573F7A8A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B6CF-6EA7-4657-B500-333E310C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E3F-DA96-4517-AA12-661CDEB7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DAC3B-E85C-4670-AC69-F7930885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8BAD-EEF9-451F-9A10-CDA35311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379C2-0FDC-4CF1-BF9E-B9B271FF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72FD-80CA-47DD-B667-052C8DB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0A82-CB8D-474D-A357-63576CA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490B-8BDC-4FDF-93CE-9413A547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7179E-31C7-481F-B81E-08EB2B9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43514-77EF-419D-996F-434083B5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37AD9-545B-4EF0-AB85-5D243E81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B4CCA-7835-43FE-88E6-2262A675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8B1-D23E-47C9-A79D-2D59B857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AF470-D6EB-44BA-9696-F447B585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14A05-94AC-4D80-88FE-64292896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C1E4E-3413-4869-9455-0DA4AEF5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1EF3-A9EE-4181-BBBD-8123FE4F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11A6-07A7-4EC8-ADB2-36533857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08B4A-FB1F-480F-82DE-05545FA1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8C99B-D8AD-4051-A2BB-16FF03D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03BF0-B047-48A3-9D7C-FB41DF69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D4F82-36C2-4AC4-A446-F78C85C1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7DB0-0C4C-4AD9-9C18-037741D8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F95-1811-4952-B554-1081C947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1A11C-A4C5-485B-B89D-0AAEC605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A1E-4779-4C2C-9C97-3310EB9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EB9-93E5-41CE-B574-CB7504B0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99E-6CF2-4493-8B45-F0F1037F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84BF-EA05-4342-91EE-94EDC45B2A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50E3-169F-4933-8EEC-4BD2259BB4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6CDA-BC4D-410C-A371-22CCB4C64A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F001-0AD6-4970-8574-A61C1853E5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2187-949B-4A9B-AE9E-C8FDD5D46A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022480" y="2590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Times New Roman"/>
              </a:rPr>
              <a:t>Vectors and Vector Spaces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1447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8534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3124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8229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ank of a Matrix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rank of a 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is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fined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a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a) The maximum number of linearly independent column vectors in 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b) The maximum number of linearly independent row vectors in the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atrix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oth 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finition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 are equivalen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1"/>
          <a:srcRect l="0" t="-15529" r="51725" b="0"/>
          <a:stretch/>
        </p:blipFill>
        <p:spPr>
          <a:xfrm>
            <a:off x="609480" y="4800600"/>
            <a:ext cx="3200400" cy="5634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4114800" y="500544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2"/>
          <a:srcRect l="62074" t="0" r="0" b="-40653"/>
          <a:stretch/>
        </p:blipFill>
        <p:spPr>
          <a:xfrm>
            <a:off x="5410080" y="4815000"/>
            <a:ext cx="2514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Rank of matrix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3080" y="11811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Consider the matrix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rcRect l="20592" t="0" r="0" b="0"/>
          <a:stretch/>
        </p:blipFill>
        <p:spPr>
          <a:xfrm>
            <a:off x="4746600" y="1758960"/>
            <a:ext cx="2057400" cy="15177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5951520" y="5486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Hence, the rank is 3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457200" y="5056200"/>
            <a:ext cx="556272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4419720" cy="18730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5032440" y="3979800"/>
            <a:ext cx="35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Therefore, rank is not 4 !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Orthogonal matri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505320" cy="1684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3276360" cy="1550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7772400" y="2209680"/>
            <a:ext cx="1108080" cy="16765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7"/>
          <p:cNvSpPr/>
          <p:nvPr/>
        </p:nvSpPr>
        <p:spPr>
          <a:xfrm>
            <a:off x="693360" y="3936960"/>
            <a:ext cx="278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34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</a:rPr>
              <a:t>A is orthogonal if:</a:t>
            </a:r>
            <a:endParaRPr b="0" lang="en-US" sz="26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17760" y="1574640"/>
            <a:ext cx="159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34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</a:rPr>
              <a:t>Notation:</a:t>
            </a:r>
            <a:endParaRPr b="0" lang="en-US" sz="26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4"/>
          <a:srcRect l="7143" t="46734" r="0" b="0"/>
          <a:stretch/>
        </p:blipFill>
        <p:spPr>
          <a:xfrm>
            <a:off x="2057400" y="4495680"/>
            <a:ext cx="5943600" cy="590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5"/>
          <a:stretch/>
        </p:blipFill>
        <p:spPr>
          <a:xfrm>
            <a:off x="2106720" y="5334120"/>
            <a:ext cx="2438280" cy="12096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3"/>
          <p:cNvSpPr/>
          <p:nvPr/>
        </p:nvSpPr>
        <p:spPr>
          <a:xfrm>
            <a:off x="685080" y="5638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5" name="AutoShape 14"/>
          <p:cNvSpPr/>
          <p:nvPr/>
        </p:nvSpPr>
        <p:spPr>
          <a:xfrm>
            <a:off x="365760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6" name="AutoShape 15"/>
          <p:cNvSpPr/>
          <p:nvPr/>
        </p:nvSpPr>
        <p:spPr>
          <a:xfrm>
            <a:off x="7162920" y="28954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7" name="Picture 12" descr="PPT456"/>
          <p:cNvPicPr/>
          <p:nvPr/>
        </p:nvPicPr>
        <p:blipFill>
          <a:blip r:embed="rId6"/>
          <a:stretch/>
        </p:blipFill>
        <p:spPr>
          <a:xfrm>
            <a:off x="4800600" y="5508720"/>
            <a:ext cx="11430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2133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1629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5328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696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438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6781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15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327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92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1447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458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Nadia MS</cp:lastModifiedBy>
  <cp:lastPrinted>2015-11-09T09:01:35Z</cp:lastPrinted>
  <dcterms:modified xsi:type="dcterms:W3CDTF">2017-02-08T20:37:53Z</dcterms:modified>
  <cp:revision>332</cp:revision>
  <dc:subject/>
  <dc:title>PowerPoint Presentation</dc:title>
</cp:coreProperties>
</file>