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E11A-A380-4FD8-88D2-B5B7B298A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50A9-A31C-463D-8938-1D2D79FB154F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5AD4-B9B1-40C7-BEBF-0FD05CE0D038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22F1-12B4-45C0-A084-C9D589266639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67D-6778-4B02-B263-5EC50015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BE5-95FD-4A97-9DCF-9FE39316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762-51B1-4BF3-B2DB-221C7957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3D2-F792-4797-A89F-C5CA0C0A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EBDD-4F63-4CD2-B8FC-B1966668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5B8D-ED88-4421-A7AA-B994AF52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CA0B-937F-4DB8-A40C-39609EDA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D3AF-75B1-4ECA-95AA-593AD869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2950-1B43-44FA-8CBD-FD48D2BB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6D73-8BD5-4831-87CF-50575B9D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C6C3-0A57-4826-BAF5-A45B94DD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721-E568-4BF0-95E5-19BA0F9A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EA24-4065-4C66-97F0-84B2CC0B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88A5-4768-454C-9AFC-91E05D1F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5466-7F58-4B04-95A2-A33816C1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A4A7-30EF-4B88-834E-ACD56122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BC66-1C17-4D95-B49E-FA303545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B58E-F9EF-4355-8128-3BBA9EB5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2CDA-50B6-4A4C-AF3C-4D21FD25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46A0-7851-4011-86CD-984442A1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B25F-3637-4856-8AAB-C11E0B54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86562-C4AC-4C6A-B23E-350210AC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07C-355A-4257-A6D2-989046B8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E06B-DF9B-4861-984C-9B23BAA0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6F67-474D-49F1-AB97-6755288A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03D6-B330-4188-A9A8-5EF0BE0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36C73-ABBF-413F-B064-D7DC6FB6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3382-0992-43C3-96A1-AFE4C0E0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648C-FE41-4676-9543-E56C51C3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6CC6-E958-4C30-928C-035BAD63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CB150-774F-4A20-A9BA-49DDD140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57886-2525-46B7-9EE8-17EB5A50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644DB-9A3C-4882-B37E-3BF1741E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0E7-D0D6-4593-BEF8-E152CCAC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BA4E7-2D2F-4B34-88A3-AFAC0161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712E-8563-447A-B76D-71ACB416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E71F-ADF6-447C-8946-6D8364F7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7A5D5-4C1D-4C88-98DF-7017F99F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681A6-F0D9-4E32-BC10-80DB1986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2DB2-A253-404E-9804-FC231AF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34F6-FB60-4330-BF33-DE440205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D3FC-D7F9-4CFC-B246-77A63131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653E-275B-4E43-835F-0B5EAC95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70F83-48C4-4115-9B79-53E4BC77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618-CE6A-4E03-A235-A3EA96AE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2B75D-928F-4B7C-A466-331D284C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B0478-F788-4617-8ADD-9DCAB64F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0B355-0FD2-4D37-A853-21D403E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719D-8D5D-4952-9048-BB9FE4EA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8F690-A0F5-43F3-8838-6F07EFAC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A99CD-CC5D-481B-8862-5417FB45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187C2-9AA9-4295-8F81-68509834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784A-F082-46FC-B8CD-B41B1CD7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5FB7F-6EAC-4BDF-B51D-C2E50C17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0347C-8B4E-4267-8F59-A1E1DEA7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B58-39FC-42B9-8A02-A5A6BB86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E0BD1-A43D-4FE1-B599-AF2E1AD6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1F4-A2F1-462D-B8BF-8F3E944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798-B71E-40E0-A231-7FD58AAD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212-61F7-4864-8A34-24FA209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2788-4DC5-4BA6-A823-42F40589C5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C032-8614-4A0D-8427-230E99F814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E59A-3C5D-42AA-8825-BCA761D7F6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34C8-BD79-4757-BE54-1E11941FE7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C21A-50DD-462A-83B6-049BC8F710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022480" y="2590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Times New Roman"/>
              </a:rPr>
              <a:t>Vectors and Vector Spaces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1447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8534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3124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8229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ank of a Matrix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rank of a 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is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fined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a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a) The maximum number of linearly independent column vectors in 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b) The maximum number of linearly independent row vectors in 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oth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finition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are equivalen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1"/>
          <a:srcRect l="0" t="-15529" r="51725" b="0"/>
          <a:stretch/>
        </p:blipFill>
        <p:spPr>
          <a:xfrm>
            <a:off x="609480" y="4800600"/>
            <a:ext cx="3200400" cy="5634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4114800" y="500544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2"/>
          <a:srcRect l="62074" t="0" r="0" b="-40653"/>
          <a:stretch/>
        </p:blipFill>
        <p:spPr>
          <a:xfrm>
            <a:off x="5410080" y="4815000"/>
            <a:ext cx="2514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Rank of matrix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3080" y="11811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Consider the matrix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rcRect l="20592" t="0" r="0" b="0"/>
          <a:stretch/>
        </p:blipFill>
        <p:spPr>
          <a:xfrm>
            <a:off x="4746600" y="1758960"/>
            <a:ext cx="2057400" cy="15177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5951520" y="5486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Hence, the rank is 3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457200" y="5056200"/>
            <a:ext cx="556272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4419720" cy="18730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5032440" y="3979800"/>
            <a:ext cx="35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Therefore, rank is not 4 !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Orthogonal matri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505320" cy="1684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3276360" cy="1550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7772400" y="2209680"/>
            <a:ext cx="1108080" cy="16765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7"/>
          <p:cNvSpPr/>
          <p:nvPr/>
        </p:nvSpPr>
        <p:spPr>
          <a:xfrm>
            <a:off x="693360" y="3936960"/>
            <a:ext cx="278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34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</a:rPr>
              <a:t>A is orthogonal if:</a:t>
            </a:r>
            <a:endParaRPr b="0" lang="en-US" sz="26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617760" y="1574640"/>
            <a:ext cx="159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34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</a:rPr>
              <a:t>Notation:</a:t>
            </a:r>
            <a:endParaRPr b="0" lang="en-US" sz="26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2" name="Picture 11" descr=""/>
          <p:cNvPicPr/>
          <p:nvPr/>
        </p:nvPicPr>
        <p:blipFill>
          <a:blip r:embed="rId4"/>
          <a:srcRect l="7143" t="46734" r="0" b="0"/>
          <a:stretch/>
        </p:blipFill>
        <p:spPr>
          <a:xfrm>
            <a:off x="2057400" y="4495680"/>
            <a:ext cx="5943600" cy="590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5"/>
          <a:stretch/>
        </p:blipFill>
        <p:spPr>
          <a:xfrm>
            <a:off x="2106720" y="5334120"/>
            <a:ext cx="2438280" cy="12096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3"/>
          <p:cNvSpPr/>
          <p:nvPr/>
        </p:nvSpPr>
        <p:spPr>
          <a:xfrm>
            <a:off x="685080" y="5638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5" name="AutoShape 14"/>
          <p:cNvSpPr/>
          <p:nvPr/>
        </p:nvSpPr>
        <p:spPr>
          <a:xfrm>
            <a:off x="365760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6" name="AutoShape 15"/>
          <p:cNvSpPr/>
          <p:nvPr/>
        </p:nvSpPr>
        <p:spPr>
          <a:xfrm>
            <a:off x="7162920" y="28954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7" name="Picture 12" descr="PPT456"/>
          <p:cNvPicPr/>
          <p:nvPr/>
        </p:nvPicPr>
        <p:blipFill>
          <a:blip r:embed="rId6"/>
          <a:stretch/>
        </p:blipFill>
        <p:spPr>
          <a:xfrm>
            <a:off x="4800600" y="5508720"/>
            <a:ext cx="11430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2133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162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5328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696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438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6781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15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327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92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1447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458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Nadia MS</cp:lastModifiedBy>
  <cp:lastPrinted>2015-11-09T09:01:35Z</cp:lastPrinted>
  <dcterms:modified xsi:type="dcterms:W3CDTF">2017-02-08T20:37:53Z</dcterms:modified>
  <cp:revision>332</cp:revision>
  <dc:subject/>
  <dc:title>PowerPoint Presentation</dc:title>
</cp:coreProperties>
</file>