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8AE-1FDA-444C-A361-835FC785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7E-21CE-4D07-B38C-548825BF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AF2-5BA9-433E-B0F4-5E2EDB9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D2D-0060-49B8-871B-315E7190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A9D-249A-4399-9A76-FE11B23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292-37A7-434C-947C-C597E16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A1-47F2-44A9-9CCA-4F1D4BE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47B-1BA9-4BBE-B399-0B51B91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1D7-105F-4C78-93D3-E43519A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B58-2DDF-44E3-9F10-14163DA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222-A38A-40D8-8A0A-909ABF0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823-FA7F-450D-A2BC-8C09A1B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9708-CCB8-4972-9B1D-403845D6B4E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حاضرة الرابعة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17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جغر تطبيقات الاستشعار عن بعد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كشف التغير +التصنيف بنوعيه المراقب وغير المراقب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صورة نسب النطاقات السابقة يتم اعداد صورة مركب الالوان وذلك بوضع صورة نسبة (نطاق الاشعة تحت الحمراء ÷ نطاق الاشعة الحمراء ) للصورة الاقدم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قناة اللون الاحم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نسبة (نطاق الاشعة تحت الحمراء ÷ نطاق الاشعة الحمراء ) للصورة الاحدث 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في قناة اللون الاخض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نسبة (نطاق الاشعة تحت الحمراء ÷ نطاق الاشعة الحمراء ) للصورة الاحدث 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في قناة اللون الازر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مركب الالوان للنسب التي يتم التوصل اليها هي صورة كشف الغير الزراعي والتي يكون تفسير الالوان كما ي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خضر : توسع زراعي  حدث في الفترة بين تاريخي الصورت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مر : نقص في المساحة حدث في الفترة بين تاريخي الصورت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بيض: هي المناطق التي لم يحدث لها تغي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23840" y="141120"/>
            <a:ext cx="93916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882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52560" y="324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شف التغير للمناطق الزراعية  باستخدام مركب الالوان لصورة نسب النط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6320" y="981000"/>
            <a:ext cx="8991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5:53:08Z</dcterms:created>
  <dc:creator>admin</dc:creator>
  <dc:description/>
  <dc:language>en-US</dc:language>
  <cp:lastModifiedBy>Asus</cp:lastModifiedBy>
  <dcterms:modified xsi:type="dcterms:W3CDTF">2013-04-09T23:20:40Z</dcterms:modified>
  <cp:revision>38</cp:revision>
  <dc:subject/>
  <dc:title>معالجة صور الاستشعار عن بعد الرقمية</dc:title>
</cp:coreProperties>
</file>