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2FEC-3EF0-42C8-BFD3-F6E90460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B14A-D82C-4B5D-8D4E-710854D3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62CE-882F-4F50-B5CE-FA52FBE3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F49-6279-4691-8079-114C957E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F1C-496E-4671-8436-0A8A1241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A8C8-18B0-4EEE-8200-C282F5FA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EE5F-843D-49A1-B083-44A972B6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791-7A65-4116-821D-31083590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6FBE-D634-433E-B14B-5B5155C6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3804-6EDA-40A4-B5A8-1DB9C414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124-88BA-453D-A584-158655B1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87DD-4418-4EDA-BB75-A42BF52D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9475-CDA0-4147-9F28-F2D5B5B97BB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aculty.ksu.edu.sa/geography-alsaleh/default.aspx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حاضرة الرابعة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قرر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17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جغر تطبيقات الاستشعار عن بعد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كشف التغير +التصنيف بنوعيه المراقب وغير المراقب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ن صورة نسب النطاقات السابقة يتم اعداد صورة مركب الالوان وذلك بوضع صورة نسبة (نطاق الاشعة تحت الحمراء ÷ نطاق الاشعة الحمراء ) للصورة الاقدم تاريخا(الطبق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في قناة اللون الاحمر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صورة نسبة (نطاق الاشعة تحت الحمراء ÷ نطاق الاشعة الحمراء ) للصورة الاحدث  تاريخا(الطبق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) في قناة اللون الاخض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صورة نسبة (نطاق الاشعة تحت الحمراء ÷ نطاق الاشعة الحمراء ) للصورة الاحدث  تاريخا(الطبق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) في قناة اللون الازر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صورة مركب الالوان للنسب التي يتم التوصل اليها هي صورة كشف الغير الزراعي والتي يكون تفسير الالوان كما يلي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اخضر : توسع زراعي  حدث في الفترة بين تاريخي الصورت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احمر : نقص في المساحة حدث في الفترة بين تاريخي الصورتي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ابيض: هي المناطق التي لم يحدث لها تغيي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راج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faculty.ksu.edu.sa/geography-alsaleh/default.asp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123840" y="141120"/>
            <a:ext cx="939168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189000"/>
            <a:ext cx="8820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-52560" y="3240"/>
            <a:ext cx="924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كشف التغير للمناطق الزراعية  باستخدام مركب الالوان لصورة نسب النطاق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76320" y="981000"/>
            <a:ext cx="8991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5:53:08Z</dcterms:created>
  <dc:creator>admin</dc:creator>
  <dc:description/>
  <dc:language>en-US</dc:language>
  <cp:lastModifiedBy>Asus</cp:lastModifiedBy>
  <dcterms:modified xsi:type="dcterms:W3CDTF">2013-04-09T23:20:40Z</dcterms:modified>
  <cp:revision>38</cp:revision>
  <dc:subject/>
  <dc:title>معالجة صور الاستشعار عن بعد الرقمية</dc:title>
</cp:coreProperties>
</file>