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74.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5.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588.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6.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700.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428.xml.rels" ContentType="application/vnd.openxmlformats-package.relationships+xml"/>
  <Override PartName="/ppt/slideLayouts/_rels/slideLayout281.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91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571.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1105.xml.rels" ContentType="application/vnd.openxmlformats-package.relationships+xml"/>
  <Override PartName="/ppt/slideLayouts/_rels/slideLayout87.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41.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1219.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8.xml.rels" ContentType="application/vnd.openxmlformats-package.relationships+xml"/>
  <Override PartName="/ppt/slideLayouts/_rels/slideLayout114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961.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960.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66.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206.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8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79.xml.rels" ContentType="application/vnd.openxmlformats-package.relationships+xml"/>
  <Override PartName="/ppt/slideLayouts/_rels/slideLayout1205.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8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Lst>
  <p:sldIdLst>
    <p:sldId id="256" r:id="rId105"/>
    <p:sldId id="257" r:id="rId106"/>
    <p:sldId id="258" r:id="rId107"/>
    <p:sldId id="259" r:id="rId108"/>
    <p:sldId id="260" r:id="rId109"/>
    <p:sldId id="261" r:id="rId110"/>
    <p:sldId id="262" r:id="rId111"/>
    <p:sldId id="263" r:id="rId112"/>
    <p:sldId id="264" r:id="rId113"/>
    <p:sldId id="265" r:id="rId114"/>
    <p:sldId id="266" r:id="rId115"/>
    <p:sldId id="267" r:id="rId116"/>
    <p:sldId id="268" r:id="rId117"/>
    <p:sldId id="269" r:id="rId118"/>
    <p:sldId id="270" r:id="rId119"/>
    <p:sldId id="271" r:id="rId120"/>
    <p:sldId id="272" r:id="rId121"/>
    <p:sldId id="273" r:id="rId122"/>
    <p:sldId id="274" r:id="rId123"/>
    <p:sldId id="275" r:id="rId124"/>
    <p:sldId id="276" r:id="rId125"/>
    <p:sldId id="277" r:id="rId126"/>
    <p:sldId id="278" r:id="rId127"/>
    <p:sldId id="279" r:id="rId128"/>
    <p:sldId id="280" r:id="rId129"/>
    <p:sldId id="281" r:id="rId130"/>
    <p:sldId id="2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 Target="slides/slide1.xml"/><Relationship Id="rId106" Type="http://schemas.openxmlformats.org/officeDocument/2006/relationships/slide" Target="slides/slide2.xml"/><Relationship Id="rId107" Type="http://schemas.openxmlformats.org/officeDocument/2006/relationships/slide" Target="slides/slide3.xml"/><Relationship Id="rId108" Type="http://schemas.openxmlformats.org/officeDocument/2006/relationships/slide" Target="slides/slide4.xml"/><Relationship Id="rId109" Type="http://schemas.openxmlformats.org/officeDocument/2006/relationships/slide" Target="slides/slide5.xml"/><Relationship Id="rId110" Type="http://schemas.openxmlformats.org/officeDocument/2006/relationships/slide" Target="slides/slide6.xml"/><Relationship Id="rId111" Type="http://schemas.openxmlformats.org/officeDocument/2006/relationships/slide" Target="slides/slide7.xml"/><Relationship Id="rId112" Type="http://schemas.openxmlformats.org/officeDocument/2006/relationships/slide" Target="slides/slide8.xml"/><Relationship Id="rId113" Type="http://schemas.openxmlformats.org/officeDocument/2006/relationships/slide" Target="slides/slide9.xml"/><Relationship Id="rId114" Type="http://schemas.openxmlformats.org/officeDocument/2006/relationships/slide" Target="slides/slide10.xml"/><Relationship Id="rId115" Type="http://schemas.openxmlformats.org/officeDocument/2006/relationships/slide" Target="slides/slide11.xml"/><Relationship Id="rId116" Type="http://schemas.openxmlformats.org/officeDocument/2006/relationships/slide" Target="slides/slide12.xml"/><Relationship Id="rId117" Type="http://schemas.openxmlformats.org/officeDocument/2006/relationships/slide" Target="slides/slide13.xml"/><Relationship Id="rId118" Type="http://schemas.openxmlformats.org/officeDocument/2006/relationships/slide" Target="slides/slide14.xml"/><Relationship Id="rId119" Type="http://schemas.openxmlformats.org/officeDocument/2006/relationships/slide" Target="slides/slide15.xml"/><Relationship Id="rId120" Type="http://schemas.openxmlformats.org/officeDocument/2006/relationships/slide" Target="slides/slide16.xml"/><Relationship Id="rId121" Type="http://schemas.openxmlformats.org/officeDocument/2006/relationships/slide" Target="slides/slide17.xml"/><Relationship Id="rId122" Type="http://schemas.openxmlformats.org/officeDocument/2006/relationships/slide" Target="slides/slide18.xml"/><Relationship Id="rId123" Type="http://schemas.openxmlformats.org/officeDocument/2006/relationships/slide" Target="slides/slide19.xml"/><Relationship Id="rId124" Type="http://schemas.openxmlformats.org/officeDocument/2006/relationships/slide" Target="slides/slide20.xml"/><Relationship Id="rId125" Type="http://schemas.openxmlformats.org/officeDocument/2006/relationships/slide" Target="slides/slide21.xml"/><Relationship Id="rId126" Type="http://schemas.openxmlformats.org/officeDocument/2006/relationships/slide" Target="slides/slide22.xml"/><Relationship Id="rId127" Type="http://schemas.openxmlformats.org/officeDocument/2006/relationships/slide" Target="slides/slide23.xml"/><Relationship Id="rId128" Type="http://schemas.openxmlformats.org/officeDocument/2006/relationships/slide" Target="slides/slide24.xml"/><Relationship Id="rId129" Type="http://schemas.openxmlformats.org/officeDocument/2006/relationships/slide" Target="slides/slide25.xml"/><Relationship Id="rId130" Type="http://schemas.openxmlformats.org/officeDocument/2006/relationships/slide" Target="slides/slide26.xml"/><Relationship Id="rId131" Type="http://schemas.openxmlformats.org/officeDocument/2006/relationships/slide" Target="slides/slide27.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1DDEF-DE33-44BB-AA6F-1094205F4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AAA7-2A46-4C05-A2F5-20F165A7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F48EED-2C57-4292-BF93-644408815F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52FEFAC7-1BAA-4B73-8C09-5B75562C3526}"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8B4168E8-3C23-4C17-B72F-2D9D9E94E6FB}"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158C004E-0DC3-4834-91AE-6B1EBBCD2AAB}"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38BA5AFF-2B4D-49EE-8D48-E3C0111BE501}"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D515B121-C50D-43A6-834F-1B2588EF2145}"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95ACC7B-6EDF-44D1-B587-5FF5809DD850}"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B32E911A-BAE4-4BC9-8FF6-26F86A6D6D10}"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F1542435-CCB4-40C6-8656-7903B705C3CA}"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93FA4CEB-FC64-4ED4-9713-90821810CB96}"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26AD10CF-58BD-4EA7-BAAB-7E63525FA7ED}"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6FEE4-A4E1-4D80-8145-B50E870919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212E11B9-B7AF-4EAE-ACC2-BAF8A1F5A5EF}"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5E1EEEFB-400B-479B-BB5D-97D516E979BD}"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57A55716-5768-4547-AAB2-00EFF06004E0}"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4B7A1791-8DE6-4C14-8248-6D41474E8F7E}"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F2FD3444-E066-4DA5-B094-E8AC7ED572BE}"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5EFFE052-3F57-4703-84CC-9F3C1D61A5B8}"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23769073-7163-4E59-8038-65AD595FCEC6}"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52894E0C-1C4E-405E-BD0D-8F5B1E417E75}"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60386A77-E712-4D55-829A-617F33A69C1D}"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47834402-E360-419A-87A4-1A7E801FA603}"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38336-662C-4B7B-A8E7-2412E36CEA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84577B00-0C36-41C5-9680-2A1EE2313D3D}"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0169FDB9-F296-4B10-8C98-073C1A7965D7}"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5A03BB2D-7A5D-4C41-AB92-887BB2AD80D3}"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A536646C-DD39-4E83-BE36-C5560E0CC0D3}"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97FE1836-5B5F-4D2C-92F4-6F15197038E5}"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23FC8545-C945-4282-B712-88157BE617A0}"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F8525604-6C23-4ED4-A027-6806FFF49EB6}"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48ABFCDB-79CE-4D70-BB9B-8A1ED3BA94F5}"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1DEBD965-843E-4046-B0C7-017C0B0E2491}"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6969CA78-15E2-4EB1-A6D2-34E772F8B25B}"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8C78D-3C29-4F0A-AEAE-65985FE3F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24E2A554-5BF2-4881-B2F5-E90DC26C6EB7}"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EF299EE9-75A5-4A52-BBD8-7DBB0A35CD3E}"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F7AE7106-ADC8-49D1-884B-C69D52843F50}"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83F4543D-F5E4-4D2C-8924-A00DE6E68846}"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73E7D0D8-2884-47DA-AE95-3B3FD023DBC0}"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DB6D6EF6-590A-40EE-90A5-41A5994CBD0F}"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B6DC0D61-0717-4B92-AA2A-44499B593B1B}"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2613336D-FE34-468D-8953-A57A7EB4F744}"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67053E53-BAF0-48DA-979B-673939565C73}"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D7CC0C59-C69D-497D-9DAF-91836A2571E2}"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889DB-725C-4694-A677-DC0F24B4E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2D8FDDEA-ADC1-4BBE-A7C6-90E073DAF796}"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C0F2539E-82BA-4F35-B1EC-E535DF7C4AC7}"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323F3741-ADA0-4AEB-9235-998079649104}"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FB50C779-49A0-46FC-BA45-2407BA95FCA6}"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5100013B-FA43-41A6-8578-B0528AE575AA}"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91BEB148-1B7F-4125-9C1E-9A6A9E01163D}"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4C63BF78-5A25-4B77-B8B5-2110A6CF3C31}"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935CC65A-0B9E-4386-9244-D6F17BC3AA2E}"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46C64247-5A57-41AC-8CB2-9543462EBD63}"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F8F55A0E-037E-4AA7-8375-823941636F5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E0953C-6F34-4535-ABE7-A5F741DB6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B380AD98-4CE8-4075-B586-3F9C076438B6}"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B3B9E452-F85A-407F-AD3E-DAEB268847BD}"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CAAB5AC7-35C3-4153-B111-74745E4AFAC5}"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49CA957B-DB12-468D-A4B1-6013C31630B7}"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E98CAADC-D5C5-4C85-934E-1DDD0E3C504E}"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4DE145F2-AD87-4284-AC24-2313095E5B9C}"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96925CB0-4FA0-495C-866E-C08725DF6A8D}"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6AD69BF7-6899-4B8B-B4CA-DBD236E97E10}"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F30EDE51-0BAB-4EB3-A861-7F6D78C691D8}"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4CA26F71-8F33-4C7E-A5B8-574B92A406B2}"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E2FC6A-A690-4660-9DFD-F517C43D0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85FB0AC5-70DB-48B6-BD8F-4EB23F1B1C6F}"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528B0649-ED92-45D5-B561-B7698E133236}"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BCBD6C89-4926-41D8-AD05-179EC0072DC1}"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83B8DED6-FA5D-4FB3-812B-F764F87C4020}"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65FD2A2B-E1DA-4824-BF9A-3F9196DF33B5}"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62EA8B62-D7B2-489A-9A10-FC22281DA8CF}"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BD28A38F-4D8D-4905-9F90-B0025DB083EA}"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77050C6A-F31F-460B-A65F-4BF7FF262C9D}"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CE33D573-EE92-4BC6-BB85-6F22A0D07149}"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0946697C-88A1-4D62-ABB9-4C879E7D6FA3}"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61401F-45AC-4186-93A1-0BC479B088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22154FEB-FB2F-48C5-AB4B-70C99F77EC2A}"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3AF33A50-8725-4169-B5AC-58994CC0C0BB}"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A844F564-F7A4-4423-B3A2-10C0C3020A25}"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D425F48B-E750-42A5-8636-6EC9AB032DC7}"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F5EB227A-E609-4070-9384-FAA93328E95B}"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9D8F36D7-27DC-42A9-B3D8-343A37A514EB}"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C17C5B1C-D739-47DC-ABFC-84D75BFEB606}"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93F708CB-B5A4-47AF-A197-ECD037201B9B}"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6062F09F-B05C-4F9E-B492-E561FF5D2D68}"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2F698FE1-763F-43A2-AEDE-102989303942}"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AD0138-9C50-40B7-815F-E4A40726D8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8064D5E5-FB1F-48F4-AE7A-EB75A951D0BC}"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DE02FFAC-D9FE-4441-9CF8-B6954D50F280}"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5140937F-20BB-48BB-9EB0-689629EDA55F}"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431215BB-F33B-4493-8006-FA73357CB647}"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1A6F492B-3F35-41C3-ACF0-15C147785813}"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2C2AB0B5-AC5B-443A-B880-50A87D21B768}"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1264984A-03D6-4335-9A4C-92A7F517C395}"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C1BA7F42-44FA-4AE6-93DF-D7D25FAA494F}"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13A635F6-8271-4B6F-A917-C973FB0D353F}"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CEFCB2BC-5651-4314-97DA-B9490A9D1458}"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13A036-0255-48B7-BEE9-16FD84E136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F648AED4-B11C-495B-95A2-C1B479095B7F}"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CC364F02-80C3-43DF-957A-88428857E6C6}"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D5767418-A479-4263-848D-9F9B8914EB71}"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F5F829EA-0070-4BB1-B62C-DF951C80E80A}"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738A95B4-2CCA-4A9A-A885-935E0165128E}"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5360BF3E-A57C-4E4C-A9D5-B82B4D875AD4}"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16332144-B48E-46A4-8C83-F8515308FD46}"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3149121B-007B-4125-9108-C8090F9DD95D}"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48F5E6C3-0146-49B4-9C4B-7AB30D23B8D9}"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9F0C4554-FE0B-4E63-B8F1-0BA33E7AC597}"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F5F4E-0D74-4FE8-8036-5EA2F5144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77135D-2038-44B8-8D54-CDAC9195E0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370EC75D-9337-4A70-B8AD-6E0AFDB9D301}"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8B85D8B2-CAAD-4287-AEC6-7BBA50B1F790}"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330463F3-899E-4C46-80FB-2611DF345786}"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3D949455-72D8-4D6B-9102-4C86884CF596}"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42E2D860-E3A9-4F6B-8E78-62BE0F7C3623}"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DCEF2128-7B9F-4948-997F-770D1D6ED488}"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90F78EC2-70BF-4CD5-9CE2-DF9164C01BD4}"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8FDDBEF5-9F9A-4DAD-AE49-784F698D12BE}"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FF6E7B4B-B89B-4C59-9701-FA0079AED78F}"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C4EE6554-8C28-40DF-9757-6D98CC52C674}"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CD2712-B88D-426A-ADC5-93088E2FC6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BEA99947-32E4-4115-92F3-639CF83AD49D}"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005D01C7-C759-419A-995F-7DED4948173F}"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4F7A20D-C7BE-4504-B4F5-77038376FFB9}"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06D8A56B-6E18-4F6E-9149-15747422B15E}"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0DC409A4-0B77-4542-80FD-3369931D2B1A}"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F3B24731-DE88-4C63-8F60-F710DCAF8EC4}"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F1D89DD5-66A3-49B5-B485-4A63DB129E76}"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F1336195-9AEE-4A57-ACB9-292D6CC5AB72}"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1585ACBB-8313-439C-B289-B4769F4CC958}"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88DB49AE-21F9-49EF-A2FF-B86906B21F8E}"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B87269-0BAE-47C7-9232-72981287D6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4864D8C0-0515-447B-8189-88E751FB9D71}"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61F2FF69-5E35-473C-A5DD-B6E5423D2C1A}"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6949030F-C1D2-41EF-8D54-B6EDF757D81C}"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3D1E5424-BAD9-4138-87B6-5EBB0D8B04D2}"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A2505B6E-4269-486D-953D-0BB4729360D0}"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44A09FC1-A158-4626-8792-A6253D98BBEA}"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06904EE0-8D47-49C3-B597-17936945B8E8}"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48D9A3B5-BD81-4319-BF5D-D31A2D326AED}"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F4056E2F-D987-4CE9-93ED-D55FEA402425}"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EB9F24AD-1B61-4FD1-9B8D-A643EA7E4F68}"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0B5D75-0C63-43DB-AE9D-9803F0D511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87415383-B43C-4046-85AC-EBE9C57DA1E2}"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EABFEAC0-87CB-4D99-8578-C1D5B6ADCC6E}"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E06445C6-E593-48AB-9815-A91C21D8C745}"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A248B7BB-80DD-4094-8E49-A97D2F632809}"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721BECF4-B05D-4DB0-A1C6-337935F3EFE4}"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0D7DEB0A-CB00-4AEB-B42E-369C67389E0F}"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716CC483-77C5-46FB-8B29-0A8E9E0942FA}"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326883EB-99EC-4E8E-B23A-1D75AB37B5EB}"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8E49521C-3696-4ED1-A077-4487E19A71AD}"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DDBA81DD-59B5-4477-8A7D-19E5B2454DDF}"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D97173-F970-47E5-BC50-2F5C7D4253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0C03B9E2-D258-46C1-A11D-D4F57E0B58D5}"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EFE410F9-B3C3-4340-91FC-5D1DFBA91B64}"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48C3E3D7-45D0-4401-8935-6AEB0C346063}"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4499BF4E-0760-411E-B85B-A461866B9F61}"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4D55D46C-D00A-44D5-9BAB-65C4BF6FBA72}"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1DABD585-4312-49B9-9775-5E38659F98A1}"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CE77DFBF-2243-4438-974B-963D509271DF}"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A4FD4B20-5481-4FC8-BF64-1B3BB9F28161}"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46E78DA7-48D4-4AEE-9110-08AD19567591}"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56F38A6F-8BF8-4AAF-86D4-9C3E631DD3D6}"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28D3C-12C5-4B49-88C3-82546C257F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D8CDC7C5-53AF-4B08-BD7F-0C130CD82222}"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89CC0B12-C430-48FE-B7E6-026E0BBF97C1}"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8A91F210-4D96-4D81-88A3-837C9BB6B9F2}"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AD0A164C-247C-4817-BC14-7E5C01BFB07A}"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2A30B888-DF6A-4521-A354-7E66C7A46292}"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DCE07A3D-83B5-439C-8D63-5719EF5CDBBF}"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26748CFE-CD4C-4754-8C09-D5B2DDE04896}"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9052E50A-E7DF-4BCC-A708-F5E22260BC87}"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9C3966A4-16BB-447D-983C-09C6BB6601A2}"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D83063E3-2E81-4846-A1EC-842BFE94124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61ABCC-3BB1-46EC-9786-25F4CDF148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F4DA5554-A231-4D4B-87DA-90F1B3C4880F}"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0375F474-185C-4479-B776-C2BD80EB9711}"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D156B4B1-7255-4C94-A5C6-E4DB7A925F50}"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22787A7D-9DE0-450D-A2C6-E26C9F0E5ECE}"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0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856E7D78-6893-4175-B6A1-B37A5206D6C8}"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D6DB7C5C-3CFC-4FF1-8158-32D4874A592A}"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B039041D-5C43-4B10-85F8-3565C7328836}"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D745B5FA-3D7D-4F73-AAF9-30BAC85B5DB1}"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A83A06A2-9D72-42CE-8915-2937770B6F40}"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49855AC0-AE7D-4CEB-B3D8-59C065E1877C}"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70D718-547F-46DC-A628-373EC43DBA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27CB20A2-F2F7-4A97-9B05-F724AD153E12}"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9B665145-4521-48A8-90F9-CC3A2123D74F}"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1DE263EB-F6E3-43E3-B123-864B895438B2}"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D2747D18-58BD-45EB-850C-2A192C8CBE6E}"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81FC54C2-4FB7-404A-AF4E-96468CF94239}"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579E61B8-80F3-4A29-AB8C-70B3AFD98763}"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96175E09-B87D-4A15-BCA6-F109E31F51D4}"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BA635854-7794-4DC3-882A-8B8CB7DF55EE}"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6B601102-FEF7-414D-92B6-0A79263E9657}"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BF9A0BE2-7449-4EE9-B37E-6817E5696BAE}"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F2C0B0-348E-4D9F-844A-0D011EE534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15D94D8D-B830-41B0-8883-DEF7B28753F1}"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BD9B06CF-5347-4391-9483-6D33EA203419}"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C637AED3-7C52-4714-BEAD-1D1FD6C3E3DC}"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88C97232-BBDE-40C2-B80E-2A5528ED224E}"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72650B2C-E963-4475-B42C-38A6AC6A9461}"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2E3A4A14-7EB2-44E7-A6FE-89CDF2920840}"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924A4686-0D21-49A6-A449-881091588A3D}"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C32C5F9A-16CA-4329-9A27-298882BB544B}"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85D07490-E8DE-408C-9A3A-950177ACF2CF}"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AC4FE4AF-A765-42C3-AD6F-95B186367B3E}"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036913-DAD3-46FE-AD84-241E44F6CB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BF1B69F1-5642-41B0-AC0B-D37DD7A81D9C}"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9D66A790-684E-46A1-B048-D705B9E6075F}"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C1994BE8-4DF0-4F09-AC45-2984852F6E64}"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377D55B6-576F-4CD1-A6C7-4B97F3EB7B0A}"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0F35DC98-8429-4731-A694-0F86563A5B4A}"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4E9BCB39-5512-4DE1-A0D2-73F437BED1E2}"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CC699370-D9E5-4B0E-9C04-4B45ED086B2F}"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506059DB-7F00-4DAC-95CE-D757026D92AD}"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14C3F3F7-6361-4FE1-A4EE-A7D3CC7D5B12}"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70E592CF-F952-4874-9554-18E6AF7DD28F}"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73CEE-8C13-4825-B09B-0501A4C16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FDAF7F-8EE4-442C-886D-DC34777206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9E8F307E-24D9-4836-BE05-5A1D8F9C2C75}"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57F832F5-4281-4B99-B2E4-F4926A535F8C}"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C3FEC611-A8D2-4BBA-AECB-96E647459CFD}"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90CF3076-6ED8-4246-9CC7-1A4B8DAF12A6}"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B04FD826-65FC-4049-8E9C-1AFAB6D3B636}"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0E0C0367-D4DE-4412-856A-75E8CC71A389}"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8ABC83E0-042C-445E-A737-4ED9BFB854F1}"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F885B54D-488E-439C-95AE-85CD1D4AC895}"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5BBA0A25-507B-417A-8944-10764718B0F7}"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D7FD5B34-06CB-4782-8C96-CC2DE8EB10A8}"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08A137-1472-412F-ACBD-169A3DE3D3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56A7C59A-9743-4EC4-9264-8ABDC147C1AB}"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F0C429B8-46B2-44E5-962B-6BA98D05C9C9}"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8359FCE5-1AF4-4874-9072-B65C39419D17}"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A45D6B95-F9D2-4F17-A3D3-21005580BE74}"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8DF359A6-F126-4592-8195-D9F370F37FD8}"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8C5FF545-5011-4BB8-8EA6-A31E2D11B0B7}"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62302506-815E-4439-8995-F3FF36AB338C}"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8B6FD8AC-AB0A-4B6F-8A96-46222845BDB6}"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DD61C2D8-1A39-4144-A39B-F6874609E23C}"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7C198638-546A-4DBC-A64B-1F8E617319A4}"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5BAF09-99E9-4201-B28B-0B3AD811D4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5BFD1EAA-FD5B-4F54-9925-70A467DD1FF5}"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A5E8ED6E-2AFF-4999-B4B2-3D1BBF9D21F3}"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1397D103-77D2-4B71-B3F3-4173870876CE}"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033EC0DA-5BA3-400C-A3A5-9506EA14675C}"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D786CD94-7114-445C-86FC-6BA1D75476D5}"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EDE8353B-D424-48BB-ACD6-C110514A0F1F}"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BDC53EC4-DD7C-4795-9F4F-CC89DDD86BD8}"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F860CBCE-2683-4DDA-817A-1BEEE2F64C6B}"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DA38AAB9-1958-4751-8AA1-81DDD2B19613}"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77952B08-7A71-48F5-80BB-DEF410633233}"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FF59C5-DDAE-40EA-8D72-89DA2FE5C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803C04F2-9783-4BD8-9832-8A390B13B579}"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13C9C431-D593-48FC-B73E-3332E65DD5E8}"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028A22D1-028D-4D51-B42E-DA70D697E971}"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37A2D0C6-FD66-4B56-905E-CDD761EC38D5}"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DC363485-69C1-4456-BF4D-D4F449C5A861}"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BC818EA9-234C-4296-88B0-00B7ED4DAD6E}"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3D009923-119F-414E-B858-C88B5CE7385F}"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4E6DFF-4959-41FB-802C-23A1FCF53C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B19E5F-90DB-447D-8D02-EAEE8F1B96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3D21B6-E73B-4585-9CC9-1DEF78103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BF59AC-133C-4856-9AEF-DA53560BCA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77F3DB-9D03-42A4-A59F-4E8640CA5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9F8376-77A4-4127-B182-815AB0EA7A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1E6AF-BECC-4096-825B-AF3B59538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81A11C-6A62-4CC0-9869-6D019D471F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23EBAC-B275-45C7-9BFE-C967EB7C25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AD0D27-9F64-4CD8-8730-2FA584787E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C848EF-CC73-4767-A775-4FA68C7493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15357B-622F-4670-B5AB-EA4E24D3D7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A4D1F8-4A8F-4997-81FB-2DDCEAC69D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2EF261-6C78-41AD-AA7A-35E1B32891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1B9A99-9714-4593-8748-342FC5194E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5456E1-1472-43C5-ADF3-571B77B14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F0C58C-9F43-4786-85D6-531E2B4D3C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1FE46-4095-4FEE-814F-F50EFBE1B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23E2F6-6444-49A2-BECA-199ED06787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227924-B72B-47FA-94ED-52675E7FA7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448F01-8E98-4BBD-977D-879F8438F3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A74EE5-7F91-43D2-B3BF-63740BDEAE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4C7B61-1A94-4715-B046-BC6B48391E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0AE5027-98F1-4CE2-9C7B-840250F162D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549D18-BA4F-49D2-82DC-3E0931469B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053C9A-3F14-4A32-9EA1-9077E6D43F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58C109-4353-44D9-B24D-DDCA50C8A7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5AFD78-D170-4BC4-8D23-0866513811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D5C9D-5EDC-4BD5-8D48-DB2387C3B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B54269-52AB-45C5-BF5F-A360ADCAFC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DE2630-02D8-464D-B249-11453B7740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6E810D-E493-47B2-BC94-0B15E6C478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440897-3617-460A-B7FB-1CC2932102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41DE80-3CC5-4BDE-A977-C339FCCABA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1D8C16-62F4-4620-A9D7-43397AAA62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757CEC-4B3D-4FE0-8680-07E7178711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B0E9B9-1A14-4ECB-96E9-1025B83D78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DB861C-184C-4D57-ADFC-82BD1858C1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4D8CEF-E797-433D-B81D-4B2904B074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64C93-DAAC-4E7B-8FF7-5BD2BFE48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EB8756-E479-4F26-AF46-D5A92F4657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66E700-F5EE-4127-B05E-C3004D05BC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60287D-3177-428C-9CDC-480D5D7249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44B275-8671-4515-A2B9-6F04A86A38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26F143-FE51-4497-8EDC-25005EBAC1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0F6661-C0C7-45EB-8368-353CFAFA7D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70E211-47CC-43AE-8C68-1B619C7C73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90AB954-440E-41F5-B57D-F1CA131529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9B28D7-F418-4BD9-BBB5-F0941DAE6D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27B126-9DA2-4DCB-AC3E-8ECEA9F945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5E09D-A777-4672-91EB-F91E70B5A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212C00-EE02-4951-ACA4-7E74CD6808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73E5A5-66D9-49B8-8B83-FE68FEBE09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21AC83-1F2B-4547-9583-6944E8E508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C1EC99-466D-4DC2-9279-22E5354712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8C1F8B-F952-4EBC-971C-3F74C2F682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0F3081-26DD-4AF7-8FAE-2C6F95E792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174084-3D08-4A39-B8CE-BAB8137C2F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34F556-B2C7-4287-93B3-2D4BB96068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488786-7BA7-4C8E-A854-A47632A264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D17AA8-3A56-4BE0-9A73-BEEE6B86C33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F9B4F-7CF5-4206-A348-FEF4CC851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1E3AA51-94E5-4061-848C-44ECCA654F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0A11C66-F996-491E-B4F5-76FF7792824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84CC59-0A19-4DBB-9CDE-9A0A5AF0CC5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6B34A0-1E29-4EAD-B014-D561CAA42C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6943B0-C841-4D73-B11D-55209C0FC8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2E026B-4400-4D8C-99AD-A70ABB260F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3E935C-FDD0-4CB3-A427-363740B91F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6624F9-4C52-49D1-8A69-8D4DA4C28C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FDD87B-1BD4-415C-8954-1984A8D173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B63284-3D5C-4268-9F86-02306FBBD3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92970-AEB6-4793-9D4A-D308D002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824327-15D2-4550-9137-3904C39489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BE8D172-3F6F-4717-905E-78FE9F10C03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60D5ED9-A12B-409E-BB37-5D2315D7376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B827A71-D28C-4AEC-825F-470894090E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6B16C2-8CD5-490F-8C9F-762BB7ADA2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E570DD-DF4E-4BA8-AE54-09E3811D2AD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8FFDBD-272F-4C93-8A30-82C9A8CB7D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5CC989-BFF4-4161-B681-5A749275E9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688414-6AEA-443E-9335-0A6133CFCC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E2E366-FAB7-4AE5-9BC0-C71D826D45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8DA5-B651-472D-B3A8-70055B140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2AA12-7422-4333-95CD-3678B1AE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B89CF1-BF40-4429-AD05-0C28406CC0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44FC6F-AE80-4F3A-AD05-739D2CD400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02CE37-D013-4C43-A69D-E26D2F6F83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075D25-3FA8-4AE9-8B10-DE58184F7A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972B7DF-CBBC-4BAD-8A9B-AF82755534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3982F01-E093-4488-83B7-EA49D08D495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B0A2A50-9F45-4F1E-86B7-B8E741D20B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FA7B12-1B5C-437F-9976-63EB1B976B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C97BD1F-8C82-406D-BE26-7353EC8587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C81726-FECF-4547-9EA0-8122911815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2E894-D358-47DB-BCC3-80B1DE4AF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622DA0-F8CB-4D95-AB82-5FFCBE13B2B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797F111-B3F2-4E5E-BA87-D1D0F8CA2E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5EC35E-BE67-4889-BBFC-822A8C09B9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3EDC07-C114-48A4-9971-B75A55F87C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56F817E-9681-484B-9267-7B424E4CE0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4CFD6FB-FD21-4D66-9A15-DB55C75C38A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BB33881-2A4D-4D39-A877-B4488A5AEF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31C9912-2AB2-45FF-B8C8-8822FBFA327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4C1C73-BAC9-4C35-81D6-CDC779D0681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822471-89DD-4BC7-92D4-9D12655727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DD1C6-51C4-4529-A4A8-DEA22D076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1C66E9-A78C-4F9C-9C0A-D8CB9DA98F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2B0B0A-F14E-45AB-A71E-11792A34AF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92DDE1-FC3F-40DB-A782-12F779DA00C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F6AE71-F8CB-491D-A20A-BA620FDBFD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2837CA-D26D-4A33-AFFE-EBE2FDDD6B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1686E4-F52A-4CCF-AC06-88B65CFF8B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E3E6B9-63F8-4340-862F-2A87AD4B117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4A3722C-D10A-4CDA-9257-21709C713E1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662E5A-DF42-433B-80ED-836BD3366D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4396B6-A6CB-4174-A759-67058F92E4A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9AFCF-1880-4A37-8475-0B2D8208E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540152-8E0A-4210-A109-341A11DEDE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86C9A2-BAF9-417B-8475-8D2D08F9C9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A9AE38-1CAD-4C1E-82DA-B10F74562D8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BE704E-B4E2-47DE-872D-7B14788949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AC0AD93-904E-4409-AFEA-7F2B7BB9B4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51522B-8BB3-4A12-B449-C7B5FBFDC5A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70E7B6-5398-462D-AC61-99C053BAFB0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454829-A8E7-45B6-AC74-C3DEB030C2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154A8F6-E8AC-4BE7-A12B-50281F52A2D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9CCD738-7F17-4FD1-840C-3479C7F0FD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A8107-AAE1-4031-B147-A235D89A6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02F6447-14C7-43D8-A649-601FEA5285B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8239ED4-18CB-4972-AC6D-B018A788AE7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711CD4F-21CB-4FB1-8B1E-1A6E862EDEA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12C7A64-7B90-439B-9A8A-270FC29918E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DB542F5-A7C3-4555-B196-DBD89960C4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8E80661-6470-46F2-BBDA-C197C217EF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D7332DA-4DBB-43D1-9303-732B720B27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F70DB5-F764-4401-A039-B5A6DCC400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E780BE-82E0-4A8E-A415-DF73807069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CD8162-94EA-4F8E-93D5-B2623F77EB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E7CF3A-AC78-4396-8B9F-251C06408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02C7B0-4F72-411C-BB3A-7EF9FF751E8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7D96DC1-D265-4248-8FBB-49AC94E41F6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179367-0679-438A-8B89-295DEE2A56E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A6085AC-C0F5-4D04-A634-9360A418F56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02442B4-0FEC-4FC8-A46A-6425C2CDBAC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95D68F3-3204-408B-9611-9DEEEE274FA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52A3D7-0C95-451F-AF58-0D46490643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E08A9C4-8BCE-439E-AEF5-133F6F86AEC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9558103-752D-4DB4-8F15-2FE7CF99525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941CB7E-54C3-4A81-A32E-F6BA1F7BC5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BACC2-CA5B-47D7-A3BB-E53C22CC5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28A806-C9B8-4AD9-9808-1E002C51DA4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E6C1EF0-679A-476D-A9DD-65903C6860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70DA07-6FF2-45AE-98D4-5FB37356034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EE8A28B-DCC5-4C2F-A48E-33838D3A3F4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BF2E69F-6F10-4D76-B6BB-712825C16BB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FD1E0E9-61BA-428A-AD40-C36A7A9CE1A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312C15B-6629-4243-AC0F-34DEA29B29A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75D235D-013D-46F2-B6B0-5B3C4F32A1F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23D2D4B-131A-4C25-A37D-64983933AA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A49C6B1-2050-42C5-957C-68C8BF2E84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776EE-6945-452D-97DA-98B588D49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470A14-3086-4B1C-909F-DC122CE75B2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FC25209-3F07-456E-A566-3E9725C213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354306-42A6-476E-8C49-DD29878A68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71DD9D4-38C5-4C83-9499-0E5347A617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EF8904D-50FB-4CFE-B3CD-6000A172F4C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C171947-FCB4-4CA3-BC19-75F6BEEAF6F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A6B6F69-7159-4C3C-8384-83AFB4D6096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B897915-CA1C-4226-A03F-FDC45C488BA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2BFC5F-7063-4717-A8CC-143AF1112F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C9D0AEA-9CEE-4C21-A72C-F10DAD994CC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B8FD2-1F21-4174-9DB0-3BF7B561F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D09BDD-391E-489D-9A42-CDE12BD98AE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B7CB7F-2205-44EF-8797-C7C3837CCD7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8614B12-5943-424A-867E-21AA2438A6B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6EE127-6A27-4D53-B511-CBD0CF6208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792F2C1-69A0-48F6-85D7-67CB47EB5A3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39C76C9-5776-4CF8-B47F-AA46F3211C8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764E569-A60E-4680-B570-ADFF73EE5CE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5FC980-C6D9-4BCE-A9E2-35FAEB536B3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C563AE2-CDFA-4D13-B1A0-539DAEB23E1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567D7FF-C092-4173-BA65-C420EB0FD55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3C3BB-C742-41FC-B416-0E6EA259D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CF7D6A9-6D73-4824-8B9E-69E823D92B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3EAC7D-A794-48A7-BEBE-E9E56D6E225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FB9D873-C792-40A3-9EBD-F8838CFFF25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D72FE46-8863-4944-B6CB-2D0C347C180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F2AE664-C635-481B-8B65-4895ED23B3C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33928F5-25F6-4A95-8DA3-21B00805F9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E5FF1AF-A16C-420D-98A8-28B1D8586C6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07B7AD-149D-407C-87E9-E0A5D9CEF0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009477B-9CC7-4BC0-A6B6-BA17A0201FA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70F0653-A821-45D9-BD8C-C43DE761B30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E6B1-0CB2-46BB-A857-491F9B4E3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A0131-DE5C-4F5B-BB30-6AAE1EC3B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7108423-DCDE-4DE5-BD39-B84D3C29B74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A8A4D26-60A8-45FC-9BD0-8D3204D0BD1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4ECE5A2-2237-4C30-A37D-1CABB660AC6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3C83E40-D51E-4C43-9614-517E4ADD313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59491D1-4501-4F99-8E0B-62DFF79102F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64DA161-772A-48CF-B32A-731FB034CE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705E8E0-F252-474B-BB21-49AEA13033F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CF0C34-A72C-4D44-99AA-038CED5BAA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A0B5C4-D9D0-4913-AFC3-CD14EFE351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773EA12-6A8F-4424-9547-BD9C9E521B2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48889-F2B4-4DD8-B32C-E0E7FF5E2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5D0004C-EF26-45E4-861A-251C608418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46F6548-5817-4EC0-B184-797DA1E8551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78269E8-9389-490B-8EAF-1521C73CA67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E16B1BC-4F83-43CF-822F-7E6CA7B4F59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5B01EA6-C339-4BEA-92FE-E558D23603A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E7A48E5-00B2-4896-ABE3-0B1E6FECF8D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5244E6C-47E0-4FFB-B092-67C61800E60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317A2AB-A4D3-4122-9FDB-60200D4C93A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3E4877A-2429-45BD-819B-509022E0485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D8CFC2-4A12-431F-90E5-CEEBBDC1EEB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3BAC1-B37E-4C1B-974B-8087AB690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4B88CDB-22C4-4FBA-B8AC-83EEF73E9F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DF8F86F-41D3-4218-9688-9328A953A7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8FDED6C-750F-4232-BEC4-027B2153F6E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F9448F3-E734-4898-A7FB-1C7801EF479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A6E1242-5220-4879-9238-007214CC256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3235DAA-BC54-4614-B5F4-5BEF020072D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C0BD8F0-C947-4A15-84C1-7D32FCCC0D4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1718572-C1EA-4F0A-9C88-3F8272FF6BF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39CEEF-E227-433B-872E-41A2A0DC224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3B4F17-DA09-4900-8D3D-F501B46DCF5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10FCC-9E03-4A54-B3C0-19B5001C0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1435246-B5C9-449B-A5C2-E14CAEAF89D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F4AA007-54E6-485E-A826-1EF7EEB9EC4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CE334F-38D0-4592-9C9A-45E429E23E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9B87A59-1E7C-4640-9D1B-8D4B89FCC4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D1544F9-95E3-4624-9D54-7A12CA942B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5567C06-EDDB-49CF-88C4-E4D7DDA0DB1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77D4126-C439-42A9-A38B-86BFAAD7E18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55C02FB-658C-4F15-BF59-CB2FB6D298B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2D95F29-FDD7-4A86-9E9B-8BAECD860C2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8BA03F3-8700-4FF1-9F07-9AF61C53337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0A52D-9A34-4CF2-8231-CD460F5DD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0ED3692-F63B-4CA3-8510-41D7CE31385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A1AF922-21D4-4FBE-A147-EB638D906AF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D7F4498-4751-4728-A65C-9FC0079F742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2CD3D01-91C4-491D-BD01-DE28840D1D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D82A825-72CD-4B45-8D17-09034F0F489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D75A1A-6273-4DC2-A816-980FB5FDD9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AB389B2-5E49-45CC-A554-A9662E06B33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CA4129D-59E0-429E-99D5-736106789DC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9B12061-558F-474C-BF61-A1B5F67E6C5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1C7705D-41E1-4933-9BAF-0B5206083C8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E3825-C0D4-40C8-B051-080C10F4E0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4660B4E-51AD-40FE-AE77-D6AAD14DFBB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22F415D-DD20-4278-80C7-847F9D73242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C1CEDAC-30F0-4E18-B32E-EC34172F0F9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CE4A67C-A3CF-4B53-BF7E-C9DEE82C6F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68ED35D-DCD3-496C-A565-D08870A5605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BB63DB1-5042-4E43-B9E0-B783387C94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BF58A4-0839-4881-9C70-6ED2280D123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C3A8FE4-26A5-4B99-AA44-42D483D7D68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697F8AF-6566-4A1B-A07D-91A6EBEAEE8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699C91B-5699-466B-9A83-A99D6F8681A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8D2AF-B1BF-4C46-9769-AA67114F0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B05DCEC-B7FF-423A-B5B0-305FA829A2D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B903EBB-88E4-4FF9-932F-AF4BF4E3F2B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914C69A-2B03-4CF4-A78C-624C32F4691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8C7E58B-EB4F-4618-9614-3ED3E1848FB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792225F-4085-453F-A5D5-36754971F04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F87F1D-7ED1-4631-A070-2FD449CA3CC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9A9C6A3-55A9-4922-BC71-72242CB6F0D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A614081-CCFB-48AA-B86F-733058B2CFF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B578004-D822-45DF-B94E-D7DA4BE08EC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004389F-127D-40D6-94A2-BBD00D28875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9DD8E-C35B-4144-A5A9-6A28B4961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291EE0C-914B-4CE9-AC03-E29C3DDBEAB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9F8D1AD-0E60-4CFA-98C5-588F508F4D2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099E183-413F-4A35-AC67-A0C76041E71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E043BEB-8867-4D6B-ACD9-10CFD55B7C7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3960AED-8713-42E5-B4EE-3BF2FE97444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2609231-97DC-4CBC-9521-88A68B1FFC6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ACDA58C-9E94-403E-8FA1-CBCF6F810D8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E8D8E4F-A90A-4C17-80AB-CE9787CBFB4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BB3C757-0939-434A-8C7A-609EF6664F0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3709337-97BD-47D2-B4AB-A40A63063CC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2703D-EFD2-402C-902F-127D72B0F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85C95AA-CE8D-4EE5-A552-1BF10AC57CC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E581D72-78D8-43EB-91EF-5DBE9D3676E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7E048E-4C7A-4B29-B911-F68301C6F2D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3FAC814-A15A-4175-9E29-A69C8997DA6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CF8FD93-AAA5-4461-A590-1FB241B965B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0EE72E8-6144-4BF5-8297-2B63261FC24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50E02FD-E436-442C-87CD-567A172D59B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AF0A09B-2960-4308-AC93-27E7EF6F513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58EC982-6A1E-47CC-9209-D1C40029A96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CD54AB6-1329-45AC-95DD-F6658B1AFBF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7CAB0-F2DA-4970-AF18-BCEFBDCB1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8DBA1A4-1778-447D-86BE-C64BBAC0645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0E739AD-9714-4F0B-B9FD-F990367C6BF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AB95461-9328-4C4B-A7FB-8ABF3DD13B6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568A0CD-19CA-49DE-8449-3E9FA388F66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9666B81-79AA-4B88-84FA-546269E307C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C241EB4-47BB-4B19-83A2-BBCE1EEC2A2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3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EA6C86B-0C35-4C70-B853-64E7225EF90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425D6D4-08C4-4CFC-B466-258CEE90CC1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D26B33C-8D9A-468A-B829-81C5A5E68E2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B64361E-3C8E-4546-BA25-45F899CFFEB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CE70-704D-4D23-917E-654FD7F78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84388-BF0E-44F1-8729-85F24F6AB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0A7E940-DCFD-4CFF-A2F6-1B77964657E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CC333DD-F7DD-480A-AA29-E81F061D069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A06F471-2ECD-4175-8BFF-056A4CDC0DA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958113A-A926-4F83-9B71-229B04A843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BFBD693-6B0C-4069-88F9-70D4F3DB8AA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4D29D2D-6A79-4B1A-80D3-887050ED1D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9AEE9F0-EDBF-49F0-9043-26F10798664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9EBA379-9A18-4AEF-99BA-26C2372C4E1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A1150E3-8C6C-40A3-B775-BE7D88BC533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02DF10A-C91F-4203-A863-9E1C938E500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CB571-050A-40F4-9FA3-28513490B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A16CFC4-3DAF-4191-ADB4-9A308B5F861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E07D732-744F-40B5-99AA-C8D213E4989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C4129BD-685A-4072-963D-C91CAD745B0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EEA35B5-D7FA-43F9-B12F-F2641B3D43D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DED5440-D3DC-4D15-80EC-DD25F2FBAB0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3665CD9-1B7F-47BC-ABF7-20702C6F503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977422C-BADE-489E-B589-BD9F6F7FF6E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B9BF567-3E61-4D91-B2F8-679509DD1CD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DAF40CC-9369-478D-BA24-23CE54DF588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A9A1492-94D9-4027-8805-61A04198867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325F6-1C7A-49D1-89DA-1E4859C97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D8214AD-C547-4B91-9B30-93ADFB5BA85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518A5FD-A0D6-4C30-A72C-77AA0038358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3058310-4E27-43EF-95B8-32CAA5BAAE3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FCAB14B-E053-45B8-9809-543CF2911D5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8BE17DB-8E1D-4E69-B6FE-13F1797CDD1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4EC1045-D534-4CC7-A6A9-B94B083339F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B4F4AC3-9C22-440C-906C-6D9BDA8CDC6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B3D044-4AA7-453B-AFA6-758A98A1517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A405283-C7D7-4F8D-8BEB-342E8036584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02ECF33-9D46-4F1E-B5FC-D458126CA3A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C3C91-C5D2-45EF-9891-50D5E9062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2CBFCD5-A667-46A0-8975-F5227BB1D05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0DCABD4-1BD9-4D90-BF4B-52EBDFB460E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7644DE4-0349-4889-9DF3-9C7ADEDE5D8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69FC04D-5712-4697-A8A6-A8110827B4F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E7F86AF-90D6-4F23-8FA4-23BE03073A5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21268BA-4147-4DD2-BC46-F58948A706E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6DDE01D-551D-4C04-9685-1BEF1FADE69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4ABF274-B4D5-4F03-BBBF-23F15CA2A7D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B8C1407-71C7-499E-A637-7B30070F97F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E2D39E9-A7AA-4EB1-87B6-ECCFACE4EE8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1D34D-E22F-41E5-A319-C01980586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DDD7480-050B-48EA-952A-24DC7A914AF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EF02912-D622-4A55-ADB1-BDB6EE0824F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FE93140-9916-48E5-9A18-A6D2A47AEE7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944DE6F-DE2F-4D5D-BD51-C9E4FE4A342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90AC61C-CE41-4125-9F88-2BB3EBD3889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CE98729-7217-4B77-8BB1-B23EDFF69A8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6AFA6E5-4637-47C9-996E-B3AE89C7CE2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151E99B-0A27-4347-ADE1-306715DC05F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FF684F2-4D31-4770-8764-80B91CE1B6A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F786A67-304A-400D-BD4D-657C18225D8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F814B-AA15-4CDB-888D-D6BC0ADB6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DE205D7-CD25-4B08-8C7C-3A096F31E18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54BCCED-F5A8-47E7-8625-2C0C86690AD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4DF8FCD-3E9B-4AFD-9EC0-AA9E7466594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3B4EB03-782F-4B6F-8EB1-D63EB064EFB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9051C4F-9898-484D-906B-F41C22F55CC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47F96B4-1E81-4E54-A039-1ABA9140760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D371880-CEF8-439C-9858-3C23A65228F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901D886-2776-4446-ADB0-974C1BF9670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D5E1A63-578D-402D-985A-9B7129375A1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5BD0FAA-FE5C-4EBB-8DE2-BB2AAAFF5FB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E7049-A3E3-4C5F-B055-0E53BFFE3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7799651-DB60-4ECA-B65C-1CF860E66F2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A2A151D-9AFE-4B4A-90AB-2C8A0737547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8CB25BB-4506-465F-AF3D-D47DC803BC5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BE65244-9879-42CF-8F3E-6481D139773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5B63835-4082-43C7-9419-0CD73B6B5E9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ABC5F59-2B29-446E-9228-3F57276801B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6C4918A-469C-4647-80AC-4C9DAEB152A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5AF1E72-529F-44C7-B296-B898E0FA667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ADAB2B1-2924-40D2-83C4-0D88B624662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27D0DED-F068-4425-8F7C-81902D5EBAD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56085-BE6A-491C-B7A6-80A77E74D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D3C8E09-2DB1-4158-9256-3CCC89938F0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B7E2B8E-69E6-437D-BB0D-A250C452605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D8597A5-95AA-46DB-9371-DE3727BFD9C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96158C9-1405-4CA4-A870-C63355C8A3F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FEA539-EA32-4443-A0CD-E1D9C7D0AC7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6DFE6A4-D173-4042-B17B-5198C6C1B03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0BF68CD-43B8-49DA-A324-983B6034C39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1413223-524D-4045-95D2-411C0138F86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9772369-7DBA-40D2-B5A9-C1E12258833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2126DD6E-8168-422B-8C71-4ECC5BBB8DB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C6874B-005A-4EFC-BE07-EEB2428106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DF2B801D-33B5-4162-AC17-178CCE2F35B1}"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20DA72D8-8692-4848-94A1-5041F3F89D4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3F2C332-167D-4941-B4FA-B73984B658E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5CEDDA3-7B19-4E2D-A1BE-5841802B478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7BFCE98-B13F-444D-9076-085E7C6B348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C4E610E-4F9D-42F1-8FC0-9ECD0E40A2B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2201CC3-3104-4A50-991D-40A2319B325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DCB7A61-FC66-460B-A336-5FC001C3DAA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EEABA6B-46EE-444F-84E7-44E5E52FEE0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88D1141-6624-420E-812A-05F1B4DD8B4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FA8DC-9900-4F9C-93EA-8006EC04FC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43818B1-4598-44C2-B129-07F0F6686E9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F372106-E579-4FF0-8A3D-2FBFA9188B5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361F911-F3FB-43A3-B65B-5C9DED30917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FA48129-E722-44A9-B038-CB416C2C1DE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A28382C-7C2F-4191-8065-A57B887DF57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7ED2F8B-B69E-4E3F-95F8-E2CB4141AF8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235DDA2-5445-435C-AFBD-6514C98A6E5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3432B28-454D-4D35-A7F5-F0CD4299124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4475C4F-D5F4-4C62-B932-F715ADD76C2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A79E9F4-F82B-405C-A815-0AB9CDACD9E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5612-0150-4D4D-B04F-DA14E698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C7D16-BBFB-4ABD-BDE1-A8EC8B7B4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577F2BC-073E-4570-B58A-7C184864227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014098B-666A-4E6A-8DAF-EF39BCDFAA0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0D6EDED-81D0-4E29-BA94-CE8B54F71EA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7AEF8A8E-9764-4709-9DBA-10144DFF762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8BE6A87-9896-4FF6-BCD9-30CD7E14FC7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79985D76-3196-4D34-AE08-34BFE3B98455}"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C6DB9DE-0DDF-4226-A01F-7BDC15D2B89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EB02442-0A28-4A19-B578-AB41791135F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B3B32EA-AB8C-46D7-A4D8-15725CC4967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16DD636-A9C2-415D-9351-0AE9DCEEFB3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1F98A-1453-4D33-9C82-536538DD0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CB8DD85-32F4-4A93-AE7F-21CBCE9090E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22BB9FF-DDA1-410F-BEF1-E3B1D9018F9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2EB978C-DBDA-4C11-A7D1-3201187424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871EA9E-994C-4BFA-ACEC-CDC6A40EB49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4F82680-3E96-4CEC-A7B8-F708E40C6F9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F24C025-B315-4FCA-9A3B-8DED0EB4343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2174B5A-F948-4EA0-90C1-FAED6AA6928C}"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9C22D542-892E-4D2B-9F58-EC589CD6472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5A06D18-1FBA-4470-8D27-755C986290F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B181A10-C056-4355-A607-F5CAFFACA87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83B7B-2A1A-4A3F-B53A-A7872CDCD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C2F7FFD7-50D0-4B68-92AB-A793C1090DC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90703D8-BCEA-40C6-B67D-14B3949F88F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64D78EF-68E2-4F37-9D33-33972A90188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25921DA-7D54-46CF-9A3F-FE31CCC1E59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6403AA7-D2AC-43C5-A1D5-79C8694A5EA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D4266AF-518F-4369-AF4E-AF5BC4F1CCC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B9CEF49-4776-46E7-A5A9-26DF380F8E9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456AF363-0328-4D91-AC05-6D1DFBE4226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A3C2004-9602-45FA-AF97-BB6CE647C55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13676B2-6E06-43AC-A2EE-6FEFD7AAE346}"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B8F56-BA9C-4ABF-B494-89A30D368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D4A4039-989A-480D-A5A5-C473C1D5F7D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4DE8255-8C32-47BC-BE53-582695CE744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BE0F21E-E8E6-49E9-A488-62E6D0FD601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AAE1018-A10A-47A3-ACE7-301463B5A4D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7F3F84D-096A-4228-AF79-738EDEE5D0B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5B1556C-6478-45F0-AFE3-6DC6334CC7B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F66C410-992E-4DD7-9BA3-414B8D52E8F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1FCB300-D53E-4649-A83C-C0D3BB2BA83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56E5568-23B6-4B7F-8A36-187D8C7923A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94C7300-D548-4F9E-9481-11499FF18182}"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E831B-D3D0-49EE-9D29-ED368F99B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712162F-4B75-45FD-A72F-D50C3F34021E}"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45F90EF-C18C-452D-AD4D-DD8E93E1995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AF89F6D-BBD3-4AF5-BE22-EE79DA1D3EF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D9573AA-962E-4C0B-9A49-AEC37BB5492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5BF7667-ECBE-4C2A-A2AD-4C69F9EF424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35BCC8B-D12A-4C95-AFDA-EA69281D4BE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4DB3320-B875-4604-ADC5-7DA8459EAA1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5B9944C-5D31-4BE5-9BB1-BA62B4B9F5C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A5B5E35-DC38-4481-9739-0D0831AC6EF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44A03A6-521B-4C8C-ABEA-613260344E9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FFA0D-43E4-4E78-90CE-B6F9176E4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E333187-B66A-4FA6-A4F1-479AD5D05DA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42EB9DA-8CAF-4D95-B08A-BC7B9F92DFF4}"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776D35C-8513-4AC1-A76E-883CC52978B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A9A7D42-E294-4AE2-A804-D982D3A0C47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FD1A7DC-5A40-4417-BB80-D1C9ACD8110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1FABD4A-E69A-4A30-B297-BC5266C375F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C828DCB-4649-4EB3-9B82-EE21464D47C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E1B1AD4-7817-4536-94F3-A470E7A2CF3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92100B8-9398-4323-95A4-0C1A666F0E2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5984529-C259-43B4-991F-4A7A4B3086E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2F30E-4E6B-473F-89BF-FFD50D79A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117CCAC-E039-4014-B590-CD9B282B33F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B6BD94B-BFC1-4B60-AFFA-66034AD5A32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126AAC7-B3F9-474F-9E7E-1A858B8095F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68036AF-4EE9-4B32-932B-CDDD12D2C1E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0D6C7EA2-E6A6-4A91-8AF7-E8016CCC74F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B0B834C8-0540-44C3-A155-0457735FB94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D6EFD3E-F818-45E8-BC07-F23F591DC39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E3B7D13-7851-4BC2-B6C5-C9CE1B59D8E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8929968-547E-46B3-965A-F7B8E3F2B2E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C4BC885-F0F9-4D51-B716-BFFAF138390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C2AC8-9871-4D46-9AC6-ADD5B1646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E4DFBE46-58EE-4F70-8CCE-09DA94038BE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812050E-9524-46F9-B105-3CD8638B16F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5C4FA9F-9B1E-4DE7-93D7-673DE52CC18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BD43CCC-7610-4A75-92DC-85600009E09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AD267D8-F609-4BB0-B5E4-CD8B16F9DED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95AE05B-8262-4EB1-B0C0-4E38C30EED0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D7E6EFD-0D1D-4485-A148-6CD388E3ABB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D971494F-F435-40C0-B827-ECD31EA4187D}"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1AAE4C7-BEBA-4AD8-AD6F-6EF5BE68C71F}"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6DDA1AD-BA4D-4C0E-B4F9-335EB7E44967}"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054C8-640E-41B0-8189-D3B0E3332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A09D17F7-3E49-46D2-97C5-A0053288135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EFB5CC2-45A3-4D43-A7C2-6E6A5769880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8B48B15-9FD3-4104-8655-92F6FE52461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FFBE868-01C5-4D33-AEF2-6F70EF83912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EE459E9-1C2F-4F31-A886-6461E5E6B05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B96699C-69A3-4CB3-996C-31D48F8B21F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F724539-00B8-4E74-85F2-9C7BC625121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24EC4E1-3AA2-461B-BCB4-9925817A0FA5}"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97F483A4-810E-4883-B894-FC5A81ABB6B7}"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343178C-F6D3-425D-9E2F-4586394EA96F}"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B69A75-8FED-4E26-A23A-F4E3324168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C8F0091-9846-42B7-9D30-09EF803DE6E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F9EFA40-4816-48BE-A76D-EC1BC3FA3F86}"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F4E89AAA-E7E3-4A25-AA77-7E06ABB816F5}"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89829C7-7DC4-41E2-9703-243E02B549A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8B817BC-957B-4782-9FE4-B508F3FF54B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69912D2-A584-4192-AF5C-196B2C24157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D53A9AC-08F7-42E3-BE35-05044FB4DF8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618AEDD-D655-42A0-B5ED-DACE77C3B9C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F1E855C-079D-443E-BB50-1B71BE48F34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35C464C7-8B17-4B01-A76D-84CBD2F41AF0}"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B2455-264B-4435-A326-521416B2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3AC94A-DBE8-4344-A33B-6922DCFA39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882B1D55-8EAB-4042-B03C-2C3E33F268A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3C7C425-FBDB-4F2E-A2E0-0FDEE84EE25A}"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8D3AE43-010F-41BA-808B-CCBA84A2E20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3CD34F3E-1806-4917-9F26-B796BC4038E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57C5F4D-0804-4193-9AFB-C77034F1A3F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E94BB4A-4091-41BE-9575-B7516D66E060}"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340FE3AB-8486-425B-91E4-101F6126691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FC122BA-7549-4984-9D26-E75F4793A7C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92B330C-2080-4B6A-8CD1-C2064895FCD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31B578A-3D3B-4333-92A7-8FB174DA9C0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2DA8EF-2CF3-4EA9-9BEC-E6704AE34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B6F35C6-3A87-4903-8399-069F63F30FF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6B2850B-D333-4670-B6A2-F35C9D1B185E}"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1B81C163-E0FD-4FF7-8BBD-50713C6445EB}"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8C26688F-3D31-4E1C-B2BB-116036D05DD5}"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30CABFFF-443F-4D25-824D-E79DB025BEA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6ACBC8D7-14F2-4D0D-B971-2D5CC668DC1F}"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2455063-2543-452A-A09D-912F67B9583A}"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8F83C8A-BF2C-4CE5-9FCF-5AAD6C02A2E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1355907-9DCB-43E2-A592-D5B8265840D6}"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E87E7C9-AB65-4AA9-8704-2DBD8CDD602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70D14-6946-4A7B-BD08-4E91725F7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5C200B5-4A92-4C37-9F29-548D2FAA8D2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5505C41-A596-49F5-B726-592668C782C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F34DBE1-D66A-4803-8528-BA6D3E5D758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B7B22FA3-A5E1-4D99-BCE0-4625B5ADAB1C}"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E60B0069-39B0-40F0-9C17-4A8A5A22D2FE}"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F01D966-F648-44C0-B7B0-B86C22F4E12D}"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ECB5E42-912C-4076-85DD-4666D20A8A4C}"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129CA887-CCF3-4A2E-87B1-2342D8B283FF}"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542FC7F9-C811-4B1D-800A-E7CFA742830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2232054-0F38-4451-BD42-5AF784BA6B1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1E202-6E43-419E-BE54-5929C1AB9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BEFCF57-B86F-4CF2-8DE5-678C3DB46D5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04D0961-8827-4E05-B5EC-D38F58D5238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D726F31-5CF8-48D5-80F1-46195C968EF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AF8F833-7902-40E4-8F9B-8074C3E315D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B5DDC20-F661-4AE2-B48B-D52A7D962CF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752478F0-F46D-4330-8F09-30FC1CAF65EE}"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0D7F7360-A873-4870-A9FA-BC7C496486A9}"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7CEF4919-5A8A-4B36-BA32-C81469E207CC}"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5FCCEC77-50D7-492F-AA14-2B66B313B86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3153C87-F64D-4FA7-98A7-A4EA2134B6F4}"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FBF34B-2FF8-42C5-8619-7749E663C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FBBC5E67-56F6-4401-BB8D-339F8BAADB8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26DA6D0-4330-44B7-BB9C-18417028A7B2}"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60A1877-BE22-4D3F-A250-99C431C4585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A515C01-52A8-4CBE-B06C-CA4726E0C94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A8BE6A5A-CEBD-45C6-9839-339A4579F88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BE82C997-90E0-4A70-B7EE-2FD386A6872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E17AB67-76AB-49CD-B8D8-95CB9E03299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740108A4-DFA4-4ECE-AE69-000DA0707825}"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4CD22C84-9C3B-4BB6-8374-FCF0EBC5B91B}"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0DF12ED8-17F7-4CF3-BC89-0514AEC639F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A4965-0586-47BC-8779-51047BC43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247A396C-39AE-4BA9-A888-21F305F2E28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C460F3F-8C40-495F-AE40-616458BF757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62DC09D8-2EE5-4852-A633-DFCDF4C07CD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AA24039-D6AC-4722-9FCE-D821B9DF51F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98DA59D-E19A-4056-BDF8-220F1C4E447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76C4F6C-1EBC-4AF7-9579-CECF54188B1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E78C7A5-700D-473F-AB0E-E61B5CFEED0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4E0036CA-D203-4536-B1EA-0F7CB4969F1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58ECA359-A624-4816-9873-2D7DC4F2B14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5D9AF219-AAA8-4946-961F-10792A4594E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3E399-B671-43CD-A1CE-F2817E7E5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ED48C3D1-5782-4E6D-8D55-7D59AAAD6665}"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3E7950F6-DF6B-414D-BCC2-BAF591D23206}"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11D1417-A480-4F38-B83F-6F005913EB90}"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2F7DBB84-F8CF-493C-B614-D981C7BEB820}"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B65CD609-FEE0-433C-ADAE-8025EA3AE30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3EF4B033-13BE-498F-999B-F4DE331914D2}"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398FCA0-6DB6-411F-A3FF-E10BBF4E7617}"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6107BF82-7FAB-4B61-8473-B461668C35D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23766A7-D6A4-45F9-8652-1B98FFECD74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919679E5-1FD6-466E-8B33-1828B84633F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F55DC-81A7-4115-8AD0-33EBBD5E6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FB87CABE-43A2-4ABE-8A2F-A5FCC67A6EA0}"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E750FACA-2F84-4376-808C-64CC7D3D1C39}"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509C30E3-1814-49CF-8C7D-FCBF7705D26D}"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0A2DC5B7-2590-4C12-BB34-3160F4472766}"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2622A758-44D8-4679-BCAA-5D6AD232B805}"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3B162DDF-5EB3-4AE8-B63E-01B7524914F8}"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B2A2FB0-2577-4123-9422-BE38E2D7E8E3}"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7CE59C72-7C9E-4EA5-8738-3C01CF6599D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65C79338-696C-4870-B898-2B8A8F08900C}"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D2D43E4-A131-423F-8AC8-9B69C9635D1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F90C9-F19C-42C5-A628-E78F3694F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E409E7E-8B7E-426B-B0AC-81B9E0CA649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1076E6A-AE0F-499E-8FB5-EFDC4DF7678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B75AFEA7-74CB-4FF6-B028-BB2070AAB468}"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D00B7BF4-62BC-4DAA-943F-F7EE53E866BF}"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CDD19CB9-0FEB-4627-91D5-BD7DBF2ACA0D}"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642D8EC1-034D-4D83-BF62-6AEE473F68DD}"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3E805F72-B04C-4997-972E-47B23FADA1A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5F684D7-744C-4F9D-9A13-D43C3DD703AD}"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1F04B11F-AA54-45FE-B593-0D61317801D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FF3FE96B-BDF5-49AE-961B-FE6EF6F7DC8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82D1C-E929-437E-93A9-34CA63880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2A541E55-04BE-4FE2-B2EC-A975E5B6FBF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EACAB4AF-0364-4E3C-811B-656D269B2719}"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A7D2BCF-1531-4172-B858-828D5CED7A09}"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F8AE4F9-6DC9-4B91-886B-FA5D24A4949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49B255EA-1195-4F6E-86B4-86D8F0419FE7}"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3E3C1A7E-3E6A-4BD8-8C2F-7088E957E8ED}"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89E8A510-CF47-49F5-88CC-44835337D613}"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71F50CD9-548C-4742-8550-A347C2FDAC63}"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DAA83586-C6C2-47BE-899D-FFD1B1BE007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C20DBB20-3FBB-4A00-8768-8AAF33F418A4}"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02F7-0B9F-4EDC-B87F-7752548DD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E3D63-E984-47AA-8140-DFB34BE2B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8DB4F973-DD9F-4446-88AA-119EAD1EA1C0}"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FDBC8E45-4C5C-42B0-8653-D7088C502D02}"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4E670EF1-AB2E-4E56-B777-AF9CF049394A}"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CF6BD8F-54E1-4095-963B-6D65F7F6E11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F7C5A1B-DCEF-415D-815C-339BA3E1E5B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1F1A25F-37E0-43FD-B6E0-E08098FF3B3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C7E2B68E-2B88-4813-8937-2905E0116FFC}"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3BFF1673-9E4F-4D0E-986D-2E59107501BC}"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422DB23B-9AD2-4CBC-9293-AC1E983FE56D}"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1BAF9896-26F4-44FB-8E3C-9D851D65A788}"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9B7983-89F1-44BA-8D84-471A7404D4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488D7870-5B93-4084-8CDD-14803A2D1A75}"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56A20549-D75B-49D4-9296-DC001A8C180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51F8091-6054-4C67-8136-EFB294B8589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B7DD8E32-C41B-4140-AC98-66DEC95B7845}"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1DCCD12E-2373-46E8-A31F-6043DD5D7934}"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87211FF-8B06-48ED-BD46-CFD64960C35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4A682EB-718D-4FFA-8005-15C7EFB869F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828EDBA-897C-4B47-A5BD-A841BA17559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D5C65D47-2B98-447F-B765-B1BE4441C2B7}"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FA52A3E1-B72A-49E0-BDB0-7FC7C34E3DA6}"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07B749-E9FF-485C-A4E6-794CD71EF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BCAEAE9E-DF0B-4B98-9EAD-E1FF07A8A4A9}"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A13822CA-0080-4D00-B1AB-2A6E1119A318}"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116BBBF-3DE1-4481-852F-D5EABB49460D}"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37813C4A-0341-41E7-A044-0C68E3E56F9C}"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A40B89C-1A20-4BAF-879E-1758F70ADCB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2B265A9-2D38-4630-91F7-C2BDE1C60FF7}"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159EACA8-531D-47E5-8189-35A66237F0B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AFF5C42B-87E0-4F3D-8ED7-8952E4BB61F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8122654-8134-4FD4-80C1-0DE8329C32AF}"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1F769A3-78E2-4AF5-8C46-4CE42D87C53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48E09-BF4D-402E-A543-6108678F2D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7BEA3F4A-62F4-405C-8CDE-DCE928F5AB23}"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3796BB84-A751-4C89-8484-F913A26C315B}"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668D7074-4949-45ED-BD73-0E2A8E8FEBF1}"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80E0FA65-9E64-405A-9B71-6ED3A66451E1}"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F2ABA5C4-A576-43C8-B2B7-8E2354FF26CA}"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ED21F604-BADC-4C5B-800F-F61DEDA7500B}"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A81AE55-8FA5-42CE-9776-BFB5CCBE7B90}"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80D75A27-5F7F-410C-B1CE-EB32C5982D43}"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D6910527-2429-43F9-A38C-6714E8C689D5}"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7B5A472-838F-4782-A888-983B749E3DC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1DA39-7E49-4167-9FBE-56F50E196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2BC8EA3-8A36-410B-B4BC-029A506DB5C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F79EE7C5-DD28-4DBF-A3B9-2B2D3B731E9F}"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C822824-5A08-417F-A17B-C0EC355F9D6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95CA09AE-CB23-4821-AB3D-D64218CB5102}"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9FB3BF5C-9D96-4E8A-A00E-527747A5DFD5}"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9057813F-6B54-4868-AB6F-DF90446EF19F}"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EED741FF-BD34-4379-B93E-C43CEFA28AEC}"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23BE7D1A-044E-4EA5-9342-59FF6A5EEC8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0086FBC7-FA53-43F8-B975-0A1982D94B31}"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22401C8-3B4F-4B9B-A9C2-8075BAC21619}"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2873D-2F55-485E-A285-003DD1A80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FD73C1BD-095B-473B-B8A0-45ED5971B2C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5166A4E-2923-42AB-B830-68E82D245994}"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402F749-2789-4A83-8BF4-0F120D8ABB3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ADE5961-77C7-4B10-ACD2-7AAA5C5C7342}"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BC42F78-DA43-4A96-B15E-243C159C805D}"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108F44B4-66DA-4505-B91D-02384F02A456}"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D2C539C2-1D91-468C-9A13-3AFAF9A0DA48}"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E4741626-9A2B-4E94-BDC3-E0416AB5120D}"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CAAFC497-DF69-40EF-A92E-259A197FD360}"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26556574-E045-41EB-A01E-E152DC3B1A2A}"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58776E-A603-488D-9C95-9610B6945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6B2A4F07-70A1-46B3-B865-DF4612E673B7}"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46932014-9107-4D84-88DC-3B14C308C59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DA0FC2B2-EE68-44DF-BFA4-EE68F0E74D6D}"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42CBFC8-8BBD-4588-B029-24028358A44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B3B83D2E-880D-4E4C-8462-628B9F067E05}"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74160D6-D236-4744-B131-1CF6913DF349}"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28FB982C-AB5C-4D1D-BE4B-6F2306C1A797}"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7D57A3FA-E6DF-4237-BAE5-0EC2580C68A8}"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0A59D1A8-DFF3-4835-9C0C-B1976D35E781}"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75A9A14C-4ED0-4AB6-9585-DDF4762DEE64}"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2560B-712D-4D9A-B5A8-87050C376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FACBCDF-B255-4C93-B576-4AF981B62CC9}"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F512E80-0B4D-42C0-BB0A-D89F2EDD7E6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D606A56-6F98-46E8-9FBD-F2D55D46F81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D958DB3C-E0E4-4E16-8525-3D02D16D908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14FF6AC2-8A9A-4759-9BB3-F943389D773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24EA4B57-AE3E-4166-B1A2-90BF3DB6508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D9C72B00-3503-4FA8-B418-6CDF9F5F6D1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D585EE62-086F-4C8D-9A12-0B84FF3B7AFA}"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7ED65FA8-2290-4F86-A206-7CF8BB8A841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ED620587-B943-4844-BCB3-FD8CFD8DB9D0}"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BD1CF-B502-4008-B449-072C5D17D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169A3ABB-B295-4D1D-A9C8-F89E4FB29CA8}"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BA2D6428-437A-42B0-B42E-CA45EC206802}"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04352B2B-F199-4B3D-9C78-B04C38B10CA9}"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EB1F0854-7043-4DEF-9B71-655F6571C06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3AB531C7-40C8-4F75-8BEC-89F1E5981C07}"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A123F29-8FDB-4165-AE54-DC2664EE7699}"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1A1031B4-18D7-45C8-B6D3-E9CC00646A77}"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D18E2A4-AE13-492D-8B78-CEEE8DD34100}"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2EA3F2A-8D41-4DF1-8D11-9B96312826B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1222C75-6274-4687-977D-2ED5CDC9FBE9}"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A4C3C-11F0-4102-907F-3921CB464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4154C1B0-A8BF-4849-90F1-6DD02792D76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C85B76D0-F5E7-4815-AC65-67FA0D7ECBE8}"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0F7068E1-AB58-4A7C-8412-C4DFC47DBCD8}"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17AE7386-7D83-4BA9-AFEE-78CFC68F9FC0}"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76A062BD-7C10-4055-8008-480F0FE0871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B01866FB-C771-4C34-B5FC-28B4B1EF12E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07886366-E69E-4C1E-AEA5-49410BA33C6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375E473C-C7AF-482F-8C7D-5D0925243BD1}"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AE852E81-1E5C-49FF-A07F-3AB385232FCB}"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B73C9195-D9A3-41CE-9D87-17FFAB45C8E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2D49-C6D7-4C7E-9853-F8A2349E5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A673B-525E-4367-9DF6-95B3ABC05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5D9078BB-437F-4230-8BA4-197F57F10E1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12B51757-51DF-401A-9AEC-07795B521BB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800FF909-DC42-4139-97AB-1749C85A2D4D}"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3E61FF09-6C3F-423C-9343-81C59BAA6952}"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8CFB0F13-A410-4D74-83C4-F2E59D33AF39}"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2BFC916D-D49E-4953-BF80-D4B82F5F4B16}"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F13A4EC-2C60-4F4E-AA46-A69376C38EA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0F54870-A535-4D87-9AE0-EB8D04A8E4D1}"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3F6B662-D72D-4841-8B6F-AA3644222B6C}"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074351E-31CA-40DA-89A2-9AE03E55B70C}"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185CE-B035-4875-88CD-B5ADBF16D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76FF696-6211-4227-9FCB-0B5EFFC113DE}"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21B8C76-A6DF-4D1F-9115-0C13CDB7F31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10E6DE00-2F8E-4B4A-AEE5-B4C68ED1752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4589A37-07A5-4A15-A8A0-A0EF48183F1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AC1025CD-5190-4813-9DBD-39735E7F2F10}"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E2B56834-0ADB-4FE1-99F9-0AE64C73FCC8}"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5A9A3836-89C3-46CC-8E0B-A13A03C7AB19}"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615DE3F3-0A10-49E1-96EA-7D2DED52E653}"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C8FFC952-42B3-4800-9BDE-BB969C64DC22}"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A9896042-AE8B-4678-93B2-36B5F65468B8}"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FC9D1-87C8-49CD-835C-DD267E942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BDE3FBC2-BBE6-42E0-91C3-22B8EC131F88}"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5519B205-793E-43FF-9144-0CB687634137}"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9E32B57A-3A99-462A-9027-241EF5CAF859}"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3956295-33A2-4421-B5F0-02A0689FBA67}"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48588E0-AE1D-435B-9942-3871939AAD91}"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85B7179-AD17-4609-AFAD-9A6E933814F9}"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0B0E4E56-ED73-46A7-A95D-CDD4B66FE75E}"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EFBC7BB0-F9B1-4DE6-A0ED-D2D54C9FF736}"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0E743A90-1407-4037-A406-4AABD0F2FE35}"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2EEA84B7-DFEE-44C8-9643-7FC44BAD2CAD}"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44DB39-6080-48BE-9F4D-5E1B4FF58D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0C3B1057-616B-4015-AC11-CD61D2085A83}"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B78A52BF-4EBD-4650-8870-B324557E78FC}"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8D5F98F8-E5B2-4C3C-A4BE-4234F4E7C08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74729311-3A92-4B90-B4A7-117BADDD57F8}"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7A6B6A5-5611-4B53-B89B-4DB9222E090F}"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E7612073-5180-473B-B068-203A2DD9439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CA0ACD7B-7CFA-4201-9AA6-76DE4E4B940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3FF7E652-A616-4CAD-ACF1-EDBE740844E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5C174E87-ACFB-4793-B3B7-01ADC54C65BF}"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53707D9C-BBBB-4479-A669-F066E2C217C4}"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6EA5AC-F347-4A89-B245-ECE5F06C17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AAF0A023-D801-444A-9A66-0ED5D05F32A6}"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E919D80C-03B9-4A2A-A96E-33AF272FC1A4}"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FEB37AC-3423-4235-A1D8-BAE76A73B6B5}"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FF591BE5-8552-4960-A20A-F0C07634B96E}"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F2546C70-F426-4A4F-822E-8BA13E534E5D}"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BB52A59C-555A-4212-829C-EC1F59D924ED}"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F26F840B-159C-415B-9F69-EC334596D14D}"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AC3F2E7-4D07-4DED-B0C6-C853FB4A3603}"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5E73ED3A-6071-4A84-838B-91B9E801F169}"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31884C2A-9AD5-4E3A-B8D4-588700F78B8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2430B3-CBE9-402A-8615-A1259CB7CD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CE1F4132-2F38-48A5-BA17-488BCF45D82C}"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BFFD4CE1-9464-47D4-B97B-95042A0D963A}"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9D73EEDE-4DBE-4A95-AAB5-9EC49F9BA31F}"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70DAFBFB-AB4D-42C3-8790-A92A0A0CA0DD}"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1A9A525C-815C-4420-AE0B-98DFE38CEC8A}"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DD35C51F-958D-42B6-8CF8-E4DEA0BD8029}"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C27F13B3-5110-4F73-BC54-25A4DD7F1E9F}"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02ED4917-4E74-42C5-99EC-2251BB621927}"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38A7C2D4-8F26-4EFB-BC8D-0EB4F2F16199}"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CCDD8C83-0329-45E4-BD1D-8B27D87A83E1}"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81CE9-32B0-4CEA-A913-D10F2BB4F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2A7CE04-993E-4F77-9E91-066DA6F467F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D038F960-CD35-47C3-AC16-0C639A97DEF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FAC809D-F3B1-40B5-938E-6748DEBFB01E}"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CFC18B68-7E4C-40BD-B6C2-A8405144E0B3}"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1D7228E0-FCA1-4990-A6ED-B7A43CA497BE}"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C50B2DC2-36C4-44C3-98FC-5BE8EAE239E1}"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A2F44FFD-5B2E-461B-95CE-FEC55E793BAC}"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5F7245A3-C636-402D-879A-19F34E509EC4}"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9B6BDF06-881D-442F-86AE-27A42F75EB0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E18F8D8C-3BC2-4CF4-826D-8065888F6E26}"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FBFBA-4F44-4BB6-924F-49EE25C3CB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35C93EC5-4DB0-4D9F-B65A-891B51427FD5}"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40FF5FF-4033-4CAB-A8CF-5933BD214A3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A90BE0E9-1E0E-4E6F-B73F-AEFF9BDF4149}"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506A624-7047-4790-B23D-4C97EE901079}"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38893B31-7AEC-49BB-AED1-523017C2FFBD}"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6AF4C7D6-969D-445A-93E6-ABC2BB9E8E89}"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94E4E4F8-B007-4CEE-A385-63360A7646A4}"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770681DA-D40A-45CF-A744-46B30EE15C08}"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B6123D84-CF70-43C6-BE60-5DDEDF83453E}"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50022ED6-6E1D-4F4F-924B-158FA0752C0D}"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DF5BC5-2BCF-46C6-8748-66DEE972C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26FA8542-ABFB-4264-90DC-64D3983F234F}"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FCBF16D9-8DE7-4339-B19D-49A83DF96B3F}"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72A8E75-B2E9-4EED-9B5E-5F78B4A2BB3E}"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22F3323F-F365-4A35-A808-1C56DDC89FEF}"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30D260E0-01A8-4E0E-9092-9F241974AD40}"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F7AD2F4D-D7AC-4D13-B135-9DEE0510AB5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FFE20C69-B00C-4AC7-A756-63E9F7057B55}"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661A7787-3B50-48F1-8718-AA38D918E726}"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28C53860-2D4A-44FB-A674-43C54124DE32}"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3BF48F1D-3110-4B91-801E-C2CC92A42AA6}"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747AA-E9CC-4B06-9CD6-76E0E5E01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51E34C40-7BE1-4566-8E85-5A609D8A9F0F}"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F8C9F999-ECC9-4B36-AFF1-7AD6E776A38E}"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8A1054E2-0013-432A-8EA7-ECFFAE583EA3}"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A8FBDD86-68C9-4479-98D1-60E36050F533}"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51F0725D-BCB3-4893-B901-7393516C205A}"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F1EF977-4645-4353-AF6F-8D452102981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E53D189A-6F81-4ED2-BC2C-26EEEF4751A5}"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230C2C7-EE3F-49A2-B6B2-D43AC7D6AC74}"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4D3ADB96-EF11-4C52-B74D-044947681C80}"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1069D29F-07BC-416C-B435-C676D0E612C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5CC0-CDBB-4BC2-8777-941DDF80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B9103-1D97-4A40-9CE1-AA26885E5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A4D04121-A532-4944-9647-C98DBFB65DC5}"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6FDC47BE-30F8-41FF-8FFE-1BAB10A40668}"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C7BA1522-3BE4-4537-9931-A555500425DE}"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32D80F14-1725-41FE-9953-3927128579B1}"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63B82BE9-0054-4F8F-A1BD-ACB73F68516A}"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A5363DF1-7DDF-4C39-935C-747D1E07AB34}"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247BC040-33F7-4786-917C-3CF6924EDD10}"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28CBF72-53C2-42C5-88B8-26C26AF56B3E}"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D052DA12-48BF-40FD-B80E-AA2DF98014AB}"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CA0706FF-DFB9-4743-9DCE-DB6C1ECDA091}"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76ED3-6F6F-4D5A-8868-CFE161E90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7200B3B2-69BA-4281-A580-BFAF0F4F0C53}"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B15D2DD5-BCF6-45AC-8008-91A0703A86C0}"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AC17E09C-57B7-4E14-A161-E68AC5832DE7}"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9DD1CDCA-CF0F-455D-9DF2-D623882F14E2}"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A5F9BA57-2A38-442D-B931-36F5D20A2106}"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EC31E9CD-78EE-462A-B13E-AB7AE5E283FE}"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A54562BE-BECB-4163-8B90-CBC0998CF83E}"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36E73F96-1801-4394-8DA8-B18C5FFD70CB}"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54775DA6-2586-4EBA-82E0-950A26C7FAA7}"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7399A0FC-5834-44D4-83E9-85FC5F30B909}"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758E4-8B7C-42EE-A935-8AFC5F564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2978BBD2-6294-46C0-959A-073E0FEF9335}"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85436D65-C1B5-4710-AB72-14CB05E15DB4}"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F02EA4CB-1AD0-45CD-865E-AE28701C19F9}"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41C92FDA-846A-4E4D-87E8-C31905860891}"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923A9D32-5C4E-4413-9BC0-B184A85EA136}"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6665E7FA-A7DC-4966-B97D-DD9DB681F241}"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0F793405-20DD-4473-A18C-1629CB16FE71}"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03AD865A-D983-47AD-877B-CB757E853409}"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A30653FC-E003-4B3C-8413-3DC440C2CFC1}"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ADC2C5E8-53D5-47D6-8EAE-5D59E080AD26}"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4D0B9-BD49-46BA-AD49-9E93A00AAF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51827612-DF70-42B7-9A76-BFC7C1071066}"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107C3FE7-B22A-43D0-9E2C-646AA42BF269}"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FFA995F7-B0EE-47EE-8097-5F10C25ACA80}"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3A211BB8-9726-44D0-8AFC-64FB06B9C7A1}"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BD6D77CA-681B-413B-8417-D611DA63C55C}"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DF3D0826-AE78-4EE2-89E2-6DB47570EEE5}"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4D49054B-BE64-4CF1-9DF5-AF73EA574963}"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411DBB46-0046-4B70-A57A-416840B769BA}"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DFD2BABB-F3BD-4BAB-B4C7-E5237929B7A2}"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529B77D8-5AFA-415D-BA76-39DB1AF05AFE}"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D37FD-C931-4DC2-8681-27B3EE129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32D1FF6D-9334-4B5D-8BB0-8847DEA9F008}"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C66344EB-C4EE-4253-8615-04D0EACA5B71}"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6B4E1920-BD0D-41FA-90A3-279D316C3EAE}"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0C004962-110C-40EF-A381-901ED6D189B6}"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8AEB3F8A-4141-476B-B547-C1E473279F7B}"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AB2D5B24-A793-45A2-A3A8-93BEE5949994}"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5C80A2C6-A24D-4730-AA6C-FBEFF57F51E3}"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8F4FAE5B-9E72-452E-AD41-EC397CA3B69D}"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9151917D-04A3-45B9-BC6F-B381FA811C5C}"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6F16B288-CC31-42A9-9E1A-4A28AE4B1E38}"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2B9619-7E0D-43E6-9C8A-6E5362C1C4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C0A2C994-5A5B-47CB-86A3-6D552035406E}"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1F463B86-8012-4CAE-8E31-B3FE37E970E1}"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FDDF70A8-E61F-41AE-A628-6728841AE837}"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40183A31-D938-48E6-AA3F-AC1B7CA6C18A}"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8F652235-DB2E-47D4-A345-85A0A7F90679}"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3A11239A-5FBF-4E22-9777-6186DE383989}"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FC4B5F46-0FA6-4F51-9245-8C34D264DB07}"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AE0F54E4-DEE6-4899-92D6-98B03AFFA464}"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4A93BB82-D807-4BFE-9E69-FD01E340D366}"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4C51D6C3-0ECA-44E2-9DE6-BA2D5D9CB807}"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2BF864-04BE-420A-BADF-CA47471092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767D2758-BE14-447E-A36F-19DB22A662C8}"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505B9DDC-37EB-448C-A074-0111EF6CD022}"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A74E0299-CD0E-4397-A1D5-A3D414E533B3}"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CB10CEFA-A4B3-4A3F-94E4-85C63FAE61DF}"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DA0B6AE1-9A8B-4737-93C3-CB7C6EBDA433}"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DDAEE1EF-3EA5-4AC5-AE1A-07FF2854D3DF}"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1E924A80-5A35-4F73-9FDC-E4796FE63BB2}"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7A06014C-0D62-49A4-A848-1C31E09250BB}"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B4FA30A2-88A7-4E94-A067-DAE07F1FEE4F}"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D41C7C81-A2F8-41B7-BC44-72AC190FAE40}"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51BE4F-447B-4B30-8E2F-1AC4CDAD16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EE938DF5-DB8D-4595-929B-E6C12305A22F}"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057BA6A6-6822-484E-AEC1-F34C85FB622E}"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47860843-4678-45CF-8744-B57848068E62}"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ECFAB3AC-6D7C-4EB4-A1F8-5ED966889E6F}"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5677EB1F-B0A0-4A03-9712-8E5795B89ED0}"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C11173C2-0555-41C4-8970-727437786709}"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A55DC0A3-DDC9-40AC-A5F8-10C8ABD0EDC2}"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84B9624D-FF27-4B16-9BE8-060157222F96}"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FABD5170-EE3B-452E-8037-AD6EEB96373B}"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286D7E70-933A-4149-A29B-FDBADAF86A17}"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A3208-7A13-4823-AFEB-9169299BD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3D512007-7716-490F-A99E-F29DBDC6E786}"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5BE93C10-420A-4B03-BA73-A104C0E4AD95}"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5F8AA081-BB28-4FAA-B072-40151514F7E9}"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4A53E834-ED30-4EF1-BDE3-E6B907719E92}"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EB4259A2-0C71-425F-B71A-DA77E95D298A}"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3393DDDB-D6E8-4E16-84C8-947E7DE8D11B}"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2A7C6795-D437-4E65-B25C-D615233EC1FD}"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9A990984-CA50-40A1-8F40-162F1096E82D}"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1EDFDDC9-F586-456A-A1A3-F4E9F26D61BE}"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FBAA80D6-01A6-4F3B-B58D-4A8639771007}"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0DD31-2DE5-408E-8AF7-E03EC40FA4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9CB9CE79-5311-4CD6-A440-FA3CB7BA42D3}"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C9D07197-7886-40F6-980B-1D4F42082C58}"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DE27298-F24D-4FA3-AEA2-336AE56B610E}"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C08B8BF2-E862-44D9-8D63-00BE91730182}"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503540F0-87BB-4577-850B-7C157AECD4B6}"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A923575A-FEF1-438D-840F-360959A7C664}"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71945C65-9193-4D56-BDFB-B1BCA163A078}"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FD1D399B-A624-4F84-BFB0-EEDFAE057D9F}"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D0D11D8C-5E23-4DE9-85A3-E25ED184F71E}"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74677EE5-1E3E-4F85-BC23-10B4FC6BC455}"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201.xml"/><Relationship Id="rId5" Type="http://schemas.openxmlformats.org/officeDocument/2006/relationships/slideLayout" Target="../slideLayouts/slideLayout1202.xml"/><Relationship Id="rId6" Type="http://schemas.openxmlformats.org/officeDocument/2006/relationships/slideLayout" Target="../slideLayouts/slideLayout1203.xml"/><Relationship Id="rId7" Type="http://schemas.openxmlformats.org/officeDocument/2006/relationships/slideLayout" Target="../slideLayouts/slideLayout1204.xml"/><Relationship Id="rId8" Type="http://schemas.openxmlformats.org/officeDocument/2006/relationships/slideLayout" Target="../slideLayouts/slideLayout1205.xml"/><Relationship Id="rId9" Type="http://schemas.openxmlformats.org/officeDocument/2006/relationships/slideLayout" Target="../slideLayouts/slideLayout1206.xml"/><Relationship Id="rId10" Type="http://schemas.openxmlformats.org/officeDocument/2006/relationships/slideLayout" Target="../slideLayouts/slideLayout1207.xml"/><Relationship Id="rId11" Type="http://schemas.openxmlformats.org/officeDocument/2006/relationships/slideLayout" Target="../slideLayouts/slideLayout1208.xml"/><Relationship Id="rId12" Type="http://schemas.openxmlformats.org/officeDocument/2006/relationships/slideLayout" Target="../slideLayouts/slideLayout1209.xml"/><Relationship Id="rId13" Type="http://schemas.openxmlformats.org/officeDocument/2006/relationships/slideLayout" Target="../slideLayouts/slideLayout1210.xml"/><Relationship Id="rId14" Type="http://schemas.openxmlformats.org/officeDocument/2006/relationships/slideLayout" Target="../slideLayouts/slideLayout1211.xml"/><Relationship Id="rId15"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3.xml"/><Relationship Id="rId5" Type="http://schemas.openxmlformats.org/officeDocument/2006/relationships/slideLayout" Target="../slideLayouts/slideLayout1214.xml"/><Relationship Id="rId6" Type="http://schemas.openxmlformats.org/officeDocument/2006/relationships/slideLayout" Target="../slideLayouts/slideLayout1215.xml"/><Relationship Id="rId7" Type="http://schemas.openxmlformats.org/officeDocument/2006/relationships/slideLayout" Target="../slideLayouts/slideLayout1216.xml"/><Relationship Id="rId8" Type="http://schemas.openxmlformats.org/officeDocument/2006/relationships/slideLayout" Target="../slideLayouts/slideLayout1217.xml"/><Relationship Id="rId9" Type="http://schemas.openxmlformats.org/officeDocument/2006/relationships/slideLayout" Target="../slideLayouts/slideLayout1218.xml"/><Relationship Id="rId10" Type="http://schemas.openxmlformats.org/officeDocument/2006/relationships/slideLayout" Target="../slideLayouts/slideLayout1219.xml"/><Relationship Id="rId11" Type="http://schemas.openxmlformats.org/officeDocument/2006/relationships/slideLayout" Target="../slideLayouts/slideLayout1220.xml"/><Relationship Id="rId12" Type="http://schemas.openxmlformats.org/officeDocument/2006/relationships/slideLayout" Target="../slideLayouts/slideLayout1221.xml"/><Relationship Id="rId13" Type="http://schemas.openxmlformats.org/officeDocument/2006/relationships/slideLayout" Target="../slideLayouts/slideLayout1222.xml"/><Relationship Id="rId14" Type="http://schemas.openxmlformats.org/officeDocument/2006/relationships/slideLayout" Target="../slideLayouts/slideLayout1223.xml"/><Relationship Id="rId15"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25.xml"/><Relationship Id="rId5" Type="http://schemas.openxmlformats.org/officeDocument/2006/relationships/slideLayout" Target="../slideLayouts/slideLayout1226.xml"/><Relationship Id="rId6" Type="http://schemas.openxmlformats.org/officeDocument/2006/relationships/slideLayout" Target="../slideLayouts/slideLayout1227.xml"/><Relationship Id="rId7" Type="http://schemas.openxmlformats.org/officeDocument/2006/relationships/slideLayout" Target="../slideLayouts/slideLayout1228.xml"/><Relationship Id="rId8" Type="http://schemas.openxmlformats.org/officeDocument/2006/relationships/slideLayout" Target="../slideLayouts/slideLayout1229.xml"/><Relationship Id="rId9" Type="http://schemas.openxmlformats.org/officeDocument/2006/relationships/slideLayout" Target="../slideLayouts/slideLayout1230.xml"/><Relationship Id="rId10" Type="http://schemas.openxmlformats.org/officeDocument/2006/relationships/slideLayout" Target="../slideLayouts/slideLayout1231.xml"/><Relationship Id="rId11" Type="http://schemas.openxmlformats.org/officeDocument/2006/relationships/slideLayout" Target="../slideLayouts/slideLayout1232.xml"/><Relationship Id="rId12" Type="http://schemas.openxmlformats.org/officeDocument/2006/relationships/slideLayout" Target="../slideLayouts/slideLayout1233.xml"/><Relationship Id="rId13" Type="http://schemas.openxmlformats.org/officeDocument/2006/relationships/slideLayout" Target="../slideLayouts/slideLayout1234.xml"/><Relationship Id="rId14" Type="http://schemas.openxmlformats.org/officeDocument/2006/relationships/slideLayout" Target="../slideLayouts/slideLayout1235.xml"/><Relationship Id="rId15" Type="http://schemas.openxmlformats.org/officeDocument/2006/relationships/slideLayout" Target="../slideLayouts/slideLayout1236.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85.xml"/><Relationship Id="rId5" Type="http://schemas.openxmlformats.org/officeDocument/2006/relationships/slideLayout" Target="../slideLayouts/slideLayout686.xml"/><Relationship Id="rId6" Type="http://schemas.openxmlformats.org/officeDocument/2006/relationships/slideLayout" Target="../slideLayouts/slideLayout687.xml"/><Relationship Id="rId7" Type="http://schemas.openxmlformats.org/officeDocument/2006/relationships/slideLayout" Target="../slideLayouts/slideLayout688.xml"/><Relationship Id="rId8" Type="http://schemas.openxmlformats.org/officeDocument/2006/relationships/slideLayout" Target="../slideLayouts/slideLayout689.xml"/><Relationship Id="rId9" Type="http://schemas.openxmlformats.org/officeDocument/2006/relationships/slideLayout" Target="../slideLayouts/slideLayout690.xml"/><Relationship Id="rId10" Type="http://schemas.openxmlformats.org/officeDocument/2006/relationships/slideLayout" Target="../slideLayouts/slideLayout691.xml"/><Relationship Id="rId11" Type="http://schemas.openxmlformats.org/officeDocument/2006/relationships/slideLayout" Target="../slideLayouts/slideLayout692.xml"/><Relationship Id="rId12" Type="http://schemas.openxmlformats.org/officeDocument/2006/relationships/slideLayout" Target="../slideLayouts/slideLayout693.xml"/><Relationship Id="rId13" Type="http://schemas.openxmlformats.org/officeDocument/2006/relationships/slideLayout" Target="../slideLayouts/slideLayout694.xml"/><Relationship Id="rId14" Type="http://schemas.openxmlformats.org/officeDocument/2006/relationships/slideLayout" Target="../slideLayouts/slideLayout695.xml"/><Relationship Id="rId15"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45.xml"/><Relationship Id="rId5" Type="http://schemas.openxmlformats.org/officeDocument/2006/relationships/slideLayout" Target="../slideLayouts/slideLayout746.xml"/><Relationship Id="rId6" Type="http://schemas.openxmlformats.org/officeDocument/2006/relationships/slideLayout" Target="../slideLayouts/slideLayout747.xml"/><Relationship Id="rId7" Type="http://schemas.openxmlformats.org/officeDocument/2006/relationships/slideLayout" Target="../slideLayouts/slideLayout748.xml"/><Relationship Id="rId8" Type="http://schemas.openxmlformats.org/officeDocument/2006/relationships/slideLayout" Target="../slideLayouts/slideLayout749.xml"/><Relationship Id="rId9" Type="http://schemas.openxmlformats.org/officeDocument/2006/relationships/slideLayout" Target="../slideLayouts/slideLayout750.xml"/><Relationship Id="rId10" Type="http://schemas.openxmlformats.org/officeDocument/2006/relationships/slideLayout" Target="../slideLayouts/slideLayout751.xml"/><Relationship Id="rId11" Type="http://schemas.openxmlformats.org/officeDocument/2006/relationships/slideLayout" Target="../slideLayouts/slideLayout752.xml"/><Relationship Id="rId12" Type="http://schemas.openxmlformats.org/officeDocument/2006/relationships/slideLayout" Target="../slideLayouts/slideLayout753.xml"/><Relationship Id="rId13" Type="http://schemas.openxmlformats.org/officeDocument/2006/relationships/slideLayout" Target="../slideLayouts/slideLayout754.xml"/><Relationship Id="rId14" Type="http://schemas.openxmlformats.org/officeDocument/2006/relationships/slideLayout" Target="../slideLayouts/slideLayout755.xml"/><Relationship Id="rId15"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01.xml"/><Relationship Id="rId5" Type="http://schemas.openxmlformats.org/officeDocument/2006/relationships/slideLayout" Target="../slideLayouts/slideLayout902.xml"/><Relationship Id="rId6" Type="http://schemas.openxmlformats.org/officeDocument/2006/relationships/slideLayout" Target="../slideLayouts/slideLayout903.xml"/><Relationship Id="rId7" Type="http://schemas.openxmlformats.org/officeDocument/2006/relationships/slideLayout" Target="../slideLayouts/slideLayout904.xml"/><Relationship Id="rId8" Type="http://schemas.openxmlformats.org/officeDocument/2006/relationships/slideLayout" Target="../slideLayouts/slideLayout905.xml"/><Relationship Id="rId9" Type="http://schemas.openxmlformats.org/officeDocument/2006/relationships/slideLayout" Target="../slideLayouts/slideLayout906.xml"/><Relationship Id="rId10" Type="http://schemas.openxmlformats.org/officeDocument/2006/relationships/slideLayout" Target="../slideLayouts/slideLayout907.xml"/><Relationship Id="rId11" Type="http://schemas.openxmlformats.org/officeDocument/2006/relationships/slideLayout" Target="../slideLayouts/slideLayout908.xml"/><Relationship Id="rId12" Type="http://schemas.openxmlformats.org/officeDocument/2006/relationships/slideLayout" Target="../slideLayouts/slideLayout909.xml"/><Relationship Id="rId13" Type="http://schemas.openxmlformats.org/officeDocument/2006/relationships/slideLayout" Target="../slideLayouts/slideLayout910.xml"/><Relationship Id="rId14" Type="http://schemas.openxmlformats.org/officeDocument/2006/relationships/slideLayout" Target="../slideLayouts/slideLayout911.xml"/><Relationship Id="rId15"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37.xml"/><Relationship Id="rId5" Type="http://schemas.openxmlformats.org/officeDocument/2006/relationships/slideLayout" Target="../slideLayouts/slideLayout938.xml"/><Relationship Id="rId6" Type="http://schemas.openxmlformats.org/officeDocument/2006/relationships/slideLayout" Target="../slideLayouts/slideLayout939.xml"/><Relationship Id="rId7" Type="http://schemas.openxmlformats.org/officeDocument/2006/relationships/slideLayout" Target="../slideLayouts/slideLayout940.xml"/><Relationship Id="rId8" Type="http://schemas.openxmlformats.org/officeDocument/2006/relationships/slideLayout" Target="../slideLayouts/slideLayout941.xml"/><Relationship Id="rId9" Type="http://schemas.openxmlformats.org/officeDocument/2006/relationships/slideLayout" Target="../slideLayouts/slideLayout942.xml"/><Relationship Id="rId10" Type="http://schemas.openxmlformats.org/officeDocument/2006/relationships/slideLayout" Target="../slideLayouts/slideLayout943.xml"/><Relationship Id="rId11" Type="http://schemas.openxmlformats.org/officeDocument/2006/relationships/slideLayout" Target="../slideLayouts/slideLayout944.xml"/><Relationship Id="rId12" Type="http://schemas.openxmlformats.org/officeDocument/2006/relationships/slideLayout" Target="../slideLayouts/slideLayout945.xml"/><Relationship Id="rId13" Type="http://schemas.openxmlformats.org/officeDocument/2006/relationships/slideLayout" Target="../slideLayouts/slideLayout946.xml"/><Relationship Id="rId14" Type="http://schemas.openxmlformats.org/officeDocument/2006/relationships/slideLayout" Target="../slideLayouts/slideLayout947.xml"/><Relationship Id="rId15"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49.xml"/><Relationship Id="rId5" Type="http://schemas.openxmlformats.org/officeDocument/2006/relationships/slideLayout" Target="../slideLayouts/slideLayout950.xml"/><Relationship Id="rId6" Type="http://schemas.openxmlformats.org/officeDocument/2006/relationships/slideLayout" Target="../slideLayouts/slideLayout951.xml"/><Relationship Id="rId7" Type="http://schemas.openxmlformats.org/officeDocument/2006/relationships/slideLayout" Target="../slideLayouts/slideLayout952.xml"/><Relationship Id="rId8" Type="http://schemas.openxmlformats.org/officeDocument/2006/relationships/slideLayout" Target="../slideLayouts/slideLayout953.xml"/><Relationship Id="rId9" Type="http://schemas.openxmlformats.org/officeDocument/2006/relationships/slideLayout" Target="../slideLayouts/slideLayout954.xml"/><Relationship Id="rId10" Type="http://schemas.openxmlformats.org/officeDocument/2006/relationships/slideLayout" Target="../slideLayouts/slideLayout955.xml"/><Relationship Id="rId11" Type="http://schemas.openxmlformats.org/officeDocument/2006/relationships/slideLayout" Target="../slideLayouts/slideLayout956.xml"/><Relationship Id="rId12" Type="http://schemas.openxmlformats.org/officeDocument/2006/relationships/slideLayout" Target="../slideLayouts/slideLayout957.xml"/><Relationship Id="rId13" Type="http://schemas.openxmlformats.org/officeDocument/2006/relationships/slideLayout" Target="../slideLayouts/slideLayout958.xml"/><Relationship Id="rId14" Type="http://schemas.openxmlformats.org/officeDocument/2006/relationships/slideLayout" Target="../slideLayouts/slideLayout959.xml"/><Relationship Id="rId15"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3.xml"/><Relationship Id="rId6" Type="http://schemas.openxmlformats.org/officeDocument/2006/relationships/slideLayout" Target="../slideLayouts/slideLayout974.xml"/><Relationship Id="rId7" Type="http://schemas.openxmlformats.org/officeDocument/2006/relationships/slideLayout" Target="../slideLayouts/slideLayout975.xml"/><Relationship Id="rId8" Type="http://schemas.openxmlformats.org/officeDocument/2006/relationships/slideLayout" Target="../slideLayouts/slideLayout976.xml"/><Relationship Id="rId9" Type="http://schemas.openxmlformats.org/officeDocument/2006/relationships/slideLayout" Target="../slideLayouts/slideLayout977.xml"/><Relationship Id="rId10" Type="http://schemas.openxmlformats.org/officeDocument/2006/relationships/slideLayout" Target="../slideLayouts/slideLayout978.xml"/><Relationship Id="rId11" Type="http://schemas.openxmlformats.org/officeDocument/2006/relationships/slideLayout" Target="../slideLayouts/slideLayout979.xml"/><Relationship Id="rId12" Type="http://schemas.openxmlformats.org/officeDocument/2006/relationships/slideLayout" Target="../slideLayouts/slideLayout980.xml"/><Relationship Id="rId13" Type="http://schemas.openxmlformats.org/officeDocument/2006/relationships/slideLayout" Target="../slideLayouts/slideLayout981.xml"/><Relationship Id="rId14" Type="http://schemas.openxmlformats.org/officeDocument/2006/relationships/slideLayout" Target="../slideLayouts/slideLayout982.xml"/><Relationship Id="rId15" Type="http://schemas.openxmlformats.org/officeDocument/2006/relationships/slideLayout" Target="../slideLayouts/slideLayout983.xml"/><Relationship Id="rId16"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85.xml"/><Relationship Id="rId5" Type="http://schemas.openxmlformats.org/officeDocument/2006/relationships/slideLayout" Target="../slideLayouts/slideLayout986.xml"/><Relationship Id="rId6" Type="http://schemas.openxmlformats.org/officeDocument/2006/relationships/slideLayout" Target="../slideLayouts/slideLayout987.xml"/><Relationship Id="rId7" Type="http://schemas.openxmlformats.org/officeDocument/2006/relationships/slideLayout" Target="../slideLayouts/slideLayout988.xml"/><Relationship Id="rId8" Type="http://schemas.openxmlformats.org/officeDocument/2006/relationships/slideLayout" Target="../slideLayouts/slideLayout989.xml"/><Relationship Id="rId9" Type="http://schemas.openxmlformats.org/officeDocument/2006/relationships/slideLayout" Target="../slideLayouts/slideLayout990.xml"/><Relationship Id="rId10" Type="http://schemas.openxmlformats.org/officeDocument/2006/relationships/slideLayout" Target="../slideLayouts/slideLayout991.xml"/><Relationship Id="rId11" Type="http://schemas.openxmlformats.org/officeDocument/2006/relationships/slideLayout" Target="../slideLayouts/slideLayout992.xml"/><Relationship Id="rId12" Type="http://schemas.openxmlformats.org/officeDocument/2006/relationships/slideLayout" Target="../slideLayouts/slideLayout993.xml"/><Relationship Id="rId13" Type="http://schemas.openxmlformats.org/officeDocument/2006/relationships/slideLayout" Target="../slideLayouts/slideLayout994.xml"/><Relationship Id="rId14" Type="http://schemas.openxmlformats.org/officeDocument/2006/relationships/slideLayout" Target="../slideLayouts/slideLayout995.xml"/><Relationship Id="rId15"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97.xml"/><Relationship Id="rId5" Type="http://schemas.openxmlformats.org/officeDocument/2006/relationships/slideLayout" Target="../slideLayouts/slideLayout998.xml"/><Relationship Id="rId6" Type="http://schemas.openxmlformats.org/officeDocument/2006/relationships/slideLayout" Target="../slideLayouts/slideLayout999.xml"/><Relationship Id="rId7" Type="http://schemas.openxmlformats.org/officeDocument/2006/relationships/slideLayout" Target="../slideLayouts/slideLayout1000.xml"/><Relationship Id="rId8" Type="http://schemas.openxmlformats.org/officeDocument/2006/relationships/slideLayout" Target="../slideLayouts/slideLayout1001.xml"/><Relationship Id="rId9" Type="http://schemas.openxmlformats.org/officeDocument/2006/relationships/slideLayout" Target="../slideLayouts/slideLayout1002.xml"/><Relationship Id="rId10" Type="http://schemas.openxmlformats.org/officeDocument/2006/relationships/slideLayout" Target="../slideLayouts/slideLayout1003.xml"/><Relationship Id="rId11" Type="http://schemas.openxmlformats.org/officeDocument/2006/relationships/slideLayout" Target="../slideLayouts/slideLayout1004.xml"/><Relationship Id="rId12" Type="http://schemas.openxmlformats.org/officeDocument/2006/relationships/slideLayout" Target="../slideLayouts/slideLayout1005.xml"/><Relationship Id="rId13" Type="http://schemas.openxmlformats.org/officeDocument/2006/relationships/slideLayout" Target="../slideLayouts/slideLayout1006.xml"/><Relationship Id="rId14" Type="http://schemas.openxmlformats.org/officeDocument/2006/relationships/slideLayout" Target="../slideLayouts/slideLayout1007.xml"/><Relationship Id="rId15"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09.xml"/><Relationship Id="rId5" Type="http://schemas.openxmlformats.org/officeDocument/2006/relationships/slideLayout" Target="../slideLayouts/slideLayout1010.xml"/><Relationship Id="rId6" Type="http://schemas.openxmlformats.org/officeDocument/2006/relationships/slideLayout" Target="../slideLayouts/slideLayout1011.xml"/><Relationship Id="rId7" Type="http://schemas.openxmlformats.org/officeDocument/2006/relationships/slideLayout" Target="../slideLayouts/slideLayout1012.xml"/><Relationship Id="rId8" Type="http://schemas.openxmlformats.org/officeDocument/2006/relationships/slideLayout" Target="../slideLayouts/slideLayout1013.xml"/><Relationship Id="rId9" Type="http://schemas.openxmlformats.org/officeDocument/2006/relationships/slideLayout" Target="../slideLayouts/slideLayout1014.xml"/><Relationship Id="rId10" Type="http://schemas.openxmlformats.org/officeDocument/2006/relationships/slideLayout" Target="../slideLayouts/slideLayout1015.xml"/><Relationship Id="rId11" Type="http://schemas.openxmlformats.org/officeDocument/2006/relationships/slideLayout" Target="../slideLayouts/slideLayout1016.xml"/><Relationship Id="rId12" Type="http://schemas.openxmlformats.org/officeDocument/2006/relationships/slideLayout" Target="../slideLayouts/slideLayout1017.xml"/><Relationship Id="rId13" Type="http://schemas.openxmlformats.org/officeDocument/2006/relationships/slideLayout" Target="../slideLayouts/slideLayout1018.xml"/><Relationship Id="rId14" Type="http://schemas.openxmlformats.org/officeDocument/2006/relationships/slideLayout" Target="../slideLayouts/slideLayout1019.xml"/><Relationship Id="rId15"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33.xml"/><Relationship Id="rId5" Type="http://schemas.openxmlformats.org/officeDocument/2006/relationships/slideLayout" Target="../slideLayouts/slideLayout1034.xml"/><Relationship Id="rId6" Type="http://schemas.openxmlformats.org/officeDocument/2006/relationships/slideLayout" Target="../slideLayouts/slideLayout1035.xml"/><Relationship Id="rId7" Type="http://schemas.openxmlformats.org/officeDocument/2006/relationships/slideLayout" Target="../slideLayouts/slideLayout1036.xml"/><Relationship Id="rId8" Type="http://schemas.openxmlformats.org/officeDocument/2006/relationships/slideLayout" Target="../slideLayouts/slideLayout1037.xml"/><Relationship Id="rId9" Type="http://schemas.openxmlformats.org/officeDocument/2006/relationships/slideLayout" Target="../slideLayouts/slideLayout1038.xml"/><Relationship Id="rId10" Type="http://schemas.openxmlformats.org/officeDocument/2006/relationships/slideLayout" Target="../slideLayouts/slideLayout1039.xml"/><Relationship Id="rId11" Type="http://schemas.openxmlformats.org/officeDocument/2006/relationships/slideLayout" Target="../slideLayouts/slideLayout1040.xml"/><Relationship Id="rId12" Type="http://schemas.openxmlformats.org/officeDocument/2006/relationships/slideLayout" Target="../slideLayouts/slideLayout1041.xml"/><Relationship Id="rId13" Type="http://schemas.openxmlformats.org/officeDocument/2006/relationships/slideLayout" Target="../slideLayouts/slideLayout1042.xml"/><Relationship Id="rId14" Type="http://schemas.openxmlformats.org/officeDocument/2006/relationships/slideLayout" Target="../slideLayouts/slideLayout1043.xml"/><Relationship Id="rId15"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69.xml"/><Relationship Id="rId5" Type="http://schemas.openxmlformats.org/officeDocument/2006/relationships/slideLayout" Target="../slideLayouts/slideLayout1070.xml"/><Relationship Id="rId6" Type="http://schemas.openxmlformats.org/officeDocument/2006/relationships/slideLayout" Target="../slideLayouts/slideLayout1071.xml"/><Relationship Id="rId7" Type="http://schemas.openxmlformats.org/officeDocument/2006/relationships/slideLayout" Target="../slideLayouts/slideLayout1072.xml"/><Relationship Id="rId8" Type="http://schemas.openxmlformats.org/officeDocument/2006/relationships/slideLayout" Target="../slideLayouts/slideLayout1073.xml"/><Relationship Id="rId9" Type="http://schemas.openxmlformats.org/officeDocument/2006/relationships/slideLayout" Target="../slideLayouts/slideLayout1074.xml"/><Relationship Id="rId10" Type="http://schemas.openxmlformats.org/officeDocument/2006/relationships/slideLayout" Target="../slideLayouts/slideLayout1075.xml"/><Relationship Id="rId11" Type="http://schemas.openxmlformats.org/officeDocument/2006/relationships/slideLayout" Target="../slideLayouts/slideLayout1076.xml"/><Relationship Id="rId12" Type="http://schemas.openxmlformats.org/officeDocument/2006/relationships/slideLayout" Target="../slideLayouts/slideLayout1077.xml"/><Relationship Id="rId13" Type="http://schemas.openxmlformats.org/officeDocument/2006/relationships/slideLayout" Target="../slideLayouts/slideLayout1078.xml"/><Relationship Id="rId14" Type="http://schemas.openxmlformats.org/officeDocument/2006/relationships/slideLayout" Target="../slideLayouts/slideLayout1079.xml"/><Relationship Id="rId15"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81.xml"/><Relationship Id="rId5" Type="http://schemas.openxmlformats.org/officeDocument/2006/relationships/slideLayout" Target="../slideLayouts/slideLayout1082.xml"/><Relationship Id="rId6" Type="http://schemas.openxmlformats.org/officeDocument/2006/relationships/slideLayout" Target="../slideLayouts/slideLayout1083.xml"/><Relationship Id="rId7" Type="http://schemas.openxmlformats.org/officeDocument/2006/relationships/slideLayout" Target="../slideLayouts/slideLayout1084.xml"/><Relationship Id="rId8" Type="http://schemas.openxmlformats.org/officeDocument/2006/relationships/slideLayout" Target="../slideLayouts/slideLayout1085.xml"/><Relationship Id="rId9" Type="http://schemas.openxmlformats.org/officeDocument/2006/relationships/slideLayout" Target="../slideLayouts/slideLayout1086.xml"/><Relationship Id="rId10" Type="http://schemas.openxmlformats.org/officeDocument/2006/relationships/slideLayout" Target="../slideLayouts/slideLayout1087.xml"/><Relationship Id="rId11" Type="http://schemas.openxmlformats.org/officeDocument/2006/relationships/slideLayout" Target="../slideLayouts/slideLayout1088.xml"/><Relationship Id="rId12" Type="http://schemas.openxmlformats.org/officeDocument/2006/relationships/slideLayout" Target="../slideLayouts/slideLayout1089.xml"/><Relationship Id="rId13" Type="http://schemas.openxmlformats.org/officeDocument/2006/relationships/slideLayout" Target="../slideLayouts/slideLayout1090.xml"/><Relationship Id="rId14" Type="http://schemas.openxmlformats.org/officeDocument/2006/relationships/slideLayout" Target="../slideLayouts/slideLayout1091.xml"/><Relationship Id="rId15"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3.xml"/><Relationship Id="rId5" Type="http://schemas.openxmlformats.org/officeDocument/2006/relationships/slideLayout" Target="../slideLayouts/slideLayout1094.xml"/><Relationship Id="rId6" Type="http://schemas.openxmlformats.org/officeDocument/2006/relationships/slideLayout" Target="../slideLayouts/slideLayout1095.xml"/><Relationship Id="rId7" Type="http://schemas.openxmlformats.org/officeDocument/2006/relationships/slideLayout" Target="../slideLayouts/slideLayout1096.xml"/><Relationship Id="rId8" Type="http://schemas.openxmlformats.org/officeDocument/2006/relationships/slideLayout" Target="../slideLayouts/slideLayout1097.xml"/><Relationship Id="rId9" Type="http://schemas.openxmlformats.org/officeDocument/2006/relationships/slideLayout" Target="../slideLayouts/slideLayout1098.xml"/><Relationship Id="rId10" Type="http://schemas.openxmlformats.org/officeDocument/2006/relationships/slideLayout" Target="../slideLayouts/slideLayout1099.xml"/><Relationship Id="rId11" Type="http://schemas.openxmlformats.org/officeDocument/2006/relationships/slideLayout" Target="../slideLayouts/slideLayout1100.xml"/><Relationship Id="rId12" Type="http://schemas.openxmlformats.org/officeDocument/2006/relationships/slideLayout" Target="../slideLayouts/slideLayout1101.xml"/><Relationship Id="rId13" Type="http://schemas.openxmlformats.org/officeDocument/2006/relationships/slideLayout" Target="../slideLayouts/slideLayout1102.xml"/><Relationship Id="rId14" Type="http://schemas.openxmlformats.org/officeDocument/2006/relationships/slideLayout" Target="../slideLayouts/slideLayout1103.xml"/><Relationship Id="rId15"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105.xml"/><Relationship Id="rId6" Type="http://schemas.openxmlformats.org/officeDocument/2006/relationships/slideLayout" Target="../slideLayouts/slideLayout1106.xml"/><Relationship Id="rId7" Type="http://schemas.openxmlformats.org/officeDocument/2006/relationships/slideLayout" Target="../slideLayouts/slideLayout1107.xml"/><Relationship Id="rId8" Type="http://schemas.openxmlformats.org/officeDocument/2006/relationships/slideLayout" Target="../slideLayouts/slideLayout1108.xml"/><Relationship Id="rId9" Type="http://schemas.openxmlformats.org/officeDocument/2006/relationships/slideLayout" Target="../slideLayouts/slideLayout1109.xml"/><Relationship Id="rId10" Type="http://schemas.openxmlformats.org/officeDocument/2006/relationships/slideLayout" Target="../slideLayouts/slideLayout1110.xml"/><Relationship Id="rId11" Type="http://schemas.openxmlformats.org/officeDocument/2006/relationships/slideLayout" Target="../slideLayouts/slideLayout1111.xml"/><Relationship Id="rId12" Type="http://schemas.openxmlformats.org/officeDocument/2006/relationships/slideLayout" Target="../slideLayouts/slideLayout1112.xml"/><Relationship Id="rId13" Type="http://schemas.openxmlformats.org/officeDocument/2006/relationships/slideLayout" Target="../slideLayouts/slideLayout1113.xml"/><Relationship Id="rId14" Type="http://schemas.openxmlformats.org/officeDocument/2006/relationships/slideLayout" Target="../slideLayouts/slideLayout1114.xml"/><Relationship Id="rId15" Type="http://schemas.openxmlformats.org/officeDocument/2006/relationships/slideLayout" Target="../slideLayouts/slideLayout1115.xml"/><Relationship Id="rId16"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129.xml"/><Relationship Id="rId5" Type="http://schemas.openxmlformats.org/officeDocument/2006/relationships/slideLayout" Target="../slideLayouts/slideLayout1130.xml"/><Relationship Id="rId6" Type="http://schemas.openxmlformats.org/officeDocument/2006/relationships/slideLayout" Target="../slideLayouts/slideLayout1131.xml"/><Relationship Id="rId7" Type="http://schemas.openxmlformats.org/officeDocument/2006/relationships/slideLayout" Target="../slideLayouts/slideLayout1132.xml"/><Relationship Id="rId8" Type="http://schemas.openxmlformats.org/officeDocument/2006/relationships/slideLayout" Target="../slideLayouts/slideLayout1133.xml"/><Relationship Id="rId9" Type="http://schemas.openxmlformats.org/officeDocument/2006/relationships/slideLayout" Target="../slideLayouts/slideLayout1134.xml"/><Relationship Id="rId10" Type="http://schemas.openxmlformats.org/officeDocument/2006/relationships/slideLayout" Target="../slideLayouts/slideLayout1135.xml"/><Relationship Id="rId11" Type="http://schemas.openxmlformats.org/officeDocument/2006/relationships/slideLayout" Target="../slideLayouts/slideLayout1136.xml"/><Relationship Id="rId12" Type="http://schemas.openxmlformats.org/officeDocument/2006/relationships/slideLayout" Target="../slideLayouts/slideLayout1137.xml"/><Relationship Id="rId13" Type="http://schemas.openxmlformats.org/officeDocument/2006/relationships/slideLayout" Target="../slideLayouts/slideLayout1138.xml"/><Relationship Id="rId14" Type="http://schemas.openxmlformats.org/officeDocument/2006/relationships/slideLayout" Target="../slideLayouts/slideLayout1139.xml"/><Relationship Id="rId15"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41.xml"/><Relationship Id="rId5" Type="http://schemas.openxmlformats.org/officeDocument/2006/relationships/slideLayout" Target="../slideLayouts/slideLayout1142.xml"/><Relationship Id="rId6" Type="http://schemas.openxmlformats.org/officeDocument/2006/relationships/slideLayout" Target="../slideLayouts/slideLayout1143.xml"/><Relationship Id="rId7" Type="http://schemas.openxmlformats.org/officeDocument/2006/relationships/slideLayout" Target="../slideLayouts/slideLayout1144.xml"/><Relationship Id="rId8" Type="http://schemas.openxmlformats.org/officeDocument/2006/relationships/slideLayout" Target="../slideLayouts/slideLayout1145.xml"/><Relationship Id="rId9" Type="http://schemas.openxmlformats.org/officeDocument/2006/relationships/slideLayout" Target="../slideLayouts/slideLayout1146.xml"/><Relationship Id="rId10" Type="http://schemas.openxmlformats.org/officeDocument/2006/relationships/slideLayout" Target="../slideLayouts/slideLayout1147.xml"/><Relationship Id="rId11" Type="http://schemas.openxmlformats.org/officeDocument/2006/relationships/slideLayout" Target="../slideLayouts/slideLayout1148.xml"/><Relationship Id="rId12" Type="http://schemas.openxmlformats.org/officeDocument/2006/relationships/slideLayout" Target="../slideLayouts/slideLayout1149.xml"/><Relationship Id="rId13" Type="http://schemas.openxmlformats.org/officeDocument/2006/relationships/slideLayout" Target="../slideLayouts/slideLayout1150.xml"/><Relationship Id="rId14" Type="http://schemas.openxmlformats.org/officeDocument/2006/relationships/slideLayout" Target="../slideLayouts/slideLayout1151.xml"/><Relationship Id="rId15"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65.xml"/><Relationship Id="rId5" Type="http://schemas.openxmlformats.org/officeDocument/2006/relationships/slideLayout" Target="../slideLayouts/slideLayout1166.xml"/><Relationship Id="rId6" Type="http://schemas.openxmlformats.org/officeDocument/2006/relationships/slideLayout" Target="../slideLayouts/slideLayout1167.xml"/><Relationship Id="rId7" Type="http://schemas.openxmlformats.org/officeDocument/2006/relationships/slideLayout" Target="../slideLayouts/slideLayout1168.xml"/><Relationship Id="rId8" Type="http://schemas.openxmlformats.org/officeDocument/2006/relationships/slideLayout" Target="../slideLayouts/slideLayout1169.xml"/><Relationship Id="rId9" Type="http://schemas.openxmlformats.org/officeDocument/2006/relationships/slideLayout" Target="../slideLayouts/slideLayout1170.xml"/><Relationship Id="rId10" Type="http://schemas.openxmlformats.org/officeDocument/2006/relationships/slideLayout" Target="../slideLayouts/slideLayout1171.xml"/><Relationship Id="rId11" Type="http://schemas.openxmlformats.org/officeDocument/2006/relationships/slideLayout" Target="../slideLayouts/slideLayout1172.xml"/><Relationship Id="rId12" Type="http://schemas.openxmlformats.org/officeDocument/2006/relationships/slideLayout" Target="../slideLayouts/slideLayout1173.xml"/><Relationship Id="rId13" Type="http://schemas.openxmlformats.org/officeDocument/2006/relationships/slideLayout" Target="../slideLayouts/slideLayout1174.xml"/><Relationship Id="rId14" Type="http://schemas.openxmlformats.org/officeDocument/2006/relationships/slideLayout" Target="../slideLayouts/slideLayout1175.xml"/><Relationship Id="rId15"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BED1-1C0D-4FF2-BEFD-D6B980801E6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دائرة مجوفة 10"/>
          <p:cNvGrpSpPr/>
          <p:nvPr/>
        </p:nvGrpSpPr>
        <p:grpSpPr>
          <a:xfrm>
            <a:off x="171360" y="1042920"/>
            <a:ext cx="1157400" cy="1150920"/>
            <a:chOff x="171360" y="1042920"/>
            <a:chExt cx="1157400" cy="1150920"/>
          </a:xfrm>
        </p:grpSpPr>
        <p:pic>
          <p:nvPicPr>
            <p:cNvPr id="435" name="دائرة مجوفة 10" descr=""/>
            <p:cNvPicPr/>
            <p:nvPr/>
          </p:nvPicPr>
          <p:blipFill>
            <a:blip r:embed="rId3"/>
            <a:stretch/>
          </p:blipFill>
          <p:spPr>
            <a:xfrm>
              <a:off x="171360" y="1042920"/>
              <a:ext cx="1157400" cy="1150920"/>
            </a:xfrm>
            <a:prstGeom prst="rect">
              <a:avLst/>
            </a:prstGeom>
            <a:ln w="0">
              <a:noFill/>
            </a:ln>
          </p:spPr>
        </p:pic>
        <p:sp>
          <p:nvSpPr>
            <p:cNvPr id="4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شكل بيضاوي 12"/>
          <p:cNvGrpSpPr/>
          <p:nvPr/>
        </p:nvGrpSpPr>
        <p:grpSpPr>
          <a:xfrm>
            <a:off x="920880" y="1414440"/>
            <a:ext cx="218880" cy="212760"/>
            <a:chOff x="920880" y="1414440"/>
            <a:chExt cx="218880" cy="212760"/>
          </a:xfrm>
        </p:grpSpPr>
        <p:pic>
          <p:nvPicPr>
            <p:cNvPr id="440" name="شكل بيضاوي 12" descr=""/>
            <p:cNvPicPr/>
            <p:nvPr/>
          </p:nvPicPr>
          <p:blipFill>
            <a:blip r:embed="rId4"/>
            <a:stretch/>
          </p:blipFill>
          <p:spPr>
            <a:xfrm>
              <a:off x="920880" y="1414440"/>
              <a:ext cx="218880" cy="212760"/>
            </a:xfrm>
            <a:prstGeom prst="rect">
              <a:avLst/>
            </a:prstGeom>
            <a:ln w="0">
              <a:noFill/>
            </a:ln>
          </p:spPr>
        </p:pic>
        <p:sp>
          <p:nvSpPr>
            <p:cNvPr id="4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4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B70F-0B29-4F83-9231-F6E377B8A2F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01" name="PlaceHolder 3"/>
          <p:cNvSpPr>
            <a:spLocks noGrp="1"/>
          </p:cNvSpPr>
          <p:nvPr>
            <p:ph type="dt" idx="29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PlaceHolder 4"/>
          <p:cNvSpPr>
            <a:spLocks noGrp="1"/>
          </p:cNvSpPr>
          <p:nvPr>
            <p:ph type="ftr" idx="29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PlaceHolder 5"/>
          <p:cNvSpPr>
            <a:spLocks noGrp="1"/>
          </p:cNvSpPr>
          <p:nvPr>
            <p:ph type="sldNum" idx="30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679B-7B24-47D4-B9D6-5AF3EF2E243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40" name="مستطيل 12"/>
          <p:cNvGrpSpPr/>
          <p:nvPr/>
        </p:nvGrpSpPr>
        <p:grpSpPr>
          <a:xfrm>
            <a:off x="652320" y="974880"/>
            <a:ext cx="4797720" cy="4797360"/>
            <a:chOff x="652320" y="974880"/>
            <a:chExt cx="4797720" cy="4797360"/>
          </a:xfrm>
        </p:grpSpPr>
        <p:pic>
          <p:nvPicPr>
            <p:cNvPr id="4641" name="مستطيل 12" descr=""/>
            <p:cNvPicPr/>
            <p:nvPr/>
          </p:nvPicPr>
          <p:blipFill>
            <a:blip r:embed="rId3"/>
            <a:stretch/>
          </p:blipFill>
          <p:spPr>
            <a:xfrm>
              <a:off x="652320" y="974880"/>
              <a:ext cx="4797720" cy="4797360"/>
            </a:xfrm>
            <a:prstGeom prst="rect">
              <a:avLst/>
            </a:prstGeom>
            <a:ln w="0">
              <a:noFill/>
            </a:ln>
          </p:spPr>
        </p:pic>
        <p:sp>
          <p:nvSpPr>
            <p:cNvPr id="464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47" name="PlaceHolder 3"/>
          <p:cNvSpPr>
            <a:spLocks noGrp="1"/>
          </p:cNvSpPr>
          <p:nvPr>
            <p:ph type="dt" idx="30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PlaceHolder 4"/>
          <p:cNvSpPr>
            <a:spLocks noGrp="1"/>
          </p:cNvSpPr>
          <p:nvPr>
            <p:ph type="ftr" idx="30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9" name="PlaceHolder 5"/>
          <p:cNvSpPr>
            <a:spLocks noGrp="1"/>
          </p:cNvSpPr>
          <p:nvPr>
            <p:ph type="sldNum" idx="30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4096-3A94-46AD-8BF2-55157BE5310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4"/>
    <p:sldLayoutId id="2147484950" r:id="rId5"/>
    <p:sldLayoutId id="2147484951" r:id="rId6"/>
    <p:sldLayoutId id="2147484952" r:id="rId7"/>
    <p:sldLayoutId id="2147484953" r:id="rId8"/>
    <p:sldLayoutId id="2147484954" r:id="rId9"/>
    <p:sldLayoutId id="2147484955" r:id="rId10"/>
    <p:sldLayoutId id="2147484956" r:id="rId11"/>
    <p:sldLayoutId id="2147484957" r:id="rId12"/>
    <p:sldLayoutId id="2147484958" r:id="rId13"/>
    <p:sldLayoutId id="2147484959" r:id="rId14"/>
    <p:sldLayoutId id="2147484960" r:id="rId15"/>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8" name="دائرة مجوفة 10"/>
          <p:cNvGrpSpPr/>
          <p:nvPr/>
        </p:nvGrpSpPr>
        <p:grpSpPr>
          <a:xfrm>
            <a:off x="171360" y="1042920"/>
            <a:ext cx="1157400" cy="1150920"/>
            <a:chOff x="171360" y="1042920"/>
            <a:chExt cx="1157400" cy="1150920"/>
          </a:xfrm>
        </p:grpSpPr>
        <p:pic>
          <p:nvPicPr>
            <p:cNvPr id="4689" name="دائرة مجوفة 10" descr=""/>
            <p:cNvPicPr/>
            <p:nvPr/>
          </p:nvPicPr>
          <p:blipFill>
            <a:blip r:embed="rId3"/>
            <a:stretch/>
          </p:blipFill>
          <p:spPr>
            <a:xfrm>
              <a:off x="171360" y="1042920"/>
              <a:ext cx="1157400" cy="1150920"/>
            </a:xfrm>
            <a:prstGeom prst="rect">
              <a:avLst/>
            </a:prstGeom>
            <a:ln w="0">
              <a:noFill/>
            </a:ln>
          </p:spPr>
        </p:pic>
        <p:sp>
          <p:nvSpPr>
            <p:cNvPr id="469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95" name="PlaceHolder 3"/>
          <p:cNvSpPr>
            <a:spLocks noGrp="1"/>
          </p:cNvSpPr>
          <p:nvPr>
            <p:ph type="dt" idx="30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PlaceHolder 4"/>
          <p:cNvSpPr>
            <a:spLocks noGrp="1"/>
          </p:cNvSpPr>
          <p:nvPr>
            <p:ph type="ftr" idx="30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PlaceHolder 5"/>
          <p:cNvSpPr>
            <a:spLocks noGrp="1"/>
          </p:cNvSpPr>
          <p:nvPr>
            <p:ph type="sldNum" idx="30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D555-983E-418C-8F9E-7CD0DDD134B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4"/>
    <p:sldLayoutId id="2147484963" r:id="rId5"/>
    <p:sldLayoutId id="2147484964" r:id="rId6"/>
    <p:sldLayoutId id="2147484965" r:id="rId7"/>
    <p:sldLayoutId id="2147484966" r:id="rId8"/>
    <p:sldLayoutId id="2147484967" r:id="rId9"/>
    <p:sldLayoutId id="2147484968" r:id="rId10"/>
    <p:sldLayoutId id="2147484969" r:id="rId11"/>
    <p:sldLayoutId id="2147484970" r:id="rId12"/>
    <p:sldLayoutId id="2147484971" r:id="rId13"/>
    <p:sldLayoutId id="2147484972" r:id="rId14"/>
    <p:sldLayoutId id="2147484973" r:id="rId15"/>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6" name="دائرة مجوفة 10"/>
          <p:cNvGrpSpPr/>
          <p:nvPr/>
        </p:nvGrpSpPr>
        <p:grpSpPr>
          <a:xfrm>
            <a:off x="171360" y="1042920"/>
            <a:ext cx="1157400" cy="1150920"/>
            <a:chOff x="171360" y="1042920"/>
            <a:chExt cx="1157400" cy="1150920"/>
          </a:xfrm>
        </p:grpSpPr>
        <p:pic>
          <p:nvPicPr>
            <p:cNvPr id="4737" name="دائرة مجوفة 10" descr=""/>
            <p:cNvPicPr/>
            <p:nvPr/>
          </p:nvPicPr>
          <p:blipFill>
            <a:blip r:embed="rId3"/>
            <a:stretch/>
          </p:blipFill>
          <p:spPr>
            <a:xfrm>
              <a:off x="171360" y="1042920"/>
              <a:ext cx="1157400" cy="1150920"/>
            </a:xfrm>
            <a:prstGeom prst="rect">
              <a:avLst/>
            </a:prstGeom>
            <a:ln w="0">
              <a:noFill/>
            </a:ln>
          </p:spPr>
        </p:pic>
        <p:sp>
          <p:nvSpPr>
            <p:cNvPr id="473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7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43" name="PlaceHolder 3"/>
          <p:cNvSpPr>
            <a:spLocks noGrp="1"/>
          </p:cNvSpPr>
          <p:nvPr>
            <p:ph type="dt" idx="30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PlaceHolder 4"/>
          <p:cNvSpPr>
            <a:spLocks noGrp="1"/>
          </p:cNvSpPr>
          <p:nvPr>
            <p:ph type="ftr" idx="30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PlaceHolder 5"/>
          <p:cNvSpPr>
            <a:spLocks noGrp="1"/>
          </p:cNvSpPr>
          <p:nvPr>
            <p:ph type="sldNum" idx="30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9C29-1099-4D81-8E62-0499CB04E5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4"/>
    <p:sldLayoutId id="2147484976" r:id="rId5"/>
    <p:sldLayoutId id="2147484977" r:id="rId6"/>
    <p:sldLayoutId id="2147484978" r:id="rId7"/>
    <p:sldLayoutId id="2147484979" r:id="rId8"/>
    <p:sldLayoutId id="2147484980" r:id="rId9"/>
    <p:sldLayoutId id="2147484981" r:id="rId10"/>
    <p:sldLayoutId id="2147484982" r:id="rId11"/>
    <p:sldLayoutId id="2147484983" r:id="rId12"/>
    <p:sldLayoutId id="2147484984" r:id="rId13"/>
    <p:sldLayoutId id="2147484985" r:id="rId14"/>
    <p:sldLayoutId id="2147484986"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شكل بيضاوي 15"/>
          <p:cNvGrpSpPr/>
          <p:nvPr/>
        </p:nvGrpSpPr>
        <p:grpSpPr>
          <a:xfrm>
            <a:off x="2170080" y="2816280"/>
            <a:ext cx="219240" cy="212760"/>
            <a:chOff x="2170080" y="2816280"/>
            <a:chExt cx="219240" cy="212760"/>
          </a:xfrm>
        </p:grpSpPr>
        <p:pic>
          <p:nvPicPr>
            <p:cNvPr id="487" name="شكل بيضاوي 15" descr=""/>
            <p:cNvPicPr/>
            <p:nvPr/>
          </p:nvPicPr>
          <p:blipFill>
            <a:blip r:embed="rId3"/>
            <a:stretch/>
          </p:blipFill>
          <p:spPr>
            <a:xfrm>
              <a:off x="2170080" y="2816280"/>
              <a:ext cx="219240" cy="212760"/>
            </a:xfrm>
            <a:prstGeom prst="rect">
              <a:avLst/>
            </a:prstGeom>
            <a:ln w="0">
              <a:noFill/>
            </a:ln>
          </p:spPr>
        </p:pic>
        <p:sp>
          <p:nvSpPr>
            <p:cNvPr id="48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2"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93"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0AFD-3968-4B62-A93C-4DBA2AA049F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9617-3C4F-4335-9EB4-C6A055C4A6B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6"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77"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908F-F4B3-446C-828C-76ABB976170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7"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5F6D-3B9E-4D61-885D-A384901B2FE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مستطيل 12"/>
          <p:cNvGrpSpPr/>
          <p:nvPr/>
        </p:nvGrpSpPr>
        <p:grpSpPr>
          <a:xfrm>
            <a:off x="652320" y="974880"/>
            <a:ext cx="4797720" cy="4797360"/>
            <a:chOff x="652320" y="974880"/>
            <a:chExt cx="4797720" cy="4797360"/>
          </a:xfrm>
        </p:grpSpPr>
        <p:pic>
          <p:nvPicPr>
            <p:cNvPr id="657" name="مستطيل 12" descr=""/>
            <p:cNvPicPr/>
            <p:nvPr/>
          </p:nvPicPr>
          <p:blipFill>
            <a:blip r:embed="rId3"/>
            <a:stretch/>
          </p:blipFill>
          <p:spPr>
            <a:xfrm>
              <a:off x="652320" y="974880"/>
              <a:ext cx="4797720" cy="4797360"/>
            </a:xfrm>
            <a:prstGeom prst="rect">
              <a:avLst/>
            </a:prstGeom>
            <a:ln w="0">
              <a:noFill/>
            </a:ln>
          </p:spPr>
        </p:pic>
        <p:sp>
          <p:nvSpPr>
            <p:cNvPr id="65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3"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D9FD-2795-447C-A3DC-098DD9DEA7F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دائرة مجوفة 10"/>
          <p:cNvGrpSpPr/>
          <p:nvPr/>
        </p:nvGrpSpPr>
        <p:grpSpPr>
          <a:xfrm>
            <a:off x="171360" y="1042920"/>
            <a:ext cx="1157400" cy="1150920"/>
            <a:chOff x="171360" y="1042920"/>
            <a:chExt cx="1157400" cy="1150920"/>
          </a:xfrm>
        </p:grpSpPr>
        <p:pic>
          <p:nvPicPr>
            <p:cNvPr id="705" name="دائرة مجوفة 10" descr=""/>
            <p:cNvPicPr/>
            <p:nvPr/>
          </p:nvPicPr>
          <p:blipFill>
            <a:blip r:embed="rId3"/>
            <a:stretch/>
          </p:blipFill>
          <p:spPr>
            <a:xfrm>
              <a:off x="171360" y="1042920"/>
              <a:ext cx="1157400" cy="1150920"/>
            </a:xfrm>
            <a:prstGeom prst="rect">
              <a:avLst/>
            </a:prstGeom>
            <a:ln w="0">
              <a:noFill/>
            </a:ln>
          </p:spPr>
        </p:pic>
        <p:sp>
          <p:nvSpPr>
            <p:cNvPr id="70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شكل بيضاوي 12"/>
          <p:cNvGrpSpPr/>
          <p:nvPr/>
        </p:nvGrpSpPr>
        <p:grpSpPr>
          <a:xfrm>
            <a:off x="920880" y="1414440"/>
            <a:ext cx="218880" cy="212760"/>
            <a:chOff x="920880" y="1414440"/>
            <a:chExt cx="218880" cy="212760"/>
          </a:xfrm>
        </p:grpSpPr>
        <p:pic>
          <p:nvPicPr>
            <p:cNvPr id="710" name="شكل بيضاوي 12" descr=""/>
            <p:cNvPicPr/>
            <p:nvPr/>
          </p:nvPicPr>
          <p:blipFill>
            <a:blip r:embed="rId4"/>
            <a:stretch/>
          </p:blipFill>
          <p:spPr>
            <a:xfrm>
              <a:off x="920880" y="1414440"/>
              <a:ext cx="218880" cy="212760"/>
            </a:xfrm>
            <a:prstGeom prst="rect">
              <a:avLst/>
            </a:prstGeom>
            <a:ln w="0">
              <a:noFill/>
            </a:ln>
          </p:spPr>
        </p:pic>
        <p:sp>
          <p:nvSpPr>
            <p:cNvPr id="71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5"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4AE6-A44C-4175-BD09-D10937946EC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دائرة مجوفة 10"/>
          <p:cNvGrpSpPr/>
          <p:nvPr/>
        </p:nvGrpSpPr>
        <p:grpSpPr>
          <a:xfrm>
            <a:off x="171360" y="1042920"/>
            <a:ext cx="1157400" cy="1150920"/>
            <a:chOff x="171360" y="1042920"/>
            <a:chExt cx="1157400" cy="1150920"/>
          </a:xfrm>
        </p:grpSpPr>
        <p:pic>
          <p:nvPicPr>
            <p:cNvPr id="757" name="دائرة مجوفة 10" descr=""/>
            <p:cNvPicPr/>
            <p:nvPr/>
          </p:nvPicPr>
          <p:blipFill>
            <a:blip r:embed="rId3"/>
            <a:stretch/>
          </p:blipFill>
          <p:spPr>
            <a:xfrm>
              <a:off x="171360" y="1042920"/>
              <a:ext cx="1157400" cy="1150920"/>
            </a:xfrm>
            <a:prstGeom prst="rect">
              <a:avLst/>
            </a:prstGeom>
            <a:ln w="0">
              <a:noFill/>
            </a:ln>
          </p:spPr>
        </p:pic>
        <p:sp>
          <p:nvSpPr>
            <p:cNvPr id="7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3"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7A5-CA1A-4B00-89FE-1E23B54555E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شكل بيضاوي 15"/>
          <p:cNvGrpSpPr/>
          <p:nvPr/>
        </p:nvGrpSpPr>
        <p:grpSpPr>
          <a:xfrm>
            <a:off x="2170080" y="2816280"/>
            <a:ext cx="219240" cy="212760"/>
            <a:chOff x="2170080" y="2816280"/>
            <a:chExt cx="219240" cy="212760"/>
          </a:xfrm>
        </p:grpSpPr>
        <p:pic>
          <p:nvPicPr>
            <p:cNvPr id="805" name="شكل بيضاوي 15" descr=""/>
            <p:cNvPicPr/>
            <p:nvPr/>
          </p:nvPicPr>
          <p:blipFill>
            <a:blip r:embed="rId3"/>
            <a:stretch/>
          </p:blipFill>
          <p:spPr>
            <a:xfrm>
              <a:off x="2170080" y="2816280"/>
              <a:ext cx="219240" cy="212760"/>
            </a:xfrm>
            <a:prstGeom prst="rect">
              <a:avLst/>
            </a:prstGeom>
            <a:ln w="0">
              <a:noFill/>
            </a:ln>
          </p:spPr>
        </p:pic>
        <p:sp>
          <p:nvSpPr>
            <p:cNvPr id="80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0"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5648-6AC6-458C-BC52-2C3B49CED1B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دائرة مجوفة 10"/>
          <p:cNvGrpSpPr/>
          <p:nvPr/>
        </p:nvGrpSpPr>
        <p:grpSpPr>
          <a:xfrm>
            <a:off x="171360" y="1042920"/>
            <a:ext cx="1157400" cy="1150920"/>
            <a:chOff x="171360" y="1042920"/>
            <a:chExt cx="1157400" cy="1150920"/>
          </a:xfrm>
        </p:grpSpPr>
        <p:pic>
          <p:nvPicPr>
            <p:cNvPr id="852" name="دائرة مجوفة 10" descr=""/>
            <p:cNvPicPr/>
            <p:nvPr/>
          </p:nvPicPr>
          <p:blipFill>
            <a:blip r:embed="rId3"/>
            <a:stretch/>
          </p:blipFill>
          <p:spPr>
            <a:xfrm>
              <a:off x="171360" y="1042920"/>
              <a:ext cx="1157400" cy="1150920"/>
            </a:xfrm>
            <a:prstGeom prst="rect">
              <a:avLst/>
            </a:prstGeom>
            <a:ln w="0">
              <a:noFill/>
            </a:ln>
          </p:spPr>
        </p:pic>
        <p:sp>
          <p:nvSpPr>
            <p:cNvPr id="85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58"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CA50-C4A3-4DD9-90E8-241528F0F70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4B94-9E2E-4F38-8214-8FF6C4499BB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5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99"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761C-2085-4510-ACE4-0A046BBA781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0" name="دائرة مجوفة 10"/>
          <p:cNvGrpSpPr/>
          <p:nvPr/>
        </p:nvGrpSpPr>
        <p:grpSpPr>
          <a:xfrm>
            <a:off x="171360" y="1042920"/>
            <a:ext cx="1157400" cy="1150920"/>
            <a:chOff x="171360" y="1042920"/>
            <a:chExt cx="1157400" cy="1150920"/>
          </a:xfrm>
        </p:grpSpPr>
        <p:pic>
          <p:nvPicPr>
            <p:cNvPr id="941" name="دائرة مجوفة 10" descr=""/>
            <p:cNvPicPr/>
            <p:nvPr/>
          </p:nvPicPr>
          <p:blipFill>
            <a:blip r:embed="rId3"/>
            <a:stretch/>
          </p:blipFill>
          <p:spPr>
            <a:xfrm>
              <a:off x="171360" y="1042920"/>
              <a:ext cx="1157400" cy="1150920"/>
            </a:xfrm>
            <a:prstGeom prst="rect">
              <a:avLst/>
            </a:prstGeom>
            <a:ln w="0">
              <a:noFill/>
            </a:ln>
          </p:spPr>
        </p:pic>
        <p:sp>
          <p:nvSpPr>
            <p:cNvPr id="94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47"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0EEE-D6FA-4576-A0EB-E1A52DA5565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0"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7A9C-314A-451F-B3DB-067BD5F1F0F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8061-A187-4DAD-8EA2-55B9CF7B385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0" name="مستطيل 12"/>
          <p:cNvGrpSpPr/>
          <p:nvPr/>
        </p:nvGrpSpPr>
        <p:grpSpPr>
          <a:xfrm>
            <a:off x="652320" y="974880"/>
            <a:ext cx="4797720" cy="4797360"/>
            <a:chOff x="652320" y="974880"/>
            <a:chExt cx="4797720" cy="4797360"/>
          </a:xfrm>
        </p:grpSpPr>
        <p:pic>
          <p:nvPicPr>
            <p:cNvPr id="1071" name="مستطيل 12" descr=""/>
            <p:cNvPicPr/>
            <p:nvPr/>
          </p:nvPicPr>
          <p:blipFill>
            <a:blip r:embed="rId3"/>
            <a:stretch/>
          </p:blipFill>
          <p:spPr>
            <a:xfrm>
              <a:off x="652320" y="974880"/>
              <a:ext cx="4797720" cy="4797360"/>
            </a:xfrm>
            <a:prstGeom prst="rect">
              <a:avLst/>
            </a:prstGeom>
            <a:ln w="0">
              <a:noFill/>
            </a:ln>
          </p:spPr>
        </p:pic>
        <p:sp>
          <p:nvSpPr>
            <p:cNvPr id="107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7"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43A0-C09F-4D12-A703-DCE3599E6D1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دائرة مجوفة 10"/>
          <p:cNvGrpSpPr/>
          <p:nvPr/>
        </p:nvGrpSpPr>
        <p:grpSpPr>
          <a:xfrm>
            <a:off x="171360" y="1042920"/>
            <a:ext cx="1157400" cy="1150920"/>
            <a:chOff x="171360" y="1042920"/>
            <a:chExt cx="1157400" cy="1150920"/>
          </a:xfrm>
        </p:grpSpPr>
        <p:pic>
          <p:nvPicPr>
            <p:cNvPr id="1119" name="دائرة مجوفة 10" descr=""/>
            <p:cNvPicPr/>
            <p:nvPr/>
          </p:nvPicPr>
          <p:blipFill>
            <a:blip r:embed="rId3"/>
            <a:stretch/>
          </p:blipFill>
          <p:spPr>
            <a:xfrm>
              <a:off x="171360" y="1042920"/>
              <a:ext cx="1157400" cy="1150920"/>
            </a:xfrm>
            <a:prstGeom prst="rect">
              <a:avLst/>
            </a:prstGeom>
            <a:ln w="0">
              <a:noFill/>
            </a:ln>
          </p:spPr>
        </p:pic>
        <p:sp>
          <p:nvSpPr>
            <p:cNvPr id="112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5"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3C52-55DA-4BFE-846B-9618ADE295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دائرة مجوفة 10"/>
          <p:cNvGrpSpPr/>
          <p:nvPr/>
        </p:nvGrpSpPr>
        <p:grpSpPr>
          <a:xfrm>
            <a:off x="171360" y="1042920"/>
            <a:ext cx="1157400" cy="1150920"/>
            <a:chOff x="171360" y="1042920"/>
            <a:chExt cx="1157400" cy="1150920"/>
          </a:xfrm>
        </p:grpSpPr>
        <p:pic>
          <p:nvPicPr>
            <p:cNvPr id="1167" name="دائرة مجوفة 10" descr=""/>
            <p:cNvPicPr/>
            <p:nvPr/>
          </p:nvPicPr>
          <p:blipFill>
            <a:blip r:embed="rId3"/>
            <a:stretch/>
          </p:blipFill>
          <p:spPr>
            <a:xfrm>
              <a:off x="171360" y="1042920"/>
              <a:ext cx="1157400" cy="1150920"/>
            </a:xfrm>
            <a:prstGeom prst="rect">
              <a:avLst/>
            </a:prstGeom>
            <a:ln w="0">
              <a:noFill/>
            </a:ln>
          </p:spPr>
        </p:pic>
        <p:sp>
          <p:nvSpPr>
            <p:cNvPr id="11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73"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385F-1BEB-4DD2-A0F0-DF6C11624B8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دائرة مجوفة 10"/>
          <p:cNvGrpSpPr/>
          <p:nvPr/>
        </p:nvGrpSpPr>
        <p:grpSpPr>
          <a:xfrm>
            <a:off x="171360" y="1042920"/>
            <a:ext cx="1157400" cy="1150920"/>
            <a:chOff x="171360" y="1042920"/>
            <a:chExt cx="1157400" cy="1150920"/>
          </a:xfrm>
        </p:grpSpPr>
        <p:pic>
          <p:nvPicPr>
            <p:cNvPr id="1215" name="دائرة مجوفة 10" descr=""/>
            <p:cNvPicPr/>
            <p:nvPr/>
          </p:nvPicPr>
          <p:blipFill>
            <a:blip r:embed="rId3"/>
            <a:stretch/>
          </p:blipFill>
          <p:spPr>
            <a:xfrm>
              <a:off x="171360" y="1042920"/>
              <a:ext cx="1157400" cy="1150920"/>
            </a:xfrm>
            <a:prstGeom prst="rect">
              <a:avLst/>
            </a:prstGeom>
            <a:ln w="0">
              <a:noFill/>
            </a:ln>
          </p:spPr>
        </p:pic>
        <p:sp>
          <p:nvSpPr>
            <p:cNvPr id="12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شكل بيضاوي 12"/>
          <p:cNvGrpSpPr/>
          <p:nvPr/>
        </p:nvGrpSpPr>
        <p:grpSpPr>
          <a:xfrm>
            <a:off x="920880" y="1414440"/>
            <a:ext cx="218880" cy="212760"/>
            <a:chOff x="920880" y="1414440"/>
            <a:chExt cx="218880" cy="212760"/>
          </a:xfrm>
        </p:grpSpPr>
        <p:pic>
          <p:nvPicPr>
            <p:cNvPr id="1220" name="شكل بيضاوي 12" descr=""/>
            <p:cNvPicPr/>
            <p:nvPr/>
          </p:nvPicPr>
          <p:blipFill>
            <a:blip r:embed="rId4"/>
            <a:stretch/>
          </p:blipFill>
          <p:spPr>
            <a:xfrm>
              <a:off x="920880" y="1414440"/>
              <a:ext cx="218880" cy="212760"/>
            </a:xfrm>
            <a:prstGeom prst="rect">
              <a:avLst/>
            </a:prstGeom>
            <a:ln w="0">
              <a:noFill/>
            </a:ln>
          </p:spPr>
        </p:pic>
        <p:sp>
          <p:nvSpPr>
            <p:cNvPr id="122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25"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AFB6-FC5E-42DD-9D65-A82E299A31C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دائرة مجوفة 10"/>
          <p:cNvGrpSpPr/>
          <p:nvPr/>
        </p:nvGrpSpPr>
        <p:grpSpPr>
          <a:xfrm>
            <a:off x="171360" y="1042920"/>
            <a:ext cx="1157400" cy="1150920"/>
            <a:chOff x="171360" y="1042920"/>
            <a:chExt cx="1157400" cy="1150920"/>
          </a:xfrm>
        </p:grpSpPr>
        <p:pic>
          <p:nvPicPr>
            <p:cNvPr id="1267" name="دائرة مجوفة 10" descr=""/>
            <p:cNvPicPr/>
            <p:nvPr/>
          </p:nvPicPr>
          <p:blipFill>
            <a:blip r:embed="rId3"/>
            <a:stretch/>
          </p:blipFill>
          <p:spPr>
            <a:xfrm>
              <a:off x="171360" y="1042920"/>
              <a:ext cx="1157400" cy="1150920"/>
            </a:xfrm>
            <a:prstGeom prst="rect">
              <a:avLst/>
            </a:prstGeom>
            <a:ln w="0">
              <a:noFill/>
            </a:ln>
          </p:spPr>
        </p:pic>
        <p:sp>
          <p:nvSpPr>
            <p:cNvPr id="12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73"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C661-B3BA-427F-9557-5F5415A87B2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شكل بيضاوي 15"/>
          <p:cNvGrpSpPr/>
          <p:nvPr/>
        </p:nvGrpSpPr>
        <p:grpSpPr>
          <a:xfrm>
            <a:off x="2170080" y="2816280"/>
            <a:ext cx="219240" cy="212760"/>
            <a:chOff x="2170080" y="2816280"/>
            <a:chExt cx="219240" cy="212760"/>
          </a:xfrm>
        </p:grpSpPr>
        <p:pic>
          <p:nvPicPr>
            <p:cNvPr id="1315" name="شكل بيضاوي 15" descr=""/>
            <p:cNvPicPr/>
            <p:nvPr/>
          </p:nvPicPr>
          <p:blipFill>
            <a:blip r:embed="rId3"/>
            <a:stretch/>
          </p:blipFill>
          <p:spPr>
            <a:xfrm>
              <a:off x="2170080" y="2816280"/>
              <a:ext cx="219240" cy="212760"/>
            </a:xfrm>
            <a:prstGeom prst="rect">
              <a:avLst/>
            </a:prstGeom>
            <a:ln w="0">
              <a:noFill/>
            </a:ln>
          </p:spPr>
        </p:pic>
        <p:sp>
          <p:nvSpPr>
            <p:cNvPr id="131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20"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3A2E-01AB-4FE6-878F-F1103B161A8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دائرة مجوفة 10"/>
          <p:cNvGrpSpPr/>
          <p:nvPr/>
        </p:nvGrpSpPr>
        <p:grpSpPr>
          <a:xfrm>
            <a:off x="171360" y="1042920"/>
            <a:ext cx="1157400" cy="1150920"/>
            <a:chOff x="171360" y="1042920"/>
            <a:chExt cx="1157400" cy="1150920"/>
          </a:xfrm>
        </p:grpSpPr>
        <p:pic>
          <p:nvPicPr>
            <p:cNvPr id="99" name="دائرة مجوفة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4"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141-E113-44D0-A587-1A60123B766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0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1" name="دائرة مجوفة 10"/>
          <p:cNvGrpSpPr/>
          <p:nvPr/>
        </p:nvGrpSpPr>
        <p:grpSpPr>
          <a:xfrm>
            <a:off x="171360" y="1042920"/>
            <a:ext cx="1157400" cy="1150920"/>
            <a:chOff x="171360" y="1042920"/>
            <a:chExt cx="1157400" cy="1150920"/>
          </a:xfrm>
        </p:grpSpPr>
        <p:pic>
          <p:nvPicPr>
            <p:cNvPr id="1362" name="دائرة مجوفة 10" descr=""/>
            <p:cNvPicPr/>
            <p:nvPr/>
          </p:nvPicPr>
          <p:blipFill>
            <a:blip r:embed="rId3"/>
            <a:stretch/>
          </p:blipFill>
          <p:spPr>
            <a:xfrm>
              <a:off x="171360" y="1042920"/>
              <a:ext cx="1157400" cy="1150920"/>
            </a:xfrm>
            <a:prstGeom prst="rect">
              <a:avLst/>
            </a:prstGeom>
            <a:ln w="0">
              <a:noFill/>
            </a:ln>
          </p:spPr>
        </p:pic>
        <p:sp>
          <p:nvSpPr>
            <p:cNvPr id="1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68"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978C-9871-499F-804E-C018E0E6574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09"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ECA3-28F4-491B-8AE9-D0D2B088342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دائرة مجوفة 10"/>
          <p:cNvGrpSpPr/>
          <p:nvPr/>
        </p:nvGrpSpPr>
        <p:grpSpPr>
          <a:xfrm>
            <a:off x="171360" y="1042920"/>
            <a:ext cx="1157400" cy="1150920"/>
            <a:chOff x="171360" y="1042920"/>
            <a:chExt cx="1157400" cy="1150920"/>
          </a:xfrm>
        </p:grpSpPr>
        <p:pic>
          <p:nvPicPr>
            <p:cNvPr id="1451" name="دائرة مجوفة 10" descr=""/>
            <p:cNvPicPr/>
            <p:nvPr/>
          </p:nvPicPr>
          <p:blipFill>
            <a:blip r:embed="rId3"/>
            <a:stretch/>
          </p:blipFill>
          <p:spPr>
            <a:xfrm>
              <a:off x="171360" y="1042920"/>
              <a:ext cx="1157400" cy="1150920"/>
            </a:xfrm>
            <a:prstGeom prst="rect">
              <a:avLst/>
            </a:prstGeom>
            <a:ln w="0">
              <a:noFill/>
            </a:ln>
          </p:spPr>
        </p:pic>
        <p:sp>
          <p:nvSpPr>
            <p:cNvPr id="14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7"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98B5-04FF-4AC1-AE49-12C02F7734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0"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8B30-8611-4020-9029-B7B0ED308A0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4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1"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6397-1298-47D3-9BDF-5946DB192AB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0" name="مستطيل 12"/>
          <p:cNvGrpSpPr/>
          <p:nvPr/>
        </p:nvGrpSpPr>
        <p:grpSpPr>
          <a:xfrm>
            <a:off x="652320" y="974880"/>
            <a:ext cx="4797720" cy="4797360"/>
            <a:chOff x="652320" y="974880"/>
            <a:chExt cx="4797720" cy="4797360"/>
          </a:xfrm>
        </p:grpSpPr>
        <p:pic>
          <p:nvPicPr>
            <p:cNvPr id="1581" name="مستطيل 12" descr=""/>
            <p:cNvPicPr/>
            <p:nvPr/>
          </p:nvPicPr>
          <p:blipFill>
            <a:blip r:embed="rId3"/>
            <a:stretch/>
          </p:blipFill>
          <p:spPr>
            <a:xfrm>
              <a:off x="652320" y="974880"/>
              <a:ext cx="4797720" cy="4797360"/>
            </a:xfrm>
            <a:prstGeom prst="rect">
              <a:avLst/>
            </a:prstGeom>
            <a:ln w="0">
              <a:noFill/>
            </a:ln>
          </p:spPr>
        </p:pic>
        <p:sp>
          <p:nvSpPr>
            <p:cNvPr id="158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7"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C612-1395-41DF-8944-19164923940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8" name="دائرة مجوفة 10"/>
          <p:cNvGrpSpPr/>
          <p:nvPr/>
        </p:nvGrpSpPr>
        <p:grpSpPr>
          <a:xfrm>
            <a:off x="171360" y="1042920"/>
            <a:ext cx="1157400" cy="1150920"/>
            <a:chOff x="171360" y="1042920"/>
            <a:chExt cx="1157400" cy="1150920"/>
          </a:xfrm>
        </p:grpSpPr>
        <p:pic>
          <p:nvPicPr>
            <p:cNvPr id="1629" name="دائرة مجوفة 10" descr=""/>
            <p:cNvPicPr/>
            <p:nvPr/>
          </p:nvPicPr>
          <p:blipFill>
            <a:blip r:embed="rId3"/>
            <a:stretch/>
          </p:blipFill>
          <p:spPr>
            <a:xfrm>
              <a:off x="171360" y="1042920"/>
              <a:ext cx="1157400" cy="1150920"/>
            </a:xfrm>
            <a:prstGeom prst="rect">
              <a:avLst/>
            </a:prstGeom>
            <a:ln w="0">
              <a:noFill/>
            </a:ln>
          </p:spPr>
        </p:pic>
        <p:sp>
          <p:nvSpPr>
            <p:cNvPr id="163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35"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2FA8-92FF-4A4B-A2C5-3B01594D147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6" name="دائرة مجوفة 10"/>
          <p:cNvGrpSpPr/>
          <p:nvPr/>
        </p:nvGrpSpPr>
        <p:grpSpPr>
          <a:xfrm>
            <a:off x="171360" y="1042920"/>
            <a:ext cx="1157400" cy="1150920"/>
            <a:chOff x="171360" y="1042920"/>
            <a:chExt cx="1157400" cy="1150920"/>
          </a:xfrm>
        </p:grpSpPr>
        <p:pic>
          <p:nvPicPr>
            <p:cNvPr id="1677" name="دائرة مجوفة 10" descr=""/>
            <p:cNvPicPr/>
            <p:nvPr/>
          </p:nvPicPr>
          <p:blipFill>
            <a:blip r:embed="rId3"/>
            <a:stretch/>
          </p:blipFill>
          <p:spPr>
            <a:xfrm>
              <a:off x="171360" y="1042920"/>
              <a:ext cx="1157400" cy="1150920"/>
            </a:xfrm>
            <a:prstGeom prst="rect">
              <a:avLst/>
            </a:prstGeom>
            <a:ln w="0">
              <a:noFill/>
            </a:ln>
          </p:spPr>
        </p:pic>
        <p:sp>
          <p:nvSpPr>
            <p:cNvPr id="16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6AB5-1CD5-4CEE-9408-D1A5EE33790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4" name="دائرة مجوفة 10"/>
          <p:cNvGrpSpPr/>
          <p:nvPr/>
        </p:nvGrpSpPr>
        <p:grpSpPr>
          <a:xfrm>
            <a:off x="171360" y="1042920"/>
            <a:ext cx="1157400" cy="1150920"/>
            <a:chOff x="171360" y="1042920"/>
            <a:chExt cx="1157400" cy="1150920"/>
          </a:xfrm>
        </p:grpSpPr>
        <p:pic>
          <p:nvPicPr>
            <p:cNvPr id="1725" name="دائرة مجوفة 10" descr=""/>
            <p:cNvPicPr/>
            <p:nvPr/>
          </p:nvPicPr>
          <p:blipFill>
            <a:blip r:embed="rId3"/>
            <a:stretch/>
          </p:blipFill>
          <p:spPr>
            <a:xfrm>
              <a:off x="171360" y="1042920"/>
              <a:ext cx="1157400" cy="1150920"/>
            </a:xfrm>
            <a:prstGeom prst="rect">
              <a:avLst/>
            </a:prstGeom>
            <a:ln w="0">
              <a:noFill/>
            </a:ln>
          </p:spPr>
        </p:pic>
        <p:sp>
          <p:nvSpPr>
            <p:cNvPr id="17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9" name="شكل بيضاوي 12"/>
          <p:cNvGrpSpPr/>
          <p:nvPr/>
        </p:nvGrpSpPr>
        <p:grpSpPr>
          <a:xfrm>
            <a:off x="920880" y="1414440"/>
            <a:ext cx="218880" cy="212760"/>
            <a:chOff x="920880" y="1414440"/>
            <a:chExt cx="218880" cy="212760"/>
          </a:xfrm>
        </p:grpSpPr>
        <p:pic>
          <p:nvPicPr>
            <p:cNvPr id="1730" name="شكل بيضاوي 12" descr=""/>
            <p:cNvPicPr/>
            <p:nvPr/>
          </p:nvPicPr>
          <p:blipFill>
            <a:blip r:embed="rId4"/>
            <a:stretch/>
          </p:blipFill>
          <p:spPr>
            <a:xfrm>
              <a:off x="920880" y="1414440"/>
              <a:ext cx="218880" cy="212760"/>
            </a:xfrm>
            <a:prstGeom prst="rect">
              <a:avLst/>
            </a:prstGeom>
            <a:ln w="0">
              <a:noFill/>
            </a:ln>
          </p:spPr>
        </p:pic>
        <p:sp>
          <p:nvSpPr>
            <p:cNvPr id="173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5"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9F8C-9901-4BD2-93FB-84F11A6723D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6" name="دائرة مجوفة 10"/>
          <p:cNvGrpSpPr/>
          <p:nvPr/>
        </p:nvGrpSpPr>
        <p:grpSpPr>
          <a:xfrm>
            <a:off x="171360" y="1042920"/>
            <a:ext cx="1157400" cy="1150920"/>
            <a:chOff x="171360" y="1042920"/>
            <a:chExt cx="1157400" cy="1150920"/>
          </a:xfrm>
        </p:grpSpPr>
        <p:pic>
          <p:nvPicPr>
            <p:cNvPr id="1777" name="دائرة مجوفة 10" descr=""/>
            <p:cNvPicPr/>
            <p:nvPr/>
          </p:nvPicPr>
          <p:blipFill>
            <a:blip r:embed="rId3"/>
            <a:stretch/>
          </p:blipFill>
          <p:spPr>
            <a:xfrm>
              <a:off x="171360" y="1042920"/>
              <a:ext cx="1157400" cy="1150920"/>
            </a:xfrm>
            <a:prstGeom prst="rect">
              <a:avLst/>
            </a:prstGeom>
            <a:ln w="0">
              <a:noFill/>
            </a:ln>
          </p:spPr>
        </p:pic>
        <p:sp>
          <p:nvSpPr>
            <p:cNvPr id="17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39F9-E03F-4BA0-BED6-043EDB14DB9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دائرة مجوفة 10"/>
          <p:cNvGrpSpPr/>
          <p:nvPr/>
        </p:nvGrpSpPr>
        <p:grpSpPr>
          <a:xfrm>
            <a:off x="171360" y="1042920"/>
            <a:ext cx="1157400" cy="1150920"/>
            <a:chOff x="171360" y="1042920"/>
            <a:chExt cx="1157400" cy="1150920"/>
          </a:xfrm>
        </p:grpSpPr>
        <p:pic>
          <p:nvPicPr>
            <p:cNvPr id="147" name="دائرة مجوفة 10" descr=""/>
            <p:cNvPicPr/>
            <p:nvPr/>
          </p:nvPicPr>
          <p:blipFill>
            <a:blip r:embed="rId3"/>
            <a:stretch/>
          </p:blipFill>
          <p:spPr>
            <a:xfrm>
              <a:off x="171360" y="1042920"/>
              <a:ext cx="1157400" cy="1150920"/>
            </a:xfrm>
            <a:prstGeom prst="rect">
              <a:avLst/>
            </a:prstGeom>
            <a:ln w="0">
              <a:noFill/>
            </a:ln>
          </p:spPr>
        </p:pic>
        <p:sp>
          <p:nvSpPr>
            <p:cNvPr id="14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78CC-9615-43EF-8764-D02864C2CF6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4" name="شكل بيضاوي 15"/>
          <p:cNvGrpSpPr/>
          <p:nvPr/>
        </p:nvGrpSpPr>
        <p:grpSpPr>
          <a:xfrm>
            <a:off x="2170080" y="2816280"/>
            <a:ext cx="219240" cy="212760"/>
            <a:chOff x="2170080" y="2816280"/>
            <a:chExt cx="219240" cy="212760"/>
          </a:xfrm>
        </p:grpSpPr>
        <p:pic>
          <p:nvPicPr>
            <p:cNvPr id="1825" name="شكل بيضاوي 15" descr=""/>
            <p:cNvPicPr/>
            <p:nvPr/>
          </p:nvPicPr>
          <p:blipFill>
            <a:blip r:embed="rId3"/>
            <a:stretch/>
          </p:blipFill>
          <p:spPr>
            <a:xfrm>
              <a:off x="2170080" y="2816280"/>
              <a:ext cx="219240" cy="212760"/>
            </a:xfrm>
            <a:prstGeom prst="rect">
              <a:avLst/>
            </a:prstGeom>
            <a:ln w="0">
              <a:noFill/>
            </a:ln>
          </p:spPr>
        </p:pic>
        <p:sp>
          <p:nvSpPr>
            <p:cNvPr id="182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CAFF-2164-4365-98CC-89D34118AC6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1" name="دائرة مجوفة 10"/>
          <p:cNvGrpSpPr/>
          <p:nvPr/>
        </p:nvGrpSpPr>
        <p:grpSpPr>
          <a:xfrm>
            <a:off x="171360" y="1042920"/>
            <a:ext cx="1157400" cy="1150920"/>
            <a:chOff x="171360" y="1042920"/>
            <a:chExt cx="1157400" cy="1150920"/>
          </a:xfrm>
        </p:grpSpPr>
        <p:pic>
          <p:nvPicPr>
            <p:cNvPr id="1872" name="دائرة مجوفة 10" descr=""/>
            <p:cNvPicPr/>
            <p:nvPr/>
          </p:nvPicPr>
          <p:blipFill>
            <a:blip r:embed="rId3"/>
            <a:stretch/>
          </p:blipFill>
          <p:spPr>
            <a:xfrm>
              <a:off x="171360" y="1042920"/>
              <a:ext cx="1157400" cy="1150920"/>
            </a:xfrm>
            <a:prstGeom prst="rect">
              <a:avLst/>
            </a:prstGeom>
            <a:ln w="0">
              <a:noFill/>
            </a:ln>
          </p:spPr>
        </p:pic>
        <p:sp>
          <p:nvSpPr>
            <p:cNvPr id="187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7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8"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A0FB-1DAF-42B3-9101-E0ED907B33B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9"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99A2-8029-4DD7-A44F-E020081A939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0" name="دائرة مجوفة 10"/>
          <p:cNvGrpSpPr/>
          <p:nvPr/>
        </p:nvGrpSpPr>
        <p:grpSpPr>
          <a:xfrm>
            <a:off x="171360" y="1042920"/>
            <a:ext cx="1157400" cy="1150920"/>
            <a:chOff x="171360" y="1042920"/>
            <a:chExt cx="1157400" cy="1150920"/>
          </a:xfrm>
        </p:grpSpPr>
        <p:pic>
          <p:nvPicPr>
            <p:cNvPr id="1961" name="دائرة مجوفة 10" descr=""/>
            <p:cNvPicPr/>
            <p:nvPr/>
          </p:nvPicPr>
          <p:blipFill>
            <a:blip r:embed="rId3"/>
            <a:stretch/>
          </p:blipFill>
          <p:spPr>
            <a:xfrm>
              <a:off x="171360" y="1042920"/>
              <a:ext cx="1157400" cy="1150920"/>
            </a:xfrm>
            <a:prstGeom prst="rect">
              <a:avLst/>
            </a:prstGeom>
            <a:ln w="0">
              <a:noFill/>
            </a:ln>
          </p:spPr>
        </p:pic>
        <p:sp>
          <p:nvSpPr>
            <p:cNvPr id="19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7"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C267-06BE-45D9-9C56-83A1A2E3E31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0"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9EFE-6A1C-444C-BC4A-637B08801B6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51"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EECC-B7D0-4063-9A8D-17DD4AE7624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90" name="مستطيل 12"/>
          <p:cNvGrpSpPr/>
          <p:nvPr/>
        </p:nvGrpSpPr>
        <p:grpSpPr>
          <a:xfrm>
            <a:off x="652320" y="974880"/>
            <a:ext cx="4797720" cy="4797360"/>
            <a:chOff x="652320" y="974880"/>
            <a:chExt cx="4797720" cy="4797360"/>
          </a:xfrm>
        </p:grpSpPr>
        <p:pic>
          <p:nvPicPr>
            <p:cNvPr id="2091" name="مستطيل 12" descr=""/>
            <p:cNvPicPr/>
            <p:nvPr/>
          </p:nvPicPr>
          <p:blipFill>
            <a:blip r:embed="rId3"/>
            <a:stretch/>
          </p:blipFill>
          <p:spPr>
            <a:xfrm>
              <a:off x="652320" y="974880"/>
              <a:ext cx="4797720" cy="4797360"/>
            </a:xfrm>
            <a:prstGeom prst="rect">
              <a:avLst/>
            </a:prstGeom>
            <a:ln w="0">
              <a:noFill/>
            </a:ln>
          </p:spPr>
        </p:pic>
        <p:sp>
          <p:nvSpPr>
            <p:cNvPr id="209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97"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9748-9896-4703-A26D-D3CFC811E9B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8" name="دائرة مجوفة 10"/>
          <p:cNvGrpSpPr/>
          <p:nvPr/>
        </p:nvGrpSpPr>
        <p:grpSpPr>
          <a:xfrm>
            <a:off x="171360" y="1042920"/>
            <a:ext cx="1157400" cy="1150920"/>
            <a:chOff x="171360" y="1042920"/>
            <a:chExt cx="1157400" cy="1150920"/>
          </a:xfrm>
        </p:grpSpPr>
        <p:pic>
          <p:nvPicPr>
            <p:cNvPr id="2139" name="دائرة مجوفة 10" descr=""/>
            <p:cNvPicPr/>
            <p:nvPr/>
          </p:nvPicPr>
          <p:blipFill>
            <a:blip r:embed="rId3"/>
            <a:stretch/>
          </p:blipFill>
          <p:spPr>
            <a:xfrm>
              <a:off x="171360" y="1042920"/>
              <a:ext cx="1157400" cy="1150920"/>
            </a:xfrm>
            <a:prstGeom prst="rect">
              <a:avLst/>
            </a:prstGeom>
            <a:ln w="0">
              <a:noFill/>
            </a:ln>
          </p:spPr>
        </p:pic>
        <p:sp>
          <p:nvSpPr>
            <p:cNvPr id="21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5"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96B4-3FA6-4ADE-8C42-933EB1D2986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6" name="دائرة مجوفة 10"/>
          <p:cNvGrpSpPr/>
          <p:nvPr/>
        </p:nvGrpSpPr>
        <p:grpSpPr>
          <a:xfrm>
            <a:off x="171360" y="1042920"/>
            <a:ext cx="1157400" cy="1150920"/>
            <a:chOff x="171360" y="1042920"/>
            <a:chExt cx="1157400" cy="1150920"/>
          </a:xfrm>
        </p:grpSpPr>
        <p:pic>
          <p:nvPicPr>
            <p:cNvPr id="2187" name="دائرة مجوفة 10" descr=""/>
            <p:cNvPicPr/>
            <p:nvPr/>
          </p:nvPicPr>
          <p:blipFill>
            <a:blip r:embed="rId3"/>
            <a:stretch/>
          </p:blipFill>
          <p:spPr>
            <a:xfrm>
              <a:off x="171360" y="1042920"/>
              <a:ext cx="1157400" cy="1150920"/>
            </a:xfrm>
            <a:prstGeom prst="rect">
              <a:avLst/>
            </a:prstGeom>
            <a:ln w="0">
              <a:noFill/>
            </a:ln>
          </p:spPr>
        </p:pic>
        <p:sp>
          <p:nvSpPr>
            <p:cNvPr id="21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93"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FCB2-8A46-4C51-828A-77BE2357F20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4" name="دائرة مجوفة 10"/>
          <p:cNvGrpSpPr/>
          <p:nvPr/>
        </p:nvGrpSpPr>
        <p:grpSpPr>
          <a:xfrm>
            <a:off x="171360" y="1042920"/>
            <a:ext cx="1157400" cy="1150920"/>
            <a:chOff x="171360" y="1042920"/>
            <a:chExt cx="1157400" cy="1150920"/>
          </a:xfrm>
        </p:grpSpPr>
        <p:pic>
          <p:nvPicPr>
            <p:cNvPr id="2235" name="دائرة مجوفة 10" descr=""/>
            <p:cNvPicPr/>
            <p:nvPr/>
          </p:nvPicPr>
          <p:blipFill>
            <a:blip r:embed="rId3"/>
            <a:stretch/>
          </p:blipFill>
          <p:spPr>
            <a:xfrm>
              <a:off x="171360" y="1042920"/>
              <a:ext cx="1157400" cy="1150920"/>
            </a:xfrm>
            <a:prstGeom prst="rect">
              <a:avLst/>
            </a:prstGeom>
            <a:ln w="0">
              <a:noFill/>
            </a:ln>
          </p:spPr>
        </p:pic>
        <p:sp>
          <p:nvSpPr>
            <p:cNvPr id="22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9" name="شكل بيضاوي 12"/>
          <p:cNvGrpSpPr/>
          <p:nvPr/>
        </p:nvGrpSpPr>
        <p:grpSpPr>
          <a:xfrm>
            <a:off x="920880" y="1414440"/>
            <a:ext cx="218880" cy="212760"/>
            <a:chOff x="920880" y="1414440"/>
            <a:chExt cx="218880" cy="212760"/>
          </a:xfrm>
        </p:grpSpPr>
        <p:pic>
          <p:nvPicPr>
            <p:cNvPr id="2240" name="شكل بيضاوي 12" descr=""/>
            <p:cNvPicPr/>
            <p:nvPr/>
          </p:nvPicPr>
          <p:blipFill>
            <a:blip r:embed="rId4"/>
            <a:stretch/>
          </p:blipFill>
          <p:spPr>
            <a:xfrm>
              <a:off x="920880" y="1414440"/>
              <a:ext cx="218880" cy="212760"/>
            </a:xfrm>
            <a:prstGeom prst="rect">
              <a:avLst/>
            </a:prstGeom>
            <a:ln w="0">
              <a:noFill/>
            </a:ln>
          </p:spPr>
        </p:pic>
        <p:sp>
          <p:nvSpPr>
            <p:cNvPr id="22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45"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2681-68AD-4FB8-B640-6010F5B219A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دائرة مجوفة 10"/>
          <p:cNvGrpSpPr/>
          <p:nvPr/>
        </p:nvGrpSpPr>
        <p:grpSpPr>
          <a:xfrm>
            <a:off x="171360" y="1042920"/>
            <a:ext cx="1157400" cy="1150920"/>
            <a:chOff x="171360" y="1042920"/>
            <a:chExt cx="1157400" cy="1150920"/>
          </a:xfrm>
        </p:grpSpPr>
        <p:pic>
          <p:nvPicPr>
            <p:cNvPr id="195" name="دائرة مجوفة 10" descr=""/>
            <p:cNvPicPr/>
            <p:nvPr/>
          </p:nvPicPr>
          <p:blipFill>
            <a:blip r:embed="rId3"/>
            <a:stretch/>
          </p:blipFill>
          <p:spPr>
            <a:xfrm>
              <a:off x="171360" y="1042920"/>
              <a:ext cx="1157400" cy="1150920"/>
            </a:xfrm>
            <a:prstGeom prst="rect">
              <a:avLst/>
            </a:prstGeom>
            <a:ln w="0">
              <a:noFill/>
            </a:ln>
          </p:spPr>
        </p:pic>
        <p:sp>
          <p:nvSpPr>
            <p:cNvPr id="1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F74E-035C-4F89-BF36-DD43F67FAE1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03"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6" name="دائرة مجوفة 10"/>
          <p:cNvGrpSpPr/>
          <p:nvPr/>
        </p:nvGrpSpPr>
        <p:grpSpPr>
          <a:xfrm>
            <a:off x="171360" y="1042920"/>
            <a:ext cx="1157400" cy="1150920"/>
            <a:chOff x="171360" y="1042920"/>
            <a:chExt cx="1157400" cy="1150920"/>
          </a:xfrm>
        </p:grpSpPr>
        <p:pic>
          <p:nvPicPr>
            <p:cNvPr id="2287" name="دائرة مجوفة 10" descr=""/>
            <p:cNvPicPr/>
            <p:nvPr/>
          </p:nvPicPr>
          <p:blipFill>
            <a:blip r:embed="rId3"/>
            <a:stretch/>
          </p:blipFill>
          <p:spPr>
            <a:xfrm>
              <a:off x="171360" y="1042920"/>
              <a:ext cx="1157400" cy="1150920"/>
            </a:xfrm>
            <a:prstGeom prst="rect">
              <a:avLst/>
            </a:prstGeom>
            <a:ln w="0">
              <a:noFill/>
            </a:ln>
          </p:spPr>
        </p:pic>
        <p:sp>
          <p:nvSpPr>
            <p:cNvPr id="2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93"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7485-0392-4B08-9771-684B3F70690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4" name="شكل بيضاوي 15"/>
          <p:cNvGrpSpPr/>
          <p:nvPr/>
        </p:nvGrpSpPr>
        <p:grpSpPr>
          <a:xfrm>
            <a:off x="2170080" y="2816280"/>
            <a:ext cx="219240" cy="212760"/>
            <a:chOff x="2170080" y="2816280"/>
            <a:chExt cx="219240" cy="212760"/>
          </a:xfrm>
        </p:grpSpPr>
        <p:pic>
          <p:nvPicPr>
            <p:cNvPr id="2335" name="شكل بيضاوي 15" descr=""/>
            <p:cNvPicPr/>
            <p:nvPr/>
          </p:nvPicPr>
          <p:blipFill>
            <a:blip r:embed="rId3"/>
            <a:stretch/>
          </p:blipFill>
          <p:spPr>
            <a:xfrm>
              <a:off x="2170080" y="2816280"/>
              <a:ext cx="219240" cy="212760"/>
            </a:xfrm>
            <a:prstGeom prst="rect">
              <a:avLst/>
            </a:prstGeom>
            <a:ln w="0">
              <a:noFill/>
            </a:ln>
          </p:spPr>
        </p:pic>
        <p:sp>
          <p:nvSpPr>
            <p:cNvPr id="233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40"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BACF-3E84-46A1-97E3-212B68F63DA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1" name="دائرة مجوفة 10"/>
          <p:cNvGrpSpPr/>
          <p:nvPr/>
        </p:nvGrpSpPr>
        <p:grpSpPr>
          <a:xfrm>
            <a:off x="171360" y="1042920"/>
            <a:ext cx="1157400" cy="1150920"/>
            <a:chOff x="171360" y="1042920"/>
            <a:chExt cx="1157400" cy="1150920"/>
          </a:xfrm>
        </p:grpSpPr>
        <p:pic>
          <p:nvPicPr>
            <p:cNvPr id="2382" name="دائرة مجوفة 10" descr=""/>
            <p:cNvPicPr/>
            <p:nvPr/>
          </p:nvPicPr>
          <p:blipFill>
            <a:blip r:embed="rId3"/>
            <a:stretch/>
          </p:blipFill>
          <p:spPr>
            <a:xfrm>
              <a:off x="171360" y="1042920"/>
              <a:ext cx="1157400" cy="1150920"/>
            </a:xfrm>
            <a:prstGeom prst="rect">
              <a:avLst/>
            </a:prstGeom>
            <a:ln w="0">
              <a:noFill/>
            </a:ln>
          </p:spPr>
        </p:pic>
        <p:sp>
          <p:nvSpPr>
            <p:cNvPr id="238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8"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1E11-7B1D-4ACC-B66F-6BE03A1BE7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9"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3C65-81D8-487F-9693-D37167183A4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0" name="دائرة مجوفة 10"/>
          <p:cNvGrpSpPr/>
          <p:nvPr/>
        </p:nvGrpSpPr>
        <p:grpSpPr>
          <a:xfrm>
            <a:off x="171360" y="1042920"/>
            <a:ext cx="1157400" cy="1150920"/>
            <a:chOff x="171360" y="1042920"/>
            <a:chExt cx="1157400" cy="1150920"/>
          </a:xfrm>
        </p:grpSpPr>
        <p:pic>
          <p:nvPicPr>
            <p:cNvPr id="2471" name="دائرة مجوفة 10" descr=""/>
            <p:cNvPicPr/>
            <p:nvPr/>
          </p:nvPicPr>
          <p:blipFill>
            <a:blip r:embed="rId3"/>
            <a:stretch/>
          </p:blipFill>
          <p:spPr>
            <a:xfrm>
              <a:off x="171360" y="1042920"/>
              <a:ext cx="1157400" cy="1150920"/>
            </a:xfrm>
            <a:prstGeom prst="rect">
              <a:avLst/>
            </a:prstGeom>
            <a:ln w="0">
              <a:noFill/>
            </a:ln>
          </p:spPr>
        </p:pic>
        <p:sp>
          <p:nvSpPr>
            <p:cNvPr id="247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7"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2269-BE94-4A81-938B-8D27C229CC4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20"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3D0C-FDE2-4622-B412-381C77B3BBA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61"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A0A3-674B-408F-9BB8-9AFA036389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00" name="مستطيل 12"/>
          <p:cNvGrpSpPr/>
          <p:nvPr/>
        </p:nvGrpSpPr>
        <p:grpSpPr>
          <a:xfrm>
            <a:off x="652320" y="974880"/>
            <a:ext cx="4797720" cy="4797360"/>
            <a:chOff x="652320" y="974880"/>
            <a:chExt cx="4797720" cy="4797360"/>
          </a:xfrm>
        </p:grpSpPr>
        <p:pic>
          <p:nvPicPr>
            <p:cNvPr id="2601" name="مستطيل 12" descr=""/>
            <p:cNvPicPr/>
            <p:nvPr/>
          </p:nvPicPr>
          <p:blipFill>
            <a:blip r:embed="rId3"/>
            <a:stretch/>
          </p:blipFill>
          <p:spPr>
            <a:xfrm>
              <a:off x="652320" y="974880"/>
              <a:ext cx="4797720" cy="4797360"/>
            </a:xfrm>
            <a:prstGeom prst="rect">
              <a:avLst/>
            </a:prstGeom>
            <a:ln w="0">
              <a:noFill/>
            </a:ln>
          </p:spPr>
        </p:pic>
        <p:sp>
          <p:nvSpPr>
            <p:cNvPr id="260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07"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DCC5-A4B0-441B-AEBD-13411DD5AF8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دائرة مجوفة 10"/>
          <p:cNvGrpSpPr/>
          <p:nvPr/>
        </p:nvGrpSpPr>
        <p:grpSpPr>
          <a:xfrm>
            <a:off x="171360" y="1042920"/>
            <a:ext cx="1157400" cy="1150920"/>
            <a:chOff x="171360" y="1042920"/>
            <a:chExt cx="1157400" cy="1150920"/>
          </a:xfrm>
        </p:grpSpPr>
        <p:pic>
          <p:nvPicPr>
            <p:cNvPr id="2649" name="دائرة مجوفة 10" descr=""/>
            <p:cNvPicPr/>
            <p:nvPr/>
          </p:nvPicPr>
          <p:blipFill>
            <a:blip r:embed="rId3"/>
            <a:stretch/>
          </p:blipFill>
          <p:spPr>
            <a:xfrm>
              <a:off x="171360" y="1042920"/>
              <a:ext cx="1157400" cy="1150920"/>
            </a:xfrm>
            <a:prstGeom prst="rect">
              <a:avLst/>
            </a:prstGeom>
            <a:ln w="0">
              <a:noFill/>
            </a:ln>
          </p:spPr>
        </p:pic>
        <p:sp>
          <p:nvSpPr>
            <p:cNvPr id="26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55"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4706-AD91-4565-B773-1DD9296BA5C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4"/>
    <p:sldLayoutId id="2147484391" r:id="rId5"/>
    <p:sldLayoutId id="2147484392" r:id="rId6"/>
    <p:sldLayoutId id="2147484393" r:id="rId7"/>
    <p:sldLayoutId id="2147484394" r:id="rId8"/>
    <p:sldLayoutId id="2147484395" r:id="rId9"/>
    <p:sldLayoutId id="2147484396" r:id="rId10"/>
    <p:sldLayoutId id="2147484397" r:id="rId11"/>
    <p:sldLayoutId id="2147484398" r:id="rId12"/>
    <p:sldLayoutId id="2147484399" r:id="rId13"/>
    <p:sldLayoutId id="2147484400" r:id="rId14"/>
    <p:sldLayoutId id="2147484401" r:id="rId15"/>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6" name="دائرة مجوفة 10"/>
          <p:cNvGrpSpPr/>
          <p:nvPr/>
        </p:nvGrpSpPr>
        <p:grpSpPr>
          <a:xfrm>
            <a:off x="171360" y="1042920"/>
            <a:ext cx="1157400" cy="1150920"/>
            <a:chOff x="171360" y="1042920"/>
            <a:chExt cx="1157400" cy="1150920"/>
          </a:xfrm>
        </p:grpSpPr>
        <p:pic>
          <p:nvPicPr>
            <p:cNvPr id="2697" name="دائرة مجوفة 10" descr=""/>
            <p:cNvPicPr/>
            <p:nvPr/>
          </p:nvPicPr>
          <p:blipFill>
            <a:blip r:embed="rId3"/>
            <a:stretch/>
          </p:blipFill>
          <p:spPr>
            <a:xfrm>
              <a:off x="171360" y="1042920"/>
              <a:ext cx="1157400" cy="1150920"/>
            </a:xfrm>
            <a:prstGeom prst="rect">
              <a:avLst/>
            </a:prstGeom>
            <a:ln w="0">
              <a:noFill/>
            </a:ln>
          </p:spPr>
        </p:pic>
        <p:sp>
          <p:nvSpPr>
            <p:cNvPr id="26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03"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A814-BD6E-4A8C-B890-8DCC7CC983B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دائرة مجوفة 10"/>
          <p:cNvGrpSpPr/>
          <p:nvPr/>
        </p:nvGrpSpPr>
        <p:grpSpPr>
          <a:xfrm>
            <a:off x="171360" y="1042920"/>
            <a:ext cx="1157400" cy="1150920"/>
            <a:chOff x="171360" y="1042920"/>
            <a:chExt cx="1157400" cy="1150920"/>
          </a:xfrm>
        </p:grpSpPr>
        <p:pic>
          <p:nvPicPr>
            <p:cNvPr id="243" name="دائرة مجوفة 10" descr=""/>
            <p:cNvPicPr/>
            <p:nvPr/>
          </p:nvPicPr>
          <p:blipFill>
            <a:blip r:embed="rId3"/>
            <a:stretch/>
          </p:blipFill>
          <p:spPr>
            <a:xfrm>
              <a:off x="171360" y="1042920"/>
              <a:ext cx="1157400" cy="1150920"/>
            </a:xfrm>
            <a:prstGeom prst="rect">
              <a:avLst/>
            </a:prstGeom>
            <a:ln w="0">
              <a:noFill/>
            </a:ln>
          </p:spPr>
        </p:pic>
        <p:sp>
          <p:nvSpPr>
            <p:cNvPr id="24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C0B2-3BDF-44AE-B204-F638A5D4CF8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5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دائرة مجوفة 10"/>
          <p:cNvGrpSpPr/>
          <p:nvPr/>
        </p:nvGrpSpPr>
        <p:grpSpPr>
          <a:xfrm>
            <a:off x="171360" y="1042920"/>
            <a:ext cx="1157400" cy="1150920"/>
            <a:chOff x="171360" y="1042920"/>
            <a:chExt cx="1157400" cy="1150920"/>
          </a:xfrm>
        </p:grpSpPr>
        <p:pic>
          <p:nvPicPr>
            <p:cNvPr id="2745" name="دائرة مجوفة 10" descr=""/>
            <p:cNvPicPr/>
            <p:nvPr/>
          </p:nvPicPr>
          <p:blipFill>
            <a:blip r:embed="rId3"/>
            <a:stretch/>
          </p:blipFill>
          <p:spPr>
            <a:xfrm>
              <a:off x="171360" y="1042920"/>
              <a:ext cx="1157400" cy="1150920"/>
            </a:xfrm>
            <a:prstGeom prst="rect">
              <a:avLst/>
            </a:prstGeom>
            <a:ln w="0">
              <a:noFill/>
            </a:ln>
          </p:spPr>
        </p:pic>
        <p:sp>
          <p:nvSpPr>
            <p:cNvPr id="27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9" name="شكل بيضاوي 12"/>
          <p:cNvGrpSpPr/>
          <p:nvPr/>
        </p:nvGrpSpPr>
        <p:grpSpPr>
          <a:xfrm>
            <a:off x="920880" y="1414440"/>
            <a:ext cx="218880" cy="212760"/>
            <a:chOff x="920880" y="1414440"/>
            <a:chExt cx="218880" cy="212760"/>
          </a:xfrm>
        </p:grpSpPr>
        <p:pic>
          <p:nvPicPr>
            <p:cNvPr id="2750" name="شكل بيضاوي 12" descr=""/>
            <p:cNvPicPr/>
            <p:nvPr/>
          </p:nvPicPr>
          <p:blipFill>
            <a:blip r:embed="rId4"/>
            <a:stretch/>
          </p:blipFill>
          <p:spPr>
            <a:xfrm>
              <a:off x="920880" y="1414440"/>
              <a:ext cx="218880" cy="212760"/>
            </a:xfrm>
            <a:prstGeom prst="rect">
              <a:avLst/>
            </a:prstGeom>
            <a:ln w="0">
              <a:noFill/>
            </a:ln>
          </p:spPr>
        </p:pic>
        <p:sp>
          <p:nvSpPr>
            <p:cNvPr id="27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55"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B8E1-3CDB-4EEF-83B9-0CB8AA29349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6" name="دائرة مجوفة 10"/>
          <p:cNvGrpSpPr/>
          <p:nvPr/>
        </p:nvGrpSpPr>
        <p:grpSpPr>
          <a:xfrm>
            <a:off x="171360" y="1042920"/>
            <a:ext cx="1157400" cy="1150920"/>
            <a:chOff x="171360" y="1042920"/>
            <a:chExt cx="1157400" cy="1150920"/>
          </a:xfrm>
        </p:grpSpPr>
        <p:pic>
          <p:nvPicPr>
            <p:cNvPr id="2797" name="دائرة مجوفة 10" descr=""/>
            <p:cNvPicPr/>
            <p:nvPr/>
          </p:nvPicPr>
          <p:blipFill>
            <a:blip r:embed="rId3"/>
            <a:stretch/>
          </p:blipFill>
          <p:spPr>
            <a:xfrm>
              <a:off x="171360" y="1042920"/>
              <a:ext cx="1157400" cy="1150920"/>
            </a:xfrm>
            <a:prstGeom prst="rect">
              <a:avLst/>
            </a:prstGeom>
            <a:ln w="0">
              <a:noFill/>
            </a:ln>
          </p:spPr>
        </p:pic>
        <p:sp>
          <p:nvSpPr>
            <p:cNvPr id="27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5995-070B-4F52-8E4F-1721DFE2CE6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4" name="شكل بيضاوي 15"/>
          <p:cNvGrpSpPr/>
          <p:nvPr/>
        </p:nvGrpSpPr>
        <p:grpSpPr>
          <a:xfrm>
            <a:off x="2170080" y="2816280"/>
            <a:ext cx="219240" cy="212760"/>
            <a:chOff x="2170080" y="2816280"/>
            <a:chExt cx="219240" cy="212760"/>
          </a:xfrm>
        </p:grpSpPr>
        <p:pic>
          <p:nvPicPr>
            <p:cNvPr id="2845" name="شكل بيضاوي 15" descr=""/>
            <p:cNvPicPr/>
            <p:nvPr/>
          </p:nvPicPr>
          <p:blipFill>
            <a:blip r:embed="rId3"/>
            <a:stretch/>
          </p:blipFill>
          <p:spPr>
            <a:xfrm>
              <a:off x="2170080" y="2816280"/>
              <a:ext cx="219240" cy="212760"/>
            </a:xfrm>
            <a:prstGeom prst="rect">
              <a:avLst/>
            </a:prstGeom>
            <a:ln w="0">
              <a:noFill/>
            </a:ln>
          </p:spPr>
        </p:pic>
        <p:sp>
          <p:nvSpPr>
            <p:cNvPr id="28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0"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0546-2375-4654-877F-54EA718BC2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1" name="دائرة مجوفة 10"/>
          <p:cNvGrpSpPr/>
          <p:nvPr/>
        </p:nvGrpSpPr>
        <p:grpSpPr>
          <a:xfrm>
            <a:off x="171360" y="1042920"/>
            <a:ext cx="1157400" cy="1150920"/>
            <a:chOff x="171360" y="1042920"/>
            <a:chExt cx="1157400" cy="1150920"/>
          </a:xfrm>
        </p:grpSpPr>
        <p:pic>
          <p:nvPicPr>
            <p:cNvPr id="2892" name="دائرة مجوفة 10" descr=""/>
            <p:cNvPicPr/>
            <p:nvPr/>
          </p:nvPicPr>
          <p:blipFill>
            <a:blip r:embed="rId3"/>
            <a:stretch/>
          </p:blipFill>
          <p:spPr>
            <a:xfrm>
              <a:off x="171360" y="1042920"/>
              <a:ext cx="1157400" cy="1150920"/>
            </a:xfrm>
            <a:prstGeom prst="rect">
              <a:avLst/>
            </a:prstGeom>
            <a:ln w="0">
              <a:noFill/>
            </a:ln>
          </p:spPr>
        </p:pic>
        <p:sp>
          <p:nvSpPr>
            <p:cNvPr id="28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98"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0A52-0D66-4CEB-9ADA-12CF71FC28F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4"/>
    <p:sldLayoutId id="2147484456" r:id="rId5"/>
    <p:sldLayoutId id="2147484457" r:id="rId6"/>
    <p:sldLayoutId id="2147484458" r:id="rId7"/>
    <p:sldLayoutId id="2147484459" r:id="rId8"/>
    <p:sldLayoutId id="2147484460" r:id="rId9"/>
    <p:sldLayoutId id="2147484461" r:id="rId10"/>
    <p:sldLayoutId id="2147484462" r:id="rId11"/>
    <p:sldLayoutId id="2147484463" r:id="rId12"/>
    <p:sldLayoutId id="2147484464" r:id="rId13"/>
    <p:sldLayoutId id="2147484465" r:id="rId14"/>
    <p:sldLayoutId id="2147484466" r:id="rId15"/>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9"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A637-7A20-4012-9BBD-715DC32CC3F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0" name="دائرة مجوفة 10"/>
          <p:cNvGrpSpPr/>
          <p:nvPr/>
        </p:nvGrpSpPr>
        <p:grpSpPr>
          <a:xfrm>
            <a:off x="171360" y="1042920"/>
            <a:ext cx="1157400" cy="1150920"/>
            <a:chOff x="171360" y="1042920"/>
            <a:chExt cx="1157400" cy="1150920"/>
          </a:xfrm>
        </p:grpSpPr>
        <p:pic>
          <p:nvPicPr>
            <p:cNvPr id="2981" name="دائرة مجوفة 10" descr=""/>
            <p:cNvPicPr/>
            <p:nvPr/>
          </p:nvPicPr>
          <p:blipFill>
            <a:blip r:embed="rId3"/>
            <a:stretch/>
          </p:blipFill>
          <p:spPr>
            <a:xfrm>
              <a:off x="171360" y="1042920"/>
              <a:ext cx="1157400" cy="1150920"/>
            </a:xfrm>
            <a:prstGeom prst="rect">
              <a:avLst/>
            </a:prstGeom>
            <a:ln w="0">
              <a:noFill/>
            </a:ln>
          </p:spPr>
        </p:pic>
        <p:sp>
          <p:nvSpPr>
            <p:cNvPr id="298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7"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EFA2-35CD-45F0-86EA-EF27E66CBEF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30"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DC16-37C6-43B0-B35B-B04502BE2C9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71"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DBB0-600F-419E-A6F2-32DD96B09DB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0" name="مستطيل 12"/>
          <p:cNvGrpSpPr/>
          <p:nvPr/>
        </p:nvGrpSpPr>
        <p:grpSpPr>
          <a:xfrm>
            <a:off x="652320" y="974880"/>
            <a:ext cx="4797720" cy="4797360"/>
            <a:chOff x="652320" y="974880"/>
            <a:chExt cx="4797720" cy="4797360"/>
          </a:xfrm>
        </p:grpSpPr>
        <p:pic>
          <p:nvPicPr>
            <p:cNvPr id="3111" name="مستطيل 12" descr=""/>
            <p:cNvPicPr/>
            <p:nvPr/>
          </p:nvPicPr>
          <p:blipFill>
            <a:blip r:embed="rId3"/>
            <a:stretch/>
          </p:blipFill>
          <p:spPr>
            <a:xfrm>
              <a:off x="652320" y="974880"/>
              <a:ext cx="4797720" cy="4797360"/>
            </a:xfrm>
            <a:prstGeom prst="rect">
              <a:avLst/>
            </a:prstGeom>
            <a:ln w="0">
              <a:noFill/>
            </a:ln>
          </p:spPr>
        </p:pic>
        <p:sp>
          <p:nvSpPr>
            <p:cNvPr id="311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7"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9CEC-6810-416C-8287-1E179F44868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8" name="دائرة مجوفة 10"/>
          <p:cNvGrpSpPr/>
          <p:nvPr/>
        </p:nvGrpSpPr>
        <p:grpSpPr>
          <a:xfrm>
            <a:off x="171360" y="1042920"/>
            <a:ext cx="1157400" cy="1150920"/>
            <a:chOff x="171360" y="1042920"/>
            <a:chExt cx="1157400" cy="1150920"/>
          </a:xfrm>
        </p:grpSpPr>
        <p:pic>
          <p:nvPicPr>
            <p:cNvPr id="3159" name="دائرة مجوفة 10" descr=""/>
            <p:cNvPicPr/>
            <p:nvPr/>
          </p:nvPicPr>
          <p:blipFill>
            <a:blip r:embed="rId3"/>
            <a:stretch/>
          </p:blipFill>
          <p:spPr>
            <a:xfrm>
              <a:off x="171360" y="1042920"/>
              <a:ext cx="1157400" cy="1150920"/>
            </a:xfrm>
            <a:prstGeom prst="rect">
              <a:avLst/>
            </a:prstGeom>
            <a:ln w="0">
              <a:noFill/>
            </a:ln>
          </p:spPr>
        </p:pic>
        <p:sp>
          <p:nvSpPr>
            <p:cNvPr id="316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65"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A776-E46A-41D5-821A-8A89947EB38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دائرة مجوفة 10"/>
          <p:cNvGrpSpPr/>
          <p:nvPr/>
        </p:nvGrpSpPr>
        <p:grpSpPr>
          <a:xfrm>
            <a:off x="171360" y="1042920"/>
            <a:ext cx="1157400" cy="1150920"/>
            <a:chOff x="171360" y="1042920"/>
            <a:chExt cx="1157400" cy="1150920"/>
          </a:xfrm>
        </p:grpSpPr>
        <p:pic>
          <p:nvPicPr>
            <p:cNvPr id="291" name="دائرة مجوفة 10" descr=""/>
            <p:cNvPicPr/>
            <p:nvPr/>
          </p:nvPicPr>
          <p:blipFill>
            <a:blip r:embed="rId3"/>
            <a:stretch/>
          </p:blipFill>
          <p:spPr>
            <a:xfrm>
              <a:off x="171360" y="1042920"/>
              <a:ext cx="1157400" cy="1150920"/>
            </a:xfrm>
            <a:prstGeom prst="rect">
              <a:avLst/>
            </a:prstGeom>
            <a:ln w="0">
              <a:noFill/>
            </a:ln>
          </p:spPr>
        </p:pic>
        <p:sp>
          <p:nvSpPr>
            <p:cNvPr id="2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649A-FBA1-4EBD-A698-BF44A692A53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9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6" name="دائرة مجوفة 10"/>
          <p:cNvGrpSpPr/>
          <p:nvPr/>
        </p:nvGrpSpPr>
        <p:grpSpPr>
          <a:xfrm>
            <a:off x="171360" y="1042920"/>
            <a:ext cx="1157400" cy="1150920"/>
            <a:chOff x="171360" y="1042920"/>
            <a:chExt cx="1157400" cy="1150920"/>
          </a:xfrm>
        </p:grpSpPr>
        <p:pic>
          <p:nvPicPr>
            <p:cNvPr id="3207" name="دائرة مجوفة 10" descr=""/>
            <p:cNvPicPr/>
            <p:nvPr/>
          </p:nvPicPr>
          <p:blipFill>
            <a:blip r:embed="rId3"/>
            <a:stretch/>
          </p:blipFill>
          <p:spPr>
            <a:xfrm>
              <a:off x="171360" y="1042920"/>
              <a:ext cx="1157400" cy="1150920"/>
            </a:xfrm>
            <a:prstGeom prst="rect">
              <a:avLst/>
            </a:prstGeom>
            <a:ln w="0">
              <a:noFill/>
            </a:ln>
          </p:spPr>
        </p:pic>
        <p:sp>
          <p:nvSpPr>
            <p:cNvPr id="3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3"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D831-50A5-4255-8436-F6820EC2FEA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4" name="دائرة مجوفة 10"/>
          <p:cNvGrpSpPr/>
          <p:nvPr/>
        </p:nvGrpSpPr>
        <p:grpSpPr>
          <a:xfrm>
            <a:off x="171360" y="1042920"/>
            <a:ext cx="1157400" cy="1150920"/>
            <a:chOff x="171360" y="1042920"/>
            <a:chExt cx="1157400" cy="1150920"/>
          </a:xfrm>
        </p:grpSpPr>
        <p:pic>
          <p:nvPicPr>
            <p:cNvPr id="3255" name="دائرة مجوفة 10" descr=""/>
            <p:cNvPicPr/>
            <p:nvPr/>
          </p:nvPicPr>
          <p:blipFill>
            <a:blip r:embed="rId3"/>
            <a:stretch/>
          </p:blipFill>
          <p:spPr>
            <a:xfrm>
              <a:off x="171360" y="1042920"/>
              <a:ext cx="1157400" cy="1150920"/>
            </a:xfrm>
            <a:prstGeom prst="rect">
              <a:avLst/>
            </a:prstGeom>
            <a:ln w="0">
              <a:noFill/>
            </a:ln>
          </p:spPr>
        </p:pic>
        <p:sp>
          <p:nvSpPr>
            <p:cNvPr id="325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شكل بيضاوي 12"/>
          <p:cNvGrpSpPr/>
          <p:nvPr/>
        </p:nvGrpSpPr>
        <p:grpSpPr>
          <a:xfrm>
            <a:off x="920880" y="1414440"/>
            <a:ext cx="218880" cy="212760"/>
            <a:chOff x="920880" y="1414440"/>
            <a:chExt cx="218880" cy="212760"/>
          </a:xfrm>
        </p:grpSpPr>
        <p:pic>
          <p:nvPicPr>
            <p:cNvPr id="3260" name="شكل بيضاوي 12" descr=""/>
            <p:cNvPicPr/>
            <p:nvPr/>
          </p:nvPicPr>
          <p:blipFill>
            <a:blip r:embed="rId4"/>
            <a:stretch/>
          </p:blipFill>
          <p:spPr>
            <a:xfrm>
              <a:off x="920880" y="1414440"/>
              <a:ext cx="218880" cy="212760"/>
            </a:xfrm>
            <a:prstGeom prst="rect">
              <a:avLst/>
            </a:prstGeom>
            <a:ln w="0">
              <a:noFill/>
            </a:ln>
          </p:spPr>
        </p:pic>
        <p:sp>
          <p:nvSpPr>
            <p:cNvPr id="32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5"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E1D6-DBF4-44F9-B943-50C7279ABEB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6" name="دائرة مجوفة 10"/>
          <p:cNvGrpSpPr/>
          <p:nvPr/>
        </p:nvGrpSpPr>
        <p:grpSpPr>
          <a:xfrm>
            <a:off x="171360" y="1042920"/>
            <a:ext cx="1157400" cy="1150920"/>
            <a:chOff x="171360" y="1042920"/>
            <a:chExt cx="1157400" cy="1150920"/>
          </a:xfrm>
        </p:grpSpPr>
        <p:pic>
          <p:nvPicPr>
            <p:cNvPr id="3307" name="دائرة مجوفة 10" descr=""/>
            <p:cNvPicPr/>
            <p:nvPr/>
          </p:nvPicPr>
          <p:blipFill>
            <a:blip r:embed="rId3"/>
            <a:stretch/>
          </p:blipFill>
          <p:spPr>
            <a:xfrm>
              <a:off x="171360" y="1042920"/>
              <a:ext cx="1157400" cy="1150920"/>
            </a:xfrm>
            <a:prstGeom prst="rect">
              <a:avLst/>
            </a:prstGeom>
            <a:ln w="0">
              <a:noFill/>
            </a:ln>
          </p:spPr>
        </p:pic>
        <p:sp>
          <p:nvSpPr>
            <p:cNvPr id="33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3"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5974-F43F-4707-B8F3-35D110E54F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4" name="شكل بيضاوي 15"/>
          <p:cNvGrpSpPr/>
          <p:nvPr/>
        </p:nvGrpSpPr>
        <p:grpSpPr>
          <a:xfrm>
            <a:off x="2170080" y="2816280"/>
            <a:ext cx="219240" cy="212760"/>
            <a:chOff x="2170080" y="2816280"/>
            <a:chExt cx="219240" cy="212760"/>
          </a:xfrm>
        </p:grpSpPr>
        <p:pic>
          <p:nvPicPr>
            <p:cNvPr id="3355" name="شكل بيضاوي 15" descr=""/>
            <p:cNvPicPr/>
            <p:nvPr/>
          </p:nvPicPr>
          <p:blipFill>
            <a:blip r:embed="rId3"/>
            <a:stretch/>
          </p:blipFill>
          <p:spPr>
            <a:xfrm>
              <a:off x="2170080" y="2816280"/>
              <a:ext cx="219240" cy="212760"/>
            </a:xfrm>
            <a:prstGeom prst="rect">
              <a:avLst/>
            </a:prstGeom>
            <a:ln w="0">
              <a:noFill/>
            </a:ln>
          </p:spPr>
        </p:pic>
        <p:sp>
          <p:nvSpPr>
            <p:cNvPr id="33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09B5-08EF-4FA9-B10B-4BE370FC0BD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1" name="دائرة مجوفة 10"/>
          <p:cNvGrpSpPr/>
          <p:nvPr/>
        </p:nvGrpSpPr>
        <p:grpSpPr>
          <a:xfrm>
            <a:off x="171360" y="1042920"/>
            <a:ext cx="1157400" cy="1150920"/>
            <a:chOff x="171360" y="1042920"/>
            <a:chExt cx="1157400" cy="1150920"/>
          </a:xfrm>
        </p:grpSpPr>
        <p:pic>
          <p:nvPicPr>
            <p:cNvPr id="3402" name="دائرة مجوفة 10" descr=""/>
            <p:cNvPicPr/>
            <p:nvPr/>
          </p:nvPicPr>
          <p:blipFill>
            <a:blip r:embed="rId3"/>
            <a:stretch/>
          </p:blipFill>
          <p:spPr>
            <a:xfrm>
              <a:off x="171360" y="1042920"/>
              <a:ext cx="1157400" cy="1150920"/>
            </a:xfrm>
            <a:prstGeom prst="rect">
              <a:avLst/>
            </a:prstGeom>
            <a:ln w="0">
              <a:noFill/>
            </a:ln>
          </p:spPr>
        </p:pic>
        <p:sp>
          <p:nvSpPr>
            <p:cNvPr id="340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8"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08D2-87EB-4484-8606-4BAC8F32266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9"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D673-B47B-4ED9-93EB-008AC425EAB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0" name="دائرة مجوفة 10"/>
          <p:cNvGrpSpPr/>
          <p:nvPr/>
        </p:nvGrpSpPr>
        <p:grpSpPr>
          <a:xfrm>
            <a:off x="171360" y="1042920"/>
            <a:ext cx="1157400" cy="1150920"/>
            <a:chOff x="171360" y="1042920"/>
            <a:chExt cx="1157400" cy="1150920"/>
          </a:xfrm>
        </p:grpSpPr>
        <p:pic>
          <p:nvPicPr>
            <p:cNvPr id="3491" name="دائرة مجوفة 10" descr=""/>
            <p:cNvPicPr/>
            <p:nvPr/>
          </p:nvPicPr>
          <p:blipFill>
            <a:blip r:embed="rId3"/>
            <a:stretch/>
          </p:blipFill>
          <p:spPr>
            <a:xfrm>
              <a:off x="171360" y="1042920"/>
              <a:ext cx="1157400" cy="1150920"/>
            </a:xfrm>
            <a:prstGeom prst="rect">
              <a:avLst/>
            </a:prstGeom>
            <a:ln w="0">
              <a:noFill/>
            </a:ln>
          </p:spPr>
        </p:pic>
        <p:sp>
          <p:nvSpPr>
            <p:cNvPr id="34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97"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343-D2D8-433D-A52C-C8E10B9B256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4"/>
    <p:sldLayoutId id="2147484625" r:id="rId5"/>
    <p:sldLayoutId id="2147484626" r:id="rId6"/>
    <p:sldLayoutId id="2147484627" r:id="rId7"/>
    <p:sldLayoutId id="2147484628" r:id="rId8"/>
    <p:sldLayoutId id="2147484629" r:id="rId9"/>
    <p:sldLayoutId id="2147484630" r:id="rId10"/>
    <p:sldLayoutId id="2147484631" r:id="rId11"/>
    <p:sldLayoutId id="2147484632" r:id="rId12"/>
    <p:sldLayoutId id="2147484633" r:id="rId13"/>
    <p:sldLayoutId id="2147484634" r:id="rId14"/>
    <p:sldLayoutId id="2147484635" r:id="rId15"/>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40" name="PlaceHolder 3"/>
          <p:cNvSpPr>
            <a:spLocks noGrp="1"/>
          </p:cNvSpPr>
          <p:nvPr>
            <p:ph type="dt" idx="22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PlaceHolder 4"/>
          <p:cNvSpPr>
            <a:spLocks noGrp="1"/>
          </p:cNvSpPr>
          <p:nvPr>
            <p:ph type="ftr" idx="23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PlaceHolder 5"/>
          <p:cNvSpPr>
            <a:spLocks noGrp="1"/>
          </p:cNvSpPr>
          <p:nvPr>
            <p:ph type="sldNum" idx="23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9089-D9A1-4817-B207-94A8B597464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81" name="PlaceHolder 3"/>
          <p:cNvSpPr>
            <a:spLocks noGrp="1"/>
          </p:cNvSpPr>
          <p:nvPr>
            <p:ph type="dt" idx="23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PlaceHolder 4"/>
          <p:cNvSpPr>
            <a:spLocks noGrp="1"/>
          </p:cNvSpPr>
          <p:nvPr>
            <p:ph type="ftr" idx="23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PlaceHolder 5"/>
          <p:cNvSpPr>
            <a:spLocks noGrp="1"/>
          </p:cNvSpPr>
          <p:nvPr>
            <p:ph type="sldNum" idx="23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704D-AB9D-4A36-88ED-68F1F845FDF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20" name="مستطيل 12"/>
          <p:cNvGrpSpPr/>
          <p:nvPr/>
        </p:nvGrpSpPr>
        <p:grpSpPr>
          <a:xfrm>
            <a:off x="652320" y="974880"/>
            <a:ext cx="4797720" cy="4797360"/>
            <a:chOff x="652320" y="974880"/>
            <a:chExt cx="4797720" cy="4797360"/>
          </a:xfrm>
        </p:grpSpPr>
        <p:pic>
          <p:nvPicPr>
            <p:cNvPr id="3621" name="مستطيل 12" descr=""/>
            <p:cNvPicPr/>
            <p:nvPr/>
          </p:nvPicPr>
          <p:blipFill>
            <a:blip r:embed="rId3"/>
            <a:stretch/>
          </p:blipFill>
          <p:spPr>
            <a:xfrm>
              <a:off x="652320" y="974880"/>
              <a:ext cx="4797720" cy="4797360"/>
            </a:xfrm>
            <a:prstGeom prst="rect">
              <a:avLst/>
            </a:prstGeom>
            <a:ln w="0">
              <a:noFill/>
            </a:ln>
          </p:spPr>
        </p:pic>
        <p:sp>
          <p:nvSpPr>
            <p:cNvPr id="36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7" name="PlaceHolder 3"/>
          <p:cNvSpPr>
            <a:spLocks noGrp="1"/>
          </p:cNvSpPr>
          <p:nvPr>
            <p:ph type="dt" idx="23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PlaceHolder 4"/>
          <p:cNvSpPr>
            <a:spLocks noGrp="1"/>
          </p:cNvSpPr>
          <p:nvPr>
            <p:ph type="ftr" idx="23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PlaceHolder 5"/>
          <p:cNvSpPr>
            <a:spLocks noGrp="1"/>
          </p:cNvSpPr>
          <p:nvPr>
            <p:ph type="sldNum" idx="23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8A92-5685-4F58-8091-FF4965598E5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4"/>
    <p:sldLayoutId id="2147484664" r:id="rId5"/>
    <p:sldLayoutId id="2147484665" r:id="rId6"/>
    <p:sldLayoutId id="2147484666" r:id="rId7"/>
    <p:sldLayoutId id="2147484667" r:id="rId8"/>
    <p:sldLayoutId id="2147484668" r:id="rId9"/>
    <p:sldLayoutId id="2147484669" r:id="rId10"/>
    <p:sldLayoutId id="2147484670" r:id="rId11"/>
    <p:sldLayoutId id="2147484671" r:id="rId12"/>
    <p:sldLayoutId id="2147484672" r:id="rId13"/>
    <p:sldLayoutId id="2147484673" r:id="rId14"/>
    <p:sldLayoutId id="2147484674"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دائرة مجوفة 10"/>
          <p:cNvGrpSpPr/>
          <p:nvPr/>
        </p:nvGrpSpPr>
        <p:grpSpPr>
          <a:xfrm>
            <a:off x="171360" y="1042920"/>
            <a:ext cx="1157400" cy="1150920"/>
            <a:chOff x="171360" y="1042920"/>
            <a:chExt cx="1157400" cy="1150920"/>
          </a:xfrm>
        </p:grpSpPr>
        <p:pic>
          <p:nvPicPr>
            <p:cNvPr id="339" name="دائرة مجوفة 10" descr=""/>
            <p:cNvPicPr/>
            <p:nvPr/>
          </p:nvPicPr>
          <p:blipFill>
            <a:blip r:embed="rId3"/>
            <a:stretch/>
          </p:blipFill>
          <p:spPr>
            <a:xfrm>
              <a:off x="171360" y="1042920"/>
              <a:ext cx="1157400" cy="1150920"/>
            </a:xfrm>
            <a:prstGeom prst="rect">
              <a:avLst/>
            </a:prstGeom>
            <a:ln w="0">
              <a:noFill/>
            </a:ln>
          </p:spPr>
        </p:pic>
        <p:sp>
          <p:nvSpPr>
            <p:cNvPr id="3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19BB-DA51-43A5-B7F9-D7946E1FE3E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4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8" name="دائرة مجوفة 10"/>
          <p:cNvGrpSpPr/>
          <p:nvPr/>
        </p:nvGrpSpPr>
        <p:grpSpPr>
          <a:xfrm>
            <a:off x="171360" y="1042920"/>
            <a:ext cx="1157400" cy="1150920"/>
            <a:chOff x="171360" y="1042920"/>
            <a:chExt cx="1157400" cy="1150920"/>
          </a:xfrm>
        </p:grpSpPr>
        <p:pic>
          <p:nvPicPr>
            <p:cNvPr id="3669" name="دائرة مجوفة 10" descr=""/>
            <p:cNvPicPr/>
            <p:nvPr/>
          </p:nvPicPr>
          <p:blipFill>
            <a:blip r:embed="rId3"/>
            <a:stretch/>
          </p:blipFill>
          <p:spPr>
            <a:xfrm>
              <a:off x="171360" y="1042920"/>
              <a:ext cx="1157400" cy="1150920"/>
            </a:xfrm>
            <a:prstGeom prst="rect">
              <a:avLst/>
            </a:prstGeom>
            <a:ln w="0">
              <a:noFill/>
            </a:ln>
          </p:spPr>
        </p:pic>
        <p:sp>
          <p:nvSpPr>
            <p:cNvPr id="3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5" name="PlaceHolder 3"/>
          <p:cNvSpPr>
            <a:spLocks noGrp="1"/>
          </p:cNvSpPr>
          <p:nvPr>
            <p:ph type="dt" idx="23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PlaceHolder 4"/>
          <p:cNvSpPr>
            <a:spLocks noGrp="1"/>
          </p:cNvSpPr>
          <p:nvPr>
            <p:ph type="ftr" idx="23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PlaceHolder 5"/>
          <p:cNvSpPr>
            <a:spLocks noGrp="1"/>
          </p:cNvSpPr>
          <p:nvPr>
            <p:ph type="sldNum" idx="24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5B0C-2511-4BD5-9CEE-9536FE39AE2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4"/>
    <p:sldLayoutId id="2147484677" r:id="rId5"/>
    <p:sldLayoutId id="2147484678" r:id="rId6"/>
    <p:sldLayoutId id="2147484679" r:id="rId7"/>
    <p:sldLayoutId id="2147484680" r:id="rId8"/>
    <p:sldLayoutId id="2147484681" r:id="rId9"/>
    <p:sldLayoutId id="2147484682" r:id="rId10"/>
    <p:sldLayoutId id="2147484683" r:id="rId11"/>
    <p:sldLayoutId id="2147484684" r:id="rId12"/>
    <p:sldLayoutId id="2147484685" r:id="rId13"/>
    <p:sldLayoutId id="2147484686" r:id="rId14"/>
    <p:sldLayoutId id="2147484687" r:id="rId15"/>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6" name="دائرة مجوفة 10"/>
          <p:cNvGrpSpPr/>
          <p:nvPr/>
        </p:nvGrpSpPr>
        <p:grpSpPr>
          <a:xfrm>
            <a:off x="171360" y="1042920"/>
            <a:ext cx="1157400" cy="1150920"/>
            <a:chOff x="171360" y="1042920"/>
            <a:chExt cx="1157400" cy="1150920"/>
          </a:xfrm>
        </p:grpSpPr>
        <p:pic>
          <p:nvPicPr>
            <p:cNvPr id="3717" name="دائرة مجوفة 10" descr=""/>
            <p:cNvPicPr/>
            <p:nvPr/>
          </p:nvPicPr>
          <p:blipFill>
            <a:blip r:embed="rId3"/>
            <a:stretch/>
          </p:blipFill>
          <p:spPr>
            <a:xfrm>
              <a:off x="171360" y="1042920"/>
              <a:ext cx="1157400" cy="1150920"/>
            </a:xfrm>
            <a:prstGeom prst="rect">
              <a:avLst/>
            </a:prstGeom>
            <a:ln w="0">
              <a:noFill/>
            </a:ln>
          </p:spPr>
        </p:pic>
        <p:sp>
          <p:nvSpPr>
            <p:cNvPr id="37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3" name="PlaceHolder 3"/>
          <p:cNvSpPr>
            <a:spLocks noGrp="1"/>
          </p:cNvSpPr>
          <p:nvPr>
            <p:ph type="dt" idx="24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PlaceHolder 4"/>
          <p:cNvSpPr>
            <a:spLocks noGrp="1"/>
          </p:cNvSpPr>
          <p:nvPr>
            <p:ph type="ftr" idx="24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PlaceHolder 5"/>
          <p:cNvSpPr>
            <a:spLocks noGrp="1"/>
          </p:cNvSpPr>
          <p:nvPr>
            <p:ph type="sldNum" idx="24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8049-A2E1-453F-ADB6-81489963D62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4" name="دائرة مجوفة 10"/>
          <p:cNvGrpSpPr/>
          <p:nvPr/>
        </p:nvGrpSpPr>
        <p:grpSpPr>
          <a:xfrm>
            <a:off x="171360" y="1042920"/>
            <a:ext cx="1157400" cy="1150920"/>
            <a:chOff x="171360" y="1042920"/>
            <a:chExt cx="1157400" cy="1150920"/>
          </a:xfrm>
        </p:grpSpPr>
        <p:pic>
          <p:nvPicPr>
            <p:cNvPr id="3765" name="دائرة مجوفة 10" descr=""/>
            <p:cNvPicPr/>
            <p:nvPr/>
          </p:nvPicPr>
          <p:blipFill>
            <a:blip r:embed="rId3"/>
            <a:stretch/>
          </p:blipFill>
          <p:spPr>
            <a:xfrm>
              <a:off x="171360" y="1042920"/>
              <a:ext cx="1157400" cy="1150920"/>
            </a:xfrm>
            <a:prstGeom prst="rect">
              <a:avLst/>
            </a:prstGeom>
            <a:ln w="0">
              <a:noFill/>
            </a:ln>
          </p:spPr>
        </p:pic>
        <p:sp>
          <p:nvSpPr>
            <p:cNvPr id="37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9" name="شكل بيضاوي 12"/>
          <p:cNvGrpSpPr/>
          <p:nvPr/>
        </p:nvGrpSpPr>
        <p:grpSpPr>
          <a:xfrm>
            <a:off x="920880" y="1414440"/>
            <a:ext cx="218880" cy="212760"/>
            <a:chOff x="920880" y="1414440"/>
            <a:chExt cx="218880" cy="212760"/>
          </a:xfrm>
        </p:grpSpPr>
        <p:pic>
          <p:nvPicPr>
            <p:cNvPr id="3770" name="شكل بيضاوي 12" descr=""/>
            <p:cNvPicPr/>
            <p:nvPr/>
          </p:nvPicPr>
          <p:blipFill>
            <a:blip r:embed="rId4"/>
            <a:stretch/>
          </p:blipFill>
          <p:spPr>
            <a:xfrm>
              <a:off x="920880" y="1414440"/>
              <a:ext cx="218880" cy="212760"/>
            </a:xfrm>
            <a:prstGeom prst="rect">
              <a:avLst/>
            </a:prstGeom>
            <a:ln w="0">
              <a:noFill/>
            </a:ln>
          </p:spPr>
        </p:pic>
        <p:sp>
          <p:nvSpPr>
            <p:cNvPr id="377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5" name="PlaceHolder 3"/>
          <p:cNvSpPr>
            <a:spLocks noGrp="1"/>
          </p:cNvSpPr>
          <p:nvPr>
            <p:ph type="dt" idx="24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6" name="PlaceHolder 4"/>
          <p:cNvSpPr>
            <a:spLocks noGrp="1"/>
          </p:cNvSpPr>
          <p:nvPr>
            <p:ph type="ftr" idx="24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PlaceHolder 5"/>
          <p:cNvSpPr>
            <a:spLocks noGrp="1"/>
          </p:cNvSpPr>
          <p:nvPr>
            <p:ph type="sldNum" idx="24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B8CC-0C5A-4A76-8D81-FAFFDCF36C0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5"/>
    <p:sldLayoutId id="2147484703" r:id="rId6"/>
    <p:sldLayoutId id="2147484704" r:id="rId7"/>
    <p:sldLayoutId id="2147484705" r:id="rId8"/>
    <p:sldLayoutId id="2147484706" r:id="rId9"/>
    <p:sldLayoutId id="2147484707" r:id="rId10"/>
    <p:sldLayoutId id="2147484708" r:id="rId11"/>
    <p:sldLayoutId id="2147484709" r:id="rId12"/>
    <p:sldLayoutId id="2147484710" r:id="rId13"/>
    <p:sldLayoutId id="2147484711" r:id="rId14"/>
    <p:sldLayoutId id="2147484712" r:id="rId15"/>
    <p:sldLayoutId id="2147484713" r:id="rId16"/>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6" name="دائرة مجوفة 10"/>
          <p:cNvGrpSpPr/>
          <p:nvPr/>
        </p:nvGrpSpPr>
        <p:grpSpPr>
          <a:xfrm>
            <a:off x="171360" y="1042920"/>
            <a:ext cx="1157400" cy="1150920"/>
            <a:chOff x="171360" y="1042920"/>
            <a:chExt cx="1157400" cy="1150920"/>
          </a:xfrm>
        </p:grpSpPr>
        <p:pic>
          <p:nvPicPr>
            <p:cNvPr id="3817" name="دائرة مجوفة 10" descr=""/>
            <p:cNvPicPr/>
            <p:nvPr/>
          </p:nvPicPr>
          <p:blipFill>
            <a:blip r:embed="rId3"/>
            <a:stretch/>
          </p:blipFill>
          <p:spPr>
            <a:xfrm>
              <a:off x="171360" y="1042920"/>
              <a:ext cx="1157400" cy="1150920"/>
            </a:xfrm>
            <a:prstGeom prst="rect">
              <a:avLst/>
            </a:prstGeom>
            <a:ln w="0">
              <a:noFill/>
            </a:ln>
          </p:spPr>
        </p:pic>
        <p:sp>
          <p:nvSpPr>
            <p:cNvPr id="38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23" name="PlaceHolder 3"/>
          <p:cNvSpPr>
            <a:spLocks noGrp="1"/>
          </p:cNvSpPr>
          <p:nvPr>
            <p:ph type="dt" idx="24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PlaceHolder 4"/>
          <p:cNvSpPr>
            <a:spLocks noGrp="1"/>
          </p:cNvSpPr>
          <p:nvPr>
            <p:ph type="ftr" idx="24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PlaceHolder 5"/>
          <p:cNvSpPr>
            <a:spLocks noGrp="1"/>
          </p:cNvSpPr>
          <p:nvPr>
            <p:ph type="sldNum" idx="24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9EAE-951D-4164-B231-CA29FE15F59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4"/>
    <p:sldLayoutId id="2147484716" r:id="rId5"/>
    <p:sldLayoutId id="2147484717" r:id="rId6"/>
    <p:sldLayoutId id="2147484718" r:id="rId7"/>
    <p:sldLayoutId id="2147484719" r:id="rId8"/>
    <p:sldLayoutId id="2147484720" r:id="rId9"/>
    <p:sldLayoutId id="2147484721" r:id="rId10"/>
    <p:sldLayoutId id="2147484722" r:id="rId11"/>
    <p:sldLayoutId id="2147484723" r:id="rId12"/>
    <p:sldLayoutId id="2147484724" r:id="rId13"/>
    <p:sldLayoutId id="2147484725" r:id="rId14"/>
    <p:sldLayoutId id="2147484726" r:id="rId15"/>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4" name="شكل بيضاوي 15"/>
          <p:cNvGrpSpPr/>
          <p:nvPr/>
        </p:nvGrpSpPr>
        <p:grpSpPr>
          <a:xfrm>
            <a:off x="2170080" y="2816280"/>
            <a:ext cx="219240" cy="212760"/>
            <a:chOff x="2170080" y="2816280"/>
            <a:chExt cx="219240" cy="212760"/>
          </a:xfrm>
        </p:grpSpPr>
        <p:pic>
          <p:nvPicPr>
            <p:cNvPr id="3865" name="شكل بيضاوي 15" descr=""/>
            <p:cNvPicPr/>
            <p:nvPr/>
          </p:nvPicPr>
          <p:blipFill>
            <a:blip r:embed="rId3"/>
            <a:stretch/>
          </p:blipFill>
          <p:spPr>
            <a:xfrm>
              <a:off x="2170080" y="2816280"/>
              <a:ext cx="219240" cy="212760"/>
            </a:xfrm>
            <a:prstGeom prst="rect">
              <a:avLst/>
            </a:prstGeom>
            <a:ln w="0">
              <a:noFill/>
            </a:ln>
          </p:spPr>
        </p:pic>
        <p:sp>
          <p:nvSpPr>
            <p:cNvPr id="386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70" name="PlaceHolder 3"/>
          <p:cNvSpPr>
            <a:spLocks noGrp="1"/>
          </p:cNvSpPr>
          <p:nvPr>
            <p:ph type="dt" idx="25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PlaceHolder 4"/>
          <p:cNvSpPr>
            <a:spLocks noGrp="1"/>
          </p:cNvSpPr>
          <p:nvPr>
            <p:ph type="ftr" idx="25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PlaceHolder 5"/>
          <p:cNvSpPr>
            <a:spLocks noGrp="1"/>
          </p:cNvSpPr>
          <p:nvPr>
            <p:ph type="sldNum" idx="25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F55E-DA8B-409D-9E11-3382B23473F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4"/>
    <p:sldLayoutId id="2147484729" r:id="rId5"/>
    <p:sldLayoutId id="2147484730" r:id="rId6"/>
    <p:sldLayoutId id="2147484731" r:id="rId7"/>
    <p:sldLayoutId id="2147484732" r:id="rId8"/>
    <p:sldLayoutId id="2147484733" r:id="rId9"/>
    <p:sldLayoutId id="2147484734" r:id="rId10"/>
    <p:sldLayoutId id="2147484735" r:id="rId11"/>
    <p:sldLayoutId id="2147484736" r:id="rId12"/>
    <p:sldLayoutId id="2147484737" r:id="rId13"/>
    <p:sldLayoutId id="2147484738" r:id="rId14"/>
    <p:sldLayoutId id="2147484739" r:id="rId15"/>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1" name="دائرة مجوفة 10"/>
          <p:cNvGrpSpPr/>
          <p:nvPr/>
        </p:nvGrpSpPr>
        <p:grpSpPr>
          <a:xfrm>
            <a:off x="171360" y="1042920"/>
            <a:ext cx="1157400" cy="1150920"/>
            <a:chOff x="171360" y="1042920"/>
            <a:chExt cx="1157400" cy="1150920"/>
          </a:xfrm>
        </p:grpSpPr>
        <p:pic>
          <p:nvPicPr>
            <p:cNvPr id="3912" name="دائرة مجوفة 10" descr=""/>
            <p:cNvPicPr/>
            <p:nvPr/>
          </p:nvPicPr>
          <p:blipFill>
            <a:blip r:embed="rId3"/>
            <a:stretch/>
          </p:blipFill>
          <p:spPr>
            <a:xfrm>
              <a:off x="171360" y="1042920"/>
              <a:ext cx="1157400" cy="1150920"/>
            </a:xfrm>
            <a:prstGeom prst="rect">
              <a:avLst/>
            </a:prstGeom>
            <a:ln w="0">
              <a:noFill/>
            </a:ln>
          </p:spPr>
        </p:pic>
        <p:sp>
          <p:nvSpPr>
            <p:cNvPr id="391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18" name="PlaceHolder 3"/>
          <p:cNvSpPr>
            <a:spLocks noGrp="1"/>
          </p:cNvSpPr>
          <p:nvPr>
            <p:ph type="dt" idx="25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PlaceHolder 4"/>
          <p:cNvSpPr>
            <a:spLocks noGrp="1"/>
          </p:cNvSpPr>
          <p:nvPr>
            <p:ph type="ftr" idx="25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PlaceHolder 5"/>
          <p:cNvSpPr>
            <a:spLocks noGrp="1"/>
          </p:cNvSpPr>
          <p:nvPr>
            <p:ph type="sldNum" idx="25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AD68-6DCF-4C6D-B1DE-679A87A217B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4"/>
    <p:sldLayoutId id="2147484742" r:id="rId5"/>
    <p:sldLayoutId id="2147484743" r:id="rId6"/>
    <p:sldLayoutId id="2147484744" r:id="rId7"/>
    <p:sldLayoutId id="2147484745" r:id="rId8"/>
    <p:sldLayoutId id="2147484746" r:id="rId9"/>
    <p:sldLayoutId id="2147484747" r:id="rId10"/>
    <p:sldLayoutId id="2147484748" r:id="rId11"/>
    <p:sldLayoutId id="2147484749" r:id="rId12"/>
    <p:sldLayoutId id="2147484750" r:id="rId13"/>
    <p:sldLayoutId id="2147484751" r:id="rId14"/>
    <p:sldLayoutId id="2147484752" r:id="rId15"/>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5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59" name="PlaceHolder 3"/>
          <p:cNvSpPr>
            <a:spLocks noGrp="1"/>
          </p:cNvSpPr>
          <p:nvPr>
            <p:ph type="dt" idx="25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PlaceHolder 4"/>
          <p:cNvSpPr>
            <a:spLocks noGrp="1"/>
          </p:cNvSpPr>
          <p:nvPr>
            <p:ph type="ftr" idx="25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PlaceHolder 5"/>
          <p:cNvSpPr>
            <a:spLocks noGrp="1"/>
          </p:cNvSpPr>
          <p:nvPr>
            <p:ph type="sldNum" idx="25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9CFB-C42B-467E-A153-88ECB0D359E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0" name="دائرة مجوفة 10"/>
          <p:cNvGrpSpPr/>
          <p:nvPr/>
        </p:nvGrpSpPr>
        <p:grpSpPr>
          <a:xfrm>
            <a:off x="171360" y="1042920"/>
            <a:ext cx="1157400" cy="1150920"/>
            <a:chOff x="171360" y="1042920"/>
            <a:chExt cx="1157400" cy="1150920"/>
          </a:xfrm>
        </p:grpSpPr>
        <p:pic>
          <p:nvPicPr>
            <p:cNvPr id="4001" name="دائرة مجوفة 10" descr=""/>
            <p:cNvPicPr/>
            <p:nvPr/>
          </p:nvPicPr>
          <p:blipFill>
            <a:blip r:embed="rId3"/>
            <a:stretch/>
          </p:blipFill>
          <p:spPr>
            <a:xfrm>
              <a:off x="171360" y="1042920"/>
              <a:ext cx="1157400" cy="1150920"/>
            </a:xfrm>
            <a:prstGeom prst="rect">
              <a:avLst/>
            </a:prstGeom>
            <a:ln w="0">
              <a:noFill/>
            </a:ln>
          </p:spPr>
        </p:pic>
        <p:sp>
          <p:nvSpPr>
            <p:cNvPr id="400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07" name="PlaceHolder 3"/>
          <p:cNvSpPr>
            <a:spLocks noGrp="1"/>
          </p:cNvSpPr>
          <p:nvPr>
            <p:ph type="dt" idx="25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PlaceHolder 4"/>
          <p:cNvSpPr>
            <a:spLocks noGrp="1"/>
          </p:cNvSpPr>
          <p:nvPr>
            <p:ph type="ftr" idx="26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PlaceHolder 5"/>
          <p:cNvSpPr>
            <a:spLocks noGrp="1"/>
          </p:cNvSpPr>
          <p:nvPr>
            <p:ph type="sldNum" idx="26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09B7-BC85-4131-82DF-39627DD2C24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4"/>
    <p:sldLayoutId id="2147484768" r:id="rId5"/>
    <p:sldLayoutId id="2147484769" r:id="rId6"/>
    <p:sldLayoutId id="2147484770" r:id="rId7"/>
    <p:sldLayoutId id="2147484771" r:id="rId8"/>
    <p:sldLayoutId id="2147484772" r:id="rId9"/>
    <p:sldLayoutId id="2147484773" r:id="rId10"/>
    <p:sldLayoutId id="2147484774" r:id="rId11"/>
    <p:sldLayoutId id="2147484775" r:id="rId12"/>
    <p:sldLayoutId id="2147484776" r:id="rId13"/>
    <p:sldLayoutId id="2147484777" r:id="rId14"/>
    <p:sldLayoutId id="2147484778" r:id="rId15"/>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50" name="PlaceHolder 3"/>
          <p:cNvSpPr>
            <a:spLocks noGrp="1"/>
          </p:cNvSpPr>
          <p:nvPr>
            <p:ph type="dt" idx="26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PlaceHolder 4"/>
          <p:cNvSpPr>
            <a:spLocks noGrp="1"/>
          </p:cNvSpPr>
          <p:nvPr>
            <p:ph type="ftr" idx="26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PlaceHolder 5"/>
          <p:cNvSpPr>
            <a:spLocks noGrp="1"/>
          </p:cNvSpPr>
          <p:nvPr>
            <p:ph type="sldNum" idx="26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BA0D-4C55-4D3B-9C2D-174F3FDE65A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91" name="PlaceHolder 3"/>
          <p:cNvSpPr>
            <a:spLocks noGrp="1"/>
          </p:cNvSpPr>
          <p:nvPr>
            <p:ph type="dt" idx="26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PlaceHolder 4"/>
          <p:cNvSpPr>
            <a:spLocks noGrp="1"/>
          </p:cNvSpPr>
          <p:nvPr>
            <p:ph type="ftr" idx="26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3" name="PlaceHolder 5"/>
          <p:cNvSpPr>
            <a:spLocks noGrp="1"/>
          </p:cNvSpPr>
          <p:nvPr>
            <p:ph type="sldNum" idx="26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DD83-EC6E-47A9-ACA9-6FB685C6DCD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دائرة مجوفة 10"/>
          <p:cNvGrpSpPr/>
          <p:nvPr/>
        </p:nvGrpSpPr>
        <p:grpSpPr>
          <a:xfrm>
            <a:off x="171360" y="1042920"/>
            <a:ext cx="1157400" cy="1150920"/>
            <a:chOff x="171360" y="1042920"/>
            <a:chExt cx="1157400" cy="1150920"/>
          </a:xfrm>
        </p:grpSpPr>
        <p:pic>
          <p:nvPicPr>
            <p:cNvPr id="387" name="دائرة مجوفة 10" descr=""/>
            <p:cNvPicPr/>
            <p:nvPr/>
          </p:nvPicPr>
          <p:blipFill>
            <a:blip r:embed="rId3"/>
            <a:stretch/>
          </p:blipFill>
          <p:spPr>
            <a:xfrm>
              <a:off x="171360" y="1042920"/>
              <a:ext cx="1157400" cy="1150920"/>
            </a:xfrm>
            <a:prstGeom prst="rect">
              <a:avLst/>
            </a:prstGeom>
            <a:ln w="0">
              <a:noFill/>
            </a:ln>
          </p:spPr>
        </p:pic>
        <p:sp>
          <p:nvSpPr>
            <p:cNvPr id="3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2"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898A-965C-4093-B252-0C66F3740F4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0" name="مستطيل 12"/>
          <p:cNvGrpSpPr/>
          <p:nvPr/>
        </p:nvGrpSpPr>
        <p:grpSpPr>
          <a:xfrm>
            <a:off x="652320" y="974880"/>
            <a:ext cx="4797720" cy="4797360"/>
            <a:chOff x="652320" y="974880"/>
            <a:chExt cx="4797720" cy="4797360"/>
          </a:xfrm>
        </p:grpSpPr>
        <p:pic>
          <p:nvPicPr>
            <p:cNvPr id="4131" name="مستطيل 12" descr=""/>
            <p:cNvPicPr/>
            <p:nvPr/>
          </p:nvPicPr>
          <p:blipFill>
            <a:blip r:embed="rId3"/>
            <a:stretch/>
          </p:blipFill>
          <p:spPr>
            <a:xfrm>
              <a:off x="652320" y="974880"/>
              <a:ext cx="4797720" cy="4797360"/>
            </a:xfrm>
            <a:prstGeom prst="rect">
              <a:avLst/>
            </a:prstGeom>
            <a:ln w="0">
              <a:noFill/>
            </a:ln>
          </p:spPr>
        </p:pic>
        <p:sp>
          <p:nvSpPr>
            <p:cNvPr id="413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7" name="PlaceHolder 3"/>
          <p:cNvSpPr>
            <a:spLocks noGrp="1"/>
          </p:cNvSpPr>
          <p:nvPr>
            <p:ph type="dt" idx="26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PlaceHolder 4"/>
          <p:cNvSpPr>
            <a:spLocks noGrp="1"/>
          </p:cNvSpPr>
          <p:nvPr>
            <p:ph type="ftr" idx="26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PlaceHolder 5"/>
          <p:cNvSpPr>
            <a:spLocks noGrp="1"/>
          </p:cNvSpPr>
          <p:nvPr>
            <p:ph type="sldNum" idx="27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3BE6-C94E-4BF4-A813-95CD45CA8D5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4"/>
    <p:sldLayoutId id="2147484807" r:id="rId5"/>
    <p:sldLayoutId id="2147484808" r:id="rId6"/>
    <p:sldLayoutId id="2147484809" r:id="rId7"/>
    <p:sldLayoutId id="2147484810" r:id="rId8"/>
    <p:sldLayoutId id="2147484811" r:id="rId9"/>
    <p:sldLayoutId id="2147484812" r:id="rId10"/>
    <p:sldLayoutId id="2147484813" r:id="rId11"/>
    <p:sldLayoutId id="2147484814" r:id="rId12"/>
    <p:sldLayoutId id="2147484815" r:id="rId13"/>
    <p:sldLayoutId id="2147484816" r:id="rId14"/>
    <p:sldLayoutId id="2147484817" r:id="rId15"/>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8" name="دائرة مجوفة 10"/>
          <p:cNvGrpSpPr/>
          <p:nvPr/>
        </p:nvGrpSpPr>
        <p:grpSpPr>
          <a:xfrm>
            <a:off x="171360" y="1042920"/>
            <a:ext cx="1157400" cy="1150920"/>
            <a:chOff x="171360" y="1042920"/>
            <a:chExt cx="1157400" cy="1150920"/>
          </a:xfrm>
        </p:grpSpPr>
        <p:pic>
          <p:nvPicPr>
            <p:cNvPr id="4179" name="دائرة مجوفة 10" descr=""/>
            <p:cNvPicPr/>
            <p:nvPr/>
          </p:nvPicPr>
          <p:blipFill>
            <a:blip r:embed="rId3"/>
            <a:stretch/>
          </p:blipFill>
          <p:spPr>
            <a:xfrm>
              <a:off x="171360" y="1042920"/>
              <a:ext cx="1157400" cy="1150920"/>
            </a:xfrm>
            <a:prstGeom prst="rect">
              <a:avLst/>
            </a:prstGeom>
            <a:ln w="0">
              <a:noFill/>
            </a:ln>
          </p:spPr>
        </p:pic>
        <p:sp>
          <p:nvSpPr>
            <p:cNvPr id="418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85" name="PlaceHolder 3"/>
          <p:cNvSpPr>
            <a:spLocks noGrp="1"/>
          </p:cNvSpPr>
          <p:nvPr>
            <p:ph type="dt" idx="27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PlaceHolder 4"/>
          <p:cNvSpPr>
            <a:spLocks noGrp="1"/>
          </p:cNvSpPr>
          <p:nvPr>
            <p:ph type="ftr" idx="27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PlaceHolder 5"/>
          <p:cNvSpPr>
            <a:spLocks noGrp="1"/>
          </p:cNvSpPr>
          <p:nvPr>
            <p:ph type="sldNum" idx="27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D74F-70ED-4845-8F42-795288A4FC1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4"/>
    <p:sldLayoutId id="2147484820" r:id="rId5"/>
    <p:sldLayoutId id="2147484821" r:id="rId6"/>
    <p:sldLayoutId id="2147484822" r:id="rId7"/>
    <p:sldLayoutId id="2147484823" r:id="rId8"/>
    <p:sldLayoutId id="2147484824" r:id="rId9"/>
    <p:sldLayoutId id="2147484825" r:id="rId10"/>
    <p:sldLayoutId id="2147484826" r:id="rId11"/>
    <p:sldLayoutId id="2147484827" r:id="rId12"/>
    <p:sldLayoutId id="2147484828" r:id="rId13"/>
    <p:sldLayoutId id="2147484829" r:id="rId14"/>
    <p:sldLayoutId id="2147484830" r:id="rId15"/>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6" name="دائرة مجوفة 10"/>
          <p:cNvGrpSpPr/>
          <p:nvPr/>
        </p:nvGrpSpPr>
        <p:grpSpPr>
          <a:xfrm>
            <a:off x="171360" y="1042920"/>
            <a:ext cx="1157400" cy="1150920"/>
            <a:chOff x="171360" y="1042920"/>
            <a:chExt cx="1157400" cy="1150920"/>
          </a:xfrm>
        </p:grpSpPr>
        <p:pic>
          <p:nvPicPr>
            <p:cNvPr id="4227" name="دائرة مجوفة 10" descr=""/>
            <p:cNvPicPr/>
            <p:nvPr/>
          </p:nvPicPr>
          <p:blipFill>
            <a:blip r:embed="rId3"/>
            <a:stretch/>
          </p:blipFill>
          <p:spPr>
            <a:xfrm>
              <a:off x="171360" y="1042920"/>
              <a:ext cx="1157400" cy="1150920"/>
            </a:xfrm>
            <a:prstGeom prst="rect">
              <a:avLst/>
            </a:prstGeom>
            <a:ln w="0">
              <a:noFill/>
            </a:ln>
          </p:spPr>
        </p:pic>
        <p:sp>
          <p:nvSpPr>
            <p:cNvPr id="42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3" name="PlaceHolder 3"/>
          <p:cNvSpPr>
            <a:spLocks noGrp="1"/>
          </p:cNvSpPr>
          <p:nvPr>
            <p:ph type="dt" idx="27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4" name="PlaceHolder 4"/>
          <p:cNvSpPr>
            <a:spLocks noGrp="1"/>
          </p:cNvSpPr>
          <p:nvPr>
            <p:ph type="ftr" idx="27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5" name="PlaceHolder 5"/>
          <p:cNvSpPr>
            <a:spLocks noGrp="1"/>
          </p:cNvSpPr>
          <p:nvPr>
            <p:ph type="sldNum" idx="27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841C-7C1D-4CCD-932A-039D1CE2427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4"/>
    <p:sldLayoutId id="2147484833" r:id="rId5"/>
    <p:sldLayoutId id="2147484834" r:id="rId6"/>
    <p:sldLayoutId id="2147484835" r:id="rId7"/>
    <p:sldLayoutId id="2147484836" r:id="rId8"/>
    <p:sldLayoutId id="2147484837" r:id="rId9"/>
    <p:sldLayoutId id="2147484838" r:id="rId10"/>
    <p:sldLayoutId id="2147484839" r:id="rId11"/>
    <p:sldLayoutId id="2147484840" r:id="rId12"/>
    <p:sldLayoutId id="2147484841" r:id="rId13"/>
    <p:sldLayoutId id="2147484842" r:id="rId14"/>
    <p:sldLayoutId id="2147484843" r:id="rId15"/>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4" name="دائرة مجوفة 10"/>
          <p:cNvGrpSpPr/>
          <p:nvPr/>
        </p:nvGrpSpPr>
        <p:grpSpPr>
          <a:xfrm>
            <a:off x="171360" y="1042920"/>
            <a:ext cx="1157400" cy="1150920"/>
            <a:chOff x="171360" y="1042920"/>
            <a:chExt cx="1157400" cy="1150920"/>
          </a:xfrm>
        </p:grpSpPr>
        <p:pic>
          <p:nvPicPr>
            <p:cNvPr id="4275" name="دائرة مجوفة 10" descr=""/>
            <p:cNvPicPr/>
            <p:nvPr/>
          </p:nvPicPr>
          <p:blipFill>
            <a:blip r:embed="rId3"/>
            <a:stretch/>
          </p:blipFill>
          <p:spPr>
            <a:xfrm>
              <a:off x="171360" y="1042920"/>
              <a:ext cx="1157400" cy="1150920"/>
            </a:xfrm>
            <a:prstGeom prst="rect">
              <a:avLst/>
            </a:prstGeom>
            <a:ln w="0">
              <a:noFill/>
            </a:ln>
          </p:spPr>
        </p:pic>
        <p:sp>
          <p:nvSpPr>
            <p:cNvPr id="42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9" name="شكل بيضاوي 12"/>
          <p:cNvGrpSpPr/>
          <p:nvPr/>
        </p:nvGrpSpPr>
        <p:grpSpPr>
          <a:xfrm>
            <a:off x="920880" y="1414440"/>
            <a:ext cx="218880" cy="212760"/>
            <a:chOff x="920880" y="1414440"/>
            <a:chExt cx="218880" cy="212760"/>
          </a:xfrm>
        </p:grpSpPr>
        <p:pic>
          <p:nvPicPr>
            <p:cNvPr id="4280" name="شكل بيضاوي 12" descr=""/>
            <p:cNvPicPr/>
            <p:nvPr/>
          </p:nvPicPr>
          <p:blipFill>
            <a:blip r:embed="rId4"/>
            <a:stretch/>
          </p:blipFill>
          <p:spPr>
            <a:xfrm>
              <a:off x="920880" y="1414440"/>
              <a:ext cx="218880" cy="212760"/>
            </a:xfrm>
            <a:prstGeom prst="rect">
              <a:avLst/>
            </a:prstGeom>
            <a:ln w="0">
              <a:noFill/>
            </a:ln>
          </p:spPr>
        </p:pic>
        <p:sp>
          <p:nvSpPr>
            <p:cNvPr id="428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5" name="PlaceHolder 3"/>
          <p:cNvSpPr>
            <a:spLocks noGrp="1"/>
          </p:cNvSpPr>
          <p:nvPr>
            <p:ph type="dt" idx="27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PlaceHolder 4"/>
          <p:cNvSpPr>
            <a:spLocks noGrp="1"/>
          </p:cNvSpPr>
          <p:nvPr>
            <p:ph type="ftr" idx="27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PlaceHolder 5"/>
          <p:cNvSpPr>
            <a:spLocks noGrp="1"/>
          </p:cNvSpPr>
          <p:nvPr>
            <p:ph type="sldNum" idx="27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1774-D981-4D78-B2B8-AB24CD71813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5"/>
    <p:sldLayoutId id="2147484846" r:id="rId6"/>
    <p:sldLayoutId id="2147484847" r:id="rId7"/>
    <p:sldLayoutId id="2147484848" r:id="rId8"/>
    <p:sldLayoutId id="2147484849" r:id="rId9"/>
    <p:sldLayoutId id="2147484850" r:id="rId10"/>
    <p:sldLayoutId id="2147484851" r:id="rId11"/>
    <p:sldLayoutId id="2147484852" r:id="rId12"/>
    <p:sldLayoutId id="2147484853" r:id="rId13"/>
    <p:sldLayoutId id="2147484854" r:id="rId14"/>
    <p:sldLayoutId id="2147484855" r:id="rId15"/>
    <p:sldLayoutId id="2147484856" r:id="rId16"/>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6" name="دائرة مجوفة 10"/>
          <p:cNvGrpSpPr/>
          <p:nvPr/>
        </p:nvGrpSpPr>
        <p:grpSpPr>
          <a:xfrm>
            <a:off x="171360" y="1042920"/>
            <a:ext cx="1157400" cy="1150920"/>
            <a:chOff x="171360" y="1042920"/>
            <a:chExt cx="1157400" cy="1150920"/>
          </a:xfrm>
        </p:grpSpPr>
        <p:pic>
          <p:nvPicPr>
            <p:cNvPr id="4327" name="دائرة مجوفة 10" descr=""/>
            <p:cNvPicPr/>
            <p:nvPr/>
          </p:nvPicPr>
          <p:blipFill>
            <a:blip r:embed="rId3"/>
            <a:stretch/>
          </p:blipFill>
          <p:spPr>
            <a:xfrm>
              <a:off x="171360" y="1042920"/>
              <a:ext cx="1157400" cy="1150920"/>
            </a:xfrm>
            <a:prstGeom prst="rect">
              <a:avLst/>
            </a:prstGeom>
            <a:ln w="0">
              <a:noFill/>
            </a:ln>
          </p:spPr>
        </p:pic>
        <p:sp>
          <p:nvSpPr>
            <p:cNvPr id="43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3" name="PlaceHolder 3"/>
          <p:cNvSpPr>
            <a:spLocks noGrp="1"/>
          </p:cNvSpPr>
          <p:nvPr>
            <p:ph type="dt" idx="28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PlaceHolder 4"/>
          <p:cNvSpPr>
            <a:spLocks noGrp="1"/>
          </p:cNvSpPr>
          <p:nvPr>
            <p:ph type="ftr" idx="28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PlaceHolder 5"/>
          <p:cNvSpPr>
            <a:spLocks noGrp="1"/>
          </p:cNvSpPr>
          <p:nvPr>
            <p:ph type="sldNum" idx="28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87FF-BA15-4869-BF10-D9844636372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4" name="شكل بيضاوي 15"/>
          <p:cNvGrpSpPr/>
          <p:nvPr/>
        </p:nvGrpSpPr>
        <p:grpSpPr>
          <a:xfrm>
            <a:off x="2170080" y="2816280"/>
            <a:ext cx="219240" cy="212760"/>
            <a:chOff x="2170080" y="2816280"/>
            <a:chExt cx="219240" cy="212760"/>
          </a:xfrm>
        </p:grpSpPr>
        <p:pic>
          <p:nvPicPr>
            <p:cNvPr id="4375" name="شكل بيضاوي 15" descr=""/>
            <p:cNvPicPr/>
            <p:nvPr/>
          </p:nvPicPr>
          <p:blipFill>
            <a:blip r:embed="rId3"/>
            <a:stretch/>
          </p:blipFill>
          <p:spPr>
            <a:xfrm>
              <a:off x="2170080" y="2816280"/>
              <a:ext cx="219240" cy="212760"/>
            </a:xfrm>
            <a:prstGeom prst="rect">
              <a:avLst/>
            </a:prstGeom>
            <a:ln w="0">
              <a:noFill/>
            </a:ln>
          </p:spPr>
        </p:pic>
        <p:sp>
          <p:nvSpPr>
            <p:cNvPr id="43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80" name="PlaceHolder 3"/>
          <p:cNvSpPr>
            <a:spLocks noGrp="1"/>
          </p:cNvSpPr>
          <p:nvPr>
            <p:ph type="dt" idx="28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1" name="PlaceHolder 4"/>
          <p:cNvSpPr>
            <a:spLocks noGrp="1"/>
          </p:cNvSpPr>
          <p:nvPr>
            <p:ph type="ftr" idx="28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PlaceHolder 5"/>
          <p:cNvSpPr>
            <a:spLocks noGrp="1"/>
          </p:cNvSpPr>
          <p:nvPr>
            <p:ph type="sldNum" idx="28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AE93-C4D8-42D2-8265-DEE70255316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4"/>
    <p:sldLayoutId id="2147484872" r:id="rId5"/>
    <p:sldLayoutId id="2147484873" r:id="rId6"/>
    <p:sldLayoutId id="2147484874" r:id="rId7"/>
    <p:sldLayoutId id="2147484875" r:id="rId8"/>
    <p:sldLayoutId id="2147484876" r:id="rId9"/>
    <p:sldLayoutId id="2147484877" r:id="rId10"/>
    <p:sldLayoutId id="2147484878" r:id="rId11"/>
    <p:sldLayoutId id="2147484879" r:id="rId12"/>
    <p:sldLayoutId id="2147484880" r:id="rId13"/>
    <p:sldLayoutId id="2147484881" r:id="rId14"/>
    <p:sldLayoutId id="2147484882" r:id="rId15"/>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1" name="دائرة مجوفة 10"/>
          <p:cNvGrpSpPr/>
          <p:nvPr/>
        </p:nvGrpSpPr>
        <p:grpSpPr>
          <a:xfrm>
            <a:off x="171360" y="1042920"/>
            <a:ext cx="1157400" cy="1150920"/>
            <a:chOff x="171360" y="1042920"/>
            <a:chExt cx="1157400" cy="1150920"/>
          </a:xfrm>
        </p:grpSpPr>
        <p:pic>
          <p:nvPicPr>
            <p:cNvPr id="4422" name="دائرة مجوفة 10" descr=""/>
            <p:cNvPicPr/>
            <p:nvPr/>
          </p:nvPicPr>
          <p:blipFill>
            <a:blip r:embed="rId3"/>
            <a:stretch/>
          </p:blipFill>
          <p:spPr>
            <a:xfrm>
              <a:off x="171360" y="1042920"/>
              <a:ext cx="1157400" cy="1150920"/>
            </a:xfrm>
            <a:prstGeom prst="rect">
              <a:avLst/>
            </a:prstGeom>
            <a:ln w="0">
              <a:noFill/>
            </a:ln>
          </p:spPr>
        </p:pic>
        <p:sp>
          <p:nvSpPr>
            <p:cNvPr id="44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28" name="PlaceHolder 3"/>
          <p:cNvSpPr>
            <a:spLocks noGrp="1"/>
          </p:cNvSpPr>
          <p:nvPr>
            <p:ph type="dt" idx="28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PlaceHolder 4"/>
          <p:cNvSpPr>
            <a:spLocks noGrp="1"/>
          </p:cNvSpPr>
          <p:nvPr>
            <p:ph type="ftr" idx="28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PlaceHolder 5"/>
          <p:cNvSpPr>
            <a:spLocks noGrp="1"/>
          </p:cNvSpPr>
          <p:nvPr>
            <p:ph type="sldNum" idx="28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6E2D-728E-4290-B86E-E6EC6773B77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4"/>
    <p:sldLayoutId id="2147484885" r:id="rId5"/>
    <p:sldLayoutId id="2147484886" r:id="rId6"/>
    <p:sldLayoutId id="2147484887" r:id="rId7"/>
    <p:sldLayoutId id="2147484888" r:id="rId8"/>
    <p:sldLayoutId id="2147484889" r:id="rId9"/>
    <p:sldLayoutId id="2147484890" r:id="rId10"/>
    <p:sldLayoutId id="2147484891" r:id="rId11"/>
    <p:sldLayoutId id="2147484892" r:id="rId12"/>
    <p:sldLayoutId id="2147484893" r:id="rId13"/>
    <p:sldLayoutId id="2147484894" r:id="rId14"/>
    <p:sldLayoutId id="2147484895" r:id="rId15"/>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6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69" name="PlaceHolder 3"/>
          <p:cNvSpPr>
            <a:spLocks noGrp="1"/>
          </p:cNvSpPr>
          <p:nvPr>
            <p:ph type="dt" idx="28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PlaceHolder 4"/>
          <p:cNvSpPr>
            <a:spLocks noGrp="1"/>
          </p:cNvSpPr>
          <p:nvPr>
            <p:ph type="ftr" idx="29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PlaceHolder 5"/>
          <p:cNvSpPr>
            <a:spLocks noGrp="1"/>
          </p:cNvSpPr>
          <p:nvPr>
            <p:ph type="sldNum" idx="29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058C-2923-4271-8F83-8F603974C44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0" name="دائرة مجوفة 10"/>
          <p:cNvGrpSpPr/>
          <p:nvPr/>
        </p:nvGrpSpPr>
        <p:grpSpPr>
          <a:xfrm>
            <a:off x="171360" y="1042920"/>
            <a:ext cx="1157400" cy="1150920"/>
            <a:chOff x="171360" y="1042920"/>
            <a:chExt cx="1157400" cy="1150920"/>
          </a:xfrm>
        </p:grpSpPr>
        <p:pic>
          <p:nvPicPr>
            <p:cNvPr id="4511" name="دائرة مجوفة 10" descr=""/>
            <p:cNvPicPr/>
            <p:nvPr/>
          </p:nvPicPr>
          <p:blipFill>
            <a:blip r:embed="rId3"/>
            <a:stretch/>
          </p:blipFill>
          <p:spPr>
            <a:xfrm>
              <a:off x="171360" y="1042920"/>
              <a:ext cx="1157400" cy="1150920"/>
            </a:xfrm>
            <a:prstGeom prst="rect">
              <a:avLst/>
            </a:prstGeom>
            <a:ln w="0">
              <a:noFill/>
            </a:ln>
          </p:spPr>
        </p:pic>
        <p:sp>
          <p:nvSpPr>
            <p:cNvPr id="451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17" name="PlaceHolder 3"/>
          <p:cNvSpPr>
            <a:spLocks noGrp="1"/>
          </p:cNvSpPr>
          <p:nvPr>
            <p:ph type="dt" idx="29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PlaceHolder 4"/>
          <p:cNvSpPr>
            <a:spLocks noGrp="1"/>
          </p:cNvSpPr>
          <p:nvPr>
            <p:ph type="ftr" idx="29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9" name="PlaceHolder 5"/>
          <p:cNvSpPr>
            <a:spLocks noGrp="1"/>
          </p:cNvSpPr>
          <p:nvPr>
            <p:ph type="sldNum" idx="29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CB10-F31C-445F-84A4-43DA22C9A73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4"/>
    <p:sldLayoutId id="2147484911" r:id="rId5"/>
    <p:sldLayoutId id="2147484912" r:id="rId6"/>
    <p:sldLayoutId id="2147484913" r:id="rId7"/>
    <p:sldLayoutId id="2147484914" r:id="rId8"/>
    <p:sldLayoutId id="2147484915" r:id="rId9"/>
    <p:sldLayoutId id="2147484916" r:id="rId10"/>
    <p:sldLayoutId id="2147484917" r:id="rId11"/>
    <p:sldLayoutId id="2147484918" r:id="rId12"/>
    <p:sldLayoutId id="2147484919" r:id="rId13"/>
    <p:sldLayoutId id="2147484920" r:id="rId14"/>
    <p:sldLayoutId id="2147484921" r:id="rId15"/>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60" name="PlaceHolder 3"/>
          <p:cNvSpPr>
            <a:spLocks noGrp="1"/>
          </p:cNvSpPr>
          <p:nvPr>
            <p:ph type="dt" idx="29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PlaceHolder 4"/>
          <p:cNvSpPr>
            <a:spLocks noGrp="1"/>
          </p:cNvSpPr>
          <p:nvPr>
            <p:ph type="ftr" idx="29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PlaceHolder 5"/>
          <p:cNvSpPr>
            <a:spLocks noGrp="1"/>
          </p:cNvSpPr>
          <p:nvPr>
            <p:ph type="sldNum" idx="29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D4DC-85EA-47A7-B363-56389E0D254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PlaceHolder 1"/>
          <p:cNvSpPr>
            <a:spLocks noGrp="1"/>
          </p:cNvSpPr>
          <p:nvPr>
            <p:ph type="title"/>
          </p:nvPr>
        </p:nvSpPr>
        <p:spPr>
          <a:xfrm>
            <a:off x="684360" y="191592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مفهوم الترتيب والتسلسل</a:t>
            </a:r>
            <a:endParaRPr b="0" lang="en-US" sz="43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
          <p:cNvSpPr txBox="1"/>
          <p:nvPr/>
        </p:nvSpPr>
        <p:spPr>
          <a:xfrm>
            <a:off x="1447560" y="1066320"/>
            <a:ext cx="74977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اطفال الى الاستعداد الكافي لذلك بتمييز الفروقات والمقارنة ويعطي الطفل الفرصة لذلك ونشجعه من خلال طرح الاسئلة (فيما تختلف هذه الاشياء؟)</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طفل الى تحديد اتجاه الترتيب الذي سيبدأ به، نشجع الطفل على استخدام الاتجاه من اليمين الى اليسا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PlaceHolder 1"/>
          <p:cNvSpPr>
            <a:spLocks noGrp="1"/>
          </p:cNvSpPr>
          <p:nvPr>
            <p:ph type="title"/>
          </p:nvPr>
        </p:nvSpPr>
        <p:spPr>
          <a:xfrm>
            <a:off x="1042920" y="22046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يشتمل مفهوم الترتيب على عدد من المفاهيم هي:</a:t>
            </a:r>
            <a:br>
              <a:rPr sz="3900"/>
            </a:br>
            <a:endParaRPr b="0" lang="en-US" sz="39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title"/>
          </p:nvPr>
        </p:nvSpPr>
        <p:spPr>
          <a:xfrm>
            <a:off x="971640" y="404280"/>
            <a:ext cx="7943760" cy="2256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أولاً: مفهوم المقارنة :</a:t>
            </a:r>
            <a:r>
              <a:rPr b="0" lang="ar-SA" sz="3900" spc="-1" strike="noStrike">
                <a:solidFill>
                  <a:srgbClr val="1e2124"/>
                </a:solidFill>
                <a:latin typeface="Gill Sans MT"/>
              </a:rPr>
              <a:t> </a:t>
            </a:r>
            <a:br>
              <a:rPr sz="3900"/>
            </a:br>
            <a:r>
              <a:rPr b="0" lang="ar-SA" sz="3200" spc="-1" strike="noStrike">
                <a:solidFill>
                  <a:srgbClr val="000000"/>
                </a:solidFill>
                <a:latin typeface="Gill Sans MT"/>
              </a:rPr>
              <a:t>يوجد الطفل علاقة مشتركة بين الأشياء معتمداً فيها وجود خواص مشتركة.</a:t>
            </a:r>
            <a:br>
              <a:rPr sz="3200"/>
            </a:br>
            <a:br>
              <a:rPr sz="3200"/>
            </a:br>
            <a:endParaRPr b="0" lang="en-US" sz="3200" spc="-1" strike="noStrike">
              <a:solidFill>
                <a:srgbClr val="1e2124"/>
              </a:solidFill>
              <a:latin typeface="Gill Sans MT"/>
            </a:endParaRPr>
          </a:p>
        </p:txBody>
      </p:sp>
      <p:pic>
        <p:nvPicPr>
          <p:cNvPr id="4799" name="عنصر نائب للمحتوى 5" descr=""/>
          <p:cNvPicPr/>
          <p:nvPr/>
        </p:nvPicPr>
        <p:blipFill>
          <a:blip r:embed="rId1"/>
          <a:stretch/>
        </p:blipFill>
        <p:spPr>
          <a:xfrm>
            <a:off x="669960" y="2346480"/>
            <a:ext cx="8327880" cy="407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
          <p:cNvSpPr txBox="1"/>
          <p:nvPr/>
        </p:nvSpPr>
        <p:spPr>
          <a:xfrm>
            <a:off x="971280" y="836640"/>
            <a:ext cx="7581960" cy="3473280"/>
          </a:xfrm>
          <a:prstGeom prst="rect">
            <a:avLst/>
          </a:prstGeom>
          <a:noFill/>
          <a:ln w="0">
            <a:noFill/>
          </a:ln>
        </p:spPr>
        <p:txBody>
          <a:bodyPr anchor="b">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ثال : علاقات المقارنة كبير وصغير (حجم) -  طويل وقصير (طول) - عالي و ومنخفض (صوت) –   قريب بعيد (الترتيب للجوار) – فوق تحت الترتيب للوضع - متين  ونحيف (حجم )  أشخاص – أشجار - سلالم – أقلام - كتب - أوعية ماء.</a:t>
            </a:r>
            <a:r>
              <a:rPr b="1"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1" name="PlaceHolder 1"/>
          <p:cNvSpPr>
            <a:spLocks noGrp="1"/>
          </p:cNvSpPr>
          <p:nvPr>
            <p:ph type="title"/>
          </p:nvPr>
        </p:nvSpPr>
        <p:spPr>
          <a:xfrm>
            <a:off x="248436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نياً مفهوم الترتيب البسيط:</a:t>
            </a:r>
            <a:br>
              <a:rPr sz="3900"/>
            </a:br>
            <a:endParaRPr b="0" lang="en-US" sz="3900" spc="-1" strike="noStrike">
              <a:solidFill>
                <a:srgbClr val="1e2124"/>
              </a:solidFill>
              <a:latin typeface="Gill Sans MT"/>
            </a:endParaRPr>
          </a:p>
        </p:txBody>
      </p:sp>
      <p:sp>
        <p:nvSpPr>
          <p:cNvPr id="4802"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هو تسلسل للأحداث ومجموعات الأشياء.</a:t>
            </a:r>
            <a:endParaRPr b="0" lang="en-US" sz="32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 عشر عصي يزيد كل واحد عن الأخر </a:t>
            </a:r>
            <a:r>
              <a:rPr b="1" lang="ar-SA" sz="3200" spc="-1" strike="noStrike">
                <a:solidFill>
                  <a:srgbClr val="000000"/>
                </a:solidFill>
                <a:latin typeface="Gill Sans MT"/>
              </a:rPr>
              <a:t>0,5</a:t>
            </a:r>
            <a:r>
              <a:rPr b="1" lang="ar-SA" sz="3200" spc="-1" strike="noStrike">
                <a:solidFill>
                  <a:srgbClr val="000000"/>
                </a:solidFill>
                <a:latin typeface="Gill Sans MT"/>
              </a:rPr>
              <a:t>سم ويطلب من الطفل ترتيبها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PlaceHolder 1"/>
          <p:cNvSpPr>
            <a:spLocks noGrp="1"/>
          </p:cNvSpPr>
          <p:nvPr>
            <p:ph type="title"/>
          </p:nvPr>
        </p:nvSpPr>
        <p:spPr>
          <a:xfrm>
            <a:off x="2411280" y="764640"/>
            <a:ext cx="64008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1e2124"/>
                </a:solidFill>
                <a:latin typeface="Gill Sans MT"/>
              </a:rPr>
              <a:t>مراحل الترتيب:</a:t>
            </a:r>
            <a:br>
              <a:rPr sz="3900"/>
            </a:br>
            <a:endParaRPr b="0" lang="en-US" sz="3900" spc="-1" strike="noStrike">
              <a:solidFill>
                <a:srgbClr val="1e2124"/>
              </a:solidFill>
              <a:latin typeface="Gill Sans MT"/>
            </a:endParaRPr>
          </a:p>
        </p:txBody>
      </p:sp>
      <p:sp>
        <p:nvSpPr>
          <p:cNvPr id="4804"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1</a:t>
            </a:r>
            <a:r>
              <a:rPr b="1" lang="ar-SA" sz="3200" spc="-1" strike="noStrike">
                <a:solidFill>
                  <a:srgbClr val="000000"/>
                </a:solidFill>
                <a:latin typeface="Gill Sans MT"/>
              </a:rPr>
              <a:t>- لا يستطيع إقامة سلسلة كاملة على نحو صحيح  يلتقط الطفل عود صغير وعود طويل لا يستطيع إقامة تكافؤ تسلسلي.</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2</a:t>
            </a:r>
            <a:r>
              <a:rPr b="1" lang="ar-SA" sz="3200" spc="-1" strike="noStrike">
                <a:solidFill>
                  <a:srgbClr val="000000"/>
                </a:solidFill>
                <a:latin typeface="Gill Sans MT"/>
              </a:rPr>
              <a:t>- في عمر خمس سنوات يستطيع ترتيب العناصر عن طريق المحاولة والخطأ حتى ينجح.</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
          <p:cNvSpPr txBox="1"/>
          <p:nvPr/>
        </p:nvSpPr>
        <p:spPr>
          <a:xfrm>
            <a:off x="900000" y="1125000"/>
            <a:ext cx="8088480" cy="4496040"/>
          </a:xfrm>
          <a:prstGeom prst="rect">
            <a:avLst/>
          </a:prstGeom>
          <a:noFill/>
          <a:ln w="0">
            <a:noFill/>
          </a:ln>
        </p:spPr>
        <p:txBody>
          <a:bodyPr anchor="t">
            <a:normAutofit fontScale="87000"/>
          </a:bodyPr>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3</a:t>
            </a:r>
            <a:r>
              <a:rPr b="1" lang="ar-SA" sz="3200" spc="-1" strike="noStrike">
                <a:solidFill>
                  <a:srgbClr val="000000"/>
                </a:solidFill>
                <a:latin typeface="Gill Sans MT"/>
              </a:rPr>
              <a:t>- مرحلة العمليات المحسوسة </a:t>
            </a:r>
            <a:r>
              <a:rPr b="1" lang="ar-SA" sz="3200" spc="-1" strike="noStrike">
                <a:solidFill>
                  <a:srgbClr val="000000"/>
                </a:solidFill>
                <a:latin typeface="Gill Sans MT"/>
              </a:rPr>
              <a:t>6</a:t>
            </a:r>
            <a:r>
              <a:rPr b="1" lang="ar-SA" sz="3200" spc="-1" strike="noStrike">
                <a:solidFill>
                  <a:srgbClr val="000000"/>
                </a:solidFill>
                <a:latin typeface="Gill Sans MT"/>
              </a:rPr>
              <a:t>-</a:t>
            </a:r>
            <a:r>
              <a:rPr b="1" lang="ar-SA" sz="3200" spc="-1" strike="noStrike">
                <a:solidFill>
                  <a:srgbClr val="000000"/>
                </a:solidFill>
                <a:latin typeface="Gill Sans MT"/>
              </a:rPr>
              <a:t>7</a:t>
            </a:r>
            <a:r>
              <a:rPr b="1" lang="ar-SA" sz="3200" spc="-1" strike="noStrike">
                <a:solidFill>
                  <a:srgbClr val="000000"/>
                </a:solidFill>
                <a:latin typeface="Gill Sans MT"/>
              </a:rPr>
              <a:t> سنوات يمتلك فيها الأطفال القدرة على حل المشكلات بطرق مختلفة ومنظمة يضع العود الأول ثم التالي حيث يكون سلسة صحيحة.</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جاح الطفل يعتمد على تكون الأبنية السيكولوجية </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الية: </a:t>
            </a: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كوسية التفكير – الانتقالية (أب ، ب ج ، أج) </a:t>
            </a:r>
            <a:endParaRPr b="0" lang="en-US" sz="3200" spc="-1" strike="noStrike">
              <a:solidFill>
                <a:srgbClr val="000000"/>
              </a:solidFill>
              <a:latin typeface="Gill Sans MT"/>
            </a:endParaRPr>
          </a:p>
          <a:p>
            <a:pPr marL="317520" indent="-24552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title"/>
          </p:nvPr>
        </p:nvSpPr>
        <p:spPr>
          <a:xfrm>
            <a:off x="255600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لثاً مفهوم التسلسل المزدوج:</a:t>
            </a:r>
            <a:br>
              <a:rPr sz="3900"/>
            </a:br>
            <a:endParaRPr b="0" lang="en-US" sz="3900" spc="-1" strike="noStrike">
              <a:solidFill>
                <a:srgbClr val="1e2124"/>
              </a:solidFill>
              <a:latin typeface="Gill Sans MT"/>
            </a:endParaRPr>
          </a:p>
        </p:txBody>
      </p:sp>
      <p:sp>
        <p:nvSpPr>
          <p:cNvPr id="4807" name=""/>
          <p:cNvSpPr txBox="1"/>
          <p:nvPr/>
        </p:nvSpPr>
        <p:spPr>
          <a:xfrm>
            <a:off x="1434960" y="1447560"/>
            <a:ext cx="7499520" cy="4800600"/>
          </a:xfrm>
          <a:prstGeom prst="rect">
            <a:avLst/>
          </a:prstGeom>
          <a:noFill/>
          <a:ln w="0">
            <a:noFill/>
          </a:ln>
        </p:spPr>
        <p:txBody>
          <a:bodyPr anchor="t">
            <a:normAutofit fontScale="84000"/>
          </a:bodyPr>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a:t>
            </a: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جد بياجيه ان هذا العمل لا يعد أصعب من التسلسل الواحد لأنه سيطبق نفس القاعدة يحتاج أن يقوم بعملية مقابله وقد نزيدها الى ثلاث مجموعات مثال(الأرانب الجزر ثم البيوت).</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رابعاً ترتيب المجموعات:</a:t>
            </a:r>
            <a:endParaRPr b="0" lang="en-US" sz="4300" spc="-1" strike="noStrike">
              <a:solidFill>
                <a:srgbClr val="1e2124"/>
              </a:solidFill>
              <a:latin typeface="Gill Sans MT"/>
            </a:endParaRPr>
          </a:p>
        </p:txBody>
      </p:sp>
      <p:sp>
        <p:nvSpPr>
          <p:cNvPr id="48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تم وضعها في مجموعات بناءاً على عدد العناصر في كل مجمو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خامساً: الترتيب العددي:</a:t>
            </a:r>
            <a:endParaRPr b="0" lang="en-US" sz="4300" spc="-1" strike="noStrike">
              <a:solidFill>
                <a:srgbClr val="1e2124"/>
              </a:solidFill>
              <a:latin typeface="Gill Sans MT"/>
            </a:endParaRPr>
          </a:p>
        </p:txBody>
      </p:sp>
      <p:sp>
        <p:nvSpPr>
          <p:cNvPr id="481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عدد الرتبة هو الذي يحدد موضع العدد بالنسبة لغيرة في الرتبة  الأول، الثاني، الثالث</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مو أعداد الرتبة كالتالي:</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 </a:t>
            </a:r>
            <a:r>
              <a:rPr b="1" lang="ar-SA" sz="3200" spc="-1" strike="noStrike">
                <a:solidFill>
                  <a:srgbClr val="000000"/>
                </a:solidFill>
                <a:latin typeface="Gill Sans MT"/>
              </a:rPr>
              <a:t>4</a:t>
            </a:r>
            <a:r>
              <a:rPr b="1" lang="ar-SA" sz="3200" spc="-1" strike="noStrike">
                <a:solidFill>
                  <a:srgbClr val="000000"/>
                </a:solidFill>
                <a:latin typeface="Gill Sans MT"/>
              </a:rPr>
              <a:t> سنوات لا يفهم الطفل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نية: </a:t>
            </a:r>
            <a:r>
              <a:rPr b="1" lang="ar-SA" sz="3200" spc="-1" strike="noStrike">
                <a:solidFill>
                  <a:srgbClr val="000000"/>
                </a:solidFill>
                <a:latin typeface="Gill Sans MT"/>
              </a:rPr>
              <a:t>4</a:t>
            </a:r>
            <a:r>
              <a:rPr b="1" lang="ar-SA" sz="3200" spc="-1" strike="noStrike">
                <a:solidFill>
                  <a:srgbClr val="000000"/>
                </a:solidFill>
                <a:latin typeface="Gill Sans MT"/>
              </a:rPr>
              <a:t>-</a:t>
            </a:r>
            <a:r>
              <a:rPr b="1" lang="ar-SA" sz="3200" spc="-1" strike="noStrike">
                <a:solidFill>
                  <a:srgbClr val="000000"/>
                </a:solidFill>
                <a:latin typeface="Gill Sans MT"/>
              </a:rPr>
              <a:t>5</a:t>
            </a:r>
            <a:r>
              <a:rPr b="1" lang="ar-SA" sz="3200" spc="-1" strike="noStrike">
                <a:solidFill>
                  <a:srgbClr val="000000"/>
                </a:solidFill>
                <a:latin typeface="Gill Sans MT"/>
              </a:rPr>
              <a:t> يعي تدريجياً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مفهوم الترتيب</a:t>
            </a:r>
            <a:r>
              <a:rPr b="0" lang="ar-SA" sz="3000" spc="-1" strike="noStrike" u="sng">
                <a:solidFill>
                  <a:srgbClr val="1e2124"/>
                </a:solidFill>
                <a:uFillTx/>
                <a:latin typeface="Gill Sans MT"/>
              </a:rPr>
              <a:t> والتسلسل</a:t>
            </a:r>
            <a:br>
              <a:rPr sz="3000"/>
            </a:br>
            <a:endParaRPr b="0" lang="en-US" sz="3000" spc="-1" strike="noStrike">
              <a:solidFill>
                <a:srgbClr val="1e2124"/>
              </a:solidFill>
              <a:latin typeface="Gill Sans MT"/>
            </a:endParaRPr>
          </a:p>
        </p:txBody>
      </p:sp>
      <p:sp>
        <p:nvSpPr>
          <p:cNvPr id="4784" name=""/>
          <p:cNvSpPr txBox="1"/>
          <p:nvPr/>
        </p:nvSpPr>
        <p:spPr>
          <a:xfrm>
            <a:off x="990720" y="1981080"/>
            <a:ext cx="7619760" cy="41148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800" spc="-1" strike="noStrike">
                <a:solidFill>
                  <a:srgbClr val="000000"/>
                </a:solidFill>
                <a:latin typeface="Gill Sans MT"/>
              </a:rPr>
              <a:t>تعريف الترتيب: (تنظيم الاشياء او مجموعات الاشياء لنحصل على منظومة معينة في الاتجاه وذلك من خلال قاعدة ما).</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عتبر من المهارات قبل العددية.</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أخد الطفل بعض الافكار عن عملية الترتيب من خلال الالعاب وبناء المكعبات.</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كي يكون للترتيب معنى يجب أن تشترك عناصر المجموعة في خاصية ما متأصلة يمكن ان تكون الطول –الحجم.</a:t>
            </a:r>
            <a:endParaRPr b="0" lang="en-US" sz="2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لثة: </a:t>
            </a:r>
            <a:r>
              <a:rPr b="1" lang="ar-SA" sz="3200" spc="-1" strike="noStrike">
                <a:solidFill>
                  <a:srgbClr val="000000"/>
                </a:solidFill>
                <a:latin typeface="Gill Sans MT"/>
              </a:rPr>
              <a:t>5</a:t>
            </a:r>
            <a:r>
              <a:rPr b="1" lang="ar-SA" sz="3200" spc="-1" strike="noStrike">
                <a:solidFill>
                  <a:srgbClr val="000000"/>
                </a:solidFill>
                <a:latin typeface="Gill Sans MT"/>
              </a:rPr>
              <a:t>-</a:t>
            </a:r>
            <a:r>
              <a:rPr b="1" lang="ar-SA" sz="3200" spc="-1" strike="noStrike">
                <a:solidFill>
                  <a:srgbClr val="000000"/>
                </a:solidFill>
                <a:latin typeface="Gill Sans MT"/>
              </a:rPr>
              <a:t>6</a:t>
            </a:r>
            <a:r>
              <a:rPr b="1" lang="ar-SA" sz="3200" spc="-1" strike="noStrike">
                <a:solidFill>
                  <a:srgbClr val="000000"/>
                </a:solidFill>
                <a:latin typeface="Gill Sans MT"/>
              </a:rPr>
              <a:t>سنوات يفهم فهم كامل ل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طفال المرحلة الحسية الحركية يستطيعون القيام بترتيب </a:t>
            </a:r>
            <a:r>
              <a:rPr b="1" lang="ar-SA" sz="3200" spc="-1" strike="noStrike">
                <a:solidFill>
                  <a:srgbClr val="000000"/>
                </a:solidFill>
                <a:latin typeface="Gill Sans MT"/>
              </a:rPr>
              <a:t>3</a:t>
            </a:r>
            <a:r>
              <a:rPr b="1" lang="ar-SA" sz="3200" spc="-1" strike="noStrike">
                <a:solidFill>
                  <a:srgbClr val="000000"/>
                </a:solidFill>
                <a:latin typeface="Gill Sans MT"/>
              </a:rPr>
              <a:t> أشياء، الأطفال الأكبر يستطيعون القيام بسلسلة أكثر ولكنهم يعجزون عن القيام بعملية الترتيب إذا كان </a:t>
            </a:r>
            <a:r>
              <a:rPr b="1" lang="ar-SA" sz="3200" spc="-1" strike="noStrike">
                <a:solidFill>
                  <a:srgbClr val="ff0000"/>
                </a:solidFill>
                <a:latin typeface="Gill Sans MT"/>
              </a:rPr>
              <a:t>عدد العناصر المقدمة إليهم كبيرا </a:t>
            </a:r>
            <a:r>
              <a:rPr b="1" lang="ar-SA" sz="3200" spc="-1" strike="noStrike">
                <a:solidFill>
                  <a:srgbClr val="000000"/>
                </a:solidFill>
                <a:latin typeface="Gill Sans MT"/>
              </a:rPr>
              <a:t>أو إذا كانت </a:t>
            </a:r>
            <a:r>
              <a:rPr b="1" lang="ar-SA" sz="3200" spc="-1" strike="noStrike">
                <a:solidFill>
                  <a:srgbClr val="ff0000"/>
                </a:solidFill>
                <a:latin typeface="Gill Sans MT"/>
              </a:rPr>
              <a:t>الفروق بين العناصر سطحية.</a:t>
            </a:r>
            <a:r>
              <a:rPr b="1" lang="en-US" sz="3200" spc="-1" strike="noStrike">
                <a:solidFill>
                  <a:srgbClr val="ff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Rectangle 3"/>
          <p:cNvSpPr/>
          <p:nvPr/>
        </p:nvSpPr>
        <p:spPr>
          <a:xfrm>
            <a:off x="1066680" y="762120"/>
            <a:ext cx="7543800" cy="4114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حجم: أطول من / اقصر من ، أكبر من / اصغر من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موضع: فوق / تحت/ بجانب</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جوار:  قريب من / بعيد عن</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أجزاء الكل: مثل أجزاء الجسم، الأنشطة هنا تكمن في تجميع  الطفل لأجزاء الكل معاً في ترتيب صحيح.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اللون: تدرجات من الغامق الى الفاتح.</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ترتيب الصوت: من الأعلى صوتاً الى الأكثر انخفاضاً أو العك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1e2124"/>
                </a:solidFill>
                <a:uFillTx/>
                <a:latin typeface="Gill Sans MT"/>
              </a:rPr>
              <a:t>من أنواع الترتيب </a:t>
            </a:r>
            <a:r>
              <a:rPr b="0" lang="en-US" sz="3200" spc="-1" strike="noStrike" u="sng">
                <a:solidFill>
                  <a:srgbClr val="1e2124"/>
                </a:solidFill>
                <a:uFillTx/>
                <a:latin typeface="Gill Sans MT"/>
              </a:rPr>
              <a:t>Patterning</a:t>
            </a:r>
            <a:r>
              <a:rPr b="0" lang="en-US" sz="3200" spc="-1" strike="noStrike" u="sng">
                <a:solidFill>
                  <a:srgbClr val="1e2124"/>
                </a:solidFill>
                <a:uFillTx/>
                <a:latin typeface="Gill Sans MT"/>
              </a:rPr>
              <a:t> </a:t>
            </a:r>
            <a:r>
              <a:rPr b="0" lang="ar-SA" sz="3200" spc="-1" strike="noStrike" u="sng">
                <a:solidFill>
                  <a:srgbClr val="1e2124"/>
                </a:solidFill>
                <a:uFillTx/>
                <a:latin typeface="Gill Sans MT"/>
              </a:rPr>
              <a:t>  (أنشطة التنميط) أو تكوين نمط:</a:t>
            </a:r>
            <a:endParaRPr b="0" lang="en-US" sz="3200" spc="-1" strike="noStrike">
              <a:solidFill>
                <a:srgbClr val="1e2124"/>
              </a:solidFill>
              <a:latin typeface="Gill Sans MT"/>
            </a:endParaRPr>
          </a:p>
        </p:txBody>
      </p:sp>
      <p:sp>
        <p:nvSpPr>
          <p:cNvPr id="481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فيها يستدل الطفل على النمط المراد إكماله من خلال إدراك منطقية النمط، ما الذي قبل (بداية النمط)، وبالتالي ما الذي بعد (لإكمال باقي النمط).</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مثل: أزرق اخضر ازرق اخضر ازرق ؟)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1" lang="ar-SA" sz="3200" spc="-1" strike="noStrike">
                <a:solidFill>
                  <a:srgbClr val="000000"/>
                </a:solidFill>
                <a:latin typeface="Gill Sans MT"/>
              </a:rPr>
              <a:t>2</a:t>
            </a:r>
            <a:r>
              <a:rPr b="1" lang="ar-SA" sz="3200" spc="-1" strike="noStrike">
                <a:solidFill>
                  <a:srgbClr val="000000"/>
                </a:solidFill>
                <a:latin typeface="Gill Sans MT"/>
              </a:rPr>
              <a:t>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816" name="Oval 6"/>
          <p:cNvSpPr/>
          <p:nvPr/>
        </p:nvSpPr>
        <p:spPr>
          <a:xfrm>
            <a:off x="752472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7" name="Rectangle 7"/>
          <p:cNvSpPr/>
          <p:nvPr/>
        </p:nvSpPr>
        <p:spPr>
          <a:xfrm>
            <a:off x="630072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8" name="Rectangle 7"/>
          <p:cNvSpPr/>
          <p:nvPr/>
        </p:nvSpPr>
        <p:spPr>
          <a:xfrm>
            <a:off x="514836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9" name="Oval 6"/>
          <p:cNvSpPr/>
          <p:nvPr/>
        </p:nvSpPr>
        <p:spPr>
          <a:xfrm>
            <a:off x="356400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0" name="Rectangle 7"/>
          <p:cNvSpPr/>
          <p:nvPr/>
        </p:nvSpPr>
        <p:spPr>
          <a:xfrm>
            <a:off x="2340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1" name="Rectangle 7"/>
          <p:cNvSpPr/>
          <p:nvPr/>
        </p:nvSpPr>
        <p:spPr>
          <a:xfrm>
            <a:off x="1116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أهداف الترتيب:</a:t>
            </a:r>
            <a:endParaRPr b="0" lang="en-US" sz="4300" spc="-1" strike="noStrike">
              <a:solidFill>
                <a:srgbClr val="1e2124"/>
              </a:solidFill>
              <a:latin typeface="Gill Sans MT"/>
            </a:endParaRPr>
          </a:p>
        </p:txBody>
      </p:sp>
      <p:sp>
        <p:nvSpPr>
          <p:cNvPr id="4823"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كساب الطفل القدرة على المقارنة.</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دراك العلاقة الرياضية أطول من أقصر من.</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عكسية للأمام والخلف.</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انتقالية.</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1e2124"/>
                </a:solidFill>
                <a:latin typeface="Gill Sans MT"/>
              </a:rPr>
              <a:t>اختبارات إعادة الترتيب</a:t>
            </a:r>
            <a:br>
              <a:rPr sz="3600"/>
            </a:br>
            <a:r>
              <a:rPr b="0" lang="en-US" sz="3600" spc="-1" strike="noStrike">
                <a:solidFill>
                  <a:srgbClr val="1e2124"/>
                </a:solidFill>
                <a:latin typeface="Gill Sans MT"/>
              </a:rPr>
              <a:t>Rearrangement Tests</a:t>
            </a:r>
            <a:endParaRPr b="0" lang="en-US" sz="3600" spc="-1" strike="noStrike">
              <a:solidFill>
                <a:srgbClr val="1e2124"/>
              </a:solidFill>
              <a:latin typeface="Gill Sans MT"/>
            </a:endParaRPr>
          </a:p>
        </p:txBody>
      </p:sp>
      <p:sp>
        <p:nvSpPr>
          <p:cNvPr id="4825" name=""/>
          <p:cNvSpPr txBox="1"/>
          <p:nvPr/>
        </p:nvSpPr>
        <p:spPr>
          <a:xfrm>
            <a:off x="1434960" y="1447560"/>
            <a:ext cx="7499520" cy="4800600"/>
          </a:xfrm>
          <a:prstGeom prst="rect">
            <a:avLst/>
          </a:prstGeom>
          <a:noFill/>
          <a:ln w="0">
            <a:noFill/>
          </a:ln>
        </p:spPr>
        <p:txBody>
          <a:bodyPr anchor="t">
            <a:normAutofit/>
          </a:bodyPr>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رتب</a:t>
            </a:r>
            <a:r>
              <a:rPr b="0" lang="ar-SA" sz="3200" spc="-1" strike="noStrike">
                <a:solidFill>
                  <a:srgbClr val="000000"/>
                </a:solidFill>
                <a:latin typeface="Gill Sans MT"/>
              </a:rPr>
              <a:t>ي</a:t>
            </a:r>
            <a:r>
              <a:rPr b="0" lang="ar-JO" sz="3200" spc="-1" strike="noStrike">
                <a:solidFill>
                  <a:srgbClr val="000000"/>
                </a:solidFill>
                <a:latin typeface="Gill Sans MT"/>
              </a:rPr>
              <a:t> الأحداث التالية طبقاً لأقدمية حدوثها: </a:t>
            </a: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    </a:t>
            </a:r>
            <a:r>
              <a:rPr b="0" lang="ar-JO" sz="2800" spc="-1" strike="noStrike">
                <a:solidFill>
                  <a:srgbClr val="000000"/>
                </a:solidFill>
                <a:latin typeface="Gill Sans MT"/>
              </a:rPr>
              <a:t> </a:t>
            </a:r>
            <a:r>
              <a:rPr b="0" lang="ar-SA" sz="2800" spc="-1" strike="noStrike">
                <a:solidFill>
                  <a:srgbClr val="000000"/>
                </a:solidFill>
                <a:latin typeface="Gill Sans MT"/>
              </a:rPr>
              <a:t>ثورة مصر- وفاة الملك عبدالله –  حادثة بوعزيزي – ثورة سوريا – ثورة تونس </a:t>
            </a: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24"/>
                                        </p:tgtEl>
                                        <p:attrNameLst>
                                          <p:attrName>style.visibility</p:attrName>
                                        </p:attrNameLst>
                                      </p:cBhvr>
                                      <p:to>
                                        <p:strVal val="visible"/>
                                      </p:to>
                                    </p:set>
                                    <p:animEffect filter="fade" transition="in">
                                      <p:cBhvr additive="repl">
                                        <p:cTn id="7" dur="2000"/>
                                        <p:tgtEl>
                                          <p:spTgt spid="4824"/>
                                        </p:tgtEl>
                                      </p:cBhvr>
                                    </p:animEffect>
                                  </p:childTnLst>
                                </p:cTn>
                              </p:par>
                              <p:par>
                                <p:cTn id="8" nodeType="withEffect" fill="hold" presetClass="entr" presetID="10">
                                  <p:stCondLst>
                                    <p:cond delay="0"/>
                                  </p:stCondLst>
                                  <p:childTnLst>
                                    <p:set>
                                      <p:cBhvr>
                                        <p:cTn id="9" dur="1" fill="hold">
                                          <p:stCondLst>
                                            <p:cond delay="0"/>
                                          </p:stCondLst>
                                        </p:cTn>
                                        <p:tgtEl>
                                          <p:spTgt spid="4825"/>
                                        </p:tgtEl>
                                        <p:attrNameLst>
                                          <p:attrName>style.visibility</p:attrName>
                                        </p:attrNameLst>
                                      </p:cBhvr>
                                      <p:to>
                                        <p:strVal val="visible"/>
                                      </p:to>
                                    </p:set>
                                    <p:animEffect filter="fade" transition="in">
                                      <p:cBhvr additive="repl">
                                        <p:cTn id="10" dur="2000"/>
                                        <p:tgtEl>
                                          <p:spTgt spid="4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المشروع الثاني: الترتيب والتسلسل</a:t>
            </a:r>
            <a:endParaRPr b="0" lang="en-US" sz="4300" spc="-1" strike="noStrike">
              <a:solidFill>
                <a:srgbClr val="1e2124"/>
              </a:solidFill>
              <a:latin typeface="Gill Sans MT"/>
            </a:endParaRPr>
          </a:p>
        </p:txBody>
      </p:sp>
      <p:sp>
        <p:nvSpPr>
          <p:cNvPr id="4827" name=""/>
          <p:cNvSpPr txBox="1"/>
          <p:nvPr/>
        </p:nvSpPr>
        <p:spPr>
          <a:xfrm>
            <a:off x="1434960" y="1447560"/>
            <a:ext cx="7499520" cy="4800600"/>
          </a:xfrm>
          <a:prstGeom prst="rect">
            <a:avLst/>
          </a:prstGeom>
          <a:noFill/>
          <a:ln w="0">
            <a:noFill/>
          </a:ln>
        </p:spPr>
        <p:txBody>
          <a:bodyPr anchor="t">
            <a:normAutofit fontScale="81000"/>
          </a:bodyPr>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تقوم الطالبة بعمل وسيلتين لركن الادراك كما يلي:</a:t>
            </a:r>
            <a:endParaRPr b="0" lang="en-US" sz="3200" spc="-1" strike="noStrike">
              <a:solidFill>
                <a:srgbClr val="000000"/>
              </a:solidFill>
              <a:latin typeface="Gill Sans MT"/>
            </a:endParaRPr>
          </a:p>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اولى:</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سيط او ترتيب مزدوج.</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تكون عدد العناصر التي يرتبها الطفل لا تقل عن </a:t>
            </a:r>
            <a:r>
              <a:rPr b="1" lang="ar-SA" sz="3200" spc="-1" strike="noStrike">
                <a:solidFill>
                  <a:srgbClr val="000000"/>
                </a:solidFill>
                <a:latin typeface="Calibri"/>
                <a:ea typeface="Arial"/>
              </a:rPr>
              <a:t>6</a:t>
            </a:r>
            <a:r>
              <a:rPr b="1" lang="ar-SA" sz="3200" spc="-1" strike="noStrike">
                <a:solidFill>
                  <a:srgbClr val="000000"/>
                </a:solidFill>
                <a:latin typeface="Calibri"/>
                <a:ea typeface="Arial"/>
              </a:rPr>
              <a:t> عناصر (وجود قاعدة تجمع العناصر).</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بتعد الطالبة عن تسلسل الزمن وترتيب المجموعات والترتيب العددي.</a:t>
            </a:r>
            <a:endParaRPr b="0" lang="en-US" sz="3200" spc="-1" strike="noStrike">
              <a:solidFill>
                <a:srgbClr val="000000"/>
              </a:solidFill>
              <a:latin typeface="Gill Sans MT"/>
            </a:endParaRPr>
          </a:p>
          <a:p>
            <a:pPr marL="141120" algn="r" rtl="1">
              <a:lnSpc>
                <a:spcPct val="10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8" name=""/>
          <p:cNvSpPr txBox="1"/>
          <p:nvPr/>
        </p:nvSpPr>
        <p:spPr>
          <a:xfrm>
            <a:off x="1434960" y="1447560"/>
            <a:ext cx="7499520" cy="4800600"/>
          </a:xfrm>
          <a:prstGeom prst="rect">
            <a:avLst/>
          </a:prstGeom>
          <a:noFill/>
          <a:ln w="0">
            <a:noFill/>
          </a:ln>
        </p:spPr>
        <p:txBody>
          <a:bodyPr anchor="t">
            <a:normAutofit/>
          </a:bodyPr>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ثانية:</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التنميط (تسلسل نمط)، وهي نمط يكتشفه الطفل ويكمله او يكمل الاجزاء الناقصة منه.</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اعي الطالبة بأن تكون الوسيلة تسمح باستمرارية تكرار النمط خمس مرات.</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ن تكون هناك قاعدة لجمع العناصر.</a:t>
            </a:r>
            <a:endParaRPr b="0" lang="en-US" sz="3200" spc="-1" strike="noStrike">
              <a:solidFill>
                <a:srgbClr val="000000"/>
              </a:solidFill>
              <a:latin typeface="Gill Sans MT"/>
            </a:endParaRPr>
          </a:p>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
          <p:cNvSpPr txBox="1"/>
          <p:nvPr/>
        </p:nvSpPr>
        <p:spPr>
          <a:xfrm>
            <a:off x="1042560" y="836280"/>
            <a:ext cx="7643880" cy="4800600"/>
          </a:xfrm>
          <a:prstGeom prst="rect">
            <a:avLst/>
          </a:prstGeom>
          <a:noFill/>
          <a:ln w="0">
            <a:noFill/>
          </a:ln>
        </p:spPr>
        <p:txBody>
          <a:bodyPr anchor="t">
            <a:normAutofit fontScale="83000"/>
          </a:bodyPr>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تراعي الطالبة ما يلي في تقديم الوسيلتين:</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بداع والتميز والتجديد في فكرة التقديم والوسائل وتنفيذها.</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ند تقديم الطالبة لوسيلتها تكون على دراية تامة بالأهداف التي تحققها الوسيلة وكيفية تقديمها للطفل. </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يكون مستوى صعوبة الوسيلة مناسب للأطفال ما قبل المدرسة وقادر على اثارة تفكيرهم، وان تكون مناسبة لعدة مستويات من التفكير.</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دم ورقتي تحضير لكلا الوسيلتين.</a:t>
            </a:r>
            <a:endParaRPr b="0" lang="en-US" sz="3200" spc="-1" strike="noStrike">
              <a:solidFill>
                <a:srgbClr val="000000"/>
              </a:solidFill>
              <a:latin typeface="Gill Sans MT"/>
            </a:endParaRPr>
          </a:p>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
          <p:cNvSpPr txBox="1"/>
          <p:nvPr/>
        </p:nvSpPr>
        <p:spPr>
          <a:xfrm>
            <a:off x="971640" y="549000"/>
            <a:ext cx="7921440" cy="5576760"/>
          </a:xfrm>
          <a:prstGeom prst="rect">
            <a:avLst/>
          </a:prstGeom>
          <a:noFill/>
          <a:ln w="0">
            <a:noFill/>
          </a:ln>
        </p:spPr>
        <p:txBody>
          <a:bodyPr anchor="t">
            <a:normAutofit fontScale="86000"/>
          </a:bodyPr>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رتيب مهارة تتطلب من الطفل أن يكون مدركاً للاختلافات الموجودة بين الأشياء وان يعيد تنظيم تلك الأشياء تبعاً لتلك الاختلافات وأن يتعلم الطفل استراتيجية معينه للترتيب.</a:t>
            </a:r>
            <a:endParaRPr b="0" lang="en-US" sz="3200" spc="-1" strike="noStrike">
              <a:solidFill>
                <a:srgbClr val="000000"/>
              </a:solidFill>
              <a:latin typeface="Gill Sans MT"/>
            </a:endParaRPr>
          </a:p>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أن يرتب الطفل خمسة أقلام مختلفة الطول من الأقصر الى الأطول، الطفل يستطيع ترتيب الأقلام إذا استطاع فهم معنى كل من الأقصر والأطول.</a:t>
            </a:r>
            <a:endParaRPr b="0" lang="en-US" sz="3200" spc="-1" strike="noStrike">
              <a:solidFill>
                <a:srgbClr val="000000"/>
              </a:solidFill>
              <a:latin typeface="Gill Sans MT"/>
            </a:endParaRPr>
          </a:p>
          <a:p>
            <a:pPr marL="313920" indent="-2430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6" name=""/>
          <p:cNvSpPr txBox="1"/>
          <p:nvPr/>
        </p:nvSpPr>
        <p:spPr>
          <a:xfrm>
            <a:off x="1186920" y="404280"/>
            <a:ext cx="7788600" cy="4800600"/>
          </a:xfrm>
          <a:prstGeom prst="rect">
            <a:avLst/>
          </a:prstGeom>
          <a:noFill/>
          <a:ln w="0">
            <a:noFill/>
          </a:ln>
        </p:spPr>
        <p:txBody>
          <a:bodyPr anchor="t">
            <a:normAutofit fontScale="88000"/>
          </a:bodyPr>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طفال المرحلة الحسية الحركية يستطيعون القيام بترتيب ثلاثة من الاشياء وذلك اذا كان من السهل عليهم إدراك اختلاف احجامها بسهولة.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يعد الترتيب المستوى الاعلى من مستويات المقارنة، لانه يعتمد على المقارنة بين اكثر من شيئين.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لتصنيف اسهل من التسلسل بالنسبة للطفل لان التسلسل لا يعتمد فقط على الادراك الحسي بل يحتوي على التمييز بين الاطوال والمساحات...</a:t>
            </a:r>
            <a:endParaRPr b="0" lang="en-US" sz="2700" spc="-1" strike="noStrike">
              <a:solidFill>
                <a:srgbClr val="000000"/>
              </a:solidFill>
              <a:latin typeface="Gill Sans MT"/>
            </a:endParaRPr>
          </a:p>
          <a:p>
            <a:pPr marL="321120" indent="-248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title"/>
          </p:nvPr>
        </p:nvSpPr>
        <p:spPr>
          <a:xfrm>
            <a:off x="457200" y="304560"/>
            <a:ext cx="8153280" cy="609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نمو مفهوم التسلسل عند الطفل:</a:t>
            </a:r>
            <a:endParaRPr b="0" lang="en-US" sz="3500" spc="-1" strike="noStrike">
              <a:solidFill>
                <a:srgbClr val="1e2124"/>
              </a:solidFill>
              <a:latin typeface="Gill Sans MT"/>
            </a:endParaRPr>
          </a:p>
        </p:txBody>
      </p:sp>
      <p:sp>
        <p:nvSpPr>
          <p:cNvPr id="4788" name=""/>
          <p:cNvSpPr txBox="1"/>
          <p:nvPr/>
        </p:nvSpPr>
        <p:spPr>
          <a:xfrm>
            <a:off x="1066320" y="1294920"/>
            <a:ext cx="7543800" cy="4800600"/>
          </a:xfrm>
          <a:prstGeom prst="rect">
            <a:avLst/>
          </a:prstGeom>
          <a:noFill/>
          <a:ln w="0">
            <a:noFill/>
          </a:ln>
        </p:spPr>
        <p:txBody>
          <a:bodyPr anchor="t">
            <a:normAutofit fontScale="91000"/>
          </a:bodyPr>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بدأ الترتيب في النمو عند الاطفال في المرحلة الحس حركية فالطفل قبل سن سنتين يحب العمل في اللعب المتداخله. </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تعلم الطفل وضع الاشياء في صفوف مرتبة على أساس الطول اوالعرض او الارتفاع او الحجم في البداية.</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نتقل الطفل الى ترتيب خصائص اخرى مثل الالوان (فاتح غامق) و القوام ( خشن ناعم)  والاصوات( عالي منخفض).</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عندما يصبح الطفل قادرا على الترتيب يمكنه تدريجيا ان يصل الى مستوى </a:t>
            </a:r>
            <a:r>
              <a:rPr b="1" lang="ar-SA" sz="2800" spc="-1" strike="noStrike">
                <a:solidFill>
                  <a:srgbClr val="ff0000"/>
                </a:solidFill>
                <a:latin typeface="Gill Sans MT"/>
              </a:rPr>
              <a:t>الترتيب المزدوج</a:t>
            </a:r>
            <a:endParaRPr b="0" lang="en-US" sz="28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9" name="PlaceHolder 1"/>
          <p:cNvSpPr>
            <a:spLocks noGrp="1"/>
          </p:cNvSpPr>
          <p:nvPr>
            <p:ph type="title"/>
          </p:nvPr>
        </p:nvSpPr>
        <p:spPr>
          <a:xfrm>
            <a:off x="1066320" y="304920"/>
            <a:ext cx="7543800" cy="121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الترتيب والممارسات الصفية للأطفال:</a:t>
            </a:r>
            <a:br>
              <a:rPr sz="3900"/>
            </a:br>
            <a:endParaRPr b="0" lang="en-US" sz="3500" spc="-1" strike="noStrike">
              <a:solidFill>
                <a:srgbClr val="1e2124"/>
              </a:solidFill>
              <a:latin typeface="Gill Sans MT"/>
            </a:endParaRPr>
          </a:p>
        </p:txBody>
      </p:sp>
      <p:sp>
        <p:nvSpPr>
          <p:cNvPr id="4790" name=""/>
          <p:cNvSpPr txBox="1"/>
          <p:nvPr/>
        </p:nvSpPr>
        <p:spPr>
          <a:xfrm>
            <a:off x="1066320" y="1447560"/>
            <a:ext cx="7543800" cy="4647960"/>
          </a:xfrm>
          <a:prstGeom prst="rect">
            <a:avLst/>
          </a:prstGeom>
          <a:noFill/>
          <a:ln w="0">
            <a:noFill/>
          </a:ln>
        </p:spPr>
        <p:txBody>
          <a:bodyPr anchor="t">
            <a:normAutofit fontScale="93000"/>
          </a:bodyPr>
          <a:p>
            <a:pPr marL="339480" indent="-2628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جب ان تلاحظ المعلمة الانشطة التي قد تظهر تعلم الاطفال ترتيب الاشياء ، مثلا استخدام كلمات مثل الاول والاخير، كما في اللعب الدرامي عندما يمثل دور راكب قطار او طائرة  عندما يجلس الاطفال في صف الاول والثاني والثالث...،وايضا تلاحظ المعلمة مستوى الطفل في ترتيب الادوات مثل ترتيب المستطيلات حسب اطوالها.</a:t>
            </a:r>
            <a:endParaRPr b="0" lang="en-US" sz="32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المعلمة يجب ان تشجع الطفل على اجراء مقارنات وتستخدم مقارنات وعبارات خاصة بالتسلس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لا: من الاكبر من الاصغ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من الحذاء الاطول</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وصل اول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يجلس في المقعد الاخي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3" name=""/>
          <p:cNvSpPr txBox="1"/>
          <p:nvPr/>
        </p:nvSpPr>
        <p:spPr>
          <a:xfrm>
            <a:off x="1434960" y="1447560"/>
            <a:ext cx="7499520" cy="48006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بدا انشطة تعليم الترتيب بمجموعات لا يزيد عددها عن </a:t>
            </a:r>
            <a:r>
              <a:rPr b="1" lang="ar-SA" sz="3200" spc="-1" strike="noStrike">
                <a:solidFill>
                  <a:srgbClr val="000000"/>
                </a:solidFill>
                <a:latin typeface="Gill Sans MT"/>
              </a:rPr>
              <a:t>3</a:t>
            </a:r>
            <a:r>
              <a:rPr b="1" lang="ar-SA" sz="3200" spc="-1" strike="noStrike">
                <a:solidFill>
                  <a:srgbClr val="000000"/>
                </a:solidFill>
                <a:latin typeface="Gill Sans MT"/>
              </a:rPr>
              <a:t> عناصر حيث يقوم الطفل باختيار عنصرين من المجموعة ويقارن بينها ويختار بينها العنصر الذي يحقق القاعدة (الاطول مثلا) ، ثم يقارن العنصر الذي اختاره مع العنصر الاخير، وهنا يستطيع تحديد العنصر الاول في السلسلة ومن ثم يقارن بين العنصرين المتبقيين مره اخرى ويكمل السلس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5" name=""/>
          <p:cNvSpPr txBox="1"/>
          <p:nvPr/>
        </p:nvSpPr>
        <p:spPr>
          <a:xfrm>
            <a:off x="1116000" y="980640"/>
            <a:ext cx="7499520" cy="48006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لاحقا يجب ان تتضمن انشطة التسلسل اربعة عناصر واكثر ولترتيب العناصر يضع الطفل شيئين ويقارنهما والعنصر الناتج من المقارنة الاولى يتم مقارنته بالعنصر التالي من المجموعة وهكذا.وحينما يتحدد العنصر الاول في السلسلة فإن الطفل يكرر الاجراء نفسه مع بقية العناصر وقد يبدو ذلك بسيطا للبالغين ولكنه اكثر تعقيدا للاطفال.</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04:54:44Z</dcterms:created>
  <dc:creator>areej</dc:creator>
  <dc:description/>
  <dc:language>en-US</dc:language>
  <cp:lastModifiedBy>Lama Aljathlan</cp:lastModifiedBy>
  <dcterms:modified xsi:type="dcterms:W3CDTF">2016-11-01T10:54:38Z</dcterms:modified>
  <cp:revision>28</cp:revision>
  <dc:subject/>
  <dc:title>الشريحة 1</dc:title>
</cp:coreProperties>
</file>