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74.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5.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588.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6.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700.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428.xml.rels" ContentType="application/vnd.openxmlformats-package.relationships+xml"/>
  <Override PartName="/ppt/slideLayouts/_rels/slideLayout281.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91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571.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1105.xml.rels" ContentType="application/vnd.openxmlformats-package.relationships+xml"/>
  <Override PartName="/ppt/slideLayouts/_rels/slideLayout87.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41.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1219.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8.xml.rels" ContentType="application/vnd.openxmlformats-package.relationships+xml"/>
  <Override PartName="/ppt/slideLayouts/_rels/slideLayout114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961.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960.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66.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206.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8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79.xml.rels" ContentType="application/vnd.openxmlformats-package.relationships+xml"/>
  <Override PartName="/ppt/slideLayouts/_rels/slideLayout1205.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8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Lst>
  <p:sldIdLst>
    <p:sldId id="256" r:id="rId105"/>
    <p:sldId id="257" r:id="rId106"/>
    <p:sldId id="258" r:id="rId107"/>
    <p:sldId id="259" r:id="rId108"/>
    <p:sldId id="260" r:id="rId109"/>
    <p:sldId id="261" r:id="rId110"/>
    <p:sldId id="262" r:id="rId111"/>
    <p:sldId id="263" r:id="rId112"/>
    <p:sldId id="264" r:id="rId113"/>
    <p:sldId id="265" r:id="rId114"/>
    <p:sldId id="266" r:id="rId115"/>
    <p:sldId id="267" r:id="rId116"/>
    <p:sldId id="268" r:id="rId117"/>
    <p:sldId id="269" r:id="rId118"/>
    <p:sldId id="270" r:id="rId119"/>
    <p:sldId id="271" r:id="rId120"/>
    <p:sldId id="272" r:id="rId121"/>
    <p:sldId id="273" r:id="rId122"/>
    <p:sldId id="274" r:id="rId123"/>
    <p:sldId id="275" r:id="rId124"/>
    <p:sldId id="276" r:id="rId125"/>
    <p:sldId id="277" r:id="rId126"/>
    <p:sldId id="278" r:id="rId127"/>
    <p:sldId id="279" r:id="rId128"/>
    <p:sldId id="280" r:id="rId129"/>
    <p:sldId id="281" r:id="rId130"/>
    <p:sldId id="2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 Target="slides/slide1.xml"/><Relationship Id="rId106" Type="http://schemas.openxmlformats.org/officeDocument/2006/relationships/slide" Target="slides/slide2.xml"/><Relationship Id="rId107" Type="http://schemas.openxmlformats.org/officeDocument/2006/relationships/slide" Target="slides/slide3.xml"/><Relationship Id="rId108" Type="http://schemas.openxmlformats.org/officeDocument/2006/relationships/slide" Target="slides/slide4.xml"/><Relationship Id="rId109" Type="http://schemas.openxmlformats.org/officeDocument/2006/relationships/slide" Target="slides/slide5.xml"/><Relationship Id="rId110" Type="http://schemas.openxmlformats.org/officeDocument/2006/relationships/slide" Target="slides/slide6.xml"/><Relationship Id="rId111" Type="http://schemas.openxmlformats.org/officeDocument/2006/relationships/slide" Target="slides/slide7.xml"/><Relationship Id="rId112" Type="http://schemas.openxmlformats.org/officeDocument/2006/relationships/slide" Target="slides/slide8.xml"/><Relationship Id="rId113" Type="http://schemas.openxmlformats.org/officeDocument/2006/relationships/slide" Target="slides/slide9.xml"/><Relationship Id="rId114" Type="http://schemas.openxmlformats.org/officeDocument/2006/relationships/slide" Target="slides/slide10.xml"/><Relationship Id="rId115" Type="http://schemas.openxmlformats.org/officeDocument/2006/relationships/slide" Target="slides/slide11.xml"/><Relationship Id="rId116" Type="http://schemas.openxmlformats.org/officeDocument/2006/relationships/slide" Target="slides/slide12.xml"/><Relationship Id="rId117" Type="http://schemas.openxmlformats.org/officeDocument/2006/relationships/slide" Target="slides/slide13.xml"/><Relationship Id="rId118" Type="http://schemas.openxmlformats.org/officeDocument/2006/relationships/slide" Target="slides/slide14.xml"/><Relationship Id="rId119" Type="http://schemas.openxmlformats.org/officeDocument/2006/relationships/slide" Target="slides/slide15.xml"/><Relationship Id="rId120" Type="http://schemas.openxmlformats.org/officeDocument/2006/relationships/slide" Target="slides/slide16.xml"/><Relationship Id="rId121" Type="http://schemas.openxmlformats.org/officeDocument/2006/relationships/slide" Target="slides/slide17.xml"/><Relationship Id="rId122" Type="http://schemas.openxmlformats.org/officeDocument/2006/relationships/slide" Target="slides/slide18.xml"/><Relationship Id="rId123" Type="http://schemas.openxmlformats.org/officeDocument/2006/relationships/slide" Target="slides/slide19.xml"/><Relationship Id="rId124" Type="http://schemas.openxmlformats.org/officeDocument/2006/relationships/slide" Target="slides/slide20.xml"/><Relationship Id="rId125" Type="http://schemas.openxmlformats.org/officeDocument/2006/relationships/slide" Target="slides/slide21.xml"/><Relationship Id="rId126" Type="http://schemas.openxmlformats.org/officeDocument/2006/relationships/slide" Target="slides/slide22.xml"/><Relationship Id="rId127" Type="http://schemas.openxmlformats.org/officeDocument/2006/relationships/slide" Target="slides/slide23.xml"/><Relationship Id="rId128" Type="http://schemas.openxmlformats.org/officeDocument/2006/relationships/slide" Target="slides/slide24.xml"/><Relationship Id="rId129" Type="http://schemas.openxmlformats.org/officeDocument/2006/relationships/slide" Target="slides/slide25.xml"/><Relationship Id="rId130" Type="http://schemas.openxmlformats.org/officeDocument/2006/relationships/slide" Target="slides/slide26.xml"/><Relationship Id="rId131" Type="http://schemas.openxmlformats.org/officeDocument/2006/relationships/slide" Target="slides/slide27.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C76C2-FA76-4A6E-B8D3-F61DDA89F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31EE-9733-4A42-869E-AB6597537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78C67-10C0-4BAC-962D-BF83A1FBC6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440D739F-49B9-4382-B307-3B680FFA1089}"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91ADB4ED-6851-4151-9C2B-1888B3F601D7}"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167FBE54-0660-4C97-88F1-3D978D406AAD}"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C5FB48CB-F0EF-414F-AF79-0D6853E73423}"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FDC3F79C-8609-4184-8BBB-8B33C43A7292}"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9B846C9C-0A10-41A2-9A0F-AF8789D9A1A8}"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B84AFCEC-4471-41BD-BC2A-2262AD5723E9}"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5238336D-D5A7-46A2-A577-E9016196CBF7}"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68EF1169-8498-4E5B-9192-512B4D7CC7DC}"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7C14FB83-FACA-4FC0-9C7E-223D365B5987}"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6849C7-4C52-44A5-AAAE-8198B45F9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AB2367E7-957F-461A-A16C-18BBB22ED22B}"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89B5D3ED-C50D-4517-B7A3-433D66E80702}"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BF8EDFBA-5357-4943-BB13-6F3A677AB44A}"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8198540D-E214-4204-9B48-C5EBC7490F7B}"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F5EF7C8D-4378-4EDF-BDD7-98908ADD735F}"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94B3B50E-9A90-43B0-A6BE-8D399E6929F3}"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BCB8CFC7-9C3E-47D3-9529-9FF1092818A7}"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213F68D5-9F71-48A4-81A1-95E700DC0C43}"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73FD3DE1-7399-4995-9786-3B06F00C3065}"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CBD080F2-3364-49B1-8389-56C065A0E768}"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987E6-9005-438C-983C-6F48288191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1C63FEDA-3D51-4506-8CC9-A0B71B4E9BC0}"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84321D40-EDE3-44DB-8FC1-9FA525C97B92}"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3AC4FEC7-DAD6-4568-B305-E354241D51C7}"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8D97F9EF-2A85-45F2-AB47-727F5EFFC3BB}"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ECD74132-FA14-4D1E-80FA-3173D4296418}"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F54ED81F-61FB-4812-BA5E-664761D8604A}"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077AE83F-D98A-4F19-B548-F8EF31570479}"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59223A68-3BD4-4E01-A731-52E1AC6AAD4A}"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D5BD6317-81F2-48DE-89A1-4DCD30131084}"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4B602942-7356-4D70-A986-FB6B0A08B618}"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8B2BF-35DC-4AC3-8A01-3662D163F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53A13307-7301-4135-B441-C48712EC19A4}"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61212A23-0C67-412C-B753-6D9EDCDF79A2}"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7C372BC0-3F35-49E4-B575-DC45BABE2900}"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AB0B66D0-78F1-420A-B7E7-48E6AD9E4273}"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DD03AC7D-7C69-4EC9-B477-59F80EF96DA4}"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F8E529E6-DB43-4C61-BBF2-CF9F69189C5D}"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8B7D002D-6607-4D43-9F21-934FB915EADF}"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682D71CC-1511-400C-9592-E141E9EC8A78}"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70903E90-FBCA-49FC-A789-9C936B094108}"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A811FB8A-FE94-42F3-9BF0-8B672F6CF8A9}"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6312A-A82B-4F84-B11E-C09CA6AA7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3ADF8499-0E15-448F-9B4A-9DEF990089FD}"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8A3960F7-6CE4-4BA9-B4E1-7C2A1942EA5A}"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72538457-C078-4BF4-8D3D-F7D3D4675F3E}"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0BFE4EFC-E017-4AEF-88A5-E88F169BDB47}"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AE67C880-D23C-4C32-A784-D4693F80CE39}"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C675D3D7-BEE7-40D7-8BD0-F306BF046212}"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729C9EA3-1590-4F60-A121-48AF76BF0A08}"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2419525D-B32C-4ED5-AA2C-AE28D6D56751}"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55FABCF6-1932-48B8-9D80-465C187BD090}"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857295A4-B400-44F7-903A-66E93A592172}"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8B730-0C3F-4405-B047-36D6DBBA8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0151539E-F0A5-496C-869C-FDBFB9342B87}"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4E5D0EB1-E9B2-42C4-AA86-8DF16700EC5F}"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2EB627D3-9707-4B54-99B1-6762BC448800}"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6760D9A3-B7E8-4E22-AB3D-F1EDB93A6351}"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4A825F61-810C-49E4-9CBA-B608F97C658D}"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C62FC604-FBB7-446B-8EFE-BE4023336AC9}"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372037F6-BB04-49D8-B09B-6B5A57D56B28}"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66755A26-0926-46A6-931B-220C967323F4}"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2F7A2F54-046F-419D-B60B-C71364807933}"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E3100DC2-FDC0-4215-88C7-6A4D1FFF57A8}"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C90CE-956C-44E6-BE79-CFB4F5FCEA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2914DD42-9C91-4D70-AEDE-31479D1D007F}"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340D0504-85D4-49B3-944C-7D5DE523DC3E}"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1A72C45A-26EC-4DFD-98CC-1545DDA47BB4}"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5F4B7335-9671-4FEB-8370-569F9E3C89DD}"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6E0A8B35-5E5B-4306-B779-250E40D9F428}"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3533CCD9-9D67-4F95-B148-22E3E30F2918}"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20326AC4-10DE-4395-8F0F-A5B804261A5A}"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E0037CFE-21B5-4E04-97CA-B44588BB67F0}"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CBFCA9E6-0E5A-4688-A8F2-E66342CD6D12}"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6270BD46-D12F-41FD-A4BA-9D46B67CF2E0}"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E9F644-E95A-4AC3-8E23-D9E8B76682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7D98A964-7F8A-456D-AAC9-39110B9A0D53}"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68C5979E-EE4E-4FB5-A318-1D7F22168FC3}"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515F414F-D607-4728-8A84-1D1222EA6BC7}"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0E73DFC5-5B10-4BF6-94C8-4AFCBEFCFCC9}"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75266AE9-3438-4491-8981-5CB5D1C2FB84}"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82DC210F-15C9-443B-8F38-793F9A244DFD}"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03A32690-5FD0-4E3A-8DAF-031DA5282B5D}"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84ED8A61-AD41-475B-9BD1-2CF8E841FACA}"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F8113680-0496-4309-917E-954117D305CD}"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B30FC21A-B449-4C70-B9CC-EAE25B36A611}"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8EBA63-9271-438B-AF62-1296999955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C63A10B6-04EC-4062-91C8-69924FEF6D9B}"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3CEAC738-6AB1-4148-8DB4-1BD7BD0C4325}"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7EFD66F6-15D5-4E38-875B-4A1A93DC4D51}"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6EFBB70E-3384-41B6-B8FE-7AC5BCCE211F}"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3EE4A5ED-E61F-4E9F-A0D5-0666CED5BF57}"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C2267C9C-1CFC-44F0-87B3-36B89FA8D2BD}"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56C709DB-E6D5-4C1B-8796-249C5251A068}"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C8385677-61D8-487A-8647-BED0B409F9E8}"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8EAEC680-A895-40DC-BB43-936F0049B231}"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C021B694-3BCE-4559-AEA5-25BA0584B075}"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D2E40F-C385-4EE0-9014-DA9E9E1741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B8695386-6774-4E29-AB92-412B32241090}"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C4360029-62C5-4853-9A51-03AB05566EE1}"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840ED46F-0DB2-484B-A2AC-662872A5B086}"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35415CD2-5D99-4D30-98B4-D8D156A7676D}"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3CFDA13D-53E1-456C-AE61-42EFC20325D5}"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48797588-C2B8-46FA-963C-93655846CD7C}"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CA4F4538-4694-43B0-8180-2923315EEA97}"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300C4CDB-78F3-4AF9-9449-27B98AC79837}"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AA0138FB-EEE4-4CDE-A5AC-517752F95A3F}"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73FFEE97-5B43-4108-BD11-AE0820F20475}"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DD3F4-B7BD-4ED2-9188-3468AF017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9F005F-1C2A-44F9-BB95-19F22886A3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A5B660B2-8CFB-47A4-B310-A1C7D95010BB}"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0FABF714-8FBD-4134-AD3B-8BDC93CC9508}"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88203FDA-F93F-446C-9EE3-C4659BBBADC8}"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C799C6D8-122D-4EA2-AF42-FAE79F43B08D}"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95979F5E-03C5-4ECC-BB7B-EB7C35291D58}"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FFD7F98A-81C1-4EAA-A372-4486C9CD841F}"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559702F4-CD81-43D8-B8EF-21CB0855CF02}"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EB0AC2A7-D971-413E-9018-8E0A92A915B7}"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9C9E57C2-12E1-4940-BC6B-C852BBB15ECD}"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83951428-7BE7-4699-84EF-F563A20FB310}"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5E0DF7-062F-4A98-8A22-4EE5B02376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5B2EC356-3E56-4F22-98E5-DC24DFA1BDB1}"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ACDF32A8-BC5A-4A60-B0B5-439820D5A819}"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71DD5A3D-C6BF-45EA-91DE-9E8CD91BAC36}"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FF9CBB2-9194-49C7-9251-9E9DAC5BA277}"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CFA10B34-966F-4EC1-889B-10ACB390DEE7}"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1374E44B-98B9-42AE-BAA5-FA6773E9D688}"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63F930C4-A4EE-469A-8956-8B790AF27BE2}"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70F4794E-9AA3-4850-870C-EB7AA99C6358}"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AB8F0CDC-166C-41C9-B1B8-0D26FA85D79F}"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CC9410BC-A6CE-429A-8B47-58FA6349B57F}"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B50814-2DA5-4A4B-82BC-4457793F88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15594574-08DF-4066-912B-802D412F747A}"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69D0D231-605B-4723-9A42-0A3F18AD0402}"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D2B4981E-FBF0-4F8B-BB48-8BC2F5440771}"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F967C885-1962-4C79-881F-D9FE816F05A4}"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911B75EA-7D80-4658-BC02-4A1FE1FA9EB2}"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474D1949-FD71-4202-A9F2-DC4BBB440CFC}"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16508287-8920-48D3-A675-41CC36E1FA94}"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ADFB5038-E7EF-406B-8C24-EDC6A1DC7DDB}"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FA844699-76BD-4A83-89CC-941BE3A77FB1}"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8878D92E-34FB-4755-BA44-6C872FDDDDDB}"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7A18B4-F1D8-42A1-9B09-9833102CB4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B7A83D2E-CF68-4683-AA67-57EBB1DD28D1}"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E4F16B76-53C3-4571-8D25-3B32E8859357}"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F7DA1C28-9C7C-4F6F-83E8-06FAD229856B}"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85E408C2-8254-4573-9D5C-646542C284D6}"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FDF8C924-E4C3-4DC3-A3F7-2B0F1BA93387}"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4ED90122-49ED-4753-82A3-5A7EADC9A910}"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DEA72252-748A-4B1A-85EE-BF6897543A97}"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0C049911-DF21-4285-962B-8500262F09D1}"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E7C0291B-3F5F-41DF-838D-EE228B41F89A}"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6984D5F6-EEFB-4E5B-9EB3-C7BFF620EF72}"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B19BD8-418E-4D78-92BC-3F79BB3972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38C56A47-2C73-40BD-AA9E-7F945F1229C4}"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E4BCBDC2-8F00-42A8-9258-6C0061E35DFC}"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739E9076-C3B4-442F-A3D5-5C7ABBAA534A}"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6F71D2BA-7C94-4094-97E0-619DF97043F8}"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2628E8F7-6359-4B50-87C5-C49452CB548A}"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BECDE3FE-D4A4-4372-9E85-04D625C8A628}"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012A7B2C-CCF9-4684-B102-9AE0E09BB739}"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51F9A410-98CD-4A25-9950-B296CAECFDF5}"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F9CA0CD2-6DF0-46FA-BABE-9C75971FEB09}"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1C229778-4D9F-4226-B8D1-3856C5D51310}"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F0564-8AC7-4948-9105-EEB7E999E8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4A15254D-1DC0-43CF-9E91-95CEC0E5C530}"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205A7C6A-68D4-4635-9701-CEADC67D33A1}"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3A4147AB-732B-4C7D-8D43-D069DEA2990C}"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544C4FEF-5A78-4A72-AD91-4AD64D21C64D}"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D4FD7465-A13C-48C3-8853-5CD3539346FC}"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0FAFD01B-051C-441D-A189-D77AE9C5122B}"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1A4C1FD9-3CF2-43F9-9D20-FB95D9F16391}"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EBEED50F-8F33-4D76-8D09-315DBB19A5CF}"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03F506C6-0DF6-4A28-BE9E-E23136C8EA5F}"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93994AFD-94FF-4951-B8B4-131814049B7C}"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AAB8DE-D577-49E0-AAAA-391B9D23B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6D12BE4F-E6DA-4743-BAAE-D505221962E7}"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590ACCF5-C95C-4B71-A61F-DB8EBAA1A4B7}"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75802417-5D65-49A3-A540-D03896CE1DBC}"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5C028FA7-C0E0-4F53-88B0-1BE82A8198B5}"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0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5EB83E81-33B3-4705-8E62-669EF53F5B6D}"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75A00B1E-DD64-46F6-BC65-CA20CD949C3D}"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F759C4BD-99C5-4AB7-B7B3-75A3E2A91283}"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9C5762E3-FBDC-4AE6-9FC9-2E68FABA4D0B}"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4D9ED647-233F-483E-8E89-86F70FF88C6E}"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54D0FE7C-03E7-4DAD-A944-BC93EE0DFB58}"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E194C6-E3CD-4194-9425-83F96D4D1E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359EE8FD-8DD4-4C69-9B35-D314E563F0BB}"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F13CC770-682A-41B3-9D58-724EECAE7B24}"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588D8B58-CAB8-411B-842D-1B4598D51661}"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BF1D5F76-EC12-46A0-ABEC-1DDD644DA43C}"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9D39110A-AA57-47B7-833A-B649FCCB01DC}"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2846548A-48E0-40F6-A4DF-9C6490D62D4C}"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C3203202-4B3F-42BB-B2C6-D74819500A0E}"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8F22B997-A4A4-4666-A9FA-EFD184E866CF}"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2C4CD1A2-01CB-4429-A572-7BF7784EE116}"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AFD7260B-2EDD-4175-A8E3-D802C22293EE}"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ABC5DB-918E-4C5B-90E8-E62DEA921D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6632C445-74A4-46B4-9F85-35CBCDB49765}"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8A36EA7A-B82F-4B52-BCB3-70557B7EE89B}"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50585F45-518D-48A9-A91A-2D10B3003761}"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7B5EBF2D-4968-4C2B-B093-99BE63C736F6}"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09BA4BD4-71F6-4ECB-BCC5-7BC25D96C99D}"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D280AC82-B446-4E6A-99DF-600497A2B878}"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0B159A72-D0D4-45CA-BA67-DF7D59530C64}"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AC1379FE-CC55-41AD-9F78-65CCA7854794}"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36E7F6BE-B04D-4FEE-A7F5-C1E4DD7D2BFA}"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2E51729E-2329-4DEA-B1B0-781675C657DD}"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A62F5E-E9D5-4FA1-BB23-86B6124ED2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764A75A2-52A2-4AA2-A1F7-8C10F6296B81}"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AB6056A5-0E44-41ED-8EF1-11D9C264D357}"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53FB8491-567D-4DF7-B863-86B7B9B12417}"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AF70CB63-694F-4849-B1DF-31777BA7A87F}"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261DFBE5-6178-4CE7-870C-FDE8BAC2B9EA}"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74BAE53D-707D-4224-A302-5694C7F462F2}"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CD3BC4B7-5561-40DC-B79C-BBB1D16DAB00}"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3ACE654E-9A44-4FAE-AC20-334DA6DFBC87}"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A83B5B79-9E05-4B1B-8E9A-36AEB2E1A7F6}"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D6D0122C-99F3-4208-B1B6-300BB1DECEF9}"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26AD9-7213-4E1A-83C4-6B4177D02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8E88DD-0994-4053-86F4-1E6F54EEFE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A1B559F7-ABF9-4EF1-B9F9-836AF4689096}"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A38A884B-FBCC-4A85-A8F8-F14F844FBED7}"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85CD473D-0AEA-43E3-9955-BB01635DA2CE}"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7194D5BB-B19A-494E-B3E9-7D14541CF750}"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1165BF61-7EFF-40D0-903E-2D9E499F39FC}"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201B6012-CC8D-429A-AF6A-F9EFFAF2E0D7}"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09240978-7AEB-41D5-A4DE-5BBF25EEDF4A}"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3153BCE4-122A-45B5-BCE2-7E523861058E}"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EF5C00E0-7746-4E8C-9563-5CBEE6080F71}"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C5C98760-FB04-4FE2-85BA-D06EE644A3BA}"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D2E6A0-2E8F-4736-A59D-A950D539A1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715C9F57-A585-4E0A-B44F-D6758A88B8ED}"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4EFA4C9F-6C92-4384-B9F0-7B2D4A2CEB59}"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FEADB653-59C6-452E-84CB-CEACFEC2F990}"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0F7FBAD5-6ADC-4B83-9151-8C2D0A3C2A0E}"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0382C2A0-D66B-4357-8DB9-DD8A95E54DEC}"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7C3073ED-5463-4618-91B5-F7DD7708B933}"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E390568F-6B00-4736-829F-ECBB41C9776B}"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1F6E4DDB-05BF-4850-9139-6621DDEBB212}"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188D70DB-6AA5-4EFB-ABBD-D8FE0064DA47}"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6BB6B05A-58AB-49FA-910D-6D58AB7B65F3}"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05CA4C-E27D-413A-9830-330B688147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2D4658F1-4B41-4B7F-9484-92D1BACDF98F}"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D729F5D9-E478-41F9-8C18-910F93DD738C}"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B7038983-F05A-48C4-840A-2D00764EE618}"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AECB6739-E4DC-4C5A-A588-B06728BF6686}"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A3D51D71-C740-4ED6-BC24-7E7EE168F95A}"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7AC1B017-5669-4D54-AA70-B3678D66F884}"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39DF5AD9-98D5-4229-9CBE-964BCF23DB98}"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161976BE-0D90-4786-B0E5-27C509969C9F}"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619F237F-20EB-4812-B0B0-F726DE04222C}"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CA310C18-87DA-46A4-9179-E29A3C903B7D}"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223EA-EE6D-4BA2-A298-2D47969BE6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152647CC-EDF3-45D7-961E-12726EDA6A18}"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59548E61-7C78-46FF-8F21-065A1E8347ED}"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07C687FB-77B7-42B7-AAE8-E4D9154A2D49}"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B8903D85-FF02-4075-9B96-4A7328F410E5}"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D512429E-BAE0-47A9-AC13-3785B5BA0844}"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49CB9886-703E-4FB6-8F3F-B6B981139211}"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73858000-F7EF-41C6-9B98-FD29E6BEFD1F}"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A6D447-41AF-41DD-A114-B8ABCC76D7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3FDCC3-A64F-4A6C-A03A-1C81F73B10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4680F1-BF43-4B84-A350-A8FDEBD389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C03304-B68D-46C2-AB54-BD5A8ACF77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6358F6-4187-43BA-AA15-EC3918C4E4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F47CB7-90D6-4AA0-98F9-625DB2892B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D4296-1018-4B0C-8005-F4C8F95FD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392088-8DA7-47CD-AA19-B0E28DB9E4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010416-45A0-40BE-9406-604BC836B5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761EEC-B7B1-4A1D-B17C-A4FD14DCEE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E4E10D-797D-4A4C-B1E5-C3B48FD654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C68ECE-61F6-4143-9925-9CDFEB3648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03092A-66B4-43B7-98D1-149ED770D9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5BE986-503B-4388-8EB5-1F812E7C02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2530A1-4A88-4E7A-8730-4BB6DEB1B6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DCFE2E-8C0C-4443-BFE3-9E2FB1DC6E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73D7B2-C67B-46AC-9CF1-F46240246C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F614F-6CD5-4C80-B8E4-FF7406A82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033DB2-8A33-44B6-BD79-12B368378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E79961-F1D9-4BF8-9267-4192784B3D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D6B459-665B-4AE4-9D63-D2DE5AD079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369A22-AC7B-4FF9-B3A3-98EE3F8FB7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16AFB6-4406-4AE3-8EF5-260371B53D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376CBD-3DB3-4EBF-AF87-92486EB17F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8847BB-D621-4939-A066-60D665F297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EECCDF-E89E-425D-A849-3D25C69224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AEC072-DF0D-4474-A97E-25BE68A37A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C7EFAC-7348-48DA-9D1A-9509F4336E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91879-5D97-4D8F-BF9C-45A3FC6B9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B4B519-F1AE-4766-B359-0BF8561E51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73FA82-DB00-4428-B927-F174C4D8D6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C6861D-0FC4-4724-AFEE-F7AAAE46BE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272A8B-D295-42E8-A636-D34E8F4709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EAE628-E9C7-4863-AFEF-0A33C88BCA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CE9991-FBF7-46D4-A845-EB21923CE1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9CADC1-8C30-404F-B160-50164C252F1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3C0D07-30D5-47E6-8FF3-F7B20F23EE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3AEBA1-5747-440C-ADCA-AE1B87C0A9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23D19F-0183-4843-AC96-2966BFA6B9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0719A-0C3A-4ED1-AD1B-36F859458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AB3286-2070-4EAD-BB21-8E0B915B61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3FBC9A-07A6-4800-8A8A-730CE1045D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543A73-B1A8-4976-BDF6-908A8ED129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ED7EE7-08C5-44F9-8E37-1B70EEC402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43B99D-70ED-4574-95EC-C061B9327A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1F61EF-FE43-4713-8CFE-06BD036C97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E5AFEC-B970-4E21-9033-AFB0786418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A96DCF1-6D9E-4A02-A176-9A5453D5E66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516ABB-910D-4BA3-9C7A-6F5B38D4331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9174F4F-046F-42E2-A546-44C2DA9F0D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C6AA0-7FE4-41FB-B3EC-3BC511B05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952293-4685-43B9-BEFF-E7A0CCA03E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4D3B9B-34A0-43A0-9E1B-955969E388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857D5D-8584-4AE6-B09A-03A73337F4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E0362E6-6DBE-44BA-B44A-20C48615EF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86F291-8779-4B37-99B9-2C95994227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722449-4D7D-4514-AC89-420A5B52EE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D5D9D1-D6D0-4DC9-9EEE-16DCBB6E64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C4D3DC-58C8-45DA-8EBC-8D628D4AC7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9F993D-7F60-4A52-8D27-45FF84C941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49C04CB-037A-43C9-8555-57113F368D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56471-5F71-4105-81E8-C336C2A44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AA2073-D082-4E18-8573-2C944C5E8A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ADA3D99-A291-431C-A364-CB5BA638DA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73D87D-CD7F-4E59-A084-12D37D66A3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822D0E-71DE-4462-9CF9-55CA62D716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F73662-E984-4440-AF34-B6AF4ED115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954076-F57E-4793-807D-6F97AAE2BB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5356F9-2B3E-4F20-8E05-A7DA56471B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96DD25-267C-4AAA-90F1-5135C5AD08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02C346-4F44-4D5F-B680-AD145FF821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66CF57-CE7D-4DE5-9EA5-1ED666B2C3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9A5DD-7E9F-4133-AF49-C02A1659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5A2187-C2D9-4F98-9DDF-4BDDB891DC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68FF6C7-67D9-4E02-B76A-0D17AA47BD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99784D7-6C12-4B29-B87D-454AAC0DFD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D54941F-696B-4956-81D4-2D72E09D7CE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78AD54-482B-47D4-99F2-7ACB760E52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A6FDA1-26AD-4483-9467-44C11F5147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D0574E-6575-4FD8-8A21-85CEC761DB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35F685-90CE-453E-975B-38C99F2909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744CA5-D171-473B-B6B3-9E50C65745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0CCEB5-699E-4D38-8D8C-8F4BBAF85F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3ECB5-B809-47FE-A1B4-817A06162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09FF-A4CB-4444-AD9E-A1323B28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D96889-4915-4CEE-81D2-896C6EFAAE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F43EC5-06F8-4DD4-AD79-1D2C7C4445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80A91D-BF0A-40E7-B4F9-CCECFC7B03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67922FE-5440-466D-9D13-1D0624D528C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EB45F21-4BA1-4FEF-9BFE-0A3BB2B60C9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3AE67FA-25FD-449E-ADFE-A39671E48F9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F735C3-5A17-477A-8E2C-9F2ABF739F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7583382-F079-4F5F-B45D-F04AF2DD84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6E6778-F0FE-4450-9619-D6F4754EE5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0DA2F6-4757-4E0B-878C-727F32CAFE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1BE98-A2E5-47BF-9A41-D62643CE0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D6DE30-B455-4728-B147-D1B38CDCB8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1EA18F-E92F-4040-87CF-266F0102FB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3AD128-BF69-41F2-BF1E-CCEBCCE795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F8EB1A-9C05-4667-90C6-41A9800B05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119AD7-E5AA-4864-A7C8-01BC931CA1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CF9FDB0-7296-488A-A3B3-AF8DEBB5A89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4F716F0-2E99-4BDC-BFE1-37C98C58DE4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9E08F45-FEB9-4978-86BC-A8810D4CB0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3DFB204-481D-4D99-841D-58863B7F0DE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4651F0-3523-4BE5-862A-297D22F3546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5F214-761A-406A-A915-F4F52DCC6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777E76-EB4E-4B69-BEDF-AE5F0D2440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F96B6D-E6B8-4587-9C29-8FF54456B4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62B694-FBB7-4C2E-9A4C-630F46D6EE7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5B3C83-DD47-4BFF-AA72-169AAE9FF7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833945-3F2A-449D-9B29-6457BD09EE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18B3E8-C0E6-400B-9BCB-706C66D3AB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D029F9D-0CE2-40BD-8140-488857C5F3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7BA8C1E-6E07-46EA-B84C-BBA0BCB5A5D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FA45217-774A-4297-B2CD-1C6F17EB9AC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452E607-8956-4975-91B4-21EC3B0D5E1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9A82D-57BF-4D8C-978D-D7CA22A7D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FC5483-3C5C-47CA-A70D-48341E9DCF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D69D7B4-BC16-4F27-A5C5-EB348BDF86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CCD240-9926-4ED2-911E-D3FA1A1C37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87511D-16EF-4E93-A981-9B577A0F8F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CA5F694-A53D-4754-85D8-710E3F26BF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4EA39C-97C3-424B-B414-7267B53C4A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B28F529-6716-4806-9363-0EFDA2A472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92FA0B-896B-4D1C-9E90-15374E2261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80B5244-FA6C-4DB8-8A47-713D599528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5E3973A-1524-4A62-BBFF-866B03E7668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DC089-BE49-4B23-92A7-367799057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16D446C-09E9-4BBF-B18D-B472475F7A0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0626486-FB05-426B-966E-C970ED1B479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D5B3BEA-3BF8-4A02-B1C5-8938B2A6C3E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573A52C-D379-4C27-9F0D-283E76388B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1433715-1AB7-41F4-8033-51A591C2110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AA9A51C-DFB0-4343-941A-A45E32E6C93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FF90F46-090B-4D6C-A020-C0C225E71B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5296177-D4E7-4BEE-B6AA-E7626DA2D3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77EE18-5AD6-453D-9197-622E1345319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982B03-1D7F-4716-8C14-98B2C07C09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3B29E-BA70-4A86-869D-2B1BCBD8A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EAF660-CC4D-4C24-969F-EEA9FAE65FC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C80F1ED-4CD8-44D7-B628-3AB110D030C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001201E-908E-4743-B462-B98568C77A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62B534C-FB33-464A-B7FF-1032DE1D46E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836C6A-4D58-4CFE-AF91-4D007EB1A2F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50C02CB-A38E-4386-967D-857CBECB3F5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21826A9-BD48-48BA-9D45-C0BD662E912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3AD0004-E8E9-4220-B972-78DB0A7E9BB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CF3C1F2-496C-4A9D-AE0B-4CF9E46EE32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23D1435-92BC-4A2C-ABE0-BD33F11083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0DE78-D9E9-4471-B9E8-370A29C61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F854C16-8DF7-48E6-BBFB-F4FEEF19C69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DAD8F1-D5E8-441B-B7F3-FCB2D9CB36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8B7975-9141-4656-9779-69F3BFD7E1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6615098-2D57-4490-935D-2EA15EF97E3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ECF51A-3338-42C9-9C24-86CC1BEC8B8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867B2D3-453F-46F2-B385-EE6C4BCF4B0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03B943E-1375-4BBA-BA50-427A582A6E6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1ACF3D0-C45B-4A57-B9BC-9A0CEAFCFC5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437E321-7679-4B1C-83BE-FC55313D29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E040E9-883E-46BF-86D0-A43015C3215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7233A-84C4-431E-BA90-C7A09740D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78273CF-E725-4547-A345-2D637D23D61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5E29B8-685F-47F4-82DB-F1D5AA5DE9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731CB82-04DC-4DB6-BF8D-0177B16EC0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7CA2154-FC66-4D6A-8581-1726604641D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96841A6-DAF5-433C-A1AD-0D7F54A93F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4C7A66D-3D81-4B23-8362-062BA09232A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80F3358-AA5F-4E5B-899B-90CAED489EE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9BF38AD-DEED-4708-98E4-18284051992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D239C64-5EE1-46AC-AF1C-88DA59BBD4F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8E9C9B1-C327-4A7A-B5DA-52DA81724A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0C144-E933-4D09-9D1A-A1B32FBF3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393F9A3-EEB7-4649-8CE7-4B3399CEFFC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390B330-04BE-496C-8EDA-76E7CEA765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5442522-6BBF-4FA1-8B05-FDF5EAC7CC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654EFB-88C5-4B4A-B1C0-E03163B557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0BA67FB-7BAD-43F6-AC80-BCEC465B25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137539-76E9-4589-A036-FBF04F6156B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17C3FAB-CF8A-4E56-B4A1-A644B34869F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92E9038-5DC7-4EAB-87B7-CABFA9CB300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83D2B5E-5024-47A9-8CEF-4FB74E64E99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A18A994-537E-4667-ACDC-5F424BB20E2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B07C9-BD09-4CFE-92AB-3D57F281E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A4A00E9-B7C7-4275-910F-7C4D6C6B56A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DCC7373-31C7-4F89-937D-16B74B30B0F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A527AB2-CCA5-4088-B3E8-A6EB7C262D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C93606-D9B6-4DF3-97DE-F0F1C49E76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9944C4F-B219-4E94-9C18-ADF6ED4A9A9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941750B-B195-4E56-AD6E-D02146A862C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7F229CA-F8F6-4A02-AD69-00746960F4E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5C160E-2CDB-4DCE-A8CD-12850333C9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4617E4-CED5-4362-96F4-2827819C399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5265D67-922F-4EA7-B48A-5613A43CF3D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DCC7-E2BF-4E72-9262-74505790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01673-C6D2-4546-9D7F-80F188764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29793EF-549B-4C9F-89CB-98B806ABE9D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822F619-63C3-40E8-8635-5D656E4BF28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F392C6C-0EEE-41F7-B0EF-773B545696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9E0B57F-F37E-4B00-9BDD-FDBAEACCF74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28EFA64-AC3C-48F6-8A49-0C33FFFF307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992F9AE-6C3C-4B51-94AD-0380ECD7D53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FAFB169-EC93-487E-8778-94FAC63C953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E6837D7-8ED2-4884-AB5F-1702D9D373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AA21AB7-C659-4F30-825D-3A261348A8F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18669E-02BE-42F4-A5CD-90FA947B4F3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064A8-CDDC-4C12-9E54-E39E9D380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00D41AC-D5DB-4948-A6C9-D9DA90DA0D7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AD11844-711E-48E0-8782-2A09A787BFE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11976DC-38B8-4CAD-8C49-9423EA6418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539B32D-12ED-40ED-A6A7-873A9147A3B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DC01663-BD92-4A99-9900-652B5FE7C51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447771C-34CB-4D8C-96D3-B7CA8FA08B8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124FBF5-DC91-48E6-B3CC-A60C384092B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3537D15-22D6-405C-8502-25FF6D71310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A54B62E-9CC5-4721-BE70-06CC5253E6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C999D12-8F7F-4E58-A03B-3BB28BF5ADA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DFC04-5EF9-44C0-8EF2-6A184A628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163E5C-01CE-4DD0-A2E8-D4EAB92454C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3974518-8A2A-455C-81E2-FA693DAF945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140C7B-74B1-4BBC-9FE2-74C7EDDE092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8DF22E6-904A-42D7-A805-E40D3658FAB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077FA4A-CA07-4904-88FB-17D360C039A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DF36412-643A-48F9-AD3E-C45CDF72290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0BF2F9-0E32-413B-BBB8-A1E0D01DA27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6989278-4EC1-4CF8-A06A-041C9DFCDD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CA4F671-2812-4CD6-8904-2D63781B746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A17C411-94FD-48D8-A218-9B0BC561DBE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A3413-4B36-46C9-A31D-69F12CCEE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330223F-91B5-4C76-9CA0-61489C4E40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C775A8-45F0-467E-86C1-EFADADAF01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58A883-77CE-4A3D-99FD-F5A475D387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20C9041-2E0E-4489-8D2A-6EC50B8748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17CC21E-5DBE-4A64-AB51-A55EF97217F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9D79DAA-D6D1-4584-B94E-B0E4642F00F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DB5CDFD-E658-4A04-9BBE-266DA1DD3D0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59DF3A3-B5AF-46E1-BB8E-B789C8BB0FA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6D70BB6-9FDC-48B7-8A98-1080FA82B50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7A69D9C-07D1-4E39-B3CA-6FBC5CBF079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F68A1-2FEA-4859-86C7-2326A64E8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E51036C-767E-420F-875F-78F9ACD5D59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DCA5A98-C860-4EDE-99C4-022B268308F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AD9DF18-EAE2-45F9-B205-F19B3F697D4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BA7F19F-268F-4A35-8E10-2E1422354D7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A1C9D3E-2A88-4405-ACEC-5A6D97924B3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C400100-E59E-4B8F-ACD3-FA047FF91BD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A197945-8683-4424-9025-BCE626A6DB2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07CCED9-6D87-48F8-8A0B-98FCD01C2E3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0DD605B-FF33-4909-844D-2AA8497163E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9B5F7E3-F77C-4C33-B21D-15733FE0D80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70110-78AF-45C6-87EC-AB945BEFF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A2CB606-1433-497B-886B-0A405FF1EBD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559F106-18D1-4A65-981C-4EAE0147A0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0BA0353-854C-46A6-AD2A-B6FC9D1FAFF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D51935D-D1B0-42E6-BB0A-940E5A6BB90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66B6B2C-0020-4D7F-A1A7-EA998C8D8D4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ECB544-6FC6-4F44-B6AC-182E2D432C4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9AA2B08-1D3D-42CE-B546-B33CF143EFA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CDC08A2-717D-408F-9DE9-69DD19FBA4A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918DD3D-B4DB-40F3-AD0C-7344C17A5F5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BEC420-EDE5-4536-B02E-27FE71D7107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018A49-DDD1-4A48-B5D5-D55566D56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37E617C-6A9D-4680-9249-F88B1DA8A0C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E770661-442A-4417-9AEF-B6FA05FC058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9329B35-47B8-47DF-A1B8-95000CDD483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BC7ED30-0FE1-41E8-9A00-29899342FFE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FBB8297-18D4-4744-BD7B-7DFC889F96B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9EB8E70-92C6-41F6-B4C0-971BE6C9DEB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3C7D2DD-AA95-4848-A754-237C6022EA4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D11B628-944D-41E9-94E7-7C3763AFB34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EE1F7C9-51B4-4821-B262-B98D60781B4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A6D75B0-D813-45C9-A501-FEA4C2F5347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CA9C0-E5D2-4403-9F95-4E62937354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4AF9C99-663D-482F-8F39-DFD271CEB15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C562A7B-A87F-4B55-87D4-6F5BC8A8546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7E7B13A-6B53-417F-9E61-6B96E91C46A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C9E0431-48FA-4226-81C5-90D209E9D2B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CC00C6C-7A1C-4F0C-8B38-ACCA7316EAB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C5082A7-BF42-438C-8FE9-D9A888ADAC6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410C9B8-7410-4E2B-A42E-625F439B5F6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76939A7-A934-4433-BAB0-4BDAF56FB02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EF29D2F-DDBB-4CFF-9DA9-DB0921D5807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67EED41-BB5D-4ABD-9316-7407FC0BDC4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153C7-24DA-4F4D-BF39-BBE30BA2D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5A252B-FEEF-4327-9280-A5C9E86BF44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95A37AD-F029-446F-8CC3-D8A9F9FC1C6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5B2190F-EE63-4118-B03C-687CD5B7D72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2B98C19-D201-4B93-896D-8B45DB17366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D4A59D8-B994-410E-B5AD-E7AFAA32278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8D28105-EF2F-4119-AF3E-1DBF3136D55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C280FD0-B517-4296-8800-F77507B5EA1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AF17294-F2D9-4B93-9C39-DDFC194103C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A4BE782-A10A-4F1E-9124-3444CC624D0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4B634FF-DA2B-40DD-AF85-9830B960CEC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B1AAB-F8E7-41DD-8C64-0F72AB2B7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8F52679-F480-48C8-B774-021B0AC640D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FEA6286-59AC-4BDF-85F1-87FE0BD5D02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7B1A3D6-0373-4EFF-B139-B60B2CB9E61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1856BBB-1160-4E4F-B658-1F4867BA55F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14E8090-57DC-41E1-9379-F708C1280D4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B06B579-597D-4CBE-BDAF-9A804880F9E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3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55F1078-0CB3-4170-AE60-C75E797BE0A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20ABA42-71B9-47F3-9AD3-A3083B69ECC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AB0DFB7-7407-4E63-A46C-04203C25C52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06CF1DB-40C2-48AD-B01B-A72E0D0C35C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673A-B8BC-46AB-8CA8-B107C2FE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F5B7A-FED2-48C3-9868-D0C5872EB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AA52D92-DC57-4DBE-B5D2-F91B2699A82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2CE2882-C9E6-4699-B667-4A58E17B78F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E88ED0E-0EB2-4EDA-8216-CFEDF1E2940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A87E98-1A27-4A20-AF3A-8F85294E58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7F85220-3330-4E3F-90CA-5AC92E96BA8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367323C-835A-43E5-BA06-CA335294C2C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AAF968F-D0EE-485F-A35D-80C7640E226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42572D2-0FEB-468E-8FE5-608748D8616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CA80A4D-C288-4633-BC42-49B26816031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AC8D3D5-AF5D-462C-8682-FD4E0961CE0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FE1DB-D991-449D-8D4C-6C17E4B91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2DCD6BB-B87F-42CE-9E5C-13393381EC5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BB46A11-4AF0-4089-AAF0-DE2F94D2802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1B35A98-F93E-4A8C-89FB-D9A7CBD0A46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F338E47-A206-44CF-B471-D354E9721D2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93DABC1-487F-4622-BB3C-B3A5D518C1F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618A78A-464B-4B59-A952-70BAE2A9368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5F8618A-C4F4-4A50-B70A-1F9C00F8CEF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122E43-7A35-4601-A31F-A30B1C66655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D200409-8AA0-49F4-8D71-D2D44DABADD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E6DB677-D389-40A5-8298-F2930CB8C96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C80A5-B3AE-45FB-B4B7-25AC293FD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B3299EF-9B09-4E4E-A039-0B5E3C2ADE1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8204C77-A793-48D9-AD12-26A4C9856FD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0195BAA-87DE-4BF0-83C4-D79B4FF9216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91E0429-473D-4FF0-B5AD-2028F09471F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12AFDD2-BE06-4C25-A937-EA3D7A85C57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8C532A3-598D-44D0-B44F-EDC95B5523C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DBEBE4D-1359-481A-BA03-052E427ED02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172A84B-F733-44F8-A54E-E43680D82BC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711A791-A8D6-466D-BDAF-017812070B8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3F5A24C-ED13-42E7-9357-4B1976A0C36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AC444-E0D4-4753-9AC6-D3AF85234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0555277-2DF0-462F-A3D7-4FBF51828B2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C91CF3E-88F4-421B-BE88-A9FC13EB8F0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D857C95-8ED8-435E-90A5-893E7C1786F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C1737A7-25DB-4438-B94E-2DA477F86FF1}"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89EF643-C1A4-4FDF-816F-26041CA5884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CC1B5EC-3FA4-4EE9-95B6-7973D6EBAF6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9FE2460-1A42-41BF-A471-1F57B18A6C1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FBF44D3-EB53-40BB-8EF9-AFA35174AF0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6A7B8CE-5378-4B30-A469-10236A3B64D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A992C6C-FACF-4C8A-8ED9-6FD73B15B8B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74AAD-23C6-4D9E-A085-2487F66B8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17E68B2-2E83-4F3D-A87E-2D5A57719EC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E8FBF96-D8B2-49E7-96EA-232318133B7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BAE9A41-6BF6-4AA5-9BA7-A7C52D42CC4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1658490-171C-4955-8D01-3E091A6A0CA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2A81425-6349-44DF-8CB0-475ADE22459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E5C7E0F-0F89-4A6C-BF36-04742E55BE3D}"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C8E42E3-79F1-44C8-BBE8-ECB5EB75575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6D53CAA-212B-44CA-8DD1-A7EC168CF5D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3F63878-15B8-406A-8D5B-0B5DCFF605A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F4EA8CA-ADF2-43F9-9C70-4D9F0319980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A185A-74E9-4D4B-9B30-54D674934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47BE330-A667-4DD4-B437-824F766D935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80547FE-7AE6-4975-B7DA-ADC64F12814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B4598BE-75B1-43E0-AD5E-0B9C42070FF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48A963B-7A97-4C5A-990F-89F7A046DA6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BECDA29-EA5B-48C6-BD41-B45535B3BD7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F912F95-F9AB-4700-92A9-8ABABEB1D73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6875014-B09A-473C-9103-7335DE980A8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119B7B7-766F-4375-A6CB-A36760637E5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51E0F32-2C85-40C4-9692-B68B07B784F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8FC4442-8146-41B9-897A-F498591FAFE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05D42-3FAF-41EC-9085-E844B2088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3026C6C-4653-4815-A86E-35661146A67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A15DE56-C198-4714-8FCA-B50AD9EAE61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8E277E8-262A-4771-86C1-7B1CF71E277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82F43B8-514B-49D2-BBEA-5E6041C97EC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FC15275-958A-4C5B-A05E-1CA6BA50D7F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40CB9FB-F526-4A29-A01D-1478BD9DCAF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BDB9459-ACE6-42AD-A0D9-1E74377EDA0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55D0F67-6602-45B5-BB9C-A7E0511DC1B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FADD581-60F8-4961-BBEC-1A365D375AA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DC79774-2A2A-4C63-9AA8-147DDDEB55E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A179D0-0EAD-484F-A44E-487BEC1FC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456C410-769C-4C9C-A6A3-327AD7E5E0D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096EB4E-3539-45BB-933D-1A48ED725B1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C7C9835-44C1-4FD0-8C31-200A58F0636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B6D258E-13A8-4266-ADAC-B33479468A7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4C3CCA7-58B5-41FB-8BA5-98CC5FAC90D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AB17B58-841D-4812-9FB6-85B3CFFDC6C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24455EF-8A16-41F5-8D7F-D83ACD10999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43B4E1C-6F6A-4C1A-9BB6-4E9CD9298DA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85C4648-33D9-4454-A82B-9C735E1C29A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DADE5AB-4BD3-4158-B756-7690026118D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124C2-9343-4E84-B214-2F4287F0A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D3E4154-8B71-4894-BF70-60032E61E829}"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BDAD684-D6DB-4D71-9C22-7817BEF3917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3C49C9C-F57D-4A27-A7B6-7F1EA12941C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01E95BE-A8BA-4499-B471-0704E706CA9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B28491C-4076-4873-9169-85CD52D2C72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4BF3B25-5427-473B-86FA-9254BB0F894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11319F5-33E9-46C5-B341-4C0BD577EEF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5C1BCDA-8226-4115-8300-E047C54E170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D4A9595-8C42-4F17-9C69-5DF99F622D7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52BCCDD-9A46-4A96-8E1C-01E4D5BE0A7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1F22D-760C-4B80-834D-B2F4AA61BB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AFFD3B0-59A9-4038-89B2-0DE7319E774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ACB7C6C-01F8-4CA8-A171-0EF36D086502}"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4F3ACB4-D472-4B3D-AFF8-4F437ADC155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51C7C0D-AF91-4FDB-8146-66249640B87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5B8BF86-C338-47CC-AE63-D86EABCE34A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466C53D-B653-477D-8D02-B1BB6D62FC9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556210A-4C3F-4DFC-BF87-D47323011EC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1160C8E-2504-434C-8DF9-09190410D8E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B28CC7D-FB35-48F6-A32C-4349C6F9760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6D109B4-C206-4DDC-BA7A-BBA2F34F5B3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0F3D-60C8-483E-9B6D-5AB15231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436AB9-E952-44BC-B684-89F82540E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F501363-0632-4CE1-A12D-2E508385AD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69AD73C-CB3F-4535-AD39-F545E92794E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05B6D49-6610-4BCD-BDDA-D0F51363B6A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EC0E847-3E5B-45E2-BD7B-EB9F6B5AE6E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9E16066E-CC9F-40D9-8DE0-C7340165FF5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3143D82-2453-4CD1-ABC2-D2ADDD35248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F9CC983-1A94-4AB7-B38C-A161D6E6A93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20CB6FF-CB61-4748-A027-F83BADBCF49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C6DC66A-CA90-4271-8906-92B1CA8BC15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98548F2-B7F2-4BFC-B90A-BEF703377B3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E4050-DE03-4D38-9964-BA4749CE5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271AA05-F236-4A5D-B7FC-8E5791369C8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A49F00C-1DC3-4D33-80E4-B9FD59BBFDA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44E2909-47DB-4E64-B976-16F3D811F18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BCD545F-9AED-4868-8009-8E09E0043CE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08E8239-27E4-44BC-A728-9A36435D150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CDCFE89-7807-4471-8B9C-0202A53AE89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E5336C3-F7A6-47BC-8A88-BD55297BF4F0}"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35C8153-2C89-422C-B229-FB54FE150BA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A3457A9-C80A-43E0-B00B-FAAF91F0A8B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F8E21FD-BB4B-4736-83E7-5996474B819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7E315-2127-4385-9D4B-C95E8440D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55678C0-3F9C-482C-9221-353E086818C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4C2D160-0763-4F48-889B-D5AE50BE208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2E506DF-E9EE-4450-8F61-36B7904F2F0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C915D12-BA94-4A2B-8DE3-D98DDCDCBA5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944B61B-635E-49D2-B26C-381E826C61B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1647C93-8C17-42A7-A6C6-67706198105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F8B417C-9AEC-4173-AA10-A11F0C801BC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021D8DB-07BB-4378-A04E-34167F299B4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0322F99-EC3C-4AF1-A81F-A85C13A4A33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2D90AE1E-915F-4070-8E5E-557EC31F322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237CC6-0ADE-4482-BD0B-051DEF3BB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ADB16E7-D382-4400-8A75-1C1E4593400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346A639-3463-4F8A-A6A8-363D6C3A247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6E99FD9-CD37-4C69-BEE8-428BC00790E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3E3156E-7FD2-43C5-9262-9026E058163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597FFEC-2F36-4E61-BD88-ACEEE276AD7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D221612-887A-4F87-9D6E-6BE9EE83332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A43700A-41A1-4C9C-A6DF-D662AD25665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3160101-3052-4CC0-A737-4CF52F2FCE1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D130853-1776-4E58-97AE-46C8A74DE0F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A53770C-9DDE-48AD-9714-5F154970A33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BAF1D-D234-4EA4-8066-06E1CD9AB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3E36FE5-2EF9-4344-90D4-A92812522E7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952B36C-7DDE-40EE-83B4-452C6A44E97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3E61CE6-3C68-4FD7-AD8F-8D32F2C25E5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7BAB6D4-0E4E-47B0-87C5-AAD42EA9DB2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881072C-3F67-48D8-9683-7EFD4383D2B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322839C-D955-40EE-B362-633B864847F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9424DFE-EBFB-4ACB-B44A-01DC466AE11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154D98A-37F0-4F0B-BE92-92283A6F4E8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3BE6D35-94B2-469A-8A7E-630B34C6953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453C30C-F59B-496B-88B3-86254F68A58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5305D-286E-42D2-B77F-96CFD18F6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F549A61-CA54-47A3-8DB1-0145034BA74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51D26DF-45A2-435D-AD03-993A32D25F84}"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00454303-0C93-47CE-BB5F-2B348AF307E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EF7CEA7-1DF6-4186-85EE-1C9691FE877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C574C4A-B566-4689-834F-52AB5B03607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94D547E-63B3-45F2-8E69-A2B32D2CD1C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CEDAC65-113C-4616-93F1-6DD0CAC05ED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6B7AEA4-1330-48F3-8F13-C2E7DB15E8B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7494FEF-E1FF-438E-A10A-8B794012F9C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B5102BC-2E9B-4900-98F4-DF8B917DEC6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4BADE-5370-4062-BF8F-5F4783021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1F6B532-4D1F-4F1C-AED6-E28446745EB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6E5C86E-1492-4582-973A-11A44B8EE8F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23A67FA-F5EF-46F5-BA83-650ED16FE8C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85DC253-47BB-4218-85E6-DA7CCDB6285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C738020-E853-400D-9330-E32DC274CA41}"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ECCEA6E-D18F-4F92-8841-90C99E7679A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1C340E0-FEF1-4BE0-A430-1C44FF7BC94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4131032-DBEC-4487-853A-EB41D50D693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C3A3448-AE40-462C-9989-3C1A03D33ED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E20E533-4DE7-4466-8093-CEED485C596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3A470-D725-4CA7-89FB-10EC82D7D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A8277E5-572B-4F7A-ACC4-17C41B83467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4BAA4D6-5E15-431B-91DC-1F5F4035FA3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AEA2FB2-A911-4BB4-BC45-570BDDD2974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62290B3-AEB3-48B1-A278-84E00751781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9EF7254-739B-4937-9290-B95F8F8C8BE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FCC836D-6756-47EF-8C6F-D6B4046B2E7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490F15D6-CC28-4868-936A-FCAD660C2D0C}"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996F20F4-CF23-4448-86DA-4D19E9ADA9E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BED572A-4AF6-468D-BA29-B63E1568AB3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7A0695E-44B4-425B-ABD3-351221F292F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D6156-D39B-4561-8F77-7A197C9C5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E2783415-BC47-4379-8F21-7FED658F145A}"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0C68674-7392-4058-B8D4-3B703E8BCD9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804C6A41-5A35-4C1D-A4DF-62501BCA9BA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EB4CE8E-97CB-4765-814F-004197F1EE5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108E735-FE6F-40DA-B8E1-CBB7AFD253D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581DFF8-2D17-4A89-9489-A350D2928B9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C46A126-367C-45BA-95F9-5C8461705265}"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570B9918-3BF8-4235-96BD-9368830DF99E}"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15EC188-B556-482E-941D-51BD5FF1405F}"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7D7263CD-681D-4F37-8759-F12DB35B0C26}"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363D0-88A9-42D1-9C0C-535B8E3B7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23D1BC2-BDF5-4230-8734-94BA17C4F83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407EFEF-135C-4633-A614-C6B2DD72D254}"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D8F8D41-8180-4AFB-A599-10EA51D3E27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503C8DA-0255-4010-AF5D-CF008CFA38F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FCD0889-004B-4B5D-929E-0939E921B22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DD8CD1C-E686-4B85-866D-4ED1F033C2C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094DB1D1-5D7B-405C-B6DF-D207BC32924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5239000-E2C3-4FB0-9FE3-53C58432B9D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83449F28-D093-4878-81C8-241D70E6BC8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51AAA650-0C96-47F7-8A9C-47EC65377F17}"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D02A6-D1DD-4371-8654-6FBC15028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7512A3-810F-4BBE-A367-85006F2E8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E9536B98-82A7-4B1D-9513-5FF99FC74AF0}"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3FAC9121-50E7-46B9-9758-A8EC2456D38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1D46CCC-C568-4B59-9330-21558F23765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4FDF2D05-9254-45DE-B507-839B9F39FC5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B3A198F9-DD6E-4A3B-8E5E-9BD51B5C198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12233CC-7548-42BA-86EF-055DBA37D09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416D4BE-F8BB-4BA0-9267-AC8245A3198A}"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BEFC506-A6E1-422C-A46C-162F714FA67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8DC0E68-E7BE-4732-9A7B-6ACAC3BE92D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F92237A-04A9-466A-935A-D04E6A44F07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ADB6BC-0F18-4C21-AC6E-09B728E952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58DA520-0D95-4D1B-8539-98FCF13C06D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6BFC0AB4-8CAF-44EC-ACE9-676102328DA3}"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D33EAF30-EA3C-482D-9BEA-DD73EC1C6CB1}"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19E1F6DD-FEFC-4E6E-BBF9-07C74C93B08F}"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6287B680-B704-49F8-8D2C-7B8129A72A62}"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6915667-4358-4062-A88A-BBD07BEC0EE1}"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0525B10F-C82C-4CED-A5FD-DFF15B8A328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C82CE45-A6FB-448C-8092-CA103B67507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5B22832-FF2F-4D02-8B1B-A8A401FBD6E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700EC8F-7D17-461F-A645-4B2AA6114D0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5F2E8-B714-4DCF-ACDA-4E654EFA9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1235EA01-0638-42E6-9ACC-4C7F1553AA0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30C425C-2B00-4424-8462-9C9752689B4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B15E3B3-2ADE-4639-AB0B-7D0F14FF379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745E8D4E-6B58-491A-AECF-45DC38824C27}"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1B2EB848-4426-415B-9383-344328CEA5DF}"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61716329-2FE7-44E4-BEE2-3510B3907B8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32D19ED8-9DBC-480F-9C94-D1A3EF14FDBF}"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7DA20F6-656A-4A96-B258-77A8C2BA093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63F31680-EA67-4239-AB30-E3F735F0D0B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A5AE3E3-4DFF-4316-931B-2766197DE25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216CF-C565-4D43-81DC-127CF0AA6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F074524B-411B-42B5-9658-9B45FB4F008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0DFCEAB-6122-499A-B859-2CFB3978AAA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227B3C1-FACA-47F2-92BE-657D1AD087C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B68975B-EACA-4969-841B-ED05F3E79DC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59BC22F-ED14-4131-92CF-556F9D2287FF}"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B3AF35BC-859F-4E59-B59B-336BAC95B9C5}"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360D1AF8-3B38-4ADF-A2F1-ED2CE3F56DF7}"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879D945C-80F9-4AE1-B9CA-A730CF17C033}"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E31C44E0-D1F1-4618-B0FE-3410E0C0135C}"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D9846DE7-C874-46D4-9E0F-FD0F52F04836}"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4DF63-DEAC-46BF-854E-A5DD69C3D5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05286FA5-82EA-47D8-A169-F38FC019C6B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80B77F8-8686-4457-B1E5-6C06EAAFC101}"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53AB0357-5F58-45D0-99D0-FE095E57D9FC}"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BFADB5F0-8D96-4709-863C-86F4D414EE4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30516A5-1AF4-4E67-83E6-9F53A3FCD00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FE82E7F-CD76-49B9-B962-9939043CFCBC}"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8BFA764-8AEE-4AB1-A58F-4C17F006334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04141C22-C21A-4000-A79E-F4FB28658FBB}"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52DD033F-FF40-426B-B589-F6D1A68BB191}"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33E77900-37BD-415E-BD93-56AC9AE36BB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E18DD-6BEE-4B5C-824E-59DBB4D081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29D354E-B7D6-408F-A9D4-38EFF05F885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B26E053-AF68-4171-BE55-671074187D9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0473385A-A564-462C-9628-C5CC0233C4A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70C988C-783A-4CD9-86E5-04E892D624E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E31BE772-0327-4136-92A5-A6B79204B39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ED09076-3739-456A-9F0A-D707E7CACA0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6D850BF-FDA3-4C2D-BEB4-FABBA88D921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DDEB560-BFBC-4D63-81EB-11A35B2AF72E}"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B325B96-3AAA-4D71-ABA9-64B1DB0AFCD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2DA859A5-6CAE-4291-A57B-9FEF19A7FC5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B0F2D-A78B-4E10-B2D7-B22223948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0D42FBCC-F13D-42F0-8577-0AA740F28B20}"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B76DBC2A-E7F7-4128-B0FC-0329FF1EEA9A}"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A22557FF-E2CB-4F05-9383-DE3500647307}"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95264BAE-622C-46A4-8D12-9EF82AA61B71}"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44D6997-75D7-4384-8A58-E80AE786AF5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52A6BF79-D187-4A02-B358-8EE31E10F23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8AFEE161-02B0-4CD3-91A4-30BA147B3654}"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74B49E3-B2AD-427C-8B7D-B4C9C7C51C0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2A71217-0CF8-48E7-A7D2-F8C3043BA83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934BC89-507D-4FC3-8D1C-7BA9A8EC199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A39F5-A20C-42F3-8D68-3E5731106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5C9BF1D6-988B-4289-8A69-4ACCFA3F07D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2817C647-7C84-4648-BB34-5A8BD9E4EFBB}"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4B9CD9D5-F6D5-47F9-B070-B1E00B07A37F}"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1BC9F806-F548-4F23-AF2F-0BB577079569}"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A3188D65-F2ED-45E6-9CE4-7BB6143CF8D2}"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A306932-CC51-4E1F-B129-C0A7785D7149}"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0E5D27F-8E90-42CC-AD17-1FB18FC8C5F6}"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D2BD169-04D2-46C5-A872-F5963397899C}"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906E9E1-FA42-4250-9E0E-D90E93557DC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9560486-53B4-4BC6-BBE3-90F92F74AFE0}"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F7945-7BA8-42B1-B311-0C6090657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DAB4D66-2D32-452A-9BDC-660081CF0A7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F1F31FE8-FBC1-4C2C-8AB4-01D3603BBC1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43443E38-C97F-4C6D-8971-C809C1F9C07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9F5748FB-902B-4712-AE7D-B74A7BED0D19}"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F61B48B0-BB7A-417B-B82C-119894EE70A0}"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E202F816-F8DB-4C5D-845D-49B9B1079C4A}"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F9C374B0-F289-463C-A24B-F872471DD92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837FE97-2504-4C1A-A600-E45A2052BA6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C2CB3E19-304F-4B93-8108-922E80ED7478}"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A88E4C69-416D-449D-8A29-D51A7A3391B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6B7ED-785E-44E2-9CDF-4E954DEB5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068C834-E497-4333-926A-B16B6F8C380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932E4C7-0885-434D-BDA1-1B5E4E51330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9AE8A47-F5FA-4095-84F9-D1F01562F07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92DA8AE-410C-4DCC-9178-1EE0A5829337}"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D96C2894-936C-43FA-ABF0-D7AFC408F94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341E0619-61EA-42D9-BF9D-9638DE9A0C41}"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CB9ADD2B-6133-4D04-AAC3-1C2BDF6A82D0}"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C7A35D50-ED52-47DA-8CBF-924C19682354}"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30091E5B-F2B0-4AD9-AA21-78276F996931}"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2E5F330-E4C1-4D27-8F53-75A1A0001E3B}"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4200-9575-4EEB-818B-0B560F40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4C9DC2-238B-4E7C-A63F-74CE12BC5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FCD6E00-4043-485E-9BBD-D59CC6D06B0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50268E0D-2D4F-4764-AEB4-639D3E684DD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12019AC-D8C4-4A7A-B2E1-BC79DDF047D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38E0E16-0BB7-413A-BFE4-89DC3F9C51C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0DD6A65-1EC6-4202-A70D-A9D4A99E3F3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21FA2A7-C1F8-4355-93C2-6EADBD3BA2A0}"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9BA7D17-9065-4C48-BE47-1488DCAA9A4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9B073935-52FC-471A-BD08-7E565F36787F}"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5C017977-59FB-4945-B283-9C9C8B799EC9}"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85735F57-F058-491F-9D2C-A63EE8D6A784}"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9250A0-457C-4DAE-9432-D9076425C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BECEF91B-603C-484C-9A26-121C8B76767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AB474B5-5C4D-44E2-A209-B0135E3D04A4}"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0F2C527-C25C-4CA4-96BA-B078238EAD2E}"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EDA2FE79-123B-42FB-9989-520E44A3651D}"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0114220B-D9FE-483C-81BA-075F26208D1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415711E-47CD-4CD0-BA0D-972615DB54D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A1A6179-0EFB-4DE7-AB31-91652C7015E3}"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245C5D15-7E17-45FB-96AA-79692DFEE19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DAAE986-304F-4082-B559-52A68763C62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95BB2F5C-0B1D-4550-BC4A-544594DBD18A}"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C32C8-BE5F-469C-85FF-6CC239FFF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010381EE-5BA6-4F18-80BB-1F0D6EAE6DEE}"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963FFE2A-3BAF-4824-9CF7-E4F3B933FBC5}"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E16791CB-74B4-41BC-9ADD-B239BEDE76E7}"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469197C3-4D21-4B1A-A515-891EFF3ACC3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BD665827-2A31-4718-95CD-4EB16C67D5D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B087A15-264F-44AD-8708-66A1B2AD84D7}"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982CF9CC-7CC9-4D52-BAB1-D81F24761CA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1DDE251-194F-49AD-865B-3C83E2400C1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F7B23866-321B-43B9-B1EE-1BD359386254}"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AAC38152-88FC-40F3-8DE9-ADDF9B66D9C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AEFEEB-4FD2-4DA6-8D5B-138AF1E25D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602E3EF-3D71-4C03-B7A6-575C9AC7914D}"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1E7B4C07-ABDC-4C30-B6E7-4B15DAE73E12}"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966F6512-4689-45B8-A82C-7A9C096E0F2F}"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AF313201-0ACC-493C-9565-E3548445C24A}"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BB036132-EA8D-4118-89D2-45434D82141C}"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D095B888-23BE-424E-BABE-5DD3A0F54E32}"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90D93CDD-0D3B-46F2-9175-3029D38F3F0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F03B0856-234E-4C7E-8B60-29BC1C78722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ECF46872-0283-46CC-9F7F-9CB652FF120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528F85F-E92A-496A-8E6D-19F87D239C9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06F0D-52DC-4BD8-82EF-BAA174FA1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EF10AD9-C0BE-4B3D-BF80-F2552B33589A}"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23E5355-2891-48F4-9C9A-0EE5C35E99C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46BAD05B-60B8-478D-97BA-5A3D8747FA01}"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612538EB-BAF0-42A0-838C-CB0E3B7EB3F4}"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5A9540B1-EC61-4BA6-8CCF-DDE4AC157203}"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EAD356CD-043F-4905-8C73-94F1863064B8}"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46E4F5D0-105D-46F1-AE04-C40127AD2321}"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CC4DED0-DA4B-43D7-A348-C019CB03DA3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26F93F5D-A8C8-48C7-83E2-F52CB2EE007D}"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1B57CE45-FC07-416B-B6B6-424E854430F7}"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85CAB5-6AA1-4175-982C-8AE8500AD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CBE92447-E05E-471C-9396-42D5727DB90E}"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593A4DA-AA6E-4114-96FC-AC35D8F66F1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F44C884F-A66F-49DD-ABA0-56B975A9CCA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1B19E104-2184-4430-ADD6-ED23AF0259B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71542BF0-DF5E-4F1E-8E04-7E229B815BDE}"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99DCC21F-5C1B-4230-BAB9-7E1BD29627E0}"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B7E0752E-D4CC-4B8C-AD3B-59EDBBB1C8A1}"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FA40F25C-53E6-446A-807A-69644A931F83}"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77045E8E-B208-46B1-8238-7DB36320BD70}"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10DEAD8B-9092-42F6-B993-20C847ED8AB8}"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8C3FC-A6FD-477C-AF41-B33049780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E81F3DB3-ABA6-4FD9-982C-D78F949E5E2F}"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1DF4B87-1BE3-4F6E-B72C-498E38A6D957}"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6BA54E67-1B22-4889-A164-751353D3C2F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172F61D-87B8-4377-BF8C-668F2D9E26D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46FE0485-D71B-4C09-865E-EA03C7810ADE}"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7DE917FF-475B-4C3C-823E-60D6284609F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8863E42-E2F7-4295-9E9C-54BE39A2EAB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A535C1E8-F7FB-4E04-8C35-0F28AB1F31DA}"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051D8679-F543-4F8E-9E09-4116D099462C}"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1BEEFD43-ACD6-4702-9646-A6A8A31A7714}"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7B8F1-F58A-45F8-8929-9394786C0A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E9AC55C0-D5D2-4DBF-8389-5561E06B114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049DB480-0D17-4593-A00A-0820867977C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0E35791-863A-44DF-B746-DFD033557F1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97A58E5-292D-46D4-8352-647DFFA1BA8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85430A6-ED52-4CC0-B010-86E6B6F2B70B}"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DC7643F-707E-446E-806C-D88CE438D46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FDA3D192-FFC9-43D4-89A1-301FD9D8B0F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4D9CBBF-0B7D-4237-AC9A-7A0D82FEA78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CFA1A769-A827-4F77-A3CE-B135BF854D2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036E5EEC-F46D-449D-BF70-6145E526C200}"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3367F9-D6B0-47AF-8621-E97F0204A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0005DD84-9EB2-4807-B245-7F8126AAD159}"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A2BC5C68-FFAA-41BD-93E1-2C649FAC714E}"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BEACF46-A163-425A-A7B2-4D5EE3D493D5}"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FE0E95B-79A8-48AA-84AD-766F3C8995D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A11ADD46-5778-448E-A340-FE0D2F74E89C}"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31A7CC0-2E07-40A0-BC35-2A4037FD2A65}"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E0EB16B-CD23-40CF-85AC-03E07F792BC8}"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730C8DD-3256-489B-B340-E962E1960980}"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8F5D508-7A3A-4AEA-A91D-921D1527D6B4}"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502203D-00CA-43E0-B306-762CBA56227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5F3F9-0E68-4A33-9747-0F7AE3B46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0E8BE079-F3C0-4DC9-BC2F-293E49328847}"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3AA06C3F-9051-40E0-8CBB-7BEDFCFDF336}"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6D7A1C3F-D0A9-490E-8187-26D24C6A73F8}"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3325C587-E75C-46EA-99C9-60EF109845F2}"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A9708EB1-6C55-474C-8A38-5F58503B57CA}"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92D8B094-A56F-45F9-87AB-3595AE4778D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1C0B3A40-B7F2-44E2-89E4-A50D558699E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79D8FBC-ABCA-4B27-955A-D7C8867DA6A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EFC08A9E-5813-408E-9EC4-770FFF7E0FF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0F5F0EB-E190-4717-A251-BEF99093F828}"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BF86-F9AE-43A7-A59E-03E0168F2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0C0FC6-0466-4238-BD0C-481FED698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845B500D-7738-4A11-B67C-4D12F36E2722}"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A172DA8-499A-4947-8050-80BAE4EBA66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22F67AE1-BD1B-4A5E-93E3-C183F1C8EB31}"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151EDE64-18D4-45B0-8594-FAC0D1AD01F8}"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488849C2-65FE-4932-B1F6-C1E60A03F898}"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57E0F567-3D51-4FC8-80F0-ECE4353940A8}"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1DAFA2C5-E9F8-479C-9360-DC5C0FA81983}"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4DDBD307-231A-44DA-960E-D32AF573F936}"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AE05B09-2D04-4BB6-B35B-56D41D20F490}"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5B7F5D70-6DA3-42F4-A465-EB25BF026422}"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5FAD2-469D-4756-A342-A8520521F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CD40855A-9AC0-42AA-8947-4D1450E81F4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CB08080-D7C5-4E2E-9887-CCC876AE824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B71F3B9D-3EBA-44F2-93F9-8D2388920039}"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4A79D14-8552-40CF-9B12-86DCD4197CA1}"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0770F505-0158-4D1C-B83D-C515205817A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0C51C1A8-A0D5-4EB7-B44B-42BF22F65A9C}"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429AD165-6347-4A99-BD7B-37791872178C}"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851A0857-8FEB-4DE3-A2E6-733F567BD5F2}"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69B0230-4F3C-4F2C-95D4-AC48B61C348B}"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668DBA43-946A-4B8C-9632-1355F2F98998}"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BA9D96-93E9-40B9-B672-F8F9ABD34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1949DAC-F4C8-4FC2-AB1F-D114BFD4EEB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8CBE8AAC-7D16-435A-BD12-9886A3D0FAA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97BB1611-AE81-4362-91FA-A9363C8DDB51}"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6B177F0-376E-4BA5-90BE-976B7E50BBA9}"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33D13C9-8268-4F82-ABCF-0D34332B5524}"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57C21D3-4098-4A33-B9A0-C6216EA2D9A7}"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CDEF928-E2BD-4EC2-9423-624656592072}"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6A48D853-1C94-48C7-BD35-897F3CDDA4A7}"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184DED19-F9D5-4F5B-9106-79E2244A531C}"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EC7CBB2A-B6B3-4A00-9EC4-BD8604EFC2EB}"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0EAB6-F9FE-449A-818B-E8FAF2DD3F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19EFDADA-8053-4410-B5EC-9306F3D5B505}"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14E31DA-A1E3-41C9-A1EF-15602352A283}"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7191C57B-A697-487D-BA85-6E0557C2E7E7}"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94F5769C-07F8-468F-B2FA-13B00641DDE0}"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4BF8A9F8-63B7-43EC-BFF0-A6A778929479}"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E1B1A5D0-8272-436A-B41A-3F2711360D4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4642AD38-BE4F-45CA-84B4-CBAA59E2022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03124C32-E338-4E71-9992-F0367679BA2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BAE73CA9-5BB9-454A-AC56-5807042EAAEB}"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508A9DAB-A34D-4207-9DA9-0B783EB13485}"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2C6DED-D834-447E-9E74-B1FEA51A21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672D7D9E-AA92-4D6F-86AF-75F3A5CC8AF3}"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029F82B6-3F90-4CD9-BADB-7078E077E6B5}"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2BFAA9E1-A2CE-49DA-B218-1920A357D167}"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57E6CA0-F861-4233-8E03-EB1323094FCD}"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31D3768B-940A-4C2A-B96B-87247CC6DCE3}"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7912A15D-3539-423B-AEF3-05F366A4DEF9}"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7C5EC9E6-049C-40DE-A30F-1AF8F751254B}"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C7B7AC3-43C8-4C32-8A39-A1FEECAE548A}"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89D8B02E-6F1D-4C1F-BF65-CFFEDD7B906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4FC6F1F6-617F-4037-98DB-62CD6F92BEF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8611CA-662E-4D4B-BF5A-567B8171DE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7CE1E160-111E-43B1-8B70-A31AF082DFDD}"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EDD0C806-FAB7-4FD2-B378-B09B486575D6}"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877A725A-2D6E-447F-89A6-7690C4BDB5DD}"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1F584702-002D-4AB4-B389-28FE1E310094}"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968AA26A-F30E-474F-8A95-C799C3045BC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90ABCD81-4863-4C7B-9390-A716AB99032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4891CA5F-2830-4F60-BC7A-9BFB0BE263E1}"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9611B462-4662-4831-925A-836A70629A0B}"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0BA25EEC-1D07-46D7-88F2-4F2E748FBBB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F3C6B738-42D9-4834-BA9C-93A721CC7008}"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C743B4-2CF1-49C7-A2BC-2BEFD3BDD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BAAC811-874B-4235-83FE-7C2418EC814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4A09139D-24A8-4600-985C-23DC7D53760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4D45FE13-FA8F-469D-A997-4E844F169F58}"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F4B7E412-EE7C-4F3D-B417-C55CE6473212}"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8EAFD3AE-82E3-40E8-9439-3DD6CD5A248F}"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C23B33A5-47EE-4CCA-A3CD-00A1484C3580}"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6B90AD0F-0908-416E-96DA-A72DEAAF8D85}"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62986983-043A-4890-A228-8AD1203B68CA}"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90850B36-5ECA-417B-9905-846203772B5F}"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43D4606-EA74-4A84-B732-0A15C912EFE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BA9E9F-8E44-4569-91D5-AE344CBD6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4B6E2E7A-8A47-4B9E-8AE5-4E61A0E68DA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FA7BE28-709A-4567-A043-94512F02A08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BFCD6F74-5A15-4ED9-B71D-2670FC4B48DF}"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0BB2F8BD-A9AC-4B85-8E92-B324E7855484}"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FC714AD0-37BF-4337-BBFF-1DADB97AB737}"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BB7A1938-4A64-4824-B649-01F56F61D034}"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D3D0A1F6-793D-45D2-BB1C-94F90CDAF718}"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40BE4800-D104-4598-AAB5-57A4D2FDC793}"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2FFAA2F-ADFF-4E1A-A9AA-EDB5C726E3FF}"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0FE5D8A5-51AF-4E65-86B8-762DEF9EE793}"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86F128-4F91-4017-B8D3-04037B6AE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FB48E1AF-3FD7-4542-AC20-7B01D496AA92}"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BE2B79FE-9D8D-46F0-AD83-55466D605B8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74E4C3A-24C9-48DC-BC1E-59853DCCB58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326A60F3-25E0-45C0-B203-D98BB1EB3750}"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7C10A6E-E6D8-4BEE-A07C-99247E316769}"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15E4C2CB-6B47-4B76-B80A-99B964DCB0E1}"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1210F67E-300A-4ED9-AF62-D655CBCFEA5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B8157F6D-220D-4867-8CFE-DCA380F5C834}"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A5F2B636-89CB-4956-9CBD-8162FC22E8D5}"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7A68EED4-CF69-4CA3-AD89-C688FB390FE2}"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B4CA7-521D-4C32-8646-BD1DA4B54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A3C6DFE6-3135-491F-B15A-54D08CE3014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65548758-DBD9-4D6E-BFE7-3EA231D0DE6C}"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6C468AB7-A3E7-4819-8F63-3133AAE4A24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0F286D84-57D0-4425-9B39-3C14C38665A5}"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CD84E569-EBFA-4130-A024-1FFE705F501C}"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7A99D6BF-A61A-407C-B76F-CB4C9E561072}"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DEF80E82-5895-4217-A9F6-CCBA9E582E0E}"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8A198F53-CD2F-4746-A551-944A7CA6A506}"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6B3F7759-0B07-4374-8C58-AB106B142D64}"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2C152C28-0445-4B45-9687-46AFA83AB2AB}"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CCCA-1037-4D59-867B-E8D506F82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77018-5A30-40EE-AFE9-FFB8B434A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83B28AD6-BCD7-4410-9596-04C0C7D60978}"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0AA12B08-47B7-4013-9696-40A82CF74474}"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B6FD20A1-333F-4F43-AD38-F8D92FBB5D92}"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50F20D3B-DC48-43BC-9ABE-BC9C1CF42F74}"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E8C0EEF0-A9E2-47D6-B6A8-6C1F9D50724C}"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EF9AB298-2A8D-46B3-A860-251315976718}"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9547FD8F-BC41-4512-B0D0-9E0868A19696}"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7BAC2830-5885-40B5-A392-5B7EC6E099A6}"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DCC5CA03-F8B9-4947-AC05-9BF0C874ECB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A877D95D-77A5-4378-9F0D-8DDB19FED56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36AC3-1024-46D2-AB0D-2BBE1B848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94A9410B-6890-4F9C-AFCD-ECBB71857E23}"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ABC24202-C515-47AC-A82A-0C93578E21B1}"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EEF3758A-DFCF-4392-A5B8-A3F5693C08DE}"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BF80AFD8-FCCB-4515-8557-4489CE66AC49}"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50FDF8FF-5C81-491F-B0F9-6649258301DC}"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F7235ED1-2397-4B61-938F-3F883902BCA2}"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9D7F1515-BD50-4C77-A68C-1B5BE0B6C8ED}"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C4C087DF-CBA5-4D85-A7B3-BB36DC8EE4EE}"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01ADBE7D-7864-4816-A6EE-BA7030F658CA}"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A369A94B-A0EC-4CB6-80AC-9CF46FB201CA}"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97AF1-1043-4342-ADB6-FC12302B4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1BC2BF3F-D60C-4D39-9761-41C4F594759F}"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5CB2D4CB-4B1C-4E26-9D48-110FA058C442}"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8DEC5AEA-CD0A-4775-A6FA-2F7B536C1CAE}"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37B9F585-C346-450C-ACE1-332B48A9B883}"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07379E28-7994-4099-8561-BA80A33F181B}"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2C914DD6-C781-4103-806B-89E3A31B0DB7}"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13E354E7-AAAE-4A80-B47A-B11EB49732DA}"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208A0F56-161D-4C4A-80C9-8F8839D339BC}"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556F2207-B693-4E9C-8FD2-45432101334B}"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3E5E9DEA-C0FD-4205-B785-43F09774478C}"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3B3BE-70C4-499E-B422-51E725BDA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78CDE978-7CEE-471E-8382-F2EE46BD061A}"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94726010-D59A-4ACC-A54D-EAD1BC4186FF}"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BB00B5E8-E094-49CD-B764-513A2BFAEE8D}"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932EE274-84C8-4B0C-9A03-A12DD1992002}"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04383149-C570-48B5-9F54-4C7A64CCB59D}"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0901AF95-DCD4-4C0F-8F36-E3804A16BAD9}"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B606ED26-F815-400D-9094-106C46B1064D}"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4B3A1959-0171-46C7-9BEA-DA22C5B651AF}"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E4BCF339-5BAF-4D9C-B2A3-A4CEF97EB753}"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28AF5579-A7D0-4CF3-8F9E-32376A49BF99}"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09034C-874E-4CCB-9B77-8F8D29040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9C8B31E8-1362-4971-AA79-0AD7798DE749}"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0F7CFEF4-C059-4926-81AC-A4FB4B214027}"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CA59BB66-88EB-4A8B-B739-BC75178763D8}"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BB910AA2-6D17-47C4-86ED-9CC0A0C3047C}"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C4E5845C-911B-4EDF-B118-0970DCDC23E9}"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D035F73F-6EF8-4550-9343-18044AA0CE34}"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A52EC93D-472D-4623-8FDF-A4DA2DCD93B2}"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0DB35F10-A7F1-468A-8BA0-AB56C9546D76}"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CCA13909-F948-4CF0-9504-DD0D1BC5D91B}"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CE34EDC2-DD5B-4429-ACD4-B66181295B5F}"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B4B771-3749-4543-A6C5-3671B29739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EE7CBAF4-1917-4A9A-97B7-49F18AE17F99}"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33DDD8BC-C4E0-450E-A934-9829FE1EEF8F}"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2C96421D-8B3C-4F2E-BC82-259F4352A446}"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75615218-4514-4ABA-9F55-DA1396016724}"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DEA70A2B-E610-4504-A5C5-925C1CA69B5B}"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B2A434EE-7731-481D-8E11-AFB2E57182C7}"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C69CF66B-A9F0-4527-92F0-F4EEC3211CE8}"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5CA22490-9201-4D11-9F0D-11C69F73DB4C}"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7280482F-DDB2-45E2-99A6-1263907FEC82}"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CACDFFFB-7149-40CF-AA9F-50480F3DDD33}"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898EAD-BDAD-40F2-A00A-7F7E64013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7B689A1B-D9BC-4E4D-B015-3A2068C2C449}"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FA07F559-0A18-475D-B4BF-3DA4B39E591A}"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E3B47AF0-ACC1-47C5-BB2E-E27A7895A92A}"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27A6001C-82C6-4E5E-91F3-F71A737B20CE}"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4ED484A3-D637-4603-9DE1-15066BD813BD}"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15E95EE0-7EF9-4A0E-81AA-3773CCC6D91D}"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FD1DFC1C-E63C-4870-B271-4E5244AB4F36}"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D1386C6B-A069-49B0-97AD-6C974E248A97}"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CB3205C2-B6EA-427D-8FFF-B8FCD26EC46B}"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E082C564-A467-485D-88D5-0A6D21F52A55}"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CFDD55-A519-4EBF-9C29-65540D3614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2AF10F22-0091-4FEB-B071-F89529FD6B6C}"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E76B95F5-35BF-49DB-A829-5BD07ABF8B27}"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7FAA6192-5F15-40FF-9FA8-7F8BBB097222}"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8F0EBA2D-7A33-4DA7-AB3D-4969808D8D21}"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47FB54F5-41F9-4014-970B-1EE68502B51F}"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769C9576-49AE-481D-959C-C23F344EFA16}"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208CCCA4-56A2-4915-89D4-D462F308DD17}"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02F509AC-1A95-41E6-8C92-132AED745DEC}"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E3AACC4C-FDFC-48A0-A456-B41D8864705E}"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9E28C31E-C110-4E64-AADC-2E0052D1F84C}"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AA59A-18E4-4812-884D-CE4CBECB9B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1EE0F221-CB7A-4A90-968A-11B5ED0123AF}"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0A5DC575-7866-4ABD-85A3-FDA7A31FCEC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3E2B7076-E8DF-4F89-88DD-1E53C7809929}"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8034DBDC-73DE-46D5-BDDC-87D0D816263D}"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05BFFB85-3BE2-4C81-B0AD-C62A22279FDF}"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94052D14-82FD-4790-925E-F6C0E5940A20}"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A0238A3A-4753-494A-92E9-B1C5F276980B}"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B82A1A06-F10C-4539-BB83-A2F519A178FD}"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C7BCF23F-D708-49F7-841E-AF606BD1F12D}"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5158E598-2455-4F9B-86D1-96C7A57F9B66}"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1DF516-0EB8-4674-A3A2-639EA5DDB7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5BDFAFBB-83D5-4FF3-8923-5526313D4546}"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67F93DAC-D0C2-40B2-AD37-2C46D13EFFB5}"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438A241F-175A-42C1-8490-DAF5165F0382}"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791049B-0C26-4116-A3CA-8A16C72BFF20}"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7F3D8C45-C280-4D7F-9E9B-645C20488691}"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2ACE8274-CC12-4F83-A121-ADFF6D759DF7}"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45F45BE2-81F4-4B8C-9802-FE9CEB959E9F}"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80B2CD8C-6F35-4A1D-88AD-60323D643588}"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A744C608-17DE-43DB-B657-E28039200091}"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930C910F-F5C4-488A-9FFC-1D4E2BF51BD4}"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201.xml"/><Relationship Id="rId5" Type="http://schemas.openxmlformats.org/officeDocument/2006/relationships/slideLayout" Target="../slideLayouts/slideLayout1202.xml"/><Relationship Id="rId6" Type="http://schemas.openxmlformats.org/officeDocument/2006/relationships/slideLayout" Target="../slideLayouts/slideLayout1203.xml"/><Relationship Id="rId7" Type="http://schemas.openxmlformats.org/officeDocument/2006/relationships/slideLayout" Target="../slideLayouts/slideLayout1204.xml"/><Relationship Id="rId8" Type="http://schemas.openxmlformats.org/officeDocument/2006/relationships/slideLayout" Target="../slideLayouts/slideLayout1205.xml"/><Relationship Id="rId9" Type="http://schemas.openxmlformats.org/officeDocument/2006/relationships/slideLayout" Target="../slideLayouts/slideLayout1206.xml"/><Relationship Id="rId10" Type="http://schemas.openxmlformats.org/officeDocument/2006/relationships/slideLayout" Target="../slideLayouts/slideLayout1207.xml"/><Relationship Id="rId11" Type="http://schemas.openxmlformats.org/officeDocument/2006/relationships/slideLayout" Target="../slideLayouts/slideLayout1208.xml"/><Relationship Id="rId12" Type="http://schemas.openxmlformats.org/officeDocument/2006/relationships/slideLayout" Target="../slideLayouts/slideLayout1209.xml"/><Relationship Id="rId13" Type="http://schemas.openxmlformats.org/officeDocument/2006/relationships/slideLayout" Target="../slideLayouts/slideLayout1210.xml"/><Relationship Id="rId14" Type="http://schemas.openxmlformats.org/officeDocument/2006/relationships/slideLayout" Target="../slideLayouts/slideLayout1211.xml"/><Relationship Id="rId15"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3.xml"/><Relationship Id="rId5" Type="http://schemas.openxmlformats.org/officeDocument/2006/relationships/slideLayout" Target="../slideLayouts/slideLayout1214.xml"/><Relationship Id="rId6" Type="http://schemas.openxmlformats.org/officeDocument/2006/relationships/slideLayout" Target="../slideLayouts/slideLayout1215.xml"/><Relationship Id="rId7" Type="http://schemas.openxmlformats.org/officeDocument/2006/relationships/slideLayout" Target="../slideLayouts/slideLayout1216.xml"/><Relationship Id="rId8" Type="http://schemas.openxmlformats.org/officeDocument/2006/relationships/slideLayout" Target="../slideLayouts/slideLayout1217.xml"/><Relationship Id="rId9" Type="http://schemas.openxmlformats.org/officeDocument/2006/relationships/slideLayout" Target="../slideLayouts/slideLayout1218.xml"/><Relationship Id="rId10" Type="http://schemas.openxmlformats.org/officeDocument/2006/relationships/slideLayout" Target="../slideLayouts/slideLayout1219.xml"/><Relationship Id="rId11" Type="http://schemas.openxmlformats.org/officeDocument/2006/relationships/slideLayout" Target="../slideLayouts/slideLayout1220.xml"/><Relationship Id="rId12" Type="http://schemas.openxmlformats.org/officeDocument/2006/relationships/slideLayout" Target="../slideLayouts/slideLayout1221.xml"/><Relationship Id="rId13" Type="http://schemas.openxmlformats.org/officeDocument/2006/relationships/slideLayout" Target="../slideLayouts/slideLayout1222.xml"/><Relationship Id="rId14" Type="http://schemas.openxmlformats.org/officeDocument/2006/relationships/slideLayout" Target="../slideLayouts/slideLayout1223.xml"/><Relationship Id="rId15"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25.xml"/><Relationship Id="rId5" Type="http://schemas.openxmlformats.org/officeDocument/2006/relationships/slideLayout" Target="../slideLayouts/slideLayout1226.xml"/><Relationship Id="rId6" Type="http://schemas.openxmlformats.org/officeDocument/2006/relationships/slideLayout" Target="../slideLayouts/slideLayout1227.xml"/><Relationship Id="rId7" Type="http://schemas.openxmlformats.org/officeDocument/2006/relationships/slideLayout" Target="../slideLayouts/slideLayout1228.xml"/><Relationship Id="rId8" Type="http://schemas.openxmlformats.org/officeDocument/2006/relationships/slideLayout" Target="../slideLayouts/slideLayout1229.xml"/><Relationship Id="rId9" Type="http://schemas.openxmlformats.org/officeDocument/2006/relationships/slideLayout" Target="../slideLayouts/slideLayout1230.xml"/><Relationship Id="rId10" Type="http://schemas.openxmlformats.org/officeDocument/2006/relationships/slideLayout" Target="../slideLayouts/slideLayout1231.xml"/><Relationship Id="rId11" Type="http://schemas.openxmlformats.org/officeDocument/2006/relationships/slideLayout" Target="../slideLayouts/slideLayout1232.xml"/><Relationship Id="rId12" Type="http://schemas.openxmlformats.org/officeDocument/2006/relationships/slideLayout" Target="../slideLayouts/slideLayout1233.xml"/><Relationship Id="rId13" Type="http://schemas.openxmlformats.org/officeDocument/2006/relationships/slideLayout" Target="../slideLayouts/slideLayout1234.xml"/><Relationship Id="rId14" Type="http://schemas.openxmlformats.org/officeDocument/2006/relationships/slideLayout" Target="../slideLayouts/slideLayout1235.xml"/><Relationship Id="rId15" Type="http://schemas.openxmlformats.org/officeDocument/2006/relationships/slideLayout" Target="../slideLayouts/slideLayout1236.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85.xml"/><Relationship Id="rId5" Type="http://schemas.openxmlformats.org/officeDocument/2006/relationships/slideLayout" Target="../slideLayouts/slideLayout686.xml"/><Relationship Id="rId6" Type="http://schemas.openxmlformats.org/officeDocument/2006/relationships/slideLayout" Target="../slideLayouts/slideLayout687.xml"/><Relationship Id="rId7" Type="http://schemas.openxmlformats.org/officeDocument/2006/relationships/slideLayout" Target="../slideLayouts/slideLayout688.xml"/><Relationship Id="rId8" Type="http://schemas.openxmlformats.org/officeDocument/2006/relationships/slideLayout" Target="../slideLayouts/slideLayout689.xml"/><Relationship Id="rId9" Type="http://schemas.openxmlformats.org/officeDocument/2006/relationships/slideLayout" Target="../slideLayouts/slideLayout690.xml"/><Relationship Id="rId10" Type="http://schemas.openxmlformats.org/officeDocument/2006/relationships/slideLayout" Target="../slideLayouts/slideLayout691.xml"/><Relationship Id="rId11" Type="http://schemas.openxmlformats.org/officeDocument/2006/relationships/slideLayout" Target="../slideLayouts/slideLayout692.xml"/><Relationship Id="rId12" Type="http://schemas.openxmlformats.org/officeDocument/2006/relationships/slideLayout" Target="../slideLayouts/slideLayout693.xml"/><Relationship Id="rId13" Type="http://schemas.openxmlformats.org/officeDocument/2006/relationships/slideLayout" Target="../slideLayouts/slideLayout694.xml"/><Relationship Id="rId14" Type="http://schemas.openxmlformats.org/officeDocument/2006/relationships/slideLayout" Target="../slideLayouts/slideLayout695.xml"/><Relationship Id="rId15"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45.xml"/><Relationship Id="rId5" Type="http://schemas.openxmlformats.org/officeDocument/2006/relationships/slideLayout" Target="../slideLayouts/slideLayout746.xml"/><Relationship Id="rId6" Type="http://schemas.openxmlformats.org/officeDocument/2006/relationships/slideLayout" Target="../slideLayouts/slideLayout747.xml"/><Relationship Id="rId7" Type="http://schemas.openxmlformats.org/officeDocument/2006/relationships/slideLayout" Target="../slideLayouts/slideLayout748.xml"/><Relationship Id="rId8" Type="http://schemas.openxmlformats.org/officeDocument/2006/relationships/slideLayout" Target="../slideLayouts/slideLayout749.xml"/><Relationship Id="rId9" Type="http://schemas.openxmlformats.org/officeDocument/2006/relationships/slideLayout" Target="../slideLayouts/slideLayout750.xml"/><Relationship Id="rId10" Type="http://schemas.openxmlformats.org/officeDocument/2006/relationships/slideLayout" Target="../slideLayouts/slideLayout751.xml"/><Relationship Id="rId11" Type="http://schemas.openxmlformats.org/officeDocument/2006/relationships/slideLayout" Target="../slideLayouts/slideLayout752.xml"/><Relationship Id="rId12" Type="http://schemas.openxmlformats.org/officeDocument/2006/relationships/slideLayout" Target="../slideLayouts/slideLayout753.xml"/><Relationship Id="rId13" Type="http://schemas.openxmlformats.org/officeDocument/2006/relationships/slideLayout" Target="../slideLayouts/slideLayout754.xml"/><Relationship Id="rId14" Type="http://schemas.openxmlformats.org/officeDocument/2006/relationships/slideLayout" Target="../slideLayouts/slideLayout755.xml"/><Relationship Id="rId15"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01.xml"/><Relationship Id="rId5" Type="http://schemas.openxmlformats.org/officeDocument/2006/relationships/slideLayout" Target="../slideLayouts/slideLayout902.xml"/><Relationship Id="rId6" Type="http://schemas.openxmlformats.org/officeDocument/2006/relationships/slideLayout" Target="../slideLayouts/slideLayout903.xml"/><Relationship Id="rId7" Type="http://schemas.openxmlformats.org/officeDocument/2006/relationships/slideLayout" Target="../slideLayouts/slideLayout904.xml"/><Relationship Id="rId8" Type="http://schemas.openxmlformats.org/officeDocument/2006/relationships/slideLayout" Target="../slideLayouts/slideLayout905.xml"/><Relationship Id="rId9" Type="http://schemas.openxmlformats.org/officeDocument/2006/relationships/slideLayout" Target="../slideLayouts/slideLayout906.xml"/><Relationship Id="rId10" Type="http://schemas.openxmlformats.org/officeDocument/2006/relationships/slideLayout" Target="../slideLayouts/slideLayout907.xml"/><Relationship Id="rId11" Type="http://schemas.openxmlformats.org/officeDocument/2006/relationships/slideLayout" Target="../slideLayouts/slideLayout908.xml"/><Relationship Id="rId12" Type="http://schemas.openxmlformats.org/officeDocument/2006/relationships/slideLayout" Target="../slideLayouts/slideLayout909.xml"/><Relationship Id="rId13" Type="http://schemas.openxmlformats.org/officeDocument/2006/relationships/slideLayout" Target="../slideLayouts/slideLayout910.xml"/><Relationship Id="rId14" Type="http://schemas.openxmlformats.org/officeDocument/2006/relationships/slideLayout" Target="../slideLayouts/slideLayout911.xml"/><Relationship Id="rId15"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37.xml"/><Relationship Id="rId5" Type="http://schemas.openxmlformats.org/officeDocument/2006/relationships/slideLayout" Target="../slideLayouts/slideLayout938.xml"/><Relationship Id="rId6" Type="http://schemas.openxmlformats.org/officeDocument/2006/relationships/slideLayout" Target="../slideLayouts/slideLayout939.xml"/><Relationship Id="rId7" Type="http://schemas.openxmlformats.org/officeDocument/2006/relationships/slideLayout" Target="../slideLayouts/slideLayout940.xml"/><Relationship Id="rId8" Type="http://schemas.openxmlformats.org/officeDocument/2006/relationships/slideLayout" Target="../slideLayouts/slideLayout941.xml"/><Relationship Id="rId9" Type="http://schemas.openxmlformats.org/officeDocument/2006/relationships/slideLayout" Target="../slideLayouts/slideLayout942.xml"/><Relationship Id="rId10" Type="http://schemas.openxmlformats.org/officeDocument/2006/relationships/slideLayout" Target="../slideLayouts/slideLayout943.xml"/><Relationship Id="rId11" Type="http://schemas.openxmlformats.org/officeDocument/2006/relationships/slideLayout" Target="../slideLayouts/slideLayout944.xml"/><Relationship Id="rId12" Type="http://schemas.openxmlformats.org/officeDocument/2006/relationships/slideLayout" Target="../slideLayouts/slideLayout945.xml"/><Relationship Id="rId13" Type="http://schemas.openxmlformats.org/officeDocument/2006/relationships/slideLayout" Target="../slideLayouts/slideLayout946.xml"/><Relationship Id="rId14" Type="http://schemas.openxmlformats.org/officeDocument/2006/relationships/slideLayout" Target="../slideLayouts/slideLayout947.xml"/><Relationship Id="rId15"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49.xml"/><Relationship Id="rId5" Type="http://schemas.openxmlformats.org/officeDocument/2006/relationships/slideLayout" Target="../slideLayouts/slideLayout950.xml"/><Relationship Id="rId6" Type="http://schemas.openxmlformats.org/officeDocument/2006/relationships/slideLayout" Target="../slideLayouts/slideLayout951.xml"/><Relationship Id="rId7" Type="http://schemas.openxmlformats.org/officeDocument/2006/relationships/slideLayout" Target="../slideLayouts/slideLayout952.xml"/><Relationship Id="rId8" Type="http://schemas.openxmlformats.org/officeDocument/2006/relationships/slideLayout" Target="../slideLayouts/slideLayout953.xml"/><Relationship Id="rId9" Type="http://schemas.openxmlformats.org/officeDocument/2006/relationships/slideLayout" Target="../slideLayouts/slideLayout954.xml"/><Relationship Id="rId10" Type="http://schemas.openxmlformats.org/officeDocument/2006/relationships/slideLayout" Target="../slideLayouts/slideLayout955.xml"/><Relationship Id="rId11" Type="http://schemas.openxmlformats.org/officeDocument/2006/relationships/slideLayout" Target="../slideLayouts/slideLayout956.xml"/><Relationship Id="rId12" Type="http://schemas.openxmlformats.org/officeDocument/2006/relationships/slideLayout" Target="../slideLayouts/slideLayout957.xml"/><Relationship Id="rId13" Type="http://schemas.openxmlformats.org/officeDocument/2006/relationships/slideLayout" Target="../slideLayouts/slideLayout958.xml"/><Relationship Id="rId14" Type="http://schemas.openxmlformats.org/officeDocument/2006/relationships/slideLayout" Target="../slideLayouts/slideLayout959.xml"/><Relationship Id="rId15"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3.xml"/><Relationship Id="rId6" Type="http://schemas.openxmlformats.org/officeDocument/2006/relationships/slideLayout" Target="../slideLayouts/slideLayout974.xml"/><Relationship Id="rId7" Type="http://schemas.openxmlformats.org/officeDocument/2006/relationships/slideLayout" Target="../slideLayouts/slideLayout975.xml"/><Relationship Id="rId8" Type="http://schemas.openxmlformats.org/officeDocument/2006/relationships/slideLayout" Target="../slideLayouts/slideLayout976.xml"/><Relationship Id="rId9" Type="http://schemas.openxmlformats.org/officeDocument/2006/relationships/slideLayout" Target="../slideLayouts/slideLayout977.xml"/><Relationship Id="rId10" Type="http://schemas.openxmlformats.org/officeDocument/2006/relationships/slideLayout" Target="../slideLayouts/slideLayout978.xml"/><Relationship Id="rId11" Type="http://schemas.openxmlformats.org/officeDocument/2006/relationships/slideLayout" Target="../slideLayouts/slideLayout979.xml"/><Relationship Id="rId12" Type="http://schemas.openxmlformats.org/officeDocument/2006/relationships/slideLayout" Target="../slideLayouts/slideLayout980.xml"/><Relationship Id="rId13" Type="http://schemas.openxmlformats.org/officeDocument/2006/relationships/slideLayout" Target="../slideLayouts/slideLayout981.xml"/><Relationship Id="rId14" Type="http://schemas.openxmlformats.org/officeDocument/2006/relationships/slideLayout" Target="../slideLayouts/slideLayout982.xml"/><Relationship Id="rId15" Type="http://schemas.openxmlformats.org/officeDocument/2006/relationships/slideLayout" Target="../slideLayouts/slideLayout983.xml"/><Relationship Id="rId16"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85.xml"/><Relationship Id="rId5" Type="http://schemas.openxmlformats.org/officeDocument/2006/relationships/slideLayout" Target="../slideLayouts/slideLayout986.xml"/><Relationship Id="rId6" Type="http://schemas.openxmlformats.org/officeDocument/2006/relationships/slideLayout" Target="../slideLayouts/slideLayout987.xml"/><Relationship Id="rId7" Type="http://schemas.openxmlformats.org/officeDocument/2006/relationships/slideLayout" Target="../slideLayouts/slideLayout988.xml"/><Relationship Id="rId8" Type="http://schemas.openxmlformats.org/officeDocument/2006/relationships/slideLayout" Target="../slideLayouts/slideLayout989.xml"/><Relationship Id="rId9" Type="http://schemas.openxmlformats.org/officeDocument/2006/relationships/slideLayout" Target="../slideLayouts/slideLayout990.xml"/><Relationship Id="rId10" Type="http://schemas.openxmlformats.org/officeDocument/2006/relationships/slideLayout" Target="../slideLayouts/slideLayout991.xml"/><Relationship Id="rId11" Type="http://schemas.openxmlformats.org/officeDocument/2006/relationships/slideLayout" Target="../slideLayouts/slideLayout992.xml"/><Relationship Id="rId12" Type="http://schemas.openxmlformats.org/officeDocument/2006/relationships/slideLayout" Target="../slideLayouts/slideLayout993.xml"/><Relationship Id="rId13" Type="http://schemas.openxmlformats.org/officeDocument/2006/relationships/slideLayout" Target="../slideLayouts/slideLayout994.xml"/><Relationship Id="rId14" Type="http://schemas.openxmlformats.org/officeDocument/2006/relationships/slideLayout" Target="../slideLayouts/slideLayout995.xml"/><Relationship Id="rId15"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97.xml"/><Relationship Id="rId5" Type="http://schemas.openxmlformats.org/officeDocument/2006/relationships/slideLayout" Target="../slideLayouts/slideLayout998.xml"/><Relationship Id="rId6" Type="http://schemas.openxmlformats.org/officeDocument/2006/relationships/slideLayout" Target="../slideLayouts/slideLayout999.xml"/><Relationship Id="rId7" Type="http://schemas.openxmlformats.org/officeDocument/2006/relationships/slideLayout" Target="../slideLayouts/slideLayout1000.xml"/><Relationship Id="rId8" Type="http://schemas.openxmlformats.org/officeDocument/2006/relationships/slideLayout" Target="../slideLayouts/slideLayout1001.xml"/><Relationship Id="rId9" Type="http://schemas.openxmlformats.org/officeDocument/2006/relationships/slideLayout" Target="../slideLayouts/slideLayout1002.xml"/><Relationship Id="rId10" Type="http://schemas.openxmlformats.org/officeDocument/2006/relationships/slideLayout" Target="../slideLayouts/slideLayout1003.xml"/><Relationship Id="rId11" Type="http://schemas.openxmlformats.org/officeDocument/2006/relationships/slideLayout" Target="../slideLayouts/slideLayout1004.xml"/><Relationship Id="rId12" Type="http://schemas.openxmlformats.org/officeDocument/2006/relationships/slideLayout" Target="../slideLayouts/slideLayout1005.xml"/><Relationship Id="rId13" Type="http://schemas.openxmlformats.org/officeDocument/2006/relationships/slideLayout" Target="../slideLayouts/slideLayout1006.xml"/><Relationship Id="rId14" Type="http://schemas.openxmlformats.org/officeDocument/2006/relationships/slideLayout" Target="../slideLayouts/slideLayout1007.xml"/><Relationship Id="rId15"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09.xml"/><Relationship Id="rId5" Type="http://schemas.openxmlformats.org/officeDocument/2006/relationships/slideLayout" Target="../slideLayouts/slideLayout1010.xml"/><Relationship Id="rId6" Type="http://schemas.openxmlformats.org/officeDocument/2006/relationships/slideLayout" Target="../slideLayouts/slideLayout1011.xml"/><Relationship Id="rId7" Type="http://schemas.openxmlformats.org/officeDocument/2006/relationships/slideLayout" Target="../slideLayouts/slideLayout1012.xml"/><Relationship Id="rId8" Type="http://schemas.openxmlformats.org/officeDocument/2006/relationships/slideLayout" Target="../slideLayouts/slideLayout1013.xml"/><Relationship Id="rId9" Type="http://schemas.openxmlformats.org/officeDocument/2006/relationships/slideLayout" Target="../slideLayouts/slideLayout1014.xml"/><Relationship Id="rId10" Type="http://schemas.openxmlformats.org/officeDocument/2006/relationships/slideLayout" Target="../slideLayouts/slideLayout1015.xml"/><Relationship Id="rId11" Type="http://schemas.openxmlformats.org/officeDocument/2006/relationships/slideLayout" Target="../slideLayouts/slideLayout1016.xml"/><Relationship Id="rId12" Type="http://schemas.openxmlformats.org/officeDocument/2006/relationships/slideLayout" Target="../slideLayouts/slideLayout1017.xml"/><Relationship Id="rId13" Type="http://schemas.openxmlformats.org/officeDocument/2006/relationships/slideLayout" Target="../slideLayouts/slideLayout1018.xml"/><Relationship Id="rId14" Type="http://schemas.openxmlformats.org/officeDocument/2006/relationships/slideLayout" Target="../slideLayouts/slideLayout1019.xml"/><Relationship Id="rId15"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33.xml"/><Relationship Id="rId5" Type="http://schemas.openxmlformats.org/officeDocument/2006/relationships/slideLayout" Target="../slideLayouts/slideLayout1034.xml"/><Relationship Id="rId6" Type="http://schemas.openxmlformats.org/officeDocument/2006/relationships/slideLayout" Target="../slideLayouts/slideLayout1035.xml"/><Relationship Id="rId7" Type="http://schemas.openxmlformats.org/officeDocument/2006/relationships/slideLayout" Target="../slideLayouts/slideLayout1036.xml"/><Relationship Id="rId8" Type="http://schemas.openxmlformats.org/officeDocument/2006/relationships/slideLayout" Target="../slideLayouts/slideLayout1037.xml"/><Relationship Id="rId9" Type="http://schemas.openxmlformats.org/officeDocument/2006/relationships/slideLayout" Target="../slideLayouts/slideLayout1038.xml"/><Relationship Id="rId10" Type="http://schemas.openxmlformats.org/officeDocument/2006/relationships/slideLayout" Target="../slideLayouts/slideLayout1039.xml"/><Relationship Id="rId11" Type="http://schemas.openxmlformats.org/officeDocument/2006/relationships/slideLayout" Target="../slideLayouts/slideLayout1040.xml"/><Relationship Id="rId12" Type="http://schemas.openxmlformats.org/officeDocument/2006/relationships/slideLayout" Target="../slideLayouts/slideLayout1041.xml"/><Relationship Id="rId13" Type="http://schemas.openxmlformats.org/officeDocument/2006/relationships/slideLayout" Target="../slideLayouts/slideLayout1042.xml"/><Relationship Id="rId14" Type="http://schemas.openxmlformats.org/officeDocument/2006/relationships/slideLayout" Target="../slideLayouts/slideLayout1043.xml"/><Relationship Id="rId15"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69.xml"/><Relationship Id="rId5" Type="http://schemas.openxmlformats.org/officeDocument/2006/relationships/slideLayout" Target="../slideLayouts/slideLayout1070.xml"/><Relationship Id="rId6" Type="http://schemas.openxmlformats.org/officeDocument/2006/relationships/slideLayout" Target="../slideLayouts/slideLayout1071.xml"/><Relationship Id="rId7" Type="http://schemas.openxmlformats.org/officeDocument/2006/relationships/slideLayout" Target="../slideLayouts/slideLayout1072.xml"/><Relationship Id="rId8" Type="http://schemas.openxmlformats.org/officeDocument/2006/relationships/slideLayout" Target="../slideLayouts/slideLayout1073.xml"/><Relationship Id="rId9" Type="http://schemas.openxmlformats.org/officeDocument/2006/relationships/slideLayout" Target="../slideLayouts/slideLayout1074.xml"/><Relationship Id="rId10" Type="http://schemas.openxmlformats.org/officeDocument/2006/relationships/slideLayout" Target="../slideLayouts/slideLayout1075.xml"/><Relationship Id="rId11" Type="http://schemas.openxmlformats.org/officeDocument/2006/relationships/slideLayout" Target="../slideLayouts/slideLayout1076.xml"/><Relationship Id="rId12" Type="http://schemas.openxmlformats.org/officeDocument/2006/relationships/slideLayout" Target="../slideLayouts/slideLayout1077.xml"/><Relationship Id="rId13" Type="http://schemas.openxmlformats.org/officeDocument/2006/relationships/slideLayout" Target="../slideLayouts/slideLayout1078.xml"/><Relationship Id="rId14" Type="http://schemas.openxmlformats.org/officeDocument/2006/relationships/slideLayout" Target="../slideLayouts/slideLayout1079.xml"/><Relationship Id="rId15"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81.xml"/><Relationship Id="rId5" Type="http://schemas.openxmlformats.org/officeDocument/2006/relationships/slideLayout" Target="../slideLayouts/slideLayout1082.xml"/><Relationship Id="rId6" Type="http://schemas.openxmlformats.org/officeDocument/2006/relationships/slideLayout" Target="../slideLayouts/slideLayout1083.xml"/><Relationship Id="rId7" Type="http://schemas.openxmlformats.org/officeDocument/2006/relationships/slideLayout" Target="../slideLayouts/slideLayout1084.xml"/><Relationship Id="rId8" Type="http://schemas.openxmlformats.org/officeDocument/2006/relationships/slideLayout" Target="../slideLayouts/slideLayout1085.xml"/><Relationship Id="rId9" Type="http://schemas.openxmlformats.org/officeDocument/2006/relationships/slideLayout" Target="../slideLayouts/slideLayout1086.xml"/><Relationship Id="rId10" Type="http://schemas.openxmlformats.org/officeDocument/2006/relationships/slideLayout" Target="../slideLayouts/slideLayout1087.xml"/><Relationship Id="rId11" Type="http://schemas.openxmlformats.org/officeDocument/2006/relationships/slideLayout" Target="../slideLayouts/slideLayout1088.xml"/><Relationship Id="rId12" Type="http://schemas.openxmlformats.org/officeDocument/2006/relationships/slideLayout" Target="../slideLayouts/slideLayout1089.xml"/><Relationship Id="rId13" Type="http://schemas.openxmlformats.org/officeDocument/2006/relationships/slideLayout" Target="../slideLayouts/slideLayout1090.xml"/><Relationship Id="rId14" Type="http://schemas.openxmlformats.org/officeDocument/2006/relationships/slideLayout" Target="../slideLayouts/slideLayout1091.xml"/><Relationship Id="rId15"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3.xml"/><Relationship Id="rId5" Type="http://schemas.openxmlformats.org/officeDocument/2006/relationships/slideLayout" Target="../slideLayouts/slideLayout1094.xml"/><Relationship Id="rId6" Type="http://schemas.openxmlformats.org/officeDocument/2006/relationships/slideLayout" Target="../slideLayouts/slideLayout1095.xml"/><Relationship Id="rId7" Type="http://schemas.openxmlformats.org/officeDocument/2006/relationships/slideLayout" Target="../slideLayouts/slideLayout1096.xml"/><Relationship Id="rId8" Type="http://schemas.openxmlformats.org/officeDocument/2006/relationships/slideLayout" Target="../slideLayouts/slideLayout1097.xml"/><Relationship Id="rId9" Type="http://schemas.openxmlformats.org/officeDocument/2006/relationships/slideLayout" Target="../slideLayouts/slideLayout1098.xml"/><Relationship Id="rId10" Type="http://schemas.openxmlformats.org/officeDocument/2006/relationships/slideLayout" Target="../slideLayouts/slideLayout1099.xml"/><Relationship Id="rId11" Type="http://schemas.openxmlformats.org/officeDocument/2006/relationships/slideLayout" Target="../slideLayouts/slideLayout1100.xml"/><Relationship Id="rId12" Type="http://schemas.openxmlformats.org/officeDocument/2006/relationships/slideLayout" Target="../slideLayouts/slideLayout1101.xml"/><Relationship Id="rId13" Type="http://schemas.openxmlformats.org/officeDocument/2006/relationships/slideLayout" Target="../slideLayouts/slideLayout1102.xml"/><Relationship Id="rId14" Type="http://schemas.openxmlformats.org/officeDocument/2006/relationships/slideLayout" Target="../slideLayouts/slideLayout1103.xml"/><Relationship Id="rId15"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105.xml"/><Relationship Id="rId6" Type="http://schemas.openxmlformats.org/officeDocument/2006/relationships/slideLayout" Target="../slideLayouts/slideLayout1106.xml"/><Relationship Id="rId7" Type="http://schemas.openxmlformats.org/officeDocument/2006/relationships/slideLayout" Target="../slideLayouts/slideLayout1107.xml"/><Relationship Id="rId8" Type="http://schemas.openxmlformats.org/officeDocument/2006/relationships/slideLayout" Target="../slideLayouts/slideLayout1108.xml"/><Relationship Id="rId9" Type="http://schemas.openxmlformats.org/officeDocument/2006/relationships/slideLayout" Target="../slideLayouts/slideLayout1109.xml"/><Relationship Id="rId10" Type="http://schemas.openxmlformats.org/officeDocument/2006/relationships/slideLayout" Target="../slideLayouts/slideLayout1110.xml"/><Relationship Id="rId11" Type="http://schemas.openxmlformats.org/officeDocument/2006/relationships/slideLayout" Target="../slideLayouts/slideLayout1111.xml"/><Relationship Id="rId12" Type="http://schemas.openxmlformats.org/officeDocument/2006/relationships/slideLayout" Target="../slideLayouts/slideLayout1112.xml"/><Relationship Id="rId13" Type="http://schemas.openxmlformats.org/officeDocument/2006/relationships/slideLayout" Target="../slideLayouts/slideLayout1113.xml"/><Relationship Id="rId14" Type="http://schemas.openxmlformats.org/officeDocument/2006/relationships/slideLayout" Target="../slideLayouts/slideLayout1114.xml"/><Relationship Id="rId15" Type="http://schemas.openxmlformats.org/officeDocument/2006/relationships/slideLayout" Target="../slideLayouts/slideLayout1115.xml"/><Relationship Id="rId16"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129.xml"/><Relationship Id="rId5" Type="http://schemas.openxmlformats.org/officeDocument/2006/relationships/slideLayout" Target="../slideLayouts/slideLayout1130.xml"/><Relationship Id="rId6" Type="http://schemas.openxmlformats.org/officeDocument/2006/relationships/slideLayout" Target="../slideLayouts/slideLayout1131.xml"/><Relationship Id="rId7" Type="http://schemas.openxmlformats.org/officeDocument/2006/relationships/slideLayout" Target="../slideLayouts/slideLayout1132.xml"/><Relationship Id="rId8" Type="http://schemas.openxmlformats.org/officeDocument/2006/relationships/slideLayout" Target="../slideLayouts/slideLayout1133.xml"/><Relationship Id="rId9" Type="http://schemas.openxmlformats.org/officeDocument/2006/relationships/slideLayout" Target="../slideLayouts/slideLayout1134.xml"/><Relationship Id="rId10" Type="http://schemas.openxmlformats.org/officeDocument/2006/relationships/slideLayout" Target="../slideLayouts/slideLayout1135.xml"/><Relationship Id="rId11" Type="http://schemas.openxmlformats.org/officeDocument/2006/relationships/slideLayout" Target="../slideLayouts/slideLayout1136.xml"/><Relationship Id="rId12" Type="http://schemas.openxmlformats.org/officeDocument/2006/relationships/slideLayout" Target="../slideLayouts/slideLayout1137.xml"/><Relationship Id="rId13" Type="http://schemas.openxmlformats.org/officeDocument/2006/relationships/slideLayout" Target="../slideLayouts/slideLayout1138.xml"/><Relationship Id="rId14" Type="http://schemas.openxmlformats.org/officeDocument/2006/relationships/slideLayout" Target="../slideLayouts/slideLayout1139.xml"/><Relationship Id="rId15"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41.xml"/><Relationship Id="rId5" Type="http://schemas.openxmlformats.org/officeDocument/2006/relationships/slideLayout" Target="../slideLayouts/slideLayout1142.xml"/><Relationship Id="rId6" Type="http://schemas.openxmlformats.org/officeDocument/2006/relationships/slideLayout" Target="../slideLayouts/slideLayout1143.xml"/><Relationship Id="rId7" Type="http://schemas.openxmlformats.org/officeDocument/2006/relationships/slideLayout" Target="../slideLayouts/slideLayout1144.xml"/><Relationship Id="rId8" Type="http://schemas.openxmlformats.org/officeDocument/2006/relationships/slideLayout" Target="../slideLayouts/slideLayout1145.xml"/><Relationship Id="rId9" Type="http://schemas.openxmlformats.org/officeDocument/2006/relationships/slideLayout" Target="../slideLayouts/slideLayout1146.xml"/><Relationship Id="rId10" Type="http://schemas.openxmlformats.org/officeDocument/2006/relationships/slideLayout" Target="../slideLayouts/slideLayout1147.xml"/><Relationship Id="rId11" Type="http://schemas.openxmlformats.org/officeDocument/2006/relationships/slideLayout" Target="../slideLayouts/slideLayout1148.xml"/><Relationship Id="rId12" Type="http://schemas.openxmlformats.org/officeDocument/2006/relationships/slideLayout" Target="../slideLayouts/slideLayout1149.xml"/><Relationship Id="rId13" Type="http://schemas.openxmlformats.org/officeDocument/2006/relationships/slideLayout" Target="../slideLayouts/slideLayout1150.xml"/><Relationship Id="rId14" Type="http://schemas.openxmlformats.org/officeDocument/2006/relationships/slideLayout" Target="../slideLayouts/slideLayout1151.xml"/><Relationship Id="rId15"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65.xml"/><Relationship Id="rId5" Type="http://schemas.openxmlformats.org/officeDocument/2006/relationships/slideLayout" Target="../slideLayouts/slideLayout1166.xml"/><Relationship Id="rId6" Type="http://schemas.openxmlformats.org/officeDocument/2006/relationships/slideLayout" Target="../slideLayouts/slideLayout1167.xml"/><Relationship Id="rId7" Type="http://schemas.openxmlformats.org/officeDocument/2006/relationships/slideLayout" Target="../slideLayouts/slideLayout1168.xml"/><Relationship Id="rId8" Type="http://schemas.openxmlformats.org/officeDocument/2006/relationships/slideLayout" Target="../slideLayouts/slideLayout1169.xml"/><Relationship Id="rId9" Type="http://schemas.openxmlformats.org/officeDocument/2006/relationships/slideLayout" Target="../slideLayouts/slideLayout1170.xml"/><Relationship Id="rId10" Type="http://schemas.openxmlformats.org/officeDocument/2006/relationships/slideLayout" Target="../slideLayouts/slideLayout1171.xml"/><Relationship Id="rId11" Type="http://schemas.openxmlformats.org/officeDocument/2006/relationships/slideLayout" Target="../slideLayouts/slideLayout1172.xml"/><Relationship Id="rId12" Type="http://schemas.openxmlformats.org/officeDocument/2006/relationships/slideLayout" Target="../slideLayouts/slideLayout1173.xml"/><Relationship Id="rId13" Type="http://schemas.openxmlformats.org/officeDocument/2006/relationships/slideLayout" Target="../slideLayouts/slideLayout1174.xml"/><Relationship Id="rId14" Type="http://schemas.openxmlformats.org/officeDocument/2006/relationships/slideLayout" Target="../slideLayouts/slideLayout1175.xml"/><Relationship Id="rId15"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6743-CAC0-4547-BB27-8B4A2DA46B6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دائرة مجوفة 10"/>
          <p:cNvGrpSpPr/>
          <p:nvPr/>
        </p:nvGrpSpPr>
        <p:grpSpPr>
          <a:xfrm>
            <a:off x="171360" y="1042920"/>
            <a:ext cx="1157400" cy="1150920"/>
            <a:chOff x="171360" y="1042920"/>
            <a:chExt cx="1157400" cy="1150920"/>
          </a:xfrm>
        </p:grpSpPr>
        <p:pic>
          <p:nvPicPr>
            <p:cNvPr id="435" name="دائرة مجوفة 10" descr=""/>
            <p:cNvPicPr/>
            <p:nvPr/>
          </p:nvPicPr>
          <p:blipFill>
            <a:blip r:embed="rId3"/>
            <a:stretch/>
          </p:blipFill>
          <p:spPr>
            <a:xfrm>
              <a:off x="171360" y="1042920"/>
              <a:ext cx="1157400" cy="1150920"/>
            </a:xfrm>
            <a:prstGeom prst="rect">
              <a:avLst/>
            </a:prstGeom>
            <a:ln w="0">
              <a:noFill/>
            </a:ln>
          </p:spPr>
        </p:pic>
        <p:sp>
          <p:nvSpPr>
            <p:cNvPr id="4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شكل بيضاوي 12"/>
          <p:cNvGrpSpPr/>
          <p:nvPr/>
        </p:nvGrpSpPr>
        <p:grpSpPr>
          <a:xfrm>
            <a:off x="920880" y="1414440"/>
            <a:ext cx="218880" cy="212760"/>
            <a:chOff x="920880" y="1414440"/>
            <a:chExt cx="218880" cy="212760"/>
          </a:xfrm>
        </p:grpSpPr>
        <p:pic>
          <p:nvPicPr>
            <p:cNvPr id="440" name="شكل بيضاوي 12" descr=""/>
            <p:cNvPicPr/>
            <p:nvPr/>
          </p:nvPicPr>
          <p:blipFill>
            <a:blip r:embed="rId4"/>
            <a:stretch/>
          </p:blipFill>
          <p:spPr>
            <a:xfrm>
              <a:off x="920880" y="1414440"/>
              <a:ext cx="218880" cy="212760"/>
            </a:xfrm>
            <a:prstGeom prst="rect">
              <a:avLst/>
            </a:prstGeom>
            <a:ln w="0">
              <a:noFill/>
            </a:ln>
          </p:spPr>
        </p:pic>
        <p:sp>
          <p:nvSpPr>
            <p:cNvPr id="4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4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CEDA-EF48-4B57-85A8-30F3DBB25C3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01" name="PlaceHolder 3"/>
          <p:cNvSpPr>
            <a:spLocks noGrp="1"/>
          </p:cNvSpPr>
          <p:nvPr>
            <p:ph type="dt" idx="29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PlaceHolder 4"/>
          <p:cNvSpPr>
            <a:spLocks noGrp="1"/>
          </p:cNvSpPr>
          <p:nvPr>
            <p:ph type="ftr" idx="29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PlaceHolder 5"/>
          <p:cNvSpPr>
            <a:spLocks noGrp="1"/>
          </p:cNvSpPr>
          <p:nvPr>
            <p:ph type="sldNum" idx="30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7297-55D2-4C5E-ADC4-3B5E29921DB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40" name="مستطيل 12"/>
          <p:cNvGrpSpPr/>
          <p:nvPr/>
        </p:nvGrpSpPr>
        <p:grpSpPr>
          <a:xfrm>
            <a:off x="652320" y="974880"/>
            <a:ext cx="4797720" cy="4797360"/>
            <a:chOff x="652320" y="974880"/>
            <a:chExt cx="4797720" cy="4797360"/>
          </a:xfrm>
        </p:grpSpPr>
        <p:pic>
          <p:nvPicPr>
            <p:cNvPr id="4641" name="مستطيل 12" descr=""/>
            <p:cNvPicPr/>
            <p:nvPr/>
          </p:nvPicPr>
          <p:blipFill>
            <a:blip r:embed="rId3"/>
            <a:stretch/>
          </p:blipFill>
          <p:spPr>
            <a:xfrm>
              <a:off x="652320" y="974880"/>
              <a:ext cx="4797720" cy="4797360"/>
            </a:xfrm>
            <a:prstGeom prst="rect">
              <a:avLst/>
            </a:prstGeom>
            <a:ln w="0">
              <a:noFill/>
            </a:ln>
          </p:spPr>
        </p:pic>
        <p:sp>
          <p:nvSpPr>
            <p:cNvPr id="464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47" name="PlaceHolder 3"/>
          <p:cNvSpPr>
            <a:spLocks noGrp="1"/>
          </p:cNvSpPr>
          <p:nvPr>
            <p:ph type="dt" idx="30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PlaceHolder 4"/>
          <p:cNvSpPr>
            <a:spLocks noGrp="1"/>
          </p:cNvSpPr>
          <p:nvPr>
            <p:ph type="ftr" idx="30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9" name="PlaceHolder 5"/>
          <p:cNvSpPr>
            <a:spLocks noGrp="1"/>
          </p:cNvSpPr>
          <p:nvPr>
            <p:ph type="sldNum" idx="30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2A1A-67BF-410F-81D1-89D895AE6B7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4"/>
    <p:sldLayoutId id="2147484950" r:id="rId5"/>
    <p:sldLayoutId id="2147484951" r:id="rId6"/>
    <p:sldLayoutId id="2147484952" r:id="rId7"/>
    <p:sldLayoutId id="2147484953" r:id="rId8"/>
    <p:sldLayoutId id="2147484954" r:id="rId9"/>
    <p:sldLayoutId id="2147484955" r:id="rId10"/>
    <p:sldLayoutId id="2147484956" r:id="rId11"/>
    <p:sldLayoutId id="2147484957" r:id="rId12"/>
    <p:sldLayoutId id="2147484958" r:id="rId13"/>
    <p:sldLayoutId id="2147484959" r:id="rId14"/>
    <p:sldLayoutId id="2147484960" r:id="rId15"/>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8" name="دائرة مجوفة 10"/>
          <p:cNvGrpSpPr/>
          <p:nvPr/>
        </p:nvGrpSpPr>
        <p:grpSpPr>
          <a:xfrm>
            <a:off x="171360" y="1042920"/>
            <a:ext cx="1157400" cy="1150920"/>
            <a:chOff x="171360" y="1042920"/>
            <a:chExt cx="1157400" cy="1150920"/>
          </a:xfrm>
        </p:grpSpPr>
        <p:pic>
          <p:nvPicPr>
            <p:cNvPr id="4689" name="دائرة مجوفة 10" descr=""/>
            <p:cNvPicPr/>
            <p:nvPr/>
          </p:nvPicPr>
          <p:blipFill>
            <a:blip r:embed="rId3"/>
            <a:stretch/>
          </p:blipFill>
          <p:spPr>
            <a:xfrm>
              <a:off x="171360" y="1042920"/>
              <a:ext cx="1157400" cy="1150920"/>
            </a:xfrm>
            <a:prstGeom prst="rect">
              <a:avLst/>
            </a:prstGeom>
            <a:ln w="0">
              <a:noFill/>
            </a:ln>
          </p:spPr>
        </p:pic>
        <p:sp>
          <p:nvSpPr>
            <p:cNvPr id="469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95" name="PlaceHolder 3"/>
          <p:cNvSpPr>
            <a:spLocks noGrp="1"/>
          </p:cNvSpPr>
          <p:nvPr>
            <p:ph type="dt" idx="30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PlaceHolder 4"/>
          <p:cNvSpPr>
            <a:spLocks noGrp="1"/>
          </p:cNvSpPr>
          <p:nvPr>
            <p:ph type="ftr" idx="30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PlaceHolder 5"/>
          <p:cNvSpPr>
            <a:spLocks noGrp="1"/>
          </p:cNvSpPr>
          <p:nvPr>
            <p:ph type="sldNum" idx="30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E07B-2A6A-41BC-9A56-342A0225DBA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4"/>
    <p:sldLayoutId id="2147484963" r:id="rId5"/>
    <p:sldLayoutId id="2147484964" r:id="rId6"/>
    <p:sldLayoutId id="2147484965" r:id="rId7"/>
    <p:sldLayoutId id="2147484966" r:id="rId8"/>
    <p:sldLayoutId id="2147484967" r:id="rId9"/>
    <p:sldLayoutId id="2147484968" r:id="rId10"/>
    <p:sldLayoutId id="2147484969" r:id="rId11"/>
    <p:sldLayoutId id="2147484970" r:id="rId12"/>
    <p:sldLayoutId id="2147484971" r:id="rId13"/>
    <p:sldLayoutId id="2147484972" r:id="rId14"/>
    <p:sldLayoutId id="2147484973" r:id="rId15"/>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6" name="دائرة مجوفة 10"/>
          <p:cNvGrpSpPr/>
          <p:nvPr/>
        </p:nvGrpSpPr>
        <p:grpSpPr>
          <a:xfrm>
            <a:off x="171360" y="1042920"/>
            <a:ext cx="1157400" cy="1150920"/>
            <a:chOff x="171360" y="1042920"/>
            <a:chExt cx="1157400" cy="1150920"/>
          </a:xfrm>
        </p:grpSpPr>
        <p:pic>
          <p:nvPicPr>
            <p:cNvPr id="4737" name="دائرة مجوفة 10" descr=""/>
            <p:cNvPicPr/>
            <p:nvPr/>
          </p:nvPicPr>
          <p:blipFill>
            <a:blip r:embed="rId3"/>
            <a:stretch/>
          </p:blipFill>
          <p:spPr>
            <a:xfrm>
              <a:off x="171360" y="1042920"/>
              <a:ext cx="1157400" cy="1150920"/>
            </a:xfrm>
            <a:prstGeom prst="rect">
              <a:avLst/>
            </a:prstGeom>
            <a:ln w="0">
              <a:noFill/>
            </a:ln>
          </p:spPr>
        </p:pic>
        <p:sp>
          <p:nvSpPr>
            <p:cNvPr id="473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7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43" name="PlaceHolder 3"/>
          <p:cNvSpPr>
            <a:spLocks noGrp="1"/>
          </p:cNvSpPr>
          <p:nvPr>
            <p:ph type="dt" idx="30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PlaceHolder 4"/>
          <p:cNvSpPr>
            <a:spLocks noGrp="1"/>
          </p:cNvSpPr>
          <p:nvPr>
            <p:ph type="ftr" idx="30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PlaceHolder 5"/>
          <p:cNvSpPr>
            <a:spLocks noGrp="1"/>
          </p:cNvSpPr>
          <p:nvPr>
            <p:ph type="sldNum" idx="30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B915-452A-44A3-B8AB-ED5AF8256AD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4"/>
    <p:sldLayoutId id="2147484976" r:id="rId5"/>
    <p:sldLayoutId id="2147484977" r:id="rId6"/>
    <p:sldLayoutId id="2147484978" r:id="rId7"/>
    <p:sldLayoutId id="2147484979" r:id="rId8"/>
    <p:sldLayoutId id="2147484980" r:id="rId9"/>
    <p:sldLayoutId id="2147484981" r:id="rId10"/>
    <p:sldLayoutId id="2147484982" r:id="rId11"/>
    <p:sldLayoutId id="2147484983" r:id="rId12"/>
    <p:sldLayoutId id="2147484984" r:id="rId13"/>
    <p:sldLayoutId id="2147484985" r:id="rId14"/>
    <p:sldLayoutId id="2147484986"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شكل بيضاوي 15"/>
          <p:cNvGrpSpPr/>
          <p:nvPr/>
        </p:nvGrpSpPr>
        <p:grpSpPr>
          <a:xfrm>
            <a:off x="2170080" y="2816280"/>
            <a:ext cx="219240" cy="212760"/>
            <a:chOff x="2170080" y="2816280"/>
            <a:chExt cx="219240" cy="212760"/>
          </a:xfrm>
        </p:grpSpPr>
        <p:pic>
          <p:nvPicPr>
            <p:cNvPr id="487" name="شكل بيضاوي 15" descr=""/>
            <p:cNvPicPr/>
            <p:nvPr/>
          </p:nvPicPr>
          <p:blipFill>
            <a:blip r:embed="rId3"/>
            <a:stretch/>
          </p:blipFill>
          <p:spPr>
            <a:xfrm>
              <a:off x="2170080" y="2816280"/>
              <a:ext cx="219240" cy="212760"/>
            </a:xfrm>
            <a:prstGeom prst="rect">
              <a:avLst/>
            </a:prstGeom>
            <a:ln w="0">
              <a:noFill/>
            </a:ln>
          </p:spPr>
        </p:pic>
        <p:sp>
          <p:nvSpPr>
            <p:cNvPr id="48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2"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93"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0BA5-DC4A-4AD1-9C90-69C6C02F339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C2B6-EBBA-4D75-B116-20512E703A0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6"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77"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135C-1951-4536-BD14-7C9F985C533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7"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B5FB-232A-4E33-AD5D-44276340171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مستطيل 12"/>
          <p:cNvGrpSpPr/>
          <p:nvPr/>
        </p:nvGrpSpPr>
        <p:grpSpPr>
          <a:xfrm>
            <a:off x="652320" y="974880"/>
            <a:ext cx="4797720" cy="4797360"/>
            <a:chOff x="652320" y="974880"/>
            <a:chExt cx="4797720" cy="4797360"/>
          </a:xfrm>
        </p:grpSpPr>
        <p:pic>
          <p:nvPicPr>
            <p:cNvPr id="657" name="مستطيل 12" descr=""/>
            <p:cNvPicPr/>
            <p:nvPr/>
          </p:nvPicPr>
          <p:blipFill>
            <a:blip r:embed="rId3"/>
            <a:stretch/>
          </p:blipFill>
          <p:spPr>
            <a:xfrm>
              <a:off x="652320" y="974880"/>
              <a:ext cx="4797720" cy="4797360"/>
            </a:xfrm>
            <a:prstGeom prst="rect">
              <a:avLst/>
            </a:prstGeom>
            <a:ln w="0">
              <a:noFill/>
            </a:ln>
          </p:spPr>
        </p:pic>
        <p:sp>
          <p:nvSpPr>
            <p:cNvPr id="65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3"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309C-8E23-40C2-B839-39C5B3124F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دائرة مجوفة 10"/>
          <p:cNvGrpSpPr/>
          <p:nvPr/>
        </p:nvGrpSpPr>
        <p:grpSpPr>
          <a:xfrm>
            <a:off x="171360" y="1042920"/>
            <a:ext cx="1157400" cy="1150920"/>
            <a:chOff x="171360" y="1042920"/>
            <a:chExt cx="1157400" cy="1150920"/>
          </a:xfrm>
        </p:grpSpPr>
        <p:pic>
          <p:nvPicPr>
            <p:cNvPr id="705" name="دائرة مجوفة 10" descr=""/>
            <p:cNvPicPr/>
            <p:nvPr/>
          </p:nvPicPr>
          <p:blipFill>
            <a:blip r:embed="rId3"/>
            <a:stretch/>
          </p:blipFill>
          <p:spPr>
            <a:xfrm>
              <a:off x="171360" y="1042920"/>
              <a:ext cx="1157400" cy="1150920"/>
            </a:xfrm>
            <a:prstGeom prst="rect">
              <a:avLst/>
            </a:prstGeom>
            <a:ln w="0">
              <a:noFill/>
            </a:ln>
          </p:spPr>
        </p:pic>
        <p:sp>
          <p:nvSpPr>
            <p:cNvPr id="70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شكل بيضاوي 12"/>
          <p:cNvGrpSpPr/>
          <p:nvPr/>
        </p:nvGrpSpPr>
        <p:grpSpPr>
          <a:xfrm>
            <a:off x="920880" y="1414440"/>
            <a:ext cx="218880" cy="212760"/>
            <a:chOff x="920880" y="1414440"/>
            <a:chExt cx="218880" cy="212760"/>
          </a:xfrm>
        </p:grpSpPr>
        <p:pic>
          <p:nvPicPr>
            <p:cNvPr id="710" name="شكل بيضاوي 12" descr=""/>
            <p:cNvPicPr/>
            <p:nvPr/>
          </p:nvPicPr>
          <p:blipFill>
            <a:blip r:embed="rId4"/>
            <a:stretch/>
          </p:blipFill>
          <p:spPr>
            <a:xfrm>
              <a:off x="920880" y="1414440"/>
              <a:ext cx="218880" cy="212760"/>
            </a:xfrm>
            <a:prstGeom prst="rect">
              <a:avLst/>
            </a:prstGeom>
            <a:ln w="0">
              <a:noFill/>
            </a:ln>
          </p:spPr>
        </p:pic>
        <p:sp>
          <p:nvSpPr>
            <p:cNvPr id="71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5"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4BA-234A-4D83-9E1C-A2D76827399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دائرة مجوفة 10"/>
          <p:cNvGrpSpPr/>
          <p:nvPr/>
        </p:nvGrpSpPr>
        <p:grpSpPr>
          <a:xfrm>
            <a:off x="171360" y="1042920"/>
            <a:ext cx="1157400" cy="1150920"/>
            <a:chOff x="171360" y="1042920"/>
            <a:chExt cx="1157400" cy="1150920"/>
          </a:xfrm>
        </p:grpSpPr>
        <p:pic>
          <p:nvPicPr>
            <p:cNvPr id="757" name="دائرة مجوفة 10" descr=""/>
            <p:cNvPicPr/>
            <p:nvPr/>
          </p:nvPicPr>
          <p:blipFill>
            <a:blip r:embed="rId3"/>
            <a:stretch/>
          </p:blipFill>
          <p:spPr>
            <a:xfrm>
              <a:off x="171360" y="1042920"/>
              <a:ext cx="1157400" cy="1150920"/>
            </a:xfrm>
            <a:prstGeom prst="rect">
              <a:avLst/>
            </a:prstGeom>
            <a:ln w="0">
              <a:noFill/>
            </a:ln>
          </p:spPr>
        </p:pic>
        <p:sp>
          <p:nvSpPr>
            <p:cNvPr id="7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3"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6115-AA05-4F33-A500-05293BAE34F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شكل بيضاوي 15"/>
          <p:cNvGrpSpPr/>
          <p:nvPr/>
        </p:nvGrpSpPr>
        <p:grpSpPr>
          <a:xfrm>
            <a:off x="2170080" y="2816280"/>
            <a:ext cx="219240" cy="212760"/>
            <a:chOff x="2170080" y="2816280"/>
            <a:chExt cx="219240" cy="212760"/>
          </a:xfrm>
        </p:grpSpPr>
        <p:pic>
          <p:nvPicPr>
            <p:cNvPr id="805" name="شكل بيضاوي 15" descr=""/>
            <p:cNvPicPr/>
            <p:nvPr/>
          </p:nvPicPr>
          <p:blipFill>
            <a:blip r:embed="rId3"/>
            <a:stretch/>
          </p:blipFill>
          <p:spPr>
            <a:xfrm>
              <a:off x="2170080" y="2816280"/>
              <a:ext cx="219240" cy="212760"/>
            </a:xfrm>
            <a:prstGeom prst="rect">
              <a:avLst/>
            </a:prstGeom>
            <a:ln w="0">
              <a:noFill/>
            </a:ln>
          </p:spPr>
        </p:pic>
        <p:sp>
          <p:nvSpPr>
            <p:cNvPr id="80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0"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777A-308B-4DD8-9380-FC7999807BD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دائرة مجوفة 10"/>
          <p:cNvGrpSpPr/>
          <p:nvPr/>
        </p:nvGrpSpPr>
        <p:grpSpPr>
          <a:xfrm>
            <a:off x="171360" y="1042920"/>
            <a:ext cx="1157400" cy="1150920"/>
            <a:chOff x="171360" y="1042920"/>
            <a:chExt cx="1157400" cy="1150920"/>
          </a:xfrm>
        </p:grpSpPr>
        <p:pic>
          <p:nvPicPr>
            <p:cNvPr id="852" name="دائرة مجوفة 10" descr=""/>
            <p:cNvPicPr/>
            <p:nvPr/>
          </p:nvPicPr>
          <p:blipFill>
            <a:blip r:embed="rId3"/>
            <a:stretch/>
          </p:blipFill>
          <p:spPr>
            <a:xfrm>
              <a:off x="171360" y="1042920"/>
              <a:ext cx="1157400" cy="1150920"/>
            </a:xfrm>
            <a:prstGeom prst="rect">
              <a:avLst/>
            </a:prstGeom>
            <a:ln w="0">
              <a:noFill/>
            </a:ln>
          </p:spPr>
        </p:pic>
        <p:sp>
          <p:nvSpPr>
            <p:cNvPr id="85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58"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FB73-3CF7-48A7-A5B9-6D1C3368A45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ADA2-7032-49BC-BA26-EBBC4F5C52B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5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99"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C214-1077-4F2D-86D0-D436CAEE00A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0" name="دائرة مجوفة 10"/>
          <p:cNvGrpSpPr/>
          <p:nvPr/>
        </p:nvGrpSpPr>
        <p:grpSpPr>
          <a:xfrm>
            <a:off x="171360" y="1042920"/>
            <a:ext cx="1157400" cy="1150920"/>
            <a:chOff x="171360" y="1042920"/>
            <a:chExt cx="1157400" cy="1150920"/>
          </a:xfrm>
        </p:grpSpPr>
        <p:pic>
          <p:nvPicPr>
            <p:cNvPr id="941" name="دائرة مجوفة 10" descr=""/>
            <p:cNvPicPr/>
            <p:nvPr/>
          </p:nvPicPr>
          <p:blipFill>
            <a:blip r:embed="rId3"/>
            <a:stretch/>
          </p:blipFill>
          <p:spPr>
            <a:xfrm>
              <a:off x="171360" y="1042920"/>
              <a:ext cx="1157400" cy="1150920"/>
            </a:xfrm>
            <a:prstGeom prst="rect">
              <a:avLst/>
            </a:prstGeom>
            <a:ln w="0">
              <a:noFill/>
            </a:ln>
          </p:spPr>
        </p:pic>
        <p:sp>
          <p:nvSpPr>
            <p:cNvPr id="94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47"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D828-6326-4775-84E9-418B6FD059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0"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548A-BE2E-425B-8F0F-715E7FBB61A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287D-F6DA-45B6-AE15-56B29D67BEC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0" name="مستطيل 12"/>
          <p:cNvGrpSpPr/>
          <p:nvPr/>
        </p:nvGrpSpPr>
        <p:grpSpPr>
          <a:xfrm>
            <a:off x="652320" y="974880"/>
            <a:ext cx="4797720" cy="4797360"/>
            <a:chOff x="652320" y="974880"/>
            <a:chExt cx="4797720" cy="4797360"/>
          </a:xfrm>
        </p:grpSpPr>
        <p:pic>
          <p:nvPicPr>
            <p:cNvPr id="1071" name="مستطيل 12" descr=""/>
            <p:cNvPicPr/>
            <p:nvPr/>
          </p:nvPicPr>
          <p:blipFill>
            <a:blip r:embed="rId3"/>
            <a:stretch/>
          </p:blipFill>
          <p:spPr>
            <a:xfrm>
              <a:off x="652320" y="974880"/>
              <a:ext cx="4797720" cy="4797360"/>
            </a:xfrm>
            <a:prstGeom prst="rect">
              <a:avLst/>
            </a:prstGeom>
            <a:ln w="0">
              <a:noFill/>
            </a:ln>
          </p:spPr>
        </p:pic>
        <p:sp>
          <p:nvSpPr>
            <p:cNvPr id="107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7"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CF88-6246-482D-8A05-4B93D265087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دائرة مجوفة 10"/>
          <p:cNvGrpSpPr/>
          <p:nvPr/>
        </p:nvGrpSpPr>
        <p:grpSpPr>
          <a:xfrm>
            <a:off x="171360" y="1042920"/>
            <a:ext cx="1157400" cy="1150920"/>
            <a:chOff x="171360" y="1042920"/>
            <a:chExt cx="1157400" cy="1150920"/>
          </a:xfrm>
        </p:grpSpPr>
        <p:pic>
          <p:nvPicPr>
            <p:cNvPr id="1119" name="دائرة مجوفة 10" descr=""/>
            <p:cNvPicPr/>
            <p:nvPr/>
          </p:nvPicPr>
          <p:blipFill>
            <a:blip r:embed="rId3"/>
            <a:stretch/>
          </p:blipFill>
          <p:spPr>
            <a:xfrm>
              <a:off x="171360" y="1042920"/>
              <a:ext cx="1157400" cy="1150920"/>
            </a:xfrm>
            <a:prstGeom prst="rect">
              <a:avLst/>
            </a:prstGeom>
            <a:ln w="0">
              <a:noFill/>
            </a:ln>
          </p:spPr>
        </p:pic>
        <p:sp>
          <p:nvSpPr>
            <p:cNvPr id="112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5"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1EBB-9689-44B3-B5BA-C0FD2754AC2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دائرة مجوفة 10"/>
          <p:cNvGrpSpPr/>
          <p:nvPr/>
        </p:nvGrpSpPr>
        <p:grpSpPr>
          <a:xfrm>
            <a:off x="171360" y="1042920"/>
            <a:ext cx="1157400" cy="1150920"/>
            <a:chOff x="171360" y="1042920"/>
            <a:chExt cx="1157400" cy="1150920"/>
          </a:xfrm>
        </p:grpSpPr>
        <p:pic>
          <p:nvPicPr>
            <p:cNvPr id="1167" name="دائرة مجوفة 10" descr=""/>
            <p:cNvPicPr/>
            <p:nvPr/>
          </p:nvPicPr>
          <p:blipFill>
            <a:blip r:embed="rId3"/>
            <a:stretch/>
          </p:blipFill>
          <p:spPr>
            <a:xfrm>
              <a:off x="171360" y="1042920"/>
              <a:ext cx="1157400" cy="1150920"/>
            </a:xfrm>
            <a:prstGeom prst="rect">
              <a:avLst/>
            </a:prstGeom>
            <a:ln w="0">
              <a:noFill/>
            </a:ln>
          </p:spPr>
        </p:pic>
        <p:sp>
          <p:nvSpPr>
            <p:cNvPr id="11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73"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7578-BEC4-4B17-B039-AA238198381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دائرة مجوفة 10"/>
          <p:cNvGrpSpPr/>
          <p:nvPr/>
        </p:nvGrpSpPr>
        <p:grpSpPr>
          <a:xfrm>
            <a:off x="171360" y="1042920"/>
            <a:ext cx="1157400" cy="1150920"/>
            <a:chOff x="171360" y="1042920"/>
            <a:chExt cx="1157400" cy="1150920"/>
          </a:xfrm>
        </p:grpSpPr>
        <p:pic>
          <p:nvPicPr>
            <p:cNvPr id="1215" name="دائرة مجوفة 10" descr=""/>
            <p:cNvPicPr/>
            <p:nvPr/>
          </p:nvPicPr>
          <p:blipFill>
            <a:blip r:embed="rId3"/>
            <a:stretch/>
          </p:blipFill>
          <p:spPr>
            <a:xfrm>
              <a:off x="171360" y="1042920"/>
              <a:ext cx="1157400" cy="1150920"/>
            </a:xfrm>
            <a:prstGeom prst="rect">
              <a:avLst/>
            </a:prstGeom>
            <a:ln w="0">
              <a:noFill/>
            </a:ln>
          </p:spPr>
        </p:pic>
        <p:sp>
          <p:nvSpPr>
            <p:cNvPr id="12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شكل بيضاوي 12"/>
          <p:cNvGrpSpPr/>
          <p:nvPr/>
        </p:nvGrpSpPr>
        <p:grpSpPr>
          <a:xfrm>
            <a:off x="920880" y="1414440"/>
            <a:ext cx="218880" cy="212760"/>
            <a:chOff x="920880" y="1414440"/>
            <a:chExt cx="218880" cy="212760"/>
          </a:xfrm>
        </p:grpSpPr>
        <p:pic>
          <p:nvPicPr>
            <p:cNvPr id="1220" name="شكل بيضاوي 12" descr=""/>
            <p:cNvPicPr/>
            <p:nvPr/>
          </p:nvPicPr>
          <p:blipFill>
            <a:blip r:embed="rId4"/>
            <a:stretch/>
          </p:blipFill>
          <p:spPr>
            <a:xfrm>
              <a:off x="920880" y="1414440"/>
              <a:ext cx="218880" cy="212760"/>
            </a:xfrm>
            <a:prstGeom prst="rect">
              <a:avLst/>
            </a:prstGeom>
            <a:ln w="0">
              <a:noFill/>
            </a:ln>
          </p:spPr>
        </p:pic>
        <p:sp>
          <p:nvSpPr>
            <p:cNvPr id="122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25"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C85D-B5C3-474E-BBE9-E2769D6D2B2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دائرة مجوفة 10"/>
          <p:cNvGrpSpPr/>
          <p:nvPr/>
        </p:nvGrpSpPr>
        <p:grpSpPr>
          <a:xfrm>
            <a:off x="171360" y="1042920"/>
            <a:ext cx="1157400" cy="1150920"/>
            <a:chOff x="171360" y="1042920"/>
            <a:chExt cx="1157400" cy="1150920"/>
          </a:xfrm>
        </p:grpSpPr>
        <p:pic>
          <p:nvPicPr>
            <p:cNvPr id="1267" name="دائرة مجوفة 10" descr=""/>
            <p:cNvPicPr/>
            <p:nvPr/>
          </p:nvPicPr>
          <p:blipFill>
            <a:blip r:embed="rId3"/>
            <a:stretch/>
          </p:blipFill>
          <p:spPr>
            <a:xfrm>
              <a:off x="171360" y="1042920"/>
              <a:ext cx="1157400" cy="1150920"/>
            </a:xfrm>
            <a:prstGeom prst="rect">
              <a:avLst/>
            </a:prstGeom>
            <a:ln w="0">
              <a:noFill/>
            </a:ln>
          </p:spPr>
        </p:pic>
        <p:sp>
          <p:nvSpPr>
            <p:cNvPr id="12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73"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E6F4-6A55-44A8-BFCE-C1AA8BC74B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شكل بيضاوي 15"/>
          <p:cNvGrpSpPr/>
          <p:nvPr/>
        </p:nvGrpSpPr>
        <p:grpSpPr>
          <a:xfrm>
            <a:off x="2170080" y="2816280"/>
            <a:ext cx="219240" cy="212760"/>
            <a:chOff x="2170080" y="2816280"/>
            <a:chExt cx="219240" cy="212760"/>
          </a:xfrm>
        </p:grpSpPr>
        <p:pic>
          <p:nvPicPr>
            <p:cNvPr id="1315" name="شكل بيضاوي 15" descr=""/>
            <p:cNvPicPr/>
            <p:nvPr/>
          </p:nvPicPr>
          <p:blipFill>
            <a:blip r:embed="rId3"/>
            <a:stretch/>
          </p:blipFill>
          <p:spPr>
            <a:xfrm>
              <a:off x="2170080" y="2816280"/>
              <a:ext cx="219240" cy="212760"/>
            </a:xfrm>
            <a:prstGeom prst="rect">
              <a:avLst/>
            </a:prstGeom>
            <a:ln w="0">
              <a:noFill/>
            </a:ln>
          </p:spPr>
        </p:pic>
        <p:sp>
          <p:nvSpPr>
            <p:cNvPr id="131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20"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CC88-06D8-4853-8919-B3D311E96BE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دائرة مجوفة 10"/>
          <p:cNvGrpSpPr/>
          <p:nvPr/>
        </p:nvGrpSpPr>
        <p:grpSpPr>
          <a:xfrm>
            <a:off x="171360" y="1042920"/>
            <a:ext cx="1157400" cy="1150920"/>
            <a:chOff x="171360" y="1042920"/>
            <a:chExt cx="1157400" cy="1150920"/>
          </a:xfrm>
        </p:grpSpPr>
        <p:pic>
          <p:nvPicPr>
            <p:cNvPr id="99" name="دائرة مجوفة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4"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F1AC-337D-4AC4-BA15-A5FED71CE1F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0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1" name="دائرة مجوفة 10"/>
          <p:cNvGrpSpPr/>
          <p:nvPr/>
        </p:nvGrpSpPr>
        <p:grpSpPr>
          <a:xfrm>
            <a:off x="171360" y="1042920"/>
            <a:ext cx="1157400" cy="1150920"/>
            <a:chOff x="171360" y="1042920"/>
            <a:chExt cx="1157400" cy="1150920"/>
          </a:xfrm>
        </p:grpSpPr>
        <p:pic>
          <p:nvPicPr>
            <p:cNvPr id="1362" name="دائرة مجوفة 10" descr=""/>
            <p:cNvPicPr/>
            <p:nvPr/>
          </p:nvPicPr>
          <p:blipFill>
            <a:blip r:embed="rId3"/>
            <a:stretch/>
          </p:blipFill>
          <p:spPr>
            <a:xfrm>
              <a:off x="171360" y="1042920"/>
              <a:ext cx="1157400" cy="1150920"/>
            </a:xfrm>
            <a:prstGeom prst="rect">
              <a:avLst/>
            </a:prstGeom>
            <a:ln w="0">
              <a:noFill/>
            </a:ln>
          </p:spPr>
        </p:pic>
        <p:sp>
          <p:nvSpPr>
            <p:cNvPr id="1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68"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5A33-C471-435B-BBAB-E4DEB055CF7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09"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E428-2F06-4FDF-8753-773F3049AD1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دائرة مجوفة 10"/>
          <p:cNvGrpSpPr/>
          <p:nvPr/>
        </p:nvGrpSpPr>
        <p:grpSpPr>
          <a:xfrm>
            <a:off x="171360" y="1042920"/>
            <a:ext cx="1157400" cy="1150920"/>
            <a:chOff x="171360" y="1042920"/>
            <a:chExt cx="1157400" cy="1150920"/>
          </a:xfrm>
        </p:grpSpPr>
        <p:pic>
          <p:nvPicPr>
            <p:cNvPr id="1451" name="دائرة مجوفة 10" descr=""/>
            <p:cNvPicPr/>
            <p:nvPr/>
          </p:nvPicPr>
          <p:blipFill>
            <a:blip r:embed="rId3"/>
            <a:stretch/>
          </p:blipFill>
          <p:spPr>
            <a:xfrm>
              <a:off x="171360" y="1042920"/>
              <a:ext cx="1157400" cy="1150920"/>
            </a:xfrm>
            <a:prstGeom prst="rect">
              <a:avLst/>
            </a:prstGeom>
            <a:ln w="0">
              <a:noFill/>
            </a:ln>
          </p:spPr>
        </p:pic>
        <p:sp>
          <p:nvSpPr>
            <p:cNvPr id="14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7"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AC1F-95ED-48F9-BD26-04D69460344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0"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783A-FEAF-4F15-B3F4-AB214BD7A50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4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1"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AA8A-54E4-4B9D-86E4-FA28D8284B1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0" name="مستطيل 12"/>
          <p:cNvGrpSpPr/>
          <p:nvPr/>
        </p:nvGrpSpPr>
        <p:grpSpPr>
          <a:xfrm>
            <a:off x="652320" y="974880"/>
            <a:ext cx="4797720" cy="4797360"/>
            <a:chOff x="652320" y="974880"/>
            <a:chExt cx="4797720" cy="4797360"/>
          </a:xfrm>
        </p:grpSpPr>
        <p:pic>
          <p:nvPicPr>
            <p:cNvPr id="1581" name="مستطيل 12" descr=""/>
            <p:cNvPicPr/>
            <p:nvPr/>
          </p:nvPicPr>
          <p:blipFill>
            <a:blip r:embed="rId3"/>
            <a:stretch/>
          </p:blipFill>
          <p:spPr>
            <a:xfrm>
              <a:off x="652320" y="974880"/>
              <a:ext cx="4797720" cy="4797360"/>
            </a:xfrm>
            <a:prstGeom prst="rect">
              <a:avLst/>
            </a:prstGeom>
            <a:ln w="0">
              <a:noFill/>
            </a:ln>
          </p:spPr>
        </p:pic>
        <p:sp>
          <p:nvSpPr>
            <p:cNvPr id="158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7"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31AD-D9CF-4D06-8FF4-A5EE5551511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8" name="دائرة مجوفة 10"/>
          <p:cNvGrpSpPr/>
          <p:nvPr/>
        </p:nvGrpSpPr>
        <p:grpSpPr>
          <a:xfrm>
            <a:off x="171360" y="1042920"/>
            <a:ext cx="1157400" cy="1150920"/>
            <a:chOff x="171360" y="1042920"/>
            <a:chExt cx="1157400" cy="1150920"/>
          </a:xfrm>
        </p:grpSpPr>
        <p:pic>
          <p:nvPicPr>
            <p:cNvPr id="1629" name="دائرة مجوفة 10" descr=""/>
            <p:cNvPicPr/>
            <p:nvPr/>
          </p:nvPicPr>
          <p:blipFill>
            <a:blip r:embed="rId3"/>
            <a:stretch/>
          </p:blipFill>
          <p:spPr>
            <a:xfrm>
              <a:off x="171360" y="1042920"/>
              <a:ext cx="1157400" cy="1150920"/>
            </a:xfrm>
            <a:prstGeom prst="rect">
              <a:avLst/>
            </a:prstGeom>
            <a:ln w="0">
              <a:noFill/>
            </a:ln>
          </p:spPr>
        </p:pic>
        <p:sp>
          <p:nvSpPr>
            <p:cNvPr id="163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35"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0317-BF99-4969-9C59-0718456B6F9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6" name="دائرة مجوفة 10"/>
          <p:cNvGrpSpPr/>
          <p:nvPr/>
        </p:nvGrpSpPr>
        <p:grpSpPr>
          <a:xfrm>
            <a:off x="171360" y="1042920"/>
            <a:ext cx="1157400" cy="1150920"/>
            <a:chOff x="171360" y="1042920"/>
            <a:chExt cx="1157400" cy="1150920"/>
          </a:xfrm>
        </p:grpSpPr>
        <p:pic>
          <p:nvPicPr>
            <p:cNvPr id="1677" name="دائرة مجوفة 10" descr=""/>
            <p:cNvPicPr/>
            <p:nvPr/>
          </p:nvPicPr>
          <p:blipFill>
            <a:blip r:embed="rId3"/>
            <a:stretch/>
          </p:blipFill>
          <p:spPr>
            <a:xfrm>
              <a:off x="171360" y="1042920"/>
              <a:ext cx="1157400" cy="1150920"/>
            </a:xfrm>
            <a:prstGeom prst="rect">
              <a:avLst/>
            </a:prstGeom>
            <a:ln w="0">
              <a:noFill/>
            </a:ln>
          </p:spPr>
        </p:pic>
        <p:sp>
          <p:nvSpPr>
            <p:cNvPr id="16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5CF3-6BA5-4D1F-9CD9-8C62327218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4" name="دائرة مجوفة 10"/>
          <p:cNvGrpSpPr/>
          <p:nvPr/>
        </p:nvGrpSpPr>
        <p:grpSpPr>
          <a:xfrm>
            <a:off x="171360" y="1042920"/>
            <a:ext cx="1157400" cy="1150920"/>
            <a:chOff x="171360" y="1042920"/>
            <a:chExt cx="1157400" cy="1150920"/>
          </a:xfrm>
        </p:grpSpPr>
        <p:pic>
          <p:nvPicPr>
            <p:cNvPr id="1725" name="دائرة مجوفة 10" descr=""/>
            <p:cNvPicPr/>
            <p:nvPr/>
          </p:nvPicPr>
          <p:blipFill>
            <a:blip r:embed="rId3"/>
            <a:stretch/>
          </p:blipFill>
          <p:spPr>
            <a:xfrm>
              <a:off x="171360" y="1042920"/>
              <a:ext cx="1157400" cy="1150920"/>
            </a:xfrm>
            <a:prstGeom prst="rect">
              <a:avLst/>
            </a:prstGeom>
            <a:ln w="0">
              <a:noFill/>
            </a:ln>
          </p:spPr>
        </p:pic>
        <p:sp>
          <p:nvSpPr>
            <p:cNvPr id="17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9" name="شكل بيضاوي 12"/>
          <p:cNvGrpSpPr/>
          <p:nvPr/>
        </p:nvGrpSpPr>
        <p:grpSpPr>
          <a:xfrm>
            <a:off x="920880" y="1414440"/>
            <a:ext cx="218880" cy="212760"/>
            <a:chOff x="920880" y="1414440"/>
            <a:chExt cx="218880" cy="212760"/>
          </a:xfrm>
        </p:grpSpPr>
        <p:pic>
          <p:nvPicPr>
            <p:cNvPr id="1730" name="شكل بيضاوي 12" descr=""/>
            <p:cNvPicPr/>
            <p:nvPr/>
          </p:nvPicPr>
          <p:blipFill>
            <a:blip r:embed="rId4"/>
            <a:stretch/>
          </p:blipFill>
          <p:spPr>
            <a:xfrm>
              <a:off x="920880" y="1414440"/>
              <a:ext cx="218880" cy="212760"/>
            </a:xfrm>
            <a:prstGeom prst="rect">
              <a:avLst/>
            </a:prstGeom>
            <a:ln w="0">
              <a:noFill/>
            </a:ln>
          </p:spPr>
        </p:pic>
        <p:sp>
          <p:nvSpPr>
            <p:cNvPr id="173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5"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2AE5-B96A-4944-B79F-59CA776EC12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6" name="دائرة مجوفة 10"/>
          <p:cNvGrpSpPr/>
          <p:nvPr/>
        </p:nvGrpSpPr>
        <p:grpSpPr>
          <a:xfrm>
            <a:off x="171360" y="1042920"/>
            <a:ext cx="1157400" cy="1150920"/>
            <a:chOff x="171360" y="1042920"/>
            <a:chExt cx="1157400" cy="1150920"/>
          </a:xfrm>
        </p:grpSpPr>
        <p:pic>
          <p:nvPicPr>
            <p:cNvPr id="1777" name="دائرة مجوفة 10" descr=""/>
            <p:cNvPicPr/>
            <p:nvPr/>
          </p:nvPicPr>
          <p:blipFill>
            <a:blip r:embed="rId3"/>
            <a:stretch/>
          </p:blipFill>
          <p:spPr>
            <a:xfrm>
              <a:off x="171360" y="1042920"/>
              <a:ext cx="1157400" cy="1150920"/>
            </a:xfrm>
            <a:prstGeom prst="rect">
              <a:avLst/>
            </a:prstGeom>
            <a:ln w="0">
              <a:noFill/>
            </a:ln>
          </p:spPr>
        </p:pic>
        <p:sp>
          <p:nvSpPr>
            <p:cNvPr id="17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B422-0DD5-431E-991C-48E289E3E8A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دائرة مجوفة 10"/>
          <p:cNvGrpSpPr/>
          <p:nvPr/>
        </p:nvGrpSpPr>
        <p:grpSpPr>
          <a:xfrm>
            <a:off x="171360" y="1042920"/>
            <a:ext cx="1157400" cy="1150920"/>
            <a:chOff x="171360" y="1042920"/>
            <a:chExt cx="1157400" cy="1150920"/>
          </a:xfrm>
        </p:grpSpPr>
        <p:pic>
          <p:nvPicPr>
            <p:cNvPr id="147" name="دائرة مجوفة 10" descr=""/>
            <p:cNvPicPr/>
            <p:nvPr/>
          </p:nvPicPr>
          <p:blipFill>
            <a:blip r:embed="rId3"/>
            <a:stretch/>
          </p:blipFill>
          <p:spPr>
            <a:xfrm>
              <a:off x="171360" y="1042920"/>
              <a:ext cx="1157400" cy="1150920"/>
            </a:xfrm>
            <a:prstGeom prst="rect">
              <a:avLst/>
            </a:prstGeom>
            <a:ln w="0">
              <a:noFill/>
            </a:ln>
          </p:spPr>
        </p:pic>
        <p:sp>
          <p:nvSpPr>
            <p:cNvPr id="14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B8F1-9A05-4B00-9668-8DE0B28207F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4" name="شكل بيضاوي 15"/>
          <p:cNvGrpSpPr/>
          <p:nvPr/>
        </p:nvGrpSpPr>
        <p:grpSpPr>
          <a:xfrm>
            <a:off x="2170080" y="2816280"/>
            <a:ext cx="219240" cy="212760"/>
            <a:chOff x="2170080" y="2816280"/>
            <a:chExt cx="219240" cy="212760"/>
          </a:xfrm>
        </p:grpSpPr>
        <p:pic>
          <p:nvPicPr>
            <p:cNvPr id="1825" name="شكل بيضاوي 15" descr=""/>
            <p:cNvPicPr/>
            <p:nvPr/>
          </p:nvPicPr>
          <p:blipFill>
            <a:blip r:embed="rId3"/>
            <a:stretch/>
          </p:blipFill>
          <p:spPr>
            <a:xfrm>
              <a:off x="2170080" y="2816280"/>
              <a:ext cx="219240" cy="212760"/>
            </a:xfrm>
            <a:prstGeom prst="rect">
              <a:avLst/>
            </a:prstGeom>
            <a:ln w="0">
              <a:noFill/>
            </a:ln>
          </p:spPr>
        </p:pic>
        <p:sp>
          <p:nvSpPr>
            <p:cNvPr id="182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B901-61CB-4903-A2E1-D9D3DC4E021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1" name="دائرة مجوفة 10"/>
          <p:cNvGrpSpPr/>
          <p:nvPr/>
        </p:nvGrpSpPr>
        <p:grpSpPr>
          <a:xfrm>
            <a:off x="171360" y="1042920"/>
            <a:ext cx="1157400" cy="1150920"/>
            <a:chOff x="171360" y="1042920"/>
            <a:chExt cx="1157400" cy="1150920"/>
          </a:xfrm>
        </p:grpSpPr>
        <p:pic>
          <p:nvPicPr>
            <p:cNvPr id="1872" name="دائرة مجوفة 10" descr=""/>
            <p:cNvPicPr/>
            <p:nvPr/>
          </p:nvPicPr>
          <p:blipFill>
            <a:blip r:embed="rId3"/>
            <a:stretch/>
          </p:blipFill>
          <p:spPr>
            <a:xfrm>
              <a:off x="171360" y="1042920"/>
              <a:ext cx="1157400" cy="1150920"/>
            </a:xfrm>
            <a:prstGeom prst="rect">
              <a:avLst/>
            </a:prstGeom>
            <a:ln w="0">
              <a:noFill/>
            </a:ln>
          </p:spPr>
        </p:pic>
        <p:sp>
          <p:nvSpPr>
            <p:cNvPr id="187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7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8"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E840-4C18-4075-B0D5-62D57CBF426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9"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3F53-094C-4166-8B27-6A714B92F8B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0" name="دائرة مجوفة 10"/>
          <p:cNvGrpSpPr/>
          <p:nvPr/>
        </p:nvGrpSpPr>
        <p:grpSpPr>
          <a:xfrm>
            <a:off x="171360" y="1042920"/>
            <a:ext cx="1157400" cy="1150920"/>
            <a:chOff x="171360" y="1042920"/>
            <a:chExt cx="1157400" cy="1150920"/>
          </a:xfrm>
        </p:grpSpPr>
        <p:pic>
          <p:nvPicPr>
            <p:cNvPr id="1961" name="دائرة مجوفة 10" descr=""/>
            <p:cNvPicPr/>
            <p:nvPr/>
          </p:nvPicPr>
          <p:blipFill>
            <a:blip r:embed="rId3"/>
            <a:stretch/>
          </p:blipFill>
          <p:spPr>
            <a:xfrm>
              <a:off x="171360" y="1042920"/>
              <a:ext cx="1157400" cy="1150920"/>
            </a:xfrm>
            <a:prstGeom prst="rect">
              <a:avLst/>
            </a:prstGeom>
            <a:ln w="0">
              <a:noFill/>
            </a:ln>
          </p:spPr>
        </p:pic>
        <p:sp>
          <p:nvSpPr>
            <p:cNvPr id="19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7"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268D-CACD-41AA-98B9-3E2156C5AAB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0"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3DF5-1413-4ADF-B29B-A876697A00A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51"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D27F-5890-49CD-BB70-ADE439090BF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90" name="مستطيل 12"/>
          <p:cNvGrpSpPr/>
          <p:nvPr/>
        </p:nvGrpSpPr>
        <p:grpSpPr>
          <a:xfrm>
            <a:off x="652320" y="974880"/>
            <a:ext cx="4797720" cy="4797360"/>
            <a:chOff x="652320" y="974880"/>
            <a:chExt cx="4797720" cy="4797360"/>
          </a:xfrm>
        </p:grpSpPr>
        <p:pic>
          <p:nvPicPr>
            <p:cNvPr id="2091" name="مستطيل 12" descr=""/>
            <p:cNvPicPr/>
            <p:nvPr/>
          </p:nvPicPr>
          <p:blipFill>
            <a:blip r:embed="rId3"/>
            <a:stretch/>
          </p:blipFill>
          <p:spPr>
            <a:xfrm>
              <a:off x="652320" y="974880"/>
              <a:ext cx="4797720" cy="4797360"/>
            </a:xfrm>
            <a:prstGeom prst="rect">
              <a:avLst/>
            </a:prstGeom>
            <a:ln w="0">
              <a:noFill/>
            </a:ln>
          </p:spPr>
        </p:pic>
        <p:sp>
          <p:nvSpPr>
            <p:cNvPr id="209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97"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1B44-4DD5-4A28-9C72-FC515DC3DE6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8" name="دائرة مجوفة 10"/>
          <p:cNvGrpSpPr/>
          <p:nvPr/>
        </p:nvGrpSpPr>
        <p:grpSpPr>
          <a:xfrm>
            <a:off x="171360" y="1042920"/>
            <a:ext cx="1157400" cy="1150920"/>
            <a:chOff x="171360" y="1042920"/>
            <a:chExt cx="1157400" cy="1150920"/>
          </a:xfrm>
        </p:grpSpPr>
        <p:pic>
          <p:nvPicPr>
            <p:cNvPr id="2139" name="دائرة مجوفة 10" descr=""/>
            <p:cNvPicPr/>
            <p:nvPr/>
          </p:nvPicPr>
          <p:blipFill>
            <a:blip r:embed="rId3"/>
            <a:stretch/>
          </p:blipFill>
          <p:spPr>
            <a:xfrm>
              <a:off x="171360" y="1042920"/>
              <a:ext cx="1157400" cy="1150920"/>
            </a:xfrm>
            <a:prstGeom prst="rect">
              <a:avLst/>
            </a:prstGeom>
            <a:ln w="0">
              <a:noFill/>
            </a:ln>
          </p:spPr>
        </p:pic>
        <p:sp>
          <p:nvSpPr>
            <p:cNvPr id="21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5"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EA68-1958-4401-AA81-F2562BBCB91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6" name="دائرة مجوفة 10"/>
          <p:cNvGrpSpPr/>
          <p:nvPr/>
        </p:nvGrpSpPr>
        <p:grpSpPr>
          <a:xfrm>
            <a:off x="171360" y="1042920"/>
            <a:ext cx="1157400" cy="1150920"/>
            <a:chOff x="171360" y="1042920"/>
            <a:chExt cx="1157400" cy="1150920"/>
          </a:xfrm>
        </p:grpSpPr>
        <p:pic>
          <p:nvPicPr>
            <p:cNvPr id="2187" name="دائرة مجوفة 10" descr=""/>
            <p:cNvPicPr/>
            <p:nvPr/>
          </p:nvPicPr>
          <p:blipFill>
            <a:blip r:embed="rId3"/>
            <a:stretch/>
          </p:blipFill>
          <p:spPr>
            <a:xfrm>
              <a:off x="171360" y="1042920"/>
              <a:ext cx="1157400" cy="1150920"/>
            </a:xfrm>
            <a:prstGeom prst="rect">
              <a:avLst/>
            </a:prstGeom>
            <a:ln w="0">
              <a:noFill/>
            </a:ln>
          </p:spPr>
        </p:pic>
        <p:sp>
          <p:nvSpPr>
            <p:cNvPr id="21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93"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2791-AC58-4B38-823E-AFD21EED142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4" name="دائرة مجوفة 10"/>
          <p:cNvGrpSpPr/>
          <p:nvPr/>
        </p:nvGrpSpPr>
        <p:grpSpPr>
          <a:xfrm>
            <a:off x="171360" y="1042920"/>
            <a:ext cx="1157400" cy="1150920"/>
            <a:chOff x="171360" y="1042920"/>
            <a:chExt cx="1157400" cy="1150920"/>
          </a:xfrm>
        </p:grpSpPr>
        <p:pic>
          <p:nvPicPr>
            <p:cNvPr id="2235" name="دائرة مجوفة 10" descr=""/>
            <p:cNvPicPr/>
            <p:nvPr/>
          </p:nvPicPr>
          <p:blipFill>
            <a:blip r:embed="rId3"/>
            <a:stretch/>
          </p:blipFill>
          <p:spPr>
            <a:xfrm>
              <a:off x="171360" y="1042920"/>
              <a:ext cx="1157400" cy="1150920"/>
            </a:xfrm>
            <a:prstGeom prst="rect">
              <a:avLst/>
            </a:prstGeom>
            <a:ln w="0">
              <a:noFill/>
            </a:ln>
          </p:spPr>
        </p:pic>
        <p:sp>
          <p:nvSpPr>
            <p:cNvPr id="22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9" name="شكل بيضاوي 12"/>
          <p:cNvGrpSpPr/>
          <p:nvPr/>
        </p:nvGrpSpPr>
        <p:grpSpPr>
          <a:xfrm>
            <a:off x="920880" y="1414440"/>
            <a:ext cx="218880" cy="212760"/>
            <a:chOff x="920880" y="1414440"/>
            <a:chExt cx="218880" cy="212760"/>
          </a:xfrm>
        </p:grpSpPr>
        <p:pic>
          <p:nvPicPr>
            <p:cNvPr id="2240" name="شكل بيضاوي 12" descr=""/>
            <p:cNvPicPr/>
            <p:nvPr/>
          </p:nvPicPr>
          <p:blipFill>
            <a:blip r:embed="rId4"/>
            <a:stretch/>
          </p:blipFill>
          <p:spPr>
            <a:xfrm>
              <a:off x="920880" y="1414440"/>
              <a:ext cx="218880" cy="212760"/>
            </a:xfrm>
            <a:prstGeom prst="rect">
              <a:avLst/>
            </a:prstGeom>
            <a:ln w="0">
              <a:noFill/>
            </a:ln>
          </p:spPr>
        </p:pic>
        <p:sp>
          <p:nvSpPr>
            <p:cNvPr id="22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45"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C42D-55DA-4A18-8005-BDFAB9889FB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دائرة مجوفة 10"/>
          <p:cNvGrpSpPr/>
          <p:nvPr/>
        </p:nvGrpSpPr>
        <p:grpSpPr>
          <a:xfrm>
            <a:off x="171360" y="1042920"/>
            <a:ext cx="1157400" cy="1150920"/>
            <a:chOff x="171360" y="1042920"/>
            <a:chExt cx="1157400" cy="1150920"/>
          </a:xfrm>
        </p:grpSpPr>
        <p:pic>
          <p:nvPicPr>
            <p:cNvPr id="195" name="دائرة مجوفة 10" descr=""/>
            <p:cNvPicPr/>
            <p:nvPr/>
          </p:nvPicPr>
          <p:blipFill>
            <a:blip r:embed="rId3"/>
            <a:stretch/>
          </p:blipFill>
          <p:spPr>
            <a:xfrm>
              <a:off x="171360" y="1042920"/>
              <a:ext cx="1157400" cy="1150920"/>
            </a:xfrm>
            <a:prstGeom prst="rect">
              <a:avLst/>
            </a:prstGeom>
            <a:ln w="0">
              <a:noFill/>
            </a:ln>
          </p:spPr>
        </p:pic>
        <p:sp>
          <p:nvSpPr>
            <p:cNvPr id="1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1C4A-7DD6-49D8-BE18-9097EBD82D7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03"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6" name="دائرة مجوفة 10"/>
          <p:cNvGrpSpPr/>
          <p:nvPr/>
        </p:nvGrpSpPr>
        <p:grpSpPr>
          <a:xfrm>
            <a:off x="171360" y="1042920"/>
            <a:ext cx="1157400" cy="1150920"/>
            <a:chOff x="171360" y="1042920"/>
            <a:chExt cx="1157400" cy="1150920"/>
          </a:xfrm>
        </p:grpSpPr>
        <p:pic>
          <p:nvPicPr>
            <p:cNvPr id="2287" name="دائرة مجوفة 10" descr=""/>
            <p:cNvPicPr/>
            <p:nvPr/>
          </p:nvPicPr>
          <p:blipFill>
            <a:blip r:embed="rId3"/>
            <a:stretch/>
          </p:blipFill>
          <p:spPr>
            <a:xfrm>
              <a:off x="171360" y="1042920"/>
              <a:ext cx="1157400" cy="1150920"/>
            </a:xfrm>
            <a:prstGeom prst="rect">
              <a:avLst/>
            </a:prstGeom>
            <a:ln w="0">
              <a:noFill/>
            </a:ln>
          </p:spPr>
        </p:pic>
        <p:sp>
          <p:nvSpPr>
            <p:cNvPr id="2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93"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B82D-E2F3-4F89-A773-51A5463166B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4" name="شكل بيضاوي 15"/>
          <p:cNvGrpSpPr/>
          <p:nvPr/>
        </p:nvGrpSpPr>
        <p:grpSpPr>
          <a:xfrm>
            <a:off x="2170080" y="2816280"/>
            <a:ext cx="219240" cy="212760"/>
            <a:chOff x="2170080" y="2816280"/>
            <a:chExt cx="219240" cy="212760"/>
          </a:xfrm>
        </p:grpSpPr>
        <p:pic>
          <p:nvPicPr>
            <p:cNvPr id="2335" name="شكل بيضاوي 15" descr=""/>
            <p:cNvPicPr/>
            <p:nvPr/>
          </p:nvPicPr>
          <p:blipFill>
            <a:blip r:embed="rId3"/>
            <a:stretch/>
          </p:blipFill>
          <p:spPr>
            <a:xfrm>
              <a:off x="2170080" y="2816280"/>
              <a:ext cx="219240" cy="212760"/>
            </a:xfrm>
            <a:prstGeom prst="rect">
              <a:avLst/>
            </a:prstGeom>
            <a:ln w="0">
              <a:noFill/>
            </a:ln>
          </p:spPr>
        </p:pic>
        <p:sp>
          <p:nvSpPr>
            <p:cNvPr id="233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40"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4CEF-A6AB-470C-9DCD-DB442146B33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1" name="دائرة مجوفة 10"/>
          <p:cNvGrpSpPr/>
          <p:nvPr/>
        </p:nvGrpSpPr>
        <p:grpSpPr>
          <a:xfrm>
            <a:off x="171360" y="1042920"/>
            <a:ext cx="1157400" cy="1150920"/>
            <a:chOff x="171360" y="1042920"/>
            <a:chExt cx="1157400" cy="1150920"/>
          </a:xfrm>
        </p:grpSpPr>
        <p:pic>
          <p:nvPicPr>
            <p:cNvPr id="2382" name="دائرة مجوفة 10" descr=""/>
            <p:cNvPicPr/>
            <p:nvPr/>
          </p:nvPicPr>
          <p:blipFill>
            <a:blip r:embed="rId3"/>
            <a:stretch/>
          </p:blipFill>
          <p:spPr>
            <a:xfrm>
              <a:off x="171360" y="1042920"/>
              <a:ext cx="1157400" cy="1150920"/>
            </a:xfrm>
            <a:prstGeom prst="rect">
              <a:avLst/>
            </a:prstGeom>
            <a:ln w="0">
              <a:noFill/>
            </a:ln>
          </p:spPr>
        </p:pic>
        <p:sp>
          <p:nvSpPr>
            <p:cNvPr id="238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8"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AE43-BF38-41A0-B577-98DD3469400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9"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79B5-AFC1-4E5D-90CE-84765025A30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0" name="دائرة مجوفة 10"/>
          <p:cNvGrpSpPr/>
          <p:nvPr/>
        </p:nvGrpSpPr>
        <p:grpSpPr>
          <a:xfrm>
            <a:off x="171360" y="1042920"/>
            <a:ext cx="1157400" cy="1150920"/>
            <a:chOff x="171360" y="1042920"/>
            <a:chExt cx="1157400" cy="1150920"/>
          </a:xfrm>
        </p:grpSpPr>
        <p:pic>
          <p:nvPicPr>
            <p:cNvPr id="2471" name="دائرة مجوفة 10" descr=""/>
            <p:cNvPicPr/>
            <p:nvPr/>
          </p:nvPicPr>
          <p:blipFill>
            <a:blip r:embed="rId3"/>
            <a:stretch/>
          </p:blipFill>
          <p:spPr>
            <a:xfrm>
              <a:off x="171360" y="1042920"/>
              <a:ext cx="1157400" cy="1150920"/>
            </a:xfrm>
            <a:prstGeom prst="rect">
              <a:avLst/>
            </a:prstGeom>
            <a:ln w="0">
              <a:noFill/>
            </a:ln>
          </p:spPr>
        </p:pic>
        <p:sp>
          <p:nvSpPr>
            <p:cNvPr id="247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7"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FA62-519A-498D-A535-43AD4B83326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20"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38E9-AAD6-4F33-A41A-DA3DA6F8E2A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61"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20EC-F778-49F3-A9FE-8DEA860DBCF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00" name="مستطيل 12"/>
          <p:cNvGrpSpPr/>
          <p:nvPr/>
        </p:nvGrpSpPr>
        <p:grpSpPr>
          <a:xfrm>
            <a:off x="652320" y="974880"/>
            <a:ext cx="4797720" cy="4797360"/>
            <a:chOff x="652320" y="974880"/>
            <a:chExt cx="4797720" cy="4797360"/>
          </a:xfrm>
        </p:grpSpPr>
        <p:pic>
          <p:nvPicPr>
            <p:cNvPr id="2601" name="مستطيل 12" descr=""/>
            <p:cNvPicPr/>
            <p:nvPr/>
          </p:nvPicPr>
          <p:blipFill>
            <a:blip r:embed="rId3"/>
            <a:stretch/>
          </p:blipFill>
          <p:spPr>
            <a:xfrm>
              <a:off x="652320" y="974880"/>
              <a:ext cx="4797720" cy="4797360"/>
            </a:xfrm>
            <a:prstGeom prst="rect">
              <a:avLst/>
            </a:prstGeom>
            <a:ln w="0">
              <a:noFill/>
            </a:ln>
          </p:spPr>
        </p:pic>
        <p:sp>
          <p:nvSpPr>
            <p:cNvPr id="260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07"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F9F8-3FC9-487E-8507-D09F21587D5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دائرة مجوفة 10"/>
          <p:cNvGrpSpPr/>
          <p:nvPr/>
        </p:nvGrpSpPr>
        <p:grpSpPr>
          <a:xfrm>
            <a:off x="171360" y="1042920"/>
            <a:ext cx="1157400" cy="1150920"/>
            <a:chOff x="171360" y="1042920"/>
            <a:chExt cx="1157400" cy="1150920"/>
          </a:xfrm>
        </p:grpSpPr>
        <p:pic>
          <p:nvPicPr>
            <p:cNvPr id="2649" name="دائرة مجوفة 10" descr=""/>
            <p:cNvPicPr/>
            <p:nvPr/>
          </p:nvPicPr>
          <p:blipFill>
            <a:blip r:embed="rId3"/>
            <a:stretch/>
          </p:blipFill>
          <p:spPr>
            <a:xfrm>
              <a:off x="171360" y="1042920"/>
              <a:ext cx="1157400" cy="1150920"/>
            </a:xfrm>
            <a:prstGeom prst="rect">
              <a:avLst/>
            </a:prstGeom>
            <a:ln w="0">
              <a:noFill/>
            </a:ln>
          </p:spPr>
        </p:pic>
        <p:sp>
          <p:nvSpPr>
            <p:cNvPr id="26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55"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0E83-AF75-401C-B5A2-69BE1CC32E9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4"/>
    <p:sldLayoutId id="2147484391" r:id="rId5"/>
    <p:sldLayoutId id="2147484392" r:id="rId6"/>
    <p:sldLayoutId id="2147484393" r:id="rId7"/>
    <p:sldLayoutId id="2147484394" r:id="rId8"/>
    <p:sldLayoutId id="2147484395" r:id="rId9"/>
    <p:sldLayoutId id="2147484396" r:id="rId10"/>
    <p:sldLayoutId id="2147484397" r:id="rId11"/>
    <p:sldLayoutId id="2147484398" r:id="rId12"/>
    <p:sldLayoutId id="2147484399" r:id="rId13"/>
    <p:sldLayoutId id="2147484400" r:id="rId14"/>
    <p:sldLayoutId id="2147484401" r:id="rId15"/>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6" name="دائرة مجوفة 10"/>
          <p:cNvGrpSpPr/>
          <p:nvPr/>
        </p:nvGrpSpPr>
        <p:grpSpPr>
          <a:xfrm>
            <a:off x="171360" y="1042920"/>
            <a:ext cx="1157400" cy="1150920"/>
            <a:chOff x="171360" y="1042920"/>
            <a:chExt cx="1157400" cy="1150920"/>
          </a:xfrm>
        </p:grpSpPr>
        <p:pic>
          <p:nvPicPr>
            <p:cNvPr id="2697" name="دائرة مجوفة 10" descr=""/>
            <p:cNvPicPr/>
            <p:nvPr/>
          </p:nvPicPr>
          <p:blipFill>
            <a:blip r:embed="rId3"/>
            <a:stretch/>
          </p:blipFill>
          <p:spPr>
            <a:xfrm>
              <a:off x="171360" y="1042920"/>
              <a:ext cx="1157400" cy="1150920"/>
            </a:xfrm>
            <a:prstGeom prst="rect">
              <a:avLst/>
            </a:prstGeom>
            <a:ln w="0">
              <a:noFill/>
            </a:ln>
          </p:spPr>
        </p:pic>
        <p:sp>
          <p:nvSpPr>
            <p:cNvPr id="26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03"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6DFA-532B-43E8-B0FA-B5C4C7D5F95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دائرة مجوفة 10"/>
          <p:cNvGrpSpPr/>
          <p:nvPr/>
        </p:nvGrpSpPr>
        <p:grpSpPr>
          <a:xfrm>
            <a:off x="171360" y="1042920"/>
            <a:ext cx="1157400" cy="1150920"/>
            <a:chOff x="171360" y="1042920"/>
            <a:chExt cx="1157400" cy="1150920"/>
          </a:xfrm>
        </p:grpSpPr>
        <p:pic>
          <p:nvPicPr>
            <p:cNvPr id="243" name="دائرة مجوفة 10" descr=""/>
            <p:cNvPicPr/>
            <p:nvPr/>
          </p:nvPicPr>
          <p:blipFill>
            <a:blip r:embed="rId3"/>
            <a:stretch/>
          </p:blipFill>
          <p:spPr>
            <a:xfrm>
              <a:off x="171360" y="1042920"/>
              <a:ext cx="1157400" cy="1150920"/>
            </a:xfrm>
            <a:prstGeom prst="rect">
              <a:avLst/>
            </a:prstGeom>
            <a:ln w="0">
              <a:noFill/>
            </a:ln>
          </p:spPr>
        </p:pic>
        <p:sp>
          <p:nvSpPr>
            <p:cNvPr id="24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813E-3125-476F-884E-F75BF4E607C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5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دائرة مجوفة 10"/>
          <p:cNvGrpSpPr/>
          <p:nvPr/>
        </p:nvGrpSpPr>
        <p:grpSpPr>
          <a:xfrm>
            <a:off x="171360" y="1042920"/>
            <a:ext cx="1157400" cy="1150920"/>
            <a:chOff x="171360" y="1042920"/>
            <a:chExt cx="1157400" cy="1150920"/>
          </a:xfrm>
        </p:grpSpPr>
        <p:pic>
          <p:nvPicPr>
            <p:cNvPr id="2745" name="دائرة مجوفة 10" descr=""/>
            <p:cNvPicPr/>
            <p:nvPr/>
          </p:nvPicPr>
          <p:blipFill>
            <a:blip r:embed="rId3"/>
            <a:stretch/>
          </p:blipFill>
          <p:spPr>
            <a:xfrm>
              <a:off x="171360" y="1042920"/>
              <a:ext cx="1157400" cy="1150920"/>
            </a:xfrm>
            <a:prstGeom prst="rect">
              <a:avLst/>
            </a:prstGeom>
            <a:ln w="0">
              <a:noFill/>
            </a:ln>
          </p:spPr>
        </p:pic>
        <p:sp>
          <p:nvSpPr>
            <p:cNvPr id="27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9" name="شكل بيضاوي 12"/>
          <p:cNvGrpSpPr/>
          <p:nvPr/>
        </p:nvGrpSpPr>
        <p:grpSpPr>
          <a:xfrm>
            <a:off x="920880" y="1414440"/>
            <a:ext cx="218880" cy="212760"/>
            <a:chOff x="920880" y="1414440"/>
            <a:chExt cx="218880" cy="212760"/>
          </a:xfrm>
        </p:grpSpPr>
        <p:pic>
          <p:nvPicPr>
            <p:cNvPr id="2750" name="شكل بيضاوي 12" descr=""/>
            <p:cNvPicPr/>
            <p:nvPr/>
          </p:nvPicPr>
          <p:blipFill>
            <a:blip r:embed="rId4"/>
            <a:stretch/>
          </p:blipFill>
          <p:spPr>
            <a:xfrm>
              <a:off x="920880" y="1414440"/>
              <a:ext cx="218880" cy="212760"/>
            </a:xfrm>
            <a:prstGeom prst="rect">
              <a:avLst/>
            </a:prstGeom>
            <a:ln w="0">
              <a:noFill/>
            </a:ln>
          </p:spPr>
        </p:pic>
        <p:sp>
          <p:nvSpPr>
            <p:cNvPr id="27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55"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4DD1-7E75-4C5F-80F0-0E377431205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6" name="دائرة مجوفة 10"/>
          <p:cNvGrpSpPr/>
          <p:nvPr/>
        </p:nvGrpSpPr>
        <p:grpSpPr>
          <a:xfrm>
            <a:off x="171360" y="1042920"/>
            <a:ext cx="1157400" cy="1150920"/>
            <a:chOff x="171360" y="1042920"/>
            <a:chExt cx="1157400" cy="1150920"/>
          </a:xfrm>
        </p:grpSpPr>
        <p:pic>
          <p:nvPicPr>
            <p:cNvPr id="2797" name="دائرة مجوفة 10" descr=""/>
            <p:cNvPicPr/>
            <p:nvPr/>
          </p:nvPicPr>
          <p:blipFill>
            <a:blip r:embed="rId3"/>
            <a:stretch/>
          </p:blipFill>
          <p:spPr>
            <a:xfrm>
              <a:off x="171360" y="1042920"/>
              <a:ext cx="1157400" cy="1150920"/>
            </a:xfrm>
            <a:prstGeom prst="rect">
              <a:avLst/>
            </a:prstGeom>
            <a:ln w="0">
              <a:noFill/>
            </a:ln>
          </p:spPr>
        </p:pic>
        <p:sp>
          <p:nvSpPr>
            <p:cNvPr id="27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4111-0D60-47BB-A588-222C6D61867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4" name="شكل بيضاوي 15"/>
          <p:cNvGrpSpPr/>
          <p:nvPr/>
        </p:nvGrpSpPr>
        <p:grpSpPr>
          <a:xfrm>
            <a:off x="2170080" y="2816280"/>
            <a:ext cx="219240" cy="212760"/>
            <a:chOff x="2170080" y="2816280"/>
            <a:chExt cx="219240" cy="212760"/>
          </a:xfrm>
        </p:grpSpPr>
        <p:pic>
          <p:nvPicPr>
            <p:cNvPr id="2845" name="شكل بيضاوي 15" descr=""/>
            <p:cNvPicPr/>
            <p:nvPr/>
          </p:nvPicPr>
          <p:blipFill>
            <a:blip r:embed="rId3"/>
            <a:stretch/>
          </p:blipFill>
          <p:spPr>
            <a:xfrm>
              <a:off x="2170080" y="2816280"/>
              <a:ext cx="219240" cy="212760"/>
            </a:xfrm>
            <a:prstGeom prst="rect">
              <a:avLst/>
            </a:prstGeom>
            <a:ln w="0">
              <a:noFill/>
            </a:ln>
          </p:spPr>
        </p:pic>
        <p:sp>
          <p:nvSpPr>
            <p:cNvPr id="28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0"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1605-ADF8-42D8-8192-2C81FE006CF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1" name="دائرة مجوفة 10"/>
          <p:cNvGrpSpPr/>
          <p:nvPr/>
        </p:nvGrpSpPr>
        <p:grpSpPr>
          <a:xfrm>
            <a:off x="171360" y="1042920"/>
            <a:ext cx="1157400" cy="1150920"/>
            <a:chOff x="171360" y="1042920"/>
            <a:chExt cx="1157400" cy="1150920"/>
          </a:xfrm>
        </p:grpSpPr>
        <p:pic>
          <p:nvPicPr>
            <p:cNvPr id="2892" name="دائرة مجوفة 10" descr=""/>
            <p:cNvPicPr/>
            <p:nvPr/>
          </p:nvPicPr>
          <p:blipFill>
            <a:blip r:embed="rId3"/>
            <a:stretch/>
          </p:blipFill>
          <p:spPr>
            <a:xfrm>
              <a:off x="171360" y="1042920"/>
              <a:ext cx="1157400" cy="1150920"/>
            </a:xfrm>
            <a:prstGeom prst="rect">
              <a:avLst/>
            </a:prstGeom>
            <a:ln w="0">
              <a:noFill/>
            </a:ln>
          </p:spPr>
        </p:pic>
        <p:sp>
          <p:nvSpPr>
            <p:cNvPr id="28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98"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32EC-7E16-4367-8E5E-E974D5AED0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4"/>
    <p:sldLayoutId id="2147484456" r:id="rId5"/>
    <p:sldLayoutId id="2147484457" r:id="rId6"/>
    <p:sldLayoutId id="2147484458" r:id="rId7"/>
    <p:sldLayoutId id="2147484459" r:id="rId8"/>
    <p:sldLayoutId id="2147484460" r:id="rId9"/>
    <p:sldLayoutId id="2147484461" r:id="rId10"/>
    <p:sldLayoutId id="2147484462" r:id="rId11"/>
    <p:sldLayoutId id="2147484463" r:id="rId12"/>
    <p:sldLayoutId id="2147484464" r:id="rId13"/>
    <p:sldLayoutId id="2147484465" r:id="rId14"/>
    <p:sldLayoutId id="2147484466" r:id="rId15"/>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9"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888B-47C7-4247-A799-5700F816D89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0" name="دائرة مجوفة 10"/>
          <p:cNvGrpSpPr/>
          <p:nvPr/>
        </p:nvGrpSpPr>
        <p:grpSpPr>
          <a:xfrm>
            <a:off x="171360" y="1042920"/>
            <a:ext cx="1157400" cy="1150920"/>
            <a:chOff x="171360" y="1042920"/>
            <a:chExt cx="1157400" cy="1150920"/>
          </a:xfrm>
        </p:grpSpPr>
        <p:pic>
          <p:nvPicPr>
            <p:cNvPr id="2981" name="دائرة مجوفة 10" descr=""/>
            <p:cNvPicPr/>
            <p:nvPr/>
          </p:nvPicPr>
          <p:blipFill>
            <a:blip r:embed="rId3"/>
            <a:stretch/>
          </p:blipFill>
          <p:spPr>
            <a:xfrm>
              <a:off x="171360" y="1042920"/>
              <a:ext cx="1157400" cy="1150920"/>
            </a:xfrm>
            <a:prstGeom prst="rect">
              <a:avLst/>
            </a:prstGeom>
            <a:ln w="0">
              <a:noFill/>
            </a:ln>
          </p:spPr>
        </p:pic>
        <p:sp>
          <p:nvSpPr>
            <p:cNvPr id="298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7"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7CD0-1943-4CA7-9FD8-80D6E993A89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30"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1BBA-3342-41C4-884C-865D3FED231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71"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A8E1-4FB4-4484-B26C-9ED10CEA5B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0" name="مستطيل 12"/>
          <p:cNvGrpSpPr/>
          <p:nvPr/>
        </p:nvGrpSpPr>
        <p:grpSpPr>
          <a:xfrm>
            <a:off x="652320" y="974880"/>
            <a:ext cx="4797720" cy="4797360"/>
            <a:chOff x="652320" y="974880"/>
            <a:chExt cx="4797720" cy="4797360"/>
          </a:xfrm>
        </p:grpSpPr>
        <p:pic>
          <p:nvPicPr>
            <p:cNvPr id="3111" name="مستطيل 12" descr=""/>
            <p:cNvPicPr/>
            <p:nvPr/>
          </p:nvPicPr>
          <p:blipFill>
            <a:blip r:embed="rId3"/>
            <a:stretch/>
          </p:blipFill>
          <p:spPr>
            <a:xfrm>
              <a:off x="652320" y="974880"/>
              <a:ext cx="4797720" cy="4797360"/>
            </a:xfrm>
            <a:prstGeom prst="rect">
              <a:avLst/>
            </a:prstGeom>
            <a:ln w="0">
              <a:noFill/>
            </a:ln>
          </p:spPr>
        </p:pic>
        <p:sp>
          <p:nvSpPr>
            <p:cNvPr id="311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7"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508A-1E70-418E-9F24-0B76FAD728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8" name="دائرة مجوفة 10"/>
          <p:cNvGrpSpPr/>
          <p:nvPr/>
        </p:nvGrpSpPr>
        <p:grpSpPr>
          <a:xfrm>
            <a:off x="171360" y="1042920"/>
            <a:ext cx="1157400" cy="1150920"/>
            <a:chOff x="171360" y="1042920"/>
            <a:chExt cx="1157400" cy="1150920"/>
          </a:xfrm>
        </p:grpSpPr>
        <p:pic>
          <p:nvPicPr>
            <p:cNvPr id="3159" name="دائرة مجوفة 10" descr=""/>
            <p:cNvPicPr/>
            <p:nvPr/>
          </p:nvPicPr>
          <p:blipFill>
            <a:blip r:embed="rId3"/>
            <a:stretch/>
          </p:blipFill>
          <p:spPr>
            <a:xfrm>
              <a:off x="171360" y="1042920"/>
              <a:ext cx="1157400" cy="1150920"/>
            </a:xfrm>
            <a:prstGeom prst="rect">
              <a:avLst/>
            </a:prstGeom>
            <a:ln w="0">
              <a:noFill/>
            </a:ln>
          </p:spPr>
        </p:pic>
        <p:sp>
          <p:nvSpPr>
            <p:cNvPr id="316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65"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31CC-934A-425C-9894-3C8338F224E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دائرة مجوفة 10"/>
          <p:cNvGrpSpPr/>
          <p:nvPr/>
        </p:nvGrpSpPr>
        <p:grpSpPr>
          <a:xfrm>
            <a:off x="171360" y="1042920"/>
            <a:ext cx="1157400" cy="1150920"/>
            <a:chOff x="171360" y="1042920"/>
            <a:chExt cx="1157400" cy="1150920"/>
          </a:xfrm>
        </p:grpSpPr>
        <p:pic>
          <p:nvPicPr>
            <p:cNvPr id="291" name="دائرة مجوفة 10" descr=""/>
            <p:cNvPicPr/>
            <p:nvPr/>
          </p:nvPicPr>
          <p:blipFill>
            <a:blip r:embed="rId3"/>
            <a:stretch/>
          </p:blipFill>
          <p:spPr>
            <a:xfrm>
              <a:off x="171360" y="1042920"/>
              <a:ext cx="1157400" cy="1150920"/>
            </a:xfrm>
            <a:prstGeom prst="rect">
              <a:avLst/>
            </a:prstGeom>
            <a:ln w="0">
              <a:noFill/>
            </a:ln>
          </p:spPr>
        </p:pic>
        <p:sp>
          <p:nvSpPr>
            <p:cNvPr id="2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8D24-2F2C-4783-B605-537671F5D04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9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6" name="دائرة مجوفة 10"/>
          <p:cNvGrpSpPr/>
          <p:nvPr/>
        </p:nvGrpSpPr>
        <p:grpSpPr>
          <a:xfrm>
            <a:off x="171360" y="1042920"/>
            <a:ext cx="1157400" cy="1150920"/>
            <a:chOff x="171360" y="1042920"/>
            <a:chExt cx="1157400" cy="1150920"/>
          </a:xfrm>
        </p:grpSpPr>
        <p:pic>
          <p:nvPicPr>
            <p:cNvPr id="3207" name="دائرة مجوفة 10" descr=""/>
            <p:cNvPicPr/>
            <p:nvPr/>
          </p:nvPicPr>
          <p:blipFill>
            <a:blip r:embed="rId3"/>
            <a:stretch/>
          </p:blipFill>
          <p:spPr>
            <a:xfrm>
              <a:off x="171360" y="1042920"/>
              <a:ext cx="1157400" cy="1150920"/>
            </a:xfrm>
            <a:prstGeom prst="rect">
              <a:avLst/>
            </a:prstGeom>
            <a:ln w="0">
              <a:noFill/>
            </a:ln>
          </p:spPr>
        </p:pic>
        <p:sp>
          <p:nvSpPr>
            <p:cNvPr id="3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3"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1EF1-A56E-44F1-B2A8-AB26746A231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4" name="دائرة مجوفة 10"/>
          <p:cNvGrpSpPr/>
          <p:nvPr/>
        </p:nvGrpSpPr>
        <p:grpSpPr>
          <a:xfrm>
            <a:off x="171360" y="1042920"/>
            <a:ext cx="1157400" cy="1150920"/>
            <a:chOff x="171360" y="1042920"/>
            <a:chExt cx="1157400" cy="1150920"/>
          </a:xfrm>
        </p:grpSpPr>
        <p:pic>
          <p:nvPicPr>
            <p:cNvPr id="3255" name="دائرة مجوفة 10" descr=""/>
            <p:cNvPicPr/>
            <p:nvPr/>
          </p:nvPicPr>
          <p:blipFill>
            <a:blip r:embed="rId3"/>
            <a:stretch/>
          </p:blipFill>
          <p:spPr>
            <a:xfrm>
              <a:off x="171360" y="1042920"/>
              <a:ext cx="1157400" cy="1150920"/>
            </a:xfrm>
            <a:prstGeom prst="rect">
              <a:avLst/>
            </a:prstGeom>
            <a:ln w="0">
              <a:noFill/>
            </a:ln>
          </p:spPr>
        </p:pic>
        <p:sp>
          <p:nvSpPr>
            <p:cNvPr id="325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شكل بيضاوي 12"/>
          <p:cNvGrpSpPr/>
          <p:nvPr/>
        </p:nvGrpSpPr>
        <p:grpSpPr>
          <a:xfrm>
            <a:off x="920880" y="1414440"/>
            <a:ext cx="218880" cy="212760"/>
            <a:chOff x="920880" y="1414440"/>
            <a:chExt cx="218880" cy="212760"/>
          </a:xfrm>
        </p:grpSpPr>
        <p:pic>
          <p:nvPicPr>
            <p:cNvPr id="3260" name="شكل بيضاوي 12" descr=""/>
            <p:cNvPicPr/>
            <p:nvPr/>
          </p:nvPicPr>
          <p:blipFill>
            <a:blip r:embed="rId4"/>
            <a:stretch/>
          </p:blipFill>
          <p:spPr>
            <a:xfrm>
              <a:off x="920880" y="1414440"/>
              <a:ext cx="218880" cy="212760"/>
            </a:xfrm>
            <a:prstGeom prst="rect">
              <a:avLst/>
            </a:prstGeom>
            <a:ln w="0">
              <a:noFill/>
            </a:ln>
          </p:spPr>
        </p:pic>
        <p:sp>
          <p:nvSpPr>
            <p:cNvPr id="32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5"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D29C-C070-4A01-A68F-BF877CB713A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6" name="دائرة مجوفة 10"/>
          <p:cNvGrpSpPr/>
          <p:nvPr/>
        </p:nvGrpSpPr>
        <p:grpSpPr>
          <a:xfrm>
            <a:off x="171360" y="1042920"/>
            <a:ext cx="1157400" cy="1150920"/>
            <a:chOff x="171360" y="1042920"/>
            <a:chExt cx="1157400" cy="1150920"/>
          </a:xfrm>
        </p:grpSpPr>
        <p:pic>
          <p:nvPicPr>
            <p:cNvPr id="3307" name="دائرة مجوفة 10" descr=""/>
            <p:cNvPicPr/>
            <p:nvPr/>
          </p:nvPicPr>
          <p:blipFill>
            <a:blip r:embed="rId3"/>
            <a:stretch/>
          </p:blipFill>
          <p:spPr>
            <a:xfrm>
              <a:off x="171360" y="1042920"/>
              <a:ext cx="1157400" cy="1150920"/>
            </a:xfrm>
            <a:prstGeom prst="rect">
              <a:avLst/>
            </a:prstGeom>
            <a:ln w="0">
              <a:noFill/>
            </a:ln>
          </p:spPr>
        </p:pic>
        <p:sp>
          <p:nvSpPr>
            <p:cNvPr id="33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3"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8411-E72A-4788-93BB-78C06EA40CF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4" name="شكل بيضاوي 15"/>
          <p:cNvGrpSpPr/>
          <p:nvPr/>
        </p:nvGrpSpPr>
        <p:grpSpPr>
          <a:xfrm>
            <a:off x="2170080" y="2816280"/>
            <a:ext cx="219240" cy="212760"/>
            <a:chOff x="2170080" y="2816280"/>
            <a:chExt cx="219240" cy="212760"/>
          </a:xfrm>
        </p:grpSpPr>
        <p:pic>
          <p:nvPicPr>
            <p:cNvPr id="3355" name="شكل بيضاوي 15" descr=""/>
            <p:cNvPicPr/>
            <p:nvPr/>
          </p:nvPicPr>
          <p:blipFill>
            <a:blip r:embed="rId3"/>
            <a:stretch/>
          </p:blipFill>
          <p:spPr>
            <a:xfrm>
              <a:off x="2170080" y="2816280"/>
              <a:ext cx="219240" cy="212760"/>
            </a:xfrm>
            <a:prstGeom prst="rect">
              <a:avLst/>
            </a:prstGeom>
            <a:ln w="0">
              <a:noFill/>
            </a:ln>
          </p:spPr>
        </p:pic>
        <p:sp>
          <p:nvSpPr>
            <p:cNvPr id="33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F8FE-A92A-4B5E-80A7-BA35536AA82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1" name="دائرة مجوفة 10"/>
          <p:cNvGrpSpPr/>
          <p:nvPr/>
        </p:nvGrpSpPr>
        <p:grpSpPr>
          <a:xfrm>
            <a:off x="171360" y="1042920"/>
            <a:ext cx="1157400" cy="1150920"/>
            <a:chOff x="171360" y="1042920"/>
            <a:chExt cx="1157400" cy="1150920"/>
          </a:xfrm>
        </p:grpSpPr>
        <p:pic>
          <p:nvPicPr>
            <p:cNvPr id="3402" name="دائرة مجوفة 10" descr=""/>
            <p:cNvPicPr/>
            <p:nvPr/>
          </p:nvPicPr>
          <p:blipFill>
            <a:blip r:embed="rId3"/>
            <a:stretch/>
          </p:blipFill>
          <p:spPr>
            <a:xfrm>
              <a:off x="171360" y="1042920"/>
              <a:ext cx="1157400" cy="1150920"/>
            </a:xfrm>
            <a:prstGeom prst="rect">
              <a:avLst/>
            </a:prstGeom>
            <a:ln w="0">
              <a:noFill/>
            </a:ln>
          </p:spPr>
        </p:pic>
        <p:sp>
          <p:nvSpPr>
            <p:cNvPr id="340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8"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67EC-255C-4A16-BCE2-071CB02693A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9"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2E28-0BD2-4A2A-BD90-AE61271C066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0" name="دائرة مجوفة 10"/>
          <p:cNvGrpSpPr/>
          <p:nvPr/>
        </p:nvGrpSpPr>
        <p:grpSpPr>
          <a:xfrm>
            <a:off x="171360" y="1042920"/>
            <a:ext cx="1157400" cy="1150920"/>
            <a:chOff x="171360" y="1042920"/>
            <a:chExt cx="1157400" cy="1150920"/>
          </a:xfrm>
        </p:grpSpPr>
        <p:pic>
          <p:nvPicPr>
            <p:cNvPr id="3491" name="دائرة مجوفة 10" descr=""/>
            <p:cNvPicPr/>
            <p:nvPr/>
          </p:nvPicPr>
          <p:blipFill>
            <a:blip r:embed="rId3"/>
            <a:stretch/>
          </p:blipFill>
          <p:spPr>
            <a:xfrm>
              <a:off x="171360" y="1042920"/>
              <a:ext cx="1157400" cy="1150920"/>
            </a:xfrm>
            <a:prstGeom prst="rect">
              <a:avLst/>
            </a:prstGeom>
            <a:ln w="0">
              <a:noFill/>
            </a:ln>
          </p:spPr>
        </p:pic>
        <p:sp>
          <p:nvSpPr>
            <p:cNvPr id="34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97"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2831-3C19-4FE4-ABD1-F9CF15B42D3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4"/>
    <p:sldLayoutId id="2147484625" r:id="rId5"/>
    <p:sldLayoutId id="2147484626" r:id="rId6"/>
    <p:sldLayoutId id="2147484627" r:id="rId7"/>
    <p:sldLayoutId id="2147484628" r:id="rId8"/>
    <p:sldLayoutId id="2147484629" r:id="rId9"/>
    <p:sldLayoutId id="2147484630" r:id="rId10"/>
    <p:sldLayoutId id="2147484631" r:id="rId11"/>
    <p:sldLayoutId id="2147484632" r:id="rId12"/>
    <p:sldLayoutId id="2147484633" r:id="rId13"/>
    <p:sldLayoutId id="2147484634" r:id="rId14"/>
    <p:sldLayoutId id="2147484635" r:id="rId15"/>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40" name="PlaceHolder 3"/>
          <p:cNvSpPr>
            <a:spLocks noGrp="1"/>
          </p:cNvSpPr>
          <p:nvPr>
            <p:ph type="dt" idx="22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PlaceHolder 4"/>
          <p:cNvSpPr>
            <a:spLocks noGrp="1"/>
          </p:cNvSpPr>
          <p:nvPr>
            <p:ph type="ftr" idx="23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PlaceHolder 5"/>
          <p:cNvSpPr>
            <a:spLocks noGrp="1"/>
          </p:cNvSpPr>
          <p:nvPr>
            <p:ph type="sldNum" idx="23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EC4E-DDC0-4319-8BAE-29AB02C6664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81" name="PlaceHolder 3"/>
          <p:cNvSpPr>
            <a:spLocks noGrp="1"/>
          </p:cNvSpPr>
          <p:nvPr>
            <p:ph type="dt" idx="23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PlaceHolder 4"/>
          <p:cNvSpPr>
            <a:spLocks noGrp="1"/>
          </p:cNvSpPr>
          <p:nvPr>
            <p:ph type="ftr" idx="23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PlaceHolder 5"/>
          <p:cNvSpPr>
            <a:spLocks noGrp="1"/>
          </p:cNvSpPr>
          <p:nvPr>
            <p:ph type="sldNum" idx="23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3329-368E-4A20-AE1E-BD88F28351D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20" name="مستطيل 12"/>
          <p:cNvGrpSpPr/>
          <p:nvPr/>
        </p:nvGrpSpPr>
        <p:grpSpPr>
          <a:xfrm>
            <a:off x="652320" y="974880"/>
            <a:ext cx="4797720" cy="4797360"/>
            <a:chOff x="652320" y="974880"/>
            <a:chExt cx="4797720" cy="4797360"/>
          </a:xfrm>
        </p:grpSpPr>
        <p:pic>
          <p:nvPicPr>
            <p:cNvPr id="3621" name="مستطيل 12" descr=""/>
            <p:cNvPicPr/>
            <p:nvPr/>
          </p:nvPicPr>
          <p:blipFill>
            <a:blip r:embed="rId3"/>
            <a:stretch/>
          </p:blipFill>
          <p:spPr>
            <a:xfrm>
              <a:off x="652320" y="974880"/>
              <a:ext cx="4797720" cy="4797360"/>
            </a:xfrm>
            <a:prstGeom prst="rect">
              <a:avLst/>
            </a:prstGeom>
            <a:ln w="0">
              <a:noFill/>
            </a:ln>
          </p:spPr>
        </p:pic>
        <p:sp>
          <p:nvSpPr>
            <p:cNvPr id="36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7" name="PlaceHolder 3"/>
          <p:cNvSpPr>
            <a:spLocks noGrp="1"/>
          </p:cNvSpPr>
          <p:nvPr>
            <p:ph type="dt" idx="23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PlaceHolder 4"/>
          <p:cNvSpPr>
            <a:spLocks noGrp="1"/>
          </p:cNvSpPr>
          <p:nvPr>
            <p:ph type="ftr" idx="23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PlaceHolder 5"/>
          <p:cNvSpPr>
            <a:spLocks noGrp="1"/>
          </p:cNvSpPr>
          <p:nvPr>
            <p:ph type="sldNum" idx="23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BB21-9764-478A-AADE-0810AA9FCBD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4"/>
    <p:sldLayoutId id="2147484664" r:id="rId5"/>
    <p:sldLayoutId id="2147484665" r:id="rId6"/>
    <p:sldLayoutId id="2147484666" r:id="rId7"/>
    <p:sldLayoutId id="2147484667" r:id="rId8"/>
    <p:sldLayoutId id="2147484668" r:id="rId9"/>
    <p:sldLayoutId id="2147484669" r:id="rId10"/>
    <p:sldLayoutId id="2147484670" r:id="rId11"/>
    <p:sldLayoutId id="2147484671" r:id="rId12"/>
    <p:sldLayoutId id="2147484672" r:id="rId13"/>
    <p:sldLayoutId id="2147484673" r:id="rId14"/>
    <p:sldLayoutId id="2147484674"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دائرة مجوفة 10"/>
          <p:cNvGrpSpPr/>
          <p:nvPr/>
        </p:nvGrpSpPr>
        <p:grpSpPr>
          <a:xfrm>
            <a:off x="171360" y="1042920"/>
            <a:ext cx="1157400" cy="1150920"/>
            <a:chOff x="171360" y="1042920"/>
            <a:chExt cx="1157400" cy="1150920"/>
          </a:xfrm>
        </p:grpSpPr>
        <p:pic>
          <p:nvPicPr>
            <p:cNvPr id="339" name="دائرة مجوفة 10" descr=""/>
            <p:cNvPicPr/>
            <p:nvPr/>
          </p:nvPicPr>
          <p:blipFill>
            <a:blip r:embed="rId3"/>
            <a:stretch/>
          </p:blipFill>
          <p:spPr>
            <a:xfrm>
              <a:off x="171360" y="1042920"/>
              <a:ext cx="1157400" cy="1150920"/>
            </a:xfrm>
            <a:prstGeom prst="rect">
              <a:avLst/>
            </a:prstGeom>
            <a:ln w="0">
              <a:noFill/>
            </a:ln>
          </p:spPr>
        </p:pic>
        <p:sp>
          <p:nvSpPr>
            <p:cNvPr id="3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5E5A-AB58-4B1A-B0BE-263CC8BA1AE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4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8" name="دائرة مجوفة 10"/>
          <p:cNvGrpSpPr/>
          <p:nvPr/>
        </p:nvGrpSpPr>
        <p:grpSpPr>
          <a:xfrm>
            <a:off x="171360" y="1042920"/>
            <a:ext cx="1157400" cy="1150920"/>
            <a:chOff x="171360" y="1042920"/>
            <a:chExt cx="1157400" cy="1150920"/>
          </a:xfrm>
        </p:grpSpPr>
        <p:pic>
          <p:nvPicPr>
            <p:cNvPr id="3669" name="دائرة مجوفة 10" descr=""/>
            <p:cNvPicPr/>
            <p:nvPr/>
          </p:nvPicPr>
          <p:blipFill>
            <a:blip r:embed="rId3"/>
            <a:stretch/>
          </p:blipFill>
          <p:spPr>
            <a:xfrm>
              <a:off x="171360" y="1042920"/>
              <a:ext cx="1157400" cy="1150920"/>
            </a:xfrm>
            <a:prstGeom prst="rect">
              <a:avLst/>
            </a:prstGeom>
            <a:ln w="0">
              <a:noFill/>
            </a:ln>
          </p:spPr>
        </p:pic>
        <p:sp>
          <p:nvSpPr>
            <p:cNvPr id="3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5" name="PlaceHolder 3"/>
          <p:cNvSpPr>
            <a:spLocks noGrp="1"/>
          </p:cNvSpPr>
          <p:nvPr>
            <p:ph type="dt" idx="23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PlaceHolder 4"/>
          <p:cNvSpPr>
            <a:spLocks noGrp="1"/>
          </p:cNvSpPr>
          <p:nvPr>
            <p:ph type="ftr" idx="23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PlaceHolder 5"/>
          <p:cNvSpPr>
            <a:spLocks noGrp="1"/>
          </p:cNvSpPr>
          <p:nvPr>
            <p:ph type="sldNum" idx="24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546-BC97-48B1-BA69-929F5410178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4"/>
    <p:sldLayoutId id="2147484677" r:id="rId5"/>
    <p:sldLayoutId id="2147484678" r:id="rId6"/>
    <p:sldLayoutId id="2147484679" r:id="rId7"/>
    <p:sldLayoutId id="2147484680" r:id="rId8"/>
    <p:sldLayoutId id="2147484681" r:id="rId9"/>
    <p:sldLayoutId id="2147484682" r:id="rId10"/>
    <p:sldLayoutId id="2147484683" r:id="rId11"/>
    <p:sldLayoutId id="2147484684" r:id="rId12"/>
    <p:sldLayoutId id="2147484685" r:id="rId13"/>
    <p:sldLayoutId id="2147484686" r:id="rId14"/>
    <p:sldLayoutId id="2147484687" r:id="rId15"/>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6" name="دائرة مجوفة 10"/>
          <p:cNvGrpSpPr/>
          <p:nvPr/>
        </p:nvGrpSpPr>
        <p:grpSpPr>
          <a:xfrm>
            <a:off x="171360" y="1042920"/>
            <a:ext cx="1157400" cy="1150920"/>
            <a:chOff x="171360" y="1042920"/>
            <a:chExt cx="1157400" cy="1150920"/>
          </a:xfrm>
        </p:grpSpPr>
        <p:pic>
          <p:nvPicPr>
            <p:cNvPr id="3717" name="دائرة مجوفة 10" descr=""/>
            <p:cNvPicPr/>
            <p:nvPr/>
          </p:nvPicPr>
          <p:blipFill>
            <a:blip r:embed="rId3"/>
            <a:stretch/>
          </p:blipFill>
          <p:spPr>
            <a:xfrm>
              <a:off x="171360" y="1042920"/>
              <a:ext cx="1157400" cy="1150920"/>
            </a:xfrm>
            <a:prstGeom prst="rect">
              <a:avLst/>
            </a:prstGeom>
            <a:ln w="0">
              <a:noFill/>
            </a:ln>
          </p:spPr>
        </p:pic>
        <p:sp>
          <p:nvSpPr>
            <p:cNvPr id="37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3" name="PlaceHolder 3"/>
          <p:cNvSpPr>
            <a:spLocks noGrp="1"/>
          </p:cNvSpPr>
          <p:nvPr>
            <p:ph type="dt" idx="24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PlaceHolder 4"/>
          <p:cNvSpPr>
            <a:spLocks noGrp="1"/>
          </p:cNvSpPr>
          <p:nvPr>
            <p:ph type="ftr" idx="24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PlaceHolder 5"/>
          <p:cNvSpPr>
            <a:spLocks noGrp="1"/>
          </p:cNvSpPr>
          <p:nvPr>
            <p:ph type="sldNum" idx="24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DA09-0E30-42FB-8315-08D6E23D305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4" name="دائرة مجوفة 10"/>
          <p:cNvGrpSpPr/>
          <p:nvPr/>
        </p:nvGrpSpPr>
        <p:grpSpPr>
          <a:xfrm>
            <a:off x="171360" y="1042920"/>
            <a:ext cx="1157400" cy="1150920"/>
            <a:chOff x="171360" y="1042920"/>
            <a:chExt cx="1157400" cy="1150920"/>
          </a:xfrm>
        </p:grpSpPr>
        <p:pic>
          <p:nvPicPr>
            <p:cNvPr id="3765" name="دائرة مجوفة 10" descr=""/>
            <p:cNvPicPr/>
            <p:nvPr/>
          </p:nvPicPr>
          <p:blipFill>
            <a:blip r:embed="rId3"/>
            <a:stretch/>
          </p:blipFill>
          <p:spPr>
            <a:xfrm>
              <a:off x="171360" y="1042920"/>
              <a:ext cx="1157400" cy="1150920"/>
            </a:xfrm>
            <a:prstGeom prst="rect">
              <a:avLst/>
            </a:prstGeom>
            <a:ln w="0">
              <a:noFill/>
            </a:ln>
          </p:spPr>
        </p:pic>
        <p:sp>
          <p:nvSpPr>
            <p:cNvPr id="37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9" name="شكل بيضاوي 12"/>
          <p:cNvGrpSpPr/>
          <p:nvPr/>
        </p:nvGrpSpPr>
        <p:grpSpPr>
          <a:xfrm>
            <a:off x="920880" y="1414440"/>
            <a:ext cx="218880" cy="212760"/>
            <a:chOff x="920880" y="1414440"/>
            <a:chExt cx="218880" cy="212760"/>
          </a:xfrm>
        </p:grpSpPr>
        <p:pic>
          <p:nvPicPr>
            <p:cNvPr id="3770" name="شكل بيضاوي 12" descr=""/>
            <p:cNvPicPr/>
            <p:nvPr/>
          </p:nvPicPr>
          <p:blipFill>
            <a:blip r:embed="rId4"/>
            <a:stretch/>
          </p:blipFill>
          <p:spPr>
            <a:xfrm>
              <a:off x="920880" y="1414440"/>
              <a:ext cx="218880" cy="212760"/>
            </a:xfrm>
            <a:prstGeom prst="rect">
              <a:avLst/>
            </a:prstGeom>
            <a:ln w="0">
              <a:noFill/>
            </a:ln>
          </p:spPr>
        </p:pic>
        <p:sp>
          <p:nvSpPr>
            <p:cNvPr id="377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5" name="PlaceHolder 3"/>
          <p:cNvSpPr>
            <a:spLocks noGrp="1"/>
          </p:cNvSpPr>
          <p:nvPr>
            <p:ph type="dt" idx="24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6" name="PlaceHolder 4"/>
          <p:cNvSpPr>
            <a:spLocks noGrp="1"/>
          </p:cNvSpPr>
          <p:nvPr>
            <p:ph type="ftr" idx="24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PlaceHolder 5"/>
          <p:cNvSpPr>
            <a:spLocks noGrp="1"/>
          </p:cNvSpPr>
          <p:nvPr>
            <p:ph type="sldNum" idx="24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149E-D3BE-47EA-BBE2-4C7016413DA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5"/>
    <p:sldLayoutId id="2147484703" r:id="rId6"/>
    <p:sldLayoutId id="2147484704" r:id="rId7"/>
    <p:sldLayoutId id="2147484705" r:id="rId8"/>
    <p:sldLayoutId id="2147484706" r:id="rId9"/>
    <p:sldLayoutId id="2147484707" r:id="rId10"/>
    <p:sldLayoutId id="2147484708" r:id="rId11"/>
    <p:sldLayoutId id="2147484709" r:id="rId12"/>
    <p:sldLayoutId id="2147484710" r:id="rId13"/>
    <p:sldLayoutId id="2147484711" r:id="rId14"/>
    <p:sldLayoutId id="2147484712" r:id="rId15"/>
    <p:sldLayoutId id="2147484713" r:id="rId16"/>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6" name="دائرة مجوفة 10"/>
          <p:cNvGrpSpPr/>
          <p:nvPr/>
        </p:nvGrpSpPr>
        <p:grpSpPr>
          <a:xfrm>
            <a:off x="171360" y="1042920"/>
            <a:ext cx="1157400" cy="1150920"/>
            <a:chOff x="171360" y="1042920"/>
            <a:chExt cx="1157400" cy="1150920"/>
          </a:xfrm>
        </p:grpSpPr>
        <p:pic>
          <p:nvPicPr>
            <p:cNvPr id="3817" name="دائرة مجوفة 10" descr=""/>
            <p:cNvPicPr/>
            <p:nvPr/>
          </p:nvPicPr>
          <p:blipFill>
            <a:blip r:embed="rId3"/>
            <a:stretch/>
          </p:blipFill>
          <p:spPr>
            <a:xfrm>
              <a:off x="171360" y="1042920"/>
              <a:ext cx="1157400" cy="1150920"/>
            </a:xfrm>
            <a:prstGeom prst="rect">
              <a:avLst/>
            </a:prstGeom>
            <a:ln w="0">
              <a:noFill/>
            </a:ln>
          </p:spPr>
        </p:pic>
        <p:sp>
          <p:nvSpPr>
            <p:cNvPr id="38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23" name="PlaceHolder 3"/>
          <p:cNvSpPr>
            <a:spLocks noGrp="1"/>
          </p:cNvSpPr>
          <p:nvPr>
            <p:ph type="dt" idx="24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PlaceHolder 4"/>
          <p:cNvSpPr>
            <a:spLocks noGrp="1"/>
          </p:cNvSpPr>
          <p:nvPr>
            <p:ph type="ftr" idx="24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PlaceHolder 5"/>
          <p:cNvSpPr>
            <a:spLocks noGrp="1"/>
          </p:cNvSpPr>
          <p:nvPr>
            <p:ph type="sldNum" idx="24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287D-D688-4B57-A0E6-A65FDAB4EAE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4"/>
    <p:sldLayoutId id="2147484716" r:id="rId5"/>
    <p:sldLayoutId id="2147484717" r:id="rId6"/>
    <p:sldLayoutId id="2147484718" r:id="rId7"/>
    <p:sldLayoutId id="2147484719" r:id="rId8"/>
    <p:sldLayoutId id="2147484720" r:id="rId9"/>
    <p:sldLayoutId id="2147484721" r:id="rId10"/>
    <p:sldLayoutId id="2147484722" r:id="rId11"/>
    <p:sldLayoutId id="2147484723" r:id="rId12"/>
    <p:sldLayoutId id="2147484724" r:id="rId13"/>
    <p:sldLayoutId id="2147484725" r:id="rId14"/>
    <p:sldLayoutId id="2147484726" r:id="rId15"/>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4" name="شكل بيضاوي 15"/>
          <p:cNvGrpSpPr/>
          <p:nvPr/>
        </p:nvGrpSpPr>
        <p:grpSpPr>
          <a:xfrm>
            <a:off x="2170080" y="2816280"/>
            <a:ext cx="219240" cy="212760"/>
            <a:chOff x="2170080" y="2816280"/>
            <a:chExt cx="219240" cy="212760"/>
          </a:xfrm>
        </p:grpSpPr>
        <p:pic>
          <p:nvPicPr>
            <p:cNvPr id="3865" name="شكل بيضاوي 15" descr=""/>
            <p:cNvPicPr/>
            <p:nvPr/>
          </p:nvPicPr>
          <p:blipFill>
            <a:blip r:embed="rId3"/>
            <a:stretch/>
          </p:blipFill>
          <p:spPr>
            <a:xfrm>
              <a:off x="2170080" y="2816280"/>
              <a:ext cx="219240" cy="212760"/>
            </a:xfrm>
            <a:prstGeom prst="rect">
              <a:avLst/>
            </a:prstGeom>
            <a:ln w="0">
              <a:noFill/>
            </a:ln>
          </p:spPr>
        </p:pic>
        <p:sp>
          <p:nvSpPr>
            <p:cNvPr id="386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70" name="PlaceHolder 3"/>
          <p:cNvSpPr>
            <a:spLocks noGrp="1"/>
          </p:cNvSpPr>
          <p:nvPr>
            <p:ph type="dt" idx="25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PlaceHolder 4"/>
          <p:cNvSpPr>
            <a:spLocks noGrp="1"/>
          </p:cNvSpPr>
          <p:nvPr>
            <p:ph type="ftr" idx="25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PlaceHolder 5"/>
          <p:cNvSpPr>
            <a:spLocks noGrp="1"/>
          </p:cNvSpPr>
          <p:nvPr>
            <p:ph type="sldNum" idx="25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BEBB-F9B7-467B-90A8-B7368A97D63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4"/>
    <p:sldLayoutId id="2147484729" r:id="rId5"/>
    <p:sldLayoutId id="2147484730" r:id="rId6"/>
    <p:sldLayoutId id="2147484731" r:id="rId7"/>
    <p:sldLayoutId id="2147484732" r:id="rId8"/>
    <p:sldLayoutId id="2147484733" r:id="rId9"/>
    <p:sldLayoutId id="2147484734" r:id="rId10"/>
    <p:sldLayoutId id="2147484735" r:id="rId11"/>
    <p:sldLayoutId id="2147484736" r:id="rId12"/>
    <p:sldLayoutId id="2147484737" r:id="rId13"/>
    <p:sldLayoutId id="2147484738" r:id="rId14"/>
    <p:sldLayoutId id="2147484739" r:id="rId15"/>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1" name="دائرة مجوفة 10"/>
          <p:cNvGrpSpPr/>
          <p:nvPr/>
        </p:nvGrpSpPr>
        <p:grpSpPr>
          <a:xfrm>
            <a:off x="171360" y="1042920"/>
            <a:ext cx="1157400" cy="1150920"/>
            <a:chOff x="171360" y="1042920"/>
            <a:chExt cx="1157400" cy="1150920"/>
          </a:xfrm>
        </p:grpSpPr>
        <p:pic>
          <p:nvPicPr>
            <p:cNvPr id="3912" name="دائرة مجوفة 10" descr=""/>
            <p:cNvPicPr/>
            <p:nvPr/>
          </p:nvPicPr>
          <p:blipFill>
            <a:blip r:embed="rId3"/>
            <a:stretch/>
          </p:blipFill>
          <p:spPr>
            <a:xfrm>
              <a:off x="171360" y="1042920"/>
              <a:ext cx="1157400" cy="1150920"/>
            </a:xfrm>
            <a:prstGeom prst="rect">
              <a:avLst/>
            </a:prstGeom>
            <a:ln w="0">
              <a:noFill/>
            </a:ln>
          </p:spPr>
        </p:pic>
        <p:sp>
          <p:nvSpPr>
            <p:cNvPr id="391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18" name="PlaceHolder 3"/>
          <p:cNvSpPr>
            <a:spLocks noGrp="1"/>
          </p:cNvSpPr>
          <p:nvPr>
            <p:ph type="dt" idx="25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PlaceHolder 4"/>
          <p:cNvSpPr>
            <a:spLocks noGrp="1"/>
          </p:cNvSpPr>
          <p:nvPr>
            <p:ph type="ftr" idx="25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PlaceHolder 5"/>
          <p:cNvSpPr>
            <a:spLocks noGrp="1"/>
          </p:cNvSpPr>
          <p:nvPr>
            <p:ph type="sldNum" idx="25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F9AE-9685-40F9-A360-8EBCD52DA87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4"/>
    <p:sldLayoutId id="2147484742" r:id="rId5"/>
    <p:sldLayoutId id="2147484743" r:id="rId6"/>
    <p:sldLayoutId id="2147484744" r:id="rId7"/>
    <p:sldLayoutId id="2147484745" r:id="rId8"/>
    <p:sldLayoutId id="2147484746" r:id="rId9"/>
    <p:sldLayoutId id="2147484747" r:id="rId10"/>
    <p:sldLayoutId id="2147484748" r:id="rId11"/>
    <p:sldLayoutId id="2147484749" r:id="rId12"/>
    <p:sldLayoutId id="2147484750" r:id="rId13"/>
    <p:sldLayoutId id="2147484751" r:id="rId14"/>
    <p:sldLayoutId id="2147484752" r:id="rId15"/>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5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59" name="PlaceHolder 3"/>
          <p:cNvSpPr>
            <a:spLocks noGrp="1"/>
          </p:cNvSpPr>
          <p:nvPr>
            <p:ph type="dt" idx="25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PlaceHolder 4"/>
          <p:cNvSpPr>
            <a:spLocks noGrp="1"/>
          </p:cNvSpPr>
          <p:nvPr>
            <p:ph type="ftr" idx="25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PlaceHolder 5"/>
          <p:cNvSpPr>
            <a:spLocks noGrp="1"/>
          </p:cNvSpPr>
          <p:nvPr>
            <p:ph type="sldNum" idx="25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B0EA-321D-4B63-AA43-42B6DFAE5E8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0" name="دائرة مجوفة 10"/>
          <p:cNvGrpSpPr/>
          <p:nvPr/>
        </p:nvGrpSpPr>
        <p:grpSpPr>
          <a:xfrm>
            <a:off x="171360" y="1042920"/>
            <a:ext cx="1157400" cy="1150920"/>
            <a:chOff x="171360" y="1042920"/>
            <a:chExt cx="1157400" cy="1150920"/>
          </a:xfrm>
        </p:grpSpPr>
        <p:pic>
          <p:nvPicPr>
            <p:cNvPr id="4001" name="دائرة مجوفة 10" descr=""/>
            <p:cNvPicPr/>
            <p:nvPr/>
          </p:nvPicPr>
          <p:blipFill>
            <a:blip r:embed="rId3"/>
            <a:stretch/>
          </p:blipFill>
          <p:spPr>
            <a:xfrm>
              <a:off x="171360" y="1042920"/>
              <a:ext cx="1157400" cy="1150920"/>
            </a:xfrm>
            <a:prstGeom prst="rect">
              <a:avLst/>
            </a:prstGeom>
            <a:ln w="0">
              <a:noFill/>
            </a:ln>
          </p:spPr>
        </p:pic>
        <p:sp>
          <p:nvSpPr>
            <p:cNvPr id="400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07" name="PlaceHolder 3"/>
          <p:cNvSpPr>
            <a:spLocks noGrp="1"/>
          </p:cNvSpPr>
          <p:nvPr>
            <p:ph type="dt" idx="25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PlaceHolder 4"/>
          <p:cNvSpPr>
            <a:spLocks noGrp="1"/>
          </p:cNvSpPr>
          <p:nvPr>
            <p:ph type="ftr" idx="26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PlaceHolder 5"/>
          <p:cNvSpPr>
            <a:spLocks noGrp="1"/>
          </p:cNvSpPr>
          <p:nvPr>
            <p:ph type="sldNum" idx="26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4A87-97F9-4CE4-9EAE-C499E02BC89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4"/>
    <p:sldLayoutId id="2147484768" r:id="rId5"/>
    <p:sldLayoutId id="2147484769" r:id="rId6"/>
    <p:sldLayoutId id="2147484770" r:id="rId7"/>
    <p:sldLayoutId id="2147484771" r:id="rId8"/>
    <p:sldLayoutId id="2147484772" r:id="rId9"/>
    <p:sldLayoutId id="2147484773" r:id="rId10"/>
    <p:sldLayoutId id="2147484774" r:id="rId11"/>
    <p:sldLayoutId id="2147484775" r:id="rId12"/>
    <p:sldLayoutId id="2147484776" r:id="rId13"/>
    <p:sldLayoutId id="2147484777" r:id="rId14"/>
    <p:sldLayoutId id="2147484778" r:id="rId15"/>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50" name="PlaceHolder 3"/>
          <p:cNvSpPr>
            <a:spLocks noGrp="1"/>
          </p:cNvSpPr>
          <p:nvPr>
            <p:ph type="dt" idx="26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PlaceHolder 4"/>
          <p:cNvSpPr>
            <a:spLocks noGrp="1"/>
          </p:cNvSpPr>
          <p:nvPr>
            <p:ph type="ftr" idx="26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PlaceHolder 5"/>
          <p:cNvSpPr>
            <a:spLocks noGrp="1"/>
          </p:cNvSpPr>
          <p:nvPr>
            <p:ph type="sldNum" idx="26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1AF0-3EAB-4A6A-9E67-B823B662BF4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91" name="PlaceHolder 3"/>
          <p:cNvSpPr>
            <a:spLocks noGrp="1"/>
          </p:cNvSpPr>
          <p:nvPr>
            <p:ph type="dt" idx="26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PlaceHolder 4"/>
          <p:cNvSpPr>
            <a:spLocks noGrp="1"/>
          </p:cNvSpPr>
          <p:nvPr>
            <p:ph type="ftr" idx="26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3" name="PlaceHolder 5"/>
          <p:cNvSpPr>
            <a:spLocks noGrp="1"/>
          </p:cNvSpPr>
          <p:nvPr>
            <p:ph type="sldNum" idx="26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582C-1ABC-4BBD-A44C-2EDC986D92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دائرة مجوفة 10"/>
          <p:cNvGrpSpPr/>
          <p:nvPr/>
        </p:nvGrpSpPr>
        <p:grpSpPr>
          <a:xfrm>
            <a:off x="171360" y="1042920"/>
            <a:ext cx="1157400" cy="1150920"/>
            <a:chOff x="171360" y="1042920"/>
            <a:chExt cx="1157400" cy="1150920"/>
          </a:xfrm>
        </p:grpSpPr>
        <p:pic>
          <p:nvPicPr>
            <p:cNvPr id="387" name="دائرة مجوفة 10" descr=""/>
            <p:cNvPicPr/>
            <p:nvPr/>
          </p:nvPicPr>
          <p:blipFill>
            <a:blip r:embed="rId3"/>
            <a:stretch/>
          </p:blipFill>
          <p:spPr>
            <a:xfrm>
              <a:off x="171360" y="1042920"/>
              <a:ext cx="1157400" cy="1150920"/>
            </a:xfrm>
            <a:prstGeom prst="rect">
              <a:avLst/>
            </a:prstGeom>
            <a:ln w="0">
              <a:noFill/>
            </a:ln>
          </p:spPr>
        </p:pic>
        <p:sp>
          <p:nvSpPr>
            <p:cNvPr id="3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2"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68E9-A34D-4434-BA48-3AC313BFEAC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0" name="مستطيل 12"/>
          <p:cNvGrpSpPr/>
          <p:nvPr/>
        </p:nvGrpSpPr>
        <p:grpSpPr>
          <a:xfrm>
            <a:off x="652320" y="974880"/>
            <a:ext cx="4797720" cy="4797360"/>
            <a:chOff x="652320" y="974880"/>
            <a:chExt cx="4797720" cy="4797360"/>
          </a:xfrm>
        </p:grpSpPr>
        <p:pic>
          <p:nvPicPr>
            <p:cNvPr id="4131" name="مستطيل 12" descr=""/>
            <p:cNvPicPr/>
            <p:nvPr/>
          </p:nvPicPr>
          <p:blipFill>
            <a:blip r:embed="rId3"/>
            <a:stretch/>
          </p:blipFill>
          <p:spPr>
            <a:xfrm>
              <a:off x="652320" y="974880"/>
              <a:ext cx="4797720" cy="4797360"/>
            </a:xfrm>
            <a:prstGeom prst="rect">
              <a:avLst/>
            </a:prstGeom>
            <a:ln w="0">
              <a:noFill/>
            </a:ln>
          </p:spPr>
        </p:pic>
        <p:sp>
          <p:nvSpPr>
            <p:cNvPr id="413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7" name="PlaceHolder 3"/>
          <p:cNvSpPr>
            <a:spLocks noGrp="1"/>
          </p:cNvSpPr>
          <p:nvPr>
            <p:ph type="dt" idx="26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PlaceHolder 4"/>
          <p:cNvSpPr>
            <a:spLocks noGrp="1"/>
          </p:cNvSpPr>
          <p:nvPr>
            <p:ph type="ftr" idx="26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PlaceHolder 5"/>
          <p:cNvSpPr>
            <a:spLocks noGrp="1"/>
          </p:cNvSpPr>
          <p:nvPr>
            <p:ph type="sldNum" idx="27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09DE-1FB3-4C53-850B-E248BA21A6F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4"/>
    <p:sldLayoutId id="2147484807" r:id="rId5"/>
    <p:sldLayoutId id="2147484808" r:id="rId6"/>
    <p:sldLayoutId id="2147484809" r:id="rId7"/>
    <p:sldLayoutId id="2147484810" r:id="rId8"/>
    <p:sldLayoutId id="2147484811" r:id="rId9"/>
    <p:sldLayoutId id="2147484812" r:id="rId10"/>
    <p:sldLayoutId id="2147484813" r:id="rId11"/>
    <p:sldLayoutId id="2147484814" r:id="rId12"/>
    <p:sldLayoutId id="2147484815" r:id="rId13"/>
    <p:sldLayoutId id="2147484816" r:id="rId14"/>
    <p:sldLayoutId id="2147484817" r:id="rId15"/>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8" name="دائرة مجوفة 10"/>
          <p:cNvGrpSpPr/>
          <p:nvPr/>
        </p:nvGrpSpPr>
        <p:grpSpPr>
          <a:xfrm>
            <a:off x="171360" y="1042920"/>
            <a:ext cx="1157400" cy="1150920"/>
            <a:chOff x="171360" y="1042920"/>
            <a:chExt cx="1157400" cy="1150920"/>
          </a:xfrm>
        </p:grpSpPr>
        <p:pic>
          <p:nvPicPr>
            <p:cNvPr id="4179" name="دائرة مجوفة 10" descr=""/>
            <p:cNvPicPr/>
            <p:nvPr/>
          </p:nvPicPr>
          <p:blipFill>
            <a:blip r:embed="rId3"/>
            <a:stretch/>
          </p:blipFill>
          <p:spPr>
            <a:xfrm>
              <a:off x="171360" y="1042920"/>
              <a:ext cx="1157400" cy="1150920"/>
            </a:xfrm>
            <a:prstGeom prst="rect">
              <a:avLst/>
            </a:prstGeom>
            <a:ln w="0">
              <a:noFill/>
            </a:ln>
          </p:spPr>
        </p:pic>
        <p:sp>
          <p:nvSpPr>
            <p:cNvPr id="418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85" name="PlaceHolder 3"/>
          <p:cNvSpPr>
            <a:spLocks noGrp="1"/>
          </p:cNvSpPr>
          <p:nvPr>
            <p:ph type="dt" idx="27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PlaceHolder 4"/>
          <p:cNvSpPr>
            <a:spLocks noGrp="1"/>
          </p:cNvSpPr>
          <p:nvPr>
            <p:ph type="ftr" idx="27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PlaceHolder 5"/>
          <p:cNvSpPr>
            <a:spLocks noGrp="1"/>
          </p:cNvSpPr>
          <p:nvPr>
            <p:ph type="sldNum" idx="27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5843-CC92-45E8-9245-C0D53F69D64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4"/>
    <p:sldLayoutId id="2147484820" r:id="rId5"/>
    <p:sldLayoutId id="2147484821" r:id="rId6"/>
    <p:sldLayoutId id="2147484822" r:id="rId7"/>
    <p:sldLayoutId id="2147484823" r:id="rId8"/>
    <p:sldLayoutId id="2147484824" r:id="rId9"/>
    <p:sldLayoutId id="2147484825" r:id="rId10"/>
    <p:sldLayoutId id="2147484826" r:id="rId11"/>
    <p:sldLayoutId id="2147484827" r:id="rId12"/>
    <p:sldLayoutId id="2147484828" r:id="rId13"/>
    <p:sldLayoutId id="2147484829" r:id="rId14"/>
    <p:sldLayoutId id="2147484830" r:id="rId15"/>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6" name="دائرة مجوفة 10"/>
          <p:cNvGrpSpPr/>
          <p:nvPr/>
        </p:nvGrpSpPr>
        <p:grpSpPr>
          <a:xfrm>
            <a:off x="171360" y="1042920"/>
            <a:ext cx="1157400" cy="1150920"/>
            <a:chOff x="171360" y="1042920"/>
            <a:chExt cx="1157400" cy="1150920"/>
          </a:xfrm>
        </p:grpSpPr>
        <p:pic>
          <p:nvPicPr>
            <p:cNvPr id="4227" name="دائرة مجوفة 10" descr=""/>
            <p:cNvPicPr/>
            <p:nvPr/>
          </p:nvPicPr>
          <p:blipFill>
            <a:blip r:embed="rId3"/>
            <a:stretch/>
          </p:blipFill>
          <p:spPr>
            <a:xfrm>
              <a:off x="171360" y="1042920"/>
              <a:ext cx="1157400" cy="1150920"/>
            </a:xfrm>
            <a:prstGeom prst="rect">
              <a:avLst/>
            </a:prstGeom>
            <a:ln w="0">
              <a:noFill/>
            </a:ln>
          </p:spPr>
        </p:pic>
        <p:sp>
          <p:nvSpPr>
            <p:cNvPr id="42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3" name="PlaceHolder 3"/>
          <p:cNvSpPr>
            <a:spLocks noGrp="1"/>
          </p:cNvSpPr>
          <p:nvPr>
            <p:ph type="dt" idx="27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4" name="PlaceHolder 4"/>
          <p:cNvSpPr>
            <a:spLocks noGrp="1"/>
          </p:cNvSpPr>
          <p:nvPr>
            <p:ph type="ftr" idx="27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5" name="PlaceHolder 5"/>
          <p:cNvSpPr>
            <a:spLocks noGrp="1"/>
          </p:cNvSpPr>
          <p:nvPr>
            <p:ph type="sldNum" idx="27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5E2D-C7C4-4C24-AEF8-B083CD574A5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4"/>
    <p:sldLayoutId id="2147484833" r:id="rId5"/>
    <p:sldLayoutId id="2147484834" r:id="rId6"/>
    <p:sldLayoutId id="2147484835" r:id="rId7"/>
    <p:sldLayoutId id="2147484836" r:id="rId8"/>
    <p:sldLayoutId id="2147484837" r:id="rId9"/>
    <p:sldLayoutId id="2147484838" r:id="rId10"/>
    <p:sldLayoutId id="2147484839" r:id="rId11"/>
    <p:sldLayoutId id="2147484840" r:id="rId12"/>
    <p:sldLayoutId id="2147484841" r:id="rId13"/>
    <p:sldLayoutId id="2147484842" r:id="rId14"/>
    <p:sldLayoutId id="2147484843" r:id="rId15"/>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4" name="دائرة مجوفة 10"/>
          <p:cNvGrpSpPr/>
          <p:nvPr/>
        </p:nvGrpSpPr>
        <p:grpSpPr>
          <a:xfrm>
            <a:off x="171360" y="1042920"/>
            <a:ext cx="1157400" cy="1150920"/>
            <a:chOff x="171360" y="1042920"/>
            <a:chExt cx="1157400" cy="1150920"/>
          </a:xfrm>
        </p:grpSpPr>
        <p:pic>
          <p:nvPicPr>
            <p:cNvPr id="4275" name="دائرة مجوفة 10" descr=""/>
            <p:cNvPicPr/>
            <p:nvPr/>
          </p:nvPicPr>
          <p:blipFill>
            <a:blip r:embed="rId3"/>
            <a:stretch/>
          </p:blipFill>
          <p:spPr>
            <a:xfrm>
              <a:off x="171360" y="1042920"/>
              <a:ext cx="1157400" cy="1150920"/>
            </a:xfrm>
            <a:prstGeom prst="rect">
              <a:avLst/>
            </a:prstGeom>
            <a:ln w="0">
              <a:noFill/>
            </a:ln>
          </p:spPr>
        </p:pic>
        <p:sp>
          <p:nvSpPr>
            <p:cNvPr id="42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9" name="شكل بيضاوي 12"/>
          <p:cNvGrpSpPr/>
          <p:nvPr/>
        </p:nvGrpSpPr>
        <p:grpSpPr>
          <a:xfrm>
            <a:off x="920880" y="1414440"/>
            <a:ext cx="218880" cy="212760"/>
            <a:chOff x="920880" y="1414440"/>
            <a:chExt cx="218880" cy="212760"/>
          </a:xfrm>
        </p:grpSpPr>
        <p:pic>
          <p:nvPicPr>
            <p:cNvPr id="4280" name="شكل بيضاوي 12" descr=""/>
            <p:cNvPicPr/>
            <p:nvPr/>
          </p:nvPicPr>
          <p:blipFill>
            <a:blip r:embed="rId4"/>
            <a:stretch/>
          </p:blipFill>
          <p:spPr>
            <a:xfrm>
              <a:off x="920880" y="1414440"/>
              <a:ext cx="218880" cy="212760"/>
            </a:xfrm>
            <a:prstGeom prst="rect">
              <a:avLst/>
            </a:prstGeom>
            <a:ln w="0">
              <a:noFill/>
            </a:ln>
          </p:spPr>
        </p:pic>
        <p:sp>
          <p:nvSpPr>
            <p:cNvPr id="428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5" name="PlaceHolder 3"/>
          <p:cNvSpPr>
            <a:spLocks noGrp="1"/>
          </p:cNvSpPr>
          <p:nvPr>
            <p:ph type="dt" idx="27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PlaceHolder 4"/>
          <p:cNvSpPr>
            <a:spLocks noGrp="1"/>
          </p:cNvSpPr>
          <p:nvPr>
            <p:ph type="ftr" idx="27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PlaceHolder 5"/>
          <p:cNvSpPr>
            <a:spLocks noGrp="1"/>
          </p:cNvSpPr>
          <p:nvPr>
            <p:ph type="sldNum" idx="27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4765-F7E1-4FF6-8A5D-DE37FC91AE7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5"/>
    <p:sldLayoutId id="2147484846" r:id="rId6"/>
    <p:sldLayoutId id="2147484847" r:id="rId7"/>
    <p:sldLayoutId id="2147484848" r:id="rId8"/>
    <p:sldLayoutId id="2147484849" r:id="rId9"/>
    <p:sldLayoutId id="2147484850" r:id="rId10"/>
    <p:sldLayoutId id="2147484851" r:id="rId11"/>
    <p:sldLayoutId id="2147484852" r:id="rId12"/>
    <p:sldLayoutId id="2147484853" r:id="rId13"/>
    <p:sldLayoutId id="2147484854" r:id="rId14"/>
    <p:sldLayoutId id="2147484855" r:id="rId15"/>
    <p:sldLayoutId id="2147484856" r:id="rId16"/>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6" name="دائرة مجوفة 10"/>
          <p:cNvGrpSpPr/>
          <p:nvPr/>
        </p:nvGrpSpPr>
        <p:grpSpPr>
          <a:xfrm>
            <a:off x="171360" y="1042920"/>
            <a:ext cx="1157400" cy="1150920"/>
            <a:chOff x="171360" y="1042920"/>
            <a:chExt cx="1157400" cy="1150920"/>
          </a:xfrm>
        </p:grpSpPr>
        <p:pic>
          <p:nvPicPr>
            <p:cNvPr id="4327" name="دائرة مجوفة 10" descr=""/>
            <p:cNvPicPr/>
            <p:nvPr/>
          </p:nvPicPr>
          <p:blipFill>
            <a:blip r:embed="rId3"/>
            <a:stretch/>
          </p:blipFill>
          <p:spPr>
            <a:xfrm>
              <a:off x="171360" y="1042920"/>
              <a:ext cx="1157400" cy="1150920"/>
            </a:xfrm>
            <a:prstGeom prst="rect">
              <a:avLst/>
            </a:prstGeom>
            <a:ln w="0">
              <a:noFill/>
            </a:ln>
          </p:spPr>
        </p:pic>
        <p:sp>
          <p:nvSpPr>
            <p:cNvPr id="43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3" name="PlaceHolder 3"/>
          <p:cNvSpPr>
            <a:spLocks noGrp="1"/>
          </p:cNvSpPr>
          <p:nvPr>
            <p:ph type="dt" idx="28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PlaceHolder 4"/>
          <p:cNvSpPr>
            <a:spLocks noGrp="1"/>
          </p:cNvSpPr>
          <p:nvPr>
            <p:ph type="ftr" idx="28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PlaceHolder 5"/>
          <p:cNvSpPr>
            <a:spLocks noGrp="1"/>
          </p:cNvSpPr>
          <p:nvPr>
            <p:ph type="sldNum" idx="28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188E-D742-4BC5-B216-E334E24DA8D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4" name="شكل بيضاوي 15"/>
          <p:cNvGrpSpPr/>
          <p:nvPr/>
        </p:nvGrpSpPr>
        <p:grpSpPr>
          <a:xfrm>
            <a:off x="2170080" y="2816280"/>
            <a:ext cx="219240" cy="212760"/>
            <a:chOff x="2170080" y="2816280"/>
            <a:chExt cx="219240" cy="212760"/>
          </a:xfrm>
        </p:grpSpPr>
        <p:pic>
          <p:nvPicPr>
            <p:cNvPr id="4375" name="شكل بيضاوي 15" descr=""/>
            <p:cNvPicPr/>
            <p:nvPr/>
          </p:nvPicPr>
          <p:blipFill>
            <a:blip r:embed="rId3"/>
            <a:stretch/>
          </p:blipFill>
          <p:spPr>
            <a:xfrm>
              <a:off x="2170080" y="2816280"/>
              <a:ext cx="219240" cy="212760"/>
            </a:xfrm>
            <a:prstGeom prst="rect">
              <a:avLst/>
            </a:prstGeom>
            <a:ln w="0">
              <a:noFill/>
            </a:ln>
          </p:spPr>
        </p:pic>
        <p:sp>
          <p:nvSpPr>
            <p:cNvPr id="43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80" name="PlaceHolder 3"/>
          <p:cNvSpPr>
            <a:spLocks noGrp="1"/>
          </p:cNvSpPr>
          <p:nvPr>
            <p:ph type="dt" idx="28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1" name="PlaceHolder 4"/>
          <p:cNvSpPr>
            <a:spLocks noGrp="1"/>
          </p:cNvSpPr>
          <p:nvPr>
            <p:ph type="ftr" idx="28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PlaceHolder 5"/>
          <p:cNvSpPr>
            <a:spLocks noGrp="1"/>
          </p:cNvSpPr>
          <p:nvPr>
            <p:ph type="sldNum" idx="28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60A2-64D1-46D8-B0A9-E74887EE62D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4"/>
    <p:sldLayoutId id="2147484872" r:id="rId5"/>
    <p:sldLayoutId id="2147484873" r:id="rId6"/>
    <p:sldLayoutId id="2147484874" r:id="rId7"/>
    <p:sldLayoutId id="2147484875" r:id="rId8"/>
    <p:sldLayoutId id="2147484876" r:id="rId9"/>
    <p:sldLayoutId id="2147484877" r:id="rId10"/>
    <p:sldLayoutId id="2147484878" r:id="rId11"/>
    <p:sldLayoutId id="2147484879" r:id="rId12"/>
    <p:sldLayoutId id="2147484880" r:id="rId13"/>
    <p:sldLayoutId id="2147484881" r:id="rId14"/>
    <p:sldLayoutId id="2147484882" r:id="rId15"/>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1" name="دائرة مجوفة 10"/>
          <p:cNvGrpSpPr/>
          <p:nvPr/>
        </p:nvGrpSpPr>
        <p:grpSpPr>
          <a:xfrm>
            <a:off x="171360" y="1042920"/>
            <a:ext cx="1157400" cy="1150920"/>
            <a:chOff x="171360" y="1042920"/>
            <a:chExt cx="1157400" cy="1150920"/>
          </a:xfrm>
        </p:grpSpPr>
        <p:pic>
          <p:nvPicPr>
            <p:cNvPr id="4422" name="دائرة مجوفة 10" descr=""/>
            <p:cNvPicPr/>
            <p:nvPr/>
          </p:nvPicPr>
          <p:blipFill>
            <a:blip r:embed="rId3"/>
            <a:stretch/>
          </p:blipFill>
          <p:spPr>
            <a:xfrm>
              <a:off x="171360" y="1042920"/>
              <a:ext cx="1157400" cy="1150920"/>
            </a:xfrm>
            <a:prstGeom prst="rect">
              <a:avLst/>
            </a:prstGeom>
            <a:ln w="0">
              <a:noFill/>
            </a:ln>
          </p:spPr>
        </p:pic>
        <p:sp>
          <p:nvSpPr>
            <p:cNvPr id="44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28" name="PlaceHolder 3"/>
          <p:cNvSpPr>
            <a:spLocks noGrp="1"/>
          </p:cNvSpPr>
          <p:nvPr>
            <p:ph type="dt" idx="28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PlaceHolder 4"/>
          <p:cNvSpPr>
            <a:spLocks noGrp="1"/>
          </p:cNvSpPr>
          <p:nvPr>
            <p:ph type="ftr" idx="28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PlaceHolder 5"/>
          <p:cNvSpPr>
            <a:spLocks noGrp="1"/>
          </p:cNvSpPr>
          <p:nvPr>
            <p:ph type="sldNum" idx="28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A4D3-82F0-4ED2-BF27-B3D60F1316F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4"/>
    <p:sldLayoutId id="2147484885" r:id="rId5"/>
    <p:sldLayoutId id="2147484886" r:id="rId6"/>
    <p:sldLayoutId id="2147484887" r:id="rId7"/>
    <p:sldLayoutId id="2147484888" r:id="rId8"/>
    <p:sldLayoutId id="2147484889" r:id="rId9"/>
    <p:sldLayoutId id="2147484890" r:id="rId10"/>
    <p:sldLayoutId id="2147484891" r:id="rId11"/>
    <p:sldLayoutId id="2147484892" r:id="rId12"/>
    <p:sldLayoutId id="2147484893" r:id="rId13"/>
    <p:sldLayoutId id="2147484894" r:id="rId14"/>
    <p:sldLayoutId id="2147484895" r:id="rId15"/>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6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69" name="PlaceHolder 3"/>
          <p:cNvSpPr>
            <a:spLocks noGrp="1"/>
          </p:cNvSpPr>
          <p:nvPr>
            <p:ph type="dt" idx="28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PlaceHolder 4"/>
          <p:cNvSpPr>
            <a:spLocks noGrp="1"/>
          </p:cNvSpPr>
          <p:nvPr>
            <p:ph type="ftr" idx="29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PlaceHolder 5"/>
          <p:cNvSpPr>
            <a:spLocks noGrp="1"/>
          </p:cNvSpPr>
          <p:nvPr>
            <p:ph type="sldNum" idx="29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82D5-18DF-4BBF-ADF8-DE2AD52901E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0" name="دائرة مجوفة 10"/>
          <p:cNvGrpSpPr/>
          <p:nvPr/>
        </p:nvGrpSpPr>
        <p:grpSpPr>
          <a:xfrm>
            <a:off x="171360" y="1042920"/>
            <a:ext cx="1157400" cy="1150920"/>
            <a:chOff x="171360" y="1042920"/>
            <a:chExt cx="1157400" cy="1150920"/>
          </a:xfrm>
        </p:grpSpPr>
        <p:pic>
          <p:nvPicPr>
            <p:cNvPr id="4511" name="دائرة مجوفة 10" descr=""/>
            <p:cNvPicPr/>
            <p:nvPr/>
          </p:nvPicPr>
          <p:blipFill>
            <a:blip r:embed="rId3"/>
            <a:stretch/>
          </p:blipFill>
          <p:spPr>
            <a:xfrm>
              <a:off x="171360" y="1042920"/>
              <a:ext cx="1157400" cy="1150920"/>
            </a:xfrm>
            <a:prstGeom prst="rect">
              <a:avLst/>
            </a:prstGeom>
            <a:ln w="0">
              <a:noFill/>
            </a:ln>
          </p:spPr>
        </p:pic>
        <p:sp>
          <p:nvSpPr>
            <p:cNvPr id="451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17" name="PlaceHolder 3"/>
          <p:cNvSpPr>
            <a:spLocks noGrp="1"/>
          </p:cNvSpPr>
          <p:nvPr>
            <p:ph type="dt" idx="29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PlaceHolder 4"/>
          <p:cNvSpPr>
            <a:spLocks noGrp="1"/>
          </p:cNvSpPr>
          <p:nvPr>
            <p:ph type="ftr" idx="29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9" name="PlaceHolder 5"/>
          <p:cNvSpPr>
            <a:spLocks noGrp="1"/>
          </p:cNvSpPr>
          <p:nvPr>
            <p:ph type="sldNum" idx="29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6AB0-21A8-4D66-9F19-15C8C9E94BF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4"/>
    <p:sldLayoutId id="2147484911" r:id="rId5"/>
    <p:sldLayoutId id="2147484912" r:id="rId6"/>
    <p:sldLayoutId id="2147484913" r:id="rId7"/>
    <p:sldLayoutId id="2147484914" r:id="rId8"/>
    <p:sldLayoutId id="2147484915" r:id="rId9"/>
    <p:sldLayoutId id="2147484916" r:id="rId10"/>
    <p:sldLayoutId id="2147484917" r:id="rId11"/>
    <p:sldLayoutId id="2147484918" r:id="rId12"/>
    <p:sldLayoutId id="2147484919" r:id="rId13"/>
    <p:sldLayoutId id="2147484920" r:id="rId14"/>
    <p:sldLayoutId id="2147484921" r:id="rId15"/>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60" name="PlaceHolder 3"/>
          <p:cNvSpPr>
            <a:spLocks noGrp="1"/>
          </p:cNvSpPr>
          <p:nvPr>
            <p:ph type="dt" idx="29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PlaceHolder 4"/>
          <p:cNvSpPr>
            <a:spLocks noGrp="1"/>
          </p:cNvSpPr>
          <p:nvPr>
            <p:ph type="ftr" idx="29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PlaceHolder 5"/>
          <p:cNvSpPr>
            <a:spLocks noGrp="1"/>
          </p:cNvSpPr>
          <p:nvPr>
            <p:ph type="sldNum" idx="29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6099-FB34-4956-BC01-64440DE7784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PlaceHolder 1"/>
          <p:cNvSpPr>
            <a:spLocks noGrp="1"/>
          </p:cNvSpPr>
          <p:nvPr>
            <p:ph type="title"/>
          </p:nvPr>
        </p:nvSpPr>
        <p:spPr>
          <a:xfrm>
            <a:off x="684360" y="191592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مفهوم الترتيب والتسلسل</a:t>
            </a:r>
            <a:endParaRPr b="0" lang="en-US" sz="43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
          <p:cNvSpPr txBox="1"/>
          <p:nvPr/>
        </p:nvSpPr>
        <p:spPr>
          <a:xfrm>
            <a:off x="1447560" y="1066320"/>
            <a:ext cx="74977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اطفال الى الاستعداد الكافي لذلك بتمييز الفروقات والمقارنة ويعطي الطفل الفرصة لذلك ونشجعه من خلال طرح الاسئلة (فيما تختلف هذه الاشياء؟)</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طفل الى تحديد اتجاه الترتيب الذي سيبدأ به، نشجع الطفل على استخدام الاتجاه من اليمين الى اليسا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PlaceHolder 1"/>
          <p:cNvSpPr>
            <a:spLocks noGrp="1"/>
          </p:cNvSpPr>
          <p:nvPr>
            <p:ph type="title"/>
          </p:nvPr>
        </p:nvSpPr>
        <p:spPr>
          <a:xfrm>
            <a:off x="1042920" y="22046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يشتمل مفهوم الترتيب على عدد من المفاهيم هي:</a:t>
            </a:r>
            <a:br>
              <a:rPr sz="3900"/>
            </a:br>
            <a:endParaRPr b="0" lang="en-US" sz="39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title"/>
          </p:nvPr>
        </p:nvSpPr>
        <p:spPr>
          <a:xfrm>
            <a:off x="971640" y="404280"/>
            <a:ext cx="7943760" cy="2256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أولاً: مفهوم المقارنة :</a:t>
            </a:r>
            <a:r>
              <a:rPr b="0" lang="ar-SA" sz="3900" spc="-1" strike="noStrike">
                <a:solidFill>
                  <a:srgbClr val="1e2124"/>
                </a:solidFill>
                <a:latin typeface="Gill Sans MT"/>
              </a:rPr>
              <a:t> </a:t>
            </a:r>
            <a:br>
              <a:rPr sz="3900"/>
            </a:br>
            <a:r>
              <a:rPr b="0" lang="ar-SA" sz="3200" spc="-1" strike="noStrike">
                <a:solidFill>
                  <a:srgbClr val="000000"/>
                </a:solidFill>
                <a:latin typeface="Gill Sans MT"/>
              </a:rPr>
              <a:t>يوجد الطفل علاقة مشتركة بين الأشياء معتمداً فيها وجود خواص مشتركة.</a:t>
            </a:r>
            <a:br>
              <a:rPr sz="3200"/>
            </a:br>
            <a:br>
              <a:rPr sz="3200"/>
            </a:br>
            <a:endParaRPr b="0" lang="en-US" sz="3200" spc="-1" strike="noStrike">
              <a:solidFill>
                <a:srgbClr val="1e2124"/>
              </a:solidFill>
              <a:latin typeface="Gill Sans MT"/>
            </a:endParaRPr>
          </a:p>
        </p:txBody>
      </p:sp>
      <p:pic>
        <p:nvPicPr>
          <p:cNvPr id="4799" name="عنصر نائب للمحتوى 5" descr=""/>
          <p:cNvPicPr/>
          <p:nvPr/>
        </p:nvPicPr>
        <p:blipFill>
          <a:blip r:embed="rId1"/>
          <a:stretch/>
        </p:blipFill>
        <p:spPr>
          <a:xfrm>
            <a:off x="669960" y="2346480"/>
            <a:ext cx="8327880" cy="407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
          <p:cNvSpPr txBox="1"/>
          <p:nvPr/>
        </p:nvSpPr>
        <p:spPr>
          <a:xfrm>
            <a:off x="971280" y="836640"/>
            <a:ext cx="7581960" cy="3473280"/>
          </a:xfrm>
          <a:prstGeom prst="rect">
            <a:avLst/>
          </a:prstGeom>
          <a:noFill/>
          <a:ln w="0">
            <a:noFill/>
          </a:ln>
        </p:spPr>
        <p:txBody>
          <a:bodyPr anchor="b">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ثال : علاقات المقارنة كبير وصغير (حجم) -  طويل وقصير (طول) - عالي و ومنخفض (صوت) –   قريب بعيد (الترتيب للجوار) – فوق تحت الترتيب للوضع - متين  ونحيف (حجم )  أشخاص – أشجار - سلالم – أقلام - كتب - أوعية ماء.</a:t>
            </a:r>
            <a:r>
              <a:rPr b="1"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1" name="PlaceHolder 1"/>
          <p:cNvSpPr>
            <a:spLocks noGrp="1"/>
          </p:cNvSpPr>
          <p:nvPr>
            <p:ph type="title"/>
          </p:nvPr>
        </p:nvSpPr>
        <p:spPr>
          <a:xfrm>
            <a:off x="248436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نياً مفهوم الترتيب البسيط:</a:t>
            </a:r>
            <a:br>
              <a:rPr sz="3900"/>
            </a:br>
            <a:endParaRPr b="0" lang="en-US" sz="3900" spc="-1" strike="noStrike">
              <a:solidFill>
                <a:srgbClr val="1e2124"/>
              </a:solidFill>
              <a:latin typeface="Gill Sans MT"/>
            </a:endParaRPr>
          </a:p>
        </p:txBody>
      </p:sp>
      <p:sp>
        <p:nvSpPr>
          <p:cNvPr id="4802"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هو تسلسل للأحداث ومجموعات الأشياء.</a:t>
            </a:r>
            <a:endParaRPr b="0" lang="en-US" sz="32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 عشر عصي يزيد كل واحد عن الأخر </a:t>
            </a:r>
            <a:r>
              <a:rPr b="1" lang="ar-SA" sz="3200" spc="-1" strike="noStrike">
                <a:solidFill>
                  <a:srgbClr val="000000"/>
                </a:solidFill>
                <a:latin typeface="Gill Sans MT"/>
              </a:rPr>
              <a:t>0,5</a:t>
            </a:r>
            <a:r>
              <a:rPr b="1" lang="ar-SA" sz="3200" spc="-1" strike="noStrike">
                <a:solidFill>
                  <a:srgbClr val="000000"/>
                </a:solidFill>
                <a:latin typeface="Gill Sans MT"/>
              </a:rPr>
              <a:t>سم ويطلب من الطفل ترتيبها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PlaceHolder 1"/>
          <p:cNvSpPr>
            <a:spLocks noGrp="1"/>
          </p:cNvSpPr>
          <p:nvPr>
            <p:ph type="title"/>
          </p:nvPr>
        </p:nvSpPr>
        <p:spPr>
          <a:xfrm>
            <a:off x="2411280" y="764640"/>
            <a:ext cx="64008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1e2124"/>
                </a:solidFill>
                <a:latin typeface="Gill Sans MT"/>
              </a:rPr>
              <a:t>مراحل الترتيب:</a:t>
            </a:r>
            <a:br>
              <a:rPr sz="3900"/>
            </a:br>
            <a:endParaRPr b="0" lang="en-US" sz="3900" spc="-1" strike="noStrike">
              <a:solidFill>
                <a:srgbClr val="1e2124"/>
              </a:solidFill>
              <a:latin typeface="Gill Sans MT"/>
            </a:endParaRPr>
          </a:p>
        </p:txBody>
      </p:sp>
      <p:sp>
        <p:nvSpPr>
          <p:cNvPr id="4804"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1</a:t>
            </a:r>
            <a:r>
              <a:rPr b="1" lang="ar-SA" sz="3200" spc="-1" strike="noStrike">
                <a:solidFill>
                  <a:srgbClr val="000000"/>
                </a:solidFill>
                <a:latin typeface="Gill Sans MT"/>
              </a:rPr>
              <a:t>- لا يستطيع إقامة سلسلة كاملة على نحو صحيح  يلتقط الطفل عود صغير وعود طويل لا يستطيع إقامة تكافؤ تسلسلي.</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2</a:t>
            </a:r>
            <a:r>
              <a:rPr b="1" lang="ar-SA" sz="3200" spc="-1" strike="noStrike">
                <a:solidFill>
                  <a:srgbClr val="000000"/>
                </a:solidFill>
                <a:latin typeface="Gill Sans MT"/>
              </a:rPr>
              <a:t>- في عمر خمس سنوات يستطيع ترتيب العناصر عن طريق المحاولة والخطأ حتى ينجح.</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
          <p:cNvSpPr txBox="1"/>
          <p:nvPr/>
        </p:nvSpPr>
        <p:spPr>
          <a:xfrm>
            <a:off x="900000" y="1125000"/>
            <a:ext cx="8088480" cy="4496040"/>
          </a:xfrm>
          <a:prstGeom prst="rect">
            <a:avLst/>
          </a:prstGeom>
          <a:noFill/>
          <a:ln w="0">
            <a:noFill/>
          </a:ln>
        </p:spPr>
        <p:txBody>
          <a:bodyPr anchor="t">
            <a:normAutofit fontScale="87000"/>
          </a:bodyPr>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3</a:t>
            </a:r>
            <a:r>
              <a:rPr b="1" lang="ar-SA" sz="3200" spc="-1" strike="noStrike">
                <a:solidFill>
                  <a:srgbClr val="000000"/>
                </a:solidFill>
                <a:latin typeface="Gill Sans MT"/>
              </a:rPr>
              <a:t>- مرحلة العمليات المحسوسة </a:t>
            </a:r>
            <a:r>
              <a:rPr b="1" lang="ar-SA" sz="3200" spc="-1" strike="noStrike">
                <a:solidFill>
                  <a:srgbClr val="000000"/>
                </a:solidFill>
                <a:latin typeface="Gill Sans MT"/>
              </a:rPr>
              <a:t>6</a:t>
            </a:r>
            <a:r>
              <a:rPr b="1" lang="ar-SA" sz="3200" spc="-1" strike="noStrike">
                <a:solidFill>
                  <a:srgbClr val="000000"/>
                </a:solidFill>
                <a:latin typeface="Gill Sans MT"/>
              </a:rPr>
              <a:t>-</a:t>
            </a:r>
            <a:r>
              <a:rPr b="1" lang="ar-SA" sz="3200" spc="-1" strike="noStrike">
                <a:solidFill>
                  <a:srgbClr val="000000"/>
                </a:solidFill>
                <a:latin typeface="Gill Sans MT"/>
              </a:rPr>
              <a:t>7</a:t>
            </a:r>
            <a:r>
              <a:rPr b="1" lang="ar-SA" sz="3200" spc="-1" strike="noStrike">
                <a:solidFill>
                  <a:srgbClr val="000000"/>
                </a:solidFill>
                <a:latin typeface="Gill Sans MT"/>
              </a:rPr>
              <a:t> سنوات يمتلك فيها الأطفال القدرة على حل المشكلات بطرق مختلفة ومنظمة يضع العود الأول ثم التالي حيث يكون سلسة صحيحة.</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جاح الطفل يعتمد على تكون الأبنية السيكولوجية </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الية: </a:t>
            </a: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كوسية التفكير – الانتقالية (أب ، ب ج ، أج) </a:t>
            </a:r>
            <a:endParaRPr b="0" lang="en-US" sz="3200" spc="-1" strike="noStrike">
              <a:solidFill>
                <a:srgbClr val="000000"/>
              </a:solidFill>
              <a:latin typeface="Gill Sans MT"/>
            </a:endParaRPr>
          </a:p>
          <a:p>
            <a:pPr marL="317520" indent="-24552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title"/>
          </p:nvPr>
        </p:nvSpPr>
        <p:spPr>
          <a:xfrm>
            <a:off x="255600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لثاً مفهوم التسلسل المزدوج:</a:t>
            </a:r>
            <a:br>
              <a:rPr sz="3900"/>
            </a:br>
            <a:endParaRPr b="0" lang="en-US" sz="3900" spc="-1" strike="noStrike">
              <a:solidFill>
                <a:srgbClr val="1e2124"/>
              </a:solidFill>
              <a:latin typeface="Gill Sans MT"/>
            </a:endParaRPr>
          </a:p>
        </p:txBody>
      </p:sp>
      <p:sp>
        <p:nvSpPr>
          <p:cNvPr id="4807" name=""/>
          <p:cNvSpPr txBox="1"/>
          <p:nvPr/>
        </p:nvSpPr>
        <p:spPr>
          <a:xfrm>
            <a:off x="1434960" y="1447560"/>
            <a:ext cx="7499520" cy="4800600"/>
          </a:xfrm>
          <a:prstGeom prst="rect">
            <a:avLst/>
          </a:prstGeom>
          <a:noFill/>
          <a:ln w="0">
            <a:noFill/>
          </a:ln>
        </p:spPr>
        <p:txBody>
          <a:bodyPr anchor="t">
            <a:normAutofit fontScale="84000"/>
          </a:bodyPr>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a:t>
            </a: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جد بياجيه ان هذا العمل لا يعد أصعب من التسلسل الواحد لأنه سيطبق نفس القاعدة يحتاج أن يقوم بعملية مقابله وقد نزيدها الى ثلاث مجموعات مثال(الأرانب الجزر ثم البيوت).</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رابعاً ترتيب المجموعات:</a:t>
            </a:r>
            <a:endParaRPr b="0" lang="en-US" sz="4300" spc="-1" strike="noStrike">
              <a:solidFill>
                <a:srgbClr val="1e2124"/>
              </a:solidFill>
              <a:latin typeface="Gill Sans MT"/>
            </a:endParaRPr>
          </a:p>
        </p:txBody>
      </p:sp>
      <p:sp>
        <p:nvSpPr>
          <p:cNvPr id="48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تم وضعها في مجموعات بناءاً على عدد العناصر في كل مجمو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خامساً: الترتيب العددي:</a:t>
            </a:r>
            <a:endParaRPr b="0" lang="en-US" sz="4300" spc="-1" strike="noStrike">
              <a:solidFill>
                <a:srgbClr val="1e2124"/>
              </a:solidFill>
              <a:latin typeface="Gill Sans MT"/>
            </a:endParaRPr>
          </a:p>
        </p:txBody>
      </p:sp>
      <p:sp>
        <p:nvSpPr>
          <p:cNvPr id="481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عدد الرتبة هو الذي يحدد موضع العدد بالنسبة لغيرة في الرتبة  الأول، الثاني، الثالث</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مو أعداد الرتبة كالتالي:</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 </a:t>
            </a:r>
            <a:r>
              <a:rPr b="1" lang="ar-SA" sz="3200" spc="-1" strike="noStrike">
                <a:solidFill>
                  <a:srgbClr val="000000"/>
                </a:solidFill>
                <a:latin typeface="Gill Sans MT"/>
              </a:rPr>
              <a:t>4</a:t>
            </a:r>
            <a:r>
              <a:rPr b="1" lang="ar-SA" sz="3200" spc="-1" strike="noStrike">
                <a:solidFill>
                  <a:srgbClr val="000000"/>
                </a:solidFill>
                <a:latin typeface="Gill Sans MT"/>
              </a:rPr>
              <a:t> سنوات لا يفهم الطفل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نية: </a:t>
            </a:r>
            <a:r>
              <a:rPr b="1" lang="ar-SA" sz="3200" spc="-1" strike="noStrike">
                <a:solidFill>
                  <a:srgbClr val="000000"/>
                </a:solidFill>
                <a:latin typeface="Gill Sans MT"/>
              </a:rPr>
              <a:t>4</a:t>
            </a:r>
            <a:r>
              <a:rPr b="1" lang="ar-SA" sz="3200" spc="-1" strike="noStrike">
                <a:solidFill>
                  <a:srgbClr val="000000"/>
                </a:solidFill>
                <a:latin typeface="Gill Sans MT"/>
              </a:rPr>
              <a:t>-</a:t>
            </a:r>
            <a:r>
              <a:rPr b="1" lang="ar-SA" sz="3200" spc="-1" strike="noStrike">
                <a:solidFill>
                  <a:srgbClr val="000000"/>
                </a:solidFill>
                <a:latin typeface="Gill Sans MT"/>
              </a:rPr>
              <a:t>5</a:t>
            </a:r>
            <a:r>
              <a:rPr b="1" lang="ar-SA" sz="3200" spc="-1" strike="noStrike">
                <a:solidFill>
                  <a:srgbClr val="000000"/>
                </a:solidFill>
                <a:latin typeface="Gill Sans MT"/>
              </a:rPr>
              <a:t> يعي تدريجياً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مفهوم الترتيب</a:t>
            </a:r>
            <a:r>
              <a:rPr b="0" lang="ar-SA" sz="3000" spc="-1" strike="noStrike" u="sng">
                <a:solidFill>
                  <a:srgbClr val="1e2124"/>
                </a:solidFill>
                <a:uFillTx/>
                <a:latin typeface="Gill Sans MT"/>
              </a:rPr>
              <a:t> والتسلسل</a:t>
            </a:r>
            <a:br>
              <a:rPr sz="3000"/>
            </a:br>
            <a:endParaRPr b="0" lang="en-US" sz="3000" spc="-1" strike="noStrike">
              <a:solidFill>
                <a:srgbClr val="1e2124"/>
              </a:solidFill>
              <a:latin typeface="Gill Sans MT"/>
            </a:endParaRPr>
          </a:p>
        </p:txBody>
      </p:sp>
      <p:sp>
        <p:nvSpPr>
          <p:cNvPr id="4784" name=""/>
          <p:cNvSpPr txBox="1"/>
          <p:nvPr/>
        </p:nvSpPr>
        <p:spPr>
          <a:xfrm>
            <a:off x="990720" y="1981080"/>
            <a:ext cx="7619760" cy="41148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800" spc="-1" strike="noStrike">
                <a:solidFill>
                  <a:srgbClr val="000000"/>
                </a:solidFill>
                <a:latin typeface="Gill Sans MT"/>
              </a:rPr>
              <a:t>تعريف الترتيب: (تنظيم الاشياء او مجموعات الاشياء لنحصل على منظومة معينة في الاتجاه وذلك من خلال قاعدة ما).</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عتبر من المهارات قبل العددية.</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أخد الطفل بعض الافكار عن عملية الترتيب من خلال الالعاب وبناء المكعبات.</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كي يكون للترتيب معنى يجب أن تشترك عناصر المجموعة في خاصية ما متأصلة يمكن ان تكون الطول –الحجم.</a:t>
            </a:r>
            <a:endParaRPr b="0" lang="en-US" sz="2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لثة: </a:t>
            </a:r>
            <a:r>
              <a:rPr b="1" lang="ar-SA" sz="3200" spc="-1" strike="noStrike">
                <a:solidFill>
                  <a:srgbClr val="000000"/>
                </a:solidFill>
                <a:latin typeface="Gill Sans MT"/>
              </a:rPr>
              <a:t>5</a:t>
            </a:r>
            <a:r>
              <a:rPr b="1" lang="ar-SA" sz="3200" spc="-1" strike="noStrike">
                <a:solidFill>
                  <a:srgbClr val="000000"/>
                </a:solidFill>
                <a:latin typeface="Gill Sans MT"/>
              </a:rPr>
              <a:t>-</a:t>
            </a:r>
            <a:r>
              <a:rPr b="1" lang="ar-SA" sz="3200" spc="-1" strike="noStrike">
                <a:solidFill>
                  <a:srgbClr val="000000"/>
                </a:solidFill>
                <a:latin typeface="Gill Sans MT"/>
              </a:rPr>
              <a:t>6</a:t>
            </a:r>
            <a:r>
              <a:rPr b="1" lang="ar-SA" sz="3200" spc="-1" strike="noStrike">
                <a:solidFill>
                  <a:srgbClr val="000000"/>
                </a:solidFill>
                <a:latin typeface="Gill Sans MT"/>
              </a:rPr>
              <a:t>سنوات يفهم فهم كامل ل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طفال المرحلة الحسية الحركية يستطيعون القيام بترتيب </a:t>
            </a:r>
            <a:r>
              <a:rPr b="1" lang="ar-SA" sz="3200" spc="-1" strike="noStrike">
                <a:solidFill>
                  <a:srgbClr val="000000"/>
                </a:solidFill>
                <a:latin typeface="Gill Sans MT"/>
              </a:rPr>
              <a:t>3</a:t>
            </a:r>
            <a:r>
              <a:rPr b="1" lang="ar-SA" sz="3200" spc="-1" strike="noStrike">
                <a:solidFill>
                  <a:srgbClr val="000000"/>
                </a:solidFill>
                <a:latin typeface="Gill Sans MT"/>
              </a:rPr>
              <a:t> أشياء، الأطفال الأكبر يستطيعون القيام بسلسلة أكثر ولكنهم يعجزون عن القيام بعملية الترتيب إذا كان </a:t>
            </a:r>
            <a:r>
              <a:rPr b="1" lang="ar-SA" sz="3200" spc="-1" strike="noStrike">
                <a:solidFill>
                  <a:srgbClr val="ff0000"/>
                </a:solidFill>
                <a:latin typeface="Gill Sans MT"/>
              </a:rPr>
              <a:t>عدد العناصر المقدمة إليهم كبيرا </a:t>
            </a:r>
            <a:r>
              <a:rPr b="1" lang="ar-SA" sz="3200" spc="-1" strike="noStrike">
                <a:solidFill>
                  <a:srgbClr val="000000"/>
                </a:solidFill>
                <a:latin typeface="Gill Sans MT"/>
              </a:rPr>
              <a:t>أو إذا كانت </a:t>
            </a:r>
            <a:r>
              <a:rPr b="1" lang="ar-SA" sz="3200" spc="-1" strike="noStrike">
                <a:solidFill>
                  <a:srgbClr val="ff0000"/>
                </a:solidFill>
                <a:latin typeface="Gill Sans MT"/>
              </a:rPr>
              <a:t>الفروق بين العناصر سطحية.</a:t>
            </a:r>
            <a:r>
              <a:rPr b="1" lang="en-US" sz="3200" spc="-1" strike="noStrike">
                <a:solidFill>
                  <a:srgbClr val="ff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Rectangle 3"/>
          <p:cNvSpPr/>
          <p:nvPr/>
        </p:nvSpPr>
        <p:spPr>
          <a:xfrm>
            <a:off x="1066680" y="762120"/>
            <a:ext cx="7543800" cy="4114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حجم: أطول من / اقصر من ، أكبر من / اصغر من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موضع: فوق / تحت/ بجانب</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جوار:  قريب من / بعيد عن</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أجزاء الكل: مثل أجزاء الجسم، الأنشطة هنا تكمن في تجميع  الطفل لأجزاء الكل معاً في ترتيب صحيح.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اللون: تدرجات من الغامق الى الفاتح.</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ترتيب الصوت: من الأعلى صوتاً الى الأكثر انخفاضاً أو العك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1e2124"/>
                </a:solidFill>
                <a:uFillTx/>
                <a:latin typeface="Gill Sans MT"/>
              </a:rPr>
              <a:t>من أنواع الترتيب </a:t>
            </a:r>
            <a:r>
              <a:rPr b="0" lang="en-US" sz="3200" spc="-1" strike="noStrike" u="sng">
                <a:solidFill>
                  <a:srgbClr val="1e2124"/>
                </a:solidFill>
                <a:uFillTx/>
                <a:latin typeface="Gill Sans MT"/>
              </a:rPr>
              <a:t>Patterning</a:t>
            </a:r>
            <a:r>
              <a:rPr b="0" lang="en-US" sz="3200" spc="-1" strike="noStrike" u="sng">
                <a:solidFill>
                  <a:srgbClr val="1e2124"/>
                </a:solidFill>
                <a:uFillTx/>
                <a:latin typeface="Gill Sans MT"/>
              </a:rPr>
              <a:t> </a:t>
            </a:r>
            <a:r>
              <a:rPr b="0" lang="ar-SA" sz="3200" spc="-1" strike="noStrike" u="sng">
                <a:solidFill>
                  <a:srgbClr val="1e2124"/>
                </a:solidFill>
                <a:uFillTx/>
                <a:latin typeface="Gill Sans MT"/>
              </a:rPr>
              <a:t>  (أنشطة التنميط) أو تكوين نمط:</a:t>
            </a:r>
            <a:endParaRPr b="0" lang="en-US" sz="3200" spc="-1" strike="noStrike">
              <a:solidFill>
                <a:srgbClr val="1e2124"/>
              </a:solidFill>
              <a:latin typeface="Gill Sans MT"/>
            </a:endParaRPr>
          </a:p>
        </p:txBody>
      </p:sp>
      <p:sp>
        <p:nvSpPr>
          <p:cNvPr id="481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فيها يستدل الطفل على النمط المراد إكماله من خلال إدراك منطقية النمط، ما الذي قبل (بداية النمط)، وبالتالي ما الذي بعد (لإكمال باقي النمط).</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مثل: أزرق اخضر ازرق اخضر ازرق ؟)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1" lang="ar-SA" sz="3200" spc="-1" strike="noStrike">
                <a:solidFill>
                  <a:srgbClr val="000000"/>
                </a:solidFill>
                <a:latin typeface="Gill Sans MT"/>
              </a:rPr>
              <a:t>2</a:t>
            </a:r>
            <a:r>
              <a:rPr b="1" lang="ar-SA" sz="3200" spc="-1" strike="noStrike">
                <a:solidFill>
                  <a:srgbClr val="000000"/>
                </a:solidFill>
                <a:latin typeface="Gill Sans MT"/>
              </a:rPr>
              <a:t>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816" name="Oval 6"/>
          <p:cNvSpPr/>
          <p:nvPr/>
        </p:nvSpPr>
        <p:spPr>
          <a:xfrm>
            <a:off x="752472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7" name="Rectangle 7"/>
          <p:cNvSpPr/>
          <p:nvPr/>
        </p:nvSpPr>
        <p:spPr>
          <a:xfrm>
            <a:off x="630072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8" name="Rectangle 7"/>
          <p:cNvSpPr/>
          <p:nvPr/>
        </p:nvSpPr>
        <p:spPr>
          <a:xfrm>
            <a:off x="514836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9" name="Oval 6"/>
          <p:cNvSpPr/>
          <p:nvPr/>
        </p:nvSpPr>
        <p:spPr>
          <a:xfrm>
            <a:off x="356400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0" name="Rectangle 7"/>
          <p:cNvSpPr/>
          <p:nvPr/>
        </p:nvSpPr>
        <p:spPr>
          <a:xfrm>
            <a:off x="2340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1" name="Rectangle 7"/>
          <p:cNvSpPr/>
          <p:nvPr/>
        </p:nvSpPr>
        <p:spPr>
          <a:xfrm>
            <a:off x="1116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أهداف الترتيب:</a:t>
            </a:r>
            <a:endParaRPr b="0" lang="en-US" sz="4300" spc="-1" strike="noStrike">
              <a:solidFill>
                <a:srgbClr val="1e2124"/>
              </a:solidFill>
              <a:latin typeface="Gill Sans MT"/>
            </a:endParaRPr>
          </a:p>
        </p:txBody>
      </p:sp>
      <p:sp>
        <p:nvSpPr>
          <p:cNvPr id="4823"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كساب الطفل القدرة على المقارنة.</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دراك العلاقة الرياضية أطول من أقصر من.</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عكسية للأمام والخلف.</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انتقالية.</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1e2124"/>
                </a:solidFill>
                <a:latin typeface="Gill Sans MT"/>
              </a:rPr>
              <a:t>اختبارات إعادة الترتيب</a:t>
            </a:r>
            <a:br>
              <a:rPr sz="3600"/>
            </a:br>
            <a:r>
              <a:rPr b="0" lang="en-US" sz="3600" spc="-1" strike="noStrike">
                <a:solidFill>
                  <a:srgbClr val="1e2124"/>
                </a:solidFill>
                <a:latin typeface="Gill Sans MT"/>
              </a:rPr>
              <a:t>Rearrangement Tests</a:t>
            </a:r>
            <a:endParaRPr b="0" lang="en-US" sz="3600" spc="-1" strike="noStrike">
              <a:solidFill>
                <a:srgbClr val="1e2124"/>
              </a:solidFill>
              <a:latin typeface="Gill Sans MT"/>
            </a:endParaRPr>
          </a:p>
        </p:txBody>
      </p:sp>
      <p:sp>
        <p:nvSpPr>
          <p:cNvPr id="4825" name=""/>
          <p:cNvSpPr txBox="1"/>
          <p:nvPr/>
        </p:nvSpPr>
        <p:spPr>
          <a:xfrm>
            <a:off x="1434960" y="1447560"/>
            <a:ext cx="7499520" cy="4800600"/>
          </a:xfrm>
          <a:prstGeom prst="rect">
            <a:avLst/>
          </a:prstGeom>
          <a:noFill/>
          <a:ln w="0">
            <a:noFill/>
          </a:ln>
        </p:spPr>
        <p:txBody>
          <a:bodyPr anchor="t">
            <a:normAutofit/>
          </a:bodyPr>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رتب</a:t>
            </a:r>
            <a:r>
              <a:rPr b="0" lang="ar-SA" sz="3200" spc="-1" strike="noStrike">
                <a:solidFill>
                  <a:srgbClr val="000000"/>
                </a:solidFill>
                <a:latin typeface="Gill Sans MT"/>
              </a:rPr>
              <a:t>ي</a:t>
            </a:r>
            <a:r>
              <a:rPr b="0" lang="ar-JO" sz="3200" spc="-1" strike="noStrike">
                <a:solidFill>
                  <a:srgbClr val="000000"/>
                </a:solidFill>
                <a:latin typeface="Gill Sans MT"/>
              </a:rPr>
              <a:t> الأحداث التالية طبقاً لأقدمية حدوثها: </a:t>
            </a: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    </a:t>
            </a:r>
            <a:r>
              <a:rPr b="0" lang="ar-JO" sz="2800" spc="-1" strike="noStrike">
                <a:solidFill>
                  <a:srgbClr val="000000"/>
                </a:solidFill>
                <a:latin typeface="Gill Sans MT"/>
              </a:rPr>
              <a:t> </a:t>
            </a:r>
            <a:r>
              <a:rPr b="0" lang="ar-SA" sz="2800" spc="-1" strike="noStrike">
                <a:solidFill>
                  <a:srgbClr val="000000"/>
                </a:solidFill>
                <a:latin typeface="Gill Sans MT"/>
              </a:rPr>
              <a:t>ثورة مصر- وفاة الملك عبدالله –  حادثة بوعزيزي – ثورة سوريا – ثورة تونس </a:t>
            </a: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24"/>
                                        </p:tgtEl>
                                        <p:attrNameLst>
                                          <p:attrName>style.visibility</p:attrName>
                                        </p:attrNameLst>
                                      </p:cBhvr>
                                      <p:to>
                                        <p:strVal val="visible"/>
                                      </p:to>
                                    </p:set>
                                    <p:animEffect filter="fade" transition="in">
                                      <p:cBhvr additive="repl">
                                        <p:cTn id="7" dur="2000"/>
                                        <p:tgtEl>
                                          <p:spTgt spid="4824"/>
                                        </p:tgtEl>
                                      </p:cBhvr>
                                    </p:animEffect>
                                  </p:childTnLst>
                                </p:cTn>
                              </p:par>
                              <p:par>
                                <p:cTn id="8" nodeType="withEffect" fill="hold" presetClass="entr" presetID="10">
                                  <p:stCondLst>
                                    <p:cond delay="0"/>
                                  </p:stCondLst>
                                  <p:childTnLst>
                                    <p:set>
                                      <p:cBhvr>
                                        <p:cTn id="9" dur="1" fill="hold">
                                          <p:stCondLst>
                                            <p:cond delay="0"/>
                                          </p:stCondLst>
                                        </p:cTn>
                                        <p:tgtEl>
                                          <p:spTgt spid="4825"/>
                                        </p:tgtEl>
                                        <p:attrNameLst>
                                          <p:attrName>style.visibility</p:attrName>
                                        </p:attrNameLst>
                                      </p:cBhvr>
                                      <p:to>
                                        <p:strVal val="visible"/>
                                      </p:to>
                                    </p:set>
                                    <p:animEffect filter="fade" transition="in">
                                      <p:cBhvr additive="repl">
                                        <p:cTn id="10" dur="2000"/>
                                        <p:tgtEl>
                                          <p:spTgt spid="4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المشروع الثاني: الترتيب والتسلسل</a:t>
            </a:r>
            <a:endParaRPr b="0" lang="en-US" sz="4300" spc="-1" strike="noStrike">
              <a:solidFill>
                <a:srgbClr val="1e2124"/>
              </a:solidFill>
              <a:latin typeface="Gill Sans MT"/>
            </a:endParaRPr>
          </a:p>
        </p:txBody>
      </p:sp>
      <p:sp>
        <p:nvSpPr>
          <p:cNvPr id="4827" name=""/>
          <p:cNvSpPr txBox="1"/>
          <p:nvPr/>
        </p:nvSpPr>
        <p:spPr>
          <a:xfrm>
            <a:off x="1434960" y="1447560"/>
            <a:ext cx="7499520" cy="4800600"/>
          </a:xfrm>
          <a:prstGeom prst="rect">
            <a:avLst/>
          </a:prstGeom>
          <a:noFill/>
          <a:ln w="0">
            <a:noFill/>
          </a:ln>
        </p:spPr>
        <p:txBody>
          <a:bodyPr anchor="t">
            <a:normAutofit fontScale="81000"/>
          </a:bodyPr>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تقوم الطالبة بعمل وسيلتين لركن الادراك كما يلي:</a:t>
            </a:r>
            <a:endParaRPr b="0" lang="en-US" sz="3200" spc="-1" strike="noStrike">
              <a:solidFill>
                <a:srgbClr val="000000"/>
              </a:solidFill>
              <a:latin typeface="Gill Sans MT"/>
            </a:endParaRPr>
          </a:p>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اولى:</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سيط او ترتيب مزدوج.</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تكون عدد العناصر التي يرتبها الطفل لا تقل عن </a:t>
            </a:r>
            <a:r>
              <a:rPr b="1" lang="ar-SA" sz="3200" spc="-1" strike="noStrike">
                <a:solidFill>
                  <a:srgbClr val="000000"/>
                </a:solidFill>
                <a:latin typeface="Calibri"/>
                <a:ea typeface="Arial"/>
              </a:rPr>
              <a:t>6</a:t>
            </a:r>
            <a:r>
              <a:rPr b="1" lang="ar-SA" sz="3200" spc="-1" strike="noStrike">
                <a:solidFill>
                  <a:srgbClr val="000000"/>
                </a:solidFill>
                <a:latin typeface="Calibri"/>
                <a:ea typeface="Arial"/>
              </a:rPr>
              <a:t> عناصر (وجود قاعدة تجمع العناصر).</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بتعد الطالبة عن تسلسل الزمن وترتيب المجموعات والترتيب العددي.</a:t>
            </a:r>
            <a:endParaRPr b="0" lang="en-US" sz="3200" spc="-1" strike="noStrike">
              <a:solidFill>
                <a:srgbClr val="000000"/>
              </a:solidFill>
              <a:latin typeface="Gill Sans MT"/>
            </a:endParaRPr>
          </a:p>
          <a:p>
            <a:pPr marL="141120" algn="r" rtl="1">
              <a:lnSpc>
                <a:spcPct val="10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8" name=""/>
          <p:cNvSpPr txBox="1"/>
          <p:nvPr/>
        </p:nvSpPr>
        <p:spPr>
          <a:xfrm>
            <a:off x="1434960" y="1447560"/>
            <a:ext cx="7499520" cy="4800600"/>
          </a:xfrm>
          <a:prstGeom prst="rect">
            <a:avLst/>
          </a:prstGeom>
          <a:noFill/>
          <a:ln w="0">
            <a:noFill/>
          </a:ln>
        </p:spPr>
        <p:txBody>
          <a:bodyPr anchor="t">
            <a:normAutofit/>
          </a:bodyPr>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ثانية:</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التنميط (تسلسل نمط)، وهي نمط يكتشفه الطفل ويكمله او يكمل الاجزاء الناقصة منه.</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اعي الطالبة بأن تكون الوسيلة تسمح باستمرارية تكرار النمط خمس مرات.</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ن تكون هناك قاعدة لجمع العناصر.</a:t>
            </a:r>
            <a:endParaRPr b="0" lang="en-US" sz="3200" spc="-1" strike="noStrike">
              <a:solidFill>
                <a:srgbClr val="000000"/>
              </a:solidFill>
              <a:latin typeface="Gill Sans MT"/>
            </a:endParaRPr>
          </a:p>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
          <p:cNvSpPr txBox="1"/>
          <p:nvPr/>
        </p:nvSpPr>
        <p:spPr>
          <a:xfrm>
            <a:off x="1042560" y="836280"/>
            <a:ext cx="7643880" cy="4800600"/>
          </a:xfrm>
          <a:prstGeom prst="rect">
            <a:avLst/>
          </a:prstGeom>
          <a:noFill/>
          <a:ln w="0">
            <a:noFill/>
          </a:ln>
        </p:spPr>
        <p:txBody>
          <a:bodyPr anchor="t">
            <a:normAutofit fontScale="83000"/>
          </a:bodyPr>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تراعي الطالبة ما يلي في تقديم الوسيلتين:</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بداع والتميز والتجديد في فكرة التقديم والوسائل وتنفيذها.</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ند تقديم الطالبة لوسيلتها تكون على دراية تامة بالأهداف التي تحققها الوسيلة وكيفية تقديمها للطفل. </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يكون مستوى صعوبة الوسيلة مناسب للأطفال ما قبل المدرسة وقادر على اثارة تفكيرهم، وان تكون مناسبة لعدة مستويات من التفكير.</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دم ورقتي تحضير لكلا الوسيلتين.</a:t>
            </a:r>
            <a:endParaRPr b="0" lang="en-US" sz="3200" spc="-1" strike="noStrike">
              <a:solidFill>
                <a:srgbClr val="000000"/>
              </a:solidFill>
              <a:latin typeface="Gill Sans MT"/>
            </a:endParaRPr>
          </a:p>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
          <p:cNvSpPr txBox="1"/>
          <p:nvPr/>
        </p:nvSpPr>
        <p:spPr>
          <a:xfrm>
            <a:off x="971640" y="549000"/>
            <a:ext cx="7921440" cy="5576760"/>
          </a:xfrm>
          <a:prstGeom prst="rect">
            <a:avLst/>
          </a:prstGeom>
          <a:noFill/>
          <a:ln w="0">
            <a:noFill/>
          </a:ln>
        </p:spPr>
        <p:txBody>
          <a:bodyPr anchor="t">
            <a:normAutofit fontScale="86000"/>
          </a:bodyPr>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رتيب مهارة تتطلب من الطفل أن يكون مدركاً للاختلافات الموجودة بين الأشياء وان يعيد تنظيم تلك الأشياء تبعاً لتلك الاختلافات وأن يتعلم الطفل استراتيجية معينه للترتيب.</a:t>
            </a:r>
            <a:endParaRPr b="0" lang="en-US" sz="3200" spc="-1" strike="noStrike">
              <a:solidFill>
                <a:srgbClr val="000000"/>
              </a:solidFill>
              <a:latin typeface="Gill Sans MT"/>
            </a:endParaRPr>
          </a:p>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أن يرتب الطفل خمسة أقلام مختلفة الطول من الأقصر الى الأطول، الطفل يستطيع ترتيب الأقلام إذا استطاع فهم معنى كل من الأقصر والأطول.</a:t>
            </a:r>
            <a:endParaRPr b="0" lang="en-US" sz="3200" spc="-1" strike="noStrike">
              <a:solidFill>
                <a:srgbClr val="000000"/>
              </a:solidFill>
              <a:latin typeface="Gill Sans MT"/>
            </a:endParaRPr>
          </a:p>
          <a:p>
            <a:pPr marL="313920" indent="-2430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6" name=""/>
          <p:cNvSpPr txBox="1"/>
          <p:nvPr/>
        </p:nvSpPr>
        <p:spPr>
          <a:xfrm>
            <a:off x="1186920" y="404280"/>
            <a:ext cx="7788600" cy="4800600"/>
          </a:xfrm>
          <a:prstGeom prst="rect">
            <a:avLst/>
          </a:prstGeom>
          <a:noFill/>
          <a:ln w="0">
            <a:noFill/>
          </a:ln>
        </p:spPr>
        <p:txBody>
          <a:bodyPr anchor="t">
            <a:normAutofit fontScale="88000"/>
          </a:bodyPr>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طفال المرحلة الحسية الحركية يستطيعون القيام بترتيب ثلاثة من الاشياء وذلك اذا كان من السهل عليهم إدراك اختلاف احجامها بسهولة.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يعد الترتيب المستوى الاعلى من مستويات المقارنة، لانه يعتمد على المقارنة بين اكثر من شيئين.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لتصنيف اسهل من التسلسل بالنسبة للطفل لان التسلسل لا يعتمد فقط على الادراك الحسي بل يحتوي على التمييز بين الاطوال والمساحات...</a:t>
            </a:r>
            <a:endParaRPr b="0" lang="en-US" sz="2700" spc="-1" strike="noStrike">
              <a:solidFill>
                <a:srgbClr val="000000"/>
              </a:solidFill>
              <a:latin typeface="Gill Sans MT"/>
            </a:endParaRPr>
          </a:p>
          <a:p>
            <a:pPr marL="321120" indent="-248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title"/>
          </p:nvPr>
        </p:nvSpPr>
        <p:spPr>
          <a:xfrm>
            <a:off x="457200" y="304560"/>
            <a:ext cx="8153280" cy="609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نمو مفهوم التسلسل عند الطفل:</a:t>
            </a:r>
            <a:endParaRPr b="0" lang="en-US" sz="3500" spc="-1" strike="noStrike">
              <a:solidFill>
                <a:srgbClr val="1e2124"/>
              </a:solidFill>
              <a:latin typeface="Gill Sans MT"/>
            </a:endParaRPr>
          </a:p>
        </p:txBody>
      </p:sp>
      <p:sp>
        <p:nvSpPr>
          <p:cNvPr id="4788" name=""/>
          <p:cNvSpPr txBox="1"/>
          <p:nvPr/>
        </p:nvSpPr>
        <p:spPr>
          <a:xfrm>
            <a:off x="1066320" y="1294920"/>
            <a:ext cx="7543800" cy="4800600"/>
          </a:xfrm>
          <a:prstGeom prst="rect">
            <a:avLst/>
          </a:prstGeom>
          <a:noFill/>
          <a:ln w="0">
            <a:noFill/>
          </a:ln>
        </p:spPr>
        <p:txBody>
          <a:bodyPr anchor="t">
            <a:normAutofit fontScale="91000"/>
          </a:bodyPr>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بدأ الترتيب في النمو عند الاطفال في المرحلة الحس حركية فالطفل قبل سن سنتين يحب العمل في اللعب المتداخله. </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تعلم الطفل وضع الاشياء في صفوف مرتبة على أساس الطول اوالعرض او الارتفاع او الحجم في البداية.</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نتقل الطفل الى ترتيب خصائص اخرى مثل الالوان (فاتح غامق) و القوام ( خشن ناعم)  والاصوات( عالي منخفض).</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عندما يصبح الطفل قادرا على الترتيب يمكنه تدريجيا ان يصل الى مستوى </a:t>
            </a:r>
            <a:r>
              <a:rPr b="1" lang="ar-SA" sz="2800" spc="-1" strike="noStrike">
                <a:solidFill>
                  <a:srgbClr val="ff0000"/>
                </a:solidFill>
                <a:latin typeface="Gill Sans MT"/>
              </a:rPr>
              <a:t>الترتيب المزدوج</a:t>
            </a:r>
            <a:endParaRPr b="0" lang="en-US" sz="28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9" name="PlaceHolder 1"/>
          <p:cNvSpPr>
            <a:spLocks noGrp="1"/>
          </p:cNvSpPr>
          <p:nvPr>
            <p:ph type="title"/>
          </p:nvPr>
        </p:nvSpPr>
        <p:spPr>
          <a:xfrm>
            <a:off x="1066320" y="304920"/>
            <a:ext cx="7543800" cy="121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الترتيب والممارسات الصفية للأطفال:</a:t>
            </a:r>
            <a:br>
              <a:rPr sz="3900"/>
            </a:br>
            <a:endParaRPr b="0" lang="en-US" sz="3500" spc="-1" strike="noStrike">
              <a:solidFill>
                <a:srgbClr val="1e2124"/>
              </a:solidFill>
              <a:latin typeface="Gill Sans MT"/>
            </a:endParaRPr>
          </a:p>
        </p:txBody>
      </p:sp>
      <p:sp>
        <p:nvSpPr>
          <p:cNvPr id="4790" name=""/>
          <p:cNvSpPr txBox="1"/>
          <p:nvPr/>
        </p:nvSpPr>
        <p:spPr>
          <a:xfrm>
            <a:off x="1066320" y="1447560"/>
            <a:ext cx="7543800" cy="4647960"/>
          </a:xfrm>
          <a:prstGeom prst="rect">
            <a:avLst/>
          </a:prstGeom>
          <a:noFill/>
          <a:ln w="0">
            <a:noFill/>
          </a:ln>
        </p:spPr>
        <p:txBody>
          <a:bodyPr anchor="t">
            <a:normAutofit fontScale="93000"/>
          </a:bodyPr>
          <a:p>
            <a:pPr marL="339480" indent="-2628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جب ان تلاحظ المعلمة الانشطة التي قد تظهر تعلم الاطفال ترتيب الاشياء ، مثلا استخدام كلمات مثل الاول والاخير، كما في اللعب الدرامي عندما يمثل دور راكب قطار او طائرة  عندما يجلس الاطفال في صف الاول والثاني والثالث...،وايضا تلاحظ المعلمة مستوى الطفل في ترتيب الادوات مثل ترتيب المستطيلات حسب اطوالها.</a:t>
            </a:r>
            <a:endParaRPr b="0" lang="en-US" sz="32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المعلمة يجب ان تشجع الطفل على اجراء مقارنات وتستخدم مقارنات وعبارات خاصة بالتسلس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لا: من الاكبر من الاصغ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من الحذاء الاطول</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وصل اول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يجلس في المقعد الاخي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3" name=""/>
          <p:cNvSpPr txBox="1"/>
          <p:nvPr/>
        </p:nvSpPr>
        <p:spPr>
          <a:xfrm>
            <a:off x="1434960" y="1447560"/>
            <a:ext cx="7499520" cy="48006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بدا انشطة تعليم الترتيب بمجموعات لا يزيد عددها عن </a:t>
            </a:r>
            <a:r>
              <a:rPr b="1" lang="ar-SA" sz="3200" spc="-1" strike="noStrike">
                <a:solidFill>
                  <a:srgbClr val="000000"/>
                </a:solidFill>
                <a:latin typeface="Gill Sans MT"/>
              </a:rPr>
              <a:t>3</a:t>
            </a:r>
            <a:r>
              <a:rPr b="1" lang="ar-SA" sz="3200" spc="-1" strike="noStrike">
                <a:solidFill>
                  <a:srgbClr val="000000"/>
                </a:solidFill>
                <a:latin typeface="Gill Sans MT"/>
              </a:rPr>
              <a:t> عناصر حيث يقوم الطفل باختيار عنصرين من المجموعة ويقارن بينها ويختار بينها العنصر الذي يحقق القاعدة (الاطول مثلا) ، ثم يقارن العنصر الذي اختاره مع العنصر الاخير، وهنا يستطيع تحديد العنصر الاول في السلسلة ومن ثم يقارن بين العنصرين المتبقيين مره اخرى ويكمل السلس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5" name=""/>
          <p:cNvSpPr txBox="1"/>
          <p:nvPr/>
        </p:nvSpPr>
        <p:spPr>
          <a:xfrm>
            <a:off x="1116000" y="980640"/>
            <a:ext cx="7499520" cy="48006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لاحقا يجب ان تتضمن انشطة التسلسل اربعة عناصر واكثر ولترتيب العناصر يضع الطفل شيئين ويقارنهما والعنصر الناتج من المقارنة الاولى يتم مقارنته بالعنصر التالي من المجموعة وهكذا.وحينما يتحدد العنصر الاول في السلسلة فإن الطفل يكرر الاجراء نفسه مع بقية العناصر وقد يبدو ذلك بسيطا للبالغين ولكنه اكثر تعقيدا للاطفال.</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04:54:44Z</dcterms:created>
  <dc:creator>areej</dc:creator>
  <dc:description/>
  <dc:language>en-US</dc:language>
  <cp:lastModifiedBy>Lama Aljathlan</cp:lastModifiedBy>
  <dcterms:modified xsi:type="dcterms:W3CDTF">2016-11-01T10:54:38Z</dcterms:modified>
  <cp:revision>28</cp:revision>
  <dc:subject/>
  <dc:title>الشريحة 1</dc:title>
</cp:coreProperties>
</file>