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5A6-3C1B-4A23-9A21-3EBBCC2E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428-2CC9-416D-8845-FEBD3E9D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E6E-82D4-439B-BF6E-73AF6F09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48D-D8CD-4776-9FE0-943EDA63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9A64-C76B-447B-A216-6B4E967A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B18-E34D-4BAD-BFF5-4EA476D7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4DDF-FAF5-4160-8BE4-B2AB940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FC62-BCA8-405D-86C9-CDBC3AB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EA20-EC5C-40AF-9505-E046180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2A4A-FABF-4DCA-8522-4CFBE4E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A7F-C948-48B9-9396-1FEF4830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985-601F-4D18-868C-2B3C8C65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51A6-5C9A-4E11-AABA-F7C0334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1EF-308A-4B47-9F73-0A1F6BE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446A-21BB-4E11-A003-678063FA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8916-A786-43D7-9919-260C3B78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B6FB-996A-48A5-852F-04E90C54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6DCC-03C8-4C4D-8ABE-E9286208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7CCC-39E3-4BCA-9C05-1EA5F6F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3B49-A0ED-478E-8992-DAA5F207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6C05-E1D8-443F-B1B5-5028C8B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E68A-60C1-4B87-8112-10D8D19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14D-5A40-4899-AF23-49F2D43D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8F14-1B84-4F09-870C-A8D9DC3A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E18C-1DBE-4126-9907-62EB64A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DC8F-8936-450D-A851-38BF315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F7C2-E6A5-47E4-880C-BED0B29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09B7-A2D5-4A78-92BE-3F258D4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4308-AC22-4F46-A515-AC490626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1685-6D4C-4D0C-A191-04769DBE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0FE8-E527-4873-899E-761F4DF4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69E3-F617-4CDF-9271-ECF911CA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1966-4A05-4179-A38D-867E0A2A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409-EE83-4DAC-AFED-95650D7C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47B9E-82A6-4175-AE21-CD5EE04C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CFF8-A4DC-478D-947B-6DCBA51C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F22A-940B-4AF3-A962-AD82199D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2F1B-1DE0-48BF-9754-809AF12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341D-72F4-4B70-9B1B-75F2AAA5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956D-AA69-4BA8-B57E-1176731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838D-7D57-4BF9-B828-ACEB43CB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5AB3-6B9F-4837-A852-F5AE2566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45D9-DB76-4B32-AB65-4ED67152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FBA0-1DFC-4B06-B8C1-C860E6A7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F20-7379-4BB1-97C3-2042DDD3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9D509-AB87-454C-B77C-F93DF669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1741-7F26-4892-9314-DACB66D5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2C4A-6268-4A81-80BE-D8A8FB6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4079-A591-442F-AA51-F6282363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E9448-E1B3-41EF-AB77-44F9F735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F7C6-FC7E-4159-8930-FBFD860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019C-AC07-4A17-A2E7-87AE4D4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FE5A-38CA-4CC2-8264-240829E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E91C2-E7FA-4515-99BB-E5EE3ED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4A30-2A1D-45EF-8913-DDC3AD55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251-D0D6-4760-9B29-4E487E4D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DB94-C157-48CF-922A-98640A18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9AB5A-C5A8-4B92-A022-96ACB3EC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DB46-F230-47A3-AC5B-43C1A49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A85D-6501-46BB-9A52-2179AD0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BAA5-6BC5-4B77-A3AF-37408DB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9D71D-9F01-4CA6-A1D8-E5A69C16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2BF1-8CFE-4A0E-80FA-1206E0F6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614A2-0C9D-42E3-8456-39C1DC6E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6B02-09D8-4962-8464-403917F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D318-B0F6-438C-8F41-85792FA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C51-7B2A-4E13-9A22-EA702D7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5419-0E96-4F36-8450-415C1B3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1A3C3-4C38-42FA-9E06-D5D9EBBB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97B19-30CA-449F-B73F-4F0DFCD6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8E4-D90A-45E8-BD12-105BF7C5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969-0867-40AB-B8FC-2B34CF0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09E-EBED-43EB-8B0D-DD9AF4F1996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A0A1-8A9D-4ECB-A006-B82BB0FAF08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103A-63D4-4EE4-9E8E-8A7861B0196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C62-30FA-4486-9C81-E717FD535BB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6458-9A58-4353-94B8-C9CD85A86CF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9AC6-A258-4374-90BB-E2E10AA5C54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55640" y="2565000"/>
            <a:ext cx="4032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البيئة المادية للروضة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بنى الروضة ومساحت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ما هو مبنى الروضة ؟؟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    يقصد به حديقة الروضة والحجرات والمرافق اللازمة لإشباع حاجات نمو الأطفال (الجسمية والحركية والعقلية والاجتماعية والوجدانية) 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ساحة الروضة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قدير مساحة الروضة يتحدد بأهدافها ، والإمكانات المادية المتوفرة لها ، وعدد الأطفال وأعمارهم والعاملين ب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دراسات التي أجريت على مساحة الروضة نصحت بأن تكون المساحة المخصصة في الداخل لحركة الأطفال ما ب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,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تر مربع ، بخلاف المساحة التي يحتاجها الأثاث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ساحة الروضة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ساحة التي يحتاجها الأطفال في الملعب الخارج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ترمربع فراغ على الأقل لكل طفل دون الأجهزة والأدو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فضل بعض التربويين أن تكون الروضة متوسطة الحجم وبها قراب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8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طفل ، حتى يسهل الإشراف عليهم ومتابعتهم والتعرف عليهم و مراعاة الفروق الفردية بينه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4000" y="620280"/>
            <a:ext cx="83628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راعى استخدام دهانات غير ضارة بصحة الأطفال ، وأن تكون ذات ألوان زاه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راعى عند تصميم النوافذ أن تكون في مستوى نظر الاطفال حتى يتفاعلوا مع  الظواهر الطبيع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راعى استخدام الأرضيات المناسبة لحركة الاطفال ولعبهم ولا تعرضهم للخطر ، ويتوسط ملمسها بين النعومة والخشون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547640" y="549000"/>
            <a:ext cx="734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376092"/>
                </a:solidFill>
                <a:uFillTx/>
                <a:latin typeface="Tahoma"/>
                <a:cs typeface="Traditional Arabic"/>
              </a:rPr>
              <a:t>مكونات مبنى الروضة 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سم الأول 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بنى الرئيسي ويتكون م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حجرات نشاط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صالة الاستقب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حجرات الإدارة وتتكون من :حجرة العاملين،حجرة الاستقبال والاجتماعات ، حجرة الطبيب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مرافق أساسية وتتكون من : دورات المياه ، المطبخ ، الحديق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" descr="C:\Users\Dell\Desktop\ورش تدريب 1\ملف صور\6920alsh3er[1].jpg"/>
          <p:cNvPicPr/>
          <p:nvPr/>
        </p:nvPicPr>
        <p:blipFill>
          <a:blip r:embed="rId2"/>
          <a:stretch/>
        </p:blipFill>
        <p:spPr>
          <a:xfrm>
            <a:off x="2771640" y="260280"/>
            <a:ext cx="26272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547640" y="549000"/>
            <a:ext cx="734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376092"/>
                </a:solidFill>
                <a:uFillTx/>
                <a:latin typeface="Tahoma"/>
                <a:cs typeface="Traditional Arabic"/>
              </a:rPr>
              <a:t>مكونات مبنى الروضة 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سم الثاني  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رافق الفرعية وتشم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لعب – صالة ألعاب رياضية – حديقة حيوان صغير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كتبة الطفل – مسرح – مرسم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رشة تصنيع الوسائل التعليمية – معمل وسائل سمعية وبصر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خزن – حجرة الخدمة العامة وغسيل الملاب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كونات مبنى الروض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0602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ولاً :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سم الخاص بالأطفال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     أ/ صالة الاستقبال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     ب/ حجرات النشاط الداخل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كونات مبنى الروض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0602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ثانيا :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هيئة الإدارة وتتكون من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- حجرة المدير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ب- حجرة المشرفات (المعلمات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ج- قاعة الاجتماع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د- حجرة الفحص الطب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كونات مبنى الروض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0602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ثالثا :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رافق الأساسي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دورات مياه الأطفال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جب أن يخصص للأطفال دورات خاصة بهم وتكون قريبة من غرف النشاط والملعب 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حتوي على أحواض منخفضة لغسل الأيدي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ا يزيد ارتفاع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عنصر نائب للمحتوى 6" descr="kids-bathroom-ideas-ponte-giulio1.jpg"/>
          <p:cNvPicPr/>
          <p:nvPr/>
        </p:nvPicPr>
        <p:blipFill>
          <a:blip r:embed="rId1"/>
          <a:stretch/>
        </p:blipFill>
        <p:spPr>
          <a:xfrm>
            <a:off x="457200" y="1855800"/>
            <a:ext cx="4038480" cy="4014720"/>
          </a:xfrm>
          <a:prstGeom prst="rect">
            <a:avLst/>
          </a:prstGeom>
          <a:ln w="0">
            <a:noFill/>
          </a:ln>
        </p:spPr>
      </p:pic>
      <p:pic>
        <p:nvPicPr>
          <p:cNvPr id="280" name="عنصر نائب للمحتوى 5" descr="kids-bathroom-ideas-ponte-giulio2.jpg"/>
          <p:cNvPicPr/>
          <p:nvPr/>
        </p:nvPicPr>
        <p:blipFill>
          <a:blip r:embed="rId2"/>
          <a:stretch/>
        </p:blipFill>
        <p:spPr>
          <a:xfrm>
            <a:off x="4648320" y="184464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63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76092"/>
                </a:solidFill>
                <a:uFillTx/>
                <a:latin typeface="Calibri"/>
                <a:cs typeface="Traditional Arabic"/>
              </a:rPr>
              <a:t>محاور المحاضر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339640" y="2707920"/>
            <a:ext cx="632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وقع الروضة وشكلها الع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بنى الروضة ومساحت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كونات مبنى الروض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حتوي على أحواض منخفضة لغسل الأيدي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ا يزيد ارتفاع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عنصر نائب للمحتوى 4" descr="kids-bathroom-ideas-ponte-giulio.jpg"/>
          <p:cNvPicPr/>
          <p:nvPr/>
        </p:nvPicPr>
        <p:blipFill>
          <a:blip r:embed="rId1"/>
          <a:stretch/>
        </p:blipFill>
        <p:spPr>
          <a:xfrm>
            <a:off x="457200" y="2470320"/>
            <a:ext cx="4038480" cy="2786040"/>
          </a:xfrm>
          <a:prstGeom prst="rect">
            <a:avLst/>
          </a:prstGeom>
          <a:ln w="0">
            <a:noFill/>
          </a:ln>
        </p:spPr>
      </p:pic>
      <p:pic>
        <p:nvPicPr>
          <p:cNvPr id="283" name="عنصر نائب للمحتوى 6" descr="913966.gif.jpg"/>
          <p:cNvPicPr/>
          <p:nvPr/>
        </p:nvPicPr>
        <p:blipFill>
          <a:blip r:embed="rId2"/>
          <a:stretch/>
        </p:blipFill>
        <p:spPr>
          <a:xfrm>
            <a:off x="4648320" y="2482920"/>
            <a:ext cx="40384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حتوي على مراحيض منخفضة بحجم يلائم الأطفال أي لا يزيد ارتفاع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عنصر نائب للمحتوى 9" descr="b_prodotti-69607-rel9e3dcb33f2ae42c89fb04a092c3ef514.jpg"/>
          <p:cNvPicPr/>
          <p:nvPr/>
        </p:nvPicPr>
        <p:blipFill>
          <a:blip r:embed="rId1"/>
          <a:stretch/>
        </p:blipFill>
        <p:spPr>
          <a:xfrm>
            <a:off x="684360" y="1844640"/>
            <a:ext cx="3078000" cy="2311560"/>
          </a:xfrm>
          <a:prstGeom prst="rect">
            <a:avLst/>
          </a:prstGeom>
          <a:ln w="0">
            <a:noFill/>
          </a:ln>
        </p:spPr>
      </p:pic>
      <p:pic>
        <p:nvPicPr>
          <p:cNvPr id="286" name="عنصر نائب للمحتوى 8" descr="BABY TOILET POPCOLORS 22026.jpg"/>
          <p:cNvPicPr/>
          <p:nvPr/>
        </p:nvPicPr>
        <p:blipFill>
          <a:blip r:embed="rId2"/>
          <a:stretch/>
        </p:blipFill>
        <p:spPr>
          <a:xfrm>
            <a:off x="4979880" y="191628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287" name="صورة 10" descr="b_prodotti-69612-rel6a56d04aac8b462d8cd05d675304b6a0.jpg"/>
          <p:cNvPicPr/>
          <p:nvPr/>
        </p:nvPicPr>
        <p:blipFill>
          <a:blip r:embed="rId3"/>
          <a:stretch/>
        </p:blipFill>
        <p:spPr>
          <a:xfrm>
            <a:off x="539640" y="4149720"/>
            <a:ext cx="3235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عنصر نائب للمحتوى 6" descr="Pendle-Junior-Cubicles.jpg"/>
          <p:cNvPicPr/>
          <p:nvPr/>
        </p:nvPicPr>
        <p:blipFill>
          <a:blip r:embed="rId1"/>
          <a:stretch/>
        </p:blipFill>
        <p:spPr>
          <a:xfrm>
            <a:off x="250920" y="2349360"/>
            <a:ext cx="4038480" cy="3024360"/>
          </a:xfrm>
          <a:prstGeom prst="rect">
            <a:avLst/>
          </a:prstGeom>
          <a:ln w="0">
            <a:noFill/>
          </a:ln>
        </p:spPr>
      </p:pic>
      <p:pic>
        <p:nvPicPr>
          <p:cNvPr id="289" name="عنصر نائب للمحتوى 5" descr="img_1562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كون أبواب دورات المياه مفتوحة من أسف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ومن أع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عنصر نائب للمحتوى 6" descr="Sydney-Cubicles.jpg"/>
          <p:cNvPicPr/>
          <p:nvPr/>
        </p:nvPicPr>
        <p:blipFill>
          <a:blip r:embed="rId1"/>
          <a:stretch/>
        </p:blipFill>
        <p:spPr>
          <a:xfrm>
            <a:off x="3419640" y="1916280"/>
            <a:ext cx="5184720" cy="210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2" name="عنصر نائب للمحتوى 5" descr="Brecon-Junior-Cubicles.jpg"/>
          <p:cNvPicPr/>
          <p:nvPr/>
        </p:nvPicPr>
        <p:blipFill>
          <a:blip r:embed="rId2"/>
          <a:stretch/>
        </p:blipFill>
        <p:spPr>
          <a:xfrm>
            <a:off x="324000" y="4437000"/>
            <a:ext cx="5184720" cy="210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كون أبواب دورات المياه مفتوحة من أسف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ومن أع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مطبخ الأطفال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عنصر نائب للمحتوى 6" descr="IMG_6456-blog.jpg"/>
          <p:cNvPicPr/>
          <p:nvPr/>
        </p:nvPicPr>
        <p:blipFill>
          <a:blip r:embed="rId2"/>
          <a:stretch/>
        </p:blipFill>
        <p:spPr>
          <a:xfrm>
            <a:off x="571680" y="259236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296" name="عنصر نائب للمحتوى 5" descr="Culinary-Center---children-cooking.gif"/>
          <p:cNvPicPr/>
          <p:nvPr/>
        </p:nvPicPr>
        <p:blipFill>
          <a:blip r:embed="rId3"/>
          <a:stretch/>
        </p:blipFill>
        <p:spPr>
          <a:xfrm>
            <a:off x="4762440" y="259236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حديقة الأطفال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2852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جب أن يكون لكل طفل في الحديقة مسا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ر مربع تقريباً ، بمعنى أن الروضة التي به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طفلاً لابد أن يكون لها حديقة لا تقل مساحت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تر مرب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6836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ويجب أن تحتوي الحديقة على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اكن فسيحة للعب الأطف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ظائر لبعض الحيوانات والطيور الألي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اكن للزراعة والاستنب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لعاب وأجهزة النمو الجسمي وتربية القو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تابع المرافق الأساسي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88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مكان حفظ الأدوات اللازمة للأنشطة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مكان للشرب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حجرة الخدمات العامة والغسيل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حجرة الحارس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24000" y="2349360"/>
            <a:ext cx="8362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ffffff"/>
                </a:solidFill>
                <a:uFillTx/>
                <a:latin typeface="Calibri"/>
                <a:cs typeface="Traditional Arabic"/>
              </a:rPr>
              <a:t>رابعا : </a:t>
            </a:r>
            <a:r>
              <a:rPr b="0" lang="ar-SA" sz="35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الأثاث والتجهيزات والأدوات 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123640" y="549000"/>
            <a:ext cx="67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76092"/>
                </a:solidFill>
                <a:uFillTx/>
                <a:latin typeface="Tahoma"/>
                <a:cs typeface="Traditional Arabic"/>
              </a:rPr>
              <a:t>أثاث الروضة ومواصفاته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قوي ومت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مريح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سهل التنظيف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مصنوع من خامات تلائم الغرض من استعما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63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76092"/>
                </a:solidFill>
                <a:uFillTx/>
                <a:latin typeface="Calibri"/>
                <a:cs typeface="Traditional Arabic"/>
              </a:rPr>
              <a:t>أولا: موقع الروضة وشكلها الع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339640" y="2707920"/>
            <a:ext cx="632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قصد بالموقع هو الأرض التي سيقام عليها المبنى وشكله الخارج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123640" y="1484280"/>
            <a:ext cx="67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ثاث حجرة النشاط لا بد أن يسمح بـ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مرونة في التخطيط والتكيف ليلائم حاجات الأطفال والخبرات التي يقومون ب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ساعد الطفل على الاعتماد على نفس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24000" y="2636640"/>
            <a:ext cx="8362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 rtl="1">
              <a:lnSpc>
                <a:spcPct val="1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ffffff"/>
                </a:solidFill>
                <a:uFillTx/>
                <a:latin typeface="Calibri"/>
                <a:cs typeface="Traditional Arabic"/>
              </a:rPr>
              <a:t>شروط قطع الأثاث الأساسية في الروضة 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كراسي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عنصر نائب للمحتوى 7" descr="kindergarten_plastic_chairs_wholesale_wholesale_children_plastic_chairs_wholesale_kids_chairs.jpg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ن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تكون خفيفة يسهل حملها وتحريكها بسهول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ناسب في ارتفاعها أطوال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كافية لعدد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كراسي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يفضل أن تكون من النوع الذي يمكن رصه فوق بعض ، ليسهل حملها ونقلها وتنظيف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0440" y="1600200"/>
            <a:ext cx="403236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كراسي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نتجنب أن تكون للكراسي زوايا حاد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الكراسي مطلية بألوان محببة ل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0440" y="1847880"/>
            <a:ext cx="4032360" cy="403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ناض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كون متينة الصن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حوافها غير حاد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سهلة التنظيف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8360" y="1773360"/>
            <a:ext cx="3024000" cy="216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8" name="صورة 4" descr="651303653_973.jpg"/>
          <p:cNvPicPr/>
          <p:nvPr/>
        </p:nvPicPr>
        <p:blipFill>
          <a:blip r:embed="rId2"/>
          <a:stretch/>
        </p:blipFill>
        <p:spPr>
          <a:xfrm>
            <a:off x="468360" y="4149720"/>
            <a:ext cx="3024000" cy="2303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ناض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ن تكون أحجامها متفاوت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ن تكون أشكالها متنوعة نظرا لتنوع أنشطة الأطفال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684360" y="1628640"/>
            <a:ext cx="3166920" cy="453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ناض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89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24" name="عنصر نائب للمحتوى 4" descr="2701512.jpg"/>
          <p:cNvPicPr/>
          <p:nvPr/>
        </p:nvPicPr>
        <p:blipFill>
          <a:blip r:embed="rId2"/>
          <a:stretch/>
        </p:blipFill>
        <p:spPr>
          <a:xfrm>
            <a:off x="4935600" y="1600200"/>
            <a:ext cx="3463920" cy="4853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أرف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قواطع عمودية وأفقية متحرك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يكون ارتفاعها يسمح للطفل بتناول الأشياء وإعادتها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68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م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لها عجلات تساعد على تحريكها من مكان إلى آخ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8360" y="1628640"/>
            <a:ext cx="266364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28" name="Picture 2" descr="C:\Documents and Settings\userabc\Desktop\صور\images.jpg"/>
          <p:cNvPicPr/>
          <p:nvPr/>
        </p:nvPicPr>
        <p:blipFill>
          <a:blip r:embed="rId2"/>
          <a:stretch/>
        </p:blipFill>
        <p:spPr>
          <a:xfrm>
            <a:off x="468360" y="4076640"/>
            <a:ext cx="2663640" cy="256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215968"/>
                </a:solidFill>
                <a:uFillTx/>
                <a:latin typeface="Calibri"/>
                <a:cs typeface="Traditional Arabic"/>
              </a:rPr>
              <a:t>الألواح والسبور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خشب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- وب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مغناطيس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242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إنشاء الروضة في أماكن التجمعات السكنية قريبا من منازل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contenu 2"/>
          <p:cNvSpPr/>
          <p:nvPr/>
        </p:nvSpPr>
        <p:spPr>
          <a:xfrm>
            <a:off x="468360" y="3284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ما فائدة هذا الشرط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215968"/>
                </a:solidFill>
                <a:uFillTx/>
                <a:latin typeface="Calibri"/>
                <a:cs typeface="Traditional Arabic"/>
              </a:rPr>
              <a:t>التجهيز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تبريد والتدف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مطبخ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اتص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غسي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عرض المرئية المسموع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أمن والسلا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  <a:cs typeface="Traditional Arabic"/>
              </a:rPr>
              <a:t>الأدوات والخام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دوات تناول الطع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دوات ممارسة الأنشط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خامات ، مثل ( الخامات الفنية ، الخامات الأكاديمية 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واد الغذائية ، مواد الانب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620280"/>
            <a:ext cx="83628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قرب الروضة يشعر الطفل بالأمان مع جيرانه من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جنب الطفل الاحساس بالغربة والشعور بالبعد عن أسر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بناء الحي الواحد غالبا ما ينتمون إلى بيئة متقاربة في العادات والتقاليد والمستوى الثقافي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سهولة الوصول إلى الروضة 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عدم استخدام المواصلات لمسافات بعيدة قد تعرض الأطفال للأخطار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عدم إرهاق الأسرة ماديا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979280" y="1600200"/>
            <a:ext cx="6707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إنشاء الروضات بجوار مؤسسات عمل الأمه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ختيار مواقع بالمدن الجديدة التي يسكن بها الشباب لإنشاء رياض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تصال الروضة بالطريق العام لتيسير وصول الخدمات إلي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قرب من المساحات الخضراء والحدائق بقدر الإمكا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7375e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763280" y="1600200"/>
            <a:ext cx="6923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توفر المساحة المناسبة لإقامة المباني والمرافق التي تتيح للأطفال التحرك بح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ختيار منطقة صحية تصلها أشعة الشمس والهواء الطل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قرب من أماكن الخدمات مثل : (مستوصف ، صيدلية ، محلات بيع الأغذية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بعد عن أماكن التلوث السمعي والبصر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7375e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79280" y="1600200"/>
            <a:ext cx="6707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. البعد عن الأماكن المزدحمة مثل الأسواق والمصان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بعد عن الأماكن المزعجة نفسيا للأطفال مثل المقابر والسجون وأقسام الشرط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بعد عن الأماكن النائية غير المأهولة والبعيدة عن أماكن الخدم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7375e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123640" y="549000"/>
            <a:ext cx="67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فضل أن تأخذ الروضة شكل ( الفيلا ) من طابق واحد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فضل ألا يزيد ارتفاع درجات السلم عن 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15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درجة حتى يناسب حركة الأطفال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ضروري أن تتوفر مداخل ومخارج إضافية للمبنى لضمان سلامة الأطفال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ضروري أن يفتح باب الروضة على شارع جانبي من أجل سلامة خروج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0:48:08Z</dcterms:created>
  <dc:creator>user</dc:creator>
  <dc:description/>
  <dc:language>en-US</dc:language>
  <cp:lastModifiedBy>SSC1</cp:lastModifiedBy>
  <dcterms:modified xsi:type="dcterms:W3CDTF">2014-10-14T18:01:49Z</dcterms:modified>
  <cp:revision>43</cp:revision>
  <dc:subject/>
  <dc:title> البيئة المادية للروضة</dc:title>
</cp:coreProperties>
</file>