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C15-D28A-4B4A-A2C9-FE935141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CBA-06BE-4567-9164-8F48E1C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FDF-E416-40F2-B055-20BF05DB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F38-5AAE-4C78-AB19-327E6474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F73C-5218-4090-9712-2A2ABD3C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8EC0-147E-4364-911A-70729F6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98F-17F6-4E67-A866-6F8E554A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D00-9AA0-4FBD-A35E-ABC049C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D46-5E8F-4A49-B9CC-FDE8350B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0C3D-5966-4877-A380-3BC65B6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B133-F1D8-4A76-A184-3837F39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A6E-7C45-408D-90C5-F070192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28F-96EF-4C05-A12C-7B63BC6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DB3-A119-41B9-9E9F-989F188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799-5862-4477-A33B-19115BE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796E-B116-4774-BFCF-6B01349B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2D80-1444-4F8E-BED7-F5A05E8A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115A-645E-4179-9D53-857ED6E9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E046-8730-4A48-BCFA-47AAA9D8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92C9-DA65-46A6-A48D-F38DE03E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29D1-6E4B-4788-91FF-2CB3AF4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42FD-EC2B-494D-9F4D-E363782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10E-2EF1-4E66-85BD-D7F6E834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A593-494F-4815-9DA3-7F0D0849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D023-7010-4AE2-9805-B281D7A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6210-192D-46FE-AFC9-7FB3E39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D742-F736-4F3F-8C35-CD9805F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204A-B6E3-4521-B510-1B08EF8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8E64-C58E-44C3-9CC8-8A811366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1C87-7A2C-42E4-B142-81BBEC49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700B-BE6A-4A9A-B058-42622AB5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EFE0-4D76-44AE-8BFD-A2CDF43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83F5-D54F-4B4F-9243-980C73D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68D-1257-4144-8458-95058196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6015-F2F9-4050-84A9-705C70E7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1EB6-7A56-4CEB-BF69-9586912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2718-F394-478C-96DB-CF2DBD1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A049-9DFC-4E2C-BDDD-F87AC4D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9CC6-70AA-422A-B28E-36CF3D49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FA78-5B52-4210-B819-1283EBA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9204-8A54-4801-9A96-9A32D02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4113-6274-47D9-B6A6-451B67E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16A1-B8A7-48A0-B9C3-3CD5112D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D0DB-1177-4EFF-8FCF-B8D4D3C1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601-ABB3-4FE4-BC1D-9F2CFD04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BC31-4B9A-456F-8524-A9CCCE53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10B71-ADCF-44F1-B8DB-42F38CF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4F319-6E88-45E2-AE49-DBD0019D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6393-DF6D-4CFD-AD42-993903BB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0956-7F8C-42AC-A575-9F8EA8B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C92F-DEBA-4D99-A2D1-58243B9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0FFA-4162-4799-A8A6-FE247B2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0B1C-4C88-4C1F-A8A7-E6944AE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86D3-C477-4BA9-8337-D75D69A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752C-E21E-4311-85A0-2DD6C59D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DE5-DE8D-4077-AAF1-8B3469E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B44C-7759-4834-BE97-C632B1DF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B18F-8B01-4E75-B744-8CAEDFB9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58E6E-22C9-4679-A025-6230252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5350-0397-44C8-883A-EF4546A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D2F56-D2F2-49F8-840C-F33A85F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B24C-2DEF-44A5-AAD5-24CAD64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E621-C43C-492C-BBEE-1B30665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32FFD-C0D7-446F-AB46-786ED47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94C9-BB15-4820-ABAA-ECB82BD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6C1B-F0C2-4C9F-926D-D90ADF5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DEE-8895-4CB5-9D30-EF1E5F4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AE459-5559-40C4-9BAF-70776467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3FE5D-89EB-43CE-A8D4-DCD64B90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9D4F-C2A4-4316-A000-A05A41A0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F4E-42BB-45C7-980B-BF14D6D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4DB-F54B-4D31-9F1E-4DA0938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B4A-9EB9-49DF-AFE9-2DCA074BD17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7D9-CC9B-46EC-88FA-D79B6EF7323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9DCF-D19B-409B-B7A8-F85AD38B223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230-7109-4DCF-91CD-CF82CF3633A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82F3-5248-472D-9C76-5FC7DA41158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8601-79EB-4FAF-AB0C-0D29CC09E0F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55640" y="2565000"/>
            <a:ext cx="4032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البيئة المادية للروضة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بنى الروضة ومساحت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ما هو مبنى الروضة ؟؟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يقصد به حديقة الروضة والحجرات والمرافق اللازمة لإشباع حاجات نمو الأطفال (الجسمية والحركية والعقلية والاجتماعية والوجدانية) 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ساحة الروض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قدير مساحة الروضة يتحدد بأهدافها ، والإمكانات المادية المتوفرة لها ، وعدد الأطفال وأعمارهم والعاملين ب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دراسات التي أجريت على مساحة الروضة نصحت بأن تكون المساحة المخصصة في الداخل لحركة الأطفال ما ب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,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 مربع ، بخلاف المساحة التي يحتاجها الأثاث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ساحة الروض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ساحة التي يحتاجها الأطفال في الملعب الخارج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مربع فراغ على الأقل لكل طفل دون الأجهزة والأدو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فضل بعض التربويين أن تكون الروضة متوسطة الحجم وبها قراب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طفل ، حتى يسهل الإشراف عليهم ومتابعتهم والتعرف عليهم و مراعاة الفروق الفردية بينه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4000" y="620280"/>
            <a:ext cx="83628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استخدام دهانات غير ضارة بصحة الأطفال ، وأن تكون ذات ألوان زاه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عند تصميم النوافذ أن تكون في مستوى نظر الاطفال حتى يتفاعلوا مع  الظواهر الطبيع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راعى استخدام الأرضيات المناسبة لحركة الاطفال ولعبهم ولا تعرضهم للخطر ، ويتوسط ملمسها بين النعومة والخشون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547640" y="54900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مكونات مبنى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أول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بنى الرئيسي ويتكون م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حجرات نشاط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صالة الاستقب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حجرات الإدارة وتتكون من :حجرة العاملين،حجرة الاستقبال والاجتماعات ، حجرة الطبيب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مرافق أساسية وتتكون من : دورات المياه ، المطبخ ، الحديق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C:\Users\Dell\Desktop\ورش تدريب 1\ملف صور\6920alsh3er[1].jpg"/>
          <p:cNvPicPr/>
          <p:nvPr/>
        </p:nvPicPr>
        <p:blipFill>
          <a:blip r:embed="rId2"/>
          <a:stretch/>
        </p:blipFill>
        <p:spPr>
          <a:xfrm>
            <a:off x="2771640" y="260280"/>
            <a:ext cx="26272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547640" y="549000"/>
            <a:ext cx="734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مكونات مبنى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ثاني 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رافق الفرعية وتشم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لعب – صالة ألعاب رياضية – حديقة حيوان صغي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كتبة الطفل – مسرح – مرسم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رشة تصنيع الوسائل التعليمية – معمل وسائل سمعية وبصر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خزن – حجرة الخدمة العامة وغسيل الملاب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ولاً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سم الخاص بالأطفال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 أ/ صالة الاستقبال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     ب/ حجرات النشاط الداخل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ثانيا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هيئة الإدارة وتتكون من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- حجرة المدير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- حجرة المشرفات (المعلمات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ج- قاعة الاجتماع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- حجرة الفحص الطب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مكونات مبنى الروض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06028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ثالثا :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رافق الأساسي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دورات مياه الأطفال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جب أن يخصص للأطفال دورات خاصة بهم وتكون قريبة من غرف النشاط والملعب 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أحواض منخفضة لغسل الأيدي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عنصر نائب للمحتوى 6" descr="kids-bathroom-ideas-ponte-giulio1.jpg"/>
          <p:cNvPicPr/>
          <p:nvPr/>
        </p:nvPicPr>
        <p:blipFill>
          <a:blip r:embed="rId1"/>
          <a:stretch/>
        </p:blipFill>
        <p:spPr>
          <a:xfrm>
            <a:off x="457200" y="1855800"/>
            <a:ext cx="4038480" cy="4014720"/>
          </a:xfrm>
          <a:prstGeom prst="rect">
            <a:avLst/>
          </a:prstGeom>
          <a:ln w="0">
            <a:noFill/>
          </a:ln>
        </p:spPr>
      </p:pic>
      <p:pic>
        <p:nvPicPr>
          <p:cNvPr id="280" name="عنصر نائب للمحتوى 5" descr="kids-bathroom-ideas-ponte-giulio2.jpg"/>
          <p:cNvPicPr/>
          <p:nvPr/>
        </p:nvPicPr>
        <p:blipFill>
          <a:blip r:embed="rId2"/>
          <a:stretch/>
        </p:blipFill>
        <p:spPr>
          <a:xfrm>
            <a:off x="4648320" y="1844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63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  <a:cs typeface="Traditional Arabic"/>
              </a:rPr>
              <a:t>محاور المحاضر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39640" y="2707920"/>
            <a:ext cx="632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وقع الروضة وشكلها الع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بنى الروضة ومساح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كونات مبنى الروض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أحواض منخفضة لغسل الأيدي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عنصر نائب للمحتوى 4" descr="kids-bathroom-ideas-ponte-giulio.jpg"/>
          <p:cNvPicPr/>
          <p:nvPr/>
        </p:nvPicPr>
        <p:blipFill>
          <a:blip r:embed="rId1"/>
          <a:stretch/>
        </p:blipFill>
        <p:spPr>
          <a:xfrm>
            <a:off x="457200" y="2470320"/>
            <a:ext cx="4038480" cy="2786040"/>
          </a:xfrm>
          <a:prstGeom prst="rect">
            <a:avLst/>
          </a:prstGeom>
          <a:ln w="0">
            <a:noFill/>
          </a:ln>
        </p:spPr>
      </p:pic>
      <p:pic>
        <p:nvPicPr>
          <p:cNvPr id="283" name="عنصر نائب للمحتوى 6" descr="913966.gif.jpg"/>
          <p:cNvPicPr/>
          <p:nvPr/>
        </p:nvPicPr>
        <p:blipFill>
          <a:blip r:embed="rId2"/>
          <a:stretch/>
        </p:blipFill>
        <p:spPr>
          <a:xfrm>
            <a:off x="4648320" y="2482920"/>
            <a:ext cx="40384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حتوي على مراحيض منخفضة بحجم يلائم الأطفال أي لا يزيد ارتفاع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عنصر نائب للمحتوى 9" descr="b_prodotti-69607-rel9e3dcb33f2ae42c89fb04a092c3ef514.jpg"/>
          <p:cNvPicPr/>
          <p:nvPr/>
        </p:nvPicPr>
        <p:blipFill>
          <a:blip r:embed="rId1"/>
          <a:stretch/>
        </p:blipFill>
        <p:spPr>
          <a:xfrm>
            <a:off x="684360" y="1844640"/>
            <a:ext cx="3078000" cy="2311560"/>
          </a:xfrm>
          <a:prstGeom prst="rect">
            <a:avLst/>
          </a:prstGeom>
          <a:ln w="0">
            <a:noFill/>
          </a:ln>
        </p:spPr>
      </p:pic>
      <p:pic>
        <p:nvPicPr>
          <p:cNvPr id="286" name="عنصر نائب للمحتوى 8" descr="BABY TOILET POPCOLORS 22026.jpg"/>
          <p:cNvPicPr/>
          <p:nvPr/>
        </p:nvPicPr>
        <p:blipFill>
          <a:blip r:embed="rId2"/>
          <a:stretch/>
        </p:blipFill>
        <p:spPr>
          <a:xfrm>
            <a:off x="4979880" y="191628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287" name="صورة 10" descr="b_prodotti-69612-rel6a56d04aac8b462d8cd05d675304b6a0.jpg"/>
          <p:cNvPicPr/>
          <p:nvPr/>
        </p:nvPicPr>
        <p:blipFill>
          <a:blip r:embed="rId3"/>
          <a:stretch/>
        </p:blipFill>
        <p:spPr>
          <a:xfrm>
            <a:off x="539640" y="4149720"/>
            <a:ext cx="3235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عنصر نائب للمحتوى 6" descr="Pendle-Junior-Cubicles.jpg"/>
          <p:cNvPicPr/>
          <p:nvPr/>
        </p:nvPicPr>
        <p:blipFill>
          <a:blip r:embed="rId1"/>
          <a:stretch/>
        </p:blipFill>
        <p:spPr>
          <a:xfrm>
            <a:off x="250920" y="2349360"/>
            <a:ext cx="4038480" cy="3024360"/>
          </a:xfrm>
          <a:prstGeom prst="rect">
            <a:avLst/>
          </a:prstGeom>
          <a:ln w="0">
            <a:noFill/>
          </a:ln>
        </p:spPr>
      </p:pic>
      <p:pic>
        <p:nvPicPr>
          <p:cNvPr id="289" name="عنصر نائب للمحتوى 5" descr="img_1562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كون أبواب دورات المياه مفتوحة من أسف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ومن أ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عنصر نائب للمحتوى 6" descr="Sydney-Cubicles.jpg"/>
          <p:cNvPicPr/>
          <p:nvPr/>
        </p:nvPicPr>
        <p:blipFill>
          <a:blip r:embed="rId1"/>
          <a:stretch/>
        </p:blipFill>
        <p:spPr>
          <a:xfrm>
            <a:off x="3419640" y="1916280"/>
            <a:ext cx="5184720" cy="210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2" name="عنصر نائب للمحتوى 5" descr="Brecon-Junior-Cubicles.jpg"/>
          <p:cNvPicPr/>
          <p:nvPr/>
        </p:nvPicPr>
        <p:blipFill>
          <a:blip r:embed="rId2"/>
          <a:stretch/>
        </p:blipFill>
        <p:spPr>
          <a:xfrm>
            <a:off x="324000" y="4437000"/>
            <a:ext cx="5184720" cy="210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يجب أن تكون أبواب دورات المياه مفتوحة من أسف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ومن أ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س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طبخ الأطفا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عنصر نائب للمحتوى 6" descr="IMG_6456-blog.jpg"/>
          <p:cNvPicPr/>
          <p:nvPr/>
        </p:nvPicPr>
        <p:blipFill>
          <a:blip r:embed="rId2"/>
          <a:stretch/>
        </p:blipFill>
        <p:spPr>
          <a:xfrm>
            <a:off x="571680" y="259236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296" name="عنصر نائب للمحتوى 5" descr="Culinary-Center---children-cooking.gif"/>
          <p:cNvPicPr/>
          <p:nvPr/>
        </p:nvPicPr>
        <p:blipFill>
          <a:blip r:embed="rId3"/>
          <a:stretch/>
        </p:blipFill>
        <p:spPr>
          <a:xfrm>
            <a:off x="4762440" y="25923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ديقة الأطفا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28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جب أن يكون لكل طفل في الحديقة مسا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ر مربع تقريباً ، بمعنى أن الروضة التي ب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طفلاً لابد أن يكون لها حديقة لا تقل مساحتها ع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5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تر مرب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6836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ويجب أن تحتوي الحديقة على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اكن فسيحة للعب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ظائر لبعض الحيوانات والطيور الألي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اكن للزراعة والاستنب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لعاب وأجهزة النمو الجسمي وتربية القو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  <a:cs typeface="Times New Roman"/>
              </a:rPr>
              <a:t>تابع المرافق الأساسية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88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كان حفظ الأدوات اللازمة للأنشطة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مكان للشرب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جرة الخدمات العامة والغسيل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c00000"/>
                </a:solidFill>
                <a:latin typeface="Calibri"/>
                <a:cs typeface="Traditional Arabic"/>
              </a:rPr>
              <a:t>حجرة الحارس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24000" y="2349360"/>
            <a:ext cx="8362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رابعا : </a:t>
            </a:r>
            <a:r>
              <a:rPr b="0" lang="ar-SA" sz="35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أثاث والتجهيزات والأدوات 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123640" y="549000"/>
            <a:ext cx="67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76092"/>
                </a:solidFill>
                <a:uFillTx/>
                <a:latin typeface="Tahoma"/>
                <a:cs typeface="Traditional Arabic"/>
              </a:rPr>
              <a:t>أثاث الروضة ومواصفاته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قوي وم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مريح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سهل التنظيف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مصنوع من خامات تلائم الغرض من استعما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63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  <a:cs typeface="Traditional Arabic"/>
              </a:rPr>
              <a:t>أولا: موقع الروضة وشكلها الع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339640" y="2707920"/>
            <a:ext cx="632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قصد بالموقع هو الأرض التي سيقام عليها المبنى وشكله الخارج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123640" y="1484280"/>
            <a:ext cx="67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ثاث حجرة النشاط لا بد أن يسمح بـ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مرونة في التخطيط والتكيف ليلائم حاجات الأطفال والخبرات التي يقومون ب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ساعد الطفل على الاعتماد على نفس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24000" y="2636640"/>
            <a:ext cx="8362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 rtl="1">
              <a:lnSpc>
                <a:spcPct val="1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شروط قطع الأثاث الأساسية في الروضة 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عنصر نائب للمحتوى 7" descr="kindergarten_plastic_chairs_wholesale_wholesale_children_plastic_chairs_wholesale_kids_chairs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كون خفيفة يسهل حملها وتحريكها بسهول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ناسب في ارتفاعها أطوا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كافية لعدد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يفضل أن تكون من النوع الذي يمكن رصه فوق بعض ، ليسهل حملها ونقلها وتنظيف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0440" y="1600200"/>
            <a:ext cx="403236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كراسي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نتجنب أن تكون للكراسي زوايا حاد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الكراسي مطلية بألوان محببة ل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0440" y="1847880"/>
            <a:ext cx="4032360" cy="403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كون متينة الصن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حوافها غير حاد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سهلة التنظيف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8360" y="1773360"/>
            <a:ext cx="3024000" cy="216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8" name="صورة 4" descr="651303653_973.jpg"/>
          <p:cNvPicPr/>
          <p:nvPr/>
        </p:nvPicPr>
        <p:blipFill>
          <a:blip r:embed="rId2"/>
          <a:stretch/>
        </p:blipFill>
        <p:spPr>
          <a:xfrm>
            <a:off x="468360" y="4149720"/>
            <a:ext cx="3024000" cy="2303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 تكون أحجامها متفاوت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ن تكون أشكالها متنوعة نظرا لتنوع أنشطة الأطفال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684360" y="1628640"/>
            <a:ext cx="3166920" cy="453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ناض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89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4" name="عنصر نائب للمحتوى 4" descr="2701512.jpg"/>
          <p:cNvPicPr/>
          <p:nvPr/>
        </p:nvPicPr>
        <p:blipFill>
          <a:blip r:embed="rId2"/>
          <a:stretch/>
        </p:blipFill>
        <p:spPr>
          <a:xfrm>
            <a:off x="4935600" y="1600200"/>
            <a:ext cx="3463920" cy="4853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أرف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قواطع عمودية وأفقية متحرك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يكون ارتفاعها يسمح للطفل بتناول الأشياء وإعادتها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68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أن تكون لها عجلات تساعد على تحريكها من مكان إلى آخ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عنصر نائب للمحتوى 8" descr="kids_plastic_chair_Medium_size_.jpg"/>
          <p:cNvPicPr/>
          <p:nvPr/>
        </p:nvPicPr>
        <p:blipFill>
          <a:blip r:embed="rId1"/>
          <a:stretch/>
        </p:blipFill>
        <p:spPr>
          <a:xfrm>
            <a:off x="468360" y="1628640"/>
            <a:ext cx="266364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8" name="Picture 2" descr="C:\Documents and Settings\userabc\Desktop\صور\images.jpg"/>
          <p:cNvPicPr/>
          <p:nvPr/>
        </p:nvPicPr>
        <p:blipFill>
          <a:blip r:embed="rId2"/>
          <a:stretch/>
        </p:blipFill>
        <p:spPr>
          <a:xfrm>
            <a:off x="468360" y="4076640"/>
            <a:ext cx="2663640" cy="256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215968"/>
                </a:solidFill>
                <a:uFillTx/>
                <a:latin typeface="Calibri"/>
                <a:cs typeface="Traditional Arabic"/>
              </a:rPr>
              <a:t>الألواح والسبور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خش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- وب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مغناطيس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نشاء الروضة في أماكن التجمعات السكنية قريبا من منازل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contenu 2"/>
          <p:cNvSpPr/>
          <p:nvPr/>
        </p:nvSpPr>
        <p:spPr>
          <a:xfrm>
            <a:off x="468360" y="3284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ما فائدة هذا الشرط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215968"/>
                </a:solidFill>
                <a:uFillTx/>
                <a:latin typeface="Calibri"/>
                <a:cs typeface="Traditional Arabic"/>
              </a:rPr>
              <a:t>التجهيز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تبريد والتدف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مطبخ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غسي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عرض المرئية المسموع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جهزة الأمن والسل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  <a:cs typeface="Traditional Arabic"/>
              </a:rPr>
              <a:t>الأدوات والخام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دوات تناول الطع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دوات ممارسة الأنش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خامات ، مثل ( الخامات الفنية ، الخامات الأكاديمية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واد الغذائية ، مواد الانب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620280"/>
            <a:ext cx="83628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قرب الروضة يشعر الطفل بالأمان مع جيرانه من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يجنب الطفل الاحساس بالغربة والشعور بالبعد عن أس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بناء الحي الواحد غالبا ما ينتمون إلى بيئة متقاربة في العادات والتقاليد والمستوى الثقافي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سهولة الوصول إلى الروضة 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عدم استخدام المواصلات لمسافات بعيدة قد تعرض الأطفال للأخطار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عدم إرهاق الأسرة ماديا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979280" y="1600200"/>
            <a:ext cx="670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إنشاء الروضات بجوار مؤسسات عمل الأمه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ختيار مواقع بالمدن الجديدة التي يسكن بها الشباب لإنشاء رياض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تصال الروضة بالطريق العام لتيسير وصول الخدمات إلي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قرب من المساحات الخضراء والحدائق بقدر الإمك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763280" y="1600200"/>
            <a:ext cx="6923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توفر المساحة المناسبة لإقامة المباني والمرافق التي تتيح للأطفال التحرك بح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ختيار منطقة صحية تصلها أشعة الشمس والهواء الطل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قرب من أماكن الخدمات مثل : (مستوصف ، صيدلية ، محلات بيع الأغذي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أماكن التلوث السمعي والبصر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79280" y="1600200"/>
            <a:ext cx="6707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. البعد عن الأماكن المزدحمة مثل الأسواق والمصان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الأماكن المزعجة نفسيا للأطفال مثل المقابر والسجون وأقسام الشر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 البعد عن الأماكن النائية غير المأهولة والبعيدة عن أماكن الخد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7375e"/>
                </a:solidFill>
                <a:uFillTx/>
                <a:latin typeface="Calibri"/>
                <a:cs typeface="Traditional Arabic"/>
              </a:rPr>
              <a:t>الشروط الخاصة لاختيار موقع الروضة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123640" y="549000"/>
            <a:ext cx="67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فضل أن تأخذ الروضة شكل ( الفيلا ) من طابق واحد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فضل ألا يزيد ارتفاع درجات السلم عن 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15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درجة حتى يناسب حركة الأطفال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ضروري أن تتوفر مداخل ومخارج إضافية للمبنى لضمان سلامة الأطفال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ضروري أن يفتح باب الروضة على شارع جانبي من أجل سلامة خروج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0:48:08Z</dcterms:created>
  <dc:creator>user</dc:creator>
  <dc:description/>
  <dc:language>en-US</dc:language>
  <cp:lastModifiedBy>SSC1</cp:lastModifiedBy>
  <dcterms:modified xsi:type="dcterms:W3CDTF">2014-10-14T18:01:49Z</dcterms:modified>
  <cp:revision>43</cp:revision>
  <dc:subject/>
  <dc:title> البيئة المادية للروضة</dc:title>
</cp:coreProperties>
</file>