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4AB-C3B2-494A-A826-B094003A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EE5-4FE5-46F7-B84A-F557578E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96F-A88F-4409-9316-884DA738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4D0-AFD2-43F4-AAB3-4F72D153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5553-0EAF-4D9A-9D53-71A2BF3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B9D0-F31E-4D52-8E53-2C865358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5EAA-CAC6-468B-8DA6-BDEEEA32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BD7F-0618-4214-A115-0061080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F95-2BCA-4CEF-99E5-6600634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868A-AD90-4970-8035-B4BF96C9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EF44-14CA-4C6F-847E-B689D722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274-BDB6-4F75-97D0-A35A7379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84B3-288A-46DF-90CB-BA008B38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E5B4-0BA6-403F-8045-EA34C50A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57F7-0A6F-4AF3-B34F-C9CA3B69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26E8-F31B-4332-960A-B67D86AA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79EE-8B38-4D26-A410-AB5799B7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14C-604A-49C5-AB3A-ED886726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1DB-34C3-4D44-AD76-EEC2FAA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267-5A76-442A-934A-6214F34A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861-0011-44F0-8FB0-42B8BA0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6E5-D645-4B1C-9BC0-C4998165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9BB-8F5B-44B9-9FE6-C69A2CE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430-D140-4432-AA8B-E7F76311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0F2-7180-4928-A0A6-AF898461DC0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930-82A5-43BA-8263-92CBC8D6212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411280" y="2565360"/>
            <a:ext cx="439128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619308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200" spc="-1" strike="noStrike">
                <a:solidFill>
                  <a:srgbClr val="006666"/>
                </a:solidFill>
                <a:latin typeface="Verdana"/>
              </a:rPr>
              <a:t>المحاضرة الرابعة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1280" y="4221000"/>
            <a:ext cx="2376360" cy="576360"/>
          </a:xfrm>
          <a:prstGeom prst="rect">
            <a:avLst/>
          </a:prstGeom>
          <a:solidFill>
            <a:srgbClr val="ebf7ff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التوصل الى هذا النموذج كان مبنيا على 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ادلة رئيسية 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كان معروفا في ذلك الوقت ان جزئ الدنا يتكون من قواعد نيتروجينية +سكريات خماسية + مجاميع فوسفات مرتبطة معا كنيوكليوتيدات عديدة 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دراسات العالم شارجاف اوضحت أن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=T          &amp;         G=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أو ان  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+G=C+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 نتائج حيود الاشعة السينية أظهرت أن جزئ الدنا منظم في ترتيب حلزوني عالي التنظي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26920" y="4076640"/>
            <a:ext cx="13687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وهذا ما يعرف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بقواعد شارجا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3933720"/>
            <a:ext cx="1726920" cy="1150920"/>
          </a:xfrm>
          <a:prstGeom prst="ellipse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4581360"/>
            <a:ext cx="100800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ستخدام واتسون وكريك كل الادلة المتوفرة وشرعا في بناء نماذج ثلاثية الابعاد لتركيب الدنا                  نموذج الحلزون المزدوج الذي يتفق مع الادلة والشواهد المعروفة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الا جائزة نوبل عام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962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م على هذا الانجاز العظيم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268000" y="1989000"/>
            <a:ext cx="1584360" cy="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56000" y="162864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منها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260280"/>
            <a:ext cx="8353440" cy="64764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66"/>
                </a:solidFill>
                <a:latin typeface="Verdana"/>
              </a:rPr>
              <a:t>و - خصائص (مميزات ) نموذج الحلزون المزدوج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ركب جزئ الدنا من جديلتين من النيوكليوتيدات العديدة تلتفان حول بعضهما البعض وحول محور مشترك في حلزون مزدوج يميني الالتفاف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طر الحلزون ثابت =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ْ أو 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نانوميتر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جديلتان متعاكستان في الاتجاه (لهما قطبية متعاكسة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هيكلا الحلزون (كل منهما يتألف م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-S-P-S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) يوجدان خارج الحلزون, بينما توجد القواعد النيتروجينية داخل الحلزون باتجاه  عمودي على المحور وفوق بعضها البعض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-560520" algn="r" rtl="1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رتبط الجديلتان معا عن طريق روابط هيدورجينية بحيث إ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=T                   G=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0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 الجديلتان مكملتان لبعضهما البعض, أي لو عرف تتابع احداهما ,يتم معرفة تتابع الاخرى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 يفصل كل زوج قاعدى عن الاخر بــ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3,4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ْ أو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4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انوميتر واللفة الكاملة في الحلزون=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34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ْ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او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,4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انوميتر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أي ان كل لفة كاملة تحتوي على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ازواج من القواعد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8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يحتوى الحلزون المزدوج على ميزابين : احدهما كبير والاخر صغير وهما مهمان لارتباط جزيئات البروتينات بالقواعد.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( الشكل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8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-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5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99400" cy="59994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03280" y="754200"/>
            <a:ext cx="6121440" cy="554508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82720" y="466560"/>
            <a:ext cx="7378560" cy="592488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8240" y="1014480"/>
            <a:ext cx="7607520" cy="48276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08000" y="2924280"/>
            <a:ext cx="5400720" cy="1152360"/>
          </a:xfrm>
          <a:prstGeom prst="rect">
            <a:avLst/>
          </a:prstGeom>
          <a:solidFill>
            <a:srgbClr val="edfad2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9280" y="2565000"/>
            <a:ext cx="61927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hi-IN" sz="5200" spc="-1" strike="noStrike">
                <a:solidFill>
                  <a:srgbClr val="006666"/>
                </a:solidFill>
                <a:latin typeface="Verdana"/>
              </a:rPr>
              <a:t>تركيب المادة الوراثية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189000"/>
            <a:ext cx="8064360" cy="122400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</a:rPr>
              <a:t>أ- خصائص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}</a:t>
            </a:r>
            <a:r>
              <a:rPr b="0" lang="ar-SA" sz="4400" spc="-1" strike="noStrike">
                <a:solidFill>
                  <a:srgbClr val="006666"/>
                </a:solidFill>
                <a:latin typeface="Verdana"/>
              </a:rPr>
              <a:t>صفات / وظائف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{</a:t>
            </a:r>
            <a:r>
              <a:rPr b="0" lang="ar-SA" sz="4400" spc="-1" strike="noStrike">
                <a:solidFill>
                  <a:srgbClr val="006666"/>
                </a:solidFill>
                <a:latin typeface="Verdana"/>
              </a:rPr>
              <a:t> المادة الوراثية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قدرة على تخزين المعلومات الوراثية وبشكل مستقر لتوجيه تركيب ووظيفة وتكوين وتكاثر خلايا الكائن الحي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 algn="r" rtl="1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قدرة على التضاعف وبدقة والانتقال من خلية لاخرى وبالتالي من جيل لاخ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 algn="r" rtl="1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قدرة على التباين ( من خلال التطفر وتكوين الاتحادات الجديدة ) . وبدون هذا التباين لاتستطيع الكائنات الحية على التغير والتأقلم والتطور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333360"/>
            <a:ext cx="8353440" cy="141300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6666"/>
                </a:solidFill>
                <a:latin typeface="Verdana"/>
              </a:rPr>
              <a:t> ب -كيف تم اكتشاف أن الاحماض النووية هي المادة الواثية ؟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99"/>
                </a:solidFill>
                <a:latin typeface="Verdana"/>
              </a:rPr>
              <a:t>عن طريق العديد من التجارب التي عملت منذ مطلع القرن العشرين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99"/>
                </a:solidFill>
                <a:latin typeface="Verdana"/>
              </a:rPr>
              <a:t>راجع الجدول 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4000" y="836640"/>
          <a:ext cx="8373960" cy="5958000"/>
        </p:xfrm>
        <a:graphic>
          <a:graphicData uri="http://schemas.openxmlformats.org/drawingml/2006/table">
            <a:tbl>
              <a:tblPr/>
              <a:tblGrid>
                <a:gridCol w="1336680"/>
                <a:gridCol w="4537080"/>
                <a:gridCol w="25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التاري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المساهمة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الباح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6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عزل ماد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uclei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من انوية الخلايا الدموية البيضاء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riedrich Miescher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2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نقل القدرة على القتل بين سلالات من البكتيريا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.Griffith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في الاربعينات من القرن العشرين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اكتشفو ان الدنا ينقل القدرة على القتل في البكتيريا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uery,Macleod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cCar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حدد ان الجزء من الفيروس الذي يصيب ويتضاعف هو حمضه النووي وليس بروتين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ershey, Chas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09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– بداية الخمسينات 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اكتشفوا مكونات الدنا ونسبها (تركيزاتها) ومواقعها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Leven,Chargaff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ilkins,Frankli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5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الحلزون المزدوج لتركيب الدنا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Watson,Cric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 txBox="1"/>
          <p:nvPr/>
        </p:nvSpPr>
        <p:spPr>
          <a:xfrm>
            <a:off x="826920" y="260280"/>
            <a:ext cx="7274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ebf7ff"/>
                  </a:solidFill>
                  <a:miter/>
                </a:ln>
                <a:solidFill>
                  <a:srgbClr val="006699"/>
                </a:solidFill>
                <a:latin typeface="Arial Black"/>
              </a:rPr>
              <a:t>الطريق الى الحلزون المزدوج ( الجدول)</a:t>
            </a:r>
            <a:endParaRPr b="0" lang="en-US" sz="1800" spc="1" strike="noStrike">
              <a:ln w="9360">
                <a:solidFill>
                  <a:srgbClr val="ebf7ff"/>
                </a:solidFill>
                <a:miter/>
              </a:ln>
              <a:solidFill>
                <a:srgbClr val="00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5280" y="333360"/>
            <a:ext cx="8353440" cy="79200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Verdana"/>
              </a:rPr>
              <a:t>ج- المكونات الكيميائية للدنا (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NA</a:t>
            </a:r>
            <a:r>
              <a:rPr b="0" lang="ar-SA" sz="3600" spc="-1" strike="noStrike">
                <a:solidFill>
                  <a:srgbClr val="006666"/>
                </a:solidFill>
                <a:latin typeface="Verdana"/>
              </a:rPr>
              <a:t>) والرنا(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NA</a:t>
            </a:r>
            <a:r>
              <a:rPr b="0" lang="ar-SA" sz="36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الدنا والرنا عبارة عن جزيئات كبيرة متعدة الوحدات (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lymers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) ووحداتها البنائنية هي النيوكليوتيدات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ucleotides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النيوكليوتيده = مركب عضوي يتألف من سكر خماسي + قاعدة نيتروجينية + مجموعة أو اكثر من الفوسفات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                    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DAN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RA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cc99ff"/>
                </a:solidFill>
                <a:latin typeface="Verdana"/>
              </a:rPr>
              <a:t>السكر الخماسي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الرايبو منزوع الاكسجين           الرابيو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99ff"/>
                </a:solidFill>
                <a:latin typeface="Verdana"/>
              </a:rPr>
              <a:t>القواعدالنيتروجينية 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,C,G,A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U,C,G,A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99ff"/>
                </a:solidFill>
                <a:latin typeface="Verdana"/>
              </a:rPr>
              <a:t>   فوسفات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O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O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buClr>
                <a:srgbClr val="0066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- القواعد 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نوعان 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واعد بيورينية وهي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,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واعد بيرميدينية وهي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,U,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ذن : النيوكليوتيدات هي الوحدات البنائية للاحماض النووية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رتبط النيوكليوتيدات معا بروابط تسمى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osphodiester bond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في الاتجاه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  بإختصا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: يوجد  كل من الدنا والرنا في الطبيعة كجزيئات كبيرة غير متفرعة ويتكون كل منهما من عدد كبير من الوحدات البنائية الصغيرة التي تسمى بالنيوكليدات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كل نيوكليوتيده= سكر خماسي+ قاعدة نيتروجينية + مجموعه فوسفات .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( الشكل 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4</a:t>
            </a: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3860640"/>
            <a:ext cx="505080" cy="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1916280"/>
            <a:ext cx="1471320" cy="54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شكل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6192720" cy="27576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7534440" cy="329256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26920" y="765000"/>
            <a:ext cx="7561440" cy="79236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66"/>
                </a:solidFill>
                <a:latin typeface="Verdana"/>
              </a:rPr>
              <a:t>د – تركيب الدنا : الحلزون المزدوج (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The double helix</a:t>
            </a:r>
            <a:r>
              <a:rPr b="0" lang="ar-SA" sz="28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نشر العالمان واتسون وكريك عام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953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م ورقة علمية اقتراحا فيها نموذج  الحلزون المزدوج لجزيئات الدنا. وطبقا لهذا النموذج , فإن معظم الدنا يتكون من جديلتين متعددتي النيوكليوتيدات تلتفان حول بعضهما البعض في التفاف حلزوني يميني الاتجاه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5:21:53Z</dcterms:created>
  <dc:creator>هلا</dc:creator>
  <dc:description/>
  <dc:language>en-US</dc:language>
  <cp:lastModifiedBy>هلا</cp:lastModifiedBy>
  <dcterms:modified xsi:type="dcterms:W3CDTF">2007-10-30T21:00:02Z</dcterms:modified>
  <cp:revision>4</cp:revision>
  <dc:subject/>
  <dc:title>المحاضرة الرابعة</dc:title>
</cp:coreProperties>
</file>