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4EA-E2D0-46E9-9B82-473EE44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9C4-1808-46FC-95F9-8969D2BC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12C-3DA6-4E5A-A83D-7FCFB9B9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3B2-3825-41F2-9213-355E5F30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3B1-7181-45A6-9F70-9769C539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F02B-0F2E-4E82-8A74-787E956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E59-474E-4872-A2B4-835B1F5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A882-AC54-4A7D-B40A-2F4F9AC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3E43-ED69-4558-A1F6-28924DCB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4B86-583D-43A9-9672-D1C4BCA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1674-FE9A-4F1F-A18A-6EE078D3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C74-8FF9-4EE6-B69D-3318174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FD9-5A0E-40C3-91BB-A7E824F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B10-71D8-45F7-ABEB-469E41F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B9D-ACEF-4C36-A106-9439CE4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3D5-E11A-4798-9603-C78DC4E3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0583-F420-4ED5-A488-FBB3FC1B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2BB-C986-4D23-A474-C44B29F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C70-D92B-4535-A2A8-1350108E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57-9A79-4A58-8154-CD07A9A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A1F-98CA-4FE0-964F-C589FC7D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8A6-166A-4D71-B42B-13B0E52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C53-DDEB-47FE-9CD0-10AD78C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62F-B8D3-4568-A70E-21C4295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D40-096D-4367-B546-E958ED3B9C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3DC-6C50-46E3-8167-897F02E1A6D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411280" y="2565360"/>
            <a:ext cx="439128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61930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200" spc="-1" strike="noStrike">
                <a:solidFill>
                  <a:srgbClr val="006666"/>
                </a:solidFill>
                <a:latin typeface="Verdana"/>
              </a:rPr>
              <a:t>المحاضرة الرابعة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1280" y="4221000"/>
            <a:ext cx="2376360" cy="576360"/>
          </a:xfrm>
          <a:prstGeom prst="rect">
            <a:avLst/>
          </a:prstGeom>
          <a:solidFill>
            <a:srgbClr val="ebf7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توصل الى هذا النموذج كان مبنيا على 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ادلة رئيسية 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كان معروفا في ذلك الوقت ان جزئ الدنا يتكون من قواعد نيتروجينية +سكريات خماسية + مجاميع فوسفات مرتبطة معا كنيوكليوتيدات عديدة 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دراسات العالم شارجاف اوضحت أن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=T          &amp;         G=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و ان  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+G=C+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نتائج حيود الاشعة السينية أظهرت أن جزئ الدنا منظم في ترتيب حلزوني عالي التنظي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26920" y="4076640"/>
            <a:ext cx="13687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وهذا ما يعرف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بقواعد شارجا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933720"/>
            <a:ext cx="1726920" cy="1150920"/>
          </a:xfrm>
          <a:prstGeom prst="ellipse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ستخدام واتسون وكريك كل الادلة المتوفرة وشرعا في بناء نماذج ثلاثية الابعاد لتركيب الدنا                  نموذج الحلزون المزدوج الذي يتفق مع الادلة والشواهد المعروفة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لا جائزة نوبل عام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96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 على هذا الانجاز العظيم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268000" y="1989000"/>
            <a:ext cx="158436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56000" y="162864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منها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260280"/>
            <a:ext cx="8353440" cy="64764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66"/>
                </a:solidFill>
                <a:latin typeface="Verdana"/>
              </a:rPr>
              <a:t>و - خصائص (مميزات ) نموذج الحلزون المزدوج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ركب جزئ الدنا من جديلتين من النيوكليوتيدات العديدة تلتفان حول بعضهما البعض وحول محور مشترك في حلزون مزدوج يميني الالتفاف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طر الحلزون ثابت =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ْ أو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نانوميت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جديلتان متعاكستان في الاتجاه (لهما قطبية متعاكس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هيكلا الحلزون (كل منهما يتألف م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-S-P-S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 يوجدان خارج الحلزون, بينما توجد القواعد النيتروجينية داخل الحلزون باتجاه  عمودي على المحور وفوق بعضها البعض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رتبط الجديلتان معا عن طريق روابط هيدورجينية بحيث إ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=T                   G=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الجديلتان مكملتان لبعضهما البعض, أي لو عرف تتابع احداهما ,يتم معرفة تتابع الاخرى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يفصل كل زوج قاعدى عن الاخر بــ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3,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ْ أ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نوميتر واللفة الكاملة في الحلزون=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34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ْ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,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نوميت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ي ان كل لفة كاملة تحتوي على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زواج من القواعد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8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يحتوى الحلزون المزدوج على ميزابين : احدهما كبير والاخر صغير وهما مهمان لارتباط جزيئات البروتينات بالقواعد.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( الشكل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8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99400" cy="59994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03280" y="754200"/>
            <a:ext cx="6121440" cy="554508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82720" y="466560"/>
            <a:ext cx="7378560" cy="592488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8240" y="1014480"/>
            <a:ext cx="7607520" cy="48276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08000" y="2924280"/>
            <a:ext cx="5400720" cy="1152360"/>
          </a:xfrm>
          <a:prstGeom prst="rect">
            <a:avLst/>
          </a:prstGeom>
          <a:solidFill>
            <a:srgbClr val="edfad2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61927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hi-IN" sz="5200" spc="-1" strike="noStrike">
                <a:solidFill>
                  <a:srgbClr val="006666"/>
                </a:solidFill>
                <a:latin typeface="Verdana"/>
              </a:rPr>
              <a:t>تركيب المادة الوراثية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189000"/>
            <a:ext cx="8064360" cy="1224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أ- خصائص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}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صفات / وظائف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{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 المادة الوراثية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تخزين المعلومات الوراثية وبشكل مستقر لتوجيه تركيب ووظيفة وتكوين وتكاثر خلايا الكائن الحي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التضاعف وبدقة والانتقال من خلية لاخرى وبالتالي من جيل لاخ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التباين ( من خلال التطفر وتكوين الاتحادات الجديدة ) . وبدون هذا التباين لاتستطيع الكائنات الحية على التغير والتأقلم والتطور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333360"/>
            <a:ext cx="8353440" cy="1413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6666"/>
                </a:solidFill>
                <a:latin typeface="Verdana"/>
              </a:rPr>
              <a:t> ب -كيف تم اكتشاف أن الاحماض النووية هي المادة الواثية ؟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99"/>
                </a:solidFill>
                <a:latin typeface="Verdana"/>
              </a:rPr>
              <a:t>عن طريق العديد من التجارب التي عملت منذ مطلع القرن العشرين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99"/>
                </a:solidFill>
                <a:latin typeface="Verdana"/>
              </a:rPr>
              <a:t>راجع الجدول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4000" y="836640"/>
          <a:ext cx="8373960" cy="5958000"/>
        </p:xfrm>
        <a:graphic>
          <a:graphicData uri="http://schemas.openxmlformats.org/drawingml/2006/table">
            <a:tbl>
              <a:tblPr/>
              <a:tblGrid>
                <a:gridCol w="1336680"/>
                <a:gridCol w="4537080"/>
                <a:gridCol w="25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تاري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مساهمة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باح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6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عزل ماد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uclei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من انوية الخلايا الدموية البيضاء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iedrich Miescher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نقل القدرة على القتل بين سلالات من البكتيري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.Griffith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في الاربعينات من القرن العشرين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كتشفو ان الدنا ينقل القدرة على القتل في البكتيري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uery,Macleod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cCar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حدد ان الجزء من الفيروس الذي يصيب ويتضاعف هو حمضه النووي وليس بروتين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ershey, Chas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09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– بداية الخمسينات 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كتشفوا مكونات الدنا ونسبها (تركيزاتها) ومواقعها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even,Chargaff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ilkins,Frankli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لحلزون المزدوج لتركيب الدن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atson,Cric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826920" y="260280"/>
            <a:ext cx="7274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ebf7ff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الطريق الى الحلزون المزدوج ( الجدول)</a:t>
            </a:r>
            <a:endParaRPr b="0" lang="en-US" sz="1800" spc="1" strike="noStrike">
              <a:ln w="9360">
                <a:solidFill>
                  <a:srgbClr val="ebf7ff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333360"/>
            <a:ext cx="8353440" cy="792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ج- المكونات الكيميائية للدنا (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NA</a:t>
            </a: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) والرنا(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NA</a:t>
            </a: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دنا والرنا عبارة عن جزيئات كبيرة متعدة الوحدات (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lymers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) ووحداتها البنائنية هي النيوكليوتيدات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ucleotides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نيوكليوتيده = مركب عضوي يتألف من سكر خماسي + قاعدة نيتروجينية + مجموعة أو اكثر من الفوسفات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                    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DAN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RA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السكر الخماسي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الرايبو منزوع الاكسجين           الرابيو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القواعدالنيتروجينية 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,C,G,A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U,C,G,A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   فوسفات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O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O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buClr>
                <a:srgbClr val="0066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- القواعد 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نوعان 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واعد بيورينية وهي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,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واعد بيرميدينية وهي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,U,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ذن : النيوكليوتيدات هي الوحدات البنائية للاحماض النووية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رتبط النيوكليوتيدات معا بروابط تسمى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osphodiester bond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ي الاتجاه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  بإختصا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: يوجد  كل من الدنا والرنا في الطبيعة كجزيئات كبيرة غير متفرعة ويتكون كل منهما من عدد كبير من الوحدات البنائية الصغيرة التي تسمى بالنيوكليدات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كل نيوكليوتيده= سكر خماسي+ قاعدة نيتروجينية + مجموعه فوسفات .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( الشكل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3860640"/>
            <a:ext cx="50508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1916280"/>
            <a:ext cx="1471320" cy="54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شكل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6192720" cy="27576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7534440" cy="329256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26920" y="765000"/>
            <a:ext cx="7561440" cy="79236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66"/>
                </a:solidFill>
                <a:latin typeface="Verdana"/>
              </a:rPr>
              <a:t>د – تركيب الدنا : الحلزون المزدوج (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The double helix</a:t>
            </a:r>
            <a:r>
              <a:rPr b="0" lang="ar-SA" sz="2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شر العالمان واتسون وكريك عام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953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 ورقة علمية اقتراحا فيها نموذج  الحلزون المزدوج لجزيئات الدنا. وطبقا لهذا النموذج , فإن معظم الدنا يتكون من جديلتين متعددتي النيوكليوتيدات تلتفان حول بعضهما البعض في التفاف حلزوني يميني الاتجاه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5:21:53Z</dcterms:created>
  <dc:creator>هلا</dc:creator>
  <dc:description/>
  <dc:language>en-US</dc:language>
  <cp:lastModifiedBy>هلا</cp:lastModifiedBy>
  <dcterms:modified xsi:type="dcterms:W3CDTF">2007-10-30T21:00:02Z</dcterms:modified>
  <cp:revision>4</cp:revision>
  <dc:subject/>
  <dc:title>المحاضرة الرابعة</dc:title>
</cp:coreProperties>
</file>