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7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11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7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46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</p:sldMasterIdLst>
  <p:notesMasterIdLst>
    <p:notesMasterId r:id="rId48"/>
  </p:notesMasterIdLst>
  <p:sldIdLst>
    <p:sldId id="256" r:id="rId49"/>
    <p:sldId id="257" r:id="rId50"/>
    <p:sldId id="258" r:id="rId51"/>
    <p:sldId id="259" r:id="rId52"/>
    <p:sldId id="260" r:id="rId53"/>
    <p:sldId id="261" r:id="rId54"/>
    <p:sldId id="262" r:id="rId55"/>
    <p:sldId id="263" r:id="rId56"/>
    <p:sldId id="264" r:id="rId57"/>
    <p:sldId id="265" r:id="rId58"/>
    <p:sldId id="266" r:id="rId59"/>
    <p:sldId id="267" r:id="rId60"/>
    <p:sldId id="268" r:id="rId61"/>
    <p:sldId id="269" r:id="rId62"/>
    <p:sldId id="270" r:id="rId63"/>
    <p:sldId id="271" r:id="rId64"/>
    <p:sldId id="272" r:id="rId65"/>
    <p:sldId id="273" r:id="rId66"/>
    <p:sldId id="274" r:id="rId67"/>
    <p:sldId id="275" r:id="rId68"/>
    <p:sldId id="276" r:id="rId69"/>
    <p:sldId id="277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notesMaster" Target="notesMasters/notesMaster1.xml"/><Relationship Id="rId49" Type="http://schemas.openxmlformats.org/officeDocument/2006/relationships/slide" Target="slides/slide1.xml"/><Relationship Id="rId50" Type="http://schemas.openxmlformats.org/officeDocument/2006/relationships/slide" Target="slides/slide2.xml"/><Relationship Id="rId51" Type="http://schemas.openxmlformats.org/officeDocument/2006/relationships/slide" Target="slides/slide3.xml"/><Relationship Id="rId52" Type="http://schemas.openxmlformats.org/officeDocument/2006/relationships/slide" Target="slides/slide4.xml"/><Relationship Id="rId53" Type="http://schemas.openxmlformats.org/officeDocument/2006/relationships/slide" Target="slides/slide5.xml"/><Relationship Id="rId54" Type="http://schemas.openxmlformats.org/officeDocument/2006/relationships/slide" Target="slides/slide6.xml"/><Relationship Id="rId55" Type="http://schemas.openxmlformats.org/officeDocument/2006/relationships/slide" Target="slides/slide7.xml"/><Relationship Id="rId56" Type="http://schemas.openxmlformats.org/officeDocument/2006/relationships/slide" Target="slides/slide8.xml"/><Relationship Id="rId57" Type="http://schemas.openxmlformats.org/officeDocument/2006/relationships/slide" Target="slides/slide9.xml"/><Relationship Id="rId58" Type="http://schemas.openxmlformats.org/officeDocument/2006/relationships/slide" Target="slides/slide10.xml"/><Relationship Id="rId59" Type="http://schemas.openxmlformats.org/officeDocument/2006/relationships/slide" Target="slides/slide11.xml"/><Relationship Id="rId60" Type="http://schemas.openxmlformats.org/officeDocument/2006/relationships/slide" Target="slides/slide12.xml"/><Relationship Id="rId61" Type="http://schemas.openxmlformats.org/officeDocument/2006/relationships/slide" Target="slides/slide13.xml"/><Relationship Id="rId62" Type="http://schemas.openxmlformats.org/officeDocument/2006/relationships/slide" Target="slides/slide14.xml"/><Relationship Id="rId63" Type="http://schemas.openxmlformats.org/officeDocument/2006/relationships/slide" Target="slides/slide15.xml"/><Relationship Id="rId64" Type="http://schemas.openxmlformats.org/officeDocument/2006/relationships/slide" Target="slides/slide16.xml"/><Relationship Id="rId65" Type="http://schemas.openxmlformats.org/officeDocument/2006/relationships/slide" Target="slides/slide17.xml"/><Relationship Id="rId66" Type="http://schemas.openxmlformats.org/officeDocument/2006/relationships/slide" Target="slides/slide18.xml"/><Relationship Id="rId67" Type="http://schemas.openxmlformats.org/officeDocument/2006/relationships/slide" Target="slides/slide19.xml"/><Relationship Id="rId68" Type="http://schemas.openxmlformats.org/officeDocument/2006/relationships/slide" Target="slides/slide20.xml"/><Relationship Id="rId69" Type="http://schemas.openxmlformats.org/officeDocument/2006/relationships/slide" Target="slides/slide21.xml"/><Relationship Id="rId70" Type="http://schemas.openxmlformats.org/officeDocument/2006/relationships/slide" Target="slides/slide22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9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FF4C0-361F-4997-9E39-4722D304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0EB21-1F45-4252-ABE6-AAC01B96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7284D-34E0-4959-B76C-6FF9E89D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178D1-85A3-4C85-BDCD-B55FF21B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D030A-276A-4488-8593-CF046ADA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071C7-CA4A-4D9A-B865-197FE068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C634F-3DE0-4AF1-872F-0727D629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37606-8019-4E00-84EE-D27687C4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F12DD-0FD6-48D1-9755-498C078C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5D1E8-03E2-4787-A5B1-15DD7A33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338A7-B151-4335-861F-5EDCF7DB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3A0B8-8B6B-4936-A5E2-DA48DCBB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14ABF-F604-4D37-B1A4-2DC7701A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79572-F720-417A-985C-7A124439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736D4-65E6-4A9F-BB03-C86F650C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EF38C-F14A-4AE6-BFC1-FBFE354B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DCA74-926D-4AA1-B0B4-E2FE57A5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FA90E-CEF2-430F-A8CC-05E47A8D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70CE0-C830-4FD5-B938-648E7845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71139-9505-4658-BA5C-B042146A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134D0-AC4A-4D51-A80F-DC2F0668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CC27D-B610-4B47-830F-3BE2A50B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52B5C-014E-4D7E-86DB-AE915AA3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E204C-4F6A-49DB-B5D8-FADD9B44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D096E-E254-4C96-A049-01F65D1A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5CD9E-304A-4B98-BD02-9BE7B08C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159C0-A44A-477E-A121-B0E7E34E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3FD7A-1646-4918-AB24-8DD5DEA9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15AB9-F624-425F-AD78-539AE086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5BB43-4236-42BF-8DC3-35363B91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6F6-BCD2-4431-A0DF-3D4B9176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626D8-337A-4CE2-8048-576BB5C1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E60C7-34F2-4133-B1BB-097F5148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142BB-6988-4196-A350-CF29FF52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F3853-7134-482C-A754-DAFFAB4D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DA96A-0C7A-4A64-AF5D-4CF3BFFD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18EA5-E351-4901-B59D-84054779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D449B-5EC6-4DCA-8F64-FEE7409A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C432B-73E0-4D81-88FA-F9697D7F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E4618-E654-4B52-9A2C-FC8D7578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64B62-20D7-4627-95C5-CA4D0974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77C-4C0C-4378-926F-728340D3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1C107-EC9C-412C-8E18-38C9C17F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D6E53-CBB5-4FB0-ACD5-1D269451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C8CBC-96C1-41FE-AE66-4FEF334D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70A76-8AD0-4B95-A087-F3C068E6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293B9-AA1F-4F13-99E9-AFA36B4F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6A17-0A86-4979-BB02-0279A74A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0F8F0-5D0C-4AF7-A14B-03FDBEB3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F3BB3-D600-488E-8A44-51E1E34E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93B8E-F2D6-4F88-88F7-675F1ACB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280D-24F9-4889-A3C4-C54E7BAA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DB77C-61C0-4BB5-A188-DB65089C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BD48C-653B-414D-BAA7-67393C8B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B63AD-5C45-4A59-9420-02113424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C1AD6-82A8-468C-80B6-6D090EA7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50CFB-96BF-4E6A-A0E9-8E1C71B8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5B423-62CA-4B46-9295-8C574485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DAF26-06AF-4584-B923-B9715C37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AB038-0E39-42D5-AEA4-8D17132B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84746-0722-4FDF-81AA-FFA29CCB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DC5C62-0F09-4F3F-B449-40D7962F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67FC-1AEB-4322-A7F3-ED84627F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1B1C4-B6F5-450D-8090-F9A1C003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C17A81-183B-4339-9DE8-6E05C16A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15049-0AFA-49BF-8B32-86770D19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B5ACBD-8939-4F52-8CF4-4F3F56A7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54C2D2-25A5-4747-B03E-68DE9806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827C45-F611-4EB1-AF91-8380EA05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08EEF-9D90-4438-B530-DE669074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85DA40-27A2-4C55-9717-C96E088B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2DFC29-92EC-4550-822A-E69AB192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6FF2B-D2BE-4F32-91DD-6E356959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964-373D-442F-B533-17217B31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2C147-E5E9-472D-8524-CF73535C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62AAAE-71D5-4850-9230-1D1595E2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CFA4DC-C832-41B6-8497-418106E7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3C8957-A65A-4B9F-88B0-D1EAC208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AC910-92AC-4BFA-8D1A-C35F7407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9E99C-903B-4B76-988F-3F2DBFFD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ECC4E4-E7F2-4A48-A618-9644FD8C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A45FE1-0CCA-46EC-AD12-259498D6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572B3E-CC96-47F1-A3D7-200E2259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E38DE7-3B52-4FC8-9AB1-CE595E39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C50B-46E6-401D-A02D-5FDF1A8C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8C0670-4FE3-4EFB-8AC7-AB24DD03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B78C42-CD2A-48BC-9E41-94E3E4F7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EDF6F2-D88B-4BF0-B3AB-4D6FE7BB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A973FC-716A-4A8F-AEE8-1947AADF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C72578-75D3-4D65-8C89-2431F8BB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43E8F5-C5D5-4365-80D9-9E38C8E9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37634D-C85C-4B3C-B050-F7AE9273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6896D9-F378-4D3A-90FE-ECB6A22A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05CB35-1361-4791-912B-86809CB2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931290-D13E-4260-80DE-AA8634C7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5BE-D84E-4BC5-B5CD-8D696D38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FB8A70-410E-4F52-BEC6-1B6B14BB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FCA4A5-4CA5-4260-A1CF-E5BC8F0C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070BB8-59C0-491F-8392-8F5C9239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794DF1-7CB5-4305-9D3E-5AFC8650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E4742D-C007-4FB3-8DC3-7A664A87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FF0F41-1F82-4F8B-8057-9DE5872E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86A55-8EE7-4403-B8DC-ED2CAE80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9883F1-0B5F-4F4E-BC01-EA05DA15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41674A-65C8-4083-9E72-383D8644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F38B5E-F786-43DA-9FF3-3A86D585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EB4-04FB-4F45-B871-1AB2F464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089905-7B8F-4474-B1A0-714E12AE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D5FA08-1ECD-4BFD-8526-84F5F943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6D10F2-59F6-43F4-BB22-16ED25DD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E15528-0B01-4473-8DEA-9CCEAE62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D02F10-8DE6-432E-9570-61FEACFC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029DD8-1C13-45AA-9C63-E7C49C3A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2D0FBA-CE9C-42F5-BC5A-9B3CF112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E09D80-A1E7-4D9D-A71F-1CA969F9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AEAA5F-2CFA-4D59-BE81-6B1633BC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D1966E-2C16-4CB9-836D-FAFBBABA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067-DCFF-4B80-90C8-F20BD7D7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7DFEF2-4AAB-486F-A1A2-9706D250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4D5B2E-2592-42C4-840F-04570815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2A0F7A-30C8-4D77-83EB-8CEE0742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11C1B2-0824-4788-B50A-F90D580E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42E8E4-F8CC-42BD-8FD2-1EB708B7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287835-D544-43B3-9EC3-8B02CEC5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CD2AC9-312A-4E86-AD5C-9A63EC5A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8B93C2-3788-4B59-B121-EB4C4F7A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46DFE6-94AC-4F81-8B45-38E9A35B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24AEB6-3AD0-4D36-9BF3-5D80D44C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DCA-578B-44DB-A369-0D2DB986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4C11D9-4952-4FEA-8931-D37A710F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474226-E4C7-42E9-804A-C51F0F2E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59BBB6-679B-4609-8BEE-F928A501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3DBA16-538F-4EC2-9C6F-2902AB36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B0C31D-DB9F-4285-9AEA-9E21AC0F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E6AAD0-CF89-4B88-989E-4130EEEA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AF7487-803F-4DE7-AB3C-DC739F61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C98FB9-6385-4039-BA0E-CBD4C392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3AF369-0F5F-4F37-BAFF-83F78987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A17198-FAEB-4FBD-8ACC-A2373732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146-1BD0-430F-AA69-9529880A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D3028C-77A4-4BE3-82CE-CB0DDCE8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0CF801-8A2D-481B-9BFE-0773D165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5B9074-23DD-420A-BCEA-542C52EB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FC074A-FDB3-432F-92CD-D23E2B93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061435-1586-4C2C-92A5-2D024750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B54C64-64D9-4016-BDE7-62E2946D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4D532A-436A-4FD5-BEA2-F844D6C3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E77858-1EF5-4D9A-8C5B-6B476201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CBF4D2-8B52-4D48-8453-E5AE50A7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CF4A09-37CF-461B-A55C-FFFC9EF2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6552-B324-40FE-A7A2-98E5CFD3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5887D7-76DB-4221-9751-7ABF4981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69853D-C916-4682-9D8B-8644D3BC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0A86FD-BF06-484E-981F-77196CD5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9DDEE4-3AAA-4774-A76D-4C4B564E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46875D-9557-43C5-8C16-ED70CD74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19B392-06E2-4ACC-BF5D-ADBD85DE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811863-CA66-4735-82B7-46D9E359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7A686E-4DF3-4863-AD8D-CD0928B6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16EAB7-2842-40FF-A522-A842E11E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CB1A0A-D610-4B8A-8EA7-8EF4C7F3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FEE9-10E2-43B2-B46B-9F02CBC4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0ACEE0-6E09-47C3-AB62-B102DF31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010D06-6B73-4F5B-8D11-7BA37673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6AD09C-CD31-4B0B-849C-982F1306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EA21B7-B68A-4B97-B730-0936361C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695AD6-AF12-4FBA-82E3-1CC6E058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DBAF2F-F0C8-41D3-A57A-EDBC0069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B3000B-733A-466F-8075-9E28E90A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C9B4AB-995C-4AB3-9938-5512F1E7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54D86D-205B-4C35-9FCA-C6097EB6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2AC2E0-6627-45CC-ACFB-38F5B6CB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DDA6-81DF-45C0-A9BD-424C43F5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67BF33-F3F4-4DCA-BE7F-AD6D13AE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C5F246-5D91-43C3-BA89-F0E42A20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2C8B31-DE13-4D82-A9FE-ADDE7671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5087DE-DB9F-463A-8849-CE183B7C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B8E4AD-C8BF-405B-8884-02A512B1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33945E-5DB7-4F94-94AC-A953D56E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3870C3-E926-429F-B6F5-B89ECD77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B32AC1-8954-4191-99A3-0961E47D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239A48-033F-413F-94EF-40CAB07A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1730E9-CB29-44FC-ADB4-F086A250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A999-B6F7-4C86-A7A2-B97105BA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C49BB4-7FE1-422C-B527-867AA5A9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276774-9C52-427C-B8F6-B6D133C0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21E5DA-D2B2-41D5-BDDA-25D3B9CB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F2C965-7FAE-4398-A6D7-61281786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1686F9-6A16-4194-AF22-D0034E7D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5B9E4E-0928-4B8A-A13E-0985BF33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A8A6B2-2803-4BFC-9DC3-C9B5002B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45A447-22EE-4A43-A9FF-A64D35F8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B4BD89-6970-483C-B491-1880FB6D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2C9A7A-45AE-4FD7-8C8B-2133C827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07A2-5897-4411-A560-CFF237F4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909F74-53AE-4820-81C1-DBA91312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4756D8-BF63-46EA-8F70-75B21CCD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8A4F59-D2DE-4FEA-9E78-E382B73C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0E8EA0-FFC9-496F-BCFE-E31F6F5B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F6268D-B6DB-4659-9C37-CE19309F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7BAA0E-25EF-41BC-8752-ED4C9BEA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B74099-79D1-4D92-A086-ED9188ED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33153C-B299-4950-875A-7F2E837B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4C784B-15FC-488C-A539-BD7E3BEB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803A8A-2CE0-41A8-88FA-A8D50147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4481-06E5-48ED-9BD4-638D2C49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EFBEB3-E21B-44F3-BD5C-5C49A203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11646B-C326-4474-B2AC-B09FABA6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C751DC-0686-41E5-B408-5EA7660E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817D15-032A-41E8-B2A9-DE4CE4A9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2ECE76-A0FB-46F7-8035-497EE5E7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1A7F3C-69BC-46FC-9DA0-12B9793E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5FBD44-08A4-47B5-A81F-32BF9B86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163217-64CC-443D-95E1-18855300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061BF0-BD55-4A14-9DAB-12FE600A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0A5762-9458-41AA-B057-BDFCB7AA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D74C-6B14-421B-BB4E-00872F41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25027D-B61A-42B8-ABC4-4C5CE432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7BA23E-1F42-4857-807A-F01DD73A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E4148A-38C3-4D7C-8848-D326155C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1F69EB-9598-4450-AC54-FC15EE8B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73B1F6-9802-4D44-B7DC-B7A48318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806F6A-9B49-436C-9A99-55DA8713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FC5DF0-8E76-4AB7-BA6F-7B61218F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09E010-ECDE-40B3-B5E7-E3750F33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0284FE-B4CE-4C0C-AAEF-ECAAAA9A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70F8E1-3D54-4478-A235-0977CDEA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3286-2C61-410B-BED1-D761C4E7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C3FEA1-D7A6-4684-A0FE-355C7509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FEB2BA-EBAE-43C8-A29C-4BB6E639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D9ECF3-1A56-4A45-8221-61EDE5D2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7D4763-F4AA-4EE0-862F-C7F9302B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8D3641-80AA-4C65-B115-F069DB11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5DD16F-BC6E-412C-8454-D2C45B94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E04BE9-8347-4438-AA73-1EBADDAA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883149-66F2-4519-8094-ED457711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7A23B8-4728-4972-B8C4-1C6936AB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45EC56-9342-4E23-A304-D8EAE889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253E-E408-4B10-A460-69BBE03B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9F9580-8691-4717-BF5F-10EAE3EF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1C47D8-1A49-4374-9233-1432F52C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71E6B9-63D8-4F37-846B-869C1784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DFBF4D-733F-4526-885D-05FDD0F8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A5EA30-A503-4695-9AF4-EB905680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CC99D1-0EB0-4DCC-9131-324B284B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EDE465-487E-44B0-BFB8-67E1465F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66F326-BA67-4D83-891D-0638EEDB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E07757-DE4A-45F7-8B60-3430CFB1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06A09E-A75C-4E38-9B3E-623ECEEF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8B30-0E68-48BC-AAA5-40D8414B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FCF856-2A27-4561-88FC-89558B0A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A5A0E5-823A-4936-8EB6-D66787E1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4D13B3-85BC-4E66-9F94-323F8E91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F02105-93EB-4A01-BA6D-5464F1A9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18319A-4BD7-4673-A17D-D75E1966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7B5935-AFBF-4C7C-9C01-873DE049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BFBF6D-0CCD-412D-BACA-B173E721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401091-C15D-4715-8A89-6F222054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7D0E66-75D3-4CE2-9BEE-7F0DB447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E0B58F-6BC8-4CE4-9093-D16FE250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1377-AE1C-4F85-BB40-EDEF4CBB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E3BEDD-A486-4AEB-9A72-4B2A03CC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696042-319D-463C-A952-11AA20E2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C8FDBF-1282-40B3-8AB1-B6511481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CA046E-6F31-46CA-B7F1-F84F6190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0EB4E5-0127-4B66-B374-61B65358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C58192-117A-4228-9006-23BE83E7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8CC2CF-7C64-4103-9E8C-801332EA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98CF7C-E586-4738-A4DA-5FB04984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6E5960-92CC-4F3D-98A2-7C5E5D7E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EC864F-4DB7-414A-B8DA-10972792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2997-9FDF-4F2B-B7AD-C666572D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19751E-8BB9-418E-A14C-3E60DC17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252288-372E-4F32-AA27-8BAB169C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095960-1149-4840-9379-0F8B3C64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8527D5-181F-4D12-85D8-16F6B143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9D46F3-B3EF-4842-8025-5741108B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78F7DB-8E06-4D5C-BF3D-D7050F34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F4EE3F-B2A7-4C47-BEE5-FCAA595B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77C6ED-682C-47F3-B4C1-41B0F9F8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A2EC3F-6964-451F-847E-6820FF32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F6442F-376B-4A57-8073-9231A031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2DA81-36D1-469F-B272-1F25DED8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A1EFEE-AE5E-403E-868E-80F54249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3BF2FE-6EDE-42C0-99D3-8782FACD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3FAA22-8908-4854-8B3D-5ADCADBA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4FF0ED-3751-4500-AA90-7D1A09D3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9CF37E-4E1D-46AE-A4D1-7DA2D9FA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E07544-729B-427B-B5AF-E24F6528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2261F4-18F0-4025-BC6B-A7822FEF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D2D565-4BB9-4B18-A251-59F789CB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F6D8CE-B356-42E5-B4B8-CA26C87E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0732CF-8F0E-43C7-AF84-1C636DA5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FD7FA-D7BB-4597-8728-C2DF5269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E19D04-730F-4FB6-B23F-2BB5791F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D32C4B-7948-476B-82E0-7F00DF69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183B94-35CB-4763-95E1-4FADF827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5C4F84-B25E-417B-92B4-2ADC8489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286A11-D2A0-473B-8D4B-E93BD62A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B063E2-C2F5-469C-9DFF-9D329988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1DB89A-E59C-4938-9C07-E6FE5143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FB0DE3-C7CC-4AA7-97E7-3D1BC594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2A3FB1-B562-45AF-B277-8E4F0DC9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6FA945-D8A1-4040-9715-F2DD6694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2AEF8-DC51-4325-9CFA-135B73C6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F0774E-4B98-4282-895F-B8995315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704FCD-7531-4F69-95F5-93DBD00C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7CAC1B-3559-4647-B1A3-4F3B69A8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DFD52E-DA31-4FD7-9C8E-109D1F7B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B924EE-74F6-4F30-9A78-3135BE39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68376E-C2F6-4583-B599-D8545943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3C6DE4-3BFA-4E8D-9769-631E6EB4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53B0F2B-4401-4470-AAA5-EF77434F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E8DF29-1DD4-4E1B-9D4A-E2240040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0FAB270-905D-427A-8F04-53734B82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13DAC-ECD1-4A3B-BD9E-0EF74ED0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7DEA70-78B4-4601-B5AB-F4306E0C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4C3D8B-0A33-4B0C-AA75-BFA1D91D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2CFE6A-1EBC-4155-BFB5-23A22C1C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DAB1B7-8002-4DF2-A3C1-9BCA3D09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B0A80F-D79C-4FE1-BAC8-ADED690A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D9D6A47-BDE2-43C7-96B8-E385D021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B1FB56-73E7-422C-86B9-E8EB8728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E295B0-C8B6-4691-BD49-5CB0C89F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63399A-6716-4921-81B4-2826993A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9699E3-B0C8-4F01-85E1-7DE9562B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D6FCD-AE71-435B-BA00-0ED1C2A8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782A98A-E55D-4758-ACB4-99CE1291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F8F8FF-46F5-4F8B-AEF3-B45B1E7C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2033CA-DC6A-40D3-A573-7CB0D5D1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FB93E15-A9DD-4A4F-84FD-00E0D724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F05DC9A-1534-4AB8-9750-60658E74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B1A894-0D65-4A83-BC8D-72BBE4D0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6F420AB-613D-4FA5-9DBC-BF98F6D9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FB4392-87D0-4675-8997-8CE0925A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BB8FF91-8E1F-445E-96FE-9D1D0675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76B3957-4BAC-4D66-8367-720E6CA3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09324-34E6-4BCE-9973-A05DA3E6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F64902-4B6B-480F-A19C-87BA72BF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7C2F826-9529-4213-BD14-CDADA0E2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B55D37D-ADEA-45C9-9780-E62D3A59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76531A-C51A-4481-940F-394A741D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A3B30D-D066-491C-9D6F-2C2F0589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0E03CD-426A-4AE6-BCB6-954F6E72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9481D42-36B9-4BA1-A6D9-29AB3D3D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7136C0A-95EB-4B0D-B085-3F40C320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A25E0F-0901-4BAC-8369-E8DACD28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39228A0-642A-4AA0-90F8-7D06D521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83E9A-F349-4022-9479-E282F704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EFD5310-B2CD-40FE-B744-EB60BD78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3FE26B-228E-4DF8-B869-3185697D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F10D1A-4A98-4D64-815C-B51EEAD7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943A0AE-5A5D-461F-98D3-7238178F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51F9C4B-4D09-45B2-B9F4-C4D367C9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24ADF12-8552-44AD-B0F5-1DCECCB0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B6E7D35-85C0-4496-9C92-27C18D8E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1D8F04-C2B9-4773-B747-B2137249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7D9E9F-4088-4533-B417-C170EAFD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7328B4A-BA08-4AE8-911B-4622D1D4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6A38C-A2EF-487B-83F9-9F347169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9DD4CF8-C380-4F0F-87EF-7ADF14A6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4475200-AF44-4EA8-9FA3-C8863729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D709E83-FF92-4D57-BAF1-BC914274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6977173-EE6B-4579-8819-9C17323C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6593A68-7D29-450E-B309-AF6C0322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A18AB9C-C045-465D-A7B4-0AF29FB0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9775A2-AD9E-4240-B238-51B78F30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B8576F-F1F6-4178-AF3A-9A052C51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9671FA5-B3B7-4DBB-B56B-5A1BD9FE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4E278B7-1E8D-4099-B7BC-D4099C91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55491-C73D-465C-8184-EED318F4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685149-1DD2-4615-901C-BA7A1328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91C301-D249-49A4-A5F2-25169C7E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61DEFC-F73D-42E6-B013-13AABB99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F50942-CA39-40E8-989B-860D0418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850F7F0-8413-410D-8708-CC1EB520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23BC58A-15CC-41CA-B8D4-4E7082EC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A4499D-3F36-49F9-B392-335657C8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669391B-6FF5-42BC-8053-A8DC8C2E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D30F4D4-BB1E-4179-9F64-FC7558A9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A1FF88-37EC-4624-9D64-7408FDFD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AE4B3-173C-43E9-A3AE-56183D78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AE2DEB-B050-4E2D-8129-2A95C7E3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46EBC90-362E-40CA-80BF-1102B7F6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3C35078-4073-43DD-B569-52DE4588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89065F-D3D9-432A-B7FC-1B426D3E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5573BEF-A665-4A80-9968-D927D825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BAAA64D-B0A8-4ED0-BFE7-087732DA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F9B5C16-9BA8-4846-884B-8273F130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2FD92AA-FF70-4EEE-9DB6-D69FF967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D3D6A64-669A-4A25-932C-325372B0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8F08DEF-3500-491C-9179-E86CA35F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ADD11-943F-4A04-957D-2DABEF2D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FB15251-85BB-40C2-8EBB-87773365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54B8F85-D141-4D87-812C-C7BFEE98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4200CDD-F208-40CF-A16D-8F3E0951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3F78276-D981-45DD-95B2-C9D9F5E6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4F4FE39-BC22-475C-BD96-66E8F991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6B12176-6E13-4DC5-AF1E-6B8002AF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22DDEB6-9864-4023-9AB4-37562390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955A414-3D52-4E67-BC11-14765CFD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379375-BD9C-45A5-BDBA-D82E766E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489D759-8306-4542-83DC-45618F8A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DE737-8458-44B7-B18D-FBCFDAA3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D7B942A-8BEF-4317-B5E3-6713D42C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6F1D209-D849-429F-8FBE-283332CC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A53E286-FB55-4B18-8EDC-45BE5172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3A84604-E6A3-4922-A1FB-6403C621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378A987-6145-4E82-A55B-57AF4640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6B3BEA-436A-401F-AB7D-A490B343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616B18A-9CC7-4578-9386-7529AE8E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88FE8D5-EE8A-4F10-AB87-7309342E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06D0B80-C4A0-48F0-97EC-B876C423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5E62BE0-677F-49D1-9E4A-4B33446A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D707B-8095-496E-9C66-FAD90E6E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E3125B3-1C2D-4C90-8B94-E631454E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83CCEA2-5E52-4F15-AB5B-F802A918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D0E8F5B-2B9A-4B13-9461-B29D43C7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B743271-09B1-43C8-8413-E0A92095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8FB7364-B3DF-4FB9-AF65-F27D9C44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5E709D3-714A-4C41-813E-DAD32F88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666CD75-5FE8-44F0-9B33-7F1E823E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24EB321-BF8A-4315-941D-FAD150D4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6BF34CB-E5AA-4775-B299-8C3FFD1C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6009BD9-84DB-442A-88D6-9F96920B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CFF63-C0B3-4FB4-B31F-A8D592FB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55724FE-AE41-4D5F-987B-FAC7D616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0C1F6F9-944C-4F99-AFA5-D235509E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6D2218A-D530-45ED-ADDD-0E3D2A73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77DA6D0-6D71-4200-A44E-DEF55BCC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0AB5680-AD2B-4C48-AEEB-FF372F1B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F4CCF79-18CD-4B58-8B8C-990DDC7A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8907E3A-F99B-44D7-B46E-961687A7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2D9FDD4-842C-4663-AD43-8D199BF9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73A2FEC-41DF-48F5-86BE-56305ACC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703D3BE-918F-44FF-833A-420668E9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0ED66-63A2-4170-AE6E-C2D1AFE2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09E77DD-CAEF-463E-8EB1-7A08070F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12CC8C9-96B1-4103-BDAC-1E975EA4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1816C54-69DA-4BD9-85F3-D5E6E8B9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6BFCAFA-1CD2-4DC9-9B8F-9A8615FF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BFD2A97-2234-483B-A40E-179545B6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D32DBB6-4FD3-47A1-A271-1DD7890C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F2C028B-E13B-4FEE-8D7C-9B28D36C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7675A27-936C-4385-8639-2801CF42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BCC5B24-99D7-4834-8354-0C9949FB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549B374-5FC9-42EC-85E2-BDF08302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12961-9614-4E02-930B-4D173BFD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FD4A9C3-2E41-483C-9536-160691DF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0F9F423-993D-45FA-8C20-C1E7E84B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2FA103C-5D38-4C95-A459-480C595C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69490AC-9232-42AA-839B-4F67B8C0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0679BCC-43DD-4DBF-9CBB-8F1BC765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50F2EE8-647F-4B51-AD65-171DF19B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F047C43-F226-4483-A1A0-AAF305DB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4322357-0F54-4177-84D9-C4C0AF14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E03C03E-6455-4A1C-800E-7268754D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20DB7A9-2AEF-45B1-9F7C-E866F208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2958E-6561-409D-A8DE-9B8FC3C6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3D96340-714F-4083-BD76-FCC40ACD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0B51BC8-A3BB-4761-BA6C-D03DE18E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9E01213-7A64-4CA1-9B0E-62CDB449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0681D94-6797-41A3-9E83-5BCF9375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842A533-C34A-48BA-9805-54BB8DF1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B37F805-D0CA-4C27-A324-604F641B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6446B82-013C-4DBE-B991-E97AC52D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AFA268E-241A-4DC9-AC60-8AAEF2E6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D6B59A3-272C-44CF-AF03-B74A0E7F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82FAB0F-68DB-4E5A-9D99-4574F068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28E4A-8BE2-4FC1-9DC3-3B9E8C32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8718F31-443C-4D4C-BC84-885865CA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9E5E58B-1F84-46DC-A75C-C239188E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27386CB-5931-4398-B22C-3B4E7B8D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7043CD3-0191-4FFA-A516-C5279EDF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085B827-5FBD-4392-91F4-CCC75266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4658052-F20E-4889-8D0D-53518C88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6BFB373-C72B-405A-AD13-EF0AD4CC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61BAB3C-C36D-41BB-9FB0-B326F38E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7E5CBF2-228C-4BAE-A2E0-E1CD42E5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DD95F1B-8867-4DEE-8DF4-11886616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A182E-EF26-4AB0-89EF-6371DB6F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62DB79F-31C0-4CBB-8172-EA0528C1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A5E28A4-07EE-4EA6-9F0D-E97878B2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84DAEFC-5619-4634-9622-9C8D089C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761B2-E049-4151-BED5-3FE32041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A8112-C9BF-433F-BA0C-9D787D00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2BA1C-9F02-422A-8F01-59521DC5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ADEB3-127A-4F4E-B539-30DC0458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83B42-55C7-48AF-9398-4114F67B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A112E-E85E-4826-86FD-10554817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E9FEA-B0B4-46F8-97C4-A6615F93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263B7-317C-46D8-ACFF-0290078E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33C1D-F3B5-461A-BC28-1E10BBE1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186C5-1F8B-4BD5-BAD5-942DCA49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32967-2407-4068-A822-19D6EE90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316CC-9D11-4C33-BD6B-0B2DDE10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88D4D-BB19-45E9-96F1-71E575EF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14A72-1F0B-4C27-9B46-9FB15EAD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40979-B358-494A-AAD1-F3D2721B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2067C-D7AE-4E54-B35F-D9B062A2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48C31-9770-407E-92DD-6F0E17DA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C7800-5696-4167-BDA8-A2245ABC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A0A81-964D-4BDB-BDC2-9F23B6B7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D099B-C162-492A-A0FD-9D4F0978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18271-ED5A-430A-8145-8521356A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00423-E261-454B-96A8-4D9663AF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C8C64-C82B-431F-8A13-4DAA7F86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0D023-77F0-472F-B897-3F1677A6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31AD5-CB0A-4913-B3BC-B869089F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BFCF2-2A73-4079-BB90-33DA74FA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95052-3415-4B3C-A0CC-85813D9B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270CE-75B9-4C56-9E8D-2DC394DC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82EBF-617A-413B-A39A-4B938201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F2498-AB5B-4435-8F4C-F86D5BC8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3FE68-B510-42B2-86B2-1E008C1B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C2E98-8040-4D29-B65C-98B519E4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B9F7E-8624-478D-A922-14DF8828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DE411-2D79-4654-8898-BBF2AFFB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3C016-0085-43C5-836B-B6674DB3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40D2C-8D12-4ABC-8E04-299CBD75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12B34-5F40-4F1B-90D7-A12473B3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94C08-0666-4521-8089-54329286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BDB98-EC42-4D29-8881-34C8705A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EA066-17C3-4D6B-8806-C0A4BD77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5862A-C591-4DDA-9377-B09197A7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FE50F-1B63-47F8-9335-AF78A1A7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40D12-AA92-4615-A856-18A86B93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F64E7-ECD2-46C4-9CEA-EB775AD2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46677" b="0"/>
          <a:stretch/>
        </p:blipFill>
        <p:spPr>
          <a:xfrm>
            <a:off x="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212B-F7D8-4BFB-8BD2-6C0BC9ECE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17C0333F-1DBF-4B5F-9981-252C2CDDA398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F27A-F8D0-48FB-A49C-51565DA99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C49FC326-AF47-4787-AE28-DA57E2F9EBE4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D806-4802-424F-8D06-EEAADFA35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E1B401CF-4FFA-4762-8A03-BD6954652D6D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"/>
          <p:cNvPicPr/>
          <p:nvPr/>
        </p:nvPicPr>
        <p:blipFill>
          <a:blip r:embed="rId2"/>
          <a:srcRect l="0" t="0" r="46677" b="0"/>
          <a:stretch/>
        </p:blipFill>
        <p:spPr>
          <a:xfrm>
            <a:off x="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5"/>
          <p:cNvSpPr/>
          <p:nvPr/>
        </p:nvSpPr>
        <p:spPr>
          <a:xfrm>
            <a:off x="8258040" y="650700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345D2E61-A118-4188-9621-B2EFC3CE00CF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7" descr=""/>
          <p:cNvPicPr/>
          <p:nvPr/>
        </p:nvPicPr>
        <p:blipFill>
          <a:blip r:embed="rId3"/>
          <a:srcRect l="46677" t="0" r="0" b="0"/>
          <a:stretch/>
        </p:blipFill>
        <p:spPr>
          <a:xfrm>
            <a:off x="746748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DBD8E8B9-40AF-400D-954F-FD8CA111C534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C1AC-3655-4667-9AC3-7EC6F9A60CF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FB6D2296-87E2-43B4-A59B-9C94BE5D34FA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8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5FB4-0A04-46D6-B638-82E21AA7EAC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50F106FB-B277-4989-AAEC-945F48524F5B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3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032A-A6AB-4FEA-AA5F-564AD417C51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4522-2456-45F4-A6AA-2B41CCBF71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69E2E77C-674A-42D6-BF0A-F54F6B8BADAB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AC13-5E26-4607-91B7-FE5D625CD8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0A569F9E-4130-475D-BEDF-3C7E32CC32D6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1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A67B-F284-41B0-86BB-EE70F8ADFF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39F0BF4F-9541-4EA8-8C05-22FC2683614B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6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FC81-656D-41C5-946D-85E99942FE9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023B-E98D-4651-B7C4-8BC650B23D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377B-1A8A-4DAB-88E3-246997979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9B268300-ECD4-48EE-A3CC-949CAF6E4768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BE37E81F-556C-4508-A66F-937B81430A87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1E53-AA86-4042-A7D0-E53A2F36994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823B9608-38D4-4D7C-8557-103B93A5C079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4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2FB9-54FE-4D82-81F8-5D371DE34AD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04BDDBE8-B49F-4684-A743-D0E64FB8ED71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9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1958-DE3D-47BE-B456-7F225EB5816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EEDD-CF11-4612-9771-F88D8D77AE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F9CF50E4-80A3-4727-BA78-868E6AFA6151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0B41-B07A-4D64-AC23-23F8C5630E3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3CCC8BC9-51FB-4690-BA37-25E89DF96A6A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7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A582-D654-492D-AE25-0E3041029B7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010C25F3-9480-48B7-9DE3-84B5F100E075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2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61AF-DF4E-4643-98F7-31F6A9B367B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D9D2-6644-4CAD-92A0-D0A359090F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D09DE755-A1C5-49E4-88A5-B1C70A82EE2F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9EDE-16C2-405C-A1AB-C1895E3A200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D9C3F108-B3BB-46C0-B865-7D7D40C831AE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0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804D-F476-4975-8AAD-9B961409922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09D0926D-4EEA-4753-B8FA-4517FD3CB6C4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5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0789-0688-464C-8D2A-B4C1E374739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949D-FBB3-4F9D-8499-C8A0E7DB90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46074390-4EDD-4C1E-B63A-28DBDA08F13C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F207-69B1-4D1E-B41C-92252363A9E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9888-2C8C-44EB-8B4B-CFBD57E66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255FA3D0-7EF4-4106-8A6A-2E692EB2453E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BFB71E78-F138-459A-9D0B-8C829976E9E0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3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8A20-AC3D-4276-9C92-E44CA6E69E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0138F1A0-0DEE-4FB9-B0EF-41A2C4FE72B5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8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80D4-05FE-4DB8-AA39-C51DEE7B18C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4F50-3A05-4993-AC90-E92E1FAA95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E89C34CE-D5CC-47EF-9FB8-95BCD0C50E15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04A8-97B3-4ED6-8E1B-0D096C5D85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0C59C2DB-7C59-46CE-8634-B3BF689E0738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6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CFBF-4DE5-43EB-999F-FD63C62319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369193F4-B8C3-44DC-B9D0-05033AF1DB0C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1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DE4E-1446-4A64-A588-2AF0D0DF404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ED87-2565-400D-B8AF-FF7BD86C96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4676064D-0349-4619-B7B9-BECDB02741FB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E5FA-1A2F-44BF-BF11-169D3D58D5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37C11042-19F0-4409-9300-991BC2AF654C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9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869A-795C-4CB6-B0F6-1E0F9641138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173641B4-36FF-49AF-8250-BF035EA5EDE6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4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6EDB-2A0A-4FCA-A600-D792F25C3EE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20FC-2E1B-4664-81F0-E96AFF00BD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C33CAC66-E5B5-4B75-A481-4BE026C0AD45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CC41-A215-440C-A9B3-0A7BA1236F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609939B5-85CF-42E5-8D87-DE8E73D57EDA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2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BF2A-1C2C-41C8-A70D-E70BD7FC5F2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544E-E9B4-4844-B657-58EA0BCB6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A6D06AF1-CFB8-4930-AE9F-7070FAF46090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4576D85B-91DB-407B-8B00-BC3143951914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7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3C09-EBB7-4323-B1E4-7FFFDE389EA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A381-0052-411F-B6C6-E40494C0CB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A1826B7E-CBFB-4A9F-A8DF-6A76BA7C4FCF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4B62-D70A-4C2E-A6A2-979D1882C1E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93658610-8E1A-437F-BE8C-9D0F4FC731AA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5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6C0A-E97F-4E91-9B29-619138B507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182CC4F8-C304-4002-AACC-ECF5454643B0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0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08CF-C8F4-4FE2-BA73-3B9A6677155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277E-9B2B-480F-A7E0-FA8C96A3F2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5DE93A11-5FFF-4D70-863A-DE84B6438762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8064-EA58-48FC-B9B4-0EEE3867C60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1E7C58C1-4131-49D7-8058-66476121BE91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8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4184-6F9A-43A6-9481-3E9767BCC6A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77365466-4AA1-4938-88C3-E1CF5434CE6F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3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3945-E90E-4BEB-8721-9A405CDD408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C469-144E-43CC-A138-B67E170E49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9A12-E01E-4185-B16E-653B5D921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1A53254E-8870-4038-A92B-692F909E7CC4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733E-5D16-46F0-9B86-BD5F69294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FA5CC727-61A9-490D-9185-18A5D1F4D0D4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54F6-234E-4717-8D90-1F9CD8325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BA88617C-B015-4EBB-9595-2FD2C50AF5C7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1D8E-FFD9-4043-8B94-A27D61AD8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EDB67632-22F5-4ABF-9963-993599F79147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8A9D-528E-46A8-BA48-1D999CEFE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9D6AB706-EB60-4122-AE30-7A7FAB2580BD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2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5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/>
          </p:nvPr>
        </p:nvSpPr>
        <p:spPr>
          <a:xfrm>
            <a:off x="1905120" y="1676520"/>
            <a:ext cx="70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6" name="Picture 6" descr=""/>
          <p:cNvPicPr/>
          <p:nvPr/>
        </p:nvPicPr>
        <p:blipFill>
          <a:blip r:embed="rId1"/>
          <a:srcRect l="46677" t="0" r="0" b="0"/>
          <a:stretch/>
        </p:blipFill>
        <p:spPr>
          <a:xfrm>
            <a:off x="7462800" y="-936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1977" name="Rectangle 7"/>
          <p:cNvSpPr/>
          <p:nvPr/>
        </p:nvSpPr>
        <p:spPr>
          <a:xfrm>
            <a:off x="7936200" y="6611760"/>
            <a:ext cx="96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Tata McGr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8" name="Picture 9" descr=""/>
          <p:cNvPicPr/>
          <p:nvPr/>
        </p:nvPicPr>
        <p:blipFill>
          <a:blip r:embed="rId2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  <p:pic>
        <p:nvPicPr>
          <p:cNvPr id="1979" name="TextBox 7" descr=""/>
          <p:cNvPicPr/>
          <p:nvPr/>
        </p:nvPicPr>
        <p:blipFill>
          <a:blip r:embed="rId3"/>
          <a:stretch/>
        </p:blipFill>
        <p:spPr>
          <a:xfrm>
            <a:off x="-73080" y="-237960"/>
            <a:ext cx="1596960" cy="73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8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199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"/>
              </a:rPr>
              <a:t>Complete specification of the geometry, materials, and tolerances for all parts</a:t>
            </a:r>
            <a:endParaRPr b="0" lang="en-US" sz="25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624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"/>
              </a:rPr>
              <a:t>Identification of all the standard parts to be purchased from suppliers</a:t>
            </a:r>
            <a:endParaRPr b="0" lang="en-US" sz="25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624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"/>
              </a:rPr>
              <a:t>Process plan is established</a:t>
            </a:r>
            <a:endParaRPr b="0" lang="en-US" sz="25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624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"/>
              </a:rPr>
              <a:t>Tooling is designed</a:t>
            </a:r>
            <a:endParaRPr b="0" lang="en-US" sz="25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624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"/>
              </a:rPr>
              <a:t>Output:</a:t>
            </a:r>
            <a:endParaRPr b="0" lang="en-US" sz="25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524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"/>
              </a:rPr>
              <a:t>Drawings describing the geometry of each part and its tooling</a:t>
            </a:r>
            <a:endParaRPr b="0" lang="en-US" sz="21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524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"/>
              </a:rPr>
              <a:t>Specifications of purchased parts</a:t>
            </a:r>
            <a:endParaRPr b="0" lang="en-US" sz="21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524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"/>
              </a:rPr>
              <a:t>Process plan</a:t>
            </a:r>
            <a:endParaRPr b="0" lang="en-US" sz="21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0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2001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onstruction and evaluation of multiple preproduction versions of produc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ame geometry and material as production version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Not necessarily fabricated with the actual production processes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Prototypes tested to determine if the product will work as designed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2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20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Product is made using the intended production system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Need to train workers and resolve any remaining problems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Products may be supplied to preferred customers for evaluation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ransition to ongoing production is gradua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4" name="Rectangle 5" descr=""/>
          <p:cNvPicPr/>
          <p:nvPr/>
        </p:nvPicPr>
        <p:blipFill>
          <a:blip r:embed="rId1"/>
          <a:stretch/>
        </p:blipFill>
        <p:spPr>
          <a:xfrm>
            <a:off x="457200" y="-30240"/>
            <a:ext cx="8302680" cy="1919520"/>
          </a:xfrm>
          <a:prstGeom prst="rect">
            <a:avLst/>
          </a:prstGeom>
          <a:ln w="0">
            <a:noFill/>
          </a:ln>
        </p:spPr>
      </p:pic>
      <p:pic>
        <p:nvPicPr>
          <p:cNvPr id="2005" name="Picture 2" descr=""/>
          <p:cNvPicPr/>
          <p:nvPr/>
        </p:nvPicPr>
        <p:blipFill>
          <a:blip r:embed="rId2"/>
          <a:stretch/>
        </p:blipFill>
        <p:spPr>
          <a:xfrm>
            <a:off x="1676520" y="1603440"/>
            <a:ext cx="6064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8001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Analysis of Project Development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1676160" y="144792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easurable factors to help determ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al design and development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/no-go 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 Base-Case Financi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nancial model consisting of major cash flo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tivity Analysis for “what if”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 Box 4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3E241879-F87A-4B3F-B5D4-66A0C6FB3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39"/>
          <p:cNvGrpSpPr/>
          <p:nvPr/>
        </p:nvGrpSpPr>
        <p:grpSpPr>
          <a:xfrm>
            <a:off x="685800" y="1801800"/>
            <a:ext cx="7686360" cy="3760560"/>
            <a:chOff x="685800" y="1801800"/>
            <a:chExt cx="7686360" cy="3760560"/>
          </a:xfrm>
        </p:grpSpPr>
        <p:grpSp>
          <p:nvGrpSpPr>
            <p:cNvPr id="2010" name="Oval 4"/>
            <p:cNvGrpSpPr/>
            <p:nvPr/>
          </p:nvGrpSpPr>
          <p:grpSpPr>
            <a:xfrm>
              <a:off x="3352680" y="3306600"/>
              <a:ext cx="2322720" cy="2255760"/>
              <a:chOff x="3352680" y="3306600"/>
              <a:chExt cx="2322720" cy="2255760"/>
            </a:xfrm>
          </p:grpSpPr>
          <p:pic>
            <p:nvPicPr>
              <p:cNvPr id="2011" name="Oval 4" descr=""/>
              <p:cNvPicPr/>
              <p:nvPr/>
            </p:nvPicPr>
            <p:blipFill>
              <a:blip r:embed="rId1"/>
              <a:stretch/>
            </p:blipFill>
            <p:spPr>
              <a:xfrm>
                <a:off x="3352680" y="3306600"/>
                <a:ext cx="2322720" cy="22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2" name=""/>
              <p:cNvSpPr/>
              <p:nvPr/>
            </p:nvSpPr>
            <p:spPr>
              <a:xfrm>
                <a:off x="3729240" y="3650400"/>
                <a:ext cx="1566000" cy="151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3" name="Line 8"/>
            <p:cNvSpPr/>
            <p:nvPr/>
          </p:nvSpPr>
          <p:spPr>
            <a:xfrm>
              <a:off x="2884320" y="4408920"/>
              <a:ext cx="51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4" name="Group 33"/>
            <p:cNvGrpSpPr/>
            <p:nvPr/>
          </p:nvGrpSpPr>
          <p:grpSpPr>
            <a:xfrm>
              <a:off x="685800" y="3923280"/>
              <a:ext cx="2198520" cy="973080"/>
              <a:chOff x="685800" y="3923280"/>
              <a:chExt cx="2198520" cy="973080"/>
            </a:xfrm>
          </p:grpSpPr>
          <p:grpSp>
            <p:nvGrpSpPr>
              <p:cNvPr id="2015" name="AutoShape 9"/>
              <p:cNvGrpSpPr/>
              <p:nvPr/>
            </p:nvGrpSpPr>
            <p:grpSpPr>
              <a:xfrm>
                <a:off x="685800" y="3923280"/>
                <a:ext cx="2198520" cy="973080"/>
                <a:chOff x="685800" y="3923280"/>
                <a:chExt cx="2198520" cy="973080"/>
              </a:xfrm>
            </p:grpSpPr>
            <p:pic>
              <p:nvPicPr>
                <p:cNvPr id="2016" name="AutoShape 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5800" y="3923280"/>
                  <a:ext cx="2198520" cy="97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7" name=""/>
                <p:cNvSpPr/>
                <p:nvPr/>
              </p:nvSpPr>
              <p:spPr>
                <a:xfrm>
                  <a:off x="770040" y="3982680"/>
                  <a:ext cx="202824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8" name="Rectangle 10"/>
              <p:cNvSpPr/>
              <p:nvPr/>
            </p:nvSpPr>
            <p:spPr>
              <a:xfrm>
                <a:off x="735840" y="4131000"/>
                <a:ext cx="20966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entury"/>
                  </a:rPr>
                  <a:t>Quality Fun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entury"/>
                  </a:rPr>
                  <a:t>Deploy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9" name="Group 34"/>
            <p:cNvGrpSpPr/>
            <p:nvPr/>
          </p:nvGrpSpPr>
          <p:grpSpPr>
            <a:xfrm>
              <a:off x="6101280" y="3902040"/>
              <a:ext cx="2270880" cy="972720"/>
              <a:chOff x="6101280" y="3902040"/>
              <a:chExt cx="2270880" cy="972720"/>
            </a:xfrm>
          </p:grpSpPr>
          <p:grpSp>
            <p:nvGrpSpPr>
              <p:cNvPr id="2020" name="AutoShape 17"/>
              <p:cNvGrpSpPr/>
              <p:nvPr/>
            </p:nvGrpSpPr>
            <p:grpSpPr>
              <a:xfrm>
                <a:off x="6121440" y="3902040"/>
                <a:ext cx="2201760" cy="972720"/>
                <a:chOff x="6121440" y="3902040"/>
                <a:chExt cx="2201760" cy="972720"/>
              </a:xfrm>
            </p:grpSpPr>
            <p:pic>
              <p:nvPicPr>
                <p:cNvPr id="2021" name="AutoShape 1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21440" y="3902040"/>
                  <a:ext cx="2201760" cy="97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22" name=""/>
                <p:cNvSpPr/>
                <p:nvPr/>
              </p:nvSpPr>
              <p:spPr>
                <a:xfrm>
                  <a:off x="6209280" y="3958200"/>
                  <a:ext cx="2025720" cy="81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3" name="Rectangle 18"/>
              <p:cNvSpPr/>
              <p:nvPr/>
            </p:nvSpPr>
            <p:spPr>
              <a:xfrm>
                <a:off x="6101280" y="4102200"/>
                <a:ext cx="22708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entury"/>
                  </a:rPr>
                  <a:t>Value Analysi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entury"/>
                  </a:rPr>
                  <a:t>Value Engineer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4" name="Line 19"/>
            <p:cNvSpPr/>
            <p:nvPr/>
          </p:nvSpPr>
          <p:spPr>
            <a:xfrm>
              <a:off x="5614920" y="4387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Text Box 28"/>
            <p:cNvSpPr/>
            <p:nvPr/>
          </p:nvSpPr>
          <p:spPr>
            <a:xfrm>
              <a:off x="3557520" y="3846240"/>
              <a:ext cx="190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entury"/>
                </a:rPr>
                <a:t>Ideal Customer Produ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Line 12"/>
            <p:cNvSpPr/>
            <p:nvPr/>
          </p:nvSpPr>
          <p:spPr>
            <a:xfrm>
              <a:off x="4548240" y="2796120"/>
              <a:ext cx="0" cy="58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7" name="AutoShape 13"/>
            <p:cNvGrpSpPr/>
            <p:nvPr/>
          </p:nvGrpSpPr>
          <p:grpSpPr>
            <a:xfrm>
              <a:off x="3425760" y="1801800"/>
              <a:ext cx="2243160" cy="1071360"/>
              <a:chOff x="3425760" y="1801800"/>
              <a:chExt cx="2243160" cy="1071360"/>
            </a:xfrm>
          </p:grpSpPr>
          <p:pic>
            <p:nvPicPr>
              <p:cNvPr id="2028" name="AutoShap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425760" y="1801800"/>
                <a:ext cx="2243160" cy="107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9" name=""/>
              <p:cNvSpPr/>
              <p:nvPr/>
            </p:nvSpPr>
            <p:spPr>
              <a:xfrm>
                <a:off x="3517200" y="1864080"/>
                <a:ext cx="2061000" cy="8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0" name="Rectangle 14"/>
            <p:cNvSpPr/>
            <p:nvPr/>
          </p:nvSpPr>
          <p:spPr>
            <a:xfrm>
              <a:off x="3481200" y="2167200"/>
              <a:ext cx="213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"/>
                </a:rPr>
                <a:t>House of Qua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Rectangle 15"/>
            <p:cNvSpPr/>
            <p:nvPr/>
          </p:nvSpPr>
          <p:spPr>
            <a:xfrm>
              <a:off x="3813120" y="2412360"/>
              <a:ext cx="173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2" name="Rectangle 37" descr=""/>
          <p:cNvPicPr/>
          <p:nvPr/>
        </p:nvPicPr>
        <p:blipFill>
          <a:blip r:embed="rId5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3" name="Rectangle 1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203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Interfunctional teams from marketing, design engineering, and manufacturing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39480" indent="-3394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39480" indent="-3394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Begins with listening to the customer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Uses market research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ustomer preferences are defined and broken down into customer requirements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39480" indent="-3394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39480" indent="-3394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House of quality 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5" name="Rectangle 4" descr=""/>
          <p:cNvPicPr/>
          <p:nvPr/>
        </p:nvPicPr>
        <p:blipFill>
          <a:blip r:embed="rId1"/>
          <a:stretch/>
        </p:blipFill>
        <p:spPr>
          <a:xfrm>
            <a:off x="396720" y="-12600"/>
            <a:ext cx="8479080" cy="1884240"/>
          </a:xfrm>
          <a:prstGeom prst="rect">
            <a:avLst/>
          </a:prstGeom>
          <a:ln w="0">
            <a:noFill/>
          </a:ln>
        </p:spPr>
      </p:pic>
      <p:grpSp>
        <p:nvGrpSpPr>
          <p:cNvPr id="2036" name="Rectangle 6"/>
          <p:cNvGrpSpPr/>
          <p:nvPr/>
        </p:nvGrpSpPr>
        <p:grpSpPr>
          <a:xfrm>
            <a:off x="506520" y="3749760"/>
            <a:ext cx="2597040" cy="2522520"/>
            <a:chOff x="506520" y="3749760"/>
            <a:chExt cx="2597040" cy="2522520"/>
          </a:xfrm>
        </p:grpSpPr>
        <p:pic>
          <p:nvPicPr>
            <p:cNvPr id="2037" name="Rectangle 6" descr=""/>
            <p:cNvPicPr/>
            <p:nvPr/>
          </p:nvPicPr>
          <p:blipFill>
            <a:blip r:embed="rId2"/>
            <a:stretch/>
          </p:blipFill>
          <p:spPr>
            <a:xfrm>
              <a:off x="506520" y="3749760"/>
              <a:ext cx="259704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8" name=""/>
            <p:cNvSpPr/>
            <p:nvPr/>
          </p:nvSpPr>
          <p:spPr>
            <a:xfrm>
              <a:off x="609480" y="3809880"/>
              <a:ext cx="243864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"/>
                </a:rPr>
                <a:t>Customer requirements information forms the basis for this matrix, used to translate them into operating or engineering go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9" name="Picture 2" descr=""/>
          <p:cNvPicPr/>
          <p:nvPr/>
        </p:nvPicPr>
        <p:blipFill>
          <a:blip r:embed="rId3"/>
          <a:srcRect l="2380" t="2127" r="2109" b="2387"/>
          <a:stretch/>
        </p:blipFill>
        <p:spPr>
          <a:xfrm>
            <a:off x="3745080" y="1457280"/>
            <a:ext cx="46368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0" name="Rectangle 1037" descr=""/>
          <p:cNvPicPr/>
          <p:nvPr/>
        </p:nvPicPr>
        <p:blipFill>
          <a:blip r:embed="rId1"/>
          <a:stretch/>
        </p:blipFill>
        <p:spPr>
          <a:xfrm>
            <a:off x="457200" y="-12600"/>
            <a:ext cx="8229600" cy="1884240"/>
          </a:xfrm>
          <a:prstGeom prst="rect">
            <a:avLst/>
          </a:prstGeom>
          <a:ln w="0">
            <a:noFill/>
          </a:ln>
        </p:spPr>
      </p:pic>
      <p:sp>
        <p:nvSpPr>
          <p:cNvPr id="2041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urpose is to simplify products and processes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Objective is to achieve better performance at a lower cost while maintaining all functional requirements defined by the customer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oes the item have any design features that are not necessary?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an two or more parts be combined into one?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How can we cut down the weight?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re there nonstandard parts that can be eliminated?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2" name="Rectangle 10" descr=""/>
          <p:cNvPicPr/>
          <p:nvPr/>
        </p:nvPicPr>
        <p:blipFill>
          <a:blip r:embed="rId1"/>
          <a:stretch/>
        </p:blipFill>
        <p:spPr>
          <a:xfrm>
            <a:off x="360360" y="-30240"/>
            <a:ext cx="8545680" cy="1919520"/>
          </a:xfrm>
          <a:prstGeom prst="rect">
            <a:avLst/>
          </a:prstGeom>
          <a:ln w="0">
            <a:noFill/>
          </a:ln>
        </p:spPr>
      </p:pic>
      <p:sp>
        <p:nvSpPr>
          <p:cNvPr id="20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Traditional approach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We design it, you build it” or “over the wall”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9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Concurrent engineering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Let’s work together simultaneously”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Rectangle 3"/>
          <p:cNvSpPr/>
          <p:nvPr/>
        </p:nvSpPr>
        <p:spPr>
          <a:xfrm>
            <a:off x="838080" y="18288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Rectangle 4"/>
          <p:cNvSpPr/>
          <p:nvPr/>
        </p:nvSpPr>
        <p:spPr>
          <a:xfrm>
            <a:off x="1676520" y="320040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t and Servic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4" name="Rectangle 1035" descr=""/>
          <p:cNvPicPr/>
          <p:nvPr/>
        </p:nvPicPr>
        <p:blipFill>
          <a:blip r:embed="rId1"/>
          <a:stretch/>
        </p:blipFill>
        <p:spPr>
          <a:xfrm>
            <a:off x="457200" y="-30240"/>
            <a:ext cx="8229600" cy="1919520"/>
          </a:xfrm>
          <a:prstGeom prst="rect">
            <a:avLst/>
          </a:prstGeom>
          <a:ln w="0">
            <a:noFill/>
          </a:ln>
        </p:spPr>
      </p:pic>
      <p:sp>
        <p:nvSpPr>
          <p:cNvPr id="204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Greatest improvements related to DFMA arise from simplification of the product by reducing the number of separate parts: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uring the operation of the product, does the part move relative to all other parts already assembled?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Must the part be of a different material or be isolated from other parts already assembled?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Must the part be separate from all other parts to allow the disassembly of the product for adjustment or maintenance?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6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20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rvice products are very differen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39480" indent="-3394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39480" indent="-3394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Direct customer involvement introduces significant variability in the process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39480" indent="-3394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39480" indent="-3394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Questions to address: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How will this variability be addressed?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What are the implications for operational cost and the customer service experience?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Rectangle 18"/>
          <p:cNvSpPr/>
          <p:nvPr/>
        </p:nvSpPr>
        <p:spPr>
          <a:xfrm>
            <a:off x="685800" y="53352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3"/>
          <p:cNvSpPr/>
          <p:nvPr/>
        </p:nvSpPr>
        <p:spPr>
          <a:xfrm>
            <a:off x="2895480" y="6629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ing Product Development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6"/>
          <p:cNvSpPr/>
          <p:nvPr/>
        </p:nvSpPr>
        <p:spPr>
          <a:xfrm>
            <a:off x="4876920" y="1295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7"/>
          <p:cNvSpPr/>
          <p:nvPr/>
        </p:nvSpPr>
        <p:spPr>
          <a:xfrm>
            <a:off x="3276720" y="1905120"/>
            <a:ext cx="5105160" cy="1922760"/>
          </a:xfrm>
          <a:prstGeom prst="rect">
            <a:avLst/>
          </a:prstGeom>
          <a:solidFill>
            <a:srgbClr val="e1e1d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. Of new products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to market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stated and number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l versus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age of sales from new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9"/>
          <p:cNvSpPr/>
          <p:nvPr/>
        </p:nvSpPr>
        <p:spPr>
          <a:xfrm>
            <a:off x="228600" y="2514600"/>
            <a:ext cx="281952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Time-to-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Text Box 11"/>
          <p:cNvSpPr/>
          <p:nvPr/>
        </p:nvSpPr>
        <p:spPr>
          <a:xfrm>
            <a:off x="380880" y="4343400"/>
            <a:ext cx="251460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4"/>
          <p:cNvSpPr/>
          <p:nvPr/>
        </p:nvSpPr>
        <p:spPr>
          <a:xfrm>
            <a:off x="380880" y="5715000"/>
            <a:ext cx="182880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spcAft>
                <a:spcPts val="5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Text Box 15"/>
          <p:cNvSpPr/>
          <p:nvPr/>
        </p:nvSpPr>
        <p:spPr>
          <a:xfrm>
            <a:off x="3200400" y="4038480"/>
            <a:ext cx="5410080" cy="1191240"/>
          </a:xfrm>
          <a:prstGeom prst="rect">
            <a:avLst/>
          </a:prstGeom>
          <a:solidFill>
            <a:srgbClr val="e1e1d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ering hours pe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materials and tooling pe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l versus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Text Box 16"/>
          <p:cNvSpPr/>
          <p:nvPr/>
        </p:nvSpPr>
        <p:spPr>
          <a:xfrm>
            <a:off x="2590920" y="5486400"/>
            <a:ext cx="6095880" cy="1191240"/>
          </a:xfrm>
          <a:prstGeom prst="rect">
            <a:avLst/>
          </a:prstGeom>
          <a:solidFill>
            <a:srgbClr val="e1e1d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ormance-reliability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-performance and customer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ield-factory and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Text Box 17"/>
          <p:cNvSpPr/>
          <p:nvPr/>
        </p:nvSpPr>
        <p:spPr>
          <a:xfrm>
            <a:off x="838080" y="137160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m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Text Box 19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B122A4FC-2AAE-49B8-8604-BEA829536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1"/>
          <p:cNvSpPr>
            <a:spLocks noGrp="1"/>
          </p:cNvSpPr>
          <p:nvPr>
            <p:ph/>
          </p:nvPr>
        </p:nvSpPr>
        <p:spPr>
          <a:xfrm>
            <a:off x="1981080" y="1066320"/>
            <a:ext cx="6199200" cy="376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roduct Development Proce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conomic Analysis of Development Proj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signing for the Custom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sign for Manufacturabilit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easuring Product Development Perform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Text Box 7"/>
          <p:cNvSpPr/>
          <p:nvPr/>
        </p:nvSpPr>
        <p:spPr>
          <a:xfrm>
            <a:off x="1676520" y="2286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Text Box 8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317E21FF-21C6-48F6-84E2-F6D5635C2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19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6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19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ompanies continuously bring new products to market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roduct design is integral to success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roduct design differs significantly depending on the industry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ompanies often outsource major functions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Contract manufacturer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: an organization capable of manufacturing and/or purchasing all the components needed to produce a finished product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8" name="Rectangle 2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8229600" cy="1536840"/>
          </a:xfrm>
          <a:prstGeom prst="rect">
            <a:avLst/>
          </a:prstGeom>
          <a:ln w="0">
            <a:noFill/>
          </a:ln>
        </p:spPr>
      </p:pic>
      <p:sp>
        <p:nvSpPr>
          <p:cNvPr id="198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ore competency: the one thing a company can do better than its competitors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A core competency has three characteristics: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It provides potential access to a wide variety of markets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It increases perceived customer benefits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It is hard for competitors to imitate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0" name="Rectangle 2" descr=""/>
          <p:cNvPicPr/>
          <p:nvPr/>
        </p:nvPicPr>
        <p:blipFill>
          <a:blip r:embed="rId1"/>
          <a:stretch/>
        </p:blipFill>
        <p:spPr>
          <a:xfrm>
            <a:off x="450720" y="42840"/>
            <a:ext cx="8358480" cy="1755720"/>
          </a:xfrm>
          <a:prstGeom prst="rect">
            <a:avLst/>
          </a:prstGeom>
          <a:ln w="0">
            <a:noFill/>
          </a:ln>
        </p:spPr>
      </p:pic>
      <p:sp>
        <p:nvSpPr>
          <p:cNvPr id="19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14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"/>
              </a:rPr>
              <a:t>Phase 0: Planning</a:t>
            </a: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  <a:p>
            <a:pPr marL="552600" indent="-552600">
              <a:lnSpc>
                <a:spcPct val="14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"/>
              </a:rPr>
              <a:t>Phase 1: Concept development</a:t>
            </a: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  <a:p>
            <a:pPr marL="552600" indent="-552600">
              <a:lnSpc>
                <a:spcPct val="14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"/>
              </a:rPr>
              <a:t>Phase 2: System-level design</a:t>
            </a: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  <a:p>
            <a:pPr marL="552600" indent="-552600">
              <a:lnSpc>
                <a:spcPct val="14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"/>
              </a:rPr>
              <a:t>Phase 3: Design detail</a:t>
            </a: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  <a:p>
            <a:pPr marL="552600" indent="-552600">
              <a:lnSpc>
                <a:spcPct val="14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"/>
              </a:rPr>
              <a:t>Phase 4: Testing and refinement</a:t>
            </a: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  <a:p>
            <a:pPr marL="552600" indent="-552600">
              <a:lnSpc>
                <a:spcPct val="14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"/>
              </a:rPr>
              <a:t>Phase 5: Production ramp-up</a:t>
            </a: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2" name="Rectangle 2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8229600" cy="1536840"/>
          </a:xfrm>
          <a:prstGeom prst="rect">
            <a:avLst/>
          </a:prstGeom>
          <a:ln w="0">
            <a:noFill/>
          </a:ln>
        </p:spPr>
      </p:pic>
      <p:sp>
        <p:nvSpPr>
          <p:cNvPr id="19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Precedes project approval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9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Begins with corporate strategy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9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Includes assessment of technology developments and market objectives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9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Output is the project mission statement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4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199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Needs of the target market are identified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Alternative product concepts are generated and evaluated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One or more concepts are selected for further development and testing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"/>
              </a:rPr>
              <a:t>Concept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 a description of the form, function, and features of a product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6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1997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Definition of the product architecture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Decomposition of the product into subsystems and components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Final assembly scheme for the production system is usually defined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Geometric layout of the product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Functional specifications for each subsystem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Preliminary process flow diagram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2T21:13:01Z</dcterms:created>
  <dc:creator> </dc:creator>
  <dc:description/>
  <cp:keywords/>
  <dc:language>en-US</dc:language>
  <cp:lastModifiedBy>KSU S155-S9</cp:lastModifiedBy>
  <dcterms:modified xsi:type="dcterms:W3CDTF">2015-10-22T06:51:56Z</dcterms:modified>
  <cp:revision>63</cp:revision>
  <dc:subject/>
  <dc:title>Production  and Operations Management: Manufacturing and  Services</dc:title>
</cp:coreProperties>
</file>