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11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46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</p:sldMasterIdLst>
  <p:notesMasterIdLst>
    <p:notesMasterId r:id="rId48"/>
  </p:notesMasterIdLst>
  <p:sldIdLst>
    <p:sldId id="256" r:id="rId49"/>
    <p:sldId id="257" r:id="rId50"/>
    <p:sldId id="258" r:id="rId51"/>
    <p:sldId id="259" r:id="rId52"/>
    <p:sldId id="260" r:id="rId53"/>
    <p:sldId id="261" r:id="rId54"/>
    <p:sldId id="262" r:id="rId55"/>
    <p:sldId id="263" r:id="rId56"/>
    <p:sldId id="264" r:id="rId57"/>
    <p:sldId id="265" r:id="rId58"/>
    <p:sldId id="266" r:id="rId59"/>
    <p:sldId id="267" r:id="rId60"/>
    <p:sldId id="268" r:id="rId61"/>
    <p:sldId id="269" r:id="rId62"/>
    <p:sldId id="270" r:id="rId63"/>
    <p:sldId id="271" r:id="rId64"/>
    <p:sldId id="272" r:id="rId65"/>
    <p:sldId id="273" r:id="rId66"/>
    <p:sldId id="274" r:id="rId67"/>
    <p:sldId id="275" r:id="rId68"/>
    <p:sldId id="276" r:id="rId69"/>
    <p:sldId id="277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notesMaster" Target="notesMasters/notesMaster1.xml"/><Relationship Id="rId49" Type="http://schemas.openxmlformats.org/officeDocument/2006/relationships/slide" Target="slides/slide1.xml"/><Relationship Id="rId50" Type="http://schemas.openxmlformats.org/officeDocument/2006/relationships/slide" Target="slides/slide2.xml"/><Relationship Id="rId51" Type="http://schemas.openxmlformats.org/officeDocument/2006/relationships/slide" Target="slides/slide3.xml"/><Relationship Id="rId52" Type="http://schemas.openxmlformats.org/officeDocument/2006/relationships/slide" Target="slides/slide4.xml"/><Relationship Id="rId53" Type="http://schemas.openxmlformats.org/officeDocument/2006/relationships/slide" Target="slides/slide5.xml"/><Relationship Id="rId54" Type="http://schemas.openxmlformats.org/officeDocument/2006/relationships/slide" Target="slides/slide6.xml"/><Relationship Id="rId55" Type="http://schemas.openxmlformats.org/officeDocument/2006/relationships/slide" Target="slides/slide7.xml"/><Relationship Id="rId56" Type="http://schemas.openxmlformats.org/officeDocument/2006/relationships/slide" Target="slides/slide8.xml"/><Relationship Id="rId57" Type="http://schemas.openxmlformats.org/officeDocument/2006/relationships/slide" Target="slides/slide9.xml"/><Relationship Id="rId58" Type="http://schemas.openxmlformats.org/officeDocument/2006/relationships/slide" Target="slides/slide10.xml"/><Relationship Id="rId59" Type="http://schemas.openxmlformats.org/officeDocument/2006/relationships/slide" Target="slides/slide11.xml"/><Relationship Id="rId60" Type="http://schemas.openxmlformats.org/officeDocument/2006/relationships/slide" Target="slides/slide12.xml"/><Relationship Id="rId61" Type="http://schemas.openxmlformats.org/officeDocument/2006/relationships/slide" Target="slides/slide13.xml"/><Relationship Id="rId62" Type="http://schemas.openxmlformats.org/officeDocument/2006/relationships/slide" Target="slides/slide14.xml"/><Relationship Id="rId63" Type="http://schemas.openxmlformats.org/officeDocument/2006/relationships/slide" Target="slides/slide15.xml"/><Relationship Id="rId64" Type="http://schemas.openxmlformats.org/officeDocument/2006/relationships/slide" Target="slides/slide16.xml"/><Relationship Id="rId65" Type="http://schemas.openxmlformats.org/officeDocument/2006/relationships/slide" Target="slides/slide17.xml"/><Relationship Id="rId66" Type="http://schemas.openxmlformats.org/officeDocument/2006/relationships/slide" Target="slides/slide18.xml"/><Relationship Id="rId67" Type="http://schemas.openxmlformats.org/officeDocument/2006/relationships/slide" Target="slides/slide19.xml"/><Relationship Id="rId68" Type="http://schemas.openxmlformats.org/officeDocument/2006/relationships/slide" Target="slides/slide20.xml"/><Relationship Id="rId69" Type="http://schemas.openxmlformats.org/officeDocument/2006/relationships/slide" Target="slides/slide21.xml"/><Relationship Id="rId70" Type="http://schemas.openxmlformats.org/officeDocument/2006/relationships/slide" Target="slides/slide22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89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5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D4851-9E7C-4CFC-B527-E091A914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93212-8272-4AFE-B253-3944DDB2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64AFE-539F-40D9-B532-2CDB10A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535C8-F611-43AA-8399-474618AA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83244-115C-486A-A0C7-641A00BD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0F5C7-5575-4EF6-899D-66D424F1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FC985-8C16-4155-9AFE-F3563C9F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7B4ED-2F3C-4DEA-8989-FC8EDC7C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0DC64-8F01-42F0-A822-BC28971C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7D3457-A808-45C3-858F-15C7FAEE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DCD85-7D71-4FC4-A5C8-A16B1666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4BF50-67AD-4291-A8EF-A44CDD8A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CD90D-CABA-4ED8-BE63-73EA60DF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4AA5D-4C1C-4C01-B9B0-DFF650FA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8B050-A0FF-4C3F-B5A7-61D1989E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126D3-37D2-4B51-B06E-4D3DE730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19AAD-8D42-4BF0-9912-14DCBA0F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1230A-3B99-44A8-8BFC-FC099612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3F1E6-D4EE-4007-B5CF-973C6758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3097A-C046-48FB-8DA5-C1862BDA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B178C-1A33-413B-9574-8A97D229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238F6-FA7C-411C-9BD9-09A3A4BA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1CA72-2AE8-4DAE-9EAF-28BDC9BA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D2B8B-AF61-4003-903B-9FA0207D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C12BB-8402-42C6-B99C-001BB45F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110E4-CA6A-4CA5-AA42-25B0C9A4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26DDC-C2F2-4998-8878-228296C9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A99C9-C868-4981-852C-793EAFCE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3685E-89A2-4D40-A03F-DAC99AC2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F6840-E588-4553-8AD6-BC446A6F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75B-04A5-4FB2-B5E7-428AB824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716F3-8133-443E-93CE-EFC6C657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6576F1-5BD0-432D-B04A-B2212BD9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8FCEF-438D-4F2E-A222-FDE0BB57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8D0F6-507A-46B1-8F94-0F5EB390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805CD-FB65-4475-A4D8-49ED8052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FF9BE-0168-4ABA-8809-7176B832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57EB2-00AA-4685-90AE-A5F8096D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60276-420F-4783-A678-17306331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BE87B-FF7D-4F74-B770-6D9CB5B3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8BAF5-25C0-4D4E-896B-655829F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3EC-5E4D-4665-BAA5-B46EF070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66F08-0569-4892-B1EF-0848B11A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E9C37-84F7-432F-AD00-C2DF8677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8B576-BBBF-4708-A09C-0AECD84F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167C0-F61E-4858-BC03-A90B8757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37A62-E645-4CEE-9A39-E9FBB29B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75B8-91E5-4995-9B40-7C75A2C5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31D90-106E-48D9-BB06-1A3743C7A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E3AB0-5CCB-47CA-8EB7-ABCE9D7E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43CE2-2953-4787-85B6-7CB18906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9D3-3C8E-4B20-9DBC-F8B18542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91B3D-A4A1-4540-A784-9B656634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3EAD3-D6F2-4724-A2C5-B91BDB80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C6648-10AF-4C95-A1DA-2B1199D1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A66FF-4E06-4297-B481-06971F82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E68AD-CEBF-4211-8554-2E81D6D4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22BE6-DBF9-4D58-B32F-F6165EEF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D6943B-8B27-4499-83ED-FC4F7023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2640E-A16A-4ABE-AF95-6B40B077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558EC-795A-42AD-862C-B36FA567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737AC1-C326-4DE3-B045-DFB93026C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19C-45EC-4DE2-A1F4-6F53CACB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3C41C-CDF5-43D3-A214-3FE513B2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240C3-A11E-48C7-B2A2-6FB13DD0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C6F37B-5465-4DBA-8F61-FF4F0BC4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56CB5-16EF-477B-840A-8434D43F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B6198-FC9E-4236-BCCD-E7A5A59C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3C0FD-F4FD-4D7F-9063-8FF91392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FCECB-53F7-4227-92E0-E399985C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225686-397A-4A29-BAFF-0E5D9E3B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2063EA-7C92-4879-9218-049BC89A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7EEE9-F3EE-480A-B3EC-8E1CFACE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680-9C0E-4297-B880-C1E21A5D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3CBE9-84A7-4088-B289-C6CA1CB4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20A86-4990-47F1-8A0B-A849D8AF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74573-A579-4ADB-B184-849B065A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25B40-ACB0-46A1-899B-902608E3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0357C-B8E7-4D28-A4E9-E3BAF4E2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F8C5E-6813-4EB6-AB07-FD9EA02C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0CC5D-43E8-41FD-BC81-9FEB958D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E47AE-859D-44DD-8670-F155197B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0246D7-2405-44D7-90D7-42D49919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85F6C7-CBAB-43E4-9F1A-0B04B1D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9AF-4018-447E-B785-D2BBB37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BB326B-0228-40AB-B0B8-9DFEAE3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5AE09-EDB2-4B73-82AD-6F554F9A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F39E5-BC9E-4987-B1B1-5F049FA5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9F1659-35A7-41CB-8757-FAA61BE5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B86800-4183-446E-B2C2-3F000431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C4D82-777E-4D53-9D20-4C7EEFF6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3A288A-CE26-40CE-B1D3-40A651DD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0362D-2FCA-43B3-BC85-E4CED9B9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59C4F3-9FD2-4CD2-BB61-6D3ADFC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6B240-7AA1-42B6-B2A4-1C9F8263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40FD-6489-44FD-BC09-E4C4DBF0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A7371-B592-4509-8A26-8660721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9D7300-8420-4ACC-8A2E-6AF317B9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6A6389-FE2D-4A72-AF41-36C6350B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B574D-785F-4484-9BED-2F6FA0A4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3D695-4D6A-4312-A3C1-101EF81D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8B0308-A231-4FE7-B360-559E9415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FE1918-576B-4318-A867-BF346AF0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16936-C91C-478E-87B5-E385DCD4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38C04A-48D0-41F2-B9C6-A17E728C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1ABE82-774B-4058-BB6B-E2E3CB7B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F9F-B1AE-4194-BA60-70B34B07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00401-13F1-4BC7-B47E-E4A561EB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DB4BF-03BF-435D-B573-9ECD008F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C251B-6000-4959-B9B2-C1C01694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27E7F-072D-4C7C-87B3-572CD782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FD5D1A-D095-4C2B-930E-0978232D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7ED57-3670-485C-A91F-48CDEECB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C26359-6D0B-40BA-80B8-40601CD6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6AB4E0-4167-4C5A-B0E7-91BEED6F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36676C-8354-4BB1-967E-E1AD28C3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434060-2F6D-4964-8856-B15324A6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4A2-D599-4A67-B153-20A9A86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F123A3-D771-46FC-B422-AA5BB8EF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2744D-5DC3-4E11-97BF-46468B14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D7A000-FE5F-4802-861A-405BC83B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376CC9-07D9-4AD6-99CB-BBB9D6F6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B72CE-61C6-4822-8666-7522308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BDC380-1A7D-4355-9459-AA5C896B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23458A-A238-487D-A290-E21F4732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E805FF-81F2-45F4-A4C6-2E139512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DFE9F-F8EF-475F-AC9C-00C476D5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C05566-9686-4690-8219-1C218CB1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5DF-6E60-47B4-B76B-ABC8E4CD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2189E-37B6-4A79-85D1-B6FC949B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9BF3F9-4EBE-418B-A740-528EDC5D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62110A-2CB6-40C4-BB44-BC9E5E50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C998E-30F1-4C38-AE1D-D90BD46B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1CA331-284C-4A87-9D62-180FB7F0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2610B4-96EA-464F-89A6-AFC2DEE6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83639-6971-4030-A006-F3C685D4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EB4E2-59B1-4DA5-ABD5-C9603C67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809D3-BAEE-4FDD-87FF-330F98EA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0CFC0B-8C32-47D3-A09B-BE8A2CF4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364-C2EC-4ABB-BF4F-42B748FC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D10261-B9EC-4EEE-B26C-DDE3EFBC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0D2D2C-9365-4792-9B73-26F15CF9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E05CA6-74B1-4F50-BF07-C1121C41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4AB710-89C4-47C9-9807-67263718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80A090-47AE-4F7F-BC34-F1EBCE01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9E4C5D-0295-46E2-B2B1-5899E393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91EC62-5A6B-4775-8A05-BCD547DA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1D1FE9-59CE-428B-9B2B-6C69B03C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1D4539-6B6A-4656-B427-76E6879A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C7A1C8-1A5E-4A9F-A3F5-8C399731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3106-1A73-44B3-B359-24DC922D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BEDE26-F2FE-4429-9F33-174364D1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4E5D4-6208-4189-A7B8-9D5C7877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43A99A-9BC8-45AC-8BA8-8D133045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11EBC8-3D3A-42E2-8F98-7C0E1224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D2D171-8E8C-45EF-95BE-418608BC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3A95F4-F0FE-451A-BDF5-4173FEDC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F8253A-A3EE-494B-91A7-718E2E7B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C26AE-9871-4750-B799-868E0328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23F25F-4F3F-412C-ACDC-12B63006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C11E66-BAE0-40EB-83AD-06DF76B3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1930-E92C-43C8-A044-7A93046C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016CC-0881-4F10-A14A-8A787543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492FCF-3461-4250-A644-9F5A121E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6D3B02-793A-4ABB-996D-F7E9295F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7BB072-5641-4CA1-805F-AD74389BA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D5237E-5553-498C-9318-0C50369F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286019-A8FB-47C4-9A42-F1C5BD18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14A742-88CB-4C80-AEB4-706C7AA3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5603FC-FABA-4F1E-ACCD-4B1D8030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5E9DFA-D942-4412-AB75-8A208560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B70D96-849F-491F-92BB-9A2385DE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5938-A563-4355-8B9A-0280C34F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B3EC88-C36A-4DE6-9D7E-B63B82EE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E522B-E985-486E-8009-510D0350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624A08-C341-4BDD-A880-51D9C502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D7C17-2E71-4293-A348-CA67BB8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E78BEA-15B8-4443-B4FB-C0A6A962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528009-0901-458F-A88D-B1C6D88FC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D6771A-769A-4160-A5FB-89DE8BAE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A96379-DB5F-42C5-951C-4B3A9CD3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49D8A3-F4A1-4503-B38F-BE8D9DF2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31E3FE-13F9-4BDD-884F-2DE75E0D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724C-63E1-4704-B497-18269B733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F5643A-A16A-4B30-B232-871A04B9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1D8AA8-2014-4A94-A33C-3F2E3FF5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F273EE-CC39-4110-B00D-7DDB8D90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3FD9D5-607A-460E-B244-ECD7AE0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E4AB85-FE44-4120-B456-83FE9AFE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D2159E-3782-4D7D-B8B2-7233A2CA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2E2E9E-61DD-42F8-8A6C-790BF38F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DAE6BB-8CF7-409A-B3B1-069508F4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41FD6-B179-4D67-AFC8-B2F8EFF7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8BAFFA-51ED-4AFE-A5C0-3C7B70A4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0977-D8E9-4B63-8823-47E38AE4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952CF9-E143-4BFD-99E3-E34A297C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81C995-1633-40A1-B258-F5E479E9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8AD66B-5797-4CD3-8B8F-97CBD770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EC20DF-4909-4CF8-A61F-3A9D3966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0819F7-30EF-4958-B764-A5434D6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52388C-4346-48CC-91B7-3B3109B3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D0C1A7-9ADC-48CF-AAA3-253ECAC0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A8B39B-9C11-422D-8F2D-58AC553A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C4DDED-421B-4977-8A0B-6B6F30FB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3F4767-CCE6-47D7-AD71-D3E1C00F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05A2-241F-43CE-9B06-AA0E87B7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CD3B32-48FB-4259-A240-4DCD1037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812521-7823-4344-B8DD-C1BE8DF3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A2FA52-2513-4F14-B951-9E437037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A9EA9A-09E0-4CDC-BDF7-B7E10DF7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DCA51D-61C7-4390-9A74-6A1A47B2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A6B302-E75D-48AC-A040-47C7AB8B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6B515E-F921-4D17-9CC2-7C9CCBC8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93EF64-1C62-4EF2-A513-9B9133FF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48DE75-7B5F-40A2-8826-61760D85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FCAA4F-CE93-488B-9FC1-1260645D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B659-BCBA-482F-AD98-9A64D72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336CFF-3F2B-4895-AFD3-6A9A92B4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850B17-EBD4-4961-8DFC-46A4E923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C6BEBB-FBB0-4FF6-80D3-95C114C6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9FCF1D-F0FE-41EA-A101-266F06EE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57E451-981F-4EFC-AD30-1F65F9E3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2D50E1-9F79-4365-832D-3F4A9B6C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8E4E2D-D0E2-48CE-AD8C-8E362C83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96AA7C-07AA-4EF7-A46E-B7F68F24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2DF20D-77CD-4FBB-9155-D31E8BFA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741270-E0F5-48EC-92D4-4A453B77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43B9-D4E9-480F-BC1D-5DFB6808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26EAC6-453D-4CB1-A883-0ABE7B5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710FD5-8E1B-4F5D-9500-4F777F2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25F154-2813-426D-BB33-A2CA612A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4F4A50-DD60-47C8-9290-14D13268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9630E1-C8D9-4DC7-9677-2C764567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09D07E-C9A0-47A6-8060-F0FF8A3C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378F1E-A079-4192-A97B-BBDE1B41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ABB112-239B-4C12-A564-E104AC0A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3956DE-4FDB-4441-978E-912835E3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D3788A-9B70-4A6A-AFB5-5A59BDF3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1C8C-BAD1-42D0-8217-367174DA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7D64B1-8231-48CA-9C99-B3D17C38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B7F6C5-C82F-4150-A0D2-01A57262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0F19A1-BC8C-48EE-B840-FD7BA7BF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F29980-072D-48B0-90D3-3559E638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98D6FB5-98EC-4E95-A169-06811179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9EAE59-368A-444C-AC70-FA52B242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22D5E1-3D9B-4F6F-874E-8A2D929A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CBC390-97B1-4899-A9AC-8195D6357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897BDF-3F62-4A36-9326-0E1B650C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2DC0E8-333D-47B8-945B-FCFE6A4C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FCD9-53FF-447E-B52A-531FAFE7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C48DBEB-D129-4AD6-B066-DB055D8E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1A6963-D486-4AA2-AA3B-E21C9C36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EE53F9-10A9-46BC-B5D9-6B121A32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74C5B5-796A-4BD6-8AEE-76D876BB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E93A0C-33CC-4126-AB63-590A77FA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8E26A1-8BD1-44CB-9A9A-9CE177C7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B6E559-370E-4DBB-A6F8-E04C8F33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9E3357-F4E8-456E-8965-7CF305B1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8A64F3-CD8A-453B-9BB4-64389030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6F2F9D-014E-448D-9C63-BABF09B5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4A66-0B1A-440F-9C01-1EAD9AE4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92E379-DA8E-43A8-887A-C6FAAFA9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D46E10-B581-4B5B-8133-BC56C957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ED9290-C630-4490-B3BF-4789A336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CC49A2-8591-4F45-B86F-AAA85465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91D460-49B5-4D02-8E4F-410F0BC4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F67787-C361-4A38-97BC-C6C0E362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C38183-7C28-4168-A451-5237A3CF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F3E11F-553A-43E4-834C-3B6D823F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61B2D7-FFCE-4575-9957-C8B59A02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57ECC3-74C5-42D5-836C-C7F48966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B089-FE3B-49C8-AF2B-F7E38E1C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A388B1-EA74-48E2-B5B2-96900FD5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E15E8F4-8C4C-4EC6-AE52-6F529531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5E6F37-1CEF-4E2C-8511-AFF24614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9704AA-B731-4E7E-8080-C02CB830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762A17-71DE-41FA-98E4-0AC9ABFF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5ABB62-A1A5-4B53-A494-A6BD5C87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09B089-4C5A-4789-99BD-66670F82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1087FC-D6D3-4BE1-A27F-C8925EC2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05429D-A22C-477C-946B-50EA25F4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7FA2A5-E25B-4123-9E97-F6639E16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F6052-7693-47CF-84DE-58936AF9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8E5BD7-3E71-497D-97FA-388729F4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4171A2-3076-4B19-8BDC-F71AF705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F119AE-E333-4313-B43A-B16C1288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A55053-0FBE-4175-92E1-FB3FCBE4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995745-9766-4535-80FA-4941AF3C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C7C626-C572-4D02-AF79-42DF2A80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9C2EFB-80EB-49FE-8044-AF23527C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C78B32-8366-410A-8550-AE6507D9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5AC87BE-D7BC-4FD7-ABE9-A297F468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501C39-D516-4929-A5C8-1236A811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F7EDD-963E-47B8-A6C4-0D15BD1B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2E35A6-95DB-4BB8-85F2-DA70668C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583011-BA39-4A69-A3AF-13BF65E1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50CAE7-457D-46C5-9808-70FB0078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A16A7A-BE79-4325-8A24-9F703D5F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A88367-DB7B-4D80-B967-5704EBC9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AA07B7-5C17-4191-95ED-924126DE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DF4902-ACD8-4C94-B801-6F456F78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F3E3BFE-6BFC-4946-B3D1-95476BFC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5A83FF-D1AC-4DE2-8995-7AEEBF60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88B869-6B7F-4A74-B437-425CD52B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BA41-7D38-4136-A303-C3521CE4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D433D2-5890-4E33-B263-AFCA592C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74FD26-6CDB-4073-AA65-EE5E581E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F7FDC7-8C53-4D3C-BC3A-4213859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3D7DF0-B2C3-4177-BCC4-886EFF61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29EF10-AA1E-4AA7-BC6D-7FCDABFE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8A2410-B1C0-41B8-AD50-2C77F06B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54F213-111C-4AFF-99CA-D822A4028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9364E5-5AE1-4288-BF71-639FB3A3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775186-4829-4D00-B027-59B7F289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51A917-77BB-426D-9CEC-7B4C9636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78C0-A0DB-4982-A4B9-E0CEFCC1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AD4485-D5DE-42A2-9C36-830E963B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8B8204-FA66-4CD7-AF09-FBF413F3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CAA941-10BA-4480-9BC6-9A626350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F04E08-AF11-4E3B-A574-828DB72C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624E31-1A06-4CCF-9F09-BAA532DE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1F9B80-AC9C-488D-9B9A-FDA86A7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8136202-FAB7-4C97-A5AA-A8E861B4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7C3BEE0-03F8-4209-8F14-ECD7C632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D1534F-C55E-4E3B-A589-C4548A0E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E69226-2397-4294-BF29-C256EDB44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45702-68C9-4ADF-B341-BD254A47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F980E8-48B7-438C-84CB-D09408CE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B880D60-4714-4BC1-9D2A-1D05B854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08EEF4-3FDC-4CFA-923D-F647C8F9F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1A4E53-0E3E-42DB-99C2-D1AC3C43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05FCDB-225B-4D55-BBE5-8CA43C4F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0BED06-3373-4D3F-8737-2ABBB8AA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1614D1-4439-45F3-80A9-6E315248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A9FFEB-2D8B-465F-879C-82A3B7A4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835F20-B091-4E8B-885F-ADA0AE26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F8A10CB-BD85-416B-A94D-AC315289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F5FFD-EF9A-4228-BBDA-18C1CECAD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DB849F-DEF6-4E1D-B560-E42DB33E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D9AB7E-7802-436C-AEB2-EAE66D986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9D864C-E67F-4171-866C-572DF014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FF3C2F-D1D7-4AF5-A06E-67B927B6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398201-9FF9-4FF9-9921-46686C2F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34EA78-98EA-46D7-8574-5166CF24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71683A-B53D-407F-95AD-30EF2B4F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518082-38CE-4D7A-BE71-28C75BD2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4D5BF1C-E712-435F-A92D-A91DF52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7734C4-9991-4EAF-AAD0-D265F45D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FB41C-6190-4F61-A916-DA0B2B21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F55193-F02A-4318-A132-91888A83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BAA4A4-6BEE-415D-ADE0-34964A5C0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4504C9-DE1E-415B-831A-DC75FD67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CF52DC-6E19-4272-A701-0ACA50B0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01C411-16FB-4CD8-AB7D-DFE7682B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B84D11-0A6A-4369-910B-D0418EFF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7CF0A2-EEB4-4951-AB32-2ABE0B24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3F96ED-8D0B-4472-8D3D-6B72705B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99E294-96CE-4EBF-926D-4E2FABF1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FEDD06-8FA4-44DB-B1FA-F8D149D8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42D3D-49B2-4F1A-B1FC-99861ED3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7B09C6B-D7BC-495B-94E7-EC41065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5A5425-23C8-4F76-B23C-960516B6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350FF6-BFF6-4D1D-B047-863C775E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C3854F-9DB0-4EF1-B7A7-0956AFA8E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001A34-83D7-4B5D-98D9-A8F9873D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999AC3-4CB0-4B45-99D3-29D6CC70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2F202B-BFDA-4A77-BB2B-406869F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45A81B-ED9A-4CE6-A618-A4441D98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B4F19C-16E5-4C71-AB1E-514790A1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C314FC-55F6-4520-BF54-C7F1EC1C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D95AC-10AA-4B72-94DB-C03C033C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2FE7790-A114-44B3-9F27-654ED23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9BFD28-9427-4CA7-AB5C-6EF0421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10927A-3134-4C97-812B-6BAD4618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829B39F-DF29-41A2-866D-D86158B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FF03BF4-37E8-46B5-9DB1-BC09784C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93BD94-EF54-45F0-9CDC-2E009C6A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A657DA-ECF9-44C3-9D9B-A03AB2B1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6752DFD-1758-4A22-9AEA-FD7CDCF3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FD8982-E0E2-4C27-9A0A-7AF34C78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5D902C-ADE5-4069-AFA1-A0301798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0173-F419-4598-ADD8-286858FB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A9059A-B9D8-4921-9DF2-36D759AD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1D7ECD-5A07-442C-B8D0-E1DE00A3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910D16-80B9-41E6-AB56-CDCCA887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09CC32-D4D7-431D-BCB1-A21CED8B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EF4B01-B2B8-42A7-8692-49D051BF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50381F-9A7D-4700-BB44-F6EB456C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DBC187-BE48-4F3D-8466-C71ABFDE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13DAAD-3096-43F8-BD07-12207FB5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D71E1C-B158-49B7-96F1-74AF4BE6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486E5E4-24D6-4621-8D5E-5AA119AD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5D12-A827-42E8-AB3F-98ED0ECD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2B7A23-680A-44CF-9C7E-3F5C747A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1CF3D5-4150-466C-9048-EE4A89C4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C14348-5B7F-4D16-8382-328B4EAB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BEC4947-F753-4F91-82F1-A50B9A69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8E1650F-0336-4392-BFEB-F6B72077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F93B7A5-4CDD-4F24-B4DC-4735AB7D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00563E-D76F-4B8F-B4C4-506CA20C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8FEADF-B3C1-4BDF-857C-16D8411A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F03D2C-6321-404B-A595-2E9AE888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C26BE3D-D042-4AE6-B459-37A1074E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E02CC-2C91-4897-9DA2-7AE52CCAC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4AEF3B-F391-4C0C-A04A-CC4C39AA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B2A7894-8BED-4E40-BD8E-E8EA6378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C485B2-9030-43B6-BF10-05DBDA51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8000E78-9810-44FE-A713-C1DBC08B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C7BD760-5DCF-4463-A1D6-87D9412A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50E206-F70B-4E0F-A876-59DDED04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5674C9-6074-4003-99A7-0375C045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F35D122-80BF-4EF3-B1C0-11EE5BA2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6C2AD5-4C2D-4E7F-B155-90C336B5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40F1915-C4CB-421E-8D96-5F861C9E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068DD-1F64-4B52-A653-1D7D7B54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4C4B9D-FA3E-44C7-86B1-644504F6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38052F1-21BB-4CD5-BA57-282B2538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DF8CD0D-CFE7-49B5-B4DC-043CA769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F930FCF-BB6C-486E-AB63-94C5F307D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8176DD-11A5-46C1-926F-0C6E29B1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615B073-2E78-48CA-BFD5-4E307CC3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FD10F7-F77C-4F26-9ABA-CC8F1AA5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B37141-446E-471D-8A2B-C9A0332B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089001-273F-4BCA-8CCB-0B51BF7C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583F66-A7F8-4F3A-984B-4FE5F58B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BCA81-F5F6-4F15-8508-F93542A3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25D5D0B-00C4-4304-B780-95DDC7CA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40429E9-7FA8-41AF-B449-FAD7D3FB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6AB07C6-4C0C-4202-B0E4-5458E3DC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327133-068A-420B-8897-D17D6504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F092F4-4A7E-4F64-9289-802CA3A0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3CF24E3-A040-425C-93C4-5B0CDD55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C302FB-9886-4C4D-A885-26026F63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A36536B-173F-4DB8-86D4-ED13DFC7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754E3C9-CE55-4DEE-8542-F1B08A8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177194-1E2E-4C22-B511-91C66767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722FF-BE5B-4520-B501-4BA85CEC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CE5631-333E-4A4E-BD0C-6DA2F64E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A0948AF-67C6-414D-AA4C-0B2E74EE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4C8DE2C-C9DE-401A-8573-0685F74F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5A96FD-3D01-4004-A239-DD949E8C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1529B3-615D-4B2E-980F-2360E193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594BB7-17E0-45C3-A4B2-A47BDDA5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AD927B-A974-4B2C-8715-75E4852A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28B6EB-D421-4337-BEC3-CFAB795F5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5E054A-B6AB-4869-9047-E5B25EBA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8A7BD0-3191-415E-8CB7-F5931C79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5A02E-D27B-4D9C-B419-49CF9026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A30E30-7ACE-4F30-87CC-791E8EDC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9856609-9488-4F6F-8F21-5013E6AA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DE2E80E-F19F-43AF-B3D1-E50B21E2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EADB0D-A684-4CD6-9DD5-C0A3430D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07505EE-D15E-495F-94D2-17D6E9B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45E69F0-DD51-41DE-BD19-10FCF82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CBC9B5A-982E-472E-A625-EADDBA3F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F19FD0-FFDD-4F44-BDAD-6FA0BDD6B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63EFDB-C62B-4FAC-A574-F5227C34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98519D-2841-46F6-9C74-863BB753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B881-C687-40F8-AF6E-8F8B5B72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B3E2E1-D297-47B1-A194-9FE2961F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00160E8-7A52-4C4A-83A2-A18E4EA7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71DB257-2B93-493C-95C3-F50B5614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D8F2E1E-36D0-4C75-B04F-331E511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B022BAA-5575-4D17-BCB8-D1A26816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19DDAAA-74E1-4721-8F2D-84200672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9C1A52B-2A6A-4012-8173-0DFCC4D4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EAD0CF6-6706-4C2C-A2A5-BF6B0CBB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059B79B-3962-463D-B3F8-0D99CACD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05E96A-85B3-44FC-9150-3DCD1538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8A73A-FACF-448E-84F5-0AB73B01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E87E413-9AC6-4240-B214-18ACBBD4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28B5BDB-C417-4D41-849D-90B626AA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69BB55B-E75F-4501-A139-774813EB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F716F0-0E13-42EB-85E3-085A6B3B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09257F3-DB60-42DF-967A-E4C46267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A7376D6-9889-44FE-86F5-C9F95EC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93040CD-6FD3-4117-824B-2FCD767D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F26938-FD0F-4092-92A2-34F69628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3901A16-1371-4005-9903-5C513330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5189997-E5F1-4B29-B264-7B70D812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5EE4-0B00-4A1E-AFB2-9F92B8D8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D6BE2A-5EAB-4739-AF9E-5C3C0A0E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365FB6-635F-45FB-A93C-B80C1A08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854BE6B-0203-45CB-81F4-F3CCF9DC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255E-A239-4A0E-8A08-94E8B760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05AA-8F37-4249-89E8-DBE7A2A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E2C34-4373-478D-97EE-B4CD47C1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8E54-E1DD-46AA-8403-D56E1EB6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A42FC-EE4F-4702-BF22-9FA081AB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1A5F1-E1F6-418B-A6FF-F12D54BB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E97DA-380B-492E-9C5C-ADD0296C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A98A-7559-4792-ACA3-19F2E4DC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BA750-9518-4B01-8520-039AB756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52443-6ECE-4728-84FB-FB175CEF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8BEA0-6294-4EC4-A85C-F044FFA6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62758-8B3E-4CB8-AE05-579FDA9B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FDB2E-4B6D-4AEB-8F19-A15F31CF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5670-904F-4148-B831-2969411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7A372-FD7E-48BA-A18E-7C8E8449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E70E-7D53-4934-A88A-4FDDF04B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D328F-EC8A-46CC-8AC0-E4AA7BC5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EEB1D-A8CC-41B5-975A-6B2EE82E1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BC660-8FCA-4300-BD80-BC3255B4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ED108-0F25-49E8-AC61-D74CDA6C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2B118-DAD5-46FD-B67F-686C7CEE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699EF-0638-476A-9226-66B1EEC3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CF1D7-94B7-4E0E-A3AE-54B72FD7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E25C8-6295-47C7-89A1-5E1F7145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7272D-F500-4DF4-B4A6-C6458F17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CCF2A-5747-40FA-987E-C7B6F9B8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00F24-1D68-4ECC-9A17-9CE01240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C75B8-CD5E-4956-B540-4C7484F9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D77F3-8A96-4DAB-921B-36D34F1F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678E4-6682-4669-ACE5-EE530A50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A923D-8034-47F5-8CFC-D988E495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0BECA-D003-4552-BD3A-8C7B728C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698D2-C274-4290-A20C-1A8B31EA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DEA18-42EA-4A0F-A0FC-134AB7DD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BA4EC-94DB-4C4C-8756-4FD652E2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14D1B-E251-4178-9AD5-19E13284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B0820-4EA5-4937-9B05-CA2C6866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0D252-CBAF-4947-B45D-D6562EE7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C62A5-4544-4291-9D45-B6D0F69F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ADC2C-607F-47A5-A63E-F5B8B21C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C9C18-F0F2-43D3-A568-C118627F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581FA-6E34-4EB4-A09D-4FFE8C2B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5A5F0-B8B3-4577-9094-716AC0A0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ED647-C1B3-4024-BB18-8A105090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9477-81D3-4D23-B863-EF98DE693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600E158-D9AC-48BE-A504-2EBEDDE36FB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FEC3-9BE1-4E84-8E7C-60A998B37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8E6E142-9C3A-42C8-8974-C966F1CBA73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37DA-D583-4333-A925-7A04B25D7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E3618454-5E7D-4671-A0CA-A3711D5A5FA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5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9F5256C0-298B-4483-A5CB-583A7BE3A59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7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42C77BD-F04B-4ED2-A67F-3B491993671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2694-CEFB-4863-A603-6FE7584AEF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6F9D738-8D42-4E7A-8095-C8F33DF17AB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FCCF-3C83-4013-91EE-653E09F54C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66123947-A149-44B4-B8C6-5F818256C79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3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29E1-EB78-455E-A832-B5796306CB1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4348-624A-4DCD-B905-8B4861D1E6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D95E1491-6BF9-4E18-9A0E-A69FA1FAFC0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EB78-78BC-43DC-85A9-2F24818D8E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4344075-C745-4DA7-B9C4-6D7D8836B4D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1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E00B-4E71-4D8A-8DBB-F7AFD0D608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61106B7-BE4A-4879-B82C-9F0A87F963C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6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5053-96B6-474F-8E59-D810C71730D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51BD-FCC2-491D-AE8F-B010C6CC9A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4BEA-FA4D-4300-AE76-9A3086AE1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AD65A726-4A12-49D3-BB3C-FA8C7BD9155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7CE2C1DF-2083-46D9-8FFC-BAA29A81052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D4EB-2662-43FC-A983-62CACE6944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973A61F-1128-49FF-9951-8972A70D020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4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21A1-D77E-43D0-B9FF-28FA73CB19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E099C941-9033-4E6C-92C9-F24610697AA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9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9816-EED1-41AD-9FED-BDF986E5C95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32F3-E070-49DD-A214-B42F07E8F7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8B1AFC3C-459A-4E1A-9270-461A285ED58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B000-E7BD-49DD-A0B3-DB924882A6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A5EDC89-B8F7-4DA6-AAEA-8C99357D95A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7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E6F8-2F70-4BBB-BECC-D2726B9F61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09B4E42-127A-49F3-A4D6-B4A7C3EDB20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2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3C0C-BFD4-47E3-94A8-2F6FF6A8AD8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0B65-BE5D-406B-BAF1-57E4AEF323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625C93E-1446-49FE-8B86-961E4B49D0B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3EF-3313-402B-A645-9F0861CF89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919C6ADA-2CE0-4F40-A6F1-ECAC64F14FA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0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13AC-09A2-4FB1-B703-BDD5636010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79A70FB-F9B4-4006-971B-DBC09107DD5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15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38F1-8895-4B87-B79B-6760A31356F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94F1-4053-4794-8C80-3D93A37611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AEBAD46C-53A5-4CB8-9502-3A4D39EE689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5FA7-5C95-4ED3-8929-CB86700FA8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989B-E1A7-4313-B838-D67EE2FA3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9C4C258-857D-44A8-87FF-B28DA761888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D3D80E81-3046-4938-AC08-767B70315ED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3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76AF-4BBF-4DF4-8A51-4DAAB5D929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50E7817E-78EA-42CE-A562-82B0B6E929B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8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F740-48AF-4B8C-BB8A-45FC4508F54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6B39-931B-4C39-ADD2-297CD8B919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99E92534-0059-4ACE-9673-1E5818394D5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7454-2549-4F22-8039-A63051FB55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1ED234A-225E-4676-91AE-ACBBE394B5A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6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A572-A3CF-4859-B9B1-83829A6A235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CEB2AC0E-6E62-417F-A61D-58ED5036715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1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4D42-74D6-46B6-91E8-23246B6F9C5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7E19-426A-4ADC-A287-A561E37B29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173DDED-7FF0-4368-ACCF-FCAB6FDA2B2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BDE7-F4CB-49E5-B59F-7843219BE8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BC469902-FBD9-4610-A87C-419A3DCFBE0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9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F997-5263-4D5E-AD71-83BF0D51B1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5F8CBC20-4F75-4F52-B8BF-2F94E59338A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54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6BA9-E31F-4579-9E2E-E700B53E956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B13B-9CAD-41F0-9934-0D1CA5CA01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EA003B5C-11DF-4993-81FD-6A8029F15E2F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2D06-5868-4626-B48C-9594960ED3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A7359872-36D4-4564-804F-93EE4FB98B0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2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1C0E-AD0F-4276-875E-7305825F5F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2A1F-EE50-4292-BF05-3395B34E2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C35A16C2-F3EA-4AB7-B38B-D067793ADD8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BADF54D-60D8-4C5F-BC43-697CC494C6C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67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5445-20B4-4305-95BB-B99C0867A5B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A55-80B9-4028-9585-E8A7216EAA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8E7599E7-FA4E-422C-A44C-0575A7E3813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AE13-F1DF-4A2B-BE33-2A01FDFD91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5769E446-B526-4908-9D13-B100B2045EB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5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77FA-1091-4B98-A40A-9CB1984A80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74F0901B-4781-4CF6-B37C-D6A05D77687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0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004C-0303-4E5E-9D88-E0AE98AB437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9C87-EE31-4C17-A280-351B4286D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7C0F4631-8547-4558-B8E9-05A5A42FC61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E84-8CF2-404F-872F-650A86C5FE0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C44F5B24-E415-4F13-9173-B0722A96F87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88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5343-09CD-40AC-ADEE-F00397C155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8692FDA8-B341-43C7-9D07-C932858B413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3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2263-8BFE-406F-B63E-98DB1573CFF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D1C2-0604-48E9-93B0-7011D732B5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5D65-7737-41F5-B9FD-383F443AE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F2A52AD-8B40-43D2-B08C-99CE869FA41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EB3E-6CF5-4C1C-A105-F76F6CFAD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2E44179-2D0B-495C-8A94-C027EBDDCB0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C64D-BE66-48DC-A2E1-593775C04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52C38BC-C680-4874-B096-2CBE2AD71C7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D45F-5948-416C-988D-7DFC0F95E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410E346E-EF38-47E7-80B9-51B2F855C56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877B-5E04-4581-9225-2BF304DCB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A5F499ED-A4D3-4441-B8D8-4B64EEAE527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5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6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977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8" name="Picture 9" descr=""/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1979" name="TextBox 7" descr=""/>
          <p:cNvPicPr/>
          <p:nvPr/>
        </p:nvPicPr>
        <p:blipFill>
          <a:blip r:embed="rId3"/>
          <a:stretch/>
        </p:blipFill>
        <p:spPr>
          <a:xfrm>
            <a:off x="-73080" y="-237960"/>
            <a:ext cx="159696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8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99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Complete specification of the geometry, materials, and tolerances for all parts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Identification of all the standard parts to be purchased from suppliers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Process plan is established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Tooling is designed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Output: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524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Drawings describing the geometry of each part and its tooling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524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Specifications of purchased parts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524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Process plan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0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200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onstruction and evaluation of multiple preproduction versions of produc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ame geometry and material as production version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Not necessarily fabricated with the actual production processe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Prototypes tested to determine if the product will work as designed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2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20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Product is made using the intended production system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Need to train workers and resolve any remaining problem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Products may be supplied to preferred customers for evaluation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ransition to ongoing production is gradua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4" name="Rectangle 5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8302680" cy="1919520"/>
          </a:xfrm>
          <a:prstGeom prst="rect">
            <a:avLst/>
          </a:prstGeom>
          <a:ln w="0">
            <a:noFill/>
          </a:ln>
        </p:spPr>
      </p:pic>
      <p:pic>
        <p:nvPicPr>
          <p:cNvPr id="2005" name="Picture 2" descr=""/>
          <p:cNvPicPr/>
          <p:nvPr/>
        </p:nvPicPr>
        <p:blipFill>
          <a:blip r:embed="rId2"/>
          <a:stretch/>
        </p:blipFill>
        <p:spPr>
          <a:xfrm>
            <a:off x="1676520" y="1603440"/>
            <a:ext cx="6064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8001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nalysis of Project Development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easurable factors to help 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al design and developm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/no-go mile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a Base-Case Financi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inancial model consisting of major cash flow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ity Analysis for “what if”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4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9B990524-17A8-48B4-8BF2-EDC4F9FEE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39"/>
          <p:cNvGrpSpPr/>
          <p:nvPr/>
        </p:nvGrpSpPr>
        <p:grpSpPr>
          <a:xfrm>
            <a:off x="685800" y="1801800"/>
            <a:ext cx="7686360" cy="3760560"/>
            <a:chOff x="685800" y="1801800"/>
            <a:chExt cx="7686360" cy="3760560"/>
          </a:xfrm>
        </p:grpSpPr>
        <p:grpSp>
          <p:nvGrpSpPr>
            <p:cNvPr id="2010" name="Oval 4"/>
            <p:cNvGrpSpPr/>
            <p:nvPr/>
          </p:nvGrpSpPr>
          <p:grpSpPr>
            <a:xfrm>
              <a:off x="3352680" y="3306600"/>
              <a:ext cx="2322720" cy="2255760"/>
              <a:chOff x="3352680" y="3306600"/>
              <a:chExt cx="2322720" cy="2255760"/>
            </a:xfrm>
          </p:grpSpPr>
          <p:pic>
            <p:nvPicPr>
              <p:cNvPr id="2011" name="Oval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352680" y="3306600"/>
                <a:ext cx="2322720" cy="22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2" name=""/>
              <p:cNvSpPr/>
              <p:nvPr/>
            </p:nvSpPr>
            <p:spPr>
              <a:xfrm>
                <a:off x="3729240" y="3650400"/>
                <a:ext cx="1566000" cy="151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3" name="Line 8"/>
            <p:cNvSpPr/>
            <p:nvPr/>
          </p:nvSpPr>
          <p:spPr>
            <a:xfrm>
              <a:off x="2884320" y="4408920"/>
              <a:ext cx="514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4" name="Group 33"/>
            <p:cNvGrpSpPr/>
            <p:nvPr/>
          </p:nvGrpSpPr>
          <p:grpSpPr>
            <a:xfrm>
              <a:off x="685800" y="3923280"/>
              <a:ext cx="2198520" cy="973080"/>
              <a:chOff x="685800" y="3923280"/>
              <a:chExt cx="2198520" cy="973080"/>
            </a:xfrm>
          </p:grpSpPr>
          <p:grpSp>
            <p:nvGrpSpPr>
              <p:cNvPr id="2015" name="AutoShape 9"/>
              <p:cNvGrpSpPr/>
              <p:nvPr/>
            </p:nvGrpSpPr>
            <p:grpSpPr>
              <a:xfrm>
                <a:off x="685800" y="3923280"/>
                <a:ext cx="2198520" cy="973080"/>
                <a:chOff x="685800" y="3923280"/>
                <a:chExt cx="2198520" cy="973080"/>
              </a:xfrm>
            </p:grpSpPr>
            <p:pic>
              <p:nvPicPr>
                <p:cNvPr id="2016" name="AutoShape 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800" y="3923280"/>
                  <a:ext cx="2198520" cy="97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7" name=""/>
                <p:cNvSpPr/>
                <p:nvPr/>
              </p:nvSpPr>
              <p:spPr>
                <a:xfrm>
                  <a:off x="770040" y="3982680"/>
                  <a:ext cx="2028240" cy="81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8" name="Rectangle 10"/>
              <p:cNvSpPr/>
              <p:nvPr/>
            </p:nvSpPr>
            <p:spPr>
              <a:xfrm>
                <a:off x="735840" y="4131000"/>
                <a:ext cx="2096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"/>
                  </a:rPr>
                  <a:t>Quality Func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"/>
                  </a:rPr>
                  <a:t>Deploy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9" name="Group 34"/>
            <p:cNvGrpSpPr/>
            <p:nvPr/>
          </p:nvGrpSpPr>
          <p:grpSpPr>
            <a:xfrm>
              <a:off x="6101280" y="3902040"/>
              <a:ext cx="2270880" cy="972720"/>
              <a:chOff x="6101280" y="3902040"/>
              <a:chExt cx="2270880" cy="972720"/>
            </a:xfrm>
          </p:grpSpPr>
          <p:grpSp>
            <p:nvGrpSpPr>
              <p:cNvPr id="2020" name="AutoShape 17"/>
              <p:cNvGrpSpPr/>
              <p:nvPr/>
            </p:nvGrpSpPr>
            <p:grpSpPr>
              <a:xfrm>
                <a:off x="6121440" y="3902040"/>
                <a:ext cx="2201760" cy="972720"/>
                <a:chOff x="6121440" y="3902040"/>
                <a:chExt cx="2201760" cy="972720"/>
              </a:xfrm>
            </p:grpSpPr>
            <p:pic>
              <p:nvPicPr>
                <p:cNvPr id="2021" name="AutoShape 1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21440" y="3902040"/>
                  <a:ext cx="2201760" cy="97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22" name=""/>
                <p:cNvSpPr/>
                <p:nvPr/>
              </p:nvSpPr>
              <p:spPr>
                <a:xfrm>
                  <a:off x="6209280" y="3958200"/>
                  <a:ext cx="2025720" cy="81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3" name="Rectangle 18"/>
              <p:cNvSpPr/>
              <p:nvPr/>
            </p:nvSpPr>
            <p:spPr>
              <a:xfrm>
                <a:off x="6101280" y="4102200"/>
                <a:ext cx="227088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"/>
                  </a:rPr>
                  <a:t>Value Analysi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entury"/>
                  </a:rPr>
                  <a:t>Value Engineer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4" name="Line 19"/>
            <p:cNvSpPr/>
            <p:nvPr/>
          </p:nvSpPr>
          <p:spPr>
            <a:xfrm>
              <a:off x="5614920" y="43876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Text Box 28"/>
            <p:cNvSpPr/>
            <p:nvPr/>
          </p:nvSpPr>
          <p:spPr>
            <a:xfrm>
              <a:off x="3557520" y="3846240"/>
              <a:ext cx="1905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"/>
                </a:rPr>
                <a:t>Ideal Customer Produ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Line 12"/>
            <p:cNvSpPr/>
            <p:nvPr/>
          </p:nvSpPr>
          <p:spPr>
            <a:xfrm>
              <a:off x="4548240" y="2796120"/>
              <a:ext cx="0" cy="587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7" name="AutoShape 13"/>
            <p:cNvGrpSpPr/>
            <p:nvPr/>
          </p:nvGrpSpPr>
          <p:grpSpPr>
            <a:xfrm>
              <a:off x="3425760" y="1801800"/>
              <a:ext cx="2243160" cy="1071360"/>
              <a:chOff x="3425760" y="1801800"/>
              <a:chExt cx="2243160" cy="1071360"/>
            </a:xfrm>
          </p:grpSpPr>
          <p:pic>
            <p:nvPicPr>
              <p:cNvPr id="2028" name="AutoShap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3425760" y="1801800"/>
                <a:ext cx="2243160" cy="1071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9" name=""/>
              <p:cNvSpPr/>
              <p:nvPr/>
            </p:nvSpPr>
            <p:spPr>
              <a:xfrm>
                <a:off x="3517200" y="1864080"/>
                <a:ext cx="2061000" cy="89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0" name="Rectangle 14"/>
            <p:cNvSpPr/>
            <p:nvPr/>
          </p:nvSpPr>
          <p:spPr>
            <a:xfrm>
              <a:off x="3481200" y="2167200"/>
              <a:ext cx="2130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"/>
                </a:rPr>
                <a:t>House of 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15"/>
            <p:cNvSpPr/>
            <p:nvPr/>
          </p:nvSpPr>
          <p:spPr>
            <a:xfrm>
              <a:off x="3813120" y="2412360"/>
              <a:ext cx="1731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2" name="Rectangle 37" descr=""/>
          <p:cNvPicPr/>
          <p:nvPr/>
        </p:nvPicPr>
        <p:blipFill>
          <a:blip r:embed="rId5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3" name="Rectangle 1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20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Interfunctional teams from marketing, design engineering, and manufacturing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Begins with listening to the customer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Uses market research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ustomer preferences are defined and broken down into customer requirement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House of quality 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5" name="Rectangle 4" descr=""/>
          <p:cNvPicPr/>
          <p:nvPr/>
        </p:nvPicPr>
        <p:blipFill>
          <a:blip r:embed="rId1"/>
          <a:stretch/>
        </p:blipFill>
        <p:spPr>
          <a:xfrm>
            <a:off x="396720" y="-12600"/>
            <a:ext cx="8479080" cy="1884240"/>
          </a:xfrm>
          <a:prstGeom prst="rect">
            <a:avLst/>
          </a:prstGeom>
          <a:ln w="0">
            <a:noFill/>
          </a:ln>
        </p:spPr>
      </p:pic>
      <p:grpSp>
        <p:nvGrpSpPr>
          <p:cNvPr id="2036" name="Rectangle 6"/>
          <p:cNvGrpSpPr/>
          <p:nvPr/>
        </p:nvGrpSpPr>
        <p:grpSpPr>
          <a:xfrm>
            <a:off x="506520" y="3749760"/>
            <a:ext cx="2597040" cy="2522520"/>
            <a:chOff x="506520" y="3749760"/>
            <a:chExt cx="2597040" cy="2522520"/>
          </a:xfrm>
        </p:grpSpPr>
        <p:pic>
          <p:nvPicPr>
            <p:cNvPr id="2037" name="Rectangle 6" descr=""/>
            <p:cNvPicPr/>
            <p:nvPr/>
          </p:nvPicPr>
          <p:blipFill>
            <a:blip r:embed="rId2"/>
            <a:stretch/>
          </p:blipFill>
          <p:spPr>
            <a:xfrm>
              <a:off x="506520" y="3749760"/>
              <a:ext cx="259704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8" name=""/>
            <p:cNvSpPr/>
            <p:nvPr/>
          </p:nvSpPr>
          <p:spPr>
            <a:xfrm>
              <a:off x="609480" y="3809880"/>
              <a:ext cx="24386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"/>
                </a:rPr>
                <a:t>Customer requirements information forms the basis for this matrix, used to translate them into operating or engineering goa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9" name="Picture 2" descr=""/>
          <p:cNvPicPr/>
          <p:nvPr/>
        </p:nvPicPr>
        <p:blipFill>
          <a:blip r:embed="rId3"/>
          <a:srcRect l="2380" t="2127" r="2109" b="2387"/>
          <a:stretch/>
        </p:blipFill>
        <p:spPr>
          <a:xfrm>
            <a:off x="3745080" y="1457280"/>
            <a:ext cx="46368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0" name="Rectangle 1037" descr=""/>
          <p:cNvPicPr/>
          <p:nvPr/>
        </p:nvPicPr>
        <p:blipFill>
          <a:blip r:embed="rId1"/>
          <a:stretch/>
        </p:blipFill>
        <p:spPr>
          <a:xfrm>
            <a:off x="457200" y="-12600"/>
            <a:ext cx="8229600" cy="1884240"/>
          </a:xfrm>
          <a:prstGeom prst="rect">
            <a:avLst/>
          </a:prstGeom>
          <a:ln w="0">
            <a:noFill/>
          </a:ln>
        </p:spPr>
      </p:pic>
      <p:sp>
        <p:nvSpPr>
          <p:cNvPr id="204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urpose is to simplify products and processe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bjective is to achieve better performance at a lower cost while maintaining all functional requirements defined by the customer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oes the item have any design features that are not necessary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an two or more parts be combined into one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How can we cut down the weight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Are there nonstandard parts that can be eliminated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2" name="Rectangle 10" descr=""/>
          <p:cNvPicPr/>
          <p:nvPr/>
        </p:nvPicPr>
        <p:blipFill>
          <a:blip r:embed="rId1"/>
          <a:stretch/>
        </p:blipFill>
        <p:spPr>
          <a:xfrm>
            <a:off x="360360" y="-30240"/>
            <a:ext cx="8545680" cy="1919520"/>
          </a:xfrm>
          <a:prstGeom prst="rect">
            <a:avLst/>
          </a:prstGeom>
          <a:ln w="0">
            <a:noFill/>
          </a:ln>
        </p:spPr>
      </p:pic>
      <p:sp>
        <p:nvSpPr>
          <p:cNvPr id="20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Traditional approach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We design it, you build it” or “over the wall”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Concurrent engineering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Let’s work together simultaneously”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Rectangle 3"/>
          <p:cNvSpPr/>
          <p:nvPr/>
        </p:nvSpPr>
        <p:spPr>
          <a:xfrm>
            <a:off x="838080" y="1828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Rectangle 4"/>
          <p:cNvSpPr/>
          <p:nvPr/>
        </p:nvSpPr>
        <p:spPr>
          <a:xfrm>
            <a:off x="1676520" y="32004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t and Service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4" name="Rectangle 1035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8229600" cy="1919520"/>
          </a:xfrm>
          <a:prstGeom prst="rect">
            <a:avLst/>
          </a:prstGeom>
          <a:ln w="0">
            <a:noFill/>
          </a:ln>
        </p:spPr>
      </p:pic>
      <p:sp>
        <p:nvSpPr>
          <p:cNvPr id="204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Greatest improvements related to DFMA arise from simplification of the product by reducing the number of separate parts: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During the operation of the product, does the part move relative to all other parts already assembled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ust the part be of a different material or be isolated from other parts already assembled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Must the part be separate from all other parts to allow the disassembly of the product for adjustment or maintenance?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6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204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rvice products are very differen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Direct customer involvement introduces significant variability in the proces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Questions to address: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How will this variability be addressed?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What are the implications for operational cost and the customer service experience?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Rectangle 18"/>
          <p:cNvSpPr/>
          <p:nvPr/>
        </p:nvSpPr>
        <p:spPr>
          <a:xfrm>
            <a:off x="685800" y="53352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3"/>
          <p:cNvSpPr/>
          <p:nvPr/>
        </p:nvSpPr>
        <p:spPr>
          <a:xfrm>
            <a:off x="2895480" y="6629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ing Product Development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6"/>
          <p:cNvSpPr/>
          <p:nvPr/>
        </p:nvSpPr>
        <p:spPr>
          <a:xfrm>
            <a:off x="4876920" y="1295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7"/>
          <p:cNvSpPr/>
          <p:nvPr/>
        </p:nvSpPr>
        <p:spPr>
          <a:xfrm>
            <a:off x="3276720" y="1905120"/>
            <a:ext cx="5105160" cy="1922760"/>
          </a:xfrm>
          <a:prstGeom prst="rect">
            <a:avLst/>
          </a:prstGeom>
          <a:solidFill>
            <a:srgbClr val="e1e1d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. Of new products int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to market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stated and number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versu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of sales from new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9"/>
          <p:cNvSpPr/>
          <p:nvPr/>
        </p:nvSpPr>
        <p:spPr>
          <a:xfrm>
            <a:off x="228600" y="2514600"/>
            <a:ext cx="281952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Time-to-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Text Box 11"/>
          <p:cNvSpPr/>
          <p:nvPr/>
        </p:nvSpPr>
        <p:spPr>
          <a:xfrm>
            <a:off x="380880" y="4343400"/>
            <a:ext cx="251460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4"/>
          <p:cNvSpPr/>
          <p:nvPr/>
        </p:nvSpPr>
        <p:spPr>
          <a:xfrm>
            <a:off x="380880" y="5715000"/>
            <a:ext cx="1828800" cy="52056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spcAft>
                <a:spcPts val="5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Text Box 15"/>
          <p:cNvSpPr/>
          <p:nvPr/>
        </p:nvSpPr>
        <p:spPr>
          <a:xfrm>
            <a:off x="3200400" y="4038480"/>
            <a:ext cx="5410080" cy="1191240"/>
          </a:xfrm>
          <a:prstGeom prst="rect">
            <a:avLst/>
          </a:prstGeom>
          <a:solidFill>
            <a:srgbClr val="e1e1d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ering hours pe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 of materials and tooling pe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ual versu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Text Box 16"/>
          <p:cNvSpPr/>
          <p:nvPr/>
        </p:nvSpPr>
        <p:spPr>
          <a:xfrm>
            <a:off x="2590920" y="5486400"/>
            <a:ext cx="6095880" cy="1191240"/>
          </a:xfrm>
          <a:prstGeom prst="rect">
            <a:avLst/>
          </a:prstGeom>
          <a:solidFill>
            <a:srgbClr val="e1e1d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ormance-reliability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-performance and customer satisf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ield-factory an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 Box 17"/>
          <p:cNvSpPr/>
          <p:nvPr/>
        </p:nvSpPr>
        <p:spPr>
          <a:xfrm>
            <a:off x="838080" y="13716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 Box 1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6924B80F-7093-4845-B1C5-E051F522F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1"/>
          <p:cNvSpPr>
            <a:spLocks noGrp="1"/>
          </p:cNvSpPr>
          <p:nvPr>
            <p:ph/>
          </p:nvPr>
        </p:nvSpPr>
        <p:spPr>
          <a:xfrm>
            <a:off x="1981080" y="1066320"/>
            <a:ext cx="6199200" cy="376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oduct Development Proces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conomic Analysis of Development Proj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igning for the Custom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Design for Manufacturabilit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Measuring Product Development Performa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 Box 7"/>
          <p:cNvSpPr/>
          <p:nvPr/>
        </p:nvSpPr>
        <p:spPr>
          <a:xfrm>
            <a:off x="1676520" y="2286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</a:t>
            </a:r>
            <a:fld id="{E59E75CF-5EE2-44D7-9294-5B0E97D8C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9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9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6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panies continuously bring new products to market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oduct design is integral to succes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oduct design differs significantly depending on the industry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mpanies often outsource major function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Contract manufacturer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: an organization capable of manufacturing and/or purchasing all the components needed to produce a finished produc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ore competency: the one thing a company can do better than its competitor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A core competency has three characteristics: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t provides potential access to a wide variety of market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t increases perceived customer benefit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It is hard for competitors to imitate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0" name="Rectangle 2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358480" cy="1755720"/>
          </a:xfrm>
          <a:prstGeom prst="rect">
            <a:avLst/>
          </a:prstGeom>
          <a:ln w="0">
            <a:noFill/>
          </a:ln>
        </p:spPr>
      </p:pic>
      <p:sp>
        <p:nvSpPr>
          <p:cNvPr id="19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0: Planning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1: Concept development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2: System-level design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3: Design detail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4: Testing and refinement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marL="552600" indent="-552600">
              <a:lnSpc>
                <a:spcPct val="14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Phase 5: Production ramp-up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Rectang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19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Precedes project approval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Begins with corporate strategy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Includes assessment of technology developments and market objectives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9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"/>
              </a:rPr>
              <a:t>Output is the project mission statement</a:t>
            </a:r>
            <a:endParaRPr b="0" lang="en-US" sz="3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4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99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Needs of the target market are identified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Alternative product concepts are generated and evaluated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One or more concepts are selected for further development and testing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"/>
              </a:rPr>
              <a:t>Concept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: a description of the form, function, and features of a product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6" name="Rectangle 2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1997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finition of the product architecture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composition of the product into subsystems and component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inal assembly scheme for the production system is usually defined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Geometric layout of the produc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Functional specifications for each subsystem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Preliminary process flow diagram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2T21:13:01Z</dcterms:created>
  <dc:creator> </dc:creator>
  <dc:description/>
  <cp:keywords/>
  <dc:language>en-US</dc:language>
  <cp:lastModifiedBy>KSU S155-S9</cp:lastModifiedBy>
  <dcterms:modified xsi:type="dcterms:W3CDTF">2015-10-22T06:51:56Z</dcterms:modified>
  <cp:revision>63</cp:revision>
  <dc:subject/>
  <dc:title>Production  and Operations Management: Manufacturing and  Services</dc:title>
</cp:coreProperties>
</file>