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jpeg" ContentType="image/jpeg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3740-1E19-423E-91F6-F426D6B29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A6AC-62C1-4DB6-9DFD-99A7B9822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34AA-D360-448E-B62E-E9DF6BD55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1CD7-C901-416C-A2CC-B358DD9E1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A8BE-EEE2-463C-9D8B-AB68B1CC8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C9A2-1171-4537-8A73-93C36A47F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D03C-1CFB-41B6-A08C-A474CB1AB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673D-3715-4413-B0A2-199F10F4F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8396-E274-4FE4-9D70-3CCF9EB53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245F-F09E-49F5-A499-1B29335DD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2222-8EC9-4604-A34A-F2EE9F8A7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E90E-5689-4041-81FA-70118A776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AD90-40CE-4E57-8FEC-D7BA8C7AF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06A4-3213-4787-B7B1-575ED7C44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8032-7AD0-45FD-8CCE-8772A3EC8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32A7-B467-4AFF-8A88-A509EA4D9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19F4-9802-45E4-A4A7-033FB75BF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AAFF-FD81-4F63-9035-57631498B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BA8A-394B-46E3-97A0-0C458FCD7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3E5B-D7C3-47AA-86FB-1DE1A83F1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8AF6-8B6A-475B-8A0B-6110C40A2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6E5E-AE0D-4F89-AEDF-E5644F0EB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2E33-5AE2-4ABF-A94F-0E0A27A31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260A-21EF-4A80-AA19-70144C463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4B1A-8BCE-4AFA-A4E4-9E6B6B479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C5AB-1082-4C2B-8426-092643E99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F72A-D58C-4C85-994D-D51FA0271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E473-DF14-4532-AD86-D54E61A4A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8636-3331-4BC2-A834-0311C27B7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BC4E-6C9C-49C7-B529-7984C8D29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FFD8-16BF-49D8-AA46-1B8082BA7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C511-F824-411D-9551-D5A2EA2AB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5B71-B76B-4C5C-B729-8D80090E4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68D4-EFA1-42B3-8F82-B2117A9BD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9B48-8C34-4D59-A716-AFD7270D3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94F5-E6C0-4008-BCF3-89D3F4B0C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D3B8D-2CCE-4EDE-A1D8-D4F8A7271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2526-FCBA-43E3-9C5F-DD2AD7D62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E5CC-B6F7-4567-A1CB-4474C097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DBD5-D9BE-47FD-9D6F-2A15499AF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171F-3FA3-46DD-A626-64CB30CC1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60F1-DC47-404D-B9A7-5CD7CCCD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EF35-B5E3-4E6C-9E3D-01005A16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F7EE-2B2B-4A28-A159-8F9CC805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228D-F6FD-4A6C-BFED-CA9A6399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380C-8FEA-459B-99CF-B135B6B2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782B-72E0-4CC1-9D42-1E3DC647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37D5-83D7-47EE-B575-4FD78645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1021-50C6-431B-8D3C-1C22F399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5B9FE60C-92DF-4459-9729-6C697487B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1970E415-C504-4591-98BA-0533A2F76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uman Resource Manage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Edit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4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OB ANALYSIS, STRATEGIC PLANNING, AND HUMAN RESOURCE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52F0D292-EF82-4711-AA08-E8456B3D8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Types of Data Collecte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hrough Job Analysis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Job contex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Work schedule; financial and nonfinancial incentives; physical working conditions; organizational and social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ersonal requirements for jo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Personal attributes such as personality and interests; education and training required; work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51D40D24-3CB2-46F5-9395-3030ED378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b Analysis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Object 3" descr=""/>
          <p:cNvPicPr/>
          <p:nvPr/>
        </p:nvPicPr>
        <p:blipFill>
          <a:blip r:embed="rId1"/>
          <a:stretch/>
        </p:blipFill>
        <p:spPr>
          <a:xfrm>
            <a:off x="457200" y="1859040"/>
            <a:ext cx="3352680" cy="33462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19720" y="1904760"/>
            <a:ext cx="44956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n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ee recor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ation of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C4D3DB65-E05C-43A7-8B06-E97A99403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nai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 quick and economical to u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d questionnaire to employ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 Employees may lack verbal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mployees tend to exaggerate  significance of their task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63C3BF3E-384F-499F-93B4-A4E38ECA1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b analyst watches worker perform job tasks and records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primarily to gather information on jobs emphasizing manual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alone is often insu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y: When mental skills are dominant in a jo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C2EACF06-4FA8-4A4C-AF2F-3F3169E48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view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00400" y="16002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iew both employee and supervis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iew employee first, helping him or her describe duties perform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, analyst normally contacts supervisor for additional information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MCj04061120000[1]"/>
          <p:cNvPicPr/>
          <p:nvPr/>
        </p:nvPicPr>
        <p:blipFill>
          <a:blip r:embed="rId1"/>
          <a:stretch/>
        </p:blipFill>
        <p:spPr>
          <a:xfrm>
            <a:off x="990720" y="2619360"/>
            <a:ext cx="18414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DB277508-DD29-445B-A4E7-F814795C3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ployee Recor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73392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daily work activities in diary or lo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 Employees exaggerating job import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able in understanding highly specialized job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MCj01278680000[1]"/>
          <p:cNvPicPr/>
          <p:nvPr/>
        </p:nvPicPr>
        <p:blipFill>
          <a:blip r:embed="rId1"/>
          <a:stretch/>
        </p:blipFill>
        <p:spPr>
          <a:xfrm>
            <a:off x="304920" y="2286000"/>
            <a:ext cx="32004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33E27CA7-8349-46A1-814B-4E467201C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bination of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use more than on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rical and administrative jobs: questionnaires supported by interviews and limited observ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ion jobs: interviews supplemented by extensive work observations may provide necessary dat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D39035B8-61F5-46FF-B952-EBAE545AA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Methods Available for Conducting Job Analysi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artment of Labor Job Analysis Schedu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Job Analy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osition Analysis Questionnai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nagement Position Description Questionnai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delines-Oriented Job Analy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0573EFEF-D9C2-42C3-ABF2-C43BF331E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partment of Labor Job Analysis Sched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d job analysis questionnaire that uses a checklist approach to identify job el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s on general worker behaviors instead of tas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194 job descriptors relate to job-oriented el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D1252D3E-ED27-4F29-BC15-4016E171B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Job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ntrates on the interactions among the work, the worker, and the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cation of the job analysis schedu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es specific job outputs and identifies job tasks in terms of task statement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D544C71C-AB8A-40BD-B0FD-CCF8E31C1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Job analy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Systematic process of determining skills, duties, and knowledge required for performing jobs in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Jo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Consists of group of tasks that must be performed for organization to achieve its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os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Collection of tasks and responsibilities performed by one person; there is a position for every individual in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4D6A8B9A-576D-43CD-974C-47D8BD59C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sition Analysis Questionna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a checklist approach to identify job el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s on general worker behaviors instead of tas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4 job descriptors relate to job-oriented el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job being studied is scored relative to the 32 job dimen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DAA7003C-84CF-4131-8B37-CD13363A8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Management Position Description Questionn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for management po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a checklist to analyze job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been used to determine the training needs of individuals who are slated to move into managerial po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been used to evaluate and set compensation rates for managerial jobs and to assign the jobs to job familie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7AC0DB56-097C-483F-A53A-76825599C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idelines-Oriented Job Analysi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-by-step procedure for describing the work of a particular job classifi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tains the following types of information: (1) machines, tools, and equipment; (2) supervision; (3) contacts; (4) duties; (5) knowledge, skills, and abilities; (6) physical and other requirements; and (7) differentiating requir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45A2BE8A-1713-4D7B-B74D-472DD45A9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ducting Job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62160" y="1980720"/>
            <a:ext cx="4724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who participate in job analysis should include, at a minimu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ee’s immediate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MCPE02691_0000[1]"/>
          <p:cNvPicPr/>
          <p:nvPr/>
        </p:nvPicPr>
        <p:blipFill>
          <a:blip r:embed="rId1"/>
          <a:stretch/>
        </p:blipFill>
        <p:spPr>
          <a:xfrm>
            <a:off x="685800" y="2444760"/>
            <a:ext cx="30369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614BB8BB-1482-48B0-B77C-1268D8D0F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8640" y="1983960"/>
            <a:ext cx="52578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cument that states tasks, duties, and responsibilities of jo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itally important job descriptions are both relevant and accura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MCj03334300000[1]"/>
          <p:cNvPicPr/>
          <p:nvPr/>
        </p:nvPicPr>
        <p:blipFill>
          <a:blip r:embed="rId1"/>
          <a:stretch/>
        </p:blipFill>
        <p:spPr>
          <a:xfrm>
            <a:off x="865080" y="2427120"/>
            <a:ext cx="218304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1DBA9255-7752-4CBD-B844-436BF2445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ent of a Job Descri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Job Identific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Job title, department, reporting relationship, and job number or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Job Analysis D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ids in identifying job changes that would make description obso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Job Summa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Concise overview of j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uties Perform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Major du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1FE50B6C-139C-4385-AA62-362292FA4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*NET, the Occupational Information Networ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2136600"/>
            <a:ext cx="784872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hensive government developed database of worker attributes and job characteris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source of occupational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s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Dictionary of Occupational Tit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DOT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BA7E5E57-5ACF-4074-9E25-B9C549688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b Specif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90360" y="1295280"/>
            <a:ext cx="7391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Job Specifica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Minimum qualifications person should possess to perform  particular jo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uld reflect minimum, not ideal qualifications for particular jo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ob specifications are often included as major section of job descrip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BA1BED7C-10BB-4C80-9935-921A87278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lems If Job Specificatio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re Inflat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14600" y="1980720"/>
            <a:ext cx="6324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y systematically eliminate minorities or women from considera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ensation costs will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ob vacancies will be harder to fi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MPj03901020000[1]"/>
          <p:cNvPicPr/>
          <p:nvPr/>
        </p:nvPicPr>
        <p:blipFill>
          <a:blip r:embed="rId1"/>
          <a:stretch/>
        </p:blipFill>
        <p:spPr>
          <a:xfrm>
            <a:off x="685800" y="2438280"/>
            <a:ext cx="1514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D0F1E7A4-37D4-4995-BE3C-9B65F2E5F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liness of Job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pace of technological change makes need for accurate job analysis even more important now and in the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Object 4" descr=""/>
          <p:cNvPicPr/>
          <p:nvPr/>
        </p:nvPicPr>
        <p:blipFill>
          <a:blip r:embed="rId1"/>
          <a:stretch/>
        </p:blipFill>
        <p:spPr>
          <a:xfrm>
            <a:off x="857160" y="1633680"/>
            <a:ext cx="323856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E508CB82-4EF1-4DB5-8039-797B1FB84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 group consisting of a supervisor, two senior clerks, and four word processing operators has 3 jobs and 7 pos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CA7F45F6-A0F2-47C8-95CD-6EAEAAD1F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b Analysis for Team Member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team design, there are no narrow job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departments do is often bundled into tea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duty shown on proverbial job description, “And any other duty that may be assigned,” is increasingly becoming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ob description.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13BC44F0-289B-4BB9-BE9F-C72378AB0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743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trategic plann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Process by which top management determines overall organizational purposes and objectives and how they are to be achiev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c planning at all levels can be divided into four ste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MCj04238280000[1]"/>
          <p:cNvPicPr/>
          <p:nvPr/>
        </p:nvPicPr>
        <p:blipFill>
          <a:blip r:embed="rId1"/>
          <a:stretch/>
        </p:blipFill>
        <p:spPr>
          <a:xfrm>
            <a:off x="1143000" y="2751120"/>
            <a:ext cx="125748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56F13392-71BB-49F9-893C-BE93400FC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ategy Implement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58128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adership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ganizational Struct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tion and Control Syste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chnolog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uman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MCj01978010000[1]"/>
          <p:cNvPicPr/>
          <p:nvPr/>
        </p:nvPicPr>
        <p:blipFill>
          <a:blip r:embed="rId1"/>
          <a:stretch/>
        </p:blipFill>
        <p:spPr>
          <a:xfrm>
            <a:off x="914400" y="2529000"/>
            <a:ext cx="240516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0AF188D8-3C89-4EFB-BA93-0A39864CE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uman Resource 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8120" y="1828800"/>
            <a:ext cx="5867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ystematic process of matching internal and external supply of people with job openings anticipated in the organization over a specified period of ti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MCj02972750000[1]"/>
          <p:cNvPicPr/>
          <p:nvPr/>
        </p:nvPicPr>
        <p:blipFill>
          <a:blip r:embed="rId1"/>
          <a:stretch/>
        </p:blipFill>
        <p:spPr>
          <a:xfrm>
            <a:off x="457200" y="2521080"/>
            <a:ext cx="240048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0D871004-A012-4EA1-8F61-24005561D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Resource Planning Process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Environm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"/>
          <p:cNvSpPr/>
          <p:nvPr/>
        </p:nvSpPr>
        <p:spPr>
          <a:xfrm>
            <a:off x="8839080" y="1233360"/>
            <a:ext cx="0" cy="523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4"/>
          <p:cNvSpPr/>
          <p:nvPr/>
        </p:nvSpPr>
        <p:spPr>
          <a:xfrm>
            <a:off x="228600" y="1233360"/>
            <a:ext cx="0" cy="523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243000" y="6477120"/>
            <a:ext cx="858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6"/>
          <p:cNvSpPr/>
          <p:nvPr/>
        </p:nvSpPr>
        <p:spPr>
          <a:xfrm>
            <a:off x="8610480" y="1066680"/>
            <a:ext cx="0" cy="530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7"/>
          <p:cNvSpPr/>
          <p:nvPr/>
        </p:nvSpPr>
        <p:spPr>
          <a:xfrm>
            <a:off x="380880" y="914400"/>
            <a:ext cx="0" cy="541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395280" y="6324480"/>
            <a:ext cx="820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9"/>
          <p:cNvSpPr/>
          <p:nvPr/>
        </p:nvSpPr>
        <p:spPr>
          <a:xfrm flipH="1">
            <a:off x="228240" y="60948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0"/>
          <p:cNvSpPr/>
          <p:nvPr/>
        </p:nvSpPr>
        <p:spPr>
          <a:xfrm>
            <a:off x="228600" y="623880"/>
            <a:ext cx="0" cy="58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6248520" y="685800"/>
            <a:ext cx="259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8839080" y="68580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3"/>
          <p:cNvSpPr/>
          <p:nvPr/>
        </p:nvSpPr>
        <p:spPr>
          <a:xfrm flipV="1">
            <a:off x="380880" y="838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4"/>
          <p:cNvSpPr/>
          <p:nvPr/>
        </p:nvSpPr>
        <p:spPr>
          <a:xfrm>
            <a:off x="8610480" y="914400"/>
            <a:ext cx="0" cy="50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5"/>
          <p:cNvSpPr/>
          <p:nvPr/>
        </p:nvSpPr>
        <p:spPr>
          <a:xfrm>
            <a:off x="380880" y="83808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6"/>
          <p:cNvSpPr/>
          <p:nvPr/>
        </p:nvSpPr>
        <p:spPr>
          <a:xfrm flipH="1">
            <a:off x="6248160" y="914400"/>
            <a:ext cx="236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7"/>
          <p:cNvSpPr/>
          <p:nvPr/>
        </p:nvSpPr>
        <p:spPr>
          <a:xfrm>
            <a:off x="2819520" y="1143000"/>
            <a:ext cx="3733560" cy="398880"/>
          </a:xfrm>
          <a:prstGeom prst="rect">
            <a:avLst/>
          </a:prstGeom>
          <a:solidFill>
            <a:srgbClr val="000000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Verdana"/>
              </a:rPr>
              <a:t>Strategic 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8"/>
          <p:cNvSpPr/>
          <p:nvPr/>
        </p:nvSpPr>
        <p:spPr>
          <a:xfrm>
            <a:off x="2819520" y="1828800"/>
            <a:ext cx="365760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uman Resource 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9"/>
          <p:cNvSpPr/>
          <p:nvPr/>
        </p:nvSpPr>
        <p:spPr>
          <a:xfrm>
            <a:off x="685800" y="2590920"/>
            <a:ext cx="2057400" cy="970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recasting Human Resource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0"/>
          <p:cNvSpPr/>
          <p:nvPr/>
        </p:nvSpPr>
        <p:spPr>
          <a:xfrm>
            <a:off x="4648320" y="1523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1"/>
          <p:cNvSpPr/>
          <p:nvPr/>
        </p:nvSpPr>
        <p:spPr>
          <a:xfrm>
            <a:off x="3200400" y="2590920"/>
            <a:ext cx="2133720" cy="916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ring Requirements and 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2"/>
          <p:cNvSpPr/>
          <p:nvPr/>
        </p:nvSpPr>
        <p:spPr>
          <a:xfrm>
            <a:off x="5791320" y="2590920"/>
            <a:ext cx="2361960" cy="7516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recasting Human Resource 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3"/>
          <p:cNvSpPr/>
          <p:nvPr/>
        </p:nvSpPr>
        <p:spPr>
          <a:xfrm>
            <a:off x="3200400" y="3886200"/>
            <a:ext cx="220968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Verdana"/>
              </a:rPr>
              <a:t>Surplus of 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4"/>
          <p:cNvSpPr/>
          <p:nvPr/>
        </p:nvSpPr>
        <p:spPr>
          <a:xfrm>
            <a:off x="914400" y="3886200"/>
            <a:ext cx="167652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Verdana"/>
              </a:rPr>
              <a:t>Demand =  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5"/>
          <p:cNvSpPr/>
          <p:nvPr/>
        </p:nvSpPr>
        <p:spPr>
          <a:xfrm>
            <a:off x="838080" y="4952880"/>
            <a:ext cx="167652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Verdana"/>
              </a:rPr>
              <a:t>No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6"/>
          <p:cNvSpPr/>
          <p:nvPr/>
        </p:nvSpPr>
        <p:spPr>
          <a:xfrm>
            <a:off x="6019920" y="3886200"/>
            <a:ext cx="213336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Verdana"/>
              </a:rPr>
              <a:t>Shortage of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7"/>
          <p:cNvSpPr/>
          <p:nvPr/>
        </p:nvSpPr>
        <p:spPr>
          <a:xfrm>
            <a:off x="6095880" y="4876920"/>
            <a:ext cx="19814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Verdana"/>
              </a:rPr>
              <a:t>Recrui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8"/>
          <p:cNvSpPr/>
          <p:nvPr/>
        </p:nvSpPr>
        <p:spPr>
          <a:xfrm>
            <a:off x="6019920" y="5562720"/>
            <a:ext cx="20574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Verdana"/>
              </a:rPr>
              <a:t>S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9"/>
          <p:cNvSpPr/>
          <p:nvPr/>
        </p:nvSpPr>
        <p:spPr>
          <a:xfrm>
            <a:off x="4724280" y="2209680"/>
            <a:ext cx="10670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30"/>
          <p:cNvSpPr/>
          <p:nvPr/>
        </p:nvSpPr>
        <p:spPr>
          <a:xfrm flipH="1">
            <a:off x="5409720" y="2743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31"/>
          <p:cNvSpPr/>
          <p:nvPr/>
        </p:nvSpPr>
        <p:spPr>
          <a:xfrm flipH="1">
            <a:off x="2743200" y="2133720"/>
            <a:ext cx="1371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32"/>
          <p:cNvSpPr/>
          <p:nvPr/>
        </p:nvSpPr>
        <p:spPr>
          <a:xfrm>
            <a:off x="2743200" y="2743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33"/>
          <p:cNvSpPr/>
          <p:nvPr/>
        </p:nvSpPr>
        <p:spPr>
          <a:xfrm flipH="1">
            <a:off x="533520" y="1981080"/>
            <a:ext cx="2286000" cy="0"/>
          </a:xfrm>
          <a:prstGeom prst="line">
            <a:avLst/>
          </a:prstGeom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34"/>
          <p:cNvSpPr/>
          <p:nvPr/>
        </p:nvSpPr>
        <p:spPr>
          <a:xfrm>
            <a:off x="6477120" y="1981080"/>
            <a:ext cx="1904760" cy="0"/>
          </a:xfrm>
          <a:prstGeom prst="line">
            <a:avLst/>
          </a:prstGeom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5"/>
          <p:cNvSpPr/>
          <p:nvPr/>
        </p:nvSpPr>
        <p:spPr>
          <a:xfrm>
            <a:off x="533520" y="1981080"/>
            <a:ext cx="0" cy="1752840"/>
          </a:xfrm>
          <a:prstGeom prst="line">
            <a:avLst/>
          </a:prstGeom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6"/>
          <p:cNvSpPr/>
          <p:nvPr/>
        </p:nvSpPr>
        <p:spPr>
          <a:xfrm>
            <a:off x="838188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37"/>
          <p:cNvSpPr/>
          <p:nvPr/>
        </p:nvSpPr>
        <p:spPr>
          <a:xfrm>
            <a:off x="8381880" y="1981080"/>
            <a:ext cx="0" cy="1752840"/>
          </a:xfrm>
          <a:prstGeom prst="line">
            <a:avLst/>
          </a:prstGeom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8"/>
          <p:cNvSpPr/>
          <p:nvPr/>
        </p:nvSpPr>
        <p:spPr>
          <a:xfrm>
            <a:off x="533520" y="3733920"/>
            <a:ext cx="7848360" cy="0"/>
          </a:xfrm>
          <a:prstGeom prst="line">
            <a:avLst/>
          </a:prstGeom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9"/>
          <p:cNvSpPr/>
          <p:nvPr/>
        </p:nvSpPr>
        <p:spPr>
          <a:xfrm>
            <a:off x="1676520" y="4572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40"/>
          <p:cNvSpPr/>
          <p:nvPr/>
        </p:nvSpPr>
        <p:spPr>
          <a:xfrm>
            <a:off x="7010280" y="4572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41"/>
          <p:cNvSpPr/>
          <p:nvPr/>
        </p:nvSpPr>
        <p:spPr>
          <a:xfrm>
            <a:off x="701028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42"/>
          <p:cNvSpPr/>
          <p:nvPr/>
        </p:nvSpPr>
        <p:spPr>
          <a:xfrm>
            <a:off x="41911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43"/>
          <p:cNvSpPr/>
          <p:nvPr/>
        </p:nvSpPr>
        <p:spPr>
          <a:xfrm>
            <a:off x="4191120" y="3505320"/>
            <a:ext cx="18288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44"/>
          <p:cNvSpPr/>
          <p:nvPr/>
        </p:nvSpPr>
        <p:spPr>
          <a:xfrm flipH="1">
            <a:off x="2590560" y="3505320"/>
            <a:ext cx="16002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5"/>
          <p:cNvSpPr/>
          <p:nvPr/>
        </p:nvSpPr>
        <p:spPr>
          <a:xfrm>
            <a:off x="2819520" y="4876920"/>
            <a:ext cx="3047760" cy="131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Verdana"/>
              </a:rPr>
              <a:t>Restricted Hiring, Reduced Hours, Early Retirement, Layoffs, Downsiz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46"/>
          <p:cNvSpPr/>
          <p:nvPr/>
        </p:nvSpPr>
        <p:spPr>
          <a:xfrm>
            <a:off x="4343400" y="4572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A31935AB-A73E-498E-B7AA-D637D7CFC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b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of determining specific tasks to be performed, methods used in performing these tasks, and how job relates to other work in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Job enrich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Basic changes in content and level of responsibility of job,  to provide greater challenge to wo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F06D1B42-94F3-4CD4-8B11-3335E01FB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b Desig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Job enlarg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Changes in scope of job to provide greater variety to wo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eenginee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Fundamental rethinking and radical redesign of business processes to achieve dramatic improvements in critical measures of performance, such as cost, quality, service and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9B1AAB30-D5E5-44DC-A808-BA8C1968D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 Job Analysis Should Answ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physical and mental tasks does worker accomplis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s job to be comple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is job to be accomplish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worker do jo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job d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qualifications are needed to perform job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C255EFD8-B746-413B-BD1A-5DD50A15D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 Analysis: A Basic Human Resource Management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52280" y="1523880"/>
            <a:ext cx="1676520" cy="398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981080" y="1523880"/>
            <a:ext cx="2057400" cy="398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4191120" y="1523880"/>
            <a:ext cx="1752480" cy="398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28600" y="3505320"/>
            <a:ext cx="1143000" cy="703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b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2057400" y="2895480"/>
            <a:ext cx="2057400" cy="703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b Descri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2057400" y="3936960"/>
            <a:ext cx="2057400" cy="703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b Spec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9"/>
          <p:cNvSpPr/>
          <p:nvPr/>
        </p:nvSpPr>
        <p:spPr>
          <a:xfrm>
            <a:off x="1752480" y="32004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0"/>
          <p:cNvSpPr/>
          <p:nvPr/>
        </p:nvSpPr>
        <p:spPr>
          <a:xfrm>
            <a:off x="175248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1"/>
          <p:cNvSpPr/>
          <p:nvPr/>
        </p:nvSpPr>
        <p:spPr>
          <a:xfrm>
            <a:off x="175248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2"/>
          <p:cNvSpPr/>
          <p:nvPr/>
        </p:nvSpPr>
        <p:spPr>
          <a:xfrm>
            <a:off x="990720" y="2209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3"/>
          <p:cNvSpPr/>
          <p:nvPr/>
        </p:nvSpPr>
        <p:spPr>
          <a:xfrm>
            <a:off x="99072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4"/>
          <p:cNvSpPr/>
          <p:nvPr/>
        </p:nvSpPr>
        <p:spPr>
          <a:xfrm>
            <a:off x="510552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5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304920" y="5562720"/>
            <a:ext cx="1523880" cy="3988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2133720" y="5562720"/>
            <a:ext cx="1523880" cy="3988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3962520" y="5562720"/>
            <a:ext cx="1523880" cy="3988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9"/>
          <p:cNvSpPr/>
          <p:nvPr/>
        </p:nvSpPr>
        <p:spPr>
          <a:xfrm>
            <a:off x="990720" y="533412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0"/>
          <p:cNvSpPr/>
          <p:nvPr/>
        </p:nvSpPr>
        <p:spPr>
          <a:xfrm>
            <a:off x="990720" y="5334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1"/>
          <p:cNvSpPr/>
          <p:nvPr/>
        </p:nvSpPr>
        <p:spPr>
          <a:xfrm>
            <a:off x="4724280" y="5334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2"/>
          <p:cNvSpPr/>
          <p:nvPr/>
        </p:nvSpPr>
        <p:spPr>
          <a:xfrm flipV="1">
            <a:off x="2971800" y="4648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3"/>
          <p:cNvSpPr/>
          <p:nvPr/>
        </p:nvSpPr>
        <p:spPr>
          <a:xfrm>
            <a:off x="137160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4"/>
          <p:cNvSpPr/>
          <p:nvPr/>
        </p:nvSpPr>
        <p:spPr>
          <a:xfrm>
            <a:off x="6172200" y="1295280"/>
            <a:ext cx="2819520" cy="342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808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taff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808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Training and   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808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Performance Apprai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808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Compens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808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afety and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808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Employee and Labor Re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808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Legal Consid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5"/>
          <p:cNvSpPr/>
          <p:nvPr/>
        </p:nvSpPr>
        <p:spPr>
          <a:xfrm>
            <a:off x="4495680" y="32004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6"/>
          <p:cNvSpPr/>
          <p:nvPr/>
        </p:nvSpPr>
        <p:spPr>
          <a:xfrm>
            <a:off x="4114800" y="3200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7"/>
          <p:cNvSpPr/>
          <p:nvPr/>
        </p:nvSpPr>
        <p:spPr>
          <a:xfrm>
            <a:off x="4114800" y="4419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8"/>
          <p:cNvSpPr/>
          <p:nvPr/>
        </p:nvSpPr>
        <p:spPr>
          <a:xfrm>
            <a:off x="4495680" y="3733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6C216A99-B836-49EF-BF25-0CA9A9AD7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sons For Conduct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Job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taff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Haphazard if recruiter does not know qualifications needed for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raining and Develop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If specification lists  particular knowledge, skill, or ability, and person filling position does not possess all necessary qualifications, training and/or development i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erformance Apprais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Employees should be evaluated in terms of how well they accomplish the duties specified in their job descriptions and any other specific goals that may have been establish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ompens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alue of job must be known before dollar value can be placed on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C6465ABF-FD67-415C-A5E1-60120094D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sons For Conduct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Job Analysis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afety and Heal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Helps identify safety and health 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mployee and Labor Rel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Lead to more objective human resource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egal Consider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Having done job analysis important for supporting legality of employment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BE9AEF35-328C-4277-A865-F10089CFD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Types of Data Collecte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hrough Job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ork Activi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Work activities and processes; activity records (in film form, for example); procedures used; personal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orker-oriented activi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Human behaviors, such as physical actions and communicating on job; elemental motions for methods analysis; personal job demands, such as energy expendi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F043DA30-54A7-4240-9DDE-FAC99AF6C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Types of Data Collecte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hrough Job Analysis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achines, tools, equipment, and work aid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Job-related tangibles and intangib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Knowledge dealt with or applied (as in accounting); materials processed; products made or services per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ork perform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Error analysis; work standards; work measurements, such as time taken for a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1T12:49:11Z</dcterms:created>
  <dc:creator>Wayne Mondy</dc:creator>
  <dc:description/>
  <dc:language>en-US</dc:language>
  <cp:lastModifiedBy>UsEr</cp:lastModifiedBy>
  <dcterms:modified xsi:type="dcterms:W3CDTF">2015-10-04T12:00:42Z</dcterms:modified>
  <cp:revision>25</cp:revision>
  <dc:subject/>
  <dc:title>STRATEGIC HUMAN RESOURCE MANAGEMENT:  AN OVERVIEW</dc:title>
</cp:coreProperties>
</file>