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C2E7-2DE7-415A-B30B-3EE8FA185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4E3C-3171-4057-8CD9-8A1B13322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EF77-2C89-4685-AA68-23D640750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0627-0262-41DF-8953-50E9E139E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8C2E-632F-4D7B-B2FF-818A5B6A9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3FF1-3373-4587-A981-57ED58585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1C10-EFEF-4F86-B08F-4EC018956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A5B4-7B6A-4313-8D3A-775900B83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7425-BE75-4122-89B9-25AC68294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D49C-A3D5-4B06-9D0E-EBF9C051A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B9DD-C876-4BB1-997F-A87366C51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4637-B1F9-42CA-98CC-ED64ADB60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BCAA-8F21-432F-8B68-B3800527A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B28B-8BC0-4B3C-B09A-491D56000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7118-B817-4BC1-9F7B-E84328754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8DDB-9450-4BD0-9FF0-3350EF584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C15D-47CE-4F3A-9E24-E7F71D0BA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26DD-BAE0-4A1E-B53C-9C93702E2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6546-A074-455F-A611-0EF6EE00E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B17A-CE02-4815-80D5-5F024CDFE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6234-60F3-46FD-A38C-EFF968802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64E8-0D46-4220-9878-EE902E3F0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0211-BD25-4251-83A2-D737B18CF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C448-E2B6-4093-9B7D-7FFC5A163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C54E-93C4-401B-9567-BCA575F6E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5585-D7ED-41CB-A6BC-7ACCD33E6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4AE0-3481-4E02-88B1-6D620B2C1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F737-E195-4D7C-9F45-CDE60F4F5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3FB1-5198-426B-A1F9-3BF16742A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ACF9-15AA-4193-A778-BA21835E6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C8EA-958C-4A51-AD22-5DD476050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511B-AF43-4751-914B-7E8EA09B2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6CBC-D130-40D2-B5A1-9A1500088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8BEC-1EC5-4C8D-840F-405F40C96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D5CA-7939-4312-A7E0-0EB8F7E48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E18F-66F0-4E19-A4BD-E6BFF0676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7865-6AE8-403B-B7B1-A17FDBEDE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4D43-0920-4F16-B76E-F853EA1D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F2CC-BF72-4EC3-BE5D-70A0B096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D906-DA30-44F2-AEB7-F9D42DDF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DC29-4833-4316-AC98-B4E752DF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AA72-4072-4900-B3B6-74849232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14BD-1F51-42B2-BAD4-328F71C7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3A6-3CF8-4F93-A06E-08543A2C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F3E-430B-4F3E-8B44-CF8E7CB6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CCB-13F6-4C4F-AE54-03A90E04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7C1B-0672-4C83-A803-0CF7A64A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73A2-717B-4C91-B395-4FBC9E49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4820-98A1-4928-826D-93C4A070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497D0086-B92C-445B-A8F4-1AF68214A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766B66CA-E5DB-4938-AA75-70B5C30F3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an Resource Manage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di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4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B ANALYSIS, STRATEGIC PLANNING, AND HUMAN RESOURCE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961D80BE-0BAD-458A-91C9-64754912C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Types of Data Collecte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rough Job Analysi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ob con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Work schedule; financial and nonfinancial incentives; physical working conditions; organizational and social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ersonal requirements for jo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Personal attributes such as personality and interests; education and training required; work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36914AB5-35CB-43B3-8B18-7535EDE12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b Analysis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Object 3" descr=""/>
          <p:cNvPicPr/>
          <p:nvPr/>
        </p:nvPicPr>
        <p:blipFill>
          <a:blip r:embed="rId1"/>
          <a:stretch/>
        </p:blipFill>
        <p:spPr>
          <a:xfrm>
            <a:off x="457200" y="1859040"/>
            <a:ext cx="3352680" cy="33462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19720" y="1904760"/>
            <a:ext cx="4495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n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 reco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ion of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56CEB5EE-F07F-4156-B53F-B5BDB1D2B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nai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quick and economical to u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d questionnaire to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Employees may lack verb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mployees tend to exaggerate  significance of their task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17F36A02-8AFF-4151-A1D2-5F244140F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 analyst watches worker perform job tasks and records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primarily to gather information on jobs emphasizing manual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alone is often insu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: When mental skills are dominant in a jo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C9A207D4-46D2-44CD-911E-75C22F02B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view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0040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 both employee and supervis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 employee first, helping him or her describe duties perform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, analyst normally contacts supervisor for additional information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MCj04061120000[1]"/>
          <p:cNvPicPr/>
          <p:nvPr/>
        </p:nvPicPr>
        <p:blipFill>
          <a:blip r:embed="rId1"/>
          <a:stretch/>
        </p:blipFill>
        <p:spPr>
          <a:xfrm>
            <a:off x="990720" y="2619360"/>
            <a:ext cx="18414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6C22E912-243E-417B-893C-8C6B0BAB5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ployee Recor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3392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daily work activities in diary or l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Employees exaggerating job import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able in understanding highly specialized jo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1278680000[1]"/>
          <p:cNvPicPr/>
          <p:nvPr/>
        </p:nvPicPr>
        <p:blipFill>
          <a:blip r:embed="rId1"/>
          <a:stretch/>
        </p:blipFill>
        <p:spPr>
          <a:xfrm>
            <a:off x="304920" y="2286000"/>
            <a:ext cx="32004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89ECB0BF-7A05-4C7A-856C-1E8BD2E35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ation of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use more than on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rical and administrative jobs: questionnaires supported by interviews and limited observ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on jobs: interviews supplemented by extensive work observations may provide necessary dat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3F1301A7-BFF1-4A9F-A620-E671B657B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Methods Available for Conducting Job Analys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 of Labor Job Analysis Sched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Job Analy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sition Analysis Questionnai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nagement Position Description Questionnai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lines-Oriented Job Analy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5BD3BE33-9F6A-4D20-B65B-7EC85679D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artment of Labor Job Analysis Sche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d job analysis questionnaire that uses a checklist approach to identify job el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s on general worker behaviors instead of tas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194 job descriptors relate to job-oriented el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E325BD1C-A9BE-45B8-AF6F-C4952AEAF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Job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es on the interactions among the work, the worker, and th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cation of the job analysis sched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es specific job outputs and identifies job tasks in terms of task statemen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8B379782-A32D-4B2C-86EA-683177EB3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ob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Systematic process of determining skills, duties, and knowledge required for performing jobs in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Jo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Consists of group of tasks that must be performed for organization to achieve its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o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Collection of tasks and responsibilities performed by one person; there is a position for every individual in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BA43E1FD-99C5-4A1E-B428-878DEE14A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sition Analysis Questionna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 checklist approach to identify job el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s on general worker behaviors instead of tas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 job descriptors relate to job-oriented el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job being studied is scored relative to the 32 job dimen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8CECBF4C-7484-42B2-8170-DD7CDB418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anagement Position Description Questionn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management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 checklist to analyze jo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been used to determine the training needs of individuals who are slated to move into managerial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been used to evaluate and set compensation rates for managerial jobs and to assign the jobs to job familie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9E5C44FC-95CA-4828-8D1C-81C405D75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idelines-Oriented Job Analys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-by-step procedure for describing the work of a particular job classif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s the following types of information: (1) machines, tools, and equipment; (2) supervision; (3) contacts; (4) duties; (5) knowledge, skills, and abilities; (6) physical and other requirements; and (7) differentiating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AAE10A1D-F89B-4F88-81DF-0AC168586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ducting Job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62160" y="1980720"/>
            <a:ext cx="4724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ho participate in job analysis should include, at a minim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’s immediate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MCPE02691_0000[1]"/>
          <p:cNvPicPr/>
          <p:nvPr/>
        </p:nvPicPr>
        <p:blipFill>
          <a:blip r:embed="rId1"/>
          <a:stretch/>
        </p:blipFill>
        <p:spPr>
          <a:xfrm>
            <a:off x="685800" y="2444760"/>
            <a:ext cx="30369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8E3755FA-A56E-4A7E-AA68-DC8452AAA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8640" y="1983960"/>
            <a:ext cx="52578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cument that states tasks, duties, and responsibilities of j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itally important job descriptions are both relevant and accur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MCj03334300000[1]"/>
          <p:cNvPicPr/>
          <p:nvPr/>
        </p:nvPicPr>
        <p:blipFill>
          <a:blip r:embed="rId1"/>
          <a:stretch/>
        </p:blipFill>
        <p:spPr>
          <a:xfrm>
            <a:off x="865080" y="2427120"/>
            <a:ext cx="21830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1E139A87-34C8-4C2D-A449-6219FD275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 of a Job Descri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ob Identific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Job title, department, reporting relationship, and job number or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ob Analysis 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ids in identifying job changes that would make description obso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ob Summ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oncise overview of j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uties Perform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ajor du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09DFD408-F3F8-4923-B52C-6536CD8FD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*NET, the Occupational Information Networ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136600"/>
            <a:ext cx="784872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hensive government developed database of worker attributes and job character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source of occupation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s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Dictionary of Occupational Tit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DO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C8E8AD78-B67A-4EF3-BD34-B69ADDC4A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b Spec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391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Job Specific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Minimum qualifications person should possess to perform  particular j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uld reflect minimum, not ideal qualifications for particular jo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b specifications are often included as major section of job descrip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CE401DF7-FBE7-49A0-B2F6-7403922D5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If Job Specifica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Inflat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14600" y="1980720"/>
            <a:ext cx="6324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y systematically eliminate minorities or women from consider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ensation costs will inc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b vacancies will be harder to f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MPj03901020000[1]"/>
          <p:cNvPicPr/>
          <p:nvPr/>
        </p:nvPicPr>
        <p:blipFill>
          <a:blip r:embed="rId1"/>
          <a:stretch/>
        </p:blipFill>
        <p:spPr>
          <a:xfrm>
            <a:off x="685800" y="2438280"/>
            <a:ext cx="1514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4625CA66-182B-484B-A034-D63FAEDD6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liness of Job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pace of technological change makes need for accurate job analysis even more important now and in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Object 4" descr=""/>
          <p:cNvPicPr/>
          <p:nvPr/>
        </p:nvPicPr>
        <p:blipFill>
          <a:blip r:embed="rId1"/>
          <a:stretch/>
        </p:blipFill>
        <p:spPr>
          <a:xfrm>
            <a:off x="857160" y="1633680"/>
            <a:ext cx="323856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19676E38-9798-4533-A110-19D76ECA5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 group consisting of a supervisor, two senior clerks, and four word processing operators has 3 jobs and 7 pos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04E67AF4-D2EC-4C97-8C69-5E3978C80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b Analysis for Team Memb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eam design, there are no narrow jo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departments do is often bundled into tea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duty shown on proverbial job description, “And any other duty that may be assigned,” is increasingly becoming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job description.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A4F70BC0-EBD6-40FE-93A5-638DAFA36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743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trategic plan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Process by which top management determines overall organizational purposes and objectives and how they are to be achiev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planning at all levels can be divided into four ste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MCj04238280000[1]"/>
          <p:cNvPicPr/>
          <p:nvPr/>
        </p:nvPicPr>
        <p:blipFill>
          <a:blip r:embed="rId1"/>
          <a:stretch/>
        </p:blipFill>
        <p:spPr>
          <a:xfrm>
            <a:off x="1143000" y="2751120"/>
            <a:ext cx="12574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2F5DFEE8-95F4-4F88-87E8-C5A402700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ategy Implemen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8128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dershi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zational Stru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 and Control System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an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MCj01978010000[1]"/>
          <p:cNvPicPr/>
          <p:nvPr/>
        </p:nvPicPr>
        <p:blipFill>
          <a:blip r:embed="rId1"/>
          <a:stretch/>
        </p:blipFill>
        <p:spPr>
          <a:xfrm>
            <a:off x="914400" y="2529000"/>
            <a:ext cx="24051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A304B4B1-714F-421B-A1C1-945829C9C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an Resource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8120" y="182880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stematic process of matching internal and external supply of people with job openings anticipated in the organization over a specified period of ti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MCj02972750000[1]"/>
          <p:cNvPicPr/>
          <p:nvPr/>
        </p:nvPicPr>
        <p:blipFill>
          <a:blip r:embed="rId1"/>
          <a:stretch/>
        </p:blipFill>
        <p:spPr>
          <a:xfrm>
            <a:off x="457200" y="2521080"/>
            <a:ext cx="24004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2F5DFD59-7970-4210-92B8-9D63F0FA0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 Planning Process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Environ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"/>
          <p:cNvSpPr/>
          <p:nvPr/>
        </p:nvSpPr>
        <p:spPr>
          <a:xfrm>
            <a:off x="8839080" y="1233360"/>
            <a:ext cx="0" cy="523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228600" y="1233360"/>
            <a:ext cx="0" cy="523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243000" y="6477120"/>
            <a:ext cx="858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8610480" y="1066680"/>
            <a:ext cx="0" cy="530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380880" y="914400"/>
            <a:ext cx="0" cy="54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395280" y="6324480"/>
            <a:ext cx="820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 flipH="1">
            <a:off x="228240" y="6094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228600" y="623880"/>
            <a:ext cx="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6248520" y="68580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8839080" y="68580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 flipV="1">
            <a:off x="380880" y="838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8610480" y="914400"/>
            <a:ext cx="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5"/>
          <p:cNvSpPr/>
          <p:nvPr/>
        </p:nvSpPr>
        <p:spPr>
          <a:xfrm>
            <a:off x="380880" y="8380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6"/>
          <p:cNvSpPr/>
          <p:nvPr/>
        </p:nvSpPr>
        <p:spPr>
          <a:xfrm flipH="1">
            <a:off x="6248160" y="91440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2819520" y="1143000"/>
            <a:ext cx="3733560" cy="398880"/>
          </a:xfrm>
          <a:prstGeom prst="rect">
            <a:avLst/>
          </a:prstGeom>
          <a:solidFill>
            <a:srgbClr val="000000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Strategic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2819520" y="1828800"/>
            <a:ext cx="3657600" cy="398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man Resource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685800" y="2590920"/>
            <a:ext cx="2057400" cy="970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recasting Human Resourc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4648320" y="1523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3200400" y="2590920"/>
            <a:ext cx="2133720" cy="91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ing Requirements and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5791320" y="2590920"/>
            <a:ext cx="2361960" cy="7516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recasting Human Resource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3200400" y="3886200"/>
            <a:ext cx="220968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Surplus of 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914400" y="3886200"/>
            <a:ext cx="167652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Demand =  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5"/>
          <p:cNvSpPr/>
          <p:nvPr/>
        </p:nvSpPr>
        <p:spPr>
          <a:xfrm>
            <a:off x="838080" y="4952880"/>
            <a:ext cx="16765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No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6"/>
          <p:cNvSpPr/>
          <p:nvPr/>
        </p:nvSpPr>
        <p:spPr>
          <a:xfrm>
            <a:off x="6019920" y="3886200"/>
            <a:ext cx="21333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Shortage of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7"/>
          <p:cNvSpPr/>
          <p:nvPr/>
        </p:nvSpPr>
        <p:spPr>
          <a:xfrm>
            <a:off x="6095880" y="4876920"/>
            <a:ext cx="19814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Recru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8"/>
          <p:cNvSpPr/>
          <p:nvPr/>
        </p:nvSpPr>
        <p:spPr>
          <a:xfrm>
            <a:off x="6019920" y="5562720"/>
            <a:ext cx="20574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9"/>
          <p:cNvSpPr/>
          <p:nvPr/>
        </p:nvSpPr>
        <p:spPr>
          <a:xfrm>
            <a:off x="4724280" y="2209680"/>
            <a:ext cx="106704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30"/>
          <p:cNvSpPr/>
          <p:nvPr/>
        </p:nvSpPr>
        <p:spPr>
          <a:xfrm flipH="1">
            <a:off x="5409720" y="2743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31"/>
          <p:cNvSpPr/>
          <p:nvPr/>
        </p:nvSpPr>
        <p:spPr>
          <a:xfrm flipH="1">
            <a:off x="2743200" y="2133720"/>
            <a:ext cx="13716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2"/>
          <p:cNvSpPr/>
          <p:nvPr/>
        </p:nvSpPr>
        <p:spPr>
          <a:xfrm>
            <a:off x="2743200" y="2743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3"/>
          <p:cNvSpPr/>
          <p:nvPr/>
        </p:nvSpPr>
        <p:spPr>
          <a:xfrm flipH="1">
            <a:off x="533520" y="1981080"/>
            <a:ext cx="2286000" cy="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4"/>
          <p:cNvSpPr/>
          <p:nvPr/>
        </p:nvSpPr>
        <p:spPr>
          <a:xfrm>
            <a:off x="6477120" y="1981080"/>
            <a:ext cx="1904760" cy="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5"/>
          <p:cNvSpPr/>
          <p:nvPr/>
        </p:nvSpPr>
        <p:spPr>
          <a:xfrm>
            <a:off x="533520" y="1981080"/>
            <a:ext cx="0" cy="175284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6"/>
          <p:cNvSpPr/>
          <p:nvPr/>
        </p:nvSpPr>
        <p:spPr>
          <a:xfrm>
            <a:off x="838188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37"/>
          <p:cNvSpPr/>
          <p:nvPr/>
        </p:nvSpPr>
        <p:spPr>
          <a:xfrm>
            <a:off x="8381880" y="1981080"/>
            <a:ext cx="0" cy="175284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8"/>
          <p:cNvSpPr/>
          <p:nvPr/>
        </p:nvSpPr>
        <p:spPr>
          <a:xfrm>
            <a:off x="533520" y="3733920"/>
            <a:ext cx="7848360" cy="0"/>
          </a:xfrm>
          <a:prstGeom prst="line">
            <a:avLst/>
          </a:prstGeom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9"/>
          <p:cNvSpPr/>
          <p:nvPr/>
        </p:nvSpPr>
        <p:spPr>
          <a:xfrm>
            <a:off x="1676520" y="4572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40"/>
          <p:cNvSpPr/>
          <p:nvPr/>
        </p:nvSpPr>
        <p:spPr>
          <a:xfrm>
            <a:off x="701028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1"/>
          <p:cNvSpPr/>
          <p:nvPr/>
        </p:nvSpPr>
        <p:spPr>
          <a:xfrm>
            <a:off x="701028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2"/>
          <p:cNvSpPr/>
          <p:nvPr/>
        </p:nvSpPr>
        <p:spPr>
          <a:xfrm>
            <a:off x="41911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43"/>
          <p:cNvSpPr/>
          <p:nvPr/>
        </p:nvSpPr>
        <p:spPr>
          <a:xfrm>
            <a:off x="4191120" y="3505320"/>
            <a:ext cx="18288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4"/>
          <p:cNvSpPr/>
          <p:nvPr/>
        </p:nvSpPr>
        <p:spPr>
          <a:xfrm flipH="1">
            <a:off x="2590560" y="3505320"/>
            <a:ext cx="16002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5"/>
          <p:cNvSpPr/>
          <p:nvPr/>
        </p:nvSpPr>
        <p:spPr>
          <a:xfrm>
            <a:off x="2819520" y="4876920"/>
            <a:ext cx="3047760" cy="131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Restricted Hiring, Reduced Hours, Early Retirement, Layoffs, Downsiz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6"/>
          <p:cNvSpPr/>
          <p:nvPr/>
        </p:nvSpPr>
        <p:spPr>
          <a:xfrm>
            <a:off x="4343400" y="4572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A87C1E51-C095-450F-B1B8-D7B873AE5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b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of determining specific tasks to be performed, methods used in performing these tasks, and how job relates to other work in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ob enrich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Basic changes in content and level of responsibility of job,  to provide greater challenge to 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E3647C70-D4F9-49E7-B6B5-4B84F868A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b Desig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ob enlar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Changes in scope of job to provide greater variety to 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engine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undamental rethinking and radical redesign of business processes to achieve dramatic improvements in critical measures of performance, such as cost, quality, service and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7717D055-F3A9-4B9D-9BF0-5AF873C1C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Job Analysis Should Answ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hysical and mental tasks does worker accomp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s job to be comple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job to be accomplish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worker do jo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job d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alifications are needed to perform job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F9DA377C-8B15-43A2-8B1D-FD67425CA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 Analysis: A Basic Human Resource Management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52280" y="1523880"/>
            <a:ext cx="167652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981080" y="1523880"/>
            <a:ext cx="205740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191120" y="1523880"/>
            <a:ext cx="1752480" cy="39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28600" y="3505320"/>
            <a:ext cx="1143000" cy="703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057400" y="2895480"/>
            <a:ext cx="205740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057400" y="3936960"/>
            <a:ext cx="2057400" cy="703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1752480" y="3200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0"/>
          <p:cNvSpPr/>
          <p:nvPr/>
        </p:nvSpPr>
        <p:spPr>
          <a:xfrm>
            <a:off x="175248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>
            <a:off x="17524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2"/>
          <p:cNvSpPr/>
          <p:nvPr/>
        </p:nvSpPr>
        <p:spPr>
          <a:xfrm>
            <a:off x="990720" y="2209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9907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5105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04920" y="5562720"/>
            <a:ext cx="1523880" cy="3988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2133720" y="5562720"/>
            <a:ext cx="1523880" cy="3988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962520" y="5562720"/>
            <a:ext cx="1523880" cy="3988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9"/>
          <p:cNvSpPr/>
          <p:nvPr/>
        </p:nvSpPr>
        <p:spPr>
          <a:xfrm>
            <a:off x="990720" y="533412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0"/>
          <p:cNvSpPr/>
          <p:nvPr/>
        </p:nvSpPr>
        <p:spPr>
          <a:xfrm>
            <a:off x="99072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>
            <a:off x="472428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2"/>
          <p:cNvSpPr/>
          <p:nvPr/>
        </p:nvSpPr>
        <p:spPr>
          <a:xfrm flipV="1">
            <a:off x="297180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3"/>
          <p:cNvSpPr/>
          <p:nvPr/>
        </p:nvSpPr>
        <p:spPr>
          <a:xfrm>
            <a:off x="137160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6172200" y="1295280"/>
            <a:ext cx="2819520" cy="342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taff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Training and   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Performance Apprai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Compens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Safety and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Employee and Labor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808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Legal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5"/>
          <p:cNvSpPr/>
          <p:nvPr/>
        </p:nvSpPr>
        <p:spPr>
          <a:xfrm>
            <a:off x="4495680" y="3200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6"/>
          <p:cNvSpPr/>
          <p:nvPr/>
        </p:nvSpPr>
        <p:spPr>
          <a:xfrm>
            <a:off x="4114800" y="32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7"/>
          <p:cNvSpPr/>
          <p:nvPr/>
        </p:nvSpPr>
        <p:spPr>
          <a:xfrm>
            <a:off x="411480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8"/>
          <p:cNvSpPr/>
          <p:nvPr/>
        </p:nvSpPr>
        <p:spPr>
          <a:xfrm>
            <a:off x="4495680" y="3733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F59102C2-6EDB-41C1-AE75-9BB9A573D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s For Conduc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Job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ff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aphazard if recruiter does not know qualifications needed for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aining and Develop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f specification lists  particular knowledge, skill, or ability, and person filling position does not possess all necessary qualifications, training and/or development 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erformance Apprais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Employees should be evaluated in terms of how well they accomplish the duties specified in their job descriptions and any other specific goals that may have been establish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mpens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alue of job must be known before dollar value can be placed o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66A1C3D2-44D0-44EE-BA2B-1031DCE1D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sons For Conduct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Job Analysi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afety and Heal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elps identify safety and health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mployee and Labor Rel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Lead to more objective human resource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egal Conside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Having done job analysis important for supporting legality of employment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518CF206-4D67-44FA-8588-6AD0CE5D7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Types of Data Collecte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rough Job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ork Activ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Work activities and processes; activity records (in film form, for example); procedures used; persona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orker-oriented activ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Human behaviors, such as physical actions and communicating on job; elemental motions for methods analysis; personal job demands, such as energy expend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-</a:t>
            </a:r>
            <a:fld id="{2B072836-C974-4741-A8F6-C87E3B566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Types of Data Collecte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rough Job Analysi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chines, tools, equipment, and work aid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Job-related tangibles and intangi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Knowledge dealt with or applied (as in accounting); materials processed; products made or services per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ork perform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Error analysis; work standards; work measurements, such as time taken for a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1T12:49:11Z</dcterms:created>
  <dc:creator>Wayne Mondy</dc:creator>
  <dc:description/>
  <dc:language>en-US</dc:language>
  <cp:lastModifiedBy>UsEr</cp:lastModifiedBy>
  <dcterms:modified xsi:type="dcterms:W3CDTF">2015-10-04T12:00:42Z</dcterms:modified>
  <cp:revision>25</cp:revision>
  <dc:subject/>
  <dc:title>STRATEGIC HUMAN RESOURCE MANAGEMENT:  AN OVERVIEW</dc:title>
</cp:coreProperties>
</file>