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dt" idx="18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ftr" idx="19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 type="sldNum" idx="20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4C7F19-8531-40C4-9B24-2271C8CD6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3E8840-EC4B-4B88-9C4F-F834D3772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68A0B6-5A49-40C0-9226-2DF25D1F2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D136EA-5F44-4014-AB7E-BF750DE0B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F3D6936-0B47-480F-BE47-99870E915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921B2E-6452-468E-8CDE-F3A089584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717D224-3BA4-485E-847B-6586C622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F44AE4-049A-439C-9529-33150C077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1D644A-3E81-42FB-8E8A-9FCAA5377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52F564-1099-4F91-8306-F9C357618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A5B0777-FCCE-4AF3-B689-B12F98CDC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992AE9-069E-4205-9DC6-0BAF15D7FF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5FD8D8A-B9F3-4420-8240-E7DCB758A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C17F3B8-C136-4B67-9131-73896E93D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E2ACF44-8053-4F65-8D14-4CA5CA8FF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3249E4E-AF67-4944-872C-292C67A2F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EB0A88-5351-4386-A5A8-467259460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FA3805-6FD8-49B6-9615-ADA6DE319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27E274-28D9-4EC1-8979-C347A20B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B8F42B-D224-42AF-A0BC-28282D73C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3BE0DB-3FE2-4931-8D48-ABEF00189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92DC4D-6947-43F9-BE83-5F5C2A3F8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3EF913D-D05E-4A2D-A429-F222F7FA4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2289224-6BBB-4609-A21F-BF46AD722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4ACC5E-AB13-498B-B707-C53D534BB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3EF8F4B-3231-4369-A001-5C3243DC3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3EBFE06-1D29-444D-831F-821D54619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D305DBE-638E-41AE-AB4D-9D77CA2678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434D3C-C075-48F7-A3A1-B35FECD45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9EB45D-84AC-4A3A-BC0B-E2FED978C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BD6F5D-F1AF-46E3-AB11-0DA71D298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264A4E-69BC-41F8-9CE5-E90EC31D7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64907C-88B7-4C78-8FA2-84EEF8BDD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934238-8D96-4BEC-AE32-B9CD9F6A1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33F483E-B8B1-462F-B03F-26CEEB149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3F5B7CC-C277-4004-9B88-7F4304C5B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00585E-076A-4951-942A-C51D143B9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8C8B37-A977-45D7-8408-778ED32DB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7390EAC-D64F-4723-917F-B98198ADC7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F5452A-E81C-4F94-8024-DAB2FF093B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BDB6509-4273-49AA-BA03-FFEA679B4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DBAEB-EBEC-4E1D-80FC-FADDAA10FF7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4B5C7-CC23-4BCD-ADC9-194AE646698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E1163-CEE2-47C8-B99E-003F3C5F4C5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AACC8-F07C-4AF1-A82F-C6FFE83B56F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B333-D78A-4296-B175-B810832C9ED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DA9ED-5E7D-493E-82F7-8B70909D582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2EBC2-0BD4-4AFB-8520-9ABFF735301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99712-743A-4471-9312-AE9D7C53D0D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CD22-D765-45C5-93CC-105076A021B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0FAC-386B-4F7B-B986-308BBEB93D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BF901-E08C-48C3-B225-8901B0E7C9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DE52-20CD-49EA-80BE-0B8D4AC40C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B516B1C-5F0B-411E-8A4E-DAFFF07FD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ftr" idx="10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D49EF9E-744E-44AD-AFB9-5A15E45F8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D9E0163-C54B-4D6D-A0AF-1BEF15224B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ftr" idx="1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87FF580-70F2-4FCA-BAEA-627A48CFE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ftr" idx="1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A92F21B-39AC-4FBD-B807-803C5476C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ftr" idx="1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92A4E32-BEB1-4497-86A4-3C529C20A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ftr" idx="1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F918F18-BFA0-422C-A156-4C27304CE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1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06C75EE-1C1B-471F-811C-8BEFA1668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1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5E7D018-A887-451D-AE32-FB254F21A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49500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7560" y="15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500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2E6A1C5B-02D4-434E-A6EF-798F93AEF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87" name="Group 3"/>
            <p:cNvGrpSpPr/>
            <p:nvPr/>
          </p:nvGrpSpPr>
          <p:grpSpPr>
            <a:xfrm>
              <a:off x="316080" y="2066760"/>
              <a:ext cx="773640" cy="454680"/>
              <a:chOff x="316080" y="2066760"/>
              <a:chExt cx="773640" cy="454680"/>
            </a:xfrm>
          </p:grpSpPr>
          <p:sp>
            <p:nvSpPr>
              <p:cNvPr id="88" name="Rectangle 4"/>
              <p:cNvSpPr/>
              <p:nvPr/>
            </p:nvSpPr>
            <p:spPr>
              <a:xfrm>
                <a:off x="316080" y="2066760"/>
                <a:ext cx="475920" cy="4546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5"/>
              <p:cNvSpPr/>
              <p:nvPr/>
            </p:nvSpPr>
            <p:spPr>
              <a:xfrm>
                <a:off x="732600" y="2066760"/>
                <a:ext cx="357120" cy="4546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90" name="Group 6"/>
            <p:cNvGrpSpPr/>
            <p:nvPr/>
          </p:nvGrpSpPr>
          <p:grpSpPr>
            <a:xfrm>
              <a:off x="452160" y="2507400"/>
              <a:ext cx="801000" cy="492840"/>
              <a:chOff x="452160" y="2507400"/>
              <a:chExt cx="801000" cy="492840"/>
            </a:xfrm>
          </p:grpSpPr>
          <p:sp>
            <p:nvSpPr>
              <p:cNvPr id="91" name="Rectangle 7"/>
              <p:cNvSpPr/>
              <p:nvPr/>
            </p:nvSpPr>
            <p:spPr>
              <a:xfrm>
                <a:off x="452160" y="2507400"/>
                <a:ext cx="459000" cy="492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8"/>
              <p:cNvSpPr/>
              <p:nvPr/>
            </p:nvSpPr>
            <p:spPr>
              <a:xfrm>
                <a:off x="853920" y="2507400"/>
                <a:ext cx="399240" cy="492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" name="Rectangle 9"/>
            <p:cNvSpPr/>
            <p:nvPr/>
          </p:nvSpPr>
          <p:spPr>
            <a:xfrm>
              <a:off x="0" y="2415240"/>
              <a:ext cx="606960" cy="358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ftr" idx="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3F9D2A7-C8C6-493F-8214-1A2C00067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8CC9BD3-A920-4528-AD3E-57CE807BB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59F4B37-8F56-4790-AB84-566CA3D65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68FE78E-46C3-4503-BC1F-6F3D3C7BD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5FF5BE-8B9C-44C0-9FF5-4130AB256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8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789B272-23BA-477A-8D5E-939A1BB99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ftr" idx="9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C71D63-D879-48BC-9E0E-726576E33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4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rganizing Data and Inform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atabases and Database Management System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3E46328-FD30-4EBE-B4B0-CF4A205CF8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ata Entities, Attributes, and Key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9063000" cy="468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tity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eralized class of people, places, or things for which data is collected, stored, and maintained (students, teachers, employees,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ttribut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 of an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item (value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of an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imary key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ield or set of fields that uniquely identifies th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654E733-FA5A-45D9-A2E7-FFDC314318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Entities, Attributes, and Key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85" name="Picture 7" descr="Fig 3-2"/>
          <p:cNvPicPr/>
          <p:nvPr/>
        </p:nvPicPr>
        <p:blipFill>
          <a:blip r:embed="rId1"/>
          <a:stretch/>
        </p:blipFill>
        <p:spPr>
          <a:xfrm>
            <a:off x="927000" y="2057400"/>
            <a:ext cx="8217000" cy="3429000"/>
          </a:xfrm>
          <a:prstGeom prst="rect">
            <a:avLst/>
          </a:prstGeom>
          <a:ln w="0">
            <a:noFill/>
          </a:ln>
        </p:spPr>
      </p:pic>
      <p:sp>
        <p:nvSpPr>
          <p:cNvPr id="886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s and Attribu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8EA705B-18FE-4412-9388-18494C9B41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31880" y="25668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 The Database Approach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566280" y="1828440"/>
            <a:ext cx="8605800" cy="4608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raditional approa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ata management: separate data files are created for each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in data redundancy (dupl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edundancy conflicts with data integ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approach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data management: pool of related data is shared by multiple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ificant advantages over traditional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23C15F5-0318-4F2C-8517-13723927746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2" name="Picture 9" descr="Fig 3-3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232000" y="1649520"/>
            <a:ext cx="5464080" cy="4370400"/>
          </a:xfrm>
          <a:prstGeom prst="rect">
            <a:avLst/>
          </a:prstGeom>
          <a:ln w="0">
            <a:noFill/>
          </a:ln>
        </p:spPr>
      </p:pic>
      <p:sp>
        <p:nvSpPr>
          <p:cNvPr id="893" name="Rectangle 4"/>
          <p:cNvSpPr/>
          <p:nvPr/>
        </p:nvSpPr>
        <p:spPr>
          <a:xfrm>
            <a:off x="495360" y="6095880"/>
            <a:ext cx="8915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base Approach to Data Manag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CF88C6F-5D9D-4123-B44B-47CC3D9196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6" name="Picture 9" descr="Table 3-1a"/>
          <p:cNvPicPr/>
          <p:nvPr/>
        </p:nvPicPr>
        <p:blipFill>
          <a:blip r:embed="rId1"/>
          <a:stretch/>
        </p:blipFill>
        <p:spPr>
          <a:xfrm>
            <a:off x="412920" y="1905120"/>
            <a:ext cx="9264600" cy="3886200"/>
          </a:xfrm>
          <a:prstGeom prst="rect">
            <a:avLst/>
          </a:prstGeom>
          <a:ln w="0">
            <a:noFill/>
          </a:ln>
        </p:spPr>
      </p:pic>
      <p:sp>
        <p:nvSpPr>
          <p:cNvPr id="897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of the Database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BD1C210-0507-494A-A5A1-B3C6A465F2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0" name="Picture 9" descr="Table 3-1b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52280" y="2011320"/>
            <a:ext cx="9601200" cy="3530520"/>
          </a:xfrm>
          <a:prstGeom prst="rect">
            <a:avLst/>
          </a:prstGeom>
          <a:ln w="0">
            <a:noFill/>
          </a:ln>
        </p:spPr>
      </p:pic>
      <p:sp>
        <p:nvSpPr>
          <p:cNvPr id="901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s of the Database Approach (continu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232165A-3EB4-4482-9EDB-AFA44A9B53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Approach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04" name="Picture 9" descr="Table 3-2"/>
          <p:cNvPicPr/>
          <p:nvPr/>
        </p:nvPicPr>
        <p:blipFill>
          <a:blip r:embed="rId1"/>
          <a:stretch/>
        </p:blipFill>
        <p:spPr>
          <a:xfrm>
            <a:off x="1143000" y="1676520"/>
            <a:ext cx="8070840" cy="4093920"/>
          </a:xfrm>
          <a:prstGeom prst="rect">
            <a:avLst/>
          </a:prstGeom>
          <a:ln w="0">
            <a:noFill/>
          </a:ln>
        </p:spPr>
      </p:pic>
      <p:sp>
        <p:nvSpPr>
          <p:cNvPr id="905" name="Rectangle 4"/>
          <p:cNvSpPr/>
          <p:nvPr/>
        </p:nvSpPr>
        <p:spPr>
          <a:xfrm>
            <a:off x="495360" y="606600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advantages of the Database Approa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43D5F50-49BD-459D-9A9D-75C0ADCE3B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odel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diagram of data entities and their relationship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ity-relationship (ER) diagrams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ata models that use basic graphical symbols to show the organization of and relationships between data ent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E116AFC-F5EC-4DA5-8FFB-3F938FC2E4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11" name="Picture 9" descr="Fig 3-4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1712880"/>
            <a:ext cx="4938840" cy="4154400"/>
          </a:xfrm>
          <a:prstGeom prst="rect">
            <a:avLst/>
          </a:prstGeom>
          <a:ln w="0">
            <a:noFill/>
          </a:ln>
        </p:spPr>
      </p:pic>
      <p:sp>
        <p:nvSpPr>
          <p:cNvPr id="912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Entity-Relationship (ER) Diagram for a Customer Order Databa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8884BBF-355A-4E89-8B0D-23D67EFD80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4" name="Rectangle 4"/>
          <p:cNvSpPr/>
          <p:nvPr/>
        </p:nvSpPr>
        <p:spPr>
          <a:xfrm>
            <a:off x="4724280" y="182880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15" name="Straight Arrow Connector 10"/>
          <p:cNvCxnSpPr/>
          <p:nvPr/>
        </p:nvCxnSpPr>
        <p:spPr>
          <a:xfrm flipH="1" flipV="1">
            <a:off x="3199680" y="1980360"/>
            <a:ext cx="1677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6" name="Straight Arrow Connector 13"/>
          <p:cNvCxnSpPr/>
          <p:nvPr/>
        </p:nvCxnSpPr>
        <p:spPr>
          <a:xfrm flipH="1">
            <a:off x="3199680" y="2056320"/>
            <a:ext cx="167724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17" name="Rectangle 4"/>
          <p:cNvSpPr/>
          <p:nvPr/>
        </p:nvSpPr>
        <p:spPr>
          <a:xfrm>
            <a:off x="4876920" y="2971800"/>
            <a:ext cx="1752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ationshi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18" name="Straight Arrow Connector 16"/>
          <p:cNvCxnSpPr/>
          <p:nvPr/>
        </p:nvCxnSpPr>
        <p:spPr>
          <a:xfrm flipH="1">
            <a:off x="5636520" y="3354480"/>
            <a:ext cx="39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9" name="Straight Arrow Connector 18"/>
          <p:cNvCxnSpPr/>
          <p:nvPr/>
        </p:nvCxnSpPr>
        <p:spPr>
          <a:xfrm flipH="1">
            <a:off x="3504960" y="3351600"/>
            <a:ext cx="1829520" cy="76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odel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21" name="Picture 4" descr="Fig 5-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09880" y="1754280"/>
            <a:ext cx="2565360" cy="403704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5"/>
          <p:cNvSpPr/>
          <p:nvPr/>
        </p:nvSpPr>
        <p:spPr>
          <a:xfrm>
            <a:off x="495360" y="5837400"/>
            <a:ext cx="8915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implified ER Diagram Showing the Relationship Between the Manager, Department, and Project T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6A26618-4495-449B-A484-1BB37B2746D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Learning Objectiv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533520" y="1828440"/>
            <a:ext cx="9138960" cy="46083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general data management concepts and ter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ight the advantages of the database approach to data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 the relational database model and outline its basic fea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the common functions performed by all database management systems and identify popular user database management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briefly discuss current database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D4AD059-A47C-4D9E-B2F9-53DD8756FF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Desig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ilding a database requires two types of desig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ogical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bstract model of how data should be structured and arranged to meet an organization’s information need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hysical desig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ne-tunes the logical database design for performance and cost consideration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B8E5E70-3F2E-4EAA-9927-D9A0A4EF7C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ilding DB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building a database, consider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Content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at data should be collected, at what cost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Access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at data should be provided to which users and when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Logical structure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ow should data be arranged to make sense to a given user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Physical organization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here should data be physically located?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E1EE2B4-AD11-4058-99F3-0CD868F2F1C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base Model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614520" y="1579320"/>
            <a:ext cx="92916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lat file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 files usually contain one record pe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elds can be separated by delimiters such as comma or tab 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lational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D 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w represents a reco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column represents an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bject oriented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8267560-CB80-49E1-B7E6-0DA7B1D1E8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7720" y="26460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Relational Database Model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lational model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: all data elements are placed in two-dimensional tables, which are the logical equivalent of fi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 the relational mod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ach table is an ent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ach row of a table represents a recor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lumns of the table represent attribut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omain: the allowable values for data attribut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2E46D1D-74B0-4B80-AC19-381271D22E7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The Relational Database Model (cont.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37" name="Picture 10" descr="Fig 3-5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3886200" y="1590840"/>
            <a:ext cx="4419720" cy="496224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4"/>
          <p:cNvSpPr/>
          <p:nvPr/>
        </p:nvSpPr>
        <p:spPr>
          <a:xfrm>
            <a:off x="152280" y="403848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lational Database Mod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142C5DF-3DD6-4F6C-BD78-569D57F12B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anipulat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elect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eliminate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ahoma"/>
              </a:rPr>
              <a:t>rows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ccording to criteri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roject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eliminates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ahoma"/>
              </a:rPr>
              <a:t>columns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in a tabl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Join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combines two or more tab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Linking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lates or links two or more tables using common data attribut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ED04DF4-5B7F-4291-BDA7-71C07972EB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Link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44" name="Picture 7" descr="Fig 3-7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887480" y="1639800"/>
            <a:ext cx="6265800" cy="4456080"/>
          </a:xfrm>
          <a:prstGeom prst="rect">
            <a:avLst/>
          </a:prstGeom>
          <a:ln w="0">
            <a:noFill/>
          </a:ln>
        </p:spPr>
      </p:pic>
      <p:sp>
        <p:nvSpPr>
          <p:cNvPr id="945" name="Rectangle 4"/>
          <p:cNvSpPr/>
          <p:nvPr/>
        </p:nvSpPr>
        <p:spPr>
          <a:xfrm>
            <a:off x="495360" y="6172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 Data Tables to Answer an Inqui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63E05C0-CCAF-4C8F-920C-6010B73BA9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6. Database Management Systems (DBMS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838080" y="1752120"/>
            <a:ext cx="8834400" cy="4684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BMS: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 group of programs used as an interface between a database and application programs or a database and the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reating and implementing the right DBMS ensures that the database will support both business activities and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A97742B-F168-4BE3-A977-795301260A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TextBox 1"/>
          <p:cNvSpPr/>
          <p:nvPr/>
        </p:nvSpPr>
        <p:spPr>
          <a:xfrm>
            <a:off x="1905120" y="5181480"/>
            <a:ext cx="83808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1" name="TextBox 5"/>
          <p:cNvSpPr/>
          <p:nvPr/>
        </p:nvSpPr>
        <p:spPr>
          <a:xfrm>
            <a:off x="3429000" y="5165640"/>
            <a:ext cx="1447920" cy="70380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TextBox 6"/>
          <p:cNvSpPr/>
          <p:nvPr/>
        </p:nvSpPr>
        <p:spPr>
          <a:xfrm>
            <a:off x="5562720" y="5165640"/>
            <a:ext cx="91440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TextBox 7"/>
          <p:cNvSpPr/>
          <p:nvPr/>
        </p:nvSpPr>
        <p:spPr>
          <a:xfrm>
            <a:off x="7148520" y="5181480"/>
            <a:ext cx="600120" cy="398880"/>
          </a:xfrm>
          <a:prstGeom prst="rect">
            <a:avLst/>
          </a:pr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954" name="Straight Arrow Connector 3"/>
          <p:cNvCxnSpPr>
            <a:stCxn id="950" idx="3"/>
          </p:cNvCxnSpPr>
          <p:nvPr/>
        </p:nvCxnSpPr>
        <p:spPr>
          <a:xfrm flipV="1">
            <a:off x="2742840" y="5369760"/>
            <a:ext cx="6771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955" name="Straight Arrow Connector 13"/>
          <p:cNvCxnSpPr/>
          <p:nvPr/>
        </p:nvCxnSpPr>
        <p:spPr>
          <a:xfrm flipV="1">
            <a:off x="4885920" y="5377680"/>
            <a:ext cx="6771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  <p:cxnSp>
        <p:nvCxnSpPr>
          <p:cNvPr id="956" name="Straight Arrow Connector 14"/>
          <p:cNvCxnSpPr/>
          <p:nvPr/>
        </p:nvCxnSpPr>
        <p:spPr>
          <a:xfrm flipV="1">
            <a:off x="6473880" y="5382360"/>
            <a:ext cx="675360" cy="11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verview of Database Typ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person can use the database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Access, FileMaker, and Info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dozens or hundreds of people to access the same database system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Oracle, Sybase, and I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24FB68D-3849-4CFE-BB37-459D0C5752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B schem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chema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description of the entire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arge database systems typically use schemas to define the tables and other database features associated with a person or us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580EB29-BEB3-4B57-B985-35CFC49919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Learn About Database System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is a Databas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Hierarchy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atabase Approa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Mode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Management Systems (DB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Warehouses, Data Marts, and Data M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siness Intellig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Analytical Processing (OL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ject-Oriented Databa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09040" indent="-5090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130416B-E3BD-4340-BFFC-E5CFDF00EA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012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reating a DB schem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Definition Language (DDL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llection of instructions/commands that define and describe data and data relationships in a databa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dictionary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detailed description of all the data used in the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B2D0071-8DAD-4A94-8653-2D87C443DD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Using DDL to define schem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7" name="Picture 9" descr="Fig 3-10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666880" y="1593720"/>
            <a:ext cx="4419720" cy="436428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 Data Definition Language to Define a Sche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9D25E85-4413-441C-AC38-EF5D4F1434F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ata Diction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1" name="Picture 11" descr="Fig 3-1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512720" y="1727280"/>
            <a:ext cx="6259680" cy="4064040"/>
          </a:xfrm>
          <a:prstGeom prst="rect">
            <a:avLst/>
          </a:prstGeom>
          <a:ln w="0">
            <a:noFill/>
          </a:ln>
        </p:spPr>
      </p:pic>
      <p:sp>
        <p:nvSpPr>
          <p:cNvPr id="972" name="Rectangle 4"/>
          <p:cNvSpPr/>
          <p:nvPr/>
        </p:nvSpPr>
        <p:spPr>
          <a:xfrm>
            <a:off x="495360" y="59436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ypical Data Dictionary Ent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DDCA6DB-47F0-49B2-8D5E-A0746469A0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toring and Retrieving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an application requests data from the DBMS, the application follows a logical access path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en the DBMS goes to a storage device to retrieve the requested data, it follows a path to the physical location (physical access path) where the data is stor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1D97B87-607C-4023-9E6B-83FDB7E92E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toring and Retrieving Data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78" name="Picture 9" descr="Fig 3-12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798640" y="1600200"/>
            <a:ext cx="4211640" cy="4508640"/>
          </a:xfrm>
          <a:prstGeom prst="rect">
            <a:avLst/>
          </a:prstGeom>
          <a:ln w="0">
            <a:noFill/>
          </a:ln>
        </p:spPr>
      </p:pic>
      <p:sp>
        <p:nvSpPr>
          <p:cNvPr id="979" name="Rectangle 4"/>
          <p:cNvSpPr/>
          <p:nvPr/>
        </p:nvSpPr>
        <p:spPr>
          <a:xfrm>
            <a:off x="495360" y="6248520"/>
            <a:ext cx="8915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and Physical Access Path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273DE53-7A74-4B9E-AD96-48BD93A533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nipulating Data and Generating Repo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Query-By-Example (QBE)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isual approach to developing database queries or 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 Manipulation Language (DML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mmands that manipulate the data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d Query Language (SQL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SI standard query language for relational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base programs can produce reports, documents, and other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8D410ED-DD56-407B-9640-C0CDF5550B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QL Command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5" name="Picture 10" descr="Table 5-6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901880" y="1596960"/>
            <a:ext cx="5718240" cy="448776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11"/>
          <p:cNvSpPr/>
          <p:nvPr/>
        </p:nvSpPr>
        <p:spPr>
          <a:xfrm>
            <a:off x="495360" y="6172200"/>
            <a:ext cx="891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SQL Comm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0352DFF-E0B2-44D7-BC31-C99A978CE7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base Administr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administrator (DBA): directs or performs all activities to maintain a database environ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signing, implementing, and maintaining the database system and the DB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stablishing policies and procedur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ee train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3BC0A08-EE7D-4417-B615-822B39AD9C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opular DB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pular DBMSs for end users: Microsoft Access and FileMaker P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ire market includes databases by IBM, Oracle, and Microsof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of open-source database systems: PostgreSQL and MySQ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traditional database programs are now available on open-source 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B0B8263-7B6A-4616-B5A5-5AD6F26DE6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lecting a DB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mportant characteristics of databases to consid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ize of the databa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st of th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umber of concurrent us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bility to be integrated with other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Vendor consider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EC3E9D3-E902-49E2-BD7F-93A1EAEC5B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Learn About Database System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systems process and organize large amounts of dat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base systems organize all transactions and services in our socie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udent registration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ank accounts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ospital patient record databas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D867D51-DCC1-462F-9C56-C0D6E03E53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ing DBMS with Other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743040" y="1579320"/>
            <a:ext cx="87818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BMS are often used with other software packages or the Inter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 DBMS can act as a front-end application or a back-end applic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Front-end application: interacts with user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ack-end application: interacts with applica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EF0AC8B-1532-4D4D-9360-3D316DD1DC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Linking Databases to the Internet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761760" y="1566360"/>
            <a:ext cx="89103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inking databases to the Internet is important for many organizations and peopl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lows people to access and manipulate a number of traditional databases at the same time through the Interne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0A6C426-75AD-411C-BF21-C84E1F5985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920880" y="256680"/>
            <a:ext cx="8440560" cy="962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 Warehouses and Data Ma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warehous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collects business information from many sources in the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art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subset of a data warehou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3151431-7E54-4532-A4FF-7A808D4387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in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440" y="1566360"/>
            <a:ext cx="89866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 mining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n information-analysis tool for discovering patterns and relationships in a data warehouse or a data mar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3 – Binary Number System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FE3EF65-3415-4B08-8196-DBE26793E2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lements of data warehous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0" name="Picture 13" descr="Fig 3-17"/>
          <p:cNvPicPr/>
          <p:nvPr/>
        </p:nvPicPr>
        <p:blipFill>
          <a:blip r:embed="rId1"/>
          <a:stretch/>
        </p:blipFill>
        <p:spPr>
          <a:xfrm>
            <a:off x="2743200" y="1568520"/>
            <a:ext cx="4952880" cy="4554360"/>
          </a:xfrm>
          <a:prstGeom prst="rect">
            <a:avLst/>
          </a:prstGeom>
          <a:ln w="0">
            <a:noFill/>
          </a:ln>
        </p:spPr>
      </p:pic>
      <p:sp>
        <p:nvSpPr>
          <p:cNvPr id="1011" name="Rectangle 4"/>
          <p:cNvSpPr/>
          <p:nvPr/>
        </p:nvSpPr>
        <p:spPr>
          <a:xfrm>
            <a:off x="495360" y="6218280"/>
            <a:ext cx="8915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ments of a Data Warehou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EB8ABEF-A022-46FB-8886-A6C22D20FA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telligen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usiness intelligence (BI): gathering the right information in a timely manner and usable form and analyzing it to have a positive impact on business and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urns data into useful information that is then distributed throughout an enterpri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9F6A172-CD9B-47A8-908A-74769C8B65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telligence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6636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etitive intelligence: aspect of business intelligence limited to information about competitors and the ways that knowledge affects strategy, tactics, and opera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unterintelligence: steps an organization takes to protect information sought by “hostile” intelligence gather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1DB24BF-BBA7-447E-BAD2-E8C38DABF6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9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line Analytical Processing (OLAP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577800" y="1676520"/>
            <a:ext cx="8669520" cy="1025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88000"/>
          </a:bodyPr>
          <a:p>
            <a:pPr marL="316800" indent="-316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that allows users to explore data from a number of different persp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16800" indent="0"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6800" indent="0">
              <a:spcBef>
                <a:spcPts val="5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Rectangle 5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rison of OLAP and Data M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2" name="Picture 10" descr="Table 3-6"/>
          <p:cNvPicPr/>
          <p:nvPr/>
        </p:nvPicPr>
        <p:blipFill>
          <a:blip r:embed="rId1"/>
          <a:stretch/>
        </p:blipFill>
        <p:spPr>
          <a:xfrm>
            <a:off x="1403280" y="3200400"/>
            <a:ext cx="7101000" cy="2313000"/>
          </a:xfrm>
          <a:prstGeom prst="rect">
            <a:avLst/>
          </a:prstGeom>
          <a:ln w="0">
            <a:noFill/>
          </a:ln>
        </p:spPr>
      </p:pic>
      <p:sp>
        <p:nvSpPr>
          <p:cNvPr id="10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F6C591F-5EFA-4AFD-A94C-B4135975E4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0. Object-Oriented Databas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bject-oriented databas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 both data and its processing instru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ethod: a procedure or ac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essage: a request to execute or run a metho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7692389-ABA7-4C44-BADD-6EF2B1C4DA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7580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data: bits, characters, fields, records, files, and datab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: generalized class of people, places, or things for which data is collected, stored, and maint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: characteristic of an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odel: diagram of data entities and relations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onal model: describes data in which all elements are placed in two-dimensional tables called re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22EE9AC-B34C-43BB-9284-04A5A55ACF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7720" y="282240"/>
            <a:ext cx="88362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 What is a Database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9215280" cy="4760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(DB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 organized collection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Management System (DBMS)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group of programs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s and Manipulates 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an interface between database and user and other application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atabase administrator (DBA)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killed IS professional who directs all activities related to an organization’s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A14E069-BFA5-479C-8D4E-DC32C07F78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atabase management system (DBMS) is a group of programs used as an interface betwe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 and application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57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atabase and the user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warehouse: database that collects business information from all aspects of a company’s processes, products, and custo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mining: an information-analysis tool for discovering patterns and relationships in a data wareho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0">
              <a:spcBef>
                <a:spcPts val="70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A9E499F-1203-45E0-BDAE-11185EA33A3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Manage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566360"/>
            <a:ext cx="90630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ithout data and the ability to process it, an organization could not successfully complete most business activ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consists of raw fac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data to be transformed into useful information, it must first be organized in a meaningful wa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D48D5FD-9D19-4DEC-9F5E-22C827FE660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. The Hierarchy of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921528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a binary digit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 circuit that is either on or o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yt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ight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racter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asic building block of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yte represents a charac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n uppercase letter, lowercase letter, numeric digit, or special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eld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ypically a name, number, or combination of characters that describes an aspect of a business object or a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A8A77C8-A3C8-4565-B6AB-C7FD34DA4B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Hierarchy of Data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33520" y="1566360"/>
            <a:ext cx="9138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cord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related data field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il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related record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atabas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 collection of integrated and related fil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Hierarchy of data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its, characters, fields, records, files, and databas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64A615C-E620-4CAF-8E49-A379462D799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Hierarchy of Data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8" name="Picture 7" descr="Fig 3-1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1600200"/>
            <a:ext cx="5921640" cy="4343400"/>
          </a:xfrm>
          <a:prstGeom prst="rect">
            <a:avLst/>
          </a:prstGeom>
          <a:ln w="0">
            <a:noFill/>
          </a:ln>
        </p:spPr>
      </p:pic>
      <p:sp>
        <p:nvSpPr>
          <p:cNvPr id="879" name="Rectangle 4"/>
          <p:cNvSpPr/>
          <p:nvPr/>
        </p:nvSpPr>
        <p:spPr>
          <a:xfrm>
            <a:off x="495360" y="6066000"/>
            <a:ext cx="89154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Hierarch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 4 – Organizing Data and Information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02FE82B-0BED-4390-A708-DE6F5C9959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hmed Youssef</cp:lastModifiedBy>
  <cp:lastPrinted>2000-09-19T13:45:16Z</cp:lastPrinted>
  <dcterms:modified xsi:type="dcterms:W3CDTF">2017-01-08T20:06:49Z</dcterms:modified>
  <cp:revision>425</cp:revision>
  <dc:subject/>
  <dc:title>Abstract View of System Compon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033B6F6E-1A25-4C6B-8A63-95D9828F4E4E</vt:lpwstr>
  </property>
  <property fmtid="{D5CDD505-2E9C-101B-9397-08002B2CF9AE}" pid="3" name="ArticulatePath">
    <vt:lpwstr>4 DB and DBMS</vt:lpwstr>
  </property>
</Properties>
</file>