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</p:sldIdLst>
  <p:sldSz cx="9907588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dt" idx="18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sldImg"/>
          </p:nvPr>
        </p:nvSpPr>
        <p:spPr>
          <a:xfrm>
            <a:off x="1055160" y="719280"/>
            <a:ext cx="5194440" cy="35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ftr" idx="19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 type="sldNum" idx="20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42A771E-A397-4C3C-B234-7A340DB34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79ECF2A-8D42-439A-87C9-CAFBFEE22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244372F-A476-4445-B8EA-A18B597F7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6E29FD7-633A-4AE4-B7CB-CB0705E73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03596CA-5934-4353-89C4-AE3678A69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9FC041D-570C-40B7-B94C-552180859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E8EDD17-3061-4150-A138-8310ADCE0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9D682BD-074D-4372-B82F-65DBFF035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19E7A21-E78A-46E6-85CA-583423A06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824AFAC-FE28-45ED-9F33-76856A640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264A8F6-0D62-4C16-81E7-95BEBEF53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E177EE9-788B-4D7C-914F-B63142C4A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7AF34F-4916-4A43-9A0A-F309CA469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8425051-FD22-4AB5-8339-5DDC4B1E3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B2FD4B0-73F5-46D1-BAB0-9B2363F5B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4793A84-65A9-438C-8123-9DFAACFF5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5E979AD-3259-4781-93AB-582429614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A06735C-8C70-4B1A-899F-B25AD112E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F73ED25-2EF3-4C08-A176-18DB9DFE1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424DEFF-F570-4535-85FA-79CBDA725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669C573-E3F7-4450-B616-D9A168F53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F0DEFCB-5BA6-4BDE-B5B3-D760E2B8F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9C36213-2463-4F2C-8886-6D3A4DAEE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3F5388-995C-45B3-9925-C1E24C49E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36DD7DF-B361-4C44-95DC-580C24A74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2085A62-767A-4024-B743-F88967827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378B40A-F33B-4408-92E3-43DBFB805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A2EA6BB-431A-4542-B949-568346E83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54E1501-30AC-4FAB-834D-6D0673F46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F74E194-D478-4BF8-B14A-4E8CFD51B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3D3F6FE-D536-478A-9496-DF210AF41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40946B-F500-4984-96DE-D1712E4E1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A762003-C45C-4E2B-91E0-A8982BA51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4CA3D91-B51E-4275-89C0-7CD711198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159D68C-61A9-4CFC-9FBC-6919C7713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2EFEC09-FFBA-49DD-94B0-5476DDAAB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4E4F11C-BAAB-4AC9-9A2C-38B39D4E1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87E82C2-F853-4C59-9B73-6DE7C79F2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F08ECD6-620E-4CBD-906C-4CA87D53D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908EAC-F072-4B10-81DA-D0DD8AA83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E319702-599B-4C9D-933D-4C11BF505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1A096-3EF0-472F-8E80-A126C1B66BA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5E44-C0AB-44DA-9AC3-B9D4C5B05E1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797E4-34D0-4EAB-9933-CCFE226B7AE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A2D8E-2B21-4EFB-B193-1445A5F4F29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3914-E22E-4EE9-973A-D0A30F0F1C6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FA42-E52A-4DFC-B78D-61518DBA3FB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1FB54-0D55-4473-BEAF-649D352FE92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4448B-E3A0-46CC-A82D-54135D7F379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D3443-EDF9-4043-AB1C-BBBF483B8B1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78ECD-4C77-4256-991B-1EB1AC56CC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D8EF9-6899-455E-AB30-2B0F80AFE0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7F97-CE00-4BB6-8B1F-55FBE2B7C0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52642E5-8FC2-4549-B0E6-F3791DEBE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10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BDDC17E-6EF4-418C-96F5-A3144F916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11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4F913A0-3F0E-4CAC-9DE0-ACB656BF3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ftr" idx="12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F426912-F738-4DF9-B4F1-352C270A9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ftr" idx="13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0C28BE1-EC12-450F-BC04-7E5E0EEC6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ftr" idx="14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4E4B8D1-8B7D-4EE7-A926-FEF508D48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ftr" idx="15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4745BD-97B3-48F1-89B3-028AF91A0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ftr" idx="16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B710158-1332-431B-8C37-6D9AE0A1F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ftr" idx="17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504AB39-6CCE-4E01-BD62-333E52A05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0756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9500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756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00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7098840" y="6400440"/>
            <a:ext cx="2311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9CDEFB6F-5679-4A77-8CDD-5BF3B5C95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1959120"/>
            <a:ext cx="9759600" cy="1050840"/>
            <a:chOff x="0" y="1959120"/>
            <a:chExt cx="9759600" cy="1050840"/>
          </a:xfrm>
        </p:grpSpPr>
        <p:grpSp>
          <p:nvGrpSpPr>
            <p:cNvPr id="87" name="Group 3"/>
            <p:cNvGrpSpPr/>
            <p:nvPr/>
          </p:nvGrpSpPr>
          <p:grpSpPr>
            <a:xfrm>
              <a:off x="316080" y="2066760"/>
              <a:ext cx="773640" cy="454680"/>
              <a:chOff x="316080" y="2066760"/>
              <a:chExt cx="773640" cy="454680"/>
            </a:xfrm>
          </p:grpSpPr>
          <p:sp>
            <p:nvSpPr>
              <p:cNvPr id="88" name="Rectangle 4"/>
              <p:cNvSpPr/>
              <p:nvPr/>
            </p:nvSpPr>
            <p:spPr>
              <a:xfrm>
                <a:off x="316080" y="2066760"/>
                <a:ext cx="475920" cy="4546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5"/>
              <p:cNvSpPr/>
              <p:nvPr/>
            </p:nvSpPr>
            <p:spPr>
              <a:xfrm>
                <a:off x="732600" y="2066760"/>
                <a:ext cx="357120" cy="4546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0" name="Group 6"/>
            <p:cNvGrpSpPr/>
            <p:nvPr/>
          </p:nvGrpSpPr>
          <p:grpSpPr>
            <a:xfrm>
              <a:off x="452160" y="2507400"/>
              <a:ext cx="801000" cy="492840"/>
              <a:chOff x="452160" y="2507400"/>
              <a:chExt cx="801000" cy="492840"/>
            </a:xfrm>
          </p:grpSpPr>
          <p:sp>
            <p:nvSpPr>
              <p:cNvPr id="91" name="Rectangle 7"/>
              <p:cNvSpPr/>
              <p:nvPr/>
            </p:nvSpPr>
            <p:spPr>
              <a:xfrm>
                <a:off x="452160" y="2507400"/>
                <a:ext cx="459000" cy="492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8"/>
              <p:cNvSpPr/>
              <p:nvPr/>
            </p:nvSpPr>
            <p:spPr>
              <a:xfrm>
                <a:off x="853920" y="2507400"/>
                <a:ext cx="399240" cy="492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3" name="Rectangle 9"/>
            <p:cNvSpPr/>
            <p:nvPr/>
          </p:nvSpPr>
          <p:spPr>
            <a:xfrm>
              <a:off x="0" y="2415240"/>
              <a:ext cx="606960" cy="358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Rectangle 10"/>
            <p:cNvSpPr/>
            <p:nvPr/>
          </p:nvSpPr>
          <p:spPr>
            <a:xfrm>
              <a:off x="687960" y="1959120"/>
              <a:ext cx="34200" cy="10508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 flipV="1">
              <a:off x="342360" y="2779200"/>
              <a:ext cx="941724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3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79E4D1A-3C89-4B1C-BD78-BF732FDBB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4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7FC4C2-F413-4941-88D0-945E3A4F2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5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A843E5E-88DB-4583-A801-EBCF745E2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6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6BD244D-9F3D-40EC-B577-0218C3740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7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98ECAD2-70CC-4AEF-879D-80CA5AF3F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8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69B9D58-FC7B-4A34-AE6F-679CF2D1B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9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A77C846-6171-46A8-BD61-B29B9BB3C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072800" y="1348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Fundamentals &amp; Ethics of Information Systems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IS 201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667800" y="3153960"/>
            <a:ext cx="8867880" cy="307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rganizing Data and Inform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tabases and Database Management Syst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79D7F2C-7996-4DAA-B652-95F60B0361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ata Entities, Attributes, and Key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9063000" cy="468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tity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eralized class of people, places, or things for which data is collected, stored, and maintained (students, teachers, employees,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ttribute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 of an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 item (value)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of an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imary key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eld or set of fields that uniquely identifies the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D66707C-DF57-48CB-9B1C-42E3670C48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ta Entities, Attributes, and Key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85" name="Picture 7" descr="Fig 3-2"/>
          <p:cNvPicPr/>
          <p:nvPr/>
        </p:nvPicPr>
        <p:blipFill>
          <a:blip r:embed="rId1"/>
          <a:stretch/>
        </p:blipFill>
        <p:spPr>
          <a:xfrm>
            <a:off x="927000" y="2057400"/>
            <a:ext cx="8217000" cy="3429000"/>
          </a:xfrm>
          <a:prstGeom prst="rect">
            <a:avLst/>
          </a:prstGeom>
          <a:ln w="0">
            <a:noFill/>
          </a:ln>
        </p:spPr>
      </p:pic>
      <p:sp>
        <p:nvSpPr>
          <p:cNvPr id="886" name="Rectangle 4"/>
          <p:cNvSpPr/>
          <p:nvPr/>
        </p:nvSpPr>
        <p:spPr>
          <a:xfrm>
            <a:off x="495360" y="579132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s and Attrib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261F06B-84F0-4892-BFE3-5EB021A8EC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31880" y="2566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 The Database Approach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566280" y="1828440"/>
            <a:ext cx="8605800" cy="4608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ditional approach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ata management: separate data files are created for each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in data redundancy (dupl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edundancy conflicts with data integ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base approach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ata management: pool of related data is shared by multiple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ificant advantages over traditional appro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89D1731-E080-4A11-9190-61E8AC3F00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B Approach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92" name="Picture 9" descr="Fig 3-3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232000" y="1649520"/>
            <a:ext cx="5464080" cy="4370400"/>
          </a:xfrm>
          <a:prstGeom prst="rect">
            <a:avLst/>
          </a:prstGeom>
          <a:ln w="0">
            <a:noFill/>
          </a:ln>
        </p:spPr>
      </p:pic>
      <p:sp>
        <p:nvSpPr>
          <p:cNvPr id="893" name="Rectangle 4"/>
          <p:cNvSpPr/>
          <p:nvPr/>
        </p:nvSpPr>
        <p:spPr>
          <a:xfrm>
            <a:off x="495360" y="6095880"/>
            <a:ext cx="8915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base Approach to Data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EC7F9F8-708F-43FD-8A47-338E960A37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B Approach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96" name="Picture 9" descr="Table 3-1a"/>
          <p:cNvPicPr/>
          <p:nvPr/>
        </p:nvPicPr>
        <p:blipFill>
          <a:blip r:embed="rId1"/>
          <a:stretch/>
        </p:blipFill>
        <p:spPr>
          <a:xfrm>
            <a:off x="412920" y="1905120"/>
            <a:ext cx="9264600" cy="388620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4"/>
          <p:cNvSpPr/>
          <p:nvPr/>
        </p:nvSpPr>
        <p:spPr>
          <a:xfrm>
            <a:off x="495360" y="579132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 of the Database Approa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65E6AC6-2A94-4B57-AE3D-B3AC116C56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B Approach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00" name="Picture 9" descr="Table 3-1b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52280" y="2011320"/>
            <a:ext cx="9601200" cy="353052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4"/>
          <p:cNvSpPr/>
          <p:nvPr/>
        </p:nvSpPr>
        <p:spPr>
          <a:xfrm>
            <a:off x="495360" y="579132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 of the Database Approach (continu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5DD07C0-00E1-4332-8DD4-5028878770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B Approach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04" name="Picture 9" descr="Table 3-2"/>
          <p:cNvPicPr/>
          <p:nvPr/>
        </p:nvPicPr>
        <p:blipFill>
          <a:blip r:embed="rId1"/>
          <a:stretch/>
        </p:blipFill>
        <p:spPr>
          <a:xfrm>
            <a:off x="1143000" y="1676520"/>
            <a:ext cx="8070840" cy="4093920"/>
          </a:xfrm>
          <a:prstGeom prst="rect">
            <a:avLst/>
          </a:prstGeom>
          <a:ln w="0">
            <a:noFill/>
          </a:ln>
        </p:spPr>
      </p:pic>
      <p:sp>
        <p:nvSpPr>
          <p:cNvPr id="905" name="Rectangle 4"/>
          <p:cNvSpPr/>
          <p:nvPr/>
        </p:nvSpPr>
        <p:spPr>
          <a:xfrm>
            <a:off x="495360" y="606600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advantages of the Database Approa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0BC7FDA-011D-4FF0-9CB9-52515B660F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Modeling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33520" y="1566360"/>
            <a:ext cx="9138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ata model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 diagram of data entities and their relationship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ntity-relationship (ER) diagrams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data models that use basic graphical symbols to show the organization of and relationships between data entiti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9FA56AF-E61B-483D-8F06-CC417D34CB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Modeling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11" name="Picture 9" descr="Fig 3-4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1712880"/>
            <a:ext cx="4938840" cy="4154400"/>
          </a:xfrm>
          <a:prstGeom prst="rect">
            <a:avLst/>
          </a:prstGeom>
          <a:ln w="0">
            <a:noFill/>
          </a:ln>
        </p:spPr>
      </p:pic>
      <p:sp>
        <p:nvSpPr>
          <p:cNvPr id="912" name="Rectangle 4"/>
          <p:cNvSpPr/>
          <p:nvPr/>
        </p:nvSpPr>
        <p:spPr>
          <a:xfrm>
            <a:off x="495360" y="6066000"/>
            <a:ext cx="8915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ntity-Relationship (ER) Diagram for a Customer Order Datab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D498A834-BD30-475F-9F00-187D284BB4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4724280" y="182880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15" name="Straight Arrow Connector 10"/>
          <p:cNvCxnSpPr/>
          <p:nvPr/>
        </p:nvCxnSpPr>
        <p:spPr>
          <a:xfrm flipH="1" flipV="1">
            <a:off x="3199680" y="1980360"/>
            <a:ext cx="1677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6" name="Straight Arrow Connector 13"/>
          <p:cNvCxnSpPr/>
          <p:nvPr/>
        </p:nvCxnSpPr>
        <p:spPr>
          <a:xfrm flipH="1">
            <a:off x="3199680" y="2056320"/>
            <a:ext cx="167724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7" name="Rectangle 4"/>
          <p:cNvSpPr/>
          <p:nvPr/>
        </p:nvSpPr>
        <p:spPr>
          <a:xfrm>
            <a:off x="4876920" y="297180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18" name="Straight Arrow Connector 16"/>
          <p:cNvCxnSpPr/>
          <p:nvPr/>
        </p:nvCxnSpPr>
        <p:spPr>
          <a:xfrm flipH="1">
            <a:off x="5636520" y="3354480"/>
            <a:ext cx="39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9" name="Straight Arrow Connector 18"/>
          <p:cNvCxnSpPr/>
          <p:nvPr/>
        </p:nvCxnSpPr>
        <p:spPr>
          <a:xfrm flipH="1">
            <a:off x="3504960" y="3351600"/>
            <a:ext cx="18295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Modeling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21" name="Picture 4" descr="Fig 5-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9880" y="1754280"/>
            <a:ext cx="2565360" cy="4037040"/>
          </a:xfrm>
          <a:prstGeom prst="rect">
            <a:avLst/>
          </a:prstGeom>
          <a:ln w="0">
            <a:noFill/>
          </a:ln>
        </p:spPr>
      </p:pic>
      <p:sp>
        <p:nvSpPr>
          <p:cNvPr id="922" name="Rectangle 5"/>
          <p:cNvSpPr/>
          <p:nvPr/>
        </p:nvSpPr>
        <p:spPr>
          <a:xfrm>
            <a:off x="495360" y="5837400"/>
            <a:ext cx="8915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implified ER Diagram Showing the Relationship Between the Manager, Department, and Project T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940D106-90A6-40E4-BA6E-0A423F7DF4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Learning Objectiv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3520" y="1828440"/>
            <a:ext cx="9138960" cy="4608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51444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general data management concepts and te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ight the advantages of the database approach to data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the relational database model and outline its basic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common functions performed by all database management systems and identify popular user database management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nd briefly discuss current databas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D443751-935E-4583-B478-3C9F1A97E8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B Design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440" y="1566360"/>
            <a:ext cx="898668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Building a database requires two types of desig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Logical desig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bstract model of how data should be structured and arranged to meet an organization’s information need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hysical desig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ne-tunes the logical database design for performance and cost consideratio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8F69CBC-3BFF-4294-9CC3-234B1AED68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Building DB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33520" y="1566360"/>
            <a:ext cx="9138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hen building a database, consider: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Content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What data should be collected, at what cost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Access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What data should be provided to which users and when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Logical structure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ow should data be arranged to make sense to a given user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Physical organization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Where should data be physically located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8B1811D-032A-4E85-A274-A08B0CC5D5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base Model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614520" y="1579320"/>
            <a:ext cx="929160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lat file Databas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 files usually contain one record pe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elds can be separated by delimiters such as comma or tab 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elational Databas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D 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w represents a 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olumn represents an 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bject oriented Databas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055F060-FBAB-4655-B3B9-EAB5D48615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7720" y="26460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he Relational Database Model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609120" y="1566360"/>
            <a:ext cx="906300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Relational model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: all data elements are placed in two-dimensional tables, which are the logical equivalent of fil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n the relational mod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ach table is an ent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ach row of a table represents a recor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lumns of the table represent attribut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omain: the allowable values for data attribut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DF26442-F83F-44B6-B089-7BF241C28C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Relational Database Model (cont.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37" name="Picture 10" descr="Fig 3-5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86200" y="1590840"/>
            <a:ext cx="4419720" cy="4962240"/>
          </a:xfrm>
          <a:prstGeom prst="rect">
            <a:avLst/>
          </a:prstGeom>
          <a:ln w="0">
            <a:noFill/>
          </a:ln>
        </p:spPr>
      </p:pic>
      <p:sp>
        <p:nvSpPr>
          <p:cNvPr id="938" name="Rectangle 4"/>
          <p:cNvSpPr/>
          <p:nvPr/>
        </p:nvSpPr>
        <p:spPr>
          <a:xfrm>
            <a:off x="152280" y="403848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lational Database Mod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8F979B5-8D9F-4EB2-94E2-C743483998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Manipulating Data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33520" y="1566360"/>
            <a:ext cx="9138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electing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eliminates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ahoma"/>
              </a:rPr>
              <a:t>rows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ccording to criteria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Projecting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eliminates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ahoma"/>
              </a:rPr>
              <a:t>columns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in a tabl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Joining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combines two or more tabl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Linking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elates or links two or more tables using common data attribut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F47E000-FD56-426B-9A75-42DA1BE124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Linking Data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44" name="Picture 7" descr="Fig 3-7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887480" y="1639800"/>
            <a:ext cx="6265800" cy="4456080"/>
          </a:xfrm>
          <a:prstGeom prst="rect">
            <a:avLst/>
          </a:prstGeom>
          <a:ln w="0">
            <a:noFill/>
          </a:ln>
        </p:spPr>
      </p:pic>
      <p:sp>
        <p:nvSpPr>
          <p:cNvPr id="945" name="Rectangle 4"/>
          <p:cNvSpPr/>
          <p:nvPr/>
        </p:nvSpPr>
        <p:spPr>
          <a:xfrm>
            <a:off x="495360" y="6172200"/>
            <a:ext cx="891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ing Data Tables to Answer an Inqui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3D47C44-BAE1-49C2-A6D5-9ECF2485B8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6. Database Management Systems (DBM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838080" y="1752120"/>
            <a:ext cx="8834400" cy="468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BM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group of programs used as an interface between a database and application programs or a database and the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ng and implementing the right DBMS ensures that the database will support both business activities and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CF200C7-BE2B-40BE-9D64-D7BDBAAEA9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TextBox 1"/>
          <p:cNvSpPr/>
          <p:nvPr/>
        </p:nvSpPr>
        <p:spPr>
          <a:xfrm>
            <a:off x="1905120" y="5181480"/>
            <a:ext cx="838080" cy="3988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TextBox 5"/>
          <p:cNvSpPr/>
          <p:nvPr/>
        </p:nvSpPr>
        <p:spPr>
          <a:xfrm>
            <a:off x="3429000" y="5165640"/>
            <a:ext cx="1447920" cy="70380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TextBox 6"/>
          <p:cNvSpPr/>
          <p:nvPr/>
        </p:nvSpPr>
        <p:spPr>
          <a:xfrm>
            <a:off x="5562720" y="5165640"/>
            <a:ext cx="914400" cy="3988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B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TextBox 7"/>
          <p:cNvSpPr/>
          <p:nvPr/>
        </p:nvSpPr>
        <p:spPr>
          <a:xfrm>
            <a:off x="7148520" y="5181480"/>
            <a:ext cx="600120" cy="3988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54" name="Straight Arrow Connector 3"/>
          <p:cNvCxnSpPr>
            <a:stCxn id="950" idx="3"/>
          </p:cNvCxnSpPr>
          <p:nvPr/>
        </p:nvCxnSpPr>
        <p:spPr>
          <a:xfrm flipV="1">
            <a:off x="2742840" y="5369760"/>
            <a:ext cx="677160" cy="1188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955" name="Straight Arrow Connector 13"/>
          <p:cNvCxnSpPr/>
          <p:nvPr/>
        </p:nvCxnSpPr>
        <p:spPr>
          <a:xfrm flipV="1">
            <a:off x="4885920" y="5377680"/>
            <a:ext cx="677160" cy="1188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956" name="Straight Arrow Connector 14"/>
          <p:cNvCxnSpPr/>
          <p:nvPr/>
        </p:nvCxnSpPr>
        <p:spPr>
          <a:xfrm flipV="1">
            <a:off x="6473880" y="5382360"/>
            <a:ext cx="675360" cy="1188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verview of Database Typ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33520" y="1566360"/>
            <a:ext cx="9138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person can use the databas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 Access, FileMaker, and Info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dozens or hundreds of people to access the same database system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 Oracle, Sybase, and I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5D17933-9114-497A-B63D-AE0AD84308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B schema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921528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chema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description of the entire databas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Large database systems typically use schemas to define the tables and other database features associated with a person or user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3DCCA94-A9A4-4717-AD9A-75B826755E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hapter Overview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533520" y="1566360"/>
            <a:ext cx="9138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Learn About Database Syst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a Databas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ierarchy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base Appro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Mode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 Management Systems (DB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Warehouses, Data Marts, and Data M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Intellig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 Analytical Processing (OL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-Oriented Data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D80C8B74-7534-4C3F-9F26-A02332FFA8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012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reating a DB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120" y="1566360"/>
            <a:ext cx="906300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ata Definition Language (DDL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llection of instructions/commands that define and describe data and data relationships in a databas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ata dictionary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 detailed description of all the data used in the databas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C705A4D-5F00-4A98-B035-3F55523CF8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ing DDL to define schem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7" name="Picture 9" descr="Fig 3-10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666880" y="1593720"/>
            <a:ext cx="4419720" cy="4364280"/>
          </a:xfrm>
          <a:prstGeom prst="rect">
            <a:avLst/>
          </a:prstGeom>
          <a:ln w="0">
            <a:noFill/>
          </a:ln>
        </p:spPr>
      </p:pic>
      <p:sp>
        <p:nvSpPr>
          <p:cNvPr id="968" name="Rectangle 4"/>
          <p:cNvSpPr/>
          <p:nvPr/>
        </p:nvSpPr>
        <p:spPr>
          <a:xfrm>
            <a:off x="495360" y="6066000"/>
            <a:ext cx="8915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Data Definition Language to Define a Sch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585D9A8-4A12-478F-AEB8-00F8DC0831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ta Diction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71" name="Picture 11" descr="Fig 3-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12720" y="1727280"/>
            <a:ext cx="6259680" cy="4064040"/>
          </a:xfrm>
          <a:prstGeom prst="rect">
            <a:avLst/>
          </a:prstGeom>
          <a:ln w="0">
            <a:noFill/>
          </a:ln>
        </p:spPr>
      </p:pic>
      <p:sp>
        <p:nvSpPr>
          <p:cNvPr id="972" name="Rectangle 4"/>
          <p:cNvSpPr/>
          <p:nvPr/>
        </p:nvSpPr>
        <p:spPr>
          <a:xfrm>
            <a:off x="495360" y="5943600"/>
            <a:ext cx="891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ypical Data Dictionary En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3A3790B-EFC5-4138-BE88-E284EF8F76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toring and Retrieving Data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440" y="1566360"/>
            <a:ext cx="898668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hen an application requests data from the DBMS, the application follows a logical access path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hen the DBMS goes to a storage device to retrieve the requested data, it follows a path to the physical location (physical access path) where the data is stored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2117C41-F876-438A-9E44-288DD51D89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oring and Retrieving Data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78" name="Picture 9" descr="Fig 3-1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798640" y="1600200"/>
            <a:ext cx="4211640" cy="4508640"/>
          </a:xfrm>
          <a:prstGeom prst="rect">
            <a:avLst/>
          </a:prstGeom>
          <a:ln w="0">
            <a:noFill/>
          </a:ln>
        </p:spPr>
      </p:pic>
      <p:sp>
        <p:nvSpPr>
          <p:cNvPr id="979" name="Rectangle 4"/>
          <p:cNvSpPr/>
          <p:nvPr/>
        </p:nvSpPr>
        <p:spPr>
          <a:xfrm>
            <a:off x="495360" y="6248520"/>
            <a:ext cx="8915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and Physical Access Path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1053B74-8ED3-4116-8D66-2868A6A164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nipulating Data and Generating Repo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761760" y="1566360"/>
            <a:ext cx="89103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ery-By-Example (QBE)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isual approach to developing database queries or 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 Manipulation Language (DML)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mands that manipulate the data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uctured Query Language (SQL)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SI standard query language for relational datab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programs can produce reports, documents, and other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0385028-4359-4BB9-A556-E7FE1EECA1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QL Command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85" name="Picture 10" descr="Table 5-6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901880" y="1596960"/>
            <a:ext cx="5718240" cy="448776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11"/>
          <p:cNvSpPr/>
          <p:nvPr/>
        </p:nvSpPr>
        <p:spPr>
          <a:xfrm>
            <a:off x="495360" y="6172200"/>
            <a:ext cx="891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of SQL Comm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80F83E9-7C46-403F-B12E-37E41EE867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base Administration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761760" y="1566360"/>
            <a:ext cx="89103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atabase administrator (DBA): directs or performs all activities to maintain a database environmen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esigning, implementing, and maintaining the database system and the DB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stablishing policies and procedur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mployee train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1B4E05C-693E-4B2C-B0BE-BCFA83CCFF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opular DB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85440" y="1566360"/>
            <a:ext cx="898668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ular DBMSs for end users: Microsoft Access and FileMaker P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ire market includes databases by IBM, Oracle, and Microsof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of open-source database systems: PostgreSQL and MySQ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traditional database programs are now available on open-source 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BA311AC-8AAC-4F95-AB87-0A7B492F50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electing a DB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609120" y="1566360"/>
            <a:ext cx="906300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mportant characteristics of databases to consider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ize of the databas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st of the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umber of concurrent user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bility to be integrated with other syst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Vendor considera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5F17A8C-B18C-4F19-B51A-7F7F7C6095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Learn About Database System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33520" y="1566360"/>
            <a:ext cx="9138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atabase systems process and organize large amounts of data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atabase systems organize all transactions and services in our societi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tudent registration database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Bank accounts database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ospital patient record database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A7975B0-C058-48C0-92F8-03DB5F3C1F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DBMS with Other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743040" y="1579320"/>
            <a:ext cx="87818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BMS are often used with other software packages or the Interne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 DBMS can act as a front-end application or a back-end applic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ront-end application: interacts with user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Back-end application: interacts with applica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D037499-D152-48F3-919A-B362848B87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inking Databases to the Inter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761760" y="1566360"/>
            <a:ext cx="89103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Linking databases to the Internet is important for many organizations and peopl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llows people to access and manipulate a number of traditional databases at the same time through the Interne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4411915-8764-4762-ADE0-3277B9D55D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20880" y="256680"/>
            <a:ext cx="8440560" cy="962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Warehouses and Data Ma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09120" y="1566360"/>
            <a:ext cx="906300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ata warehouse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collects business information from many sources in the enterpris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ata mart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 subset of a data warehous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026D72B-3C43-40FB-9AD5-5AE6C39862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mining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685440" y="1566360"/>
            <a:ext cx="898668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ata mining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n information-analysis tool for discovering patterns and relationships in a data warehouse or a data mar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B7C24B5-1162-4DE6-BBA8-2076AFC0CB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lements of 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0" name="Picture 13" descr="Fig 3-17"/>
          <p:cNvPicPr/>
          <p:nvPr/>
        </p:nvPicPr>
        <p:blipFill>
          <a:blip r:embed="rId1"/>
          <a:stretch/>
        </p:blipFill>
        <p:spPr>
          <a:xfrm>
            <a:off x="2743200" y="1568520"/>
            <a:ext cx="4952880" cy="4554360"/>
          </a:xfrm>
          <a:prstGeom prst="rect">
            <a:avLst/>
          </a:prstGeom>
          <a:ln w="0">
            <a:noFill/>
          </a:ln>
        </p:spPr>
      </p:pic>
      <p:sp>
        <p:nvSpPr>
          <p:cNvPr id="1011" name="Rectangle 4"/>
          <p:cNvSpPr/>
          <p:nvPr/>
        </p:nvSpPr>
        <p:spPr>
          <a:xfrm>
            <a:off x="495360" y="6218280"/>
            <a:ext cx="8915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s of a Data Wareho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9198DCD-A62B-4492-BB33-7B97BFD3E3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Business Intelligenc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09120" y="1566360"/>
            <a:ext cx="906300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Business intelligence (BI): gathering the right information in a timely manner and usable form and analyzing it to have a positive impact on business and enterpris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urns data into useful information that is then distributed throughout an enterpris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0EF0527-2AE6-457C-9E11-7BAAF2FAF2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Business Intelligence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921528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mpetitive intelligence: aspect of business intelligence limited to information about competitors and the ways that knowledge affects strategy, tactics, and operatio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unterintelligence: steps an organization takes to protect information sought by “hostile” intelligence gatherer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6553BF5-B299-45F8-ADD8-6973901A5D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875016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nline Analytical Processing (OLAP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77800" y="1676520"/>
            <a:ext cx="8669520" cy="1025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88000"/>
          </a:bodyPr>
          <a:p>
            <a:pPr marL="316800" indent="-3168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oftware that allows users to explore data from a number of different perspectiv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16800" indent="0">
              <a:spcBef>
                <a:spcPts val="5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6800" indent="0">
              <a:spcBef>
                <a:spcPts val="5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Rectangle 5"/>
          <p:cNvSpPr/>
          <p:nvPr/>
        </p:nvSpPr>
        <p:spPr>
          <a:xfrm>
            <a:off x="495360" y="579132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 of OLAP and Data M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2" name="Picture 10" descr="Table 3-6"/>
          <p:cNvPicPr/>
          <p:nvPr/>
        </p:nvPicPr>
        <p:blipFill>
          <a:blip r:embed="rId1"/>
          <a:stretch/>
        </p:blipFill>
        <p:spPr>
          <a:xfrm>
            <a:off x="1403280" y="3200400"/>
            <a:ext cx="7101000" cy="2313000"/>
          </a:xfrm>
          <a:prstGeom prst="rect">
            <a:avLst/>
          </a:prstGeom>
          <a:ln w="0">
            <a:noFill/>
          </a:ln>
        </p:spPr>
      </p:pic>
      <p:sp>
        <p:nvSpPr>
          <p:cNvPr id="102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1736C4A-3DC3-4663-A710-659C44DBF9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10. Object-Oriented Databas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33520" y="1566360"/>
            <a:ext cx="9138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bject-oriented databas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tores both data and its processing instruc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ethod: a procedure or act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essage: a request to execute or run a metho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67F4552-0AAC-4AEA-ADDD-B500E57BF3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11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75808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data: bits, characters, fields, records, files, and datab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: generalized class of people, places, or things for which data is collected, stored, and maint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: characteristic of an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odel: diagram of data entities and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al model: describes data in which all elements are placed in two-dimensional tables called 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0884025-13CC-465B-AD95-3C6372EE9C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7720" y="282240"/>
            <a:ext cx="88362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2. What is a Database?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9215280" cy="4760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base (DB)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 organized collection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base Management System (DBMS)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group of programs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s and Manipulates 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n interface between database and user and other application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base administrator (DBA)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lled IS professional who directs all activities related to an organization’s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73427B1-5D6B-4626-9C8F-4CB18E5BBB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ummary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9200" indent="-349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atabase management system (DBMS) is a group of programs used as an interface betwe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 and application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Database and the user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warehouse: database that collects business information from all aspects of a company’s processes, products, and custo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ining: an information-analysis tool for discovering patterns and relationships in a data wareh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6FAECFA-E75A-4EB5-9843-DB63F2F499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Managemen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566360"/>
            <a:ext cx="906300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ithout data and the ability to process it, an organization could not successfully complete most business activiti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ata consists of raw fac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r data to be transformed into useful information, it must first be organized in a meaningful wa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92B251E-96FA-4C1E-9F16-54B6212D75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3. The Hierarchy of Data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6320"/>
            <a:ext cx="921528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 binary digit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circuit that is either on or o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yt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ight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racter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asic building block of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yte represents a charac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n uppercase letter, lowercase letter, numeric digit, or special symb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eld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ypically a name, number, or combination of characters that describes an aspect of a business object or 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00B574A-5339-42A0-9494-78482B56F7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he Hierarchy of Data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33520" y="1566360"/>
            <a:ext cx="9138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Record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 collection of related data field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File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 collection of related record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atabase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 collection of integrated and related fil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Hierarchy of data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bits, characters, fields, records, files, and databas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77C143B-C01F-49AF-A5C1-7DB3ED9AE3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he Hierarchy of Data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78" name="Picture 7" descr="Fig 3-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1600200"/>
            <a:ext cx="5921640" cy="4343400"/>
          </a:xfrm>
          <a:prstGeom prst="rect">
            <a:avLst/>
          </a:prstGeom>
          <a:ln w="0">
            <a:noFill/>
          </a:ln>
        </p:spPr>
      </p:pic>
      <p:sp>
        <p:nvSpPr>
          <p:cNvPr id="879" name="Rectangle 4"/>
          <p:cNvSpPr/>
          <p:nvPr/>
        </p:nvSpPr>
        <p:spPr>
          <a:xfrm>
            <a:off x="495360" y="6066000"/>
            <a:ext cx="8915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ierarchy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E75E854-B53D-40AE-A742-814F0BA503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38:26Z</dcterms:created>
  <dc:creator>Marilyn Turnamian</dc:creator>
  <dc:description/>
  <dc:language>en-US</dc:language>
  <cp:lastModifiedBy>Ahmed Youssef</cp:lastModifiedBy>
  <cp:lastPrinted>2000-09-19T13:45:16Z</cp:lastPrinted>
  <dcterms:modified xsi:type="dcterms:W3CDTF">2017-01-08T20:06:49Z</dcterms:modified>
  <cp:revision>425</cp:revision>
  <dc:subject/>
  <dc:title>Abstract View of System Compon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33B6F6E-1A25-4C6B-8A63-95D9828F4E4E</vt:lpwstr>
  </property>
  <property fmtid="{D5CDD505-2E9C-101B-9397-08002B2CF9AE}" pid="3" name="ArticulatePath">
    <vt:lpwstr>4 DB and DBMS</vt:lpwstr>
  </property>
</Properties>
</file>