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E3C-7EA4-4833-BD48-92EAF04A8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595D-54A9-4984-B591-EAEF3C59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2DD-0D8D-4146-94D6-BD2B7484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219-AEB5-4C76-9F32-BBE0E2E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E9F8-ED39-4912-A518-18BF5A0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83E23-B55D-4480-B2D5-991994D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5FE5-8E62-4A37-97F6-951A80F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04DC9-D822-4052-AE64-6B5DDD6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BC57-6CD3-4D96-B32D-CA40A4E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D705-EFA1-4BE2-87C6-E3BF0B8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13DFB-71F4-419B-ABCD-F64170B7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34C6-A1D4-4CFE-86B2-5807284E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2FA6E-CC50-42E6-9B95-416A2D1C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E9A-7AEE-4C4C-BB99-F0183117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B76-33A8-463A-A520-30D36534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0B7C-F700-4998-B529-0B853C9A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1C6-8CB0-4D60-8682-72AC0C4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571-213D-425A-B0B5-A855E84C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BD23-4D4A-435B-B750-ECA9749E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AC8-4D0F-4EA7-A20B-E166BC7D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AF2-D20E-4E4E-B1B7-E35710E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35F8-1BAD-4AB8-BD30-DE0A83F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A1D-9328-4E86-89A3-359961FE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5D2A-75B8-41DC-ACC7-AE5969A5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716-9458-47AF-BB6C-CB3CE60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CDB-A88B-442E-BB78-56342A2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6474-5F84-4F6F-B802-DA3554F6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3C80-B201-4C79-A33D-6A840BDE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4826-1754-4E2E-A81C-5F63FA2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C5C6-4782-489B-9703-CB505336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163F-6718-4EE1-803E-9FE4B11D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D935-0DC7-49A5-B400-CAECB812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5859-6162-4A21-9EED-8358D583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23D-1739-4DAF-BBE5-9F1A4D6E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39BA-00E1-4F7F-B58A-35B43CA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F54A-8EF3-4FDF-A404-7225DFE9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0B97-C0B4-4BCD-A6D8-0DD5974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3C92-C40A-49F0-A228-6A1563E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F7A4-EF11-4EC3-B1BB-921EAD3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3104-254B-402C-AA17-4ED17C19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D840-1A31-4750-B77A-A4C7BCBC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6070-52E7-4B2A-A2A6-C4A73502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7C83-9595-46F8-98EC-38D8070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39FD-CB70-46A2-A4F0-1064F2B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D2B-31D9-4368-B960-70E278C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93B0-FE77-460D-9B26-28330A0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6944-4183-454B-80D1-E3CD13B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4DF9-1C17-4D27-AF05-13F9C6A6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6649-24A8-463E-9A03-AF6FB5F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95C0-C681-4196-BE3A-7ED1F58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A1123-2FEE-406D-9EB6-FE2AF1A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DCE3-C518-479D-A85B-2642AF69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CA5FD-7662-4890-907A-41FD50EB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67CB-A6EF-4A08-82F2-9F80B832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B28A-D01D-4B0A-9209-B5B91D60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7AD-8EDD-403A-86DF-746CA16F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C3E9-4330-455D-B14B-4A1BA435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EEF72-D910-4FC4-854A-D58A3A2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87AB0-653D-4799-AF3A-17F519DA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9A60-68FD-465C-9FBB-E5894C0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08C8-E49A-41D3-9341-F253BFA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512E-A624-4B5E-91A2-38A5150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3DEB-BDFE-4EEA-A1F9-2C72FBF8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0548-19A6-4D3E-9C8E-B949660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9369-2F92-4A41-B491-1A0E91D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2107-ACDC-41D3-AF52-E05F0F53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E57-7567-4EBA-822F-D351DBCE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93DF-64D8-476B-8375-3BB9FFC3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32A7C-3C9D-468F-ABA1-A32711CD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CCD62-28DC-43E7-841D-498E2870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A558D-0264-436C-B40D-5E7AC8C2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ECD00-0C57-4E7F-A9B3-E47770F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07B85-7D1B-4834-81CF-8CE0F740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A0D91-BF7D-4FE7-B07C-20093D0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CAA76-FB37-41DD-8F2C-998A2AE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C4113-5CAB-4C19-B7EF-BE85B11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EC5A1-0908-41E3-B963-F65D767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91E-9D5D-41C5-B194-EBE5EB18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85C20-A685-43EE-BDC1-0F9FF02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4EDBE-238E-434A-8408-CF83CDCC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AEEFB-B162-4875-9CEA-71E1733A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1884-C14C-48FC-81DE-60C1F005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6393-6F33-4901-8F56-04941144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6233-20EF-481D-8425-F8A0B04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13005-32F4-49CD-B8DB-0E36FCE1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672A-B18B-4A1D-B64E-4A45D8D6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272DF-9FE3-4179-A32C-F1E63F1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DE48-221A-4590-A771-E80B747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00F-A1A9-427F-8952-88B43EB2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0936-D85E-40AE-B385-C93D53C5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733A-E44A-47EF-BA18-301E5B7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4100-0A0A-4A79-96C5-83B0929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88C3A-BA0B-4A8D-98C5-0B6C038C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C6B8-788A-4109-BF1E-DCC3609E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84205-9183-4D5E-98A2-BC04ECF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50DD4-4811-4BA3-AB5D-566FD62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773F6-5024-4E20-8CDE-76A49EFC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1CF36-F78C-4EDC-93D9-C789C14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39C21-D731-404D-800C-33BC934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0E5-5EDF-492A-BED3-AEADD35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1815B-A491-4F0A-9509-EA215678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256E7-1FE8-4F15-AE6E-317CBB3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20117-179D-4672-9830-768D61A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CE2CB-33EF-4BAB-8497-2D55D9CD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9B974-8FF3-443E-A748-79507DA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50FF4A-642C-4085-BC73-CBE7B63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CD1BC-DEA7-4171-BE1F-0AEA2A00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AE822-0327-4E3B-B94C-C7D4576D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6C704-DCDB-42C1-8486-250214D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B145D-185B-4007-89CA-0311E48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2E86-068E-4F6A-8E00-2BAF97E9837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F54-05C3-403A-A73D-F781F1A160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5B1-DE39-4526-9336-FAD56538F9A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304B-1085-4559-81DC-320CF9A809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B60-96E6-4C23-BE4A-7F0845DA824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C66-838A-4CBE-B901-69CE692C18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29DE-033B-4147-A18C-AEC30E2EF35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957-8C9B-4BFF-B06A-EF4297B730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2606-C087-4317-8E85-BB2F4411E4F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0D0-A1EA-4453-B639-C197F3A7D7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89BA-3F3E-4942-A01A-5C73707325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7D3-123B-43BA-B362-27805DDE12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966-63DE-4287-A98F-688EE2977D4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86C9-1583-4C68-A08F-D23CF91A9F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51E-5E69-47E7-A79C-C12347C0FC2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979-4EAE-42AF-AC36-240B6416E2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46B-AF2D-4C35-A479-4B69B3CB320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831-3298-416A-B162-6BD2E2F491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faculty.ksu.edu.sa/alsaleh/default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533520" y="4648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man Capa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. Hearing (Chapter 6*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7B6-980A-46D7-947F-E3D3181332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pter 3: auditory vs. visual modality (e.g. auditory preferred: message is short, 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types of human functions/tasks involved in the reception of auditory signal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tectio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.e. whether a signal is presen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lative discrimin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differentiating bet. ≥2 signals presented together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bsolute identific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only 1 signal is presen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Localiza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knowing the direction that the signal is coming fr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716B-DF54-4818-A91E-9EE68F501F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tection of sign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als can occur in “peaceful” surroundings or noisy surround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ignal plus noise (SN) should be distinct from the noise (N) it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therwise, signal cannot always be detected in the presence of no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.e. signal (masked sound) + noise (masking sound) ⇒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threshold of detectability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is elevat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⇒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ignal must be &gt; threshold to detect sig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ing filters ⇒ noise removed ⇒ ↑ detectability, SNR ⇒ more audible s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A07-5075-44F0-8A31-86A4C6ABC6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lative Discrimination of Auditory Sign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ve discrimination of signals on basis o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common measure of discriminability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just-noticeable differenc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JND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JND: “the smallest difference or change along a stimulus dimension (frequency, intensity) that can just be detected 50% of the time by people.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smaller the JND, the easier it is for people to detect differences on the dimension being changed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mall JND ⇒ subjects could detect small chan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Large JND ⇒ large change necessary before noticing chang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DE8-A9DF-4711-A2A4-4F0C531B18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solute Identifi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is is used when it is necessary to make an absolute identification of an individual stimulus (by itsel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identif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meone’s pitch/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pecific animal/bir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ertain car siren/honk to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nd dura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umber of levels along a continuum (range or scale) that can identified usually is quiet smal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t is better to use more dimensions with fewer steps or levels of each dimension, than to use fewer dimensions and more levels of ea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8B02-D892-450E-AB8A-3D1488ED9D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cal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Lucida Sans Unicode"/>
              </a:rPr>
              <a:t>Stereophony: 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ability  to localize (guess/predict) the direction from which the sound is emanating (coming from)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imary factors/cues used to determine direc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hase (lag)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if sound reaches directly one side of head first, sound reaches the nearer ear approx. 0.8 ms before other ear ⇒ localizing sounds below 15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r frequencies &gt; 3000 Hz, intensity is used to localize sound (e.g. try to gradually increase volume in one speaker and decrease volume in opposite speak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ounds between 1500-3000 Hz: hard to locali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861-E167-4864-965E-FB8FB7A6E2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purpose auditory display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arning and alarm sign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ach signal having preferred frequency, intensit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ach causing certain “attention-getting” and “noise-penetration” ability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ids for the bli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obility aids (go-no-go safety signals at certain distanc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nvironmental sensors (information about surrounding, e.g. surface characteristics, directional information, distanc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0DB-F3C9-475D-8C00-0C730D726E4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ise 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wanted sound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formation theory: “auditory stimulus of stimuli bearing no informational relationship to the presence or completion of the immediate task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ffects of no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aring loss (e.g. occupational hearing los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mporary loss, permanent lo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hysiological eff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sychological eff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E515-D39A-4352-9F53-3292A01784C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uman Capabilities - Hear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80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Human Factors in Engineering and Desig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 Mark S. Sanders, Ernest J. McCormick.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Ed. McGraw: New York, 1993. ISBN: 0-07-112826-3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804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lides by: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; online at:</a:t>
            </a:r>
            <a:br>
              <a:rPr sz="2400"/>
            </a:br>
            <a:r>
              <a:rPr b="1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faculty.ksu.edu.sa/alsaleh/default.aspx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13F-5504-4B34-BD74-B46C8F077C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ture and Measurement of Soun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requency of Sound Wav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mplex Soun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sk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uditory Display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ction of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ve Discrimination of Auditory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bsolute Identification of Auditory Signa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nd Localiz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40F-A27D-4E19-AF85-BD150DB9C3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rect vs. Indirect hear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rect hearing: e.g. baby’s natural c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rect hearing: e.g. doorbell ⇒ someone at do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irect stimulus can be more effective than dir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fire alarm (100% detectable) vs. heat/smoke (75%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ture and Measurement of Sou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Sound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is created by vibrations from a source and is transmitted through a medium (such as atmosphere) to the e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wo primary attributes of soun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Intensity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(or </a:t>
            </a: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amplitude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D53B-2D7E-4338-B7FF-25F0556FE2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en sound is generated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bration ⇒ air molecules to move back and fort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alternation ⇒ ↑ and ↓ in ai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Vibration forms sinusoidal (sine) wa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eight of wave above and below the midline represents the amount of above-normal and below-normal air pressure respectivel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 waveform above the midline is the image of the waveform below the midline in a sine wav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 waveform repeats itself again and again in a sine wav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Lucida Sans Unicode"/>
              </a:rPr>
              <a:t>frequency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of sound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number of cycles per second”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Lucida Sans Unicode"/>
              </a:rPr>
              <a:t>expressed in: hertz (Hz) ; 1 Hz ≡ 1cycle / 1 secon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88D6-89E8-42EE-B786-E1F00A9869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 rot="21447000">
            <a:off x="1174320" y="2144520"/>
            <a:ext cx="7128000" cy="43272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2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usoidal wave created by a simple sound-generating sour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D76-0ABD-4494-A961-A41FBD8C48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Frequency of Sound Wav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human ear is sensitive to frequenci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20 to 20,0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est sensitivity: between 1,000 to 3,000 Hz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ar is not equally sensitive to all frequenc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People differ in their relative sensitivities to various frequenc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nsity of Sound (amplitude/loudness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fined in terms of power per unit are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Bel (B) [aft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Alexander Graham Bel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] is the basic unit for measuring sound (log scal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most convenient measure i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cibel (dB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1 dB=0.1B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1D5-9B1A-4B99-AE1D-57CE4BE327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nsity of S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gure 6-2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cibel levels for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ious soun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 ↑ 10 dB ⇒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↑ 100-fold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nd press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al-to-Noise Ratio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SNR): difference bet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ful signal,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&amp; background noi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 90 dB signal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70 dB noise ⇒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NR = +20 dB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3C1D-5D5B-4F3E-9E99-015BC6B31F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4322880" y="76320"/>
            <a:ext cx="47448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x Soun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Very few sounds are p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ost complex sounds are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on-harmoni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igure 6-3: waveform of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 complex sound formed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y 3 individual sine wa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0EB-8040-4D93-8844-682BD2E3AC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2670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19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sking (defined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Condition when one component of the sound environment reduces the sensitivity of the ear to another compon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t is amount that the “</a:t>
            </a: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hreshold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of audibility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” of a sound (the masked sound) is raised by the presence of another (masking) s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: Can you a give an example of “masked” and “masking” sounds from our everyday live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Q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: difference between masked and complex sound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2C75-5848-4711-8C96-437D3DFDAF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28T07:06:09Z</dcterms:modified>
  <cp:revision>404</cp:revision>
  <dc:subject/>
  <dc:title>Photo Album</dc:title>
</cp:coreProperties>
</file>