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6969-BB9B-4634-81FE-48EF94AE6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264B-358B-48EB-B1AD-5D43E5CC1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680-1DAB-4F15-B69B-202FAABF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D56-E5B4-4FD3-A7AE-4C3DFF6D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A9378-6486-4B80-87EF-30E7EB7C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FED19-DA2D-4679-81FF-A2AF4138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8E6BA-0AE4-4536-9F00-657B056B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A7C5B-2367-4769-9248-36687164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8C214-CD23-4E2A-8D9E-02D7B9FD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0C56B-DD68-474F-93FF-515CEA81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673F9-DC51-41C0-898C-2E6A92F8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7666B-2531-43C1-91A3-C1CE6BFD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3779A-3497-4B9A-8E80-0ABBDCC5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651-D48B-4B5F-888C-75755F97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945-A57D-460E-A953-88B057C5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1D51-1E9E-46F0-B929-56F404D0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3D9C-0FAB-42B7-972E-4F9827C5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0C01-E2E7-416F-B258-9DA1DA5A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7D68-658E-4372-810B-EEE96807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7C8A-894D-4823-A19C-6763AAF7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ECDA-A8AE-4A7A-BF3D-90C49AFA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0460-3BD9-4811-A276-57D66F05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F20-CEA6-4127-A922-BD103427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77E4-71E3-4A96-9D86-89CDAD43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2367-951E-46CF-8903-D1F504EA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9951-6D2D-4E81-9EDD-8285E994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47BA-85E8-41E6-89F8-0B5BBC2C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1C54-F63B-4287-B504-A362CDDF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62D06-C119-4486-9C07-97ED09BD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6FB95-FDB9-425F-BC41-580A7647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9B5A6-2CBA-4F10-A259-058E7857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C39C3-1937-466F-89FD-E7BA6749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C65A6-C632-4605-BB87-1E97A880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2FA-F4F1-4B9C-BCDE-D719C4D7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07EE5-AFFB-4AD1-B034-4423D6E8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16C22-93A5-4B12-A5C4-BD98FC5C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DB12-ADBB-4EFB-9A3A-DCA31014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EC38-5B08-4EB0-9E02-0A78C12A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4838C-1A0A-40AF-AC23-F0C11AA9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D3294-C0AE-4375-9716-5CF0752C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717FC-88E6-439A-921B-83B6A0E0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03AFA-9C24-4810-8E1B-98507B23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3B683-1C08-4DF5-9198-C30BF810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34151-EA1E-47DE-B33B-5003D7AE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E00-48EC-479C-B186-D4D9E3AB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14D10-3CD0-4816-ABDB-037243EB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B477B-E435-4881-8006-7DAA45D3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70F8F-0CB0-444E-AC35-BAD15D5C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BB611-24B3-41F2-A997-97C62A6E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F3D25-79BE-4BF5-AF86-0E75F595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29B91-8F37-4C02-BCCA-6EFA74BE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FF4AA-131C-41EB-85E7-442DB3D5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47C26-BA62-44EC-81D2-F887262F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4666D-7951-4FC4-9921-F4A2C86D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9EFBC-F0FC-4957-A656-E5AE946D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1CB-37C8-4DCB-B00B-00A84AFA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6938D-2A65-4ABB-A7EF-CAED01DE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4E052-F68A-43BA-9B06-2B6A98C3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50109-6B32-4108-B1E0-91D2BD61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72064-C265-48F9-8A13-798FBD7A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101E6-B491-4634-9A52-2F45EAC5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7B68D-2F85-49ED-B6A4-BE8B8260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7EE00-87ED-4521-B2C4-A80F74C5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142C6-5DD0-4603-8F73-427BE133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7CF62-7E5E-43B7-9A91-F717B009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776D9-61B3-42EA-A27B-DB0ACE32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F6AE-365C-40E0-98B6-9E649CC3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D7289-1F79-4F78-A16E-D9A60EA2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3ED26-3A52-4157-9B90-40B092DB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0F6DE-E4BD-4D2E-9E8A-B15DF28E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27003-67CF-4A46-8003-97D305CA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464F3E-44C3-4D11-91F0-3FBE53E8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82B154-9ACA-4893-B86C-60F070DB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DF50DC-74C2-4538-BB2F-24744357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1FEC0-54EB-4797-8FE1-7996F7B2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38CBE-20B9-4F09-B6D4-6C3594C0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8735BC-772E-45BB-8102-B81C1839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530-5CD9-403B-A31C-806329BD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DE6B3-BAA3-4485-ABAF-6F023165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23389-EEBB-428D-B6B8-2AA33CFD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56161-2BD4-4CDE-B400-BBF42858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E7063-1404-4714-B529-AD499DEA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554A2-8273-486B-A20D-797DC546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FB12B-2770-4E05-9DC4-91F1CD53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5FB2F-D710-4DB0-964F-B39BE57E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48DA8-5678-4795-80E8-310006E3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455FB-F6E3-4106-A9B5-E5B9487F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34A67-0C27-4AD5-ADA4-EAC2F605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825-249E-4FBA-92C6-3AF384D4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A445D-A690-459C-A055-D71E7C5F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28DDA-8375-4FBE-8CB0-D929F4B5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DF776-0F8C-4278-86C3-A7658689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A8A49-66B0-43A6-AC3E-60903004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248D1-819C-4E23-8BD0-724874EE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2F366E-6E2D-44D1-9543-55A73565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D96A18-ED2E-4217-82F1-0FA64CFB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C65083-F88C-48AF-B5B3-D2B0EC0B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340E3F-7F0F-4992-8A34-A0D090FB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5E11B2-3883-407D-A877-38CE0CDF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A5B-58E2-483D-B6C4-7379EC8C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237E96-E20D-48E9-9AE0-7F9C749C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045180-A87E-417D-8127-A27C4EA3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027482-E50A-4851-9C2E-E271EE3B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3D8246-7B0F-45E2-B21D-25EAD468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F699DD-3085-4D69-867E-42A3CA0D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F00A36-10A0-40D3-B739-15FFE543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5D5F0E-5D6C-4984-B64E-EDFF35FE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401FE-834B-4988-BDEC-C36EC4BE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82D92-9E2C-4B45-97CA-54B69CBD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2F6A5-1011-4DE0-A992-BB9AF99B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F272-546B-4F2D-A325-96352A3BF318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43000" y="6408720"/>
            <a:ext cx="558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4CE6-B39F-49FB-86EE-6C5FFEFA265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KSU-Logo"/>
          <p:cNvPicPr/>
          <p:nvPr/>
        </p:nvPicPr>
        <p:blipFill>
          <a:blip r:embed="rId2"/>
          <a:stretch/>
        </p:blipFill>
        <p:spPr>
          <a:xfrm>
            <a:off x="76320" y="58006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4EA2-50CA-4A2C-ADB5-85E83B2323E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394D-F3DB-4BCD-BE5A-2E435DCDE9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ight Triangle 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3999-212E-4B2C-A3DD-FBC6B0F4E40D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80880" y="6416640"/>
            <a:ext cx="6019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1CE4-85A9-42A9-B299-EE6EC6DDE7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1" name="Chevron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D589-E1AC-44C6-BB44-6579FE669B4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6D63-DF68-46B3-98C2-93C3B170F4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7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A2F2-96C5-4D09-97C4-1601E53ECEE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D360-7C7A-4393-880F-B8A0E1AB56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6618-2243-4E37-B34B-383F226E8AE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7141-A9FF-46FD-9269-516359C124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65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A9AB-B901-4694-B554-5E1474E99AD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D663-29CA-491D-B11A-A0ED040F7B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5A34-DE6D-4B0B-8C53-4DABDB4BC6E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56AC-95FE-472E-B25B-2A950E7937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3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6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96BA-75EB-4FCB-B017-BEC0F8175B31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96A6-5090-4795-872F-857A958739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faculty.ksu.edu.sa/alsaleh/default.asp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7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Rectangle 10" descr=""/>
          <p:cNvPicPr/>
          <p:nvPr/>
        </p:nvPicPr>
        <p:blipFill>
          <a:blip r:embed="rId1"/>
          <a:stretch/>
        </p:blipFill>
        <p:spPr>
          <a:xfrm>
            <a:off x="609480" y="536400"/>
            <a:ext cx="7851960" cy="38833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533520" y="46483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man Capabil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rt – I. Hearing (Chapter 6*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Prepared by: Ahmed M. El-Sherbeeny, Ph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77EA-6827-4D75-A246-FC7A5049B96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pter 3: auditory vs. visual modality (e.g. auditory preferred: message is short, simp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 types of human functions/tasks involved in the reception of auditory signal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etection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i.e. whether a signal is present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lative discrimina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(differentiating bet. ≥2 signals presented together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bsolute identifica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(only 1 signal is present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Localiza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(knowing the direction that the signal is coming from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AFB8-2FE1-4187-AD56-D68C8C226CF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tection of signa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gnals can occur in “peaceful” surroundings or noisy surrounding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signal plus noise (SN) should be distinct from the noise (N) itself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therwise, signal cannot always be detected in the presence of noi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.e. signal (masked sound) + noise (masking sound) ⇒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threshold of detectability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is elevate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⇒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ignal must be &gt; threshold to detect signa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sing filters ⇒ noise removed ⇒ ↑ detectability, SNR ⇒ more audible sou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5125-144F-4481-AC0F-9DEDF0C0E72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lative Discrimination of Auditory Signa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lative discrimination of signals on basis of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tens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requenc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common measure of discriminability: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just-noticeable difference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(JND)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JND: “the smallest difference or change along a stimulus dimension (frequency, intensity) that can just be detected 50% of the time by people.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 smaller the JND, the easier it is for people to detect differences on the dimension being changed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mall JND ⇒ subjects could detect small chang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Large JND ⇒ large change necessary before noticing chang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E515-98EB-4F1C-8129-2CD0A5317FA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bsolute Identific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is used when it is necessary to make an absolute identification of an individual stimulus (by itself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 identif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omeone’s pitch/frequenc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pecific animal/bir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ertain car siren/honk to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ound dura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umber of levels along a continuum (range or scale) that can identified usually is quiet smal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better to use more dimensions with fewer steps or levels of each dimension, than to use fewer dimensions and more levels of eac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0BDE-EF34-43D1-9A54-579CCC0DFC7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ocaliz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Lucida Sans Unicode"/>
              </a:rPr>
              <a:t>Stereophony: 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ability  to localize (guess/predict) the direction from which the sound is emanating (coming from)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imary factors/cues used to determine direc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tensity of soun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hase (lag) of soun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if sound reaches directly one side of head first, sound reaches the nearer ear approx. 0.8 ms before other ear ⇒ localizing sounds below 1500 Hz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r frequencies &gt; 3000 Hz, intensity is used to localize sound (e.g. try to gradually increase volume in one speaker and decrease volume in opposite speake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ounds between 1500-3000 Hz: hard to localiz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55DF-876F-44B3-834F-13FE9F7470E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ecial purpose auditory display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arning and alarm signa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Each signal having preferred frequency, intensity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Each causing certain “attention-getting” and “noise-penetration” ability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ids for the bli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obility aids (go-no-go safety signals at certain distance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Environmental sensors (information about surrounding, e.g. surface characteristics, directional information, distance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C030-664D-450F-AED8-E7CF13D3719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ise ≡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wanted sound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formation theory: “auditory stimulus of stimuli bearing no informational relationship to the presence or completion of the immediate task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ffects of noi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earing loss (e.g. occupational hearing los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emporary loss, permanent lo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hysiological effec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sychological effec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660D-A1C8-4ED1-9B92-1998DAC457B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Human Capabilities - Hear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804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Human Factors in Engineering and Desig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 Mark S. Sanders, Ernest J. McCormick.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Ed. McGraw: New York, 1993. ISBN: 0-07-112826-3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804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lides by: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Dr. Khaled Al-Saleh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; online at:</a:t>
            </a:r>
            <a:br>
              <a:rPr sz="2400"/>
            </a:br>
            <a:r>
              <a:rPr b="1" lang="en-US" sz="24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faculty.ksu.edu.sa/alsaleh/default.aspx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A696-B1E7-4955-AC6F-8742D348EF1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ature and Measurement of Soun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requency of Sound Wav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tensity of Soun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mplex Soun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sk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uditory Display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tection of Signa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lative Discrimination of Auditory Signa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bsolute Identification of Auditory Signa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ound Localiz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i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70BE-F14C-4C20-B592-9D232B5E927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rect vs. Indirect hear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rect hearing: e.g. baby’s natural cr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direct hearing: e.g. doorbell ⇒ someone at doo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direct stimulus can be more effective than dir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fire alarm (100% detectable) vs. heat/smoke (75%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ture and Measurement of Sou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Sound</a:t>
            </a: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 is created by vibrations from a source and is transmitted through a medium (such as atmosphere) to the ea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wo primary attributes of sound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Lucida Sans Unicode"/>
              </a:rPr>
              <a:t>Frequenc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Lucida Sans Unicode"/>
              </a:rPr>
              <a:t>Intensity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(or </a:t>
            </a:r>
            <a:r>
              <a:rPr b="1" lang="en-GB" sz="2100" spc="-1" strike="noStrike">
                <a:solidFill>
                  <a:srgbClr val="000000"/>
                </a:solidFill>
                <a:latin typeface="Lucida Sans Unicode"/>
              </a:rPr>
              <a:t>amplitude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27F5-1228-4E51-BA3C-19DC1ACB047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7619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equency of Sound Wave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en sound is generated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vibration ⇒ air molecules to move back and fort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s alternation ⇒ ↑ and ↓ in air press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Vibration forms sinusoidal (sine) wa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eight of wave above and below the midline represents the amount of above-normal and below-normal air pressure respectivel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 waveform above the midline is the image of the waveform below the midline in a sine wav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 waveform repeats itself again and again in a sine wav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Lucida Sans Unicode"/>
              </a:rPr>
              <a:t>frequency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of sound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1900" spc="-1" strike="noStrike">
                <a:solidFill>
                  <a:srgbClr val="000000"/>
                </a:solidFill>
                <a:latin typeface="Lucida Sans Unicode"/>
              </a:rPr>
              <a:t>number of cycles per second”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Lucida Sans Unicode"/>
              </a:rPr>
              <a:t>expressed in: hertz (Hz) ; 1 Hz ≡ 1cycle / 1 secon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2BC2-4859-418D-A7C9-5BBA1658657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 rot="21447000">
            <a:off x="1174320" y="2144520"/>
            <a:ext cx="7128000" cy="43272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Rectangle 3" descr=""/>
          <p:cNvPicPr/>
          <p:nvPr/>
        </p:nvPicPr>
        <p:blipFill>
          <a:blip r:embed="rId2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. Frequency of Sound Wave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usoidal wave created by a simple sound-generating sour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3444-8D9B-40B1-9DD6-FF4EA5AE326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7619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. Frequency of Sound Wave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he human ear is sensitive to frequenci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20 to 20,000 Hz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est sensitivity: between 1,000 to 3,000 Hz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ar is not equally sensitive to all frequenc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People differ in their relative sensitivities to various frequenc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nsity of Sound (amplitude/loudness)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fined in terms of power per unit are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Bel (B) [after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Alexander Graham Bell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] is the basic unit for measuring sound (log scal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most convenient measure i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ecibel (dB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1 dB=0.1B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BBA8-27C2-476B-B42D-D5A356F8DFD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nsity of Sou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gure 6-2: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cibel levels for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arious sound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e ↑ 10 dB ⇒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↑ 100-fold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ound pressu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gnal-to-Noise Ratio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(SNR): difference bet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eaningful signal,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&amp; background noi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90 dB signal,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70 dB noise ⇒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NR = +20 dB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7B2B-E051-4527-BCA2-986DE221432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2"/>
          <a:stretch/>
        </p:blipFill>
        <p:spPr>
          <a:xfrm>
            <a:off x="4322880" y="76320"/>
            <a:ext cx="4744800" cy="66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620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lex Sound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Very few sounds are pu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ost complex sounds are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on-harmoni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Figure 6-3: waveform of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 complex sound formed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y 3 individual sine wa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894E-9CDB-4AB1-80E0-C54877D317D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426708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7619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sking (defined)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Condition when one component of the sound environment reduces the sensitivity of the ear to another compon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t is amount that the “</a:t>
            </a: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threshold</a:t>
            </a: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of audibility</a:t>
            </a: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” of a sound (the masked sound) is raised by the presence of another (masking) sou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Q</a:t>
            </a: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: Can you a give an example of “masked” and “masking” sounds from our everyday live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Q</a:t>
            </a: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: difference between masked and complex sound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BAC2-851A-4983-854A-B324A4D0F8A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40:45Z</dcterms:created>
  <dc:creator>IMedia</dc:creator>
  <dc:description/>
  <dc:language>en-US</dc:language>
  <cp:lastModifiedBy>User</cp:lastModifiedBy>
  <dcterms:modified xsi:type="dcterms:W3CDTF">2014-10-28T07:06:09Z</dcterms:modified>
  <cp:revision>404</cp:revision>
  <dc:subject/>
  <dc:title>Photo Album</dc:title>
</cp:coreProperties>
</file>