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39EB-3163-43D9-9286-0D244869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640-A712-4026-925B-5E40C4A5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E49-FDC4-4459-AF01-A4184BC2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DF2-A5D5-49A8-BA56-B14CAC74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49B1-12E1-4B94-97B0-F4B2247E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850F-908C-416C-85DB-8CCA4020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E4C0-0241-426D-92D2-973068EE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EA4E-FB1D-44FE-8084-77CA5C14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7792-CEBC-416A-8823-27FA5ADE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5491-5A15-4772-A306-59828278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3790-2132-4DD8-B029-DD83277C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1BE-71D7-4ADA-A120-405F9369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6736-19FE-460E-9BC5-0A29F114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4170-7DD2-4FD8-BB03-69121975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0109-E5C6-4EFA-B2D7-858DADBA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CF5B-BC0F-46C5-A930-02C06575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7947-C718-4A64-B5A3-40CE9637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748A2-8A7C-495A-84EA-14FBD5AC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63750-E7F4-46D3-9DC3-3E082683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E4C81-D7F2-4E23-9A82-4A94B5D9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3BDC3-4C6A-4EB4-9BCA-31B9391F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19C4C-ED7B-4EA1-BF3B-984F1209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F986-D0C7-4263-B5D3-98F5F31B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6CF19-5CE8-4EFA-B1B1-16E09B18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F8C41-1CE3-4ADC-BD26-7171F0F5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7023F-5512-443A-A172-3B7B0D9B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DDB23-FC1C-485B-9ED6-A9CEBAA3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4716F-CA83-4F11-B149-88B8CAD3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91C26-A2DF-48AD-9229-1BB2E5C6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76B20-0863-4FA9-AAF6-A08F4C90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E29F1-61F0-46E7-84F8-AC8EC225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C4C80-8682-474B-B152-F415E0AB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30FCA-A71F-4156-B832-CB3EB35B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559-B5B5-4906-BAB1-CC02072B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85031-CB54-41BE-9CF7-20C78438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7B1D1-87DD-48C9-9D25-88A33C25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54D38-3FE6-4CF0-AB0E-275595E5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98752-AEE2-4714-ADD7-CE875A45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AE1F7-11F9-443D-86C3-1C3F4778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0C4A2-7737-45A7-988F-AF9AA865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1AF8F-27A6-46A9-88FB-F29DEB3C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9E968-E194-480F-B242-F5BA0F73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2F7D8-C1C4-4F04-9FA2-0B9D2BAC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2A879D-2EDF-4EB5-B16C-25827131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6201-6768-4249-8F60-44F1957A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3ED7B-AC0B-4EDA-9993-5A48A0F1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413BC5-0FD7-4423-9CB4-6E170F7A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58D5E5-3F4E-4ED0-BF91-4AF63AB9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7B710-E8D7-4152-ACED-0E46C659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6B3D46-6D61-40DF-A167-D11C2720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7049B-15B8-4592-952D-989F9508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A91747-EBFC-4086-A803-FB9D764E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7809BE-31FD-4A10-A267-8B396B27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7C8F7A-4666-4648-90F0-81D41FA5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AC891-5FFA-4630-979B-A712331D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308-A879-4F85-BE6B-CF94CCA6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8CDE6-DD63-4284-9AE0-D0848A3D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7D89AA-76BB-4581-AE06-AC674737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7BDEF2-FA4A-4387-B77C-707FF1BD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78A569-41FB-4A4E-88A0-2C720F36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5DBE9A-963E-44A7-B845-C53DB344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2C228E-73AB-4CAE-A067-B744274A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A9808-A5B9-4D69-A782-32992F08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7E9811-3749-4EE5-8BDB-09043100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E758C-86A0-4B69-93F2-91C3B751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BF786B-992A-4480-A50F-16B47F8A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92A4-D361-434D-930B-FA2A2555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AA29C3-821D-457C-95FE-2ABB2D00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512707-EAE6-4650-B407-97EA2430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64FEF0-8880-443A-81D1-FDAA21C5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0532D6-AB4C-4817-9638-DF18B683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F85ACE-A7DC-40CA-ABD6-FB80ABD1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56F9B1-D8A5-4E0B-9AAC-80DB8A5F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5E9640-3F09-4421-90BA-A1A4FB3E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FC077F-0EFC-4427-AC7B-352A601F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24A265-A2EB-40A6-A11D-17BE4355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48D33D-DBDC-4762-8EE0-A082EE29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8D8-28D1-4F82-9EB9-81D5B8D1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920AB2-C6C5-4265-BC2C-EA5B7048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09F03D-F407-47E2-81DB-0DBD9EFF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3E2D17-5551-4E08-AF87-2A8E5649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A2C890-E660-4A2D-B6FC-FDF6328F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4BF686-5364-47DF-9BDC-030DB206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AEE-094C-46FC-A058-4892D958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61DC-CB75-4CAC-B18E-BF1F02EA9105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رابط مستقيم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شكل بيضاوي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شكل بيضاوي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شكل بيضاوي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شكل بيضاوي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شكل بيضاوي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5702-C900-449D-B0C5-354A48F30F35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7806-7B03-4A8F-9709-35101747916C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مستطيل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شكل بيضاوي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شكل بيضاوي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شكل بيضاوي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شكل بيضاوي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شكل بيضاوي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رابط مستقيم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39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39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5B08-00E5-41E7-B157-5E4685FE3138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BABA-D53A-4DDD-A1D8-01F93E5B99A4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رابط مستقيم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رابط مستقيم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رابط مستقيم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مستطيل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رابط مستقيم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شكل بيضاوي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6DB2-AD1A-4F33-804A-2D8064A4479C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شكل بيضاوي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رابط مستقيم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مستطيل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رابط مستقيم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رابط مستقيم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رابط مستقيم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5E4D-3A50-4D4B-872B-0B1CD32CCAA1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714400" y="500040"/>
            <a:ext cx="6143400" cy="14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75f6d"/>
                </a:solidFill>
                <a:latin typeface="Tahoma"/>
                <a:cs typeface="Tahoma"/>
              </a:rPr>
              <a:t>الاتجاه النفسي في تربية الطفل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57280" y="2571480"/>
            <a:ext cx="61437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e75c01"/>
                </a:solidFill>
                <a:latin typeface="Tahoma"/>
                <a:ea typeface="Tahoma"/>
              </a:rPr>
              <a:t>3</a:t>
            </a:r>
            <a:r>
              <a:rPr b="1" lang="ar-SA" sz="6600" spc="-1" strike="noStrike">
                <a:solidFill>
                  <a:srgbClr val="e75c01"/>
                </a:solidFill>
                <a:latin typeface="Tahoma"/>
                <a:ea typeface="Tahoma"/>
              </a:rPr>
              <a:t>- جان بياجيه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00200" y="274320"/>
            <a:ext cx="542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c7491"/>
                </a:solidFill>
                <a:latin typeface="Tahoma"/>
                <a:cs typeface="Tahoma"/>
              </a:rPr>
              <a:t>التفكير السابق للمفاهيم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1600200"/>
            <a:ext cx="83581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ac63b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2557f"/>
                </a:solidFill>
                <a:latin typeface="Tahoma"/>
                <a:cs typeface="Tahoma"/>
              </a:rPr>
              <a:t>من سن </a:t>
            </a:r>
            <a:r>
              <a:rPr b="0" lang="ar-SA" sz="2800" spc="-1" strike="noStrike">
                <a:solidFill>
                  <a:srgbClr val="42557f"/>
                </a:solidFill>
                <a:latin typeface="Tahoma"/>
                <a:ea typeface="Tahoma"/>
              </a:rPr>
              <a:t>2</a:t>
            </a:r>
            <a:r>
              <a:rPr b="0" lang="ar-SA" sz="2800" spc="-1" strike="noStrike">
                <a:solidFill>
                  <a:srgbClr val="42557f"/>
                </a:solidFill>
                <a:latin typeface="Tahoma"/>
                <a:ea typeface="Tahoma"/>
              </a:rPr>
              <a:t> إلى </a:t>
            </a:r>
            <a:r>
              <a:rPr b="0" lang="ar-SA" sz="2800" spc="-1" strike="noStrike">
                <a:solidFill>
                  <a:srgbClr val="42557f"/>
                </a:solidFill>
                <a:latin typeface="Tahoma"/>
                <a:ea typeface="Tahoma"/>
              </a:rPr>
              <a:t>4</a:t>
            </a:r>
            <a:r>
              <a:rPr b="0" lang="ar-SA" sz="2800" spc="-1" strike="noStrike">
                <a:solidFill>
                  <a:srgbClr val="42557f"/>
                </a:solidFill>
                <a:latin typeface="Tahoma"/>
                <a:ea typeface="Tahoma"/>
              </a:rPr>
              <a:t> سنوات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c7491"/>
                </a:solidFill>
                <a:latin typeface="Tahoma"/>
                <a:cs typeface="Tahoma"/>
              </a:rPr>
              <a:t>تحدث فيه </a:t>
            </a:r>
            <a:r>
              <a:rPr b="0" lang="ar-SA" sz="2800" spc="-1" strike="noStrike">
                <a:solidFill>
                  <a:srgbClr val="fc7491"/>
                </a:solidFill>
                <a:latin typeface="Tahoma"/>
                <a:ea typeface="Tahoma"/>
              </a:rPr>
              <a:t>3</a:t>
            </a:r>
            <a:r>
              <a:rPr b="0" lang="ar-SA" sz="2800" spc="-1" strike="noStrike">
                <a:solidFill>
                  <a:srgbClr val="fc7491"/>
                </a:solidFill>
                <a:latin typeface="Tahoma"/>
                <a:ea typeface="Tahoma"/>
              </a:rPr>
              <a:t> أشكال رئيسية للنمو 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1</a:t>
            </a: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- نمو الفكري الرمزي ( استخدام الرموز والصور الذهنية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b500"/>
                </a:solidFill>
                <a:latin typeface="Tahoma"/>
                <a:ea typeface="Tahoma"/>
              </a:rPr>
              <a:t>2</a:t>
            </a:r>
            <a:r>
              <a:rPr b="0" lang="ar-SA" sz="2800" spc="-1" strike="noStrike">
                <a:solidFill>
                  <a:srgbClr val="ceb500"/>
                </a:solidFill>
                <a:latin typeface="Tahoma"/>
                <a:ea typeface="Tahoma"/>
              </a:rPr>
              <a:t>- اكتساب اللغة ( تزداد قدراته اللغويه بشكل كبير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00cc"/>
                </a:solidFill>
                <a:latin typeface="Tahoma"/>
                <a:ea typeface="Tahoma"/>
              </a:rPr>
              <a:t>3</a:t>
            </a:r>
            <a:r>
              <a:rPr b="0" lang="ar-SA" sz="2800" spc="-1" strike="noStrike">
                <a:solidFill>
                  <a:srgbClr val="cc00cc"/>
                </a:solidFill>
                <a:latin typeface="Tahoma"/>
                <a:ea typeface="Tahoma"/>
              </a:rPr>
              <a:t>- ظهور المنطق الانتقالي ( أسلوب اللعب الإيهامي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صورة 3" descr="بنوتهه.jpg"/>
          <p:cNvPicPr/>
          <p:nvPr/>
        </p:nvPicPr>
        <p:blipFill>
          <a:blip r:embed="rId1"/>
          <a:stretch/>
        </p:blipFill>
        <p:spPr>
          <a:xfrm>
            <a:off x="0" y="0"/>
            <a:ext cx="1947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ac63b"/>
                </a:solidFill>
                <a:latin typeface="Tahoma"/>
                <a:cs typeface="Tahoma"/>
              </a:rPr>
              <a:t>التـفكير</a:t>
            </a:r>
            <a:r>
              <a:rPr b="0" lang="ar-SA" sz="44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4400" spc="-1" strike="noStrike">
                <a:solidFill>
                  <a:srgbClr val="ff0000"/>
                </a:solidFill>
                <a:latin typeface="Tahoma"/>
                <a:cs typeface="Tahoma"/>
              </a:rPr>
              <a:t>الحدسي</a:t>
            </a:r>
            <a:r>
              <a:rPr b="0" lang="ar-SA" sz="44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214200" y="1500120"/>
            <a:ext cx="8858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 من سن 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4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 إلى 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7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 سنوات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ar-SA" sz="2400" spc="-1" strike="noStrike">
                <a:solidFill>
                  <a:srgbClr val="0ac63b"/>
                </a:solidFill>
                <a:latin typeface="Century Schoolbook"/>
              </a:rPr>
              <a:t>*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يؤكد دائما ولكنه لايبرهن ابداً </a:t>
            </a: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( التمركز على الذات 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**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يعتمد في تفكيره على الحواس والتخيُّـل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 ***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يعتمد في تفكيره على مايقوم به من أعمال وأدوات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 (أحكامه متغيره حسب المواقف والظروف 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****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تفكيره غير منطقي </a:t>
            </a: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( ثقيل وخفيف , قصير وطويل 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شكل بيضاوي 3"/>
          <p:cNvSpPr/>
          <p:nvPr/>
        </p:nvSpPr>
        <p:spPr>
          <a:xfrm>
            <a:off x="6858000" y="5572080"/>
            <a:ext cx="857160" cy="857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شكل بيضاوي 4"/>
          <p:cNvSpPr/>
          <p:nvPr/>
        </p:nvSpPr>
        <p:spPr>
          <a:xfrm>
            <a:off x="7858080" y="5500800"/>
            <a:ext cx="914400" cy="914400"/>
          </a:xfrm>
          <a:prstGeom prst="ellipse">
            <a:avLst/>
          </a:prstGeom>
          <a:solidFill>
            <a:srgbClr val="0ac63b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ac63b"/>
                </a:solidFill>
                <a:latin typeface="Tahoma"/>
                <a:cs typeface="Tahoma"/>
              </a:rPr>
              <a:t>وصف</a:t>
            </a: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0b0f0"/>
                </a:solidFill>
                <a:latin typeface="Tahoma"/>
                <a:cs typeface="Tahoma"/>
              </a:rPr>
              <a:t>بياجيه</a:t>
            </a: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ac63b"/>
                </a:solidFill>
                <a:latin typeface="Tahoma"/>
                <a:cs typeface="Tahoma"/>
              </a:rPr>
              <a:t>لعالم</a:t>
            </a: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0b0f0"/>
                </a:solidFill>
                <a:latin typeface="Tahoma"/>
                <a:cs typeface="Tahoma"/>
              </a:rPr>
              <a:t>التفكير</a:t>
            </a: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ac63b"/>
                </a:solidFill>
                <a:latin typeface="Tahoma"/>
                <a:cs typeface="Tahoma"/>
              </a:rPr>
              <a:t>لدى</a:t>
            </a: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0b0f0"/>
                </a:solidFill>
                <a:latin typeface="Tahoma"/>
                <a:cs typeface="Tahoma"/>
              </a:rPr>
              <a:t>الطفل </a:t>
            </a:r>
            <a:r>
              <a:rPr b="0" lang="ar-SA" sz="3000" spc="-1" strike="noStrike">
                <a:solidFill>
                  <a:srgbClr val="0ac63b"/>
                </a:solidFill>
                <a:latin typeface="Tahoma"/>
                <a:cs typeface="Tahoma"/>
              </a:rPr>
              <a:t>؟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14240" y="157140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1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2400" spc="-1" strike="noStrike">
                <a:solidFill>
                  <a:srgbClr val="00b050"/>
                </a:solidFill>
                <a:latin typeface="Tahoma"/>
                <a:cs typeface="Tahoma"/>
              </a:rPr>
              <a:t>السببية الظاهرية : 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( علاقة سببية بين الأشياء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2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2400" spc="-1" strike="noStrike">
                <a:solidFill>
                  <a:srgbClr val="0ac63b"/>
                </a:solidFill>
                <a:latin typeface="Tahoma"/>
                <a:cs typeface="Tahoma"/>
              </a:rPr>
              <a:t>الإيحائية : 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( الأشياء الجامدة حية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2400" spc="-1" strike="noStrike">
                <a:solidFill>
                  <a:srgbClr val="0ac63b"/>
                </a:solidFill>
                <a:latin typeface="Tahoma"/>
                <a:cs typeface="Tahoma"/>
              </a:rPr>
              <a:t>الغرضية : 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( لكل شئ غرض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صورة 4" descr="بوبو.jpg"/>
          <p:cNvPicPr/>
          <p:nvPr/>
        </p:nvPicPr>
        <p:blipFill>
          <a:blip r:embed="rId1"/>
          <a:stretch/>
        </p:blipFill>
        <p:spPr>
          <a:xfrm>
            <a:off x="6572160" y="4143240"/>
            <a:ext cx="2229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6852960" cy="714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575f6d"/>
                </a:solidFill>
                <a:latin typeface="Century Schoolbook"/>
              </a:rPr>
              <a:t>المبادئ التربوية المستمدة من نظرية بياجيه النفسية 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85480" y="1714680"/>
            <a:ext cx="8429400" cy="47592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Akhbar MT"/>
              </a:rPr>
              <a:t>أن التعلم يجب أن يكون شيقاً نشيطاً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- أهمية التفاعل بين الأطفال في المدرسة ( الخروج من الأنوية )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- أفضلية العمل العقلي المبني على التجربة المباشرة وليس اللغة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4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- أن هدف التعلم أن يخلق قيم ومعرفة جديدة ( لاللطاعة نعم للاستقلالية )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14800" y="1428840"/>
            <a:ext cx="557208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75c01"/>
                </a:solidFill>
                <a:latin typeface="Tahoma"/>
                <a:cs typeface="Tahoma"/>
              </a:rPr>
              <a:t>حياته واهم المؤثرات فيها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عنصر نائب للمحتوى 4" descr="جان بياجيه.png"/>
          <p:cNvPicPr/>
          <p:nvPr/>
        </p:nvPicPr>
        <p:blipFill>
          <a:blip r:embed="rId1"/>
          <a:stretch/>
        </p:blipFill>
        <p:spPr>
          <a:xfrm>
            <a:off x="428760" y="214200"/>
            <a:ext cx="2638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28400" y="714240"/>
            <a:ext cx="74674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9a3d01"/>
                </a:solidFill>
                <a:latin typeface="Century Schoolbook"/>
              </a:rPr>
              <a:t>ولادته :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75c01"/>
                </a:solidFill>
                <a:latin typeface="Century Schoolbook"/>
              </a:rPr>
              <a:t>ولد في أغسطس </a:t>
            </a:r>
            <a:r>
              <a:rPr b="0" lang="ar-SA" sz="2800" spc="-1" strike="noStrike">
                <a:solidFill>
                  <a:srgbClr val="e75c01"/>
                </a:solidFill>
                <a:latin typeface="Century Schoolbook"/>
              </a:rPr>
              <a:t>1896</a:t>
            </a:r>
            <a:r>
              <a:rPr b="0" lang="ar-SA" sz="2800" spc="-1" strike="noStrike">
                <a:solidFill>
                  <a:srgbClr val="e75c01"/>
                </a:solidFill>
                <a:latin typeface="Century Schoolbook"/>
              </a:rPr>
              <a:t> في سويسرا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75c01"/>
                </a:solidFill>
                <a:latin typeface="Century Schoolbook"/>
              </a:rPr>
              <a:t>أمه متدينة حسب تعاليم البروتستانت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75c01"/>
                </a:solidFill>
                <a:latin typeface="Century Schoolbook"/>
              </a:rPr>
              <a:t>أبوه أستاذ تاريخ في الجامـعة ( قليل الاهتمام بالمسائل الدينية 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أوجد ذلك لديه الصراع بين العقيدة الدينية والمعرفة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9a3d01"/>
                </a:solidFill>
                <a:latin typeface="Century Schoolbook"/>
              </a:rPr>
              <a:t>تعليمه :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e75c01"/>
                </a:solidFill>
                <a:latin typeface="Century Schoolbook"/>
              </a:rPr>
              <a:t>تعلم الرياضيات – النبات – الحيوان – المنطق – الفلسفة – علم الاجتماع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e75c01"/>
                </a:solidFill>
                <a:latin typeface="Century Schoolbook"/>
              </a:rPr>
              <a:t>علم النفس 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حصل على شهادة الدكتوراه في العلوم الطبيعية وعمره </a:t>
            </a: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22</a:t>
            </a: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 سنه 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62110"/>
                </a:solidFill>
                <a:latin typeface="Century Schoolbook"/>
              </a:rPr>
              <a:t>مؤلفاته 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المطلوب </a:t>
            </a: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2</a:t>
            </a: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 فقط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75c01"/>
                </a:solidFill>
                <a:latin typeface="Century Schoolbook"/>
              </a:rPr>
              <a:t>أهم أفكار بياجيه النفسية 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500120"/>
            <a:ext cx="8329680" cy="4973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75c01"/>
                </a:solidFill>
                <a:latin typeface="Century Schoolbook"/>
              </a:rPr>
              <a:t>بياجيه ونمو الطفل 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الصفة الأولى : أن الفرد يولد وبه خاصية النمو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الصفة الثانية : هي مرتبطة بالأولى بحيث أنه فطري </a:t>
            </a:r>
            <a:r>
              <a:rPr b="0" lang="ar-SA" sz="4000" spc="-1" strike="noStrike">
                <a:solidFill>
                  <a:srgbClr val="675a00"/>
                </a:solidFill>
                <a:latin typeface="Century Schoolbook"/>
              </a:rPr>
              <a:t>فلا</a:t>
            </a: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 يمك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تغييره أو التعديل في مساره وتطوره 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أي ان النمو عملية فطرية تطورية 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-360" y="571680"/>
            <a:ext cx="72867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75c01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75c01"/>
                </a:solidFill>
                <a:latin typeface="Century Schoolbook"/>
              </a:rPr>
              <a:t>قام بياجيه </a:t>
            </a:r>
            <a:r>
              <a:rPr b="1" lang="ar-SA" sz="2800" spc="-1" strike="noStrike">
                <a:solidFill>
                  <a:srgbClr val="0ac63b"/>
                </a:solidFill>
                <a:latin typeface="Century Schoolbook"/>
              </a:rPr>
              <a:t>بدراسات طولية </a:t>
            </a:r>
            <a:r>
              <a:rPr b="1" lang="ar-SA" sz="2800" spc="-1" strike="noStrike">
                <a:solidFill>
                  <a:srgbClr val="e75c01"/>
                </a:solidFill>
                <a:latin typeface="Century Schoolbook"/>
              </a:rPr>
              <a:t>للأطفال مركزاً على التطور والتغير الحاصل عبر مراحل نموهم المتعاقبة في إدراكهم المعرفي   العقلي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c3036"/>
                </a:solidFill>
                <a:latin typeface="Century Schoolbook"/>
              </a:rPr>
              <a:t>       يسمي بياجيه انتقال الطفل من مرحلة نمائية إلى أخرى                                                                                       بالمقدرات العقلية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ac63b"/>
                </a:solidFill>
                <a:latin typeface="Century Schoolbook"/>
              </a:rPr>
              <a:t>          عملية التكيّف مع البيئة تتخذ شكلين هما 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Century Schoolbook"/>
              </a:rPr>
              <a:t>  التمثل</a:t>
            </a:r>
            <a:r>
              <a:rPr b="1" lang="ar-SA" sz="2800" spc="-1" strike="noStrike">
                <a:solidFill>
                  <a:srgbClr val="e75c01"/>
                </a:solidFill>
                <a:latin typeface="Century Schoolbook"/>
              </a:rPr>
              <a:t> : يعني تغير البيئة لتساير وتتمشى مع سلوك الفرد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Century Schoolbook"/>
              </a:rPr>
              <a:t>المواءمة</a:t>
            </a:r>
            <a:r>
              <a:rPr b="1" lang="ar-SA" sz="2800" spc="-1" strike="noStrike">
                <a:solidFill>
                  <a:srgbClr val="e75c01"/>
                </a:solidFill>
                <a:latin typeface="Century Schoolbook"/>
              </a:rPr>
              <a:t> : تعني تغيير سلوك الفرد ليساير ويتمشى مع البيئة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4" descr="http://image.arabseyes.com/files/images/fefd47792.jpg"/>
          <p:cNvPicPr/>
          <p:nvPr/>
        </p:nvPicPr>
        <p:blipFill>
          <a:blip r:embed="rId1"/>
          <a:stretch/>
        </p:blipFill>
        <p:spPr>
          <a:xfrm>
            <a:off x="7286760" y="571680"/>
            <a:ext cx="18572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e75c01"/>
                </a:solidFill>
                <a:latin typeface="Century Schoolbook"/>
              </a:rPr>
              <a:t>المبادئ العامة التي تسير عليها عملية النمو عند بياجيه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13840" y="1714320"/>
            <a:ext cx="69296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1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استمراريه محددة لكل عمليات النمو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2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النمو يتقدم خلال عملية التعميم والتمييز ( الشبه والإختلاف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3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الإستمرارية هي عملية تفتح وهي موجودة في كل مرحلة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4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كل مرحلة تتضمن تكرار للعمليات التي تمت في المراحل السابقة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5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التنظيمات المختلفة مرتبة تصاعديا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6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الأفراد يحققون مستويات متباينة في هذا الترتيب التصاعدي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صورة 3" descr="وه.jpg"/>
          <p:cNvPicPr/>
          <p:nvPr/>
        </p:nvPicPr>
        <p:blipFill>
          <a:blip r:embed="rId1"/>
          <a:stretch/>
        </p:blipFill>
        <p:spPr>
          <a:xfrm>
            <a:off x="7143840" y="2057400"/>
            <a:ext cx="2000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  </a:t>
            </a: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التقليد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       الدافعية                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                               </a:t>
            </a: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التفكير          مفاهيم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                     المتمركز          الحقيقة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                   حول الذات         الواقعية      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شكل بيضاوي 3"/>
          <p:cNvSpPr/>
          <p:nvPr/>
        </p:nvSpPr>
        <p:spPr>
          <a:xfrm>
            <a:off x="714240" y="285840"/>
            <a:ext cx="6715440" cy="1714320"/>
          </a:xfrm>
          <a:prstGeom prst="ellipse">
            <a:avLst/>
          </a:prstGeom>
          <a:solidFill>
            <a:srgbClr val="fb93e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a7007"/>
                </a:solidFill>
                <a:latin typeface="Century Schoolbook"/>
                <a:cs typeface="Times New Roman"/>
              </a:rPr>
              <a:t>المرحلة الحسيه الحركية (من الميلاد حتى السنه الواحدة والنصف اوالسنتي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a7007"/>
                </a:solidFill>
                <a:latin typeface="Century Schoolbook"/>
                <a:cs typeface="Times New Roman"/>
              </a:rPr>
              <a:t>تتميز بالخصائص التالية </a:t>
            </a:r>
            <a:r>
              <a:rPr b="0" lang="ar-SA" sz="2800" spc="-1" strike="noStrike">
                <a:solidFill>
                  <a:srgbClr val="8a7007"/>
                </a:solidFill>
                <a:latin typeface="Century Schoolbook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سهم للأسفل 4"/>
          <p:cNvSpPr/>
          <p:nvPr/>
        </p:nvSpPr>
        <p:spPr>
          <a:xfrm>
            <a:off x="6357960" y="1785960"/>
            <a:ext cx="484200" cy="157176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0ac63b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سهم للأسفل 5"/>
          <p:cNvSpPr/>
          <p:nvPr/>
        </p:nvSpPr>
        <p:spPr>
          <a:xfrm>
            <a:off x="4643280" y="2000160"/>
            <a:ext cx="484200" cy="171468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3668c4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سهم للأسفل 6"/>
          <p:cNvSpPr/>
          <p:nvPr/>
        </p:nvSpPr>
        <p:spPr>
          <a:xfrm>
            <a:off x="2928960" y="2000160"/>
            <a:ext cx="484200" cy="178596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d0a80a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سهم للأسفل 7"/>
          <p:cNvSpPr/>
          <p:nvPr/>
        </p:nvSpPr>
        <p:spPr>
          <a:xfrm>
            <a:off x="1571760" y="1785960"/>
            <a:ext cx="484200" cy="12142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00360" y="274320"/>
            <a:ext cx="342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75c01"/>
                </a:solidFill>
                <a:latin typeface="Century Schoolbook"/>
              </a:rPr>
              <a:t>سنركز على المرحلتين الاوليين للنمو وهما :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1600200"/>
            <a:ext cx="8929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a7007"/>
                </a:solidFill>
                <a:latin typeface="Century Schoolbook"/>
              </a:rPr>
              <a:t>المرحلة الحسيه الحركية (من الميلاد حتى السنه الواحد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a7007"/>
                </a:solidFill>
                <a:latin typeface="Century Schoolbook"/>
              </a:rPr>
              <a:t> والنصف أوالسنتين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a7007"/>
                </a:solidFill>
                <a:latin typeface="Century Schoolbook"/>
              </a:rPr>
              <a:t>  تتميز بالخصائص التالية 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668c4"/>
                </a:solidFill>
                <a:latin typeface="Century Schoolbook"/>
              </a:rPr>
              <a:t>  الدافعية 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668c4"/>
                </a:solidFill>
                <a:latin typeface="Century Schoolbook"/>
              </a:rPr>
              <a:t>  يتعلم الطفل عن طريق التفاعل المباشر مع محيطه , والطفل كثير النشاط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30a0"/>
                </a:solidFill>
                <a:latin typeface="Century Schoolbook"/>
              </a:rPr>
              <a:t>  التفكير المتمركز حول الذات 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30a0"/>
                </a:solidFill>
                <a:latin typeface="Century Schoolbook"/>
              </a:rPr>
              <a:t>  حيث أن كل مايدركه الطفل ويفعله يدور حول نفسه وحاجاته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ac63b"/>
                </a:solidFill>
                <a:latin typeface="Century Schoolbook"/>
              </a:rPr>
              <a:t>   مفاهيم الحياة الواقعية : المكان – الزمان – السببية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entury Schoolbook"/>
              </a:rPr>
              <a:t>   التقليد : يكرر الطفل حركاته ثم يستطيع أن يقلد نموذجاً آخر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صورة 4" descr="ويدينو.jpg"/>
          <p:cNvPicPr/>
          <p:nvPr/>
        </p:nvPicPr>
        <p:blipFill>
          <a:blip r:embed="rId1"/>
          <a:stretch/>
        </p:blipFill>
        <p:spPr>
          <a:xfrm>
            <a:off x="0" y="0"/>
            <a:ext cx="2500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6840" y="1571400"/>
            <a:ext cx="746748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600" spc="-1" strike="noStrike">
                <a:solidFill>
                  <a:srgbClr val="e75c01"/>
                </a:solidFill>
                <a:latin typeface="Century Schoolbook"/>
              </a:rPr>
              <a:t>التفكير السابق للمفاهيم          التفكير الحدسي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مستطيل 3"/>
          <p:cNvSpPr/>
          <p:nvPr/>
        </p:nvSpPr>
        <p:spPr>
          <a:xfrm>
            <a:off x="642960" y="285840"/>
            <a:ext cx="7500960" cy="1214280"/>
          </a:xfrm>
          <a:prstGeom prst="rect">
            <a:avLst/>
          </a:prstGeom>
          <a:solidFill>
            <a:srgbClr val="ffe63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292400"/>
                </a:solidFill>
                <a:latin typeface="Century Schoolbook"/>
                <a:cs typeface="Times New Roman"/>
              </a:rPr>
              <a:t>مرحلة ماقبل العمليات من سنتين إلى سبع سنوا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سهم للأسفل 7"/>
          <p:cNvSpPr/>
          <p:nvPr/>
        </p:nvSpPr>
        <p:spPr>
          <a:xfrm>
            <a:off x="5000760" y="1500120"/>
            <a:ext cx="2500200" cy="2143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0a80a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92400"/>
                </a:solidFill>
                <a:latin typeface="Century Schoolbook"/>
                <a:cs typeface="Times New Roman"/>
              </a:rPr>
              <a:t>المرحلة الفرعية الأول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سهم للأسفل 8"/>
          <p:cNvSpPr/>
          <p:nvPr/>
        </p:nvSpPr>
        <p:spPr>
          <a:xfrm>
            <a:off x="1214280" y="1500120"/>
            <a:ext cx="2500560" cy="221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5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92400"/>
                </a:solidFill>
                <a:latin typeface="Century Schoolbook"/>
                <a:cs typeface="Times New Roman"/>
              </a:rPr>
              <a:t>المرحلة الفرعية الثان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1:39:20Z</dcterms:created>
  <dc:creator>ام يزيد</dc:creator>
  <dc:description/>
  <dc:language>en-US</dc:language>
  <cp:lastModifiedBy>DELL</cp:lastModifiedBy>
  <dcterms:modified xsi:type="dcterms:W3CDTF">2011-12-11T17:30:29Z</dcterms:modified>
  <cp:revision>39</cp:revision>
  <dc:subject/>
  <dc:title>الاتجاه النفسي في تربية الطفل</dc:title>
</cp:coreProperties>
</file>