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3B6C-98CE-444A-8485-3DC96770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63B-28C9-491F-ACCD-FE5A81FA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9B8-0CDE-4EBB-86E7-8DB001BC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B0F-904C-4243-809E-B014F133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01AB-C783-4B76-B59A-4E45ED04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C5A7-0116-4A71-B24C-B19E2AEE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B9C7-3953-46F0-88AC-0A295787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A367-6011-424B-8461-E5E95B4B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DB2B-2F4A-4723-AD25-5A40D463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EE54-07F1-4414-9591-80733B45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384D-FE5E-4C02-818A-ADFD9C8D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4E4-BB1D-48DA-9DCB-5C38CD76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F6AA-2BE8-4F69-AE92-64FBD033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DB59-43F6-4680-9D10-0D844C88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EAE3-0025-478D-A1C5-4D34CDC0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3D5A-A866-494C-B6BA-18876C23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5F16-B794-4A6D-B900-6B6E4ABA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58D3A-36C5-4895-B09D-80AC1079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A502A-1EA8-4AC3-B3F3-93BB8D62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55091-3DF2-4772-A1D6-3141AE24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1857A-21F2-4D80-A0B5-4023037D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CCB85-3D7E-49AB-8D5F-1C1C3B68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8E4-F493-437D-9692-9F223EF1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CD0C2-0101-4FA0-A131-C501C72D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518F6-2B83-418D-B576-4D849A75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3C677-F1E3-4279-A3A7-371A5ED5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F7D2D-A9E7-4661-9C08-7FD5A435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DFB8F-77DA-4410-9816-DF51E3B6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FCA8D-12BB-4381-B49D-C416622D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BB821-3932-44D0-BA72-F1EBA044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13263-05AA-4C7C-8A9D-30B76507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9CECD-91D5-486C-9461-FD2D82E3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BB49E-03D7-44C0-8ADA-02E4B27D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BC2-A304-4550-8AF8-E106F9B7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E135-1ACA-4434-A08D-B61F7F40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1460F-D940-458D-8502-263A1FE1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329FD-81F9-46A1-B04A-6275F447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2A833-2647-4A2E-898A-2F061E5C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926CA-BF37-49FF-BCCC-89FD4DEC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234EA-669A-4E96-97CE-C5756643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45C42-CA51-48D3-8807-C0D5E512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02B31-B678-4614-85BD-98CC0808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55DD-6385-4F25-81E4-068C9704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74BCA-A622-4B71-AC3C-3C3FB9F4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860-94CD-4AAE-A237-E09D9184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6B554-F9B3-4BD4-BD22-7098A0F6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B96F59-3920-46A1-B6B1-FE68332A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49820-F5D3-4353-ACEF-68216F00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C34D5-FF0B-4AD0-BA63-D7534B52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B5FA5-2CB5-491D-8D02-09D882E7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6AAE3-5C77-4D5B-BE2C-3DFB2A5B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C2712-9294-4493-B101-49CEDE55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4B2E3E-21B8-412E-B9C9-123EE2B3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EBD84-42CB-4A43-B238-DE33D18F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0AEAAC-D8C5-4952-8FEA-DA10AEBD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3D3-0E87-44BE-95ED-4FA57341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1ED28-8FA9-455F-8098-9C28DD93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5B34F-0289-418F-B040-73EEF4D3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D257E4-14BB-4D38-9F65-2299F526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B2C75-233C-4B82-9842-F2B41D4B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FAD714-F541-4457-94BF-B39BB2C9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46A297-7C4D-41C5-B16E-19454277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76FB98-DF9B-4DC8-9BB2-389B4FCB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C9B23-EABA-4B96-B298-51C5D822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7414D-0ED5-4A42-83B9-A2CCB854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7D440-E74E-41E2-BA06-5C335B49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A85-95DC-4EE1-8F20-80E62E6E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704F6-1D4C-4141-923A-7D809679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78D903-9BA3-4086-81E7-AEF91A4E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C43842-7F93-4E04-B003-DE70F72F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2CE84-1762-43C7-B627-30F106D7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8F845F-C3D0-4F02-B685-81B5EA10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C2BC6A-4632-4F9C-B0FF-3CB94E1C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0562AE-6AA7-4F96-AFD1-E09AAE58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D256D4-19D8-4C87-B6CA-72FA82E8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7F5147-787B-4715-9E10-9873BC19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01F253-5536-4942-98FE-43A9A9CC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E61-F0B7-4B73-B025-49C8F854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4FFBE-34A3-4445-9615-D8DE895B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98CF58-BDBD-42C4-96BD-3D81AEB6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E08DD-5038-43E8-8EAD-A3698F72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55443-4ADE-439C-B8AB-13F4ABA4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3C7A4F-C402-44D3-AB9F-FA67FD9E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184-C189-4077-B69F-F0625AE1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938B-1E8B-4C19-80AB-B57A78537483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9BC9-813F-48C2-9E4F-EB614D007559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3AB7-BD24-4E2B-9A05-FC57C9068195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36D3-185F-4FAE-BC61-BBCB9FFE4018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A7D0-9AC3-457B-88CC-F3704A67D37C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81D5-1157-40E8-8C36-E88EB9EB681D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6C1E-582B-4E5F-9B62-127B31B8D0EC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14400" y="500040"/>
            <a:ext cx="6143400" cy="14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75f6d"/>
                </a:solidFill>
                <a:latin typeface="Tahoma"/>
                <a:cs typeface="Tahoma"/>
              </a:rPr>
              <a:t>الاتجاه النفسي في تربية الطفل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7280" y="2571480"/>
            <a:ext cx="61437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e75c01"/>
                </a:solidFill>
                <a:latin typeface="Tahoma"/>
                <a:ea typeface="Tahoma"/>
              </a:rPr>
              <a:t>3</a:t>
            </a:r>
            <a:r>
              <a:rPr b="1" lang="ar-SA" sz="6600" spc="-1" strike="noStrike">
                <a:solidFill>
                  <a:srgbClr val="e75c01"/>
                </a:solidFill>
                <a:latin typeface="Tahoma"/>
                <a:ea typeface="Tahoma"/>
              </a:rPr>
              <a:t>- جان بياجيه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0200" y="274320"/>
            <a:ext cx="542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c7491"/>
                </a:solidFill>
                <a:latin typeface="Tahoma"/>
                <a:cs typeface="Tahoma"/>
              </a:rPr>
              <a:t>التفكير السابق للمفاهيم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1600200"/>
            <a:ext cx="8358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ac63b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2557f"/>
                </a:solidFill>
                <a:latin typeface="Tahoma"/>
                <a:cs typeface="Tahoma"/>
              </a:rPr>
              <a:t>من سن </a:t>
            </a:r>
            <a:r>
              <a:rPr b="0" lang="ar-SA" sz="2800" spc="-1" strike="noStrike">
                <a:solidFill>
                  <a:srgbClr val="42557f"/>
                </a:solidFill>
                <a:latin typeface="Tahoma"/>
                <a:ea typeface="Tahoma"/>
              </a:rPr>
              <a:t>2</a:t>
            </a:r>
            <a:r>
              <a:rPr b="0" lang="ar-SA" sz="2800" spc="-1" strike="noStrike">
                <a:solidFill>
                  <a:srgbClr val="42557f"/>
                </a:solidFill>
                <a:latin typeface="Tahoma"/>
                <a:ea typeface="Tahoma"/>
              </a:rPr>
              <a:t> إلى </a:t>
            </a:r>
            <a:r>
              <a:rPr b="0" lang="ar-SA" sz="2800" spc="-1" strike="noStrike">
                <a:solidFill>
                  <a:srgbClr val="42557f"/>
                </a:solidFill>
                <a:latin typeface="Tahoma"/>
                <a:ea typeface="Tahoma"/>
              </a:rPr>
              <a:t>4</a:t>
            </a:r>
            <a:r>
              <a:rPr b="0" lang="ar-SA" sz="2800" spc="-1" strike="noStrike">
                <a:solidFill>
                  <a:srgbClr val="42557f"/>
                </a:solidFill>
                <a:latin typeface="Tahoma"/>
                <a:ea typeface="Tahoma"/>
              </a:rPr>
              <a:t> سنوات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c7491"/>
                </a:solidFill>
                <a:latin typeface="Tahoma"/>
                <a:cs typeface="Tahoma"/>
              </a:rPr>
              <a:t>تحدث فيه </a:t>
            </a:r>
            <a:r>
              <a:rPr b="0" lang="ar-SA" sz="2800" spc="-1" strike="noStrike">
                <a:solidFill>
                  <a:srgbClr val="fc7491"/>
                </a:solidFill>
                <a:latin typeface="Tahoma"/>
                <a:ea typeface="Tahoma"/>
              </a:rPr>
              <a:t>3</a:t>
            </a:r>
            <a:r>
              <a:rPr b="0" lang="ar-SA" sz="2800" spc="-1" strike="noStrike">
                <a:solidFill>
                  <a:srgbClr val="fc7491"/>
                </a:solidFill>
                <a:latin typeface="Tahoma"/>
                <a:ea typeface="Tahoma"/>
              </a:rPr>
              <a:t> أشكال رئيسية للنمو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1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- نمو الفكري الرمزي ( استخدام الرموز والصور الذهنية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b500"/>
                </a:solidFill>
                <a:latin typeface="Tahoma"/>
                <a:ea typeface="Tahoma"/>
              </a:rPr>
              <a:t>2</a:t>
            </a:r>
            <a:r>
              <a:rPr b="0" lang="ar-SA" sz="2800" spc="-1" strike="noStrike">
                <a:solidFill>
                  <a:srgbClr val="ceb500"/>
                </a:solidFill>
                <a:latin typeface="Tahoma"/>
                <a:ea typeface="Tahoma"/>
              </a:rPr>
              <a:t>- اكتساب اللغة ( تزداد قدراته اللغويه بشكل كبير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cc"/>
                </a:solidFill>
                <a:latin typeface="Tahoma"/>
                <a:ea typeface="Tahoma"/>
              </a:rPr>
              <a:t>3</a:t>
            </a:r>
            <a:r>
              <a:rPr b="0" lang="ar-SA" sz="2800" spc="-1" strike="noStrike">
                <a:solidFill>
                  <a:srgbClr val="cc00cc"/>
                </a:solidFill>
                <a:latin typeface="Tahoma"/>
                <a:ea typeface="Tahoma"/>
              </a:rPr>
              <a:t>- ظهور المنطق الانتقالي ( أسلوب اللعب الإيهامي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صورة 3" descr="بنوتهه.jpg"/>
          <p:cNvPicPr/>
          <p:nvPr/>
        </p:nvPicPr>
        <p:blipFill>
          <a:blip r:embed="rId1"/>
          <a:stretch/>
        </p:blipFill>
        <p:spPr>
          <a:xfrm>
            <a:off x="0" y="0"/>
            <a:ext cx="1947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ac63b"/>
                </a:solidFill>
                <a:latin typeface="Tahoma"/>
                <a:cs typeface="Tahoma"/>
              </a:rPr>
              <a:t>التـفكير</a:t>
            </a:r>
            <a:r>
              <a:rPr b="0" lang="ar-SA" sz="44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الحدسي</a:t>
            </a:r>
            <a:r>
              <a:rPr b="0" lang="ar-SA" sz="44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214200" y="1500120"/>
            <a:ext cx="8858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 من سن 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4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 إلى 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7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 سنوات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ar-SA" sz="2400" spc="-1" strike="noStrike">
                <a:solidFill>
                  <a:srgbClr val="0ac63b"/>
                </a:solidFill>
                <a:latin typeface="Century Schoolbook"/>
              </a:rPr>
              <a:t>*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يؤكد دائما ولكنه لايبرهن ابداً 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( التمركز على الذات 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**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يعتمد في تفكيره على الحواس والتخيُّـل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 ***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يعتمد في تفكيره على مايقوم به من أعمال وأدوات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 (أحكامه متغيره حسب المواقف والظروف 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****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تفكيره غير منطقي 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( ثقيل وخفيف , قصير وطويل 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شكل بيضاوي 3"/>
          <p:cNvSpPr/>
          <p:nvPr/>
        </p:nvSpPr>
        <p:spPr>
          <a:xfrm>
            <a:off x="6858000" y="5572080"/>
            <a:ext cx="857160" cy="857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شكل بيضاوي 4"/>
          <p:cNvSpPr/>
          <p:nvPr/>
        </p:nvSpPr>
        <p:spPr>
          <a:xfrm>
            <a:off x="7858080" y="5500800"/>
            <a:ext cx="914400" cy="914400"/>
          </a:xfrm>
          <a:prstGeom prst="ellipse">
            <a:avLst/>
          </a:prstGeom>
          <a:solidFill>
            <a:srgbClr val="0ac63b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ac63b"/>
                </a:solidFill>
                <a:latin typeface="Tahoma"/>
                <a:cs typeface="Tahoma"/>
              </a:rPr>
              <a:t>وصف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0b0f0"/>
                </a:solidFill>
                <a:latin typeface="Tahoma"/>
                <a:cs typeface="Tahoma"/>
              </a:rPr>
              <a:t>بياجيه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ac63b"/>
                </a:solidFill>
                <a:latin typeface="Tahoma"/>
                <a:cs typeface="Tahoma"/>
              </a:rPr>
              <a:t>لعالم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0b0f0"/>
                </a:solidFill>
                <a:latin typeface="Tahoma"/>
                <a:cs typeface="Tahoma"/>
              </a:rPr>
              <a:t>التفكير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ac63b"/>
                </a:solidFill>
                <a:latin typeface="Tahoma"/>
                <a:cs typeface="Tahoma"/>
              </a:rPr>
              <a:t>لدى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0b0f0"/>
                </a:solidFill>
                <a:latin typeface="Tahoma"/>
                <a:cs typeface="Tahoma"/>
              </a:rPr>
              <a:t>الطفل </a:t>
            </a:r>
            <a:r>
              <a:rPr b="0" lang="ar-SA" sz="3000" spc="-1" strike="noStrike">
                <a:solidFill>
                  <a:srgbClr val="0ac63b"/>
                </a:solidFill>
                <a:latin typeface="Tahoma"/>
                <a:cs typeface="Tahoma"/>
              </a:rPr>
              <a:t>؟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14240" y="15714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1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400" spc="-1" strike="noStrike">
                <a:solidFill>
                  <a:srgbClr val="00b050"/>
                </a:solidFill>
                <a:latin typeface="Tahoma"/>
                <a:cs typeface="Tahoma"/>
              </a:rPr>
              <a:t>السببية الظاهرية : 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( علاقة سببية بين الأشياء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2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400" spc="-1" strike="noStrike">
                <a:solidFill>
                  <a:srgbClr val="0ac63b"/>
                </a:solidFill>
                <a:latin typeface="Tahoma"/>
                <a:cs typeface="Tahoma"/>
              </a:rPr>
              <a:t>الإيحائية : 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( الأشياء الجامدة حية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400" spc="-1" strike="noStrike">
                <a:solidFill>
                  <a:srgbClr val="0ac63b"/>
                </a:solidFill>
                <a:latin typeface="Tahoma"/>
                <a:cs typeface="Tahoma"/>
              </a:rPr>
              <a:t>الغرضية : 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( لكل شئ غرض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صورة 4" descr="بوبو.jpg"/>
          <p:cNvPicPr/>
          <p:nvPr/>
        </p:nvPicPr>
        <p:blipFill>
          <a:blip r:embed="rId1"/>
          <a:stretch/>
        </p:blipFill>
        <p:spPr>
          <a:xfrm>
            <a:off x="6572160" y="4143240"/>
            <a:ext cx="2229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6852960" cy="714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575f6d"/>
                </a:solidFill>
                <a:latin typeface="Century Schoolbook"/>
              </a:rPr>
              <a:t>المبادئ التربوية المستمدة من نظرية بياجيه النفسية 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714680"/>
            <a:ext cx="8429400" cy="47592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Akhbar MT"/>
              </a:rPr>
              <a:t>أن التعلم يجب أن يكون شيقاً نشيطاً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- أهمية التفاعل بين الأطفال في المدرسة ( الخروج من الأنوية 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- أفضلية العمل العقلي المبني على التجربة المباشرة وليس اللغة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- أن هدف التعلم أن يخلق قيم ومعرفة جديدة ( لاللطاعة نعم للاستقلالية 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14800" y="1428840"/>
            <a:ext cx="557208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75c01"/>
                </a:solidFill>
                <a:latin typeface="Tahoma"/>
                <a:cs typeface="Tahoma"/>
              </a:rPr>
              <a:t>حياته واهم المؤثرات فيها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عنصر نائب للمحتوى 4" descr="جان بياجيه.png"/>
          <p:cNvPicPr/>
          <p:nvPr/>
        </p:nvPicPr>
        <p:blipFill>
          <a:blip r:embed="rId1"/>
          <a:stretch/>
        </p:blipFill>
        <p:spPr>
          <a:xfrm>
            <a:off x="428760" y="214200"/>
            <a:ext cx="2638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8400" y="714240"/>
            <a:ext cx="74674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9a3d01"/>
                </a:solidFill>
                <a:latin typeface="Century Schoolbook"/>
              </a:rPr>
              <a:t>ولادته :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ولد في أغسطس </a:t>
            </a: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1896</a:t>
            </a: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 في سويسرا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أمه متدينة حسب تعاليم البروتستانت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أبوه أستاذ تاريخ في الجامـعة ( قليل الاهتمام بالمسائل الدينية 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أوجد ذلك لديه الصراع بين العقيدة الدينية والمعرفة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9a3d01"/>
                </a:solidFill>
                <a:latin typeface="Century Schoolbook"/>
              </a:rPr>
              <a:t>تعليمه :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e75c01"/>
                </a:solidFill>
                <a:latin typeface="Century Schoolbook"/>
              </a:rPr>
              <a:t>تعلم الرياضيات – النبات – الحيوان – المنطق – الفلسفة – علم الاجتماع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e75c01"/>
                </a:solidFill>
                <a:latin typeface="Century Schoolbook"/>
              </a:rPr>
              <a:t>علم النفس 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حصل على شهادة الدكتوراه في العلوم الطبيعية وعمره </a:t>
            </a: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22</a:t>
            </a: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 سنه 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62110"/>
                </a:solidFill>
                <a:latin typeface="Century Schoolbook"/>
              </a:rPr>
              <a:t>مؤلفاته 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المطلوب </a:t>
            </a: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2</a:t>
            </a: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 فقط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75c01"/>
                </a:solidFill>
                <a:latin typeface="Century Schoolbook"/>
              </a:rPr>
              <a:t>أهم أفكار بياجيه النفسية 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500120"/>
            <a:ext cx="8329680" cy="4973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75c01"/>
                </a:solidFill>
                <a:latin typeface="Century Schoolbook"/>
              </a:rPr>
              <a:t>بياجيه ونمو الطفل 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الصفة الأولى : أن الفرد يولد وبه خاصية النمو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الصفة الثانية : هي مرتبطة بالأولى بحيث أنه فطري </a:t>
            </a:r>
            <a:r>
              <a:rPr b="0" lang="ar-SA" sz="4000" spc="-1" strike="noStrike">
                <a:solidFill>
                  <a:srgbClr val="675a00"/>
                </a:solidFill>
                <a:latin typeface="Century Schoolbook"/>
              </a:rPr>
              <a:t>فلا</a:t>
            </a: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 يمك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تغييره أو التعديل في مساره وتطوره 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أي ان النمو عملية فطرية تطورية 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-360" y="571680"/>
            <a:ext cx="72867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75c01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75c01"/>
                </a:solidFill>
                <a:latin typeface="Century Schoolbook"/>
              </a:rPr>
              <a:t>قام بياجيه </a:t>
            </a:r>
            <a:r>
              <a:rPr b="1" lang="ar-SA" sz="2800" spc="-1" strike="noStrike">
                <a:solidFill>
                  <a:srgbClr val="0ac63b"/>
                </a:solidFill>
                <a:latin typeface="Century Schoolbook"/>
              </a:rPr>
              <a:t>بدراسات طولية </a:t>
            </a:r>
            <a:r>
              <a:rPr b="1" lang="ar-SA" sz="2800" spc="-1" strike="noStrike">
                <a:solidFill>
                  <a:srgbClr val="e75c01"/>
                </a:solidFill>
                <a:latin typeface="Century Schoolbook"/>
              </a:rPr>
              <a:t>للأطفال مركزاً على التطور والتغير الحاصل عبر مراحل نموهم المتعاقبة في إدراكهم المعرفي   العقلي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c3036"/>
                </a:solidFill>
                <a:latin typeface="Century Schoolbook"/>
              </a:rPr>
              <a:t>       يسمي بياجيه انتقال الطفل من مرحلة نمائية إلى أخرى                                                                                       بالمقدرات العقلي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ac63b"/>
                </a:solidFill>
                <a:latin typeface="Century Schoolbook"/>
              </a:rPr>
              <a:t>          عملية التكيّف مع البيئة تتخذ شكلين هما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Century Schoolbook"/>
              </a:rPr>
              <a:t>  التمثل</a:t>
            </a:r>
            <a:r>
              <a:rPr b="1" lang="ar-SA" sz="2800" spc="-1" strike="noStrike">
                <a:solidFill>
                  <a:srgbClr val="e75c01"/>
                </a:solidFill>
                <a:latin typeface="Century Schoolbook"/>
              </a:rPr>
              <a:t> : يعني تغير البيئة لتساير وتتمشى مع سلوك الفرد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Century Schoolbook"/>
              </a:rPr>
              <a:t>المواءمة</a:t>
            </a:r>
            <a:r>
              <a:rPr b="1" lang="ar-SA" sz="2800" spc="-1" strike="noStrike">
                <a:solidFill>
                  <a:srgbClr val="e75c01"/>
                </a:solidFill>
                <a:latin typeface="Century Schoolbook"/>
              </a:rPr>
              <a:t> : تعني تغيير سلوك الفرد ليساير ويتمشى مع البيئ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4" descr="http://image.arabseyes.com/files/images/fefd47792.jpg"/>
          <p:cNvPicPr/>
          <p:nvPr/>
        </p:nvPicPr>
        <p:blipFill>
          <a:blip r:embed="rId1"/>
          <a:stretch/>
        </p:blipFill>
        <p:spPr>
          <a:xfrm>
            <a:off x="7286760" y="571680"/>
            <a:ext cx="1857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e75c01"/>
                </a:solidFill>
                <a:latin typeface="Century Schoolbook"/>
              </a:rPr>
              <a:t>المبادئ العامة التي تسير عليها عملية النمو عند بياجيه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1714320"/>
            <a:ext cx="69296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1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ستمراريه محددة لكل عمليات النمو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2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لنمو يتقدم خلال عملية التعميم والتمييز ( الشبه والإختلاف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3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لإستمرارية هي عملية تفتح وهي موجودة في كل مرحل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4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كل مرحلة تتضمن تكرار للعمليات التي تمت في المراحل السابق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5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لتنظيمات المختلفة مرتبة تصاعديا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6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لأفراد يحققون مستويات متباينة في هذا الترتيب التصاعدي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صورة 3" descr="وه.jpg"/>
          <p:cNvPicPr/>
          <p:nvPr/>
        </p:nvPicPr>
        <p:blipFill>
          <a:blip r:embed="rId1"/>
          <a:stretch/>
        </p:blipFill>
        <p:spPr>
          <a:xfrm>
            <a:off x="7143840" y="2057400"/>
            <a:ext cx="2000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التقليد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       الدافعية               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                               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التفكير          مفاهيم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                     المتمركز          الحقيقة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                   حول الذات         الواقعية     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شكل بيضاوي 3"/>
          <p:cNvSpPr/>
          <p:nvPr/>
        </p:nvSpPr>
        <p:spPr>
          <a:xfrm>
            <a:off x="714240" y="285840"/>
            <a:ext cx="6715440" cy="1714320"/>
          </a:xfrm>
          <a:prstGeom prst="ellipse">
            <a:avLst/>
          </a:prstGeom>
          <a:solidFill>
            <a:srgbClr val="fb93e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  <a:cs typeface="Times New Roman"/>
              </a:rPr>
              <a:t>المرحلة الحسيه الحركية (من الميلاد حتى السنه الواحدة والنصف اوالسنتي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  <a:cs typeface="Times New Roman"/>
              </a:rPr>
              <a:t>تتميز بالخصائص التالية </a:t>
            </a:r>
            <a:r>
              <a:rPr b="0" lang="ar-SA" sz="2800" spc="-1" strike="noStrike">
                <a:solidFill>
                  <a:srgbClr val="8a7007"/>
                </a:solidFill>
                <a:latin typeface="Century Schoolbook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سهم للأسفل 4"/>
          <p:cNvSpPr/>
          <p:nvPr/>
        </p:nvSpPr>
        <p:spPr>
          <a:xfrm>
            <a:off x="6357960" y="1785960"/>
            <a:ext cx="484200" cy="157176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0ac63b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سهم للأسفل 5"/>
          <p:cNvSpPr/>
          <p:nvPr/>
        </p:nvSpPr>
        <p:spPr>
          <a:xfrm>
            <a:off x="4643280" y="2000160"/>
            <a:ext cx="484200" cy="171468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3668c4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سهم للأسفل 6"/>
          <p:cNvSpPr/>
          <p:nvPr/>
        </p:nvSpPr>
        <p:spPr>
          <a:xfrm>
            <a:off x="2928960" y="2000160"/>
            <a:ext cx="484200" cy="178596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d0a80a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سهم للأسفل 7"/>
          <p:cNvSpPr/>
          <p:nvPr/>
        </p:nvSpPr>
        <p:spPr>
          <a:xfrm>
            <a:off x="1571760" y="1785960"/>
            <a:ext cx="484200" cy="12142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00360" y="274320"/>
            <a:ext cx="342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75c01"/>
                </a:solidFill>
                <a:latin typeface="Century Schoolbook"/>
              </a:rPr>
              <a:t>سنركز على المرحلتين الاوليين للنمو وهما 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1600200"/>
            <a:ext cx="8929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</a:rPr>
              <a:t>المرحلة الحسيه الحركية (من الميلاد حتى السنه الواحد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</a:rPr>
              <a:t> والنصف أوالسنتين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</a:rPr>
              <a:t>  تتميز بالخصائص التالية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668c4"/>
                </a:solidFill>
                <a:latin typeface="Century Schoolbook"/>
              </a:rPr>
              <a:t>  الدافعية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668c4"/>
                </a:solidFill>
                <a:latin typeface="Century Schoolbook"/>
              </a:rPr>
              <a:t>  يتعلم الطفل عن طريق التفاعل المباشر مع محيطه , والطفل كثير النشاط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Century Schoolbook"/>
              </a:rPr>
              <a:t>  التفكير المتمركز حول الذات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Century Schoolbook"/>
              </a:rPr>
              <a:t>  حيث أن كل مايدركه الطفل ويفعله يدور حول نفسه وحاجاته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ac63b"/>
                </a:solidFill>
                <a:latin typeface="Century Schoolbook"/>
              </a:rPr>
              <a:t>   مفاهيم الحياة الواقعية : المكان – الزمان – السببي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entury Schoolbook"/>
              </a:rPr>
              <a:t>   التقليد : يكرر الطفل حركاته ثم يستطيع أن يقلد نموذجاً آخر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صورة 4" descr="ويدينو.jpg"/>
          <p:cNvPicPr/>
          <p:nvPr/>
        </p:nvPicPr>
        <p:blipFill>
          <a:blip r:embed="rId1"/>
          <a:stretch/>
        </p:blipFill>
        <p:spPr>
          <a:xfrm>
            <a:off x="0" y="0"/>
            <a:ext cx="2500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1571400"/>
            <a:ext cx="746748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600" spc="-1" strike="noStrike">
                <a:solidFill>
                  <a:srgbClr val="e75c01"/>
                </a:solidFill>
                <a:latin typeface="Century Schoolbook"/>
              </a:rPr>
              <a:t>التفكير السابق للمفاهيم          التفكير الحدسي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مستطيل 3"/>
          <p:cNvSpPr/>
          <p:nvPr/>
        </p:nvSpPr>
        <p:spPr>
          <a:xfrm>
            <a:off x="642960" y="285840"/>
            <a:ext cx="7500960" cy="1214280"/>
          </a:xfrm>
          <a:prstGeom prst="rect">
            <a:avLst/>
          </a:prstGeom>
          <a:solidFill>
            <a:srgbClr val="ffe63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292400"/>
                </a:solidFill>
                <a:latin typeface="Century Schoolbook"/>
                <a:cs typeface="Times New Roman"/>
              </a:rPr>
              <a:t>مرحلة ماقبل العمليات من سنتين إلى سبع سنو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سهم للأسفل 7"/>
          <p:cNvSpPr/>
          <p:nvPr/>
        </p:nvSpPr>
        <p:spPr>
          <a:xfrm>
            <a:off x="5000760" y="1500120"/>
            <a:ext cx="2500200" cy="2143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0a80a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92400"/>
                </a:solidFill>
                <a:latin typeface="Century Schoolbook"/>
                <a:cs typeface="Times New Roman"/>
              </a:rPr>
              <a:t>المرحلة الفرعية الأول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سهم للأسفل 8"/>
          <p:cNvSpPr/>
          <p:nvPr/>
        </p:nvSpPr>
        <p:spPr>
          <a:xfrm>
            <a:off x="1214280" y="1500120"/>
            <a:ext cx="2500560" cy="221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5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92400"/>
                </a:solidFill>
                <a:latin typeface="Century Schoolbook"/>
                <a:cs typeface="Times New Roman"/>
              </a:rPr>
              <a:t>المرحلة الفرعية الثان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1:39:20Z</dcterms:created>
  <dc:creator>ام يزيد</dc:creator>
  <dc:description/>
  <dc:language>en-US</dc:language>
  <cp:lastModifiedBy>aaaa</cp:lastModifiedBy>
  <dcterms:modified xsi:type="dcterms:W3CDTF">2013-02-08T20:27:54Z</dcterms:modified>
  <cp:revision>39</cp:revision>
  <dc:subject/>
  <dc:title>الاتجاه النفسي في تربية الطفل</dc:title>
</cp:coreProperties>
</file>