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E8A-C7EC-4EA6-955D-5417BD23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824-AF1E-43DA-B7A1-4B96E06D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A37D-DB53-4C5C-871B-D957BFA8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A34-A97F-4B51-89B1-B0120F3F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581D-E827-402F-B9B0-3BF187A5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84E6-A9B8-4369-8D0F-3D5109C7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94DB-D23A-4DE5-B4A8-8581C0B3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4CDD-5849-4302-BEF2-940B7FC2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CDE9-0FD1-44AB-99B2-680908C8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F709-99D0-4C2E-9AF0-5797A3B7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D043-2003-461B-BC02-03E96DB1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8B1-3302-4557-BD9E-CE0720FE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5C6A-29FE-4114-BF69-A175F689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D250-3361-4074-B796-273469DF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A2B3-8061-4FF0-971F-8EF6C21B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CF01-0C65-46B6-BB60-C1C6C087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F280-C27A-4A01-B411-F102F34B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B78D7-1FCC-49E2-8F3D-9311B981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086D9-0B1A-4628-B845-F456B551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B9F57-C775-458A-87A9-8DB03AA7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BC620-DEA0-4DC2-BBB2-C685CD89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051C0-8A01-441E-B04A-0D480AB5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DF6A-D1FE-4039-A741-0DDE5E04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FE8F9-E008-4F18-B824-546FD779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1E36B-4E10-46B7-9A8E-4E4A20E1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F655D-17D6-4B04-9A2B-2451AF46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50BCE-C264-4154-8433-D27463A9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FDD933-DFB5-4AF0-8B1E-61B43294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C0266-B1DE-4FA9-9CEA-32831944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F66AEB-4E2B-4377-9C85-E1CEC516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11A85-6AF4-4C8A-B3F6-DBEF7804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806F6-D689-45AD-9339-09D6F8A3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73910-8001-49B9-8071-65C6D1D9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ADD-880B-4348-AC9A-B0F500B9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46CF3-9B7E-41C5-883C-7691DCFC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ABB77-DEE6-46FA-9982-2A61AC5E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5FC2A-D747-47E8-9D10-512F5A4C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F767E-26C5-41BA-8A23-5E13D481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B8A87-86A4-4289-B838-71ABD4B9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F7108-337D-4613-89F2-5F6A5081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35DD-7B6B-4857-AD9E-5DD0D67B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4D7F1-498C-4D6D-99C7-88833D0D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D43EB-8240-4A05-97EB-E79462FC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349C3-91EC-4069-9C87-34138F67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72A-A1C0-409D-A336-D49876F1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FD01C-6AC0-4CF2-A5DF-DBA0BC84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49961-EF1C-44F9-9183-47F8D686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C33279-3B6B-4A8D-BD79-92D5DC6A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7F5501-96B5-452B-9DD6-6793AE01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FE9ABE-F486-4C4B-86B3-6E6066C3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E0128-ED7B-498F-90AE-3DC02054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A1F4B1-DA3E-4A12-AF7D-78FF640D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032FC0-5F2E-44CB-83AD-4FA02011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318F1-F8E8-4A1F-BD0C-44E80DA9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BA096-F2FF-4F01-88D1-AEDBE5C6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16B-CC46-4D12-B24E-A3B4DCC7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32829-F5A7-4020-8998-EC14A086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85EE9C-B0EB-4506-9685-3369247A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BBFAAC-2B94-478D-B5BF-43518A8B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F55ED8-627F-4B52-9EBF-C075DDB9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51D212-17E9-4975-A14B-DC0502EF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445DEC-5D86-4037-99EC-68632B6D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580BC4-9461-4E7A-8E09-001A9526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238AD0-20A8-43FE-BE0B-1F33EC29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7B5B27-F20D-4A0C-8C99-268347D7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44A48-7C8A-43BE-A1FC-29EA3A50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7E0-6B15-4EEB-B29E-0DD2E9AC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D9C525-6441-4C5F-960D-554DE768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241B9B-EED8-4B54-8BB1-BF456AF5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C4D416-7514-4272-8B54-65429F3B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57866-49C4-4558-805F-01E7187E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CA5C1A-E356-4BF6-B62B-7E98D5B6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472A26-BE4F-41FD-AF89-8E749443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B8D53-C94D-4C6F-B815-E69716F3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B158F-A651-401A-B750-A675F04D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91497-AA16-4F8D-B23E-888435A0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ED6E9E-BC92-41F9-AE01-013F5B74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D4E-7744-4A0E-AA61-4E9B4975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BE1945-4388-47C7-942F-6D3CE757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DC3EC2-153D-4C72-9D25-EEF6F04F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C7551-C009-462B-85BA-736E6472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5208D-C6F9-41E4-8C19-118A33C3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9E24F-1C0D-4E1F-ABE1-EB7DC78A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DD7-3143-42EF-AD0E-75901792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CEC2-D928-4601-8A0C-028E0BA75923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171F-26B1-4A43-97A5-2F9A0E0984B8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EAE4-9255-4CC0-A25E-3DBAFBB69A26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39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39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08EB-DE61-484F-A6AA-942FAE54CBEF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FC55-DFA6-4A5F-B069-C65E34E19FD9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E70E-B2D2-4172-8649-748E69DC616F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575f6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B373-BCFD-4EE2-9B09-C182B98F0AE6}" type="slidenum">
              <a:rPr b="1" lang="ar-SA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14400" y="500040"/>
            <a:ext cx="6143400" cy="14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75f6d"/>
                </a:solidFill>
                <a:latin typeface="Tahoma"/>
                <a:cs typeface="Tahoma"/>
              </a:rPr>
              <a:t>الاتجاه النفسي في تربية الطفل 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7280" y="2571480"/>
            <a:ext cx="61437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e75c01"/>
                </a:solidFill>
                <a:latin typeface="Tahoma"/>
                <a:ea typeface="Tahoma"/>
              </a:rPr>
              <a:t>3</a:t>
            </a:r>
            <a:r>
              <a:rPr b="1" lang="ar-SA" sz="6600" spc="-1" strike="noStrike">
                <a:solidFill>
                  <a:srgbClr val="e75c01"/>
                </a:solidFill>
                <a:latin typeface="Tahoma"/>
                <a:ea typeface="Tahoma"/>
              </a:rPr>
              <a:t>- جان بياجيه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0200" y="274320"/>
            <a:ext cx="542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c7491"/>
                </a:solidFill>
                <a:latin typeface="Tahoma"/>
                <a:cs typeface="Tahoma"/>
              </a:rPr>
              <a:t>التفكير السابق للمفاهيم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1600200"/>
            <a:ext cx="8358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ac63b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2557f"/>
                </a:solidFill>
                <a:latin typeface="Tahoma"/>
                <a:cs typeface="Tahoma"/>
              </a:rPr>
              <a:t>من سن </a:t>
            </a:r>
            <a:r>
              <a:rPr b="0" lang="ar-SA" sz="2800" spc="-1" strike="noStrike">
                <a:solidFill>
                  <a:srgbClr val="42557f"/>
                </a:solidFill>
                <a:latin typeface="Tahoma"/>
                <a:ea typeface="Tahoma"/>
              </a:rPr>
              <a:t>2</a:t>
            </a:r>
            <a:r>
              <a:rPr b="0" lang="ar-SA" sz="2800" spc="-1" strike="noStrike">
                <a:solidFill>
                  <a:srgbClr val="42557f"/>
                </a:solidFill>
                <a:latin typeface="Tahoma"/>
                <a:ea typeface="Tahoma"/>
              </a:rPr>
              <a:t> إلى </a:t>
            </a:r>
            <a:r>
              <a:rPr b="0" lang="ar-SA" sz="2800" spc="-1" strike="noStrike">
                <a:solidFill>
                  <a:srgbClr val="42557f"/>
                </a:solidFill>
                <a:latin typeface="Tahoma"/>
                <a:ea typeface="Tahoma"/>
              </a:rPr>
              <a:t>4</a:t>
            </a:r>
            <a:r>
              <a:rPr b="0" lang="ar-SA" sz="2800" spc="-1" strike="noStrike">
                <a:solidFill>
                  <a:srgbClr val="42557f"/>
                </a:solidFill>
                <a:latin typeface="Tahoma"/>
                <a:ea typeface="Tahoma"/>
              </a:rPr>
              <a:t> سنوات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c7491"/>
                </a:solidFill>
                <a:latin typeface="Tahoma"/>
                <a:cs typeface="Tahoma"/>
              </a:rPr>
              <a:t>تحدث فيه </a:t>
            </a:r>
            <a:r>
              <a:rPr b="0" lang="ar-SA" sz="2800" spc="-1" strike="noStrike">
                <a:solidFill>
                  <a:srgbClr val="fc7491"/>
                </a:solidFill>
                <a:latin typeface="Tahoma"/>
                <a:ea typeface="Tahoma"/>
              </a:rPr>
              <a:t>3</a:t>
            </a:r>
            <a:r>
              <a:rPr b="0" lang="ar-SA" sz="2800" spc="-1" strike="noStrike">
                <a:solidFill>
                  <a:srgbClr val="fc7491"/>
                </a:solidFill>
                <a:latin typeface="Tahoma"/>
                <a:ea typeface="Tahoma"/>
              </a:rPr>
              <a:t> أشكال رئيسية للنمو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1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- نمو الفكري الرمزي ( استخدام الرموز والصور الذهنية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b500"/>
                </a:solidFill>
                <a:latin typeface="Tahoma"/>
                <a:ea typeface="Tahoma"/>
              </a:rPr>
              <a:t>2</a:t>
            </a:r>
            <a:r>
              <a:rPr b="0" lang="ar-SA" sz="2800" spc="-1" strike="noStrike">
                <a:solidFill>
                  <a:srgbClr val="ceb500"/>
                </a:solidFill>
                <a:latin typeface="Tahoma"/>
                <a:ea typeface="Tahoma"/>
              </a:rPr>
              <a:t>- اكتساب اللغة ( تزداد قدراته اللغويه بشكل كبير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cc"/>
                </a:solidFill>
                <a:latin typeface="Tahoma"/>
                <a:ea typeface="Tahoma"/>
              </a:rPr>
              <a:t>3</a:t>
            </a:r>
            <a:r>
              <a:rPr b="0" lang="ar-SA" sz="2800" spc="-1" strike="noStrike">
                <a:solidFill>
                  <a:srgbClr val="cc00cc"/>
                </a:solidFill>
                <a:latin typeface="Tahoma"/>
                <a:ea typeface="Tahoma"/>
              </a:rPr>
              <a:t>- ظهور المنطق الانتقالي ( أسلوب اللعب الإيهامي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صورة 3" descr="بنوتهه.jpg"/>
          <p:cNvPicPr/>
          <p:nvPr/>
        </p:nvPicPr>
        <p:blipFill>
          <a:blip r:embed="rId1"/>
          <a:stretch/>
        </p:blipFill>
        <p:spPr>
          <a:xfrm>
            <a:off x="0" y="0"/>
            <a:ext cx="1947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ac63b"/>
                </a:solidFill>
                <a:latin typeface="Tahoma"/>
                <a:cs typeface="Tahoma"/>
              </a:rPr>
              <a:t>التـفكير</a:t>
            </a:r>
            <a:r>
              <a:rPr b="0" lang="ar-SA" sz="44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الحدسي</a:t>
            </a:r>
            <a:r>
              <a:rPr b="0" lang="ar-SA" sz="44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214200" y="1500120"/>
            <a:ext cx="8858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 من سن 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4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 إلى 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7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  <a:ea typeface="Tahoma"/>
              </a:rPr>
              <a:t> سنوات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ar-SA" sz="2400" spc="-1" strike="noStrike">
                <a:solidFill>
                  <a:srgbClr val="0ac63b"/>
                </a:solidFill>
                <a:latin typeface="Century Schoolbook"/>
              </a:rPr>
              <a:t>*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يؤكد دائما ولكنه لايبرهن ابداً 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( التمركز على الذات 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**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يعتمد في تفكيره على الحواس والتخيُّـل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 ***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يعتمد في تفكيره على مايقوم به من أعمال وأدوات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 (أحكامه متغيره حسب المواقف والظروف 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****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تفكيره غير منطقي </a:t>
            </a:r>
            <a:r>
              <a:rPr b="0" lang="ar-SA" sz="2800" spc="-1" strike="noStrike">
                <a:solidFill>
                  <a:srgbClr val="0ac63b"/>
                </a:solidFill>
                <a:latin typeface="Tahoma"/>
                <a:ea typeface="Tahoma"/>
              </a:rPr>
              <a:t>( ثقيل وخفيف , قصير وطويل 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شكل بيضاوي 3"/>
          <p:cNvSpPr/>
          <p:nvPr/>
        </p:nvSpPr>
        <p:spPr>
          <a:xfrm>
            <a:off x="6858000" y="5572080"/>
            <a:ext cx="857160" cy="857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شكل بيضاوي 4"/>
          <p:cNvSpPr/>
          <p:nvPr/>
        </p:nvSpPr>
        <p:spPr>
          <a:xfrm>
            <a:off x="7858080" y="5500800"/>
            <a:ext cx="914400" cy="914400"/>
          </a:xfrm>
          <a:prstGeom prst="ellipse">
            <a:avLst/>
          </a:prstGeom>
          <a:solidFill>
            <a:srgbClr val="0ac63b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ac63b"/>
                </a:solidFill>
                <a:latin typeface="Tahoma"/>
                <a:cs typeface="Tahoma"/>
              </a:rPr>
              <a:t>وصف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0b0f0"/>
                </a:solidFill>
                <a:latin typeface="Tahoma"/>
                <a:cs typeface="Tahoma"/>
              </a:rPr>
              <a:t>بياجيه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ac63b"/>
                </a:solidFill>
                <a:latin typeface="Tahoma"/>
                <a:cs typeface="Tahoma"/>
              </a:rPr>
              <a:t>لعالم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0b0f0"/>
                </a:solidFill>
                <a:latin typeface="Tahoma"/>
                <a:cs typeface="Tahoma"/>
              </a:rPr>
              <a:t>التفكير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ac63b"/>
                </a:solidFill>
                <a:latin typeface="Tahoma"/>
                <a:cs typeface="Tahoma"/>
              </a:rPr>
              <a:t>لدى</a:t>
            </a:r>
            <a:r>
              <a:rPr b="0" lang="ar-SA" sz="3000" spc="-1" strike="noStrike">
                <a:solidFill>
                  <a:srgbClr val="575f6d"/>
                </a:solidFill>
                <a:latin typeface="Tahoma"/>
                <a:ea typeface="Tahoma"/>
              </a:rPr>
              <a:t> </a:t>
            </a:r>
            <a:r>
              <a:rPr b="0" lang="ar-SA" sz="3000" spc="-1" strike="noStrike">
                <a:solidFill>
                  <a:srgbClr val="00b0f0"/>
                </a:solidFill>
                <a:latin typeface="Tahoma"/>
                <a:cs typeface="Tahoma"/>
              </a:rPr>
              <a:t>الطفل </a:t>
            </a:r>
            <a:r>
              <a:rPr b="0" lang="ar-SA" sz="3000" spc="-1" strike="noStrike">
                <a:solidFill>
                  <a:srgbClr val="0ac63b"/>
                </a:solidFill>
                <a:latin typeface="Tahoma"/>
                <a:cs typeface="Tahoma"/>
              </a:rPr>
              <a:t>؟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14240" y="15714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1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400" spc="-1" strike="noStrike">
                <a:solidFill>
                  <a:srgbClr val="00b050"/>
                </a:solidFill>
                <a:latin typeface="Tahoma"/>
                <a:cs typeface="Tahoma"/>
              </a:rPr>
              <a:t>السببية الظاهرية : 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( علاقة سببية بين الأشياء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2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400" spc="-1" strike="noStrike">
                <a:solidFill>
                  <a:srgbClr val="0ac63b"/>
                </a:solidFill>
                <a:latin typeface="Tahoma"/>
                <a:cs typeface="Tahoma"/>
              </a:rPr>
              <a:t>الإيحائية : 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( الأشياء الجامدة حية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2400" spc="-1" strike="noStrike">
                <a:solidFill>
                  <a:srgbClr val="0ac63b"/>
                </a:solidFill>
                <a:latin typeface="Tahoma"/>
                <a:cs typeface="Tahoma"/>
              </a:rPr>
              <a:t>الغرضية : </a:t>
            </a:r>
            <a:r>
              <a:rPr b="0" lang="ar-SA" sz="2400" spc="-1" strike="noStrike">
                <a:solidFill>
                  <a:srgbClr val="00b0f0"/>
                </a:solidFill>
                <a:latin typeface="Tahoma"/>
                <a:ea typeface="Tahoma"/>
              </a:rPr>
              <a:t>( لكل شئ غرض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صورة 4" descr="بوبو.jpg"/>
          <p:cNvPicPr/>
          <p:nvPr/>
        </p:nvPicPr>
        <p:blipFill>
          <a:blip r:embed="rId1"/>
          <a:stretch/>
        </p:blipFill>
        <p:spPr>
          <a:xfrm>
            <a:off x="6572160" y="4143240"/>
            <a:ext cx="2229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1720" y="356760"/>
            <a:ext cx="6852960" cy="714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575f6d"/>
                </a:solidFill>
                <a:latin typeface="Century Schoolbook"/>
              </a:rPr>
              <a:t>المبادئ التربوية المستمدة من نظرية بياجيه النفسية 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85480" y="1714680"/>
            <a:ext cx="8429400" cy="47592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cs typeface="Akhbar MT"/>
              </a:rPr>
              <a:t>أن التعلم يجب أن يكون شيقاً نشيطاً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- أهمية التفاعل بين الأطفال في المدرسة ( الخروج من الأنوية 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- أفضلية العمل العقلي المبني على التجربة المباشرة وليس اللغة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Century Schoolbook"/>
                <a:ea typeface="Akhbar MT"/>
              </a:rPr>
              <a:t>- أن هدف التعلم أن يخلق قيم ومعرفة جديدة ( لاللطاعة نعم للاستقلالية )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14800" y="1428840"/>
            <a:ext cx="557208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75c01"/>
                </a:solidFill>
                <a:latin typeface="Tahoma"/>
                <a:cs typeface="Tahoma"/>
              </a:rPr>
              <a:t>حياته واهم المؤثرات فيها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عنصر نائب للمحتوى 4" descr="جان بياجيه.png"/>
          <p:cNvPicPr/>
          <p:nvPr/>
        </p:nvPicPr>
        <p:blipFill>
          <a:blip r:embed="rId1"/>
          <a:stretch/>
        </p:blipFill>
        <p:spPr>
          <a:xfrm>
            <a:off x="428760" y="214200"/>
            <a:ext cx="2638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8400" y="714240"/>
            <a:ext cx="74674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9a3d01"/>
                </a:solidFill>
                <a:latin typeface="Century Schoolbook"/>
              </a:rPr>
              <a:t>ولادته :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ولد في أغسطس </a:t>
            </a: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1896</a:t>
            </a: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 في سويسرا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أمه متدينة حسب تعاليم البروتستانت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75c01"/>
                </a:solidFill>
                <a:latin typeface="Century Schoolbook"/>
              </a:rPr>
              <a:t>أبوه أستاذ تاريخ في الجامـعة ( قليل الاهتمام بالمسائل الدينية 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أوجد ذلك لديه الصراع بين العقيدة الدينية والمعرفة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9a3d01"/>
                </a:solidFill>
                <a:latin typeface="Century Schoolbook"/>
              </a:rPr>
              <a:t>تعليمه :</a:t>
            </a:r>
            <a:endParaRPr b="0" lang="en-US" sz="5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e75c01"/>
                </a:solidFill>
                <a:latin typeface="Century Schoolbook"/>
              </a:rPr>
              <a:t>تعلم الرياضيات – النبات – الحيوان – المنطق – الفلسفة – علم الاجتماع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e75c01"/>
                </a:solidFill>
                <a:latin typeface="Century Schoolbook"/>
              </a:rPr>
              <a:t>علم النفس 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حصل على شهادة الدكتوراه في العلوم الطبيعية وعمره </a:t>
            </a: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22</a:t>
            </a: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 سنه 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62110"/>
                </a:solidFill>
                <a:latin typeface="Century Schoolbook"/>
              </a:rPr>
              <a:t>مؤلفاته 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المطلوب </a:t>
            </a: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2</a:t>
            </a:r>
            <a:r>
              <a:rPr b="0" lang="ar-SA" sz="2600" spc="-1" strike="noStrike">
                <a:solidFill>
                  <a:srgbClr val="675a00"/>
                </a:solidFill>
                <a:latin typeface="Century Schoolbook"/>
              </a:rPr>
              <a:t> فقط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75c01"/>
                </a:solidFill>
                <a:latin typeface="Century Schoolbook"/>
              </a:rPr>
              <a:t>أهم أفكار بياجيه النفسية 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500120"/>
            <a:ext cx="8329680" cy="4973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75c01"/>
                </a:solidFill>
                <a:latin typeface="Century Schoolbook"/>
              </a:rPr>
              <a:t>بياجيه ونمو الطفل 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الصفة الأولى : أن الفرد يولد وبه خاصية النمو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الصفة الثانية : هي مرتبطة بالأولى بحيث أنه فطري </a:t>
            </a:r>
            <a:r>
              <a:rPr b="0" lang="ar-SA" sz="4000" spc="-1" strike="noStrike">
                <a:solidFill>
                  <a:srgbClr val="675a00"/>
                </a:solidFill>
                <a:latin typeface="Century Schoolbook"/>
              </a:rPr>
              <a:t>فلا</a:t>
            </a: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 يمك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تغييره أو التعديل في مساره وتطوره .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75a00"/>
                </a:solidFill>
                <a:latin typeface="Century Schoolbook"/>
              </a:rPr>
              <a:t>أي ان النمو عملية فطرية تطورية 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-360" y="571680"/>
            <a:ext cx="72867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e75c01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75c01"/>
                </a:solidFill>
                <a:latin typeface="Century Schoolbook"/>
              </a:rPr>
              <a:t>قام بياجيه </a:t>
            </a:r>
            <a:r>
              <a:rPr b="1" lang="ar-SA" sz="2800" spc="-1" strike="noStrike">
                <a:solidFill>
                  <a:srgbClr val="0ac63b"/>
                </a:solidFill>
                <a:latin typeface="Century Schoolbook"/>
              </a:rPr>
              <a:t>بدراسات طولية </a:t>
            </a:r>
            <a:r>
              <a:rPr b="1" lang="ar-SA" sz="2800" spc="-1" strike="noStrike">
                <a:solidFill>
                  <a:srgbClr val="e75c01"/>
                </a:solidFill>
                <a:latin typeface="Century Schoolbook"/>
              </a:rPr>
              <a:t>للأطفال مركزاً على التطور والتغير الحاصل عبر مراحل نموهم المتعاقبة في إدراكهم المعرفي   العقلي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c3036"/>
                </a:solidFill>
                <a:latin typeface="Century Schoolbook"/>
              </a:rPr>
              <a:t>       يسمي بياجيه انتقال الطفل من مرحلة نمائية إلى أخرى                                                                                       بالمقدرات العقلي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ac63b"/>
                </a:solidFill>
                <a:latin typeface="Century Schoolbook"/>
              </a:rPr>
              <a:t>          عملية التكيّف مع البيئة تتخذ شكلين هما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Century Schoolbook"/>
              </a:rPr>
              <a:t>  التمثل</a:t>
            </a:r>
            <a:r>
              <a:rPr b="1" lang="ar-SA" sz="2800" spc="-1" strike="noStrike">
                <a:solidFill>
                  <a:srgbClr val="e75c01"/>
                </a:solidFill>
                <a:latin typeface="Century Schoolbook"/>
              </a:rPr>
              <a:t> : يعني تغير البيئة لتساير وتتمشى مع سلوك الفرد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Century Schoolbook"/>
              </a:rPr>
              <a:t>المواءمة</a:t>
            </a:r>
            <a:r>
              <a:rPr b="1" lang="ar-SA" sz="2800" spc="-1" strike="noStrike">
                <a:solidFill>
                  <a:srgbClr val="e75c01"/>
                </a:solidFill>
                <a:latin typeface="Century Schoolbook"/>
              </a:rPr>
              <a:t> : تعني تغيير سلوك الفرد ليساير ويتمشى مع البيئ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4" descr="http://image.arabseyes.com/files/images/fefd47792.jpg"/>
          <p:cNvPicPr/>
          <p:nvPr/>
        </p:nvPicPr>
        <p:blipFill>
          <a:blip r:embed="rId1"/>
          <a:stretch/>
        </p:blipFill>
        <p:spPr>
          <a:xfrm>
            <a:off x="7286760" y="571680"/>
            <a:ext cx="185724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e75c01"/>
                </a:solidFill>
                <a:latin typeface="Century Schoolbook"/>
              </a:rPr>
              <a:t>المبادئ العامة التي تسير عليها عملية النمو عند بياجيه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1714320"/>
            <a:ext cx="69296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1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ستمراريه محددة لكل عمليات النمو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2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لنمو يتقدم خلال عملية التعميم والتمييز ( الشبه والإختلاف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3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لإستمرارية هي عملية تفتح وهي موجودة في كل مرحل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4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كل مرحلة تتضمن تكرار للعمليات التي تمت في المراحل السابق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5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لتنظيمات المختلفة مرتبة تصاعديا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6</a:t>
            </a:r>
            <a:r>
              <a:rPr b="0" lang="ar-SA" sz="2800" spc="-1" strike="noStrike">
                <a:solidFill>
                  <a:srgbClr val="244583"/>
                </a:solidFill>
                <a:latin typeface="Century Schoolbook"/>
              </a:rPr>
              <a:t>- الأفراد يحققون مستويات متباينة في هذا الترتيب التصاعدي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صورة 3" descr="وه.jpg"/>
          <p:cNvPicPr/>
          <p:nvPr/>
        </p:nvPicPr>
        <p:blipFill>
          <a:blip r:embed="rId1"/>
          <a:stretch/>
        </p:blipFill>
        <p:spPr>
          <a:xfrm>
            <a:off x="7143840" y="2057400"/>
            <a:ext cx="2000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 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التقليد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       الدافعية               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                               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التفكير          مفاهيم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                     المتمركز          الحقيقة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</a:rPr>
              <a:t>                   حول الذات         الواقعية     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شكل بيضاوي 3"/>
          <p:cNvSpPr/>
          <p:nvPr/>
        </p:nvSpPr>
        <p:spPr>
          <a:xfrm>
            <a:off x="714240" y="285840"/>
            <a:ext cx="6715440" cy="1714320"/>
          </a:xfrm>
          <a:prstGeom prst="ellipse">
            <a:avLst/>
          </a:prstGeom>
          <a:solidFill>
            <a:srgbClr val="fb93e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  <a:cs typeface="Times New Roman"/>
              </a:rPr>
              <a:t>المرحلة الحسيه الحركية (من الميلاد حتى السنه الواحدة والنصف اوالسنتي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  <a:cs typeface="Times New Roman"/>
              </a:rPr>
              <a:t>تتميز بالخصائص التالية </a:t>
            </a:r>
            <a:r>
              <a:rPr b="0" lang="ar-SA" sz="2800" spc="-1" strike="noStrike">
                <a:solidFill>
                  <a:srgbClr val="8a7007"/>
                </a:solidFill>
                <a:latin typeface="Century Schoolbook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سهم للأسفل 4"/>
          <p:cNvSpPr/>
          <p:nvPr/>
        </p:nvSpPr>
        <p:spPr>
          <a:xfrm>
            <a:off x="6357960" y="1785960"/>
            <a:ext cx="484200" cy="157176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0ac63b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سهم للأسفل 5"/>
          <p:cNvSpPr/>
          <p:nvPr/>
        </p:nvSpPr>
        <p:spPr>
          <a:xfrm>
            <a:off x="4643280" y="2000160"/>
            <a:ext cx="484200" cy="171468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3668c4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سهم للأسفل 6"/>
          <p:cNvSpPr/>
          <p:nvPr/>
        </p:nvSpPr>
        <p:spPr>
          <a:xfrm>
            <a:off x="2928960" y="2000160"/>
            <a:ext cx="484200" cy="178596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d0a80a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سهم للأسفل 7"/>
          <p:cNvSpPr/>
          <p:nvPr/>
        </p:nvSpPr>
        <p:spPr>
          <a:xfrm>
            <a:off x="1571760" y="1785960"/>
            <a:ext cx="484200" cy="12142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00360" y="274320"/>
            <a:ext cx="342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75c01"/>
                </a:solidFill>
                <a:latin typeface="Century Schoolbook"/>
              </a:rPr>
              <a:t>سنركز على المرحلتين الاوليين للنمو وهما 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1600200"/>
            <a:ext cx="8929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</a:rPr>
              <a:t>المرحلة الحسيه الحركية (من الميلاد حتى السنه الواحد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</a:rPr>
              <a:t> والنصف أوالسنتين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a7007"/>
                </a:solidFill>
                <a:latin typeface="Century Schoolbook"/>
              </a:rPr>
              <a:t>  تتميز بالخصائص التالية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668c4"/>
                </a:solidFill>
                <a:latin typeface="Century Schoolbook"/>
              </a:rPr>
              <a:t>  الدافعية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668c4"/>
                </a:solidFill>
                <a:latin typeface="Century Schoolbook"/>
              </a:rPr>
              <a:t>  يتعلم الطفل عن طريق التفاعل المباشر مع محيطه , والطفل كثير النشاط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Century Schoolbook"/>
              </a:rPr>
              <a:t>  التفكير المتمركز حول الذات 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Century Schoolbook"/>
              </a:rPr>
              <a:t>  حيث أن كل مايدركه الطفل ويفعله يدور حول نفسه وحاجاته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ac63b"/>
                </a:solidFill>
                <a:latin typeface="Century Schoolbook"/>
              </a:rPr>
              <a:t>   مفاهيم الحياة الواقعية : المكان – الزمان – السببية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entury Schoolbook"/>
              </a:rPr>
              <a:t>   التقليد : يكرر الطفل حركاته ثم يستطيع أن يقلد نموذجاً آخر 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صورة 4" descr="ويدينو.jpg"/>
          <p:cNvPicPr/>
          <p:nvPr/>
        </p:nvPicPr>
        <p:blipFill>
          <a:blip r:embed="rId1"/>
          <a:stretch/>
        </p:blipFill>
        <p:spPr>
          <a:xfrm>
            <a:off x="0" y="0"/>
            <a:ext cx="2500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6840" y="1571400"/>
            <a:ext cx="746748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ar-SA" sz="3600" spc="-1" strike="noStrike">
                <a:solidFill>
                  <a:srgbClr val="e75c01"/>
                </a:solidFill>
                <a:latin typeface="Century Schoolbook"/>
              </a:rPr>
              <a:t>التفكير السابق للمفاهيم          التفكير الحدسي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مستطيل 3"/>
          <p:cNvSpPr/>
          <p:nvPr/>
        </p:nvSpPr>
        <p:spPr>
          <a:xfrm>
            <a:off x="642960" y="285840"/>
            <a:ext cx="7500960" cy="1214280"/>
          </a:xfrm>
          <a:prstGeom prst="rect">
            <a:avLst/>
          </a:prstGeom>
          <a:solidFill>
            <a:srgbClr val="ffe636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292400"/>
                </a:solidFill>
                <a:latin typeface="Century Schoolbook"/>
                <a:cs typeface="Times New Roman"/>
              </a:rPr>
              <a:t>مرحلة ماقبل العمليات من سنتين إلى سبع سنو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سهم للأسفل 7"/>
          <p:cNvSpPr/>
          <p:nvPr/>
        </p:nvSpPr>
        <p:spPr>
          <a:xfrm>
            <a:off x="5000760" y="1500120"/>
            <a:ext cx="2500200" cy="2143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0a80a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92400"/>
                </a:solidFill>
                <a:latin typeface="Century Schoolbook"/>
                <a:cs typeface="Times New Roman"/>
              </a:rPr>
              <a:t>المرحلة الفرعية الأول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سهم للأسفل 8"/>
          <p:cNvSpPr/>
          <p:nvPr/>
        </p:nvSpPr>
        <p:spPr>
          <a:xfrm>
            <a:off x="1214280" y="1500120"/>
            <a:ext cx="2500560" cy="2214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eb5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92400"/>
                </a:solidFill>
                <a:latin typeface="Century Schoolbook"/>
                <a:cs typeface="Times New Roman"/>
              </a:rPr>
              <a:t>المرحلة الفرعية الثان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1:39:20Z</dcterms:created>
  <dc:creator>ام يزيد</dc:creator>
  <dc:description/>
  <dc:language>en-US</dc:language>
  <cp:lastModifiedBy>aaaa</cp:lastModifiedBy>
  <dcterms:modified xsi:type="dcterms:W3CDTF">2013-02-08T20:27:54Z</dcterms:modified>
  <cp:revision>39</cp:revision>
  <dc:subject/>
  <dc:title>الاتجاه النفسي في تربية الطفل</dc:title>
</cp:coreProperties>
</file>