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8E67-2AAD-47BA-B96D-13FD6A5E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04F-CD68-4CEE-8D1A-6241183CF291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1DE1-CB44-4010-B550-1E731420E1C8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EA69-B75E-48D6-92C7-5DD760AA2EF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6D7665AC-A0CA-441C-9213-8EE4B789E3E0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prstGeom prst="pie">
                <a:avLst/>
              </a:pr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prstGeom prst="pie">
                <a:avLst/>
              </a:pr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prstGeom prst="pie">
                <a:avLst/>
              </a:pr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prstGeom prst="pie">
            <a:avLst/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prstGeom prst="pie">
            <a:avLst/>
          </a:pr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user</cp:lastModifiedBy>
  <cp:lastPrinted>1998-07-07T20:53:03Z</cp:lastPrinted>
  <dcterms:modified xsi:type="dcterms:W3CDTF">2012-11-06T06:43:27Z</dcterms:modified>
  <cp:revision>104</cp:revision>
  <dc:subject/>
  <dc:title>Chapter 6: Confidence Intervals</dc:title>
</cp:coreProperties>
</file>