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2F0-0C4F-4ADE-BA7F-F9CBD1D4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F564-E8B8-4B3F-940B-B12ACF97C3B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DD53-6B2B-48E8-8F1A-60FFB06E1E7E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7DC-BB18-4624-847D-EE58875DEBC6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AE1A46D8-3EDA-4512-91AA-DD8105813FE7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custGeom>
              <a:avLst/>
              <a:gdLst/>
              <a:ahLst/>
              <a:rect l="l" t="t" r="r" b="b"/>
              <a:pathLst>
                <a:path w="2743" h="1943">
                  <a:moveTo>
                    <a:pt x="0" y="1943"/>
                  </a:moveTo>
                  <a:lnTo>
                    <a:pt x="2743" y="1943"/>
                  </a:lnTo>
                  <a:lnTo>
                    <a:pt x="2743" y="0"/>
                  </a:lnTo>
                  <a:lnTo>
                    <a:pt x="0" y="0"/>
                  </a:lnTo>
                  <a:lnTo>
                    <a:pt x="0" y="1943"/>
                  </a:lnTo>
                  <a:lnTo>
                    <a:pt x="0" y="194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custGeom>
              <a:avLst/>
              <a:gdLst>
                <a:gd name="textAreaLeft" fmla="*/ 0 w 3573720"/>
                <a:gd name="textAreaRight" fmla="*/ 3574080 w 357372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645" h="1164">
                  <a:moveTo>
                    <a:pt x="0" y="1164"/>
                  </a:moveTo>
                  <a:lnTo>
                    <a:pt x="1645" y="1164"/>
                  </a:lnTo>
                  <a:lnTo>
                    <a:pt x="1645" y="0"/>
                  </a:lnTo>
                  <a:lnTo>
                    <a:pt x="0" y="0"/>
                  </a:lnTo>
                  <a:lnTo>
                    <a:pt x="0" y="11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custGeom>
              <a:avLst/>
              <a:gdLst>
                <a:gd name="textAreaLeft" fmla="*/ 0 w 3598560"/>
                <a:gd name="textAreaRight" fmla="*/ 3598920 w 359856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1581" h="1120">
                  <a:moveTo>
                    <a:pt x="0" y="1119"/>
                  </a:moveTo>
                  <a:lnTo>
                    <a:pt x="5" y="1119"/>
                  </a:lnTo>
                  <a:lnTo>
                    <a:pt x="16" y="1119"/>
                  </a:lnTo>
                  <a:lnTo>
                    <a:pt x="20" y="1119"/>
                  </a:lnTo>
                  <a:lnTo>
                    <a:pt x="31" y="1119"/>
                  </a:lnTo>
                  <a:lnTo>
                    <a:pt x="36" y="1119"/>
                  </a:lnTo>
                  <a:lnTo>
                    <a:pt x="47" y="1119"/>
                  </a:lnTo>
                  <a:lnTo>
                    <a:pt x="51" y="1119"/>
                  </a:lnTo>
                  <a:lnTo>
                    <a:pt x="62" y="1119"/>
                  </a:lnTo>
                  <a:lnTo>
                    <a:pt x="67" y="1119"/>
                  </a:lnTo>
                  <a:lnTo>
                    <a:pt x="78" y="1119"/>
                  </a:lnTo>
                  <a:lnTo>
                    <a:pt x="82" y="1119"/>
                  </a:lnTo>
                  <a:lnTo>
                    <a:pt x="93" y="1119"/>
                  </a:lnTo>
                  <a:lnTo>
                    <a:pt x="98" y="1119"/>
                  </a:lnTo>
                  <a:lnTo>
                    <a:pt x="109" y="1119"/>
                  </a:lnTo>
                  <a:lnTo>
                    <a:pt x="119" y="1119"/>
                  </a:lnTo>
                  <a:lnTo>
                    <a:pt x="124" y="1119"/>
                  </a:lnTo>
                  <a:lnTo>
                    <a:pt x="135" y="1119"/>
                  </a:lnTo>
                  <a:lnTo>
                    <a:pt x="140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6" y="1119"/>
                  </a:lnTo>
                  <a:lnTo>
                    <a:pt x="171" y="1119"/>
                  </a:lnTo>
                  <a:lnTo>
                    <a:pt x="181" y="1119"/>
                  </a:lnTo>
                  <a:lnTo>
                    <a:pt x="186" y="1119"/>
                  </a:lnTo>
                  <a:lnTo>
                    <a:pt x="197" y="1119"/>
                  </a:lnTo>
                  <a:lnTo>
                    <a:pt x="202" y="1119"/>
                  </a:lnTo>
                  <a:lnTo>
                    <a:pt x="212" y="1119"/>
                  </a:lnTo>
                  <a:lnTo>
                    <a:pt x="217" y="1119"/>
                  </a:lnTo>
                  <a:lnTo>
                    <a:pt x="228" y="1119"/>
                  </a:lnTo>
                  <a:lnTo>
                    <a:pt x="237" y="1119"/>
                  </a:lnTo>
                  <a:lnTo>
                    <a:pt x="243" y="1119"/>
                  </a:lnTo>
                  <a:lnTo>
                    <a:pt x="253" y="1119"/>
                  </a:lnTo>
                  <a:lnTo>
                    <a:pt x="259" y="1119"/>
                  </a:lnTo>
                  <a:lnTo>
                    <a:pt x="268" y="1119"/>
                  </a:lnTo>
                  <a:lnTo>
                    <a:pt x="274" y="1119"/>
                  </a:lnTo>
                  <a:lnTo>
                    <a:pt x="284" y="1119"/>
                  </a:lnTo>
                  <a:lnTo>
                    <a:pt x="290" y="1119"/>
                  </a:lnTo>
                  <a:lnTo>
                    <a:pt x="299" y="1119"/>
                  </a:lnTo>
                  <a:lnTo>
                    <a:pt x="305" y="1119"/>
                  </a:lnTo>
                  <a:lnTo>
                    <a:pt x="315" y="1119"/>
                  </a:lnTo>
                  <a:lnTo>
                    <a:pt x="321" y="1119"/>
                  </a:lnTo>
                  <a:lnTo>
                    <a:pt x="330" y="1119"/>
                  </a:lnTo>
                  <a:lnTo>
                    <a:pt x="341" y="1119"/>
                  </a:lnTo>
                  <a:lnTo>
                    <a:pt x="346" y="1119"/>
                  </a:lnTo>
                  <a:lnTo>
                    <a:pt x="357" y="1119"/>
                  </a:lnTo>
                  <a:lnTo>
                    <a:pt x="361" y="1119"/>
                  </a:lnTo>
                  <a:lnTo>
                    <a:pt x="372" y="1119"/>
                  </a:lnTo>
                  <a:lnTo>
                    <a:pt x="377" y="1119"/>
                  </a:lnTo>
                  <a:lnTo>
                    <a:pt x="388" y="1119"/>
                  </a:lnTo>
                  <a:lnTo>
                    <a:pt x="392" y="1119"/>
                  </a:lnTo>
                  <a:lnTo>
                    <a:pt x="403" y="1119"/>
                  </a:lnTo>
                  <a:lnTo>
                    <a:pt x="408" y="1119"/>
                  </a:lnTo>
                  <a:lnTo>
                    <a:pt x="419" y="1119"/>
                  </a:lnTo>
                  <a:lnTo>
                    <a:pt x="423" y="1119"/>
                  </a:lnTo>
                  <a:lnTo>
                    <a:pt x="434" y="1119"/>
                  </a:lnTo>
                  <a:lnTo>
                    <a:pt x="439" y="1119"/>
                  </a:lnTo>
                  <a:lnTo>
                    <a:pt x="450" y="1119"/>
                  </a:lnTo>
                  <a:lnTo>
                    <a:pt x="459" y="1119"/>
                  </a:lnTo>
                  <a:lnTo>
                    <a:pt x="465" y="1119"/>
                  </a:lnTo>
                  <a:lnTo>
                    <a:pt x="475" y="1119"/>
                  </a:lnTo>
                  <a:lnTo>
                    <a:pt x="481" y="1119"/>
                  </a:lnTo>
                  <a:lnTo>
                    <a:pt x="490" y="1119"/>
                  </a:lnTo>
                  <a:lnTo>
                    <a:pt x="496" y="1119"/>
                  </a:lnTo>
                  <a:lnTo>
                    <a:pt x="506" y="1119"/>
                  </a:lnTo>
                  <a:lnTo>
                    <a:pt x="512" y="1119"/>
                  </a:lnTo>
                  <a:lnTo>
                    <a:pt x="521" y="1119"/>
                  </a:lnTo>
                  <a:lnTo>
                    <a:pt x="527" y="1119"/>
                  </a:lnTo>
                  <a:lnTo>
                    <a:pt x="537" y="1119"/>
                  </a:lnTo>
                  <a:lnTo>
                    <a:pt x="543" y="1119"/>
                  </a:lnTo>
                  <a:lnTo>
                    <a:pt x="552" y="1119"/>
                  </a:lnTo>
                  <a:lnTo>
                    <a:pt x="558" y="1119"/>
                  </a:lnTo>
                  <a:lnTo>
                    <a:pt x="568" y="1119"/>
                  </a:lnTo>
                  <a:lnTo>
                    <a:pt x="578" y="1119"/>
                  </a:lnTo>
                  <a:lnTo>
                    <a:pt x="583" y="1119"/>
                  </a:lnTo>
                  <a:lnTo>
                    <a:pt x="594" y="609"/>
                  </a:lnTo>
                  <a:lnTo>
                    <a:pt x="599" y="578"/>
                  </a:lnTo>
                  <a:lnTo>
                    <a:pt x="609" y="541"/>
                  </a:lnTo>
                  <a:lnTo>
                    <a:pt x="614" y="510"/>
                  </a:lnTo>
                  <a:lnTo>
                    <a:pt x="625" y="474"/>
                  </a:lnTo>
                  <a:lnTo>
                    <a:pt x="630" y="443"/>
                  </a:lnTo>
                  <a:lnTo>
                    <a:pt x="640" y="405"/>
                  </a:lnTo>
                  <a:lnTo>
                    <a:pt x="645" y="374"/>
                  </a:lnTo>
                  <a:lnTo>
                    <a:pt x="656" y="338"/>
                  </a:lnTo>
                  <a:lnTo>
                    <a:pt x="661" y="307"/>
                  </a:lnTo>
                  <a:lnTo>
                    <a:pt x="671" y="276"/>
                  </a:lnTo>
                  <a:lnTo>
                    <a:pt x="682" y="245"/>
                  </a:lnTo>
                  <a:lnTo>
                    <a:pt x="687" y="213"/>
                  </a:lnTo>
                  <a:lnTo>
                    <a:pt x="698" y="187"/>
                  </a:lnTo>
                  <a:lnTo>
                    <a:pt x="702" y="156"/>
                  </a:lnTo>
                  <a:lnTo>
                    <a:pt x="713" y="130"/>
                  </a:lnTo>
                  <a:lnTo>
                    <a:pt x="718" y="109"/>
                  </a:lnTo>
                  <a:lnTo>
                    <a:pt x="729" y="89"/>
                  </a:lnTo>
                  <a:lnTo>
                    <a:pt x="733" y="67"/>
                  </a:lnTo>
                  <a:lnTo>
                    <a:pt x="744" y="52"/>
                  </a:lnTo>
                  <a:lnTo>
                    <a:pt x="749" y="36"/>
                  </a:lnTo>
                  <a:lnTo>
                    <a:pt x="760" y="20"/>
                  </a:lnTo>
                  <a:lnTo>
                    <a:pt x="764" y="11"/>
                  </a:lnTo>
                  <a:lnTo>
                    <a:pt x="775" y="5"/>
                  </a:lnTo>
                  <a:lnTo>
                    <a:pt x="780" y="0"/>
                  </a:lnTo>
                  <a:lnTo>
                    <a:pt x="791" y="0"/>
                  </a:lnTo>
                  <a:lnTo>
                    <a:pt x="800" y="0"/>
                  </a:lnTo>
                  <a:lnTo>
                    <a:pt x="806" y="5"/>
                  </a:lnTo>
                  <a:lnTo>
                    <a:pt x="816" y="11"/>
                  </a:lnTo>
                  <a:lnTo>
                    <a:pt x="822" y="20"/>
                  </a:lnTo>
                  <a:lnTo>
                    <a:pt x="831" y="36"/>
                  </a:lnTo>
                  <a:lnTo>
                    <a:pt x="837" y="52"/>
                  </a:lnTo>
                  <a:lnTo>
                    <a:pt x="847" y="67"/>
                  </a:lnTo>
                  <a:lnTo>
                    <a:pt x="853" y="89"/>
                  </a:lnTo>
                  <a:lnTo>
                    <a:pt x="862" y="109"/>
                  </a:lnTo>
                  <a:lnTo>
                    <a:pt x="868" y="130"/>
                  </a:lnTo>
                  <a:lnTo>
                    <a:pt x="878" y="156"/>
                  </a:lnTo>
                  <a:lnTo>
                    <a:pt x="884" y="187"/>
                  </a:lnTo>
                  <a:lnTo>
                    <a:pt x="893" y="213"/>
                  </a:lnTo>
                  <a:lnTo>
                    <a:pt x="899" y="245"/>
                  </a:lnTo>
                  <a:lnTo>
                    <a:pt x="909" y="276"/>
                  </a:lnTo>
                  <a:lnTo>
                    <a:pt x="919" y="307"/>
                  </a:lnTo>
                  <a:lnTo>
                    <a:pt x="924" y="338"/>
                  </a:lnTo>
                  <a:lnTo>
                    <a:pt x="935" y="374"/>
                  </a:lnTo>
                  <a:lnTo>
                    <a:pt x="940" y="405"/>
                  </a:lnTo>
                  <a:lnTo>
                    <a:pt x="950" y="443"/>
                  </a:lnTo>
                  <a:lnTo>
                    <a:pt x="955" y="474"/>
                  </a:lnTo>
                  <a:lnTo>
                    <a:pt x="966" y="510"/>
                  </a:lnTo>
                  <a:lnTo>
                    <a:pt x="971" y="541"/>
                  </a:lnTo>
                  <a:lnTo>
                    <a:pt x="981" y="578"/>
                  </a:lnTo>
                  <a:lnTo>
                    <a:pt x="986" y="609"/>
                  </a:lnTo>
                  <a:lnTo>
                    <a:pt x="997" y="1119"/>
                  </a:lnTo>
                  <a:lnTo>
                    <a:pt x="1002" y="1119"/>
                  </a:lnTo>
                  <a:lnTo>
                    <a:pt x="1012" y="1119"/>
                  </a:lnTo>
                  <a:lnTo>
                    <a:pt x="1023" y="1119"/>
                  </a:lnTo>
                  <a:lnTo>
                    <a:pt x="1028" y="1119"/>
                  </a:lnTo>
                  <a:lnTo>
                    <a:pt x="1039" y="1119"/>
                  </a:lnTo>
                  <a:lnTo>
                    <a:pt x="1043" y="1119"/>
                  </a:lnTo>
                  <a:lnTo>
                    <a:pt x="1054" y="1119"/>
                  </a:lnTo>
                  <a:lnTo>
                    <a:pt x="1059" y="1119"/>
                  </a:lnTo>
                  <a:lnTo>
                    <a:pt x="1070" y="1119"/>
                  </a:lnTo>
                  <a:lnTo>
                    <a:pt x="1074" y="1119"/>
                  </a:lnTo>
                  <a:lnTo>
                    <a:pt x="1085" y="1119"/>
                  </a:lnTo>
                  <a:lnTo>
                    <a:pt x="1090" y="1119"/>
                  </a:lnTo>
                  <a:lnTo>
                    <a:pt x="1101" y="1119"/>
                  </a:lnTo>
                  <a:lnTo>
                    <a:pt x="1105" y="1119"/>
                  </a:lnTo>
                  <a:lnTo>
                    <a:pt x="1116" y="1119"/>
                  </a:lnTo>
                  <a:lnTo>
                    <a:pt x="1121" y="1119"/>
                  </a:lnTo>
                  <a:lnTo>
                    <a:pt x="1132" y="1119"/>
                  </a:lnTo>
                  <a:lnTo>
                    <a:pt x="1141" y="1119"/>
                  </a:lnTo>
                  <a:lnTo>
                    <a:pt x="1146" y="1119"/>
                  </a:lnTo>
                  <a:lnTo>
                    <a:pt x="1157" y="1119"/>
                  </a:lnTo>
                  <a:lnTo>
                    <a:pt x="1161" y="1119"/>
                  </a:lnTo>
                  <a:lnTo>
                    <a:pt x="1172" y="1119"/>
                  </a:lnTo>
                  <a:lnTo>
                    <a:pt x="1177" y="1119"/>
                  </a:lnTo>
                  <a:lnTo>
                    <a:pt x="1188" y="1119"/>
                  </a:lnTo>
                  <a:lnTo>
                    <a:pt x="1192" y="1119"/>
                  </a:lnTo>
                  <a:lnTo>
                    <a:pt x="1203" y="1119"/>
                  </a:lnTo>
                  <a:lnTo>
                    <a:pt x="1208" y="1119"/>
                  </a:lnTo>
                  <a:lnTo>
                    <a:pt x="1219" y="1119"/>
                  </a:lnTo>
                  <a:lnTo>
                    <a:pt x="1223" y="1119"/>
                  </a:lnTo>
                  <a:lnTo>
                    <a:pt x="1234" y="1119"/>
                  </a:lnTo>
                  <a:lnTo>
                    <a:pt x="1239" y="1119"/>
                  </a:lnTo>
                  <a:lnTo>
                    <a:pt x="1250" y="1119"/>
                  </a:lnTo>
                  <a:lnTo>
                    <a:pt x="1260" y="1119"/>
                  </a:lnTo>
                  <a:lnTo>
                    <a:pt x="1265" y="1119"/>
                  </a:lnTo>
                  <a:lnTo>
                    <a:pt x="1276" y="1119"/>
                  </a:lnTo>
                  <a:lnTo>
                    <a:pt x="1281" y="1119"/>
                  </a:lnTo>
                  <a:lnTo>
                    <a:pt x="1291" y="1119"/>
                  </a:lnTo>
                  <a:lnTo>
                    <a:pt x="1296" y="1119"/>
                  </a:lnTo>
                  <a:lnTo>
                    <a:pt x="1307" y="1119"/>
                  </a:lnTo>
                  <a:lnTo>
                    <a:pt x="1312" y="1119"/>
                  </a:lnTo>
                  <a:lnTo>
                    <a:pt x="1322" y="1119"/>
                  </a:lnTo>
                  <a:lnTo>
                    <a:pt x="1327" y="1119"/>
                  </a:lnTo>
                  <a:lnTo>
                    <a:pt x="1338" y="1119"/>
                  </a:lnTo>
                  <a:lnTo>
                    <a:pt x="1343" y="1119"/>
                  </a:lnTo>
                  <a:lnTo>
                    <a:pt x="1353" y="1119"/>
                  </a:lnTo>
                  <a:lnTo>
                    <a:pt x="1363" y="1119"/>
                  </a:lnTo>
                  <a:lnTo>
                    <a:pt x="1369" y="1119"/>
                  </a:lnTo>
                  <a:lnTo>
                    <a:pt x="1378" y="1119"/>
                  </a:lnTo>
                  <a:lnTo>
                    <a:pt x="1384" y="1119"/>
                  </a:lnTo>
                  <a:lnTo>
                    <a:pt x="1394" y="1119"/>
                  </a:lnTo>
                  <a:lnTo>
                    <a:pt x="1400" y="1119"/>
                  </a:lnTo>
                  <a:lnTo>
                    <a:pt x="1409" y="1119"/>
                  </a:lnTo>
                  <a:lnTo>
                    <a:pt x="1415" y="1119"/>
                  </a:lnTo>
                  <a:lnTo>
                    <a:pt x="1425" y="1119"/>
                  </a:lnTo>
                  <a:lnTo>
                    <a:pt x="1431" y="1119"/>
                  </a:lnTo>
                  <a:lnTo>
                    <a:pt x="1440" y="1119"/>
                  </a:lnTo>
                  <a:lnTo>
                    <a:pt x="1446" y="1119"/>
                  </a:lnTo>
                  <a:lnTo>
                    <a:pt x="1456" y="1119"/>
                  </a:lnTo>
                  <a:lnTo>
                    <a:pt x="1462" y="1119"/>
                  </a:lnTo>
                  <a:lnTo>
                    <a:pt x="1471" y="1119"/>
                  </a:lnTo>
                  <a:lnTo>
                    <a:pt x="1482" y="1119"/>
                  </a:lnTo>
                  <a:lnTo>
                    <a:pt x="1487" y="1119"/>
                  </a:lnTo>
                  <a:lnTo>
                    <a:pt x="1498" y="1119"/>
                  </a:lnTo>
                  <a:lnTo>
                    <a:pt x="1502" y="1119"/>
                  </a:lnTo>
                  <a:lnTo>
                    <a:pt x="1513" y="1119"/>
                  </a:lnTo>
                  <a:lnTo>
                    <a:pt x="1518" y="1119"/>
                  </a:lnTo>
                  <a:lnTo>
                    <a:pt x="1529" y="1119"/>
                  </a:lnTo>
                  <a:lnTo>
                    <a:pt x="1533" y="1119"/>
                  </a:lnTo>
                  <a:lnTo>
                    <a:pt x="1544" y="1119"/>
                  </a:lnTo>
                  <a:lnTo>
                    <a:pt x="1549" y="1119"/>
                  </a:lnTo>
                  <a:lnTo>
                    <a:pt x="1560" y="1119"/>
                  </a:lnTo>
                  <a:lnTo>
                    <a:pt x="1564" y="1119"/>
                  </a:lnTo>
                  <a:lnTo>
                    <a:pt x="1575" y="1119"/>
                  </a:lnTo>
                  <a:lnTo>
                    <a:pt x="1580" y="1119"/>
                  </a:lnTo>
                  <a:lnTo>
                    <a:pt x="1575" y="1119"/>
                  </a:lnTo>
                  <a:lnTo>
                    <a:pt x="1564" y="1119"/>
                  </a:lnTo>
                  <a:lnTo>
                    <a:pt x="1560" y="1119"/>
                  </a:lnTo>
                  <a:lnTo>
                    <a:pt x="1549" y="1119"/>
                  </a:lnTo>
                  <a:lnTo>
                    <a:pt x="1544" y="1119"/>
                  </a:lnTo>
                  <a:lnTo>
                    <a:pt x="1533" y="1119"/>
                  </a:lnTo>
                  <a:lnTo>
                    <a:pt x="1529" y="1119"/>
                  </a:lnTo>
                  <a:lnTo>
                    <a:pt x="1518" y="1119"/>
                  </a:lnTo>
                  <a:lnTo>
                    <a:pt x="1513" y="1119"/>
                  </a:lnTo>
                  <a:lnTo>
                    <a:pt x="1502" y="1119"/>
                  </a:lnTo>
                  <a:lnTo>
                    <a:pt x="1498" y="1119"/>
                  </a:lnTo>
                  <a:lnTo>
                    <a:pt x="1487" y="1119"/>
                  </a:lnTo>
                  <a:lnTo>
                    <a:pt x="1482" y="1119"/>
                  </a:lnTo>
                  <a:lnTo>
                    <a:pt x="1471" y="1119"/>
                  </a:lnTo>
                  <a:lnTo>
                    <a:pt x="1462" y="1119"/>
                  </a:lnTo>
                  <a:lnTo>
                    <a:pt x="1456" y="1119"/>
                  </a:lnTo>
                  <a:lnTo>
                    <a:pt x="1446" y="1119"/>
                  </a:lnTo>
                  <a:lnTo>
                    <a:pt x="1440" y="1119"/>
                  </a:lnTo>
                  <a:lnTo>
                    <a:pt x="1431" y="1119"/>
                  </a:lnTo>
                  <a:lnTo>
                    <a:pt x="1425" y="1119"/>
                  </a:lnTo>
                  <a:lnTo>
                    <a:pt x="1415" y="1119"/>
                  </a:lnTo>
                  <a:lnTo>
                    <a:pt x="1409" y="1119"/>
                  </a:lnTo>
                  <a:lnTo>
                    <a:pt x="1400" y="1119"/>
                  </a:lnTo>
                  <a:lnTo>
                    <a:pt x="1394" y="1119"/>
                  </a:lnTo>
                  <a:lnTo>
                    <a:pt x="1384" y="1119"/>
                  </a:lnTo>
                  <a:lnTo>
                    <a:pt x="1378" y="1119"/>
                  </a:lnTo>
                  <a:lnTo>
                    <a:pt x="1369" y="1119"/>
                  </a:lnTo>
                  <a:lnTo>
                    <a:pt x="1363" y="1119"/>
                  </a:lnTo>
                  <a:lnTo>
                    <a:pt x="1353" y="1119"/>
                  </a:lnTo>
                  <a:lnTo>
                    <a:pt x="1343" y="1119"/>
                  </a:lnTo>
                  <a:lnTo>
                    <a:pt x="1338" y="1119"/>
                  </a:lnTo>
                  <a:lnTo>
                    <a:pt x="1327" y="1119"/>
                  </a:lnTo>
                  <a:lnTo>
                    <a:pt x="1322" y="1119"/>
                  </a:lnTo>
                  <a:lnTo>
                    <a:pt x="1312" y="1119"/>
                  </a:lnTo>
                  <a:lnTo>
                    <a:pt x="1307" y="1119"/>
                  </a:lnTo>
                  <a:lnTo>
                    <a:pt x="1296" y="1119"/>
                  </a:lnTo>
                  <a:lnTo>
                    <a:pt x="1291" y="1119"/>
                  </a:lnTo>
                  <a:lnTo>
                    <a:pt x="1281" y="1119"/>
                  </a:lnTo>
                  <a:lnTo>
                    <a:pt x="1276" y="1119"/>
                  </a:lnTo>
                  <a:lnTo>
                    <a:pt x="1265" y="1119"/>
                  </a:lnTo>
                  <a:lnTo>
                    <a:pt x="1260" y="1119"/>
                  </a:lnTo>
                  <a:lnTo>
                    <a:pt x="1250" y="1119"/>
                  </a:lnTo>
                  <a:lnTo>
                    <a:pt x="1239" y="1119"/>
                  </a:lnTo>
                  <a:lnTo>
                    <a:pt x="1234" y="1119"/>
                  </a:lnTo>
                  <a:lnTo>
                    <a:pt x="1223" y="1119"/>
                  </a:lnTo>
                  <a:lnTo>
                    <a:pt x="1219" y="1119"/>
                  </a:lnTo>
                  <a:lnTo>
                    <a:pt x="1208" y="1119"/>
                  </a:lnTo>
                  <a:lnTo>
                    <a:pt x="1203" y="1119"/>
                  </a:lnTo>
                  <a:lnTo>
                    <a:pt x="1192" y="1119"/>
                  </a:lnTo>
                  <a:lnTo>
                    <a:pt x="1188" y="1119"/>
                  </a:lnTo>
                  <a:lnTo>
                    <a:pt x="1177" y="1119"/>
                  </a:lnTo>
                  <a:lnTo>
                    <a:pt x="1172" y="1119"/>
                  </a:lnTo>
                  <a:lnTo>
                    <a:pt x="1161" y="1119"/>
                  </a:lnTo>
                  <a:lnTo>
                    <a:pt x="1157" y="1119"/>
                  </a:lnTo>
                  <a:lnTo>
                    <a:pt x="1146" y="1119"/>
                  </a:lnTo>
                  <a:lnTo>
                    <a:pt x="1141" y="1119"/>
                  </a:lnTo>
                  <a:lnTo>
                    <a:pt x="1132" y="1119"/>
                  </a:lnTo>
                  <a:lnTo>
                    <a:pt x="1121" y="1119"/>
                  </a:lnTo>
                  <a:lnTo>
                    <a:pt x="1116" y="1119"/>
                  </a:lnTo>
                  <a:lnTo>
                    <a:pt x="1105" y="1119"/>
                  </a:lnTo>
                  <a:lnTo>
                    <a:pt x="1101" y="1119"/>
                  </a:lnTo>
                  <a:lnTo>
                    <a:pt x="1090" y="1119"/>
                  </a:lnTo>
                  <a:lnTo>
                    <a:pt x="1085" y="1119"/>
                  </a:lnTo>
                  <a:lnTo>
                    <a:pt x="1074" y="1119"/>
                  </a:lnTo>
                  <a:lnTo>
                    <a:pt x="1070" y="1119"/>
                  </a:lnTo>
                  <a:lnTo>
                    <a:pt x="1059" y="1119"/>
                  </a:lnTo>
                  <a:lnTo>
                    <a:pt x="1054" y="1119"/>
                  </a:lnTo>
                  <a:lnTo>
                    <a:pt x="1043" y="1119"/>
                  </a:lnTo>
                  <a:lnTo>
                    <a:pt x="1039" y="1119"/>
                  </a:lnTo>
                  <a:lnTo>
                    <a:pt x="1028" y="1119"/>
                  </a:lnTo>
                  <a:lnTo>
                    <a:pt x="1023" y="1119"/>
                  </a:lnTo>
                  <a:lnTo>
                    <a:pt x="1012" y="1119"/>
                  </a:lnTo>
                  <a:lnTo>
                    <a:pt x="1002" y="1119"/>
                  </a:lnTo>
                  <a:lnTo>
                    <a:pt x="997" y="1119"/>
                  </a:lnTo>
                  <a:lnTo>
                    <a:pt x="986" y="1119"/>
                  </a:lnTo>
                  <a:lnTo>
                    <a:pt x="981" y="1119"/>
                  </a:lnTo>
                  <a:lnTo>
                    <a:pt x="971" y="1119"/>
                  </a:lnTo>
                  <a:lnTo>
                    <a:pt x="966" y="1119"/>
                  </a:lnTo>
                  <a:lnTo>
                    <a:pt x="955" y="1119"/>
                  </a:lnTo>
                  <a:lnTo>
                    <a:pt x="950" y="1119"/>
                  </a:lnTo>
                  <a:lnTo>
                    <a:pt x="940" y="1119"/>
                  </a:lnTo>
                  <a:lnTo>
                    <a:pt x="935" y="1119"/>
                  </a:lnTo>
                  <a:lnTo>
                    <a:pt x="924" y="1119"/>
                  </a:lnTo>
                  <a:lnTo>
                    <a:pt x="919" y="1119"/>
                  </a:lnTo>
                  <a:lnTo>
                    <a:pt x="909" y="1119"/>
                  </a:lnTo>
                  <a:lnTo>
                    <a:pt x="899" y="1119"/>
                  </a:lnTo>
                  <a:lnTo>
                    <a:pt x="893" y="1119"/>
                  </a:lnTo>
                  <a:lnTo>
                    <a:pt x="884" y="1119"/>
                  </a:lnTo>
                  <a:lnTo>
                    <a:pt x="878" y="1119"/>
                  </a:lnTo>
                  <a:lnTo>
                    <a:pt x="868" y="1119"/>
                  </a:lnTo>
                  <a:lnTo>
                    <a:pt x="862" y="1119"/>
                  </a:lnTo>
                  <a:lnTo>
                    <a:pt x="853" y="1119"/>
                  </a:lnTo>
                  <a:lnTo>
                    <a:pt x="847" y="1119"/>
                  </a:lnTo>
                  <a:lnTo>
                    <a:pt x="837" y="1119"/>
                  </a:lnTo>
                  <a:lnTo>
                    <a:pt x="831" y="1119"/>
                  </a:lnTo>
                  <a:lnTo>
                    <a:pt x="822" y="1119"/>
                  </a:lnTo>
                  <a:lnTo>
                    <a:pt x="816" y="1119"/>
                  </a:lnTo>
                  <a:lnTo>
                    <a:pt x="806" y="1119"/>
                  </a:lnTo>
                  <a:lnTo>
                    <a:pt x="800" y="1119"/>
                  </a:lnTo>
                  <a:lnTo>
                    <a:pt x="791" y="1119"/>
                  </a:lnTo>
                  <a:lnTo>
                    <a:pt x="780" y="1119"/>
                  </a:lnTo>
                  <a:lnTo>
                    <a:pt x="775" y="1119"/>
                  </a:lnTo>
                  <a:lnTo>
                    <a:pt x="764" y="1119"/>
                  </a:lnTo>
                  <a:lnTo>
                    <a:pt x="760" y="1119"/>
                  </a:lnTo>
                  <a:lnTo>
                    <a:pt x="749" y="1119"/>
                  </a:lnTo>
                  <a:lnTo>
                    <a:pt x="744" y="1119"/>
                  </a:lnTo>
                  <a:lnTo>
                    <a:pt x="733" y="1119"/>
                  </a:lnTo>
                  <a:lnTo>
                    <a:pt x="729" y="1119"/>
                  </a:lnTo>
                  <a:lnTo>
                    <a:pt x="718" y="1119"/>
                  </a:lnTo>
                  <a:lnTo>
                    <a:pt x="713" y="1119"/>
                  </a:lnTo>
                  <a:lnTo>
                    <a:pt x="702" y="1119"/>
                  </a:lnTo>
                  <a:lnTo>
                    <a:pt x="698" y="1119"/>
                  </a:lnTo>
                  <a:lnTo>
                    <a:pt x="687" y="1119"/>
                  </a:lnTo>
                  <a:lnTo>
                    <a:pt x="682" y="1119"/>
                  </a:lnTo>
                  <a:lnTo>
                    <a:pt x="671" y="1119"/>
                  </a:lnTo>
                  <a:lnTo>
                    <a:pt x="661" y="1119"/>
                  </a:lnTo>
                  <a:lnTo>
                    <a:pt x="656" y="1119"/>
                  </a:lnTo>
                  <a:lnTo>
                    <a:pt x="645" y="1119"/>
                  </a:lnTo>
                  <a:lnTo>
                    <a:pt x="640" y="1119"/>
                  </a:lnTo>
                  <a:lnTo>
                    <a:pt x="630" y="1119"/>
                  </a:lnTo>
                  <a:lnTo>
                    <a:pt x="625" y="1119"/>
                  </a:lnTo>
                  <a:lnTo>
                    <a:pt x="614" y="1119"/>
                  </a:lnTo>
                  <a:lnTo>
                    <a:pt x="609" y="1119"/>
                  </a:lnTo>
                  <a:lnTo>
                    <a:pt x="599" y="1119"/>
                  </a:lnTo>
                  <a:lnTo>
                    <a:pt x="594" y="1119"/>
                  </a:lnTo>
                  <a:lnTo>
                    <a:pt x="583" y="1119"/>
                  </a:lnTo>
                  <a:lnTo>
                    <a:pt x="578" y="1119"/>
                  </a:lnTo>
                  <a:lnTo>
                    <a:pt x="568" y="1119"/>
                  </a:lnTo>
                  <a:lnTo>
                    <a:pt x="558" y="1119"/>
                  </a:lnTo>
                  <a:lnTo>
                    <a:pt x="552" y="1119"/>
                  </a:lnTo>
                  <a:lnTo>
                    <a:pt x="543" y="1119"/>
                  </a:lnTo>
                  <a:lnTo>
                    <a:pt x="537" y="1119"/>
                  </a:lnTo>
                  <a:lnTo>
                    <a:pt x="527" y="1119"/>
                  </a:lnTo>
                  <a:lnTo>
                    <a:pt x="521" y="1119"/>
                  </a:lnTo>
                  <a:lnTo>
                    <a:pt x="512" y="1119"/>
                  </a:lnTo>
                  <a:lnTo>
                    <a:pt x="506" y="1119"/>
                  </a:lnTo>
                  <a:lnTo>
                    <a:pt x="496" y="1119"/>
                  </a:lnTo>
                  <a:lnTo>
                    <a:pt x="490" y="1119"/>
                  </a:lnTo>
                  <a:lnTo>
                    <a:pt x="481" y="1119"/>
                  </a:lnTo>
                  <a:lnTo>
                    <a:pt x="475" y="1119"/>
                  </a:lnTo>
                  <a:lnTo>
                    <a:pt x="465" y="1119"/>
                  </a:lnTo>
                  <a:lnTo>
                    <a:pt x="459" y="1119"/>
                  </a:lnTo>
                  <a:lnTo>
                    <a:pt x="450" y="1119"/>
                  </a:lnTo>
                  <a:lnTo>
                    <a:pt x="439" y="1119"/>
                  </a:lnTo>
                  <a:lnTo>
                    <a:pt x="434" y="1119"/>
                  </a:lnTo>
                  <a:lnTo>
                    <a:pt x="423" y="1119"/>
                  </a:lnTo>
                  <a:lnTo>
                    <a:pt x="419" y="1119"/>
                  </a:lnTo>
                  <a:lnTo>
                    <a:pt x="408" y="1119"/>
                  </a:lnTo>
                  <a:lnTo>
                    <a:pt x="403" y="1119"/>
                  </a:lnTo>
                  <a:lnTo>
                    <a:pt x="392" y="1119"/>
                  </a:lnTo>
                  <a:lnTo>
                    <a:pt x="388" y="1119"/>
                  </a:lnTo>
                  <a:lnTo>
                    <a:pt x="377" y="1119"/>
                  </a:lnTo>
                  <a:lnTo>
                    <a:pt x="372" y="1119"/>
                  </a:lnTo>
                  <a:lnTo>
                    <a:pt x="361" y="1119"/>
                  </a:lnTo>
                  <a:lnTo>
                    <a:pt x="357" y="1119"/>
                  </a:lnTo>
                  <a:lnTo>
                    <a:pt x="346" y="1119"/>
                  </a:lnTo>
                  <a:lnTo>
                    <a:pt x="341" y="1119"/>
                  </a:lnTo>
                  <a:lnTo>
                    <a:pt x="330" y="1119"/>
                  </a:lnTo>
                  <a:lnTo>
                    <a:pt x="321" y="1119"/>
                  </a:lnTo>
                  <a:lnTo>
                    <a:pt x="315" y="1119"/>
                  </a:lnTo>
                  <a:lnTo>
                    <a:pt x="305" y="1119"/>
                  </a:lnTo>
                  <a:lnTo>
                    <a:pt x="299" y="1119"/>
                  </a:lnTo>
                  <a:lnTo>
                    <a:pt x="290" y="1119"/>
                  </a:lnTo>
                  <a:lnTo>
                    <a:pt x="284" y="1119"/>
                  </a:lnTo>
                  <a:lnTo>
                    <a:pt x="274" y="1119"/>
                  </a:lnTo>
                  <a:lnTo>
                    <a:pt x="268" y="1119"/>
                  </a:lnTo>
                  <a:lnTo>
                    <a:pt x="259" y="1119"/>
                  </a:lnTo>
                  <a:lnTo>
                    <a:pt x="253" y="1119"/>
                  </a:lnTo>
                  <a:lnTo>
                    <a:pt x="243" y="1119"/>
                  </a:lnTo>
                  <a:lnTo>
                    <a:pt x="237" y="1119"/>
                  </a:lnTo>
                  <a:lnTo>
                    <a:pt x="228" y="1119"/>
                  </a:lnTo>
                  <a:lnTo>
                    <a:pt x="217" y="1119"/>
                  </a:lnTo>
                  <a:lnTo>
                    <a:pt x="212" y="1119"/>
                  </a:lnTo>
                  <a:lnTo>
                    <a:pt x="202" y="1119"/>
                  </a:lnTo>
                  <a:lnTo>
                    <a:pt x="197" y="1119"/>
                  </a:lnTo>
                  <a:lnTo>
                    <a:pt x="186" y="1119"/>
                  </a:lnTo>
                  <a:lnTo>
                    <a:pt x="181" y="1119"/>
                  </a:lnTo>
                  <a:lnTo>
                    <a:pt x="171" y="1119"/>
                  </a:lnTo>
                  <a:lnTo>
                    <a:pt x="166" y="1119"/>
                  </a:lnTo>
                  <a:lnTo>
                    <a:pt x="155" y="1119"/>
                  </a:lnTo>
                  <a:lnTo>
                    <a:pt x="150" y="1119"/>
                  </a:lnTo>
                  <a:lnTo>
                    <a:pt x="140" y="1119"/>
                  </a:lnTo>
                  <a:lnTo>
                    <a:pt x="135" y="1119"/>
                  </a:lnTo>
                  <a:lnTo>
                    <a:pt x="124" y="1119"/>
                  </a:lnTo>
                  <a:lnTo>
                    <a:pt x="119" y="1119"/>
                  </a:lnTo>
                  <a:lnTo>
                    <a:pt x="109" y="1119"/>
                  </a:lnTo>
                  <a:lnTo>
                    <a:pt x="98" y="1119"/>
                  </a:lnTo>
                  <a:lnTo>
                    <a:pt x="93" y="1119"/>
                  </a:lnTo>
                  <a:lnTo>
                    <a:pt x="82" y="1119"/>
                  </a:lnTo>
                  <a:lnTo>
                    <a:pt x="78" y="1119"/>
                  </a:lnTo>
                  <a:lnTo>
                    <a:pt x="67" y="1119"/>
                  </a:lnTo>
                  <a:lnTo>
                    <a:pt x="62" y="1119"/>
                  </a:lnTo>
                  <a:lnTo>
                    <a:pt x="51" y="1119"/>
                  </a:lnTo>
                  <a:lnTo>
                    <a:pt x="47" y="1119"/>
                  </a:lnTo>
                  <a:lnTo>
                    <a:pt x="36" y="1119"/>
                  </a:lnTo>
                  <a:lnTo>
                    <a:pt x="31" y="1119"/>
                  </a:lnTo>
                  <a:lnTo>
                    <a:pt x="20" y="1119"/>
                  </a:lnTo>
                  <a:lnTo>
                    <a:pt x="16" y="1119"/>
                  </a:lnTo>
                  <a:lnTo>
                    <a:pt x="5" y="1119"/>
                  </a:lnTo>
                  <a:lnTo>
                    <a:pt x="0" y="1119"/>
                  </a:lnTo>
                </a:path>
              </a:pathLst>
            </a:cu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custGeom>
              <a:avLst/>
              <a:gdLst>
                <a:gd name="textAreaLeft" fmla="*/ 0 w 3433680"/>
                <a:gd name="textAreaRight" fmla="*/ 3434040 w 3433680"/>
                <a:gd name="textAreaTop" fmla="*/ 0 h 869760"/>
                <a:gd name="textAreaBottom" fmla="*/ 870120 h 869760"/>
              </a:gdLst>
              <a:ahLst/>
              <a:rect l="textAreaLeft" t="textAreaTop" r="textAreaRight" b="textAreaBottom"/>
              <a:pathLst>
                <a:path w="1581" h="475">
                  <a:moveTo>
                    <a:pt x="0" y="474"/>
                  </a:moveTo>
                  <a:lnTo>
                    <a:pt x="5" y="474"/>
                  </a:lnTo>
                  <a:lnTo>
                    <a:pt x="16" y="474"/>
                  </a:lnTo>
                  <a:lnTo>
                    <a:pt x="20" y="474"/>
                  </a:lnTo>
                  <a:lnTo>
                    <a:pt x="31" y="474"/>
                  </a:lnTo>
                  <a:lnTo>
                    <a:pt x="36" y="474"/>
                  </a:lnTo>
                  <a:lnTo>
                    <a:pt x="47" y="474"/>
                  </a:lnTo>
                  <a:lnTo>
                    <a:pt x="51" y="474"/>
                  </a:lnTo>
                  <a:lnTo>
                    <a:pt x="62" y="474"/>
                  </a:lnTo>
                  <a:lnTo>
                    <a:pt x="67" y="474"/>
                  </a:lnTo>
                  <a:lnTo>
                    <a:pt x="78" y="474"/>
                  </a:lnTo>
                  <a:lnTo>
                    <a:pt x="82" y="474"/>
                  </a:lnTo>
                  <a:lnTo>
                    <a:pt x="93" y="474"/>
                  </a:lnTo>
                  <a:lnTo>
                    <a:pt x="98" y="474"/>
                  </a:lnTo>
                  <a:lnTo>
                    <a:pt x="109" y="474"/>
                  </a:lnTo>
                  <a:lnTo>
                    <a:pt x="119" y="474"/>
                  </a:lnTo>
                  <a:lnTo>
                    <a:pt x="124" y="474"/>
                  </a:lnTo>
                  <a:lnTo>
                    <a:pt x="135" y="474"/>
                  </a:lnTo>
                  <a:lnTo>
                    <a:pt x="140" y="474"/>
                  </a:lnTo>
                  <a:lnTo>
                    <a:pt x="150" y="474"/>
                  </a:lnTo>
                  <a:lnTo>
                    <a:pt x="155" y="474"/>
                  </a:lnTo>
                  <a:lnTo>
                    <a:pt x="166" y="474"/>
                  </a:lnTo>
                  <a:lnTo>
                    <a:pt x="171" y="474"/>
                  </a:lnTo>
                  <a:lnTo>
                    <a:pt x="181" y="474"/>
                  </a:lnTo>
                  <a:lnTo>
                    <a:pt x="186" y="474"/>
                  </a:lnTo>
                  <a:lnTo>
                    <a:pt x="197" y="474"/>
                  </a:lnTo>
                  <a:lnTo>
                    <a:pt x="202" y="474"/>
                  </a:lnTo>
                  <a:lnTo>
                    <a:pt x="212" y="474"/>
                  </a:lnTo>
                  <a:lnTo>
                    <a:pt x="217" y="474"/>
                  </a:lnTo>
                  <a:lnTo>
                    <a:pt x="228" y="474"/>
                  </a:lnTo>
                  <a:lnTo>
                    <a:pt x="237" y="474"/>
                  </a:lnTo>
                  <a:lnTo>
                    <a:pt x="243" y="474"/>
                  </a:lnTo>
                  <a:lnTo>
                    <a:pt x="253" y="474"/>
                  </a:lnTo>
                  <a:lnTo>
                    <a:pt x="259" y="474"/>
                  </a:lnTo>
                  <a:lnTo>
                    <a:pt x="268" y="474"/>
                  </a:lnTo>
                  <a:lnTo>
                    <a:pt x="274" y="469"/>
                  </a:lnTo>
                  <a:lnTo>
                    <a:pt x="284" y="469"/>
                  </a:lnTo>
                  <a:lnTo>
                    <a:pt x="290" y="469"/>
                  </a:lnTo>
                  <a:lnTo>
                    <a:pt x="299" y="469"/>
                  </a:lnTo>
                  <a:lnTo>
                    <a:pt x="305" y="463"/>
                  </a:lnTo>
                  <a:lnTo>
                    <a:pt x="315" y="463"/>
                  </a:lnTo>
                  <a:lnTo>
                    <a:pt x="321" y="463"/>
                  </a:lnTo>
                  <a:lnTo>
                    <a:pt x="330" y="459"/>
                  </a:lnTo>
                  <a:lnTo>
                    <a:pt x="341" y="459"/>
                  </a:lnTo>
                  <a:lnTo>
                    <a:pt x="346" y="454"/>
                  </a:lnTo>
                  <a:lnTo>
                    <a:pt x="357" y="454"/>
                  </a:lnTo>
                  <a:lnTo>
                    <a:pt x="361" y="448"/>
                  </a:lnTo>
                  <a:lnTo>
                    <a:pt x="372" y="443"/>
                  </a:lnTo>
                  <a:lnTo>
                    <a:pt x="377" y="438"/>
                  </a:lnTo>
                  <a:lnTo>
                    <a:pt x="388" y="432"/>
                  </a:lnTo>
                  <a:lnTo>
                    <a:pt x="392" y="428"/>
                  </a:lnTo>
                  <a:lnTo>
                    <a:pt x="403" y="423"/>
                  </a:lnTo>
                  <a:lnTo>
                    <a:pt x="408" y="412"/>
                  </a:lnTo>
                  <a:lnTo>
                    <a:pt x="419" y="407"/>
                  </a:lnTo>
                  <a:lnTo>
                    <a:pt x="423" y="397"/>
                  </a:lnTo>
                  <a:lnTo>
                    <a:pt x="434" y="386"/>
                  </a:lnTo>
                  <a:lnTo>
                    <a:pt x="439" y="377"/>
                  </a:lnTo>
                  <a:lnTo>
                    <a:pt x="450" y="366"/>
                  </a:lnTo>
                  <a:lnTo>
                    <a:pt x="459" y="355"/>
                  </a:lnTo>
                  <a:lnTo>
                    <a:pt x="465" y="340"/>
                  </a:lnTo>
                  <a:lnTo>
                    <a:pt x="475" y="324"/>
                  </a:lnTo>
                  <a:lnTo>
                    <a:pt x="481" y="309"/>
                  </a:lnTo>
                  <a:lnTo>
                    <a:pt x="490" y="293"/>
                  </a:lnTo>
                  <a:lnTo>
                    <a:pt x="496" y="278"/>
                  </a:lnTo>
                  <a:lnTo>
                    <a:pt x="506" y="258"/>
                  </a:lnTo>
                  <a:lnTo>
                    <a:pt x="512" y="236"/>
                  </a:lnTo>
                  <a:lnTo>
                    <a:pt x="521" y="216"/>
                  </a:lnTo>
                  <a:lnTo>
                    <a:pt x="527" y="190"/>
                  </a:lnTo>
                  <a:lnTo>
                    <a:pt x="537" y="170"/>
                  </a:lnTo>
                  <a:lnTo>
                    <a:pt x="543" y="144"/>
                  </a:lnTo>
                  <a:lnTo>
                    <a:pt x="552" y="119"/>
                  </a:lnTo>
                  <a:lnTo>
                    <a:pt x="558" y="88"/>
                  </a:lnTo>
                  <a:lnTo>
                    <a:pt x="568" y="62"/>
                  </a:lnTo>
                  <a:lnTo>
                    <a:pt x="578" y="31"/>
                  </a:lnTo>
                  <a:lnTo>
                    <a:pt x="583" y="0"/>
                  </a:lnTo>
                  <a:lnTo>
                    <a:pt x="594" y="474"/>
                  </a:lnTo>
                  <a:lnTo>
                    <a:pt x="599" y="474"/>
                  </a:lnTo>
                  <a:lnTo>
                    <a:pt x="609" y="474"/>
                  </a:lnTo>
                  <a:lnTo>
                    <a:pt x="614" y="474"/>
                  </a:lnTo>
                  <a:lnTo>
                    <a:pt x="625" y="474"/>
                  </a:lnTo>
                  <a:lnTo>
                    <a:pt x="630" y="474"/>
                  </a:lnTo>
                  <a:lnTo>
                    <a:pt x="640" y="474"/>
                  </a:lnTo>
                  <a:lnTo>
                    <a:pt x="645" y="474"/>
                  </a:lnTo>
                  <a:lnTo>
                    <a:pt x="656" y="474"/>
                  </a:lnTo>
                  <a:lnTo>
                    <a:pt x="661" y="474"/>
                  </a:lnTo>
                  <a:lnTo>
                    <a:pt x="671" y="474"/>
                  </a:lnTo>
                  <a:lnTo>
                    <a:pt x="682" y="474"/>
                  </a:lnTo>
                  <a:lnTo>
                    <a:pt x="687" y="474"/>
                  </a:lnTo>
                  <a:lnTo>
                    <a:pt x="698" y="474"/>
                  </a:lnTo>
                  <a:lnTo>
                    <a:pt x="702" y="474"/>
                  </a:lnTo>
                  <a:lnTo>
                    <a:pt x="713" y="474"/>
                  </a:lnTo>
                  <a:lnTo>
                    <a:pt x="718" y="474"/>
                  </a:lnTo>
                  <a:lnTo>
                    <a:pt x="729" y="474"/>
                  </a:lnTo>
                  <a:lnTo>
                    <a:pt x="733" y="474"/>
                  </a:lnTo>
                  <a:lnTo>
                    <a:pt x="744" y="474"/>
                  </a:lnTo>
                  <a:lnTo>
                    <a:pt x="749" y="474"/>
                  </a:lnTo>
                  <a:lnTo>
                    <a:pt x="760" y="474"/>
                  </a:lnTo>
                  <a:lnTo>
                    <a:pt x="764" y="474"/>
                  </a:lnTo>
                  <a:lnTo>
                    <a:pt x="775" y="474"/>
                  </a:lnTo>
                  <a:lnTo>
                    <a:pt x="780" y="474"/>
                  </a:lnTo>
                  <a:lnTo>
                    <a:pt x="791" y="474"/>
                  </a:lnTo>
                  <a:lnTo>
                    <a:pt x="800" y="474"/>
                  </a:lnTo>
                  <a:lnTo>
                    <a:pt x="806" y="474"/>
                  </a:lnTo>
                  <a:lnTo>
                    <a:pt x="816" y="474"/>
                  </a:lnTo>
                  <a:lnTo>
                    <a:pt x="822" y="474"/>
                  </a:lnTo>
                  <a:lnTo>
                    <a:pt x="831" y="474"/>
                  </a:lnTo>
                  <a:lnTo>
                    <a:pt x="837" y="474"/>
                  </a:lnTo>
                  <a:lnTo>
                    <a:pt x="847" y="474"/>
                  </a:lnTo>
                  <a:lnTo>
                    <a:pt x="853" y="474"/>
                  </a:lnTo>
                  <a:lnTo>
                    <a:pt x="862" y="474"/>
                  </a:lnTo>
                  <a:lnTo>
                    <a:pt x="868" y="474"/>
                  </a:lnTo>
                  <a:lnTo>
                    <a:pt x="878" y="474"/>
                  </a:lnTo>
                  <a:lnTo>
                    <a:pt x="884" y="474"/>
                  </a:lnTo>
                  <a:lnTo>
                    <a:pt x="893" y="474"/>
                  </a:lnTo>
                  <a:lnTo>
                    <a:pt x="899" y="474"/>
                  </a:lnTo>
                  <a:lnTo>
                    <a:pt x="909" y="474"/>
                  </a:lnTo>
                  <a:lnTo>
                    <a:pt x="919" y="474"/>
                  </a:lnTo>
                  <a:lnTo>
                    <a:pt x="924" y="474"/>
                  </a:lnTo>
                  <a:lnTo>
                    <a:pt x="935" y="474"/>
                  </a:lnTo>
                  <a:lnTo>
                    <a:pt x="940" y="474"/>
                  </a:lnTo>
                  <a:lnTo>
                    <a:pt x="950" y="474"/>
                  </a:lnTo>
                  <a:lnTo>
                    <a:pt x="955" y="474"/>
                  </a:lnTo>
                  <a:lnTo>
                    <a:pt x="966" y="474"/>
                  </a:lnTo>
                  <a:lnTo>
                    <a:pt x="971" y="474"/>
                  </a:lnTo>
                  <a:lnTo>
                    <a:pt x="981" y="474"/>
                  </a:lnTo>
                  <a:lnTo>
                    <a:pt x="986" y="474"/>
                  </a:lnTo>
                  <a:lnTo>
                    <a:pt x="997" y="0"/>
                  </a:lnTo>
                  <a:lnTo>
                    <a:pt x="1002" y="31"/>
                  </a:lnTo>
                  <a:lnTo>
                    <a:pt x="1012" y="62"/>
                  </a:lnTo>
                  <a:lnTo>
                    <a:pt x="1023" y="88"/>
                  </a:lnTo>
                  <a:lnTo>
                    <a:pt x="1028" y="119"/>
                  </a:lnTo>
                  <a:lnTo>
                    <a:pt x="1039" y="144"/>
                  </a:lnTo>
                  <a:lnTo>
                    <a:pt x="1043" y="170"/>
                  </a:lnTo>
                  <a:lnTo>
                    <a:pt x="1054" y="190"/>
                  </a:lnTo>
                  <a:lnTo>
                    <a:pt x="1059" y="216"/>
                  </a:lnTo>
                  <a:lnTo>
                    <a:pt x="1070" y="236"/>
                  </a:lnTo>
                  <a:lnTo>
                    <a:pt x="1074" y="258"/>
                  </a:lnTo>
                  <a:lnTo>
                    <a:pt x="1085" y="278"/>
                  </a:lnTo>
                  <a:lnTo>
                    <a:pt x="1090" y="293"/>
                  </a:lnTo>
                  <a:lnTo>
                    <a:pt x="1101" y="309"/>
                  </a:lnTo>
                  <a:lnTo>
                    <a:pt x="1105" y="324"/>
                  </a:lnTo>
                  <a:lnTo>
                    <a:pt x="1116" y="340"/>
                  </a:lnTo>
                  <a:lnTo>
                    <a:pt x="1121" y="355"/>
                  </a:lnTo>
                  <a:lnTo>
                    <a:pt x="1132" y="366"/>
                  </a:lnTo>
                  <a:lnTo>
                    <a:pt x="1141" y="377"/>
                  </a:lnTo>
                  <a:lnTo>
                    <a:pt x="1146" y="386"/>
                  </a:lnTo>
                  <a:lnTo>
                    <a:pt x="1157" y="397"/>
                  </a:lnTo>
                  <a:lnTo>
                    <a:pt x="1161" y="407"/>
                  </a:lnTo>
                  <a:lnTo>
                    <a:pt x="1172" y="412"/>
                  </a:lnTo>
                  <a:lnTo>
                    <a:pt x="1177" y="423"/>
                  </a:lnTo>
                  <a:lnTo>
                    <a:pt x="1188" y="428"/>
                  </a:lnTo>
                  <a:lnTo>
                    <a:pt x="1192" y="432"/>
                  </a:lnTo>
                  <a:lnTo>
                    <a:pt x="1203" y="438"/>
                  </a:lnTo>
                  <a:lnTo>
                    <a:pt x="1208" y="443"/>
                  </a:lnTo>
                  <a:lnTo>
                    <a:pt x="1219" y="448"/>
                  </a:lnTo>
                  <a:lnTo>
                    <a:pt x="1223" y="454"/>
                  </a:lnTo>
                  <a:lnTo>
                    <a:pt x="1234" y="454"/>
                  </a:lnTo>
                  <a:lnTo>
                    <a:pt x="1239" y="459"/>
                  </a:lnTo>
                  <a:lnTo>
                    <a:pt x="1250" y="459"/>
                  </a:lnTo>
                  <a:lnTo>
                    <a:pt x="1260" y="463"/>
                  </a:lnTo>
                  <a:lnTo>
                    <a:pt x="1265" y="463"/>
                  </a:lnTo>
                  <a:lnTo>
                    <a:pt x="1276" y="463"/>
                  </a:lnTo>
                  <a:lnTo>
                    <a:pt x="1281" y="469"/>
                  </a:lnTo>
                  <a:lnTo>
                    <a:pt x="1291" y="469"/>
                  </a:lnTo>
                  <a:lnTo>
                    <a:pt x="1296" y="469"/>
                  </a:lnTo>
                  <a:lnTo>
                    <a:pt x="1307" y="469"/>
                  </a:lnTo>
                  <a:lnTo>
                    <a:pt x="1312" y="474"/>
                  </a:lnTo>
                  <a:lnTo>
                    <a:pt x="1322" y="474"/>
                  </a:lnTo>
                  <a:lnTo>
                    <a:pt x="1327" y="474"/>
                  </a:lnTo>
                  <a:lnTo>
                    <a:pt x="1338" y="474"/>
                  </a:lnTo>
                  <a:lnTo>
                    <a:pt x="1343" y="474"/>
                  </a:lnTo>
                  <a:lnTo>
                    <a:pt x="1353" y="474"/>
                  </a:lnTo>
                  <a:lnTo>
                    <a:pt x="1363" y="474"/>
                  </a:lnTo>
                  <a:lnTo>
                    <a:pt x="1369" y="474"/>
                  </a:lnTo>
                  <a:lnTo>
                    <a:pt x="1378" y="474"/>
                  </a:lnTo>
                  <a:lnTo>
                    <a:pt x="1384" y="474"/>
                  </a:lnTo>
                  <a:lnTo>
                    <a:pt x="1394" y="474"/>
                  </a:lnTo>
                  <a:lnTo>
                    <a:pt x="1400" y="474"/>
                  </a:lnTo>
                  <a:lnTo>
                    <a:pt x="1409" y="474"/>
                  </a:lnTo>
                  <a:lnTo>
                    <a:pt x="1415" y="474"/>
                  </a:lnTo>
                  <a:lnTo>
                    <a:pt x="1425" y="474"/>
                  </a:lnTo>
                  <a:lnTo>
                    <a:pt x="1431" y="474"/>
                  </a:lnTo>
                  <a:lnTo>
                    <a:pt x="1440" y="474"/>
                  </a:lnTo>
                  <a:lnTo>
                    <a:pt x="1446" y="474"/>
                  </a:lnTo>
                  <a:lnTo>
                    <a:pt x="1456" y="474"/>
                  </a:lnTo>
                  <a:lnTo>
                    <a:pt x="1462" y="474"/>
                  </a:lnTo>
                  <a:lnTo>
                    <a:pt x="1471" y="474"/>
                  </a:lnTo>
                  <a:lnTo>
                    <a:pt x="1482" y="474"/>
                  </a:lnTo>
                  <a:lnTo>
                    <a:pt x="1487" y="474"/>
                  </a:lnTo>
                  <a:lnTo>
                    <a:pt x="1498" y="474"/>
                  </a:lnTo>
                  <a:lnTo>
                    <a:pt x="1502" y="474"/>
                  </a:lnTo>
                  <a:lnTo>
                    <a:pt x="1513" y="474"/>
                  </a:lnTo>
                  <a:lnTo>
                    <a:pt x="1518" y="474"/>
                  </a:lnTo>
                  <a:lnTo>
                    <a:pt x="1529" y="474"/>
                  </a:lnTo>
                  <a:lnTo>
                    <a:pt x="1533" y="474"/>
                  </a:lnTo>
                  <a:lnTo>
                    <a:pt x="1544" y="474"/>
                  </a:lnTo>
                  <a:lnTo>
                    <a:pt x="1549" y="474"/>
                  </a:lnTo>
                  <a:lnTo>
                    <a:pt x="1560" y="474"/>
                  </a:lnTo>
                  <a:lnTo>
                    <a:pt x="1564" y="474"/>
                  </a:lnTo>
                  <a:lnTo>
                    <a:pt x="1575" y="474"/>
                  </a:lnTo>
                  <a:lnTo>
                    <a:pt x="1580" y="474"/>
                  </a:lnTo>
                  <a:lnTo>
                    <a:pt x="1575" y="474"/>
                  </a:lnTo>
                  <a:lnTo>
                    <a:pt x="1564" y="474"/>
                  </a:lnTo>
                  <a:lnTo>
                    <a:pt x="1560" y="474"/>
                  </a:lnTo>
                  <a:lnTo>
                    <a:pt x="1549" y="474"/>
                  </a:lnTo>
                  <a:lnTo>
                    <a:pt x="1544" y="474"/>
                  </a:lnTo>
                  <a:lnTo>
                    <a:pt x="1533" y="474"/>
                  </a:lnTo>
                  <a:lnTo>
                    <a:pt x="1529" y="474"/>
                  </a:lnTo>
                  <a:lnTo>
                    <a:pt x="1518" y="474"/>
                  </a:lnTo>
                  <a:lnTo>
                    <a:pt x="1513" y="474"/>
                  </a:lnTo>
                  <a:lnTo>
                    <a:pt x="1502" y="474"/>
                  </a:lnTo>
                  <a:lnTo>
                    <a:pt x="1498" y="474"/>
                  </a:lnTo>
                  <a:lnTo>
                    <a:pt x="1487" y="474"/>
                  </a:lnTo>
                  <a:lnTo>
                    <a:pt x="1482" y="474"/>
                  </a:lnTo>
                  <a:lnTo>
                    <a:pt x="1471" y="474"/>
                  </a:lnTo>
                  <a:lnTo>
                    <a:pt x="1462" y="474"/>
                  </a:lnTo>
                  <a:lnTo>
                    <a:pt x="1456" y="474"/>
                  </a:lnTo>
                  <a:lnTo>
                    <a:pt x="1446" y="474"/>
                  </a:lnTo>
                  <a:lnTo>
                    <a:pt x="1440" y="474"/>
                  </a:lnTo>
                  <a:lnTo>
                    <a:pt x="1431" y="474"/>
                  </a:lnTo>
                  <a:lnTo>
                    <a:pt x="1425" y="474"/>
                  </a:lnTo>
                  <a:lnTo>
                    <a:pt x="1415" y="474"/>
                  </a:lnTo>
                  <a:lnTo>
                    <a:pt x="1409" y="474"/>
                  </a:lnTo>
                  <a:lnTo>
                    <a:pt x="1400" y="474"/>
                  </a:lnTo>
                  <a:lnTo>
                    <a:pt x="1394" y="474"/>
                  </a:lnTo>
                  <a:lnTo>
                    <a:pt x="1384" y="474"/>
                  </a:lnTo>
                  <a:lnTo>
                    <a:pt x="1378" y="474"/>
                  </a:lnTo>
                  <a:lnTo>
                    <a:pt x="1369" y="474"/>
                  </a:lnTo>
                  <a:lnTo>
                    <a:pt x="1363" y="474"/>
                  </a:lnTo>
                  <a:lnTo>
                    <a:pt x="1353" y="474"/>
                  </a:lnTo>
                  <a:lnTo>
                    <a:pt x="1343" y="474"/>
                  </a:lnTo>
                  <a:lnTo>
                    <a:pt x="1338" y="474"/>
                  </a:lnTo>
                  <a:lnTo>
                    <a:pt x="1327" y="474"/>
                  </a:lnTo>
                  <a:lnTo>
                    <a:pt x="1322" y="474"/>
                  </a:lnTo>
                  <a:lnTo>
                    <a:pt x="1312" y="474"/>
                  </a:lnTo>
                  <a:lnTo>
                    <a:pt x="1307" y="474"/>
                  </a:lnTo>
                  <a:lnTo>
                    <a:pt x="1296" y="474"/>
                  </a:lnTo>
                  <a:lnTo>
                    <a:pt x="1291" y="474"/>
                  </a:lnTo>
                  <a:lnTo>
                    <a:pt x="1281" y="474"/>
                  </a:lnTo>
                  <a:lnTo>
                    <a:pt x="1276" y="474"/>
                  </a:lnTo>
                  <a:lnTo>
                    <a:pt x="1265" y="474"/>
                  </a:lnTo>
                  <a:lnTo>
                    <a:pt x="1260" y="474"/>
                  </a:lnTo>
                  <a:lnTo>
                    <a:pt x="1250" y="474"/>
                  </a:lnTo>
                  <a:lnTo>
                    <a:pt x="1239" y="474"/>
                  </a:lnTo>
                  <a:lnTo>
                    <a:pt x="1234" y="474"/>
                  </a:lnTo>
                  <a:lnTo>
                    <a:pt x="1223" y="474"/>
                  </a:lnTo>
                  <a:lnTo>
                    <a:pt x="1219" y="474"/>
                  </a:lnTo>
                  <a:lnTo>
                    <a:pt x="1208" y="474"/>
                  </a:lnTo>
                  <a:lnTo>
                    <a:pt x="1203" y="474"/>
                  </a:lnTo>
                  <a:lnTo>
                    <a:pt x="1192" y="474"/>
                  </a:lnTo>
                  <a:lnTo>
                    <a:pt x="1188" y="474"/>
                  </a:lnTo>
                  <a:lnTo>
                    <a:pt x="1177" y="474"/>
                  </a:lnTo>
                  <a:lnTo>
                    <a:pt x="1172" y="474"/>
                  </a:lnTo>
                  <a:lnTo>
                    <a:pt x="1161" y="474"/>
                  </a:lnTo>
                  <a:lnTo>
                    <a:pt x="1157" y="474"/>
                  </a:lnTo>
                  <a:lnTo>
                    <a:pt x="1146" y="474"/>
                  </a:lnTo>
                  <a:lnTo>
                    <a:pt x="1141" y="474"/>
                  </a:lnTo>
                  <a:lnTo>
                    <a:pt x="1132" y="474"/>
                  </a:lnTo>
                  <a:lnTo>
                    <a:pt x="1121" y="474"/>
                  </a:lnTo>
                  <a:lnTo>
                    <a:pt x="1116" y="474"/>
                  </a:lnTo>
                  <a:lnTo>
                    <a:pt x="1105" y="474"/>
                  </a:lnTo>
                  <a:lnTo>
                    <a:pt x="1101" y="474"/>
                  </a:lnTo>
                  <a:lnTo>
                    <a:pt x="1090" y="474"/>
                  </a:lnTo>
                  <a:lnTo>
                    <a:pt x="1085" y="474"/>
                  </a:lnTo>
                  <a:lnTo>
                    <a:pt x="1074" y="474"/>
                  </a:lnTo>
                  <a:lnTo>
                    <a:pt x="1070" y="474"/>
                  </a:lnTo>
                  <a:lnTo>
                    <a:pt x="1059" y="474"/>
                  </a:lnTo>
                  <a:lnTo>
                    <a:pt x="1054" y="474"/>
                  </a:lnTo>
                  <a:lnTo>
                    <a:pt x="1043" y="474"/>
                  </a:lnTo>
                  <a:lnTo>
                    <a:pt x="1039" y="474"/>
                  </a:lnTo>
                  <a:lnTo>
                    <a:pt x="1028" y="474"/>
                  </a:lnTo>
                  <a:lnTo>
                    <a:pt x="1023" y="474"/>
                  </a:lnTo>
                  <a:lnTo>
                    <a:pt x="1012" y="474"/>
                  </a:lnTo>
                  <a:lnTo>
                    <a:pt x="1002" y="474"/>
                  </a:lnTo>
                  <a:lnTo>
                    <a:pt x="997" y="474"/>
                  </a:lnTo>
                  <a:lnTo>
                    <a:pt x="986" y="474"/>
                  </a:lnTo>
                  <a:lnTo>
                    <a:pt x="981" y="474"/>
                  </a:lnTo>
                  <a:lnTo>
                    <a:pt x="971" y="474"/>
                  </a:lnTo>
                  <a:lnTo>
                    <a:pt x="966" y="474"/>
                  </a:lnTo>
                  <a:lnTo>
                    <a:pt x="955" y="474"/>
                  </a:lnTo>
                  <a:lnTo>
                    <a:pt x="950" y="474"/>
                  </a:lnTo>
                  <a:lnTo>
                    <a:pt x="940" y="474"/>
                  </a:lnTo>
                  <a:lnTo>
                    <a:pt x="935" y="474"/>
                  </a:lnTo>
                  <a:lnTo>
                    <a:pt x="924" y="474"/>
                  </a:lnTo>
                  <a:lnTo>
                    <a:pt x="919" y="474"/>
                  </a:lnTo>
                  <a:lnTo>
                    <a:pt x="909" y="474"/>
                  </a:lnTo>
                  <a:lnTo>
                    <a:pt x="899" y="474"/>
                  </a:lnTo>
                  <a:lnTo>
                    <a:pt x="893" y="474"/>
                  </a:lnTo>
                  <a:lnTo>
                    <a:pt x="884" y="474"/>
                  </a:lnTo>
                  <a:lnTo>
                    <a:pt x="878" y="474"/>
                  </a:lnTo>
                  <a:lnTo>
                    <a:pt x="868" y="474"/>
                  </a:lnTo>
                  <a:lnTo>
                    <a:pt x="862" y="474"/>
                  </a:lnTo>
                  <a:lnTo>
                    <a:pt x="853" y="474"/>
                  </a:lnTo>
                  <a:lnTo>
                    <a:pt x="847" y="474"/>
                  </a:lnTo>
                  <a:lnTo>
                    <a:pt x="837" y="474"/>
                  </a:lnTo>
                  <a:lnTo>
                    <a:pt x="831" y="474"/>
                  </a:lnTo>
                  <a:lnTo>
                    <a:pt x="822" y="474"/>
                  </a:lnTo>
                  <a:lnTo>
                    <a:pt x="816" y="474"/>
                  </a:lnTo>
                  <a:lnTo>
                    <a:pt x="806" y="474"/>
                  </a:lnTo>
                  <a:lnTo>
                    <a:pt x="800" y="474"/>
                  </a:lnTo>
                  <a:lnTo>
                    <a:pt x="791" y="474"/>
                  </a:lnTo>
                  <a:lnTo>
                    <a:pt x="780" y="474"/>
                  </a:lnTo>
                  <a:lnTo>
                    <a:pt x="775" y="474"/>
                  </a:lnTo>
                  <a:lnTo>
                    <a:pt x="764" y="474"/>
                  </a:lnTo>
                  <a:lnTo>
                    <a:pt x="760" y="474"/>
                  </a:lnTo>
                  <a:lnTo>
                    <a:pt x="749" y="474"/>
                  </a:lnTo>
                  <a:lnTo>
                    <a:pt x="744" y="474"/>
                  </a:lnTo>
                  <a:lnTo>
                    <a:pt x="733" y="474"/>
                  </a:lnTo>
                  <a:lnTo>
                    <a:pt x="729" y="474"/>
                  </a:lnTo>
                  <a:lnTo>
                    <a:pt x="718" y="474"/>
                  </a:lnTo>
                  <a:lnTo>
                    <a:pt x="713" y="474"/>
                  </a:lnTo>
                  <a:lnTo>
                    <a:pt x="702" y="474"/>
                  </a:lnTo>
                  <a:lnTo>
                    <a:pt x="698" y="474"/>
                  </a:lnTo>
                  <a:lnTo>
                    <a:pt x="687" y="474"/>
                  </a:lnTo>
                  <a:lnTo>
                    <a:pt x="682" y="474"/>
                  </a:lnTo>
                  <a:lnTo>
                    <a:pt x="671" y="474"/>
                  </a:lnTo>
                  <a:lnTo>
                    <a:pt x="661" y="474"/>
                  </a:lnTo>
                  <a:lnTo>
                    <a:pt x="656" y="474"/>
                  </a:lnTo>
                  <a:lnTo>
                    <a:pt x="645" y="474"/>
                  </a:lnTo>
                  <a:lnTo>
                    <a:pt x="640" y="474"/>
                  </a:lnTo>
                  <a:lnTo>
                    <a:pt x="630" y="474"/>
                  </a:lnTo>
                  <a:lnTo>
                    <a:pt x="625" y="474"/>
                  </a:lnTo>
                  <a:lnTo>
                    <a:pt x="614" y="474"/>
                  </a:lnTo>
                  <a:lnTo>
                    <a:pt x="609" y="474"/>
                  </a:lnTo>
                  <a:lnTo>
                    <a:pt x="599" y="474"/>
                  </a:lnTo>
                  <a:lnTo>
                    <a:pt x="594" y="474"/>
                  </a:lnTo>
                  <a:lnTo>
                    <a:pt x="583" y="474"/>
                  </a:lnTo>
                  <a:lnTo>
                    <a:pt x="578" y="474"/>
                  </a:lnTo>
                  <a:lnTo>
                    <a:pt x="568" y="474"/>
                  </a:lnTo>
                  <a:lnTo>
                    <a:pt x="558" y="474"/>
                  </a:lnTo>
                  <a:lnTo>
                    <a:pt x="552" y="474"/>
                  </a:lnTo>
                  <a:lnTo>
                    <a:pt x="543" y="474"/>
                  </a:lnTo>
                  <a:lnTo>
                    <a:pt x="537" y="474"/>
                  </a:lnTo>
                  <a:lnTo>
                    <a:pt x="527" y="474"/>
                  </a:lnTo>
                  <a:lnTo>
                    <a:pt x="521" y="474"/>
                  </a:lnTo>
                  <a:lnTo>
                    <a:pt x="512" y="474"/>
                  </a:lnTo>
                  <a:lnTo>
                    <a:pt x="506" y="474"/>
                  </a:lnTo>
                  <a:lnTo>
                    <a:pt x="496" y="474"/>
                  </a:lnTo>
                  <a:lnTo>
                    <a:pt x="490" y="474"/>
                  </a:lnTo>
                  <a:lnTo>
                    <a:pt x="481" y="474"/>
                  </a:lnTo>
                  <a:lnTo>
                    <a:pt x="475" y="474"/>
                  </a:lnTo>
                  <a:lnTo>
                    <a:pt x="465" y="474"/>
                  </a:lnTo>
                  <a:lnTo>
                    <a:pt x="459" y="474"/>
                  </a:lnTo>
                  <a:lnTo>
                    <a:pt x="450" y="474"/>
                  </a:lnTo>
                  <a:lnTo>
                    <a:pt x="439" y="474"/>
                  </a:lnTo>
                  <a:lnTo>
                    <a:pt x="434" y="474"/>
                  </a:lnTo>
                  <a:lnTo>
                    <a:pt x="423" y="474"/>
                  </a:lnTo>
                  <a:lnTo>
                    <a:pt x="419" y="474"/>
                  </a:lnTo>
                  <a:lnTo>
                    <a:pt x="408" y="474"/>
                  </a:lnTo>
                  <a:lnTo>
                    <a:pt x="403" y="474"/>
                  </a:lnTo>
                  <a:lnTo>
                    <a:pt x="392" y="474"/>
                  </a:lnTo>
                  <a:lnTo>
                    <a:pt x="388" y="474"/>
                  </a:lnTo>
                  <a:lnTo>
                    <a:pt x="377" y="474"/>
                  </a:lnTo>
                  <a:lnTo>
                    <a:pt x="372" y="474"/>
                  </a:lnTo>
                  <a:lnTo>
                    <a:pt x="361" y="474"/>
                  </a:lnTo>
                  <a:lnTo>
                    <a:pt x="357" y="474"/>
                  </a:lnTo>
                  <a:lnTo>
                    <a:pt x="346" y="474"/>
                  </a:lnTo>
                  <a:lnTo>
                    <a:pt x="341" y="474"/>
                  </a:lnTo>
                  <a:lnTo>
                    <a:pt x="330" y="474"/>
                  </a:lnTo>
                  <a:lnTo>
                    <a:pt x="321" y="474"/>
                  </a:lnTo>
                  <a:lnTo>
                    <a:pt x="315" y="474"/>
                  </a:lnTo>
                  <a:lnTo>
                    <a:pt x="305" y="474"/>
                  </a:lnTo>
                  <a:lnTo>
                    <a:pt x="299" y="474"/>
                  </a:lnTo>
                  <a:lnTo>
                    <a:pt x="290" y="474"/>
                  </a:lnTo>
                  <a:lnTo>
                    <a:pt x="284" y="474"/>
                  </a:lnTo>
                  <a:lnTo>
                    <a:pt x="274" y="474"/>
                  </a:lnTo>
                  <a:lnTo>
                    <a:pt x="268" y="474"/>
                  </a:lnTo>
                  <a:lnTo>
                    <a:pt x="259" y="474"/>
                  </a:lnTo>
                  <a:lnTo>
                    <a:pt x="253" y="474"/>
                  </a:lnTo>
                  <a:lnTo>
                    <a:pt x="243" y="474"/>
                  </a:lnTo>
                  <a:lnTo>
                    <a:pt x="237" y="474"/>
                  </a:lnTo>
                  <a:lnTo>
                    <a:pt x="228" y="474"/>
                  </a:lnTo>
                  <a:lnTo>
                    <a:pt x="217" y="474"/>
                  </a:lnTo>
                  <a:lnTo>
                    <a:pt x="212" y="474"/>
                  </a:lnTo>
                  <a:lnTo>
                    <a:pt x="202" y="474"/>
                  </a:lnTo>
                  <a:lnTo>
                    <a:pt x="197" y="474"/>
                  </a:lnTo>
                  <a:lnTo>
                    <a:pt x="186" y="474"/>
                  </a:lnTo>
                  <a:lnTo>
                    <a:pt x="181" y="474"/>
                  </a:lnTo>
                  <a:lnTo>
                    <a:pt x="171" y="474"/>
                  </a:lnTo>
                  <a:lnTo>
                    <a:pt x="166" y="474"/>
                  </a:lnTo>
                  <a:lnTo>
                    <a:pt x="155" y="474"/>
                  </a:lnTo>
                  <a:lnTo>
                    <a:pt x="150" y="474"/>
                  </a:lnTo>
                  <a:lnTo>
                    <a:pt x="140" y="474"/>
                  </a:lnTo>
                  <a:lnTo>
                    <a:pt x="135" y="474"/>
                  </a:lnTo>
                  <a:lnTo>
                    <a:pt x="124" y="474"/>
                  </a:lnTo>
                  <a:lnTo>
                    <a:pt x="119" y="474"/>
                  </a:lnTo>
                  <a:lnTo>
                    <a:pt x="109" y="474"/>
                  </a:lnTo>
                  <a:lnTo>
                    <a:pt x="98" y="474"/>
                  </a:lnTo>
                  <a:lnTo>
                    <a:pt x="93" y="474"/>
                  </a:lnTo>
                  <a:lnTo>
                    <a:pt x="82" y="474"/>
                  </a:lnTo>
                  <a:lnTo>
                    <a:pt x="78" y="474"/>
                  </a:lnTo>
                  <a:lnTo>
                    <a:pt x="67" y="474"/>
                  </a:lnTo>
                  <a:lnTo>
                    <a:pt x="62" y="474"/>
                  </a:lnTo>
                  <a:lnTo>
                    <a:pt x="51" y="474"/>
                  </a:lnTo>
                  <a:lnTo>
                    <a:pt x="47" y="474"/>
                  </a:lnTo>
                  <a:lnTo>
                    <a:pt x="36" y="474"/>
                  </a:lnTo>
                  <a:lnTo>
                    <a:pt x="31" y="474"/>
                  </a:lnTo>
                  <a:lnTo>
                    <a:pt x="20" y="474"/>
                  </a:lnTo>
                  <a:lnTo>
                    <a:pt x="16" y="474"/>
                  </a:lnTo>
                  <a:lnTo>
                    <a:pt x="5" y="474"/>
                  </a:lnTo>
                  <a:lnTo>
                    <a:pt x="0" y="474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custGeom>
              <a:avLst/>
              <a:gdLst>
                <a:gd name="textAreaLeft" fmla="*/ 0 w 2936880"/>
                <a:gd name="textAreaRight" fmla="*/ 2937240 w 29368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custGeom>
              <a:avLst/>
              <a:gdLst>
                <a:gd name="textAreaLeft" fmla="*/ 0 w 2827440"/>
                <a:gd name="textAreaRight" fmla="*/ 2827800 w 28274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322" h="929">
                  <a:moveTo>
                    <a:pt x="0" y="929"/>
                  </a:moveTo>
                  <a:lnTo>
                    <a:pt x="0" y="929"/>
                  </a:lnTo>
                  <a:lnTo>
                    <a:pt x="4" y="929"/>
                  </a:lnTo>
                  <a:lnTo>
                    <a:pt x="8" y="929"/>
                  </a:lnTo>
                  <a:lnTo>
                    <a:pt x="13" y="929"/>
                  </a:lnTo>
                  <a:lnTo>
                    <a:pt x="17" y="929"/>
                  </a:lnTo>
                  <a:lnTo>
                    <a:pt x="21" y="929"/>
                  </a:lnTo>
                  <a:lnTo>
                    <a:pt x="26" y="929"/>
                  </a:lnTo>
                  <a:lnTo>
                    <a:pt x="30" y="929"/>
                  </a:lnTo>
                  <a:lnTo>
                    <a:pt x="34" y="929"/>
                  </a:lnTo>
                  <a:lnTo>
                    <a:pt x="39" y="929"/>
                  </a:lnTo>
                  <a:lnTo>
                    <a:pt x="43" y="929"/>
                  </a:lnTo>
                  <a:lnTo>
                    <a:pt x="47" y="929"/>
                  </a:lnTo>
                  <a:lnTo>
                    <a:pt x="52" y="929"/>
                  </a:lnTo>
                  <a:lnTo>
                    <a:pt x="56" y="929"/>
                  </a:lnTo>
                  <a:lnTo>
                    <a:pt x="60" y="929"/>
                  </a:lnTo>
                  <a:lnTo>
                    <a:pt x="65" y="929"/>
                  </a:lnTo>
                  <a:lnTo>
                    <a:pt x="69" y="929"/>
                  </a:lnTo>
                  <a:lnTo>
                    <a:pt x="73" y="929"/>
                  </a:lnTo>
                  <a:lnTo>
                    <a:pt x="78" y="929"/>
                  </a:lnTo>
                  <a:lnTo>
                    <a:pt x="82" y="929"/>
                  </a:lnTo>
                  <a:lnTo>
                    <a:pt x="86" y="929"/>
                  </a:lnTo>
                  <a:lnTo>
                    <a:pt x="91" y="929"/>
                  </a:lnTo>
                  <a:lnTo>
                    <a:pt x="95" y="929"/>
                  </a:lnTo>
                  <a:lnTo>
                    <a:pt x="99" y="929"/>
                  </a:lnTo>
                  <a:lnTo>
                    <a:pt x="103" y="929"/>
                  </a:lnTo>
                  <a:lnTo>
                    <a:pt x="108" y="929"/>
                  </a:lnTo>
                  <a:lnTo>
                    <a:pt x="112" y="929"/>
                  </a:lnTo>
                  <a:lnTo>
                    <a:pt x="116" y="929"/>
                  </a:lnTo>
                  <a:lnTo>
                    <a:pt x="121" y="929"/>
                  </a:lnTo>
                  <a:lnTo>
                    <a:pt x="125" y="929"/>
                  </a:lnTo>
                  <a:lnTo>
                    <a:pt x="129" y="929"/>
                  </a:lnTo>
                  <a:lnTo>
                    <a:pt x="134" y="929"/>
                  </a:lnTo>
                  <a:lnTo>
                    <a:pt x="138" y="929"/>
                  </a:lnTo>
                  <a:lnTo>
                    <a:pt x="142" y="929"/>
                  </a:lnTo>
                  <a:lnTo>
                    <a:pt x="147" y="929"/>
                  </a:lnTo>
                  <a:lnTo>
                    <a:pt x="151" y="929"/>
                  </a:lnTo>
                  <a:lnTo>
                    <a:pt x="155" y="929"/>
                  </a:lnTo>
                  <a:lnTo>
                    <a:pt x="160" y="929"/>
                  </a:lnTo>
                  <a:lnTo>
                    <a:pt x="164" y="929"/>
                  </a:lnTo>
                  <a:lnTo>
                    <a:pt x="168" y="929"/>
                  </a:lnTo>
                  <a:lnTo>
                    <a:pt x="173" y="929"/>
                  </a:lnTo>
                  <a:lnTo>
                    <a:pt x="177" y="929"/>
                  </a:lnTo>
                  <a:lnTo>
                    <a:pt x="181" y="929"/>
                  </a:lnTo>
                  <a:lnTo>
                    <a:pt x="186" y="929"/>
                  </a:lnTo>
                  <a:lnTo>
                    <a:pt x="190" y="929"/>
                  </a:lnTo>
                  <a:lnTo>
                    <a:pt x="194" y="929"/>
                  </a:lnTo>
                  <a:lnTo>
                    <a:pt x="198" y="929"/>
                  </a:lnTo>
                  <a:lnTo>
                    <a:pt x="203" y="929"/>
                  </a:lnTo>
                  <a:lnTo>
                    <a:pt x="207" y="929"/>
                  </a:lnTo>
                  <a:lnTo>
                    <a:pt x="211" y="929"/>
                  </a:lnTo>
                  <a:lnTo>
                    <a:pt x="216" y="929"/>
                  </a:lnTo>
                  <a:lnTo>
                    <a:pt x="220" y="929"/>
                  </a:lnTo>
                  <a:lnTo>
                    <a:pt x="224" y="929"/>
                  </a:lnTo>
                  <a:lnTo>
                    <a:pt x="224" y="925"/>
                  </a:lnTo>
                  <a:lnTo>
                    <a:pt x="229" y="925"/>
                  </a:lnTo>
                  <a:lnTo>
                    <a:pt x="233" y="925"/>
                  </a:lnTo>
                  <a:lnTo>
                    <a:pt x="237" y="925"/>
                  </a:lnTo>
                  <a:lnTo>
                    <a:pt x="242" y="925"/>
                  </a:lnTo>
                  <a:lnTo>
                    <a:pt x="246" y="925"/>
                  </a:lnTo>
                  <a:lnTo>
                    <a:pt x="250" y="925"/>
                  </a:lnTo>
                  <a:lnTo>
                    <a:pt x="255" y="925"/>
                  </a:lnTo>
                  <a:lnTo>
                    <a:pt x="255" y="921"/>
                  </a:lnTo>
                  <a:lnTo>
                    <a:pt x="259" y="921"/>
                  </a:lnTo>
                  <a:lnTo>
                    <a:pt x="263" y="921"/>
                  </a:lnTo>
                  <a:lnTo>
                    <a:pt x="268" y="921"/>
                  </a:lnTo>
                  <a:lnTo>
                    <a:pt x="272" y="921"/>
                  </a:lnTo>
                  <a:lnTo>
                    <a:pt x="272" y="916"/>
                  </a:lnTo>
                  <a:lnTo>
                    <a:pt x="276" y="916"/>
                  </a:lnTo>
                  <a:lnTo>
                    <a:pt x="281" y="916"/>
                  </a:lnTo>
                  <a:lnTo>
                    <a:pt x="285" y="916"/>
                  </a:lnTo>
                  <a:lnTo>
                    <a:pt x="285" y="912"/>
                  </a:lnTo>
                  <a:lnTo>
                    <a:pt x="289" y="912"/>
                  </a:lnTo>
                  <a:lnTo>
                    <a:pt x="294" y="912"/>
                  </a:lnTo>
                  <a:lnTo>
                    <a:pt x="298" y="912"/>
                  </a:lnTo>
                  <a:lnTo>
                    <a:pt x="298" y="908"/>
                  </a:lnTo>
                  <a:lnTo>
                    <a:pt x="302" y="908"/>
                  </a:lnTo>
                  <a:lnTo>
                    <a:pt x="306" y="908"/>
                  </a:lnTo>
                  <a:lnTo>
                    <a:pt x="306" y="903"/>
                  </a:lnTo>
                  <a:lnTo>
                    <a:pt x="311" y="903"/>
                  </a:lnTo>
                  <a:lnTo>
                    <a:pt x="315" y="903"/>
                  </a:lnTo>
                  <a:lnTo>
                    <a:pt x="315" y="899"/>
                  </a:lnTo>
                  <a:lnTo>
                    <a:pt x="319" y="899"/>
                  </a:lnTo>
                  <a:lnTo>
                    <a:pt x="319" y="895"/>
                  </a:lnTo>
                  <a:lnTo>
                    <a:pt x="324" y="895"/>
                  </a:lnTo>
                  <a:lnTo>
                    <a:pt x="328" y="890"/>
                  </a:lnTo>
                  <a:lnTo>
                    <a:pt x="332" y="890"/>
                  </a:lnTo>
                  <a:lnTo>
                    <a:pt x="332" y="886"/>
                  </a:lnTo>
                  <a:lnTo>
                    <a:pt x="337" y="886"/>
                  </a:lnTo>
                  <a:lnTo>
                    <a:pt x="337" y="882"/>
                  </a:lnTo>
                  <a:lnTo>
                    <a:pt x="341" y="882"/>
                  </a:lnTo>
                  <a:lnTo>
                    <a:pt x="341" y="877"/>
                  </a:lnTo>
                  <a:lnTo>
                    <a:pt x="345" y="877"/>
                  </a:lnTo>
                  <a:lnTo>
                    <a:pt x="350" y="873"/>
                  </a:lnTo>
                  <a:lnTo>
                    <a:pt x="350" y="869"/>
                  </a:lnTo>
                  <a:lnTo>
                    <a:pt x="354" y="869"/>
                  </a:lnTo>
                  <a:lnTo>
                    <a:pt x="354" y="865"/>
                  </a:lnTo>
                  <a:lnTo>
                    <a:pt x="358" y="865"/>
                  </a:lnTo>
                  <a:lnTo>
                    <a:pt x="358" y="860"/>
                  </a:lnTo>
                  <a:lnTo>
                    <a:pt x="363" y="860"/>
                  </a:lnTo>
                  <a:lnTo>
                    <a:pt x="363" y="856"/>
                  </a:lnTo>
                  <a:lnTo>
                    <a:pt x="367" y="856"/>
                  </a:lnTo>
                  <a:lnTo>
                    <a:pt x="367" y="852"/>
                  </a:lnTo>
                  <a:lnTo>
                    <a:pt x="367" y="847"/>
                  </a:lnTo>
                  <a:lnTo>
                    <a:pt x="371" y="847"/>
                  </a:lnTo>
                  <a:lnTo>
                    <a:pt x="371" y="843"/>
                  </a:lnTo>
                  <a:lnTo>
                    <a:pt x="376" y="843"/>
                  </a:lnTo>
                  <a:lnTo>
                    <a:pt x="376" y="839"/>
                  </a:lnTo>
                  <a:lnTo>
                    <a:pt x="380" y="834"/>
                  </a:lnTo>
                  <a:lnTo>
                    <a:pt x="380" y="830"/>
                  </a:lnTo>
                  <a:lnTo>
                    <a:pt x="384" y="830"/>
                  </a:lnTo>
                  <a:lnTo>
                    <a:pt x="384" y="826"/>
                  </a:lnTo>
                  <a:lnTo>
                    <a:pt x="384" y="821"/>
                  </a:lnTo>
                  <a:lnTo>
                    <a:pt x="389" y="821"/>
                  </a:lnTo>
                  <a:lnTo>
                    <a:pt x="389" y="817"/>
                  </a:lnTo>
                  <a:lnTo>
                    <a:pt x="393" y="813"/>
                  </a:lnTo>
                  <a:lnTo>
                    <a:pt x="393" y="808"/>
                  </a:lnTo>
                  <a:lnTo>
                    <a:pt x="397" y="804"/>
                  </a:lnTo>
                  <a:lnTo>
                    <a:pt x="397" y="800"/>
                  </a:lnTo>
                  <a:lnTo>
                    <a:pt x="402" y="800"/>
                  </a:lnTo>
                  <a:lnTo>
                    <a:pt x="402" y="795"/>
                  </a:lnTo>
                  <a:lnTo>
                    <a:pt x="402" y="791"/>
                  </a:lnTo>
                  <a:lnTo>
                    <a:pt x="406" y="787"/>
                  </a:lnTo>
                  <a:lnTo>
                    <a:pt x="406" y="782"/>
                  </a:lnTo>
                  <a:lnTo>
                    <a:pt x="410" y="778"/>
                  </a:lnTo>
                  <a:lnTo>
                    <a:pt x="410" y="774"/>
                  </a:lnTo>
                  <a:lnTo>
                    <a:pt x="414" y="769"/>
                  </a:lnTo>
                  <a:lnTo>
                    <a:pt x="414" y="765"/>
                  </a:lnTo>
                  <a:lnTo>
                    <a:pt x="419" y="761"/>
                  </a:lnTo>
                  <a:lnTo>
                    <a:pt x="419" y="756"/>
                  </a:lnTo>
                  <a:lnTo>
                    <a:pt x="419" y="752"/>
                  </a:lnTo>
                  <a:lnTo>
                    <a:pt x="423" y="748"/>
                  </a:lnTo>
                  <a:lnTo>
                    <a:pt x="423" y="743"/>
                  </a:lnTo>
                  <a:lnTo>
                    <a:pt x="423" y="739"/>
                  </a:lnTo>
                  <a:lnTo>
                    <a:pt x="427" y="739"/>
                  </a:lnTo>
                  <a:lnTo>
                    <a:pt x="427" y="735"/>
                  </a:lnTo>
                  <a:lnTo>
                    <a:pt x="427" y="730"/>
                  </a:lnTo>
                  <a:lnTo>
                    <a:pt x="432" y="726"/>
                  </a:lnTo>
                  <a:lnTo>
                    <a:pt x="432" y="722"/>
                  </a:lnTo>
                  <a:lnTo>
                    <a:pt x="432" y="717"/>
                  </a:lnTo>
                  <a:lnTo>
                    <a:pt x="436" y="717"/>
                  </a:lnTo>
                  <a:lnTo>
                    <a:pt x="436" y="713"/>
                  </a:lnTo>
                  <a:lnTo>
                    <a:pt x="436" y="709"/>
                  </a:lnTo>
                  <a:lnTo>
                    <a:pt x="436" y="705"/>
                  </a:lnTo>
                  <a:lnTo>
                    <a:pt x="440" y="700"/>
                  </a:lnTo>
                  <a:lnTo>
                    <a:pt x="440" y="696"/>
                  </a:lnTo>
                  <a:lnTo>
                    <a:pt x="440" y="692"/>
                  </a:lnTo>
                  <a:lnTo>
                    <a:pt x="445" y="687"/>
                  </a:lnTo>
                  <a:lnTo>
                    <a:pt x="445" y="683"/>
                  </a:lnTo>
                  <a:lnTo>
                    <a:pt x="445" y="679"/>
                  </a:lnTo>
                  <a:lnTo>
                    <a:pt x="449" y="679"/>
                  </a:lnTo>
                  <a:lnTo>
                    <a:pt x="449" y="674"/>
                  </a:lnTo>
                  <a:lnTo>
                    <a:pt x="449" y="670"/>
                  </a:lnTo>
                  <a:lnTo>
                    <a:pt x="449" y="666"/>
                  </a:lnTo>
                  <a:lnTo>
                    <a:pt x="453" y="661"/>
                  </a:lnTo>
                  <a:lnTo>
                    <a:pt x="453" y="657"/>
                  </a:lnTo>
                  <a:lnTo>
                    <a:pt x="453" y="653"/>
                  </a:lnTo>
                  <a:lnTo>
                    <a:pt x="458" y="648"/>
                  </a:lnTo>
                  <a:lnTo>
                    <a:pt x="458" y="644"/>
                  </a:lnTo>
                  <a:lnTo>
                    <a:pt x="458" y="640"/>
                  </a:lnTo>
                  <a:lnTo>
                    <a:pt x="462" y="635"/>
                  </a:lnTo>
                  <a:lnTo>
                    <a:pt x="462" y="631"/>
                  </a:lnTo>
                  <a:lnTo>
                    <a:pt x="462" y="627"/>
                  </a:lnTo>
                  <a:lnTo>
                    <a:pt x="466" y="618"/>
                  </a:lnTo>
                  <a:lnTo>
                    <a:pt x="466" y="614"/>
                  </a:lnTo>
                  <a:lnTo>
                    <a:pt x="466" y="609"/>
                  </a:lnTo>
                  <a:lnTo>
                    <a:pt x="466" y="605"/>
                  </a:lnTo>
                  <a:lnTo>
                    <a:pt x="471" y="601"/>
                  </a:lnTo>
                  <a:lnTo>
                    <a:pt x="471" y="596"/>
                  </a:lnTo>
                  <a:lnTo>
                    <a:pt x="471" y="592"/>
                  </a:lnTo>
                  <a:lnTo>
                    <a:pt x="475" y="588"/>
                  </a:lnTo>
                  <a:lnTo>
                    <a:pt x="475" y="583"/>
                  </a:lnTo>
                  <a:lnTo>
                    <a:pt x="475" y="579"/>
                  </a:lnTo>
                  <a:lnTo>
                    <a:pt x="479" y="570"/>
                  </a:lnTo>
                  <a:lnTo>
                    <a:pt x="479" y="566"/>
                  </a:lnTo>
                  <a:lnTo>
                    <a:pt x="479" y="562"/>
                  </a:lnTo>
                  <a:lnTo>
                    <a:pt x="484" y="557"/>
                  </a:lnTo>
                  <a:lnTo>
                    <a:pt x="484" y="553"/>
                  </a:lnTo>
                  <a:lnTo>
                    <a:pt x="484" y="549"/>
                  </a:lnTo>
                  <a:lnTo>
                    <a:pt x="484" y="540"/>
                  </a:lnTo>
                  <a:lnTo>
                    <a:pt x="488" y="536"/>
                  </a:lnTo>
                  <a:lnTo>
                    <a:pt x="488" y="532"/>
                  </a:lnTo>
                  <a:lnTo>
                    <a:pt x="488" y="527"/>
                  </a:lnTo>
                  <a:lnTo>
                    <a:pt x="492" y="523"/>
                  </a:lnTo>
                  <a:lnTo>
                    <a:pt x="492" y="514"/>
                  </a:lnTo>
                  <a:lnTo>
                    <a:pt x="492" y="510"/>
                  </a:lnTo>
                  <a:lnTo>
                    <a:pt x="497" y="506"/>
                  </a:lnTo>
                  <a:lnTo>
                    <a:pt x="497" y="501"/>
                  </a:lnTo>
                  <a:lnTo>
                    <a:pt x="497" y="493"/>
                  </a:lnTo>
                  <a:lnTo>
                    <a:pt x="501" y="488"/>
                  </a:lnTo>
                  <a:lnTo>
                    <a:pt x="501" y="484"/>
                  </a:lnTo>
                  <a:lnTo>
                    <a:pt x="501" y="480"/>
                  </a:lnTo>
                  <a:lnTo>
                    <a:pt x="501" y="471"/>
                  </a:lnTo>
                  <a:lnTo>
                    <a:pt x="505" y="467"/>
                  </a:lnTo>
                  <a:lnTo>
                    <a:pt x="505" y="462"/>
                  </a:lnTo>
                  <a:lnTo>
                    <a:pt x="505" y="458"/>
                  </a:lnTo>
                  <a:lnTo>
                    <a:pt x="509" y="449"/>
                  </a:lnTo>
                  <a:lnTo>
                    <a:pt x="509" y="445"/>
                  </a:lnTo>
                  <a:lnTo>
                    <a:pt x="509" y="441"/>
                  </a:lnTo>
                  <a:lnTo>
                    <a:pt x="514" y="432"/>
                  </a:lnTo>
                  <a:lnTo>
                    <a:pt x="514" y="428"/>
                  </a:lnTo>
                  <a:lnTo>
                    <a:pt x="514" y="423"/>
                  </a:lnTo>
                  <a:lnTo>
                    <a:pt x="518" y="419"/>
                  </a:lnTo>
                  <a:lnTo>
                    <a:pt x="518" y="410"/>
                  </a:lnTo>
                  <a:lnTo>
                    <a:pt x="518" y="406"/>
                  </a:lnTo>
                  <a:lnTo>
                    <a:pt x="518" y="402"/>
                  </a:lnTo>
                  <a:lnTo>
                    <a:pt x="522" y="393"/>
                  </a:lnTo>
                  <a:lnTo>
                    <a:pt x="522" y="389"/>
                  </a:lnTo>
                  <a:lnTo>
                    <a:pt x="522" y="384"/>
                  </a:lnTo>
                  <a:lnTo>
                    <a:pt x="527" y="376"/>
                  </a:lnTo>
                  <a:lnTo>
                    <a:pt x="527" y="372"/>
                  </a:lnTo>
                  <a:lnTo>
                    <a:pt x="527" y="367"/>
                  </a:lnTo>
                  <a:lnTo>
                    <a:pt x="531" y="363"/>
                  </a:lnTo>
                  <a:lnTo>
                    <a:pt x="531" y="354"/>
                  </a:lnTo>
                  <a:lnTo>
                    <a:pt x="531" y="350"/>
                  </a:lnTo>
                  <a:lnTo>
                    <a:pt x="535" y="346"/>
                  </a:lnTo>
                  <a:lnTo>
                    <a:pt x="535" y="337"/>
                  </a:lnTo>
                  <a:lnTo>
                    <a:pt x="535" y="333"/>
                  </a:lnTo>
                  <a:lnTo>
                    <a:pt x="535" y="328"/>
                  </a:lnTo>
                  <a:lnTo>
                    <a:pt x="540" y="320"/>
                  </a:lnTo>
                  <a:lnTo>
                    <a:pt x="540" y="315"/>
                  </a:lnTo>
                  <a:lnTo>
                    <a:pt x="540" y="311"/>
                  </a:lnTo>
                  <a:lnTo>
                    <a:pt x="544" y="307"/>
                  </a:lnTo>
                  <a:lnTo>
                    <a:pt x="544" y="298"/>
                  </a:lnTo>
                  <a:lnTo>
                    <a:pt x="544" y="294"/>
                  </a:lnTo>
                  <a:lnTo>
                    <a:pt x="548" y="289"/>
                  </a:lnTo>
                  <a:lnTo>
                    <a:pt x="548" y="281"/>
                  </a:lnTo>
                  <a:lnTo>
                    <a:pt x="548" y="276"/>
                  </a:lnTo>
                  <a:lnTo>
                    <a:pt x="553" y="272"/>
                  </a:lnTo>
                  <a:lnTo>
                    <a:pt x="553" y="268"/>
                  </a:lnTo>
                  <a:lnTo>
                    <a:pt x="553" y="259"/>
                  </a:lnTo>
                  <a:lnTo>
                    <a:pt x="553" y="255"/>
                  </a:lnTo>
                  <a:lnTo>
                    <a:pt x="557" y="250"/>
                  </a:lnTo>
                  <a:lnTo>
                    <a:pt x="557" y="246"/>
                  </a:lnTo>
                  <a:lnTo>
                    <a:pt x="557" y="237"/>
                  </a:lnTo>
                  <a:lnTo>
                    <a:pt x="561" y="233"/>
                  </a:lnTo>
                  <a:lnTo>
                    <a:pt x="561" y="229"/>
                  </a:lnTo>
                  <a:lnTo>
                    <a:pt x="561" y="224"/>
                  </a:lnTo>
                  <a:lnTo>
                    <a:pt x="566" y="216"/>
                  </a:lnTo>
                  <a:lnTo>
                    <a:pt x="566" y="212"/>
                  </a:lnTo>
                  <a:lnTo>
                    <a:pt x="566" y="207"/>
                  </a:lnTo>
                  <a:lnTo>
                    <a:pt x="570" y="203"/>
                  </a:lnTo>
                  <a:lnTo>
                    <a:pt x="570" y="199"/>
                  </a:lnTo>
                  <a:lnTo>
                    <a:pt x="570" y="194"/>
                  </a:lnTo>
                  <a:lnTo>
                    <a:pt x="570" y="186"/>
                  </a:lnTo>
                  <a:lnTo>
                    <a:pt x="574" y="181"/>
                  </a:lnTo>
                  <a:lnTo>
                    <a:pt x="574" y="177"/>
                  </a:lnTo>
                  <a:lnTo>
                    <a:pt x="574" y="173"/>
                  </a:lnTo>
                  <a:lnTo>
                    <a:pt x="579" y="168"/>
                  </a:lnTo>
                  <a:lnTo>
                    <a:pt x="579" y="164"/>
                  </a:lnTo>
                  <a:lnTo>
                    <a:pt x="579" y="160"/>
                  </a:lnTo>
                  <a:lnTo>
                    <a:pt x="583" y="155"/>
                  </a:lnTo>
                  <a:lnTo>
                    <a:pt x="583" y="147"/>
                  </a:lnTo>
                  <a:lnTo>
                    <a:pt x="583" y="142"/>
                  </a:lnTo>
                  <a:lnTo>
                    <a:pt x="587" y="138"/>
                  </a:lnTo>
                  <a:lnTo>
                    <a:pt x="587" y="134"/>
                  </a:lnTo>
                  <a:lnTo>
                    <a:pt x="587" y="129"/>
                  </a:lnTo>
                  <a:lnTo>
                    <a:pt x="587" y="125"/>
                  </a:lnTo>
                  <a:lnTo>
                    <a:pt x="592" y="121"/>
                  </a:lnTo>
                  <a:lnTo>
                    <a:pt x="592" y="116"/>
                  </a:lnTo>
                  <a:lnTo>
                    <a:pt x="592" y="112"/>
                  </a:lnTo>
                  <a:lnTo>
                    <a:pt x="596" y="108"/>
                  </a:lnTo>
                  <a:lnTo>
                    <a:pt x="596" y="103"/>
                  </a:lnTo>
                  <a:lnTo>
                    <a:pt x="600" y="99"/>
                  </a:lnTo>
                  <a:lnTo>
                    <a:pt x="600" y="95"/>
                  </a:lnTo>
                  <a:lnTo>
                    <a:pt x="600" y="90"/>
                  </a:lnTo>
                  <a:lnTo>
                    <a:pt x="600" y="86"/>
                  </a:lnTo>
                  <a:lnTo>
                    <a:pt x="605" y="82"/>
                  </a:lnTo>
                  <a:lnTo>
                    <a:pt x="605" y="77"/>
                  </a:lnTo>
                  <a:lnTo>
                    <a:pt x="605" y="73"/>
                  </a:lnTo>
                  <a:lnTo>
                    <a:pt x="609" y="73"/>
                  </a:lnTo>
                  <a:lnTo>
                    <a:pt x="609" y="69"/>
                  </a:lnTo>
                  <a:lnTo>
                    <a:pt x="609" y="64"/>
                  </a:lnTo>
                  <a:lnTo>
                    <a:pt x="613" y="60"/>
                  </a:lnTo>
                  <a:lnTo>
                    <a:pt x="613" y="56"/>
                  </a:lnTo>
                  <a:lnTo>
                    <a:pt x="617" y="52"/>
                  </a:lnTo>
                  <a:lnTo>
                    <a:pt x="617" y="47"/>
                  </a:lnTo>
                  <a:lnTo>
                    <a:pt x="617" y="43"/>
                  </a:lnTo>
                  <a:lnTo>
                    <a:pt x="622" y="43"/>
                  </a:lnTo>
                  <a:lnTo>
                    <a:pt x="622" y="39"/>
                  </a:lnTo>
                  <a:lnTo>
                    <a:pt x="622" y="34"/>
                  </a:lnTo>
                  <a:lnTo>
                    <a:pt x="626" y="34"/>
                  </a:lnTo>
                  <a:lnTo>
                    <a:pt x="626" y="30"/>
                  </a:lnTo>
                  <a:lnTo>
                    <a:pt x="630" y="26"/>
                  </a:lnTo>
                  <a:lnTo>
                    <a:pt x="630" y="21"/>
                  </a:lnTo>
                  <a:lnTo>
                    <a:pt x="635" y="21"/>
                  </a:lnTo>
                  <a:lnTo>
                    <a:pt x="635" y="17"/>
                  </a:lnTo>
                  <a:lnTo>
                    <a:pt x="639" y="13"/>
                  </a:lnTo>
                  <a:lnTo>
                    <a:pt x="639" y="8"/>
                  </a:lnTo>
                  <a:lnTo>
                    <a:pt x="643" y="8"/>
                  </a:lnTo>
                  <a:lnTo>
                    <a:pt x="648" y="4"/>
                  </a:lnTo>
                  <a:lnTo>
                    <a:pt x="652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5" y="0"/>
                  </a:lnTo>
                  <a:lnTo>
                    <a:pt x="669" y="0"/>
                  </a:lnTo>
                  <a:lnTo>
                    <a:pt x="669" y="4"/>
                  </a:lnTo>
                  <a:lnTo>
                    <a:pt x="674" y="4"/>
                  </a:lnTo>
                  <a:lnTo>
                    <a:pt x="678" y="8"/>
                  </a:lnTo>
                  <a:lnTo>
                    <a:pt x="682" y="8"/>
                  </a:lnTo>
                  <a:lnTo>
                    <a:pt x="682" y="13"/>
                  </a:lnTo>
                  <a:lnTo>
                    <a:pt x="687" y="17"/>
                  </a:lnTo>
                  <a:lnTo>
                    <a:pt x="687" y="21"/>
                  </a:lnTo>
                  <a:lnTo>
                    <a:pt x="691" y="21"/>
                  </a:lnTo>
                  <a:lnTo>
                    <a:pt x="691" y="26"/>
                  </a:lnTo>
                  <a:lnTo>
                    <a:pt x="695" y="30"/>
                  </a:lnTo>
                  <a:lnTo>
                    <a:pt x="695" y="34"/>
                  </a:lnTo>
                  <a:lnTo>
                    <a:pt x="700" y="34"/>
                  </a:lnTo>
                  <a:lnTo>
                    <a:pt x="700" y="39"/>
                  </a:lnTo>
                  <a:lnTo>
                    <a:pt x="700" y="43"/>
                  </a:lnTo>
                  <a:lnTo>
                    <a:pt x="704" y="43"/>
                  </a:lnTo>
                  <a:lnTo>
                    <a:pt x="704" y="47"/>
                  </a:lnTo>
                  <a:lnTo>
                    <a:pt x="704" y="52"/>
                  </a:lnTo>
                  <a:lnTo>
                    <a:pt x="708" y="56"/>
                  </a:lnTo>
                  <a:lnTo>
                    <a:pt x="708" y="60"/>
                  </a:lnTo>
                  <a:lnTo>
                    <a:pt x="713" y="64"/>
                  </a:lnTo>
                  <a:lnTo>
                    <a:pt x="713" y="69"/>
                  </a:lnTo>
                  <a:lnTo>
                    <a:pt x="713" y="73"/>
                  </a:lnTo>
                  <a:lnTo>
                    <a:pt x="717" y="73"/>
                  </a:lnTo>
                  <a:lnTo>
                    <a:pt x="717" y="77"/>
                  </a:lnTo>
                  <a:lnTo>
                    <a:pt x="717" y="82"/>
                  </a:lnTo>
                  <a:lnTo>
                    <a:pt x="721" y="86"/>
                  </a:lnTo>
                  <a:lnTo>
                    <a:pt x="721" y="90"/>
                  </a:lnTo>
                  <a:lnTo>
                    <a:pt x="721" y="95"/>
                  </a:lnTo>
                  <a:lnTo>
                    <a:pt x="721" y="99"/>
                  </a:lnTo>
                  <a:lnTo>
                    <a:pt x="725" y="103"/>
                  </a:lnTo>
                  <a:lnTo>
                    <a:pt x="725" y="108"/>
                  </a:lnTo>
                  <a:lnTo>
                    <a:pt x="730" y="112"/>
                  </a:lnTo>
                  <a:lnTo>
                    <a:pt x="730" y="116"/>
                  </a:lnTo>
                  <a:lnTo>
                    <a:pt x="730" y="121"/>
                  </a:lnTo>
                  <a:lnTo>
                    <a:pt x="734" y="125"/>
                  </a:lnTo>
                  <a:lnTo>
                    <a:pt x="734" y="129"/>
                  </a:lnTo>
                  <a:lnTo>
                    <a:pt x="734" y="134"/>
                  </a:lnTo>
                  <a:lnTo>
                    <a:pt x="734" y="138"/>
                  </a:lnTo>
                  <a:lnTo>
                    <a:pt x="738" y="142"/>
                  </a:lnTo>
                  <a:lnTo>
                    <a:pt x="738" y="147"/>
                  </a:lnTo>
                  <a:lnTo>
                    <a:pt x="738" y="155"/>
                  </a:lnTo>
                  <a:lnTo>
                    <a:pt x="743" y="160"/>
                  </a:lnTo>
                  <a:lnTo>
                    <a:pt x="743" y="164"/>
                  </a:lnTo>
                  <a:lnTo>
                    <a:pt x="743" y="168"/>
                  </a:lnTo>
                  <a:lnTo>
                    <a:pt x="747" y="173"/>
                  </a:lnTo>
                  <a:lnTo>
                    <a:pt x="747" y="177"/>
                  </a:lnTo>
                  <a:lnTo>
                    <a:pt x="747" y="181"/>
                  </a:lnTo>
                  <a:lnTo>
                    <a:pt x="751" y="186"/>
                  </a:lnTo>
                  <a:lnTo>
                    <a:pt x="751" y="194"/>
                  </a:lnTo>
                  <a:lnTo>
                    <a:pt x="751" y="199"/>
                  </a:lnTo>
                  <a:lnTo>
                    <a:pt x="751" y="203"/>
                  </a:lnTo>
                  <a:lnTo>
                    <a:pt x="756" y="207"/>
                  </a:lnTo>
                  <a:lnTo>
                    <a:pt x="756" y="212"/>
                  </a:lnTo>
                  <a:lnTo>
                    <a:pt x="756" y="216"/>
                  </a:lnTo>
                  <a:lnTo>
                    <a:pt x="760" y="224"/>
                  </a:lnTo>
                  <a:lnTo>
                    <a:pt x="760" y="229"/>
                  </a:lnTo>
                  <a:lnTo>
                    <a:pt x="760" y="233"/>
                  </a:lnTo>
                  <a:lnTo>
                    <a:pt x="764" y="237"/>
                  </a:lnTo>
                  <a:lnTo>
                    <a:pt x="764" y="246"/>
                  </a:lnTo>
                  <a:lnTo>
                    <a:pt x="764" y="250"/>
                  </a:lnTo>
                  <a:lnTo>
                    <a:pt x="769" y="255"/>
                  </a:lnTo>
                  <a:lnTo>
                    <a:pt x="769" y="259"/>
                  </a:lnTo>
                  <a:lnTo>
                    <a:pt x="769" y="268"/>
                  </a:lnTo>
                  <a:lnTo>
                    <a:pt x="769" y="272"/>
                  </a:lnTo>
                  <a:lnTo>
                    <a:pt x="773" y="276"/>
                  </a:lnTo>
                  <a:lnTo>
                    <a:pt x="773" y="281"/>
                  </a:lnTo>
                  <a:lnTo>
                    <a:pt x="773" y="289"/>
                  </a:lnTo>
                  <a:lnTo>
                    <a:pt x="777" y="294"/>
                  </a:lnTo>
                  <a:lnTo>
                    <a:pt x="777" y="298"/>
                  </a:lnTo>
                  <a:lnTo>
                    <a:pt x="777" y="307"/>
                  </a:lnTo>
                  <a:lnTo>
                    <a:pt x="782" y="311"/>
                  </a:lnTo>
                  <a:lnTo>
                    <a:pt x="782" y="315"/>
                  </a:lnTo>
                  <a:lnTo>
                    <a:pt x="782" y="320"/>
                  </a:lnTo>
                  <a:lnTo>
                    <a:pt x="786" y="328"/>
                  </a:lnTo>
                  <a:lnTo>
                    <a:pt x="786" y="333"/>
                  </a:lnTo>
                  <a:lnTo>
                    <a:pt x="786" y="337"/>
                  </a:lnTo>
                  <a:lnTo>
                    <a:pt x="786" y="346"/>
                  </a:lnTo>
                  <a:lnTo>
                    <a:pt x="790" y="350"/>
                  </a:lnTo>
                  <a:lnTo>
                    <a:pt x="790" y="354"/>
                  </a:lnTo>
                  <a:lnTo>
                    <a:pt x="790" y="363"/>
                  </a:lnTo>
                  <a:lnTo>
                    <a:pt x="795" y="367"/>
                  </a:lnTo>
                  <a:lnTo>
                    <a:pt x="795" y="372"/>
                  </a:lnTo>
                  <a:lnTo>
                    <a:pt x="795" y="376"/>
                  </a:lnTo>
                  <a:lnTo>
                    <a:pt x="799" y="384"/>
                  </a:lnTo>
                  <a:lnTo>
                    <a:pt x="799" y="389"/>
                  </a:lnTo>
                  <a:lnTo>
                    <a:pt x="799" y="393"/>
                  </a:lnTo>
                  <a:lnTo>
                    <a:pt x="803" y="402"/>
                  </a:lnTo>
                  <a:lnTo>
                    <a:pt x="803" y="406"/>
                  </a:lnTo>
                  <a:lnTo>
                    <a:pt x="803" y="410"/>
                  </a:lnTo>
                  <a:lnTo>
                    <a:pt x="803" y="419"/>
                  </a:lnTo>
                  <a:lnTo>
                    <a:pt x="808" y="423"/>
                  </a:lnTo>
                  <a:lnTo>
                    <a:pt x="808" y="428"/>
                  </a:lnTo>
                  <a:lnTo>
                    <a:pt x="808" y="432"/>
                  </a:lnTo>
                  <a:lnTo>
                    <a:pt x="812" y="441"/>
                  </a:lnTo>
                  <a:lnTo>
                    <a:pt x="812" y="445"/>
                  </a:lnTo>
                  <a:lnTo>
                    <a:pt x="812" y="449"/>
                  </a:lnTo>
                  <a:lnTo>
                    <a:pt x="816" y="458"/>
                  </a:lnTo>
                  <a:lnTo>
                    <a:pt x="816" y="462"/>
                  </a:lnTo>
                  <a:lnTo>
                    <a:pt x="816" y="467"/>
                  </a:lnTo>
                  <a:lnTo>
                    <a:pt x="821" y="471"/>
                  </a:lnTo>
                  <a:lnTo>
                    <a:pt x="821" y="480"/>
                  </a:lnTo>
                  <a:lnTo>
                    <a:pt x="821" y="484"/>
                  </a:lnTo>
                  <a:lnTo>
                    <a:pt x="821" y="488"/>
                  </a:lnTo>
                  <a:lnTo>
                    <a:pt x="825" y="493"/>
                  </a:lnTo>
                  <a:lnTo>
                    <a:pt x="825" y="501"/>
                  </a:lnTo>
                  <a:lnTo>
                    <a:pt x="825" y="506"/>
                  </a:lnTo>
                  <a:lnTo>
                    <a:pt x="829" y="510"/>
                  </a:lnTo>
                  <a:lnTo>
                    <a:pt x="829" y="514"/>
                  </a:lnTo>
                  <a:lnTo>
                    <a:pt x="829" y="523"/>
                  </a:lnTo>
                  <a:lnTo>
                    <a:pt x="833" y="527"/>
                  </a:lnTo>
                  <a:lnTo>
                    <a:pt x="833" y="532"/>
                  </a:lnTo>
                  <a:lnTo>
                    <a:pt x="833" y="536"/>
                  </a:lnTo>
                  <a:lnTo>
                    <a:pt x="838" y="540"/>
                  </a:lnTo>
                  <a:lnTo>
                    <a:pt x="838" y="549"/>
                  </a:lnTo>
                  <a:lnTo>
                    <a:pt x="838" y="553"/>
                  </a:lnTo>
                  <a:lnTo>
                    <a:pt x="838" y="557"/>
                  </a:lnTo>
                  <a:lnTo>
                    <a:pt x="842" y="562"/>
                  </a:lnTo>
                  <a:lnTo>
                    <a:pt x="842" y="566"/>
                  </a:lnTo>
                  <a:lnTo>
                    <a:pt x="842" y="570"/>
                  </a:lnTo>
                  <a:lnTo>
                    <a:pt x="846" y="579"/>
                  </a:lnTo>
                  <a:lnTo>
                    <a:pt x="846" y="583"/>
                  </a:lnTo>
                  <a:lnTo>
                    <a:pt x="846" y="588"/>
                  </a:lnTo>
                  <a:lnTo>
                    <a:pt x="851" y="592"/>
                  </a:lnTo>
                  <a:lnTo>
                    <a:pt x="851" y="596"/>
                  </a:lnTo>
                  <a:lnTo>
                    <a:pt x="851" y="601"/>
                  </a:lnTo>
                  <a:lnTo>
                    <a:pt x="855" y="605"/>
                  </a:lnTo>
                  <a:lnTo>
                    <a:pt x="855" y="609"/>
                  </a:lnTo>
                  <a:lnTo>
                    <a:pt x="855" y="614"/>
                  </a:lnTo>
                  <a:lnTo>
                    <a:pt x="855" y="618"/>
                  </a:lnTo>
                  <a:lnTo>
                    <a:pt x="859" y="627"/>
                  </a:lnTo>
                  <a:lnTo>
                    <a:pt x="859" y="631"/>
                  </a:lnTo>
                  <a:lnTo>
                    <a:pt x="859" y="635"/>
                  </a:lnTo>
                  <a:lnTo>
                    <a:pt x="864" y="640"/>
                  </a:lnTo>
                  <a:lnTo>
                    <a:pt x="864" y="644"/>
                  </a:lnTo>
                  <a:lnTo>
                    <a:pt x="864" y="648"/>
                  </a:lnTo>
                  <a:lnTo>
                    <a:pt x="868" y="653"/>
                  </a:lnTo>
                  <a:lnTo>
                    <a:pt x="868" y="657"/>
                  </a:lnTo>
                  <a:lnTo>
                    <a:pt x="868" y="661"/>
                  </a:lnTo>
                  <a:lnTo>
                    <a:pt x="872" y="666"/>
                  </a:lnTo>
                  <a:lnTo>
                    <a:pt x="872" y="670"/>
                  </a:lnTo>
                  <a:lnTo>
                    <a:pt x="872" y="674"/>
                  </a:lnTo>
                  <a:lnTo>
                    <a:pt x="872" y="679"/>
                  </a:lnTo>
                  <a:lnTo>
                    <a:pt x="877" y="679"/>
                  </a:lnTo>
                  <a:lnTo>
                    <a:pt x="877" y="683"/>
                  </a:lnTo>
                  <a:lnTo>
                    <a:pt x="877" y="687"/>
                  </a:lnTo>
                  <a:lnTo>
                    <a:pt x="881" y="692"/>
                  </a:lnTo>
                  <a:lnTo>
                    <a:pt x="881" y="696"/>
                  </a:lnTo>
                  <a:lnTo>
                    <a:pt x="881" y="700"/>
                  </a:lnTo>
                  <a:lnTo>
                    <a:pt x="885" y="705"/>
                  </a:lnTo>
                  <a:lnTo>
                    <a:pt x="885" y="709"/>
                  </a:lnTo>
                  <a:lnTo>
                    <a:pt x="885" y="713"/>
                  </a:lnTo>
                  <a:lnTo>
                    <a:pt x="885" y="717"/>
                  </a:lnTo>
                  <a:lnTo>
                    <a:pt x="890" y="717"/>
                  </a:lnTo>
                  <a:lnTo>
                    <a:pt x="890" y="722"/>
                  </a:lnTo>
                  <a:lnTo>
                    <a:pt x="890" y="726"/>
                  </a:lnTo>
                  <a:lnTo>
                    <a:pt x="894" y="730"/>
                  </a:lnTo>
                  <a:lnTo>
                    <a:pt x="894" y="735"/>
                  </a:lnTo>
                  <a:lnTo>
                    <a:pt x="894" y="739"/>
                  </a:lnTo>
                  <a:lnTo>
                    <a:pt x="898" y="739"/>
                  </a:lnTo>
                  <a:lnTo>
                    <a:pt x="898" y="743"/>
                  </a:lnTo>
                  <a:lnTo>
                    <a:pt x="898" y="748"/>
                  </a:lnTo>
                  <a:lnTo>
                    <a:pt x="903" y="752"/>
                  </a:lnTo>
                  <a:lnTo>
                    <a:pt x="903" y="756"/>
                  </a:lnTo>
                  <a:lnTo>
                    <a:pt x="903" y="761"/>
                  </a:lnTo>
                  <a:lnTo>
                    <a:pt x="907" y="765"/>
                  </a:lnTo>
                  <a:lnTo>
                    <a:pt x="907" y="769"/>
                  </a:lnTo>
                  <a:lnTo>
                    <a:pt x="911" y="774"/>
                  </a:lnTo>
                  <a:lnTo>
                    <a:pt x="911" y="778"/>
                  </a:lnTo>
                  <a:lnTo>
                    <a:pt x="916" y="782"/>
                  </a:lnTo>
                  <a:lnTo>
                    <a:pt x="916" y="787"/>
                  </a:lnTo>
                  <a:lnTo>
                    <a:pt x="920" y="791"/>
                  </a:lnTo>
                  <a:lnTo>
                    <a:pt x="920" y="795"/>
                  </a:lnTo>
                  <a:lnTo>
                    <a:pt x="920" y="800"/>
                  </a:lnTo>
                  <a:lnTo>
                    <a:pt x="924" y="800"/>
                  </a:lnTo>
                  <a:lnTo>
                    <a:pt x="924" y="804"/>
                  </a:lnTo>
                  <a:lnTo>
                    <a:pt x="928" y="808"/>
                  </a:lnTo>
                  <a:lnTo>
                    <a:pt x="928" y="813"/>
                  </a:lnTo>
                  <a:lnTo>
                    <a:pt x="933" y="817"/>
                  </a:lnTo>
                  <a:lnTo>
                    <a:pt x="933" y="821"/>
                  </a:lnTo>
                  <a:lnTo>
                    <a:pt x="937" y="821"/>
                  </a:lnTo>
                  <a:lnTo>
                    <a:pt x="937" y="826"/>
                  </a:lnTo>
                  <a:lnTo>
                    <a:pt x="937" y="830"/>
                  </a:lnTo>
                  <a:lnTo>
                    <a:pt x="941" y="830"/>
                  </a:lnTo>
                  <a:lnTo>
                    <a:pt x="941" y="834"/>
                  </a:lnTo>
                  <a:lnTo>
                    <a:pt x="946" y="839"/>
                  </a:lnTo>
                  <a:lnTo>
                    <a:pt x="946" y="843"/>
                  </a:lnTo>
                  <a:lnTo>
                    <a:pt x="950" y="843"/>
                  </a:lnTo>
                  <a:lnTo>
                    <a:pt x="950" y="847"/>
                  </a:lnTo>
                  <a:lnTo>
                    <a:pt x="954" y="847"/>
                  </a:lnTo>
                  <a:lnTo>
                    <a:pt x="954" y="852"/>
                  </a:lnTo>
                  <a:lnTo>
                    <a:pt x="954" y="856"/>
                  </a:lnTo>
                  <a:lnTo>
                    <a:pt x="959" y="856"/>
                  </a:lnTo>
                  <a:lnTo>
                    <a:pt x="959" y="860"/>
                  </a:lnTo>
                  <a:lnTo>
                    <a:pt x="963" y="860"/>
                  </a:lnTo>
                  <a:lnTo>
                    <a:pt x="963" y="865"/>
                  </a:lnTo>
                  <a:lnTo>
                    <a:pt x="967" y="865"/>
                  </a:lnTo>
                  <a:lnTo>
                    <a:pt x="967" y="869"/>
                  </a:lnTo>
                  <a:lnTo>
                    <a:pt x="972" y="869"/>
                  </a:lnTo>
                  <a:lnTo>
                    <a:pt x="972" y="873"/>
                  </a:lnTo>
                  <a:lnTo>
                    <a:pt x="976" y="877"/>
                  </a:lnTo>
                  <a:lnTo>
                    <a:pt x="980" y="877"/>
                  </a:lnTo>
                  <a:lnTo>
                    <a:pt x="980" y="882"/>
                  </a:lnTo>
                  <a:lnTo>
                    <a:pt x="985" y="882"/>
                  </a:lnTo>
                  <a:lnTo>
                    <a:pt x="985" y="886"/>
                  </a:lnTo>
                  <a:lnTo>
                    <a:pt x="989" y="886"/>
                  </a:lnTo>
                  <a:lnTo>
                    <a:pt x="989" y="890"/>
                  </a:lnTo>
                  <a:lnTo>
                    <a:pt x="993" y="890"/>
                  </a:lnTo>
                  <a:lnTo>
                    <a:pt x="998" y="895"/>
                  </a:lnTo>
                  <a:lnTo>
                    <a:pt x="1002" y="895"/>
                  </a:lnTo>
                  <a:lnTo>
                    <a:pt x="1002" y="899"/>
                  </a:lnTo>
                  <a:lnTo>
                    <a:pt x="1006" y="899"/>
                  </a:lnTo>
                  <a:lnTo>
                    <a:pt x="1006" y="903"/>
                  </a:lnTo>
                  <a:lnTo>
                    <a:pt x="1011" y="903"/>
                  </a:lnTo>
                  <a:lnTo>
                    <a:pt x="1015" y="903"/>
                  </a:lnTo>
                  <a:lnTo>
                    <a:pt x="1015" y="908"/>
                  </a:lnTo>
                  <a:lnTo>
                    <a:pt x="1019" y="908"/>
                  </a:lnTo>
                  <a:lnTo>
                    <a:pt x="1024" y="908"/>
                  </a:lnTo>
                  <a:lnTo>
                    <a:pt x="1024" y="912"/>
                  </a:lnTo>
                  <a:lnTo>
                    <a:pt x="1028" y="912"/>
                  </a:lnTo>
                  <a:lnTo>
                    <a:pt x="1032" y="912"/>
                  </a:lnTo>
                  <a:lnTo>
                    <a:pt x="1036" y="912"/>
                  </a:lnTo>
                  <a:lnTo>
                    <a:pt x="1036" y="916"/>
                  </a:lnTo>
                  <a:lnTo>
                    <a:pt x="1041" y="916"/>
                  </a:lnTo>
                  <a:lnTo>
                    <a:pt x="1045" y="916"/>
                  </a:lnTo>
                  <a:lnTo>
                    <a:pt x="1049" y="916"/>
                  </a:lnTo>
                  <a:lnTo>
                    <a:pt x="1049" y="921"/>
                  </a:lnTo>
                  <a:lnTo>
                    <a:pt x="1054" y="921"/>
                  </a:lnTo>
                  <a:lnTo>
                    <a:pt x="1058" y="921"/>
                  </a:lnTo>
                  <a:lnTo>
                    <a:pt x="1062" y="921"/>
                  </a:lnTo>
                  <a:lnTo>
                    <a:pt x="1067" y="921"/>
                  </a:lnTo>
                  <a:lnTo>
                    <a:pt x="1067" y="925"/>
                  </a:lnTo>
                  <a:lnTo>
                    <a:pt x="1071" y="925"/>
                  </a:lnTo>
                  <a:lnTo>
                    <a:pt x="1075" y="925"/>
                  </a:lnTo>
                  <a:lnTo>
                    <a:pt x="1080" y="925"/>
                  </a:lnTo>
                  <a:lnTo>
                    <a:pt x="1084" y="925"/>
                  </a:lnTo>
                  <a:lnTo>
                    <a:pt x="1088" y="925"/>
                  </a:lnTo>
                  <a:lnTo>
                    <a:pt x="1093" y="925"/>
                  </a:lnTo>
                  <a:lnTo>
                    <a:pt x="1097" y="925"/>
                  </a:lnTo>
                  <a:lnTo>
                    <a:pt x="1097" y="929"/>
                  </a:lnTo>
                  <a:lnTo>
                    <a:pt x="1101" y="929"/>
                  </a:lnTo>
                  <a:lnTo>
                    <a:pt x="1106" y="929"/>
                  </a:lnTo>
                  <a:lnTo>
                    <a:pt x="1110" y="929"/>
                  </a:lnTo>
                  <a:lnTo>
                    <a:pt x="1114" y="929"/>
                  </a:lnTo>
                  <a:lnTo>
                    <a:pt x="1119" y="929"/>
                  </a:lnTo>
                  <a:lnTo>
                    <a:pt x="1123" y="929"/>
                  </a:lnTo>
                  <a:lnTo>
                    <a:pt x="1127" y="929"/>
                  </a:lnTo>
                  <a:lnTo>
                    <a:pt x="1132" y="929"/>
                  </a:lnTo>
                  <a:lnTo>
                    <a:pt x="1136" y="929"/>
                  </a:lnTo>
                  <a:lnTo>
                    <a:pt x="1140" y="929"/>
                  </a:lnTo>
                  <a:lnTo>
                    <a:pt x="1144" y="929"/>
                  </a:lnTo>
                  <a:lnTo>
                    <a:pt x="1149" y="929"/>
                  </a:lnTo>
                  <a:lnTo>
                    <a:pt x="1153" y="929"/>
                  </a:lnTo>
                  <a:lnTo>
                    <a:pt x="1157" y="929"/>
                  </a:lnTo>
                  <a:lnTo>
                    <a:pt x="1162" y="929"/>
                  </a:lnTo>
                  <a:lnTo>
                    <a:pt x="1166" y="929"/>
                  </a:lnTo>
                  <a:lnTo>
                    <a:pt x="1170" y="929"/>
                  </a:lnTo>
                  <a:lnTo>
                    <a:pt x="1175" y="929"/>
                  </a:lnTo>
                  <a:lnTo>
                    <a:pt x="1179" y="929"/>
                  </a:lnTo>
                  <a:lnTo>
                    <a:pt x="1183" y="929"/>
                  </a:lnTo>
                  <a:lnTo>
                    <a:pt x="1188" y="929"/>
                  </a:lnTo>
                  <a:lnTo>
                    <a:pt x="1192" y="929"/>
                  </a:lnTo>
                  <a:lnTo>
                    <a:pt x="1196" y="929"/>
                  </a:lnTo>
                  <a:lnTo>
                    <a:pt x="1201" y="929"/>
                  </a:lnTo>
                  <a:lnTo>
                    <a:pt x="1205" y="929"/>
                  </a:lnTo>
                  <a:lnTo>
                    <a:pt x="1209" y="929"/>
                  </a:lnTo>
                  <a:lnTo>
                    <a:pt x="1214" y="929"/>
                  </a:lnTo>
                  <a:lnTo>
                    <a:pt x="1218" y="929"/>
                  </a:lnTo>
                  <a:lnTo>
                    <a:pt x="1222" y="929"/>
                  </a:lnTo>
                  <a:lnTo>
                    <a:pt x="1227" y="929"/>
                  </a:lnTo>
                  <a:lnTo>
                    <a:pt x="1231" y="929"/>
                  </a:lnTo>
                  <a:lnTo>
                    <a:pt x="1235" y="929"/>
                  </a:lnTo>
                  <a:lnTo>
                    <a:pt x="1240" y="929"/>
                  </a:lnTo>
                  <a:lnTo>
                    <a:pt x="1244" y="929"/>
                  </a:lnTo>
                  <a:lnTo>
                    <a:pt x="1248" y="929"/>
                  </a:lnTo>
                  <a:lnTo>
                    <a:pt x="1252" y="929"/>
                  </a:lnTo>
                  <a:lnTo>
                    <a:pt x="1257" y="929"/>
                  </a:lnTo>
                  <a:lnTo>
                    <a:pt x="1261" y="929"/>
                  </a:lnTo>
                  <a:lnTo>
                    <a:pt x="1265" y="929"/>
                  </a:lnTo>
                  <a:lnTo>
                    <a:pt x="1270" y="929"/>
                  </a:lnTo>
                  <a:lnTo>
                    <a:pt x="1274" y="929"/>
                  </a:lnTo>
                  <a:lnTo>
                    <a:pt x="1278" y="929"/>
                  </a:lnTo>
                  <a:lnTo>
                    <a:pt x="1283" y="929"/>
                  </a:lnTo>
                  <a:lnTo>
                    <a:pt x="1287" y="929"/>
                  </a:lnTo>
                  <a:lnTo>
                    <a:pt x="1291" y="929"/>
                  </a:lnTo>
                  <a:lnTo>
                    <a:pt x="1296" y="929"/>
                  </a:lnTo>
                  <a:lnTo>
                    <a:pt x="1300" y="929"/>
                  </a:lnTo>
                  <a:lnTo>
                    <a:pt x="1304" y="929"/>
                  </a:lnTo>
                  <a:lnTo>
                    <a:pt x="1309" y="929"/>
                  </a:lnTo>
                  <a:lnTo>
                    <a:pt x="1313" y="929"/>
                  </a:lnTo>
                  <a:lnTo>
                    <a:pt x="1317" y="929"/>
                  </a:lnTo>
                  <a:lnTo>
                    <a:pt x="1322" y="9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custGeom>
              <a:avLst/>
              <a:gdLst>
                <a:gd name="textAreaLeft" fmla="*/ 0 w 2948040"/>
                <a:gd name="textAreaRight" fmla="*/ 2948400 w 294804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custGeom>
              <a:avLst/>
              <a:gdLst>
                <a:gd name="textAreaLeft" fmla="*/ 0 w 2824200"/>
                <a:gd name="textAreaRight" fmla="*/ 2824560 w 28242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1320" h="928">
                  <a:moveTo>
                    <a:pt x="0" y="927"/>
                  </a:moveTo>
                  <a:lnTo>
                    <a:pt x="4" y="927"/>
                  </a:lnTo>
                  <a:lnTo>
                    <a:pt x="13" y="927"/>
                  </a:lnTo>
                  <a:lnTo>
                    <a:pt x="17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91" y="927"/>
                  </a:lnTo>
                  <a:lnTo>
                    <a:pt x="100" y="927"/>
                  </a:lnTo>
                  <a:lnTo>
                    <a:pt x="104" y="927"/>
                  </a:lnTo>
                  <a:lnTo>
                    <a:pt x="112" y="927"/>
                  </a:lnTo>
                  <a:lnTo>
                    <a:pt x="116" y="927"/>
                  </a:lnTo>
                  <a:lnTo>
                    <a:pt x="125" y="927"/>
                  </a:lnTo>
                  <a:lnTo>
                    <a:pt x="129" y="927"/>
                  </a:lnTo>
                  <a:lnTo>
                    <a:pt x="138" y="927"/>
                  </a:lnTo>
                  <a:lnTo>
                    <a:pt x="142" y="927"/>
                  </a:lnTo>
                  <a:lnTo>
                    <a:pt x="151" y="927"/>
                  </a:lnTo>
                  <a:lnTo>
                    <a:pt x="155" y="927"/>
                  </a:lnTo>
                  <a:lnTo>
                    <a:pt x="164" y="927"/>
                  </a:lnTo>
                  <a:lnTo>
                    <a:pt x="168" y="927"/>
                  </a:lnTo>
                  <a:lnTo>
                    <a:pt x="177" y="927"/>
                  </a:lnTo>
                  <a:lnTo>
                    <a:pt x="181" y="927"/>
                  </a:lnTo>
                  <a:lnTo>
                    <a:pt x="190" y="927"/>
                  </a:lnTo>
                  <a:lnTo>
                    <a:pt x="198" y="927"/>
                  </a:lnTo>
                  <a:lnTo>
                    <a:pt x="203" y="927"/>
                  </a:lnTo>
                  <a:lnTo>
                    <a:pt x="211" y="927"/>
                  </a:lnTo>
                  <a:lnTo>
                    <a:pt x="216" y="927"/>
                  </a:lnTo>
                  <a:lnTo>
                    <a:pt x="224" y="927"/>
                  </a:lnTo>
                  <a:lnTo>
                    <a:pt x="229" y="927"/>
                  </a:lnTo>
                  <a:lnTo>
                    <a:pt x="237" y="927"/>
                  </a:lnTo>
                  <a:lnTo>
                    <a:pt x="242" y="927"/>
                  </a:lnTo>
                  <a:lnTo>
                    <a:pt x="250" y="927"/>
                  </a:lnTo>
                  <a:lnTo>
                    <a:pt x="255" y="927"/>
                  </a:lnTo>
                  <a:lnTo>
                    <a:pt x="263" y="927"/>
                  </a:lnTo>
                  <a:lnTo>
                    <a:pt x="268" y="927"/>
                  </a:lnTo>
                  <a:lnTo>
                    <a:pt x="276" y="927"/>
                  </a:lnTo>
                  <a:lnTo>
                    <a:pt x="285" y="927"/>
                  </a:lnTo>
                  <a:lnTo>
                    <a:pt x="289" y="927"/>
                  </a:lnTo>
                  <a:lnTo>
                    <a:pt x="298" y="927"/>
                  </a:lnTo>
                  <a:lnTo>
                    <a:pt x="302" y="927"/>
                  </a:lnTo>
                  <a:lnTo>
                    <a:pt x="311" y="927"/>
                  </a:lnTo>
                  <a:lnTo>
                    <a:pt x="315" y="927"/>
                  </a:lnTo>
                  <a:lnTo>
                    <a:pt x="324" y="927"/>
                  </a:lnTo>
                  <a:lnTo>
                    <a:pt x="328" y="927"/>
                  </a:lnTo>
                  <a:lnTo>
                    <a:pt x="336" y="927"/>
                  </a:lnTo>
                  <a:lnTo>
                    <a:pt x="340" y="927"/>
                  </a:lnTo>
                  <a:lnTo>
                    <a:pt x="349" y="927"/>
                  </a:lnTo>
                  <a:lnTo>
                    <a:pt x="353" y="927"/>
                  </a:lnTo>
                  <a:lnTo>
                    <a:pt x="362" y="927"/>
                  </a:lnTo>
                  <a:lnTo>
                    <a:pt x="366" y="927"/>
                  </a:lnTo>
                  <a:lnTo>
                    <a:pt x="375" y="927"/>
                  </a:lnTo>
                  <a:lnTo>
                    <a:pt x="383" y="927"/>
                  </a:lnTo>
                  <a:lnTo>
                    <a:pt x="388" y="927"/>
                  </a:lnTo>
                  <a:lnTo>
                    <a:pt x="396" y="927"/>
                  </a:lnTo>
                  <a:lnTo>
                    <a:pt x="401" y="927"/>
                  </a:lnTo>
                  <a:lnTo>
                    <a:pt x="409" y="927"/>
                  </a:lnTo>
                  <a:lnTo>
                    <a:pt x="414" y="927"/>
                  </a:lnTo>
                  <a:lnTo>
                    <a:pt x="422" y="927"/>
                  </a:lnTo>
                  <a:lnTo>
                    <a:pt x="427" y="927"/>
                  </a:lnTo>
                  <a:lnTo>
                    <a:pt x="435" y="927"/>
                  </a:lnTo>
                  <a:lnTo>
                    <a:pt x="440" y="927"/>
                  </a:lnTo>
                  <a:lnTo>
                    <a:pt x="448" y="927"/>
                  </a:lnTo>
                  <a:lnTo>
                    <a:pt x="453" y="927"/>
                  </a:lnTo>
                  <a:lnTo>
                    <a:pt x="461" y="927"/>
                  </a:lnTo>
                  <a:lnTo>
                    <a:pt x="466" y="927"/>
                  </a:lnTo>
                  <a:lnTo>
                    <a:pt x="474" y="927"/>
                  </a:lnTo>
                  <a:lnTo>
                    <a:pt x="483" y="927"/>
                  </a:lnTo>
                  <a:lnTo>
                    <a:pt x="487" y="927"/>
                  </a:lnTo>
                  <a:lnTo>
                    <a:pt x="496" y="505"/>
                  </a:lnTo>
                  <a:lnTo>
                    <a:pt x="500" y="479"/>
                  </a:lnTo>
                  <a:lnTo>
                    <a:pt x="509" y="448"/>
                  </a:lnTo>
                  <a:lnTo>
                    <a:pt x="513" y="422"/>
                  </a:lnTo>
                  <a:lnTo>
                    <a:pt x="522" y="392"/>
                  </a:lnTo>
                  <a:lnTo>
                    <a:pt x="526" y="367"/>
                  </a:lnTo>
                  <a:lnTo>
                    <a:pt x="535" y="336"/>
                  </a:lnTo>
                  <a:lnTo>
                    <a:pt x="539" y="310"/>
                  </a:lnTo>
                  <a:lnTo>
                    <a:pt x="548" y="280"/>
                  </a:lnTo>
                  <a:lnTo>
                    <a:pt x="551" y="254"/>
                  </a:lnTo>
                  <a:lnTo>
                    <a:pt x="560" y="229"/>
                  </a:lnTo>
                  <a:lnTo>
                    <a:pt x="569" y="203"/>
                  </a:lnTo>
                  <a:lnTo>
                    <a:pt x="573" y="177"/>
                  </a:lnTo>
                  <a:lnTo>
                    <a:pt x="582" y="155"/>
                  </a:lnTo>
                  <a:lnTo>
                    <a:pt x="586" y="129"/>
                  </a:lnTo>
                  <a:lnTo>
                    <a:pt x="595" y="107"/>
                  </a:lnTo>
                  <a:lnTo>
                    <a:pt x="599" y="90"/>
                  </a:lnTo>
                  <a:lnTo>
                    <a:pt x="608" y="74"/>
                  </a:lnTo>
                  <a:lnTo>
                    <a:pt x="612" y="56"/>
                  </a:lnTo>
                  <a:lnTo>
                    <a:pt x="621" y="43"/>
                  </a:lnTo>
                  <a:lnTo>
                    <a:pt x="625" y="30"/>
                  </a:lnTo>
                  <a:lnTo>
                    <a:pt x="634" y="17"/>
                  </a:lnTo>
                  <a:lnTo>
                    <a:pt x="638" y="9"/>
                  </a:lnTo>
                  <a:lnTo>
                    <a:pt x="647" y="4"/>
                  </a:lnTo>
                  <a:lnTo>
                    <a:pt x="651" y="0"/>
                  </a:lnTo>
                  <a:lnTo>
                    <a:pt x="660" y="0"/>
                  </a:lnTo>
                  <a:lnTo>
                    <a:pt x="668" y="0"/>
                  </a:lnTo>
                  <a:lnTo>
                    <a:pt x="673" y="4"/>
                  </a:lnTo>
                  <a:lnTo>
                    <a:pt x="681" y="9"/>
                  </a:lnTo>
                  <a:lnTo>
                    <a:pt x="686" y="17"/>
                  </a:lnTo>
                  <a:lnTo>
                    <a:pt x="694" y="30"/>
                  </a:lnTo>
                  <a:lnTo>
                    <a:pt x="699" y="43"/>
                  </a:lnTo>
                  <a:lnTo>
                    <a:pt x="707" y="56"/>
                  </a:lnTo>
                  <a:lnTo>
                    <a:pt x="712" y="74"/>
                  </a:lnTo>
                  <a:lnTo>
                    <a:pt x="720" y="90"/>
                  </a:lnTo>
                  <a:lnTo>
                    <a:pt x="725" y="107"/>
                  </a:lnTo>
                  <a:lnTo>
                    <a:pt x="733" y="129"/>
                  </a:lnTo>
                  <a:lnTo>
                    <a:pt x="738" y="155"/>
                  </a:lnTo>
                  <a:lnTo>
                    <a:pt x="746" y="177"/>
                  </a:lnTo>
                  <a:lnTo>
                    <a:pt x="751" y="203"/>
                  </a:lnTo>
                  <a:lnTo>
                    <a:pt x="759" y="229"/>
                  </a:lnTo>
                  <a:lnTo>
                    <a:pt x="768" y="254"/>
                  </a:lnTo>
                  <a:lnTo>
                    <a:pt x="771" y="280"/>
                  </a:lnTo>
                  <a:lnTo>
                    <a:pt x="780" y="310"/>
                  </a:lnTo>
                  <a:lnTo>
                    <a:pt x="784" y="336"/>
                  </a:lnTo>
                  <a:lnTo>
                    <a:pt x="793" y="367"/>
                  </a:lnTo>
                  <a:lnTo>
                    <a:pt x="797" y="392"/>
                  </a:lnTo>
                  <a:lnTo>
                    <a:pt x="806" y="422"/>
                  </a:lnTo>
                  <a:lnTo>
                    <a:pt x="810" y="448"/>
                  </a:lnTo>
                  <a:lnTo>
                    <a:pt x="819" y="479"/>
                  </a:lnTo>
                  <a:lnTo>
                    <a:pt x="823" y="505"/>
                  </a:lnTo>
                  <a:lnTo>
                    <a:pt x="832" y="927"/>
                  </a:lnTo>
                  <a:lnTo>
                    <a:pt x="836" y="927"/>
                  </a:lnTo>
                  <a:lnTo>
                    <a:pt x="845" y="927"/>
                  </a:lnTo>
                  <a:lnTo>
                    <a:pt x="854" y="927"/>
                  </a:lnTo>
                  <a:lnTo>
                    <a:pt x="858" y="927"/>
                  </a:lnTo>
                  <a:lnTo>
                    <a:pt x="867" y="927"/>
                  </a:lnTo>
                  <a:lnTo>
                    <a:pt x="871" y="927"/>
                  </a:lnTo>
                  <a:lnTo>
                    <a:pt x="880" y="927"/>
                  </a:lnTo>
                  <a:lnTo>
                    <a:pt x="884" y="927"/>
                  </a:lnTo>
                  <a:lnTo>
                    <a:pt x="893" y="927"/>
                  </a:lnTo>
                  <a:lnTo>
                    <a:pt x="897" y="927"/>
                  </a:lnTo>
                  <a:lnTo>
                    <a:pt x="906" y="927"/>
                  </a:lnTo>
                  <a:lnTo>
                    <a:pt x="910" y="927"/>
                  </a:lnTo>
                  <a:lnTo>
                    <a:pt x="919" y="927"/>
                  </a:lnTo>
                  <a:lnTo>
                    <a:pt x="923" y="927"/>
                  </a:lnTo>
                  <a:lnTo>
                    <a:pt x="932" y="927"/>
                  </a:lnTo>
                  <a:lnTo>
                    <a:pt x="936" y="927"/>
                  </a:lnTo>
                  <a:lnTo>
                    <a:pt x="945" y="927"/>
                  </a:lnTo>
                  <a:lnTo>
                    <a:pt x="953" y="927"/>
                  </a:lnTo>
                  <a:lnTo>
                    <a:pt x="957" y="927"/>
                  </a:lnTo>
                  <a:lnTo>
                    <a:pt x="966" y="927"/>
                  </a:lnTo>
                  <a:lnTo>
                    <a:pt x="970" y="927"/>
                  </a:lnTo>
                  <a:lnTo>
                    <a:pt x="979" y="927"/>
                  </a:lnTo>
                  <a:lnTo>
                    <a:pt x="983" y="927"/>
                  </a:lnTo>
                  <a:lnTo>
                    <a:pt x="991" y="927"/>
                  </a:lnTo>
                  <a:lnTo>
                    <a:pt x="995" y="927"/>
                  </a:lnTo>
                  <a:lnTo>
                    <a:pt x="1004" y="927"/>
                  </a:lnTo>
                  <a:lnTo>
                    <a:pt x="1008" y="927"/>
                  </a:lnTo>
                  <a:lnTo>
                    <a:pt x="1017" y="927"/>
                  </a:lnTo>
                  <a:lnTo>
                    <a:pt x="1021" y="927"/>
                  </a:lnTo>
                  <a:lnTo>
                    <a:pt x="1030" y="927"/>
                  </a:lnTo>
                  <a:lnTo>
                    <a:pt x="1034" y="927"/>
                  </a:lnTo>
                  <a:lnTo>
                    <a:pt x="1043" y="927"/>
                  </a:lnTo>
                  <a:lnTo>
                    <a:pt x="1052" y="927"/>
                  </a:lnTo>
                  <a:lnTo>
                    <a:pt x="1056" y="927"/>
                  </a:lnTo>
                  <a:lnTo>
                    <a:pt x="1065" y="927"/>
                  </a:lnTo>
                  <a:lnTo>
                    <a:pt x="1069" y="927"/>
                  </a:lnTo>
                  <a:lnTo>
                    <a:pt x="1078" y="927"/>
                  </a:lnTo>
                  <a:lnTo>
                    <a:pt x="1082" y="927"/>
                  </a:lnTo>
                  <a:lnTo>
                    <a:pt x="1091" y="927"/>
                  </a:lnTo>
                  <a:lnTo>
                    <a:pt x="1095" y="927"/>
                  </a:lnTo>
                  <a:lnTo>
                    <a:pt x="1104" y="927"/>
                  </a:lnTo>
                  <a:lnTo>
                    <a:pt x="1108" y="927"/>
                  </a:lnTo>
                  <a:lnTo>
                    <a:pt x="1117" y="927"/>
                  </a:lnTo>
                  <a:lnTo>
                    <a:pt x="1121" y="927"/>
                  </a:lnTo>
                  <a:lnTo>
                    <a:pt x="1130" y="927"/>
                  </a:lnTo>
                  <a:lnTo>
                    <a:pt x="1138" y="927"/>
                  </a:lnTo>
                  <a:lnTo>
                    <a:pt x="1143" y="927"/>
                  </a:lnTo>
                  <a:lnTo>
                    <a:pt x="1151" y="927"/>
                  </a:lnTo>
                  <a:lnTo>
                    <a:pt x="1156" y="927"/>
                  </a:lnTo>
                  <a:lnTo>
                    <a:pt x="1164" y="927"/>
                  </a:lnTo>
                  <a:lnTo>
                    <a:pt x="1169" y="927"/>
                  </a:lnTo>
                  <a:lnTo>
                    <a:pt x="1177" y="927"/>
                  </a:lnTo>
                  <a:lnTo>
                    <a:pt x="1182" y="927"/>
                  </a:lnTo>
                  <a:lnTo>
                    <a:pt x="1190" y="927"/>
                  </a:lnTo>
                  <a:lnTo>
                    <a:pt x="1195" y="927"/>
                  </a:lnTo>
                  <a:lnTo>
                    <a:pt x="1203" y="927"/>
                  </a:lnTo>
                  <a:lnTo>
                    <a:pt x="1208" y="927"/>
                  </a:lnTo>
                  <a:lnTo>
                    <a:pt x="1215" y="927"/>
                  </a:lnTo>
                  <a:lnTo>
                    <a:pt x="1220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54" y="927"/>
                  </a:lnTo>
                  <a:lnTo>
                    <a:pt x="1263" y="927"/>
                  </a:lnTo>
                  <a:lnTo>
                    <a:pt x="1267" y="927"/>
                  </a:lnTo>
                  <a:lnTo>
                    <a:pt x="1276" y="927"/>
                  </a:lnTo>
                  <a:lnTo>
                    <a:pt x="1280" y="927"/>
                  </a:lnTo>
                  <a:lnTo>
                    <a:pt x="1289" y="927"/>
                  </a:lnTo>
                  <a:lnTo>
                    <a:pt x="1293" y="927"/>
                  </a:lnTo>
                  <a:lnTo>
                    <a:pt x="1302" y="927"/>
                  </a:lnTo>
                  <a:lnTo>
                    <a:pt x="1306" y="927"/>
                  </a:lnTo>
                  <a:lnTo>
                    <a:pt x="1315" y="927"/>
                  </a:lnTo>
                  <a:lnTo>
                    <a:pt x="1319" y="927"/>
                  </a:lnTo>
                  <a:lnTo>
                    <a:pt x="1315" y="927"/>
                  </a:lnTo>
                  <a:lnTo>
                    <a:pt x="1306" y="927"/>
                  </a:lnTo>
                  <a:lnTo>
                    <a:pt x="1302" y="927"/>
                  </a:lnTo>
                  <a:lnTo>
                    <a:pt x="1293" y="927"/>
                  </a:lnTo>
                  <a:lnTo>
                    <a:pt x="1289" y="927"/>
                  </a:lnTo>
                  <a:lnTo>
                    <a:pt x="1280" y="927"/>
                  </a:lnTo>
                  <a:lnTo>
                    <a:pt x="1276" y="927"/>
                  </a:lnTo>
                  <a:lnTo>
                    <a:pt x="1267" y="927"/>
                  </a:lnTo>
                  <a:lnTo>
                    <a:pt x="1263" y="927"/>
                  </a:lnTo>
                  <a:lnTo>
                    <a:pt x="1254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0" y="927"/>
                  </a:lnTo>
                  <a:lnTo>
                    <a:pt x="1215" y="927"/>
                  </a:lnTo>
                  <a:lnTo>
                    <a:pt x="1208" y="927"/>
                  </a:lnTo>
                  <a:lnTo>
                    <a:pt x="1203" y="927"/>
                  </a:lnTo>
                  <a:lnTo>
                    <a:pt x="1195" y="927"/>
                  </a:lnTo>
                  <a:lnTo>
                    <a:pt x="1190" y="927"/>
                  </a:lnTo>
                  <a:lnTo>
                    <a:pt x="1182" y="927"/>
                  </a:lnTo>
                  <a:lnTo>
                    <a:pt x="1177" y="927"/>
                  </a:lnTo>
                  <a:lnTo>
                    <a:pt x="1169" y="927"/>
                  </a:lnTo>
                  <a:lnTo>
                    <a:pt x="1164" y="927"/>
                  </a:lnTo>
                  <a:lnTo>
                    <a:pt x="1156" y="927"/>
                  </a:lnTo>
                  <a:lnTo>
                    <a:pt x="1151" y="927"/>
                  </a:lnTo>
                  <a:lnTo>
                    <a:pt x="1143" y="927"/>
                  </a:lnTo>
                  <a:lnTo>
                    <a:pt x="1138" y="927"/>
                  </a:lnTo>
                  <a:lnTo>
                    <a:pt x="1130" y="927"/>
                  </a:lnTo>
                  <a:lnTo>
                    <a:pt x="1121" y="927"/>
                  </a:lnTo>
                  <a:lnTo>
                    <a:pt x="1117" y="927"/>
                  </a:lnTo>
                  <a:lnTo>
                    <a:pt x="1108" y="927"/>
                  </a:lnTo>
                  <a:lnTo>
                    <a:pt x="1104" y="927"/>
                  </a:lnTo>
                  <a:lnTo>
                    <a:pt x="1095" y="927"/>
                  </a:lnTo>
                  <a:lnTo>
                    <a:pt x="1091" y="927"/>
                  </a:lnTo>
                  <a:lnTo>
                    <a:pt x="1082" y="927"/>
                  </a:lnTo>
                  <a:lnTo>
                    <a:pt x="1078" y="927"/>
                  </a:lnTo>
                  <a:lnTo>
                    <a:pt x="1069" y="927"/>
                  </a:lnTo>
                  <a:lnTo>
                    <a:pt x="1065" y="927"/>
                  </a:lnTo>
                  <a:lnTo>
                    <a:pt x="1056" y="927"/>
                  </a:lnTo>
                  <a:lnTo>
                    <a:pt x="1052" y="927"/>
                  </a:lnTo>
                  <a:lnTo>
                    <a:pt x="1043" y="927"/>
                  </a:lnTo>
                  <a:lnTo>
                    <a:pt x="1034" y="927"/>
                  </a:lnTo>
                  <a:lnTo>
                    <a:pt x="1030" y="927"/>
                  </a:lnTo>
                  <a:lnTo>
                    <a:pt x="1021" y="927"/>
                  </a:lnTo>
                  <a:lnTo>
                    <a:pt x="1017" y="927"/>
                  </a:lnTo>
                  <a:lnTo>
                    <a:pt x="1008" y="927"/>
                  </a:lnTo>
                  <a:lnTo>
                    <a:pt x="1004" y="927"/>
                  </a:lnTo>
                  <a:lnTo>
                    <a:pt x="995" y="927"/>
                  </a:lnTo>
                  <a:lnTo>
                    <a:pt x="991" y="927"/>
                  </a:lnTo>
                  <a:lnTo>
                    <a:pt x="983" y="927"/>
                  </a:lnTo>
                  <a:lnTo>
                    <a:pt x="979" y="927"/>
                  </a:lnTo>
                  <a:lnTo>
                    <a:pt x="970" y="927"/>
                  </a:lnTo>
                  <a:lnTo>
                    <a:pt x="966" y="927"/>
                  </a:lnTo>
                  <a:lnTo>
                    <a:pt x="957" y="927"/>
                  </a:lnTo>
                  <a:lnTo>
                    <a:pt x="953" y="927"/>
                  </a:lnTo>
                  <a:lnTo>
                    <a:pt x="945" y="927"/>
                  </a:lnTo>
                  <a:lnTo>
                    <a:pt x="936" y="927"/>
                  </a:lnTo>
                  <a:lnTo>
                    <a:pt x="932" y="927"/>
                  </a:lnTo>
                  <a:lnTo>
                    <a:pt x="923" y="927"/>
                  </a:lnTo>
                  <a:lnTo>
                    <a:pt x="919" y="927"/>
                  </a:lnTo>
                  <a:lnTo>
                    <a:pt x="910" y="927"/>
                  </a:lnTo>
                  <a:lnTo>
                    <a:pt x="906" y="927"/>
                  </a:lnTo>
                  <a:lnTo>
                    <a:pt x="897" y="927"/>
                  </a:lnTo>
                  <a:lnTo>
                    <a:pt x="893" y="927"/>
                  </a:lnTo>
                  <a:lnTo>
                    <a:pt x="884" y="927"/>
                  </a:lnTo>
                  <a:lnTo>
                    <a:pt x="880" y="927"/>
                  </a:lnTo>
                  <a:lnTo>
                    <a:pt x="871" y="927"/>
                  </a:lnTo>
                  <a:lnTo>
                    <a:pt x="867" y="927"/>
                  </a:lnTo>
                  <a:lnTo>
                    <a:pt x="858" y="927"/>
                  </a:lnTo>
                  <a:lnTo>
                    <a:pt x="854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797" y="927"/>
                  </a:lnTo>
                  <a:lnTo>
                    <a:pt x="793" y="927"/>
                  </a:lnTo>
                  <a:lnTo>
                    <a:pt x="784" y="927"/>
                  </a:lnTo>
                  <a:lnTo>
                    <a:pt x="780" y="927"/>
                  </a:lnTo>
                  <a:lnTo>
                    <a:pt x="771" y="927"/>
                  </a:lnTo>
                  <a:lnTo>
                    <a:pt x="768" y="927"/>
                  </a:lnTo>
                  <a:lnTo>
                    <a:pt x="759" y="927"/>
                  </a:lnTo>
                  <a:lnTo>
                    <a:pt x="751" y="927"/>
                  </a:lnTo>
                  <a:lnTo>
                    <a:pt x="746" y="927"/>
                  </a:lnTo>
                  <a:lnTo>
                    <a:pt x="738" y="927"/>
                  </a:lnTo>
                  <a:lnTo>
                    <a:pt x="733" y="927"/>
                  </a:lnTo>
                  <a:lnTo>
                    <a:pt x="725" y="927"/>
                  </a:lnTo>
                  <a:lnTo>
                    <a:pt x="720" y="927"/>
                  </a:lnTo>
                  <a:lnTo>
                    <a:pt x="712" y="927"/>
                  </a:lnTo>
                  <a:lnTo>
                    <a:pt x="707" y="927"/>
                  </a:lnTo>
                  <a:lnTo>
                    <a:pt x="699" y="927"/>
                  </a:lnTo>
                  <a:lnTo>
                    <a:pt x="694" y="927"/>
                  </a:lnTo>
                  <a:lnTo>
                    <a:pt x="686" y="927"/>
                  </a:lnTo>
                  <a:lnTo>
                    <a:pt x="681" y="927"/>
                  </a:lnTo>
                  <a:lnTo>
                    <a:pt x="673" y="927"/>
                  </a:lnTo>
                  <a:lnTo>
                    <a:pt x="668" y="927"/>
                  </a:lnTo>
                  <a:lnTo>
                    <a:pt x="660" y="927"/>
                  </a:lnTo>
                  <a:lnTo>
                    <a:pt x="651" y="927"/>
                  </a:lnTo>
                  <a:lnTo>
                    <a:pt x="647" y="927"/>
                  </a:lnTo>
                  <a:lnTo>
                    <a:pt x="638" y="927"/>
                  </a:lnTo>
                  <a:lnTo>
                    <a:pt x="634" y="927"/>
                  </a:lnTo>
                  <a:lnTo>
                    <a:pt x="625" y="927"/>
                  </a:lnTo>
                  <a:lnTo>
                    <a:pt x="621" y="927"/>
                  </a:lnTo>
                  <a:lnTo>
                    <a:pt x="612" y="927"/>
                  </a:lnTo>
                  <a:lnTo>
                    <a:pt x="608" y="927"/>
                  </a:lnTo>
                  <a:lnTo>
                    <a:pt x="599" y="927"/>
                  </a:lnTo>
                  <a:lnTo>
                    <a:pt x="595" y="927"/>
                  </a:lnTo>
                  <a:lnTo>
                    <a:pt x="586" y="927"/>
                  </a:lnTo>
                  <a:lnTo>
                    <a:pt x="582" y="927"/>
                  </a:lnTo>
                  <a:lnTo>
                    <a:pt x="573" y="927"/>
                  </a:lnTo>
                  <a:lnTo>
                    <a:pt x="569" y="927"/>
                  </a:lnTo>
                  <a:lnTo>
                    <a:pt x="560" y="927"/>
                  </a:lnTo>
                  <a:lnTo>
                    <a:pt x="551" y="927"/>
                  </a:lnTo>
                  <a:lnTo>
                    <a:pt x="548" y="927"/>
                  </a:lnTo>
                  <a:lnTo>
                    <a:pt x="539" y="927"/>
                  </a:lnTo>
                  <a:lnTo>
                    <a:pt x="535" y="927"/>
                  </a:lnTo>
                  <a:lnTo>
                    <a:pt x="526" y="927"/>
                  </a:lnTo>
                  <a:lnTo>
                    <a:pt x="522" y="927"/>
                  </a:lnTo>
                  <a:lnTo>
                    <a:pt x="513" y="927"/>
                  </a:lnTo>
                  <a:lnTo>
                    <a:pt x="509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66" y="927"/>
                  </a:lnTo>
                  <a:lnTo>
                    <a:pt x="461" y="927"/>
                  </a:lnTo>
                  <a:lnTo>
                    <a:pt x="453" y="927"/>
                  </a:lnTo>
                  <a:lnTo>
                    <a:pt x="448" y="927"/>
                  </a:lnTo>
                  <a:lnTo>
                    <a:pt x="440" y="927"/>
                  </a:lnTo>
                  <a:lnTo>
                    <a:pt x="435" y="927"/>
                  </a:lnTo>
                  <a:lnTo>
                    <a:pt x="427" y="927"/>
                  </a:lnTo>
                  <a:lnTo>
                    <a:pt x="422" y="927"/>
                  </a:lnTo>
                  <a:lnTo>
                    <a:pt x="414" y="927"/>
                  </a:lnTo>
                  <a:lnTo>
                    <a:pt x="409" y="927"/>
                  </a:lnTo>
                  <a:lnTo>
                    <a:pt x="401" y="927"/>
                  </a:lnTo>
                  <a:lnTo>
                    <a:pt x="396" y="927"/>
                  </a:lnTo>
                  <a:lnTo>
                    <a:pt x="388" y="927"/>
                  </a:lnTo>
                  <a:lnTo>
                    <a:pt x="383" y="927"/>
                  </a:lnTo>
                  <a:lnTo>
                    <a:pt x="375" y="927"/>
                  </a:lnTo>
                  <a:lnTo>
                    <a:pt x="366" y="927"/>
                  </a:lnTo>
                  <a:lnTo>
                    <a:pt x="362" y="927"/>
                  </a:lnTo>
                  <a:lnTo>
                    <a:pt x="353" y="927"/>
                  </a:lnTo>
                  <a:lnTo>
                    <a:pt x="349" y="927"/>
                  </a:lnTo>
                  <a:lnTo>
                    <a:pt x="340" y="927"/>
                  </a:lnTo>
                  <a:lnTo>
                    <a:pt x="336" y="927"/>
                  </a:lnTo>
                  <a:lnTo>
                    <a:pt x="328" y="927"/>
                  </a:lnTo>
                  <a:lnTo>
                    <a:pt x="324" y="927"/>
                  </a:lnTo>
                  <a:lnTo>
                    <a:pt x="315" y="927"/>
                  </a:lnTo>
                  <a:lnTo>
                    <a:pt x="311" y="927"/>
                  </a:lnTo>
                  <a:lnTo>
                    <a:pt x="302" y="927"/>
                  </a:lnTo>
                  <a:lnTo>
                    <a:pt x="298" y="927"/>
                  </a:lnTo>
                  <a:lnTo>
                    <a:pt x="289" y="927"/>
                  </a:lnTo>
                  <a:lnTo>
                    <a:pt x="285" y="927"/>
                  </a:lnTo>
                  <a:lnTo>
                    <a:pt x="276" y="927"/>
                  </a:lnTo>
                  <a:lnTo>
                    <a:pt x="268" y="927"/>
                  </a:lnTo>
                  <a:lnTo>
                    <a:pt x="263" y="927"/>
                  </a:lnTo>
                  <a:lnTo>
                    <a:pt x="255" y="927"/>
                  </a:lnTo>
                  <a:lnTo>
                    <a:pt x="250" y="927"/>
                  </a:lnTo>
                  <a:lnTo>
                    <a:pt x="242" y="927"/>
                  </a:lnTo>
                  <a:lnTo>
                    <a:pt x="237" y="927"/>
                  </a:lnTo>
                  <a:lnTo>
                    <a:pt x="229" y="927"/>
                  </a:lnTo>
                  <a:lnTo>
                    <a:pt x="224" y="927"/>
                  </a:lnTo>
                  <a:lnTo>
                    <a:pt x="216" y="927"/>
                  </a:lnTo>
                  <a:lnTo>
                    <a:pt x="211" y="927"/>
                  </a:lnTo>
                  <a:lnTo>
                    <a:pt x="203" y="927"/>
                  </a:lnTo>
                  <a:lnTo>
                    <a:pt x="198" y="927"/>
                  </a:lnTo>
                  <a:lnTo>
                    <a:pt x="190" y="927"/>
                  </a:lnTo>
                  <a:lnTo>
                    <a:pt x="181" y="927"/>
                  </a:lnTo>
                  <a:lnTo>
                    <a:pt x="177" y="927"/>
                  </a:lnTo>
                  <a:lnTo>
                    <a:pt x="168" y="927"/>
                  </a:lnTo>
                  <a:lnTo>
                    <a:pt x="164" y="927"/>
                  </a:lnTo>
                  <a:lnTo>
                    <a:pt x="155" y="927"/>
                  </a:lnTo>
                  <a:lnTo>
                    <a:pt x="151" y="927"/>
                  </a:lnTo>
                  <a:lnTo>
                    <a:pt x="142" y="927"/>
                  </a:lnTo>
                  <a:lnTo>
                    <a:pt x="138" y="927"/>
                  </a:lnTo>
                  <a:lnTo>
                    <a:pt x="129" y="927"/>
                  </a:lnTo>
                  <a:lnTo>
                    <a:pt x="125" y="927"/>
                  </a:lnTo>
                  <a:lnTo>
                    <a:pt x="116" y="927"/>
                  </a:lnTo>
                  <a:lnTo>
                    <a:pt x="112" y="927"/>
                  </a:lnTo>
                  <a:lnTo>
                    <a:pt x="104" y="927"/>
                  </a:lnTo>
                  <a:lnTo>
                    <a:pt x="100" y="927"/>
                  </a:lnTo>
                  <a:lnTo>
                    <a:pt x="91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17" y="927"/>
                  </a:lnTo>
                  <a:lnTo>
                    <a:pt x="13" y="927"/>
                  </a:lnTo>
                  <a:lnTo>
                    <a:pt x="4" y="927"/>
                  </a:lnTo>
                  <a:lnTo>
                    <a:pt x="0" y="927"/>
                  </a:lnTo>
                </a:path>
              </a:pathLst>
            </a:cu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custGeom>
              <a:avLst/>
              <a:gdLst>
                <a:gd name="textAreaLeft" fmla="*/ 0 w 2837160"/>
                <a:gd name="textAreaRight" fmla="*/ 2837520 w 2837160"/>
                <a:gd name="textAreaTop" fmla="*/ 0 h 1671840"/>
                <a:gd name="textAreaBottom" fmla="*/ 1672200 h 167184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4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91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91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5" y="933"/>
                  </a:lnTo>
                  <a:lnTo>
                    <a:pt x="230" y="933"/>
                  </a:lnTo>
                  <a:lnTo>
                    <a:pt x="238" y="933"/>
                  </a:lnTo>
                  <a:lnTo>
                    <a:pt x="243" y="933"/>
                  </a:lnTo>
                  <a:lnTo>
                    <a:pt x="251" y="933"/>
                  </a:lnTo>
                  <a:lnTo>
                    <a:pt x="256" y="933"/>
                  </a:lnTo>
                  <a:lnTo>
                    <a:pt x="264" y="933"/>
                  </a:lnTo>
                  <a:lnTo>
                    <a:pt x="269" y="933"/>
                  </a:lnTo>
                  <a:lnTo>
                    <a:pt x="277" y="933"/>
                  </a:lnTo>
                  <a:lnTo>
                    <a:pt x="286" y="933"/>
                  </a:lnTo>
                  <a:lnTo>
                    <a:pt x="290" y="933"/>
                  </a:lnTo>
                  <a:lnTo>
                    <a:pt x="299" y="933"/>
                  </a:lnTo>
                  <a:lnTo>
                    <a:pt x="303" y="933"/>
                  </a:lnTo>
                  <a:lnTo>
                    <a:pt x="312" y="933"/>
                  </a:lnTo>
                  <a:lnTo>
                    <a:pt x="316" y="933"/>
                  </a:lnTo>
                  <a:lnTo>
                    <a:pt x="325" y="933"/>
                  </a:lnTo>
                  <a:lnTo>
                    <a:pt x="329" y="933"/>
                  </a:lnTo>
                  <a:lnTo>
                    <a:pt x="338" y="933"/>
                  </a:lnTo>
                  <a:lnTo>
                    <a:pt x="342" y="933"/>
                  </a:lnTo>
                  <a:lnTo>
                    <a:pt x="351" y="933"/>
                  </a:lnTo>
                  <a:lnTo>
                    <a:pt x="355" y="933"/>
                  </a:lnTo>
                  <a:lnTo>
                    <a:pt x="364" y="933"/>
                  </a:lnTo>
                  <a:lnTo>
                    <a:pt x="368" y="933"/>
                  </a:lnTo>
                  <a:lnTo>
                    <a:pt x="377" y="933"/>
                  </a:lnTo>
                  <a:lnTo>
                    <a:pt x="385" y="933"/>
                  </a:lnTo>
                  <a:lnTo>
                    <a:pt x="390" y="933"/>
                  </a:lnTo>
                  <a:lnTo>
                    <a:pt x="398" y="933"/>
                  </a:lnTo>
                  <a:lnTo>
                    <a:pt x="403" y="933"/>
                  </a:lnTo>
                  <a:lnTo>
                    <a:pt x="411" y="933"/>
                  </a:lnTo>
                  <a:lnTo>
                    <a:pt x="416" y="933"/>
                  </a:lnTo>
                  <a:lnTo>
                    <a:pt x="424" y="933"/>
                  </a:lnTo>
                  <a:lnTo>
                    <a:pt x="429" y="933"/>
                  </a:lnTo>
                  <a:lnTo>
                    <a:pt x="437" y="933"/>
                  </a:lnTo>
                  <a:lnTo>
                    <a:pt x="442" y="933"/>
                  </a:lnTo>
                  <a:lnTo>
                    <a:pt x="450" y="933"/>
                  </a:lnTo>
                  <a:lnTo>
                    <a:pt x="455" y="933"/>
                  </a:lnTo>
                  <a:lnTo>
                    <a:pt x="463" y="933"/>
                  </a:lnTo>
                  <a:lnTo>
                    <a:pt x="468" y="933"/>
                  </a:lnTo>
                  <a:lnTo>
                    <a:pt x="476" y="933"/>
                  </a:lnTo>
                  <a:lnTo>
                    <a:pt x="485" y="933"/>
                  </a:lnTo>
                  <a:lnTo>
                    <a:pt x="489" y="933"/>
                  </a:lnTo>
                  <a:lnTo>
                    <a:pt x="498" y="508"/>
                  </a:lnTo>
                  <a:lnTo>
                    <a:pt x="502" y="482"/>
                  </a:lnTo>
                  <a:lnTo>
                    <a:pt x="511" y="451"/>
                  </a:lnTo>
                  <a:lnTo>
                    <a:pt x="515" y="425"/>
                  </a:lnTo>
                  <a:lnTo>
                    <a:pt x="524" y="395"/>
                  </a:lnTo>
                  <a:lnTo>
                    <a:pt x="528" y="369"/>
                  </a:lnTo>
                  <a:lnTo>
                    <a:pt x="537" y="338"/>
                  </a:lnTo>
                  <a:lnTo>
                    <a:pt x="541" y="312"/>
                  </a:lnTo>
                  <a:lnTo>
                    <a:pt x="550" y="282"/>
                  </a:lnTo>
                  <a:lnTo>
                    <a:pt x="554" y="256"/>
                  </a:lnTo>
                  <a:lnTo>
                    <a:pt x="563" y="230"/>
                  </a:lnTo>
                  <a:lnTo>
                    <a:pt x="572" y="204"/>
                  </a:lnTo>
                  <a:lnTo>
                    <a:pt x="576" y="178"/>
                  </a:lnTo>
                  <a:lnTo>
                    <a:pt x="585" y="156"/>
                  </a:lnTo>
                  <a:lnTo>
                    <a:pt x="589" y="130"/>
                  </a:lnTo>
                  <a:lnTo>
                    <a:pt x="598" y="108"/>
                  </a:lnTo>
                  <a:lnTo>
                    <a:pt x="602" y="91"/>
                  </a:lnTo>
                  <a:lnTo>
                    <a:pt x="611" y="74"/>
                  </a:lnTo>
                  <a:lnTo>
                    <a:pt x="615" y="56"/>
                  </a:lnTo>
                  <a:lnTo>
                    <a:pt x="624" y="43"/>
                  </a:lnTo>
                  <a:lnTo>
                    <a:pt x="628" y="30"/>
                  </a:lnTo>
                  <a:lnTo>
                    <a:pt x="637" y="17"/>
                  </a:lnTo>
                  <a:lnTo>
                    <a:pt x="641" y="9"/>
                  </a:lnTo>
                  <a:lnTo>
                    <a:pt x="650" y="4"/>
                  </a:lnTo>
                  <a:lnTo>
                    <a:pt x="654" y="0"/>
                  </a:lnTo>
                  <a:lnTo>
                    <a:pt x="663" y="0"/>
                  </a:lnTo>
                  <a:lnTo>
                    <a:pt x="671" y="0"/>
                  </a:lnTo>
                  <a:lnTo>
                    <a:pt x="676" y="4"/>
                  </a:lnTo>
                  <a:lnTo>
                    <a:pt x="684" y="9"/>
                  </a:lnTo>
                  <a:lnTo>
                    <a:pt x="689" y="17"/>
                  </a:lnTo>
                  <a:lnTo>
                    <a:pt x="697" y="30"/>
                  </a:lnTo>
                  <a:lnTo>
                    <a:pt x="702" y="43"/>
                  </a:lnTo>
                  <a:lnTo>
                    <a:pt x="710" y="56"/>
                  </a:lnTo>
                  <a:lnTo>
                    <a:pt x="715" y="74"/>
                  </a:lnTo>
                  <a:lnTo>
                    <a:pt x="723" y="91"/>
                  </a:lnTo>
                  <a:lnTo>
                    <a:pt x="728" y="108"/>
                  </a:lnTo>
                  <a:lnTo>
                    <a:pt x="736" y="130"/>
                  </a:lnTo>
                  <a:lnTo>
                    <a:pt x="741" y="156"/>
                  </a:lnTo>
                  <a:lnTo>
                    <a:pt x="749" y="178"/>
                  </a:lnTo>
                  <a:lnTo>
                    <a:pt x="754" y="204"/>
                  </a:lnTo>
                  <a:lnTo>
                    <a:pt x="762" y="230"/>
                  </a:lnTo>
                  <a:lnTo>
                    <a:pt x="771" y="256"/>
                  </a:lnTo>
                  <a:lnTo>
                    <a:pt x="775" y="282"/>
                  </a:lnTo>
                  <a:lnTo>
                    <a:pt x="784" y="312"/>
                  </a:lnTo>
                  <a:lnTo>
                    <a:pt x="788" y="338"/>
                  </a:lnTo>
                  <a:lnTo>
                    <a:pt x="797" y="369"/>
                  </a:lnTo>
                  <a:lnTo>
                    <a:pt x="801" y="395"/>
                  </a:lnTo>
                  <a:lnTo>
                    <a:pt x="810" y="425"/>
                  </a:lnTo>
                  <a:lnTo>
                    <a:pt x="814" y="451"/>
                  </a:lnTo>
                  <a:lnTo>
                    <a:pt x="823" y="482"/>
                  </a:lnTo>
                  <a:lnTo>
                    <a:pt x="827" y="508"/>
                  </a:lnTo>
                  <a:lnTo>
                    <a:pt x="836" y="933"/>
                  </a:lnTo>
                  <a:lnTo>
                    <a:pt x="840" y="933"/>
                  </a:lnTo>
                  <a:lnTo>
                    <a:pt x="849" y="933"/>
                  </a:lnTo>
                  <a:lnTo>
                    <a:pt x="858" y="933"/>
                  </a:lnTo>
                  <a:lnTo>
                    <a:pt x="862" y="933"/>
                  </a:lnTo>
                  <a:lnTo>
                    <a:pt x="871" y="933"/>
                  </a:lnTo>
                  <a:lnTo>
                    <a:pt x="875" y="933"/>
                  </a:lnTo>
                  <a:lnTo>
                    <a:pt x="884" y="933"/>
                  </a:lnTo>
                  <a:lnTo>
                    <a:pt x="888" y="933"/>
                  </a:lnTo>
                  <a:lnTo>
                    <a:pt x="897" y="933"/>
                  </a:lnTo>
                  <a:lnTo>
                    <a:pt x="901" y="933"/>
                  </a:lnTo>
                  <a:lnTo>
                    <a:pt x="910" y="933"/>
                  </a:lnTo>
                  <a:lnTo>
                    <a:pt x="914" y="933"/>
                  </a:lnTo>
                  <a:lnTo>
                    <a:pt x="923" y="933"/>
                  </a:lnTo>
                  <a:lnTo>
                    <a:pt x="927" y="933"/>
                  </a:lnTo>
                  <a:lnTo>
                    <a:pt x="936" y="933"/>
                  </a:lnTo>
                  <a:lnTo>
                    <a:pt x="940" y="933"/>
                  </a:lnTo>
                  <a:lnTo>
                    <a:pt x="949" y="933"/>
                  </a:lnTo>
                  <a:lnTo>
                    <a:pt x="957" y="933"/>
                  </a:lnTo>
                  <a:lnTo>
                    <a:pt x="961" y="933"/>
                  </a:lnTo>
                  <a:lnTo>
                    <a:pt x="970" y="933"/>
                  </a:lnTo>
                  <a:lnTo>
                    <a:pt x="974" y="933"/>
                  </a:lnTo>
                  <a:lnTo>
                    <a:pt x="983" y="933"/>
                  </a:lnTo>
                  <a:lnTo>
                    <a:pt x="987" y="933"/>
                  </a:lnTo>
                  <a:lnTo>
                    <a:pt x="996" y="933"/>
                  </a:lnTo>
                  <a:lnTo>
                    <a:pt x="1000" y="933"/>
                  </a:lnTo>
                  <a:lnTo>
                    <a:pt x="1009" y="933"/>
                  </a:lnTo>
                  <a:lnTo>
                    <a:pt x="1013" y="933"/>
                  </a:lnTo>
                  <a:lnTo>
                    <a:pt x="1022" y="933"/>
                  </a:lnTo>
                  <a:lnTo>
                    <a:pt x="1026" y="933"/>
                  </a:lnTo>
                  <a:lnTo>
                    <a:pt x="1035" y="933"/>
                  </a:lnTo>
                  <a:lnTo>
                    <a:pt x="1039" y="933"/>
                  </a:lnTo>
                  <a:lnTo>
                    <a:pt x="1048" y="933"/>
                  </a:lnTo>
                  <a:lnTo>
                    <a:pt x="1057" y="933"/>
                  </a:lnTo>
                  <a:lnTo>
                    <a:pt x="1061" y="933"/>
                  </a:lnTo>
                  <a:lnTo>
                    <a:pt x="1070" y="933"/>
                  </a:lnTo>
                  <a:lnTo>
                    <a:pt x="1074" y="933"/>
                  </a:lnTo>
                  <a:lnTo>
                    <a:pt x="1083" y="933"/>
                  </a:lnTo>
                  <a:lnTo>
                    <a:pt x="1087" y="933"/>
                  </a:lnTo>
                  <a:lnTo>
                    <a:pt x="1096" y="933"/>
                  </a:lnTo>
                  <a:lnTo>
                    <a:pt x="1100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5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21" y="933"/>
                  </a:lnTo>
                  <a:lnTo>
                    <a:pt x="1325" y="933"/>
                  </a:lnTo>
                  <a:lnTo>
                    <a:pt x="1321" y="933"/>
                  </a:lnTo>
                  <a:lnTo>
                    <a:pt x="1312" y="933"/>
                  </a:lnTo>
                  <a:lnTo>
                    <a:pt x="1308" y="933"/>
                  </a:lnTo>
                  <a:lnTo>
                    <a:pt x="1299" y="933"/>
                  </a:lnTo>
                  <a:lnTo>
                    <a:pt x="1295" y="933"/>
                  </a:lnTo>
                  <a:lnTo>
                    <a:pt x="1286" y="933"/>
                  </a:lnTo>
                  <a:lnTo>
                    <a:pt x="1282" y="933"/>
                  </a:lnTo>
                  <a:lnTo>
                    <a:pt x="1273" y="933"/>
                  </a:lnTo>
                  <a:lnTo>
                    <a:pt x="1269" y="933"/>
                  </a:lnTo>
                  <a:lnTo>
                    <a:pt x="1260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26" y="933"/>
                  </a:lnTo>
                  <a:lnTo>
                    <a:pt x="1221" y="933"/>
                  </a:lnTo>
                  <a:lnTo>
                    <a:pt x="1213" y="933"/>
                  </a:lnTo>
                  <a:lnTo>
                    <a:pt x="1208" y="933"/>
                  </a:lnTo>
                  <a:lnTo>
                    <a:pt x="1200" y="933"/>
                  </a:lnTo>
                  <a:lnTo>
                    <a:pt x="1195" y="933"/>
                  </a:lnTo>
                  <a:lnTo>
                    <a:pt x="1187" y="933"/>
                  </a:lnTo>
                  <a:lnTo>
                    <a:pt x="1182" y="933"/>
                  </a:lnTo>
                  <a:lnTo>
                    <a:pt x="1174" y="933"/>
                  </a:lnTo>
                  <a:lnTo>
                    <a:pt x="1169" y="933"/>
                  </a:lnTo>
                  <a:lnTo>
                    <a:pt x="1161" y="933"/>
                  </a:lnTo>
                  <a:lnTo>
                    <a:pt x="1156" y="933"/>
                  </a:lnTo>
                  <a:lnTo>
                    <a:pt x="1148" y="933"/>
                  </a:lnTo>
                  <a:lnTo>
                    <a:pt x="1143" y="933"/>
                  </a:lnTo>
                  <a:lnTo>
                    <a:pt x="1135" y="933"/>
                  </a:lnTo>
                  <a:lnTo>
                    <a:pt x="1126" y="933"/>
                  </a:lnTo>
                  <a:lnTo>
                    <a:pt x="1122" y="933"/>
                  </a:lnTo>
                  <a:lnTo>
                    <a:pt x="1113" y="933"/>
                  </a:lnTo>
                  <a:lnTo>
                    <a:pt x="1109" y="933"/>
                  </a:lnTo>
                  <a:lnTo>
                    <a:pt x="1100" y="933"/>
                  </a:lnTo>
                  <a:lnTo>
                    <a:pt x="1096" y="933"/>
                  </a:lnTo>
                  <a:lnTo>
                    <a:pt x="1087" y="933"/>
                  </a:lnTo>
                  <a:lnTo>
                    <a:pt x="1083" y="933"/>
                  </a:lnTo>
                  <a:lnTo>
                    <a:pt x="1074" y="933"/>
                  </a:lnTo>
                  <a:lnTo>
                    <a:pt x="1070" y="933"/>
                  </a:lnTo>
                  <a:lnTo>
                    <a:pt x="1061" y="933"/>
                  </a:lnTo>
                  <a:lnTo>
                    <a:pt x="1057" y="933"/>
                  </a:lnTo>
                  <a:lnTo>
                    <a:pt x="1048" y="933"/>
                  </a:lnTo>
                  <a:lnTo>
                    <a:pt x="1039" y="933"/>
                  </a:lnTo>
                  <a:lnTo>
                    <a:pt x="1035" y="933"/>
                  </a:lnTo>
                  <a:lnTo>
                    <a:pt x="1026" y="933"/>
                  </a:lnTo>
                  <a:lnTo>
                    <a:pt x="1022" y="933"/>
                  </a:lnTo>
                  <a:lnTo>
                    <a:pt x="1013" y="933"/>
                  </a:lnTo>
                  <a:lnTo>
                    <a:pt x="1009" y="933"/>
                  </a:lnTo>
                  <a:lnTo>
                    <a:pt x="1000" y="933"/>
                  </a:lnTo>
                  <a:lnTo>
                    <a:pt x="996" y="933"/>
                  </a:lnTo>
                  <a:lnTo>
                    <a:pt x="987" y="933"/>
                  </a:lnTo>
                  <a:lnTo>
                    <a:pt x="983" y="933"/>
                  </a:lnTo>
                  <a:lnTo>
                    <a:pt x="974" y="933"/>
                  </a:lnTo>
                  <a:lnTo>
                    <a:pt x="970" y="933"/>
                  </a:lnTo>
                  <a:lnTo>
                    <a:pt x="961" y="933"/>
                  </a:lnTo>
                  <a:lnTo>
                    <a:pt x="957" y="933"/>
                  </a:lnTo>
                  <a:lnTo>
                    <a:pt x="949" y="933"/>
                  </a:lnTo>
                  <a:lnTo>
                    <a:pt x="940" y="933"/>
                  </a:lnTo>
                  <a:lnTo>
                    <a:pt x="936" y="933"/>
                  </a:lnTo>
                  <a:lnTo>
                    <a:pt x="927" y="933"/>
                  </a:lnTo>
                  <a:lnTo>
                    <a:pt x="923" y="933"/>
                  </a:lnTo>
                  <a:lnTo>
                    <a:pt x="914" y="933"/>
                  </a:lnTo>
                  <a:lnTo>
                    <a:pt x="910" y="933"/>
                  </a:lnTo>
                  <a:lnTo>
                    <a:pt x="901" y="933"/>
                  </a:lnTo>
                  <a:lnTo>
                    <a:pt x="897" y="933"/>
                  </a:lnTo>
                  <a:lnTo>
                    <a:pt x="888" y="933"/>
                  </a:lnTo>
                  <a:lnTo>
                    <a:pt x="884" y="933"/>
                  </a:lnTo>
                  <a:lnTo>
                    <a:pt x="875" y="933"/>
                  </a:lnTo>
                  <a:lnTo>
                    <a:pt x="871" y="933"/>
                  </a:lnTo>
                  <a:lnTo>
                    <a:pt x="862" y="933"/>
                  </a:lnTo>
                  <a:lnTo>
                    <a:pt x="858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1" y="933"/>
                  </a:lnTo>
                  <a:lnTo>
                    <a:pt x="797" y="933"/>
                  </a:lnTo>
                  <a:lnTo>
                    <a:pt x="788" y="933"/>
                  </a:lnTo>
                  <a:lnTo>
                    <a:pt x="784" y="933"/>
                  </a:lnTo>
                  <a:lnTo>
                    <a:pt x="775" y="933"/>
                  </a:lnTo>
                  <a:lnTo>
                    <a:pt x="771" y="933"/>
                  </a:lnTo>
                  <a:lnTo>
                    <a:pt x="762" y="933"/>
                  </a:lnTo>
                  <a:lnTo>
                    <a:pt x="754" y="933"/>
                  </a:lnTo>
                  <a:lnTo>
                    <a:pt x="749" y="933"/>
                  </a:lnTo>
                  <a:lnTo>
                    <a:pt x="741" y="933"/>
                  </a:lnTo>
                  <a:lnTo>
                    <a:pt x="736" y="933"/>
                  </a:lnTo>
                  <a:lnTo>
                    <a:pt x="728" y="933"/>
                  </a:lnTo>
                  <a:lnTo>
                    <a:pt x="723" y="933"/>
                  </a:lnTo>
                  <a:lnTo>
                    <a:pt x="715" y="933"/>
                  </a:lnTo>
                  <a:lnTo>
                    <a:pt x="710" y="933"/>
                  </a:lnTo>
                  <a:lnTo>
                    <a:pt x="702" y="933"/>
                  </a:lnTo>
                  <a:lnTo>
                    <a:pt x="697" y="933"/>
                  </a:lnTo>
                  <a:lnTo>
                    <a:pt x="689" y="933"/>
                  </a:lnTo>
                  <a:lnTo>
                    <a:pt x="684" y="933"/>
                  </a:lnTo>
                  <a:lnTo>
                    <a:pt x="676" y="933"/>
                  </a:lnTo>
                  <a:lnTo>
                    <a:pt x="671" y="933"/>
                  </a:lnTo>
                  <a:lnTo>
                    <a:pt x="663" y="933"/>
                  </a:lnTo>
                  <a:lnTo>
                    <a:pt x="654" y="933"/>
                  </a:lnTo>
                  <a:lnTo>
                    <a:pt x="650" y="933"/>
                  </a:lnTo>
                  <a:lnTo>
                    <a:pt x="641" y="933"/>
                  </a:lnTo>
                  <a:lnTo>
                    <a:pt x="637" y="933"/>
                  </a:lnTo>
                  <a:lnTo>
                    <a:pt x="628" y="933"/>
                  </a:lnTo>
                  <a:lnTo>
                    <a:pt x="624" y="933"/>
                  </a:lnTo>
                  <a:lnTo>
                    <a:pt x="615" y="933"/>
                  </a:lnTo>
                  <a:lnTo>
                    <a:pt x="611" y="933"/>
                  </a:lnTo>
                  <a:lnTo>
                    <a:pt x="602" y="933"/>
                  </a:lnTo>
                  <a:lnTo>
                    <a:pt x="598" y="933"/>
                  </a:lnTo>
                  <a:lnTo>
                    <a:pt x="589" y="933"/>
                  </a:lnTo>
                  <a:lnTo>
                    <a:pt x="585" y="933"/>
                  </a:lnTo>
                  <a:lnTo>
                    <a:pt x="576" y="933"/>
                  </a:lnTo>
                  <a:lnTo>
                    <a:pt x="572" y="933"/>
                  </a:lnTo>
                  <a:lnTo>
                    <a:pt x="563" y="933"/>
                  </a:lnTo>
                  <a:lnTo>
                    <a:pt x="554" y="933"/>
                  </a:lnTo>
                  <a:lnTo>
                    <a:pt x="550" y="933"/>
                  </a:lnTo>
                  <a:lnTo>
                    <a:pt x="541" y="933"/>
                  </a:lnTo>
                  <a:lnTo>
                    <a:pt x="537" y="933"/>
                  </a:lnTo>
                  <a:lnTo>
                    <a:pt x="528" y="933"/>
                  </a:lnTo>
                  <a:lnTo>
                    <a:pt x="524" y="933"/>
                  </a:lnTo>
                  <a:lnTo>
                    <a:pt x="515" y="933"/>
                  </a:lnTo>
                  <a:lnTo>
                    <a:pt x="511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68" y="933"/>
                  </a:lnTo>
                  <a:lnTo>
                    <a:pt x="463" y="933"/>
                  </a:lnTo>
                  <a:lnTo>
                    <a:pt x="455" y="933"/>
                  </a:lnTo>
                  <a:lnTo>
                    <a:pt x="450" y="933"/>
                  </a:lnTo>
                  <a:lnTo>
                    <a:pt x="442" y="933"/>
                  </a:lnTo>
                  <a:lnTo>
                    <a:pt x="437" y="933"/>
                  </a:lnTo>
                  <a:lnTo>
                    <a:pt x="429" y="933"/>
                  </a:lnTo>
                  <a:lnTo>
                    <a:pt x="424" y="933"/>
                  </a:lnTo>
                  <a:lnTo>
                    <a:pt x="416" y="933"/>
                  </a:lnTo>
                  <a:lnTo>
                    <a:pt x="411" y="933"/>
                  </a:lnTo>
                  <a:lnTo>
                    <a:pt x="403" y="933"/>
                  </a:lnTo>
                  <a:lnTo>
                    <a:pt x="398" y="933"/>
                  </a:lnTo>
                  <a:lnTo>
                    <a:pt x="390" y="933"/>
                  </a:lnTo>
                  <a:lnTo>
                    <a:pt x="385" y="933"/>
                  </a:lnTo>
                  <a:lnTo>
                    <a:pt x="377" y="933"/>
                  </a:lnTo>
                  <a:lnTo>
                    <a:pt x="368" y="933"/>
                  </a:lnTo>
                  <a:lnTo>
                    <a:pt x="364" y="933"/>
                  </a:lnTo>
                  <a:lnTo>
                    <a:pt x="355" y="933"/>
                  </a:lnTo>
                  <a:lnTo>
                    <a:pt x="351" y="933"/>
                  </a:lnTo>
                  <a:lnTo>
                    <a:pt x="342" y="933"/>
                  </a:lnTo>
                  <a:lnTo>
                    <a:pt x="338" y="933"/>
                  </a:lnTo>
                  <a:lnTo>
                    <a:pt x="329" y="933"/>
                  </a:lnTo>
                  <a:lnTo>
                    <a:pt x="325" y="933"/>
                  </a:lnTo>
                  <a:lnTo>
                    <a:pt x="316" y="933"/>
                  </a:lnTo>
                  <a:lnTo>
                    <a:pt x="312" y="933"/>
                  </a:lnTo>
                  <a:lnTo>
                    <a:pt x="303" y="933"/>
                  </a:lnTo>
                  <a:lnTo>
                    <a:pt x="299" y="933"/>
                  </a:lnTo>
                  <a:lnTo>
                    <a:pt x="290" y="933"/>
                  </a:lnTo>
                  <a:lnTo>
                    <a:pt x="286" y="933"/>
                  </a:lnTo>
                  <a:lnTo>
                    <a:pt x="277" y="933"/>
                  </a:lnTo>
                  <a:lnTo>
                    <a:pt x="269" y="933"/>
                  </a:lnTo>
                  <a:lnTo>
                    <a:pt x="264" y="933"/>
                  </a:lnTo>
                  <a:lnTo>
                    <a:pt x="256" y="933"/>
                  </a:lnTo>
                  <a:lnTo>
                    <a:pt x="251" y="933"/>
                  </a:lnTo>
                  <a:lnTo>
                    <a:pt x="243" y="933"/>
                  </a:lnTo>
                  <a:lnTo>
                    <a:pt x="238" y="933"/>
                  </a:lnTo>
                  <a:lnTo>
                    <a:pt x="230" y="933"/>
                  </a:lnTo>
                  <a:lnTo>
                    <a:pt x="225" y="933"/>
                  </a:lnTo>
                  <a:lnTo>
                    <a:pt x="217" y="933"/>
                  </a:lnTo>
                  <a:lnTo>
                    <a:pt x="212" y="933"/>
                  </a:lnTo>
                  <a:lnTo>
                    <a:pt x="204" y="933"/>
                  </a:lnTo>
                  <a:lnTo>
                    <a:pt x="199" y="933"/>
                  </a:lnTo>
                  <a:lnTo>
                    <a:pt x="191" y="933"/>
                  </a:lnTo>
                  <a:lnTo>
                    <a:pt x="182" y="933"/>
                  </a:lnTo>
                  <a:lnTo>
                    <a:pt x="178" y="933"/>
                  </a:lnTo>
                  <a:lnTo>
                    <a:pt x="169" y="933"/>
                  </a:lnTo>
                  <a:lnTo>
                    <a:pt x="165" y="933"/>
                  </a:lnTo>
                  <a:lnTo>
                    <a:pt x="156" y="933"/>
                  </a:lnTo>
                  <a:lnTo>
                    <a:pt x="152" y="933"/>
                  </a:lnTo>
                  <a:lnTo>
                    <a:pt x="143" y="933"/>
                  </a:lnTo>
                  <a:lnTo>
                    <a:pt x="139" y="933"/>
                  </a:lnTo>
                  <a:lnTo>
                    <a:pt x="130" y="933"/>
                  </a:lnTo>
                  <a:lnTo>
                    <a:pt x="126" y="933"/>
                  </a:lnTo>
                  <a:lnTo>
                    <a:pt x="117" y="933"/>
                  </a:lnTo>
                  <a:lnTo>
                    <a:pt x="113" y="933"/>
                  </a:lnTo>
                  <a:lnTo>
                    <a:pt x="104" y="933"/>
                  </a:lnTo>
                  <a:lnTo>
                    <a:pt x="100" y="933"/>
                  </a:lnTo>
                  <a:lnTo>
                    <a:pt x="91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17" y="933"/>
                  </a:lnTo>
                  <a:lnTo>
                    <a:pt x="13" y="933"/>
                  </a:lnTo>
                  <a:lnTo>
                    <a:pt x="4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custGeom>
              <a:avLst/>
              <a:gdLst>
                <a:gd name="textAreaLeft" fmla="*/ 0 w 2954520"/>
                <a:gd name="textAreaRight" fmla="*/ 2954880 w 295452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custGeom>
              <a:avLst/>
              <a:gdLst>
                <a:gd name="textAreaLeft" fmla="*/ 0 w 2843280"/>
                <a:gd name="textAreaRight" fmla="*/ 2843640 w 2843280"/>
                <a:gd name="textAreaTop" fmla="*/ 0 h 1649520"/>
                <a:gd name="textAreaBottom" fmla="*/ 1649880 h 1649520"/>
              </a:gdLst>
              <a:ahLst/>
              <a:rect l="textAreaLeft" t="textAreaTop" r="textAreaRight" b="textAreaBottom"/>
              <a:pathLst>
                <a:path w="1322" h="929">
                  <a:moveTo>
                    <a:pt x="0" y="929"/>
                  </a:moveTo>
                  <a:lnTo>
                    <a:pt x="0" y="929"/>
                  </a:lnTo>
                  <a:lnTo>
                    <a:pt x="4" y="929"/>
                  </a:lnTo>
                  <a:lnTo>
                    <a:pt x="8" y="929"/>
                  </a:lnTo>
                  <a:lnTo>
                    <a:pt x="13" y="929"/>
                  </a:lnTo>
                  <a:lnTo>
                    <a:pt x="17" y="929"/>
                  </a:lnTo>
                  <a:lnTo>
                    <a:pt x="21" y="929"/>
                  </a:lnTo>
                  <a:lnTo>
                    <a:pt x="26" y="929"/>
                  </a:lnTo>
                  <a:lnTo>
                    <a:pt x="30" y="929"/>
                  </a:lnTo>
                  <a:lnTo>
                    <a:pt x="34" y="929"/>
                  </a:lnTo>
                  <a:lnTo>
                    <a:pt x="39" y="929"/>
                  </a:lnTo>
                  <a:lnTo>
                    <a:pt x="43" y="929"/>
                  </a:lnTo>
                  <a:lnTo>
                    <a:pt x="47" y="929"/>
                  </a:lnTo>
                  <a:lnTo>
                    <a:pt x="52" y="929"/>
                  </a:lnTo>
                  <a:lnTo>
                    <a:pt x="56" y="929"/>
                  </a:lnTo>
                  <a:lnTo>
                    <a:pt x="60" y="929"/>
                  </a:lnTo>
                  <a:lnTo>
                    <a:pt x="65" y="929"/>
                  </a:lnTo>
                  <a:lnTo>
                    <a:pt x="69" y="929"/>
                  </a:lnTo>
                  <a:lnTo>
                    <a:pt x="73" y="929"/>
                  </a:lnTo>
                  <a:lnTo>
                    <a:pt x="78" y="929"/>
                  </a:lnTo>
                  <a:lnTo>
                    <a:pt x="82" y="929"/>
                  </a:lnTo>
                  <a:lnTo>
                    <a:pt x="86" y="929"/>
                  </a:lnTo>
                  <a:lnTo>
                    <a:pt x="91" y="929"/>
                  </a:lnTo>
                  <a:lnTo>
                    <a:pt x="95" y="929"/>
                  </a:lnTo>
                  <a:lnTo>
                    <a:pt x="99" y="929"/>
                  </a:lnTo>
                  <a:lnTo>
                    <a:pt x="103" y="929"/>
                  </a:lnTo>
                  <a:lnTo>
                    <a:pt x="108" y="929"/>
                  </a:lnTo>
                  <a:lnTo>
                    <a:pt x="112" y="929"/>
                  </a:lnTo>
                  <a:lnTo>
                    <a:pt x="116" y="929"/>
                  </a:lnTo>
                  <a:lnTo>
                    <a:pt x="121" y="929"/>
                  </a:lnTo>
                  <a:lnTo>
                    <a:pt x="125" y="929"/>
                  </a:lnTo>
                  <a:lnTo>
                    <a:pt x="129" y="929"/>
                  </a:lnTo>
                  <a:lnTo>
                    <a:pt x="134" y="929"/>
                  </a:lnTo>
                  <a:lnTo>
                    <a:pt x="138" y="929"/>
                  </a:lnTo>
                  <a:lnTo>
                    <a:pt x="142" y="929"/>
                  </a:lnTo>
                  <a:lnTo>
                    <a:pt x="147" y="929"/>
                  </a:lnTo>
                  <a:lnTo>
                    <a:pt x="151" y="929"/>
                  </a:lnTo>
                  <a:lnTo>
                    <a:pt x="155" y="929"/>
                  </a:lnTo>
                  <a:lnTo>
                    <a:pt x="160" y="929"/>
                  </a:lnTo>
                  <a:lnTo>
                    <a:pt x="164" y="929"/>
                  </a:lnTo>
                  <a:lnTo>
                    <a:pt x="168" y="929"/>
                  </a:lnTo>
                  <a:lnTo>
                    <a:pt x="173" y="929"/>
                  </a:lnTo>
                  <a:lnTo>
                    <a:pt x="177" y="929"/>
                  </a:lnTo>
                  <a:lnTo>
                    <a:pt x="181" y="929"/>
                  </a:lnTo>
                  <a:lnTo>
                    <a:pt x="186" y="929"/>
                  </a:lnTo>
                  <a:lnTo>
                    <a:pt x="190" y="929"/>
                  </a:lnTo>
                  <a:lnTo>
                    <a:pt x="194" y="929"/>
                  </a:lnTo>
                  <a:lnTo>
                    <a:pt x="198" y="929"/>
                  </a:lnTo>
                  <a:lnTo>
                    <a:pt x="203" y="929"/>
                  </a:lnTo>
                  <a:lnTo>
                    <a:pt x="207" y="929"/>
                  </a:lnTo>
                  <a:lnTo>
                    <a:pt x="211" y="929"/>
                  </a:lnTo>
                  <a:lnTo>
                    <a:pt x="216" y="929"/>
                  </a:lnTo>
                  <a:lnTo>
                    <a:pt x="220" y="929"/>
                  </a:lnTo>
                  <a:lnTo>
                    <a:pt x="224" y="929"/>
                  </a:lnTo>
                  <a:lnTo>
                    <a:pt x="224" y="925"/>
                  </a:lnTo>
                  <a:lnTo>
                    <a:pt x="229" y="925"/>
                  </a:lnTo>
                  <a:lnTo>
                    <a:pt x="233" y="925"/>
                  </a:lnTo>
                  <a:lnTo>
                    <a:pt x="237" y="925"/>
                  </a:lnTo>
                  <a:lnTo>
                    <a:pt x="242" y="925"/>
                  </a:lnTo>
                  <a:lnTo>
                    <a:pt x="246" y="925"/>
                  </a:lnTo>
                  <a:lnTo>
                    <a:pt x="250" y="925"/>
                  </a:lnTo>
                  <a:lnTo>
                    <a:pt x="255" y="925"/>
                  </a:lnTo>
                  <a:lnTo>
                    <a:pt x="255" y="921"/>
                  </a:lnTo>
                  <a:lnTo>
                    <a:pt x="259" y="921"/>
                  </a:lnTo>
                  <a:lnTo>
                    <a:pt x="263" y="921"/>
                  </a:lnTo>
                  <a:lnTo>
                    <a:pt x="268" y="921"/>
                  </a:lnTo>
                  <a:lnTo>
                    <a:pt x="272" y="921"/>
                  </a:lnTo>
                  <a:lnTo>
                    <a:pt x="272" y="916"/>
                  </a:lnTo>
                  <a:lnTo>
                    <a:pt x="276" y="916"/>
                  </a:lnTo>
                  <a:lnTo>
                    <a:pt x="281" y="916"/>
                  </a:lnTo>
                  <a:lnTo>
                    <a:pt x="285" y="916"/>
                  </a:lnTo>
                  <a:lnTo>
                    <a:pt x="285" y="912"/>
                  </a:lnTo>
                  <a:lnTo>
                    <a:pt x="289" y="912"/>
                  </a:lnTo>
                  <a:lnTo>
                    <a:pt x="294" y="912"/>
                  </a:lnTo>
                  <a:lnTo>
                    <a:pt x="298" y="912"/>
                  </a:lnTo>
                  <a:lnTo>
                    <a:pt x="298" y="908"/>
                  </a:lnTo>
                  <a:lnTo>
                    <a:pt x="302" y="908"/>
                  </a:lnTo>
                  <a:lnTo>
                    <a:pt x="306" y="908"/>
                  </a:lnTo>
                  <a:lnTo>
                    <a:pt x="306" y="903"/>
                  </a:lnTo>
                  <a:lnTo>
                    <a:pt x="311" y="903"/>
                  </a:lnTo>
                  <a:lnTo>
                    <a:pt x="315" y="903"/>
                  </a:lnTo>
                  <a:lnTo>
                    <a:pt x="315" y="899"/>
                  </a:lnTo>
                  <a:lnTo>
                    <a:pt x="319" y="899"/>
                  </a:lnTo>
                  <a:lnTo>
                    <a:pt x="319" y="895"/>
                  </a:lnTo>
                  <a:lnTo>
                    <a:pt x="324" y="895"/>
                  </a:lnTo>
                  <a:lnTo>
                    <a:pt x="328" y="890"/>
                  </a:lnTo>
                  <a:lnTo>
                    <a:pt x="332" y="890"/>
                  </a:lnTo>
                  <a:lnTo>
                    <a:pt x="332" y="886"/>
                  </a:lnTo>
                  <a:lnTo>
                    <a:pt x="337" y="886"/>
                  </a:lnTo>
                  <a:lnTo>
                    <a:pt x="337" y="882"/>
                  </a:lnTo>
                  <a:lnTo>
                    <a:pt x="341" y="882"/>
                  </a:lnTo>
                  <a:lnTo>
                    <a:pt x="341" y="877"/>
                  </a:lnTo>
                  <a:lnTo>
                    <a:pt x="345" y="877"/>
                  </a:lnTo>
                  <a:lnTo>
                    <a:pt x="350" y="873"/>
                  </a:lnTo>
                  <a:lnTo>
                    <a:pt x="350" y="869"/>
                  </a:lnTo>
                  <a:lnTo>
                    <a:pt x="354" y="869"/>
                  </a:lnTo>
                  <a:lnTo>
                    <a:pt x="354" y="865"/>
                  </a:lnTo>
                  <a:lnTo>
                    <a:pt x="358" y="865"/>
                  </a:lnTo>
                  <a:lnTo>
                    <a:pt x="358" y="860"/>
                  </a:lnTo>
                  <a:lnTo>
                    <a:pt x="363" y="860"/>
                  </a:lnTo>
                  <a:lnTo>
                    <a:pt x="363" y="856"/>
                  </a:lnTo>
                  <a:lnTo>
                    <a:pt x="367" y="856"/>
                  </a:lnTo>
                  <a:lnTo>
                    <a:pt x="367" y="852"/>
                  </a:lnTo>
                  <a:lnTo>
                    <a:pt x="367" y="847"/>
                  </a:lnTo>
                  <a:lnTo>
                    <a:pt x="371" y="847"/>
                  </a:lnTo>
                  <a:lnTo>
                    <a:pt x="371" y="843"/>
                  </a:lnTo>
                  <a:lnTo>
                    <a:pt x="376" y="843"/>
                  </a:lnTo>
                  <a:lnTo>
                    <a:pt x="376" y="839"/>
                  </a:lnTo>
                  <a:lnTo>
                    <a:pt x="380" y="834"/>
                  </a:lnTo>
                  <a:lnTo>
                    <a:pt x="380" y="830"/>
                  </a:lnTo>
                  <a:lnTo>
                    <a:pt x="384" y="830"/>
                  </a:lnTo>
                  <a:lnTo>
                    <a:pt x="384" y="826"/>
                  </a:lnTo>
                  <a:lnTo>
                    <a:pt x="384" y="821"/>
                  </a:lnTo>
                  <a:lnTo>
                    <a:pt x="389" y="821"/>
                  </a:lnTo>
                  <a:lnTo>
                    <a:pt x="389" y="817"/>
                  </a:lnTo>
                  <a:lnTo>
                    <a:pt x="393" y="813"/>
                  </a:lnTo>
                  <a:lnTo>
                    <a:pt x="393" y="808"/>
                  </a:lnTo>
                  <a:lnTo>
                    <a:pt x="397" y="804"/>
                  </a:lnTo>
                  <a:lnTo>
                    <a:pt x="397" y="800"/>
                  </a:lnTo>
                  <a:lnTo>
                    <a:pt x="402" y="800"/>
                  </a:lnTo>
                  <a:lnTo>
                    <a:pt x="402" y="795"/>
                  </a:lnTo>
                  <a:lnTo>
                    <a:pt x="402" y="791"/>
                  </a:lnTo>
                  <a:lnTo>
                    <a:pt x="406" y="787"/>
                  </a:lnTo>
                  <a:lnTo>
                    <a:pt x="406" y="782"/>
                  </a:lnTo>
                  <a:lnTo>
                    <a:pt x="410" y="778"/>
                  </a:lnTo>
                  <a:lnTo>
                    <a:pt x="410" y="774"/>
                  </a:lnTo>
                  <a:lnTo>
                    <a:pt x="414" y="769"/>
                  </a:lnTo>
                  <a:lnTo>
                    <a:pt x="414" y="765"/>
                  </a:lnTo>
                  <a:lnTo>
                    <a:pt x="419" y="761"/>
                  </a:lnTo>
                  <a:lnTo>
                    <a:pt x="419" y="756"/>
                  </a:lnTo>
                  <a:lnTo>
                    <a:pt x="419" y="752"/>
                  </a:lnTo>
                  <a:lnTo>
                    <a:pt x="423" y="748"/>
                  </a:lnTo>
                  <a:lnTo>
                    <a:pt x="423" y="743"/>
                  </a:lnTo>
                  <a:lnTo>
                    <a:pt x="423" y="739"/>
                  </a:lnTo>
                  <a:lnTo>
                    <a:pt x="427" y="739"/>
                  </a:lnTo>
                  <a:lnTo>
                    <a:pt x="427" y="735"/>
                  </a:lnTo>
                  <a:lnTo>
                    <a:pt x="427" y="730"/>
                  </a:lnTo>
                  <a:lnTo>
                    <a:pt x="432" y="726"/>
                  </a:lnTo>
                  <a:lnTo>
                    <a:pt x="432" y="722"/>
                  </a:lnTo>
                  <a:lnTo>
                    <a:pt x="432" y="717"/>
                  </a:lnTo>
                  <a:lnTo>
                    <a:pt x="436" y="717"/>
                  </a:lnTo>
                  <a:lnTo>
                    <a:pt x="436" y="713"/>
                  </a:lnTo>
                  <a:lnTo>
                    <a:pt x="436" y="709"/>
                  </a:lnTo>
                  <a:lnTo>
                    <a:pt x="436" y="705"/>
                  </a:lnTo>
                  <a:lnTo>
                    <a:pt x="440" y="700"/>
                  </a:lnTo>
                  <a:lnTo>
                    <a:pt x="440" y="696"/>
                  </a:lnTo>
                  <a:lnTo>
                    <a:pt x="440" y="692"/>
                  </a:lnTo>
                  <a:lnTo>
                    <a:pt x="445" y="687"/>
                  </a:lnTo>
                  <a:lnTo>
                    <a:pt x="445" y="683"/>
                  </a:lnTo>
                  <a:lnTo>
                    <a:pt x="445" y="679"/>
                  </a:lnTo>
                  <a:lnTo>
                    <a:pt x="449" y="679"/>
                  </a:lnTo>
                  <a:lnTo>
                    <a:pt x="449" y="674"/>
                  </a:lnTo>
                  <a:lnTo>
                    <a:pt x="449" y="670"/>
                  </a:lnTo>
                  <a:lnTo>
                    <a:pt x="449" y="666"/>
                  </a:lnTo>
                  <a:lnTo>
                    <a:pt x="453" y="661"/>
                  </a:lnTo>
                  <a:lnTo>
                    <a:pt x="453" y="657"/>
                  </a:lnTo>
                  <a:lnTo>
                    <a:pt x="453" y="653"/>
                  </a:lnTo>
                  <a:lnTo>
                    <a:pt x="458" y="648"/>
                  </a:lnTo>
                  <a:lnTo>
                    <a:pt x="458" y="644"/>
                  </a:lnTo>
                  <a:lnTo>
                    <a:pt x="458" y="640"/>
                  </a:lnTo>
                  <a:lnTo>
                    <a:pt x="462" y="635"/>
                  </a:lnTo>
                  <a:lnTo>
                    <a:pt x="462" y="631"/>
                  </a:lnTo>
                  <a:lnTo>
                    <a:pt x="462" y="627"/>
                  </a:lnTo>
                  <a:lnTo>
                    <a:pt x="466" y="618"/>
                  </a:lnTo>
                  <a:lnTo>
                    <a:pt x="466" y="614"/>
                  </a:lnTo>
                  <a:lnTo>
                    <a:pt x="466" y="609"/>
                  </a:lnTo>
                  <a:lnTo>
                    <a:pt x="466" y="605"/>
                  </a:lnTo>
                  <a:lnTo>
                    <a:pt x="471" y="601"/>
                  </a:lnTo>
                  <a:lnTo>
                    <a:pt x="471" y="596"/>
                  </a:lnTo>
                  <a:lnTo>
                    <a:pt x="471" y="592"/>
                  </a:lnTo>
                  <a:lnTo>
                    <a:pt x="475" y="588"/>
                  </a:lnTo>
                  <a:lnTo>
                    <a:pt x="475" y="583"/>
                  </a:lnTo>
                  <a:lnTo>
                    <a:pt x="475" y="579"/>
                  </a:lnTo>
                  <a:lnTo>
                    <a:pt x="479" y="570"/>
                  </a:lnTo>
                  <a:lnTo>
                    <a:pt x="479" y="566"/>
                  </a:lnTo>
                  <a:lnTo>
                    <a:pt x="479" y="562"/>
                  </a:lnTo>
                  <a:lnTo>
                    <a:pt x="484" y="557"/>
                  </a:lnTo>
                  <a:lnTo>
                    <a:pt x="484" y="553"/>
                  </a:lnTo>
                  <a:lnTo>
                    <a:pt x="484" y="549"/>
                  </a:lnTo>
                  <a:lnTo>
                    <a:pt x="484" y="540"/>
                  </a:lnTo>
                  <a:lnTo>
                    <a:pt x="488" y="536"/>
                  </a:lnTo>
                  <a:lnTo>
                    <a:pt x="488" y="532"/>
                  </a:lnTo>
                  <a:lnTo>
                    <a:pt x="488" y="527"/>
                  </a:lnTo>
                  <a:lnTo>
                    <a:pt x="492" y="523"/>
                  </a:lnTo>
                  <a:lnTo>
                    <a:pt x="492" y="514"/>
                  </a:lnTo>
                  <a:lnTo>
                    <a:pt x="492" y="510"/>
                  </a:lnTo>
                  <a:lnTo>
                    <a:pt x="497" y="506"/>
                  </a:lnTo>
                  <a:lnTo>
                    <a:pt x="497" y="501"/>
                  </a:lnTo>
                  <a:lnTo>
                    <a:pt x="497" y="493"/>
                  </a:lnTo>
                  <a:lnTo>
                    <a:pt x="501" y="488"/>
                  </a:lnTo>
                  <a:lnTo>
                    <a:pt x="501" y="484"/>
                  </a:lnTo>
                  <a:lnTo>
                    <a:pt x="501" y="480"/>
                  </a:lnTo>
                  <a:lnTo>
                    <a:pt x="501" y="471"/>
                  </a:lnTo>
                  <a:lnTo>
                    <a:pt x="505" y="467"/>
                  </a:lnTo>
                  <a:lnTo>
                    <a:pt x="505" y="462"/>
                  </a:lnTo>
                  <a:lnTo>
                    <a:pt x="505" y="458"/>
                  </a:lnTo>
                  <a:lnTo>
                    <a:pt x="509" y="449"/>
                  </a:lnTo>
                  <a:lnTo>
                    <a:pt x="509" y="445"/>
                  </a:lnTo>
                  <a:lnTo>
                    <a:pt x="509" y="441"/>
                  </a:lnTo>
                  <a:lnTo>
                    <a:pt x="514" y="432"/>
                  </a:lnTo>
                  <a:lnTo>
                    <a:pt x="514" y="428"/>
                  </a:lnTo>
                  <a:lnTo>
                    <a:pt x="514" y="423"/>
                  </a:lnTo>
                  <a:lnTo>
                    <a:pt x="518" y="419"/>
                  </a:lnTo>
                  <a:lnTo>
                    <a:pt x="518" y="410"/>
                  </a:lnTo>
                  <a:lnTo>
                    <a:pt x="518" y="406"/>
                  </a:lnTo>
                  <a:lnTo>
                    <a:pt x="518" y="402"/>
                  </a:lnTo>
                  <a:lnTo>
                    <a:pt x="522" y="393"/>
                  </a:lnTo>
                  <a:lnTo>
                    <a:pt x="522" y="389"/>
                  </a:lnTo>
                  <a:lnTo>
                    <a:pt x="522" y="384"/>
                  </a:lnTo>
                  <a:lnTo>
                    <a:pt x="527" y="376"/>
                  </a:lnTo>
                  <a:lnTo>
                    <a:pt x="527" y="372"/>
                  </a:lnTo>
                  <a:lnTo>
                    <a:pt x="527" y="367"/>
                  </a:lnTo>
                  <a:lnTo>
                    <a:pt x="531" y="363"/>
                  </a:lnTo>
                  <a:lnTo>
                    <a:pt x="531" y="354"/>
                  </a:lnTo>
                  <a:lnTo>
                    <a:pt x="531" y="350"/>
                  </a:lnTo>
                  <a:lnTo>
                    <a:pt x="535" y="346"/>
                  </a:lnTo>
                  <a:lnTo>
                    <a:pt x="535" y="337"/>
                  </a:lnTo>
                  <a:lnTo>
                    <a:pt x="535" y="333"/>
                  </a:lnTo>
                  <a:lnTo>
                    <a:pt x="535" y="328"/>
                  </a:lnTo>
                  <a:lnTo>
                    <a:pt x="540" y="320"/>
                  </a:lnTo>
                  <a:lnTo>
                    <a:pt x="540" y="315"/>
                  </a:lnTo>
                  <a:lnTo>
                    <a:pt x="540" y="311"/>
                  </a:lnTo>
                  <a:lnTo>
                    <a:pt x="544" y="307"/>
                  </a:lnTo>
                  <a:lnTo>
                    <a:pt x="544" y="298"/>
                  </a:lnTo>
                  <a:lnTo>
                    <a:pt x="544" y="294"/>
                  </a:lnTo>
                  <a:lnTo>
                    <a:pt x="548" y="289"/>
                  </a:lnTo>
                  <a:lnTo>
                    <a:pt x="548" y="281"/>
                  </a:lnTo>
                  <a:lnTo>
                    <a:pt x="548" y="276"/>
                  </a:lnTo>
                  <a:lnTo>
                    <a:pt x="553" y="272"/>
                  </a:lnTo>
                  <a:lnTo>
                    <a:pt x="553" y="268"/>
                  </a:lnTo>
                  <a:lnTo>
                    <a:pt x="553" y="259"/>
                  </a:lnTo>
                  <a:lnTo>
                    <a:pt x="553" y="255"/>
                  </a:lnTo>
                  <a:lnTo>
                    <a:pt x="557" y="250"/>
                  </a:lnTo>
                  <a:lnTo>
                    <a:pt x="557" y="246"/>
                  </a:lnTo>
                  <a:lnTo>
                    <a:pt x="557" y="237"/>
                  </a:lnTo>
                  <a:lnTo>
                    <a:pt x="561" y="233"/>
                  </a:lnTo>
                  <a:lnTo>
                    <a:pt x="561" y="229"/>
                  </a:lnTo>
                  <a:lnTo>
                    <a:pt x="561" y="224"/>
                  </a:lnTo>
                  <a:lnTo>
                    <a:pt x="566" y="216"/>
                  </a:lnTo>
                  <a:lnTo>
                    <a:pt x="566" y="212"/>
                  </a:lnTo>
                  <a:lnTo>
                    <a:pt x="566" y="207"/>
                  </a:lnTo>
                  <a:lnTo>
                    <a:pt x="570" y="203"/>
                  </a:lnTo>
                  <a:lnTo>
                    <a:pt x="570" y="199"/>
                  </a:lnTo>
                  <a:lnTo>
                    <a:pt x="570" y="194"/>
                  </a:lnTo>
                  <a:lnTo>
                    <a:pt x="570" y="186"/>
                  </a:lnTo>
                  <a:lnTo>
                    <a:pt x="574" y="181"/>
                  </a:lnTo>
                  <a:lnTo>
                    <a:pt x="574" y="177"/>
                  </a:lnTo>
                  <a:lnTo>
                    <a:pt x="574" y="173"/>
                  </a:lnTo>
                  <a:lnTo>
                    <a:pt x="579" y="168"/>
                  </a:lnTo>
                  <a:lnTo>
                    <a:pt x="579" y="164"/>
                  </a:lnTo>
                  <a:lnTo>
                    <a:pt x="579" y="160"/>
                  </a:lnTo>
                  <a:lnTo>
                    <a:pt x="583" y="155"/>
                  </a:lnTo>
                  <a:lnTo>
                    <a:pt x="583" y="147"/>
                  </a:lnTo>
                  <a:lnTo>
                    <a:pt x="583" y="142"/>
                  </a:lnTo>
                  <a:lnTo>
                    <a:pt x="587" y="138"/>
                  </a:lnTo>
                  <a:lnTo>
                    <a:pt x="587" y="134"/>
                  </a:lnTo>
                  <a:lnTo>
                    <a:pt x="587" y="129"/>
                  </a:lnTo>
                  <a:lnTo>
                    <a:pt x="587" y="125"/>
                  </a:lnTo>
                  <a:lnTo>
                    <a:pt x="592" y="121"/>
                  </a:lnTo>
                  <a:lnTo>
                    <a:pt x="592" y="116"/>
                  </a:lnTo>
                  <a:lnTo>
                    <a:pt x="592" y="112"/>
                  </a:lnTo>
                  <a:lnTo>
                    <a:pt x="596" y="108"/>
                  </a:lnTo>
                  <a:lnTo>
                    <a:pt x="596" y="103"/>
                  </a:lnTo>
                  <a:lnTo>
                    <a:pt x="600" y="99"/>
                  </a:lnTo>
                  <a:lnTo>
                    <a:pt x="600" y="95"/>
                  </a:lnTo>
                  <a:lnTo>
                    <a:pt x="600" y="90"/>
                  </a:lnTo>
                  <a:lnTo>
                    <a:pt x="600" y="86"/>
                  </a:lnTo>
                  <a:lnTo>
                    <a:pt x="605" y="82"/>
                  </a:lnTo>
                  <a:lnTo>
                    <a:pt x="605" y="77"/>
                  </a:lnTo>
                  <a:lnTo>
                    <a:pt x="605" y="73"/>
                  </a:lnTo>
                  <a:lnTo>
                    <a:pt x="609" y="73"/>
                  </a:lnTo>
                  <a:lnTo>
                    <a:pt x="609" y="69"/>
                  </a:lnTo>
                  <a:lnTo>
                    <a:pt x="609" y="64"/>
                  </a:lnTo>
                  <a:lnTo>
                    <a:pt x="613" y="60"/>
                  </a:lnTo>
                  <a:lnTo>
                    <a:pt x="613" y="56"/>
                  </a:lnTo>
                  <a:lnTo>
                    <a:pt x="617" y="52"/>
                  </a:lnTo>
                  <a:lnTo>
                    <a:pt x="617" y="47"/>
                  </a:lnTo>
                  <a:lnTo>
                    <a:pt x="617" y="43"/>
                  </a:lnTo>
                  <a:lnTo>
                    <a:pt x="622" y="43"/>
                  </a:lnTo>
                  <a:lnTo>
                    <a:pt x="622" y="39"/>
                  </a:lnTo>
                  <a:lnTo>
                    <a:pt x="622" y="34"/>
                  </a:lnTo>
                  <a:lnTo>
                    <a:pt x="626" y="34"/>
                  </a:lnTo>
                  <a:lnTo>
                    <a:pt x="626" y="30"/>
                  </a:lnTo>
                  <a:lnTo>
                    <a:pt x="630" y="26"/>
                  </a:lnTo>
                  <a:lnTo>
                    <a:pt x="630" y="21"/>
                  </a:lnTo>
                  <a:lnTo>
                    <a:pt x="635" y="21"/>
                  </a:lnTo>
                  <a:lnTo>
                    <a:pt x="635" y="17"/>
                  </a:lnTo>
                  <a:lnTo>
                    <a:pt x="639" y="13"/>
                  </a:lnTo>
                  <a:lnTo>
                    <a:pt x="639" y="8"/>
                  </a:lnTo>
                  <a:lnTo>
                    <a:pt x="643" y="8"/>
                  </a:lnTo>
                  <a:lnTo>
                    <a:pt x="648" y="4"/>
                  </a:lnTo>
                  <a:lnTo>
                    <a:pt x="652" y="4"/>
                  </a:lnTo>
                  <a:lnTo>
                    <a:pt x="652" y="0"/>
                  </a:lnTo>
                  <a:lnTo>
                    <a:pt x="656" y="0"/>
                  </a:lnTo>
                  <a:lnTo>
                    <a:pt x="661" y="0"/>
                  </a:lnTo>
                  <a:lnTo>
                    <a:pt x="665" y="0"/>
                  </a:lnTo>
                  <a:lnTo>
                    <a:pt x="669" y="0"/>
                  </a:lnTo>
                  <a:lnTo>
                    <a:pt x="669" y="4"/>
                  </a:lnTo>
                  <a:lnTo>
                    <a:pt x="674" y="4"/>
                  </a:lnTo>
                  <a:lnTo>
                    <a:pt x="678" y="8"/>
                  </a:lnTo>
                  <a:lnTo>
                    <a:pt x="682" y="8"/>
                  </a:lnTo>
                  <a:lnTo>
                    <a:pt x="682" y="13"/>
                  </a:lnTo>
                  <a:lnTo>
                    <a:pt x="687" y="17"/>
                  </a:lnTo>
                  <a:lnTo>
                    <a:pt x="687" y="21"/>
                  </a:lnTo>
                  <a:lnTo>
                    <a:pt x="691" y="21"/>
                  </a:lnTo>
                  <a:lnTo>
                    <a:pt x="691" y="26"/>
                  </a:lnTo>
                  <a:lnTo>
                    <a:pt x="695" y="30"/>
                  </a:lnTo>
                  <a:lnTo>
                    <a:pt x="695" y="34"/>
                  </a:lnTo>
                  <a:lnTo>
                    <a:pt x="700" y="34"/>
                  </a:lnTo>
                  <a:lnTo>
                    <a:pt x="700" y="39"/>
                  </a:lnTo>
                  <a:lnTo>
                    <a:pt x="700" y="43"/>
                  </a:lnTo>
                  <a:lnTo>
                    <a:pt x="704" y="43"/>
                  </a:lnTo>
                  <a:lnTo>
                    <a:pt x="704" y="47"/>
                  </a:lnTo>
                  <a:lnTo>
                    <a:pt x="704" y="52"/>
                  </a:lnTo>
                  <a:lnTo>
                    <a:pt x="708" y="56"/>
                  </a:lnTo>
                  <a:lnTo>
                    <a:pt x="708" y="60"/>
                  </a:lnTo>
                  <a:lnTo>
                    <a:pt x="713" y="64"/>
                  </a:lnTo>
                  <a:lnTo>
                    <a:pt x="713" y="69"/>
                  </a:lnTo>
                  <a:lnTo>
                    <a:pt x="713" y="73"/>
                  </a:lnTo>
                  <a:lnTo>
                    <a:pt x="717" y="73"/>
                  </a:lnTo>
                  <a:lnTo>
                    <a:pt x="717" y="77"/>
                  </a:lnTo>
                  <a:lnTo>
                    <a:pt x="717" y="82"/>
                  </a:lnTo>
                  <a:lnTo>
                    <a:pt x="721" y="86"/>
                  </a:lnTo>
                  <a:lnTo>
                    <a:pt x="721" y="90"/>
                  </a:lnTo>
                  <a:lnTo>
                    <a:pt x="721" y="95"/>
                  </a:lnTo>
                  <a:lnTo>
                    <a:pt x="721" y="99"/>
                  </a:lnTo>
                  <a:lnTo>
                    <a:pt x="725" y="103"/>
                  </a:lnTo>
                  <a:lnTo>
                    <a:pt x="725" y="108"/>
                  </a:lnTo>
                  <a:lnTo>
                    <a:pt x="730" y="112"/>
                  </a:lnTo>
                  <a:lnTo>
                    <a:pt x="730" y="116"/>
                  </a:lnTo>
                  <a:lnTo>
                    <a:pt x="730" y="121"/>
                  </a:lnTo>
                  <a:lnTo>
                    <a:pt x="734" y="125"/>
                  </a:lnTo>
                  <a:lnTo>
                    <a:pt x="734" y="129"/>
                  </a:lnTo>
                  <a:lnTo>
                    <a:pt x="734" y="134"/>
                  </a:lnTo>
                  <a:lnTo>
                    <a:pt x="734" y="138"/>
                  </a:lnTo>
                  <a:lnTo>
                    <a:pt x="738" y="142"/>
                  </a:lnTo>
                  <a:lnTo>
                    <a:pt x="738" y="147"/>
                  </a:lnTo>
                  <a:lnTo>
                    <a:pt x="738" y="155"/>
                  </a:lnTo>
                  <a:lnTo>
                    <a:pt x="743" y="160"/>
                  </a:lnTo>
                  <a:lnTo>
                    <a:pt x="743" y="164"/>
                  </a:lnTo>
                  <a:lnTo>
                    <a:pt x="743" y="168"/>
                  </a:lnTo>
                  <a:lnTo>
                    <a:pt x="747" y="173"/>
                  </a:lnTo>
                  <a:lnTo>
                    <a:pt x="747" y="177"/>
                  </a:lnTo>
                  <a:lnTo>
                    <a:pt x="747" y="181"/>
                  </a:lnTo>
                  <a:lnTo>
                    <a:pt x="751" y="186"/>
                  </a:lnTo>
                  <a:lnTo>
                    <a:pt x="751" y="194"/>
                  </a:lnTo>
                  <a:lnTo>
                    <a:pt x="751" y="199"/>
                  </a:lnTo>
                  <a:lnTo>
                    <a:pt x="751" y="203"/>
                  </a:lnTo>
                  <a:lnTo>
                    <a:pt x="756" y="207"/>
                  </a:lnTo>
                  <a:lnTo>
                    <a:pt x="756" y="212"/>
                  </a:lnTo>
                  <a:lnTo>
                    <a:pt x="756" y="216"/>
                  </a:lnTo>
                  <a:lnTo>
                    <a:pt x="760" y="224"/>
                  </a:lnTo>
                  <a:lnTo>
                    <a:pt x="760" y="229"/>
                  </a:lnTo>
                  <a:lnTo>
                    <a:pt x="760" y="233"/>
                  </a:lnTo>
                  <a:lnTo>
                    <a:pt x="764" y="237"/>
                  </a:lnTo>
                  <a:lnTo>
                    <a:pt x="764" y="246"/>
                  </a:lnTo>
                  <a:lnTo>
                    <a:pt x="764" y="250"/>
                  </a:lnTo>
                  <a:lnTo>
                    <a:pt x="769" y="255"/>
                  </a:lnTo>
                  <a:lnTo>
                    <a:pt x="769" y="259"/>
                  </a:lnTo>
                  <a:lnTo>
                    <a:pt x="769" y="268"/>
                  </a:lnTo>
                  <a:lnTo>
                    <a:pt x="769" y="272"/>
                  </a:lnTo>
                  <a:lnTo>
                    <a:pt x="773" y="276"/>
                  </a:lnTo>
                  <a:lnTo>
                    <a:pt x="773" y="281"/>
                  </a:lnTo>
                  <a:lnTo>
                    <a:pt x="773" y="289"/>
                  </a:lnTo>
                  <a:lnTo>
                    <a:pt x="777" y="294"/>
                  </a:lnTo>
                  <a:lnTo>
                    <a:pt x="777" y="298"/>
                  </a:lnTo>
                  <a:lnTo>
                    <a:pt x="777" y="307"/>
                  </a:lnTo>
                  <a:lnTo>
                    <a:pt x="782" y="311"/>
                  </a:lnTo>
                  <a:lnTo>
                    <a:pt x="782" y="315"/>
                  </a:lnTo>
                  <a:lnTo>
                    <a:pt x="782" y="320"/>
                  </a:lnTo>
                  <a:lnTo>
                    <a:pt x="786" y="328"/>
                  </a:lnTo>
                  <a:lnTo>
                    <a:pt x="786" y="333"/>
                  </a:lnTo>
                  <a:lnTo>
                    <a:pt x="786" y="337"/>
                  </a:lnTo>
                  <a:lnTo>
                    <a:pt x="786" y="346"/>
                  </a:lnTo>
                  <a:lnTo>
                    <a:pt x="790" y="350"/>
                  </a:lnTo>
                  <a:lnTo>
                    <a:pt x="790" y="354"/>
                  </a:lnTo>
                  <a:lnTo>
                    <a:pt x="790" y="363"/>
                  </a:lnTo>
                  <a:lnTo>
                    <a:pt x="795" y="367"/>
                  </a:lnTo>
                  <a:lnTo>
                    <a:pt x="795" y="372"/>
                  </a:lnTo>
                  <a:lnTo>
                    <a:pt x="795" y="376"/>
                  </a:lnTo>
                  <a:lnTo>
                    <a:pt x="799" y="384"/>
                  </a:lnTo>
                  <a:lnTo>
                    <a:pt x="799" y="389"/>
                  </a:lnTo>
                  <a:lnTo>
                    <a:pt x="799" y="393"/>
                  </a:lnTo>
                  <a:lnTo>
                    <a:pt x="803" y="402"/>
                  </a:lnTo>
                  <a:lnTo>
                    <a:pt x="803" y="406"/>
                  </a:lnTo>
                  <a:lnTo>
                    <a:pt x="803" y="410"/>
                  </a:lnTo>
                  <a:lnTo>
                    <a:pt x="803" y="419"/>
                  </a:lnTo>
                  <a:lnTo>
                    <a:pt x="808" y="423"/>
                  </a:lnTo>
                  <a:lnTo>
                    <a:pt x="808" y="428"/>
                  </a:lnTo>
                  <a:lnTo>
                    <a:pt x="808" y="432"/>
                  </a:lnTo>
                  <a:lnTo>
                    <a:pt x="812" y="441"/>
                  </a:lnTo>
                  <a:lnTo>
                    <a:pt x="812" y="445"/>
                  </a:lnTo>
                  <a:lnTo>
                    <a:pt x="812" y="449"/>
                  </a:lnTo>
                  <a:lnTo>
                    <a:pt x="816" y="458"/>
                  </a:lnTo>
                  <a:lnTo>
                    <a:pt x="816" y="462"/>
                  </a:lnTo>
                  <a:lnTo>
                    <a:pt x="816" y="467"/>
                  </a:lnTo>
                  <a:lnTo>
                    <a:pt x="821" y="471"/>
                  </a:lnTo>
                  <a:lnTo>
                    <a:pt x="821" y="480"/>
                  </a:lnTo>
                  <a:lnTo>
                    <a:pt x="821" y="484"/>
                  </a:lnTo>
                  <a:lnTo>
                    <a:pt x="821" y="488"/>
                  </a:lnTo>
                  <a:lnTo>
                    <a:pt x="825" y="493"/>
                  </a:lnTo>
                  <a:lnTo>
                    <a:pt x="825" y="501"/>
                  </a:lnTo>
                  <a:lnTo>
                    <a:pt x="825" y="506"/>
                  </a:lnTo>
                  <a:lnTo>
                    <a:pt x="829" y="510"/>
                  </a:lnTo>
                  <a:lnTo>
                    <a:pt x="829" y="514"/>
                  </a:lnTo>
                  <a:lnTo>
                    <a:pt x="829" y="523"/>
                  </a:lnTo>
                  <a:lnTo>
                    <a:pt x="833" y="527"/>
                  </a:lnTo>
                  <a:lnTo>
                    <a:pt x="833" y="532"/>
                  </a:lnTo>
                  <a:lnTo>
                    <a:pt x="833" y="536"/>
                  </a:lnTo>
                  <a:lnTo>
                    <a:pt x="838" y="540"/>
                  </a:lnTo>
                  <a:lnTo>
                    <a:pt x="838" y="549"/>
                  </a:lnTo>
                  <a:lnTo>
                    <a:pt x="838" y="553"/>
                  </a:lnTo>
                  <a:lnTo>
                    <a:pt x="838" y="557"/>
                  </a:lnTo>
                  <a:lnTo>
                    <a:pt x="842" y="562"/>
                  </a:lnTo>
                  <a:lnTo>
                    <a:pt x="842" y="566"/>
                  </a:lnTo>
                  <a:lnTo>
                    <a:pt x="842" y="570"/>
                  </a:lnTo>
                  <a:lnTo>
                    <a:pt x="846" y="579"/>
                  </a:lnTo>
                  <a:lnTo>
                    <a:pt x="846" y="583"/>
                  </a:lnTo>
                  <a:lnTo>
                    <a:pt x="846" y="588"/>
                  </a:lnTo>
                  <a:lnTo>
                    <a:pt x="851" y="592"/>
                  </a:lnTo>
                  <a:lnTo>
                    <a:pt x="851" y="596"/>
                  </a:lnTo>
                  <a:lnTo>
                    <a:pt x="851" y="601"/>
                  </a:lnTo>
                  <a:lnTo>
                    <a:pt x="855" y="605"/>
                  </a:lnTo>
                  <a:lnTo>
                    <a:pt x="855" y="609"/>
                  </a:lnTo>
                  <a:lnTo>
                    <a:pt x="855" y="614"/>
                  </a:lnTo>
                  <a:lnTo>
                    <a:pt x="855" y="618"/>
                  </a:lnTo>
                  <a:lnTo>
                    <a:pt x="859" y="627"/>
                  </a:lnTo>
                  <a:lnTo>
                    <a:pt x="859" y="631"/>
                  </a:lnTo>
                  <a:lnTo>
                    <a:pt x="859" y="635"/>
                  </a:lnTo>
                  <a:lnTo>
                    <a:pt x="864" y="640"/>
                  </a:lnTo>
                  <a:lnTo>
                    <a:pt x="864" y="644"/>
                  </a:lnTo>
                  <a:lnTo>
                    <a:pt x="864" y="648"/>
                  </a:lnTo>
                  <a:lnTo>
                    <a:pt x="868" y="653"/>
                  </a:lnTo>
                  <a:lnTo>
                    <a:pt x="868" y="657"/>
                  </a:lnTo>
                  <a:lnTo>
                    <a:pt x="868" y="661"/>
                  </a:lnTo>
                  <a:lnTo>
                    <a:pt x="872" y="666"/>
                  </a:lnTo>
                  <a:lnTo>
                    <a:pt x="872" y="670"/>
                  </a:lnTo>
                  <a:lnTo>
                    <a:pt x="872" y="674"/>
                  </a:lnTo>
                  <a:lnTo>
                    <a:pt x="872" y="679"/>
                  </a:lnTo>
                  <a:lnTo>
                    <a:pt x="877" y="679"/>
                  </a:lnTo>
                  <a:lnTo>
                    <a:pt x="877" y="683"/>
                  </a:lnTo>
                  <a:lnTo>
                    <a:pt x="877" y="687"/>
                  </a:lnTo>
                  <a:lnTo>
                    <a:pt x="881" y="692"/>
                  </a:lnTo>
                  <a:lnTo>
                    <a:pt x="881" y="696"/>
                  </a:lnTo>
                  <a:lnTo>
                    <a:pt x="881" y="700"/>
                  </a:lnTo>
                  <a:lnTo>
                    <a:pt x="885" y="705"/>
                  </a:lnTo>
                  <a:lnTo>
                    <a:pt x="885" y="709"/>
                  </a:lnTo>
                  <a:lnTo>
                    <a:pt x="885" y="713"/>
                  </a:lnTo>
                  <a:lnTo>
                    <a:pt x="885" y="717"/>
                  </a:lnTo>
                  <a:lnTo>
                    <a:pt x="890" y="717"/>
                  </a:lnTo>
                  <a:lnTo>
                    <a:pt x="890" y="722"/>
                  </a:lnTo>
                  <a:lnTo>
                    <a:pt x="890" y="726"/>
                  </a:lnTo>
                  <a:lnTo>
                    <a:pt x="894" y="730"/>
                  </a:lnTo>
                  <a:lnTo>
                    <a:pt x="894" y="735"/>
                  </a:lnTo>
                  <a:lnTo>
                    <a:pt x="894" y="739"/>
                  </a:lnTo>
                  <a:lnTo>
                    <a:pt x="898" y="739"/>
                  </a:lnTo>
                  <a:lnTo>
                    <a:pt x="898" y="743"/>
                  </a:lnTo>
                  <a:lnTo>
                    <a:pt x="898" y="748"/>
                  </a:lnTo>
                  <a:lnTo>
                    <a:pt x="903" y="752"/>
                  </a:lnTo>
                  <a:lnTo>
                    <a:pt x="903" y="756"/>
                  </a:lnTo>
                  <a:lnTo>
                    <a:pt x="903" y="761"/>
                  </a:lnTo>
                  <a:lnTo>
                    <a:pt x="907" y="765"/>
                  </a:lnTo>
                  <a:lnTo>
                    <a:pt x="907" y="769"/>
                  </a:lnTo>
                  <a:lnTo>
                    <a:pt x="911" y="774"/>
                  </a:lnTo>
                  <a:lnTo>
                    <a:pt x="911" y="778"/>
                  </a:lnTo>
                  <a:lnTo>
                    <a:pt x="916" y="782"/>
                  </a:lnTo>
                  <a:lnTo>
                    <a:pt x="916" y="787"/>
                  </a:lnTo>
                  <a:lnTo>
                    <a:pt x="920" y="791"/>
                  </a:lnTo>
                  <a:lnTo>
                    <a:pt x="920" y="795"/>
                  </a:lnTo>
                  <a:lnTo>
                    <a:pt x="920" y="800"/>
                  </a:lnTo>
                  <a:lnTo>
                    <a:pt x="924" y="800"/>
                  </a:lnTo>
                  <a:lnTo>
                    <a:pt x="924" y="804"/>
                  </a:lnTo>
                  <a:lnTo>
                    <a:pt x="928" y="808"/>
                  </a:lnTo>
                  <a:lnTo>
                    <a:pt x="928" y="813"/>
                  </a:lnTo>
                  <a:lnTo>
                    <a:pt x="933" y="817"/>
                  </a:lnTo>
                  <a:lnTo>
                    <a:pt x="933" y="821"/>
                  </a:lnTo>
                  <a:lnTo>
                    <a:pt x="937" y="821"/>
                  </a:lnTo>
                  <a:lnTo>
                    <a:pt x="937" y="826"/>
                  </a:lnTo>
                  <a:lnTo>
                    <a:pt x="937" y="830"/>
                  </a:lnTo>
                  <a:lnTo>
                    <a:pt x="941" y="830"/>
                  </a:lnTo>
                  <a:lnTo>
                    <a:pt x="941" y="834"/>
                  </a:lnTo>
                  <a:lnTo>
                    <a:pt x="946" y="839"/>
                  </a:lnTo>
                  <a:lnTo>
                    <a:pt x="946" y="843"/>
                  </a:lnTo>
                  <a:lnTo>
                    <a:pt x="950" y="843"/>
                  </a:lnTo>
                  <a:lnTo>
                    <a:pt x="950" y="847"/>
                  </a:lnTo>
                  <a:lnTo>
                    <a:pt x="954" y="847"/>
                  </a:lnTo>
                  <a:lnTo>
                    <a:pt x="954" y="852"/>
                  </a:lnTo>
                  <a:lnTo>
                    <a:pt x="954" y="856"/>
                  </a:lnTo>
                  <a:lnTo>
                    <a:pt x="959" y="856"/>
                  </a:lnTo>
                  <a:lnTo>
                    <a:pt x="959" y="860"/>
                  </a:lnTo>
                  <a:lnTo>
                    <a:pt x="963" y="860"/>
                  </a:lnTo>
                  <a:lnTo>
                    <a:pt x="963" y="865"/>
                  </a:lnTo>
                  <a:lnTo>
                    <a:pt x="967" y="865"/>
                  </a:lnTo>
                  <a:lnTo>
                    <a:pt x="967" y="869"/>
                  </a:lnTo>
                  <a:lnTo>
                    <a:pt x="972" y="869"/>
                  </a:lnTo>
                  <a:lnTo>
                    <a:pt x="972" y="873"/>
                  </a:lnTo>
                  <a:lnTo>
                    <a:pt x="976" y="877"/>
                  </a:lnTo>
                  <a:lnTo>
                    <a:pt x="980" y="877"/>
                  </a:lnTo>
                  <a:lnTo>
                    <a:pt x="980" y="882"/>
                  </a:lnTo>
                  <a:lnTo>
                    <a:pt x="985" y="882"/>
                  </a:lnTo>
                  <a:lnTo>
                    <a:pt x="985" y="886"/>
                  </a:lnTo>
                  <a:lnTo>
                    <a:pt x="989" y="886"/>
                  </a:lnTo>
                  <a:lnTo>
                    <a:pt x="989" y="890"/>
                  </a:lnTo>
                  <a:lnTo>
                    <a:pt x="993" y="890"/>
                  </a:lnTo>
                  <a:lnTo>
                    <a:pt x="998" y="895"/>
                  </a:lnTo>
                  <a:lnTo>
                    <a:pt x="1002" y="895"/>
                  </a:lnTo>
                  <a:lnTo>
                    <a:pt x="1002" y="899"/>
                  </a:lnTo>
                  <a:lnTo>
                    <a:pt x="1006" y="899"/>
                  </a:lnTo>
                  <a:lnTo>
                    <a:pt x="1006" y="903"/>
                  </a:lnTo>
                  <a:lnTo>
                    <a:pt x="1011" y="903"/>
                  </a:lnTo>
                  <a:lnTo>
                    <a:pt x="1015" y="903"/>
                  </a:lnTo>
                  <a:lnTo>
                    <a:pt x="1015" y="908"/>
                  </a:lnTo>
                  <a:lnTo>
                    <a:pt x="1019" y="908"/>
                  </a:lnTo>
                  <a:lnTo>
                    <a:pt x="1024" y="908"/>
                  </a:lnTo>
                  <a:lnTo>
                    <a:pt x="1024" y="912"/>
                  </a:lnTo>
                  <a:lnTo>
                    <a:pt x="1028" y="912"/>
                  </a:lnTo>
                  <a:lnTo>
                    <a:pt x="1032" y="912"/>
                  </a:lnTo>
                  <a:lnTo>
                    <a:pt x="1036" y="912"/>
                  </a:lnTo>
                  <a:lnTo>
                    <a:pt x="1036" y="916"/>
                  </a:lnTo>
                  <a:lnTo>
                    <a:pt x="1041" y="916"/>
                  </a:lnTo>
                  <a:lnTo>
                    <a:pt x="1045" y="916"/>
                  </a:lnTo>
                  <a:lnTo>
                    <a:pt x="1049" y="916"/>
                  </a:lnTo>
                  <a:lnTo>
                    <a:pt x="1049" y="921"/>
                  </a:lnTo>
                  <a:lnTo>
                    <a:pt x="1054" y="921"/>
                  </a:lnTo>
                  <a:lnTo>
                    <a:pt x="1058" y="921"/>
                  </a:lnTo>
                  <a:lnTo>
                    <a:pt x="1062" y="921"/>
                  </a:lnTo>
                  <a:lnTo>
                    <a:pt x="1067" y="921"/>
                  </a:lnTo>
                  <a:lnTo>
                    <a:pt x="1067" y="925"/>
                  </a:lnTo>
                  <a:lnTo>
                    <a:pt x="1071" y="925"/>
                  </a:lnTo>
                  <a:lnTo>
                    <a:pt x="1075" y="925"/>
                  </a:lnTo>
                  <a:lnTo>
                    <a:pt x="1080" y="925"/>
                  </a:lnTo>
                  <a:lnTo>
                    <a:pt x="1084" y="925"/>
                  </a:lnTo>
                  <a:lnTo>
                    <a:pt x="1088" y="925"/>
                  </a:lnTo>
                  <a:lnTo>
                    <a:pt x="1093" y="925"/>
                  </a:lnTo>
                  <a:lnTo>
                    <a:pt x="1097" y="925"/>
                  </a:lnTo>
                  <a:lnTo>
                    <a:pt x="1097" y="929"/>
                  </a:lnTo>
                  <a:lnTo>
                    <a:pt x="1101" y="929"/>
                  </a:lnTo>
                  <a:lnTo>
                    <a:pt x="1106" y="929"/>
                  </a:lnTo>
                  <a:lnTo>
                    <a:pt x="1110" y="929"/>
                  </a:lnTo>
                  <a:lnTo>
                    <a:pt x="1114" y="929"/>
                  </a:lnTo>
                  <a:lnTo>
                    <a:pt x="1119" y="929"/>
                  </a:lnTo>
                  <a:lnTo>
                    <a:pt x="1123" y="929"/>
                  </a:lnTo>
                  <a:lnTo>
                    <a:pt x="1127" y="929"/>
                  </a:lnTo>
                  <a:lnTo>
                    <a:pt x="1132" y="929"/>
                  </a:lnTo>
                  <a:lnTo>
                    <a:pt x="1136" y="929"/>
                  </a:lnTo>
                  <a:lnTo>
                    <a:pt x="1140" y="929"/>
                  </a:lnTo>
                  <a:lnTo>
                    <a:pt x="1144" y="929"/>
                  </a:lnTo>
                  <a:lnTo>
                    <a:pt x="1149" y="929"/>
                  </a:lnTo>
                  <a:lnTo>
                    <a:pt x="1153" y="929"/>
                  </a:lnTo>
                  <a:lnTo>
                    <a:pt x="1157" y="929"/>
                  </a:lnTo>
                  <a:lnTo>
                    <a:pt x="1162" y="929"/>
                  </a:lnTo>
                  <a:lnTo>
                    <a:pt x="1166" y="929"/>
                  </a:lnTo>
                  <a:lnTo>
                    <a:pt x="1170" y="929"/>
                  </a:lnTo>
                  <a:lnTo>
                    <a:pt x="1175" y="929"/>
                  </a:lnTo>
                  <a:lnTo>
                    <a:pt x="1179" y="929"/>
                  </a:lnTo>
                  <a:lnTo>
                    <a:pt x="1183" y="929"/>
                  </a:lnTo>
                  <a:lnTo>
                    <a:pt x="1188" y="929"/>
                  </a:lnTo>
                  <a:lnTo>
                    <a:pt x="1192" y="929"/>
                  </a:lnTo>
                  <a:lnTo>
                    <a:pt x="1196" y="929"/>
                  </a:lnTo>
                  <a:lnTo>
                    <a:pt x="1201" y="929"/>
                  </a:lnTo>
                  <a:lnTo>
                    <a:pt x="1205" y="929"/>
                  </a:lnTo>
                  <a:lnTo>
                    <a:pt x="1209" y="929"/>
                  </a:lnTo>
                  <a:lnTo>
                    <a:pt x="1214" y="929"/>
                  </a:lnTo>
                  <a:lnTo>
                    <a:pt x="1218" y="929"/>
                  </a:lnTo>
                  <a:lnTo>
                    <a:pt x="1222" y="929"/>
                  </a:lnTo>
                  <a:lnTo>
                    <a:pt x="1227" y="929"/>
                  </a:lnTo>
                  <a:lnTo>
                    <a:pt x="1231" y="929"/>
                  </a:lnTo>
                  <a:lnTo>
                    <a:pt x="1235" y="929"/>
                  </a:lnTo>
                  <a:lnTo>
                    <a:pt x="1240" y="929"/>
                  </a:lnTo>
                  <a:lnTo>
                    <a:pt x="1244" y="929"/>
                  </a:lnTo>
                  <a:lnTo>
                    <a:pt x="1248" y="929"/>
                  </a:lnTo>
                  <a:lnTo>
                    <a:pt x="1252" y="929"/>
                  </a:lnTo>
                  <a:lnTo>
                    <a:pt x="1257" y="929"/>
                  </a:lnTo>
                  <a:lnTo>
                    <a:pt x="1261" y="929"/>
                  </a:lnTo>
                  <a:lnTo>
                    <a:pt x="1265" y="929"/>
                  </a:lnTo>
                  <a:lnTo>
                    <a:pt x="1270" y="929"/>
                  </a:lnTo>
                  <a:lnTo>
                    <a:pt x="1274" y="929"/>
                  </a:lnTo>
                  <a:lnTo>
                    <a:pt x="1278" y="929"/>
                  </a:lnTo>
                  <a:lnTo>
                    <a:pt x="1283" y="929"/>
                  </a:lnTo>
                  <a:lnTo>
                    <a:pt x="1287" y="929"/>
                  </a:lnTo>
                  <a:lnTo>
                    <a:pt x="1291" y="929"/>
                  </a:lnTo>
                  <a:lnTo>
                    <a:pt x="1296" y="929"/>
                  </a:lnTo>
                  <a:lnTo>
                    <a:pt x="1300" y="929"/>
                  </a:lnTo>
                  <a:lnTo>
                    <a:pt x="1304" y="929"/>
                  </a:lnTo>
                  <a:lnTo>
                    <a:pt x="1309" y="929"/>
                  </a:lnTo>
                  <a:lnTo>
                    <a:pt x="1313" y="929"/>
                  </a:lnTo>
                  <a:lnTo>
                    <a:pt x="1317" y="929"/>
                  </a:lnTo>
                  <a:lnTo>
                    <a:pt x="1322" y="92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custGeom>
              <a:avLst/>
              <a:gdLst>
                <a:gd name="textAreaLeft" fmla="*/ 0 w 2965320"/>
                <a:gd name="textAreaRight" fmla="*/ 2965680 w 2965320"/>
                <a:gd name="textAreaTop" fmla="*/ 0 h 1719360"/>
                <a:gd name="textAreaBottom" fmla="*/ 1719720 h 171936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custGeom>
              <a:avLst/>
              <a:gdLst>
                <a:gd name="textAreaLeft" fmla="*/ 0 w 2840040"/>
                <a:gd name="textAreaRight" fmla="*/ 2840400 w 28400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1320" h="928">
                  <a:moveTo>
                    <a:pt x="0" y="927"/>
                  </a:moveTo>
                  <a:lnTo>
                    <a:pt x="4" y="927"/>
                  </a:lnTo>
                  <a:lnTo>
                    <a:pt x="13" y="927"/>
                  </a:lnTo>
                  <a:lnTo>
                    <a:pt x="17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91" y="927"/>
                  </a:lnTo>
                  <a:lnTo>
                    <a:pt x="100" y="927"/>
                  </a:lnTo>
                  <a:lnTo>
                    <a:pt x="104" y="927"/>
                  </a:lnTo>
                  <a:lnTo>
                    <a:pt x="112" y="927"/>
                  </a:lnTo>
                  <a:lnTo>
                    <a:pt x="116" y="927"/>
                  </a:lnTo>
                  <a:lnTo>
                    <a:pt x="125" y="927"/>
                  </a:lnTo>
                  <a:lnTo>
                    <a:pt x="129" y="927"/>
                  </a:lnTo>
                  <a:lnTo>
                    <a:pt x="138" y="927"/>
                  </a:lnTo>
                  <a:lnTo>
                    <a:pt x="142" y="927"/>
                  </a:lnTo>
                  <a:lnTo>
                    <a:pt x="151" y="927"/>
                  </a:lnTo>
                  <a:lnTo>
                    <a:pt x="155" y="927"/>
                  </a:lnTo>
                  <a:lnTo>
                    <a:pt x="164" y="927"/>
                  </a:lnTo>
                  <a:lnTo>
                    <a:pt x="168" y="927"/>
                  </a:lnTo>
                  <a:lnTo>
                    <a:pt x="177" y="927"/>
                  </a:lnTo>
                  <a:lnTo>
                    <a:pt x="181" y="927"/>
                  </a:lnTo>
                  <a:lnTo>
                    <a:pt x="190" y="927"/>
                  </a:lnTo>
                  <a:lnTo>
                    <a:pt x="198" y="927"/>
                  </a:lnTo>
                  <a:lnTo>
                    <a:pt x="203" y="927"/>
                  </a:lnTo>
                  <a:lnTo>
                    <a:pt x="211" y="927"/>
                  </a:lnTo>
                  <a:lnTo>
                    <a:pt x="216" y="927"/>
                  </a:lnTo>
                  <a:lnTo>
                    <a:pt x="224" y="927"/>
                  </a:lnTo>
                  <a:lnTo>
                    <a:pt x="229" y="927"/>
                  </a:lnTo>
                  <a:lnTo>
                    <a:pt x="237" y="927"/>
                  </a:lnTo>
                  <a:lnTo>
                    <a:pt x="242" y="927"/>
                  </a:lnTo>
                  <a:lnTo>
                    <a:pt x="250" y="927"/>
                  </a:lnTo>
                  <a:lnTo>
                    <a:pt x="255" y="927"/>
                  </a:lnTo>
                  <a:lnTo>
                    <a:pt x="263" y="927"/>
                  </a:lnTo>
                  <a:lnTo>
                    <a:pt x="268" y="927"/>
                  </a:lnTo>
                  <a:lnTo>
                    <a:pt x="276" y="927"/>
                  </a:lnTo>
                  <a:lnTo>
                    <a:pt x="285" y="927"/>
                  </a:lnTo>
                  <a:lnTo>
                    <a:pt x="289" y="927"/>
                  </a:lnTo>
                  <a:lnTo>
                    <a:pt x="298" y="927"/>
                  </a:lnTo>
                  <a:lnTo>
                    <a:pt x="302" y="927"/>
                  </a:lnTo>
                  <a:lnTo>
                    <a:pt x="311" y="927"/>
                  </a:lnTo>
                  <a:lnTo>
                    <a:pt x="315" y="927"/>
                  </a:lnTo>
                  <a:lnTo>
                    <a:pt x="324" y="927"/>
                  </a:lnTo>
                  <a:lnTo>
                    <a:pt x="328" y="927"/>
                  </a:lnTo>
                  <a:lnTo>
                    <a:pt x="336" y="927"/>
                  </a:lnTo>
                  <a:lnTo>
                    <a:pt x="340" y="927"/>
                  </a:lnTo>
                  <a:lnTo>
                    <a:pt x="349" y="927"/>
                  </a:lnTo>
                  <a:lnTo>
                    <a:pt x="353" y="927"/>
                  </a:lnTo>
                  <a:lnTo>
                    <a:pt x="362" y="927"/>
                  </a:lnTo>
                  <a:lnTo>
                    <a:pt x="366" y="927"/>
                  </a:lnTo>
                  <a:lnTo>
                    <a:pt x="375" y="927"/>
                  </a:lnTo>
                  <a:lnTo>
                    <a:pt x="383" y="927"/>
                  </a:lnTo>
                  <a:lnTo>
                    <a:pt x="388" y="927"/>
                  </a:lnTo>
                  <a:lnTo>
                    <a:pt x="396" y="927"/>
                  </a:lnTo>
                  <a:lnTo>
                    <a:pt x="401" y="789"/>
                  </a:lnTo>
                  <a:lnTo>
                    <a:pt x="409" y="776"/>
                  </a:lnTo>
                  <a:lnTo>
                    <a:pt x="414" y="763"/>
                  </a:lnTo>
                  <a:lnTo>
                    <a:pt x="422" y="746"/>
                  </a:lnTo>
                  <a:lnTo>
                    <a:pt x="427" y="728"/>
                  </a:lnTo>
                  <a:lnTo>
                    <a:pt x="435" y="711"/>
                  </a:lnTo>
                  <a:lnTo>
                    <a:pt x="440" y="690"/>
                  </a:lnTo>
                  <a:lnTo>
                    <a:pt x="448" y="673"/>
                  </a:lnTo>
                  <a:lnTo>
                    <a:pt x="453" y="651"/>
                  </a:lnTo>
                  <a:lnTo>
                    <a:pt x="461" y="630"/>
                  </a:lnTo>
                  <a:lnTo>
                    <a:pt x="466" y="604"/>
                  </a:lnTo>
                  <a:lnTo>
                    <a:pt x="474" y="582"/>
                  </a:lnTo>
                  <a:lnTo>
                    <a:pt x="483" y="556"/>
                  </a:lnTo>
                  <a:lnTo>
                    <a:pt x="487" y="531"/>
                  </a:lnTo>
                  <a:lnTo>
                    <a:pt x="496" y="505"/>
                  </a:lnTo>
                  <a:lnTo>
                    <a:pt x="500" y="479"/>
                  </a:lnTo>
                  <a:lnTo>
                    <a:pt x="509" y="448"/>
                  </a:lnTo>
                  <a:lnTo>
                    <a:pt x="513" y="422"/>
                  </a:lnTo>
                  <a:lnTo>
                    <a:pt x="522" y="392"/>
                  </a:lnTo>
                  <a:lnTo>
                    <a:pt x="526" y="367"/>
                  </a:lnTo>
                  <a:lnTo>
                    <a:pt x="535" y="336"/>
                  </a:lnTo>
                  <a:lnTo>
                    <a:pt x="539" y="310"/>
                  </a:lnTo>
                  <a:lnTo>
                    <a:pt x="548" y="280"/>
                  </a:lnTo>
                  <a:lnTo>
                    <a:pt x="551" y="254"/>
                  </a:lnTo>
                  <a:lnTo>
                    <a:pt x="560" y="229"/>
                  </a:lnTo>
                  <a:lnTo>
                    <a:pt x="569" y="203"/>
                  </a:lnTo>
                  <a:lnTo>
                    <a:pt x="573" y="177"/>
                  </a:lnTo>
                  <a:lnTo>
                    <a:pt x="582" y="155"/>
                  </a:lnTo>
                  <a:lnTo>
                    <a:pt x="586" y="129"/>
                  </a:lnTo>
                  <a:lnTo>
                    <a:pt x="595" y="107"/>
                  </a:lnTo>
                  <a:lnTo>
                    <a:pt x="599" y="90"/>
                  </a:lnTo>
                  <a:lnTo>
                    <a:pt x="608" y="74"/>
                  </a:lnTo>
                  <a:lnTo>
                    <a:pt x="612" y="56"/>
                  </a:lnTo>
                  <a:lnTo>
                    <a:pt x="621" y="43"/>
                  </a:lnTo>
                  <a:lnTo>
                    <a:pt x="625" y="30"/>
                  </a:lnTo>
                  <a:lnTo>
                    <a:pt x="634" y="17"/>
                  </a:lnTo>
                  <a:lnTo>
                    <a:pt x="638" y="9"/>
                  </a:lnTo>
                  <a:lnTo>
                    <a:pt x="647" y="4"/>
                  </a:lnTo>
                  <a:lnTo>
                    <a:pt x="651" y="0"/>
                  </a:lnTo>
                  <a:lnTo>
                    <a:pt x="660" y="0"/>
                  </a:lnTo>
                  <a:lnTo>
                    <a:pt x="668" y="0"/>
                  </a:lnTo>
                  <a:lnTo>
                    <a:pt x="673" y="4"/>
                  </a:lnTo>
                  <a:lnTo>
                    <a:pt x="681" y="9"/>
                  </a:lnTo>
                  <a:lnTo>
                    <a:pt x="686" y="17"/>
                  </a:lnTo>
                  <a:lnTo>
                    <a:pt x="694" y="30"/>
                  </a:lnTo>
                  <a:lnTo>
                    <a:pt x="699" y="43"/>
                  </a:lnTo>
                  <a:lnTo>
                    <a:pt x="707" y="56"/>
                  </a:lnTo>
                  <a:lnTo>
                    <a:pt x="712" y="74"/>
                  </a:lnTo>
                  <a:lnTo>
                    <a:pt x="720" y="90"/>
                  </a:lnTo>
                  <a:lnTo>
                    <a:pt x="725" y="107"/>
                  </a:lnTo>
                  <a:lnTo>
                    <a:pt x="733" y="129"/>
                  </a:lnTo>
                  <a:lnTo>
                    <a:pt x="738" y="155"/>
                  </a:lnTo>
                  <a:lnTo>
                    <a:pt x="746" y="177"/>
                  </a:lnTo>
                  <a:lnTo>
                    <a:pt x="751" y="203"/>
                  </a:lnTo>
                  <a:lnTo>
                    <a:pt x="759" y="229"/>
                  </a:lnTo>
                  <a:lnTo>
                    <a:pt x="768" y="254"/>
                  </a:lnTo>
                  <a:lnTo>
                    <a:pt x="771" y="280"/>
                  </a:lnTo>
                  <a:lnTo>
                    <a:pt x="780" y="310"/>
                  </a:lnTo>
                  <a:lnTo>
                    <a:pt x="784" y="336"/>
                  </a:lnTo>
                  <a:lnTo>
                    <a:pt x="793" y="367"/>
                  </a:lnTo>
                  <a:lnTo>
                    <a:pt x="797" y="392"/>
                  </a:lnTo>
                  <a:lnTo>
                    <a:pt x="806" y="422"/>
                  </a:lnTo>
                  <a:lnTo>
                    <a:pt x="810" y="448"/>
                  </a:lnTo>
                  <a:lnTo>
                    <a:pt x="819" y="479"/>
                  </a:lnTo>
                  <a:lnTo>
                    <a:pt x="823" y="505"/>
                  </a:lnTo>
                  <a:lnTo>
                    <a:pt x="832" y="531"/>
                  </a:lnTo>
                  <a:lnTo>
                    <a:pt x="836" y="556"/>
                  </a:lnTo>
                  <a:lnTo>
                    <a:pt x="845" y="582"/>
                  </a:lnTo>
                  <a:lnTo>
                    <a:pt x="854" y="604"/>
                  </a:lnTo>
                  <a:lnTo>
                    <a:pt x="858" y="630"/>
                  </a:lnTo>
                  <a:lnTo>
                    <a:pt x="867" y="651"/>
                  </a:lnTo>
                  <a:lnTo>
                    <a:pt x="871" y="673"/>
                  </a:lnTo>
                  <a:lnTo>
                    <a:pt x="880" y="690"/>
                  </a:lnTo>
                  <a:lnTo>
                    <a:pt x="884" y="711"/>
                  </a:lnTo>
                  <a:lnTo>
                    <a:pt x="893" y="728"/>
                  </a:lnTo>
                  <a:lnTo>
                    <a:pt x="897" y="746"/>
                  </a:lnTo>
                  <a:lnTo>
                    <a:pt x="906" y="763"/>
                  </a:lnTo>
                  <a:lnTo>
                    <a:pt x="910" y="776"/>
                  </a:lnTo>
                  <a:lnTo>
                    <a:pt x="919" y="789"/>
                  </a:lnTo>
                  <a:lnTo>
                    <a:pt x="923" y="927"/>
                  </a:lnTo>
                  <a:lnTo>
                    <a:pt x="932" y="927"/>
                  </a:lnTo>
                  <a:lnTo>
                    <a:pt x="936" y="927"/>
                  </a:lnTo>
                  <a:lnTo>
                    <a:pt x="945" y="927"/>
                  </a:lnTo>
                  <a:lnTo>
                    <a:pt x="953" y="927"/>
                  </a:lnTo>
                  <a:lnTo>
                    <a:pt x="957" y="927"/>
                  </a:lnTo>
                  <a:lnTo>
                    <a:pt x="966" y="927"/>
                  </a:lnTo>
                  <a:lnTo>
                    <a:pt x="970" y="927"/>
                  </a:lnTo>
                  <a:lnTo>
                    <a:pt x="979" y="927"/>
                  </a:lnTo>
                  <a:lnTo>
                    <a:pt x="983" y="927"/>
                  </a:lnTo>
                  <a:lnTo>
                    <a:pt x="991" y="927"/>
                  </a:lnTo>
                  <a:lnTo>
                    <a:pt x="995" y="927"/>
                  </a:lnTo>
                  <a:lnTo>
                    <a:pt x="1004" y="927"/>
                  </a:lnTo>
                  <a:lnTo>
                    <a:pt x="1008" y="927"/>
                  </a:lnTo>
                  <a:lnTo>
                    <a:pt x="1017" y="927"/>
                  </a:lnTo>
                  <a:lnTo>
                    <a:pt x="1021" y="927"/>
                  </a:lnTo>
                  <a:lnTo>
                    <a:pt x="1030" y="927"/>
                  </a:lnTo>
                  <a:lnTo>
                    <a:pt x="1034" y="927"/>
                  </a:lnTo>
                  <a:lnTo>
                    <a:pt x="1043" y="927"/>
                  </a:lnTo>
                  <a:lnTo>
                    <a:pt x="1052" y="927"/>
                  </a:lnTo>
                  <a:lnTo>
                    <a:pt x="1056" y="927"/>
                  </a:lnTo>
                  <a:lnTo>
                    <a:pt x="1065" y="927"/>
                  </a:lnTo>
                  <a:lnTo>
                    <a:pt x="1069" y="927"/>
                  </a:lnTo>
                  <a:lnTo>
                    <a:pt x="1078" y="927"/>
                  </a:lnTo>
                  <a:lnTo>
                    <a:pt x="1082" y="927"/>
                  </a:lnTo>
                  <a:lnTo>
                    <a:pt x="1091" y="927"/>
                  </a:lnTo>
                  <a:lnTo>
                    <a:pt x="1095" y="927"/>
                  </a:lnTo>
                  <a:lnTo>
                    <a:pt x="1104" y="927"/>
                  </a:lnTo>
                  <a:lnTo>
                    <a:pt x="1108" y="927"/>
                  </a:lnTo>
                  <a:lnTo>
                    <a:pt x="1117" y="927"/>
                  </a:lnTo>
                  <a:lnTo>
                    <a:pt x="1121" y="927"/>
                  </a:lnTo>
                  <a:lnTo>
                    <a:pt x="1130" y="927"/>
                  </a:lnTo>
                  <a:lnTo>
                    <a:pt x="1138" y="927"/>
                  </a:lnTo>
                  <a:lnTo>
                    <a:pt x="1143" y="927"/>
                  </a:lnTo>
                  <a:lnTo>
                    <a:pt x="1151" y="927"/>
                  </a:lnTo>
                  <a:lnTo>
                    <a:pt x="1156" y="927"/>
                  </a:lnTo>
                  <a:lnTo>
                    <a:pt x="1164" y="927"/>
                  </a:lnTo>
                  <a:lnTo>
                    <a:pt x="1169" y="927"/>
                  </a:lnTo>
                  <a:lnTo>
                    <a:pt x="1177" y="927"/>
                  </a:lnTo>
                  <a:lnTo>
                    <a:pt x="1182" y="927"/>
                  </a:lnTo>
                  <a:lnTo>
                    <a:pt x="1190" y="927"/>
                  </a:lnTo>
                  <a:lnTo>
                    <a:pt x="1195" y="927"/>
                  </a:lnTo>
                  <a:lnTo>
                    <a:pt x="1203" y="927"/>
                  </a:lnTo>
                  <a:lnTo>
                    <a:pt x="1208" y="927"/>
                  </a:lnTo>
                  <a:lnTo>
                    <a:pt x="1215" y="927"/>
                  </a:lnTo>
                  <a:lnTo>
                    <a:pt x="1220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54" y="927"/>
                  </a:lnTo>
                  <a:lnTo>
                    <a:pt x="1263" y="927"/>
                  </a:lnTo>
                  <a:lnTo>
                    <a:pt x="1267" y="927"/>
                  </a:lnTo>
                  <a:lnTo>
                    <a:pt x="1276" y="927"/>
                  </a:lnTo>
                  <a:lnTo>
                    <a:pt x="1280" y="927"/>
                  </a:lnTo>
                  <a:lnTo>
                    <a:pt x="1289" y="927"/>
                  </a:lnTo>
                  <a:lnTo>
                    <a:pt x="1293" y="927"/>
                  </a:lnTo>
                  <a:lnTo>
                    <a:pt x="1302" y="927"/>
                  </a:lnTo>
                  <a:lnTo>
                    <a:pt x="1306" y="927"/>
                  </a:lnTo>
                  <a:lnTo>
                    <a:pt x="1315" y="927"/>
                  </a:lnTo>
                  <a:lnTo>
                    <a:pt x="1319" y="927"/>
                  </a:lnTo>
                  <a:lnTo>
                    <a:pt x="1315" y="927"/>
                  </a:lnTo>
                  <a:lnTo>
                    <a:pt x="1306" y="927"/>
                  </a:lnTo>
                  <a:lnTo>
                    <a:pt x="1302" y="927"/>
                  </a:lnTo>
                  <a:lnTo>
                    <a:pt x="1293" y="927"/>
                  </a:lnTo>
                  <a:lnTo>
                    <a:pt x="1289" y="927"/>
                  </a:lnTo>
                  <a:lnTo>
                    <a:pt x="1280" y="927"/>
                  </a:lnTo>
                  <a:lnTo>
                    <a:pt x="1276" y="927"/>
                  </a:lnTo>
                  <a:lnTo>
                    <a:pt x="1267" y="927"/>
                  </a:lnTo>
                  <a:lnTo>
                    <a:pt x="1263" y="927"/>
                  </a:lnTo>
                  <a:lnTo>
                    <a:pt x="1254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0" y="927"/>
                  </a:lnTo>
                  <a:lnTo>
                    <a:pt x="1215" y="927"/>
                  </a:lnTo>
                  <a:lnTo>
                    <a:pt x="1208" y="927"/>
                  </a:lnTo>
                  <a:lnTo>
                    <a:pt x="1203" y="927"/>
                  </a:lnTo>
                  <a:lnTo>
                    <a:pt x="1195" y="927"/>
                  </a:lnTo>
                  <a:lnTo>
                    <a:pt x="1190" y="927"/>
                  </a:lnTo>
                  <a:lnTo>
                    <a:pt x="1182" y="927"/>
                  </a:lnTo>
                  <a:lnTo>
                    <a:pt x="1177" y="927"/>
                  </a:lnTo>
                  <a:lnTo>
                    <a:pt x="1169" y="927"/>
                  </a:lnTo>
                  <a:lnTo>
                    <a:pt x="1164" y="927"/>
                  </a:lnTo>
                  <a:lnTo>
                    <a:pt x="1156" y="927"/>
                  </a:lnTo>
                  <a:lnTo>
                    <a:pt x="1151" y="927"/>
                  </a:lnTo>
                  <a:lnTo>
                    <a:pt x="1143" y="927"/>
                  </a:lnTo>
                  <a:lnTo>
                    <a:pt x="1138" y="927"/>
                  </a:lnTo>
                  <a:lnTo>
                    <a:pt x="1130" y="927"/>
                  </a:lnTo>
                  <a:lnTo>
                    <a:pt x="1121" y="927"/>
                  </a:lnTo>
                  <a:lnTo>
                    <a:pt x="1117" y="927"/>
                  </a:lnTo>
                  <a:lnTo>
                    <a:pt x="1108" y="927"/>
                  </a:lnTo>
                  <a:lnTo>
                    <a:pt x="1104" y="927"/>
                  </a:lnTo>
                  <a:lnTo>
                    <a:pt x="1095" y="927"/>
                  </a:lnTo>
                  <a:lnTo>
                    <a:pt x="1091" y="927"/>
                  </a:lnTo>
                  <a:lnTo>
                    <a:pt x="1082" y="927"/>
                  </a:lnTo>
                  <a:lnTo>
                    <a:pt x="1078" y="927"/>
                  </a:lnTo>
                  <a:lnTo>
                    <a:pt x="1069" y="927"/>
                  </a:lnTo>
                  <a:lnTo>
                    <a:pt x="1065" y="927"/>
                  </a:lnTo>
                  <a:lnTo>
                    <a:pt x="1056" y="927"/>
                  </a:lnTo>
                  <a:lnTo>
                    <a:pt x="1052" y="927"/>
                  </a:lnTo>
                  <a:lnTo>
                    <a:pt x="1043" y="927"/>
                  </a:lnTo>
                  <a:lnTo>
                    <a:pt x="1034" y="927"/>
                  </a:lnTo>
                  <a:lnTo>
                    <a:pt x="1030" y="927"/>
                  </a:lnTo>
                  <a:lnTo>
                    <a:pt x="1021" y="927"/>
                  </a:lnTo>
                  <a:lnTo>
                    <a:pt x="1017" y="927"/>
                  </a:lnTo>
                  <a:lnTo>
                    <a:pt x="1008" y="927"/>
                  </a:lnTo>
                  <a:lnTo>
                    <a:pt x="1004" y="927"/>
                  </a:lnTo>
                  <a:lnTo>
                    <a:pt x="995" y="927"/>
                  </a:lnTo>
                  <a:lnTo>
                    <a:pt x="991" y="927"/>
                  </a:lnTo>
                  <a:lnTo>
                    <a:pt x="983" y="927"/>
                  </a:lnTo>
                  <a:lnTo>
                    <a:pt x="979" y="927"/>
                  </a:lnTo>
                  <a:lnTo>
                    <a:pt x="970" y="927"/>
                  </a:lnTo>
                  <a:lnTo>
                    <a:pt x="966" y="927"/>
                  </a:lnTo>
                  <a:lnTo>
                    <a:pt x="957" y="927"/>
                  </a:lnTo>
                  <a:lnTo>
                    <a:pt x="953" y="927"/>
                  </a:lnTo>
                  <a:lnTo>
                    <a:pt x="945" y="927"/>
                  </a:lnTo>
                  <a:lnTo>
                    <a:pt x="936" y="927"/>
                  </a:lnTo>
                  <a:lnTo>
                    <a:pt x="932" y="927"/>
                  </a:lnTo>
                  <a:lnTo>
                    <a:pt x="923" y="927"/>
                  </a:lnTo>
                  <a:lnTo>
                    <a:pt x="919" y="927"/>
                  </a:lnTo>
                  <a:lnTo>
                    <a:pt x="910" y="927"/>
                  </a:lnTo>
                  <a:lnTo>
                    <a:pt x="906" y="927"/>
                  </a:lnTo>
                  <a:lnTo>
                    <a:pt x="897" y="927"/>
                  </a:lnTo>
                  <a:lnTo>
                    <a:pt x="893" y="927"/>
                  </a:lnTo>
                  <a:lnTo>
                    <a:pt x="884" y="927"/>
                  </a:lnTo>
                  <a:lnTo>
                    <a:pt x="880" y="927"/>
                  </a:lnTo>
                  <a:lnTo>
                    <a:pt x="871" y="927"/>
                  </a:lnTo>
                  <a:lnTo>
                    <a:pt x="867" y="927"/>
                  </a:lnTo>
                  <a:lnTo>
                    <a:pt x="858" y="927"/>
                  </a:lnTo>
                  <a:lnTo>
                    <a:pt x="854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797" y="927"/>
                  </a:lnTo>
                  <a:lnTo>
                    <a:pt x="793" y="927"/>
                  </a:lnTo>
                  <a:lnTo>
                    <a:pt x="784" y="927"/>
                  </a:lnTo>
                  <a:lnTo>
                    <a:pt x="780" y="927"/>
                  </a:lnTo>
                  <a:lnTo>
                    <a:pt x="771" y="927"/>
                  </a:lnTo>
                  <a:lnTo>
                    <a:pt x="768" y="927"/>
                  </a:lnTo>
                  <a:lnTo>
                    <a:pt x="759" y="927"/>
                  </a:lnTo>
                  <a:lnTo>
                    <a:pt x="751" y="927"/>
                  </a:lnTo>
                  <a:lnTo>
                    <a:pt x="746" y="927"/>
                  </a:lnTo>
                  <a:lnTo>
                    <a:pt x="738" y="927"/>
                  </a:lnTo>
                  <a:lnTo>
                    <a:pt x="733" y="927"/>
                  </a:lnTo>
                  <a:lnTo>
                    <a:pt x="725" y="927"/>
                  </a:lnTo>
                  <a:lnTo>
                    <a:pt x="720" y="927"/>
                  </a:lnTo>
                  <a:lnTo>
                    <a:pt x="712" y="927"/>
                  </a:lnTo>
                  <a:lnTo>
                    <a:pt x="707" y="927"/>
                  </a:lnTo>
                  <a:lnTo>
                    <a:pt x="699" y="927"/>
                  </a:lnTo>
                  <a:lnTo>
                    <a:pt x="694" y="927"/>
                  </a:lnTo>
                  <a:lnTo>
                    <a:pt x="686" y="927"/>
                  </a:lnTo>
                  <a:lnTo>
                    <a:pt x="681" y="927"/>
                  </a:lnTo>
                  <a:lnTo>
                    <a:pt x="673" y="927"/>
                  </a:lnTo>
                  <a:lnTo>
                    <a:pt x="668" y="927"/>
                  </a:lnTo>
                  <a:lnTo>
                    <a:pt x="660" y="927"/>
                  </a:lnTo>
                  <a:lnTo>
                    <a:pt x="651" y="927"/>
                  </a:lnTo>
                  <a:lnTo>
                    <a:pt x="647" y="927"/>
                  </a:lnTo>
                  <a:lnTo>
                    <a:pt x="638" y="927"/>
                  </a:lnTo>
                  <a:lnTo>
                    <a:pt x="634" y="927"/>
                  </a:lnTo>
                  <a:lnTo>
                    <a:pt x="625" y="927"/>
                  </a:lnTo>
                  <a:lnTo>
                    <a:pt x="621" y="927"/>
                  </a:lnTo>
                  <a:lnTo>
                    <a:pt x="612" y="927"/>
                  </a:lnTo>
                  <a:lnTo>
                    <a:pt x="608" y="927"/>
                  </a:lnTo>
                  <a:lnTo>
                    <a:pt x="599" y="927"/>
                  </a:lnTo>
                  <a:lnTo>
                    <a:pt x="595" y="927"/>
                  </a:lnTo>
                  <a:lnTo>
                    <a:pt x="586" y="927"/>
                  </a:lnTo>
                  <a:lnTo>
                    <a:pt x="582" y="927"/>
                  </a:lnTo>
                  <a:lnTo>
                    <a:pt x="573" y="927"/>
                  </a:lnTo>
                  <a:lnTo>
                    <a:pt x="569" y="927"/>
                  </a:lnTo>
                  <a:lnTo>
                    <a:pt x="560" y="927"/>
                  </a:lnTo>
                  <a:lnTo>
                    <a:pt x="551" y="927"/>
                  </a:lnTo>
                  <a:lnTo>
                    <a:pt x="548" y="927"/>
                  </a:lnTo>
                  <a:lnTo>
                    <a:pt x="539" y="927"/>
                  </a:lnTo>
                  <a:lnTo>
                    <a:pt x="535" y="927"/>
                  </a:lnTo>
                  <a:lnTo>
                    <a:pt x="526" y="927"/>
                  </a:lnTo>
                  <a:lnTo>
                    <a:pt x="522" y="927"/>
                  </a:lnTo>
                  <a:lnTo>
                    <a:pt x="513" y="927"/>
                  </a:lnTo>
                  <a:lnTo>
                    <a:pt x="509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66" y="927"/>
                  </a:lnTo>
                  <a:lnTo>
                    <a:pt x="461" y="927"/>
                  </a:lnTo>
                  <a:lnTo>
                    <a:pt x="453" y="927"/>
                  </a:lnTo>
                  <a:lnTo>
                    <a:pt x="448" y="927"/>
                  </a:lnTo>
                  <a:lnTo>
                    <a:pt x="440" y="927"/>
                  </a:lnTo>
                  <a:lnTo>
                    <a:pt x="435" y="927"/>
                  </a:lnTo>
                  <a:lnTo>
                    <a:pt x="427" y="927"/>
                  </a:lnTo>
                  <a:lnTo>
                    <a:pt x="422" y="927"/>
                  </a:lnTo>
                  <a:lnTo>
                    <a:pt x="414" y="927"/>
                  </a:lnTo>
                  <a:lnTo>
                    <a:pt x="409" y="927"/>
                  </a:lnTo>
                  <a:lnTo>
                    <a:pt x="401" y="927"/>
                  </a:lnTo>
                  <a:lnTo>
                    <a:pt x="396" y="927"/>
                  </a:lnTo>
                  <a:lnTo>
                    <a:pt x="388" y="927"/>
                  </a:lnTo>
                  <a:lnTo>
                    <a:pt x="383" y="927"/>
                  </a:lnTo>
                  <a:lnTo>
                    <a:pt x="375" y="927"/>
                  </a:lnTo>
                  <a:lnTo>
                    <a:pt x="366" y="927"/>
                  </a:lnTo>
                  <a:lnTo>
                    <a:pt x="362" y="927"/>
                  </a:lnTo>
                  <a:lnTo>
                    <a:pt x="353" y="927"/>
                  </a:lnTo>
                  <a:lnTo>
                    <a:pt x="349" y="927"/>
                  </a:lnTo>
                  <a:lnTo>
                    <a:pt x="340" y="927"/>
                  </a:lnTo>
                  <a:lnTo>
                    <a:pt x="336" y="927"/>
                  </a:lnTo>
                  <a:lnTo>
                    <a:pt x="328" y="927"/>
                  </a:lnTo>
                  <a:lnTo>
                    <a:pt x="324" y="927"/>
                  </a:lnTo>
                  <a:lnTo>
                    <a:pt x="315" y="927"/>
                  </a:lnTo>
                  <a:lnTo>
                    <a:pt x="311" y="927"/>
                  </a:lnTo>
                  <a:lnTo>
                    <a:pt x="302" y="927"/>
                  </a:lnTo>
                  <a:lnTo>
                    <a:pt x="298" y="927"/>
                  </a:lnTo>
                  <a:lnTo>
                    <a:pt x="289" y="927"/>
                  </a:lnTo>
                  <a:lnTo>
                    <a:pt x="285" y="927"/>
                  </a:lnTo>
                  <a:lnTo>
                    <a:pt x="276" y="927"/>
                  </a:lnTo>
                  <a:lnTo>
                    <a:pt x="268" y="927"/>
                  </a:lnTo>
                  <a:lnTo>
                    <a:pt x="263" y="927"/>
                  </a:lnTo>
                  <a:lnTo>
                    <a:pt x="255" y="927"/>
                  </a:lnTo>
                  <a:lnTo>
                    <a:pt x="250" y="927"/>
                  </a:lnTo>
                  <a:lnTo>
                    <a:pt x="242" y="927"/>
                  </a:lnTo>
                  <a:lnTo>
                    <a:pt x="237" y="927"/>
                  </a:lnTo>
                  <a:lnTo>
                    <a:pt x="229" y="927"/>
                  </a:lnTo>
                  <a:lnTo>
                    <a:pt x="224" y="927"/>
                  </a:lnTo>
                  <a:lnTo>
                    <a:pt x="216" y="927"/>
                  </a:lnTo>
                  <a:lnTo>
                    <a:pt x="211" y="927"/>
                  </a:lnTo>
                  <a:lnTo>
                    <a:pt x="203" y="927"/>
                  </a:lnTo>
                  <a:lnTo>
                    <a:pt x="198" y="927"/>
                  </a:lnTo>
                  <a:lnTo>
                    <a:pt x="190" y="927"/>
                  </a:lnTo>
                  <a:lnTo>
                    <a:pt x="181" y="927"/>
                  </a:lnTo>
                  <a:lnTo>
                    <a:pt x="177" y="927"/>
                  </a:lnTo>
                  <a:lnTo>
                    <a:pt x="168" y="927"/>
                  </a:lnTo>
                  <a:lnTo>
                    <a:pt x="164" y="927"/>
                  </a:lnTo>
                  <a:lnTo>
                    <a:pt x="155" y="927"/>
                  </a:lnTo>
                  <a:lnTo>
                    <a:pt x="151" y="927"/>
                  </a:lnTo>
                  <a:lnTo>
                    <a:pt x="142" y="927"/>
                  </a:lnTo>
                  <a:lnTo>
                    <a:pt x="138" y="927"/>
                  </a:lnTo>
                  <a:lnTo>
                    <a:pt x="129" y="927"/>
                  </a:lnTo>
                  <a:lnTo>
                    <a:pt x="125" y="927"/>
                  </a:lnTo>
                  <a:lnTo>
                    <a:pt x="116" y="927"/>
                  </a:lnTo>
                  <a:lnTo>
                    <a:pt x="112" y="927"/>
                  </a:lnTo>
                  <a:lnTo>
                    <a:pt x="104" y="927"/>
                  </a:lnTo>
                  <a:lnTo>
                    <a:pt x="100" y="927"/>
                  </a:lnTo>
                  <a:lnTo>
                    <a:pt x="91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17" y="927"/>
                  </a:lnTo>
                  <a:lnTo>
                    <a:pt x="13" y="927"/>
                  </a:lnTo>
                  <a:lnTo>
                    <a:pt x="4" y="927"/>
                  </a:lnTo>
                  <a:lnTo>
                    <a:pt x="0" y="927"/>
                  </a:lnTo>
                </a:path>
              </a:pathLst>
            </a:cu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custGeom>
              <a:avLst/>
              <a:gdLst>
                <a:gd name="textAreaLeft" fmla="*/ 0 w 2852640"/>
                <a:gd name="textAreaRight" fmla="*/ 2853000 w 285264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4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91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91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5" y="933"/>
                  </a:lnTo>
                  <a:lnTo>
                    <a:pt x="230" y="933"/>
                  </a:lnTo>
                  <a:lnTo>
                    <a:pt x="238" y="933"/>
                  </a:lnTo>
                  <a:lnTo>
                    <a:pt x="243" y="933"/>
                  </a:lnTo>
                  <a:lnTo>
                    <a:pt x="251" y="933"/>
                  </a:lnTo>
                  <a:lnTo>
                    <a:pt x="256" y="933"/>
                  </a:lnTo>
                  <a:lnTo>
                    <a:pt x="264" y="933"/>
                  </a:lnTo>
                  <a:lnTo>
                    <a:pt x="269" y="933"/>
                  </a:lnTo>
                  <a:lnTo>
                    <a:pt x="277" y="933"/>
                  </a:lnTo>
                  <a:lnTo>
                    <a:pt x="286" y="933"/>
                  </a:lnTo>
                  <a:lnTo>
                    <a:pt x="290" y="933"/>
                  </a:lnTo>
                  <a:lnTo>
                    <a:pt x="299" y="933"/>
                  </a:lnTo>
                  <a:lnTo>
                    <a:pt x="303" y="933"/>
                  </a:lnTo>
                  <a:lnTo>
                    <a:pt x="312" y="933"/>
                  </a:lnTo>
                  <a:lnTo>
                    <a:pt x="316" y="933"/>
                  </a:lnTo>
                  <a:lnTo>
                    <a:pt x="325" y="933"/>
                  </a:lnTo>
                  <a:lnTo>
                    <a:pt x="329" y="933"/>
                  </a:lnTo>
                  <a:lnTo>
                    <a:pt x="338" y="933"/>
                  </a:lnTo>
                  <a:lnTo>
                    <a:pt x="342" y="933"/>
                  </a:lnTo>
                  <a:lnTo>
                    <a:pt x="351" y="933"/>
                  </a:lnTo>
                  <a:lnTo>
                    <a:pt x="355" y="933"/>
                  </a:lnTo>
                  <a:lnTo>
                    <a:pt x="364" y="933"/>
                  </a:lnTo>
                  <a:lnTo>
                    <a:pt x="368" y="933"/>
                  </a:lnTo>
                  <a:lnTo>
                    <a:pt x="377" y="933"/>
                  </a:lnTo>
                  <a:lnTo>
                    <a:pt x="385" y="933"/>
                  </a:lnTo>
                  <a:lnTo>
                    <a:pt x="390" y="933"/>
                  </a:lnTo>
                  <a:lnTo>
                    <a:pt x="398" y="933"/>
                  </a:lnTo>
                  <a:lnTo>
                    <a:pt x="403" y="794"/>
                  </a:lnTo>
                  <a:lnTo>
                    <a:pt x="411" y="781"/>
                  </a:lnTo>
                  <a:lnTo>
                    <a:pt x="416" y="768"/>
                  </a:lnTo>
                  <a:lnTo>
                    <a:pt x="424" y="751"/>
                  </a:lnTo>
                  <a:lnTo>
                    <a:pt x="429" y="733"/>
                  </a:lnTo>
                  <a:lnTo>
                    <a:pt x="437" y="716"/>
                  </a:lnTo>
                  <a:lnTo>
                    <a:pt x="442" y="694"/>
                  </a:lnTo>
                  <a:lnTo>
                    <a:pt x="450" y="677"/>
                  </a:lnTo>
                  <a:lnTo>
                    <a:pt x="455" y="655"/>
                  </a:lnTo>
                  <a:lnTo>
                    <a:pt x="463" y="634"/>
                  </a:lnTo>
                  <a:lnTo>
                    <a:pt x="468" y="608"/>
                  </a:lnTo>
                  <a:lnTo>
                    <a:pt x="476" y="586"/>
                  </a:lnTo>
                  <a:lnTo>
                    <a:pt x="485" y="560"/>
                  </a:lnTo>
                  <a:lnTo>
                    <a:pt x="489" y="534"/>
                  </a:lnTo>
                  <a:lnTo>
                    <a:pt x="498" y="508"/>
                  </a:lnTo>
                  <a:lnTo>
                    <a:pt x="502" y="482"/>
                  </a:lnTo>
                  <a:lnTo>
                    <a:pt x="511" y="451"/>
                  </a:lnTo>
                  <a:lnTo>
                    <a:pt x="515" y="425"/>
                  </a:lnTo>
                  <a:lnTo>
                    <a:pt x="524" y="395"/>
                  </a:lnTo>
                  <a:lnTo>
                    <a:pt x="528" y="369"/>
                  </a:lnTo>
                  <a:lnTo>
                    <a:pt x="537" y="338"/>
                  </a:lnTo>
                  <a:lnTo>
                    <a:pt x="541" y="312"/>
                  </a:lnTo>
                  <a:lnTo>
                    <a:pt x="550" y="282"/>
                  </a:lnTo>
                  <a:lnTo>
                    <a:pt x="554" y="256"/>
                  </a:lnTo>
                  <a:lnTo>
                    <a:pt x="563" y="230"/>
                  </a:lnTo>
                  <a:lnTo>
                    <a:pt x="572" y="204"/>
                  </a:lnTo>
                  <a:lnTo>
                    <a:pt x="576" y="178"/>
                  </a:lnTo>
                  <a:lnTo>
                    <a:pt x="585" y="156"/>
                  </a:lnTo>
                  <a:lnTo>
                    <a:pt x="589" y="130"/>
                  </a:lnTo>
                  <a:lnTo>
                    <a:pt x="598" y="108"/>
                  </a:lnTo>
                  <a:lnTo>
                    <a:pt x="602" y="91"/>
                  </a:lnTo>
                  <a:lnTo>
                    <a:pt x="611" y="74"/>
                  </a:lnTo>
                  <a:lnTo>
                    <a:pt x="615" y="56"/>
                  </a:lnTo>
                  <a:lnTo>
                    <a:pt x="624" y="43"/>
                  </a:lnTo>
                  <a:lnTo>
                    <a:pt x="628" y="30"/>
                  </a:lnTo>
                  <a:lnTo>
                    <a:pt x="637" y="17"/>
                  </a:lnTo>
                  <a:lnTo>
                    <a:pt x="641" y="9"/>
                  </a:lnTo>
                  <a:lnTo>
                    <a:pt x="650" y="4"/>
                  </a:lnTo>
                  <a:lnTo>
                    <a:pt x="654" y="0"/>
                  </a:lnTo>
                  <a:lnTo>
                    <a:pt x="663" y="0"/>
                  </a:lnTo>
                  <a:lnTo>
                    <a:pt x="671" y="0"/>
                  </a:lnTo>
                  <a:lnTo>
                    <a:pt x="676" y="4"/>
                  </a:lnTo>
                  <a:lnTo>
                    <a:pt x="684" y="9"/>
                  </a:lnTo>
                  <a:lnTo>
                    <a:pt x="689" y="17"/>
                  </a:lnTo>
                  <a:lnTo>
                    <a:pt x="697" y="30"/>
                  </a:lnTo>
                  <a:lnTo>
                    <a:pt x="702" y="43"/>
                  </a:lnTo>
                  <a:lnTo>
                    <a:pt x="710" y="56"/>
                  </a:lnTo>
                  <a:lnTo>
                    <a:pt x="715" y="74"/>
                  </a:lnTo>
                  <a:lnTo>
                    <a:pt x="723" y="91"/>
                  </a:lnTo>
                  <a:lnTo>
                    <a:pt x="728" y="108"/>
                  </a:lnTo>
                  <a:lnTo>
                    <a:pt x="736" y="130"/>
                  </a:lnTo>
                  <a:lnTo>
                    <a:pt x="741" y="156"/>
                  </a:lnTo>
                  <a:lnTo>
                    <a:pt x="749" y="178"/>
                  </a:lnTo>
                  <a:lnTo>
                    <a:pt x="754" y="204"/>
                  </a:lnTo>
                  <a:lnTo>
                    <a:pt x="762" y="230"/>
                  </a:lnTo>
                  <a:lnTo>
                    <a:pt x="771" y="256"/>
                  </a:lnTo>
                  <a:lnTo>
                    <a:pt x="775" y="282"/>
                  </a:lnTo>
                  <a:lnTo>
                    <a:pt x="784" y="312"/>
                  </a:lnTo>
                  <a:lnTo>
                    <a:pt x="788" y="338"/>
                  </a:lnTo>
                  <a:lnTo>
                    <a:pt x="797" y="369"/>
                  </a:lnTo>
                  <a:lnTo>
                    <a:pt x="801" y="395"/>
                  </a:lnTo>
                  <a:lnTo>
                    <a:pt x="810" y="425"/>
                  </a:lnTo>
                  <a:lnTo>
                    <a:pt x="814" y="451"/>
                  </a:lnTo>
                  <a:lnTo>
                    <a:pt x="823" y="482"/>
                  </a:lnTo>
                  <a:lnTo>
                    <a:pt x="827" y="508"/>
                  </a:lnTo>
                  <a:lnTo>
                    <a:pt x="836" y="534"/>
                  </a:lnTo>
                  <a:lnTo>
                    <a:pt x="840" y="560"/>
                  </a:lnTo>
                  <a:lnTo>
                    <a:pt x="849" y="586"/>
                  </a:lnTo>
                  <a:lnTo>
                    <a:pt x="858" y="608"/>
                  </a:lnTo>
                  <a:lnTo>
                    <a:pt x="862" y="634"/>
                  </a:lnTo>
                  <a:lnTo>
                    <a:pt x="871" y="655"/>
                  </a:lnTo>
                  <a:lnTo>
                    <a:pt x="875" y="677"/>
                  </a:lnTo>
                  <a:lnTo>
                    <a:pt x="884" y="694"/>
                  </a:lnTo>
                  <a:lnTo>
                    <a:pt x="888" y="716"/>
                  </a:lnTo>
                  <a:lnTo>
                    <a:pt x="897" y="733"/>
                  </a:lnTo>
                  <a:lnTo>
                    <a:pt x="901" y="751"/>
                  </a:lnTo>
                  <a:lnTo>
                    <a:pt x="910" y="768"/>
                  </a:lnTo>
                  <a:lnTo>
                    <a:pt x="914" y="781"/>
                  </a:lnTo>
                  <a:lnTo>
                    <a:pt x="923" y="794"/>
                  </a:lnTo>
                  <a:lnTo>
                    <a:pt x="927" y="933"/>
                  </a:lnTo>
                  <a:lnTo>
                    <a:pt x="936" y="933"/>
                  </a:lnTo>
                  <a:lnTo>
                    <a:pt x="940" y="933"/>
                  </a:lnTo>
                  <a:lnTo>
                    <a:pt x="949" y="933"/>
                  </a:lnTo>
                  <a:lnTo>
                    <a:pt x="957" y="933"/>
                  </a:lnTo>
                  <a:lnTo>
                    <a:pt x="961" y="933"/>
                  </a:lnTo>
                  <a:lnTo>
                    <a:pt x="970" y="933"/>
                  </a:lnTo>
                  <a:lnTo>
                    <a:pt x="974" y="933"/>
                  </a:lnTo>
                  <a:lnTo>
                    <a:pt x="983" y="933"/>
                  </a:lnTo>
                  <a:lnTo>
                    <a:pt x="987" y="933"/>
                  </a:lnTo>
                  <a:lnTo>
                    <a:pt x="996" y="933"/>
                  </a:lnTo>
                  <a:lnTo>
                    <a:pt x="1000" y="933"/>
                  </a:lnTo>
                  <a:lnTo>
                    <a:pt x="1009" y="933"/>
                  </a:lnTo>
                  <a:lnTo>
                    <a:pt x="1013" y="933"/>
                  </a:lnTo>
                  <a:lnTo>
                    <a:pt x="1022" y="933"/>
                  </a:lnTo>
                  <a:lnTo>
                    <a:pt x="1026" y="933"/>
                  </a:lnTo>
                  <a:lnTo>
                    <a:pt x="1035" y="933"/>
                  </a:lnTo>
                  <a:lnTo>
                    <a:pt x="1039" y="933"/>
                  </a:lnTo>
                  <a:lnTo>
                    <a:pt x="1048" y="933"/>
                  </a:lnTo>
                  <a:lnTo>
                    <a:pt x="1057" y="933"/>
                  </a:lnTo>
                  <a:lnTo>
                    <a:pt x="1061" y="933"/>
                  </a:lnTo>
                  <a:lnTo>
                    <a:pt x="1070" y="933"/>
                  </a:lnTo>
                  <a:lnTo>
                    <a:pt x="1074" y="933"/>
                  </a:lnTo>
                  <a:lnTo>
                    <a:pt x="1083" y="933"/>
                  </a:lnTo>
                  <a:lnTo>
                    <a:pt x="1087" y="933"/>
                  </a:lnTo>
                  <a:lnTo>
                    <a:pt x="1096" y="933"/>
                  </a:lnTo>
                  <a:lnTo>
                    <a:pt x="1100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5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21" y="933"/>
                  </a:lnTo>
                  <a:lnTo>
                    <a:pt x="1325" y="933"/>
                  </a:lnTo>
                  <a:lnTo>
                    <a:pt x="1321" y="933"/>
                  </a:lnTo>
                  <a:lnTo>
                    <a:pt x="1312" y="933"/>
                  </a:lnTo>
                  <a:lnTo>
                    <a:pt x="1308" y="933"/>
                  </a:lnTo>
                  <a:lnTo>
                    <a:pt x="1299" y="933"/>
                  </a:lnTo>
                  <a:lnTo>
                    <a:pt x="1295" y="933"/>
                  </a:lnTo>
                  <a:lnTo>
                    <a:pt x="1286" y="933"/>
                  </a:lnTo>
                  <a:lnTo>
                    <a:pt x="1282" y="933"/>
                  </a:lnTo>
                  <a:lnTo>
                    <a:pt x="1273" y="933"/>
                  </a:lnTo>
                  <a:lnTo>
                    <a:pt x="1269" y="933"/>
                  </a:lnTo>
                  <a:lnTo>
                    <a:pt x="1260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26" y="933"/>
                  </a:lnTo>
                  <a:lnTo>
                    <a:pt x="1221" y="933"/>
                  </a:lnTo>
                  <a:lnTo>
                    <a:pt x="1213" y="933"/>
                  </a:lnTo>
                  <a:lnTo>
                    <a:pt x="1208" y="933"/>
                  </a:lnTo>
                  <a:lnTo>
                    <a:pt x="1200" y="933"/>
                  </a:lnTo>
                  <a:lnTo>
                    <a:pt x="1195" y="933"/>
                  </a:lnTo>
                  <a:lnTo>
                    <a:pt x="1187" y="933"/>
                  </a:lnTo>
                  <a:lnTo>
                    <a:pt x="1182" y="933"/>
                  </a:lnTo>
                  <a:lnTo>
                    <a:pt x="1174" y="933"/>
                  </a:lnTo>
                  <a:lnTo>
                    <a:pt x="1169" y="933"/>
                  </a:lnTo>
                  <a:lnTo>
                    <a:pt x="1161" y="933"/>
                  </a:lnTo>
                  <a:lnTo>
                    <a:pt x="1156" y="933"/>
                  </a:lnTo>
                  <a:lnTo>
                    <a:pt x="1148" y="933"/>
                  </a:lnTo>
                  <a:lnTo>
                    <a:pt x="1143" y="933"/>
                  </a:lnTo>
                  <a:lnTo>
                    <a:pt x="1135" y="933"/>
                  </a:lnTo>
                  <a:lnTo>
                    <a:pt x="1126" y="933"/>
                  </a:lnTo>
                  <a:lnTo>
                    <a:pt x="1122" y="933"/>
                  </a:lnTo>
                  <a:lnTo>
                    <a:pt x="1113" y="933"/>
                  </a:lnTo>
                  <a:lnTo>
                    <a:pt x="1109" y="933"/>
                  </a:lnTo>
                  <a:lnTo>
                    <a:pt x="1100" y="933"/>
                  </a:lnTo>
                  <a:lnTo>
                    <a:pt x="1096" y="933"/>
                  </a:lnTo>
                  <a:lnTo>
                    <a:pt x="1087" y="933"/>
                  </a:lnTo>
                  <a:lnTo>
                    <a:pt x="1083" y="933"/>
                  </a:lnTo>
                  <a:lnTo>
                    <a:pt x="1074" y="933"/>
                  </a:lnTo>
                  <a:lnTo>
                    <a:pt x="1070" y="933"/>
                  </a:lnTo>
                  <a:lnTo>
                    <a:pt x="1061" y="933"/>
                  </a:lnTo>
                  <a:lnTo>
                    <a:pt x="1057" y="933"/>
                  </a:lnTo>
                  <a:lnTo>
                    <a:pt x="1048" y="933"/>
                  </a:lnTo>
                  <a:lnTo>
                    <a:pt x="1039" y="933"/>
                  </a:lnTo>
                  <a:lnTo>
                    <a:pt x="1035" y="933"/>
                  </a:lnTo>
                  <a:lnTo>
                    <a:pt x="1026" y="933"/>
                  </a:lnTo>
                  <a:lnTo>
                    <a:pt x="1022" y="933"/>
                  </a:lnTo>
                  <a:lnTo>
                    <a:pt x="1013" y="933"/>
                  </a:lnTo>
                  <a:lnTo>
                    <a:pt x="1009" y="933"/>
                  </a:lnTo>
                  <a:lnTo>
                    <a:pt x="1000" y="933"/>
                  </a:lnTo>
                  <a:lnTo>
                    <a:pt x="996" y="933"/>
                  </a:lnTo>
                  <a:lnTo>
                    <a:pt x="987" y="933"/>
                  </a:lnTo>
                  <a:lnTo>
                    <a:pt x="983" y="933"/>
                  </a:lnTo>
                  <a:lnTo>
                    <a:pt x="974" y="933"/>
                  </a:lnTo>
                  <a:lnTo>
                    <a:pt x="970" y="933"/>
                  </a:lnTo>
                  <a:lnTo>
                    <a:pt x="961" y="933"/>
                  </a:lnTo>
                  <a:lnTo>
                    <a:pt x="957" y="933"/>
                  </a:lnTo>
                  <a:lnTo>
                    <a:pt x="949" y="933"/>
                  </a:lnTo>
                  <a:lnTo>
                    <a:pt x="940" y="933"/>
                  </a:lnTo>
                  <a:lnTo>
                    <a:pt x="936" y="933"/>
                  </a:lnTo>
                  <a:lnTo>
                    <a:pt x="927" y="933"/>
                  </a:lnTo>
                  <a:lnTo>
                    <a:pt x="923" y="933"/>
                  </a:lnTo>
                  <a:lnTo>
                    <a:pt x="914" y="933"/>
                  </a:lnTo>
                  <a:lnTo>
                    <a:pt x="910" y="933"/>
                  </a:lnTo>
                  <a:lnTo>
                    <a:pt x="901" y="933"/>
                  </a:lnTo>
                  <a:lnTo>
                    <a:pt x="897" y="933"/>
                  </a:lnTo>
                  <a:lnTo>
                    <a:pt x="888" y="933"/>
                  </a:lnTo>
                  <a:lnTo>
                    <a:pt x="884" y="933"/>
                  </a:lnTo>
                  <a:lnTo>
                    <a:pt x="875" y="933"/>
                  </a:lnTo>
                  <a:lnTo>
                    <a:pt x="871" y="933"/>
                  </a:lnTo>
                  <a:lnTo>
                    <a:pt x="862" y="933"/>
                  </a:lnTo>
                  <a:lnTo>
                    <a:pt x="858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1" y="933"/>
                  </a:lnTo>
                  <a:lnTo>
                    <a:pt x="797" y="933"/>
                  </a:lnTo>
                  <a:lnTo>
                    <a:pt x="788" y="933"/>
                  </a:lnTo>
                  <a:lnTo>
                    <a:pt x="784" y="933"/>
                  </a:lnTo>
                  <a:lnTo>
                    <a:pt x="775" y="933"/>
                  </a:lnTo>
                  <a:lnTo>
                    <a:pt x="771" y="933"/>
                  </a:lnTo>
                  <a:lnTo>
                    <a:pt x="762" y="933"/>
                  </a:lnTo>
                  <a:lnTo>
                    <a:pt x="754" y="933"/>
                  </a:lnTo>
                  <a:lnTo>
                    <a:pt x="749" y="933"/>
                  </a:lnTo>
                  <a:lnTo>
                    <a:pt x="741" y="933"/>
                  </a:lnTo>
                  <a:lnTo>
                    <a:pt x="736" y="933"/>
                  </a:lnTo>
                  <a:lnTo>
                    <a:pt x="728" y="933"/>
                  </a:lnTo>
                  <a:lnTo>
                    <a:pt x="723" y="933"/>
                  </a:lnTo>
                  <a:lnTo>
                    <a:pt x="715" y="933"/>
                  </a:lnTo>
                  <a:lnTo>
                    <a:pt x="710" y="933"/>
                  </a:lnTo>
                  <a:lnTo>
                    <a:pt x="702" y="933"/>
                  </a:lnTo>
                  <a:lnTo>
                    <a:pt x="697" y="933"/>
                  </a:lnTo>
                  <a:lnTo>
                    <a:pt x="689" y="933"/>
                  </a:lnTo>
                  <a:lnTo>
                    <a:pt x="684" y="933"/>
                  </a:lnTo>
                  <a:lnTo>
                    <a:pt x="676" y="933"/>
                  </a:lnTo>
                  <a:lnTo>
                    <a:pt x="671" y="933"/>
                  </a:lnTo>
                  <a:lnTo>
                    <a:pt x="663" y="933"/>
                  </a:lnTo>
                  <a:lnTo>
                    <a:pt x="654" y="933"/>
                  </a:lnTo>
                  <a:lnTo>
                    <a:pt x="650" y="933"/>
                  </a:lnTo>
                  <a:lnTo>
                    <a:pt x="641" y="933"/>
                  </a:lnTo>
                  <a:lnTo>
                    <a:pt x="637" y="933"/>
                  </a:lnTo>
                  <a:lnTo>
                    <a:pt x="628" y="933"/>
                  </a:lnTo>
                  <a:lnTo>
                    <a:pt x="624" y="933"/>
                  </a:lnTo>
                  <a:lnTo>
                    <a:pt x="615" y="933"/>
                  </a:lnTo>
                  <a:lnTo>
                    <a:pt x="611" y="933"/>
                  </a:lnTo>
                  <a:lnTo>
                    <a:pt x="602" y="933"/>
                  </a:lnTo>
                  <a:lnTo>
                    <a:pt x="598" y="933"/>
                  </a:lnTo>
                  <a:lnTo>
                    <a:pt x="589" y="933"/>
                  </a:lnTo>
                  <a:lnTo>
                    <a:pt x="585" y="933"/>
                  </a:lnTo>
                  <a:lnTo>
                    <a:pt x="576" y="933"/>
                  </a:lnTo>
                  <a:lnTo>
                    <a:pt x="572" y="933"/>
                  </a:lnTo>
                  <a:lnTo>
                    <a:pt x="563" y="933"/>
                  </a:lnTo>
                  <a:lnTo>
                    <a:pt x="554" y="933"/>
                  </a:lnTo>
                  <a:lnTo>
                    <a:pt x="550" y="933"/>
                  </a:lnTo>
                  <a:lnTo>
                    <a:pt x="541" y="933"/>
                  </a:lnTo>
                  <a:lnTo>
                    <a:pt x="537" y="933"/>
                  </a:lnTo>
                  <a:lnTo>
                    <a:pt x="528" y="933"/>
                  </a:lnTo>
                  <a:lnTo>
                    <a:pt x="524" y="933"/>
                  </a:lnTo>
                  <a:lnTo>
                    <a:pt x="515" y="933"/>
                  </a:lnTo>
                  <a:lnTo>
                    <a:pt x="511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68" y="933"/>
                  </a:lnTo>
                  <a:lnTo>
                    <a:pt x="463" y="933"/>
                  </a:lnTo>
                  <a:lnTo>
                    <a:pt x="455" y="933"/>
                  </a:lnTo>
                  <a:lnTo>
                    <a:pt x="450" y="933"/>
                  </a:lnTo>
                  <a:lnTo>
                    <a:pt x="442" y="933"/>
                  </a:lnTo>
                  <a:lnTo>
                    <a:pt x="437" y="933"/>
                  </a:lnTo>
                  <a:lnTo>
                    <a:pt x="429" y="933"/>
                  </a:lnTo>
                  <a:lnTo>
                    <a:pt x="424" y="933"/>
                  </a:lnTo>
                  <a:lnTo>
                    <a:pt x="416" y="933"/>
                  </a:lnTo>
                  <a:lnTo>
                    <a:pt x="411" y="933"/>
                  </a:lnTo>
                  <a:lnTo>
                    <a:pt x="403" y="933"/>
                  </a:lnTo>
                  <a:lnTo>
                    <a:pt x="398" y="933"/>
                  </a:lnTo>
                  <a:lnTo>
                    <a:pt x="390" y="933"/>
                  </a:lnTo>
                  <a:lnTo>
                    <a:pt x="385" y="933"/>
                  </a:lnTo>
                  <a:lnTo>
                    <a:pt x="377" y="933"/>
                  </a:lnTo>
                  <a:lnTo>
                    <a:pt x="368" y="933"/>
                  </a:lnTo>
                  <a:lnTo>
                    <a:pt x="364" y="933"/>
                  </a:lnTo>
                  <a:lnTo>
                    <a:pt x="355" y="933"/>
                  </a:lnTo>
                  <a:lnTo>
                    <a:pt x="351" y="933"/>
                  </a:lnTo>
                  <a:lnTo>
                    <a:pt x="342" y="933"/>
                  </a:lnTo>
                  <a:lnTo>
                    <a:pt x="338" y="933"/>
                  </a:lnTo>
                  <a:lnTo>
                    <a:pt x="329" y="933"/>
                  </a:lnTo>
                  <a:lnTo>
                    <a:pt x="325" y="933"/>
                  </a:lnTo>
                  <a:lnTo>
                    <a:pt x="316" y="933"/>
                  </a:lnTo>
                  <a:lnTo>
                    <a:pt x="312" y="933"/>
                  </a:lnTo>
                  <a:lnTo>
                    <a:pt x="303" y="933"/>
                  </a:lnTo>
                  <a:lnTo>
                    <a:pt x="299" y="933"/>
                  </a:lnTo>
                  <a:lnTo>
                    <a:pt x="290" y="933"/>
                  </a:lnTo>
                  <a:lnTo>
                    <a:pt x="286" y="933"/>
                  </a:lnTo>
                  <a:lnTo>
                    <a:pt x="277" y="933"/>
                  </a:lnTo>
                  <a:lnTo>
                    <a:pt x="269" y="933"/>
                  </a:lnTo>
                  <a:lnTo>
                    <a:pt x="264" y="933"/>
                  </a:lnTo>
                  <a:lnTo>
                    <a:pt x="256" y="933"/>
                  </a:lnTo>
                  <a:lnTo>
                    <a:pt x="251" y="933"/>
                  </a:lnTo>
                  <a:lnTo>
                    <a:pt x="243" y="933"/>
                  </a:lnTo>
                  <a:lnTo>
                    <a:pt x="238" y="933"/>
                  </a:lnTo>
                  <a:lnTo>
                    <a:pt x="230" y="933"/>
                  </a:lnTo>
                  <a:lnTo>
                    <a:pt x="225" y="933"/>
                  </a:lnTo>
                  <a:lnTo>
                    <a:pt x="217" y="933"/>
                  </a:lnTo>
                  <a:lnTo>
                    <a:pt x="212" y="933"/>
                  </a:lnTo>
                  <a:lnTo>
                    <a:pt x="204" y="933"/>
                  </a:lnTo>
                  <a:lnTo>
                    <a:pt x="199" y="933"/>
                  </a:lnTo>
                  <a:lnTo>
                    <a:pt x="191" y="933"/>
                  </a:lnTo>
                  <a:lnTo>
                    <a:pt x="182" y="933"/>
                  </a:lnTo>
                  <a:lnTo>
                    <a:pt x="178" y="933"/>
                  </a:lnTo>
                  <a:lnTo>
                    <a:pt x="169" y="933"/>
                  </a:lnTo>
                  <a:lnTo>
                    <a:pt x="165" y="933"/>
                  </a:lnTo>
                  <a:lnTo>
                    <a:pt x="156" y="933"/>
                  </a:lnTo>
                  <a:lnTo>
                    <a:pt x="152" y="933"/>
                  </a:lnTo>
                  <a:lnTo>
                    <a:pt x="143" y="933"/>
                  </a:lnTo>
                  <a:lnTo>
                    <a:pt x="139" y="933"/>
                  </a:lnTo>
                  <a:lnTo>
                    <a:pt x="130" y="933"/>
                  </a:lnTo>
                  <a:lnTo>
                    <a:pt x="126" y="933"/>
                  </a:lnTo>
                  <a:lnTo>
                    <a:pt x="117" y="933"/>
                  </a:lnTo>
                  <a:lnTo>
                    <a:pt x="113" y="933"/>
                  </a:lnTo>
                  <a:lnTo>
                    <a:pt x="104" y="933"/>
                  </a:lnTo>
                  <a:lnTo>
                    <a:pt x="100" y="933"/>
                  </a:lnTo>
                  <a:lnTo>
                    <a:pt x="91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17" y="933"/>
                  </a:lnTo>
                  <a:lnTo>
                    <a:pt x="13" y="933"/>
                  </a:lnTo>
                  <a:lnTo>
                    <a:pt x="4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custGeom>
              <a:avLst/>
              <a:gdLst/>
              <a:ahLst/>
              <a:rect l="l" t="t" r="r" b="b"/>
              <a:pathLst>
                <a:path w="2296" h="1616">
                  <a:moveTo>
                    <a:pt x="0" y="1615"/>
                  </a:moveTo>
                  <a:lnTo>
                    <a:pt x="2295" y="1615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61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custGeom>
                <a:avLst/>
                <a:gdLst>
                  <a:gd name="textAreaLeft" fmla="*/ 0 w 2891160"/>
                  <a:gd name="textAreaRight" fmla="*/ 2891520 w 2891160"/>
                  <a:gd name="textAreaTop" fmla="*/ 0 h 1661400"/>
                  <a:gd name="textAreaBottom" fmla="*/ 1661760 h 166140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custGeom>
                <a:avLst/>
                <a:gdLst>
                  <a:gd name="textAreaLeft" fmla="*/ 0 w 2769120"/>
                  <a:gd name="textAreaRight" fmla="*/ 2769480 w 2769120"/>
                  <a:gd name="textAreaTop" fmla="*/ 0 h 1414080"/>
                  <a:gd name="textAreaBottom" fmla="*/ 1414080 h 1414080"/>
                </a:gdLst>
                <a:ahLst/>
                <a:rect l="textAreaLeft" t="textAreaTop" r="textAreaRight" b="textAreaBottom"/>
                <a:pathLst>
                  <a:path w="1320" h="824">
                    <a:moveTo>
                      <a:pt x="0" y="823"/>
                    </a:moveTo>
                    <a:lnTo>
                      <a:pt x="4" y="823"/>
                    </a:lnTo>
                    <a:lnTo>
                      <a:pt x="13" y="823"/>
                    </a:lnTo>
                    <a:lnTo>
                      <a:pt x="17" y="823"/>
                    </a:lnTo>
                    <a:lnTo>
                      <a:pt x="26" y="823"/>
                    </a:lnTo>
                    <a:lnTo>
                      <a:pt x="30" y="823"/>
                    </a:lnTo>
                    <a:lnTo>
                      <a:pt x="39" y="823"/>
                    </a:lnTo>
                    <a:lnTo>
                      <a:pt x="43" y="823"/>
                    </a:lnTo>
                    <a:lnTo>
                      <a:pt x="52" y="823"/>
                    </a:lnTo>
                    <a:lnTo>
                      <a:pt x="56" y="823"/>
                    </a:lnTo>
                    <a:lnTo>
                      <a:pt x="65" y="823"/>
                    </a:lnTo>
                    <a:lnTo>
                      <a:pt x="69" y="823"/>
                    </a:lnTo>
                    <a:lnTo>
                      <a:pt x="78" y="823"/>
                    </a:lnTo>
                    <a:lnTo>
                      <a:pt x="82" y="823"/>
                    </a:lnTo>
                    <a:lnTo>
                      <a:pt x="91" y="823"/>
                    </a:lnTo>
                    <a:lnTo>
                      <a:pt x="100" y="823"/>
                    </a:lnTo>
                    <a:lnTo>
                      <a:pt x="104" y="823"/>
                    </a:lnTo>
                    <a:lnTo>
                      <a:pt x="112" y="823"/>
                    </a:lnTo>
                    <a:lnTo>
                      <a:pt x="116" y="823"/>
                    </a:lnTo>
                    <a:lnTo>
                      <a:pt x="125" y="823"/>
                    </a:lnTo>
                    <a:lnTo>
                      <a:pt x="129" y="823"/>
                    </a:lnTo>
                    <a:lnTo>
                      <a:pt x="138" y="823"/>
                    </a:lnTo>
                    <a:lnTo>
                      <a:pt x="142" y="823"/>
                    </a:lnTo>
                    <a:lnTo>
                      <a:pt x="151" y="823"/>
                    </a:lnTo>
                    <a:lnTo>
                      <a:pt x="155" y="823"/>
                    </a:lnTo>
                    <a:lnTo>
                      <a:pt x="164" y="823"/>
                    </a:lnTo>
                    <a:lnTo>
                      <a:pt x="168" y="823"/>
                    </a:lnTo>
                    <a:lnTo>
                      <a:pt x="177" y="823"/>
                    </a:lnTo>
                    <a:lnTo>
                      <a:pt x="181" y="823"/>
                    </a:lnTo>
                    <a:lnTo>
                      <a:pt x="190" y="823"/>
                    </a:lnTo>
                    <a:lnTo>
                      <a:pt x="198" y="823"/>
                    </a:lnTo>
                    <a:lnTo>
                      <a:pt x="203" y="823"/>
                    </a:lnTo>
                    <a:lnTo>
                      <a:pt x="211" y="823"/>
                    </a:lnTo>
                    <a:lnTo>
                      <a:pt x="216" y="823"/>
                    </a:lnTo>
                    <a:lnTo>
                      <a:pt x="224" y="823"/>
                    </a:lnTo>
                    <a:lnTo>
                      <a:pt x="229" y="823"/>
                    </a:lnTo>
                    <a:lnTo>
                      <a:pt x="237" y="823"/>
                    </a:lnTo>
                    <a:lnTo>
                      <a:pt x="242" y="823"/>
                    </a:lnTo>
                    <a:lnTo>
                      <a:pt x="250" y="823"/>
                    </a:lnTo>
                    <a:lnTo>
                      <a:pt x="255" y="823"/>
                    </a:lnTo>
                    <a:lnTo>
                      <a:pt x="263" y="823"/>
                    </a:lnTo>
                    <a:lnTo>
                      <a:pt x="268" y="823"/>
                    </a:lnTo>
                    <a:lnTo>
                      <a:pt x="276" y="823"/>
                    </a:lnTo>
                    <a:lnTo>
                      <a:pt x="285" y="823"/>
                    </a:lnTo>
                    <a:lnTo>
                      <a:pt x="289" y="823"/>
                    </a:lnTo>
                    <a:lnTo>
                      <a:pt x="298" y="823"/>
                    </a:lnTo>
                    <a:lnTo>
                      <a:pt x="302" y="823"/>
                    </a:lnTo>
                    <a:lnTo>
                      <a:pt x="311" y="823"/>
                    </a:lnTo>
                    <a:lnTo>
                      <a:pt x="315" y="823"/>
                    </a:lnTo>
                    <a:lnTo>
                      <a:pt x="324" y="823"/>
                    </a:lnTo>
                    <a:lnTo>
                      <a:pt x="328" y="823"/>
                    </a:lnTo>
                    <a:lnTo>
                      <a:pt x="336" y="823"/>
                    </a:lnTo>
                    <a:lnTo>
                      <a:pt x="340" y="823"/>
                    </a:lnTo>
                    <a:lnTo>
                      <a:pt x="349" y="823"/>
                    </a:lnTo>
                    <a:lnTo>
                      <a:pt x="353" y="823"/>
                    </a:lnTo>
                    <a:lnTo>
                      <a:pt x="362" y="823"/>
                    </a:lnTo>
                    <a:lnTo>
                      <a:pt x="366" y="823"/>
                    </a:lnTo>
                    <a:lnTo>
                      <a:pt x="375" y="823"/>
                    </a:lnTo>
                    <a:lnTo>
                      <a:pt x="383" y="823"/>
                    </a:lnTo>
                    <a:lnTo>
                      <a:pt x="388" y="823"/>
                    </a:lnTo>
                    <a:lnTo>
                      <a:pt x="396" y="823"/>
                    </a:lnTo>
                    <a:lnTo>
                      <a:pt x="401" y="823"/>
                    </a:lnTo>
                    <a:lnTo>
                      <a:pt x="409" y="823"/>
                    </a:lnTo>
                    <a:lnTo>
                      <a:pt x="414" y="823"/>
                    </a:lnTo>
                    <a:lnTo>
                      <a:pt x="422" y="823"/>
                    </a:lnTo>
                    <a:lnTo>
                      <a:pt x="427" y="823"/>
                    </a:lnTo>
                    <a:lnTo>
                      <a:pt x="435" y="823"/>
                    </a:lnTo>
                    <a:lnTo>
                      <a:pt x="440" y="823"/>
                    </a:lnTo>
                    <a:lnTo>
                      <a:pt x="448" y="823"/>
                    </a:lnTo>
                    <a:lnTo>
                      <a:pt x="453" y="823"/>
                    </a:lnTo>
                    <a:lnTo>
                      <a:pt x="461" y="823"/>
                    </a:lnTo>
                    <a:lnTo>
                      <a:pt x="466" y="823"/>
                    </a:lnTo>
                    <a:lnTo>
                      <a:pt x="474" y="823"/>
                    </a:lnTo>
                    <a:lnTo>
                      <a:pt x="483" y="823"/>
                    </a:lnTo>
                    <a:lnTo>
                      <a:pt x="487" y="823"/>
                    </a:lnTo>
                    <a:lnTo>
                      <a:pt x="496" y="823"/>
                    </a:lnTo>
                    <a:lnTo>
                      <a:pt x="500" y="823"/>
                    </a:lnTo>
                    <a:lnTo>
                      <a:pt x="509" y="823"/>
                    </a:lnTo>
                    <a:lnTo>
                      <a:pt x="513" y="823"/>
                    </a:lnTo>
                    <a:lnTo>
                      <a:pt x="522" y="823"/>
                    </a:lnTo>
                    <a:lnTo>
                      <a:pt x="526" y="823"/>
                    </a:lnTo>
                    <a:lnTo>
                      <a:pt x="535" y="690"/>
                    </a:lnTo>
                    <a:lnTo>
                      <a:pt x="539" y="664"/>
                    </a:lnTo>
                    <a:lnTo>
                      <a:pt x="548" y="629"/>
                    </a:lnTo>
                    <a:lnTo>
                      <a:pt x="551" y="595"/>
                    </a:lnTo>
                    <a:lnTo>
                      <a:pt x="560" y="556"/>
                    </a:lnTo>
                    <a:lnTo>
                      <a:pt x="569" y="517"/>
                    </a:lnTo>
                    <a:lnTo>
                      <a:pt x="573" y="470"/>
                    </a:lnTo>
                    <a:lnTo>
                      <a:pt x="582" y="422"/>
                    </a:lnTo>
                    <a:lnTo>
                      <a:pt x="586" y="375"/>
                    </a:lnTo>
                    <a:lnTo>
                      <a:pt x="595" y="324"/>
                    </a:lnTo>
                    <a:lnTo>
                      <a:pt x="599" y="276"/>
                    </a:lnTo>
                    <a:lnTo>
                      <a:pt x="608" y="224"/>
                    </a:lnTo>
                    <a:lnTo>
                      <a:pt x="612" y="181"/>
                    </a:lnTo>
                    <a:lnTo>
                      <a:pt x="621" y="138"/>
                    </a:lnTo>
                    <a:lnTo>
                      <a:pt x="625" y="99"/>
                    </a:lnTo>
                    <a:lnTo>
                      <a:pt x="634" y="65"/>
                    </a:lnTo>
                    <a:lnTo>
                      <a:pt x="638" y="35"/>
                    </a:lnTo>
                    <a:lnTo>
                      <a:pt x="647" y="17"/>
                    </a:lnTo>
                    <a:lnTo>
                      <a:pt x="651" y="4"/>
                    </a:lnTo>
                    <a:lnTo>
                      <a:pt x="660" y="0"/>
                    </a:lnTo>
                    <a:lnTo>
                      <a:pt x="668" y="4"/>
                    </a:lnTo>
                    <a:lnTo>
                      <a:pt x="673" y="17"/>
                    </a:lnTo>
                    <a:lnTo>
                      <a:pt x="681" y="35"/>
                    </a:lnTo>
                    <a:lnTo>
                      <a:pt x="686" y="65"/>
                    </a:lnTo>
                    <a:lnTo>
                      <a:pt x="694" y="99"/>
                    </a:lnTo>
                    <a:lnTo>
                      <a:pt x="699" y="138"/>
                    </a:lnTo>
                    <a:lnTo>
                      <a:pt x="707" y="181"/>
                    </a:lnTo>
                    <a:lnTo>
                      <a:pt x="712" y="224"/>
                    </a:lnTo>
                    <a:lnTo>
                      <a:pt x="720" y="276"/>
                    </a:lnTo>
                    <a:lnTo>
                      <a:pt x="725" y="324"/>
                    </a:lnTo>
                    <a:lnTo>
                      <a:pt x="733" y="375"/>
                    </a:lnTo>
                    <a:lnTo>
                      <a:pt x="738" y="422"/>
                    </a:lnTo>
                    <a:lnTo>
                      <a:pt x="746" y="470"/>
                    </a:lnTo>
                    <a:lnTo>
                      <a:pt x="751" y="517"/>
                    </a:lnTo>
                    <a:lnTo>
                      <a:pt x="759" y="556"/>
                    </a:lnTo>
                    <a:lnTo>
                      <a:pt x="768" y="595"/>
                    </a:lnTo>
                    <a:lnTo>
                      <a:pt x="771" y="629"/>
                    </a:lnTo>
                    <a:lnTo>
                      <a:pt x="780" y="664"/>
                    </a:lnTo>
                    <a:lnTo>
                      <a:pt x="784" y="690"/>
                    </a:lnTo>
                    <a:lnTo>
                      <a:pt x="793" y="823"/>
                    </a:lnTo>
                    <a:lnTo>
                      <a:pt x="797" y="823"/>
                    </a:lnTo>
                    <a:lnTo>
                      <a:pt x="806" y="823"/>
                    </a:lnTo>
                    <a:lnTo>
                      <a:pt x="810" y="823"/>
                    </a:lnTo>
                    <a:lnTo>
                      <a:pt x="819" y="823"/>
                    </a:lnTo>
                    <a:lnTo>
                      <a:pt x="823" y="823"/>
                    </a:lnTo>
                    <a:lnTo>
                      <a:pt x="832" y="823"/>
                    </a:lnTo>
                    <a:lnTo>
                      <a:pt x="836" y="823"/>
                    </a:lnTo>
                    <a:lnTo>
                      <a:pt x="845" y="823"/>
                    </a:lnTo>
                    <a:lnTo>
                      <a:pt x="854" y="823"/>
                    </a:lnTo>
                    <a:lnTo>
                      <a:pt x="858" y="823"/>
                    </a:lnTo>
                    <a:lnTo>
                      <a:pt x="867" y="823"/>
                    </a:lnTo>
                    <a:lnTo>
                      <a:pt x="871" y="823"/>
                    </a:lnTo>
                    <a:lnTo>
                      <a:pt x="880" y="823"/>
                    </a:lnTo>
                    <a:lnTo>
                      <a:pt x="884" y="823"/>
                    </a:lnTo>
                    <a:lnTo>
                      <a:pt x="893" y="823"/>
                    </a:lnTo>
                    <a:lnTo>
                      <a:pt x="897" y="823"/>
                    </a:lnTo>
                    <a:lnTo>
                      <a:pt x="906" y="823"/>
                    </a:lnTo>
                    <a:lnTo>
                      <a:pt x="910" y="823"/>
                    </a:lnTo>
                    <a:lnTo>
                      <a:pt x="919" y="823"/>
                    </a:lnTo>
                    <a:lnTo>
                      <a:pt x="923" y="823"/>
                    </a:lnTo>
                    <a:lnTo>
                      <a:pt x="932" y="823"/>
                    </a:lnTo>
                    <a:lnTo>
                      <a:pt x="936" y="823"/>
                    </a:lnTo>
                    <a:lnTo>
                      <a:pt x="945" y="823"/>
                    </a:lnTo>
                    <a:lnTo>
                      <a:pt x="953" y="823"/>
                    </a:lnTo>
                    <a:lnTo>
                      <a:pt x="957" y="823"/>
                    </a:lnTo>
                    <a:lnTo>
                      <a:pt x="966" y="823"/>
                    </a:lnTo>
                    <a:lnTo>
                      <a:pt x="970" y="823"/>
                    </a:lnTo>
                    <a:lnTo>
                      <a:pt x="979" y="823"/>
                    </a:lnTo>
                    <a:lnTo>
                      <a:pt x="983" y="823"/>
                    </a:lnTo>
                    <a:lnTo>
                      <a:pt x="991" y="823"/>
                    </a:lnTo>
                    <a:lnTo>
                      <a:pt x="995" y="823"/>
                    </a:lnTo>
                    <a:lnTo>
                      <a:pt x="1004" y="823"/>
                    </a:lnTo>
                    <a:lnTo>
                      <a:pt x="1008" y="823"/>
                    </a:lnTo>
                    <a:lnTo>
                      <a:pt x="1017" y="823"/>
                    </a:lnTo>
                    <a:lnTo>
                      <a:pt x="1021" y="823"/>
                    </a:lnTo>
                    <a:lnTo>
                      <a:pt x="1030" y="823"/>
                    </a:lnTo>
                    <a:lnTo>
                      <a:pt x="1034" y="823"/>
                    </a:lnTo>
                    <a:lnTo>
                      <a:pt x="1043" y="823"/>
                    </a:lnTo>
                    <a:lnTo>
                      <a:pt x="1052" y="823"/>
                    </a:lnTo>
                    <a:lnTo>
                      <a:pt x="1056" y="823"/>
                    </a:lnTo>
                    <a:lnTo>
                      <a:pt x="1065" y="823"/>
                    </a:lnTo>
                    <a:lnTo>
                      <a:pt x="1069" y="823"/>
                    </a:lnTo>
                    <a:lnTo>
                      <a:pt x="1078" y="823"/>
                    </a:lnTo>
                    <a:lnTo>
                      <a:pt x="1082" y="823"/>
                    </a:lnTo>
                    <a:lnTo>
                      <a:pt x="1091" y="823"/>
                    </a:lnTo>
                    <a:lnTo>
                      <a:pt x="1095" y="823"/>
                    </a:lnTo>
                    <a:lnTo>
                      <a:pt x="1104" y="823"/>
                    </a:lnTo>
                    <a:lnTo>
                      <a:pt x="1108" y="823"/>
                    </a:lnTo>
                    <a:lnTo>
                      <a:pt x="1117" y="823"/>
                    </a:lnTo>
                    <a:lnTo>
                      <a:pt x="1121" y="823"/>
                    </a:lnTo>
                    <a:lnTo>
                      <a:pt x="1130" y="823"/>
                    </a:lnTo>
                    <a:lnTo>
                      <a:pt x="1138" y="823"/>
                    </a:lnTo>
                    <a:lnTo>
                      <a:pt x="1143" y="823"/>
                    </a:lnTo>
                    <a:lnTo>
                      <a:pt x="1151" y="823"/>
                    </a:lnTo>
                    <a:lnTo>
                      <a:pt x="1156" y="823"/>
                    </a:lnTo>
                    <a:lnTo>
                      <a:pt x="1164" y="823"/>
                    </a:lnTo>
                    <a:lnTo>
                      <a:pt x="1169" y="823"/>
                    </a:lnTo>
                    <a:lnTo>
                      <a:pt x="1177" y="823"/>
                    </a:lnTo>
                    <a:lnTo>
                      <a:pt x="1182" y="823"/>
                    </a:lnTo>
                    <a:lnTo>
                      <a:pt x="1190" y="823"/>
                    </a:lnTo>
                    <a:lnTo>
                      <a:pt x="1195" y="823"/>
                    </a:lnTo>
                    <a:lnTo>
                      <a:pt x="1203" y="823"/>
                    </a:lnTo>
                    <a:lnTo>
                      <a:pt x="1208" y="823"/>
                    </a:lnTo>
                    <a:lnTo>
                      <a:pt x="1215" y="823"/>
                    </a:lnTo>
                    <a:lnTo>
                      <a:pt x="1220" y="823"/>
                    </a:lnTo>
                    <a:lnTo>
                      <a:pt x="1228" y="823"/>
                    </a:lnTo>
                    <a:lnTo>
                      <a:pt x="1237" y="823"/>
                    </a:lnTo>
                    <a:lnTo>
                      <a:pt x="1241" y="823"/>
                    </a:lnTo>
                    <a:lnTo>
                      <a:pt x="1250" y="823"/>
                    </a:lnTo>
                    <a:lnTo>
                      <a:pt x="1254" y="823"/>
                    </a:lnTo>
                    <a:lnTo>
                      <a:pt x="1263" y="823"/>
                    </a:lnTo>
                    <a:lnTo>
                      <a:pt x="1267" y="823"/>
                    </a:lnTo>
                    <a:lnTo>
                      <a:pt x="1276" y="823"/>
                    </a:lnTo>
                    <a:lnTo>
                      <a:pt x="1280" y="823"/>
                    </a:lnTo>
                    <a:lnTo>
                      <a:pt x="1289" y="823"/>
                    </a:lnTo>
                    <a:lnTo>
                      <a:pt x="1293" y="823"/>
                    </a:lnTo>
                    <a:lnTo>
                      <a:pt x="1302" y="823"/>
                    </a:lnTo>
                    <a:lnTo>
                      <a:pt x="1306" y="823"/>
                    </a:lnTo>
                    <a:lnTo>
                      <a:pt x="1315" y="823"/>
                    </a:lnTo>
                    <a:lnTo>
                      <a:pt x="1319" y="823"/>
                    </a:lnTo>
                    <a:lnTo>
                      <a:pt x="1315" y="823"/>
                    </a:lnTo>
                    <a:lnTo>
                      <a:pt x="1306" y="823"/>
                    </a:lnTo>
                    <a:lnTo>
                      <a:pt x="1302" y="823"/>
                    </a:lnTo>
                    <a:lnTo>
                      <a:pt x="1293" y="823"/>
                    </a:lnTo>
                    <a:lnTo>
                      <a:pt x="1289" y="823"/>
                    </a:lnTo>
                    <a:lnTo>
                      <a:pt x="1280" y="823"/>
                    </a:lnTo>
                    <a:lnTo>
                      <a:pt x="1276" y="823"/>
                    </a:lnTo>
                    <a:lnTo>
                      <a:pt x="1267" y="823"/>
                    </a:lnTo>
                    <a:lnTo>
                      <a:pt x="1263" y="823"/>
                    </a:lnTo>
                    <a:lnTo>
                      <a:pt x="1254" y="823"/>
                    </a:lnTo>
                    <a:lnTo>
                      <a:pt x="1250" y="823"/>
                    </a:lnTo>
                    <a:lnTo>
                      <a:pt x="1241" y="823"/>
                    </a:lnTo>
                    <a:lnTo>
                      <a:pt x="1237" y="823"/>
                    </a:lnTo>
                    <a:lnTo>
                      <a:pt x="1228" y="823"/>
                    </a:lnTo>
                    <a:lnTo>
                      <a:pt x="1220" y="823"/>
                    </a:lnTo>
                    <a:lnTo>
                      <a:pt x="1215" y="823"/>
                    </a:lnTo>
                    <a:lnTo>
                      <a:pt x="1208" y="823"/>
                    </a:lnTo>
                    <a:lnTo>
                      <a:pt x="1203" y="823"/>
                    </a:lnTo>
                    <a:lnTo>
                      <a:pt x="1195" y="823"/>
                    </a:lnTo>
                    <a:lnTo>
                      <a:pt x="1190" y="823"/>
                    </a:lnTo>
                    <a:lnTo>
                      <a:pt x="1182" y="823"/>
                    </a:lnTo>
                    <a:lnTo>
                      <a:pt x="1177" y="823"/>
                    </a:lnTo>
                    <a:lnTo>
                      <a:pt x="1169" y="823"/>
                    </a:lnTo>
                    <a:lnTo>
                      <a:pt x="1164" y="823"/>
                    </a:lnTo>
                    <a:lnTo>
                      <a:pt x="1156" y="823"/>
                    </a:lnTo>
                    <a:lnTo>
                      <a:pt x="1151" y="823"/>
                    </a:lnTo>
                    <a:lnTo>
                      <a:pt x="1143" y="823"/>
                    </a:lnTo>
                    <a:lnTo>
                      <a:pt x="1138" y="823"/>
                    </a:lnTo>
                    <a:lnTo>
                      <a:pt x="1130" y="823"/>
                    </a:lnTo>
                    <a:lnTo>
                      <a:pt x="1121" y="823"/>
                    </a:lnTo>
                    <a:lnTo>
                      <a:pt x="1117" y="823"/>
                    </a:lnTo>
                    <a:lnTo>
                      <a:pt x="1108" y="823"/>
                    </a:lnTo>
                    <a:lnTo>
                      <a:pt x="1104" y="823"/>
                    </a:lnTo>
                    <a:lnTo>
                      <a:pt x="1095" y="823"/>
                    </a:lnTo>
                    <a:lnTo>
                      <a:pt x="1091" y="823"/>
                    </a:lnTo>
                    <a:lnTo>
                      <a:pt x="1082" y="823"/>
                    </a:lnTo>
                    <a:lnTo>
                      <a:pt x="1078" y="823"/>
                    </a:lnTo>
                    <a:lnTo>
                      <a:pt x="1069" y="823"/>
                    </a:lnTo>
                    <a:lnTo>
                      <a:pt x="1065" y="823"/>
                    </a:lnTo>
                    <a:lnTo>
                      <a:pt x="1056" y="823"/>
                    </a:lnTo>
                    <a:lnTo>
                      <a:pt x="1052" y="823"/>
                    </a:lnTo>
                    <a:lnTo>
                      <a:pt x="1043" y="823"/>
                    </a:lnTo>
                    <a:lnTo>
                      <a:pt x="1034" y="823"/>
                    </a:lnTo>
                    <a:lnTo>
                      <a:pt x="1030" y="823"/>
                    </a:lnTo>
                    <a:lnTo>
                      <a:pt x="1021" y="823"/>
                    </a:lnTo>
                    <a:lnTo>
                      <a:pt x="1017" y="823"/>
                    </a:lnTo>
                    <a:lnTo>
                      <a:pt x="1008" y="823"/>
                    </a:lnTo>
                    <a:lnTo>
                      <a:pt x="1004" y="823"/>
                    </a:lnTo>
                    <a:lnTo>
                      <a:pt x="995" y="823"/>
                    </a:lnTo>
                    <a:lnTo>
                      <a:pt x="991" y="823"/>
                    </a:lnTo>
                    <a:lnTo>
                      <a:pt x="983" y="823"/>
                    </a:lnTo>
                    <a:lnTo>
                      <a:pt x="979" y="823"/>
                    </a:lnTo>
                    <a:lnTo>
                      <a:pt x="970" y="823"/>
                    </a:lnTo>
                    <a:lnTo>
                      <a:pt x="966" y="823"/>
                    </a:lnTo>
                    <a:lnTo>
                      <a:pt x="957" y="823"/>
                    </a:lnTo>
                    <a:lnTo>
                      <a:pt x="953" y="823"/>
                    </a:lnTo>
                    <a:lnTo>
                      <a:pt x="945" y="823"/>
                    </a:lnTo>
                    <a:lnTo>
                      <a:pt x="936" y="823"/>
                    </a:lnTo>
                    <a:lnTo>
                      <a:pt x="932" y="823"/>
                    </a:lnTo>
                    <a:lnTo>
                      <a:pt x="923" y="823"/>
                    </a:lnTo>
                    <a:lnTo>
                      <a:pt x="919" y="823"/>
                    </a:lnTo>
                    <a:lnTo>
                      <a:pt x="910" y="823"/>
                    </a:lnTo>
                    <a:lnTo>
                      <a:pt x="906" y="823"/>
                    </a:lnTo>
                    <a:lnTo>
                      <a:pt x="897" y="823"/>
                    </a:lnTo>
                    <a:lnTo>
                      <a:pt x="893" y="823"/>
                    </a:lnTo>
                    <a:lnTo>
                      <a:pt x="884" y="823"/>
                    </a:lnTo>
                    <a:lnTo>
                      <a:pt x="880" y="823"/>
                    </a:lnTo>
                    <a:lnTo>
                      <a:pt x="871" y="823"/>
                    </a:lnTo>
                    <a:lnTo>
                      <a:pt x="867" y="823"/>
                    </a:lnTo>
                    <a:lnTo>
                      <a:pt x="858" y="823"/>
                    </a:lnTo>
                    <a:lnTo>
                      <a:pt x="854" y="823"/>
                    </a:lnTo>
                    <a:lnTo>
                      <a:pt x="845" y="823"/>
                    </a:lnTo>
                    <a:lnTo>
                      <a:pt x="836" y="823"/>
                    </a:lnTo>
                    <a:lnTo>
                      <a:pt x="832" y="823"/>
                    </a:lnTo>
                    <a:lnTo>
                      <a:pt x="823" y="823"/>
                    </a:lnTo>
                    <a:lnTo>
                      <a:pt x="819" y="823"/>
                    </a:lnTo>
                    <a:lnTo>
                      <a:pt x="810" y="823"/>
                    </a:lnTo>
                    <a:lnTo>
                      <a:pt x="806" y="823"/>
                    </a:lnTo>
                    <a:lnTo>
                      <a:pt x="797" y="823"/>
                    </a:lnTo>
                    <a:lnTo>
                      <a:pt x="793" y="823"/>
                    </a:lnTo>
                    <a:lnTo>
                      <a:pt x="784" y="823"/>
                    </a:lnTo>
                    <a:lnTo>
                      <a:pt x="780" y="823"/>
                    </a:lnTo>
                    <a:lnTo>
                      <a:pt x="771" y="823"/>
                    </a:lnTo>
                    <a:lnTo>
                      <a:pt x="768" y="823"/>
                    </a:lnTo>
                    <a:lnTo>
                      <a:pt x="759" y="823"/>
                    </a:lnTo>
                    <a:lnTo>
                      <a:pt x="751" y="823"/>
                    </a:lnTo>
                    <a:lnTo>
                      <a:pt x="746" y="823"/>
                    </a:lnTo>
                    <a:lnTo>
                      <a:pt x="738" y="823"/>
                    </a:lnTo>
                    <a:lnTo>
                      <a:pt x="733" y="823"/>
                    </a:lnTo>
                    <a:lnTo>
                      <a:pt x="725" y="823"/>
                    </a:lnTo>
                    <a:lnTo>
                      <a:pt x="720" y="823"/>
                    </a:lnTo>
                    <a:lnTo>
                      <a:pt x="712" y="823"/>
                    </a:lnTo>
                    <a:lnTo>
                      <a:pt x="707" y="823"/>
                    </a:lnTo>
                    <a:lnTo>
                      <a:pt x="699" y="823"/>
                    </a:lnTo>
                    <a:lnTo>
                      <a:pt x="694" y="823"/>
                    </a:lnTo>
                    <a:lnTo>
                      <a:pt x="686" y="823"/>
                    </a:lnTo>
                    <a:lnTo>
                      <a:pt x="681" y="823"/>
                    </a:lnTo>
                    <a:lnTo>
                      <a:pt x="673" y="823"/>
                    </a:lnTo>
                    <a:lnTo>
                      <a:pt x="668" y="823"/>
                    </a:lnTo>
                    <a:lnTo>
                      <a:pt x="660" y="823"/>
                    </a:lnTo>
                    <a:lnTo>
                      <a:pt x="651" y="823"/>
                    </a:lnTo>
                    <a:lnTo>
                      <a:pt x="647" y="823"/>
                    </a:lnTo>
                    <a:lnTo>
                      <a:pt x="638" y="823"/>
                    </a:lnTo>
                    <a:lnTo>
                      <a:pt x="634" y="823"/>
                    </a:lnTo>
                    <a:lnTo>
                      <a:pt x="625" y="823"/>
                    </a:lnTo>
                    <a:lnTo>
                      <a:pt x="621" y="823"/>
                    </a:lnTo>
                    <a:lnTo>
                      <a:pt x="612" y="823"/>
                    </a:lnTo>
                    <a:lnTo>
                      <a:pt x="608" y="823"/>
                    </a:lnTo>
                    <a:lnTo>
                      <a:pt x="599" y="823"/>
                    </a:lnTo>
                    <a:lnTo>
                      <a:pt x="595" y="823"/>
                    </a:lnTo>
                    <a:lnTo>
                      <a:pt x="586" y="823"/>
                    </a:lnTo>
                    <a:lnTo>
                      <a:pt x="582" y="823"/>
                    </a:lnTo>
                    <a:lnTo>
                      <a:pt x="573" y="823"/>
                    </a:lnTo>
                    <a:lnTo>
                      <a:pt x="569" y="823"/>
                    </a:lnTo>
                    <a:lnTo>
                      <a:pt x="560" y="823"/>
                    </a:lnTo>
                    <a:lnTo>
                      <a:pt x="551" y="823"/>
                    </a:lnTo>
                    <a:lnTo>
                      <a:pt x="548" y="823"/>
                    </a:lnTo>
                    <a:lnTo>
                      <a:pt x="539" y="823"/>
                    </a:lnTo>
                    <a:lnTo>
                      <a:pt x="535" y="823"/>
                    </a:lnTo>
                    <a:lnTo>
                      <a:pt x="526" y="823"/>
                    </a:lnTo>
                    <a:lnTo>
                      <a:pt x="522" y="823"/>
                    </a:lnTo>
                    <a:lnTo>
                      <a:pt x="513" y="823"/>
                    </a:lnTo>
                    <a:lnTo>
                      <a:pt x="509" y="823"/>
                    </a:lnTo>
                    <a:lnTo>
                      <a:pt x="500" y="823"/>
                    </a:lnTo>
                    <a:lnTo>
                      <a:pt x="496" y="823"/>
                    </a:lnTo>
                    <a:lnTo>
                      <a:pt x="487" y="823"/>
                    </a:lnTo>
                    <a:lnTo>
                      <a:pt x="483" y="823"/>
                    </a:lnTo>
                    <a:lnTo>
                      <a:pt x="474" y="823"/>
                    </a:lnTo>
                    <a:lnTo>
                      <a:pt x="466" y="823"/>
                    </a:lnTo>
                    <a:lnTo>
                      <a:pt x="461" y="823"/>
                    </a:lnTo>
                    <a:lnTo>
                      <a:pt x="453" y="823"/>
                    </a:lnTo>
                    <a:lnTo>
                      <a:pt x="448" y="823"/>
                    </a:lnTo>
                    <a:lnTo>
                      <a:pt x="440" y="823"/>
                    </a:lnTo>
                    <a:lnTo>
                      <a:pt x="435" y="823"/>
                    </a:lnTo>
                    <a:lnTo>
                      <a:pt x="427" y="823"/>
                    </a:lnTo>
                    <a:lnTo>
                      <a:pt x="422" y="823"/>
                    </a:lnTo>
                    <a:lnTo>
                      <a:pt x="414" y="823"/>
                    </a:lnTo>
                    <a:lnTo>
                      <a:pt x="409" y="823"/>
                    </a:lnTo>
                    <a:lnTo>
                      <a:pt x="401" y="823"/>
                    </a:lnTo>
                    <a:lnTo>
                      <a:pt x="396" y="823"/>
                    </a:lnTo>
                    <a:lnTo>
                      <a:pt x="388" y="823"/>
                    </a:lnTo>
                    <a:lnTo>
                      <a:pt x="383" y="823"/>
                    </a:lnTo>
                    <a:lnTo>
                      <a:pt x="375" y="823"/>
                    </a:lnTo>
                    <a:lnTo>
                      <a:pt x="366" y="823"/>
                    </a:lnTo>
                    <a:lnTo>
                      <a:pt x="362" y="823"/>
                    </a:lnTo>
                    <a:lnTo>
                      <a:pt x="353" y="823"/>
                    </a:lnTo>
                    <a:lnTo>
                      <a:pt x="349" y="823"/>
                    </a:lnTo>
                    <a:lnTo>
                      <a:pt x="340" y="823"/>
                    </a:lnTo>
                    <a:lnTo>
                      <a:pt x="336" y="823"/>
                    </a:lnTo>
                    <a:lnTo>
                      <a:pt x="328" y="823"/>
                    </a:lnTo>
                    <a:lnTo>
                      <a:pt x="324" y="823"/>
                    </a:lnTo>
                    <a:lnTo>
                      <a:pt x="315" y="823"/>
                    </a:lnTo>
                    <a:lnTo>
                      <a:pt x="311" y="823"/>
                    </a:lnTo>
                    <a:lnTo>
                      <a:pt x="302" y="823"/>
                    </a:lnTo>
                    <a:lnTo>
                      <a:pt x="298" y="823"/>
                    </a:lnTo>
                    <a:lnTo>
                      <a:pt x="289" y="823"/>
                    </a:lnTo>
                    <a:lnTo>
                      <a:pt x="285" y="823"/>
                    </a:lnTo>
                    <a:lnTo>
                      <a:pt x="276" y="823"/>
                    </a:lnTo>
                    <a:lnTo>
                      <a:pt x="268" y="823"/>
                    </a:lnTo>
                    <a:lnTo>
                      <a:pt x="263" y="823"/>
                    </a:lnTo>
                    <a:lnTo>
                      <a:pt x="255" y="823"/>
                    </a:lnTo>
                    <a:lnTo>
                      <a:pt x="250" y="823"/>
                    </a:lnTo>
                    <a:lnTo>
                      <a:pt x="242" y="823"/>
                    </a:lnTo>
                    <a:lnTo>
                      <a:pt x="237" y="823"/>
                    </a:lnTo>
                    <a:lnTo>
                      <a:pt x="229" y="823"/>
                    </a:lnTo>
                    <a:lnTo>
                      <a:pt x="224" y="823"/>
                    </a:lnTo>
                    <a:lnTo>
                      <a:pt x="216" y="823"/>
                    </a:lnTo>
                    <a:lnTo>
                      <a:pt x="211" y="823"/>
                    </a:lnTo>
                    <a:lnTo>
                      <a:pt x="203" y="823"/>
                    </a:lnTo>
                    <a:lnTo>
                      <a:pt x="198" y="823"/>
                    </a:lnTo>
                    <a:lnTo>
                      <a:pt x="190" y="823"/>
                    </a:lnTo>
                    <a:lnTo>
                      <a:pt x="181" y="823"/>
                    </a:lnTo>
                    <a:lnTo>
                      <a:pt x="177" y="823"/>
                    </a:lnTo>
                    <a:lnTo>
                      <a:pt x="168" y="823"/>
                    </a:lnTo>
                    <a:lnTo>
                      <a:pt x="164" y="823"/>
                    </a:lnTo>
                    <a:lnTo>
                      <a:pt x="155" y="823"/>
                    </a:lnTo>
                    <a:lnTo>
                      <a:pt x="151" y="823"/>
                    </a:lnTo>
                    <a:lnTo>
                      <a:pt x="142" y="823"/>
                    </a:lnTo>
                    <a:lnTo>
                      <a:pt x="138" y="823"/>
                    </a:lnTo>
                    <a:lnTo>
                      <a:pt x="129" y="823"/>
                    </a:lnTo>
                    <a:lnTo>
                      <a:pt x="125" y="823"/>
                    </a:lnTo>
                    <a:lnTo>
                      <a:pt x="116" y="823"/>
                    </a:lnTo>
                    <a:lnTo>
                      <a:pt x="112" y="823"/>
                    </a:lnTo>
                    <a:lnTo>
                      <a:pt x="104" y="823"/>
                    </a:lnTo>
                    <a:lnTo>
                      <a:pt x="100" y="823"/>
                    </a:lnTo>
                    <a:lnTo>
                      <a:pt x="91" y="823"/>
                    </a:lnTo>
                    <a:lnTo>
                      <a:pt x="82" y="823"/>
                    </a:lnTo>
                    <a:lnTo>
                      <a:pt x="78" y="823"/>
                    </a:lnTo>
                    <a:lnTo>
                      <a:pt x="69" y="823"/>
                    </a:lnTo>
                    <a:lnTo>
                      <a:pt x="65" y="823"/>
                    </a:lnTo>
                    <a:lnTo>
                      <a:pt x="56" y="823"/>
                    </a:lnTo>
                    <a:lnTo>
                      <a:pt x="52" y="823"/>
                    </a:lnTo>
                    <a:lnTo>
                      <a:pt x="43" y="823"/>
                    </a:lnTo>
                    <a:lnTo>
                      <a:pt x="39" y="823"/>
                    </a:lnTo>
                    <a:lnTo>
                      <a:pt x="30" y="823"/>
                    </a:lnTo>
                    <a:lnTo>
                      <a:pt x="26" y="823"/>
                    </a:lnTo>
                    <a:lnTo>
                      <a:pt x="17" y="823"/>
                    </a:lnTo>
                    <a:lnTo>
                      <a:pt x="13" y="823"/>
                    </a:lnTo>
                    <a:lnTo>
                      <a:pt x="4" y="823"/>
                    </a:lnTo>
                    <a:lnTo>
                      <a:pt x="0" y="8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custGeom>
                <a:avLst/>
                <a:gdLst>
                  <a:gd name="textAreaLeft" fmla="*/ 0 w 2781720"/>
                  <a:gd name="textAreaRight" fmla="*/ 2782080 w 278172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1326" h="830">
                    <a:moveTo>
                      <a:pt x="0" y="829"/>
                    </a:moveTo>
                    <a:lnTo>
                      <a:pt x="4" y="829"/>
                    </a:lnTo>
                    <a:lnTo>
                      <a:pt x="13" y="829"/>
                    </a:lnTo>
                    <a:lnTo>
                      <a:pt x="17" y="829"/>
                    </a:lnTo>
                    <a:lnTo>
                      <a:pt x="26" y="829"/>
                    </a:lnTo>
                    <a:lnTo>
                      <a:pt x="30" y="829"/>
                    </a:lnTo>
                    <a:lnTo>
                      <a:pt x="39" y="829"/>
                    </a:lnTo>
                    <a:lnTo>
                      <a:pt x="43" y="829"/>
                    </a:lnTo>
                    <a:lnTo>
                      <a:pt x="52" y="829"/>
                    </a:lnTo>
                    <a:lnTo>
                      <a:pt x="56" y="829"/>
                    </a:lnTo>
                    <a:lnTo>
                      <a:pt x="65" y="829"/>
                    </a:lnTo>
                    <a:lnTo>
                      <a:pt x="69" y="829"/>
                    </a:lnTo>
                    <a:lnTo>
                      <a:pt x="78" y="829"/>
                    </a:lnTo>
                    <a:lnTo>
                      <a:pt x="82" y="829"/>
                    </a:lnTo>
                    <a:lnTo>
                      <a:pt x="91" y="829"/>
                    </a:lnTo>
                    <a:lnTo>
                      <a:pt x="100" y="829"/>
                    </a:lnTo>
                    <a:lnTo>
                      <a:pt x="104" y="829"/>
                    </a:lnTo>
                    <a:lnTo>
                      <a:pt x="113" y="829"/>
                    </a:lnTo>
                    <a:lnTo>
                      <a:pt x="117" y="829"/>
                    </a:lnTo>
                    <a:lnTo>
                      <a:pt x="126" y="829"/>
                    </a:lnTo>
                    <a:lnTo>
                      <a:pt x="130" y="829"/>
                    </a:lnTo>
                    <a:lnTo>
                      <a:pt x="139" y="829"/>
                    </a:lnTo>
                    <a:lnTo>
                      <a:pt x="143" y="829"/>
                    </a:lnTo>
                    <a:lnTo>
                      <a:pt x="152" y="829"/>
                    </a:lnTo>
                    <a:lnTo>
                      <a:pt x="156" y="829"/>
                    </a:lnTo>
                    <a:lnTo>
                      <a:pt x="165" y="829"/>
                    </a:lnTo>
                    <a:lnTo>
                      <a:pt x="169" y="829"/>
                    </a:lnTo>
                    <a:lnTo>
                      <a:pt x="178" y="829"/>
                    </a:lnTo>
                    <a:lnTo>
                      <a:pt x="182" y="829"/>
                    </a:lnTo>
                    <a:lnTo>
                      <a:pt x="191" y="829"/>
                    </a:lnTo>
                    <a:lnTo>
                      <a:pt x="199" y="829"/>
                    </a:lnTo>
                    <a:lnTo>
                      <a:pt x="204" y="829"/>
                    </a:lnTo>
                    <a:lnTo>
                      <a:pt x="212" y="829"/>
                    </a:lnTo>
                    <a:lnTo>
                      <a:pt x="217" y="829"/>
                    </a:lnTo>
                    <a:lnTo>
                      <a:pt x="225" y="829"/>
                    </a:lnTo>
                    <a:lnTo>
                      <a:pt x="230" y="829"/>
                    </a:lnTo>
                    <a:lnTo>
                      <a:pt x="238" y="829"/>
                    </a:lnTo>
                    <a:lnTo>
                      <a:pt x="243" y="829"/>
                    </a:lnTo>
                    <a:lnTo>
                      <a:pt x="251" y="829"/>
                    </a:lnTo>
                    <a:lnTo>
                      <a:pt x="256" y="829"/>
                    </a:lnTo>
                    <a:lnTo>
                      <a:pt x="264" y="829"/>
                    </a:lnTo>
                    <a:lnTo>
                      <a:pt x="269" y="829"/>
                    </a:lnTo>
                    <a:lnTo>
                      <a:pt x="277" y="829"/>
                    </a:lnTo>
                    <a:lnTo>
                      <a:pt x="286" y="829"/>
                    </a:lnTo>
                    <a:lnTo>
                      <a:pt x="290" y="829"/>
                    </a:lnTo>
                    <a:lnTo>
                      <a:pt x="299" y="829"/>
                    </a:lnTo>
                    <a:lnTo>
                      <a:pt x="303" y="829"/>
                    </a:lnTo>
                    <a:lnTo>
                      <a:pt x="312" y="829"/>
                    </a:lnTo>
                    <a:lnTo>
                      <a:pt x="316" y="829"/>
                    </a:lnTo>
                    <a:lnTo>
                      <a:pt x="325" y="829"/>
                    </a:lnTo>
                    <a:lnTo>
                      <a:pt x="329" y="829"/>
                    </a:lnTo>
                    <a:lnTo>
                      <a:pt x="338" y="829"/>
                    </a:lnTo>
                    <a:lnTo>
                      <a:pt x="342" y="829"/>
                    </a:lnTo>
                    <a:lnTo>
                      <a:pt x="351" y="829"/>
                    </a:lnTo>
                    <a:lnTo>
                      <a:pt x="355" y="829"/>
                    </a:lnTo>
                    <a:lnTo>
                      <a:pt x="364" y="829"/>
                    </a:lnTo>
                    <a:lnTo>
                      <a:pt x="368" y="829"/>
                    </a:lnTo>
                    <a:lnTo>
                      <a:pt x="377" y="829"/>
                    </a:lnTo>
                    <a:lnTo>
                      <a:pt x="385" y="829"/>
                    </a:lnTo>
                    <a:lnTo>
                      <a:pt x="390" y="829"/>
                    </a:lnTo>
                    <a:lnTo>
                      <a:pt x="398" y="829"/>
                    </a:lnTo>
                    <a:lnTo>
                      <a:pt x="403" y="829"/>
                    </a:lnTo>
                    <a:lnTo>
                      <a:pt x="411" y="829"/>
                    </a:lnTo>
                    <a:lnTo>
                      <a:pt x="416" y="829"/>
                    </a:lnTo>
                    <a:lnTo>
                      <a:pt x="424" y="829"/>
                    </a:lnTo>
                    <a:lnTo>
                      <a:pt x="429" y="829"/>
                    </a:lnTo>
                    <a:lnTo>
                      <a:pt x="437" y="829"/>
                    </a:lnTo>
                    <a:lnTo>
                      <a:pt x="442" y="829"/>
                    </a:lnTo>
                    <a:lnTo>
                      <a:pt x="450" y="829"/>
                    </a:lnTo>
                    <a:lnTo>
                      <a:pt x="455" y="829"/>
                    </a:lnTo>
                    <a:lnTo>
                      <a:pt x="463" y="829"/>
                    </a:lnTo>
                    <a:lnTo>
                      <a:pt x="468" y="829"/>
                    </a:lnTo>
                    <a:lnTo>
                      <a:pt x="476" y="829"/>
                    </a:lnTo>
                    <a:lnTo>
                      <a:pt x="485" y="829"/>
                    </a:lnTo>
                    <a:lnTo>
                      <a:pt x="489" y="829"/>
                    </a:lnTo>
                    <a:lnTo>
                      <a:pt x="498" y="829"/>
                    </a:lnTo>
                    <a:lnTo>
                      <a:pt x="502" y="829"/>
                    </a:lnTo>
                    <a:lnTo>
                      <a:pt x="511" y="829"/>
                    </a:lnTo>
                    <a:lnTo>
                      <a:pt x="515" y="829"/>
                    </a:lnTo>
                    <a:lnTo>
                      <a:pt x="524" y="829"/>
                    </a:lnTo>
                    <a:lnTo>
                      <a:pt x="528" y="829"/>
                    </a:lnTo>
                    <a:lnTo>
                      <a:pt x="537" y="695"/>
                    </a:lnTo>
                    <a:lnTo>
                      <a:pt x="541" y="669"/>
                    </a:lnTo>
                    <a:lnTo>
                      <a:pt x="550" y="634"/>
                    </a:lnTo>
                    <a:lnTo>
                      <a:pt x="554" y="599"/>
                    </a:lnTo>
                    <a:lnTo>
                      <a:pt x="563" y="560"/>
                    </a:lnTo>
                    <a:lnTo>
                      <a:pt x="572" y="521"/>
                    </a:lnTo>
                    <a:lnTo>
                      <a:pt x="576" y="473"/>
                    </a:lnTo>
                    <a:lnTo>
                      <a:pt x="585" y="425"/>
                    </a:lnTo>
                    <a:lnTo>
                      <a:pt x="589" y="378"/>
                    </a:lnTo>
                    <a:lnTo>
                      <a:pt x="598" y="326"/>
                    </a:lnTo>
                    <a:lnTo>
                      <a:pt x="602" y="278"/>
                    </a:lnTo>
                    <a:lnTo>
                      <a:pt x="611" y="226"/>
                    </a:lnTo>
                    <a:lnTo>
                      <a:pt x="615" y="182"/>
                    </a:lnTo>
                    <a:lnTo>
                      <a:pt x="624" y="139"/>
                    </a:lnTo>
                    <a:lnTo>
                      <a:pt x="628" y="100"/>
                    </a:lnTo>
                    <a:lnTo>
                      <a:pt x="637" y="65"/>
                    </a:lnTo>
                    <a:lnTo>
                      <a:pt x="641" y="35"/>
                    </a:lnTo>
                    <a:lnTo>
                      <a:pt x="650" y="17"/>
                    </a:lnTo>
                    <a:lnTo>
                      <a:pt x="654" y="4"/>
                    </a:lnTo>
                    <a:lnTo>
                      <a:pt x="663" y="0"/>
                    </a:lnTo>
                    <a:lnTo>
                      <a:pt x="671" y="4"/>
                    </a:lnTo>
                    <a:lnTo>
                      <a:pt x="676" y="17"/>
                    </a:lnTo>
                    <a:lnTo>
                      <a:pt x="684" y="35"/>
                    </a:lnTo>
                    <a:lnTo>
                      <a:pt x="689" y="65"/>
                    </a:lnTo>
                    <a:lnTo>
                      <a:pt x="697" y="100"/>
                    </a:lnTo>
                    <a:lnTo>
                      <a:pt x="702" y="139"/>
                    </a:lnTo>
                    <a:lnTo>
                      <a:pt x="710" y="182"/>
                    </a:lnTo>
                    <a:lnTo>
                      <a:pt x="715" y="226"/>
                    </a:lnTo>
                    <a:lnTo>
                      <a:pt x="723" y="278"/>
                    </a:lnTo>
                    <a:lnTo>
                      <a:pt x="728" y="326"/>
                    </a:lnTo>
                    <a:lnTo>
                      <a:pt x="736" y="378"/>
                    </a:lnTo>
                    <a:lnTo>
                      <a:pt x="741" y="425"/>
                    </a:lnTo>
                    <a:lnTo>
                      <a:pt x="749" y="473"/>
                    </a:lnTo>
                    <a:lnTo>
                      <a:pt x="754" y="521"/>
                    </a:lnTo>
                    <a:lnTo>
                      <a:pt x="762" y="560"/>
                    </a:lnTo>
                    <a:lnTo>
                      <a:pt x="771" y="599"/>
                    </a:lnTo>
                    <a:lnTo>
                      <a:pt x="775" y="634"/>
                    </a:lnTo>
                    <a:lnTo>
                      <a:pt x="784" y="669"/>
                    </a:lnTo>
                    <a:lnTo>
                      <a:pt x="788" y="695"/>
                    </a:lnTo>
                    <a:lnTo>
                      <a:pt x="797" y="829"/>
                    </a:lnTo>
                    <a:lnTo>
                      <a:pt x="801" y="829"/>
                    </a:lnTo>
                    <a:lnTo>
                      <a:pt x="810" y="829"/>
                    </a:lnTo>
                    <a:lnTo>
                      <a:pt x="814" y="829"/>
                    </a:lnTo>
                    <a:lnTo>
                      <a:pt x="823" y="829"/>
                    </a:lnTo>
                    <a:lnTo>
                      <a:pt x="827" y="829"/>
                    </a:lnTo>
                    <a:lnTo>
                      <a:pt x="836" y="829"/>
                    </a:lnTo>
                    <a:lnTo>
                      <a:pt x="840" y="829"/>
                    </a:lnTo>
                    <a:lnTo>
                      <a:pt x="849" y="829"/>
                    </a:lnTo>
                    <a:lnTo>
                      <a:pt x="858" y="829"/>
                    </a:lnTo>
                    <a:lnTo>
                      <a:pt x="862" y="829"/>
                    </a:lnTo>
                    <a:lnTo>
                      <a:pt x="871" y="829"/>
                    </a:lnTo>
                    <a:lnTo>
                      <a:pt x="875" y="829"/>
                    </a:lnTo>
                    <a:lnTo>
                      <a:pt x="884" y="829"/>
                    </a:lnTo>
                    <a:lnTo>
                      <a:pt x="888" y="829"/>
                    </a:lnTo>
                    <a:lnTo>
                      <a:pt x="897" y="829"/>
                    </a:lnTo>
                    <a:lnTo>
                      <a:pt x="901" y="829"/>
                    </a:lnTo>
                    <a:lnTo>
                      <a:pt x="910" y="829"/>
                    </a:lnTo>
                    <a:lnTo>
                      <a:pt x="914" y="829"/>
                    </a:lnTo>
                    <a:lnTo>
                      <a:pt x="923" y="829"/>
                    </a:lnTo>
                    <a:lnTo>
                      <a:pt x="927" y="829"/>
                    </a:lnTo>
                    <a:lnTo>
                      <a:pt x="936" y="829"/>
                    </a:lnTo>
                    <a:lnTo>
                      <a:pt x="940" y="829"/>
                    </a:lnTo>
                    <a:lnTo>
                      <a:pt x="949" y="829"/>
                    </a:lnTo>
                    <a:lnTo>
                      <a:pt x="957" y="829"/>
                    </a:lnTo>
                    <a:lnTo>
                      <a:pt x="961" y="829"/>
                    </a:lnTo>
                    <a:lnTo>
                      <a:pt x="970" y="829"/>
                    </a:lnTo>
                    <a:lnTo>
                      <a:pt x="974" y="829"/>
                    </a:lnTo>
                    <a:lnTo>
                      <a:pt x="983" y="829"/>
                    </a:lnTo>
                    <a:lnTo>
                      <a:pt x="987" y="829"/>
                    </a:lnTo>
                    <a:lnTo>
                      <a:pt x="996" y="829"/>
                    </a:lnTo>
                    <a:lnTo>
                      <a:pt x="1000" y="829"/>
                    </a:lnTo>
                    <a:lnTo>
                      <a:pt x="1009" y="829"/>
                    </a:lnTo>
                    <a:lnTo>
                      <a:pt x="1013" y="829"/>
                    </a:lnTo>
                    <a:lnTo>
                      <a:pt x="1022" y="829"/>
                    </a:lnTo>
                    <a:lnTo>
                      <a:pt x="1026" y="829"/>
                    </a:lnTo>
                    <a:lnTo>
                      <a:pt x="1035" y="829"/>
                    </a:lnTo>
                    <a:lnTo>
                      <a:pt x="1039" y="829"/>
                    </a:lnTo>
                    <a:lnTo>
                      <a:pt x="1048" y="829"/>
                    </a:lnTo>
                    <a:lnTo>
                      <a:pt x="1057" y="829"/>
                    </a:lnTo>
                    <a:lnTo>
                      <a:pt x="1061" y="829"/>
                    </a:lnTo>
                    <a:lnTo>
                      <a:pt x="1070" y="829"/>
                    </a:lnTo>
                    <a:lnTo>
                      <a:pt x="1074" y="829"/>
                    </a:lnTo>
                    <a:lnTo>
                      <a:pt x="1083" y="829"/>
                    </a:lnTo>
                    <a:lnTo>
                      <a:pt x="1087" y="829"/>
                    </a:lnTo>
                    <a:lnTo>
                      <a:pt x="1096" y="829"/>
                    </a:lnTo>
                    <a:lnTo>
                      <a:pt x="1100" y="829"/>
                    </a:lnTo>
                    <a:lnTo>
                      <a:pt x="1109" y="829"/>
                    </a:lnTo>
                    <a:lnTo>
                      <a:pt x="1113" y="829"/>
                    </a:lnTo>
                    <a:lnTo>
                      <a:pt x="1122" y="829"/>
                    </a:lnTo>
                    <a:lnTo>
                      <a:pt x="1126" y="829"/>
                    </a:lnTo>
                    <a:lnTo>
                      <a:pt x="1135" y="829"/>
                    </a:lnTo>
                    <a:lnTo>
                      <a:pt x="1143" y="829"/>
                    </a:lnTo>
                    <a:lnTo>
                      <a:pt x="1148" y="829"/>
                    </a:lnTo>
                    <a:lnTo>
                      <a:pt x="1156" y="829"/>
                    </a:lnTo>
                    <a:lnTo>
                      <a:pt x="1161" y="829"/>
                    </a:lnTo>
                    <a:lnTo>
                      <a:pt x="1169" y="829"/>
                    </a:lnTo>
                    <a:lnTo>
                      <a:pt x="1174" y="829"/>
                    </a:lnTo>
                    <a:lnTo>
                      <a:pt x="1182" y="829"/>
                    </a:lnTo>
                    <a:lnTo>
                      <a:pt x="1187" y="829"/>
                    </a:lnTo>
                    <a:lnTo>
                      <a:pt x="1195" y="829"/>
                    </a:lnTo>
                    <a:lnTo>
                      <a:pt x="1200" y="829"/>
                    </a:lnTo>
                    <a:lnTo>
                      <a:pt x="1208" y="829"/>
                    </a:lnTo>
                    <a:lnTo>
                      <a:pt x="1213" y="829"/>
                    </a:lnTo>
                    <a:lnTo>
                      <a:pt x="1221" y="829"/>
                    </a:lnTo>
                    <a:lnTo>
                      <a:pt x="1226" y="829"/>
                    </a:lnTo>
                    <a:lnTo>
                      <a:pt x="1234" y="829"/>
                    </a:lnTo>
                    <a:lnTo>
                      <a:pt x="1243" y="829"/>
                    </a:lnTo>
                    <a:lnTo>
                      <a:pt x="1247" y="829"/>
                    </a:lnTo>
                    <a:lnTo>
                      <a:pt x="1256" y="829"/>
                    </a:lnTo>
                    <a:lnTo>
                      <a:pt x="1260" y="829"/>
                    </a:lnTo>
                    <a:lnTo>
                      <a:pt x="1269" y="829"/>
                    </a:lnTo>
                    <a:lnTo>
                      <a:pt x="1273" y="829"/>
                    </a:lnTo>
                    <a:lnTo>
                      <a:pt x="1282" y="829"/>
                    </a:lnTo>
                    <a:lnTo>
                      <a:pt x="1286" y="829"/>
                    </a:lnTo>
                    <a:lnTo>
                      <a:pt x="1295" y="829"/>
                    </a:lnTo>
                    <a:lnTo>
                      <a:pt x="1299" y="829"/>
                    </a:lnTo>
                    <a:lnTo>
                      <a:pt x="1308" y="829"/>
                    </a:lnTo>
                    <a:lnTo>
                      <a:pt x="1312" y="829"/>
                    </a:lnTo>
                    <a:lnTo>
                      <a:pt x="1321" y="829"/>
                    </a:lnTo>
                    <a:lnTo>
                      <a:pt x="1325" y="829"/>
                    </a:lnTo>
                    <a:lnTo>
                      <a:pt x="1321" y="829"/>
                    </a:lnTo>
                    <a:lnTo>
                      <a:pt x="1312" y="829"/>
                    </a:lnTo>
                    <a:lnTo>
                      <a:pt x="1308" y="829"/>
                    </a:lnTo>
                    <a:lnTo>
                      <a:pt x="1299" y="829"/>
                    </a:lnTo>
                    <a:lnTo>
                      <a:pt x="1295" y="829"/>
                    </a:lnTo>
                    <a:lnTo>
                      <a:pt x="1286" y="829"/>
                    </a:lnTo>
                    <a:lnTo>
                      <a:pt x="1282" y="829"/>
                    </a:lnTo>
                    <a:lnTo>
                      <a:pt x="1273" y="829"/>
                    </a:lnTo>
                    <a:lnTo>
                      <a:pt x="1269" y="829"/>
                    </a:lnTo>
                    <a:lnTo>
                      <a:pt x="1260" y="829"/>
                    </a:lnTo>
                    <a:lnTo>
                      <a:pt x="1256" y="829"/>
                    </a:lnTo>
                    <a:lnTo>
                      <a:pt x="1247" y="829"/>
                    </a:lnTo>
                    <a:lnTo>
                      <a:pt x="1243" y="829"/>
                    </a:lnTo>
                    <a:lnTo>
                      <a:pt x="1234" y="829"/>
                    </a:lnTo>
                    <a:lnTo>
                      <a:pt x="1226" y="829"/>
                    </a:lnTo>
                    <a:lnTo>
                      <a:pt x="1221" y="829"/>
                    </a:lnTo>
                    <a:lnTo>
                      <a:pt x="1213" y="829"/>
                    </a:lnTo>
                    <a:lnTo>
                      <a:pt x="1208" y="829"/>
                    </a:lnTo>
                    <a:lnTo>
                      <a:pt x="1200" y="829"/>
                    </a:lnTo>
                    <a:lnTo>
                      <a:pt x="1195" y="829"/>
                    </a:lnTo>
                    <a:lnTo>
                      <a:pt x="1187" y="829"/>
                    </a:lnTo>
                    <a:lnTo>
                      <a:pt x="1182" y="829"/>
                    </a:lnTo>
                    <a:lnTo>
                      <a:pt x="1174" y="829"/>
                    </a:lnTo>
                    <a:lnTo>
                      <a:pt x="1169" y="829"/>
                    </a:lnTo>
                    <a:lnTo>
                      <a:pt x="1161" y="829"/>
                    </a:lnTo>
                    <a:lnTo>
                      <a:pt x="1156" y="829"/>
                    </a:lnTo>
                    <a:lnTo>
                      <a:pt x="1148" y="829"/>
                    </a:lnTo>
                    <a:lnTo>
                      <a:pt x="1143" y="829"/>
                    </a:lnTo>
                    <a:lnTo>
                      <a:pt x="1135" y="829"/>
                    </a:lnTo>
                    <a:lnTo>
                      <a:pt x="1126" y="829"/>
                    </a:lnTo>
                    <a:lnTo>
                      <a:pt x="1122" y="829"/>
                    </a:lnTo>
                    <a:lnTo>
                      <a:pt x="1113" y="829"/>
                    </a:lnTo>
                    <a:lnTo>
                      <a:pt x="1109" y="829"/>
                    </a:lnTo>
                    <a:lnTo>
                      <a:pt x="1100" y="829"/>
                    </a:lnTo>
                    <a:lnTo>
                      <a:pt x="1096" y="829"/>
                    </a:lnTo>
                    <a:lnTo>
                      <a:pt x="1087" y="829"/>
                    </a:lnTo>
                    <a:lnTo>
                      <a:pt x="1083" y="829"/>
                    </a:lnTo>
                    <a:lnTo>
                      <a:pt x="1074" y="829"/>
                    </a:lnTo>
                    <a:lnTo>
                      <a:pt x="1070" y="829"/>
                    </a:lnTo>
                    <a:lnTo>
                      <a:pt x="1061" y="829"/>
                    </a:lnTo>
                    <a:lnTo>
                      <a:pt x="1057" y="829"/>
                    </a:lnTo>
                    <a:lnTo>
                      <a:pt x="1048" y="829"/>
                    </a:lnTo>
                    <a:lnTo>
                      <a:pt x="1039" y="829"/>
                    </a:lnTo>
                    <a:lnTo>
                      <a:pt x="1035" y="829"/>
                    </a:lnTo>
                    <a:lnTo>
                      <a:pt x="1026" y="829"/>
                    </a:lnTo>
                    <a:lnTo>
                      <a:pt x="1022" y="829"/>
                    </a:lnTo>
                    <a:lnTo>
                      <a:pt x="1013" y="829"/>
                    </a:lnTo>
                    <a:lnTo>
                      <a:pt x="1009" y="829"/>
                    </a:lnTo>
                    <a:lnTo>
                      <a:pt x="1000" y="829"/>
                    </a:lnTo>
                    <a:lnTo>
                      <a:pt x="996" y="829"/>
                    </a:lnTo>
                    <a:lnTo>
                      <a:pt x="987" y="829"/>
                    </a:lnTo>
                    <a:lnTo>
                      <a:pt x="983" y="829"/>
                    </a:lnTo>
                    <a:lnTo>
                      <a:pt x="974" y="829"/>
                    </a:lnTo>
                    <a:lnTo>
                      <a:pt x="970" y="829"/>
                    </a:lnTo>
                    <a:lnTo>
                      <a:pt x="961" y="829"/>
                    </a:lnTo>
                    <a:lnTo>
                      <a:pt x="957" y="829"/>
                    </a:lnTo>
                    <a:lnTo>
                      <a:pt x="949" y="829"/>
                    </a:lnTo>
                    <a:lnTo>
                      <a:pt x="940" y="829"/>
                    </a:lnTo>
                    <a:lnTo>
                      <a:pt x="936" y="829"/>
                    </a:lnTo>
                    <a:lnTo>
                      <a:pt x="927" y="829"/>
                    </a:lnTo>
                    <a:lnTo>
                      <a:pt x="923" y="829"/>
                    </a:lnTo>
                    <a:lnTo>
                      <a:pt x="914" y="829"/>
                    </a:lnTo>
                    <a:lnTo>
                      <a:pt x="910" y="829"/>
                    </a:lnTo>
                    <a:lnTo>
                      <a:pt x="901" y="829"/>
                    </a:lnTo>
                    <a:lnTo>
                      <a:pt x="897" y="829"/>
                    </a:lnTo>
                    <a:lnTo>
                      <a:pt x="888" y="829"/>
                    </a:lnTo>
                    <a:lnTo>
                      <a:pt x="884" y="829"/>
                    </a:lnTo>
                    <a:lnTo>
                      <a:pt x="875" y="829"/>
                    </a:lnTo>
                    <a:lnTo>
                      <a:pt x="871" y="829"/>
                    </a:lnTo>
                    <a:lnTo>
                      <a:pt x="862" y="829"/>
                    </a:lnTo>
                    <a:lnTo>
                      <a:pt x="858" y="829"/>
                    </a:lnTo>
                    <a:lnTo>
                      <a:pt x="849" y="829"/>
                    </a:lnTo>
                    <a:lnTo>
                      <a:pt x="840" y="829"/>
                    </a:lnTo>
                    <a:lnTo>
                      <a:pt x="836" y="829"/>
                    </a:lnTo>
                    <a:lnTo>
                      <a:pt x="827" y="829"/>
                    </a:lnTo>
                    <a:lnTo>
                      <a:pt x="823" y="829"/>
                    </a:lnTo>
                    <a:lnTo>
                      <a:pt x="814" y="829"/>
                    </a:lnTo>
                    <a:lnTo>
                      <a:pt x="810" y="829"/>
                    </a:lnTo>
                    <a:lnTo>
                      <a:pt x="801" y="829"/>
                    </a:lnTo>
                    <a:lnTo>
                      <a:pt x="797" y="829"/>
                    </a:lnTo>
                    <a:lnTo>
                      <a:pt x="788" y="829"/>
                    </a:lnTo>
                    <a:lnTo>
                      <a:pt x="784" y="829"/>
                    </a:lnTo>
                    <a:lnTo>
                      <a:pt x="775" y="829"/>
                    </a:lnTo>
                    <a:lnTo>
                      <a:pt x="771" y="829"/>
                    </a:lnTo>
                    <a:lnTo>
                      <a:pt x="762" y="829"/>
                    </a:lnTo>
                    <a:lnTo>
                      <a:pt x="754" y="829"/>
                    </a:lnTo>
                    <a:lnTo>
                      <a:pt x="749" y="829"/>
                    </a:lnTo>
                    <a:lnTo>
                      <a:pt x="741" y="829"/>
                    </a:lnTo>
                    <a:lnTo>
                      <a:pt x="736" y="829"/>
                    </a:lnTo>
                    <a:lnTo>
                      <a:pt x="728" y="829"/>
                    </a:lnTo>
                    <a:lnTo>
                      <a:pt x="723" y="829"/>
                    </a:lnTo>
                    <a:lnTo>
                      <a:pt x="715" y="829"/>
                    </a:lnTo>
                    <a:lnTo>
                      <a:pt x="710" y="829"/>
                    </a:lnTo>
                    <a:lnTo>
                      <a:pt x="702" y="829"/>
                    </a:lnTo>
                    <a:lnTo>
                      <a:pt x="697" y="829"/>
                    </a:lnTo>
                    <a:lnTo>
                      <a:pt x="689" y="829"/>
                    </a:lnTo>
                    <a:lnTo>
                      <a:pt x="684" y="829"/>
                    </a:lnTo>
                    <a:lnTo>
                      <a:pt x="676" y="829"/>
                    </a:lnTo>
                    <a:lnTo>
                      <a:pt x="671" y="829"/>
                    </a:lnTo>
                    <a:lnTo>
                      <a:pt x="663" y="829"/>
                    </a:lnTo>
                    <a:lnTo>
                      <a:pt x="654" y="829"/>
                    </a:lnTo>
                    <a:lnTo>
                      <a:pt x="650" y="829"/>
                    </a:lnTo>
                    <a:lnTo>
                      <a:pt x="641" y="829"/>
                    </a:lnTo>
                    <a:lnTo>
                      <a:pt x="637" y="829"/>
                    </a:lnTo>
                    <a:lnTo>
                      <a:pt x="628" y="829"/>
                    </a:lnTo>
                    <a:lnTo>
                      <a:pt x="624" y="829"/>
                    </a:lnTo>
                    <a:lnTo>
                      <a:pt x="615" y="829"/>
                    </a:lnTo>
                    <a:lnTo>
                      <a:pt x="611" y="829"/>
                    </a:lnTo>
                    <a:lnTo>
                      <a:pt x="602" y="829"/>
                    </a:lnTo>
                    <a:lnTo>
                      <a:pt x="598" y="829"/>
                    </a:lnTo>
                    <a:lnTo>
                      <a:pt x="589" y="829"/>
                    </a:lnTo>
                    <a:lnTo>
                      <a:pt x="585" y="829"/>
                    </a:lnTo>
                    <a:lnTo>
                      <a:pt x="576" y="829"/>
                    </a:lnTo>
                    <a:lnTo>
                      <a:pt x="572" y="829"/>
                    </a:lnTo>
                    <a:lnTo>
                      <a:pt x="563" y="829"/>
                    </a:lnTo>
                    <a:lnTo>
                      <a:pt x="554" y="829"/>
                    </a:lnTo>
                    <a:lnTo>
                      <a:pt x="550" y="829"/>
                    </a:lnTo>
                    <a:lnTo>
                      <a:pt x="541" y="829"/>
                    </a:lnTo>
                    <a:lnTo>
                      <a:pt x="537" y="829"/>
                    </a:lnTo>
                    <a:lnTo>
                      <a:pt x="528" y="829"/>
                    </a:lnTo>
                    <a:lnTo>
                      <a:pt x="524" y="829"/>
                    </a:lnTo>
                    <a:lnTo>
                      <a:pt x="515" y="829"/>
                    </a:lnTo>
                    <a:lnTo>
                      <a:pt x="511" y="829"/>
                    </a:lnTo>
                    <a:lnTo>
                      <a:pt x="502" y="829"/>
                    </a:lnTo>
                    <a:lnTo>
                      <a:pt x="498" y="829"/>
                    </a:lnTo>
                    <a:lnTo>
                      <a:pt x="489" y="829"/>
                    </a:lnTo>
                    <a:lnTo>
                      <a:pt x="485" y="829"/>
                    </a:lnTo>
                    <a:lnTo>
                      <a:pt x="476" y="829"/>
                    </a:lnTo>
                    <a:lnTo>
                      <a:pt x="468" y="829"/>
                    </a:lnTo>
                    <a:lnTo>
                      <a:pt x="463" y="829"/>
                    </a:lnTo>
                    <a:lnTo>
                      <a:pt x="455" y="829"/>
                    </a:lnTo>
                    <a:lnTo>
                      <a:pt x="450" y="829"/>
                    </a:lnTo>
                    <a:lnTo>
                      <a:pt x="442" y="829"/>
                    </a:lnTo>
                    <a:lnTo>
                      <a:pt x="437" y="829"/>
                    </a:lnTo>
                    <a:lnTo>
                      <a:pt x="429" y="829"/>
                    </a:lnTo>
                    <a:lnTo>
                      <a:pt x="424" y="829"/>
                    </a:lnTo>
                    <a:lnTo>
                      <a:pt x="416" y="829"/>
                    </a:lnTo>
                    <a:lnTo>
                      <a:pt x="411" y="829"/>
                    </a:lnTo>
                    <a:lnTo>
                      <a:pt x="403" y="829"/>
                    </a:lnTo>
                    <a:lnTo>
                      <a:pt x="398" y="829"/>
                    </a:lnTo>
                    <a:lnTo>
                      <a:pt x="390" y="829"/>
                    </a:lnTo>
                    <a:lnTo>
                      <a:pt x="385" y="829"/>
                    </a:lnTo>
                    <a:lnTo>
                      <a:pt x="377" y="829"/>
                    </a:lnTo>
                    <a:lnTo>
                      <a:pt x="368" y="829"/>
                    </a:lnTo>
                    <a:lnTo>
                      <a:pt x="364" y="829"/>
                    </a:lnTo>
                    <a:lnTo>
                      <a:pt x="355" y="829"/>
                    </a:lnTo>
                    <a:lnTo>
                      <a:pt x="351" y="829"/>
                    </a:lnTo>
                    <a:lnTo>
                      <a:pt x="342" y="829"/>
                    </a:lnTo>
                    <a:lnTo>
                      <a:pt x="338" y="829"/>
                    </a:lnTo>
                    <a:lnTo>
                      <a:pt x="329" y="829"/>
                    </a:lnTo>
                    <a:lnTo>
                      <a:pt x="325" y="829"/>
                    </a:lnTo>
                    <a:lnTo>
                      <a:pt x="316" y="829"/>
                    </a:lnTo>
                    <a:lnTo>
                      <a:pt x="312" y="829"/>
                    </a:lnTo>
                    <a:lnTo>
                      <a:pt x="303" y="829"/>
                    </a:lnTo>
                    <a:lnTo>
                      <a:pt x="299" y="829"/>
                    </a:lnTo>
                    <a:lnTo>
                      <a:pt x="290" y="829"/>
                    </a:lnTo>
                    <a:lnTo>
                      <a:pt x="286" y="829"/>
                    </a:lnTo>
                    <a:lnTo>
                      <a:pt x="277" y="829"/>
                    </a:lnTo>
                    <a:lnTo>
                      <a:pt x="269" y="829"/>
                    </a:lnTo>
                    <a:lnTo>
                      <a:pt x="264" y="829"/>
                    </a:lnTo>
                    <a:lnTo>
                      <a:pt x="256" y="829"/>
                    </a:lnTo>
                    <a:lnTo>
                      <a:pt x="251" y="829"/>
                    </a:lnTo>
                    <a:lnTo>
                      <a:pt x="243" y="829"/>
                    </a:lnTo>
                    <a:lnTo>
                      <a:pt x="238" y="829"/>
                    </a:lnTo>
                    <a:lnTo>
                      <a:pt x="230" y="829"/>
                    </a:lnTo>
                    <a:lnTo>
                      <a:pt x="225" y="829"/>
                    </a:lnTo>
                    <a:lnTo>
                      <a:pt x="217" y="829"/>
                    </a:lnTo>
                    <a:lnTo>
                      <a:pt x="212" y="829"/>
                    </a:lnTo>
                    <a:lnTo>
                      <a:pt x="204" y="829"/>
                    </a:lnTo>
                    <a:lnTo>
                      <a:pt x="199" y="829"/>
                    </a:lnTo>
                    <a:lnTo>
                      <a:pt x="191" y="829"/>
                    </a:lnTo>
                    <a:lnTo>
                      <a:pt x="182" y="829"/>
                    </a:lnTo>
                    <a:lnTo>
                      <a:pt x="178" y="829"/>
                    </a:lnTo>
                    <a:lnTo>
                      <a:pt x="169" y="829"/>
                    </a:lnTo>
                    <a:lnTo>
                      <a:pt x="165" y="829"/>
                    </a:lnTo>
                    <a:lnTo>
                      <a:pt x="156" y="829"/>
                    </a:lnTo>
                    <a:lnTo>
                      <a:pt x="152" y="829"/>
                    </a:lnTo>
                    <a:lnTo>
                      <a:pt x="143" y="829"/>
                    </a:lnTo>
                    <a:lnTo>
                      <a:pt x="139" y="829"/>
                    </a:lnTo>
                    <a:lnTo>
                      <a:pt x="130" y="829"/>
                    </a:lnTo>
                    <a:lnTo>
                      <a:pt x="126" y="829"/>
                    </a:lnTo>
                    <a:lnTo>
                      <a:pt x="117" y="829"/>
                    </a:lnTo>
                    <a:lnTo>
                      <a:pt x="113" y="829"/>
                    </a:lnTo>
                    <a:lnTo>
                      <a:pt x="104" y="829"/>
                    </a:lnTo>
                    <a:lnTo>
                      <a:pt x="100" y="829"/>
                    </a:lnTo>
                    <a:lnTo>
                      <a:pt x="91" y="829"/>
                    </a:lnTo>
                    <a:lnTo>
                      <a:pt x="82" y="829"/>
                    </a:lnTo>
                    <a:lnTo>
                      <a:pt x="78" y="829"/>
                    </a:lnTo>
                    <a:lnTo>
                      <a:pt x="69" y="829"/>
                    </a:lnTo>
                    <a:lnTo>
                      <a:pt x="65" y="829"/>
                    </a:lnTo>
                    <a:lnTo>
                      <a:pt x="56" y="829"/>
                    </a:lnTo>
                    <a:lnTo>
                      <a:pt x="52" y="829"/>
                    </a:lnTo>
                    <a:lnTo>
                      <a:pt x="43" y="829"/>
                    </a:lnTo>
                    <a:lnTo>
                      <a:pt x="39" y="829"/>
                    </a:lnTo>
                    <a:lnTo>
                      <a:pt x="30" y="829"/>
                    </a:lnTo>
                    <a:lnTo>
                      <a:pt x="26" y="829"/>
                    </a:lnTo>
                    <a:lnTo>
                      <a:pt x="17" y="829"/>
                    </a:lnTo>
                    <a:lnTo>
                      <a:pt x="13" y="829"/>
                    </a:lnTo>
                    <a:lnTo>
                      <a:pt x="4" y="829"/>
                    </a:lnTo>
                    <a:lnTo>
                      <a:pt x="0" y="829"/>
                    </a:lnTo>
                  </a:path>
                </a:pathLst>
              </a:cu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custGeom>
                <a:avLst/>
                <a:gdLst>
                  <a:gd name="textAreaLeft" fmla="*/ 0 w 2781720"/>
                  <a:gd name="textAreaRight" fmla="*/ 2782080 w 2781720"/>
                  <a:gd name="textAreaTop" fmla="*/ 0 h 1424520"/>
                  <a:gd name="textAreaBottom" fmla="*/ 1424880 h 1424520"/>
                </a:gdLst>
                <a:ahLst/>
                <a:rect l="textAreaLeft" t="textAreaTop" r="textAreaRight" b="textAreaBottom"/>
                <a:pathLst>
                  <a:path w="1326" h="830">
                    <a:moveTo>
                      <a:pt x="0" y="829"/>
                    </a:moveTo>
                    <a:lnTo>
                      <a:pt x="0" y="829"/>
                    </a:lnTo>
                    <a:lnTo>
                      <a:pt x="4" y="829"/>
                    </a:lnTo>
                    <a:lnTo>
                      <a:pt x="9" y="829"/>
                    </a:lnTo>
                    <a:lnTo>
                      <a:pt x="13" y="829"/>
                    </a:lnTo>
                    <a:lnTo>
                      <a:pt x="17" y="829"/>
                    </a:lnTo>
                    <a:lnTo>
                      <a:pt x="22" y="829"/>
                    </a:lnTo>
                    <a:lnTo>
                      <a:pt x="26" y="829"/>
                    </a:lnTo>
                    <a:lnTo>
                      <a:pt x="30" y="829"/>
                    </a:lnTo>
                    <a:lnTo>
                      <a:pt x="35" y="829"/>
                    </a:lnTo>
                    <a:lnTo>
                      <a:pt x="39" y="829"/>
                    </a:lnTo>
                    <a:lnTo>
                      <a:pt x="43" y="829"/>
                    </a:lnTo>
                    <a:lnTo>
                      <a:pt x="48" y="829"/>
                    </a:lnTo>
                    <a:lnTo>
                      <a:pt x="52" y="829"/>
                    </a:lnTo>
                    <a:lnTo>
                      <a:pt x="56" y="829"/>
                    </a:lnTo>
                    <a:lnTo>
                      <a:pt x="61" y="829"/>
                    </a:lnTo>
                    <a:lnTo>
                      <a:pt x="65" y="829"/>
                    </a:lnTo>
                    <a:lnTo>
                      <a:pt x="69" y="829"/>
                    </a:lnTo>
                    <a:lnTo>
                      <a:pt x="74" y="829"/>
                    </a:lnTo>
                    <a:lnTo>
                      <a:pt x="78" y="829"/>
                    </a:lnTo>
                    <a:lnTo>
                      <a:pt x="82" y="829"/>
                    </a:lnTo>
                    <a:lnTo>
                      <a:pt x="87" y="829"/>
                    </a:lnTo>
                    <a:lnTo>
                      <a:pt x="91" y="829"/>
                    </a:lnTo>
                    <a:lnTo>
                      <a:pt x="95" y="829"/>
                    </a:lnTo>
                    <a:lnTo>
                      <a:pt x="100" y="829"/>
                    </a:lnTo>
                    <a:lnTo>
                      <a:pt x="104" y="829"/>
                    </a:lnTo>
                    <a:lnTo>
                      <a:pt x="108" y="829"/>
                    </a:lnTo>
                    <a:lnTo>
                      <a:pt x="113" y="829"/>
                    </a:lnTo>
                    <a:lnTo>
                      <a:pt x="117" y="829"/>
                    </a:lnTo>
                    <a:lnTo>
                      <a:pt x="121" y="829"/>
                    </a:lnTo>
                    <a:lnTo>
                      <a:pt x="126" y="829"/>
                    </a:lnTo>
                    <a:lnTo>
                      <a:pt x="130" y="829"/>
                    </a:lnTo>
                    <a:lnTo>
                      <a:pt x="134" y="829"/>
                    </a:lnTo>
                    <a:lnTo>
                      <a:pt x="139" y="829"/>
                    </a:lnTo>
                    <a:lnTo>
                      <a:pt x="143" y="829"/>
                    </a:lnTo>
                    <a:lnTo>
                      <a:pt x="147" y="829"/>
                    </a:lnTo>
                    <a:lnTo>
                      <a:pt x="152" y="829"/>
                    </a:lnTo>
                    <a:lnTo>
                      <a:pt x="156" y="829"/>
                    </a:lnTo>
                    <a:lnTo>
                      <a:pt x="160" y="829"/>
                    </a:lnTo>
                    <a:lnTo>
                      <a:pt x="165" y="829"/>
                    </a:lnTo>
                    <a:lnTo>
                      <a:pt x="169" y="829"/>
                    </a:lnTo>
                    <a:lnTo>
                      <a:pt x="173" y="829"/>
                    </a:lnTo>
                    <a:lnTo>
                      <a:pt x="178" y="829"/>
                    </a:lnTo>
                    <a:lnTo>
                      <a:pt x="182" y="829"/>
                    </a:lnTo>
                    <a:lnTo>
                      <a:pt x="186" y="829"/>
                    </a:lnTo>
                    <a:lnTo>
                      <a:pt x="191" y="829"/>
                    </a:lnTo>
                    <a:lnTo>
                      <a:pt x="195" y="829"/>
                    </a:lnTo>
                    <a:lnTo>
                      <a:pt x="199" y="829"/>
                    </a:lnTo>
                    <a:lnTo>
                      <a:pt x="204" y="829"/>
                    </a:lnTo>
                    <a:lnTo>
                      <a:pt x="208" y="829"/>
                    </a:lnTo>
                    <a:lnTo>
                      <a:pt x="212" y="829"/>
                    </a:lnTo>
                    <a:lnTo>
                      <a:pt x="217" y="829"/>
                    </a:lnTo>
                    <a:lnTo>
                      <a:pt x="221" y="829"/>
                    </a:lnTo>
                    <a:lnTo>
                      <a:pt x="225" y="829"/>
                    </a:lnTo>
                    <a:lnTo>
                      <a:pt x="230" y="829"/>
                    </a:lnTo>
                    <a:lnTo>
                      <a:pt x="234" y="829"/>
                    </a:lnTo>
                    <a:lnTo>
                      <a:pt x="238" y="829"/>
                    </a:lnTo>
                    <a:lnTo>
                      <a:pt x="243" y="829"/>
                    </a:lnTo>
                    <a:lnTo>
                      <a:pt x="247" y="829"/>
                    </a:lnTo>
                    <a:lnTo>
                      <a:pt x="251" y="829"/>
                    </a:lnTo>
                    <a:lnTo>
                      <a:pt x="256" y="829"/>
                    </a:lnTo>
                    <a:lnTo>
                      <a:pt x="260" y="829"/>
                    </a:lnTo>
                    <a:lnTo>
                      <a:pt x="264" y="829"/>
                    </a:lnTo>
                    <a:lnTo>
                      <a:pt x="269" y="829"/>
                    </a:lnTo>
                    <a:lnTo>
                      <a:pt x="273" y="829"/>
                    </a:lnTo>
                    <a:lnTo>
                      <a:pt x="277" y="829"/>
                    </a:lnTo>
                    <a:lnTo>
                      <a:pt x="282" y="829"/>
                    </a:lnTo>
                    <a:lnTo>
                      <a:pt x="286" y="829"/>
                    </a:lnTo>
                    <a:lnTo>
                      <a:pt x="290" y="829"/>
                    </a:lnTo>
                    <a:lnTo>
                      <a:pt x="295" y="829"/>
                    </a:lnTo>
                    <a:lnTo>
                      <a:pt x="299" y="829"/>
                    </a:lnTo>
                    <a:lnTo>
                      <a:pt x="303" y="829"/>
                    </a:lnTo>
                    <a:lnTo>
                      <a:pt x="308" y="829"/>
                    </a:lnTo>
                    <a:lnTo>
                      <a:pt x="312" y="829"/>
                    </a:lnTo>
                    <a:lnTo>
                      <a:pt x="316" y="829"/>
                    </a:lnTo>
                    <a:lnTo>
                      <a:pt x="321" y="829"/>
                    </a:lnTo>
                    <a:lnTo>
                      <a:pt x="325" y="829"/>
                    </a:lnTo>
                    <a:lnTo>
                      <a:pt x="329" y="829"/>
                    </a:lnTo>
                    <a:lnTo>
                      <a:pt x="334" y="829"/>
                    </a:lnTo>
                    <a:lnTo>
                      <a:pt x="338" y="829"/>
                    </a:lnTo>
                    <a:lnTo>
                      <a:pt x="342" y="829"/>
                    </a:lnTo>
                    <a:lnTo>
                      <a:pt x="347" y="829"/>
                    </a:lnTo>
                    <a:lnTo>
                      <a:pt x="351" y="829"/>
                    </a:lnTo>
                    <a:lnTo>
                      <a:pt x="355" y="829"/>
                    </a:lnTo>
                    <a:lnTo>
                      <a:pt x="360" y="829"/>
                    </a:lnTo>
                    <a:lnTo>
                      <a:pt x="364" y="829"/>
                    </a:lnTo>
                    <a:lnTo>
                      <a:pt x="368" y="829"/>
                    </a:lnTo>
                    <a:lnTo>
                      <a:pt x="373" y="829"/>
                    </a:lnTo>
                    <a:lnTo>
                      <a:pt x="377" y="829"/>
                    </a:lnTo>
                    <a:lnTo>
                      <a:pt x="381" y="829"/>
                    </a:lnTo>
                    <a:lnTo>
                      <a:pt x="385" y="829"/>
                    </a:lnTo>
                    <a:lnTo>
                      <a:pt x="390" y="829"/>
                    </a:lnTo>
                    <a:lnTo>
                      <a:pt x="394" y="829"/>
                    </a:lnTo>
                    <a:lnTo>
                      <a:pt x="398" y="829"/>
                    </a:lnTo>
                    <a:lnTo>
                      <a:pt x="403" y="829"/>
                    </a:lnTo>
                    <a:lnTo>
                      <a:pt x="407" y="829"/>
                    </a:lnTo>
                    <a:lnTo>
                      <a:pt x="411" y="829"/>
                    </a:lnTo>
                    <a:lnTo>
                      <a:pt x="416" y="829"/>
                    </a:lnTo>
                    <a:lnTo>
                      <a:pt x="420" y="829"/>
                    </a:lnTo>
                    <a:lnTo>
                      <a:pt x="424" y="829"/>
                    </a:lnTo>
                    <a:lnTo>
                      <a:pt x="429" y="829"/>
                    </a:lnTo>
                    <a:lnTo>
                      <a:pt x="433" y="829"/>
                    </a:lnTo>
                    <a:lnTo>
                      <a:pt x="437" y="829"/>
                    </a:lnTo>
                    <a:lnTo>
                      <a:pt x="442" y="829"/>
                    </a:lnTo>
                    <a:lnTo>
                      <a:pt x="446" y="829"/>
                    </a:lnTo>
                    <a:lnTo>
                      <a:pt x="446" y="825"/>
                    </a:lnTo>
                    <a:lnTo>
                      <a:pt x="450" y="825"/>
                    </a:lnTo>
                    <a:lnTo>
                      <a:pt x="455" y="825"/>
                    </a:lnTo>
                    <a:lnTo>
                      <a:pt x="459" y="825"/>
                    </a:lnTo>
                    <a:lnTo>
                      <a:pt x="463" y="820"/>
                    </a:lnTo>
                    <a:lnTo>
                      <a:pt x="468" y="820"/>
                    </a:lnTo>
                    <a:lnTo>
                      <a:pt x="472" y="816"/>
                    </a:lnTo>
                    <a:lnTo>
                      <a:pt x="476" y="816"/>
                    </a:lnTo>
                    <a:lnTo>
                      <a:pt x="476" y="812"/>
                    </a:lnTo>
                    <a:lnTo>
                      <a:pt x="481" y="812"/>
                    </a:lnTo>
                    <a:lnTo>
                      <a:pt x="485" y="807"/>
                    </a:lnTo>
                    <a:lnTo>
                      <a:pt x="489" y="803"/>
                    </a:lnTo>
                    <a:lnTo>
                      <a:pt x="494" y="799"/>
                    </a:lnTo>
                    <a:lnTo>
                      <a:pt x="494" y="794"/>
                    </a:lnTo>
                    <a:lnTo>
                      <a:pt x="498" y="794"/>
                    </a:lnTo>
                    <a:lnTo>
                      <a:pt x="498" y="790"/>
                    </a:lnTo>
                    <a:lnTo>
                      <a:pt x="502" y="790"/>
                    </a:lnTo>
                    <a:lnTo>
                      <a:pt x="502" y="786"/>
                    </a:lnTo>
                    <a:lnTo>
                      <a:pt x="502" y="781"/>
                    </a:lnTo>
                    <a:lnTo>
                      <a:pt x="507" y="781"/>
                    </a:lnTo>
                    <a:lnTo>
                      <a:pt x="507" y="777"/>
                    </a:lnTo>
                    <a:lnTo>
                      <a:pt x="511" y="773"/>
                    </a:lnTo>
                    <a:lnTo>
                      <a:pt x="511" y="768"/>
                    </a:lnTo>
                    <a:lnTo>
                      <a:pt x="515" y="764"/>
                    </a:lnTo>
                    <a:lnTo>
                      <a:pt x="515" y="760"/>
                    </a:lnTo>
                    <a:lnTo>
                      <a:pt x="515" y="755"/>
                    </a:lnTo>
                    <a:lnTo>
                      <a:pt x="520" y="755"/>
                    </a:lnTo>
                    <a:lnTo>
                      <a:pt x="520" y="751"/>
                    </a:lnTo>
                    <a:lnTo>
                      <a:pt x="520" y="747"/>
                    </a:lnTo>
                    <a:lnTo>
                      <a:pt x="520" y="742"/>
                    </a:lnTo>
                    <a:lnTo>
                      <a:pt x="524" y="738"/>
                    </a:lnTo>
                    <a:lnTo>
                      <a:pt x="524" y="734"/>
                    </a:lnTo>
                    <a:lnTo>
                      <a:pt x="528" y="729"/>
                    </a:lnTo>
                    <a:lnTo>
                      <a:pt x="528" y="725"/>
                    </a:lnTo>
                    <a:lnTo>
                      <a:pt x="528" y="721"/>
                    </a:lnTo>
                    <a:lnTo>
                      <a:pt x="533" y="716"/>
                    </a:lnTo>
                    <a:lnTo>
                      <a:pt x="533" y="708"/>
                    </a:lnTo>
                    <a:lnTo>
                      <a:pt x="533" y="703"/>
                    </a:lnTo>
                    <a:lnTo>
                      <a:pt x="537" y="699"/>
                    </a:lnTo>
                    <a:lnTo>
                      <a:pt x="537" y="695"/>
                    </a:lnTo>
                    <a:lnTo>
                      <a:pt x="537" y="690"/>
                    </a:lnTo>
                    <a:lnTo>
                      <a:pt x="537" y="686"/>
                    </a:lnTo>
                    <a:lnTo>
                      <a:pt x="541" y="677"/>
                    </a:lnTo>
                    <a:lnTo>
                      <a:pt x="541" y="673"/>
                    </a:lnTo>
                    <a:lnTo>
                      <a:pt x="541" y="669"/>
                    </a:lnTo>
                    <a:lnTo>
                      <a:pt x="546" y="660"/>
                    </a:lnTo>
                    <a:lnTo>
                      <a:pt x="546" y="655"/>
                    </a:lnTo>
                    <a:lnTo>
                      <a:pt x="546" y="647"/>
                    </a:lnTo>
                    <a:lnTo>
                      <a:pt x="550" y="642"/>
                    </a:lnTo>
                    <a:lnTo>
                      <a:pt x="550" y="634"/>
                    </a:lnTo>
                    <a:lnTo>
                      <a:pt x="550" y="629"/>
                    </a:lnTo>
                    <a:lnTo>
                      <a:pt x="554" y="621"/>
                    </a:lnTo>
                    <a:lnTo>
                      <a:pt x="554" y="616"/>
                    </a:lnTo>
                    <a:lnTo>
                      <a:pt x="554" y="608"/>
                    </a:lnTo>
                    <a:lnTo>
                      <a:pt x="554" y="599"/>
                    </a:lnTo>
                    <a:lnTo>
                      <a:pt x="559" y="595"/>
                    </a:lnTo>
                    <a:lnTo>
                      <a:pt x="559" y="586"/>
                    </a:lnTo>
                    <a:lnTo>
                      <a:pt x="559" y="577"/>
                    </a:lnTo>
                    <a:lnTo>
                      <a:pt x="563" y="569"/>
                    </a:lnTo>
                    <a:lnTo>
                      <a:pt x="563" y="560"/>
                    </a:lnTo>
                    <a:lnTo>
                      <a:pt x="563" y="551"/>
                    </a:lnTo>
                    <a:lnTo>
                      <a:pt x="567" y="547"/>
                    </a:lnTo>
                    <a:lnTo>
                      <a:pt x="567" y="538"/>
                    </a:lnTo>
                    <a:lnTo>
                      <a:pt x="567" y="530"/>
                    </a:lnTo>
                    <a:lnTo>
                      <a:pt x="572" y="521"/>
                    </a:lnTo>
                    <a:lnTo>
                      <a:pt x="572" y="512"/>
                    </a:lnTo>
                    <a:lnTo>
                      <a:pt x="572" y="504"/>
                    </a:lnTo>
                    <a:lnTo>
                      <a:pt x="572" y="491"/>
                    </a:lnTo>
                    <a:lnTo>
                      <a:pt x="576" y="482"/>
                    </a:lnTo>
                    <a:lnTo>
                      <a:pt x="576" y="473"/>
                    </a:lnTo>
                    <a:lnTo>
                      <a:pt x="576" y="465"/>
                    </a:lnTo>
                    <a:lnTo>
                      <a:pt x="580" y="456"/>
                    </a:lnTo>
                    <a:lnTo>
                      <a:pt x="580" y="447"/>
                    </a:lnTo>
                    <a:lnTo>
                      <a:pt x="580" y="438"/>
                    </a:lnTo>
                    <a:lnTo>
                      <a:pt x="585" y="425"/>
                    </a:lnTo>
                    <a:lnTo>
                      <a:pt x="585" y="417"/>
                    </a:lnTo>
                    <a:lnTo>
                      <a:pt x="585" y="408"/>
                    </a:lnTo>
                    <a:lnTo>
                      <a:pt x="589" y="399"/>
                    </a:lnTo>
                    <a:lnTo>
                      <a:pt x="589" y="386"/>
                    </a:lnTo>
                    <a:lnTo>
                      <a:pt x="589" y="378"/>
                    </a:lnTo>
                    <a:lnTo>
                      <a:pt x="589" y="369"/>
                    </a:lnTo>
                    <a:lnTo>
                      <a:pt x="593" y="356"/>
                    </a:lnTo>
                    <a:lnTo>
                      <a:pt x="593" y="347"/>
                    </a:lnTo>
                    <a:lnTo>
                      <a:pt x="593" y="339"/>
                    </a:lnTo>
                    <a:lnTo>
                      <a:pt x="598" y="326"/>
                    </a:lnTo>
                    <a:lnTo>
                      <a:pt x="598" y="317"/>
                    </a:lnTo>
                    <a:lnTo>
                      <a:pt x="598" y="308"/>
                    </a:lnTo>
                    <a:lnTo>
                      <a:pt x="602" y="295"/>
                    </a:lnTo>
                    <a:lnTo>
                      <a:pt x="602" y="287"/>
                    </a:lnTo>
                    <a:lnTo>
                      <a:pt x="602" y="278"/>
                    </a:lnTo>
                    <a:lnTo>
                      <a:pt x="602" y="265"/>
                    </a:lnTo>
                    <a:lnTo>
                      <a:pt x="606" y="256"/>
                    </a:lnTo>
                    <a:lnTo>
                      <a:pt x="606" y="247"/>
                    </a:lnTo>
                    <a:lnTo>
                      <a:pt x="606" y="239"/>
                    </a:lnTo>
                    <a:lnTo>
                      <a:pt x="611" y="226"/>
                    </a:lnTo>
                    <a:lnTo>
                      <a:pt x="611" y="217"/>
                    </a:lnTo>
                    <a:lnTo>
                      <a:pt x="611" y="208"/>
                    </a:lnTo>
                    <a:lnTo>
                      <a:pt x="615" y="200"/>
                    </a:lnTo>
                    <a:lnTo>
                      <a:pt x="615" y="191"/>
                    </a:lnTo>
                    <a:lnTo>
                      <a:pt x="615" y="182"/>
                    </a:lnTo>
                    <a:lnTo>
                      <a:pt x="619" y="174"/>
                    </a:lnTo>
                    <a:lnTo>
                      <a:pt x="619" y="161"/>
                    </a:lnTo>
                    <a:lnTo>
                      <a:pt x="619" y="152"/>
                    </a:lnTo>
                    <a:lnTo>
                      <a:pt x="619" y="143"/>
                    </a:lnTo>
                    <a:lnTo>
                      <a:pt x="624" y="139"/>
                    </a:lnTo>
                    <a:lnTo>
                      <a:pt x="624" y="130"/>
                    </a:lnTo>
                    <a:lnTo>
                      <a:pt x="624" y="122"/>
                    </a:lnTo>
                    <a:lnTo>
                      <a:pt x="628" y="113"/>
                    </a:lnTo>
                    <a:lnTo>
                      <a:pt x="628" y="104"/>
                    </a:lnTo>
                    <a:lnTo>
                      <a:pt x="628" y="100"/>
                    </a:lnTo>
                    <a:lnTo>
                      <a:pt x="632" y="91"/>
                    </a:lnTo>
                    <a:lnTo>
                      <a:pt x="632" y="83"/>
                    </a:lnTo>
                    <a:lnTo>
                      <a:pt x="632" y="78"/>
                    </a:lnTo>
                    <a:lnTo>
                      <a:pt x="637" y="70"/>
                    </a:lnTo>
                    <a:lnTo>
                      <a:pt x="637" y="65"/>
                    </a:lnTo>
                    <a:lnTo>
                      <a:pt x="637" y="56"/>
                    </a:lnTo>
                    <a:lnTo>
                      <a:pt x="637" y="52"/>
                    </a:lnTo>
                    <a:lnTo>
                      <a:pt x="641" y="48"/>
                    </a:lnTo>
                    <a:lnTo>
                      <a:pt x="641" y="43"/>
                    </a:lnTo>
                    <a:lnTo>
                      <a:pt x="641" y="35"/>
                    </a:lnTo>
                    <a:lnTo>
                      <a:pt x="645" y="30"/>
                    </a:lnTo>
                    <a:lnTo>
                      <a:pt x="645" y="26"/>
                    </a:lnTo>
                    <a:lnTo>
                      <a:pt x="645" y="22"/>
                    </a:lnTo>
                    <a:lnTo>
                      <a:pt x="650" y="22"/>
                    </a:lnTo>
                    <a:lnTo>
                      <a:pt x="650" y="17"/>
                    </a:lnTo>
                    <a:lnTo>
                      <a:pt x="650" y="13"/>
                    </a:lnTo>
                    <a:lnTo>
                      <a:pt x="654" y="9"/>
                    </a:lnTo>
                    <a:lnTo>
                      <a:pt x="654" y="4"/>
                    </a:lnTo>
                    <a:lnTo>
                      <a:pt x="658" y="4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7" y="0"/>
                    </a:lnTo>
                    <a:lnTo>
                      <a:pt x="667" y="4"/>
                    </a:lnTo>
                    <a:lnTo>
                      <a:pt x="671" y="4"/>
                    </a:lnTo>
                    <a:lnTo>
                      <a:pt x="671" y="9"/>
                    </a:lnTo>
                    <a:lnTo>
                      <a:pt x="676" y="13"/>
                    </a:lnTo>
                    <a:lnTo>
                      <a:pt x="676" y="17"/>
                    </a:lnTo>
                    <a:lnTo>
                      <a:pt x="676" y="22"/>
                    </a:lnTo>
                    <a:lnTo>
                      <a:pt x="680" y="22"/>
                    </a:lnTo>
                    <a:lnTo>
                      <a:pt x="680" y="26"/>
                    </a:lnTo>
                    <a:lnTo>
                      <a:pt x="680" y="30"/>
                    </a:lnTo>
                    <a:lnTo>
                      <a:pt x="684" y="35"/>
                    </a:lnTo>
                    <a:lnTo>
                      <a:pt x="684" y="43"/>
                    </a:lnTo>
                    <a:lnTo>
                      <a:pt x="684" y="48"/>
                    </a:lnTo>
                    <a:lnTo>
                      <a:pt x="689" y="52"/>
                    </a:lnTo>
                    <a:lnTo>
                      <a:pt x="689" y="56"/>
                    </a:lnTo>
                    <a:lnTo>
                      <a:pt x="689" y="65"/>
                    </a:lnTo>
                    <a:lnTo>
                      <a:pt x="689" y="70"/>
                    </a:lnTo>
                    <a:lnTo>
                      <a:pt x="693" y="78"/>
                    </a:lnTo>
                    <a:lnTo>
                      <a:pt x="693" y="83"/>
                    </a:lnTo>
                    <a:lnTo>
                      <a:pt x="693" y="91"/>
                    </a:lnTo>
                    <a:lnTo>
                      <a:pt x="697" y="100"/>
                    </a:lnTo>
                    <a:lnTo>
                      <a:pt x="697" y="104"/>
                    </a:lnTo>
                    <a:lnTo>
                      <a:pt x="697" y="113"/>
                    </a:lnTo>
                    <a:lnTo>
                      <a:pt x="702" y="122"/>
                    </a:lnTo>
                    <a:lnTo>
                      <a:pt x="702" y="130"/>
                    </a:lnTo>
                    <a:lnTo>
                      <a:pt x="702" y="139"/>
                    </a:lnTo>
                    <a:lnTo>
                      <a:pt x="706" y="143"/>
                    </a:lnTo>
                    <a:lnTo>
                      <a:pt x="706" y="152"/>
                    </a:lnTo>
                    <a:lnTo>
                      <a:pt x="706" y="161"/>
                    </a:lnTo>
                    <a:lnTo>
                      <a:pt x="706" y="174"/>
                    </a:lnTo>
                    <a:lnTo>
                      <a:pt x="710" y="182"/>
                    </a:lnTo>
                    <a:lnTo>
                      <a:pt x="710" y="191"/>
                    </a:lnTo>
                    <a:lnTo>
                      <a:pt x="710" y="200"/>
                    </a:lnTo>
                    <a:lnTo>
                      <a:pt x="715" y="208"/>
                    </a:lnTo>
                    <a:lnTo>
                      <a:pt x="715" y="217"/>
                    </a:lnTo>
                    <a:lnTo>
                      <a:pt x="715" y="226"/>
                    </a:lnTo>
                    <a:lnTo>
                      <a:pt x="719" y="239"/>
                    </a:lnTo>
                    <a:lnTo>
                      <a:pt x="719" y="247"/>
                    </a:lnTo>
                    <a:lnTo>
                      <a:pt x="719" y="256"/>
                    </a:lnTo>
                    <a:lnTo>
                      <a:pt x="723" y="265"/>
                    </a:lnTo>
                    <a:lnTo>
                      <a:pt x="723" y="278"/>
                    </a:lnTo>
                    <a:lnTo>
                      <a:pt x="723" y="287"/>
                    </a:lnTo>
                    <a:lnTo>
                      <a:pt x="723" y="295"/>
                    </a:lnTo>
                    <a:lnTo>
                      <a:pt x="728" y="308"/>
                    </a:lnTo>
                    <a:lnTo>
                      <a:pt x="728" y="317"/>
                    </a:lnTo>
                    <a:lnTo>
                      <a:pt x="728" y="326"/>
                    </a:lnTo>
                    <a:lnTo>
                      <a:pt x="732" y="339"/>
                    </a:lnTo>
                    <a:lnTo>
                      <a:pt x="732" y="347"/>
                    </a:lnTo>
                    <a:lnTo>
                      <a:pt x="732" y="356"/>
                    </a:lnTo>
                    <a:lnTo>
                      <a:pt x="736" y="369"/>
                    </a:lnTo>
                    <a:lnTo>
                      <a:pt x="736" y="378"/>
                    </a:lnTo>
                    <a:lnTo>
                      <a:pt x="736" y="386"/>
                    </a:lnTo>
                    <a:lnTo>
                      <a:pt x="736" y="399"/>
                    </a:lnTo>
                    <a:lnTo>
                      <a:pt x="741" y="408"/>
                    </a:lnTo>
                    <a:lnTo>
                      <a:pt x="741" y="417"/>
                    </a:lnTo>
                    <a:lnTo>
                      <a:pt x="741" y="425"/>
                    </a:lnTo>
                    <a:lnTo>
                      <a:pt x="745" y="438"/>
                    </a:lnTo>
                    <a:lnTo>
                      <a:pt x="745" y="447"/>
                    </a:lnTo>
                    <a:lnTo>
                      <a:pt x="745" y="456"/>
                    </a:lnTo>
                    <a:lnTo>
                      <a:pt x="749" y="465"/>
                    </a:lnTo>
                    <a:lnTo>
                      <a:pt x="749" y="473"/>
                    </a:lnTo>
                    <a:lnTo>
                      <a:pt x="749" y="482"/>
                    </a:lnTo>
                    <a:lnTo>
                      <a:pt x="754" y="491"/>
                    </a:lnTo>
                    <a:lnTo>
                      <a:pt x="754" y="504"/>
                    </a:lnTo>
                    <a:lnTo>
                      <a:pt x="754" y="512"/>
                    </a:lnTo>
                    <a:lnTo>
                      <a:pt x="754" y="521"/>
                    </a:lnTo>
                    <a:lnTo>
                      <a:pt x="758" y="530"/>
                    </a:lnTo>
                    <a:lnTo>
                      <a:pt x="758" y="538"/>
                    </a:lnTo>
                    <a:lnTo>
                      <a:pt x="758" y="547"/>
                    </a:lnTo>
                    <a:lnTo>
                      <a:pt x="762" y="551"/>
                    </a:lnTo>
                    <a:lnTo>
                      <a:pt x="762" y="560"/>
                    </a:lnTo>
                    <a:lnTo>
                      <a:pt x="762" y="569"/>
                    </a:lnTo>
                    <a:lnTo>
                      <a:pt x="767" y="577"/>
                    </a:lnTo>
                    <a:lnTo>
                      <a:pt x="767" y="586"/>
                    </a:lnTo>
                    <a:lnTo>
                      <a:pt x="767" y="595"/>
                    </a:lnTo>
                    <a:lnTo>
                      <a:pt x="771" y="599"/>
                    </a:lnTo>
                    <a:lnTo>
                      <a:pt x="771" y="608"/>
                    </a:lnTo>
                    <a:lnTo>
                      <a:pt x="771" y="616"/>
                    </a:lnTo>
                    <a:lnTo>
                      <a:pt x="771" y="621"/>
                    </a:lnTo>
                    <a:lnTo>
                      <a:pt x="775" y="629"/>
                    </a:lnTo>
                    <a:lnTo>
                      <a:pt x="775" y="634"/>
                    </a:lnTo>
                    <a:lnTo>
                      <a:pt x="775" y="642"/>
                    </a:lnTo>
                    <a:lnTo>
                      <a:pt x="780" y="647"/>
                    </a:lnTo>
                    <a:lnTo>
                      <a:pt x="780" y="655"/>
                    </a:lnTo>
                    <a:lnTo>
                      <a:pt x="780" y="660"/>
                    </a:lnTo>
                    <a:lnTo>
                      <a:pt x="784" y="669"/>
                    </a:lnTo>
                    <a:lnTo>
                      <a:pt x="784" y="673"/>
                    </a:lnTo>
                    <a:lnTo>
                      <a:pt x="784" y="677"/>
                    </a:lnTo>
                    <a:lnTo>
                      <a:pt x="788" y="686"/>
                    </a:lnTo>
                    <a:lnTo>
                      <a:pt x="788" y="690"/>
                    </a:lnTo>
                    <a:lnTo>
                      <a:pt x="788" y="695"/>
                    </a:lnTo>
                    <a:lnTo>
                      <a:pt x="788" y="699"/>
                    </a:lnTo>
                    <a:lnTo>
                      <a:pt x="793" y="703"/>
                    </a:lnTo>
                    <a:lnTo>
                      <a:pt x="793" y="708"/>
                    </a:lnTo>
                    <a:lnTo>
                      <a:pt x="793" y="716"/>
                    </a:lnTo>
                    <a:lnTo>
                      <a:pt x="797" y="721"/>
                    </a:lnTo>
                    <a:lnTo>
                      <a:pt x="797" y="725"/>
                    </a:lnTo>
                    <a:lnTo>
                      <a:pt x="797" y="729"/>
                    </a:lnTo>
                    <a:lnTo>
                      <a:pt x="801" y="734"/>
                    </a:lnTo>
                    <a:lnTo>
                      <a:pt x="801" y="738"/>
                    </a:lnTo>
                    <a:lnTo>
                      <a:pt x="806" y="742"/>
                    </a:lnTo>
                    <a:lnTo>
                      <a:pt x="806" y="747"/>
                    </a:lnTo>
                    <a:lnTo>
                      <a:pt x="806" y="751"/>
                    </a:lnTo>
                    <a:lnTo>
                      <a:pt x="806" y="755"/>
                    </a:lnTo>
                    <a:lnTo>
                      <a:pt x="810" y="755"/>
                    </a:lnTo>
                    <a:lnTo>
                      <a:pt x="810" y="760"/>
                    </a:lnTo>
                    <a:lnTo>
                      <a:pt x="810" y="764"/>
                    </a:lnTo>
                    <a:lnTo>
                      <a:pt x="814" y="768"/>
                    </a:lnTo>
                    <a:lnTo>
                      <a:pt x="814" y="773"/>
                    </a:lnTo>
                    <a:lnTo>
                      <a:pt x="819" y="777"/>
                    </a:lnTo>
                    <a:lnTo>
                      <a:pt x="819" y="781"/>
                    </a:lnTo>
                    <a:lnTo>
                      <a:pt x="823" y="781"/>
                    </a:lnTo>
                    <a:lnTo>
                      <a:pt x="823" y="786"/>
                    </a:lnTo>
                    <a:lnTo>
                      <a:pt x="823" y="790"/>
                    </a:lnTo>
                    <a:lnTo>
                      <a:pt x="827" y="790"/>
                    </a:lnTo>
                    <a:lnTo>
                      <a:pt x="827" y="794"/>
                    </a:lnTo>
                    <a:lnTo>
                      <a:pt x="832" y="794"/>
                    </a:lnTo>
                    <a:lnTo>
                      <a:pt x="832" y="799"/>
                    </a:lnTo>
                    <a:lnTo>
                      <a:pt x="836" y="803"/>
                    </a:lnTo>
                    <a:lnTo>
                      <a:pt x="840" y="807"/>
                    </a:lnTo>
                    <a:lnTo>
                      <a:pt x="845" y="812"/>
                    </a:lnTo>
                    <a:lnTo>
                      <a:pt x="849" y="812"/>
                    </a:lnTo>
                    <a:lnTo>
                      <a:pt x="849" y="816"/>
                    </a:lnTo>
                    <a:lnTo>
                      <a:pt x="853" y="816"/>
                    </a:lnTo>
                    <a:lnTo>
                      <a:pt x="858" y="820"/>
                    </a:lnTo>
                    <a:lnTo>
                      <a:pt x="862" y="820"/>
                    </a:lnTo>
                    <a:lnTo>
                      <a:pt x="866" y="825"/>
                    </a:lnTo>
                    <a:lnTo>
                      <a:pt x="871" y="825"/>
                    </a:lnTo>
                    <a:lnTo>
                      <a:pt x="875" y="825"/>
                    </a:lnTo>
                    <a:lnTo>
                      <a:pt x="879" y="825"/>
                    </a:lnTo>
                    <a:lnTo>
                      <a:pt x="879" y="829"/>
                    </a:lnTo>
                    <a:lnTo>
                      <a:pt x="884" y="829"/>
                    </a:lnTo>
                    <a:lnTo>
                      <a:pt x="888" y="829"/>
                    </a:lnTo>
                    <a:lnTo>
                      <a:pt x="892" y="829"/>
                    </a:lnTo>
                    <a:lnTo>
                      <a:pt x="897" y="829"/>
                    </a:lnTo>
                    <a:lnTo>
                      <a:pt x="901" y="829"/>
                    </a:lnTo>
                    <a:lnTo>
                      <a:pt x="905" y="829"/>
                    </a:lnTo>
                    <a:lnTo>
                      <a:pt x="910" y="829"/>
                    </a:lnTo>
                    <a:lnTo>
                      <a:pt x="914" y="829"/>
                    </a:lnTo>
                    <a:lnTo>
                      <a:pt x="918" y="829"/>
                    </a:lnTo>
                    <a:lnTo>
                      <a:pt x="923" y="829"/>
                    </a:lnTo>
                    <a:lnTo>
                      <a:pt x="927" y="829"/>
                    </a:lnTo>
                    <a:lnTo>
                      <a:pt x="931" y="829"/>
                    </a:lnTo>
                    <a:lnTo>
                      <a:pt x="936" y="829"/>
                    </a:lnTo>
                    <a:lnTo>
                      <a:pt x="940" y="829"/>
                    </a:lnTo>
                    <a:lnTo>
                      <a:pt x="944" y="829"/>
                    </a:lnTo>
                    <a:lnTo>
                      <a:pt x="949" y="829"/>
                    </a:lnTo>
                    <a:lnTo>
                      <a:pt x="953" y="829"/>
                    </a:lnTo>
                    <a:lnTo>
                      <a:pt x="957" y="829"/>
                    </a:lnTo>
                    <a:lnTo>
                      <a:pt x="961" y="829"/>
                    </a:lnTo>
                    <a:lnTo>
                      <a:pt x="966" y="829"/>
                    </a:lnTo>
                    <a:lnTo>
                      <a:pt x="970" y="829"/>
                    </a:lnTo>
                    <a:lnTo>
                      <a:pt x="974" y="829"/>
                    </a:lnTo>
                    <a:lnTo>
                      <a:pt x="979" y="829"/>
                    </a:lnTo>
                    <a:lnTo>
                      <a:pt x="983" y="829"/>
                    </a:lnTo>
                    <a:lnTo>
                      <a:pt x="987" y="829"/>
                    </a:lnTo>
                    <a:lnTo>
                      <a:pt x="992" y="829"/>
                    </a:lnTo>
                    <a:lnTo>
                      <a:pt x="996" y="829"/>
                    </a:lnTo>
                    <a:lnTo>
                      <a:pt x="1000" y="829"/>
                    </a:lnTo>
                    <a:lnTo>
                      <a:pt x="1005" y="829"/>
                    </a:lnTo>
                    <a:lnTo>
                      <a:pt x="1009" y="829"/>
                    </a:lnTo>
                    <a:lnTo>
                      <a:pt x="1013" y="829"/>
                    </a:lnTo>
                    <a:lnTo>
                      <a:pt x="1018" y="829"/>
                    </a:lnTo>
                    <a:lnTo>
                      <a:pt x="1022" y="829"/>
                    </a:lnTo>
                    <a:lnTo>
                      <a:pt x="1026" y="829"/>
                    </a:lnTo>
                    <a:lnTo>
                      <a:pt x="1031" y="829"/>
                    </a:lnTo>
                    <a:lnTo>
                      <a:pt x="1035" y="829"/>
                    </a:lnTo>
                    <a:lnTo>
                      <a:pt x="1039" y="829"/>
                    </a:lnTo>
                    <a:lnTo>
                      <a:pt x="1044" y="829"/>
                    </a:lnTo>
                    <a:lnTo>
                      <a:pt x="1048" y="829"/>
                    </a:lnTo>
                    <a:lnTo>
                      <a:pt x="1052" y="829"/>
                    </a:lnTo>
                    <a:lnTo>
                      <a:pt x="1057" y="829"/>
                    </a:lnTo>
                    <a:lnTo>
                      <a:pt x="1061" y="829"/>
                    </a:lnTo>
                    <a:lnTo>
                      <a:pt x="1065" y="829"/>
                    </a:lnTo>
                    <a:lnTo>
                      <a:pt x="1070" y="829"/>
                    </a:lnTo>
                    <a:lnTo>
                      <a:pt x="1074" y="829"/>
                    </a:lnTo>
                    <a:lnTo>
                      <a:pt x="1078" y="829"/>
                    </a:lnTo>
                    <a:lnTo>
                      <a:pt x="1083" y="829"/>
                    </a:lnTo>
                    <a:lnTo>
                      <a:pt x="1087" y="829"/>
                    </a:lnTo>
                    <a:lnTo>
                      <a:pt x="1091" y="829"/>
                    </a:lnTo>
                    <a:lnTo>
                      <a:pt x="1096" y="829"/>
                    </a:lnTo>
                    <a:lnTo>
                      <a:pt x="1100" y="829"/>
                    </a:lnTo>
                    <a:lnTo>
                      <a:pt x="1104" y="829"/>
                    </a:lnTo>
                    <a:lnTo>
                      <a:pt x="1109" y="829"/>
                    </a:lnTo>
                    <a:lnTo>
                      <a:pt x="1113" y="829"/>
                    </a:lnTo>
                    <a:lnTo>
                      <a:pt x="1117" y="829"/>
                    </a:lnTo>
                    <a:lnTo>
                      <a:pt x="1122" y="829"/>
                    </a:lnTo>
                    <a:lnTo>
                      <a:pt x="1126" y="829"/>
                    </a:lnTo>
                    <a:lnTo>
                      <a:pt x="1130" y="829"/>
                    </a:lnTo>
                    <a:lnTo>
                      <a:pt x="1135" y="829"/>
                    </a:lnTo>
                    <a:lnTo>
                      <a:pt x="1139" y="829"/>
                    </a:lnTo>
                    <a:lnTo>
                      <a:pt x="1143" y="829"/>
                    </a:lnTo>
                    <a:lnTo>
                      <a:pt x="1148" y="829"/>
                    </a:lnTo>
                    <a:lnTo>
                      <a:pt x="1152" y="829"/>
                    </a:lnTo>
                    <a:lnTo>
                      <a:pt x="1156" y="829"/>
                    </a:lnTo>
                    <a:lnTo>
                      <a:pt x="1161" y="829"/>
                    </a:lnTo>
                    <a:lnTo>
                      <a:pt x="1165" y="829"/>
                    </a:lnTo>
                    <a:lnTo>
                      <a:pt x="1169" y="829"/>
                    </a:lnTo>
                    <a:lnTo>
                      <a:pt x="1174" y="829"/>
                    </a:lnTo>
                    <a:lnTo>
                      <a:pt x="1178" y="829"/>
                    </a:lnTo>
                    <a:lnTo>
                      <a:pt x="1182" y="829"/>
                    </a:lnTo>
                    <a:lnTo>
                      <a:pt x="1187" y="829"/>
                    </a:lnTo>
                    <a:lnTo>
                      <a:pt x="1191" y="829"/>
                    </a:lnTo>
                    <a:lnTo>
                      <a:pt x="1195" y="829"/>
                    </a:lnTo>
                    <a:lnTo>
                      <a:pt x="1200" y="829"/>
                    </a:lnTo>
                    <a:lnTo>
                      <a:pt x="1204" y="829"/>
                    </a:lnTo>
                    <a:lnTo>
                      <a:pt x="1208" y="829"/>
                    </a:lnTo>
                    <a:lnTo>
                      <a:pt x="1213" y="829"/>
                    </a:lnTo>
                    <a:lnTo>
                      <a:pt x="1217" y="829"/>
                    </a:lnTo>
                    <a:lnTo>
                      <a:pt x="1221" y="829"/>
                    </a:lnTo>
                    <a:lnTo>
                      <a:pt x="1226" y="829"/>
                    </a:lnTo>
                    <a:lnTo>
                      <a:pt x="1230" y="829"/>
                    </a:lnTo>
                    <a:lnTo>
                      <a:pt x="1234" y="829"/>
                    </a:lnTo>
                    <a:lnTo>
                      <a:pt x="1239" y="829"/>
                    </a:lnTo>
                    <a:lnTo>
                      <a:pt x="1243" y="829"/>
                    </a:lnTo>
                    <a:lnTo>
                      <a:pt x="1247" y="829"/>
                    </a:lnTo>
                    <a:lnTo>
                      <a:pt x="1252" y="829"/>
                    </a:lnTo>
                    <a:lnTo>
                      <a:pt x="1256" y="829"/>
                    </a:lnTo>
                    <a:lnTo>
                      <a:pt x="1260" y="829"/>
                    </a:lnTo>
                    <a:lnTo>
                      <a:pt x="1265" y="829"/>
                    </a:lnTo>
                    <a:lnTo>
                      <a:pt x="1269" y="829"/>
                    </a:lnTo>
                    <a:lnTo>
                      <a:pt x="1273" y="829"/>
                    </a:lnTo>
                    <a:lnTo>
                      <a:pt x="1278" y="829"/>
                    </a:lnTo>
                    <a:lnTo>
                      <a:pt x="1282" y="829"/>
                    </a:lnTo>
                    <a:lnTo>
                      <a:pt x="1286" y="829"/>
                    </a:lnTo>
                    <a:lnTo>
                      <a:pt x="1291" y="829"/>
                    </a:lnTo>
                    <a:lnTo>
                      <a:pt x="1295" y="829"/>
                    </a:lnTo>
                    <a:lnTo>
                      <a:pt x="1299" y="829"/>
                    </a:lnTo>
                    <a:lnTo>
                      <a:pt x="1304" y="829"/>
                    </a:lnTo>
                    <a:lnTo>
                      <a:pt x="1308" y="829"/>
                    </a:lnTo>
                    <a:lnTo>
                      <a:pt x="1312" y="829"/>
                    </a:lnTo>
                    <a:lnTo>
                      <a:pt x="1317" y="829"/>
                    </a:lnTo>
                    <a:lnTo>
                      <a:pt x="1321" y="829"/>
                    </a:lnTo>
                    <a:lnTo>
                      <a:pt x="1325" y="8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custGeom>
                <a:avLst/>
                <a:gdLst>
                  <a:gd name="textAreaLeft" fmla="*/ 0 w 2890440"/>
                  <a:gd name="textAreaRight" fmla="*/ 2890800 w 2890440"/>
                  <a:gd name="textAreaTop" fmla="*/ 0 h 1661040"/>
                  <a:gd name="textAreaBottom" fmla="*/ 1661400 h 166104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custGeom>
              <a:avLst/>
              <a:gdLst/>
              <a:ahLst/>
              <a:rect l="l" t="t" r="r" b="b"/>
              <a:pathLst>
                <a:path w="2296" h="1616">
                  <a:moveTo>
                    <a:pt x="0" y="1615"/>
                  </a:moveTo>
                  <a:lnTo>
                    <a:pt x="2295" y="1615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615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custGeom>
                <a:avLst/>
                <a:gdLst>
                  <a:gd name="textAreaLeft" fmla="*/ 0 w 2890080"/>
                  <a:gd name="textAreaRight" fmla="*/ 2890440 w 2890080"/>
                  <a:gd name="textAreaTop" fmla="*/ 0 h 1648800"/>
                  <a:gd name="textAreaBottom" fmla="*/ 1649160 h 164880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custGeom>
                <a:avLst/>
                <a:gdLst>
                  <a:gd name="textAreaLeft" fmla="*/ 0 w 2768760"/>
                  <a:gd name="textAreaRight" fmla="*/ 2769120 w 27687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0" h="928">
                    <a:moveTo>
                      <a:pt x="0" y="927"/>
                    </a:moveTo>
                    <a:lnTo>
                      <a:pt x="4" y="927"/>
                    </a:lnTo>
                    <a:lnTo>
                      <a:pt x="13" y="927"/>
                    </a:lnTo>
                    <a:lnTo>
                      <a:pt x="17" y="927"/>
                    </a:lnTo>
                    <a:lnTo>
                      <a:pt x="26" y="927"/>
                    </a:lnTo>
                    <a:lnTo>
                      <a:pt x="30" y="927"/>
                    </a:lnTo>
                    <a:lnTo>
                      <a:pt x="39" y="927"/>
                    </a:lnTo>
                    <a:lnTo>
                      <a:pt x="43" y="927"/>
                    </a:lnTo>
                    <a:lnTo>
                      <a:pt x="52" y="927"/>
                    </a:lnTo>
                    <a:lnTo>
                      <a:pt x="56" y="927"/>
                    </a:lnTo>
                    <a:lnTo>
                      <a:pt x="65" y="927"/>
                    </a:lnTo>
                    <a:lnTo>
                      <a:pt x="69" y="927"/>
                    </a:lnTo>
                    <a:lnTo>
                      <a:pt x="78" y="927"/>
                    </a:lnTo>
                    <a:lnTo>
                      <a:pt x="82" y="927"/>
                    </a:lnTo>
                    <a:lnTo>
                      <a:pt x="91" y="927"/>
                    </a:lnTo>
                    <a:lnTo>
                      <a:pt x="100" y="927"/>
                    </a:lnTo>
                    <a:lnTo>
                      <a:pt x="104" y="927"/>
                    </a:lnTo>
                    <a:lnTo>
                      <a:pt x="112" y="927"/>
                    </a:lnTo>
                    <a:lnTo>
                      <a:pt x="116" y="927"/>
                    </a:lnTo>
                    <a:lnTo>
                      <a:pt x="125" y="927"/>
                    </a:lnTo>
                    <a:lnTo>
                      <a:pt x="129" y="927"/>
                    </a:lnTo>
                    <a:lnTo>
                      <a:pt x="138" y="927"/>
                    </a:lnTo>
                    <a:lnTo>
                      <a:pt x="142" y="927"/>
                    </a:lnTo>
                    <a:lnTo>
                      <a:pt x="151" y="927"/>
                    </a:lnTo>
                    <a:lnTo>
                      <a:pt x="155" y="927"/>
                    </a:lnTo>
                    <a:lnTo>
                      <a:pt x="164" y="927"/>
                    </a:lnTo>
                    <a:lnTo>
                      <a:pt x="168" y="927"/>
                    </a:lnTo>
                    <a:lnTo>
                      <a:pt x="177" y="927"/>
                    </a:lnTo>
                    <a:lnTo>
                      <a:pt x="181" y="927"/>
                    </a:lnTo>
                    <a:lnTo>
                      <a:pt x="190" y="927"/>
                    </a:lnTo>
                    <a:lnTo>
                      <a:pt x="198" y="927"/>
                    </a:lnTo>
                    <a:lnTo>
                      <a:pt x="203" y="927"/>
                    </a:lnTo>
                    <a:lnTo>
                      <a:pt x="211" y="927"/>
                    </a:lnTo>
                    <a:lnTo>
                      <a:pt x="216" y="927"/>
                    </a:lnTo>
                    <a:lnTo>
                      <a:pt x="224" y="927"/>
                    </a:lnTo>
                    <a:lnTo>
                      <a:pt x="229" y="927"/>
                    </a:lnTo>
                    <a:lnTo>
                      <a:pt x="237" y="927"/>
                    </a:lnTo>
                    <a:lnTo>
                      <a:pt x="242" y="927"/>
                    </a:lnTo>
                    <a:lnTo>
                      <a:pt x="250" y="927"/>
                    </a:lnTo>
                    <a:lnTo>
                      <a:pt x="255" y="927"/>
                    </a:lnTo>
                    <a:lnTo>
                      <a:pt x="263" y="927"/>
                    </a:lnTo>
                    <a:lnTo>
                      <a:pt x="268" y="927"/>
                    </a:lnTo>
                    <a:lnTo>
                      <a:pt x="276" y="927"/>
                    </a:lnTo>
                    <a:lnTo>
                      <a:pt x="285" y="927"/>
                    </a:lnTo>
                    <a:lnTo>
                      <a:pt x="289" y="927"/>
                    </a:lnTo>
                    <a:lnTo>
                      <a:pt x="298" y="927"/>
                    </a:lnTo>
                    <a:lnTo>
                      <a:pt x="302" y="927"/>
                    </a:lnTo>
                    <a:lnTo>
                      <a:pt x="311" y="927"/>
                    </a:lnTo>
                    <a:lnTo>
                      <a:pt x="315" y="927"/>
                    </a:lnTo>
                    <a:lnTo>
                      <a:pt x="324" y="927"/>
                    </a:lnTo>
                    <a:lnTo>
                      <a:pt x="328" y="927"/>
                    </a:lnTo>
                    <a:lnTo>
                      <a:pt x="336" y="927"/>
                    </a:lnTo>
                    <a:lnTo>
                      <a:pt x="340" y="927"/>
                    </a:lnTo>
                    <a:lnTo>
                      <a:pt x="349" y="927"/>
                    </a:lnTo>
                    <a:lnTo>
                      <a:pt x="353" y="927"/>
                    </a:lnTo>
                    <a:lnTo>
                      <a:pt x="362" y="927"/>
                    </a:lnTo>
                    <a:lnTo>
                      <a:pt x="366" y="927"/>
                    </a:lnTo>
                    <a:lnTo>
                      <a:pt x="375" y="927"/>
                    </a:lnTo>
                    <a:lnTo>
                      <a:pt x="383" y="927"/>
                    </a:lnTo>
                    <a:lnTo>
                      <a:pt x="388" y="927"/>
                    </a:lnTo>
                    <a:lnTo>
                      <a:pt x="396" y="927"/>
                    </a:lnTo>
                    <a:lnTo>
                      <a:pt x="401" y="789"/>
                    </a:lnTo>
                    <a:lnTo>
                      <a:pt x="409" y="776"/>
                    </a:lnTo>
                    <a:lnTo>
                      <a:pt x="414" y="763"/>
                    </a:lnTo>
                    <a:lnTo>
                      <a:pt x="422" y="746"/>
                    </a:lnTo>
                    <a:lnTo>
                      <a:pt x="427" y="728"/>
                    </a:lnTo>
                    <a:lnTo>
                      <a:pt x="435" y="711"/>
                    </a:lnTo>
                    <a:lnTo>
                      <a:pt x="440" y="690"/>
                    </a:lnTo>
                    <a:lnTo>
                      <a:pt x="448" y="673"/>
                    </a:lnTo>
                    <a:lnTo>
                      <a:pt x="453" y="651"/>
                    </a:lnTo>
                    <a:lnTo>
                      <a:pt x="461" y="630"/>
                    </a:lnTo>
                    <a:lnTo>
                      <a:pt x="466" y="604"/>
                    </a:lnTo>
                    <a:lnTo>
                      <a:pt x="474" y="582"/>
                    </a:lnTo>
                    <a:lnTo>
                      <a:pt x="483" y="556"/>
                    </a:lnTo>
                    <a:lnTo>
                      <a:pt x="487" y="531"/>
                    </a:lnTo>
                    <a:lnTo>
                      <a:pt x="496" y="505"/>
                    </a:lnTo>
                    <a:lnTo>
                      <a:pt x="500" y="479"/>
                    </a:lnTo>
                    <a:lnTo>
                      <a:pt x="509" y="448"/>
                    </a:lnTo>
                    <a:lnTo>
                      <a:pt x="513" y="422"/>
                    </a:lnTo>
                    <a:lnTo>
                      <a:pt x="522" y="392"/>
                    </a:lnTo>
                    <a:lnTo>
                      <a:pt x="526" y="367"/>
                    </a:lnTo>
                    <a:lnTo>
                      <a:pt x="535" y="336"/>
                    </a:lnTo>
                    <a:lnTo>
                      <a:pt x="539" y="310"/>
                    </a:lnTo>
                    <a:lnTo>
                      <a:pt x="548" y="280"/>
                    </a:lnTo>
                    <a:lnTo>
                      <a:pt x="551" y="254"/>
                    </a:lnTo>
                    <a:lnTo>
                      <a:pt x="560" y="229"/>
                    </a:lnTo>
                    <a:lnTo>
                      <a:pt x="569" y="203"/>
                    </a:lnTo>
                    <a:lnTo>
                      <a:pt x="573" y="177"/>
                    </a:lnTo>
                    <a:lnTo>
                      <a:pt x="582" y="155"/>
                    </a:lnTo>
                    <a:lnTo>
                      <a:pt x="586" y="129"/>
                    </a:lnTo>
                    <a:lnTo>
                      <a:pt x="595" y="107"/>
                    </a:lnTo>
                    <a:lnTo>
                      <a:pt x="599" y="90"/>
                    </a:lnTo>
                    <a:lnTo>
                      <a:pt x="608" y="74"/>
                    </a:lnTo>
                    <a:lnTo>
                      <a:pt x="612" y="56"/>
                    </a:lnTo>
                    <a:lnTo>
                      <a:pt x="621" y="43"/>
                    </a:lnTo>
                    <a:lnTo>
                      <a:pt x="625" y="30"/>
                    </a:lnTo>
                    <a:lnTo>
                      <a:pt x="634" y="17"/>
                    </a:lnTo>
                    <a:lnTo>
                      <a:pt x="638" y="9"/>
                    </a:lnTo>
                    <a:lnTo>
                      <a:pt x="647" y="4"/>
                    </a:lnTo>
                    <a:lnTo>
                      <a:pt x="651" y="0"/>
                    </a:lnTo>
                    <a:lnTo>
                      <a:pt x="660" y="0"/>
                    </a:lnTo>
                    <a:lnTo>
                      <a:pt x="668" y="0"/>
                    </a:lnTo>
                    <a:lnTo>
                      <a:pt x="673" y="4"/>
                    </a:lnTo>
                    <a:lnTo>
                      <a:pt x="681" y="9"/>
                    </a:lnTo>
                    <a:lnTo>
                      <a:pt x="686" y="17"/>
                    </a:lnTo>
                    <a:lnTo>
                      <a:pt x="694" y="30"/>
                    </a:lnTo>
                    <a:lnTo>
                      <a:pt x="699" y="43"/>
                    </a:lnTo>
                    <a:lnTo>
                      <a:pt x="707" y="56"/>
                    </a:lnTo>
                    <a:lnTo>
                      <a:pt x="712" y="74"/>
                    </a:lnTo>
                    <a:lnTo>
                      <a:pt x="720" y="90"/>
                    </a:lnTo>
                    <a:lnTo>
                      <a:pt x="725" y="107"/>
                    </a:lnTo>
                    <a:lnTo>
                      <a:pt x="733" y="129"/>
                    </a:lnTo>
                    <a:lnTo>
                      <a:pt x="738" y="155"/>
                    </a:lnTo>
                    <a:lnTo>
                      <a:pt x="746" y="177"/>
                    </a:lnTo>
                    <a:lnTo>
                      <a:pt x="751" y="203"/>
                    </a:lnTo>
                    <a:lnTo>
                      <a:pt x="759" y="229"/>
                    </a:lnTo>
                    <a:lnTo>
                      <a:pt x="768" y="254"/>
                    </a:lnTo>
                    <a:lnTo>
                      <a:pt x="771" y="280"/>
                    </a:lnTo>
                    <a:lnTo>
                      <a:pt x="780" y="310"/>
                    </a:lnTo>
                    <a:lnTo>
                      <a:pt x="784" y="336"/>
                    </a:lnTo>
                    <a:lnTo>
                      <a:pt x="793" y="367"/>
                    </a:lnTo>
                    <a:lnTo>
                      <a:pt x="797" y="392"/>
                    </a:lnTo>
                    <a:lnTo>
                      <a:pt x="806" y="422"/>
                    </a:lnTo>
                    <a:lnTo>
                      <a:pt x="810" y="448"/>
                    </a:lnTo>
                    <a:lnTo>
                      <a:pt x="819" y="479"/>
                    </a:lnTo>
                    <a:lnTo>
                      <a:pt x="823" y="505"/>
                    </a:lnTo>
                    <a:lnTo>
                      <a:pt x="832" y="531"/>
                    </a:lnTo>
                    <a:lnTo>
                      <a:pt x="836" y="556"/>
                    </a:lnTo>
                    <a:lnTo>
                      <a:pt x="845" y="582"/>
                    </a:lnTo>
                    <a:lnTo>
                      <a:pt x="854" y="604"/>
                    </a:lnTo>
                    <a:lnTo>
                      <a:pt x="858" y="630"/>
                    </a:lnTo>
                    <a:lnTo>
                      <a:pt x="867" y="651"/>
                    </a:lnTo>
                    <a:lnTo>
                      <a:pt x="871" y="673"/>
                    </a:lnTo>
                    <a:lnTo>
                      <a:pt x="880" y="690"/>
                    </a:lnTo>
                    <a:lnTo>
                      <a:pt x="884" y="711"/>
                    </a:lnTo>
                    <a:lnTo>
                      <a:pt x="893" y="728"/>
                    </a:lnTo>
                    <a:lnTo>
                      <a:pt x="897" y="746"/>
                    </a:lnTo>
                    <a:lnTo>
                      <a:pt x="906" y="763"/>
                    </a:lnTo>
                    <a:lnTo>
                      <a:pt x="910" y="776"/>
                    </a:lnTo>
                    <a:lnTo>
                      <a:pt x="919" y="789"/>
                    </a:lnTo>
                    <a:lnTo>
                      <a:pt x="923" y="927"/>
                    </a:lnTo>
                    <a:lnTo>
                      <a:pt x="932" y="927"/>
                    </a:lnTo>
                    <a:lnTo>
                      <a:pt x="936" y="927"/>
                    </a:lnTo>
                    <a:lnTo>
                      <a:pt x="945" y="927"/>
                    </a:lnTo>
                    <a:lnTo>
                      <a:pt x="953" y="927"/>
                    </a:lnTo>
                    <a:lnTo>
                      <a:pt x="957" y="927"/>
                    </a:lnTo>
                    <a:lnTo>
                      <a:pt x="966" y="927"/>
                    </a:lnTo>
                    <a:lnTo>
                      <a:pt x="970" y="927"/>
                    </a:lnTo>
                    <a:lnTo>
                      <a:pt x="979" y="927"/>
                    </a:lnTo>
                    <a:lnTo>
                      <a:pt x="983" y="927"/>
                    </a:lnTo>
                    <a:lnTo>
                      <a:pt x="991" y="927"/>
                    </a:lnTo>
                    <a:lnTo>
                      <a:pt x="995" y="927"/>
                    </a:lnTo>
                    <a:lnTo>
                      <a:pt x="1004" y="927"/>
                    </a:lnTo>
                    <a:lnTo>
                      <a:pt x="1008" y="927"/>
                    </a:lnTo>
                    <a:lnTo>
                      <a:pt x="1017" y="927"/>
                    </a:lnTo>
                    <a:lnTo>
                      <a:pt x="1021" y="927"/>
                    </a:lnTo>
                    <a:lnTo>
                      <a:pt x="1030" y="927"/>
                    </a:lnTo>
                    <a:lnTo>
                      <a:pt x="1034" y="927"/>
                    </a:lnTo>
                    <a:lnTo>
                      <a:pt x="1043" y="927"/>
                    </a:lnTo>
                    <a:lnTo>
                      <a:pt x="1052" y="927"/>
                    </a:lnTo>
                    <a:lnTo>
                      <a:pt x="1056" y="927"/>
                    </a:lnTo>
                    <a:lnTo>
                      <a:pt x="1065" y="927"/>
                    </a:lnTo>
                    <a:lnTo>
                      <a:pt x="1069" y="927"/>
                    </a:lnTo>
                    <a:lnTo>
                      <a:pt x="1078" y="927"/>
                    </a:lnTo>
                    <a:lnTo>
                      <a:pt x="1082" y="927"/>
                    </a:lnTo>
                    <a:lnTo>
                      <a:pt x="1091" y="927"/>
                    </a:lnTo>
                    <a:lnTo>
                      <a:pt x="1095" y="927"/>
                    </a:lnTo>
                    <a:lnTo>
                      <a:pt x="1104" y="927"/>
                    </a:lnTo>
                    <a:lnTo>
                      <a:pt x="1108" y="927"/>
                    </a:lnTo>
                    <a:lnTo>
                      <a:pt x="1117" y="927"/>
                    </a:lnTo>
                    <a:lnTo>
                      <a:pt x="1121" y="927"/>
                    </a:lnTo>
                    <a:lnTo>
                      <a:pt x="1130" y="927"/>
                    </a:lnTo>
                    <a:lnTo>
                      <a:pt x="1138" y="927"/>
                    </a:lnTo>
                    <a:lnTo>
                      <a:pt x="1143" y="927"/>
                    </a:lnTo>
                    <a:lnTo>
                      <a:pt x="1151" y="927"/>
                    </a:lnTo>
                    <a:lnTo>
                      <a:pt x="1156" y="927"/>
                    </a:lnTo>
                    <a:lnTo>
                      <a:pt x="1164" y="927"/>
                    </a:lnTo>
                    <a:lnTo>
                      <a:pt x="1169" y="927"/>
                    </a:lnTo>
                    <a:lnTo>
                      <a:pt x="1177" y="927"/>
                    </a:lnTo>
                    <a:lnTo>
                      <a:pt x="1182" y="927"/>
                    </a:lnTo>
                    <a:lnTo>
                      <a:pt x="1190" y="927"/>
                    </a:lnTo>
                    <a:lnTo>
                      <a:pt x="1195" y="927"/>
                    </a:lnTo>
                    <a:lnTo>
                      <a:pt x="1203" y="927"/>
                    </a:lnTo>
                    <a:lnTo>
                      <a:pt x="1208" y="927"/>
                    </a:lnTo>
                    <a:lnTo>
                      <a:pt x="1215" y="927"/>
                    </a:lnTo>
                    <a:lnTo>
                      <a:pt x="1220" y="927"/>
                    </a:lnTo>
                    <a:lnTo>
                      <a:pt x="1228" y="927"/>
                    </a:lnTo>
                    <a:lnTo>
                      <a:pt x="1237" y="927"/>
                    </a:lnTo>
                    <a:lnTo>
                      <a:pt x="1241" y="927"/>
                    </a:lnTo>
                    <a:lnTo>
                      <a:pt x="1250" y="927"/>
                    </a:lnTo>
                    <a:lnTo>
                      <a:pt x="1254" y="927"/>
                    </a:lnTo>
                    <a:lnTo>
                      <a:pt x="1263" y="927"/>
                    </a:lnTo>
                    <a:lnTo>
                      <a:pt x="1267" y="927"/>
                    </a:lnTo>
                    <a:lnTo>
                      <a:pt x="1276" y="927"/>
                    </a:lnTo>
                    <a:lnTo>
                      <a:pt x="1280" y="927"/>
                    </a:lnTo>
                    <a:lnTo>
                      <a:pt x="1289" y="927"/>
                    </a:lnTo>
                    <a:lnTo>
                      <a:pt x="1293" y="927"/>
                    </a:lnTo>
                    <a:lnTo>
                      <a:pt x="1302" y="927"/>
                    </a:lnTo>
                    <a:lnTo>
                      <a:pt x="1306" y="927"/>
                    </a:lnTo>
                    <a:lnTo>
                      <a:pt x="1315" y="927"/>
                    </a:lnTo>
                    <a:lnTo>
                      <a:pt x="1319" y="927"/>
                    </a:lnTo>
                    <a:lnTo>
                      <a:pt x="1315" y="927"/>
                    </a:lnTo>
                    <a:lnTo>
                      <a:pt x="1306" y="927"/>
                    </a:lnTo>
                    <a:lnTo>
                      <a:pt x="1302" y="927"/>
                    </a:lnTo>
                    <a:lnTo>
                      <a:pt x="1293" y="927"/>
                    </a:lnTo>
                    <a:lnTo>
                      <a:pt x="1289" y="927"/>
                    </a:lnTo>
                    <a:lnTo>
                      <a:pt x="1280" y="927"/>
                    </a:lnTo>
                    <a:lnTo>
                      <a:pt x="1276" y="927"/>
                    </a:lnTo>
                    <a:lnTo>
                      <a:pt x="1267" y="927"/>
                    </a:lnTo>
                    <a:lnTo>
                      <a:pt x="1263" y="927"/>
                    </a:lnTo>
                    <a:lnTo>
                      <a:pt x="1254" y="927"/>
                    </a:lnTo>
                    <a:lnTo>
                      <a:pt x="1250" y="927"/>
                    </a:lnTo>
                    <a:lnTo>
                      <a:pt x="1241" y="927"/>
                    </a:lnTo>
                    <a:lnTo>
                      <a:pt x="1237" y="927"/>
                    </a:lnTo>
                    <a:lnTo>
                      <a:pt x="1228" y="927"/>
                    </a:lnTo>
                    <a:lnTo>
                      <a:pt x="1220" y="927"/>
                    </a:lnTo>
                    <a:lnTo>
                      <a:pt x="1215" y="927"/>
                    </a:lnTo>
                    <a:lnTo>
                      <a:pt x="1208" y="927"/>
                    </a:lnTo>
                    <a:lnTo>
                      <a:pt x="1203" y="927"/>
                    </a:lnTo>
                    <a:lnTo>
                      <a:pt x="1195" y="927"/>
                    </a:lnTo>
                    <a:lnTo>
                      <a:pt x="1190" y="927"/>
                    </a:lnTo>
                    <a:lnTo>
                      <a:pt x="1182" y="927"/>
                    </a:lnTo>
                    <a:lnTo>
                      <a:pt x="1177" y="927"/>
                    </a:lnTo>
                    <a:lnTo>
                      <a:pt x="1169" y="927"/>
                    </a:lnTo>
                    <a:lnTo>
                      <a:pt x="1164" y="927"/>
                    </a:lnTo>
                    <a:lnTo>
                      <a:pt x="1156" y="927"/>
                    </a:lnTo>
                    <a:lnTo>
                      <a:pt x="1151" y="927"/>
                    </a:lnTo>
                    <a:lnTo>
                      <a:pt x="1143" y="927"/>
                    </a:lnTo>
                    <a:lnTo>
                      <a:pt x="1138" y="927"/>
                    </a:lnTo>
                    <a:lnTo>
                      <a:pt x="1130" y="927"/>
                    </a:lnTo>
                    <a:lnTo>
                      <a:pt x="1121" y="927"/>
                    </a:lnTo>
                    <a:lnTo>
                      <a:pt x="1117" y="927"/>
                    </a:lnTo>
                    <a:lnTo>
                      <a:pt x="1108" y="927"/>
                    </a:lnTo>
                    <a:lnTo>
                      <a:pt x="1104" y="927"/>
                    </a:lnTo>
                    <a:lnTo>
                      <a:pt x="1095" y="927"/>
                    </a:lnTo>
                    <a:lnTo>
                      <a:pt x="1091" y="927"/>
                    </a:lnTo>
                    <a:lnTo>
                      <a:pt x="1082" y="927"/>
                    </a:lnTo>
                    <a:lnTo>
                      <a:pt x="1078" y="927"/>
                    </a:lnTo>
                    <a:lnTo>
                      <a:pt x="1069" y="927"/>
                    </a:lnTo>
                    <a:lnTo>
                      <a:pt x="1065" y="927"/>
                    </a:lnTo>
                    <a:lnTo>
                      <a:pt x="1056" y="927"/>
                    </a:lnTo>
                    <a:lnTo>
                      <a:pt x="1052" y="927"/>
                    </a:lnTo>
                    <a:lnTo>
                      <a:pt x="1043" y="927"/>
                    </a:lnTo>
                    <a:lnTo>
                      <a:pt x="1034" y="927"/>
                    </a:lnTo>
                    <a:lnTo>
                      <a:pt x="1030" y="927"/>
                    </a:lnTo>
                    <a:lnTo>
                      <a:pt x="1021" y="927"/>
                    </a:lnTo>
                    <a:lnTo>
                      <a:pt x="1017" y="927"/>
                    </a:lnTo>
                    <a:lnTo>
                      <a:pt x="1008" y="927"/>
                    </a:lnTo>
                    <a:lnTo>
                      <a:pt x="1004" y="927"/>
                    </a:lnTo>
                    <a:lnTo>
                      <a:pt x="995" y="927"/>
                    </a:lnTo>
                    <a:lnTo>
                      <a:pt x="991" y="927"/>
                    </a:lnTo>
                    <a:lnTo>
                      <a:pt x="983" y="927"/>
                    </a:lnTo>
                    <a:lnTo>
                      <a:pt x="979" y="927"/>
                    </a:lnTo>
                    <a:lnTo>
                      <a:pt x="970" y="927"/>
                    </a:lnTo>
                    <a:lnTo>
                      <a:pt x="966" y="927"/>
                    </a:lnTo>
                    <a:lnTo>
                      <a:pt x="957" y="927"/>
                    </a:lnTo>
                    <a:lnTo>
                      <a:pt x="953" y="927"/>
                    </a:lnTo>
                    <a:lnTo>
                      <a:pt x="945" y="927"/>
                    </a:lnTo>
                    <a:lnTo>
                      <a:pt x="936" y="927"/>
                    </a:lnTo>
                    <a:lnTo>
                      <a:pt x="932" y="927"/>
                    </a:lnTo>
                    <a:lnTo>
                      <a:pt x="923" y="927"/>
                    </a:lnTo>
                    <a:lnTo>
                      <a:pt x="919" y="927"/>
                    </a:lnTo>
                    <a:lnTo>
                      <a:pt x="910" y="927"/>
                    </a:lnTo>
                    <a:lnTo>
                      <a:pt x="906" y="927"/>
                    </a:lnTo>
                    <a:lnTo>
                      <a:pt x="897" y="927"/>
                    </a:lnTo>
                    <a:lnTo>
                      <a:pt x="893" y="927"/>
                    </a:lnTo>
                    <a:lnTo>
                      <a:pt x="884" y="927"/>
                    </a:lnTo>
                    <a:lnTo>
                      <a:pt x="880" y="927"/>
                    </a:lnTo>
                    <a:lnTo>
                      <a:pt x="871" y="927"/>
                    </a:lnTo>
                    <a:lnTo>
                      <a:pt x="867" y="927"/>
                    </a:lnTo>
                    <a:lnTo>
                      <a:pt x="858" y="927"/>
                    </a:lnTo>
                    <a:lnTo>
                      <a:pt x="854" y="927"/>
                    </a:lnTo>
                    <a:lnTo>
                      <a:pt x="845" y="927"/>
                    </a:lnTo>
                    <a:lnTo>
                      <a:pt x="836" y="927"/>
                    </a:lnTo>
                    <a:lnTo>
                      <a:pt x="832" y="927"/>
                    </a:lnTo>
                    <a:lnTo>
                      <a:pt x="823" y="927"/>
                    </a:lnTo>
                    <a:lnTo>
                      <a:pt x="819" y="927"/>
                    </a:lnTo>
                    <a:lnTo>
                      <a:pt x="810" y="927"/>
                    </a:lnTo>
                    <a:lnTo>
                      <a:pt x="806" y="927"/>
                    </a:lnTo>
                    <a:lnTo>
                      <a:pt x="797" y="927"/>
                    </a:lnTo>
                    <a:lnTo>
                      <a:pt x="793" y="927"/>
                    </a:lnTo>
                    <a:lnTo>
                      <a:pt x="784" y="927"/>
                    </a:lnTo>
                    <a:lnTo>
                      <a:pt x="780" y="927"/>
                    </a:lnTo>
                    <a:lnTo>
                      <a:pt x="771" y="927"/>
                    </a:lnTo>
                    <a:lnTo>
                      <a:pt x="768" y="927"/>
                    </a:lnTo>
                    <a:lnTo>
                      <a:pt x="759" y="927"/>
                    </a:lnTo>
                    <a:lnTo>
                      <a:pt x="751" y="927"/>
                    </a:lnTo>
                    <a:lnTo>
                      <a:pt x="746" y="927"/>
                    </a:lnTo>
                    <a:lnTo>
                      <a:pt x="738" y="927"/>
                    </a:lnTo>
                    <a:lnTo>
                      <a:pt x="733" y="927"/>
                    </a:lnTo>
                    <a:lnTo>
                      <a:pt x="725" y="927"/>
                    </a:lnTo>
                    <a:lnTo>
                      <a:pt x="720" y="927"/>
                    </a:lnTo>
                    <a:lnTo>
                      <a:pt x="712" y="927"/>
                    </a:lnTo>
                    <a:lnTo>
                      <a:pt x="707" y="927"/>
                    </a:lnTo>
                    <a:lnTo>
                      <a:pt x="699" y="927"/>
                    </a:lnTo>
                    <a:lnTo>
                      <a:pt x="694" y="927"/>
                    </a:lnTo>
                    <a:lnTo>
                      <a:pt x="686" y="927"/>
                    </a:lnTo>
                    <a:lnTo>
                      <a:pt x="681" y="927"/>
                    </a:lnTo>
                    <a:lnTo>
                      <a:pt x="673" y="927"/>
                    </a:lnTo>
                    <a:lnTo>
                      <a:pt x="668" y="927"/>
                    </a:lnTo>
                    <a:lnTo>
                      <a:pt x="660" y="927"/>
                    </a:lnTo>
                    <a:lnTo>
                      <a:pt x="651" y="927"/>
                    </a:lnTo>
                    <a:lnTo>
                      <a:pt x="647" y="927"/>
                    </a:lnTo>
                    <a:lnTo>
                      <a:pt x="638" y="927"/>
                    </a:lnTo>
                    <a:lnTo>
                      <a:pt x="634" y="927"/>
                    </a:lnTo>
                    <a:lnTo>
                      <a:pt x="625" y="927"/>
                    </a:lnTo>
                    <a:lnTo>
                      <a:pt x="621" y="927"/>
                    </a:lnTo>
                    <a:lnTo>
                      <a:pt x="612" y="927"/>
                    </a:lnTo>
                    <a:lnTo>
                      <a:pt x="608" y="927"/>
                    </a:lnTo>
                    <a:lnTo>
                      <a:pt x="599" y="927"/>
                    </a:lnTo>
                    <a:lnTo>
                      <a:pt x="595" y="927"/>
                    </a:lnTo>
                    <a:lnTo>
                      <a:pt x="586" y="927"/>
                    </a:lnTo>
                    <a:lnTo>
                      <a:pt x="582" y="927"/>
                    </a:lnTo>
                    <a:lnTo>
                      <a:pt x="573" y="927"/>
                    </a:lnTo>
                    <a:lnTo>
                      <a:pt x="569" y="927"/>
                    </a:lnTo>
                    <a:lnTo>
                      <a:pt x="560" y="927"/>
                    </a:lnTo>
                    <a:lnTo>
                      <a:pt x="551" y="927"/>
                    </a:lnTo>
                    <a:lnTo>
                      <a:pt x="548" y="927"/>
                    </a:lnTo>
                    <a:lnTo>
                      <a:pt x="539" y="927"/>
                    </a:lnTo>
                    <a:lnTo>
                      <a:pt x="535" y="927"/>
                    </a:lnTo>
                    <a:lnTo>
                      <a:pt x="526" y="927"/>
                    </a:lnTo>
                    <a:lnTo>
                      <a:pt x="522" y="927"/>
                    </a:lnTo>
                    <a:lnTo>
                      <a:pt x="513" y="927"/>
                    </a:lnTo>
                    <a:lnTo>
                      <a:pt x="509" y="927"/>
                    </a:lnTo>
                    <a:lnTo>
                      <a:pt x="500" y="927"/>
                    </a:lnTo>
                    <a:lnTo>
                      <a:pt x="496" y="927"/>
                    </a:lnTo>
                    <a:lnTo>
                      <a:pt x="487" y="927"/>
                    </a:lnTo>
                    <a:lnTo>
                      <a:pt x="483" y="927"/>
                    </a:lnTo>
                    <a:lnTo>
                      <a:pt x="474" y="927"/>
                    </a:lnTo>
                    <a:lnTo>
                      <a:pt x="466" y="927"/>
                    </a:lnTo>
                    <a:lnTo>
                      <a:pt x="461" y="927"/>
                    </a:lnTo>
                    <a:lnTo>
                      <a:pt x="453" y="927"/>
                    </a:lnTo>
                    <a:lnTo>
                      <a:pt x="448" y="927"/>
                    </a:lnTo>
                    <a:lnTo>
                      <a:pt x="440" y="927"/>
                    </a:lnTo>
                    <a:lnTo>
                      <a:pt x="435" y="927"/>
                    </a:lnTo>
                    <a:lnTo>
                      <a:pt x="427" y="927"/>
                    </a:lnTo>
                    <a:lnTo>
                      <a:pt x="422" y="927"/>
                    </a:lnTo>
                    <a:lnTo>
                      <a:pt x="414" y="927"/>
                    </a:lnTo>
                    <a:lnTo>
                      <a:pt x="409" y="927"/>
                    </a:lnTo>
                    <a:lnTo>
                      <a:pt x="401" y="927"/>
                    </a:lnTo>
                    <a:lnTo>
                      <a:pt x="396" y="927"/>
                    </a:lnTo>
                    <a:lnTo>
                      <a:pt x="388" y="927"/>
                    </a:lnTo>
                    <a:lnTo>
                      <a:pt x="383" y="927"/>
                    </a:lnTo>
                    <a:lnTo>
                      <a:pt x="375" y="927"/>
                    </a:lnTo>
                    <a:lnTo>
                      <a:pt x="366" y="927"/>
                    </a:lnTo>
                    <a:lnTo>
                      <a:pt x="362" y="927"/>
                    </a:lnTo>
                    <a:lnTo>
                      <a:pt x="353" y="927"/>
                    </a:lnTo>
                    <a:lnTo>
                      <a:pt x="349" y="927"/>
                    </a:lnTo>
                    <a:lnTo>
                      <a:pt x="340" y="927"/>
                    </a:lnTo>
                    <a:lnTo>
                      <a:pt x="336" y="927"/>
                    </a:lnTo>
                    <a:lnTo>
                      <a:pt x="328" y="927"/>
                    </a:lnTo>
                    <a:lnTo>
                      <a:pt x="324" y="927"/>
                    </a:lnTo>
                    <a:lnTo>
                      <a:pt x="315" y="927"/>
                    </a:lnTo>
                    <a:lnTo>
                      <a:pt x="311" y="927"/>
                    </a:lnTo>
                    <a:lnTo>
                      <a:pt x="302" y="927"/>
                    </a:lnTo>
                    <a:lnTo>
                      <a:pt x="298" y="927"/>
                    </a:lnTo>
                    <a:lnTo>
                      <a:pt x="289" y="927"/>
                    </a:lnTo>
                    <a:lnTo>
                      <a:pt x="285" y="927"/>
                    </a:lnTo>
                    <a:lnTo>
                      <a:pt x="276" y="927"/>
                    </a:lnTo>
                    <a:lnTo>
                      <a:pt x="268" y="927"/>
                    </a:lnTo>
                    <a:lnTo>
                      <a:pt x="263" y="927"/>
                    </a:lnTo>
                    <a:lnTo>
                      <a:pt x="255" y="927"/>
                    </a:lnTo>
                    <a:lnTo>
                      <a:pt x="250" y="927"/>
                    </a:lnTo>
                    <a:lnTo>
                      <a:pt x="242" y="927"/>
                    </a:lnTo>
                    <a:lnTo>
                      <a:pt x="237" y="927"/>
                    </a:lnTo>
                    <a:lnTo>
                      <a:pt x="229" y="927"/>
                    </a:lnTo>
                    <a:lnTo>
                      <a:pt x="224" y="927"/>
                    </a:lnTo>
                    <a:lnTo>
                      <a:pt x="216" y="927"/>
                    </a:lnTo>
                    <a:lnTo>
                      <a:pt x="211" y="927"/>
                    </a:lnTo>
                    <a:lnTo>
                      <a:pt x="203" y="927"/>
                    </a:lnTo>
                    <a:lnTo>
                      <a:pt x="198" y="927"/>
                    </a:lnTo>
                    <a:lnTo>
                      <a:pt x="190" y="927"/>
                    </a:lnTo>
                    <a:lnTo>
                      <a:pt x="181" y="927"/>
                    </a:lnTo>
                    <a:lnTo>
                      <a:pt x="177" y="927"/>
                    </a:lnTo>
                    <a:lnTo>
                      <a:pt x="168" y="927"/>
                    </a:lnTo>
                    <a:lnTo>
                      <a:pt x="164" y="927"/>
                    </a:lnTo>
                    <a:lnTo>
                      <a:pt x="155" y="927"/>
                    </a:lnTo>
                    <a:lnTo>
                      <a:pt x="151" y="927"/>
                    </a:lnTo>
                    <a:lnTo>
                      <a:pt x="142" y="927"/>
                    </a:lnTo>
                    <a:lnTo>
                      <a:pt x="138" y="927"/>
                    </a:lnTo>
                    <a:lnTo>
                      <a:pt x="129" y="927"/>
                    </a:lnTo>
                    <a:lnTo>
                      <a:pt x="125" y="927"/>
                    </a:lnTo>
                    <a:lnTo>
                      <a:pt x="116" y="927"/>
                    </a:lnTo>
                    <a:lnTo>
                      <a:pt x="112" y="927"/>
                    </a:lnTo>
                    <a:lnTo>
                      <a:pt x="104" y="927"/>
                    </a:lnTo>
                    <a:lnTo>
                      <a:pt x="100" y="927"/>
                    </a:lnTo>
                    <a:lnTo>
                      <a:pt x="91" y="927"/>
                    </a:lnTo>
                    <a:lnTo>
                      <a:pt x="82" y="927"/>
                    </a:lnTo>
                    <a:lnTo>
                      <a:pt x="78" y="927"/>
                    </a:lnTo>
                    <a:lnTo>
                      <a:pt x="69" y="927"/>
                    </a:lnTo>
                    <a:lnTo>
                      <a:pt x="65" y="927"/>
                    </a:lnTo>
                    <a:lnTo>
                      <a:pt x="56" y="927"/>
                    </a:lnTo>
                    <a:lnTo>
                      <a:pt x="52" y="927"/>
                    </a:lnTo>
                    <a:lnTo>
                      <a:pt x="43" y="927"/>
                    </a:lnTo>
                    <a:lnTo>
                      <a:pt x="39" y="927"/>
                    </a:lnTo>
                    <a:lnTo>
                      <a:pt x="30" y="927"/>
                    </a:lnTo>
                    <a:lnTo>
                      <a:pt x="26" y="927"/>
                    </a:lnTo>
                    <a:lnTo>
                      <a:pt x="17" y="927"/>
                    </a:lnTo>
                    <a:lnTo>
                      <a:pt x="13" y="927"/>
                    </a:lnTo>
                    <a:lnTo>
                      <a:pt x="4" y="927"/>
                    </a:lnTo>
                    <a:lnTo>
                      <a:pt x="0" y="927"/>
                    </a:lnTo>
                  </a:path>
                </a:pathLst>
              </a:cu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custGeom>
                <a:avLst/>
                <a:gdLst>
                  <a:gd name="textAreaLeft" fmla="*/ 0 w 2781000"/>
                  <a:gd name="textAreaRight" fmla="*/ 2781360 w 2781000"/>
                  <a:gd name="textAreaTop" fmla="*/ 0 h 1590480"/>
                  <a:gd name="textAreaBottom" fmla="*/ 1590840 h 1590480"/>
                </a:gdLst>
                <a:ahLst/>
                <a:rect l="textAreaLeft" t="textAreaTop" r="textAreaRight" b="textAreaBottom"/>
                <a:pathLst>
                  <a:path w="1326" h="934">
                    <a:moveTo>
                      <a:pt x="0" y="933"/>
                    </a:moveTo>
                    <a:lnTo>
                      <a:pt x="4" y="933"/>
                    </a:lnTo>
                    <a:lnTo>
                      <a:pt x="13" y="933"/>
                    </a:lnTo>
                    <a:lnTo>
                      <a:pt x="17" y="933"/>
                    </a:lnTo>
                    <a:lnTo>
                      <a:pt x="26" y="933"/>
                    </a:lnTo>
                    <a:lnTo>
                      <a:pt x="30" y="933"/>
                    </a:lnTo>
                    <a:lnTo>
                      <a:pt x="39" y="933"/>
                    </a:lnTo>
                    <a:lnTo>
                      <a:pt x="43" y="933"/>
                    </a:lnTo>
                    <a:lnTo>
                      <a:pt x="52" y="933"/>
                    </a:lnTo>
                    <a:lnTo>
                      <a:pt x="56" y="933"/>
                    </a:lnTo>
                    <a:lnTo>
                      <a:pt x="65" y="933"/>
                    </a:lnTo>
                    <a:lnTo>
                      <a:pt x="69" y="933"/>
                    </a:lnTo>
                    <a:lnTo>
                      <a:pt x="78" y="933"/>
                    </a:lnTo>
                    <a:lnTo>
                      <a:pt x="82" y="933"/>
                    </a:lnTo>
                    <a:lnTo>
                      <a:pt x="91" y="933"/>
                    </a:lnTo>
                    <a:lnTo>
                      <a:pt x="100" y="933"/>
                    </a:lnTo>
                    <a:lnTo>
                      <a:pt x="104" y="933"/>
                    </a:lnTo>
                    <a:lnTo>
                      <a:pt x="113" y="933"/>
                    </a:lnTo>
                    <a:lnTo>
                      <a:pt x="117" y="933"/>
                    </a:lnTo>
                    <a:lnTo>
                      <a:pt x="126" y="933"/>
                    </a:lnTo>
                    <a:lnTo>
                      <a:pt x="130" y="933"/>
                    </a:lnTo>
                    <a:lnTo>
                      <a:pt x="139" y="933"/>
                    </a:lnTo>
                    <a:lnTo>
                      <a:pt x="143" y="933"/>
                    </a:lnTo>
                    <a:lnTo>
                      <a:pt x="152" y="933"/>
                    </a:lnTo>
                    <a:lnTo>
                      <a:pt x="156" y="933"/>
                    </a:lnTo>
                    <a:lnTo>
                      <a:pt x="165" y="933"/>
                    </a:lnTo>
                    <a:lnTo>
                      <a:pt x="169" y="933"/>
                    </a:lnTo>
                    <a:lnTo>
                      <a:pt x="178" y="933"/>
                    </a:lnTo>
                    <a:lnTo>
                      <a:pt x="182" y="933"/>
                    </a:lnTo>
                    <a:lnTo>
                      <a:pt x="191" y="933"/>
                    </a:lnTo>
                    <a:lnTo>
                      <a:pt x="199" y="933"/>
                    </a:lnTo>
                    <a:lnTo>
                      <a:pt x="204" y="933"/>
                    </a:lnTo>
                    <a:lnTo>
                      <a:pt x="212" y="933"/>
                    </a:lnTo>
                    <a:lnTo>
                      <a:pt x="217" y="933"/>
                    </a:lnTo>
                    <a:lnTo>
                      <a:pt x="225" y="933"/>
                    </a:lnTo>
                    <a:lnTo>
                      <a:pt x="230" y="933"/>
                    </a:lnTo>
                    <a:lnTo>
                      <a:pt x="238" y="933"/>
                    </a:lnTo>
                    <a:lnTo>
                      <a:pt x="243" y="933"/>
                    </a:lnTo>
                    <a:lnTo>
                      <a:pt x="251" y="933"/>
                    </a:lnTo>
                    <a:lnTo>
                      <a:pt x="256" y="933"/>
                    </a:lnTo>
                    <a:lnTo>
                      <a:pt x="264" y="933"/>
                    </a:lnTo>
                    <a:lnTo>
                      <a:pt x="269" y="933"/>
                    </a:lnTo>
                    <a:lnTo>
                      <a:pt x="277" y="933"/>
                    </a:lnTo>
                    <a:lnTo>
                      <a:pt x="286" y="933"/>
                    </a:lnTo>
                    <a:lnTo>
                      <a:pt x="290" y="933"/>
                    </a:lnTo>
                    <a:lnTo>
                      <a:pt x="299" y="933"/>
                    </a:lnTo>
                    <a:lnTo>
                      <a:pt x="303" y="933"/>
                    </a:lnTo>
                    <a:lnTo>
                      <a:pt x="312" y="933"/>
                    </a:lnTo>
                    <a:lnTo>
                      <a:pt x="316" y="933"/>
                    </a:lnTo>
                    <a:lnTo>
                      <a:pt x="325" y="933"/>
                    </a:lnTo>
                    <a:lnTo>
                      <a:pt x="329" y="933"/>
                    </a:lnTo>
                    <a:lnTo>
                      <a:pt x="338" y="933"/>
                    </a:lnTo>
                    <a:lnTo>
                      <a:pt x="342" y="933"/>
                    </a:lnTo>
                    <a:lnTo>
                      <a:pt x="351" y="933"/>
                    </a:lnTo>
                    <a:lnTo>
                      <a:pt x="355" y="933"/>
                    </a:lnTo>
                    <a:lnTo>
                      <a:pt x="364" y="933"/>
                    </a:lnTo>
                    <a:lnTo>
                      <a:pt x="368" y="933"/>
                    </a:lnTo>
                    <a:lnTo>
                      <a:pt x="377" y="933"/>
                    </a:lnTo>
                    <a:lnTo>
                      <a:pt x="385" y="933"/>
                    </a:lnTo>
                    <a:lnTo>
                      <a:pt x="390" y="933"/>
                    </a:lnTo>
                    <a:lnTo>
                      <a:pt x="398" y="933"/>
                    </a:lnTo>
                    <a:lnTo>
                      <a:pt x="403" y="794"/>
                    </a:lnTo>
                    <a:lnTo>
                      <a:pt x="411" y="781"/>
                    </a:lnTo>
                    <a:lnTo>
                      <a:pt x="416" y="768"/>
                    </a:lnTo>
                    <a:lnTo>
                      <a:pt x="424" y="751"/>
                    </a:lnTo>
                    <a:lnTo>
                      <a:pt x="429" y="733"/>
                    </a:lnTo>
                    <a:lnTo>
                      <a:pt x="437" y="716"/>
                    </a:lnTo>
                    <a:lnTo>
                      <a:pt x="442" y="694"/>
                    </a:lnTo>
                    <a:lnTo>
                      <a:pt x="450" y="677"/>
                    </a:lnTo>
                    <a:lnTo>
                      <a:pt x="455" y="655"/>
                    </a:lnTo>
                    <a:lnTo>
                      <a:pt x="463" y="634"/>
                    </a:lnTo>
                    <a:lnTo>
                      <a:pt x="468" y="608"/>
                    </a:lnTo>
                    <a:lnTo>
                      <a:pt x="476" y="586"/>
                    </a:lnTo>
                    <a:lnTo>
                      <a:pt x="485" y="560"/>
                    </a:lnTo>
                    <a:lnTo>
                      <a:pt x="489" y="534"/>
                    </a:lnTo>
                    <a:lnTo>
                      <a:pt x="498" y="508"/>
                    </a:lnTo>
                    <a:lnTo>
                      <a:pt x="502" y="482"/>
                    </a:lnTo>
                    <a:lnTo>
                      <a:pt x="511" y="451"/>
                    </a:lnTo>
                    <a:lnTo>
                      <a:pt x="515" y="425"/>
                    </a:lnTo>
                    <a:lnTo>
                      <a:pt x="524" y="395"/>
                    </a:lnTo>
                    <a:lnTo>
                      <a:pt x="528" y="369"/>
                    </a:lnTo>
                    <a:lnTo>
                      <a:pt x="537" y="338"/>
                    </a:lnTo>
                    <a:lnTo>
                      <a:pt x="541" y="312"/>
                    </a:lnTo>
                    <a:lnTo>
                      <a:pt x="550" y="282"/>
                    </a:lnTo>
                    <a:lnTo>
                      <a:pt x="554" y="256"/>
                    </a:lnTo>
                    <a:lnTo>
                      <a:pt x="563" y="230"/>
                    </a:lnTo>
                    <a:lnTo>
                      <a:pt x="572" y="204"/>
                    </a:lnTo>
                    <a:lnTo>
                      <a:pt x="576" y="178"/>
                    </a:lnTo>
                    <a:lnTo>
                      <a:pt x="585" y="156"/>
                    </a:lnTo>
                    <a:lnTo>
                      <a:pt x="589" y="130"/>
                    </a:lnTo>
                    <a:lnTo>
                      <a:pt x="598" y="108"/>
                    </a:lnTo>
                    <a:lnTo>
                      <a:pt x="602" y="91"/>
                    </a:lnTo>
                    <a:lnTo>
                      <a:pt x="611" y="74"/>
                    </a:lnTo>
                    <a:lnTo>
                      <a:pt x="615" y="56"/>
                    </a:lnTo>
                    <a:lnTo>
                      <a:pt x="624" y="43"/>
                    </a:lnTo>
                    <a:lnTo>
                      <a:pt x="628" y="30"/>
                    </a:lnTo>
                    <a:lnTo>
                      <a:pt x="637" y="17"/>
                    </a:lnTo>
                    <a:lnTo>
                      <a:pt x="641" y="9"/>
                    </a:lnTo>
                    <a:lnTo>
                      <a:pt x="650" y="4"/>
                    </a:lnTo>
                    <a:lnTo>
                      <a:pt x="654" y="0"/>
                    </a:lnTo>
                    <a:lnTo>
                      <a:pt x="663" y="0"/>
                    </a:lnTo>
                    <a:lnTo>
                      <a:pt x="671" y="0"/>
                    </a:lnTo>
                    <a:lnTo>
                      <a:pt x="676" y="4"/>
                    </a:lnTo>
                    <a:lnTo>
                      <a:pt x="684" y="9"/>
                    </a:lnTo>
                    <a:lnTo>
                      <a:pt x="689" y="17"/>
                    </a:lnTo>
                    <a:lnTo>
                      <a:pt x="697" y="30"/>
                    </a:lnTo>
                    <a:lnTo>
                      <a:pt x="702" y="43"/>
                    </a:lnTo>
                    <a:lnTo>
                      <a:pt x="710" y="56"/>
                    </a:lnTo>
                    <a:lnTo>
                      <a:pt x="715" y="74"/>
                    </a:lnTo>
                    <a:lnTo>
                      <a:pt x="723" y="91"/>
                    </a:lnTo>
                    <a:lnTo>
                      <a:pt x="728" y="108"/>
                    </a:lnTo>
                    <a:lnTo>
                      <a:pt x="736" y="130"/>
                    </a:lnTo>
                    <a:lnTo>
                      <a:pt x="741" y="156"/>
                    </a:lnTo>
                    <a:lnTo>
                      <a:pt x="749" y="178"/>
                    </a:lnTo>
                    <a:lnTo>
                      <a:pt x="754" y="204"/>
                    </a:lnTo>
                    <a:lnTo>
                      <a:pt x="762" y="230"/>
                    </a:lnTo>
                    <a:lnTo>
                      <a:pt x="771" y="256"/>
                    </a:lnTo>
                    <a:lnTo>
                      <a:pt x="775" y="282"/>
                    </a:lnTo>
                    <a:lnTo>
                      <a:pt x="784" y="312"/>
                    </a:lnTo>
                    <a:lnTo>
                      <a:pt x="788" y="338"/>
                    </a:lnTo>
                    <a:lnTo>
                      <a:pt x="797" y="369"/>
                    </a:lnTo>
                    <a:lnTo>
                      <a:pt x="801" y="395"/>
                    </a:lnTo>
                    <a:lnTo>
                      <a:pt x="810" y="425"/>
                    </a:lnTo>
                    <a:lnTo>
                      <a:pt x="814" y="451"/>
                    </a:lnTo>
                    <a:lnTo>
                      <a:pt x="823" y="482"/>
                    </a:lnTo>
                    <a:lnTo>
                      <a:pt x="827" y="508"/>
                    </a:lnTo>
                    <a:lnTo>
                      <a:pt x="836" y="534"/>
                    </a:lnTo>
                    <a:lnTo>
                      <a:pt x="840" y="560"/>
                    </a:lnTo>
                    <a:lnTo>
                      <a:pt x="849" y="586"/>
                    </a:lnTo>
                    <a:lnTo>
                      <a:pt x="858" y="608"/>
                    </a:lnTo>
                    <a:lnTo>
                      <a:pt x="862" y="634"/>
                    </a:lnTo>
                    <a:lnTo>
                      <a:pt x="871" y="655"/>
                    </a:lnTo>
                    <a:lnTo>
                      <a:pt x="875" y="677"/>
                    </a:lnTo>
                    <a:lnTo>
                      <a:pt x="884" y="694"/>
                    </a:lnTo>
                    <a:lnTo>
                      <a:pt x="888" y="716"/>
                    </a:lnTo>
                    <a:lnTo>
                      <a:pt x="897" y="733"/>
                    </a:lnTo>
                    <a:lnTo>
                      <a:pt x="901" y="751"/>
                    </a:lnTo>
                    <a:lnTo>
                      <a:pt x="910" y="768"/>
                    </a:lnTo>
                    <a:lnTo>
                      <a:pt x="914" y="781"/>
                    </a:lnTo>
                    <a:lnTo>
                      <a:pt x="923" y="794"/>
                    </a:lnTo>
                    <a:lnTo>
                      <a:pt x="927" y="933"/>
                    </a:lnTo>
                    <a:lnTo>
                      <a:pt x="936" y="933"/>
                    </a:lnTo>
                    <a:lnTo>
                      <a:pt x="940" y="933"/>
                    </a:lnTo>
                    <a:lnTo>
                      <a:pt x="949" y="933"/>
                    </a:lnTo>
                    <a:lnTo>
                      <a:pt x="957" y="933"/>
                    </a:lnTo>
                    <a:lnTo>
                      <a:pt x="961" y="933"/>
                    </a:lnTo>
                    <a:lnTo>
                      <a:pt x="970" y="933"/>
                    </a:lnTo>
                    <a:lnTo>
                      <a:pt x="974" y="933"/>
                    </a:lnTo>
                    <a:lnTo>
                      <a:pt x="983" y="933"/>
                    </a:lnTo>
                    <a:lnTo>
                      <a:pt x="987" y="933"/>
                    </a:lnTo>
                    <a:lnTo>
                      <a:pt x="996" y="933"/>
                    </a:lnTo>
                    <a:lnTo>
                      <a:pt x="1000" y="933"/>
                    </a:lnTo>
                    <a:lnTo>
                      <a:pt x="1009" y="933"/>
                    </a:lnTo>
                    <a:lnTo>
                      <a:pt x="1013" y="933"/>
                    </a:lnTo>
                    <a:lnTo>
                      <a:pt x="1022" y="933"/>
                    </a:lnTo>
                    <a:lnTo>
                      <a:pt x="1026" y="933"/>
                    </a:lnTo>
                    <a:lnTo>
                      <a:pt x="1035" y="933"/>
                    </a:lnTo>
                    <a:lnTo>
                      <a:pt x="1039" y="933"/>
                    </a:lnTo>
                    <a:lnTo>
                      <a:pt x="1048" y="933"/>
                    </a:lnTo>
                    <a:lnTo>
                      <a:pt x="1057" y="933"/>
                    </a:lnTo>
                    <a:lnTo>
                      <a:pt x="1061" y="933"/>
                    </a:lnTo>
                    <a:lnTo>
                      <a:pt x="1070" y="933"/>
                    </a:lnTo>
                    <a:lnTo>
                      <a:pt x="1074" y="933"/>
                    </a:lnTo>
                    <a:lnTo>
                      <a:pt x="1083" y="933"/>
                    </a:lnTo>
                    <a:lnTo>
                      <a:pt x="1087" y="933"/>
                    </a:lnTo>
                    <a:lnTo>
                      <a:pt x="1096" y="933"/>
                    </a:lnTo>
                    <a:lnTo>
                      <a:pt x="1100" y="933"/>
                    </a:lnTo>
                    <a:lnTo>
                      <a:pt x="1109" y="933"/>
                    </a:lnTo>
                    <a:lnTo>
                      <a:pt x="1113" y="933"/>
                    </a:lnTo>
                    <a:lnTo>
                      <a:pt x="1122" y="933"/>
                    </a:lnTo>
                    <a:lnTo>
                      <a:pt x="1126" y="933"/>
                    </a:lnTo>
                    <a:lnTo>
                      <a:pt x="1135" y="933"/>
                    </a:lnTo>
                    <a:lnTo>
                      <a:pt x="1143" y="933"/>
                    </a:lnTo>
                    <a:lnTo>
                      <a:pt x="1148" y="933"/>
                    </a:lnTo>
                    <a:lnTo>
                      <a:pt x="1156" y="933"/>
                    </a:lnTo>
                    <a:lnTo>
                      <a:pt x="1161" y="933"/>
                    </a:lnTo>
                    <a:lnTo>
                      <a:pt x="1169" y="933"/>
                    </a:lnTo>
                    <a:lnTo>
                      <a:pt x="1174" y="933"/>
                    </a:lnTo>
                    <a:lnTo>
                      <a:pt x="1182" y="933"/>
                    </a:lnTo>
                    <a:lnTo>
                      <a:pt x="1187" y="933"/>
                    </a:lnTo>
                    <a:lnTo>
                      <a:pt x="1195" y="933"/>
                    </a:lnTo>
                    <a:lnTo>
                      <a:pt x="1200" y="933"/>
                    </a:lnTo>
                    <a:lnTo>
                      <a:pt x="1208" y="933"/>
                    </a:lnTo>
                    <a:lnTo>
                      <a:pt x="1213" y="933"/>
                    </a:lnTo>
                    <a:lnTo>
                      <a:pt x="1221" y="933"/>
                    </a:lnTo>
                    <a:lnTo>
                      <a:pt x="1226" y="933"/>
                    </a:lnTo>
                    <a:lnTo>
                      <a:pt x="1234" y="933"/>
                    </a:lnTo>
                    <a:lnTo>
                      <a:pt x="1243" y="933"/>
                    </a:lnTo>
                    <a:lnTo>
                      <a:pt x="1247" y="933"/>
                    </a:lnTo>
                    <a:lnTo>
                      <a:pt x="1256" y="933"/>
                    </a:lnTo>
                    <a:lnTo>
                      <a:pt x="1260" y="933"/>
                    </a:lnTo>
                    <a:lnTo>
                      <a:pt x="1269" y="933"/>
                    </a:lnTo>
                    <a:lnTo>
                      <a:pt x="1273" y="933"/>
                    </a:lnTo>
                    <a:lnTo>
                      <a:pt x="1282" y="933"/>
                    </a:lnTo>
                    <a:lnTo>
                      <a:pt x="1286" y="933"/>
                    </a:lnTo>
                    <a:lnTo>
                      <a:pt x="1295" y="933"/>
                    </a:lnTo>
                    <a:lnTo>
                      <a:pt x="1299" y="933"/>
                    </a:lnTo>
                    <a:lnTo>
                      <a:pt x="1308" y="933"/>
                    </a:lnTo>
                    <a:lnTo>
                      <a:pt x="1312" y="933"/>
                    </a:lnTo>
                    <a:lnTo>
                      <a:pt x="1321" y="933"/>
                    </a:lnTo>
                    <a:lnTo>
                      <a:pt x="1325" y="933"/>
                    </a:lnTo>
                    <a:lnTo>
                      <a:pt x="1321" y="933"/>
                    </a:lnTo>
                    <a:lnTo>
                      <a:pt x="1312" y="933"/>
                    </a:lnTo>
                    <a:lnTo>
                      <a:pt x="1308" y="933"/>
                    </a:lnTo>
                    <a:lnTo>
                      <a:pt x="1299" y="933"/>
                    </a:lnTo>
                    <a:lnTo>
                      <a:pt x="1295" y="933"/>
                    </a:lnTo>
                    <a:lnTo>
                      <a:pt x="1286" y="933"/>
                    </a:lnTo>
                    <a:lnTo>
                      <a:pt x="1282" y="933"/>
                    </a:lnTo>
                    <a:lnTo>
                      <a:pt x="1273" y="933"/>
                    </a:lnTo>
                    <a:lnTo>
                      <a:pt x="1269" y="933"/>
                    </a:lnTo>
                    <a:lnTo>
                      <a:pt x="1260" y="933"/>
                    </a:lnTo>
                    <a:lnTo>
                      <a:pt x="1256" y="933"/>
                    </a:lnTo>
                    <a:lnTo>
                      <a:pt x="1247" y="933"/>
                    </a:lnTo>
                    <a:lnTo>
                      <a:pt x="1243" y="933"/>
                    </a:lnTo>
                    <a:lnTo>
                      <a:pt x="1234" y="933"/>
                    </a:lnTo>
                    <a:lnTo>
                      <a:pt x="1226" y="933"/>
                    </a:lnTo>
                    <a:lnTo>
                      <a:pt x="1221" y="933"/>
                    </a:lnTo>
                    <a:lnTo>
                      <a:pt x="1213" y="933"/>
                    </a:lnTo>
                    <a:lnTo>
                      <a:pt x="1208" y="933"/>
                    </a:lnTo>
                    <a:lnTo>
                      <a:pt x="1200" y="933"/>
                    </a:lnTo>
                    <a:lnTo>
                      <a:pt x="1195" y="933"/>
                    </a:lnTo>
                    <a:lnTo>
                      <a:pt x="1187" y="933"/>
                    </a:lnTo>
                    <a:lnTo>
                      <a:pt x="1182" y="933"/>
                    </a:lnTo>
                    <a:lnTo>
                      <a:pt x="1174" y="933"/>
                    </a:lnTo>
                    <a:lnTo>
                      <a:pt x="1169" y="933"/>
                    </a:lnTo>
                    <a:lnTo>
                      <a:pt x="1161" y="933"/>
                    </a:lnTo>
                    <a:lnTo>
                      <a:pt x="1156" y="933"/>
                    </a:lnTo>
                    <a:lnTo>
                      <a:pt x="1148" y="933"/>
                    </a:lnTo>
                    <a:lnTo>
                      <a:pt x="1143" y="933"/>
                    </a:lnTo>
                    <a:lnTo>
                      <a:pt x="1135" y="933"/>
                    </a:lnTo>
                    <a:lnTo>
                      <a:pt x="1126" y="933"/>
                    </a:lnTo>
                    <a:lnTo>
                      <a:pt x="1122" y="933"/>
                    </a:lnTo>
                    <a:lnTo>
                      <a:pt x="1113" y="933"/>
                    </a:lnTo>
                    <a:lnTo>
                      <a:pt x="1109" y="933"/>
                    </a:lnTo>
                    <a:lnTo>
                      <a:pt x="1100" y="933"/>
                    </a:lnTo>
                    <a:lnTo>
                      <a:pt x="1096" y="933"/>
                    </a:lnTo>
                    <a:lnTo>
                      <a:pt x="1087" y="933"/>
                    </a:lnTo>
                    <a:lnTo>
                      <a:pt x="1083" y="933"/>
                    </a:lnTo>
                    <a:lnTo>
                      <a:pt x="1074" y="933"/>
                    </a:lnTo>
                    <a:lnTo>
                      <a:pt x="1070" y="933"/>
                    </a:lnTo>
                    <a:lnTo>
                      <a:pt x="1061" y="933"/>
                    </a:lnTo>
                    <a:lnTo>
                      <a:pt x="1057" y="933"/>
                    </a:lnTo>
                    <a:lnTo>
                      <a:pt x="1048" y="933"/>
                    </a:lnTo>
                    <a:lnTo>
                      <a:pt x="1039" y="933"/>
                    </a:lnTo>
                    <a:lnTo>
                      <a:pt x="1035" y="933"/>
                    </a:lnTo>
                    <a:lnTo>
                      <a:pt x="1026" y="933"/>
                    </a:lnTo>
                    <a:lnTo>
                      <a:pt x="1022" y="933"/>
                    </a:lnTo>
                    <a:lnTo>
                      <a:pt x="1013" y="933"/>
                    </a:lnTo>
                    <a:lnTo>
                      <a:pt x="1009" y="933"/>
                    </a:lnTo>
                    <a:lnTo>
                      <a:pt x="1000" y="933"/>
                    </a:lnTo>
                    <a:lnTo>
                      <a:pt x="996" y="933"/>
                    </a:lnTo>
                    <a:lnTo>
                      <a:pt x="987" y="933"/>
                    </a:lnTo>
                    <a:lnTo>
                      <a:pt x="983" y="933"/>
                    </a:lnTo>
                    <a:lnTo>
                      <a:pt x="974" y="933"/>
                    </a:lnTo>
                    <a:lnTo>
                      <a:pt x="970" y="933"/>
                    </a:lnTo>
                    <a:lnTo>
                      <a:pt x="961" y="933"/>
                    </a:lnTo>
                    <a:lnTo>
                      <a:pt x="957" y="933"/>
                    </a:lnTo>
                    <a:lnTo>
                      <a:pt x="949" y="933"/>
                    </a:lnTo>
                    <a:lnTo>
                      <a:pt x="940" y="933"/>
                    </a:lnTo>
                    <a:lnTo>
                      <a:pt x="936" y="933"/>
                    </a:lnTo>
                    <a:lnTo>
                      <a:pt x="927" y="933"/>
                    </a:lnTo>
                    <a:lnTo>
                      <a:pt x="923" y="933"/>
                    </a:lnTo>
                    <a:lnTo>
                      <a:pt x="914" y="933"/>
                    </a:lnTo>
                    <a:lnTo>
                      <a:pt x="910" y="933"/>
                    </a:lnTo>
                    <a:lnTo>
                      <a:pt x="901" y="933"/>
                    </a:lnTo>
                    <a:lnTo>
                      <a:pt x="897" y="933"/>
                    </a:lnTo>
                    <a:lnTo>
                      <a:pt x="888" y="933"/>
                    </a:lnTo>
                    <a:lnTo>
                      <a:pt x="884" y="933"/>
                    </a:lnTo>
                    <a:lnTo>
                      <a:pt x="875" y="933"/>
                    </a:lnTo>
                    <a:lnTo>
                      <a:pt x="871" y="933"/>
                    </a:lnTo>
                    <a:lnTo>
                      <a:pt x="862" y="933"/>
                    </a:lnTo>
                    <a:lnTo>
                      <a:pt x="858" y="933"/>
                    </a:lnTo>
                    <a:lnTo>
                      <a:pt x="849" y="933"/>
                    </a:lnTo>
                    <a:lnTo>
                      <a:pt x="840" y="933"/>
                    </a:lnTo>
                    <a:lnTo>
                      <a:pt x="836" y="933"/>
                    </a:lnTo>
                    <a:lnTo>
                      <a:pt x="827" y="933"/>
                    </a:lnTo>
                    <a:lnTo>
                      <a:pt x="823" y="933"/>
                    </a:lnTo>
                    <a:lnTo>
                      <a:pt x="814" y="933"/>
                    </a:lnTo>
                    <a:lnTo>
                      <a:pt x="810" y="933"/>
                    </a:lnTo>
                    <a:lnTo>
                      <a:pt x="801" y="933"/>
                    </a:lnTo>
                    <a:lnTo>
                      <a:pt x="797" y="933"/>
                    </a:lnTo>
                    <a:lnTo>
                      <a:pt x="788" y="933"/>
                    </a:lnTo>
                    <a:lnTo>
                      <a:pt x="784" y="933"/>
                    </a:lnTo>
                    <a:lnTo>
                      <a:pt x="775" y="933"/>
                    </a:lnTo>
                    <a:lnTo>
                      <a:pt x="771" y="933"/>
                    </a:lnTo>
                    <a:lnTo>
                      <a:pt x="762" y="933"/>
                    </a:lnTo>
                    <a:lnTo>
                      <a:pt x="754" y="933"/>
                    </a:lnTo>
                    <a:lnTo>
                      <a:pt x="749" y="933"/>
                    </a:lnTo>
                    <a:lnTo>
                      <a:pt x="741" y="933"/>
                    </a:lnTo>
                    <a:lnTo>
                      <a:pt x="736" y="933"/>
                    </a:lnTo>
                    <a:lnTo>
                      <a:pt x="728" y="933"/>
                    </a:lnTo>
                    <a:lnTo>
                      <a:pt x="723" y="933"/>
                    </a:lnTo>
                    <a:lnTo>
                      <a:pt x="715" y="933"/>
                    </a:lnTo>
                    <a:lnTo>
                      <a:pt x="710" y="933"/>
                    </a:lnTo>
                    <a:lnTo>
                      <a:pt x="702" y="933"/>
                    </a:lnTo>
                    <a:lnTo>
                      <a:pt x="697" y="933"/>
                    </a:lnTo>
                    <a:lnTo>
                      <a:pt x="689" y="933"/>
                    </a:lnTo>
                    <a:lnTo>
                      <a:pt x="684" y="933"/>
                    </a:lnTo>
                    <a:lnTo>
                      <a:pt x="676" y="933"/>
                    </a:lnTo>
                    <a:lnTo>
                      <a:pt x="671" y="933"/>
                    </a:lnTo>
                    <a:lnTo>
                      <a:pt x="663" y="933"/>
                    </a:lnTo>
                    <a:lnTo>
                      <a:pt x="654" y="933"/>
                    </a:lnTo>
                    <a:lnTo>
                      <a:pt x="650" y="933"/>
                    </a:lnTo>
                    <a:lnTo>
                      <a:pt x="641" y="933"/>
                    </a:lnTo>
                    <a:lnTo>
                      <a:pt x="637" y="933"/>
                    </a:lnTo>
                    <a:lnTo>
                      <a:pt x="628" y="933"/>
                    </a:lnTo>
                    <a:lnTo>
                      <a:pt x="624" y="933"/>
                    </a:lnTo>
                    <a:lnTo>
                      <a:pt x="615" y="933"/>
                    </a:lnTo>
                    <a:lnTo>
                      <a:pt x="611" y="933"/>
                    </a:lnTo>
                    <a:lnTo>
                      <a:pt x="602" y="933"/>
                    </a:lnTo>
                    <a:lnTo>
                      <a:pt x="598" y="933"/>
                    </a:lnTo>
                    <a:lnTo>
                      <a:pt x="589" y="933"/>
                    </a:lnTo>
                    <a:lnTo>
                      <a:pt x="585" y="933"/>
                    </a:lnTo>
                    <a:lnTo>
                      <a:pt x="576" y="933"/>
                    </a:lnTo>
                    <a:lnTo>
                      <a:pt x="572" y="933"/>
                    </a:lnTo>
                    <a:lnTo>
                      <a:pt x="563" y="933"/>
                    </a:lnTo>
                    <a:lnTo>
                      <a:pt x="554" y="933"/>
                    </a:lnTo>
                    <a:lnTo>
                      <a:pt x="550" y="933"/>
                    </a:lnTo>
                    <a:lnTo>
                      <a:pt x="541" y="933"/>
                    </a:lnTo>
                    <a:lnTo>
                      <a:pt x="537" y="933"/>
                    </a:lnTo>
                    <a:lnTo>
                      <a:pt x="528" y="933"/>
                    </a:lnTo>
                    <a:lnTo>
                      <a:pt x="524" y="933"/>
                    </a:lnTo>
                    <a:lnTo>
                      <a:pt x="515" y="933"/>
                    </a:lnTo>
                    <a:lnTo>
                      <a:pt x="511" y="933"/>
                    </a:lnTo>
                    <a:lnTo>
                      <a:pt x="502" y="933"/>
                    </a:lnTo>
                    <a:lnTo>
                      <a:pt x="498" y="933"/>
                    </a:lnTo>
                    <a:lnTo>
                      <a:pt x="489" y="933"/>
                    </a:lnTo>
                    <a:lnTo>
                      <a:pt x="485" y="933"/>
                    </a:lnTo>
                    <a:lnTo>
                      <a:pt x="476" y="933"/>
                    </a:lnTo>
                    <a:lnTo>
                      <a:pt x="468" y="933"/>
                    </a:lnTo>
                    <a:lnTo>
                      <a:pt x="463" y="933"/>
                    </a:lnTo>
                    <a:lnTo>
                      <a:pt x="455" y="933"/>
                    </a:lnTo>
                    <a:lnTo>
                      <a:pt x="450" y="933"/>
                    </a:lnTo>
                    <a:lnTo>
                      <a:pt x="442" y="933"/>
                    </a:lnTo>
                    <a:lnTo>
                      <a:pt x="437" y="933"/>
                    </a:lnTo>
                    <a:lnTo>
                      <a:pt x="429" y="933"/>
                    </a:lnTo>
                    <a:lnTo>
                      <a:pt x="424" y="933"/>
                    </a:lnTo>
                    <a:lnTo>
                      <a:pt x="416" y="933"/>
                    </a:lnTo>
                    <a:lnTo>
                      <a:pt x="411" y="933"/>
                    </a:lnTo>
                    <a:lnTo>
                      <a:pt x="403" y="933"/>
                    </a:lnTo>
                    <a:lnTo>
                      <a:pt x="398" y="933"/>
                    </a:lnTo>
                    <a:lnTo>
                      <a:pt x="390" y="933"/>
                    </a:lnTo>
                    <a:lnTo>
                      <a:pt x="385" y="933"/>
                    </a:lnTo>
                    <a:lnTo>
                      <a:pt x="377" y="933"/>
                    </a:lnTo>
                    <a:lnTo>
                      <a:pt x="368" y="933"/>
                    </a:lnTo>
                    <a:lnTo>
                      <a:pt x="364" y="933"/>
                    </a:lnTo>
                    <a:lnTo>
                      <a:pt x="355" y="933"/>
                    </a:lnTo>
                    <a:lnTo>
                      <a:pt x="351" y="933"/>
                    </a:lnTo>
                    <a:lnTo>
                      <a:pt x="342" y="933"/>
                    </a:lnTo>
                    <a:lnTo>
                      <a:pt x="338" y="933"/>
                    </a:lnTo>
                    <a:lnTo>
                      <a:pt x="329" y="933"/>
                    </a:lnTo>
                    <a:lnTo>
                      <a:pt x="325" y="933"/>
                    </a:lnTo>
                    <a:lnTo>
                      <a:pt x="316" y="933"/>
                    </a:lnTo>
                    <a:lnTo>
                      <a:pt x="312" y="933"/>
                    </a:lnTo>
                    <a:lnTo>
                      <a:pt x="303" y="933"/>
                    </a:lnTo>
                    <a:lnTo>
                      <a:pt x="299" y="933"/>
                    </a:lnTo>
                    <a:lnTo>
                      <a:pt x="290" y="933"/>
                    </a:lnTo>
                    <a:lnTo>
                      <a:pt x="286" y="933"/>
                    </a:lnTo>
                    <a:lnTo>
                      <a:pt x="277" y="933"/>
                    </a:lnTo>
                    <a:lnTo>
                      <a:pt x="269" y="933"/>
                    </a:lnTo>
                    <a:lnTo>
                      <a:pt x="264" y="933"/>
                    </a:lnTo>
                    <a:lnTo>
                      <a:pt x="256" y="933"/>
                    </a:lnTo>
                    <a:lnTo>
                      <a:pt x="251" y="933"/>
                    </a:lnTo>
                    <a:lnTo>
                      <a:pt x="243" y="933"/>
                    </a:lnTo>
                    <a:lnTo>
                      <a:pt x="238" y="933"/>
                    </a:lnTo>
                    <a:lnTo>
                      <a:pt x="230" y="933"/>
                    </a:lnTo>
                    <a:lnTo>
                      <a:pt x="225" y="933"/>
                    </a:lnTo>
                    <a:lnTo>
                      <a:pt x="217" y="933"/>
                    </a:lnTo>
                    <a:lnTo>
                      <a:pt x="212" y="933"/>
                    </a:lnTo>
                    <a:lnTo>
                      <a:pt x="204" y="933"/>
                    </a:lnTo>
                    <a:lnTo>
                      <a:pt x="199" y="933"/>
                    </a:lnTo>
                    <a:lnTo>
                      <a:pt x="191" y="933"/>
                    </a:lnTo>
                    <a:lnTo>
                      <a:pt x="182" y="933"/>
                    </a:lnTo>
                    <a:lnTo>
                      <a:pt x="178" y="933"/>
                    </a:lnTo>
                    <a:lnTo>
                      <a:pt x="169" y="933"/>
                    </a:lnTo>
                    <a:lnTo>
                      <a:pt x="165" y="933"/>
                    </a:lnTo>
                    <a:lnTo>
                      <a:pt x="156" y="933"/>
                    </a:lnTo>
                    <a:lnTo>
                      <a:pt x="152" y="933"/>
                    </a:lnTo>
                    <a:lnTo>
                      <a:pt x="143" y="933"/>
                    </a:lnTo>
                    <a:lnTo>
                      <a:pt x="139" y="933"/>
                    </a:lnTo>
                    <a:lnTo>
                      <a:pt x="130" y="933"/>
                    </a:lnTo>
                    <a:lnTo>
                      <a:pt x="126" y="933"/>
                    </a:lnTo>
                    <a:lnTo>
                      <a:pt x="117" y="933"/>
                    </a:lnTo>
                    <a:lnTo>
                      <a:pt x="113" y="933"/>
                    </a:lnTo>
                    <a:lnTo>
                      <a:pt x="104" y="933"/>
                    </a:lnTo>
                    <a:lnTo>
                      <a:pt x="100" y="933"/>
                    </a:lnTo>
                    <a:lnTo>
                      <a:pt x="91" y="933"/>
                    </a:lnTo>
                    <a:lnTo>
                      <a:pt x="82" y="933"/>
                    </a:lnTo>
                    <a:lnTo>
                      <a:pt x="78" y="933"/>
                    </a:lnTo>
                    <a:lnTo>
                      <a:pt x="69" y="933"/>
                    </a:lnTo>
                    <a:lnTo>
                      <a:pt x="65" y="933"/>
                    </a:lnTo>
                    <a:lnTo>
                      <a:pt x="56" y="933"/>
                    </a:lnTo>
                    <a:lnTo>
                      <a:pt x="52" y="933"/>
                    </a:lnTo>
                    <a:lnTo>
                      <a:pt x="43" y="933"/>
                    </a:lnTo>
                    <a:lnTo>
                      <a:pt x="39" y="933"/>
                    </a:lnTo>
                    <a:lnTo>
                      <a:pt x="30" y="933"/>
                    </a:lnTo>
                    <a:lnTo>
                      <a:pt x="26" y="933"/>
                    </a:lnTo>
                    <a:lnTo>
                      <a:pt x="17" y="933"/>
                    </a:lnTo>
                    <a:lnTo>
                      <a:pt x="13" y="933"/>
                    </a:lnTo>
                    <a:lnTo>
                      <a:pt x="4" y="933"/>
                    </a:lnTo>
                    <a:lnTo>
                      <a:pt x="0" y="9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custGeom>
                <a:avLst/>
                <a:gdLst>
                  <a:gd name="textAreaLeft" fmla="*/ 0 w 2781720"/>
                  <a:gd name="textAreaRight" fmla="*/ 2782080 w 2781720"/>
                  <a:gd name="textAreaTop" fmla="*/ 0 h 1590840"/>
                  <a:gd name="textAreaBottom" fmla="*/ 1591200 h 1590840"/>
                </a:gdLst>
                <a:ahLst/>
                <a:rect l="textAreaLeft" t="textAreaTop" r="textAreaRight" b="textAreaBottom"/>
                <a:pathLst>
                  <a:path w="1326" h="934">
                    <a:moveTo>
                      <a:pt x="0" y="933"/>
                    </a:moveTo>
                    <a:lnTo>
                      <a:pt x="0" y="933"/>
                    </a:lnTo>
                    <a:lnTo>
                      <a:pt x="4" y="933"/>
                    </a:lnTo>
                    <a:lnTo>
                      <a:pt x="9" y="933"/>
                    </a:lnTo>
                    <a:lnTo>
                      <a:pt x="13" y="933"/>
                    </a:lnTo>
                    <a:lnTo>
                      <a:pt x="17" y="933"/>
                    </a:lnTo>
                    <a:lnTo>
                      <a:pt x="22" y="933"/>
                    </a:lnTo>
                    <a:lnTo>
                      <a:pt x="26" y="933"/>
                    </a:lnTo>
                    <a:lnTo>
                      <a:pt x="30" y="933"/>
                    </a:lnTo>
                    <a:lnTo>
                      <a:pt x="35" y="933"/>
                    </a:lnTo>
                    <a:lnTo>
                      <a:pt x="39" y="933"/>
                    </a:lnTo>
                    <a:lnTo>
                      <a:pt x="43" y="933"/>
                    </a:lnTo>
                    <a:lnTo>
                      <a:pt x="48" y="933"/>
                    </a:lnTo>
                    <a:lnTo>
                      <a:pt x="52" y="933"/>
                    </a:lnTo>
                    <a:lnTo>
                      <a:pt x="56" y="933"/>
                    </a:lnTo>
                    <a:lnTo>
                      <a:pt x="61" y="933"/>
                    </a:lnTo>
                    <a:lnTo>
                      <a:pt x="65" y="933"/>
                    </a:lnTo>
                    <a:lnTo>
                      <a:pt x="69" y="933"/>
                    </a:lnTo>
                    <a:lnTo>
                      <a:pt x="74" y="933"/>
                    </a:lnTo>
                    <a:lnTo>
                      <a:pt x="78" y="933"/>
                    </a:lnTo>
                    <a:lnTo>
                      <a:pt x="82" y="933"/>
                    </a:lnTo>
                    <a:lnTo>
                      <a:pt x="87" y="933"/>
                    </a:lnTo>
                    <a:lnTo>
                      <a:pt x="91" y="933"/>
                    </a:lnTo>
                    <a:lnTo>
                      <a:pt x="95" y="933"/>
                    </a:lnTo>
                    <a:lnTo>
                      <a:pt x="100" y="933"/>
                    </a:lnTo>
                    <a:lnTo>
                      <a:pt x="104" y="933"/>
                    </a:lnTo>
                    <a:lnTo>
                      <a:pt x="108" y="933"/>
                    </a:lnTo>
                    <a:lnTo>
                      <a:pt x="113" y="933"/>
                    </a:lnTo>
                    <a:lnTo>
                      <a:pt x="117" y="933"/>
                    </a:lnTo>
                    <a:lnTo>
                      <a:pt x="121" y="933"/>
                    </a:lnTo>
                    <a:lnTo>
                      <a:pt x="126" y="933"/>
                    </a:lnTo>
                    <a:lnTo>
                      <a:pt x="130" y="933"/>
                    </a:lnTo>
                    <a:lnTo>
                      <a:pt x="134" y="933"/>
                    </a:lnTo>
                    <a:lnTo>
                      <a:pt x="139" y="933"/>
                    </a:lnTo>
                    <a:lnTo>
                      <a:pt x="143" y="933"/>
                    </a:lnTo>
                    <a:lnTo>
                      <a:pt x="147" y="933"/>
                    </a:lnTo>
                    <a:lnTo>
                      <a:pt x="152" y="933"/>
                    </a:lnTo>
                    <a:lnTo>
                      <a:pt x="156" y="933"/>
                    </a:lnTo>
                    <a:lnTo>
                      <a:pt x="160" y="933"/>
                    </a:lnTo>
                    <a:lnTo>
                      <a:pt x="165" y="933"/>
                    </a:lnTo>
                    <a:lnTo>
                      <a:pt x="169" y="933"/>
                    </a:lnTo>
                    <a:lnTo>
                      <a:pt x="173" y="933"/>
                    </a:lnTo>
                    <a:lnTo>
                      <a:pt x="178" y="933"/>
                    </a:lnTo>
                    <a:lnTo>
                      <a:pt x="182" y="933"/>
                    </a:lnTo>
                    <a:lnTo>
                      <a:pt x="186" y="933"/>
                    </a:lnTo>
                    <a:lnTo>
                      <a:pt x="191" y="933"/>
                    </a:lnTo>
                    <a:lnTo>
                      <a:pt x="195" y="933"/>
                    </a:lnTo>
                    <a:lnTo>
                      <a:pt x="199" y="933"/>
                    </a:lnTo>
                    <a:lnTo>
                      <a:pt x="204" y="933"/>
                    </a:lnTo>
                    <a:lnTo>
                      <a:pt x="208" y="933"/>
                    </a:lnTo>
                    <a:lnTo>
                      <a:pt x="212" y="933"/>
                    </a:lnTo>
                    <a:lnTo>
                      <a:pt x="217" y="933"/>
                    </a:lnTo>
                    <a:lnTo>
                      <a:pt x="221" y="933"/>
                    </a:lnTo>
                    <a:lnTo>
                      <a:pt x="225" y="933"/>
                    </a:lnTo>
                    <a:lnTo>
                      <a:pt x="225" y="929"/>
                    </a:lnTo>
                    <a:lnTo>
                      <a:pt x="230" y="929"/>
                    </a:lnTo>
                    <a:lnTo>
                      <a:pt x="234" y="929"/>
                    </a:lnTo>
                    <a:lnTo>
                      <a:pt x="238" y="929"/>
                    </a:lnTo>
                    <a:lnTo>
                      <a:pt x="243" y="929"/>
                    </a:lnTo>
                    <a:lnTo>
                      <a:pt x="247" y="929"/>
                    </a:lnTo>
                    <a:lnTo>
                      <a:pt x="251" y="929"/>
                    </a:lnTo>
                    <a:lnTo>
                      <a:pt x="256" y="929"/>
                    </a:lnTo>
                    <a:lnTo>
                      <a:pt x="256" y="924"/>
                    </a:lnTo>
                    <a:lnTo>
                      <a:pt x="260" y="924"/>
                    </a:lnTo>
                    <a:lnTo>
                      <a:pt x="264" y="924"/>
                    </a:lnTo>
                    <a:lnTo>
                      <a:pt x="269" y="924"/>
                    </a:lnTo>
                    <a:lnTo>
                      <a:pt x="273" y="924"/>
                    </a:lnTo>
                    <a:lnTo>
                      <a:pt x="273" y="920"/>
                    </a:lnTo>
                    <a:lnTo>
                      <a:pt x="277" y="920"/>
                    </a:lnTo>
                    <a:lnTo>
                      <a:pt x="282" y="920"/>
                    </a:lnTo>
                    <a:lnTo>
                      <a:pt x="286" y="920"/>
                    </a:lnTo>
                    <a:lnTo>
                      <a:pt x="286" y="916"/>
                    </a:lnTo>
                    <a:lnTo>
                      <a:pt x="290" y="916"/>
                    </a:lnTo>
                    <a:lnTo>
                      <a:pt x="295" y="916"/>
                    </a:lnTo>
                    <a:lnTo>
                      <a:pt x="299" y="916"/>
                    </a:lnTo>
                    <a:lnTo>
                      <a:pt x="299" y="911"/>
                    </a:lnTo>
                    <a:lnTo>
                      <a:pt x="303" y="911"/>
                    </a:lnTo>
                    <a:lnTo>
                      <a:pt x="308" y="911"/>
                    </a:lnTo>
                    <a:lnTo>
                      <a:pt x="308" y="907"/>
                    </a:lnTo>
                    <a:lnTo>
                      <a:pt x="312" y="907"/>
                    </a:lnTo>
                    <a:lnTo>
                      <a:pt x="316" y="907"/>
                    </a:lnTo>
                    <a:lnTo>
                      <a:pt x="316" y="903"/>
                    </a:lnTo>
                    <a:lnTo>
                      <a:pt x="321" y="903"/>
                    </a:lnTo>
                    <a:lnTo>
                      <a:pt x="321" y="898"/>
                    </a:lnTo>
                    <a:lnTo>
                      <a:pt x="325" y="898"/>
                    </a:lnTo>
                    <a:lnTo>
                      <a:pt x="329" y="894"/>
                    </a:lnTo>
                    <a:lnTo>
                      <a:pt x="334" y="894"/>
                    </a:lnTo>
                    <a:lnTo>
                      <a:pt x="334" y="890"/>
                    </a:lnTo>
                    <a:lnTo>
                      <a:pt x="338" y="890"/>
                    </a:lnTo>
                    <a:lnTo>
                      <a:pt x="338" y="885"/>
                    </a:lnTo>
                    <a:lnTo>
                      <a:pt x="342" y="885"/>
                    </a:lnTo>
                    <a:lnTo>
                      <a:pt x="342" y="881"/>
                    </a:lnTo>
                    <a:lnTo>
                      <a:pt x="347" y="881"/>
                    </a:lnTo>
                    <a:lnTo>
                      <a:pt x="351" y="877"/>
                    </a:lnTo>
                    <a:lnTo>
                      <a:pt x="351" y="872"/>
                    </a:lnTo>
                    <a:lnTo>
                      <a:pt x="355" y="872"/>
                    </a:lnTo>
                    <a:lnTo>
                      <a:pt x="355" y="868"/>
                    </a:lnTo>
                    <a:lnTo>
                      <a:pt x="360" y="868"/>
                    </a:lnTo>
                    <a:lnTo>
                      <a:pt x="360" y="864"/>
                    </a:lnTo>
                    <a:lnTo>
                      <a:pt x="364" y="864"/>
                    </a:lnTo>
                    <a:lnTo>
                      <a:pt x="364" y="859"/>
                    </a:lnTo>
                    <a:lnTo>
                      <a:pt x="368" y="859"/>
                    </a:lnTo>
                    <a:lnTo>
                      <a:pt x="368" y="855"/>
                    </a:lnTo>
                    <a:lnTo>
                      <a:pt x="368" y="851"/>
                    </a:lnTo>
                    <a:lnTo>
                      <a:pt x="373" y="851"/>
                    </a:lnTo>
                    <a:lnTo>
                      <a:pt x="373" y="846"/>
                    </a:lnTo>
                    <a:lnTo>
                      <a:pt x="377" y="846"/>
                    </a:lnTo>
                    <a:lnTo>
                      <a:pt x="377" y="842"/>
                    </a:lnTo>
                    <a:lnTo>
                      <a:pt x="381" y="838"/>
                    </a:lnTo>
                    <a:lnTo>
                      <a:pt x="381" y="833"/>
                    </a:lnTo>
                    <a:lnTo>
                      <a:pt x="385" y="833"/>
                    </a:lnTo>
                    <a:lnTo>
                      <a:pt x="385" y="829"/>
                    </a:lnTo>
                    <a:lnTo>
                      <a:pt x="385" y="825"/>
                    </a:lnTo>
                    <a:lnTo>
                      <a:pt x="390" y="825"/>
                    </a:lnTo>
                    <a:lnTo>
                      <a:pt x="390" y="820"/>
                    </a:lnTo>
                    <a:lnTo>
                      <a:pt x="394" y="816"/>
                    </a:lnTo>
                    <a:lnTo>
                      <a:pt x="394" y="812"/>
                    </a:lnTo>
                    <a:lnTo>
                      <a:pt x="398" y="807"/>
                    </a:lnTo>
                    <a:lnTo>
                      <a:pt x="398" y="803"/>
                    </a:lnTo>
                    <a:lnTo>
                      <a:pt x="403" y="803"/>
                    </a:lnTo>
                    <a:lnTo>
                      <a:pt x="403" y="799"/>
                    </a:lnTo>
                    <a:lnTo>
                      <a:pt x="403" y="794"/>
                    </a:lnTo>
                    <a:lnTo>
                      <a:pt x="407" y="790"/>
                    </a:lnTo>
                    <a:lnTo>
                      <a:pt x="407" y="786"/>
                    </a:lnTo>
                    <a:lnTo>
                      <a:pt x="411" y="781"/>
                    </a:lnTo>
                    <a:lnTo>
                      <a:pt x="411" y="777"/>
                    </a:lnTo>
                    <a:lnTo>
                      <a:pt x="416" y="773"/>
                    </a:lnTo>
                    <a:lnTo>
                      <a:pt x="416" y="768"/>
                    </a:lnTo>
                    <a:lnTo>
                      <a:pt x="420" y="764"/>
                    </a:lnTo>
                    <a:lnTo>
                      <a:pt x="420" y="759"/>
                    </a:lnTo>
                    <a:lnTo>
                      <a:pt x="420" y="755"/>
                    </a:lnTo>
                    <a:lnTo>
                      <a:pt x="424" y="751"/>
                    </a:lnTo>
                    <a:lnTo>
                      <a:pt x="424" y="746"/>
                    </a:lnTo>
                    <a:lnTo>
                      <a:pt x="424" y="742"/>
                    </a:lnTo>
                    <a:lnTo>
                      <a:pt x="429" y="742"/>
                    </a:lnTo>
                    <a:lnTo>
                      <a:pt x="429" y="738"/>
                    </a:lnTo>
                    <a:lnTo>
                      <a:pt x="429" y="733"/>
                    </a:lnTo>
                    <a:lnTo>
                      <a:pt x="433" y="729"/>
                    </a:lnTo>
                    <a:lnTo>
                      <a:pt x="433" y="725"/>
                    </a:lnTo>
                    <a:lnTo>
                      <a:pt x="433" y="720"/>
                    </a:lnTo>
                    <a:lnTo>
                      <a:pt x="437" y="720"/>
                    </a:lnTo>
                    <a:lnTo>
                      <a:pt x="437" y="716"/>
                    </a:lnTo>
                    <a:lnTo>
                      <a:pt x="437" y="712"/>
                    </a:lnTo>
                    <a:lnTo>
                      <a:pt x="437" y="707"/>
                    </a:lnTo>
                    <a:lnTo>
                      <a:pt x="442" y="703"/>
                    </a:lnTo>
                    <a:lnTo>
                      <a:pt x="442" y="699"/>
                    </a:lnTo>
                    <a:lnTo>
                      <a:pt x="442" y="694"/>
                    </a:lnTo>
                    <a:lnTo>
                      <a:pt x="446" y="690"/>
                    </a:lnTo>
                    <a:lnTo>
                      <a:pt x="446" y="686"/>
                    </a:lnTo>
                    <a:lnTo>
                      <a:pt x="446" y="681"/>
                    </a:lnTo>
                    <a:lnTo>
                      <a:pt x="450" y="681"/>
                    </a:lnTo>
                    <a:lnTo>
                      <a:pt x="450" y="677"/>
                    </a:lnTo>
                    <a:lnTo>
                      <a:pt x="450" y="673"/>
                    </a:lnTo>
                    <a:lnTo>
                      <a:pt x="450" y="668"/>
                    </a:lnTo>
                    <a:lnTo>
                      <a:pt x="455" y="664"/>
                    </a:lnTo>
                    <a:lnTo>
                      <a:pt x="455" y="660"/>
                    </a:lnTo>
                    <a:lnTo>
                      <a:pt x="455" y="655"/>
                    </a:lnTo>
                    <a:lnTo>
                      <a:pt x="459" y="651"/>
                    </a:lnTo>
                    <a:lnTo>
                      <a:pt x="459" y="647"/>
                    </a:lnTo>
                    <a:lnTo>
                      <a:pt x="459" y="642"/>
                    </a:lnTo>
                    <a:lnTo>
                      <a:pt x="463" y="638"/>
                    </a:lnTo>
                    <a:lnTo>
                      <a:pt x="463" y="634"/>
                    </a:lnTo>
                    <a:lnTo>
                      <a:pt x="463" y="629"/>
                    </a:lnTo>
                    <a:lnTo>
                      <a:pt x="468" y="621"/>
                    </a:lnTo>
                    <a:lnTo>
                      <a:pt x="468" y="616"/>
                    </a:lnTo>
                    <a:lnTo>
                      <a:pt x="468" y="612"/>
                    </a:lnTo>
                    <a:lnTo>
                      <a:pt x="468" y="608"/>
                    </a:lnTo>
                    <a:lnTo>
                      <a:pt x="472" y="603"/>
                    </a:lnTo>
                    <a:lnTo>
                      <a:pt x="472" y="599"/>
                    </a:lnTo>
                    <a:lnTo>
                      <a:pt x="472" y="595"/>
                    </a:lnTo>
                    <a:lnTo>
                      <a:pt x="476" y="590"/>
                    </a:lnTo>
                    <a:lnTo>
                      <a:pt x="476" y="586"/>
                    </a:lnTo>
                    <a:lnTo>
                      <a:pt x="476" y="582"/>
                    </a:lnTo>
                    <a:lnTo>
                      <a:pt x="481" y="573"/>
                    </a:lnTo>
                    <a:lnTo>
                      <a:pt x="481" y="569"/>
                    </a:lnTo>
                    <a:lnTo>
                      <a:pt x="481" y="564"/>
                    </a:lnTo>
                    <a:lnTo>
                      <a:pt x="485" y="560"/>
                    </a:lnTo>
                    <a:lnTo>
                      <a:pt x="485" y="555"/>
                    </a:lnTo>
                    <a:lnTo>
                      <a:pt x="485" y="551"/>
                    </a:lnTo>
                    <a:lnTo>
                      <a:pt x="485" y="542"/>
                    </a:lnTo>
                    <a:lnTo>
                      <a:pt x="489" y="538"/>
                    </a:lnTo>
                    <a:lnTo>
                      <a:pt x="489" y="534"/>
                    </a:lnTo>
                    <a:lnTo>
                      <a:pt x="489" y="529"/>
                    </a:lnTo>
                    <a:lnTo>
                      <a:pt x="494" y="525"/>
                    </a:lnTo>
                    <a:lnTo>
                      <a:pt x="494" y="516"/>
                    </a:lnTo>
                    <a:lnTo>
                      <a:pt x="494" y="512"/>
                    </a:lnTo>
                    <a:lnTo>
                      <a:pt x="498" y="508"/>
                    </a:lnTo>
                    <a:lnTo>
                      <a:pt x="498" y="503"/>
                    </a:lnTo>
                    <a:lnTo>
                      <a:pt x="498" y="495"/>
                    </a:lnTo>
                    <a:lnTo>
                      <a:pt x="502" y="490"/>
                    </a:lnTo>
                    <a:lnTo>
                      <a:pt x="502" y="486"/>
                    </a:lnTo>
                    <a:lnTo>
                      <a:pt x="502" y="482"/>
                    </a:lnTo>
                    <a:lnTo>
                      <a:pt x="502" y="473"/>
                    </a:lnTo>
                    <a:lnTo>
                      <a:pt x="507" y="469"/>
                    </a:lnTo>
                    <a:lnTo>
                      <a:pt x="507" y="464"/>
                    </a:lnTo>
                    <a:lnTo>
                      <a:pt x="507" y="460"/>
                    </a:lnTo>
                    <a:lnTo>
                      <a:pt x="511" y="451"/>
                    </a:lnTo>
                    <a:lnTo>
                      <a:pt x="511" y="447"/>
                    </a:lnTo>
                    <a:lnTo>
                      <a:pt x="511" y="443"/>
                    </a:lnTo>
                    <a:lnTo>
                      <a:pt x="515" y="434"/>
                    </a:lnTo>
                    <a:lnTo>
                      <a:pt x="515" y="430"/>
                    </a:lnTo>
                    <a:lnTo>
                      <a:pt x="515" y="425"/>
                    </a:lnTo>
                    <a:lnTo>
                      <a:pt x="520" y="421"/>
                    </a:lnTo>
                    <a:lnTo>
                      <a:pt x="520" y="412"/>
                    </a:lnTo>
                    <a:lnTo>
                      <a:pt x="520" y="408"/>
                    </a:lnTo>
                    <a:lnTo>
                      <a:pt x="520" y="404"/>
                    </a:lnTo>
                    <a:lnTo>
                      <a:pt x="524" y="395"/>
                    </a:lnTo>
                    <a:lnTo>
                      <a:pt x="524" y="391"/>
                    </a:lnTo>
                    <a:lnTo>
                      <a:pt x="524" y="386"/>
                    </a:lnTo>
                    <a:lnTo>
                      <a:pt x="528" y="378"/>
                    </a:lnTo>
                    <a:lnTo>
                      <a:pt x="528" y="373"/>
                    </a:lnTo>
                    <a:lnTo>
                      <a:pt x="528" y="369"/>
                    </a:lnTo>
                    <a:lnTo>
                      <a:pt x="533" y="364"/>
                    </a:lnTo>
                    <a:lnTo>
                      <a:pt x="533" y="356"/>
                    </a:lnTo>
                    <a:lnTo>
                      <a:pt x="533" y="351"/>
                    </a:lnTo>
                    <a:lnTo>
                      <a:pt x="537" y="347"/>
                    </a:lnTo>
                    <a:lnTo>
                      <a:pt x="537" y="338"/>
                    </a:lnTo>
                    <a:lnTo>
                      <a:pt x="537" y="334"/>
                    </a:lnTo>
                    <a:lnTo>
                      <a:pt x="537" y="330"/>
                    </a:lnTo>
                    <a:lnTo>
                      <a:pt x="541" y="321"/>
                    </a:lnTo>
                    <a:lnTo>
                      <a:pt x="541" y="317"/>
                    </a:lnTo>
                    <a:lnTo>
                      <a:pt x="541" y="312"/>
                    </a:lnTo>
                    <a:lnTo>
                      <a:pt x="546" y="308"/>
                    </a:lnTo>
                    <a:lnTo>
                      <a:pt x="546" y="299"/>
                    </a:lnTo>
                    <a:lnTo>
                      <a:pt x="546" y="295"/>
                    </a:lnTo>
                    <a:lnTo>
                      <a:pt x="550" y="291"/>
                    </a:lnTo>
                    <a:lnTo>
                      <a:pt x="550" y="282"/>
                    </a:lnTo>
                    <a:lnTo>
                      <a:pt x="550" y="278"/>
                    </a:lnTo>
                    <a:lnTo>
                      <a:pt x="554" y="273"/>
                    </a:lnTo>
                    <a:lnTo>
                      <a:pt x="554" y="269"/>
                    </a:lnTo>
                    <a:lnTo>
                      <a:pt x="554" y="260"/>
                    </a:lnTo>
                    <a:lnTo>
                      <a:pt x="554" y="256"/>
                    </a:lnTo>
                    <a:lnTo>
                      <a:pt x="559" y="252"/>
                    </a:lnTo>
                    <a:lnTo>
                      <a:pt x="559" y="247"/>
                    </a:lnTo>
                    <a:lnTo>
                      <a:pt x="559" y="239"/>
                    </a:lnTo>
                    <a:lnTo>
                      <a:pt x="563" y="234"/>
                    </a:lnTo>
                    <a:lnTo>
                      <a:pt x="563" y="230"/>
                    </a:lnTo>
                    <a:lnTo>
                      <a:pt x="563" y="226"/>
                    </a:lnTo>
                    <a:lnTo>
                      <a:pt x="567" y="217"/>
                    </a:lnTo>
                    <a:lnTo>
                      <a:pt x="567" y="213"/>
                    </a:lnTo>
                    <a:lnTo>
                      <a:pt x="567" y="208"/>
                    </a:lnTo>
                    <a:lnTo>
                      <a:pt x="572" y="204"/>
                    </a:lnTo>
                    <a:lnTo>
                      <a:pt x="572" y="200"/>
                    </a:lnTo>
                    <a:lnTo>
                      <a:pt x="572" y="195"/>
                    </a:lnTo>
                    <a:lnTo>
                      <a:pt x="572" y="187"/>
                    </a:lnTo>
                    <a:lnTo>
                      <a:pt x="576" y="182"/>
                    </a:lnTo>
                    <a:lnTo>
                      <a:pt x="576" y="178"/>
                    </a:lnTo>
                    <a:lnTo>
                      <a:pt x="576" y="174"/>
                    </a:lnTo>
                    <a:lnTo>
                      <a:pt x="580" y="169"/>
                    </a:lnTo>
                    <a:lnTo>
                      <a:pt x="580" y="165"/>
                    </a:lnTo>
                    <a:lnTo>
                      <a:pt x="580" y="160"/>
                    </a:lnTo>
                    <a:lnTo>
                      <a:pt x="585" y="156"/>
                    </a:lnTo>
                    <a:lnTo>
                      <a:pt x="585" y="147"/>
                    </a:lnTo>
                    <a:lnTo>
                      <a:pt x="585" y="143"/>
                    </a:lnTo>
                    <a:lnTo>
                      <a:pt x="589" y="139"/>
                    </a:lnTo>
                    <a:lnTo>
                      <a:pt x="589" y="134"/>
                    </a:lnTo>
                    <a:lnTo>
                      <a:pt x="589" y="130"/>
                    </a:lnTo>
                    <a:lnTo>
                      <a:pt x="589" y="126"/>
                    </a:lnTo>
                    <a:lnTo>
                      <a:pt x="593" y="121"/>
                    </a:lnTo>
                    <a:lnTo>
                      <a:pt x="593" y="117"/>
                    </a:lnTo>
                    <a:lnTo>
                      <a:pt x="593" y="113"/>
                    </a:lnTo>
                    <a:lnTo>
                      <a:pt x="598" y="108"/>
                    </a:lnTo>
                    <a:lnTo>
                      <a:pt x="598" y="104"/>
                    </a:lnTo>
                    <a:lnTo>
                      <a:pt x="602" y="100"/>
                    </a:lnTo>
                    <a:lnTo>
                      <a:pt x="602" y="95"/>
                    </a:lnTo>
                    <a:lnTo>
                      <a:pt x="602" y="91"/>
                    </a:lnTo>
                    <a:lnTo>
                      <a:pt x="602" y="87"/>
                    </a:lnTo>
                    <a:lnTo>
                      <a:pt x="606" y="82"/>
                    </a:lnTo>
                    <a:lnTo>
                      <a:pt x="606" y="78"/>
                    </a:lnTo>
                    <a:lnTo>
                      <a:pt x="606" y="74"/>
                    </a:lnTo>
                    <a:lnTo>
                      <a:pt x="611" y="74"/>
                    </a:lnTo>
                    <a:lnTo>
                      <a:pt x="611" y="69"/>
                    </a:lnTo>
                    <a:lnTo>
                      <a:pt x="611" y="65"/>
                    </a:lnTo>
                    <a:lnTo>
                      <a:pt x="615" y="61"/>
                    </a:lnTo>
                    <a:lnTo>
                      <a:pt x="615" y="56"/>
                    </a:lnTo>
                    <a:lnTo>
                      <a:pt x="619" y="52"/>
                    </a:lnTo>
                    <a:lnTo>
                      <a:pt x="619" y="48"/>
                    </a:lnTo>
                    <a:lnTo>
                      <a:pt x="619" y="43"/>
                    </a:lnTo>
                    <a:lnTo>
                      <a:pt x="624" y="43"/>
                    </a:lnTo>
                    <a:lnTo>
                      <a:pt x="624" y="39"/>
                    </a:lnTo>
                    <a:lnTo>
                      <a:pt x="624" y="35"/>
                    </a:lnTo>
                    <a:lnTo>
                      <a:pt x="628" y="35"/>
                    </a:lnTo>
                    <a:lnTo>
                      <a:pt x="628" y="30"/>
                    </a:lnTo>
                    <a:lnTo>
                      <a:pt x="632" y="26"/>
                    </a:lnTo>
                    <a:lnTo>
                      <a:pt x="632" y="22"/>
                    </a:lnTo>
                    <a:lnTo>
                      <a:pt x="637" y="22"/>
                    </a:lnTo>
                    <a:lnTo>
                      <a:pt x="637" y="17"/>
                    </a:lnTo>
                    <a:lnTo>
                      <a:pt x="641" y="13"/>
                    </a:lnTo>
                    <a:lnTo>
                      <a:pt x="641" y="9"/>
                    </a:lnTo>
                    <a:lnTo>
                      <a:pt x="645" y="9"/>
                    </a:lnTo>
                    <a:lnTo>
                      <a:pt x="650" y="4"/>
                    </a:lnTo>
                    <a:lnTo>
                      <a:pt x="654" y="4"/>
                    </a:lnTo>
                    <a:lnTo>
                      <a:pt x="654" y="0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7" y="0"/>
                    </a:lnTo>
                    <a:lnTo>
                      <a:pt x="671" y="0"/>
                    </a:lnTo>
                    <a:lnTo>
                      <a:pt x="671" y="4"/>
                    </a:lnTo>
                    <a:lnTo>
                      <a:pt x="676" y="4"/>
                    </a:lnTo>
                    <a:lnTo>
                      <a:pt x="680" y="9"/>
                    </a:lnTo>
                    <a:lnTo>
                      <a:pt x="684" y="9"/>
                    </a:lnTo>
                    <a:lnTo>
                      <a:pt x="684" y="13"/>
                    </a:lnTo>
                    <a:lnTo>
                      <a:pt x="689" y="17"/>
                    </a:lnTo>
                    <a:lnTo>
                      <a:pt x="689" y="22"/>
                    </a:lnTo>
                    <a:lnTo>
                      <a:pt x="693" y="22"/>
                    </a:lnTo>
                    <a:lnTo>
                      <a:pt x="693" y="26"/>
                    </a:lnTo>
                    <a:lnTo>
                      <a:pt x="697" y="30"/>
                    </a:lnTo>
                    <a:lnTo>
                      <a:pt x="697" y="35"/>
                    </a:lnTo>
                    <a:lnTo>
                      <a:pt x="702" y="35"/>
                    </a:lnTo>
                    <a:lnTo>
                      <a:pt x="702" y="39"/>
                    </a:lnTo>
                    <a:lnTo>
                      <a:pt x="702" y="43"/>
                    </a:lnTo>
                    <a:lnTo>
                      <a:pt x="706" y="43"/>
                    </a:lnTo>
                    <a:lnTo>
                      <a:pt x="706" y="48"/>
                    </a:lnTo>
                    <a:lnTo>
                      <a:pt x="706" y="52"/>
                    </a:lnTo>
                    <a:lnTo>
                      <a:pt x="710" y="56"/>
                    </a:lnTo>
                    <a:lnTo>
                      <a:pt x="710" y="61"/>
                    </a:lnTo>
                    <a:lnTo>
                      <a:pt x="715" y="65"/>
                    </a:lnTo>
                    <a:lnTo>
                      <a:pt x="715" y="69"/>
                    </a:lnTo>
                    <a:lnTo>
                      <a:pt x="715" y="74"/>
                    </a:lnTo>
                    <a:lnTo>
                      <a:pt x="719" y="74"/>
                    </a:lnTo>
                    <a:lnTo>
                      <a:pt x="719" y="78"/>
                    </a:lnTo>
                    <a:lnTo>
                      <a:pt x="719" y="82"/>
                    </a:lnTo>
                    <a:lnTo>
                      <a:pt x="723" y="87"/>
                    </a:lnTo>
                    <a:lnTo>
                      <a:pt x="723" y="91"/>
                    </a:lnTo>
                    <a:lnTo>
                      <a:pt x="723" y="95"/>
                    </a:lnTo>
                    <a:lnTo>
                      <a:pt x="723" y="100"/>
                    </a:lnTo>
                    <a:lnTo>
                      <a:pt x="728" y="104"/>
                    </a:lnTo>
                    <a:lnTo>
                      <a:pt x="728" y="108"/>
                    </a:lnTo>
                    <a:lnTo>
                      <a:pt x="732" y="113"/>
                    </a:lnTo>
                    <a:lnTo>
                      <a:pt x="732" y="117"/>
                    </a:lnTo>
                    <a:lnTo>
                      <a:pt x="732" y="121"/>
                    </a:lnTo>
                    <a:lnTo>
                      <a:pt x="736" y="126"/>
                    </a:lnTo>
                    <a:lnTo>
                      <a:pt x="736" y="130"/>
                    </a:lnTo>
                    <a:lnTo>
                      <a:pt x="736" y="134"/>
                    </a:lnTo>
                    <a:lnTo>
                      <a:pt x="736" y="139"/>
                    </a:lnTo>
                    <a:lnTo>
                      <a:pt x="741" y="143"/>
                    </a:lnTo>
                    <a:lnTo>
                      <a:pt x="741" y="147"/>
                    </a:lnTo>
                    <a:lnTo>
                      <a:pt x="741" y="156"/>
                    </a:lnTo>
                    <a:lnTo>
                      <a:pt x="745" y="160"/>
                    </a:lnTo>
                    <a:lnTo>
                      <a:pt x="745" y="165"/>
                    </a:lnTo>
                    <a:lnTo>
                      <a:pt x="745" y="169"/>
                    </a:lnTo>
                    <a:lnTo>
                      <a:pt x="749" y="174"/>
                    </a:lnTo>
                    <a:lnTo>
                      <a:pt x="749" y="178"/>
                    </a:lnTo>
                    <a:lnTo>
                      <a:pt x="749" y="182"/>
                    </a:lnTo>
                    <a:lnTo>
                      <a:pt x="754" y="187"/>
                    </a:lnTo>
                    <a:lnTo>
                      <a:pt x="754" y="195"/>
                    </a:lnTo>
                    <a:lnTo>
                      <a:pt x="754" y="200"/>
                    </a:lnTo>
                    <a:lnTo>
                      <a:pt x="754" y="204"/>
                    </a:lnTo>
                    <a:lnTo>
                      <a:pt x="758" y="208"/>
                    </a:lnTo>
                    <a:lnTo>
                      <a:pt x="758" y="213"/>
                    </a:lnTo>
                    <a:lnTo>
                      <a:pt x="758" y="217"/>
                    </a:lnTo>
                    <a:lnTo>
                      <a:pt x="762" y="226"/>
                    </a:lnTo>
                    <a:lnTo>
                      <a:pt x="762" y="230"/>
                    </a:lnTo>
                    <a:lnTo>
                      <a:pt x="762" y="234"/>
                    </a:lnTo>
                    <a:lnTo>
                      <a:pt x="767" y="239"/>
                    </a:lnTo>
                    <a:lnTo>
                      <a:pt x="767" y="247"/>
                    </a:lnTo>
                    <a:lnTo>
                      <a:pt x="767" y="252"/>
                    </a:lnTo>
                    <a:lnTo>
                      <a:pt x="771" y="256"/>
                    </a:lnTo>
                    <a:lnTo>
                      <a:pt x="771" y="260"/>
                    </a:lnTo>
                    <a:lnTo>
                      <a:pt x="771" y="269"/>
                    </a:lnTo>
                    <a:lnTo>
                      <a:pt x="771" y="273"/>
                    </a:lnTo>
                    <a:lnTo>
                      <a:pt x="775" y="278"/>
                    </a:lnTo>
                    <a:lnTo>
                      <a:pt x="775" y="282"/>
                    </a:lnTo>
                    <a:lnTo>
                      <a:pt x="775" y="291"/>
                    </a:lnTo>
                    <a:lnTo>
                      <a:pt x="780" y="295"/>
                    </a:lnTo>
                    <a:lnTo>
                      <a:pt x="780" y="299"/>
                    </a:lnTo>
                    <a:lnTo>
                      <a:pt x="780" y="308"/>
                    </a:lnTo>
                    <a:lnTo>
                      <a:pt x="784" y="312"/>
                    </a:lnTo>
                    <a:lnTo>
                      <a:pt x="784" y="317"/>
                    </a:lnTo>
                    <a:lnTo>
                      <a:pt x="784" y="321"/>
                    </a:lnTo>
                    <a:lnTo>
                      <a:pt x="788" y="330"/>
                    </a:lnTo>
                    <a:lnTo>
                      <a:pt x="788" y="334"/>
                    </a:lnTo>
                    <a:lnTo>
                      <a:pt x="788" y="338"/>
                    </a:lnTo>
                    <a:lnTo>
                      <a:pt x="788" y="347"/>
                    </a:lnTo>
                    <a:lnTo>
                      <a:pt x="793" y="351"/>
                    </a:lnTo>
                    <a:lnTo>
                      <a:pt x="793" y="356"/>
                    </a:lnTo>
                    <a:lnTo>
                      <a:pt x="793" y="364"/>
                    </a:lnTo>
                    <a:lnTo>
                      <a:pt x="797" y="369"/>
                    </a:lnTo>
                    <a:lnTo>
                      <a:pt x="797" y="373"/>
                    </a:lnTo>
                    <a:lnTo>
                      <a:pt x="797" y="378"/>
                    </a:lnTo>
                    <a:lnTo>
                      <a:pt x="801" y="386"/>
                    </a:lnTo>
                    <a:lnTo>
                      <a:pt x="801" y="391"/>
                    </a:lnTo>
                    <a:lnTo>
                      <a:pt x="801" y="395"/>
                    </a:lnTo>
                    <a:lnTo>
                      <a:pt x="806" y="404"/>
                    </a:lnTo>
                    <a:lnTo>
                      <a:pt x="806" y="408"/>
                    </a:lnTo>
                    <a:lnTo>
                      <a:pt x="806" y="412"/>
                    </a:lnTo>
                    <a:lnTo>
                      <a:pt x="806" y="421"/>
                    </a:lnTo>
                    <a:lnTo>
                      <a:pt x="810" y="425"/>
                    </a:lnTo>
                    <a:lnTo>
                      <a:pt x="810" y="430"/>
                    </a:lnTo>
                    <a:lnTo>
                      <a:pt x="810" y="434"/>
                    </a:lnTo>
                    <a:lnTo>
                      <a:pt x="814" y="443"/>
                    </a:lnTo>
                    <a:lnTo>
                      <a:pt x="814" y="447"/>
                    </a:lnTo>
                    <a:lnTo>
                      <a:pt x="814" y="451"/>
                    </a:lnTo>
                    <a:lnTo>
                      <a:pt x="819" y="460"/>
                    </a:lnTo>
                    <a:lnTo>
                      <a:pt x="819" y="464"/>
                    </a:lnTo>
                    <a:lnTo>
                      <a:pt x="819" y="469"/>
                    </a:lnTo>
                    <a:lnTo>
                      <a:pt x="823" y="473"/>
                    </a:lnTo>
                    <a:lnTo>
                      <a:pt x="823" y="482"/>
                    </a:lnTo>
                    <a:lnTo>
                      <a:pt x="823" y="486"/>
                    </a:lnTo>
                    <a:lnTo>
                      <a:pt x="823" y="490"/>
                    </a:lnTo>
                    <a:lnTo>
                      <a:pt x="827" y="495"/>
                    </a:lnTo>
                    <a:lnTo>
                      <a:pt x="827" y="503"/>
                    </a:lnTo>
                    <a:lnTo>
                      <a:pt x="827" y="508"/>
                    </a:lnTo>
                    <a:lnTo>
                      <a:pt x="832" y="512"/>
                    </a:lnTo>
                    <a:lnTo>
                      <a:pt x="832" y="516"/>
                    </a:lnTo>
                    <a:lnTo>
                      <a:pt x="832" y="525"/>
                    </a:lnTo>
                    <a:lnTo>
                      <a:pt x="836" y="529"/>
                    </a:lnTo>
                    <a:lnTo>
                      <a:pt x="836" y="534"/>
                    </a:lnTo>
                    <a:lnTo>
                      <a:pt x="836" y="538"/>
                    </a:lnTo>
                    <a:lnTo>
                      <a:pt x="840" y="542"/>
                    </a:lnTo>
                    <a:lnTo>
                      <a:pt x="840" y="551"/>
                    </a:lnTo>
                    <a:lnTo>
                      <a:pt x="840" y="555"/>
                    </a:lnTo>
                    <a:lnTo>
                      <a:pt x="840" y="560"/>
                    </a:lnTo>
                    <a:lnTo>
                      <a:pt x="845" y="564"/>
                    </a:lnTo>
                    <a:lnTo>
                      <a:pt x="845" y="569"/>
                    </a:lnTo>
                    <a:lnTo>
                      <a:pt x="845" y="573"/>
                    </a:lnTo>
                    <a:lnTo>
                      <a:pt x="849" y="582"/>
                    </a:lnTo>
                    <a:lnTo>
                      <a:pt x="849" y="586"/>
                    </a:lnTo>
                    <a:lnTo>
                      <a:pt x="849" y="590"/>
                    </a:lnTo>
                    <a:lnTo>
                      <a:pt x="853" y="595"/>
                    </a:lnTo>
                    <a:lnTo>
                      <a:pt x="853" y="599"/>
                    </a:lnTo>
                    <a:lnTo>
                      <a:pt x="853" y="603"/>
                    </a:lnTo>
                    <a:lnTo>
                      <a:pt x="858" y="608"/>
                    </a:lnTo>
                    <a:lnTo>
                      <a:pt x="858" y="612"/>
                    </a:lnTo>
                    <a:lnTo>
                      <a:pt x="858" y="616"/>
                    </a:lnTo>
                    <a:lnTo>
                      <a:pt x="858" y="621"/>
                    </a:lnTo>
                    <a:lnTo>
                      <a:pt x="862" y="629"/>
                    </a:lnTo>
                    <a:lnTo>
                      <a:pt x="862" y="634"/>
                    </a:lnTo>
                    <a:lnTo>
                      <a:pt x="862" y="638"/>
                    </a:lnTo>
                    <a:lnTo>
                      <a:pt x="866" y="642"/>
                    </a:lnTo>
                    <a:lnTo>
                      <a:pt x="866" y="647"/>
                    </a:lnTo>
                    <a:lnTo>
                      <a:pt x="866" y="651"/>
                    </a:lnTo>
                    <a:lnTo>
                      <a:pt x="871" y="655"/>
                    </a:lnTo>
                    <a:lnTo>
                      <a:pt x="871" y="660"/>
                    </a:lnTo>
                    <a:lnTo>
                      <a:pt x="871" y="664"/>
                    </a:lnTo>
                    <a:lnTo>
                      <a:pt x="875" y="668"/>
                    </a:lnTo>
                    <a:lnTo>
                      <a:pt x="875" y="673"/>
                    </a:lnTo>
                    <a:lnTo>
                      <a:pt x="875" y="677"/>
                    </a:lnTo>
                    <a:lnTo>
                      <a:pt x="875" y="681"/>
                    </a:lnTo>
                    <a:lnTo>
                      <a:pt x="879" y="681"/>
                    </a:lnTo>
                    <a:lnTo>
                      <a:pt x="879" y="686"/>
                    </a:lnTo>
                    <a:lnTo>
                      <a:pt x="879" y="690"/>
                    </a:lnTo>
                    <a:lnTo>
                      <a:pt x="884" y="694"/>
                    </a:lnTo>
                    <a:lnTo>
                      <a:pt x="884" y="699"/>
                    </a:lnTo>
                    <a:lnTo>
                      <a:pt x="884" y="703"/>
                    </a:lnTo>
                    <a:lnTo>
                      <a:pt x="888" y="707"/>
                    </a:lnTo>
                    <a:lnTo>
                      <a:pt x="888" y="712"/>
                    </a:lnTo>
                    <a:lnTo>
                      <a:pt x="888" y="716"/>
                    </a:lnTo>
                    <a:lnTo>
                      <a:pt x="888" y="720"/>
                    </a:lnTo>
                    <a:lnTo>
                      <a:pt x="892" y="720"/>
                    </a:lnTo>
                    <a:lnTo>
                      <a:pt x="892" y="725"/>
                    </a:lnTo>
                    <a:lnTo>
                      <a:pt x="892" y="729"/>
                    </a:lnTo>
                    <a:lnTo>
                      <a:pt x="897" y="733"/>
                    </a:lnTo>
                    <a:lnTo>
                      <a:pt x="897" y="738"/>
                    </a:lnTo>
                    <a:lnTo>
                      <a:pt x="897" y="742"/>
                    </a:lnTo>
                    <a:lnTo>
                      <a:pt x="901" y="742"/>
                    </a:lnTo>
                    <a:lnTo>
                      <a:pt x="901" y="746"/>
                    </a:lnTo>
                    <a:lnTo>
                      <a:pt x="901" y="751"/>
                    </a:lnTo>
                    <a:lnTo>
                      <a:pt x="905" y="755"/>
                    </a:lnTo>
                    <a:lnTo>
                      <a:pt x="905" y="759"/>
                    </a:lnTo>
                    <a:lnTo>
                      <a:pt x="905" y="764"/>
                    </a:lnTo>
                    <a:lnTo>
                      <a:pt x="910" y="768"/>
                    </a:lnTo>
                    <a:lnTo>
                      <a:pt x="910" y="773"/>
                    </a:lnTo>
                    <a:lnTo>
                      <a:pt x="914" y="777"/>
                    </a:lnTo>
                    <a:lnTo>
                      <a:pt x="914" y="781"/>
                    </a:lnTo>
                    <a:lnTo>
                      <a:pt x="918" y="786"/>
                    </a:lnTo>
                    <a:lnTo>
                      <a:pt x="918" y="790"/>
                    </a:lnTo>
                    <a:lnTo>
                      <a:pt x="923" y="794"/>
                    </a:lnTo>
                    <a:lnTo>
                      <a:pt x="923" y="799"/>
                    </a:lnTo>
                    <a:lnTo>
                      <a:pt x="923" y="803"/>
                    </a:lnTo>
                    <a:lnTo>
                      <a:pt x="927" y="803"/>
                    </a:lnTo>
                    <a:lnTo>
                      <a:pt x="927" y="807"/>
                    </a:lnTo>
                    <a:lnTo>
                      <a:pt x="931" y="812"/>
                    </a:lnTo>
                    <a:lnTo>
                      <a:pt x="931" y="816"/>
                    </a:lnTo>
                    <a:lnTo>
                      <a:pt x="936" y="820"/>
                    </a:lnTo>
                    <a:lnTo>
                      <a:pt x="936" y="825"/>
                    </a:lnTo>
                    <a:lnTo>
                      <a:pt x="940" y="825"/>
                    </a:lnTo>
                    <a:lnTo>
                      <a:pt x="940" y="829"/>
                    </a:lnTo>
                    <a:lnTo>
                      <a:pt x="940" y="833"/>
                    </a:lnTo>
                    <a:lnTo>
                      <a:pt x="944" y="833"/>
                    </a:lnTo>
                    <a:lnTo>
                      <a:pt x="944" y="838"/>
                    </a:lnTo>
                    <a:lnTo>
                      <a:pt x="949" y="842"/>
                    </a:lnTo>
                    <a:lnTo>
                      <a:pt x="949" y="846"/>
                    </a:lnTo>
                    <a:lnTo>
                      <a:pt x="953" y="846"/>
                    </a:lnTo>
                    <a:lnTo>
                      <a:pt x="953" y="851"/>
                    </a:lnTo>
                    <a:lnTo>
                      <a:pt x="957" y="851"/>
                    </a:lnTo>
                    <a:lnTo>
                      <a:pt x="957" y="855"/>
                    </a:lnTo>
                    <a:lnTo>
                      <a:pt x="957" y="859"/>
                    </a:lnTo>
                    <a:lnTo>
                      <a:pt x="961" y="859"/>
                    </a:lnTo>
                    <a:lnTo>
                      <a:pt x="961" y="864"/>
                    </a:lnTo>
                    <a:lnTo>
                      <a:pt x="966" y="864"/>
                    </a:lnTo>
                    <a:lnTo>
                      <a:pt x="966" y="868"/>
                    </a:lnTo>
                    <a:lnTo>
                      <a:pt x="970" y="868"/>
                    </a:lnTo>
                    <a:lnTo>
                      <a:pt x="970" y="872"/>
                    </a:lnTo>
                    <a:lnTo>
                      <a:pt x="974" y="872"/>
                    </a:lnTo>
                    <a:lnTo>
                      <a:pt x="974" y="877"/>
                    </a:lnTo>
                    <a:lnTo>
                      <a:pt x="979" y="881"/>
                    </a:lnTo>
                    <a:lnTo>
                      <a:pt x="983" y="881"/>
                    </a:lnTo>
                    <a:lnTo>
                      <a:pt x="983" y="885"/>
                    </a:lnTo>
                    <a:lnTo>
                      <a:pt x="987" y="885"/>
                    </a:lnTo>
                    <a:lnTo>
                      <a:pt x="987" y="890"/>
                    </a:lnTo>
                    <a:lnTo>
                      <a:pt x="992" y="890"/>
                    </a:lnTo>
                    <a:lnTo>
                      <a:pt x="992" y="894"/>
                    </a:lnTo>
                    <a:lnTo>
                      <a:pt x="996" y="894"/>
                    </a:lnTo>
                    <a:lnTo>
                      <a:pt x="1000" y="898"/>
                    </a:lnTo>
                    <a:lnTo>
                      <a:pt x="1005" y="898"/>
                    </a:lnTo>
                    <a:lnTo>
                      <a:pt x="1005" y="903"/>
                    </a:lnTo>
                    <a:lnTo>
                      <a:pt x="1009" y="903"/>
                    </a:lnTo>
                    <a:lnTo>
                      <a:pt x="1009" y="907"/>
                    </a:lnTo>
                    <a:lnTo>
                      <a:pt x="1013" y="907"/>
                    </a:lnTo>
                    <a:lnTo>
                      <a:pt x="1018" y="907"/>
                    </a:lnTo>
                    <a:lnTo>
                      <a:pt x="1018" y="911"/>
                    </a:lnTo>
                    <a:lnTo>
                      <a:pt x="1022" y="911"/>
                    </a:lnTo>
                    <a:lnTo>
                      <a:pt x="1026" y="911"/>
                    </a:lnTo>
                    <a:lnTo>
                      <a:pt x="1026" y="916"/>
                    </a:lnTo>
                    <a:lnTo>
                      <a:pt x="1031" y="916"/>
                    </a:lnTo>
                    <a:lnTo>
                      <a:pt x="1035" y="916"/>
                    </a:lnTo>
                    <a:lnTo>
                      <a:pt x="1039" y="916"/>
                    </a:lnTo>
                    <a:lnTo>
                      <a:pt x="1039" y="920"/>
                    </a:lnTo>
                    <a:lnTo>
                      <a:pt x="1044" y="920"/>
                    </a:lnTo>
                    <a:lnTo>
                      <a:pt x="1048" y="920"/>
                    </a:lnTo>
                    <a:lnTo>
                      <a:pt x="1052" y="920"/>
                    </a:lnTo>
                    <a:lnTo>
                      <a:pt x="1052" y="924"/>
                    </a:lnTo>
                    <a:lnTo>
                      <a:pt x="1057" y="924"/>
                    </a:lnTo>
                    <a:lnTo>
                      <a:pt x="1061" y="924"/>
                    </a:lnTo>
                    <a:lnTo>
                      <a:pt x="1065" y="924"/>
                    </a:lnTo>
                    <a:lnTo>
                      <a:pt x="1070" y="924"/>
                    </a:lnTo>
                    <a:lnTo>
                      <a:pt x="1070" y="929"/>
                    </a:lnTo>
                    <a:lnTo>
                      <a:pt x="1074" y="929"/>
                    </a:lnTo>
                    <a:lnTo>
                      <a:pt x="1078" y="929"/>
                    </a:lnTo>
                    <a:lnTo>
                      <a:pt x="1083" y="929"/>
                    </a:lnTo>
                    <a:lnTo>
                      <a:pt x="1087" y="929"/>
                    </a:lnTo>
                    <a:lnTo>
                      <a:pt x="1091" y="929"/>
                    </a:lnTo>
                    <a:lnTo>
                      <a:pt x="1096" y="929"/>
                    </a:lnTo>
                    <a:lnTo>
                      <a:pt x="1100" y="929"/>
                    </a:lnTo>
                    <a:lnTo>
                      <a:pt x="1100" y="933"/>
                    </a:lnTo>
                    <a:lnTo>
                      <a:pt x="1104" y="933"/>
                    </a:lnTo>
                    <a:lnTo>
                      <a:pt x="1109" y="933"/>
                    </a:lnTo>
                    <a:lnTo>
                      <a:pt x="1113" y="933"/>
                    </a:lnTo>
                    <a:lnTo>
                      <a:pt x="1117" y="933"/>
                    </a:lnTo>
                    <a:lnTo>
                      <a:pt x="1122" y="933"/>
                    </a:lnTo>
                    <a:lnTo>
                      <a:pt x="1126" y="933"/>
                    </a:lnTo>
                    <a:lnTo>
                      <a:pt x="1130" y="933"/>
                    </a:lnTo>
                    <a:lnTo>
                      <a:pt x="1135" y="933"/>
                    </a:lnTo>
                    <a:lnTo>
                      <a:pt x="1139" y="933"/>
                    </a:lnTo>
                    <a:lnTo>
                      <a:pt x="1143" y="933"/>
                    </a:lnTo>
                    <a:lnTo>
                      <a:pt x="1148" y="933"/>
                    </a:lnTo>
                    <a:lnTo>
                      <a:pt x="1152" y="933"/>
                    </a:lnTo>
                    <a:lnTo>
                      <a:pt x="1156" y="933"/>
                    </a:lnTo>
                    <a:lnTo>
                      <a:pt x="1161" y="933"/>
                    </a:lnTo>
                    <a:lnTo>
                      <a:pt x="1165" y="933"/>
                    </a:lnTo>
                    <a:lnTo>
                      <a:pt x="1169" y="933"/>
                    </a:lnTo>
                    <a:lnTo>
                      <a:pt x="1174" y="933"/>
                    </a:lnTo>
                    <a:lnTo>
                      <a:pt x="1178" y="933"/>
                    </a:lnTo>
                    <a:lnTo>
                      <a:pt x="1182" y="933"/>
                    </a:lnTo>
                    <a:lnTo>
                      <a:pt x="1187" y="933"/>
                    </a:lnTo>
                    <a:lnTo>
                      <a:pt x="1191" y="933"/>
                    </a:lnTo>
                    <a:lnTo>
                      <a:pt x="1195" y="933"/>
                    </a:lnTo>
                    <a:lnTo>
                      <a:pt x="1200" y="933"/>
                    </a:lnTo>
                    <a:lnTo>
                      <a:pt x="1204" y="933"/>
                    </a:lnTo>
                    <a:lnTo>
                      <a:pt x="1208" y="933"/>
                    </a:lnTo>
                    <a:lnTo>
                      <a:pt x="1213" y="933"/>
                    </a:lnTo>
                    <a:lnTo>
                      <a:pt x="1217" y="933"/>
                    </a:lnTo>
                    <a:lnTo>
                      <a:pt x="1221" y="933"/>
                    </a:lnTo>
                    <a:lnTo>
                      <a:pt x="1226" y="933"/>
                    </a:lnTo>
                    <a:lnTo>
                      <a:pt x="1230" y="933"/>
                    </a:lnTo>
                    <a:lnTo>
                      <a:pt x="1234" y="933"/>
                    </a:lnTo>
                    <a:lnTo>
                      <a:pt x="1239" y="933"/>
                    </a:lnTo>
                    <a:lnTo>
                      <a:pt x="1243" y="933"/>
                    </a:lnTo>
                    <a:lnTo>
                      <a:pt x="1247" y="933"/>
                    </a:lnTo>
                    <a:lnTo>
                      <a:pt x="1252" y="933"/>
                    </a:lnTo>
                    <a:lnTo>
                      <a:pt x="1256" y="933"/>
                    </a:lnTo>
                    <a:lnTo>
                      <a:pt x="1260" y="933"/>
                    </a:lnTo>
                    <a:lnTo>
                      <a:pt x="1265" y="933"/>
                    </a:lnTo>
                    <a:lnTo>
                      <a:pt x="1269" y="933"/>
                    </a:lnTo>
                    <a:lnTo>
                      <a:pt x="1273" y="933"/>
                    </a:lnTo>
                    <a:lnTo>
                      <a:pt x="1278" y="933"/>
                    </a:lnTo>
                    <a:lnTo>
                      <a:pt x="1282" y="933"/>
                    </a:lnTo>
                    <a:lnTo>
                      <a:pt x="1286" y="933"/>
                    </a:lnTo>
                    <a:lnTo>
                      <a:pt x="1291" y="933"/>
                    </a:lnTo>
                    <a:lnTo>
                      <a:pt x="1295" y="933"/>
                    </a:lnTo>
                    <a:lnTo>
                      <a:pt x="1299" y="933"/>
                    </a:lnTo>
                    <a:lnTo>
                      <a:pt x="1304" y="933"/>
                    </a:lnTo>
                    <a:lnTo>
                      <a:pt x="1308" y="933"/>
                    </a:lnTo>
                    <a:lnTo>
                      <a:pt x="1312" y="933"/>
                    </a:lnTo>
                    <a:lnTo>
                      <a:pt x="1317" y="933"/>
                    </a:lnTo>
                    <a:lnTo>
                      <a:pt x="1321" y="933"/>
                    </a:lnTo>
                    <a:lnTo>
                      <a:pt x="1325" y="9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 baseline="-25000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 baseline="-25000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 baseline="-25000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custGeom>
              <a:avLst/>
              <a:gdLst>
                <a:gd name="textAreaLeft" fmla="*/ 0 w 2346120"/>
                <a:gd name="textAreaRight" fmla="*/ 2346480 w 234612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custGeom>
              <a:avLst/>
              <a:gdLst>
                <a:gd name="textAreaLeft" fmla="*/ 0 w 2130120"/>
                <a:gd name="textAreaRight" fmla="*/ 2130120 w 2130120"/>
                <a:gd name="textAreaTop" fmla="*/ 0 h 1741320"/>
                <a:gd name="textAreaBottom" fmla="*/ 1741680 h 17413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1752120"/>
                <a:gd name="textAreaBottom" fmla="*/ 1752480 h 175212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custGeom>
                <a:avLst/>
                <a:gdLst>
                  <a:gd name="textAreaLeft" fmla="*/ 0 w 2139840"/>
                  <a:gd name="textAreaRight" fmla="*/ 2140200 w 2139840"/>
                  <a:gd name="textAreaTop" fmla="*/ 0 h 951120"/>
                  <a:gd name="textAreaBottom" fmla="*/ 951480 h 951120"/>
                </a:gdLst>
                <a:ahLst/>
                <a:rect l="textAreaLeft" t="textAreaTop" r="textAreaRight" b="textAreaBottom"/>
                <a:pathLst>
                  <a:path w="1257" h="507">
                    <a:moveTo>
                      <a:pt x="0" y="506"/>
                    </a:moveTo>
                    <a:lnTo>
                      <a:pt x="8" y="506"/>
                    </a:lnTo>
                    <a:lnTo>
                      <a:pt x="13" y="506"/>
                    </a:lnTo>
                    <a:lnTo>
                      <a:pt x="21" y="503"/>
                    </a:lnTo>
                    <a:lnTo>
                      <a:pt x="26" y="503"/>
                    </a:lnTo>
                    <a:lnTo>
                      <a:pt x="30" y="503"/>
                    </a:lnTo>
                    <a:lnTo>
                      <a:pt x="39" y="503"/>
                    </a:lnTo>
                    <a:lnTo>
                      <a:pt x="43" y="503"/>
                    </a:lnTo>
                    <a:lnTo>
                      <a:pt x="52" y="503"/>
                    </a:lnTo>
                    <a:lnTo>
                      <a:pt x="56" y="503"/>
                    </a:lnTo>
                    <a:lnTo>
                      <a:pt x="65" y="500"/>
                    </a:lnTo>
                    <a:lnTo>
                      <a:pt x="69" y="500"/>
                    </a:lnTo>
                    <a:lnTo>
                      <a:pt x="78" y="500"/>
                    </a:lnTo>
                    <a:lnTo>
                      <a:pt x="82" y="500"/>
                    </a:lnTo>
                    <a:lnTo>
                      <a:pt x="86" y="500"/>
                    </a:lnTo>
                    <a:lnTo>
                      <a:pt x="95" y="497"/>
                    </a:lnTo>
                    <a:lnTo>
                      <a:pt x="99" y="497"/>
                    </a:lnTo>
                    <a:lnTo>
                      <a:pt x="108" y="497"/>
                    </a:lnTo>
                    <a:lnTo>
                      <a:pt x="112" y="497"/>
                    </a:lnTo>
                    <a:lnTo>
                      <a:pt x="121" y="497"/>
                    </a:lnTo>
                    <a:lnTo>
                      <a:pt x="125" y="494"/>
                    </a:lnTo>
                    <a:lnTo>
                      <a:pt x="134" y="494"/>
                    </a:lnTo>
                    <a:lnTo>
                      <a:pt x="138" y="494"/>
                    </a:lnTo>
                    <a:lnTo>
                      <a:pt x="143" y="494"/>
                    </a:lnTo>
                    <a:lnTo>
                      <a:pt x="151" y="490"/>
                    </a:lnTo>
                    <a:lnTo>
                      <a:pt x="156" y="490"/>
                    </a:lnTo>
                    <a:lnTo>
                      <a:pt x="164" y="490"/>
                    </a:lnTo>
                    <a:lnTo>
                      <a:pt x="169" y="488"/>
                    </a:lnTo>
                    <a:lnTo>
                      <a:pt x="177" y="488"/>
                    </a:lnTo>
                    <a:lnTo>
                      <a:pt x="182" y="488"/>
                    </a:lnTo>
                    <a:lnTo>
                      <a:pt x="190" y="488"/>
                    </a:lnTo>
                    <a:lnTo>
                      <a:pt x="195" y="485"/>
                    </a:lnTo>
                    <a:lnTo>
                      <a:pt x="203" y="485"/>
                    </a:lnTo>
                    <a:lnTo>
                      <a:pt x="208" y="481"/>
                    </a:lnTo>
                    <a:lnTo>
                      <a:pt x="212" y="481"/>
                    </a:lnTo>
                    <a:lnTo>
                      <a:pt x="221" y="481"/>
                    </a:lnTo>
                    <a:lnTo>
                      <a:pt x="225" y="478"/>
                    </a:lnTo>
                    <a:lnTo>
                      <a:pt x="234" y="478"/>
                    </a:lnTo>
                    <a:lnTo>
                      <a:pt x="238" y="476"/>
                    </a:lnTo>
                    <a:lnTo>
                      <a:pt x="247" y="476"/>
                    </a:lnTo>
                    <a:lnTo>
                      <a:pt x="251" y="472"/>
                    </a:lnTo>
                    <a:lnTo>
                      <a:pt x="260" y="472"/>
                    </a:lnTo>
                    <a:lnTo>
                      <a:pt x="264" y="469"/>
                    </a:lnTo>
                    <a:lnTo>
                      <a:pt x="268" y="469"/>
                    </a:lnTo>
                    <a:lnTo>
                      <a:pt x="277" y="466"/>
                    </a:lnTo>
                    <a:lnTo>
                      <a:pt x="281" y="463"/>
                    </a:lnTo>
                    <a:lnTo>
                      <a:pt x="290" y="463"/>
                    </a:lnTo>
                    <a:lnTo>
                      <a:pt x="294" y="460"/>
                    </a:lnTo>
                    <a:lnTo>
                      <a:pt x="303" y="457"/>
                    </a:lnTo>
                    <a:lnTo>
                      <a:pt x="307" y="457"/>
                    </a:lnTo>
                    <a:lnTo>
                      <a:pt x="316" y="454"/>
                    </a:lnTo>
                    <a:lnTo>
                      <a:pt x="320" y="451"/>
                    </a:lnTo>
                    <a:lnTo>
                      <a:pt x="325" y="448"/>
                    </a:lnTo>
                    <a:lnTo>
                      <a:pt x="333" y="445"/>
                    </a:lnTo>
                    <a:lnTo>
                      <a:pt x="338" y="442"/>
                    </a:lnTo>
                    <a:lnTo>
                      <a:pt x="346" y="439"/>
                    </a:lnTo>
                    <a:lnTo>
                      <a:pt x="350" y="435"/>
                    </a:lnTo>
                    <a:lnTo>
                      <a:pt x="359" y="433"/>
                    </a:lnTo>
                    <a:lnTo>
                      <a:pt x="363" y="430"/>
                    </a:lnTo>
                    <a:lnTo>
                      <a:pt x="372" y="423"/>
                    </a:lnTo>
                    <a:lnTo>
                      <a:pt x="376" y="420"/>
                    </a:lnTo>
                    <a:lnTo>
                      <a:pt x="385" y="417"/>
                    </a:lnTo>
                    <a:lnTo>
                      <a:pt x="389" y="411"/>
                    </a:lnTo>
                    <a:lnTo>
                      <a:pt x="394" y="408"/>
                    </a:lnTo>
                    <a:lnTo>
                      <a:pt x="402" y="401"/>
                    </a:lnTo>
                    <a:lnTo>
                      <a:pt x="407" y="396"/>
                    </a:lnTo>
                    <a:lnTo>
                      <a:pt x="415" y="389"/>
                    </a:lnTo>
                    <a:lnTo>
                      <a:pt x="420" y="383"/>
                    </a:lnTo>
                    <a:lnTo>
                      <a:pt x="428" y="377"/>
                    </a:lnTo>
                    <a:lnTo>
                      <a:pt x="433" y="371"/>
                    </a:lnTo>
                    <a:lnTo>
                      <a:pt x="441" y="365"/>
                    </a:lnTo>
                    <a:lnTo>
                      <a:pt x="446" y="355"/>
                    </a:lnTo>
                    <a:lnTo>
                      <a:pt x="450" y="346"/>
                    </a:lnTo>
                    <a:lnTo>
                      <a:pt x="459" y="341"/>
                    </a:lnTo>
                    <a:lnTo>
                      <a:pt x="463" y="331"/>
                    </a:lnTo>
                    <a:lnTo>
                      <a:pt x="472" y="319"/>
                    </a:lnTo>
                    <a:lnTo>
                      <a:pt x="476" y="310"/>
                    </a:lnTo>
                    <a:lnTo>
                      <a:pt x="485" y="298"/>
                    </a:lnTo>
                    <a:lnTo>
                      <a:pt x="489" y="288"/>
                    </a:lnTo>
                    <a:lnTo>
                      <a:pt x="498" y="276"/>
                    </a:lnTo>
                    <a:lnTo>
                      <a:pt x="502" y="264"/>
                    </a:lnTo>
                    <a:lnTo>
                      <a:pt x="506" y="248"/>
                    </a:lnTo>
                    <a:lnTo>
                      <a:pt x="515" y="236"/>
                    </a:lnTo>
                    <a:lnTo>
                      <a:pt x="519" y="220"/>
                    </a:lnTo>
                    <a:lnTo>
                      <a:pt x="528" y="206"/>
                    </a:lnTo>
                    <a:lnTo>
                      <a:pt x="532" y="187"/>
                    </a:lnTo>
                    <a:lnTo>
                      <a:pt x="541" y="172"/>
                    </a:lnTo>
                    <a:lnTo>
                      <a:pt x="545" y="156"/>
                    </a:lnTo>
                    <a:lnTo>
                      <a:pt x="554" y="138"/>
                    </a:lnTo>
                    <a:lnTo>
                      <a:pt x="558" y="122"/>
                    </a:lnTo>
                    <a:lnTo>
                      <a:pt x="567" y="104"/>
                    </a:lnTo>
                    <a:lnTo>
                      <a:pt x="571" y="89"/>
                    </a:lnTo>
                    <a:lnTo>
                      <a:pt x="576" y="71"/>
                    </a:lnTo>
                    <a:lnTo>
                      <a:pt x="584" y="55"/>
                    </a:lnTo>
                    <a:lnTo>
                      <a:pt x="589" y="43"/>
                    </a:lnTo>
                    <a:lnTo>
                      <a:pt x="597" y="30"/>
                    </a:lnTo>
                    <a:lnTo>
                      <a:pt x="602" y="18"/>
                    </a:lnTo>
                    <a:lnTo>
                      <a:pt x="610" y="9"/>
                    </a:lnTo>
                    <a:lnTo>
                      <a:pt x="615" y="3"/>
                    </a:lnTo>
                    <a:lnTo>
                      <a:pt x="623" y="0"/>
                    </a:lnTo>
                    <a:lnTo>
                      <a:pt x="628" y="0"/>
                    </a:lnTo>
                    <a:lnTo>
                      <a:pt x="632" y="0"/>
                    </a:lnTo>
                    <a:lnTo>
                      <a:pt x="641" y="3"/>
                    </a:lnTo>
                    <a:lnTo>
                      <a:pt x="645" y="9"/>
                    </a:lnTo>
                    <a:lnTo>
                      <a:pt x="654" y="18"/>
                    </a:lnTo>
                    <a:lnTo>
                      <a:pt x="658" y="30"/>
                    </a:lnTo>
                    <a:lnTo>
                      <a:pt x="667" y="43"/>
                    </a:lnTo>
                    <a:lnTo>
                      <a:pt x="671" y="55"/>
                    </a:lnTo>
                    <a:lnTo>
                      <a:pt x="680" y="71"/>
                    </a:lnTo>
                    <a:lnTo>
                      <a:pt x="684" y="89"/>
                    </a:lnTo>
                    <a:lnTo>
                      <a:pt x="688" y="104"/>
                    </a:lnTo>
                    <a:lnTo>
                      <a:pt x="697" y="122"/>
                    </a:lnTo>
                    <a:lnTo>
                      <a:pt x="701" y="138"/>
                    </a:lnTo>
                    <a:lnTo>
                      <a:pt x="710" y="156"/>
                    </a:lnTo>
                    <a:lnTo>
                      <a:pt x="714" y="172"/>
                    </a:lnTo>
                    <a:lnTo>
                      <a:pt x="723" y="187"/>
                    </a:lnTo>
                    <a:lnTo>
                      <a:pt x="727" y="206"/>
                    </a:lnTo>
                    <a:lnTo>
                      <a:pt x="736" y="220"/>
                    </a:lnTo>
                    <a:lnTo>
                      <a:pt x="740" y="236"/>
                    </a:lnTo>
                    <a:lnTo>
                      <a:pt x="749" y="248"/>
                    </a:lnTo>
                    <a:lnTo>
                      <a:pt x="753" y="264"/>
                    </a:lnTo>
                    <a:lnTo>
                      <a:pt x="758" y="276"/>
                    </a:lnTo>
                    <a:lnTo>
                      <a:pt x="766" y="288"/>
                    </a:lnTo>
                    <a:lnTo>
                      <a:pt x="771" y="298"/>
                    </a:lnTo>
                    <a:lnTo>
                      <a:pt x="779" y="310"/>
                    </a:lnTo>
                    <a:lnTo>
                      <a:pt x="784" y="319"/>
                    </a:lnTo>
                    <a:lnTo>
                      <a:pt x="792" y="331"/>
                    </a:lnTo>
                    <a:lnTo>
                      <a:pt x="797" y="341"/>
                    </a:lnTo>
                    <a:lnTo>
                      <a:pt x="805" y="346"/>
                    </a:lnTo>
                    <a:lnTo>
                      <a:pt x="810" y="355"/>
                    </a:lnTo>
                    <a:lnTo>
                      <a:pt x="814" y="365"/>
                    </a:lnTo>
                    <a:lnTo>
                      <a:pt x="823" y="371"/>
                    </a:lnTo>
                    <a:lnTo>
                      <a:pt x="827" y="377"/>
                    </a:lnTo>
                    <a:lnTo>
                      <a:pt x="836" y="383"/>
                    </a:lnTo>
                    <a:lnTo>
                      <a:pt x="840" y="389"/>
                    </a:lnTo>
                    <a:lnTo>
                      <a:pt x="849" y="396"/>
                    </a:lnTo>
                    <a:lnTo>
                      <a:pt x="853" y="401"/>
                    </a:lnTo>
                    <a:lnTo>
                      <a:pt x="862" y="408"/>
                    </a:lnTo>
                    <a:lnTo>
                      <a:pt x="866" y="411"/>
                    </a:lnTo>
                    <a:lnTo>
                      <a:pt x="870" y="417"/>
                    </a:lnTo>
                    <a:lnTo>
                      <a:pt x="879" y="420"/>
                    </a:lnTo>
                    <a:lnTo>
                      <a:pt x="883" y="423"/>
                    </a:lnTo>
                    <a:lnTo>
                      <a:pt x="892" y="430"/>
                    </a:lnTo>
                    <a:lnTo>
                      <a:pt x="896" y="433"/>
                    </a:lnTo>
                    <a:lnTo>
                      <a:pt x="905" y="435"/>
                    </a:lnTo>
                    <a:lnTo>
                      <a:pt x="909" y="439"/>
                    </a:lnTo>
                    <a:lnTo>
                      <a:pt x="918" y="442"/>
                    </a:lnTo>
                    <a:lnTo>
                      <a:pt x="922" y="445"/>
                    </a:lnTo>
                    <a:lnTo>
                      <a:pt x="931" y="448"/>
                    </a:lnTo>
                    <a:lnTo>
                      <a:pt x="935" y="451"/>
                    </a:lnTo>
                    <a:lnTo>
                      <a:pt x="939" y="454"/>
                    </a:lnTo>
                    <a:lnTo>
                      <a:pt x="948" y="457"/>
                    </a:lnTo>
                    <a:lnTo>
                      <a:pt x="952" y="457"/>
                    </a:lnTo>
                    <a:lnTo>
                      <a:pt x="961" y="460"/>
                    </a:lnTo>
                    <a:lnTo>
                      <a:pt x="965" y="463"/>
                    </a:lnTo>
                    <a:lnTo>
                      <a:pt x="974" y="463"/>
                    </a:lnTo>
                    <a:lnTo>
                      <a:pt x="978" y="466"/>
                    </a:lnTo>
                    <a:lnTo>
                      <a:pt x="987" y="469"/>
                    </a:lnTo>
                    <a:lnTo>
                      <a:pt x="991" y="469"/>
                    </a:lnTo>
                    <a:lnTo>
                      <a:pt x="996" y="472"/>
                    </a:lnTo>
                    <a:lnTo>
                      <a:pt x="1004" y="472"/>
                    </a:lnTo>
                    <a:lnTo>
                      <a:pt x="1009" y="476"/>
                    </a:lnTo>
                    <a:lnTo>
                      <a:pt x="1017" y="476"/>
                    </a:lnTo>
                    <a:lnTo>
                      <a:pt x="1022" y="478"/>
                    </a:lnTo>
                    <a:lnTo>
                      <a:pt x="1030" y="478"/>
                    </a:lnTo>
                    <a:lnTo>
                      <a:pt x="1035" y="481"/>
                    </a:lnTo>
                    <a:lnTo>
                      <a:pt x="1043" y="481"/>
                    </a:lnTo>
                    <a:lnTo>
                      <a:pt x="1048" y="481"/>
                    </a:lnTo>
                    <a:lnTo>
                      <a:pt x="1052" y="485"/>
                    </a:lnTo>
                    <a:lnTo>
                      <a:pt x="1061" y="485"/>
                    </a:lnTo>
                    <a:lnTo>
                      <a:pt x="1065" y="488"/>
                    </a:lnTo>
                    <a:lnTo>
                      <a:pt x="1074" y="488"/>
                    </a:lnTo>
                    <a:lnTo>
                      <a:pt x="1078" y="488"/>
                    </a:lnTo>
                    <a:lnTo>
                      <a:pt x="1087" y="488"/>
                    </a:lnTo>
                    <a:lnTo>
                      <a:pt x="1091" y="490"/>
                    </a:lnTo>
                    <a:lnTo>
                      <a:pt x="1100" y="490"/>
                    </a:lnTo>
                    <a:lnTo>
                      <a:pt x="1104" y="490"/>
                    </a:lnTo>
                    <a:lnTo>
                      <a:pt x="1113" y="494"/>
                    </a:lnTo>
                    <a:lnTo>
                      <a:pt x="1117" y="494"/>
                    </a:lnTo>
                    <a:lnTo>
                      <a:pt x="1121" y="494"/>
                    </a:lnTo>
                    <a:lnTo>
                      <a:pt x="1130" y="494"/>
                    </a:lnTo>
                    <a:lnTo>
                      <a:pt x="1134" y="497"/>
                    </a:lnTo>
                    <a:lnTo>
                      <a:pt x="1143" y="497"/>
                    </a:lnTo>
                    <a:lnTo>
                      <a:pt x="1147" y="497"/>
                    </a:lnTo>
                    <a:lnTo>
                      <a:pt x="1156" y="497"/>
                    </a:lnTo>
                    <a:lnTo>
                      <a:pt x="1160" y="497"/>
                    </a:lnTo>
                    <a:lnTo>
                      <a:pt x="1169" y="500"/>
                    </a:lnTo>
                    <a:lnTo>
                      <a:pt x="1173" y="500"/>
                    </a:lnTo>
                    <a:lnTo>
                      <a:pt x="1178" y="500"/>
                    </a:lnTo>
                    <a:lnTo>
                      <a:pt x="1186" y="500"/>
                    </a:lnTo>
                    <a:lnTo>
                      <a:pt x="1191" y="500"/>
                    </a:lnTo>
                    <a:lnTo>
                      <a:pt x="1199" y="503"/>
                    </a:lnTo>
                    <a:lnTo>
                      <a:pt x="1204" y="503"/>
                    </a:lnTo>
                    <a:lnTo>
                      <a:pt x="1212" y="503"/>
                    </a:lnTo>
                    <a:lnTo>
                      <a:pt x="1217" y="503"/>
                    </a:lnTo>
                    <a:lnTo>
                      <a:pt x="1225" y="503"/>
                    </a:lnTo>
                    <a:lnTo>
                      <a:pt x="1230" y="503"/>
                    </a:lnTo>
                    <a:lnTo>
                      <a:pt x="1234" y="503"/>
                    </a:lnTo>
                    <a:lnTo>
                      <a:pt x="1243" y="506"/>
                    </a:lnTo>
                    <a:lnTo>
                      <a:pt x="1247" y="506"/>
                    </a:lnTo>
                    <a:lnTo>
                      <a:pt x="1256" y="50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custGeom>
                <a:avLst/>
                <a:gdLst>
                  <a:gd name="textAreaLeft" fmla="*/ 0 w 2139840"/>
                  <a:gd name="textAreaRight" fmla="*/ 2140200 w 2139840"/>
                  <a:gd name="textAreaTop" fmla="*/ 0 h 1343160"/>
                  <a:gd name="textAreaBottom" fmla="*/ 1343520 h 1343160"/>
                </a:gdLst>
                <a:ahLst/>
                <a:rect l="textAreaLeft" t="textAreaTop" r="textAreaRight" b="textAreaBottom"/>
                <a:pathLst>
                  <a:path w="1257" h="716">
                    <a:moveTo>
                      <a:pt x="0" y="715"/>
                    </a:moveTo>
                    <a:lnTo>
                      <a:pt x="8" y="712"/>
                    </a:lnTo>
                    <a:lnTo>
                      <a:pt x="13" y="712"/>
                    </a:lnTo>
                    <a:lnTo>
                      <a:pt x="21" y="712"/>
                    </a:lnTo>
                    <a:lnTo>
                      <a:pt x="26" y="712"/>
                    </a:lnTo>
                    <a:lnTo>
                      <a:pt x="30" y="712"/>
                    </a:lnTo>
                    <a:lnTo>
                      <a:pt x="39" y="712"/>
                    </a:lnTo>
                    <a:lnTo>
                      <a:pt x="43" y="712"/>
                    </a:lnTo>
                    <a:lnTo>
                      <a:pt x="52" y="712"/>
                    </a:lnTo>
                    <a:lnTo>
                      <a:pt x="56" y="712"/>
                    </a:lnTo>
                    <a:lnTo>
                      <a:pt x="65" y="712"/>
                    </a:lnTo>
                    <a:lnTo>
                      <a:pt x="69" y="712"/>
                    </a:lnTo>
                    <a:lnTo>
                      <a:pt x="78" y="712"/>
                    </a:lnTo>
                    <a:lnTo>
                      <a:pt x="82" y="712"/>
                    </a:lnTo>
                    <a:lnTo>
                      <a:pt x="86" y="712"/>
                    </a:lnTo>
                    <a:lnTo>
                      <a:pt x="95" y="708"/>
                    </a:lnTo>
                    <a:lnTo>
                      <a:pt x="99" y="708"/>
                    </a:lnTo>
                    <a:lnTo>
                      <a:pt x="108" y="708"/>
                    </a:lnTo>
                    <a:lnTo>
                      <a:pt x="112" y="708"/>
                    </a:lnTo>
                    <a:lnTo>
                      <a:pt x="121" y="708"/>
                    </a:lnTo>
                    <a:lnTo>
                      <a:pt x="125" y="708"/>
                    </a:lnTo>
                    <a:lnTo>
                      <a:pt x="134" y="708"/>
                    </a:lnTo>
                    <a:lnTo>
                      <a:pt x="138" y="704"/>
                    </a:lnTo>
                    <a:lnTo>
                      <a:pt x="143" y="704"/>
                    </a:lnTo>
                    <a:lnTo>
                      <a:pt x="151" y="704"/>
                    </a:lnTo>
                    <a:lnTo>
                      <a:pt x="156" y="704"/>
                    </a:lnTo>
                    <a:lnTo>
                      <a:pt x="164" y="704"/>
                    </a:lnTo>
                    <a:lnTo>
                      <a:pt x="169" y="701"/>
                    </a:lnTo>
                    <a:lnTo>
                      <a:pt x="177" y="701"/>
                    </a:lnTo>
                    <a:lnTo>
                      <a:pt x="182" y="701"/>
                    </a:lnTo>
                    <a:lnTo>
                      <a:pt x="190" y="701"/>
                    </a:lnTo>
                    <a:lnTo>
                      <a:pt x="195" y="697"/>
                    </a:lnTo>
                    <a:lnTo>
                      <a:pt x="203" y="697"/>
                    </a:lnTo>
                    <a:lnTo>
                      <a:pt x="208" y="694"/>
                    </a:lnTo>
                    <a:lnTo>
                      <a:pt x="212" y="694"/>
                    </a:lnTo>
                    <a:lnTo>
                      <a:pt x="221" y="694"/>
                    </a:lnTo>
                    <a:lnTo>
                      <a:pt x="225" y="691"/>
                    </a:lnTo>
                    <a:lnTo>
                      <a:pt x="234" y="691"/>
                    </a:lnTo>
                    <a:lnTo>
                      <a:pt x="238" y="687"/>
                    </a:lnTo>
                    <a:lnTo>
                      <a:pt x="247" y="687"/>
                    </a:lnTo>
                    <a:lnTo>
                      <a:pt x="251" y="683"/>
                    </a:lnTo>
                    <a:lnTo>
                      <a:pt x="260" y="683"/>
                    </a:lnTo>
                    <a:lnTo>
                      <a:pt x="264" y="680"/>
                    </a:lnTo>
                    <a:lnTo>
                      <a:pt x="268" y="676"/>
                    </a:lnTo>
                    <a:lnTo>
                      <a:pt x="277" y="673"/>
                    </a:lnTo>
                    <a:lnTo>
                      <a:pt x="281" y="673"/>
                    </a:lnTo>
                    <a:lnTo>
                      <a:pt x="290" y="670"/>
                    </a:lnTo>
                    <a:lnTo>
                      <a:pt x="294" y="666"/>
                    </a:lnTo>
                    <a:lnTo>
                      <a:pt x="303" y="662"/>
                    </a:lnTo>
                    <a:lnTo>
                      <a:pt x="307" y="659"/>
                    </a:lnTo>
                    <a:lnTo>
                      <a:pt x="316" y="652"/>
                    </a:lnTo>
                    <a:lnTo>
                      <a:pt x="320" y="649"/>
                    </a:lnTo>
                    <a:lnTo>
                      <a:pt x="325" y="645"/>
                    </a:lnTo>
                    <a:lnTo>
                      <a:pt x="333" y="641"/>
                    </a:lnTo>
                    <a:lnTo>
                      <a:pt x="338" y="634"/>
                    </a:lnTo>
                    <a:lnTo>
                      <a:pt x="346" y="628"/>
                    </a:lnTo>
                    <a:lnTo>
                      <a:pt x="350" y="624"/>
                    </a:lnTo>
                    <a:lnTo>
                      <a:pt x="359" y="617"/>
                    </a:lnTo>
                    <a:lnTo>
                      <a:pt x="363" y="610"/>
                    </a:lnTo>
                    <a:lnTo>
                      <a:pt x="372" y="603"/>
                    </a:lnTo>
                    <a:lnTo>
                      <a:pt x="376" y="592"/>
                    </a:lnTo>
                    <a:lnTo>
                      <a:pt x="385" y="586"/>
                    </a:lnTo>
                    <a:lnTo>
                      <a:pt x="389" y="574"/>
                    </a:lnTo>
                    <a:lnTo>
                      <a:pt x="394" y="568"/>
                    </a:lnTo>
                    <a:lnTo>
                      <a:pt x="402" y="557"/>
                    </a:lnTo>
                    <a:lnTo>
                      <a:pt x="407" y="547"/>
                    </a:lnTo>
                    <a:lnTo>
                      <a:pt x="415" y="532"/>
                    </a:lnTo>
                    <a:lnTo>
                      <a:pt x="420" y="522"/>
                    </a:lnTo>
                    <a:lnTo>
                      <a:pt x="428" y="508"/>
                    </a:lnTo>
                    <a:lnTo>
                      <a:pt x="433" y="494"/>
                    </a:lnTo>
                    <a:lnTo>
                      <a:pt x="441" y="480"/>
                    </a:lnTo>
                    <a:lnTo>
                      <a:pt x="446" y="466"/>
                    </a:lnTo>
                    <a:lnTo>
                      <a:pt x="450" y="448"/>
                    </a:lnTo>
                    <a:lnTo>
                      <a:pt x="459" y="435"/>
                    </a:lnTo>
                    <a:lnTo>
                      <a:pt x="463" y="417"/>
                    </a:lnTo>
                    <a:lnTo>
                      <a:pt x="472" y="399"/>
                    </a:lnTo>
                    <a:lnTo>
                      <a:pt x="476" y="382"/>
                    </a:lnTo>
                    <a:lnTo>
                      <a:pt x="485" y="361"/>
                    </a:lnTo>
                    <a:lnTo>
                      <a:pt x="489" y="340"/>
                    </a:lnTo>
                    <a:lnTo>
                      <a:pt x="498" y="322"/>
                    </a:lnTo>
                    <a:lnTo>
                      <a:pt x="502" y="301"/>
                    </a:lnTo>
                    <a:lnTo>
                      <a:pt x="506" y="280"/>
                    </a:lnTo>
                    <a:lnTo>
                      <a:pt x="515" y="259"/>
                    </a:lnTo>
                    <a:lnTo>
                      <a:pt x="519" y="238"/>
                    </a:lnTo>
                    <a:lnTo>
                      <a:pt x="528" y="217"/>
                    </a:lnTo>
                    <a:lnTo>
                      <a:pt x="532" y="196"/>
                    </a:lnTo>
                    <a:lnTo>
                      <a:pt x="541" y="175"/>
                    </a:lnTo>
                    <a:lnTo>
                      <a:pt x="545" y="154"/>
                    </a:lnTo>
                    <a:lnTo>
                      <a:pt x="554" y="133"/>
                    </a:lnTo>
                    <a:lnTo>
                      <a:pt x="558" y="116"/>
                    </a:lnTo>
                    <a:lnTo>
                      <a:pt x="567" y="95"/>
                    </a:lnTo>
                    <a:lnTo>
                      <a:pt x="571" y="80"/>
                    </a:lnTo>
                    <a:lnTo>
                      <a:pt x="576" y="63"/>
                    </a:lnTo>
                    <a:lnTo>
                      <a:pt x="584" y="48"/>
                    </a:lnTo>
                    <a:lnTo>
                      <a:pt x="589" y="35"/>
                    </a:lnTo>
                    <a:lnTo>
                      <a:pt x="597" y="24"/>
                    </a:lnTo>
                    <a:lnTo>
                      <a:pt x="602" y="14"/>
                    </a:lnTo>
                    <a:lnTo>
                      <a:pt x="610" y="6"/>
                    </a:lnTo>
                    <a:lnTo>
                      <a:pt x="615" y="3"/>
                    </a:lnTo>
                    <a:lnTo>
                      <a:pt x="623" y="0"/>
                    </a:lnTo>
                    <a:lnTo>
                      <a:pt x="628" y="0"/>
                    </a:lnTo>
                    <a:lnTo>
                      <a:pt x="632" y="0"/>
                    </a:lnTo>
                    <a:lnTo>
                      <a:pt x="641" y="3"/>
                    </a:lnTo>
                    <a:lnTo>
                      <a:pt x="645" y="6"/>
                    </a:lnTo>
                    <a:lnTo>
                      <a:pt x="654" y="14"/>
                    </a:lnTo>
                    <a:lnTo>
                      <a:pt x="658" y="24"/>
                    </a:lnTo>
                    <a:lnTo>
                      <a:pt x="667" y="35"/>
                    </a:lnTo>
                    <a:lnTo>
                      <a:pt x="671" y="48"/>
                    </a:lnTo>
                    <a:lnTo>
                      <a:pt x="680" y="63"/>
                    </a:lnTo>
                    <a:lnTo>
                      <a:pt x="684" y="80"/>
                    </a:lnTo>
                    <a:lnTo>
                      <a:pt x="688" y="95"/>
                    </a:lnTo>
                    <a:lnTo>
                      <a:pt x="697" y="116"/>
                    </a:lnTo>
                    <a:lnTo>
                      <a:pt x="701" y="133"/>
                    </a:lnTo>
                    <a:lnTo>
                      <a:pt x="710" y="154"/>
                    </a:lnTo>
                    <a:lnTo>
                      <a:pt x="714" y="175"/>
                    </a:lnTo>
                    <a:lnTo>
                      <a:pt x="723" y="196"/>
                    </a:lnTo>
                    <a:lnTo>
                      <a:pt x="727" y="217"/>
                    </a:lnTo>
                    <a:lnTo>
                      <a:pt x="736" y="238"/>
                    </a:lnTo>
                    <a:lnTo>
                      <a:pt x="740" y="259"/>
                    </a:lnTo>
                    <a:lnTo>
                      <a:pt x="749" y="280"/>
                    </a:lnTo>
                    <a:lnTo>
                      <a:pt x="753" y="301"/>
                    </a:lnTo>
                    <a:lnTo>
                      <a:pt x="758" y="322"/>
                    </a:lnTo>
                    <a:lnTo>
                      <a:pt x="766" y="340"/>
                    </a:lnTo>
                    <a:lnTo>
                      <a:pt x="771" y="361"/>
                    </a:lnTo>
                    <a:lnTo>
                      <a:pt x="779" y="382"/>
                    </a:lnTo>
                    <a:lnTo>
                      <a:pt x="784" y="399"/>
                    </a:lnTo>
                    <a:lnTo>
                      <a:pt x="792" y="417"/>
                    </a:lnTo>
                    <a:lnTo>
                      <a:pt x="797" y="435"/>
                    </a:lnTo>
                    <a:lnTo>
                      <a:pt x="805" y="448"/>
                    </a:lnTo>
                    <a:lnTo>
                      <a:pt x="810" y="466"/>
                    </a:lnTo>
                    <a:lnTo>
                      <a:pt x="814" y="480"/>
                    </a:lnTo>
                    <a:lnTo>
                      <a:pt x="823" y="494"/>
                    </a:lnTo>
                    <a:lnTo>
                      <a:pt x="827" y="508"/>
                    </a:lnTo>
                    <a:lnTo>
                      <a:pt x="836" y="522"/>
                    </a:lnTo>
                    <a:lnTo>
                      <a:pt x="840" y="532"/>
                    </a:lnTo>
                    <a:lnTo>
                      <a:pt x="849" y="547"/>
                    </a:lnTo>
                    <a:lnTo>
                      <a:pt x="853" y="557"/>
                    </a:lnTo>
                    <a:lnTo>
                      <a:pt x="862" y="568"/>
                    </a:lnTo>
                    <a:lnTo>
                      <a:pt x="866" y="574"/>
                    </a:lnTo>
                    <a:lnTo>
                      <a:pt x="870" y="586"/>
                    </a:lnTo>
                    <a:lnTo>
                      <a:pt x="879" y="592"/>
                    </a:lnTo>
                    <a:lnTo>
                      <a:pt x="883" y="603"/>
                    </a:lnTo>
                    <a:lnTo>
                      <a:pt x="892" y="610"/>
                    </a:lnTo>
                    <a:lnTo>
                      <a:pt x="896" y="617"/>
                    </a:lnTo>
                    <a:lnTo>
                      <a:pt x="905" y="624"/>
                    </a:lnTo>
                    <a:lnTo>
                      <a:pt x="909" y="628"/>
                    </a:lnTo>
                    <a:lnTo>
                      <a:pt x="918" y="634"/>
                    </a:lnTo>
                    <a:lnTo>
                      <a:pt x="922" y="641"/>
                    </a:lnTo>
                    <a:lnTo>
                      <a:pt x="931" y="645"/>
                    </a:lnTo>
                    <a:lnTo>
                      <a:pt x="935" y="649"/>
                    </a:lnTo>
                    <a:lnTo>
                      <a:pt x="939" y="652"/>
                    </a:lnTo>
                    <a:lnTo>
                      <a:pt x="948" y="659"/>
                    </a:lnTo>
                    <a:lnTo>
                      <a:pt x="952" y="662"/>
                    </a:lnTo>
                    <a:lnTo>
                      <a:pt x="961" y="666"/>
                    </a:lnTo>
                    <a:lnTo>
                      <a:pt x="965" y="670"/>
                    </a:lnTo>
                    <a:lnTo>
                      <a:pt x="974" y="673"/>
                    </a:lnTo>
                    <a:lnTo>
                      <a:pt x="978" y="673"/>
                    </a:lnTo>
                    <a:lnTo>
                      <a:pt x="987" y="676"/>
                    </a:lnTo>
                    <a:lnTo>
                      <a:pt x="991" y="680"/>
                    </a:lnTo>
                    <a:lnTo>
                      <a:pt x="996" y="683"/>
                    </a:lnTo>
                    <a:lnTo>
                      <a:pt x="1004" y="683"/>
                    </a:lnTo>
                    <a:lnTo>
                      <a:pt x="1009" y="687"/>
                    </a:lnTo>
                    <a:lnTo>
                      <a:pt x="1017" y="687"/>
                    </a:lnTo>
                    <a:lnTo>
                      <a:pt x="1022" y="691"/>
                    </a:lnTo>
                    <a:lnTo>
                      <a:pt x="1030" y="691"/>
                    </a:lnTo>
                    <a:lnTo>
                      <a:pt x="1035" y="694"/>
                    </a:lnTo>
                    <a:lnTo>
                      <a:pt x="1043" y="694"/>
                    </a:lnTo>
                    <a:lnTo>
                      <a:pt x="1048" y="694"/>
                    </a:lnTo>
                    <a:lnTo>
                      <a:pt x="1052" y="697"/>
                    </a:lnTo>
                    <a:lnTo>
                      <a:pt x="1061" y="697"/>
                    </a:lnTo>
                    <a:lnTo>
                      <a:pt x="1065" y="701"/>
                    </a:lnTo>
                    <a:lnTo>
                      <a:pt x="1074" y="701"/>
                    </a:lnTo>
                    <a:lnTo>
                      <a:pt x="1078" y="701"/>
                    </a:lnTo>
                    <a:lnTo>
                      <a:pt x="1087" y="701"/>
                    </a:lnTo>
                    <a:lnTo>
                      <a:pt x="1091" y="704"/>
                    </a:lnTo>
                    <a:lnTo>
                      <a:pt x="1100" y="704"/>
                    </a:lnTo>
                    <a:lnTo>
                      <a:pt x="1104" y="704"/>
                    </a:lnTo>
                    <a:lnTo>
                      <a:pt x="1113" y="704"/>
                    </a:lnTo>
                    <a:lnTo>
                      <a:pt x="1117" y="704"/>
                    </a:lnTo>
                    <a:lnTo>
                      <a:pt x="1121" y="708"/>
                    </a:lnTo>
                    <a:lnTo>
                      <a:pt x="1130" y="708"/>
                    </a:lnTo>
                    <a:lnTo>
                      <a:pt x="1134" y="708"/>
                    </a:lnTo>
                    <a:lnTo>
                      <a:pt x="1143" y="708"/>
                    </a:lnTo>
                    <a:lnTo>
                      <a:pt x="1147" y="708"/>
                    </a:lnTo>
                    <a:lnTo>
                      <a:pt x="1156" y="708"/>
                    </a:lnTo>
                    <a:lnTo>
                      <a:pt x="1160" y="708"/>
                    </a:lnTo>
                    <a:lnTo>
                      <a:pt x="1169" y="712"/>
                    </a:lnTo>
                    <a:lnTo>
                      <a:pt x="1173" y="712"/>
                    </a:lnTo>
                    <a:lnTo>
                      <a:pt x="1178" y="712"/>
                    </a:lnTo>
                    <a:lnTo>
                      <a:pt x="1186" y="712"/>
                    </a:lnTo>
                    <a:lnTo>
                      <a:pt x="1191" y="712"/>
                    </a:lnTo>
                    <a:lnTo>
                      <a:pt x="1199" y="712"/>
                    </a:lnTo>
                    <a:lnTo>
                      <a:pt x="1204" y="712"/>
                    </a:lnTo>
                    <a:lnTo>
                      <a:pt x="1212" y="712"/>
                    </a:lnTo>
                    <a:lnTo>
                      <a:pt x="1217" y="712"/>
                    </a:lnTo>
                    <a:lnTo>
                      <a:pt x="1225" y="712"/>
                    </a:lnTo>
                    <a:lnTo>
                      <a:pt x="1230" y="712"/>
                    </a:lnTo>
                    <a:lnTo>
                      <a:pt x="1234" y="712"/>
                    </a:lnTo>
                    <a:lnTo>
                      <a:pt x="1243" y="712"/>
                    </a:lnTo>
                    <a:lnTo>
                      <a:pt x="1247" y="712"/>
                    </a:lnTo>
                    <a:lnTo>
                      <a:pt x="1256" y="715"/>
                    </a:lnTo>
                  </a:path>
                </a:pathLst>
              </a:cu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custGeom>
              <a:avLst/>
              <a:gdLst>
                <a:gd name="textAreaLeft" fmla="*/ 0 w 3644640"/>
                <a:gd name="textAreaRight" fmla="*/ 3645000 w 3644640"/>
                <a:gd name="textAreaTop" fmla="*/ 0 h 2760480"/>
                <a:gd name="textAreaBottom" fmla="*/ 2760840 h 2760480"/>
              </a:gdLst>
              <a:ahLst/>
              <a:rect l="textAreaLeft" t="textAreaTop" r="textAreaRight" b="textAreaBottom"/>
              <a:pathLst>
                <a:path w="2296" h="1739">
                  <a:moveTo>
                    <a:pt x="0" y="1738"/>
                  </a:moveTo>
                  <a:lnTo>
                    <a:pt x="2295" y="1738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7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custGeom>
                <a:avLst/>
                <a:gdLst>
                  <a:gd name="textAreaLeft" fmla="*/ 0 w 2899080"/>
                  <a:gd name="textAreaRight" fmla="*/ 2899440 w 289908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1378" h="968">
                    <a:moveTo>
                      <a:pt x="0" y="967"/>
                    </a:moveTo>
                    <a:lnTo>
                      <a:pt x="1377" y="967"/>
                    </a:lnTo>
                    <a:lnTo>
                      <a:pt x="1377" y="0"/>
                    </a:lnTo>
                    <a:lnTo>
                      <a:pt x="0" y="0"/>
                    </a:lnTo>
                    <a:lnTo>
                      <a:pt x="0" y="9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custGeom>
                <a:avLst/>
                <a:gdLst>
                  <a:gd name="textAreaLeft" fmla="*/ 0 w 2789640"/>
                  <a:gd name="textAreaRight" fmla="*/ 2790000 w 27896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326" h="96">
                    <a:moveTo>
                      <a:pt x="0" y="95"/>
                    </a:moveTo>
                    <a:lnTo>
                      <a:pt x="0" y="95"/>
                    </a:lnTo>
                    <a:lnTo>
                      <a:pt x="4" y="95"/>
                    </a:lnTo>
                    <a:lnTo>
                      <a:pt x="9" y="95"/>
                    </a:lnTo>
                    <a:lnTo>
                      <a:pt x="13" y="95"/>
                    </a:lnTo>
                    <a:lnTo>
                      <a:pt x="17" y="95"/>
                    </a:lnTo>
                    <a:lnTo>
                      <a:pt x="22" y="95"/>
                    </a:lnTo>
                    <a:lnTo>
                      <a:pt x="26" y="95"/>
                    </a:lnTo>
                    <a:lnTo>
                      <a:pt x="30" y="95"/>
                    </a:lnTo>
                    <a:lnTo>
                      <a:pt x="35" y="95"/>
                    </a:lnTo>
                    <a:lnTo>
                      <a:pt x="39" y="95"/>
                    </a:lnTo>
                    <a:lnTo>
                      <a:pt x="43" y="95"/>
                    </a:lnTo>
                    <a:lnTo>
                      <a:pt x="48" y="95"/>
                    </a:lnTo>
                    <a:lnTo>
                      <a:pt x="52" y="95"/>
                    </a:lnTo>
                    <a:lnTo>
                      <a:pt x="56" y="95"/>
                    </a:lnTo>
                    <a:lnTo>
                      <a:pt x="61" y="95"/>
                    </a:lnTo>
                    <a:lnTo>
                      <a:pt x="65" y="95"/>
                    </a:lnTo>
                    <a:lnTo>
                      <a:pt x="69" y="95"/>
                    </a:lnTo>
                    <a:lnTo>
                      <a:pt x="74" y="95"/>
                    </a:lnTo>
                    <a:lnTo>
                      <a:pt x="78" y="95"/>
                    </a:lnTo>
                    <a:lnTo>
                      <a:pt x="82" y="95"/>
                    </a:lnTo>
                    <a:lnTo>
                      <a:pt x="87" y="95"/>
                    </a:lnTo>
                    <a:lnTo>
                      <a:pt x="91" y="95"/>
                    </a:lnTo>
                    <a:lnTo>
                      <a:pt x="95" y="95"/>
                    </a:lnTo>
                    <a:lnTo>
                      <a:pt x="100" y="95"/>
                    </a:lnTo>
                    <a:lnTo>
                      <a:pt x="104" y="95"/>
                    </a:lnTo>
                    <a:lnTo>
                      <a:pt x="108" y="95"/>
                    </a:lnTo>
                    <a:lnTo>
                      <a:pt x="113" y="95"/>
                    </a:lnTo>
                    <a:lnTo>
                      <a:pt x="117" y="95"/>
                    </a:lnTo>
                    <a:lnTo>
                      <a:pt x="121" y="95"/>
                    </a:lnTo>
                    <a:lnTo>
                      <a:pt x="126" y="91"/>
                    </a:lnTo>
                    <a:lnTo>
                      <a:pt x="130" y="91"/>
                    </a:lnTo>
                    <a:lnTo>
                      <a:pt x="134" y="91"/>
                    </a:lnTo>
                    <a:lnTo>
                      <a:pt x="139" y="91"/>
                    </a:lnTo>
                    <a:lnTo>
                      <a:pt x="143" y="91"/>
                    </a:lnTo>
                    <a:lnTo>
                      <a:pt x="147" y="91"/>
                    </a:lnTo>
                    <a:lnTo>
                      <a:pt x="152" y="91"/>
                    </a:lnTo>
                    <a:lnTo>
                      <a:pt x="156" y="91"/>
                    </a:lnTo>
                    <a:lnTo>
                      <a:pt x="160" y="91"/>
                    </a:lnTo>
                    <a:lnTo>
                      <a:pt x="165" y="91"/>
                    </a:lnTo>
                    <a:lnTo>
                      <a:pt x="169" y="91"/>
                    </a:lnTo>
                    <a:lnTo>
                      <a:pt x="173" y="91"/>
                    </a:lnTo>
                    <a:lnTo>
                      <a:pt x="178" y="91"/>
                    </a:lnTo>
                    <a:lnTo>
                      <a:pt x="178" y="86"/>
                    </a:lnTo>
                    <a:lnTo>
                      <a:pt x="182" y="86"/>
                    </a:lnTo>
                    <a:lnTo>
                      <a:pt x="186" y="86"/>
                    </a:lnTo>
                    <a:lnTo>
                      <a:pt x="191" y="86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4" y="86"/>
                    </a:lnTo>
                    <a:lnTo>
                      <a:pt x="208" y="86"/>
                    </a:lnTo>
                    <a:lnTo>
                      <a:pt x="208" y="82"/>
                    </a:lnTo>
                    <a:lnTo>
                      <a:pt x="212" y="82"/>
                    </a:lnTo>
                    <a:lnTo>
                      <a:pt x="217" y="82"/>
                    </a:lnTo>
                    <a:lnTo>
                      <a:pt x="221" y="82"/>
                    </a:lnTo>
                    <a:lnTo>
                      <a:pt x="225" y="82"/>
                    </a:lnTo>
                    <a:lnTo>
                      <a:pt x="230" y="82"/>
                    </a:lnTo>
                    <a:lnTo>
                      <a:pt x="234" y="78"/>
                    </a:lnTo>
                    <a:lnTo>
                      <a:pt x="238" y="78"/>
                    </a:lnTo>
                    <a:lnTo>
                      <a:pt x="243" y="78"/>
                    </a:lnTo>
                    <a:lnTo>
                      <a:pt x="247" y="78"/>
                    </a:lnTo>
                    <a:lnTo>
                      <a:pt x="247" y="73"/>
                    </a:lnTo>
                    <a:lnTo>
                      <a:pt x="251" y="73"/>
                    </a:lnTo>
                    <a:lnTo>
                      <a:pt x="256" y="73"/>
                    </a:lnTo>
                    <a:lnTo>
                      <a:pt x="260" y="73"/>
                    </a:lnTo>
                    <a:lnTo>
                      <a:pt x="264" y="69"/>
                    </a:lnTo>
                    <a:lnTo>
                      <a:pt x="269" y="69"/>
                    </a:lnTo>
                    <a:lnTo>
                      <a:pt x="273" y="69"/>
                    </a:lnTo>
                    <a:lnTo>
                      <a:pt x="273" y="65"/>
                    </a:lnTo>
                    <a:lnTo>
                      <a:pt x="277" y="65"/>
                    </a:lnTo>
                    <a:lnTo>
                      <a:pt x="282" y="65"/>
                    </a:lnTo>
                    <a:lnTo>
                      <a:pt x="286" y="65"/>
                    </a:lnTo>
                    <a:lnTo>
                      <a:pt x="286" y="60"/>
                    </a:lnTo>
                    <a:lnTo>
                      <a:pt x="290" y="60"/>
                    </a:lnTo>
                    <a:lnTo>
                      <a:pt x="295" y="56"/>
                    </a:lnTo>
                    <a:lnTo>
                      <a:pt x="299" y="56"/>
                    </a:lnTo>
                    <a:lnTo>
                      <a:pt x="303" y="52"/>
                    </a:lnTo>
                    <a:lnTo>
                      <a:pt x="308" y="52"/>
                    </a:lnTo>
                    <a:lnTo>
                      <a:pt x="308" y="47"/>
                    </a:lnTo>
                    <a:lnTo>
                      <a:pt x="312" y="47"/>
                    </a:lnTo>
                    <a:lnTo>
                      <a:pt x="316" y="47"/>
                    </a:lnTo>
                    <a:lnTo>
                      <a:pt x="316" y="43"/>
                    </a:lnTo>
                    <a:lnTo>
                      <a:pt x="321" y="43"/>
                    </a:lnTo>
                    <a:lnTo>
                      <a:pt x="321" y="39"/>
                    </a:lnTo>
                    <a:lnTo>
                      <a:pt x="325" y="39"/>
                    </a:lnTo>
                    <a:lnTo>
                      <a:pt x="329" y="34"/>
                    </a:lnTo>
                    <a:lnTo>
                      <a:pt x="334" y="34"/>
                    </a:lnTo>
                    <a:lnTo>
                      <a:pt x="334" y="30"/>
                    </a:lnTo>
                    <a:lnTo>
                      <a:pt x="338" y="30"/>
                    </a:lnTo>
                    <a:lnTo>
                      <a:pt x="338" y="26"/>
                    </a:lnTo>
                    <a:lnTo>
                      <a:pt x="342" y="26"/>
                    </a:lnTo>
                    <a:lnTo>
                      <a:pt x="342" y="21"/>
                    </a:lnTo>
                    <a:lnTo>
                      <a:pt x="347" y="21"/>
                    </a:lnTo>
                    <a:lnTo>
                      <a:pt x="347" y="17"/>
                    </a:lnTo>
                    <a:lnTo>
                      <a:pt x="351" y="17"/>
                    </a:lnTo>
                    <a:lnTo>
                      <a:pt x="351" y="13"/>
                    </a:lnTo>
                    <a:lnTo>
                      <a:pt x="355" y="13"/>
                    </a:lnTo>
                    <a:lnTo>
                      <a:pt x="355" y="8"/>
                    </a:lnTo>
                    <a:lnTo>
                      <a:pt x="360" y="8"/>
                    </a:lnTo>
                    <a:lnTo>
                      <a:pt x="360" y="4"/>
                    </a:lnTo>
                    <a:lnTo>
                      <a:pt x="364" y="4"/>
                    </a:lnTo>
                    <a:lnTo>
                      <a:pt x="364" y="0"/>
                    </a:lnTo>
                    <a:lnTo>
                      <a:pt x="368" y="0"/>
                    </a:lnTo>
                    <a:lnTo>
                      <a:pt x="368" y="95"/>
                    </a:lnTo>
                    <a:lnTo>
                      <a:pt x="373" y="95"/>
                    </a:lnTo>
                    <a:lnTo>
                      <a:pt x="377" y="95"/>
                    </a:lnTo>
                    <a:lnTo>
                      <a:pt x="381" y="95"/>
                    </a:lnTo>
                    <a:lnTo>
                      <a:pt x="385" y="95"/>
                    </a:lnTo>
                    <a:lnTo>
                      <a:pt x="390" y="95"/>
                    </a:lnTo>
                    <a:lnTo>
                      <a:pt x="394" y="95"/>
                    </a:lnTo>
                    <a:lnTo>
                      <a:pt x="398" y="95"/>
                    </a:lnTo>
                    <a:lnTo>
                      <a:pt x="403" y="95"/>
                    </a:lnTo>
                    <a:lnTo>
                      <a:pt x="407" y="95"/>
                    </a:lnTo>
                    <a:lnTo>
                      <a:pt x="411" y="95"/>
                    </a:lnTo>
                    <a:lnTo>
                      <a:pt x="416" y="95"/>
                    </a:lnTo>
                    <a:lnTo>
                      <a:pt x="420" y="95"/>
                    </a:lnTo>
                    <a:lnTo>
                      <a:pt x="424" y="95"/>
                    </a:lnTo>
                    <a:lnTo>
                      <a:pt x="429" y="95"/>
                    </a:lnTo>
                    <a:lnTo>
                      <a:pt x="433" y="95"/>
                    </a:lnTo>
                    <a:lnTo>
                      <a:pt x="437" y="95"/>
                    </a:lnTo>
                    <a:lnTo>
                      <a:pt x="442" y="95"/>
                    </a:lnTo>
                    <a:lnTo>
                      <a:pt x="446" y="95"/>
                    </a:lnTo>
                    <a:lnTo>
                      <a:pt x="450" y="95"/>
                    </a:lnTo>
                    <a:lnTo>
                      <a:pt x="455" y="95"/>
                    </a:lnTo>
                    <a:lnTo>
                      <a:pt x="459" y="95"/>
                    </a:lnTo>
                    <a:lnTo>
                      <a:pt x="463" y="95"/>
                    </a:lnTo>
                    <a:lnTo>
                      <a:pt x="468" y="95"/>
                    </a:lnTo>
                    <a:lnTo>
                      <a:pt x="472" y="95"/>
                    </a:lnTo>
                    <a:lnTo>
                      <a:pt x="476" y="95"/>
                    </a:lnTo>
                    <a:lnTo>
                      <a:pt x="481" y="95"/>
                    </a:lnTo>
                    <a:lnTo>
                      <a:pt x="485" y="95"/>
                    </a:lnTo>
                    <a:lnTo>
                      <a:pt x="489" y="95"/>
                    </a:lnTo>
                    <a:lnTo>
                      <a:pt x="494" y="95"/>
                    </a:lnTo>
                    <a:lnTo>
                      <a:pt x="498" y="95"/>
                    </a:lnTo>
                    <a:lnTo>
                      <a:pt x="502" y="95"/>
                    </a:lnTo>
                    <a:lnTo>
                      <a:pt x="507" y="95"/>
                    </a:lnTo>
                    <a:lnTo>
                      <a:pt x="511" y="95"/>
                    </a:lnTo>
                    <a:lnTo>
                      <a:pt x="515" y="95"/>
                    </a:lnTo>
                    <a:lnTo>
                      <a:pt x="520" y="95"/>
                    </a:lnTo>
                    <a:lnTo>
                      <a:pt x="524" y="95"/>
                    </a:lnTo>
                    <a:lnTo>
                      <a:pt x="528" y="95"/>
                    </a:lnTo>
                    <a:lnTo>
                      <a:pt x="533" y="95"/>
                    </a:lnTo>
                    <a:lnTo>
                      <a:pt x="537" y="95"/>
                    </a:lnTo>
                    <a:lnTo>
                      <a:pt x="541" y="95"/>
                    </a:lnTo>
                    <a:lnTo>
                      <a:pt x="546" y="95"/>
                    </a:lnTo>
                    <a:lnTo>
                      <a:pt x="550" y="95"/>
                    </a:lnTo>
                    <a:lnTo>
                      <a:pt x="554" y="95"/>
                    </a:lnTo>
                    <a:lnTo>
                      <a:pt x="559" y="95"/>
                    </a:lnTo>
                    <a:lnTo>
                      <a:pt x="563" y="95"/>
                    </a:lnTo>
                    <a:lnTo>
                      <a:pt x="567" y="95"/>
                    </a:lnTo>
                    <a:lnTo>
                      <a:pt x="572" y="95"/>
                    </a:lnTo>
                    <a:lnTo>
                      <a:pt x="576" y="95"/>
                    </a:lnTo>
                    <a:lnTo>
                      <a:pt x="580" y="95"/>
                    </a:lnTo>
                    <a:lnTo>
                      <a:pt x="585" y="95"/>
                    </a:lnTo>
                    <a:lnTo>
                      <a:pt x="589" y="95"/>
                    </a:lnTo>
                    <a:lnTo>
                      <a:pt x="593" y="95"/>
                    </a:lnTo>
                    <a:lnTo>
                      <a:pt x="598" y="95"/>
                    </a:lnTo>
                    <a:lnTo>
                      <a:pt x="602" y="95"/>
                    </a:lnTo>
                    <a:lnTo>
                      <a:pt x="606" y="95"/>
                    </a:lnTo>
                    <a:lnTo>
                      <a:pt x="611" y="95"/>
                    </a:lnTo>
                    <a:lnTo>
                      <a:pt x="615" y="95"/>
                    </a:lnTo>
                    <a:lnTo>
                      <a:pt x="619" y="95"/>
                    </a:lnTo>
                    <a:lnTo>
                      <a:pt x="624" y="95"/>
                    </a:lnTo>
                    <a:lnTo>
                      <a:pt x="628" y="95"/>
                    </a:lnTo>
                    <a:lnTo>
                      <a:pt x="632" y="95"/>
                    </a:lnTo>
                    <a:lnTo>
                      <a:pt x="637" y="95"/>
                    </a:lnTo>
                    <a:lnTo>
                      <a:pt x="641" y="95"/>
                    </a:lnTo>
                    <a:lnTo>
                      <a:pt x="645" y="95"/>
                    </a:lnTo>
                    <a:lnTo>
                      <a:pt x="650" y="95"/>
                    </a:lnTo>
                    <a:lnTo>
                      <a:pt x="654" y="95"/>
                    </a:lnTo>
                    <a:lnTo>
                      <a:pt x="658" y="95"/>
                    </a:lnTo>
                    <a:lnTo>
                      <a:pt x="663" y="95"/>
                    </a:lnTo>
                    <a:lnTo>
                      <a:pt x="667" y="95"/>
                    </a:lnTo>
                    <a:lnTo>
                      <a:pt x="671" y="95"/>
                    </a:lnTo>
                    <a:lnTo>
                      <a:pt x="676" y="95"/>
                    </a:lnTo>
                    <a:lnTo>
                      <a:pt x="680" y="95"/>
                    </a:lnTo>
                    <a:lnTo>
                      <a:pt x="684" y="95"/>
                    </a:lnTo>
                    <a:lnTo>
                      <a:pt x="689" y="95"/>
                    </a:lnTo>
                    <a:lnTo>
                      <a:pt x="693" y="95"/>
                    </a:lnTo>
                    <a:lnTo>
                      <a:pt x="697" y="95"/>
                    </a:lnTo>
                    <a:lnTo>
                      <a:pt x="702" y="95"/>
                    </a:lnTo>
                    <a:lnTo>
                      <a:pt x="706" y="95"/>
                    </a:lnTo>
                    <a:lnTo>
                      <a:pt x="710" y="95"/>
                    </a:lnTo>
                    <a:lnTo>
                      <a:pt x="715" y="95"/>
                    </a:lnTo>
                    <a:lnTo>
                      <a:pt x="719" y="95"/>
                    </a:lnTo>
                    <a:lnTo>
                      <a:pt x="723" y="95"/>
                    </a:lnTo>
                    <a:lnTo>
                      <a:pt x="728" y="95"/>
                    </a:lnTo>
                    <a:lnTo>
                      <a:pt x="732" y="95"/>
                    </a:lnTo>
                    <a:lnTo>
                      <a:pt x="736" y="95"/>
                    </a:lnTo>
                    <a:lnTo>
                      <a:pt x="741" y="95"/>
                    </a:lnTo>
                    <a:lnTo>
                      <a:pt x="745" y="95"/>
                    </a:lnTo>
                    <a:lnTo>
                      <a:pt x="749" y="95"/>
                    </a:lnTo>
                    <a:lnTo>
                      <a:pt x="754" y="95"/>
                    </a:lnTo>
                    <a:lnTo>
                      <a:pt x="758" y="95"/>
                    </a:lnTo>
                    <a:lnTo>
                      <a:pt x="762" y="95"/>
                    </a:lnTo>
                    <a:lnTo>
                      <a:pt x="767" y="95"/>
                    </a:lnTo>
                    <a:lnTo>
                      <a:pt x="771" y="95"/>
                    </a:lnTo>
                    <a:lnTo>
                      <a:pt x="775" y="95"/>
                    </a:lnTo>
                    <a:lnTo>
                      <a:pt x="780" y="95"/>
                    </a:lnTo>
                    <a:lnTo>
                      <a:pt x="784" y="95"/>
                    </a:lnTo>
                    <a:lnTo>
                      <a:pt x="788" y="95"/>
                    </a:lnTo>
                    <a:lnTo>
                      <a:pt x="793" y="95"/>
                    </a:lnTo>
                    <a:lnTo>
                      <a:pt x="797" y="95"/>
                    </a:lnTo>
                    <a:lnTo>
                      <a:pt x="801" y="95"/>
                    </a:lnTo>
                    <a:lnTo>
                      <a:pt x="806" y="95"/>
                    </a:lnTo>
                    <a:lnTo>
                      <a:pt x="810" y="95"/>
                    </a:lnTo>
                    <a:lnTo>
                      <a:pt x="814" y="95"/>
                    </a:lnTo>
                    <a:lnTo>
                      <a:pt x="819" y="95"/>
                    </a:lnTo>
                    <a:lnTo>
                      <a:pt x="823" y="95"/>
                    </a:lnTo>
                    <a:lnTo>
                      <a:pt x="827" y="95"/>
                    </a:lnTo>
                    <a:lnTo>
                      <a:pt x="832" y="95"/>
                    </a:lnTo>
                    <a:lnTo>
                      <a:pt x="836" y="95"/>
                    </a:lnTo>
                    <a:lnTo>
                      <a:pt x="840" y="95"/>
                    </a:lnTo>
                    <a:lnTo>
                      <a:pt x="845" y="95"/>
                    </a:lnTo>
                    <a:lnTo>
                      <a:pt x="849" y="95"/>
                    </a:lnTo>
                    <a:lnTo>
                      <a:pt x="853" y="95"/>
                    </a:lnTo>
                    <a:lnTo>
                      <a:pt x="858" y="95"/>
                    </a:lnTo>
                    <a:lnTo>
                      <a:pt x="862" y="95"/>
                    </a:lnTo>
                    <a:lnTo>
                      <a:pt x="866" y="95"/>
                    </a:lnTo>
                    <a:lnTo>
                      <a:pt x="871" y="95"/>
                    </a:lnTo>
                    <a:lnTo>
                      <a:pt x="875" y="95"/>
                    </a:lnTo>
                    <a:lnTo>
                      <a:pt x="879" y="95"/>
                    </a:lnTo>
                    <a:lnTo>
                      <a:pt x="884" y="95"/>
                    </a:lnTo>
                    <a:lnTo>
                      <a:pt x="888" y="95"/>
                    </a:lnTo>
                    <a:lnTo>
                      <a:pt x="892" y="95"/>
                    </a:lnTo>
                    <a:lnTo>
                      <a:pt x="897" y="95"/>
                    </a:lnTo>
                    <a:lnTo>
                      <a:pt x="901" y="95"/>
                    </a:lnTo>
                    <a:lnTo>
                      <a:pt x="905" y="95"/>
                    </a:lnTo>
                    <a:lnTo>
                      <a:pt x="910" y="95"/>
                    </a:lnTo>
                    <a:lnTo>
                      <a:pt x="914" y="95"/>
                    </a:lnTo>
                    <a:lnTo>
                      <a:pt x="918" y="95"/>
                    </a:lnTo>
                    <a:lnTo>
                      <a:pt x="923" y="95"/>
                    </a:lnTo>
                    <a:lnTo>
                      <a:pt x="927" y="95"/>
                    </a:lnTo>
                    <a:lnTo>
                      <a:pt x="931" y="95"/>
                    </a:lnTo>
                    <a:lnTo>
                      <a:pt x="936" y="95"/>
                    </a:lnTo>
                    <a:lnTo>
                      <a:pt x="940" y="95"/>
                    </a:lnTo>
                    <a:lnTo>
                      <a:pt x="944" y="95"/>
                    </a:lnTo>
                    <a:lnTo>
                      <a:pt x="949" y="95"/>
                    </a:lnTo>
                    <a:lnTo>
                      <a:pt x="953" y="95"/>
                    </a:lnTo>
                    <a:lnTo>
                      <a:pt x="957" y="95"/>
                    </a:lnTo>
                    <a:lnTo>
                      <a:pt x="957" y="0"/>
                    </a:lnTo>
                    <a:lnTo>
                      <a:pt x="961" y="0"/>
                    </a:lnTo>
                    <a:lnTo>
                      <a:pt x="961" y="4"/>
                    </a:lnTo>
                    <a:lnTo>
                      <a:pt x="966" y="4"/>
                    </a:lnTo>
                    <a:lnTo>
                      <a:pt x="966" y="8"/>
                    </a:lnTo>
                    <a:lnTo>
                      <a:pt x="970" y="8"/>
                    </a:lnTo>
                    <a:lnTo>
                      <a:pt x="970" y="13"/>
                    </a:lnTo>
                    <a:lnTo>
                      <a:pt x="974" y="13"/>
                    </a:lnTo>
                    <a:lnTo>
                      <a:pt x="974" y="17"/>
                    </a:lnTo>
                    <a:lnTo>
                      <a:pt x="979" y="17"/>
                    </a:lnTo>
                    <a:lnTo>
                      <a:pt x="979" y="21"/>
                    </a:lnTo>
                    <a:lnTo>
                      <a:pt x="983" y="21"/>
                    </a:lnTo>
                    <a:lnTo>
                      <a:pt x="983" y="26"/>
                    </a:lnTo>
                    <a:lnTo>
                      <a:pt x="987" y="26"/>
                    </a:lnTo>
                    <a:lnTo>
                      <a:pt x="987" y="30"/>
                    </a:lnTo>
                    <a:lnTo>
                      <a:pt x="992" y="30"/>
                    </a:lnTo>
                    <a:lnTo>
                      <a:pt x="992" y="34"/>
                    </a:lnTo>
                    <a:lnTo>
                      <a:pt x="996" y="34"/>
                    </a:lnTo>
                    <a:lnTo>
                      <a:pt x="1000" y="39"/>
                    </a:lnTo>
                    <a:lnTo>
                      <a:pt x="1005" y="39"/>
                    </a:lnTo>
                    <a:lnTo>
                      <a:pt x="1005" y="43"/>
                    </a:lnTo>
                    <a:lnTo>
                      <a:pt x="1009" y="43"/>
                    </a:lnTo>
                    <a:lnTo>
                      <a:pt x="1009" y="47"/>
                    </a:lnTo>
                    <a:lnTo>
                      <a:pt x="1013" y="47"/>
                    </a:lnTo>
                    <a:lnTo>
                      <a:pt x="1018" y="47"/>
                    </a:lnTo>
                    <a:lnTo>
                      <a:pt x="1018" y="52"/>
                    </a:lnTo>
                    <a:lnTo>
                      <a:pt x="1022" y="52"/>
                    </a:lnTo>
                    <a:lnTo>
                      <a:pt x="1026" y="56"/>
                    </a:lnTo>
                    <a:lnTo>
                      <a:pt x="1031" y="56"/>
                    </a:lnTo>
                    <a:lnTo>
                      <a:pt x="1035" y="60"/>
                    </a:lnTo>
                    <a:lnTo>
                      <a:pt x="1039" y="60"/>
                    </a:lnTo>
                    <a:lnTo>
                      <a:pt x="1039" y="65"/>
                    </a:lnTo>
                    <a:lnTo>
                      <a:pt x="1044" y="65"/>
                    </a:lnTo>
                    <a:lnTo>
                      <a:pt x="1048" y="65"/>
                    </a:lnTo>
                    <a:lnTo>
                      <a:pt x="1052" y="65"/>
                    </a:lnTo>
                    <a:lnTo>
                      <a:pt x="1052" y="69"/>
                    </a:lnTo>
                    <a:lnTo>
                      <a:pt x="1057" y="69"/>
                    </a:lnTo>
                    <a:lnTo>
                      <a:pt x="1061" y="69"/>
                    </a:lnTo>
                    <a:lnTo>
                      <a:pt x="1065" y="73"/>
                    </a:lnTo>
                    <a:lnTo>
                      <a:pt x="1070" y="73"/>
                    </a:lnTo>
                    <a:lnTo>
                      <a:pt x="1074" y="73"/>
                    </a:lnTo>
                    <a:lnTo>
                      <a:pt x="1078" y="73"/>
                    </a:lnTo>
                    <a:lnTo>
                      <a:pt x="1078" y="78"/>
                    </a:lnTo>
                    <a:lnTo>
                      <a:pt x="1083" y="78"/>
                    </a:lnTo>
                    <a:lnTo>
                      <a:pt x="1087" y="78"/>
                    </a:lnTo>
                    <a:lnTo>
                      <a:pt x="1091" y="78"/>
                    </a:lnTo>
                    <a:lnTo>
                      <a:pt x="1096" y="82"/>
                    </a:lnTo>
                    <a:lnTo>
                      <a:pt x="1100" y="82"/>
                    </a:lnTo>
                    <a:lnTo>
                      <a:pt x="1104" y="82"/>
                    </a:lnTo>
                    <a:lnTo>
                      <a:pt x="1109" y="82"/>
                    </a:lnTo>
                    <a:lnTo>
                      <a:pt x="1113" y="82"/>
                    </a:lnTo>
                    <a:lnTo>
                      <a:pt x="1117" y="82"/>
                    </a:lnTo>
                    <a:lnTo>
                      <a:pt x="1117" y="86"/>
                    </a:lnTo>
                    <a:lnTo>
                      <a:pt x="1122" y="86"/>
                    </a:lnTo>
                    <a:lnTo>
                      <a:pt x="1126" y="86"/>
                    </a:lnTo>
                    <a:lnTo>
                      <a:pt x="1130" y="86"/>
                    </a:lnTo>
                    <a:lnTo>
                      <a:pt x="1135" y="86"/>
                    </a:lnTo>
                    <a:lnTo>
                      <a:pt x="1139" y="86"/>
                    </a:lnTo>
                    <a:lnTo>
                      <a:pt x="1143" y="86"/>
                    </a:lnTo>
                    <a:lnTo>
                      <a:pt x="1148" y="86"/>
                    </a:lnTo>
                    <a:lnTo>
                      <a:pt x="1148" y="91"/>
                    </a:lnTo>
                    <a:lnTo>
                      <a:pt x="1152" y="91"/>
                    </a:lnTo>
                    <a:lnTo>
                      <a:pt x="1156" y="91"/>
                    </a:lnTo>
                    <a:lnTo>
                      <a:pt x="1161" y="91"/>
                    </a:lnTo>
                    <a:lnTo>
                      <a:pt x="1165" y="91"/>
                    </a:lnTo>
                    <a:lnTo>
                      <a:pt x="1169" y="91"/>
                    </a:lnTo>
                    <a:lnTo>
                      <a:pt x="1174" y="91"/>
                    </a:lnTo>
                    <a:lnTo>
                      <a:pt x="1178" y="91"/>
                    </a:lnTo>
                    <a:lnTo>
                      <a:pt x="1182" y="91"/>
                    </a:lnTo>
                    <a:lnTo>
                      <a:pt x="1187" y="91"/>
                    </a:lnTo>
                    <a:lnTo>
                      <a:pt x="1191" y="91"/>
                    </a:lnTo>
                    <a:lnTo>
                      <a:pt x="1195" y="91"/>
                    </a:lnTo>
                    <a:lnTo>
                      <a:pt x="1200" y="91"/>
                    </a:lnTo>
                    <a:lnTo>
                      <a:pt x="1204" y="95"/>
                    </a:lnTo>
                    <a:lnTo>
                      <a:pt x="1208" y="95"/>
                    </a:lnTo>
                    <a:lnTo>
                      <a:pt x="1213" y="95"/>
                    </a:lnTo>
                    <a:lnTo>
                      <a:pt x="1217" y="95"/>
                    </a:lnTo>
                    <a:lnTo>
                      <a:pt x="1221" y="95"/>
                    </a:lnTo>
                    <a:lnTo>
                      <a:pt x="1226" y="95"/>
                    </a:lnTo>
                    <a:lnTo>
                      <a:pt x="1230" y="95"/>
                    </a:lnTo>
                    <a:lnTo>
                      <a:pt x="1234" y="95"/>
                    </a:lnTo>
                    <a:lnTo>
                      <a:pt x="1239" y="95"/>
                    </a:lnTo>
                    <a:lnTo>
                      <a:pt x="1243" y="95"/>
                    </a:lnTo>
                    <a:lnTo>
                      <a:pt x="1247" y="95"/>
                    </a:lnTo>
                    <a:lnTo>
                      <a:pt x="1252" y="95"/>
                    </a:lnTo>
                    <a:lnTo>
                      <a:pt x="1256" y="95"/>
                    </a:lnTo>
                    <a:lnTo>
                      <a:pt x="1260" y="95"/>
                    </a:lnTo>
                    <a:lnTo>
                      <a:pt x="1265" y="95"/>
                    </a:lnTo>
                    <a:lnTo>
                      <a:pt x="1269" y="95"/>
                    </a:lnTo>
                    <a:lnTo>
                      <a:pt x="1273" y="95"/>
                    </a:lnTo>
                    <a:lnTo>
                      <a:pt x="1278" y="95"/>
                    </a:lnTo>
                    <a:lnTo>
                      <a:pt x="1282" y="95"/>
                    </a:lnTo>
                    <a:lnTo>
                      <a:pt x="1286" y="95"/>
                    </a:lnTo>
                    <a:lnTo>
                      <a:pt x="1291" y="95"/>
                    </a:lnTo>
                    <a:lnTo>
                      <a:pt x="1295" y="95"/>
                    </a:lnTo>
                    <a:lnTo>
                      <a:pt x="1299" y="95"/>
                    </a:lnTo>
                    <a:lnTo>
                      <a:pt x="1304" y="95"/>
                    </a:lnTo>
                    <a:lnTo>
                      <a:pt x="1308" y="95"/>
                    </a:lnTo>
                    <a:lnTo>
                      <a:pt x="1312" y="95"/>
                    </a:lnTo>
                    <a:lnTo>
                      <a:pt x="1317" y="95"/>
                    </a:lnTo>
                    <a:lnTo>
                      <a:pt x="1321" y="95"/>
                    </a:lnTo>
                    <a:lnTo>
                      <a:pt x="1325" y="95"/>
                    </a:lnTo>
                  </a:path>
                </a:pathLst>
              </a:cu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custGeom>
                <a:avLst/>
                <a:gdLst>
                  <a:gd name="textAreaLeft" fmla="*/ 0 w 2789640"/>
                  <a:gd name="textAreaRight" fmla="*/ 2790000 w 2789640"/>
                  <a:gd name="textAreaTop" fmla="*/ 0 h 1510920"/>
                  <a:gd name="textAreaBottom" fmla="*/ 1511280 h 1510920"/>
                </a:gdLst>
                <a:ahLst/>
                <a:rect l="textAreaLeft" t="textAreaTop" r="textAreaRight" b="textAreaBottom"/>
                <a:pathLst>
                  <a:path w="1326" h="912">
                    <a:moveTo>
                      <a:pt x="0" y="911"/>
                    </a:moveTo>
                    <a:lnTo>
                      <a:pt x="0" y="911"/>
                    </a:lnTo>
                    <a:lnTo>
                      <a:pt x="4" y="911"/>
                    </a:lnTo>
                    <a:lnTo>
                      <a:pt x="9" y="911"/>
                    </a:lnTo>
                    <a:lnTo>
                      <a:pt x="13" y="911"/>
                    </a:lnTo>
                    <a:lnTo>
                      <a:pt x="17" y="911"/>
                    </a:lnTo>
                    <a:lnTo>
                      <a:pt x="22" y="911"/>
                    </a:lnTo>
                    <a:lnTo>
                      <a:pt x="26" y="911"/>
                    </a:lnTo>
                    <a:lnTo>
                      <a:pt x="30" y="911"/>
                    </a:lnTo>
                    <a:lnTo>
                      <a:pt x="35" y="911"/>
                    </a:lnTo>
                    <a:lnTo>
                      <a:pt x="39" y="911"/>
                    </a:lnTo>
                    <a:lnTo>
                      <a:pt x="43" y="911"/>
                    </a:lnTo>
                    <a:lnTo>
                      <a:pt x="48" y="911"/>
                    </a:lnTo>
                    <a:lnTo>
                      <a:pt x="52" y="911"/>
                    </a:lnTo>
                    <a:lnTo>
                      <a:pt x="56" y="911"/>
                    </a:lnTo>
                    <a:lnTo>
                      <a:pt x="61" y="911"/>
                    </a:lnTo>
                    <a:lnTo>
                      <a:pt x="65" y="911"/>
                    </a:lnTo>
                    <a:lnTo>
                      <a:pt x="69" y="911"/>
                    </a:lnTo>
                    <a:lnTo>
                      <a:pt x="74" y="911"/>
                    </a:lnTo>
                    <a:lnTo>
                      <a:pt x="78" y="911"/>
                    </a:lnTo>
                    <a:lnTo>
                      <a:pt x="82" y="911"/>
                    </a:lnTo>
                    <a:lnTo>
                      <a:pt x="87" y="911"/>
                    </a:lnTo>
                    <a:lnTo>
                      <a:pt x="91" y="911"/>
                    </a:lnTo>
                    <a:lnTo>
                      <a:pt x="95" y="911"/>
                    </a:lnTo>
                    <a:lnTo>
                      <a:pt x="100" y="911"/>
                    </a:lnTo>
                    <a:lnTo>
                      <a:pt x="104" y="911"/>
                    </a:lnTo>
                    <a:lnTo>
                      <a:pt x="108" y="911"/>
                    </a:lnTo>
                    <a:lnTo>
                      <a:pt x="113" y="911"/>
                    </a:lnTo>
                    <a:lnTo>
                      <a:pt x="117" y="911"/>
                    </a:lnTo>
                    <a:lnTo>
                      <a:pt x="121" y="911"/>
                    </a:lnTo>
                    <a:lnTo>
                      <a:pt x="126" y="907"/>
                    </a:lnTo>
                    <a:lnTo>
                      <a:pt x="130" y="907"/>
                    </a:lnTo>
                    <a:lnTo>
                      <a:pt x="134" y="907"/>
                    </a:lnTo>
                    <a:lnTo>
                      <a:pt x="139" y="907"/>
                    </a:lnTo>
                    <a:lnTo>
                      <a:pt x="143" y="907"/>
                    </a:lnTo>
                    <a:lnTo>
                      <a:pt x="147" y="907"/>
                    </a:lnTo>
                    <a:lnTo>
                      <a:pt x="152" y="907"/>
                    </a:lnTo>
                    <a:lnTo>
                      <a:pt x="156" y="907"/>
                    </a:lnTo>
                    <a:lnTo>
                      <a:pt x="160" y="907"/>
                    </a:lnTo>
                    <a:lnTo>
                      <a:pt x="165" y="907"/>
                    </a:lnTo>
                    <a:lnTo>
                      <a:pt x="169" y="907"/>
                    </a:lnTo>
                    <a:lnTo>
                      <a:pt x="173" y="907"/>
                    </a:lnTo>
                    <a:lnTo>
                      <a:pt x="178" y="907"/>
                    </a:lnTo>
                    <a:lnTo>
                      <a:pt x="178" y="902"/>
                    </a:lnTo>
                    <a:lnTo>
                      <a:pt x="182" y="902"/>
                    </a:lnTo>
                    <a:lnTo>
                      <a:pt x="186" y="902"/>
                    </a:lnTo>
                    <a:lnTo>
                      <a:pt x="191" y="902"/>
                    </a:lnTo>
                    <a:lnTo>
                      <a:pt x="195" y="902"/>
                    </a:lnTo>
                    <a:lnTo>
                      <a:pt x="199" y="902"/>
                    </a:lnTo>
                    <a:lnTo>
                      <a:pt x="204" y="902"/>
                    </a:lnTo>
                    <a:lnTo>
                      <a:pt x="208" y="902"/>
                    </a:lnTo>
                    <a:lnTo>
                      <a:pt x="208" y="898"/>
                    </a:lnTo>
                    <a:lnTo>
                      <a:pt x="212" y="898"/>
                    </a:lnTo>
                    <a:lnTo>
                      <a:pt x="217" y="898"/>
                    </a:lnTo>
                    <a:lnTo>
                      <a:pt x="221" y="898"/>
                    </a:lnTo>
                    <a:lnTo>
                      <a:pt x="225" y="898"/>
                    </a:lnTo>
                    <a:lnTo>
                      <a:pt x="230" y="898"/>
                    </a:lnTo>
                    <a:lnTo>
                      <a:pt x="234" y="894"/>
                    </a:lnTo>
                    <a:lnTo>
                      <a:pt x="238" y="894"/>
                    </a:lnTo>
                    <a:lnTo>
                      <a:pt x="243" y="894"/>
                    </a:lnTo>
                    <a:lnTo>
                      <a:pt x="247" y="894"/>
                    </a:lnTo>
                    <a:lnTo>
                      <a:pt x="247" y="889"/>
                    </a:lnTo>
                    <a:lnTo>
                      <a:pt x="251" y="889"/>
                    </a:lnTo>
                    <a:lnTo>
                      <a:pt x="256" y="889"/>
                    </a:lnTo>
                    <a:lnTo>
                      <a:pt x="260" y="889"/>
                    </a:lnTo>
                    <a:lnTo>
                      <a:pt x="264" y="885"/>
                    </a:lnTo>
                    <a:lnTo>
                      <a:pt x="269" y="885"/>
                    </a:lnTo>
                    <a:lnTo>
                      <a:pt x="273" y="885"/>
                    </a:lnTo>
                    <a:lnTo>
                      <a:pt x="273" y="881"/>
                    </a:lnTo>
                    <a:lnTo>
                      <a:pt x="277" y="881"/>
                    </a:lnTo>
                    <a:lnTo>
                      <a:pt x="282" y="881"/>
                    </a:lnTo>
                    <a:lnTo>
                      <a:pt x="286" y="881"/>
                    </a:lnTo>
                    <a:lnTo>
                      <a:pt x="286" y="876"/>
                    </a:lnTo>
                    <a:lnTo>
                      <a:pt x="290" y="876"/>
                    </a:lnTo>
                    <a:lnTo>
                      <a:pt x="295" y="872"/>
                    </a:lnTo>
                    <a:lnTo>
                      <a:pt x="299" y="872"/>
                    </a:lnTo>
                    <a:lnTo>
                      <a:pt x="303" y="868"/>
                    </a:lnTo>
                    <a:lnTo>
                      <a:pt x="308" y="868"/>
                    </a:lnTo>
                    <a:lnTo>
                      <a:pt x="308" y="863"/>
                    </a:lnTo>
                    <a:lnTo>
                      <a:pt x="312" y="863"/>
                    </a:lnTo>
                    <a:lnTo>
                      <a:pt x="316" y="863"/>
                    </a:lnTo>
                    <a:lnTo>
                      <a:pt x="316" y="859"/>
                    </a:lnTo>
                    <a:lnTo>
                      <a:pt x="321" y="859"/>
                    </a:lnTo>
                    <a:lnTo>
                      <a:pt x="321" y="855"/>
                    </a:lnTo>
                    <a:lnTo>
                      <a:pt x="325" y="855"/>
                    </a:lnTo>
                    <a:lnTo>
                      <a:pt x="329" y="850"/>
                    </a:lnTo>
                    <a:lnTo>
                      <a:pt x="334" y="850"/>
                    </a:lnTo>
                    <a:lnTo>
                      <a:pt x="334" y="846"/>
                    </a:lnTo>
                    <a:lnTo>
                      <a:pt x="338" y="846"/>
                    </a:lnTo>
                    <a:lnTo>
                      <a:pt x="338" y="842"/>
                    </a:lnTo>
                    <a:lnTo>
                      <a:pt x="342" y="842"/>
                    </a:lnTo>
                    <a:lnTo>
                      <a:pt x="342" y="837"/>
                    </a:lnTo>
                    <a:lnTo>
                      <a:pt x="347" y="837"/>
                    </a:lnTo>
                    <a:lnTo>
                      <a:pt x="347" y="833"/>
                    </a:lnTo>
                    <a:lnTo>
                      <a:pt x="351" y="833"/>
                    </a:lnTo>
                    <a:lnTo>
                      <a:pt x="351" y="829"/>
                    </a:lnTo>
                    <a:lnTo>
                      <a:pt x="355" y="829"/>
                    </a:lnTo>
                    <a:lnTo>
                      <a:pt x="355" y="824"/>
                    </a:lnTo>
                    <a:lnTo>
                      <a:pt x="360" y="824"/>
                    </a:lnTo>
                    <a:lnTo>
                      <a:pt x="360" y="820"/>
                    </a:lnTo>
                    <a:lnTo>
                      <a:pt x="364" y="820"/>
                    </a:lnTo>
                    <a:lnTo>
                      <a:pt x="364" y="816"/>
                    </a:lnTo>
                    <a:lnTo>
                      <a:pt x="368" y="816"/>
                    </a:lnTo>
                    <a:lnTo>
                      <a:pt x="368" y="811"/>
                    </a:lnTo>
                    <a:lnTo>
                      <a:pt x="373" y="807"/>
                    </a:lnTo>
                    <a:lnTo>
                      <a:pt x="373" y="803"/>
                    </a:lnTo>
                    <a:lnTo>
                      <a:pt x="377" y="803"/>
                    </a:lnTo>
                    <a:lnTo>
                      <a:pt x="377" y="798"/>
                    </a:lnTo>
                    <a:lnTo>
                      <a:pt x="381" y="798"/>
                    </a:lnTo>
                    <a:lnTo>
                      <a:pt x="381" y="794"/>
                    </a:lnTo>
                    <a:lnTo>
                      <a:pt x="385" y="790"/>
                    </a:lnTo>
                    <a:lnTo>
                      <a:pt x="385" y="785"/>
                    </a:lnTo>
                    <a:lnTo>
                      <a:pt x="390" y="781"/>
                    </a:lnTo>
                    <a:lnTo>
                      <a:pt x="390" y="777"/>
                    </a:lnTo>
                    <a:lnTo>
                      <a:pt x="394" y="777"/>
                    </a:lnTo>
                    <a:lnTo>
                      <a:pt x="394" y="772"/>
                    </a:lnTo>
                    <a:lnTo>
                      <a:pt x="398" y="768"/>
                    </a:lnTo>
                    <a:lnTo>
                      <a:pt x="398" y="764"/>
                    </a:lnTo>
                    <a:lnTo>
                      <a:pt x="403" y="764"/>
                    </a:lnTo>
                    <a:lnTo>
                      <a:pt x="403" y="759"/>
                    </a:lnTo>
                    <a:lnTo>
                      <a:pt x="403" y="755"/>
                    </a:lnTo>
                    <a:lnTo>
                      <a:pt x="407" y="755"/>
                    </a:lnTo>
                    <a:lnTo>
                      <a:pt x="407" y="751"/>
                    </a:lnTo>
                    <a:lnTo>
                      <a:pt x="411" y="746"/>
                    </a:lnTo>
                    <a:lnTo>
                      <a:pt x="411" y="742"/>
                    </a:lnTo>
                    <a:lnTo>
                      <a:pt x="416" y="737"/>
                    </a:lnTo>
                    <a:lnTo>
                      <a:pt x="416" y="733"/>
                    </a:lnTo>
                    <a:lnTo>
                      <a:pt x="420" y="729"/>
                    </a:lnTo>
                    <a:lnTo>
                      <a:pt x="420" y="724"/>
                    </a:lnTo>
                    <a:lnTo>
                      <a:pt x="420" y="720"/>
                    </a:lnTo>
                    <a:lnTo>
                      <a:pt x="424" y="720"/>
                    </a:lnTo>
                    <a:lnTo>
                      <a:pt x="424" y="716"/>
                    </a:lnTo>
                    <a:lnTo>
                      <a:pt x="424" y="711"/>
                    </a:lnTo>
                    <a:lnTo>
                      <a:pt x="429" y="711"/>
                    </a:lnTo>
                    <a:lnTo>
                      <a:pt x="429" y="707"/>
                    </a:lnTo>
                    <a:lnTo>
                      <a:pt x="429" y="703"/>
                    </a:lnTo>
                    <a:lnTo>
                      <a:pt x="433" y="698"/>
                    </a:lnTo>
                    <a:lnTo>
                      <a:pt x="433" y="694"/>
                    </a:lnTo>
                    <a:lnTo>
                      <a:pt x="437" y="690"/>
                    </a:lnTo>
                    <a:lnTo>
                      <a:pt x="437" y="685"/>
                    </a:lnTo>
                    <a:lnTo>
                      <a:pt x="437" y="681"/>
                    </a:lnTo>
                    <a:lnTo>
                      <a:pt x="442" y="677"/>
                    </a:lnTo>
                    <a:lnTo>
                      <a:pt x="442" y="672"/>
                    </a:lnTo>
                    <a:lnTo>
                      <a:pt x="446" y="668"/>
                    </a:lnTo>
                    <a:lnTo>
                      <a:pt x="446" y="664"/>
                    </a:lnTo>
                    <a:lnTo>
                      <a:pt x="446" y="659"/>
                    </a:lnTo>
                    <a:lnTo>
                      <a:pt x="450" y="655"/>
                    </a:lnTo>
                    <a:lnTo>
                      <a:pt x="450" y="651"/>
                    </a:lnTo>
                    <a:lnTo>
                      <a:pt x="450" y="646"/>
                    </a:lnTo>
                    <a:lnTo>
                      <a:pt x="455" y="642"/>
                    </a:lnTo>
                    <a:lnTo>
                      <a:pt x="455" y="638"/>
                    </a:lnTo>
                    <a:lnTo>
                      <a:pt x="455" y="633"/>
                    </a:lnTo>
                    <a:lnTo>
                      <a:pt x="459" y="629"/>
                    </a:lnTo>
                    <a:lnTo>
                      <a:pt x="459" y="625"/>
                    </a:lnTo>
                    <a:lnTo>
                      <a:pt x="463" y="620"/>
                    </a:lnTo>
                    <a:lnTo>
                      <a:pt x="463" y="616"/>
                    </a:lnTo>
                    <a:lnTo>
                      <a:pt x="463" y="612"/>
                    </a:lnTo>
                    <a:lnTo>
                      <a:pt x="468" y="607"/>
                    </a:lnTo>
                    <a:lnTo>
                      <a:pt x="468" y="603"/>
                    </a:lnTo>
                    <a:lnTo>
                      <a:pt x="468" y="599"/>
                    </a:lnTo>
                    <a:lnTo>
                      <a:pt x="468" y="594"/>
                    </a:lnTo>
                    <a:lnTo>
                      <a:pt x="472" y="590"/>
                    </a:lnTo>
                    <a:lnTo>
                      <a:pt x="472" y="586"/>
                    </a:lnTo>
                    <a:lnTo>
                      <a:pt x="472" y="581"/>
                    </a:lnTo>
                    <a:lnTo>
                      <a:pt x="476" y="577"/>
                    </a:lnTo>
                    <a:lnTo>
                      <a:pt x="476" y="573"/>
                    </a:lnTo>
                    <a:lnTo>
                      <a:pt x="476" y="568"/>
                    </a:lnTo>
                    <a:lnTo>
                      <a:pt x="481" y="564"/>
                    </a:lnTo>
                    <a:lnTo>
                      <a:pt x="481" y="560"/>
                    </a:lnTo>
                    <a:lnTo>
                      <a:pt x="481" y="555"/>
                    </a:lnTo>
                    <a:lnTo>
                      <a:pt x="485" y="551"/>
                    </a:lnTo>
                    <a:lnTo>
                      <a:pt x="485" y="547"/>
                    </a:lnTo>
                    <a:lnTo>
                      <a:pt x="485" y="542"/>
                    </a:lnTo>
                    <a:lnTo>
                      <a:pt x="485" y="538"/>
                    </a:lnTo>
                    <a:lnTo>
                      <a:pt x="489" y="533"/>
                    </a:lnTo>
                    <a:lnTo>
                      <a:pt x="489" y="525"/>
                    </a:lnTo>
                    <a:lnTo>
                      <a:pt x="489" y="520"/>
                    </a:lnTo>
                    <a:lnTo>
                      <a:pt x="494" y="516"/>
                    </a:lnTo>
                    <a:lnTo>
                      <a:pt x="494" y="512"/>
                    </a:lnTo>
                    <a:lnTo>
                      <a:pt x="494" y="507"/>
                    </a:lnTo>
                    <a:lnTo>
                      <a:pt x="498" y="503"/>
                    </a:lnTo>
                    <a:lnTo>
                      <a:pt x="498" y="499"/>
                    </a:lnTo>
                    <a:lnTo>
                      <a:pt x="498" y="494"/>
                    </a:lnTo>
                    <a:lnTo>
                      <a:pt x="502" y="490"/>
                    </a:lnTo>
                    <a:lnTo>
                      <a:pt x="502" y="481"/>
                    </a:lnTo>
                    <a:lnTo>
                      <a:pt x="502" y="477"/>
                    </a:lnTo>
                    <a:lnTo>
                      <a:pt x="502" y="473"/>
                    </a:lnTo>
                    <a:lnTo>
                      <a:pt x="507" y="468"/>
                    </a:lnTo>
                    <a:lnTo>
                      <a:pt x="507" y="464"/>
                    </a:lnTo>
                    <a:lnTo>
                      <a:pt x="507" y="460"/>
                    </a:lnTo>
                    <a:lnTo>
                      <a:pt x="511" y="451"/>
                    </a:lnTo>
                    <a:lnTo>
                      <a:pt x="511" y="447"/>
                    </a:lnTo>
                    <a:lnTo>
                      <a:pt x="511" y="442"/>
                    </a:lnTo>
                    <a:lnTo>
                      <a:pt x="515" y="438"/>
                    </a:lnTo>
                    <a:lnTo>
                      <a:pt x="515" y="434"/>
                    </a:lnTo>
                    <a:lnTo>
                      <a:pt x="515" y="425"/>
                    </a:lnTo>
                    <a:lnTo>
                      <a:pt x="520" y="421"/>
                    </a:lnTo>
                    <a:lnTo>
                      <a:pt x="520" y="416"/>
                    </a:lnTo>
                    <a:lnTo>
                      <a:pt x="520" y="412"/>
                    </a:lnTo>
                    <a:lnTo>
                      <a:pt x="520" y="408"/>
                    </a:lnTo>
                    <a:lnTo>
                      <a:pt x="524" y="399"/>
                    </a:lnTo>
                    <a:lnTo>
                      <a:pt x="524" y="395"/>
                    </a:lnTo>
                    <a:lnTo>
                      <a:pt x="524" y="390"/>
                    </a:lnTo>
                    <a:lnTo>
                      <a:pt x="528" y="386"/>
                    </a:lnTo>
                    <a:lnTo>
                      <a:pt x="528" y="377"/>
                    </a:lnTo>
                    <a:lnTo>
                      <a:pt x="528" y="373"/>
                    </a:lnTo>
                    <a:lnTo>
                      <a:pt x="533" y="369"/>
                    </a:lnTo>
                    <a:lnTo>
                      <a:pt x="533" y="364"/>
                    </a:lnTo>
                    <a:lnTo>
                      <a:pt x="533" y="356"/>
                    </a:lnTo>
                    <a:lnTo>
                      <a:pt x="537" y="351"/>
                    </a:lnTo>
                    <a:lnTo>
                      <a:pt x="537" y="347"/>
                    </a:lnTo>
                    <a:lnTo>
                      <a:pt x="537" y="342"/>
                    </a:lnTo>
                    <a:lnTo>
                      <a:pt x="537" y="334"/>
                    </a:lnTo>
                    <a:lnTo>
                      <a:pt x="541" y="329"/>
                    </a:lnTo>
                    <a:lnTo>
                      <a:pt x="541" y="325"/>
                    </a:lnTo>
                    <a:lnTo>
                      <a:pt x="541" y="321"/>
                    </a:lnTo>
                    <a:lnTo>
                      <a:pt x="546" y="312"/>
                    </a:lnTo>
                    <a:lnTo>
                      <a:pt x="546" y="308"/>
                    </a:lnTo>
                    <a:lnTo>
                      <a:pt x="546" y="303"/>
                    </a:lnTo>
                    <a:lnTo>
                      <a:pt x="550" y="299"/>
                    </a:lnTo>
                    <a:lnTo>
                      <a:pt x="550" y="290"/>
                    </a:lnTo>
                    <a:lnTo>
                      <a:pt x="550" y="286"/>
                    </a:lnTo>
                    <a:lnTo>
                      <a:pt x="554" y="282"/>
                    </a:lnTo>
                    <a:lnTo>
                      <a:pt x="554" y="277"/>
                    </a:lnTo>
                    <a:lnTo>
                      <a:pt x="554" y="269"/>
                    </a:lnTo>
                    <a:lnTo>
                      <a:pt x="554" y="264"/>
                    </a:lnTo>
                    <a:lnTo>
                      <a:pt x="559" y="260"/>
                    </a:lnTo>
                    <a:lnTo>
                      <a:pt x="559" y="256"/>
                    </a:lnTo>
                    <a:lnTo>
                      <a:pt x="559" y="247"/>
                    </a:lnTo>
                    <a:lnTo>
                      <a:pt x="563" y="243"/>
                    </a:lnTo>
                    <a:lnTo>
                      <a:pt x="563" y="238"/>
                    </a:lnTo>
                    <a:lnTo>
                      <a:pt x="563" y="234"/>
                    </a:lnTo>
                    <a:lnTo>
                      <a:pt x="567" y="230"/>
                    </a:lnTo>
                    <a:lnTo>
                      <a:pt x="567" y="221"/>
                    </a:lnTo>
                    <a:lnTo>
                      <a:pt x="567" y="217"/>
                    </a:lnTo>
                    <a:lnTo>
                      <a:pt x="572" y="212"/>
                    </a:lnTo>
                    <a:lnTo>
                      <a:pt x="572" y="208"/>
                    </a:lnTo>
                    <a:lnTo>
                      <a:pt x="572" y="204"/>
                    </a:lnTo>
                    <a:lnTo>
                      <a:pt x="572" y="195"/>
                    </a:lnTo>
                    <a:lnTo>
                      <a:pt x="576" y="191"/>
                    </a:lnTo>
                    <a:lnTo>
                      <a:pt x="576" y="186"/>
                    </a:lnTo>
                    <a:lnTo>
                      <a:pt x="576" y="182"/>
                    </a:lnTo>
                    <a:lnTo>
                      <a:pt x="580" y="178"/>
                    </a:lnTo>
                    <a:lnTo>
                      <a:pt x="580" y="173"/>
                    </a:lnTo>
                    <a:lnTo>
                      <a:pt x="580" y="169"/>
                    </a:lnTo>
                    <a:lnTo>
                      <a:pt x="585" y="165"/>
                    </a:lnTo>
                    <a:lnTo>
                      <a:pt x="585" y="156"/>
                    </a:lnTo>
                    <a:lnTo>
                      <a:pt x="585" y="152"/>
                    </a:lnTo>
                    <a:lnTo>
                      <a:pt x="589" y="147"/>
                    </a:lnTo>
                    <a:lnTo>
                      <a:pt x="589" y="143"/>
                    </a:lnTo>
                    <a:lnTo>
                      <a:pt x="589" y="138"/>
                    </a:lnTo>
                    <a:lnTo>
                      <a:pt x="589" y="134"/>
                    </a:lnTo>
                    <a:lnTo>
                      <a:pt x="593" y="130"/>
                    </a:lnTo>
                    <a:lnTo>
                      <a:pt x="593" y="125"/>
                    </a:lnTo>
                    <a:lnTo>
                      <a:pt x="593" y="121"/>
                    </a:lnTo>
                    <a:lnTo>
                      <a:pt x="598" y="117"/>
                    </a:lnTo>
                    <a:lnTo>
                      <a:pt x="598" y="112"/>
                    </a:lnTo>
                    <a:lnTo>
                      <a:pt x="598" y="108"/>
                    </a:lnTo>
                    <a:lnTo>
                      <a:pt x="602" y="104"/>
                    </a:lnTo>
                    <a:lnTo>
                      <a:pt x="602" y="99"/>
                    </a:lnTo>
                    <a:lnTo>
                      <a:pt x="602" y="95"/>
                    </a:lnTo>
                    <a:lnTo>
                      <a:pt x="602" y="91"/>
                    </a:lnTo>
                    <a:lnTo>
                      <a:pt x="606" y="91"/>
                    </a:lnTo>
                    <a:lnTo>
                      <a:pt x="606" y="86"/>
                    </a:lnTo>
                    <a:lnTo>
                      <a:pt x="606" y="82"/>
                    </a:lnTo>
                    <a:lnTo>
                      <a:pt x="611" y="78"/>
                    </a:lnTo>
                    <a:lnTo>
                      <a:pt x="611" y="73"/>
                    </a:lnTo>
                    <a:lnTo>
                      <a:pt x="611" y="69"/>
                    </a:lnTo>
                    <a:lnTo>
                      <a:pt x="615" y="69"/>
                    </a:lnTo>
                    <a:lnTo>
                      <a:pt x="615" y="65"/>
                    </a:lnTo>
                    <a:lnTo>
                      <a:pt x="615" y="60"/>
                    </a:lnTo>
                    <a:lnTo>
                      <a:pt x="619" y="56"/>
                    </a:lnTo>
                    <a:lnTo>
                      <a:pt x="619" y="52"/>
                    </a:lnTo>
                    <a:lnTo>
                      <a:pt x="619" y="47"/>
                    </a:lnTo>
                    <a:lnTo>
                      <a:pt x="624" y="43"/>
                    </a:lnTo>
                    <a:lnTo>
                      <a:pt x="624" y="39"/>
                    </a:lnTo>
                    <a:lnTo>
                      <a:pt x="628" y="39"/>
                    </a:lnTo>
                    <a:lnTo>
                      <a:pt x="628" y="34"/>
                    </a:lnTo>
                    <a:lnTo>
                      <a:pt x="628" y="30"/>
                    </a:lnTo>
                    <a:lnTo>
                      <a:pt x="632" y="30"/>
                    </a:lnTo>
                    <a:lnTo>
                      <a:pt x="632" y="26"/>
                    </a:lnTo>
                    <a:lnTo>
                      <a:pt x="637" y="21"/>
                    </a:lnTo>
                    <a:lnTo>
                      <a:pt x="637" y="17"/>
                    </a:lnTo>
                    <a:lnTo>
                      <a:pt x="641" y="17"/>
                    </a:lnTo>
                    <a:lnTo>
                      <a:pt x="641" y="13"/>
                    </a:lnTo>
                    <a:lnTo>
                      <a:pt x="645" y="13"/>
                    </a:lnTo>
                    <a:lnTo>
                      <a:pt x="645" y="8"/>
                    </a:lnTo>
                    <a:lnTo>
                      <a:pt x="650" y="8"/>
                    </a:lnTo>
                    <a:lnTo>
                      <a:pt x="650" y="4"/>
                    </a:lnTo>
                    <a:lnTo>
                      <a:pt x="654" y="4"/>
                    </a:lnTo>
                    <a:lnTo>
                      <a:pt x="658" y="4"/>
                    </a:lnTo>
                    <a:lnTo>
                      <a:pt x="658" y="0"/>
                    </a:lnTo>
                    <a:lnTo>
                      <a:pt x="663" y="0"/>
                    </a:lnTo>
                    <a:lnTo>
                      <a:pt x="667" y="0"/>
                    </a:lnTo>
                    <a:lnTo>
                      <a:pt x="667" y="4"/>
                    </a:lnTo>
                    <a:lnTo>
                      <a:pt x="671" y="4"/>
                    </a:lnTo>
                    <a:lnTo>
                      <a:pt x="676" y="4"/>
                    </a:lnTo>
                    <a:lnTo>
                      <a:pt x="676" y="8"/>
                    </a:lnTo>
                    <a:lnTo>
                      <a:pt x="680" y="8"/>
                    </a:lnTo>
                    <a:lnTo>
                      <a:pt x="680" y="13"/>
                    </a:lnTo>
                    <a:lnTo>
                      <a:pt x="684" y="13"/>
                    </a:lnTo>
                    <a:lnTo>
                      <a:pt x="684" y="17"/>
                    </a:lnTo>
                    <a:lnTo>
                      <a:pt x="689" y="17"/>
                    </a:lnTo>
                    <a:lnTo>
                      <a:pt x="689" y="21"/>
                    </a:lnTo>
                    <a:lnTo>
                      <a:pt x="693" y="26"/>
                    </a:lnTo>
                    <a:lnTo>
                      <a:pt x="693" y="30"/>
                    </a:lnTo>
                    <a:lnTo>
                      <a:pt x="697" y="30"/>
                    </a:lnTo>
                    <a:lnTo>
                      <a:pt x="697" y="34"/>
                    </a:lnTo>
                    <a:lnTo>
                      <a:pt x="697" y="39"/>
                    </a:lnTo>
                    <a:lnTo>
                      <a:pt x="702" y="39"/>
                    </a:lnTo>
                    <a:lnTo>
                      <a:pt x="702" y="43"/>
                    </a:lnTo>
                    <a:lnTo>
                      <a:pt x="706" y="47"/>
                    </a:lnTo>
                    <a:lnTo>
                      <a:pt x="706" y="52"/>
                    </a:lnTo>
                    <a:lnTo>
                      <a:pt x="706" y="56"/>
                    </a:lnTo>
                    <a:lnTo>
                      <a:pt x="710" y="60"/>
                    </a:lnTo>
                    <a:lnTo>
                      <a:pt x="710" y="65"/>
                    </a:lnTo>
                    <a:lnTo>
                      <a:pt x="710" y="69"/>
                    </a:lnTo>
                    <a:lnTo>
                      <a:pt x="715" y="69"/>
                    </a:lnTo>
                    <a:lnTo>
                      <a:pt x="715" y="73"/>
                    </a:lnTo>
                    <a:lnTo>
                      <a:pt x="715" y="78"/>
                    </a:lnTo>
                    <a:lnTo>
                      <a:pt x="719" y="82"/>
                    </a:lnTo>
                    <a:lnTo>
                      <a:pt x="719" y="86"/>
                    </a:lnTo>
                    <a:lnTo>
                      <a:pt x="719" y="91"/>
                    </a:lnTo>
                    <a:lnTo>
                      <a:pt x="723" y="91"/>
                    </a:lnTo>
                    <a:lnTo>
                      <a:pt x="723" y="95"/>
                    </a:lnTo>
                    <a:lnTo>
                      <a:pt x="723" y="99"/>
                    </a:lnTo>
                    <a:lnTo>
                      <a:pt x="723" y="104"/>
                    </a:lnTo>
                    <a:lnTo>
                      <a:pt x="728" y="108"/>
                    </a:lnTo>
                    <a:lnTo>
                      <a:pt x="728" y="112"/>
                    </a:lnTo>
                    <a:lnTo>
                      <a:pt x="728" y="117"/>
                    </a:lnTo>
                    <a:lnTo>
                      <a:pt x="732" y="121"/>
                    </a:lnTo>
                    <a:lnTo>
                      <a:pt x="732" y="125"/>
                    </a:lnTo>
                    <a:lnTo>
                      <a:pt x="732" y="130"/>
                    </a:lnTo>
                    <a:lnTo>
                      <a:pt x="736" y="134"/>
                    </a:lnTo>
                    <a:lnTo>
                      <a:pt x="736" y="138"/>
                    </a:lnTo>
                    <a:lnTo>
                      <a:pt x="736" y="143"/>
                    </a:lnTo>
                    <a:lnTo>
                      <a:pt x="736" y="147"/>
                    </a:lnTo>
                    <a:lnTo>
                      <a:pt x="741" y="152"/>
                    </a:lnTo>
                    <a:lnTo>
                      <a:pt x="741" y="156"/>
                    </a:lnTo>
                    <a:lnTo>
                      <a:pt x="741" y="165"/>
                    </a:lnTo>
                    <a:lnTo>
                      <a:pt x="745" y="169"/>
                    </a:lnTo>
                    <a:lnTo>
                      <a:pt x="745" y="173"/>
                    </a:lnTo>
                    <a:lnTo>
                      <a:pt x="745" y="178"/>
                    </a:lnTo>
                    <a:lnTo>
                      <a:pt x="749" y="182"/>
                    </a:lnTo>
                    <a:lnTo>
                      <a:pt x="749" y="186"/>
                    </a:lnTo>
                    <a:lnTo>
                      <a:pt x="749" y="191"/>
                    </a:lnTo>
                    <a:lnTo>
                      <a:pt x="754" y="195"/>
                    </a:lnTo>
                    <a:lnTo>
                      <a:pt x="754" y="204"/>
                    </a:lnTo>
                    <a:lnTo>
                      <a:pt x="754" y="208"/>
                    </a:lnTo>
                    <a:lnTo>
                      <a:pt x="754" y="212"/>
                    </a:lnTo>
                    <a:lnTo>
                      <a:pt x="758" y="217"/>
                    </a:lnTo>
                    <a:lnTo>
                      <a:pt x="758" y="221"/>
                    </a:lnTo>
                    <a:lnTo>
                      <a:pt x="758" y="230"/>
                    </a:lnTo>
                    <a:lnTo>
                      <a:pt x="762" y="234"/>
                    </a:lnTo>
                    <a:lnTo>
                      <a:pt x="762" y="238"/>
                    </a:lnTo>
                    <a:lnTo>
                      <a:pt x="762" y="243"/>
                    </a:lnTo>
                    <a:lnTo>
                      <a:pt x="767" y="247"/>
                    </a:lnTo>
                    <a:lnTo>
                      <a:pt x="767" y="256"/>
                    </a:lnTo>
                    <a:lnTo>
                      <a:pt x="767" y="260"/>
                    </a:lnTo>
                    <a:lnTo>
                      <a:pt x="771" y="264"/>
                    </a:lnTo>
                    <a:lnTo>
                      <a:pt x="771" y="269"/>
                    </a:lnTo>
                    <a:lnTo>
                      <a:pt x="771" y="277"/>
                    </a:lnTo>
                    <a:lnTo>
                      <a:pt x="771" y="282"/>
                    </a:lnTo>
                    <a:lnTo>
                      <a:pt x="775" y="286"/>
                    </a:lnTo>
                    <a:lnTo>
                      <a:pt x="775" y="290"/>
                    </a:lnTo>
                    <a:lnTo>
                      <a:pt x="775" y="299"/>
                    </a:lnTo>
                    <a:lnTo>
                      <a:pt x="780" y="303"/>
                    </a:lnTo>
                    <a:lnTo>
                      <a:pt x="780" y="308"/>
                    </a:lnTo>
                    <a:lnTo>
                      <a:pt x="780" y="312"/>
                    </a:lnTo>
                    <a:lnTo>
                      <a:pt x="784" y="321"/>
                    </a:lnTo>
                    <a:lnTo>
                      <a:pt x="784" y="325"/>
                    </a:lnTo>
                    <a:lnTo>
                      <a:pt x="784" y="329"/>
                    </a:lnTo>
                    <a:lnTo>
                      <a:pt x="788" y="334"/>
                    </a:lnTo>
                    <a:lnTo>
                      <a:pt x="788" y="342"/>
                    </a:lnTo>
                    <a:lnTo>
                      <a:pt x="788" y="347"/>
                    </a:lnTo>
                    <a:lnTo>
                      <a:pt x="788" y="351"/>
                    </a:lnTo>
                    <a:lnTo>
                      <a:pt x="793" y="356"/>
                    </a:lnTo>
                    <a:lnTo>
                      <a:pt x="793" y="364"/>
                    </a:lnTo>
                    <a:lnTo>
                      <a:pt x="793" y="369"/>
                    </a:lnTo>
                    <a:lnTo>
                      <a:pt x="797" y="373"/>
                    </a:lnTo>
                    <a:lnTo>
                      <a:pt x="797" y="377"/>
                    </a:lnTo>
                    <a:lnTo>
                      <a:pt x="797" y="386"/>
                    </a:lnTo>
                    <a:lnTo>
                      <a:pt x="801" y="390"/>
                    </a:lnTo>
                    <a:lnTo>
                      <a:pt x="801" y="395"/>
                    </a:lnTo>
                    <a:lnTo>
                      <a:pt x="801" y="399"/>
                    </a:lnTo>
                    <a:lnTo>
                      <a:pt x="806" y="408"/>
                    </a:lnTo>
                    <a:lnTo>
                      <a:pt x="806" y="412"/>
                    </a:lnTo>
                    <a:lnTo>
                      <a:pt x="806" y="416"/>
                    </a:lnTo>
                    <a:lnTo>
                      <a:pt x="806" y="421"/>
                    </a:lnTo>
                    <a:lnTo>
                      <a:pt x="810" y="425"/>
                    </a:lnTo>
                    <a:lnTo>
                      <a:pt x="810" y="434"/>
                    </a:lnTo>
                    <a:lnTo>
                      <a:pt x="810" y="438"/>
                    </a:lnTo>
                    <a:lnTo>
                      <a:pt x="814" y="442"/>
                    </a:lnTo>
                    <a:lnTo>
                      <a:pt x="814" y="447"/>
                    </a:lnTo>
                    <a:lnTo>
                      <a:pt x="814" y="451"/>
                    </a:lnTo>
                    <a:lnTo>
                      <a:pt x="819" y="460"/>
                    </a:lnTo>
                    <a:lnTo>
                      <a:pt x="819" y="464"/>
                    </a:lnTo>
                    <a:lnTo>
                      <a:pt x="819" y="468"/>
                    </a:lnTo>
                    <a:lnTo>
                      <a:pt x="823" y="473"/>
                    </a:lnTo>
                    <a:lnTo>
                      <a:pt x="823" y="477"/>
                    </a:lnTo>
                    <a:lnTo>
                      <a:pt x="823" y="481"/>
                    </a:lnTo>
                    <a:lnTo>
                      <a:pt x="823" y="490"/>
                    </a:lnTo>
                    <a:lnTo>
                      <a:pt x="827" y="494"/>
                    </a:lnTo>
                    <a:lnTo>
                      <a:pt x="827" y="499"/>
                    </a:lnTo>
                    <a:lnTo>
                      <a:pt x="827" y="503"/>
                    </a:lnTo>
                    <a:lnTo>
                      <a:pt x="832" y="507"/>
                    </a:lnTo>
                    <a:lnTo>
                      <a:pt x="832" y="512"/>
                    </a:lnTo>
                    <a:lnTo>
                      <a:pt x="832" y="516"/>
                    </a:lnTo>
                    <a:lnTo>
                      <a:pt x="836" y="520"/>
                    </a:lnTo>
                    <a:lnTo>
                      <a:pt x="836" y="525"/>
                    </a:lnTo>
                    <a:lnTo>
                      <a:pt x="836" y="533"/>
                    </a:lnTo>
                    <a:lnTo>
                      <a:pt x="840" y="538"/>
                    </a:lnTo>
                    <a:lnTo>
                      <a:pt x="840" y="542"/>
                    </a:lnTo>
                    <a:lnTo>
                      <a:pt x="840" y="547"/>
                    </a:lnTo>
                    <a:lnTo>
                      <a:pt x="840" y="551"/>
                    </a:lnTo>
                    <a:lnTo>
                      <a:pt x="845" y="555"/>
                    </a:lnTo>
                    <a:lnTo>
                      <a:pt x="845" y="560"/>
                    </a:lnTo>
                    <a:lnTo>
                      <a:pt x="845" y="564"/>
                    </a:lnTo>
                    <a:lnTo>
                      <a:pt x="849" y="568"/>
                    </a:lnTo>
                    <a:lnTo>
                      <a:pt x="849" y="573"/>
                    </a:lnTo>
                    <a:lnTo>
                      <a:pt x="849" y="577"/>
                    </a:lnTo>
                    <a:lnTo>
                      <a:pt x="853" y="581"/>
                    </a:lnTo>
                    <a:lnTo>
                      <a:pt x="853" y="586"/>
                    </a:lnTo>
                    <a:lnTo>
                      <a:pt x="853" y="590"/>
                    </a:lnTo>
                    <a:lnTo>
                      <a:pt x="858" y="594"/>
                    </a:lnTo>
                    <a:lnTo>
                      <a:pt x="858" y="599"/>
                    </a:lnTo>
                    <a:lnTo>
                      <a:pt x="858" y="603"/>
                    </a:lnTo>
                    <a:lnTo>
                      <a:pt x="858" y="607"/>
                    </a:lnTo>
                    <a:lnTo>
                      <a:pt x="862" y="612"/>
                    </a:lnTo>
                    <a:lnTo>
                      <a:pt x="862" y="616"/>
                    </a:lnTo>
                    <a:lnTo>
                      <a:pt x="862" y="620"/>
                    </a:lnTo>
                    <a:lnTo>
                      <a:pt x="866" y="625"/>
                    </a:lnTo>
                    <a:lnTo>
                      <a:pt x="866" y="629"/>
                    </a:lnTo>
                    <a:lnTo>
                      <a:pt x="871" y="633"/>
                    </a:lnTo>
                    <a:lnTo>
                      <a:pt x="871" y="638"/>
                    </a:lnTo>
                    <a:lnTo>
                      <a:pt x="871" y="642"/>
                    </a:lnTo>
                    <a:lnTo>
                      <a:pt x="875" y="646"/>
                    </a:lnTo>
                    <a:lnTo>
                      <a:pt x="875" y="651"/>
                    </a:lnTo>
                    <a:lnTo>
                      <a:pt x="875" y="655"/>
                    </a:lnTo>
                    <a:lnTo>
                      <a:pt x="879" y="659"/>
                    </a:lnTo>
                    <a:lnTo>
                      <a:pt x="879" y="664"/>
                    </a:lnTo>
                    <a:lnTo>
                      <a:pt x="879" y="668"/>
                    </a:lnTo>
                    <a:lnTo>
                      <a:pt x="884" y="672"/>
                    </a:lnTo>
                    <a:lnTo>
                      <a:pt x="884" y="677"/>
                    </a:lnTo>
                    <a:lnTo>
                      <a:pt x="888" y="681"/>
                    </a:lnTo>
                    <a:lnTo>
                      <a:pt x="888" y="685"/>
                    </a:lnTo>
                    <a:lnTo>
                      <a:pt x="888" y="690"/>
                    </a:lnTo>
                    <a:lnTo>
                      <a:pt x="892" y="694"/>
                    </a:lnTo>
                    <a:lnTo>
                      <a:pt x="892" y="698"/>
                    </a:lnTo>
                    <a:lnTo>
                      <a:pt x="897" y="703"/>
                    </a:lnTo>
                    <a:lnTo>
                      <a:pt x="897" y="707"/>
                    </a:lnTo>
                    <a:lnTo>
                      <a:pt x="897" y="711"/>
                    </a:lnTo>
                    <a:lnTo>
                      <a:pt x="901" y="711"/>
                    </a:lnTo>
                    <a:lnTo>
                      <a:pt x="901" y="716"/>
                    </a:lnTo>
                    <a:lnTo>
                      <a:pt x="901" y="720"/>
                    </a:lnTo>
                    <a:lnTo>
                      <a:pt x="905" y="720"/>
                    </a:lnTo>
                    <a:lnTo>
                      <a:pt x="905" y="724"/>
                    </a:lnTo>
                    <a:lnTo>
                      <a:pt x="905" y="729"/>
                    </a:lnTo>
                    <a:lnTo>
                      <a:pt x="910" y="733"/>
                    </a:lnTo>
                    <a:lnTo>
                      <a:pt x="910" y="737"/>
                    </a:lnTo>
                    <a:lnTo>
                      <a:pt x="914" y="742"/>
                    </a:lnTo>
                    <a:lnTo>
                      <a:pt x="914" y="746"/>
                    </a:lnTo>
                    <a:lnTo>
                      <a:pt x="918" y="751"/>
                    </a:lnTo>
                    <a:lnTo>
                      <a:pt x="918" y="755"/>
                    </a:lnTo>
                    <a:lnTo>
                      <a:pt x="923" y="755"/>
                    </a:lnTo>
                    <a:lnTo>
                      <a:pt x="923" y="759"/>
                    </a:lnTo>
                    <a:lnTo>
                      <a:pt x="923" y="764"/>
                    </a:lnTo>
                    <a:lnTo>
                      <a:pt x="927" y="764"/>
                    </a:lnTo>
                    <a:lnTo>
                      <a:pt x="927" y="768"/>
                    </a:lnTo>
                    <a:lnTo>
                      <a:pt x="931" y="772"/>
                    </a:lnTo>
                    <a:lnTo>
                      <a:pt x="931" y="777"/>
                    </a:lnTo>
                    <a:lnTo>
                      <a:pt x="936" y="777"/>
                    </a:lnTo>
                    <a:lnTo>
                      <a:pt x="936" y="781"/>
                    </a:lnTo>
                    <a:lnTo>
                      <a:pt x="940" y="785"/>
                    </a:lnTo>
                    <a:lnTo>
                      <a:pt x="940" y="790"/>
                    </a:lnTo>
                    <a:lnTo>
                      <a:pt x="944" y="794"/>
                    </a:lnTo>
                    <a:lnTo>
                      <a:pt x="944" y="798"/>
                    </a:lnTo>
                    <a:lnTo>
                      <a:pt x="949" y="798"/>
                    </a:lnTo>
                    <a:lnTo>
                      <a:pt x="949" y="803"/>
                    </a:lnTo>
                    <a:lnTo>
                      <a:pt x="953" y="803"/>
                    </a:lnTo>
                    <a:lnTo>
                      <a:pt x="953" y="807"/>
                    </a:lnTo>
                    <a:lnTo>
                      <a:pt x="957" y="811"/>
                    </a:lnTo>
                    <a:lnTo>
                      <a:pt x="957" y="816"/>
                    </a:lnTo>
                    <a:lnTo>
                      <a:pt x="961" y="816"/>
                    </a:lnTo>
                    <a:lnTo>
                      <a:pt x="961" y="820"/>
                    </a:lnTo>
                    <a:lnTo>
                      <a:pt x="966" y="820"/>
                    </a:lnTo>
                    <a:lnTo>
                      <a:pt x="966" y="824"/>
                    </a:lnTo>
                    <a:lnTo>
                      <a:pt x="970" y="824"/>
                    </a:lnTo>
                    <a:lnTo>
                      <a:pt x="970" y="829"/>
                    </a:lnTo>
                    <a:lnTo>
                      <a:pt x="974" y="829"/>
                    </a:lnTo>
                    <a:lnTo>
                      <a:pt x="974" y="833"/>
                    </a:lnTo>
                    <a:lnTo>
                      <a:pt x="979" y="833"/>
                    </a:lnTo>
                    <a:lnTo>
                      <a:pt x="979" y="837"/>
                    </a:lnTo>
                    <a:lnTo>
                      <a:pt x="983" y="837"/>
                    </a:lnTo>
                    <a:lnTo>
                      <a:pt x="983" y="842"/>
                    </a:lnTo>
                    <a:lnTo>
                      <a:pt x="987" y="842"/>
                    </a:lnTo>
                    <a:lnTo>
                      <a:pt x="987" y="846"/>
                    </a:lnTo>
                    <a:lnTo>
                      <a:pt x="992" y="846"/>
                    </a:lnTo>
                    <a:lnTo>
                      <a:pt x="992" y="850"/>
                    </a:lnTo>
                    <a:lnTo>
                      <a:pt x="996" y="850"/>
                    </a:lnTo>
                    <a:lnTo>
                      <a:pt x="1000" y="855"/>
                    </a:lnTo>
                    <a:lnTo>
                      <a:pt x="1005" y="855"/>
                    </a:lnTo>
                    <a:lnTo>
                      <a:pt x="1005" y="859"/>
                    </a:lnTo>
                    <a:lnTo>
                      <a:pt x="1009" y="859"/>
                    </a:lnTo>
                    <a:lnTo>
                      <a:pt x="1009" y="863"/>
                    </a:lnTo>
                    <a:lnTo>
                      <a:pt x="1013" y="863"/>
                    </a:lnTo>
                    <a:lnTo>
                      <a:pt x="1018" y="863"/>
                    </a:lnTo>
                    <a:lnTo>
                      <a:pt x="1018" y="868"/>
                    </a:lnTo>
                    <a:lnTo>
                      <a:pt x="1022" y="868"/>
                    </a:lnTo>
                    <a:lnTo>
                      <a:pt x="1026" y="872"/>
                    </a:lnTo>
                    <a:lnTo>
                      <a:pt x="1031" y="872"/>
                    </a:lnTo>
                    <a:lnTo>
                      <a:pt x="1035" y="876"/>
                    </a:lnTo>
                    <a:lnTo>
                      <a:pt x="1039" y="876"/>
                    </a:lnTo>
                    <a:lnTo>
                      <a:pt x="1039" y="881"/>
                    </a:lnTo>
                    <a:lnTo>
                      <a:pt x="1044" y="881"/>
                    </a:lnTo>
                    <a:lnTo>
                      <a:pt x="1048" y="881"/>
                    </a:lnTo>
                    <a:lnTo>
                      <a:pt x="1052" y="881"/>
                    </a:lnTo>
                    <a:lnTo>
                      <a:pt x="1052" y="885"/>
                    </a:lnTo>
                    <a:lnTo>
                      <a:pt x="1057" y="885"/>
                    </a:lnTo>
                    <a:lnTo>
                      <a:pt x="1061" y="885"/>
                    </a:lnTo>
                    <a:lnTo>
                      <a:pt x="1065" y="889"/>
                    </a:lnTo>
                    <a:lnTo>
                      <a:pt x="1070" y="889"/>
                    </a:lnTo>
                    <a:lnTo>
                      <a:pt x="1074" y="889"/>
                    </a:lnTo>
                    <a:lnTo>
                      <a:pt x="1078" y="889"/>
                    </a:lnTo>
                    <a:lnTo>
                      <a:pt x="1078" y="894"/>
                    </a:lnTo>
                    <a:lnTo>
                      <a:pt x="1083" y="894"/>
                    </a:lnTo>
                    <a:lnTo>
                      <a:pt x="1087" y="894"/>
                    </a:lnTo>
                    <a:lnTo>
                      <a:pt x="1091" y="894"/>
                    </a:lnTo>
                    <a:lnTo>
                      <a:pt x="1096" y="898"/>
                    </a:lnTo>
                    <a:lnTo>
                      <a:pt x="1100" y="898"/>
                    </a:lnTo>
                    <a:lnTo>
                      <a:pt x="1104" y="898"/>
                    </a:lnTo>
                    <a:lnTo>
                      <a:pt x="1109" y="898"/>
                    </a:lnTo>
                    <a:lnTo>
                      <a:pt x="1113" y="898"/>
                    </a:lnTo>
                    <a:lnTo>
                      <a:pt x="1117" y="898"/>
                    </a:lnTo>
                    <a:lnTo>
                      <a:pt x="1117" y="902"/>
                    </a:lnTo>
                    <a:lnTo>
                      <a:pt x="1122" y="902"/>
                    </a:lnTo>
                    <a:lnTo>
                      <a:pt x="1126" y="902"/>
                    </a:lnTo>
                    <a:lnTo>
                      <a:pt x="1130" y="902"/>
                    </a:lnTo>
                    <a:lnTo>
                      <a:pt x="1135" y="902"/>
                    </a:lnTo>
                    <a:lnTo>
                      <a:pt x="1139" y="902"/>
                    </a:lnTo>
                    <a:lnTo>
                      <a:pt x="1143" y="902"/>
                    </a:lnTo>
                    <a:lnTo>
                      <a:pt x="1148" y="902"/>
                    </a:lnTo>
                    <a:lnTo>
                      <a:pt x="1148" y="907"/>
                    </a:lnTo>
                    <a:lnTo>
                      <a:pt x="1152" y="907"/>
                    </a:lnTo>
                    <a:lnTo>
                      <a:pt x="1156" y="907"/>
                    </a:lnTo>
                    <a:lnTo>
                      <a:pt x="1161" y="907"/>
                    </a:lnTo>
                    <a:lnTo>
                      <a:pt x="1165" y="907"/>
                    </a:lnTo>
                    <a:lnTo>
                      <a:pt x="1169" y="907"/>
                    </a:lnTo>
                    <a:lnTo>
                      <a:pt x="1174" y="907"/>
                    </a:lnTo>
                    <a:lnTo>
                      <a:pt x="1178" y="907"/>
                    </a:lnTo>
                    <a:lnTo>
                      <a:pt x="1182" y="907"/>
                    </a:lnTo>
                    <a:lnTo>
                      <a:pt x="1187" y="907"/>
                    </a:lnTo>
                    <a:lnTo>
                      <a:pt x="1191" y="907"/>
                    </a:lnTo>
                    <a:lnTo>
                      <a:pt x="1195" y="907"/>
                    </a:lnTo>
                    <a:lnTo>
                      <a:pt x="1200" y="907"/>
                    </a:lnTo>
                    <a:lnTo>
                      <a:pt x="1204" y="911"/>
                    </a:lnTo>
                    <a:lnTo>
                      <a:pt x="1208" y="911"/>
                    </a:lnTo>
                    <a:lnTo>
                      <a:pt x="1213" y="911"/>
                    </a:lnTo>
                    <a:lnTo>
                      <a:pt x="1217" y="911"/>
                    </a:lnTo>
                    <a:lnTo>
                      <a:pt x="1221" y="911"/>
                    </a:lnTo>
                    <a:lnTo>
                      <a:pt x="1226" y="911"/>
                    </a:lnTo>
                    <a:lnTo>
                      <a:pt x="1230" y="911"/>
                    </a:lnTo>
                    <a:lnTo>
                      <a:pt x="1234" y="911"/>
                    </a:lnTo>
                    <a:lnTo>
                      <a:pt x="1239" y="911"/>
                    </a:lnTo>
                    <a:lnTo>
                      <a:pt x="1243" y="911"/>
                    </a:lnTo>
                    <a:lnTo>
                      <a:pt x="1247" y="911"/>
                    </a:lnTo>
                    <a:lnTo>
                      <a:pt x="1252" y="911"/>
                    </a:lnTo>
                    <a:lnTo>
                      <a:pt x="1256" y="911"/>
                    </a:lnTo>
                    <a:lnTo>
                      <a:pt x="1260" y="911"/>
                    </a:lnTo>
                    <a:lnTo>
                      <a:pt x="1265" y="911"/>
                    </a:lnTo>
                    <a:lnTo>
                      <a:pt x="1269" y="911"/>
                    </a:lnTo>
                    <a:lnTo>
                      <a:pt x="1273" y="911"/>
                    </a:lnTo>
                    <a:lnTo>
                      <a:pt x="1278" y="911"/>
                    </a:lnTo>
                    <a:lnTo>
                      <a:pt x="1282" y="911"/>
                    </a:lnTo>
                    <a:lnTo>
                      <a:pt x="1286" y="911"/>
                    </a:lnTo>
                    <a:lnTo>
                      <a:pt x="1291" y="911"/>
                    </a:lnTo>
                    <a:lnTo>
                      <a:pt x="1295" y="911"/>
                    </a:lnTo>
                    <a:lnTo>
                      <a:pt x="1299" y="911"/>
                    </a:lnTo>
                    <a:lnTo>
                      <a:pt x="1304" y="911"/>
                    </a:lnTo>
                    <a:lnTo>
                      <a:pt x="1308" y="911"/>
                    </a:lnTo>
                    <a:lnTo>
                      <a:pt x="1312" y="911"/>
                    </a:lnTo>
                    <a:lnTo>
                      <a:pt x="1317" y="911"/>
                    </a:lnTo>
                    <a:lnTo>
                      <a:pt x="1321" y="911"/>
                    </a:lnTo>
                    <a:lnTo>
                      <a:pt x="1325" y="9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custGeom>
                <a:avLst/>
                <a:gdLst>
                  <a:gd name="textAreaLeft" fmla="*/ 0 w 2789640"/>
                  <a:gd name="textAreaRight" fmla="*/ 2790000 w 27896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1326" h="348">
                    <a:moveTo>
                      <a:pt x="0" y="347"/>
                    </a:moveTo>
                    <a:lnTo>
                      <a:pt x="0" y="347"/>
                    </a:lnTo>
                    <a:lnTo>
                      <a:pt x="4" y="347"/>
                    </a:lnTo>
                    <a:lnTo>
                      <a:pt x="9" y="347"/>
                    </a:lnTo>
                    <a:lnTo>
                      <a:pt x="13" y="347"/>
                    </a:lnTo>
                    <a:lnTo>
                      <a:pt x="17" y="347"/>
                    </a:lnTo>
                    <a:lnTo>
                      <a:pt x="22" y="347"/>
                    </a:lnTo>
                    <a:lnTo>
                      <a:pt x="26" y="347"/>
                    </a:lnTo>
                    <a:lnTo>
                      <a:pt x="30" y="347"/>
                    </a:lnTo>
                    <a:lnTo>
                      <a:pt x="35" y="347"/>
                    </a:lnTo>
                    <a:lnTo>
                      <a:pt x="39" y="347"/>
                    </a:lnTo>
                    <a:lnTo>
                      <a:pt x="43" y="347"/>
                    </a:lnTo>
                    <a:lnTo>
                      <a:pt x="48" y="347"/>
                    </a:lnTo>
                    <a:lnTo>
                      <a:pt x="52" y="347"/>
                    </a:lnTo>
                    <a:lnTo>
                      <a:pt x="56" y="347"/>
                    </a:lnTo>
                    <a:lnTo>
                      <a:pt x="61" y="347"/>
                    </a:lnTo>
                    <a:lnTo>
                      <a:pt x="65" y="347"/>
                    </a:lnTo>
                    <a:lnTo>
                      <a:pt x="69" y="347"/>
                    </a:lnTo>
                    <a:lnTo>
                      <a:pt x="74" y="347"/>
                    </a:lnTo>
                    <a:lnTo>
                      <a:pt x="78" y="347"/>
                    </a:lnTo>
                    <a:lnTo>
                      <a:pt x="82" y="347"/>
                    </a:lnTo>
                    <a:lnTo>
                      <a:pt x="87" y="347"/>
                    </a:lnTo>
                    <a:lnTo>
                      <a:pt x="91" y="347"/>
                    </a:lnTo>
                    <a:lnTo>
                      <a:pt x="95" y="347"/>
                    </a:lnTo>
                    <a:lnTo>
                      <a:pt x="100" y="347"/>
                    </a:lnTo>
                    <a:lnTo>
                      <a:pt x="104" y="347"/>
                    </a:lnTo>
                    <a:lnTo>
                      <a:pt x="108" y="347"/>
                    </a:lnTo>
                    <a:lnTo>
                      <a:pt x="113" y="347"/>
                    </a:lnTo>
                    <a:lnTo>
                      <a:pt x="117" y="347"/>
                    </a:lnTo>
                    <a:lnTo>
                      <a:pt x="121" y="347"/>
                    </a:lnTo>
                    <a:lnTo>
                      <a:pt x="126" y="347"/>
                    </a:lnTo>
                    <a:lnTo>
                      <a:pt x="130" y="347"/>
                    </a:lnTo>
                    <a:lnTo>
                      <a:pt x="134" y="347"/>
                    </a:lnTo>
                    <a:lnTo>
                      <a:pt x="139" y="347"/>
                    </a:lnTo>
                    <a:lnTo>
                      <a:pt x="143" y="347"/>
                    </a:lnTo>
                    <a:lnTo>
                      <a:pt x="147" y="347"/>
                    </a:lnTo>
                    <a:lnTo>
                      <a:pt x="152" y="347"/>
                    </a:lnTo>
                    <a:lnTo>
                      <a:pt x="156" y="347"/>
                    </a:lnTo>
                    <a:lnTo>
                      <a:pt x="160" y="347"/>
                    </a:lnTo>
                    <a:lnTo>
                      <a:pt x="165" y="347"/>
                    </a:lnTo>
                    <a:lnTo>
                      <a:pt x="169" y="347"/>
                    </a:lnTo>
                    <a:lnTo>
                      <a:pt x="173" y="347"/>
                    </a:lnTo>
                    <a:lnTo>
                      <a:pt x="178" y="347"/>
                    </a:lnTo>
                    <a:lnTo>
                      <a:pt x="182" y="347"/>
                    </a:lnTo>
                    <a:lnTo>
                      <a:pt x="186" y="347"/>
                    </a:lnTo>
                    <a:lnTo>
                      <a:pt x="191" y="347"/>
                    </a:lnTo>
                    <a:lnTo>
                      <a:pt x="195" y="347"/>
                    </a:lnTo>
                    <a:lnTo>
                      <a:pt x="199" y="347"/>
                    </a:lnTo>
                    <a:lnTo>
                      <a:pt x="204" y="347"/>
                    </a:lnTo>
                    <a:lnTo>
                      <a:pt x="208" y="347"/>
                    </a:lnTo>
                    <a:lnTo>
                      <a:pt x="212" y="347"/>
                    </a:lnTo>
                    <a:lnTo>
                      <a:pt x="217" y="347"/>
                    </a:lnTo>
                    <a:lnTo>
                      <a:pt x="221" y="347"/>
                    </a:lnTo>
                    <a:lnTo>
                      <a:pt x="225" y="347"/>
                    </a:lnTo>
                    <a:lnTo>
                      <a:pt x="230" y="347"/>
                    </a:lnTo>
                    <a:lnTo>
                      <a:pt x="234" y="347"/>
                    </a:lnTo>
                    <a:lnTo>
                      <a:pt x="238" y="347"/>
                    </a:lnTo>
                    <a:lnTo>
                      <a:pt x="243" y="347"/>
                    </a:lnTo>
                    <a:lnTo>
                      <a:pt x="247" y="347"/>
                    </a:lnTo>
                    <a:lnTo>
                      <a:pt x="251" y="347"/>
                    </a:lnTo>
                    <a:lnTo>
                      <a:pt x="256" y="347"/>
                    </a:lnTo>
                    <a:lnTo>
                      <a:pt x="260" y="347"/>
                    </a:lnTo>
                    <a:lnTo>
                      <a:pt x="264" y="347"/>
                    </a:lnTo>
                    <a:lnTo>
                      <a:pt x="269" y="347"/>
                    </a:lnTo>
                    <a:lnTo>
                      <a:pt x="273" y="347"/>
                    </a:lnTo>
                    <a:lnTo>
                      <a:pt x="277" y="347"/>
                    </a:lnTo>
                    <a:lnTo>
                      <a:pt x="282" y="347"/>
                    </a:lnTo>
                    <a:lnTo>
                      <a:pt x="286" y="347"/>
                    </a:lnTo>
                    <a:lnTo>
                      <a:pt x="290" y="347"/>
                    </a:lnTo>
                    <a:lnTo>
                      <a:pt x="295" y="347"/>
                    </a:lnTo>
                    <a:lnTo>
                      <a:pt x="299" y="347"/>
                    </a:lnTo>
                    <a:lnTo>
                      <a:pt x="303" y="347"/>
                    </a:lnTo>
                    <a:lnTo>
                      <a:pt x="308" y="347"/>
                    </a:lnTo>
                    <a:lnTo>
                      <a:pt x="312" y="347"/>
                    </a:lnTo>
                    <a:lnTo>
                      <a:pt x="316" y="347"/>
                    </a:lnTo>
                    <a:lnTo>
                      <a:pt x="321" y="347"/>
                    </a:lnTo>
                    <a:lnTo>
                      <a:pt x="325" y="347"/>
                    </a:lnTo>
                    <a:lnTo>
                      <a:pt x="329" y="347"/>
                    </a:lnTo>
                    <a:lnTo>
                      <a:pt x="334" y="347"/>
                    </a:lnTo>
                    <a:lnTo>
                      <a:pt x="338" y="347"/>
                    </a:lnTo>
                    <a:lnTo>
                      <a:pt x="342" y="347"/>
                    </a:lnTo>
                    <a:lnTo>
                      <a:pt x="347" y="347"/>
                    </a:lnTo>
                    <a:lnTo>
                      <a:pt x="351" y="347"/>
                    </a:lnTo>
                    <a:lnTo>
                      <a:pt x="355" y="347"/>
                    </a:lnTo>
                    <a:lnTo>
                      <a:pt x="360" y="347"/>
                    </a:lnTo>
                    <a:lnTo>
                      <a:pt x="360" y="256"/>
                    </a:lnTo>
                    <a:lnTo>
                      <a:pt x="364" y="256"/>
                    </a:lnTo>
                    <a:lnTo>
                      <a:pt x="364" y="252"/>
                    </a:lnTo>
                    <a:lnTo>
                      <a:pt x="368" y="252"/>
                    </a:lnTo>
                    <a:lnTo>
                      <a:pt x="368" y="247"/>
                    </a:lnTo>
                    <a:lnTo>
                      <a:pt x="373" y="243"/>
                    </a:lnTo>
                    <a:lnTo>
                      <a:pt x="373" y="239"/>
                    </a:lnTo>
                    <a:lnTo>
                      <a:pt x="377" y="239"/>
                    </a:lnTo>
                    <a:lnTo>
                      <a:pt x="377" y="234"/>
                    </a:lnTo>
                    <a:lnTo>
                      <a:pt x="381" y="234"/>
                    </a:lnTo>
                    <a:lnTo>
                      <a:pt x="381" y="230"/>
                    </a:lnTo>
                    <a:lnTo>
                      <a:pt x="385" y="226"/>
                    </a:lnTo>
                    <a:lnTo>
                      <a:pt x="385" y="221"/>
                    </a:lnTo>
                    <a:lnTo>
                      <a:pt x="390" y="217"/>
                    </a:lnTo>
                    <a:lnTo>
                      <a:pt x="390" y="213"/>
                    </a:lnTo>
                    <a:lnTo>
                      <a:pt x="394" y="213"/>
                    </a:lnTo>
                    <a:lnTo>
                      <a:pt x="394" y="208"/>
                    </a:lnTo>
                    <a:lnTo>
                      <a:pt x="398" y="204"/>
                    </a:lnTo>
                    <a:lnTo>
                      <a:pt x="398" y="200"/>
                    </a:lnTo>
                    <a:lnTo>
                      <a:pt x="403" y="200"/>
                    </a:lnTo>
                    <a:lnTo>
                      <a:pt x="403" y="195"/>
                    </a:lnTo>
                    <a:lnTo>
                      <a:pt x="403" y="191"/>
                    </a:lnTo>
                    <a:lnTo>
                      <a:pt x="407" y="191"/>
                    </a:lnTo>
                    <a:lnTo>
                      <a:pt x="407" y="187"/>
                    </a:lnTo>
                    <a:lnTo>
                      <a:pt x="411" y="182"/>
                    </a:lnTo>
                    <a:lnTo>
                      <a:pt x="411" y="178"/>
                    </a:lnTo>
                    <a:lnTo>
                      <a:pt x="416" y="173"/>
                    </a:lnTo>
                    <a:lnTo>
                      <a:pt x="416" y="169"/>
                    </a:lnTo>
                    <a:lnTo>
                      <a:pt x="420" y="165"/>
                    </a:lnTo>
                    <a:lnTo>
                      <a:pt x="420" y="160"/>
                    </a:lnTo>
                    <a:lnTo>
                      <a:pt x="420" y="156"/>
                    </a:lnTo>
                    <a:lnTo>
                      <a:pt x="424" y="156"/>
                    </a:lnTo>
                    <a:lnTo>
                      <a:pt x="424" y="152"/>
                    </a:lnTo>
                    <a:lnTo>
                      <a:pt x="424" y="147"/>
                    </a:lnTo>
                    <a:lnTo>
                      <a:pt x="429" y="147"/>
                    </a:lnTo>
                    <a:lnTo>
                      <a:pt x="429" y="143"/>
                    </a:lnTo>
                    <a:lnTo>
                      <a:pt x="429" y="139"/>
                    </a:lnTo>
                    <a:lnTo>
                      <a:pt x="433" y="134"/>
                    </a:lnTo>
                    <a:lnTo>
                      <a:pt x="433" y="130"/>
                    </a:lnTo>
                    <a:lnTo>
                      <a:pt x="437" y="126"/>
                    </a:lnTo>
                    <a:lnTo>
                      <a:pt x="437" y="121"/>
                    </a:lnTo>
                    <a:lnTo>
                      <a:pt x="437" y="117"/>
                    </a:lnTo>
                    <a:lnTo>
                      <a:pt x="442" y="113"/>
                    </a:lnTo>
                    <a:lnTo>
                      <a:pt x="442" y="108"/>
                    </a:lnTo>
                    <a:lnTo>
                      <a:pt x="446" y="104"/>
                    </a:lnTo>
                    <a:lnTo>
                      <a:pt x="446" y="100"/>
                    </a:lnTo>
                    <a:lnTo>
                      <a:pt x="446" y="95"/>
                    </a:lnTo>
                    <a:lnTo>
                      <a:pt x="450" y="91"/>
                    </a:lnTo>
                    <a:lnTo>
                      <a:pt x="450" y="87"/>
                    </a:lnTo>
                    <a:lnTo>
                      <a:pt x="450" y="82"/>
                    </a:lnTo>
                    <a:lnTo>
                      <a:pt x="455" y="78"/>
                    </a:lnTo>
                    <a:lnTo>
                      <a:pt x="455" y="74"/>
                    </a:lnTo>
                    <a:lnTo>
                      <a:pt x="455" y="69"/>
                    </a:lnTo>
                    <a:lnTo>
                      <a:pt x="459" y="65"/>
                    </a:lnTo>
                    <a:lnTo>
                      <a:pt x="459" y="61"/>
                    </a:lnTo>
                    <a:lnTo>
                      <a:pt x="463" y="56"/>
                    </a:lnTo>
                    <a:lnTo>
                      <a:pt x="463" y="52"/>
                    </a:lnTo>
                    <a:lnTo>
                      <a:pt x="463" y="48"/>
                    </a:lnTo>
                    <a:lnTo>
                      <a:pt x="468" y="43"/>
                    </a:lnTo>
                    <a:lnTo>
                      <a:pt x="468" y="39"/>
                    </a:lnTo>
                    <a:lnTo>
                      <a:pt x="468" y="35"/>
                    </a:lnTo>
                    <a:lnTo>
                      <a:pt x="468" y="30"/>
                    </a:lnTo>
                    <a:lnTo>
                      <a:pt x="472" y="26"/>
                    </a:lnTo>
                    <a:lnTo>
                      <a:pt x="472" y="22"/>
                    </a:lnTo>
                    <a:lnTo>
                      <a:pt x="472" y="17"/>
                    </a:lnTo>
                    <a:lnTo>
                      <a:pt x="476" y="13"/>
                    </a:lnTo>
                    <a:lnTo>
                      <a:pt x="476" y="9"/>
                    </a:lnTo>
                    <a:lnTo>
                      <a:pt x="476" y="4"/>
                    </a:lnTo>
                    <a:lnTo>
                      <a:pt x="481" y="0"/>
                    </a:lnTo>
                    <a:lnTo>
                      <a:pt x="481" y="347"/>
                    </a:lnTo>
                    <a:lnTo>
                      <a:pt x="485" y="347"/>
                    </a:lnTo>
                    <a:lnTo>
                      <a:pt x="489" y="347"/>
                    </a:lnTo>
                    <a:lnTo>
                      <a:pt x="494" y="347"/>
                    </a:lnTo>
                    <a:lnTo>
                      <a:pt x="498" y="347"/>
                    </a:lnTo>
                    <a:lnTo>
                      <a:pt x="502" y="347"/>
                    </a:lnTo>
                    <a:lnTo>
                      <a:pt x="507" y="347"/>
                    </a:lnTo>
                    <a:lnTo>
                      <a:pt x="511" y="347"/>
                    </a:lnTo>
                    <a:lnTo>
                      <a:pt x="515" y="347"/>
                    </a:lnTo>
                    <a:lnTo>
                      <a:pt x="520" y="347"/>
                    </a:lnTo>
                    <a:lnTo>
                      <a:pt x="524" y="347"/>
                    </a:lnTo>
                    <a:lnTo>
                      <a:pt x="528" y="347"/>
                    </a:lnTo>
                    <a:lnTo>
                      <a:pt x="533" y="347"/>
                    </a:lnTo>
                    <a:lnTo>
                      <a:pt x="537" y="347"/>
                    </a:lnTo>
                    <a:lnTo>
                      <a:pt x="541" y="347"/>
                    </a:lnTo>
                    <a:lnTo>
                      <a:pt x="546" y="347"/>
                    </a:lnTo>
                    <a:lnTo>
                      <a:pt x="550" y="347"/>
                    </a:lnTo>
                    <a:lnTo>
                      <a:pt x="554" y="347"/>
                    </a:lnTo>
                    <a:lnTo>
                      <a:pt x="559" y="347"/>
                    </a:lnTo>
                    <a:lnTo>
                      <a:pt x="563" y="347"/>
                    </a:lnTo>
                    <a:lnTo>
                      <a:pt x="567" y="347"/>
                    </a:lnTo>
                    <a:lnTo>
                      <a:pt x="572" y="347"/>
                    </a:lnTo>
                    <a:lnTo>
                      <a:pt x="576" y="347"/>
                    </a:lnTo>
                    <a:lnTo>
                      <a:pt x="580" y="347"/>
                    </a:lnTo>
                    <a:lnTo>
                      <a:pt x="585" y="347"/>
                    </a:lnTo>
                    <a:lnTo>
                      <a:pt x="589" y="347"/>
                    </a:lnTo>
                    <a:lnTo>
                      <a:pt x="593" y="347"/>
                    </a:lnTo>
                    <a:lnTo>
                      <a:pt x="598" y="347"/>
                    </a:lnTo>
                    <a:lnTo>
                      <a:pt x="602" y="347"/>
                    </a:lnTo>
                    <a:lnTo>
                      <a:pt x="606" y="347"/>
                    </a:lnTo>
                    <a:lnTo>
                      <a:pt x="611" y="347"/>
                    </a:lnTo>
                    <a:lnTo>
                      <a:pt x="615" y="347"/>
                    </a:lnTo>
                    <a:lnTo>
                      <a:pt x="619" y="347"/>
                    </a:lnTo>
                    <a:lnTo>
                      <a:pt x="624" y="347"/>
                    </a:lnTo>
                    <a:lnTo>
                      <a:pt x="628" y="347"/>
                    </a:lnTo>
                    <a:lnTo>
                      <a:pt x="632" y="347"/>
                    </a:lnTo>
                    <a:lnTo>
                      <a:pt x="637" y="347"/>
                    </a:lnTo>
                    <a:lnTo>
                      <a:pt x="641" y="347"/>
                    </a:lnTo>
                    <a:lnTo>
                      <a:pt x="645" y="347"/>
                    </a:lnTo>
                    <a:lnTo>
                      <a:pt x="650" y="347"/>
                    </a:lnTo>
                    <a:lnTo>
                      <a:pt x="654" y="347"/>
                    </a:lnTo>
                    <a:lnTo>
                      <a:pt x="658" y="347"/>
                    </a:lnTo>
                    <a:lnTo>
                      <a:pt x="663" y="347"/>
                    </a:lnTo>
                    <a:lnTo>
                      <a:pt x="667" y="347"/>
                    </a:lnTo>
                    <a:lnTo>
                      <a:pt x="671" y="347"/>
                    </a:lnTo>
                    <a:lnTo>
                      <a:pt x="676" y="347"/>
                    </a:lnTo>
                    <a:lnTo>
                      <a:pt x="680" y="347"/>
                    </a:lnTo>
                    <a:lnTo>
                      <a:pt x="684" y="347"/>
                    </a:lnTo>
                    <a:lnTo>
                      <a:pt x="689" y="347"/>
                    </a:lnTo>
                    <a:lnTo>
                      <a:pt x="693" y="347"/>
                    </a:lnTo>
                    <a:lnTo>
                      <a:pt x="697" y="347"/>
                    </a:lnTo>
                    <a:lnTo>
                      <a:pt x="702" y="347"/>
                    </a:lnTo>
                    <a:lnTo>
                      <a:pt x="706" y="347"/>
                    </a:lnTo>
                    <a:lnTo>
                      <a:pt x="710" y="347"/>
                    </a:lnTo>
                    <a:lnTo>
                      <a:pt x="715" y="347"/>
                    </a:lnTo>
                    <a:lnTo>
                      <a:pt x="719" y="347"/>
                    </a:lnTo>
                    <a:lnTo>
                      <a:pt x="723" y="347"/>
                    </a:lnTo>
                    <a:lnTo>
                      <a:pt x="728" y="347"/>
                    </a:lnTo>
                    <a:lnTo>
                      <a:pt x="732" y="347"/>
                    </a:lnTo>
                    <a:lnTo>
                      <a:pt x="736" y="347"/>
                    </a:lnTo>
                    <a:lnTo>
                      <a:pt x="741" y="347"/>
                    </a:lnTo>
                    <a:lnTo>
                      <a:pt x="745" y="347"/>
                    </a:lnTo>
                    <a:lnTo>
                      <a:pt x="749" y="347"/>
                    </a:lnTo>
                    <a:lnTo>
                      <a:pt x="754" y="347"/>
                    </a:lnTo>
                    <a:lnTo>
                      <a:pt x="758" y="347"/>
                    </a:lnTo>
                    <a:lnTo>
                      <a:pt x="762" y="347"/>
                    </a:lnTo>
                    <a:lnTo>
                      <a:pt x="767" y="347"/>
                    </a:lnTo>
                    <a:lnTo>
                      <a:pt x="771" y="347"/>
                    </a:lnTo>
                    <a:lnTo>
                      <a:pt x="775" y="347"/>
                    </a:lnTo>
                    <a:lnTo>
                      <a:pt x="780" y="347"/>
                    </a:lnTo>
                    <a:lnTo>
                      <a:pt x="784" y="347"/>
                    </a:lnTo>
                    <a:lnTo>
                      <a:pt x="788" y="347"/>
                    </a:lnTo>
                    <a:lnTo>
                      <a:pt x="793" y="347"/>
                    </a:lnTo>
                    <a:lnTo>
                      <a:pt x="797" y="347"/>
                    </a:lnTo>
                    <a:lnTo>
                      <a:pt x="801" y="347"/>
                    </a:lnTo>
                    <a:lnTo>
                      <a:pt x="806" y="347"/>
                    </a:lnTo>
                    <a:lnTo>
                      <a:pt x="810" y="347"/>
                    </a:lnTo>
                    <a:lnTo>
                      <a:pt x="814" y="347"/>
                    </a:lnTo>
                    <a:lnTo>
                      <a:pt x="819" y="347"/>
                    </a:lnTo>
                    <a:lnTo>
                      <a:pt x="823" y="347"/>
                    </a:lnTo>
                    <a:lnTo>
                      <a:pt x="827" y="347"/>
                    </a:lnTo>
                    <a:lnTo>
                      <a:pt x="832" y="347"/>
                    </a:lnTo>
                    <a:lnTo>
                      <a:pt x="836" y="347"/>
                    </a:lnTo>
                    <a:lnTo>
                      <a:pt x="840" y="347"/>
                    </a:lnTo>
                    <a:lnTo>
                      <a:pt x="845" y="347"/>
                    </a:lnTo>
                    <a:lnTo>
                      <a:pt x="845" y="0"/>
                    </a:lnTo>
                    <a:lnTo>
                      <a:pt x="849" y="4"/>
                    </a:lnTo>
                    <a:lnTo>
                      <a:pt x="849" y="9"/>
                    </a:lnTo>
                    <a:lnTo>
                      <a:pt x="849" y="13"/>
                    </a:lnTo>
                    <a:lnTo>
                      <a:pt x="853" y="17"/>
                    </a:lnTo>
                    <a:lnTo>
                      <a:pt x="853" y="22"/>
                    </a:lnTo>
                    <a:lnTo>
                      <a:pt x="853" y="26"/>
                    </a:lnTo>
                    <a:lnTo>
                      <a:pt x="858" y="30"/>
                    </a:lnTo>
                    <a:lnTo>
                      <a:pt x="858" y="35"/>
                    </a:lnTo>
                    <a:lnTo>
                      <a:pt x="858" y="39"/>
                    </a:lnTo>
                    <a:lnTo>
                      <a:pt x="858" y="43"/>
                    </a:lnTo>
                    <a:lnTo>
                      <a:pt x="862" y="48"/>
                    </a:lnTo>
                    <a:lnTo>
                      <a:pt x="862" y="52"/>
                    </a:lnTo>
                    <a:lnTo>
                      <a:pt x="862" y="56"/>
                    </a:lnTo>
                    <a:lnTo>
                      <a:pt x="866" y="61"/>
                    </a:lnTo>
                    <a:lnTo>
                      <a:pt x="866" y="65"/>
                    </a:lnTo>
                    <a:lnTo>
                      <a:pt x="871" y="69"/>
                    </a:lnTo>
                    <a:lnTo>
                      <a:pt x="871" y="74"/>
                    </a:lnTo>
                    <a:lnTo>
                      <a:pt x="871" y="78"/>
                    </a:lnTo>
                    <a:lnTo>
                      <a:pt x="875" y="82"/>
                    </a:lnTo>
                    <a:lnTo>
                      <a:pt x="875" y="87"/>
                    </a:lnTo>
                    <a:lnTo>
                      <a:pt x="875" y="91"/>
                    </a:lnTo>
                    <a:lnTo>
                      <a:pt x="879" y="95"/>
                    </a:lnTo>
                    <a:lnTo>
                      <a:pt x="879" y="100"/>
                    </a:lnTo>
                    <a:lnTo>
                      <a:pt x="879" y="104"/>
                    </a:lnTo>
                    <a:lnTo>
                      <a:pt x="884" y="108"/>
                    </a:lnTo>
                    <a:lnTo>
                      <a:pt x="884" y="113"/>
                    </a:lnTo>
                    <a:lnTo>
                      <a:pt x="888" y="117"/>
                    </a:lnTo>
                    <a:lnTo>
                      <a:pt x="888" y="121"/>
                    </a:lnTo>
                    <a:lnTo>
                      <a:pt x="888" y="126"/>
                    </a:lnTo>
                    <a:lnTo>
                      <a:pt x="892" y="130"/>
                    </a:lnTo>
                    <a:lnTo>
                      <a:pt x="892" y="134"/>
                    </a:lnTo>
                    <a:lnTo>
                      <a:pt x="897" y="139"/>
                    </a:lnTo>
                    <a:lnTo>
                      <a:pt x="897" y="143"/>
                    </a:lnTo>
                    <a:lnTo>
                      <a:pt x="897" y="147"/>
                    </a:lnTo>
                    <a:lnTo>
                      <a:pt x="901" y="147"/>
                    </a:lnTo>
                    <a:lnTo>
                      <a:pt x="901" y="152"/>
                    </a:lnTo>
                    <a:lnTo>
                      <a:pt x="901" y="156"/>
                    </a:lnTo>
                    <a:lnTo>
                      <a:pt x="905" y="156"/>
                    </a:lnTo>
                    <a:lnTo>
                      <a:pt x="905" y="160"/>
                    </a:lnTo>
                    <a:lnTo>
                      <a:pt x="905" y="165"/>
                    </a:lnTo>
                    <a:lnTo>
                      <a:pt x="910" y="169"/>
                    </a:lnTo>
                    <a:lnTo>
                      <a:pt x="910" y="173"/>
                    </a:lnTo>
                    <a:lnTo>
                      <a:pt x="914" y="178"/>
                    </a:lnTo>
                    <a:lnTo>
                      <a:pt x="914" y="182"/>
                    </a:lnTo>
                    <a:lnTo>
                      <a:pt x="918" y="187"/>
                    </a:lnTo>
                    <a:lnTo>
                      <a:pt x="918" y="191"/>
                    </a:lnTo>
                    <a:lnTo>
                      <a:pt x="923" y="191"/>
                    </a:lnTo>
                    <a:lnTo>
                      <a:pt x="923" y="195"/>
                    </a:lnTo>
                    <a:lnTo>
                      <a:pt x="923" y="200"/>
                    </a:lnTo>
                    <a:lnTo>
                      <a:pt x="927" y="200"/>
                    </a:lnTo>
                    <a:lnTo>
                      <a:pt x="927" y="204"/>
                    </a:lnTo>
                    <a:lnTo>
                      <a:pt x="931" y="208"/>
                    </a:lnTo>
                    <a:lnTo>
                      <a:pt x="931" y="213"/>
                    </a:lnTo>
                    <a:lnTo>
                      <a:pt x="936" y="213"/>
                    </a:lnTo>
                    <a:lnTo>
                      <a:pt x="936" y="217"/>
                    </a:lnTo>
                    <a:lnTo>
                      <a:pt x="940" y="221"/>
                    </a:lnTo>
                    <a:lnTo>
                      <a:pt x="940" y="226"/>
                    </a:lnTo>
                    <a:lnTo>
                      <a:pt x="944" y="230"/>
                    </a:lnTo>
                    <a:lnTo>
                      <a:pt x="944" y="234"/>
                    </a:lnTo>
                    <a:lnTo>
                      <a:pt x="949" y="234"/>
                    </a:lnTo>
                    <a:lnTo>
                      <a:pt x="949" y="239"/>
                    </a:lnTo>
                    <a:lnTo>
                      <a:pt x="953" y="239"/>
                    </a:lnTo>
                    <a:lnTo>
                      <a:pt x="953" y="243"/>
                    </a:lnTo>
                    <a:lnTo>
                      <a:pt x="957" y="247"/>
                    </a:lnTo>
                    <a:lnTo>
                      <a:pt x="957" y="252"/>
                    </a:lnTo>
                    <a:lnTo>
                      <a:pt x="961" y="252"/>
                    </a:lnTo>
                    <a:lnTo>
                      <a:pt x="961" y="256"/>
                    </a:lnTo>
                    <a:lnTo>
                      <a:pt x="966" y="256"/>
                    </a:lnTo>
                    <a:lnTo>
                      <a:pt x="966" y="347"/>
                    </a:lnTo>
                    <a:lnTo>
                      <a:pt x="970" y="347"/>
                    </a:lnTo>
                    <a:lnTo>
                      <a:pt x="974" y="347"/>
                    </a:lnTo>
                    <a:lnTo>
                      <a:pt x="979" y="347"/>
                    </a:lnTo>
                    <a:lnTo>
                      <a:pt x="983" y="347"/>
                    </a:lnTo>
                    <a:lnTo>
                      <a:pt x="987" y="347"/>
                    </a:lnTo>
                    <a:lnTo>
                      <a:pt x="992" y="347"/>
                    </a:lnTo>
                    <a:lnTo>
                      <a:pt x="996" y="347"/>
                    </a:lnTo>
                    <a:lnTo>
                      <a:pt x="1000" y="347"/>
                    </a:lnTo>
                    <a:lnTo>
                      <a:pt x="1005" y="347"/>
                    </a:lnTo>
                    <a:lnTo>
                      <a:pt x="1009" y="347"/>
                    </a:lnTo>
                    <a:lnTo>
                      <a:pt x="1013" y="347"/>
                    </a:lnTo>
                    <a:lnTo>
                      <a:pt x="1018" y="347"/>
                    </a:lnTo>
                    <a:lnTo>
                      <a:pt x="1022" y="347"/>
                    </a:lnTo>
                    <a:lnTo>
                      <a:pt x="1026" y="347"/>
                    </a:lnTo>
                    <a:lnTo>
                      <a:pt x="1031" y="347"/>
                    </a:lnTo>
                    <a:lnTo>
                      <a:pt x="1035" y="347"/>
                    </a:lnTo>
                    <a:lnTo>
                      <a:pt x="1039" y="347"/>
                    </a:lnTo>
                    <a:lnTo>
                      <a:pt x="1044" y="347"/>
                    </a:lnTo>
                    <a:lnTo>
                      <a:pt x="1048" y="347"/>
                    </a:lnTo>
                    <a:lnTo>
                      <a:pt x="1052" y="347"/>
                    </a:lnTo>
                    <a:lnTo>
                      <a:pt x="1057" y="347"/>
                    </a:lnTo>
                    <a:lnTo>
                      <a:pt x="1061" y="347"/>
                    </a:lnTo>
                    <a:lnTo>
                      <a:pt x="1065" y="347"/>
                    </a:lnTo>
                    <a:lnTo>
                      <a:pt x="1070" y="347"/>
                    </a:lnTo>
                    <a:lnTo>
                      <a:pt x="1074" y="347"/>
                    </a:lnTo>
                    <a:lnTo>
                      <a:pt x="1078" y="347"/>
                    </a:lnTo>
                    <a:lnTo>
                      <a:pt x="1083" y="347"/>
                    </a:lnTo>
                    <a:lnTo>
                      <a:pt x="1087" y="347"/>
                    </a:lnTo>
                    <a:lnTo>
                      <a:pt x="1091" y="347"/>
                    </a:lnTo>
                    <a:lnTo>
                      <a:pt x="1096" y="347"/>
                    </a:lnTo>
                    <a:lnTo>
                      <a:pt x="1100" y="347"/>
                    </a:lnTo>
                    <a:lnTo>
                      <a:pt x="1104" y="347"/>
                    </a:lnTo>
                    <a:lnTo>
                      <a:pt x="1109" y="347"/>
                    </a:lnTo>
                    <a:lnTo>
                      <a:pt x="1113" y="347"/>
                    </a:lnTo>
                    <a:lnTo>
                      <a:pt x="1117" y="347"/>
                    </a:lnTo>
                    <a:lnTo>
                      <a:pt x="1122" y="347"/>
                    </a:lnTo>
                    <a:lnTo>
                      <a:pt x="1126" y="347"/>
                    </a:lnTo>
                    <a:lnTo>
                      <a:pt x="1130" y="347"/>
                    </a:lnTo>
                    <a:lnTo>
                      <a:pt x="1135" y="347"/>
                    </a:lnTo>
                    <a:lnTo>
                      <a:pt x="1139" y="347"/>
                    </a:lnTo>
                    <a:lnTo>
                      <a:pt x="1143" y="347"/>
                    </a:lnTo>
                    <a:lnTo>
                      <a:pt x="1148" y="347"/>
                    </a:lnTo>
                    <a:lnTo>
                      <a:pt x="1152" y="347"/>
                    </a:lnTo>
                    <a:lnTo>
                      <a:pt x="1156" y="347"/>
                    </a:lnTo>
                    <a:lnTo>
                      <a:pt x="1161" y="347"/>
                    </a:lnTo>
                    <a:lnTo>
                      <a:pt x="1165" y="347"/>
                    </a:lnTo>
                    <a:lnTo>
                      <a:pt x="1169" y="347"/>
                    </a:lnTo>
                    <a:lnTo>
                      <a:pt x="1174" y="347"/>
                    </a:lnTo>
                    <a:lnTo>
                      <a:pt x="1178" y="347"/>
                    </a:lnTo>
                    <a:lnTo>
                      <a:pt x="1182" y="347"/>
                    </a:lnTo>
                    <a:lnTo>
                      <a:pt x="1187" y="347"/>
                    </a:lnTo>
                    <a:lnTo>
                      <a:pt x="1191" y="347"/>
                    </a:lnTo>
                    <a:lnTo>
                      <a:pt x="1195" y="347"/>
                    </a:lnTo>
                    <a:lnTo>
                      <a:pt x="1200" y="347"/>
                    </a:lnTo>
                    <a:lnTo>
                      <a:pt x="1204" y="347"/>
                    </a:lnTo>
                    <a:lnTo>
                      <a:pt x="1208" y="347"/>
                    </a:lnTo>
                    <a:lnTo>
                      <a:pt x="1213" y="347"/>
                    </a:lnTo>
                    <a:lnTo>
                      <a:pt x="1217" y="347"/>
                    </a:lnTo>
                    <a:lnTo>
                      <a:pt x="1221" y="347"/>
                    </a:lnTo>
                    <a:lnTo>
                      <a:pt x="1226" y="347"/>
                    </a:lnTo>
                    <a:lnTo>
                      <a:pt x="1230" y="347"/>
                    </a:lnTo>
                    <a:lnTo>
                      <a:pt x="1234" y="347"/>
                    </a:lnTo>
                    <a:lnTo>
                      <a:pt x="1239" y="347"/>
                    </a:lnTo>
                    <a:lnTo>
                      <a:pt x="1243" y="347"/>
                    </a:lnTo>
                    <a:lnTo>
                      <a:pt x="1247" y="347"/>
                    </a:lnTo>
                    <a:lnTo>
                      <a:pt x="1252" y="347"/>
                    </a:lnTo>
                    <a:lnTo>
                      <a:pt x="1256" y="347"/>
                    </a:lnTo>
                    <a:lnTo>
                      <a:pt x="1260" y="347"/>
                    </a:lnTo>
                    <a:lnTo>
                      <a:pt x="1265" y="347"/>
                    </a:lnTo>
                    <a:lnTo>
                      <a:pt x="1269" y="347"/>
                    </a:lnTo>
                    <a:lnTo>
                      <a:pt x="1273" y="347"/>
                    </a:lnTo>
                    <a:lnTo>
                      <a:pt x="1278" y="347"/>
                    </a:lnTo>
                    <a:lnTo>
                      <a:pt x="1282" y="347"/>
                    </a:lnTo>
                    <a:lnTo>
                      <a:pt x="1286" y="347"/>
                    </a:lnTo>
                    <a:lnTo>
                      <a:pt x="1291" y="347"/>
                    </a:lnTo>
                    <a:lnTo>
                      <a:pt x="1295" y="347"/>
                    </a:lnTo>
                    <a:lnTo>
                      <a:pt x="1299" y="347"/>
                    </a:lnTo>
                    <a:lnTo>
                      <a:pt x="1304" y="347"/>
                    </a:lnTo>
                    <a:lnTo>
                      <a:pt x="1308" y="347"/>
                    </a:lnTo>
                    <a:lnTo>
                      <a:pt x="1312" y="347"/>
                    </a:lnTo>
                    <a:lnTo>
                      <a:pt x="1317" y="347"/>
                    </a:lnTo>
                    <a:lnTo>
                      <a:pt x="1321" y="347"/>
                    </a:lnTo>
                    <a:lnTo>
                      <a:pt x="1325" y="347"/>
                    </a:lnTo>
                  </a:path>
                </a:pathLst>
              </a:cu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 baseline="-25000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custGeom>
              <a:avLst/>
              <a:gdLst>
                <a:gd name="textAreaLeft" fmla="*/ 0 w 4797360"/>
                <a:gd name="textAreaRight" fmla="*/ 4797720 w 4797360"/>
                <a:gd name="textAreaTop" fmla="*/ 0 h 2427120"/>
                <a:gd name="textAreaBottom" fmla="*/ 2427480 h 2427120"/>
              </a:gdLst>
              <a:ahLst/>
              <a:rect l="textAreaLeft" t="textAreaTop" r="textAreaRight" b="textAreaBottom"/>
              <a:pathLst>
                <a:path w="3022" h="1529">
                  <a:moveTo>
                    <a:pt x="0" y="1528"/>
                  </a:moveTo>
                  <a:lnTo>
                    <a:pt x="3021" y="1528"/>
                  </a:lnTo>
                  <a:lnTo>
                    <a:pt x="3021" y="0"/>
                  </a:lnTo>
                  <a:lnTo>
                    <a:pt x="0" y="0"/>
                  </a:lnTo>
                  <a:lnTo>
                    <a:pt x="0" y="1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custGeom>
              <a:avLst/>
              <a:gdLst>
                <a:gd name="textAreaLeft" fmla="*/ 0 w 4244760"/>
                <a:gd name="textAreaRight" fmla="*/ 4245120 w 4244760"/>
                <a:gd name="textAreaTop" fmla="*/ 0 h 1140840"/>
                <a:gd name="textAreaBottom" fmla="*/ 1140840 h 1140840"/>
              </a:gdLst>
              <a:ahLst/>
              <a:rect l="textAreaLeft" t="textAreaTop" r="textAreaRight" b="textAreaBottom"/>
              <a:pathLst>
                <a:path w="2674" h="719">
                  <a:moveTo>
                    <a:pt x="0" y="718"/>
                  </a:moveTo>
                  <a:lnTo>
                    <a:pt x="111" y="710"/>
                  </a:lnTo>
                  <a:lnTo>
                    <a:pt x="221" y="697"/>
                  </a:lnTo>
                  <a:lnTo>
                    <a:pt x="332" y="667"/>
                  </a:lnTo>
                  <a:lnTo>
                    <a:pt x="443" y="633"/>
                  </a:lnTo>
                  <a:lnTo>
                    <a:pt x="562" y="569"/>
                  </a:lnTo>
                  <a:lnTo>
                    <a:pt x="673" y="491"/>
                  </a:lnTo>
                  <a:lnTo>
                    <a:pt x="783" y="397"/>
                  </a:lnTo>
                  <a:lnTo>
                    <a:pt x="894" y="291"/>
                  </a:lnTo>
                  <a:lnTo>
                    <a:pt x="1005" y="178"/>
                  </a:lnTo>
                  <a:lnTo>
                    <a:pt x="1115" y="85"/>
                  </a:lnTo>
                  <a:lnTo>
                    <a:pt x="1226" y="29"/>
                  </a:lnTo>
                  <a:lnTo>
                    <a:pt x="1337" y="0"/>
                  </a:lnTo>
                  <a:lnTo>
                    <a:pt x="1447" y="29"/>
                  </a:lnTo>
                  <a:lnTo>
                    <a:pt x="1558" y="85"/>
                  </a:lnTo>
                  <a:lnTo>
                    <a:pt x="1668" y="178"/>
                  </a:lnTo>
                  <a:lnTo>
                    <a:pt x="1779" y="291"/>
                  </a:lnTo>
                  <a:lnTo>
                    <a:pt x="1890" y="397"/>
                  </a:lnTo>
                  <a:lnTo>
                    <a:pt x="1998" y="491"/>
                  </a:lnTo>
                  <a:lnTo>
                    <a:pt x="2109" y="569"/>
                  </a:lnTo>
                  <a:lnTo>
                    <a:pt x="2230" y="633"/>
                  </a:lnTo>
                  <a:lnTo>
                    <a:pt x="2341" y="667"/>
                  </a:lnTo>
                  <a:lnTo>
                    <a:pt x="2452" y="697"/>
                  </a:lnTo>
                  <a:lnTo>
                    <a:pt x="2562" y="710"/>
                  </a:lnTo>
                  <a:lnTo>
                    <a:pt x="2673" y="7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custGeom>
            <a:avLst/>
            <a:gdLst/>
            <a:ahLst/>
            <a:rect l="l" t="t" r="r" b="b"/>
            <a:pathLst>
              <a:path w="2018" h="1418">
                <a:moveTo>
                  <a:pt x="0" y="1418"/>
                </a:moveTo>
                <a:lnTo>
                  <a:pt x="2018" y="1418"/>
                </a:lnTo>
                <a:lnTo>
                  <a:pt x="2018" y="0"/>
                </a:lnTo>
                <a:lnTo>
                  <a:pt x="0" y="0"/>
                </a:lnTo>
                <a:lnTo>
                  <a:pt x="0" y="1418"/>
                </a:lnTo>
                <a:lnTo>
                  <a:pt x="0" y="1418"/>
                </a:lnTo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custGeom>
              <a:avLst/>
              <a:gdLst>
                <a:gd name="textAreaLeft" fmla="*/ 0 w 2476800"/>
                <a:gd name="textAreaRight" fmla="*/ 2477160 w 2476800"/>
                <a:gd name="textAreaTop" fmla="*/ 0 h 1516680"/>
                <a:gd name="textAreaBottom" fmla="*/ 1517040 h 1516680"/>
              </a:gdLst>
              <a:ahLst/>
              <a:rect l="textAreaLeft" t="textAreaTop" r="textAreaRight" b="textAreaBottom"/>
              <a:pathLst>
                <a:path w="1211" h="850">
                  <a:moveTo>
                    <a:pt x="0" y="850"/>
                  </a:moveTo>
                  <a:lnTo>
                    <a:pt x="1211" y="850"/>
                  </a:lnTo>
                  <a:lnTo>
                    <a:pt x="1211" y="0"/>
                  </a:lnTo>
                  <a:lnTo>
                    <a:pt x="0" y="0"/>
                  </a:lnTo>
                  <a:lnTo>
                    <a:pt x="0" y="8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1169" y="797"/>
                  </a:moveTo>
                  <a:lnTo>
                    <a:pt x="1165" y="797"/>
                  </a:lnTo>
                  <a:lnTo>
                    <a:pt x="1161" y="797"/>
                  </a:lnTo>
                  <a:lnTo>
                    <a:pt x="1153" y="797"/>
                  </a:lnTo>
                  <a:lnTo>
                    <a:pt x="1146" y="797"/>
                  </a:lnTo>
                  <a:lnTo>
                    <a:pt x="1138" y="797"/>
                  </a:lnTo>
                  <a:lnTo>
                    <a:pt x="1131" y="797"/>
                  </a:lnTo>
                  <a:lnTo>
                    <a:pt x="1123" y="797"/>
                  </a:lnTo>
                  <a:lnTo>
                    <a:pt x="1115" y="797"/>
                  </a:lnTo>
                  <a:lnTo>
                    <a:pt x="1108" y="797"/>
                  </a:lnTo>
                  <a:lnTo>
                    <a:pt x="1100" y="797"/>
                  </a:lnTo>
                  <a:lnTo>
                    <a:pt x="1093" y="797"/>
                  </a:lnTo>
                  <a:lnTo>
                    <a:pt x="1085" y="797"/>
                  </a:lnTo>
                  <a:lnTo>
                    <a:pt x="1077" y="797"/>
                  </a:lnTo>
                  <a:lnTo>
                    <a:pt x="1073" y="797"/>
                  </a:lnTo>
                  <a:lnTo>
                    <a:pt x="1066" y="797"/>
                  </a:lnTo>
                  <a:lnTo>
                    <a:pt x="1058" y="797"/>
                  </a:lnTo>
                  <a:lnTo>
                    <a:pt x="1051" y="797"/>
                  </a:lnTo>
                  <a:lnTo>
                    <a:pt x="1043" y="797"/>
                  </a:lnTo>
                  <a:lnTo>
                    <a:pt x="1035" y="797"/>
                  </a:lnTo>
                  <a:lnTo>
                    <a:pt x="1028" y="797"/>
                  </a:lnTo>
                  <a:lnTo>
                    <a:pt x="1020" y="797"/>
                  </a:lnTo>
                  <a:lnTo>
                    <a:pt x="1013" y="797"/>
                  </a:lnTo>
                  <a:lnTo>
                    <a:pt x="1005" y="797"/>
                  </a:lnTo>
                  <a:lnTo>
                    <a:pt x="997" y="797"/>
                  </a:lnTo>
                  <a:lnTo>
                    <a:pt x="990" y="797"/>
                  </a:lnTo>
                  <a:lnTo>
                    <a:pt x="986" y="797"/>
                  </a:lnTo>
                  <a:lnTo>
                    <a:pt x="978" y="797"/>
                  </a:lnTo>
                  <a:lnTo>
                    <a:pt x="971" y="797"/>
                  </a:lnTo>
                  <a:lnTo>
                    <a:pt x="963" y="797"/>
                  </a:lnTo>
                  <a:lnTo>
                    <a:pt x="955" y="797"/>
                  </a:lnTo>
                  <a:lnTo>
                    <a:pt x="948" y="797"/>
                  </a:lnTo>
                  <a:lnTo>
                    <a:pt x="940" y="797"/>
                  </a:lnTo>
                  <a:lnTo>
                    <a:pt x="933" y="797"/>
                  </a:lnTo>
                  <a:lnTo>
                    <a:pt x="925" y="797"/>
                  </a:lnTo>
                  <a:lnTo>
                    <a:pt x="917" y="797"/>
                  </a:lnTo>
                  <a:lnTo>
                    <a:pt x="910" y="797"/>
                  </a:lnTo>
                  <a:lnTo>
                    <a:pt x="902" y="797"/>
                  </a:lnTo>
                  <a:lnTo>
                    <a:pt x="898" y="797"/>
                  </a:lnTo>
                  <a:lnTo>
                    <a:pt x="891" y="797"/>
                  </a:lnTo>
                  <a:lnTo>
                    <a:pt x="883" y="797"/>
                  </a:lnTo>
                  <a:lnTo>
                    <a:pt x="875" y="797"/>
                  </a:lnTo>
                  <a:lnTo>
                    <a:pt x="868" y="797"/>
                  </a:lnTo>
                  <a:lnTo>
                    <a:pt x="860" y="797"/>
                  </a:lnTo>
                  <a:lnTo>
                    <a:pt x="853" y="797"/>
                  </a:lnTo>
                  <a:lnTo>
                    <a:pt x="845" y="797"/>
                  </a:lnTo>
                  <a:lnTo>
                    <a:pt x="837" y="797"/>
                  </a:lnTo>
                  <a:lnTo>
                    <a:pt x="830" y="797"/>
                  </a:lnTo>
                  <a:lnTo>
                    <a:pt x="822" y="797"/>
                  </a:lnTo>
                  <a:lnTo>
                    <a:pt x="814" y="797"/>
                  </a:lnTo>
                  <a:lnTo>
                    <a:pt x="807" y="797"/>
                  </a:lnTo>
                  <a:lnTo>
                    <a:pt x="803" y="797"/>
                  </a:lnTo>
                  <a:lnTo>
                    <a:pt x="795" y="797"/>
                  </a:lnTo>
                  <a:lnTo>
                    <a:pt x="788" y="797"/>
                  </a:lnTo>
                  <a:lnTo>
                    <a:pt x="780" y="797"/>
                  </a:lnTo>
                  <a:lnTo>
                    <a:pt x="773" y="797"/>
                  </a:lnTo>
                  <a:lnTo>
                    <a:pt x="765" y="797"/>
                  </a:lnTo>
                  <a:lnTo>
                    <a:pt x="757" y="797"/>
                  </a:lnTo>
                  <a:lnTo>
                    <a:pt x="750" y="797"/>
                  </a:lnTo>
                  <a:lnTo>
                    <a:pt x="742" y="797"/>
                  </a:lnTo>
                  <a:lnTo>
                    <a:pt x="735" y="797"/>
                  </a:lnTo>
                  <a:lnTo>
                    <a:pt x="727" y="797"/>
                  </a:lnTo>
                  <a:lnTo>
                    <a:pt x="719" y="797"/>
                  </a:lnTo>
                  <a:lnTo>
                    <a:pt x="715" y="797"/>
                  </a:lnTo>
                  <a:lnTo>
                    <a:pt x="708" y="797"/>
                  </a:lnTo>
                  <a:lnTo>
                    <a:pt x="700" y="797"/>
                  </a:lnTo>
                  <a:lnTo>
                    <a:pt x="693" y="797"/>
                  </a:lnTo>
                  <a:lnTo>
                    <a:pt x="685" y="797"/>
                  </a:lnTo>
                  <a:lnTo>
                    <a:pt x="677" y="797"/>
                  </a:lnTo>
                  <a:lnTo>
                    <a:pt x="670" y="797"/>
                  </a:lnTo>
                  <a:lnTo>
                    <a:pt x="662" y="797"/>
                  </a:lnTo>
                  <a:lnTo>
                    <a:pt x="655" y="797"/>
                  </a:lnTo>
                  <a:lnTo>
                    <a:pt x="647" y="797"/>
                  </a:lnTo>
                  <a:lnTo>
                    <a:pt x="639" y="797"/>
                  </a:lnTo>
                  <a:lnTo>
                    <a:pt x="632" y="797"/>
                  </a:lnTo>
                  <a:lnTo>
                    <a:pt x="628" y="797"/>
                  </a:lnTo>
                  <a:lnTo>
                    <a:pt x="620" y="797"/>
                  </a:lnTo>
                  <a:lnTo>
                    <a:pt x="613" y="797"/>
                  </a:lnTo>
                  <a:lnTo>
                    <a:pt x="605" y="797"/>
                  </a:lnTo>
                  <a:lnTo>
                    <a:pt x="597" y="797"/>
                  </a:lnTo>
                  <a:lnTo>
                    <a:pt x="590" y="797"/>
                  </a:lnTo>
                  <a:lnTo>
                    <a:pt x="582" y="797"/>
                  </a:lnTo>
                  <a:lnTo>
                    <a:pt x="575" y="797"/>
                  </a:lnTo>
                  <a:lnTo>
                    <a:pt x="567" y="797"/>
                  </a:lnTo>
                  <a:lnTo>
                    <a:pt x="559" y="797"/>
                  </a:lnTo>
                  <a:lnTo>
                    <a:pt x="552" y="797"/>
                  </a:lnTo>
                  <a:lnTo>
                    <a:pt x="544" y="797"/>
                  </a:lnTo>
                  <a:lnTo>
                    <a:pt x="536" y="797"/>
                  </a:lnTo>
                  <a:lnTo>
                    <a:pt x="533" y="797"/>
                  </a:lnTo>
                  <a:lnTo>
                    <a:pt x="525" y="797"/>
                  </a:lnTo>
                  <a:lnTo>
                    <a:pt x="517" y="797"/>
                  </a:lnTo>
                  <a:lnTo>
                    <a:pt x="510" y="797"/>
                  </a:lnTo>
                  <a:lnTo>
                    <a:pt x="502" y="797"/>
                  </a:lnTo>
                  <a:lnTo>
                    <a:pt x="495" y="797"/>
                  </a:lnTo>
                  <a:lnTo>
                    <a:pt x="487" y="797"/>
                  </a:lnTo>
                  <a:lnTo>
                    <a:pt x="479" y="797"/>
                  </a:lnTo>
                  <a:lnTo>
                    <a:pt x="472" y="797"/>
                  </a:lnTo>
                  <a:lnTo>
                    <a:pt x="464" y="797"/>
                  </a:lnTo>
                  <a:lnTo>
                    <a:pt x="457" y="797"/>
                  </a:lnTo>
                  <a:lnTo>
                    <a:pt x="449" y="797"/>
                  </a:lnTo>
                  <a:lnTo>
                    <a:pt x="445" y="797"/>
                  </a:lnTo>
                  <a:lnTo>
                    <a:pt x="437" y="797"/>
                  </a:lnTo>
                  <a:lnTo>
                    <a:pt x="430" y="797"/>
                  </a:lnTo>
                  <a:lnTo>
                    <a:pt x="422" y="797"/>
                  </a:lnTo>
                  <a:lnTo>
                    <a:pt x="415" y="797"/>
                  </a:lnTo>
                  <a:lnTo>
                    <a:pt x="407" y="797"/>
                  </a:lnTo>
                  <a:lnTo>
                    <a:pt x="399" y="797"/>
                  </a:lnTo>
                  <a:lnTo>
                    <a:pt x="392" y="797"/>
                  </a:lnTo>
                  <a:lnTo>
                    <a:pt x="384" y="797"/>
                  </a:lnTo>
                  <a:lnTo>
                    <a:pt x="377" y="797"/>
                  </a:lnTo>
                  <a:lnTo>
                    <a:pt x="369" y="797"/>
                  </a:lnTo>
                  <a:lnTo>
                    <a:pt x="361" y="797"/>
                  </a:lnTo>
                  <a:lnTo>
                    <a:pt x="358" y="797"/>
                  </a:lnTo>
                  <a:lnTo>
                    <a:pt x="350" y="797"/>
                  </a:lnTo>
                  <a:lnTo>
                    <a:pt x="342" y="797"/>
                  </a:lnTo>
                  <a:lnTo>
                    <a:pt x="335" y="797"/>
                  </a:lnTo>
                  <a:lnTo>
                    <a:pt x="327" y="797"/>
                  </a:lnTo>
                  <a:lnTo>
                    <a:pt x="319" y="797"/>
                  </a:lnTo>
                  <a:lnTo>
                    <a:pt x="312" y="797"/>
                  </a:lnTo>
                  <a:lnTo>
                    <a:pt x="304" y="797"/>
                  </a:lnTo>
                  <a:lnTo>
                    <a:pt x="297" y="797"/>
                  </a:lnTo>
                  <a:lnTo>
                    <a:pt x="289" y="797"/>
                  </a:lnTo>
                  <a:lnTo>
                    <a:pt x="281" y="797"/>
                  </a:lnTo>
                  <a:lnTo>
                    <a:pt x="274" y="797"/>
                  </a:lnTo>
                  <a:lnTo>
                    <a:pt x="266" y="797"/>
                  </a:lnTo>
                  <a:lnTo>
                    <a:pt x="262" y="797"/>
                  </a:lnTo>
                  <a:lnTo>
                    <a:pt x="255" y="797"/>
                  </a:lnTo>
                  <a:lnTo>
                    <a:pt x="247" y="797"/>
                  </a:lnTo>
                  <a:lnTo>
                    <a:pt x="239" y="797"/>
                  </a:lnTo>
                  <a:lnTo>
                    <a:pt x="232" y="797"/>
                  </a:lnTo>
                  <a:lnTo>
                    <a:pt x="224" y="797"/>
                  </a:lnTo>
                  <a:lnTo>
                    <a:pt x="217" y="797"/>
                  </a:lnTo>
                  <a:lnTo>
                    <a:pt x="209" y="797"/>
                  </a:lnTo>
                  <a:lnTo>
                    <a:pt x="201" y="797"/>
                  </a:lnTo>
                  <a:lnTo>
                    <a:pt x="194" y="797"/>
                  </a:lnTo>
                  <a:lnTo>
                    <a:pt x="186" y="797"/>
                  </a:lnTo>
                  <a:lnTo>
                    <a:pt x="179" y="797"/>
                  </a:lnTo>
                  <a:lnTo>
                    <a:pt x="175" y="797"/>
                  </a:lnTo>
                  <a:lnTo>
                    <a:pt x="167" y="797"/>
                  </a:lnTo>
                  <a:lnTo>
                    <a:pt x="159" y="797"/>
                  </a:lnTo>
                  <a:lnTo>
                    <a:pt x="152" y="797"/>
                  </a:lnTo>
                  <a:lnTo>
                    <a:pt x="144" y="797"/>
                  </a:lnTo>
                  <a:lnTo>
                    <a:pt x="137" y="797"/>
                  </a:lnTo>
                  <a:lnTo>
                    <a:pt x="129" y="797"/>
                  </a:lnTo>
                  <a:lnTo>
                    <a:pt x="121" y="797"/>
                  </a:lnTo>
                  <a:lnTo>
                    <a:pt x="114" y="797"/>
                  </a:lnTo>
                  <a:lnTo>
                    <a:pt x="106" y="797"/>
                  </a:lnTo>
                  <a:lnTo>
                    <a:pt x="99" y="797"/>
                  </a:lnTo>
                  <a:lnTo>
                    <a:pt x="91" y="797"/>
                  </a:lnTo>
                  <a:lnTo>
                    <a:pt x="87" y="797"/>
                  </a:lnTo>
                  <a:lnTo>
                    <a:pt x="80" y="797"/>
                  </a:lnTo>
                  <a:lnTo>
                    <a:pt x="72" y="797"/>
                  </a:lnTo>
                  <a:lnTo>
                    <a:pt x="64" y="797"/>
                  </a:lnTo>
                  <a:lnTo>
                    <a:pt x="57" y="797"/>
                  </a:lnTo>
                  <a:lnTo>
                    <a:pt x="49" y="797"/>
                  </a:lnTo>
                  <a:lnTo>
                    <a:pt x="41" y="797"/>
                  </a:lnTo>
                  <a:lnTo>
                    <a:pt x="34" y="797"/>
                  </a:lnTo>
                  <a:lnTo>
                    <a:pt x="26" y="797"/>
                  </a:lnTo>
                  <a:lnTo>
                    <a:pt x="19" y="797"/>
                  </a:lnTo>
                  <a:lnTo>
                    <a:pt x="11" y="797"/>
                  </a:lnTo>
                  <a:lnTo>
                    <a:pt x="3" y="797"/>
                  </a:ln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3"/>
                  </a:lnTo>
                  <a:lnTo>
                    <a:pt x="114" y="793"/>
                  </a:lnTo>
                  <a:lnTo>
                    <a:pt x="121" y="793"/>
                  </a:lnTo>
                  <a:lnTo>
                    <a:pt x="129" y="793"/>
                  </a:lnTo>
                  <a:lnTo>
                    <a:pt x="137" y="789"/>
                  </a:lnTo>
                  <a:lnTo>
                    <a:pt x="144" y="789"/>
                  </a:lnTo>
                  <a:lnTo>
                    <a:pt x="152" y="789"/>
                  </a:lnTo>
                  <a:lnTo>
                    <a:pt x="159" y="785"/>
                  </a:lnTo>
                  <a:lnTo>
                    <a:pt x="167" y="785"/>
                  </a:lnTo>
                  <a:lnTo>
                    <a:pt x="175" y="782"/>
                  </a:lnTo>
                  <a:lnTo>
                    <a:pt x="179" y="782"/>
                  </a:lnTo>
                  <a:lnTo>
                    <a:pt x="186" y="778"/>
                  </a:lnTo>
                  <a:lnTo>
                    <a:pt x="194" y="774"/>
                  </a:lnTo>
                  <a:lnTo>
                    <a:pt x="201" y="770"/>
                  </a:lnTo>
                  <a:lnTo>
                    <a:pt x="209" y="766"/>
                  </a:lnTo>
                  <a:lnTo>
                    <a:pt x="217" y="763"/>
                  </a:lnTo>
                  <a:lnTo>
                    <a:pt x="224" y="759"/>
                  </a:lnTo>
                  <a:lnTo>
                    <a:pt x="232" y="755"/>
                  </a:lnTo>
                  <a:lnTo>
                    <a:pt x="239" y="747"/>
                  </a:lnTo>
                  <a:lnTo>
                    <a:pt x="247" y="743"/>
                  </a:lnTo>
                  <a:lnTo>
                    <a:pt x="255" y="736"/>
                  </a:lnTo>
                  <a:lnTo>
                    <a:pt x="262" y="728"/>
                  </a:lnTo>
                  <a:lnTo>
                    <a:pt x="266" y="721"/>
                  </a:lnTo>
                  <a:lnTo>
                    <a:pt x="274" y="709"/>
                  </a:lnTo>
                  <a:lnTo>
                    <a:pt x="281" y="702"/>
                  </a:lnTo>
                  <a:lnTo>
                    <a:pt x="289" y="690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690"/>
                  </a:lnTo>
                  <a:lnTo>
                    <a:pt x="883" y="702"/>
                  </a:lnTo>
                  <a:lnTo>
                    <a:pt x="891" y="709"/>
                  </a:lnTo>
                  <a:lnTo>
                    <a:pt x="898" y="721"/>
                  </a:lnTo>
                  <a:lnTo>
                    <a:pt x="902" y="728"/>
                  </a:lnTo>
                  <a:lnTo>
                    <a:pt x="910" y="736"/>
                  </a:lnTo>
                  <a:lnTo>
                    <a:pt x="917" y="743"/>
                  </a:lnTo>
                  <a:lnTo>
                    <a:pt x="925" y="747"/>
                  </a:lnTo>
                  <a:lnTo>
                    <a:pt x="933" y="755"/>
                  </a:lnTo>
                  <a:lnTo>
                    <a:pt x="940" y="759"/>
                  </a:lnTo>
                  <a:lnTo>
                    <a:pt x="948" y="763"/>
                  </a:lnTo>
                  <a:lnTo>
                    <a:pt x="955" y="766"/>
                  </a:lnTo>
                  <a:lnTo>
                    <a:pt x="963" y="770"/>
                  </a:lnTo>
                  <a:lnTo>
                    <a:pt x="971" y="774"/>
                  </a:lnTo>
                  <a:lnTo>
                    <a:pt x="978" y="778"/>
                  </a:lnTo>
                  <a:lnTo>
                    <a:pt x="986" y="782"/>
                  </a:lnTo>
                  <a:lnTo>
                    <a:pt x="990" y="782"/>
                  </a:lnTo>
                  <a:lnTo>
                    <a:pt x="997" y="785"/>
                  </a:lnTo>
                  <a:lnTo>
                    <a:pt x="1005" y="785"/>
                  </a:lnTo>
                  <a:lnTo>
                    <a:pt x="1013" y="789"/>
                  </a:lnTo>
                  <a:lnTo>
                    <a:pt x="1020" y="789"/>
                  </a:lnTo>
                  <a:lnTo>
                    <a:pt x="1028" y="789"/>
                  </a:lnTo>
                  <a:lnTo>
                    <a:pt x="1035" y="793"/>
                  </a:lnTo>
                  <a:lnTo>
                    <a:pt x="1043" y="793"/>
                  </a:lnTo>
                  <a:lnTo>
                    <a:pt x="1051" y="793"/>
                  </a:lnTo>
                  <a:lnTo>
                    <a:pt x="1058" y="793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69" h="1">
                  <a:moveTo>
                    <a:pt x="1169" y="0"/>
                  </a:moveTo>
                  <a:lnTo>
                    <a:pt x="1165" y="0"/>
                  </a:lnTo>
                  <a:lnTo>
                    <a:pt x="1161" y="0"/>
                  </a:lnTo>
                  <a:lnTo>
                    <a:pt x="1153" y="0"/>
                  </a:lnTo>
                  <a:lnTo>
                    <a:pt x="1146" y="0"/>
                  </a:lnTo>
                  <a:lnTo>
                    <a:pt x="1138" y="0"/>
                  </a:lnTo>
                  <a:lnTo>
                    <a:pt x="1131" y="0"/>
                  </a:lnTo>
                  <a:lnTo>
                    <a:pt x="1123" y="0"/>
                  </a:lnTo>
                  <a:lnTo>
                    <a:pt x="1115" y="0"/>
                  </a:lnTo>
                  <a:lnTo>
                    <a:pt x="1108" y="0"/>
                  </a:lnTo>
                  <a:lnTo>
                    <a:pt x="1100" y="0"/>
                  </a:lnTo>
                  <a:lnTo>
                    <a:pt x="1093" y="0"/>
                  </a:lnTo>
                  <a:lnTo>
                    <a:pt x="1085" y="0"/>
                  </a:lnTo>
                  <a:lnTo>
                    <a:pt x="1077" y="0"/>
                  </a:lnTo>
                  <a:lnTo>
                    <a:pt x="1073" y="0"/>
                  </a:lnTo>
                  <a:lnTo>
                    <a:pt x="1066" y="0"/>
                  </a:lnTo>
                  <a:lnTo>
                    <a:pt x="1058" y="0"/>
                  </a:lnTo>
                  <a:lnTo>
                    <a:pt x="1051" y="0"/>
                  </a:lnTo>
                  <a:lnTo>
                    <a:pt x="1043" y="0"/>
                  </a:lnTo>
                  <a:lnTo>
                    <a:pt x="1035" y="0"/>
                  </a:lnTo>
                  <a:lnTo>
                    <a:pt x="1028" y="0"/>
                  </a:lnTo>
                  <a:lnTo>
                    <a:pt x="1020" y="0"/>
                  </a:lnTo>
                  <a:lnTo>
                    <a:pt x="1013" y="0"/>
                  </a:lnTo>
                  <a:lnTo>
                    <a:pt x="1005" y="0"/>
                  </a:lnTo>
                  <a:lnTo>
                    <a:pt x="997" y="0"/>
                  </a:lnTo>
                  <a:lnTo>
                    <a:pt x="990" y="0"/>
                  </a:lnTo>
                  <a:lnTo>
                    <a:pt x="986" y="0"/>
                  </a:lnTo>
                  <a:lnTo>
                    <a:pt x="978" y="0"/>
                  </a:lnTo>
                  <a:lnTo>
                    <a:pt x="971" y="0"/>
                  </a:lnTo>
                  <a:lnTo>
                    <a:pt x="963" y="0"/>
                  </a:lnTo>
                  <a:lnTo>
                    <a:pt x="955" y="0"/>
                  </a:lnTo>
                  <a:lnTo>
                    <a:pt x="948" y="0"/>
                  </a:lnTo>
                  <a:lnTo>
                    <a:pt x="940" y="0"/>
                  </a:lnTo>
                  <a:lnTo>
                    <a:pt x="933" y="0"/>
                  </a:lnTo>
                  <a:lnTo>
                    <a:pt x="925" y="0"/>
                  </a:lnTo>
                  <a:lnTo>
                    <a:pt x="917" y="0"/>
                  </a:lnTo>
                  <a:lnTo>
                    <a:pt x="910" y="0"/>
                  </a:lnTo>
                  <a:lnTo>
                    <a:pt x="902" y="0"/>
                  </a:lnTo>
                  <a:lnTo>
                    <a:pt x="898" y="0"/>
                  </a:lnTo>
                  <a:lnTo>
                    <a:pt x="891" y="0"/>
                  </a:lnTo>
                  <a:lnTo>
                    <a:pt x="883" y="0"/>
                  </a:lnTo>
                  <a:lnTo>
                    <a:pt x="875" y="0"/>
                  </a:lnTo>
                  <a:lnTo>
                    <a:pt x="868" y="0"/>
                  </a:lnTo>
                  <a:lnTo>
                    <a:pt x="860" y="0"/>
                  </a:lnTo>
                  <a:lnTo>
                    <a:pt x="853" y="0"/>
                  </a:lnTo>
                  <a:lnTo>
                    <a:pt x="845" y="0"/>
                  </a:lnTo>
                  <a:lnTo>
                    <a:pt x="837" y="0"/>
                  </a:lnTo>
                  <a:lnTo>
                    <a:pt x="830" y="0"/>
                  </a:lnTo>
                  <a:lnTo>
                    <a:pt x="822" y="0"/>
                  </a:lnTo>
                  <a:lnTo>
                    <a:pt x="814" y="0"/>
                  </a:lnTo>
                  <a:lnTo>
                    <a:pt x="807" y="0"/>
                  </a:lnTo>
                  <a:lnTo>
                    <a:pt x="803" y="0"/>
                  </a:lnTo>
                  <a:lnTo>
                    <a:pt x="795" y="0"/>
                  </a:lnTo>
                  <a:lnTo>
                    <a:pt x="788" y="0"/>
                  </a:lnTo>
                  <a:lnTo>
                    <a:pt x="780" y="0"/>
                  </a:lnTo>
                  <a:lnTo>
                    <a:pt x="773" y="0"/>
                  </a:lnTo>
                  <a:lnTo>
                    <a:pt x="765" y="0"/>
                  </a:lnTo>
                  <a:lnTo>
                    <a:pt x="757" y="0"/>
                  </a:lnTo>
                  <a:lnTo>
                    <a:pt x="750" y="0"/>
                  </a:lnTo>
                  <a:lnTo>
                    <a:pt x="742" y="0"/>
                  </a:lnTo>
                  <a:lnTo>
                    <a:pt x="735" y="0"/>
                  </a:lnTo>
                  <a:lnTo>
                    <a:pt x="727" y="0"/>
                  </a:lnTo>
                  <a:lnTo>
                    <a:pt x="719" y="0"/>
                  </a:lnTo>
                  <a:lnTo>
                    <a:pt x="715" y="0"/>
                  </a:lnTo>
                  <a:lnTo>
                    <a:pt x="708" y="0"/>
                  </a:lnTo>
                  <a:lnTo>
                    <a:pt x="700" y="0"/>
                  </a:lnTo>
                  <a:lnTo>
                    <a:pt x="693" y="0"/>
                  </a:lnTo>
                  <a:lnTo>
                    <a:pt x="685" y="0"/>
                  </a:lnTo>
                  <a:lnTo>
                    <a:pt x="677" y="0"/>
                  </a:lnTo>
                  <a:lnTo>
                    <a:pt x="670" y="0"/>
                  </a:lnTo>
                  <a:lnTo>
                    <a:pt x="662" y="0"/>
                  </a:lnTo>
                  <a:lnTo>
                    <a:pt x="655" y="0"/>
                  </a:lnTo>
                  <a:lnTo>
                    <a:pt x="647" y="0"/>
                  </a:lnTo>
                  <a:lnTo>
                    <a:pt x="639" y="0"/>
                  </a:lnTo>
                  <a:lnTo>
                    <a:pt x="632" y="0"/>
                  </a:lnTo>
                  <a:lnTo>
                    <a:pt x="628" y="0"/>
                  </a:lnTo>
                  <a:lnTo>
                    <a:pt x="620" y="0"/>
                  </a:lnTo>
                  <a:lnTo>
                    <a:pt x="613" y="0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590" y="0"/>
                  </a:lnTo>
                  <a:lnTo>
                    <a:pt x="582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59" y="0"/>
                  </a:lnTo>
                  <a:lnTo>
                    <a:pt x="552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17" y="0"/>
                  </a:lnTo>
                  <a:lnTo>
                    <a:pt x="510" y="0"/>
                  </a:lnTo>
                  <a:lnTo>
                    <a:pt x="502" y="0"/>
                  </a:lnTo>
                  <a:lnTo>
                    <a:pt x="495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2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449" y="0"/>
                  </a:lnTo>
                  <a:lnTo>
                    <a:pt x="445" y="0"/>
                  </a:lnTo>
                  <a:lnTo>
                    <a:pt x="437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5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0"/>
                  </a:lnTo>
                  <a:lnTo>
                    <a:pt x="377" y="0"/>
                  </a:lnTo>
                  <a:lnTo>
                    <a:pt x="369" y="0"/>
                  </a:lnTo>
                  <a:lnTo>
                    <a:pt x="361" y="0"/>
                  </a:lnTo>
                  <a:lnTo>
                    <a:pt x="358" y="0"/>
                  </a:lnTo>
                  <a:lnTo>
                    <a:pt x="350" y="0"/>
                  </a:lnTo>
                  <a:lnTo>
                    <a:pt x="342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4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17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0" y="797"/>
                  </a:move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3"/>
                  </a:lnTo>
                  <a:lnTo>
                    <a:pt x="114" y="793"/>
                  </a:lnTo>
                  <a:lnTo>
                    <a:pt x="121" y="793"/>
                  </a:lnTo>
                  <a:lnTo>
                    <a:pt x="129" y="793"/>
                  </a:lnTo>
                  <a:lnTo>
                    <a:pt x="137" y="789"/>
                  </a:lnTo>
                  <a:lnTo>
                    <a:pt x="144" y="789"/>
                  </a:lnTo>
                  <a:lnTo>
                    <a:pt x="152" y="789"/>
                  </a:lnTo>
                  <a:lnTo>
                    <a:pt x="159" y="785"/>
                  </a:lnTo>
                  <a:lnTo>
                    <a:pt x="167" y="785"/>
                  </a:lnTo>
                  <a:lnTo>
                    <a:pt x="175" y="782"/>
                  </a:lnTo>
                  <a:lnTo>
                    <a:pt x="179" y="782"/>
                  </a:lnTo>
                  <a:lnTo>
                    <a:pt x="186" y="778"/>
                  </a:lnTo>
                  <a:lnTo>
                    <a:pt x="194" y="774"/>
                  </a:lnTo>
                  <a:lnTo>
                    <a:pt x="201" y="770"/>
                  </a:lnTo>
                  <a:lnTo>
                    <a:pt x="209" y="766"/>
                  </a:lnTo>
                  <a:lnTo>
                    <a:pt x="217" y="763"/>
                  </a:lnTo>
                  <a:lnTo>
                    <a:pt x="224" y="759"/>
                  </a:lnTo>
                  <a:lnTo>
                    <a:pt x="232" y="755"/>
                  </a:lnTo>
                  <a:lnTo>
                    <a:pt x="239" y="747"/>
                  </a:lnTo>
                  <a:lnTo>
                    <a:pt x="247" y="743"/>
                  </a:lnTo>
                  <a:lnTo>
                    <a:pt x="255" y="736"/>
                  </a:lnTo>
                  <a:lnTo>
                    <a:pt x="262" y="728"/>
                  </a:lnTo>
                  <a:lnTo>
                    <a:pt x="266" y="721"/>
                  </a:lnTo>
                  <a:lnTo>
                    <a:pt x="274" y="709"/>
                  </a:lnTo>
                  <a:lnTo>
                    <a:pt x="281" y="702"/>
                  </a:lnTo>
                  <a:lnTo>
                    <a:pt x="289" y="690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690"/>
                  </a:lnTo>
                  <a:lnTo>
                    <a:pt x="883" y="702"/>
                  </a:lnTo>
                  <a:lnTo>
                    <a:pt x="891" y="709"/>
                  </a:lnTo>
                  <a:lnTo>
                    <a:pt x="898" y="721"/>
                  </a:lnTo>
                  <a:lnTo>
                    <a:pt x="902" y="728"/>
                  </a:lnTo>
                  <a:lnTo>
                    <a:pt x="910" y="736"/>
                  </a:lnTo>
                  <a:lnTo>
                    <a:pt x="917" y="743"/>
                  </a:lnTo>
                  <a:lnTo>
                    <a:pt x="925" y="747"/>
                  </a:lnTo>
                  <a:lnTo>
                    <a:pt x="933" y="755"/>
                  </a:lnTo>
                  <a:lnTo>
                    <a:pt x="940" y="759"/>
                  </a:lnTo>
                  <a:lnTo>
                    <a:pt x="948" y="763"/>
                  </a:lnTo>
                  <a:lnTo>
                    <a:pt x="955" y="766"/>
                  </a:lnTo>
                  <a:lnTo>
                    <a:pt x="963" y="770"/>
                  </a:lnTo>
                  <a:lnTo>
                    <a:pt x="971" y="774"/>
                  </a:lnTo>
                  <a:lnTo>
                    <a:pt x="978" y="778"/>
                  </a:lnTo>
                  <a:lnTo>
                    <a:pt x="986" y="782"/>
                  </a:lnTo>
                  <a:lnTo>
                    <a:pt x="990" y="782"/>
                  </a:lnTo>
                  <a:lnTo>
                    <a:pt x="997" y="785"/>
                  </a:lnTo>
                  <a:lnTo>
                    <a:pt x="1005" y="785"/>
                  </a:lnTo>
                  <a:lnTo>
                    <a:pt x="1013" y="789"/>
                  </a:lnTo>
                  <a:lnTo>
                    <a:pt x="1020" y="789"/>
                  </a:lnTo>
                  <a:lnTo>
                    <a:pt x="1028" y="789"/>
                  </a:lnTo>
                  <a:lnTo>
                    <a:pt x="1035" y="793"/>
                  </a:lnTo>
                  <a:lnTo>
                    <a:pt x="1043" y="793"/>
                  </a:lnTo>
                  <a:lnTo>
                    <a:pt x="1051" y="793"/>
                  </a:lnTo>
                  <a:lnTo>
                    <a:pt x="1058" y="793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1169" y="797"/>
                  </a:moveTo>
                  <a:lnTo>
                    <a:pt x="1165" y="797"/>
                  </a:lnTo>
                  <a:lnTo>
                    <a:pt x="1161" y="797"/>
                  </a:lnTo>
                  <a:lnTo>
                    <a:pt x="1153" y="797"/>
                  </a:lnTo>
                  <a:lnTo>
                    <a:pt x="1146" y="797"/>
                  </a:lnTo>
                  <a:lnTo>
                    <a:pt x="1138" y="797"/>
                  </a:lnTo>
                  <a:lnTo>
                    <a:pt x="1131" y="797"/>
                  </a:lnTo>
                  <a:lnTo>
                    <a:pt x="1123" y="797"/>
                  </a:lnTo>
                  <a:lnTo>
                    <a:pt x="1115" y="797"/>
                  </a:lnTo>
                  <a:lnTo>
                    <a:pt x="1108" y="797"/>
                  </a:lnTo>
                  <a:lnTo>
                    <a:pt x="1100" y="797"/>
                  </a:lnTo>
                  <a:lnTo>
                    <a:pt x="1093" y="797"/>
                  </a:lnTo>
                  <a:lnTo>
                    <a:pt x="1085" y="797"/>
                  </a:lnTo>
                  <a:lnTo>
                    <a:pt x="1077" y="797"/>
                  </a:lnTo>
                  <a:lnTo>
                    <a:pt x="1073" y="797"/>
                  </a:lnTo>
                  <a:lnTo>
                    <a:pt x="1066" y="797"/>
                  </a:lnTo>
                  <a:lnTo>
                    <a:pt x="1058" y="797"/>
                  </a:lnTo>
                  <a:lnTo>
                    <a:pt x="1051" y="797"/>
                  </a:lnTo>
                  <a:lnTo>
                    <a:pt x="1043" y="797"/>
                  </a:lnTo>
                  <a:lnTo>
                    <a:pt x="1035" y="797"/>
                  </a:lnTo>
                  <a:lnTo>
                    <a:pt x="1028" y="797"/>
                  </a:lnTo>
                  <a:lnTo>
                    <a:pt x="1020" y="797"/>
                  </a:lnTo>
                  <a:lnTo>
                    <a:pt x="1013" y="797"/>
                  </a:lnTo>
                  <a:lnTo>
                    <a:pt x="1005" y="797"/>
                  </a:lnTo>
                  <a:lnTo>
                    <a:pt x="997" y="797"/>
                  </a:lnTo>
                  <a:lnTo>
                    <a:pt x="990" y="797"/>
                  </a:lnTo>
                  <a:lnTo>
                    <a:pt x="986" y="797"/>
                  </a:lnTo>
                  <a:lnTo>
                    <a:pt x="978" y="797"/>
                  </a:lnTo>
                  <a:lnTo>
                    <a:pt x="971" y="797"/>
                  </a:lnTo>
                  <a:lnTo>
                    <a:pt x="963" y="797"/>
                  </a:lnTo>
                  <a:lnTo>
                    <a:pt x="955" y="797"/>
                  </a:lnTo>
                  <a:lnTo>
                    <a:pt x="948" y="797"/>
                  </a:lnTo>
                  <a:lnTo>
                    <a:pt x="940" y="797"/>
                  </a:lnTo>
                  <a:lnTo>
                    <a:pt x="933" y="797"/>
                  </a:lnTo>
                  <a:lnTo>
                    <a:pt x="925" y="797"/>
                  </a:lnTo>
                  <a:lnTo>
                    <a:pt x="917" y="797"/>
                  </a:lnTo>
                  <a:lnTo>
                    <a:pt x="910" y="797"/>
                  </a:lnTo>
                  <a:lnTo>
                    <a:pt x="902" y="797"/>
                  </a:lnTo>
                  <a:lnTo>
                    <a:pt x="898" y="797"/>
                  </a:lnTo>
                  <a:lnTo>
                    <a:pt x="891" y="797"/>
                  </a:lnTo>
                  <a:lnTo>
                    <a:pt x="883" y="797"/>
                  </a:lnTo>
                  <a:lnTo>
                    <a:pt x="875" y="797"/>
                  </a:lnTo>
                  <a:lnTo>
                    <a:pt x="868" y="797"/>
                  </a:lnTo>
                  <a:lnTo>
                    <a:pt x="860" y="797"/>
                  </a:lnTo>
                  <a:lnTo>
                    <a:pt x="853" y="797"/>
                  </a:lnTo>
                  <a:lnTo>
                    <a:pt x="845" y="797"/>
                  </a:lnTo>
                  <a:lnTo>
                    <a:pt x="837" y="797"/>
                  </a:lnTo>
                  <a:lnTo>
                    <a:pt x="830" y="797"/>
                  </a:lnTo>
                  <a:lnTo>
                    <a:pt x="822" y="797"/>
                  </a:lnTo>
                  <a:lnTo>
                    <a:pt x="814" y="797"/>
                  </a:lnTo>
                  <a:lnTo>
                    <a:pt x="807" y="797"/>
                  </a:lnTo>
                  <a:lnTo>
                    <a:pt x="803" y="797"/>
                  </a:lnTo>
                  <a:lnTo>
                    <a:pt x="795" y="797"/>
                  </a:lnTo>
                  <a:lnTo>
                    <a:pt x="788" y="797"/>
                  </a:lnTo>
                  <a:lnTo>
                    <a:pt x="780" y="797"/>
                  </a:lnTo>
                  <a:lnTo>
                    <a:pt x="773" y="797"/>
                  </a:lnTo>
                  <a:lnTo>
                    <a:pt x="765" y="797"/>
                  </a:lnTo>
                  <a:lnTo>
                    <a:pt x="757" y="797"/>
                  </a:lnTo>
                  <a:lnTo>
                    <a:pt x="750" y="797"/>
                  </a:lnTo>
                  <a:lnTo>
                    <a:pt x="742" y="797"/>
                  </a:lnTo>
                  <a:lnTo>
                    <a:pt x="735" y="797"/>
                  </a:lnTo>
                  <a:lnTo>
                    <a:pt x="727" y="797"/>
                  </a:lnTo>
                  <a:lnTo>
                    <a:pt x="719" y="797"/>
                  </a:lnTo>
                  <a:lnTo>
                    <a:pt x="715" y="797"/>
                  </a:lnTo>
                  <a:lnTo>
                    <a:pt x="708" y="797"/>
                  </a:lnTo>
                  <a:lnTo>
                    <a:pt x="700" y="797"/>
                  </a:lnTo>
                  <a:lnTo>
                    <a:pt x="693" y="797"/>
                  </a:lnTo>
                  <a:lnTo>
                    <a:pt x="685" y="797"/>
                  </a:lnTo>
                  <a:lnTo>
                    <a:pt x="677" y="797"/>
                  </a:lnTo>
                  <a:lnTo>
                    <a:pt x="670" y="797"/>
                  </a:lnTo>
                  <a:lnTo>
                    <a:pt x="662" y="797"/>
                  </a:lnTo>
                  <a:lnTo>
                    <a:pt x="655" y="797"/>
                  </a:lnTo>
                  <a:lnTo>
                    <a:pt x="647" y="797"/>
                  </a:lnTo>
                  <a:lnTo>
                    <a:pt x="639" y="797"/>
                  </a:lnTo>
                  <a:lnTo>
                    <a:pt x="632" y="797"/>
                  </a:lnTo>
                  <a:lnTo>
                    <a:pt x="628" y="797"/>
                  </a:lnTo>
                  <a:lnTo>
                    <a:pt x="620" y="797"/>
                  </a:lnTo>
                  <a:lnTo>
                    <a:pt x="613" y="797"/>
                  </a:lnTo>
                  <a:lnTo>
                    <a:pt x="605" y="797"/>
                  </a:lnTo>
                  <a:lnTo>
                    <a:pt x="597" y="797"/>
                  </a:lnTo>
                  <a:lnTo>
                    <a:pt x="590" y="797"/>
                  </a:lnTo>
                  <a:lnTo>
                    <a:pt x="582" y="797"/>
                  </a:lnTo>
                  <a:lnTo>
                    <a:pt x="575" y="797"/>
                  </a:lnTo>
                  <a:lnTo>
                    <a:pt x="567" y="797"/>
                  </a:lnTo>
                  <a:lnTo>
                    <a:pt x="559" y="797"/>
                  </a:lnTo>
                  <a:lnTo>
                    <a:pt x="552" y="797"/>
                  </a:lnTo>
                  <a:lnTo>
                    <a:pt x="544" y="797"/>
                  </a:lnTo>
                  <a:lnTo>
                    <a:pt x="536" y="797"/>
                  </a:lnTo>
                  <a:lnTo>
                    <a:pt x="533" y="797"/>
                  </a:lnTo>
                  <a:lnTo>
                    <a:pt x="525" y="797"/>
                  </a:lnTo>
                  <a:lnTo>
                    <a:pt x="517" y="797"/>
                  </a:lnTo>
                  <a:lnTo>
                    <a:pt x="510" y="797"/>
                  </a:lnTo>
                  <a:lnTo>
                    <a:pt x="502" y="797"/>
                  </a:lnTo>
                  <a:lnTo>
                    <a:pt x="495" y="797"/>
                  </a:lnTo>
                  <a:lnTo>
                    <a:pt x="487" y="797"/>
                  </a:lnTo>
                  <a:lnTo>
                    <a:pt x="479" y="797"/>
                  </a:lnTo>
                  <a:lnTo>
                    <a:pt x="472" y="797"/>
                  </a:lnTo>
                  <a:lnTo>
                    <a:pt x="464" y="797"/>
                  </a:lnTo>
                  <a:lnTo>
                    <a:pt x="457" y="797"/>
                  </a:lnTo>
                  <a:lnTo>
                    <a:pt x="449" y="797"/>
                  </a:lnTo>
                  <a:lnTo>
                    <a:pt x="445" y="797"/>
                  </a:lnTo>
                  <a:lnTo>
                    <a:pt x="437" y="797"/>
                  </a:lnTo>
                  <a:lnTo>
                    <a:pt x="430" y="797"/>
                  </a:lnTo>
                  <a:lnTo>
                    <a:pt x="422" y="797"/>
                  </a:lnTo>
                  <a:lnTo>
                    <a:pt x="415" y="797"/>
                  </a:lnTo>
                  <a:lnTo>
                    <a:pt x="407" y="797"/>
                  </a:lnTo>
                  <a:lnTo>
                    <a:pt x="399" y="797"/>
                  </a:lnTo>
                  <a:lnTo>
                    <a:pt x="392" y="797"/>
                  </a:lnTo>
                  <a:lnTo>
                    <a:pt x="384" y="797"/>
                  </a:lnTo>
                  <a:lnTo>
                    <a:pt x="377" y="797"/>
                  </a:lnTo>
                  <a:lnTo>
                    <a:pt x="369" y="797"/>
                  </a:lnTo>
                  <a:lnTo>
                    <a:pt x="361" y="797"/>
                  </a:lnTo>
                  <a:lnTo>
                    <a:pt x="358" y="797"/>
                  </a:lnTo>
                  <a:lnTo>
                    <a:pt x="350" y="797"/>
                  </a:lnTo>
                  <a:lnTo>
                    <a:pt x="342" y="797"/>
                  </a:lnTo>
                  <a:lnTo>
                    <a:pt x="335" y="797"/>
                  </a:lnTo>
                  <a:lnTo>
                    <a:pt x="327" y="797"/>
                  </a:lnTo>
                  <a:lnTo>
                    <a:pt x="319" y="797"/>
                  </a:lnTo>
                  <a:lnTo>
                    <a:pt x="312" y="797"/>
                  </a:lnTo>
                  <a:lnTo>
                    <a:pt x="304" y="797"/>
                  </a:lnTo>
                  <a:lnTo>
                    <a:pt x="297" y="797"/>
                  </a:lnTo>
                  <a:lnTo>
                    <a:pt x="289" y="797"/>
                  </a:lnTo>
                  <a:lnTo>
                    <a:pt x="281" y="797"/>
                  </a:lnTo>
                  <a:lnTo>
                    <a:pt x="274" y="797"/>
                  </a:lnTo>
                  <a:lnTo>
                    <a:pt x="266" y="797"/>
                  </a:lnTo>
                  <a:lnTo>
                    <a:pt x="262" y="797"/>
                  </a:lnTo>
                  <a:lnTo>
                    <a:pt x="255" y="797"/>
                  </a:lnTo>
                  <a:lnTo>
                    <a:pt x="247" y="797"/>
                  </a:lnTo>
                  <a:lnTo>
                    <a:pt x="239" y="797"/>
                  </a:lnTo>
                  <a:lnTo>
                    <a:pt x="232" y="797"/>
                  </a:lnTo>
                  <a:lnTo>
                    <a:pt x="224" y="797"/>
                  </a:lnTo>
                  <a:lnTo>
                    <a:pt x="217" y="797"/>
                  </a:lnTo>
                  <a:lnTo>
                    <a:pt x="209" y="797"/>
                  </a:lnTo>
                  <a:lnTo>
                    <a:pt x="201" y="797"/>
                  </a:lnTo>
                  <a:lnTo>
                    <a:pt x="194" y="797"/>
                  </a:lnTo>
                  <a:lnTo>
                    <a:pt x="186" y="797"/>
                  </a:lnTo>
                  <a:lnTo>
                    <a:pt x="179" y="797"/>
                  </a:lnTo>
                  <a:lnTo>
                    <a:pt x="175" y="797"/>
                  </a:lnTo>
                  <a:lnTo>
                    <a:pt x="167" y="797"/>
                  </a:lnTo>
                  <a:lnTo>
                    <a:pt x="159" y="797"/>
                  </a:lnTo>
                  <a:lnTo>
                    <a:pt x="152" y="797"/>
                  </a:lnTo>
                  <a:lnTo>
                    <a:pt x="144" y="797"/>
                  </a:lnTo>
                  <a:lnTo>
                    <a:pt x="137" y="797"/>
                  </a:lnTo>
                  <a:lnTo>
                    <a:pt x="129" y="797"/>
                  </a:lnTo>
                  <a:lnTo>
                    <a:pt x="121" y="797"/>
                  </a:lnTo>
                  <a:lnTo>
                    <a:pt x="114" y="797"/>
                  </a:lnTo>
                  <a:lnTo>
                    <a:pt x="106" y="797"/>
                  </a:lnTo>
                  <a:lnTo>
                    <a:pt x="99" y="797"/>
                  </a:lnTo>
                  <a:lnTo>
                    <a:pt x="91" y="797"/>
                  </a:lnTo>
                  <a:lnTo>
                    <a:pt x="87" y="797"/>
                  </a:lnTo>
                  <a:lnTo>
                    <a:pt x="80" y="797"/>
                  </a:lnTo>
                  <a:lnTo>
                    <a:pt x="72" y="797"/>
                  </a:lnTo>
                  <a:lnTo>
                    <a:pt x="64" y="797"/>
                  </a:lnTo>
                  <a:lnTo>
                    <a:pt x="57" y="797"/>
                  </a:lnTo>
                  <a:lnTo>
                    <a:pt x="49" y="797"/>
                  </a:lnTo>
                  <a:lnTo>
                    <a:pt x="41" y="797"/>
                  </a:lnTo>
                  <a:lnTo>
                    <a:pt x="34" y="797"/>
                  </a:lnTo>
                  <a:lnTo>
                    <a:pt x="26" y="797"/>
                  </a:lnTo>
                  <a:lnTo>
                    <a:pt x="19" y="797"/>
                  </a:lnTo>
                  <a:lnTo>
                    <a:pt x="11" y="797"/>
                  </a:lnTo>
                  <a:lnTo>
                    <a:pt x="3" y="797"/>
                  </a:ln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7"/>
                  </a:lnTo>
                  <a:lnTo>
                    <a:pt x="114" y="797"/>
                  </a:lnTo>
                  <a:lnTo>
                    <a:pt x="121" y="797"/>
                  </a:lnTo>
                  <a:lnTo>
                    <a:pt x="129" y="797"/>
                  </a:lnTo>
                  <a:lnTo>
                    <a:pt x="137" y="797"/>
                  </a:lnTo>
                  <a:lnTo>
                    <a:pt x="144" y="797"/>
                  </a:lnTo>
                  <a:lnTo>
                    <a:pt x="152" y="797"/>
                  </a:lnTo>
                  <a:lnTo>
                    <a:pt x="159" y="797"/>
                  </a:lnTo>
                  <a:lnTo>
                    <a:pt x="167" y="797"/>
                  </a:lnTo>
                  <a:lnTo>
                    <a:pt x="175" y="797"/>
                  </a:lnTo>
                  <a:lnTo>
                    <a:pt x="179" y="797"/>
                  </a:lnTo>
                  <a:lnTo>
                    <a:pt x="186" y="797"/>
                  </a:lnTo>
                  <a:lnTo>
                    <a:pt x="194" y="797"/>
                  </a:lnTo>
                  <a:lnTo>
                    <a:pt x="201" y="797"/>
                  </a:lnTo>
                  <a:lnTo>
                    <a:pt x="209" y="797"/>
                  </a:lnTo>
                  <a:lnTo>
                    <a:pt x="217" y="797"/>
                  </a:lnTo>
                  <a:lnTo>
                    <a:pt x="224" y="797"/>
                  </a:lnTo>
                  <a:lnTo>
                    <a:pt x="232" y="797"/>
                  </a:lnTo>
                  <a:lnTo>
                    <a:pt x="239" y="797"/>
                  </a:lnTo>
                  <a:lnTo>
                    <a:pt x="247" y="797"/>
                  </a:lnTo>
                  <a:lnTo>
                    <a:pt x="255" y="797"/>
                  </a:lnTo>
                  <a:lnTo>
                    <a:pt x="262" y="797"/>
                  </a:lnTo>
                  <a:lnTo>
                    <a:pt x="266" y="797"/>
                  </a:lnTo>
                  <a:lnTo>
                    <a:pt x="274" y="797"/>
                  </a:lnTo>
                  <a:lnTo>
                    <a:pt x="281" y="797"/>
                  </a:lnTo>
                  <a:lnTo>
                    <a:pt x="289" y="797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797"/>
                  </a:lnTo>
                  <a:lnTo>
                    <a:pt x="883" y="797"/>
                  </a:lnTo>
                  <a:lnTo>
                    <a:pt x="891" y="797"/>
                  </a:lnTo>
                  <a:lnTo>
                    <a:pt x="898" y="797"/>
                  </a:lnTo>
                  <a:lnTo>
                    <a:pt x="902" y="797"/>
                  </a:lnTo>
                  <a:lnTo>
                    <a:pt x="910" y="797"/>
                  </a:lnTo>
                  <a:lnTo>
                    <a:pt x="917" y="797"/>
                  </a:lnTo>
                  <a:lnTo>
                    <a:pt x="925" y="797"/>
                  </a:lnTo>
                  <a:lnTo>
                    <a:pt x="933" y="797"/>
                  </a:lnTo>
                  <a:lnTo>
                    <a:pt x="940" y="797"/>
                  </a:lnTo>
                  <a:lnTo>
                    <a:pt x="948" y="797"/>
                  </a:lnTo>
                  <a:lnTo>
                    <a:pt x="955" y="797"/>
                  </a:lnTo>
                  <a:lnTo>
                    <a:pt x="963" y="797"/>
                  </a:lnTo>
                  <a:lnTo>
                    <a:pt x="971" y="797"/>
                  </a:lnTo>
                  <a:lnTo>
                    <a:pt x="978" y="797"/>
                  </a:lnTo>
                  <a:lnTo>
                    <a:pt x="986" y="797"/>
                  </a:lnTo>
                  <a:lnTo>
                    <a:pt x="990" y="797"/>
                  </a:lnTo>
                  <a:lnTo>
                    <a:pt x="997" y="797"/>
                  </a:lnTo>
                  <a:lnTo>
                    <a:pt x="1005" y="797"/>
                  </a:lnTo>
                  <a:lnTo>
                    <a:pt x="1013" y="797"/>
                  </a:lnTo>
                  <a:lnTo>
                    <a:pt x="1020" y="797"/>
                  </a:lnTo>
                  <a:lnTo>
                    <a:pt x="1028" y="797"/>
                  </a:lnTo>
                  <a:lnTo>
                    <a:pt x="1035" y="797"/>
                  </a:lnTo>
                  <a:lnTo>
                    <a:pt x="1043" y="797"/>
                  </a:lnTo>
                  <a:lnTo>
                    <a:pt x="1051" y="797"/>
                  </a:lnTo>
                  <a:lnTo>
                    <a:pt x="1058" y="797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69" h="1">
                  <a:moveTo>
                    <a:pt x="1169" y="0"/>
                  </a:moveTo>
                  <a:lnTo>
                    <a:pt x="1165" y="0"/>
                  </a:lnTo>
                  <a:lnTo>
                    <a:pt x="1161" y="0"/>
                  </a:lnTo>
                  <a:lnTo>
                    <a:pt x="1153" y="0"/>
                  </a:lnTo>
                  <a:lnTo>
                    <a:pt x="1146" y="0"/>
                  </a:lnTo>
                  <a:lnTo>
                    <a:pt x="1138" y="0"/>
                  </a:lnTo>
                  <a:lnTo>
                    <a:pt x="1131" y="0"/>
                  </a:lnTo>
                  <a:lnTo>
                    <a:pt x="1123" y="0"/>
                  </a:lnTo>
                  <a:lnTo>
                    <a:pt x="1115" y="0"/>
                  </a:lnTo>
                  <a:lnTo>
                    <a:pt x="1108" y="0"/>
                  </a:lnTo>
                  <a:lnTo>
                    <a:pt x="1100" y="0"/>
                  </a:lnTo>
                  <a:lnTo>
                    <a:pt x="1093" y="0"/>
                  </a:lnTo>
                  <a:lnTo>
                    <a:pt x="1085" y="0"/>
                  </a:lnTo>
                  <a:lnTo>
                    <a:pt x="1077" y="0"/>
                  </a:lnTo>
                  <a:lnTo>
                    <a:pt x="1073" y="0"/>
                  </a:lnTo>
                  <a:lnTo>
                    <a:pt x="1066" y="0"/>
                  </a:lnTo>
                  <a:lnTo>
                    <a:pt x="1058" y="0"/>
                  </a:lnTo>
                  <a:lnTo>
                    <a:pt x="1051" y="0"/>
                  </a:lnTo>
                  <a:lnTo>
                    <a:pt x="1043" y="0"/>
                  </a:lnTo>
                  <a:lnTo>
                    <a:pt x="1035" y="0"/>
                  </a:lnTo>
                  <a:lnTo>
                    <a:pt x="1028" y="0"/>
                  </a:lnTo>
                  <a:lnTo>
                    <a:pt x="1020" y="0"/>
                  </a:lnTo>
                  <a:lnTo>
                    <a:pt x="1013" y="0"/>
                  </a:lnTo>
                  <a:lnTo>
                    <a:pt x="1005" y="0"/>
                  </a:lnTo>
                  <a:lnTo>
                    <a:pt x="997" y="0"/>
                  </a:lnTo>
                  <a:lnTo>
                    <a:pt x="990" y="0"/>
                  </a:lnTo>
                  <a:lnTo>
                    <a:pt x="986" y="0"/>
                  </a:lnTo>
                  <a:lnTo>
                    <a:pt x="978" y="0"/>
                  </a:lnTo>
                  <a:lnTo>
                    <a:pt x="971" y="0"/>
                  </a:lnTo>
                  <a:lnTo>
                    <a:pt x="963" y="0"/>
                  </a:lnTo>
                  <a:lnTo>
                    <a:pt x="955" y="0"/>
                  </a:lnTo>
                  <a:lnTo>
                    <a:pt x="948" y="0"/>
                  </a:lnTo>
                  <a:lnTo>
                    <a:pt x="940" y="0"/>
                  </a:lnTo>
                  <a:lnTo>
                    <a:pt x="933" y="0"/>
                  </a:lnTo>
                  <a:lnTo>
                    <a:pt x="925" y="0"/>
                  </a:lnTo>
                  <a:lnTo>
                    <a:pt x="917" y="0"/>
                  </a:lnTo>
                  <a:lnTo>
                    <a:pt x="910" y="0"/>
                  </a:lnTo>
                  <a:lnTo>
                    <a:pt x="902" y="0"/>
                  </a:lnTo>
                  <a:lnTo>
                    <a:pt x="898" y="0"/>
                  </a:lnTo>
                  <a:lnTo>
                    <a:pt x="891" y="0"/>
                  </a:lnTo>
                  <a:lnTo>
                    <a:pt x="883" y="0"/>
                  </a:lnTo>
                  <a:lnTo>
                    <a:pt x="875" y="0"/>
                  </a:lnTo>
                  <a:lnTo>
                    <a:pt x="868" y="0"/>
                  </a:lnTo>
                  <a:lnTo>
                    <a:pt x="860" y="0"/>
                  </a:lnTo>
                  <a:lnTo>
                    <a:pt x="853" y="0"/>
                  </a:lnTo>
                  <a:lnTo>
                    <a:pt x="845" y="0"/>
                  </a:lnTo>
                  <a:lnTo>
                    <a:pt x="837" y="0"/>
                  </a:lnTo>
                  <a:lnTo>
                    <a:pt x="830" y="0"/>
                  </a:lnTo>
                  <a:lnTo>
                    <a:pt x="822" y="0"/>
                  </a:lnTo>
                  <a:lnTo>
                    <a:pt x="814" y="0"/>
                  </a:lnTo>
                  <a:lnTo>
                    <a:pt x="807" y="0"/>
                  </a:lnTo>
                  <a:lnTo>
                    <a:pt x="803" y="0"/>
                  </a:lnTo>
                  <a:lnTo>
                    <a:pt x="795" y="0"/>
                  </a:lnTo>
                  <a:lnTo>
                    <a:pt x="788" y="0"/>
                  </a:lnTo>
                  <a:lnTo>
                    <a:pt x="780" y="0"/>
                  </a:lnTo>
                  <a:lnTo>
                    <a:pt x="773" y="0"/>
                  </a:lnTo>
                  <a:lnTo>
                    <a:pt x="765" y="0"/>
                  </a:lnTo>
                  <a:lnTo>
                    <a:pt x="757" y="0"/>
                  </a:lnTo>
                  <a:lnTo>
                    <a:pt x="750" y="0"/>
                  </a:lnTo>
                  <a:lnTo>
                    <a:pt x="742" y="0"/>
                  </a:lnTo>
                  <a:lnTo>
                    <a:pt x="735" y="0"/>
                  </a:lnTo>
                  <a:lnTo>
                    <a:pt x="727" y="0"/>
                  </a:lnTo>
                  <a:lnTo>
                    <a:pt x="719" y="0"/>
                  </a:lnTo>
                  <a:lnTo>
                    <a:pt x="715" y="0"/>
                  </a:lnTo>
                  <a:lnTo>
                    <a:pt x="708" y="0"/>
                  </a:lnTo>
                  <a:lnTo>
                    <a:pt x="700" y="0"/>
                  </a:lnTo>
                  <a:lnTo>
                    <a:pt x="693" y="0"/>
                  </a:lnTo>
                  <a:lnTo>
                    <a:pt x="685" y="0"/>
                  </a:lnTo>
                  <a:lnTo>
                    <a:pt x="677" y="0"/>
                  </a:lnTo>
                  <a:lnTo>
                    <a:pt x="670" y="0"/>
                  </a:lnTo>
                  <a:lnTo>
                    <a:pt x="662" y="0"/>
                  </a:lnTo>
                  <a:lnTo>
                    <a:pt x="655" y="0"/>
                  </a:lnTo>
                  <a:lnTo>
                    <a:pt x="647" y="0"/>
                  </a:lnTo>
                  <a:lnTo>
                    <a:pt x="639" y="0"/>
                  </a:lnTo>
                  <a:lnTo>
                    <a:pt x="632" y="0"/>
                  </a:lnTo>
                  <a:lnTo>
                    <a:pt x="628" y="0"/>
                  </a:lnTo>
                  <a:lnTo>
                    <a:pt x="620" y="0"/>
                  </a:lnTo>
                  <a:lnTo>
                    <a:pt x="613" y="0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590" y="0"/>
                  </a:lnTo>
                  <a:lnTo>
                    <a:pt x="582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59" y="0"/>
                  </a:lnTo>
                  <a:lnTo>
                    <a:pt x="552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17" y="0"/>
                  </a:lnTo>
                  <a:lnTo>
                    <a:pt x="510" y="0"/>
                  </a:lnTo>
                  <a:lnTo>
                    <a:pt x="502" y="0"/>
                  </a:lnTo>
                  <a:lnTo>
                    <a:pt x="495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2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449" y="0"/>
                  </a:lnTo>
                  <a:lnTo>
                    <a:pt x="445" y="0"/>
                  </a:lnTo>
                  <a:lnTo>
                    <a:pt x="437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5" y="0"/>
                  </a:lnTo>
                  <a:lnTo>
                    <a:pt x="407" y="0"/>
                  </a:lnTo>
                  <a:lnTo>
                    <a:pt x="399" y="0"/>
                  </a:lnTo>
                  <a:lnTo>
                    <a:pt x="392" y="0"/>
                  </a:lnTo>
                  <a:lnTo>
                    <a:pt x="384" y="0"/>
                  </a:lnTo>
                  <a:lnTo>
                    <a:pt x="377" y="0"/>
                  </a:lnTo>
                  <a:lnTo>
                    <a:pt x="369" y="0"/>
                  </a:lnTo>
                  <a:lnTo>
                    <a:pt x="361" y="0"/>
                  </a:lnTo>
                  <a:lnTo>
                    <a:pt x="358" y="0"/>
                  </a:lnTo>
                  <a:lnTo>
                    <a:pt x="350" y="0"/>
                  </a:lnTo>
                  <a:lnTo>
                    <a:pt x="342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7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4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17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custGeom>
              <a:avLst/>
              <a:gdLst>
                <a:gd name="textAreaLeft" fmla="*/ 0 w 2390760"/>
                <a:gd name="textAreaRight" fmla="*/ 2391120 w 2390760"/>
                <a:gd name="textAreaTop" fmla="*/ 0 h 1422360"/>
                <a:gd name="textAreaBottom" fmla="*/ 1422720 h 1422360"/>
              </a:gdLst>
              <a:ahLst/>
              <a:rect l="textAreaLeft" t="textAreaTop" r="textAreaRight" b="textAreaBottom"/>
              <a:pathLst>
                <a:path w="1169" h="797">
                  <a:moveTo>
                    <a:pt x="0" y="797"/>
                  </a:moveTo>
                  <a:lnTo>
                    <a:pt x="0" y="797"/>
                  </a:lnTo>
                  <a:lnTo>
                    <a:pt x="3" y="797"/>
                  </a:lnTo>
                  <a:lnTo>
                    <a:pt x="11" y="797"/>
                  </a:lnTo>
                  <a:lnTo>
                    <a:pt x="19" y="797"/>
                  </a:lnTo>
                  <a:lnTo>
                    <a:pt x="26" y="797"/>
                  </a:lnTo>
                  <a:lnTo>
                    <a:pt x="34" y="797"/>
                  </a:lnTo>
                  <a:lnTo>
                    <a:pt x="41" y="797"/>
                  </a:lnTo>
                  <a:lnTo>
                    <a:pt x="49" y="797"/>
                  </a:lnTo>
                  <a:lnTo>
                    <a:pt x="57" y="797"/>
                  </a:lnTo>
                  <a:lnTo>
                    <a:pt x="64" y="797"/>
                  </a:lnTo>
                  <a:lnTo>
                    <a:pt x="72" y="797"/>
                  </a:lnTo>
                  <a:lnTo>
                    <a:pt x="80" y="797"/>
                  </a:lnTo>
                  <a:lnTo>
                    <a:pt x="87" y="797"/>
                  </a:lnTo>
                  <a:lnTo>
                    <a:pt x="91" y="797"/>
                  </a:lnTo>
                  <a:lnTo>
                    <a:pt x="99" y="797"/>
                  </a:lnTo>
                  <a:lnTo>
                    <a:pt x="106" y="797"/>
                  </a:lnTo>
                  <a:lnTo>
                    <a:pt x="114" y="797"/>
                  </a:lnTo>
                  <a:lnTo>
                    <a:pt x="121" y="797"/>
                  </a:lnTo>
                  <a:lnTo>
                    <a:pt x="129" y="797"/>
                  </a:lnTo>
                  <a:lnTo>
                    <a:pt x="137" y="797"/>
                  </a:lnTo>
                  <a:lnTo>
                    <a:pt x="144" y="797"/>
                  </a:lnTo>
                  <a:lnTo>
                    <a:pt x="152" y="797"/>
                  </a:lnTo>
                  <a:lnTo>
                    <a:pt x="159" y="797"/>
                  </a:lnTo>
                  <a:lnTo>
                    <a:pt x="167" y="797"/>
                  </a:lnTo>
                  <a:lnTo>
                    <a:pt x="175" y="797"/>
                  </a:lnTo>
                  <a:lnTo>
                    <a:pt x="179" y="797"/>
                  </a:lnTo>
                  <a:lnTo>
                    <a:pt x="186" y="797"/>
                  </a:lnTo>
                  <a:lnTo>
                    <a:pt x="194" y="797"/>
                  </a:lnTo>
                  <a:lnTo>
                    <a:pt x="201" y="797"/>
                  </a:lnTo>
                  <a:lnTo>
                    <a:pt x="209" y="797"/>
                  </a:lnTo>
                  <a:lnTo>
                    <a:pt x="217" y="797"/>
                  </a:lnTo>
                  <a:lnTo>
                    <a:pt x="224" y="797"/>
                  </a:lnTo>
                  <a:lnTo>
                    <a:pt x="232" y="797"/>
                  </a:lnTo>
                  <a:lnTo>
                    <a:pt x="239" y="797"/>
                  </a:lnTo>
                  <a:lnTo>
                    <a:pt x="247" y="797"/>
                  </a:lnTo>
                  <a:lnTo>
                    <a:pt x="255" y="797"/>
                  </a:lnTo>
                  <a:lnTo>
                    <a:pt x="262" y="797"/>
                  </a:lnTo>
                  <a:lnTo>
                    <a:pt x="266" y="797"/>
                  </a:lnTo>
                  <a:lnTo>
                    <a:pt x="274" y="797"/>
                  </a:lnTo>
                  <a:lnTo>
                    <a:pt x="281" y="797"/>
                  </a:lnTo>
                  <a:lnTo>
                    <a:pt x="289" y="797"/>
                  </a:lnTo>
                  <a:lnTo>
                    <a:pt x="297" y="679"/>
                  </a:lnTo>
                  <a:lnTo>
                    <a:pt x="304" y="667"/>
                  </a:lnTo>
                  <a:lnTo>
                    <a:pt x="312" y="656"/>
                  </a:lnTo>
                  <a:lnTo>
                    <a:pt x="319" y="641"/>
                  </a:lnTo>
                  <a:lnTo>
                    <a:pt x="327" y="625"/>
                  </a:lnTo>
                  <a:lnTo>
                    <a:pt x="335" y="610"/>
                  </a:lnTo>
                  <a:lnTo>
                    <a:pt x="342" y="595"/>
                  </a:lnTo>
                  <a:lnTo>
                    <a:pt x="350" y="576"/>
                  </a:lnTo>
                  <a:lnTo>
                    <a:pt x="358" y="557"/>
                  </a:lnTo>
                  <a:lnTo>
                    <a:pt x="361" y="538"/>
                  </a:lnTo>
                  <a:lnTo>
                    <a:pt x="369" y="519"/>
                  </a:lnTo>
                  <a:lnTo>
                    <a:pt x="377" y="499"/>
                  </a:lnTo>
                  <a:lnTo>
                    <a:pt x="384" y="477"/>
                  </a:lnTo>
                  <a:lnTo>
                    <a:pt x="392" y="454"/>
                  </a:lnTo>
                  <a:lnTo>
                    <a:pt x="399" y="431"/>
                  </a:lnTo>
                  <a:lnTo>
                    <a:pt x="407" y="408"/>
                  </a:lnTo>
                  <a:lnTo>
                    <a:pt x="415" y="385"/>
                  </a:lnTo>
                  <a:lnTo>
                    <a:pt x="422" y="362"/>
                  </a:lnTo>
                  <a:lnTo>
                    <a:pt x="430" y="339"/>
                  </a:lnTo>
                  <a:lnTo>
                    <a:pt x="437" y="313"/>
                  </a:lnTo>
                  <a:lnTo>
                    <a:pt x="445" y="290"/>
                  </a:lnTo>
                  <a:lnTo>
                    <a:pt x="449" y="267"/>
                  </a:lnTo>
                  <a:lnTo>
                    <a:pt x="457" y="240"/>
                  </a:lnTo>
                  <a:lnTo>
                    <a:pt x="464" y="217"/>
                  </a:lnTo>
                  <a:lnTo>
                    <a:pt x="472" y="194"/>
                  </a:lnTo>
                  <a:lnTo>
                    <a:pt x="479" y="172"/>
                  </a:lnTo>
                  <a:lnTo>
                    <a:pt x="487" y="153"/>
                  </a:lnTo>
                  <a:lnTo>
                    <a:pt x="495" y="130"/>
                  </a:lnTo>
                  <a:lnTo>
                    <a:pt x="502" y="111"/>
                  </a:lnTo>
                  <a:lnTo>
                    <a:pt x="510" y="92"/>
                  </a:lnTo>
                  <a:lnTo>
                    <a:pt x="517" y="76"/>
                  </a:lnTo>
                  <a:lnTo>
                    <a:pt x="525" y="61"/>
                  </a:lnTo>
                  <a:lnTo>
                    <a:pt x="533" y="46"/>
                  </a:lnTo>
                  <a:lnTo>
                    <a:pt x="536" y="34"/>
                  </a:lnTo>
                  <a:lnTo>
                    <a:pt x="544" y="23"/>
                  </a:lnTo>
                  <a:lnTo>
                    <a:pt x="552" y="15"/>
                  </a:lnTo>
                  <a:lnTo>
                    <a:pt x="559" y="8"/>
                  </a:lnTo>
                  <a:lnTo>
                    <a:pt x="567" y="4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0" y="0"/>
                  </a:lnTo>
                  <a:lnTo>
                    <a:pt x="597" y="4"/>
                  </a:lnTo>
                  <a:lnTo>
                    <a:pt x="605" y="8"/>
                  </a:lnTo>
                  <a:lnTo>
                    <a:pt x="613" y="15"/>
                  </a:lnTo>
                  <a:lnTo>
                    <a:pt x="620" y="23"/>
                  </a:lnTo>
                  <a:lnTo>
                    <a:pt x="628" y="34"/>
                  </a:lnTo>
                  <a:lnTo>
                    <a:pt x="632" y="46"/>
                  </a:lnTo>
                  <a:lnTo>
                    <a:pt x="639" y="61"/>
                  </a:lnTo>
                  <a:lnTo>
                    <a:pt x="647" y="76"/>
                  </a:lnTo>
                  <a:lnTo>
                    <a:pt x="655" y="92"/>
                  </a:lnTo>
                  <a:lnTo>
                    <a:pt x="662" y="111"/>
                  </a:lnTo>
                  <a:lnTo>
                    <a:pt x="670" y="130"/>
                  </a:lnTo>
                  <a:lnTo>
                    <a:pt x="677" y="153"/>
                  </a:lnTo>
                  <a:lnTo>
                    <a:pt x="685" y="172"/>
                  </a:lnTo>
                  <a:lnTo>
                    <a:pt x="693" y="194"/>
                  </a:lnTo>
                  <a:lnTo>
                    <a:pt x="700" y="217"/>
                  </a:lnTo>
                  <a:lnTo>
                    <a:pt x="708" y="240"/>
                  </a:lnTo>
                  <a:lnTo>
                    <a:pt x="715" y="267"/>
                  </a:lnTo>
                  <a:lnTo>
                    <a:pt x="719" y="290"/>
                  </a:lnTo>
                  <a:lnTo>
                    <a:pt x="727" y="313"/>
                  </a:lnTo>
                  <a:lnTo>
                    <a:pt x="735" y="339"/>
                  </a:lnTo>
                  <a:lnTo>
                    <a:pt x="742" y="362"/>
                  </a:lnTo>
                  <a:lnTo>
                    <a:pt x="750" y="385"/>
                  </a:lnTo>
                  <a:lnTo>
                    <a:pt x="757" y="408"/>
                  </a:lnTo>
                  <a:lnTo>
                    <a:pt x="765" y="431"/>
                  </a:lnTo>
                  <a:lnTo>
                    <a:pt x="773" y="454"/>
                  </a:lnTo>
                  <a:lnTo>
                    <a:pt x="780" y="477"/>
                  </a:lnTo>
                  <a:lnTo>
                    <a:pt x="788" y="499"/>
                  </a:lnTo>
                  <a:lnTo>
                    <a:pt x="795" y="519"/>
                  </a:lnTo>
                  <a:lnTo>
                    <a:pt x="803" y="538"/>
                  </a:lnTo>
                  <a:lnTo>
                    <a:pt x="807" y="557"/>
                  </a:lnTo>
                  <a:lnTo>
                    <a:pt x="814" y="576"/>
                  </a:lnTo>
                  <a:lnTo>
                    <a:pt x="822" y="595"/>
                  </a:lnTo>
                  <a:lnTo>
                    <a:pt x="830" y="610"/>
                  </a:lnTo>
                  <a:lnTo>
                    <a:pt x="837" y="625"/>
                  </a:lnTo>
                  <a:lnTo>
                    <a:pt x="845" y="641"/>
                  </a:lnTo>
                  <a:lnTo>
                    <a:pt x="853" y="656"/>
                  </a:lnTo>
                  <a:lnTo>
                    <a:pt x="860" y="667"/>
                  </a:lnTo>
                  <a:lnTo>
                    <a:pt x="868" y="679"/>
                  </a:lnTo>
                  <a:lnTo>
                    <a:pt x="875" y="797"/>
                  </a:lnTo>
                  <a:lnTo>
                    <a:pt x="883" y="797"/>
                  </a:lnTo>
                  <a:lnTo>
                    <a:pt x="891" y="797"/>
                  </a:lnTo>
                  <a:lnTo>
                    <a:pt x="898" y="797"/>
                  </a:lnTo>
                  <a:lnTo>
                    <a:pt x="902" y="797"/>
                  </a:lnTo>
                  <a:lnTo>
                    <a:pt x="910" y="797"/>
                  </a:lnTo>
                  <a:lnTo>
                    <a:pt x="917" y="797"/>
                  </a:lnTo>
                  <a:lnTo>
                    <a:pt x="925" y="797"/>
                  </a:lnTo>
                  <a:lnTo>
                    <a:pt x="933" y="797"/>
                  </a:lnTo>
                  <a:lnTo>
                    <a:pt x="940" y="797"/>
                  </a:lnTo>
                  <a:lnTo>
                    <a:pt x="948" y="797"/>
                  </a:lnTo>
                  <a:lnTo>
                    <a:pt x="955" y="797"/>
                  </a:lnTo>
                  <a:lnTo>
                    <a:pt x="963" y="797"/>
                  </a:lnTo>
                  <a:lnTo>
                    <a:pt x="971" y="797"/>
                  </a:lnTo>
                  <a:lnTo>
                    <a:pt x="978" y="797"/>
                  </a:lnTo>
                  <a:lnTo>
                    <a:pt x="986" y="797"/>
                  </a:lnTo>
                  <a:lnTo>
                    <a:pt x="990" y="797"/>
                  </a:lnTo>
                  <a:lnTo>
                    <a:pt x="997" y="797"/>
                  </a:lnTo>
                  <a:lnTo>
                    <a:pt x="1005" y="797"/>
                  </a:lnTo>
                  <a:lnTo>
                    <a:pt x="1013" y="797"/>
                  </a:lnTo>
                  <a:lnTo>
                    <a:pt x="1020" y="797"/>
                  </a:lnTo>
                  <a:lnTo>
                    <a:pt x="1028" y="797"/>
                  </a:lnTo>
                  <a:lnTo>
                    <a:pt x="1035" y="797"/>
                  </a:lnTo>
                  <a:lnTo>
                    <a:pt x="1043" y="797"/>
                  </a:lnTo>
                  <a:lnTo>
                    <a:pt x="1051" y="797"/>
                  </a:lnTo>
                  <a:lnTo>
                    <a:pt x="1058" y="797"/>
                  </a:lnTo>
                  <a:lnTo>
                    <a:pt x="1066" y="797"/>
                  </a:lnTo>
                  <a:lnTo>
                    <a:pt x="1073" y="797"/>
                  </a:lnTo>
                  <a:lnTo>
                    <a:pt x="1077" y="797"/>
                  </a:lnTo>
                  <a:lnTo>
                    <a:pt x="1085" y="797"/>
                  </a:lnTo>
                  <a:lnTo>
                    <a:pt x="1093" y="797"/>
                  </a:lnTo>
                  <a:lnTo>
                    <a:pt x="1100" y="797"/>
                  </a:lnTo>
                  <a:lnTo>
                    <a:pt x="1108" y="797"/>
                  </a:lnTo>
                  <a:lnTo>
                    <a:pt x="1115" y="797"/>
                  </a:lnTo>
                  <a:lnTo>
                    <a:pt x="1123" y="797"/>
                  </a:lnTo>
                  <a:lnTo>
                    <a:pt x="1131" y="797"/>
                  </a:lnTo>
                  <a:lnTo>
                    <a:pt x="1138" y="797"/>
                  </a:lnTo>
                  <a:lnTo>
                    <a:pt x="1146" y="797"/>
                  </a:lnTo>
                  <a:lnTo>
                    <a:pt x="1153" y="797"/>
                  </a:lnTo>
                  <a:lnTo>
                    <a:pt x="1161" y="797"/>
                  </a:lnTo>
                  <a:lnTo>
                    <a:pt x="1165" y="797"/>
                  </a:lnTo>
                  <a:lnTo>
                    <a:pt x="1169" y="7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custGeom>
              <a:avLst/>
              <a:gdLst>
                <a:gd name="textAreaLeft" fmla="*/ 0 w 3645000"/>
                <a:gd name="textAreaRight" fmla="*/ 3645360 w 364500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2296" h="1616">
                  <a:moveTo>
                    <a:pt x="0" y="1615"/>
                  </a:moveTo>
                  <a:lnTo>
                    <a:pt x="2295" y="1615"/>
                  </a:lnTo>
                  <a:lnTo>
                    <a:pt x="2295" y="0"/>
                  </a:lnTo>
                  <a:lnTo>
                    <a:pt x="0" y="0"/>
                  </a:lnTo>
                  <a:lnTo>
                    <a:pt x="0" y="16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custGeom>
              <a:avLst/>
              <a:gdLst>
                <a:gd name="textAreaLeft" fmla="*/ 0 w 2187720"/>
                <a:gd name="textAreaRight" fmla="*/ 2188080 w 218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0" y="933"/>
                  </a:lnTo>
                  <a:lnTo>
                    <a:pt x="4" y="933"/>
                  </a:lnTo>
                  <a:lnTo>
                    <a:pt x="9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2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5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48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1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4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7" y="933"/>
                  </a:lnTo>
                  <a:lnTo>
                    <a:pt x="91" y="933"/>
                  </a:lnTo>
                  <a:lnTo>
                    <a:pt x="95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08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1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4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47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0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3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86" y="933"/>
                  </a:lnTo>
                  <a:lnTo>
                    <a:pt x="191" y="933"/>
                  </a:lnTo>
                  <a:lnTo>
                    <a:pt x="195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1" y="933"/>
                  </a:lnTo>
                  <a:lnTo>
                    <a:pt x="225" y="933"/>
                  </a:lnTo>
                  <a:lnTo>
                    <a:pt x="225" y="929"/>
                  </a:lnTo>
                  <a:lnTo>
                    <a:pt x="230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3" y="929"/>
                  </a:lnTo>
                  <a:lnTo>
                    <a:pt x="247" y="929"/>
                  </a:lnTo>
                  <a:lnTo>
                    <a:pt x="251" y="929"/>
                  </a:lnTo>
                  <a:lnTo>
                    <a:pt x="256" y="929"/>
                  </a:lnTo>
                  <a:lnTo>
                    <a:pt x="256" y="924"/>
                  </a:lnTo>
                  <a:lnTo>
                    <a:pt x="260" y="924"/>
                  </a:lnTo>
                  <a:lnTo>
                    <a:pt x="264" y="924"/>
                  </a:lnTo>
                  <a:lnTo>
                    <a:pt x="269" y="924"/>
                  </a:lnTo>
                  <a:lnTo>
                    <a:pt x="273" y="924"/>
                  </a:lnTo>
                  <a:lnTo>
                    <a:pt x="273" y="920"/>
                  </a:lnTo>
                  <a:lnTo>
                    <a:pt x="277" y="920"/>
                  </a:lnTo>
                  <a:lnTo>
                    <a:pt x="282" y="920"/>
                  </a:lnTo>
                  <a:lnTo>
                    <a:pt x="286" y="920"/>
                  </a:lnTo>
                  <a:lnTo>
                    <a:pt x="286" y="916"/>
                  </a:lnTo>
                  <a:lnTo>
                    <a:pt x="290" y="916"/>
                  </a:lnTo>
                  <a:lnTo>
                    <a:pt x="295" y="916"/>
                  </a:lnTo>
                  <a:lnTo>
                    <a:pt x="299" y="916"/>
                  </a:lnTo>
                  <a:lnTo>
                    <a:pt x="299" y="911"/>
                  </a:lnTo>
                  <a:lnTo>
                    <a:pt x="303" y="911"/>
                  </a:lnTo>
                  <a:lnTo>
                    <a:pt x="308" y="911"/>
                  </a:lnTo>
                  <a:lnTo>
                    <a:pt x="308" y="907"/>
                  </a:lnTo>
                  <a:lnTo>
                    <a:pt x="312" y="907"/>
                  </a:lnTo>
                  <a:lnTo>
                    <a:pt x="316" y="907"/>
                  </a:lnTo>
                  <a:lnTo>
                    <a:pt x="316" y="903"/>
                  </a:lnTo>
                  <a:lnTo>
                    <a:pt x="321" y="903"/>
                  </a:lnTo>
                  <a:lnTo>
                    <a:pt x="321" y="898"/>
                  </a:lnTo>
                  <a:lnTo>
                    <a:pt x="325" y="898"/>
                  </a:lnTo>
                  <a:lnTo>
                    <a:pt x="329" y="894"/>
                  </a:lnTo>
                  <a:lnTo>
                    <a:pt x="334" y="894"/>
                  </a:lnTo>
                  <a:lnTo>
                    <a:pt x="334" y="890"/>
                  </a:lnTo>
                  <a:lnTo>
                    <a:pt x="338" y="890"/>
                  </a:lnTo>
                  <a:lnTo>
                    <a:pt x="338" y="885"/>
                  </a:lnTo>
                  <a:lnTo>
                    <a:pt x="342" y="885"/>
                  </a:lnTo>
                  <a:lnTo>
                    <a:pt x="342" y="881"/>
                  </a:lnTo>
                  <a:lnTo>
                    <a:pt x="347" y="881"/>
                  </a:lnTo>
                  <a:lnTo>
                    <a:pt x="351" y="877"/>
                  </a:lnTo>
                  <a:lnTo>
                    <a:pt x="351" y="872"/>
                  </a:lnTo>
                  <a:lnTo>
                    <a:pt x="355" y="872"/>
                  </a:lnTo>
                  <a:lnTo>
                    <a:pt x="355" y="868"/>
                  </a:lnTo>
                  <a:lnTo>
                    <a:pt x="360" y="868"/>
                  </a:lnTo>
                  <a:lnTo>
                    <a:pt x="360" y="864"/>
                  </a:lnTo>
                  <a:lnTo>
                    <a:pt x="364" y="864"/>
                  </a:lnTo>
                  <a:lnTo>
                    <a:pt x="364" y="859"/>
                  </a:lnTo>
                  <a:lnTo>
                    <a:pt x="368" y="859"/>
                  </a:lnTo>
                  <a:lnTo>
                    <a:pt x="368" y="855"/>
                  </a:lnTo>
                  <a:lnTo>
                    <a:pt x="368" y="851"/>
                  </a:lnTo>
                  <a:lnTo>
                    <a:pt x="373" y="851"/>
                  </a:lnTo>
                  <a:lnTo>
                    <a:pt x="373" y="846"/>
                  </a:lnTo>
                  <a:lnTo>
                    <a:pt x="377" y="846"/>
                  </a:lnTo>
                  <a:lnTo>
                    <a:pt x="377" y="842"/>
                  </a:lnTo>
                  <a:lnTo>
                    <a:pt x="381" y="838"/>
                  </a:lnTo>
                  <a:lnTo>
                    <a:pt x="381" y="833"/>
                  </a:lnTo>
                  <a:lnTo>
                    <a:pt x="385" y="833"/>
                  </a:lnTo>
                  <a:lnTo>
                    <a:pt x="385" y="829"/>
                  </a:lnTo>
                  <a:lnTo>
                    <a:pt x="385" y="825"/>
                  </a:lnTo>
                  <a:lnTo>
                    <a:pt x="390" y="825"/>
                  </a:lnTo>
                  <a:lnTo>
                    <a:pt x="390" y="820"/>
                  </a:lnTo>
                  <a:lnTo>
                    <a:pt x="394" y="816"/>
                  </a:lnTo>
                  <a:lnTo>
                    <a:pt x="394" y="812"/>
                  </a:lnTo>
                  <a:lnTo>
                    <a:pt x="398" y="807"/>
                  </a:lnTo>
                  <a:lnTo>
                    <a:pt x="398" y="803"/>
                  </a:lnTo>
                  <a:lnTo>
                    <a:pt x="403" y="803"/>
                  </a:lnTo>
                  <a:lnTo>
                    <a:pt x="403" y="799"/>
                  </a:lnTo>
                  <a:lnTo>
                    <a:pt x="403" y="794"/>
                  </a:lnTo>
                  <a:lnTo>
                    <a:pt x="407" y="790"/>
                  </a:lnTo>
                  <a:lnTo>
                    <a:pt x="407" y="786"/>
                  </a:lnTo>
                  <a:lnTo>
                    <a:pt x="411" y="781"/>
                  </a:lnTo>
                  <a:lnTo>
                    <a:pt x="411" y="777"/>
                  </a:lnTo>
                  <a:lnTo>
                    <a:pt x="416" y="773"/>
                  </a:lnTo>
                  <a:lnTo>
                    <a:pt x="416" y="768"/>
                  </a:lnTo>
                  <a:lnTo>
                    <a:pt x="420" y="764"/>
                  </a:lnTo>
                  <a:lnTo>
                    <a:pt x="420" y="759"/>
                  </a:lnTo>
                  <a:lnTo>
                    <a:pt x="420" y="755"/>
                  </a:lnTo>
                  <a:lnTo>
                    <a:pt x="424" y="751"/>
                  </a:lnTo>
                  <a:lnTo>
                    <a:pt x="424" y="746"/>
                  </a:lnTo>
                  <a:lnTo>
                    <a:pt x="424" y="742"/>
                  </a:lnTo>
                  <a:lnTo>
                    <a:pt x="429" y="742"/>
                  </a:lnTo>
                  <a:lnTo>
                    <a:pt x="429" y="738"/>
                  </a:lnTo>
                  <a:lnTo>
                    <a:pt x="429" y="733"/>
                  </a:lnTo>
                  <a:lnTo>
                    <a:pt x="433" y="729"/>
                  </a:lnTo>
                  <a:lnTo>
                    <a:pt x="433" y="725"/>
                  </a:lnTo>
                  <a:lnTo>
                    <a:pt x="433" y="720"/>
                  </a:lnTo>
                  <a:lnTo>
                    <a:pt x="437" y="720"/>
                  </a:lnTo>
                  <a:lnTo>
                    <a:pt x="437" y="716"/>
                  </a:lnTo>
                  <a:lnTo>
                    <a:pt x="437" y="712"/>
                  </a:lnTo>
                  <a:lnTo>
                    <a:pt x="437" y="707"/>
                  </a:lnTo>
                  <a:lnTo>
                    <a:pt x="442" y="703"/>
                  </a:lnTo>
                  <a:lnTo>
                    <a:pt x="442" y="699"/>
                  </a:lnTo>
                  <a:lnTo>
                    <a:pt x="442" y="694"/>
                  </a:lnTo>
                  <a:lnTo>
                    <a:pt x="446" y="690"/>
                  </a:lnTo>
                  <a:lnTo>
                    <a:pt x="446" y="686"/>
                  </a:lnTo>
                  <a:lnTo>
                    <a:pt x="446" y="681"/>
                  </a:lnTo>
                  <a:lnTo>
                    <a:pt x="450" y="681"/>
                  </a:lnTo>
                  <a:lnTo>
                    <a:pt x="450" y="677"/>
                  </a:lnTo>
                  <a:lnTo>
                    <a:pt x="450" y="673"/>
                  </a:lnTo>
                  <a:lnTo>
                    <a:pt x="450" y="668"/>
                  </a:lnTo>
                  <a:lnTo>
                    <a:pt x="455" y="664"/>
                  </a:lnTo>
                  <a:lnTo>
                    <a:pt x="455" y="660"/>
                  </a:lnTo>
                  <a:lnTo>
                    <a:pt x="455" y="655"/>
                  </a:lnTo>
                  <a:lnTo>
                    <a:pt x="459" y="651"/>
                  </a:lnTo>
                  <a:lnTo>
                    <a:pt x="459" y="647"/>
                  </a:lnTo>
                  <a:lnTo>
                    <a:pt x="459" y="642"/>
                  </a:lnTo>
                  <a:lnTo>
                    <a:pt x="463" y="638"/>
                  </a:lnTo>
                  <a:lnTo>
                    <a:pt x="463" y="634"/>
                  </a:lnTo>
                  <a:lnTo>
                    <a:pt x="463" y="629"/>
                  </a:lnTo>
                  <a:lnTo>
                    <a:pt x="468" y="621"/>
                  </a:lnTo>
                  <a:lnTo>
                    <a:pt x="468" y="616"/>
                  </a:lnTo>
                  <a:lnTo>
                    <a:pt x="468" y="612"/>
                  </a:lnTo>
                  <a:lnTo>
                    <a:pt x="468" y="608"/>
                  </a:lnTo>
                  <a:lnTo>
                    <a:pt x="472" y="603"/>
                  </a:lnTo>
                  <a:lnTo>
                    <a:pt x="472" y="599"/>
                  </a:lnTo>
                  <a:lnTo>
                    <a:pt x="472" y="595"/>
                  </a:lnTo>
                  <a:lnTo>
                    <a:pt x="476" y="590"/>
                  </a:lnTo>
                  <a:lnTo>
                    <a:pt x="476" y="586"/>
                  </a:lnTo>
                  <a:lnTo>
                    <a:pt x="476" y="582"/>
                  </a:lnTo>
                  <a:lnTo>
                    <a:pt x="481" y="573"/>
                  </a:lnTo>
                  <a:lnTo>
                    <a:pt x="481" y="569"/>
                  </a:lnTo>
                  <a:lnTo>
                    <a:pt x="481" y="564"/>
                  </a:lnTo>
                  <a:lnTo>
                    <a:pt x="485" y="560"/>
                  </a:lnTo>
                  <a:lnTo>
                    <a:pt x="485" y="555"/>
                  </a:lnTo>
                  <a:lnTo>
                    <a:pt x="485" y="551"/>
                  </a:lnTo>
                  <a:lnTo>
                    <a:pt x="485" y="542"/>
                  </a:lnTo>
                  <a:lnTo>
                    <a:pt x="489" y="538"/>
                  </a:lnTo>
                  <a:lnTo>
                    <a:pt x="489" y="534"/>
                  </a:lnTo>
                  <a:lnTo>
                    <a:pt x="489" y="529"/>
                  </a:lnTo>
                  <a:lnTo>
                    <a:pt x="494" y="525"/>
                  </a:lnTo>
                  <a:lnTo>
                    <a:pt x="494" y="516"/>
                  </a:lnTo>
                  <a:lnTo>
                    <a:pt x="494" y="512"/>
                  </a:lnTo>
                  <a:lnTo>
                    <a:pt x="498" y="508"/>
                  </a:lnTo>
                  <a:lnTo>
                    <a:pt x="498" y="503"/>
                  </a:lnTo>
                  <a:lnTo>
                    <a:pt x="498" y="495"/>
                  </a:lnTo>
                  <a:lnTo>
                    <a:pt x="502" y="490"/>
                  </a:lnTo>
                  <a:lnTo>
                    <a:pt x="502" y="486"/>
                  </a:lnTo>
                  <a:lnTo>
                    <a:pt x="502" y="482"/>
                  </a:lnTo>
                  <a:lnTo>
                    <a:pt x="502" y="473"/>
                  </a:lnTo>
                  <a:lnTo>
                    <a:pt x="507" y="469"/>
                  </a:lnTo>
                  <a:lnTo>
                    <a:pt x="507" y="464"/>
                  </a:lnTo>
                  <a:lnTo>
                    <a:pt x="507" y="460"/>
                  </a:lnTo>
                  <a:lnTo>
                    <a:pt x="511" y="451"/>
                  </a:lnTo>
                  <a:lnTo>
                    <a:pt x="511" y="447"/>
                  </a:lnTo>
                  <a:lnTo>
                    <a:pt x="511" y="443"/>
                  </a:lnTo>
                  <a:lnTo>
                    <a:pt x="515" y="434"/>
                  </a:lnTo>
                  <a:lnTo>
                    <a:pt x="515" y="430"/>
                  </a:lnTo>
                  <a:lnTo>
                    <a:pt x="515" y="425"/>
                  </a:lnTo>
                  <a:lnTo>
                    <a:pt x="520" y="421"/>
                  </a:lnTo>
                  <a:lnTo>
                    <a:pt x="520" y="412"/>
                  </a:lnTo>
                  <a:lnTo>
                    <a:pt x="520" y="408"/>
                  </a:lnTo>
                  <a:lnTo>
                    <a:pt x="520" y="404"/>
                  </a:lnTo>
                  <a:lnTo>
                    <a:pt x="524" y="395"/>
                  </a:lnTo>
                  <a:lnTo>
                    <a:pt x="524" y="391"/>
                  </a:lnTo>
                  <a:lnTo>
                    <a:pt x="524" y="386"/>
                  </a:lnTo>
                  <a:lnTo>
                    <a:pt x="528" y="378"/>
                  </a:lnTo>
                  <a:lnTo>
                    <a:pt x="528" y="373"/>
                  </a:lnTo>
                  <a:lnTo>
                    <a:pt x="528" y="369"/>
                  </a:lnTo>
                  <a:lnTo>
                    <a:pt x="533" y="364"/>
                  </a:lnTo>
                  <a:lnTo>
                    <a:pt x="533" y="356"/>
                  </a:lnTo>
                  <a:lnTo>
                    <a:pt x="533" y="351"/>
                  </a:lnTo>
                  <a:lnTo>
                    <a:pt x="537" y="347"/>
                  </a:lnTo>
                  <a:lnTo>
                    <a:pt x="537" y="338"/>
                  </a:lnTo>
                  <a:lnTo>
                    <a:pt x="537" y="334"/>
                  </a:lnTo>
                  <a:lnTo>
                    <a:pt x="537" y="330"/>
                  </a:lnTo>
                  <a:lnTo>
                    <a:pt x="541" y="321"/>
                  </a:lnTo>
                  <a:lnTo>
                    <a:pt x="541" y="317"/>
                  </a:lnTo>
                  <a:lnTo>
                    <a:pt x="541" y="312"/>
                  </a:lnTo>
                  <a:lnTo>
                    <a:pt x="546" y="308"/>
                  </a:lnTo>
                  <a:lnTo>
                    <a:pt x="546" y="299"/>
                  </a:lnTo>
                  <a:lnTo>
                    <a:pt x="546" y="295"/>
                  </a:lnTo>
                  <a:lnTo>
                    <a:pt x="550" y="291"/>
                  </a:lnTo>
                  <a:lnTo>
                    <a:pt x="550" y="282"/>
                  </a:lnTo>
                  <a:lnTo>
                    <a:pt x="550" y="278"/>
                  </a:lnTo>
                  <a:lnTo>
                    <a:pt x="554" y="273"/>
                  </a:lnTo>
                  <a:lnTo>
                    <a:pt x="554" y="269"/>
                  </a:lnTo>
                  <a:lnTo>
                    <a:pt x="554" y="260"/>
                  </a:lnTo>
                  <a:lnTo>
                    <a:pt x="554" y="256"/>
                  </a:lnTo>
                  <a:lnTo>
                    <a:pt x="559" y="252"/>
                  </a:lnTo>
                  <a:lnTo>
                    <a:pt x="559" y="247"/>
                  </a:lnTo>
                  <a:lnTo>
                    <a:pt x="559" y="239"/>
                  </a:lnTo>
                  <a:lnTo>
                    <a:pt x="563" y="234"/>
                  </a:lnTo>
                  <a:lnTo>
                    <a:pt x="563" y="230"/>
                  </a:lnTo>
                  <a:lnTo>
                    <a:pt x="563" y="226"/>
                  </a:lnTo>
                  <a:lnTo>
                    <a:pt x="567" y="217"/>
                  </a:lnTo>
                  <a:lnTo>
                    <a:pt x="567" y="213"/>
                  </a:lnTo>
                  <a:lnTo>
                    <a:pt x="567" y="208"/>
                  </a:lnTo>
                  <a:lnTo>
                    <a:pt x="572" y="204"/>
                  </a:lnTo>
                  <a:lnTo>
                    <a:pt x="572" y="200"/>
                  </a:lnTo>
                  <a:lnTo>
                    <a:pt x="572" y="195"/>
                  </a:lnTo>
                  <a:lnTo>
                    <a:pt x="572" y="187"/>
                  </a:lnTo>
                  <a:lnTo>
                    <a:pt x="576" y="182"/>
                  </a:lnTo>
                  <a:lnTo>
                    <a:pt x="576" y="178"/>
                  </a:lnTo>
                  <a:lnTo>
                    <a:pt x="576" y="174"/>
                  </a:lnTo>
                  <a:lnTo>
                    <a:pt x="580" y="169"/>
                  </a:lnTo>
                  <a:lnTo>
                    <a:pt x="580" y="165"/>
                  </a:lnTo>
                  <a:lnTo>
                    <a:pt x="580" y="160"/>
                  </a:lnTo>
                  <a:lnTo>
                    <a:pt x="585" y="156"/>
                  </a:lnTo>
                  <a:lnTo>
                    <a:pt x="585" y="147"/>
                  </a:lnTo>
                  <a:lnTo>
                    <a:pt x="585" y="143"/>
                  </a:lnTo>
                  <a:lnTo>
                    <a:pt x="589" y="139"/>
                  </a:lnTo>
                  <a:lnTo>
                    <a:pt x="589" y="134"/>
                  </a:lnTo>
                  <a:lnTo>
                    <a:pt x="589" y="130"/>
                  </a:lnTo>
                  <a:lnTo>
                    <a:pt x="589" y="126"/>
                  </a:lnTo>
                  <a:lnTo>
                    <a:pt x="593" y="121"/>
                  </a:lnTo>
                  <a:lnTo>
                    <a:pt x="593" y="117"/>
                  </a:lnTo>
                  <a:lnTo>
                    <a:pt x="593" y="113"/>
                  </a:lnTo>
                  <a:lnTo>
                    <a:pt x="598" y="108"/>
                  </a:lnTo>
                  <a:lnTo>
                    <a:pt x="598" y="104"/>
                  </a:lnTo>
                  <a:lnTo>
                    <a:pt x="602" y="100"/>
                  </a:lnTo>
                  <a:lnTo>
                    <a:pt x="602" y="95"/>
                  </a:lnTo>
                  <a:lnTo>
                    <a:pt x="602" y="91"/>
                  </a:lnTo>
                  <a:lnTo>
                    <a:pt x="602" y="87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6" y="74"/>
                  </a:lnTo>
                  <a:lnTo>
                    <a:pt x="611" y="74"/>
                  </a:lnTo>
                  <a:lnTo>
                    <a:pt x="611" y="69"/>
                  </a:lnTo>
                  <a:lnTo>
                    <a:pt x="611" y="65"/>
                  </a:lnTo>
                  <a:lnTo>
                    <a:pt x="615" y="61"/>
                  </a:lnTo>
                  <a:lnTo>
                    <a:pt x="615" y="56"/>
                  </a:lnTo>
                  <a:lnTo>
                    <a:pt x="619" y="52"/>
                  </a:lnTo>
                  <a:lnTo>
                    <a:pt x="619" y="48"/>
                  </a:lnTo>
                  <a:lnTo>
                    <a:pt x="619" y="43"/>
                  </a:lnTo>
                  <a:lnTo>
                    <a:pt x="624" y="43"/>
                  </a:lnTo>
                  <a:lnTo>
                    <a:pt x="624" y="39"/>
                  </a:lnTo>
                  <a:lnTo>
                    <a:pt x="624" y="35"/>
                  </a:lnTo>
                  <a:lnTo>
                    <a:pt x="628" y="35"/>
                  </a:lnTo>
                  <a:lnTo>
                    <a:pt x="628" y="30"/>
                  </a:lnTo>
                  <a:lnTo>
                    <a:pt x="632" y="26"/>
                  </a:lnTo>
                  <a:lnTo>
                    <a:pt x="632" y="22"/>
                  </a:lnTo>
                  <a:lnTo>
                    <a:pt x="637" y="22"/>
                  </a:lnTo>
                  <a:lnTo>
                    <a:pt x="637" y="17"/>
                  </a:lnTo>
                  <a:lnTo>
                    <a:pt x="641" y="13"/>
                  </a:lnTo>
                  <a:lnTo>
                    <a:pt x="641" y="9"/>
                  </a:lnTo>
                  <a:lnTo>
                    <a:pt x="645" y="9"/>
                  </a:lnTo>
                  <a:lnTo>
                    <a:pt x="650" y="4"/>
                  </a:lnTo>
                  <a:lnTo>
                    <a:pt x="654" y="4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3" y="0"/>
                  </a:lnTo>
                  <a:lnTo>
                    <a:pt x="667" y="0"/>
                  </a:lnTo>
                  <a:lnTo>
                    <a:pt x="671" y="0"/>
                  </a:lnTo>
                  <a:lnTo>
                    <a:pt x="671" y="4"/>
                  </a:lnTo>
                  <a:lnTo>
                    <a:pt x="676" y="4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4" y="13"/>
                  </a:lnTo>
                  <a:lnTo>
                    <a:pt x="689" y="17"/>
                  </a:lnTo>
                  <a:lnTo>
                    <a:pt x="689" y="22"/>
                  </a:lnTo>
                  <a:lnTo>
                    <a:pt x="693" y="22"/>
                  </a:lnTo>
                  <a:lnTo>
                    <a:pt x="693" y="26"/>
                  </a:lnTo>
                  <a:lnTo>
                    <a:pt x="697" y="30"/>
                  </a:lnTo>
                  <a:lnTo>
                    <a:pt x="697" y="35"/>
                  </a:lnTo>
                  <a:lnTo>
                    <a:pt x="702" y="35"/>
                  </a:lnTo>
                  <a:lnTo>
                    <a:pt x="702" y="39"/>
                  </a:lnTo>
                  <a:lnTo>
                    <a:pt x="702" y="43"/>
                  </a:lnTo>
                  <a:lnTo>
                    <a:pt x="706" y="43"/>
                  </a:lnTo>
                  <a:lnTo>
                    <a:pt x="706" y="48"/>
                  </a:lnTo>
                  <a:lnTo>
                    <a:pt x="706" y="52"/>
                  </a:lnTo>
                  <a:lnTo>
                    <a:pt x="710" y="56"/>
                  </a:lnTo>
                  <a:lnTo>
                    <a:pt x="710" y="61"/>
                  </a:lnTo>
                  <a:lnTo>
                    <a:pt x="715" y="65"/>
                  </a:lnTo>
                  <a:lnTo>
                    <a:pt x="715" y="69"/>
                  </a:lnTo>
                  <a:lnTo>
                    <a:pt x="715" y="74"/>
                  </a:lnTo>
                  <a:lnTo>
                    <a:pt x="719" y="74"/>
                  </a:lnTo>
                  <a:lnTo>
                    <a:pt x="719" y="78"/>
                  </a:lnTo>
                  <a:lnTo>
                    <a:pt x="719" y="82"/>
                  </a:lnTo>
                  <a:lnTo>
                    <a:pt x="723" y="87"/>
                  </a:lnTo>
                  <a:lnTo>
                    <a:pt x="723" y="91"/>
                  </a:lnTo>
                  <a:lnTo>
                    <a:pt x="723" y="95"/>
                  </a:lnTo>
                  <a:lnTo>
                    <a:pt x="723" y="100"/>
                  </a:lnTo>
                  <a:lnTo>
                    <a:pt x="728" y="104"/>
                  </a:lnTo>
                  <a:lnTo>
                    <a:pt x="728" y="108"/>
                  </a:lnTo>
                  <a:lnTo>
                    <a:pt x="732" y="113"/>
                  </a:lnTo>
                  <a:lnTo>
                    <a:pt x="732" y="117"/>
                  </a:lnTo>
                  <a:lnTo>
                    <a:pt x="732" y="121"/>
                  </a:lnTo>
                  <a:lnTo>
                    <a:pt x="736" y="126"/>
                  </a:lnTo>
                  <a:lnTo>
                    <a:pt x="736" y="130"/>
                  </a:lnTo>
                  <a:lnTo>
                    <a:pt x="736" y="134"/>
                  </a:lnTo>
                  <a:lnTo>
                    <a:pt x="736" y="139"/>
                  </a:lnTo>
                  <a:lnTo>
                    <a:pt x="741" y="143"/>
                  </a:lnTo>
                  <a:lnTo>
                    <a:pt x="741" y="147"/>
                  </a:lnTo>
                  <a:lnTo>
                    <a:pt x="741" y="156"/>
                  </a:lnTo>
                  <a:lnTo>
                    <a:pt x="745" y="160"/>
                  </a:lnTo>
                  <a:lnTo>
                    <a:pt x="745" y="165"/>
                  </a:lnTo>
                  <a:lnTo>
                    <a:pt x="745" y="169"/>
                  </a:lnTo>
                  <a:lnTo>
                    <a:pt x="749" y="174"/>
                  </a:lnTo>
                  <a:lnTo>
                    <a:pt x="749" y="178"/>
                  </a:lnTo>
                  <a:lnTo>
                    <a:pt x="749" y="182"/>
                  </a:lnTo>
                  <a:lnTo>
                    <a:pt x="754" y="187"/>
                  </a:lnTo>
                  <a:lnTo>
                    <a:pt x="754" y="195"/>
                  </a:lnTo>
                  <a:lnTo>
                    <a:pt x="754" y="200"/>
                  </a:lnTo>
                  <a:lnTo>
                    <a:pt x="754" y="204"/>
                  </a:lnTo>
                  <a:lnTo>
                    <a:pt x="758" y="208"/>
                  </a:lnTo>
                  <a:lnTo>
                    <a:pt x="758" y="213"/>
                  </a:lnTo>
                  <a:lnTo>
                    <a:pt x="758" y="217"/>
                  </a:lnTo>
                  <a:lnTo>
                    <a:pt x="762" y="226"/>
                  </a:lnTo>
                  <a:lnTo>
                    <a:pt x="762" y="230"/>
                  </a:lnTo>
                  <a:lnTo>
                    <a:pt x="762" y="234"/>
                  </a:lnTo>
                  <a:lnTo>
                    <a:pt x="767" y="239"/>
                  </a:lnTo>
                  <a:lnTo>
                    <a:pt x="767" y="247"/>
                  </a:lnTo>
                  <a:lnTo>
                    <a:pt x="767" y="252"/>
                  </a:lnTo>
                  <a:lnTo>
                    <a:pt x="771" y="256"/>
                  </a:lnTo>
                  <a:lnTo>
                    <a:pt x="771" y="260"/>
                  </a:lnTo>
                  <a:lnTo>
                    <a:pt x="771" y="269"/>
                  </a:lnTo>
                  <a:lnTo>
                    <a:pt x="771" y="273"/>
                  </a:lnTo>
                  <a:lnTo>
                    <a:pt x="775" y="278"/>
                  </a:lnTo>
                  <a:lnTo>
                    <a:pt x="775" y="282"/>
                  </a:lnTo>
                  <a:lnTo>
                    <a:pt x="775" y="291"/>
                  </a:lnTo>
                  <a:lnTo>
                    <a:pt x="780" y="295"/>
                  </a:lnTo>
                  <a:lnTo>
                    <a:pt x="780" y="299"/>
                  </a:lnTo>
                  <a:lnTo>
                    <a:pt x="780" y="308"/>
                  </a:lnTo>
                  <a:lnTo>
                    <a:pt x="784" y="312"/>
                  </a:lnTo>
                  <a:lnTo>
                    <a:pt x="784" y="317"/>
                  </a:lnTo>
                  <a:lnTo>
                    <a:pt x="784" y="321"/>
                  </a:lnTo>
                  <a:lnTo>
                    <a:pt x="788" y="330"/>
                  </a:lnTo>
                  <a:lnTo>
                    <a:pt x="788" y="334"/>
                  </a:lnTo>
                  <a:lnTo>
                    <a:pt x="788" y="338"/>
                  </a:lnTo>
                  <a:lnTo>
                    <a:pt x="788" y="347"/>
                  </a:lnTo>
                  <a:lnTo>
                    <a:pt x="793" y="351"/>
                  </a:lnTo>
                  <a:lnTo>
                    <a:pt x="793" y="356"/>
                  </a:lnTo>
                  <a:lnTo>
                    <a:pt x="793" y="364"/>
                  </a:lnTo>
                  <a:lnTo>
                    <a:pt x="797" y="369"/>
                  </a:lnTo>
                  <a:lnTo>
                    <a:pt x="797" y="373"/>
                  </a:lnTo>
                  <a:lnTo>
                    <a:pt x="797" y="378"/>
                  </a:lnTo>
                  <a:lnTo>
                    <a:pt x="801" y="386"/>
                  </a:lnTo>
                  <a:lnTo>
                    <a:pt x="801" y="391"/>
                  </a:lnTo>
                  <a:lnTo>
                    <a:pt x="801" y="395"/>
                  </a:lnTo>
                  <a:lnTo>
                    <a:pt x="806" y="404"/>
                  </a:lnTo>
                  <a:lnTo>
                    <a:pt x="806" y="408"/>
                  </a:lnTo>
                  <a:lnTo>
                    <a:pt x="806" y="412"/>
                  </a:lnTo>
                  <a:lnTo>
                    <a:pt x="806" y="421"/>
                  </a:lnTo>
                  <a:lnTo>
                    <a:pt x="810" y="425"/>
                  </a:lnTo>
                  <a:lnTo>
                    <a:pt x="810" y="430"/>
                  </a:lnTo>
                  <a:lnTo>
                    <a:pt x="810" y="434"/>
                  </a:lnTo>
                  <a:lnTo>
                    <a:pt x="814" y="443"/>
                  </a:lnTo>
                  <a:lnTo>
                    <a:pt x="814" y="447"/>
                  </a:lnTo>
                  <a:lnTo>
                    <a:pt x="814" y="451"/>
                  </a:lnTo>
                  <a:lnTo>
                    <a:pt x="819" y="460"/>
                  </a:lnTo>
                  <a:lnTo>
                    <a:pt x="819" y="464"/>
                  </a:lnTo>
                  <a:lnTo>
                    <a:pt x="819" y="469"/>
                  </a:lnTo>
                  <a:lnTo>
                    <a:pt x="823" y="473"/>
                  </a:lnTo>
                  <a:lnTo>
                    <a:pt x="823" y="482"/>
                  </a:lnTo>
                  <a:lnTo>
                    <a:pt x="823" y="486"/>
                  </a:lnTo>
                  <a:lnTo>
                    <a:pt x="823" y="490"/>
                  </a:lnTo>
                  <a:lnTo>
                    <a:pt x="827" y="495"/>
                  </a:lnTo>
                  <a:lnTo>
                    <a:pt x="827" y="503"/>
                  </a:lnTo>
                  <a:lnTo>
                    <a:pt x="827" y="508"/>
                  </a:lnTo>
                  <a:lnTo>
                    <a:pt x="832" y="512"/>
                  </a:lnTo>
                  <a:lnTo>
                    <a:pt x="832" y="516"/>
                  </a:lnTo>
                  <a:lnTo>
                    <a:pt x="832" y="525"/>
                  </a:lnTo>
                  <a:lnTo>
                    <a:pt x="836" y="529"/>
                  </a:lnTo>
                  <a:lnTo>
                    <a:pt x="836" y="534"/>
                  </a:lnTo>
                  <a:lnTo>
                    <a:pt x="836" y="538"/>
                  </a:lnTo>
                  <a:lnTo>
                    <a:pt x="840" y="542"/>
                  </a:lnTo>
                  <a:lnTo>
                    <a:pt x="840" y="551"/>
                  </a:lnTo>
                  <a:lnTo>
                    <a:pt x="840" y="555"/>
                  </a:lnTo>
                  <a:lnTo>
                    <a:pt x="840" y="560"/>
                  </a:lnTo>
                  <a:lnTo>
                    <a:pt x="845" y="564"/>
                  </a:lnTo>
                  <a:lnTo>
                    <a:pt x="845" y="569"/>
                  </a:lnTo>
                  <a:lnTo>
                    <a:pt x="845" y="573"/>
                  </a:lnTo>
                  <a:lnTo>
                    <a:pt x="849" y="582"/>
                  </a:lnTo>
                  <a:lnTo>
                    <a:pt x="849" y="586"/>
                  </a:lnTo>
                  <a:lnTo>
                    <a:pt x="849" y="590"/>
                  </a:lnTo>
                  <a:lnTo>
                    <a:pt x="853" y="595"/>
                  </a:lnTo>
                  <a:lnTo>
                    <a:pt x="853" y="599"/>
                  </a:lnTo>
                  <a:lnTo>
                    <a:pt x="853" y="603"/>
                  </a:lnTo>
                  <a:lnTo>
                    <a:pt x="858" y="608"/>
                  </a:lnTo>
                  <a:lnTo>
                    <a:pt x="858" y="612"/>
                  </a:lnTo>
                  <a:lnTo>
                    <a:pt x="858" y="616"/>
                  </a:lnTo>
                  <a:lnTo>
                    <a:pt x="858" y="621"/>
                  </a:lnTo>
                  <a:lnTo>
                    <a:pt x="862" y="629"/>
                  </a:lnTo>
                  <a:lnTo>
                    <a:pt x="862" y="634"/>
                  </a:lnTo>
                  <a:lnTo>
                    <a:pt x="862" y="638"/>
                  </a:lnTo>
                  <a:lnTo>
                    <a:pt x="866" y="642"/>
                  </a:lnTo>
                  <a:lnTo>
                    <a:pt x="866" y="647"/>
                  </a:lnTo>
                  <a:lnTo>
                    <a:pt x="866" y="651"/>
                  </a:lnTo>
                  <a:lnTo>
                    <a:pt x="871" y="655"/>
                  </a:lnTo>
                  <a:lnTo>
                    <a:pt x="871" y="660"/>
                  </a:lnTo>
                  <a:lnTo>
                    <a:pt x="871" y="664"/>
                  </a:lnTo>
                  <a:lnTo>
                    <a:pt x="875" y="668"/>
                  </a:lnTo>
                  <a:lnTo>
                    <a:pt x="875" y="673"/>
                  </a:lnTo>
                  <a:lnTo>
                    <a:pt x="875" y="677"/>
                  </a:lnTo>
                  <a:lnTo>
                    <a:pt x="875" y="681"/>
                  </a:lnTo>
                  <a:lnTo>
                    <a:pt x="879" y="681"/>
                  </a:lnTo>
                  <a:lnTo>
                    <a:pt x="879" y="686"/>
                  </a:lnTo>
                  <a:lnTo>
                    <a:pt x="879" y="690"/>
                  </a:lnTo>
                  <a:lnTo>
                    <a:pt x="884" y="694"/>
                  </a:lnTo>
                  <a:lnTo>
                    <a:pt x="884" y="699"/>
                  </a:lnTo>
                  <a:lnTo>
                    <a:pt x="884" y="703"/>
                  </a:lnTo>
                  <a:lnTo>
                    <a:pt x="888" y="707"/>
                  </a:lnTo>
                  <a:lnTo>
                    <a:pt x="888" y="712"/>
                  </a:lnTo>
                  <a:lnTo>
                    <a:pt x="888" y="716"/>
                  </a:lnTo>
                  <a:lnTo>
                    <a:pt x="888" y="720"/>
                  </a:lnTo>
                  <a:lnTo>
                    <a:pt x="892" y="720"/>
                  </a:lnTo>
                  <a:lnTo>
                    <a:pt x="892" y="725"/>
                  </a:lnTo>
                  <a:lnTo>
                    <a:pt x="892" y="729"/>
                  </a:lnTo>
                  <a:lnTo>
                    <a:pt x="897" y="733"/>
                  </a:lnTo>
                  <a:lnTo>
                    <a:pt x="897" y="738"/>
                  </a:lnTo>
                  <a:lnTo>
                    <a:pt x="897" y="742"/>
                  </a:lnTo>
                  <a:lnTo>
                    <a:pt x="901" y="742"/>
                  </a:lnTo>
                  <a:lnTo>
                    <a:pt x="901" y="746"/>
                  </a:lnTo>
                  <a:lnTo>
                    <a:pt x="901" y="751"/>
                  </a:lnTo>
                  <a:lnTo>
                    <a:pt x="905" y="755"/>
                  </a:lnTo>
                  <a:lnTo>
                    <a:pt x="905" y="759"/>
                  </a:lnTo>
                  <a:lnTo>
                    <a:pt x="905" y="764"/>
                  </a:lnTo>
                  <a:lnTo>
                    <a:pt x="910" y="768"/>
                  </a:lnTo>
                  <a:lnTo>
                    <a:pt x="910" y="773"/>
                  </a:lnTo>
                  <a:lnTo>
                    <a:pt x="914" y="777"/>
                  </a:lnTo>
                  <a:lnTo>
                    <a:pt x="914" y="781"/>
                  </a:lnTo>
                  <a:lnTo>
                    <a:pt x="918" y="786"/>
                  </a:lnTo>
                  <a:lnTo>
                    <a:pt x="918" y="790"/>
                  </a:lnTo>
                  <a:lnTo>
                    <a:pt x="923" y="794"/>
                  </a:lnTo>
                  <a:lnTo>
                    <a:pt x="923" y="799"/>
                  </a:lnTo>
                  <a:lnTo>
                    <a:pt x="923" y="803"/>
                  </a:lnTo>
                  <a:lnTo>
                    <a:pt x="927" y="803"/>
                  </a:lnTo>
                  <a:lnTo>
                    <a:pt x="927" y="807"/>
                  </a:lnTo>
                  <a:lnTo>
                    <a:pt x="931" y="812"/>
                  </a:lnTo>
                  <a:lnTo>
                    <a:pt x="931" y="816"/>
                  </a:lnTo>
                  <a:lnTo>
                    <a:pt x="936" y="820"/>
                  </a:lnTo>
                  <a:lnTo>
                    <a:pt x="936" y="825"/>
                  </a:lnTo>
                  <a:lnTo>
                    <a:pt x="940" y="825"/>
                  </a:lnTo>
                  <a:lnTo>
                    <a:pt x="940" y="829"/>
                  </a:lnTo>
                  <a:lnTo>
                    <a:pt x="940" y="833"/>
                  </a:lnTo>
                  <a:lnTo>
                    <a:pt x="944" y="833"/>
                  </a:lnTo>
                  <a:lnTo>
                    <a:pt x="944" y="838"/>
                  </a:lnTo>
                  <a:lnTo>
                    <a:pt x="949" y="842"/>
                  </a:lnTo>
                  <a:lnTo>
                    <a:pt x="949" y="846"/>
                  </a:lnTo>
                  <a:lnTo>
                    <a:pt x="953" y="846"/>
                  </a:lnTo>
                  <a:lnTo>
                    <a:pt x="953" y="851"/>
                  </a:lnTo>
                  <a:lnTo>
                    <a:pt x="957" y="851"/>
                  </a:lnTo>
                  <a:lnTo>
                    <a:pt x="957" y="855"/>
                  </a:lnTo>
                  <a:lnTo>
                    <a:pt x="957" y="859"/>
                  </a:lnTo>
                  <a:lnTo>
                    <a:pt x="961" y="859"/>
                  </a:lnTo>
                  <a:lnTo>
                    <a:pt x="961" y="864"/>
                  </a:lnTo>
                  <a:lnTo>
                    <a:pt x="966" y="864"/>
                  </a:lnTo>
                  <a:lnTo>
                    <a:pt x="966" y="868"/>
                  </a:lnTo>
                  <a:lnTo>
                    <a:pt x="970" y="868"/>
                  </a:lnTo>
                  <a:lnTo>
                    <a:pt x="970" y="872"/>
                  </a:lnTo>
                  <a:lnTo>
                    <a:pt x="974" y="872"/>
                  </a:lnTo>
                  <a:lnTo>
                    <a:pt x="974" y="877"/>
                  </a:lnTo>
                  <a:lnTo>
                    <a:pt x="979" y="881"/>
                  </a:lnTo>
                  <a:lnTo>
                    <a:pt x="983" y="881"/>
                  </a:lnTo>
                  <a:lnTo>
                    <a:pt x="983" y="885"/>
                  </a:lnTo>
                  <a:lnTo>
                    <a:pt x="987" y="885"/>
                  </a:lnTo>
                  <a:lnTo>
                    <a:pt x="987" y="890"/>
                  </a:lnTo>
                  <a:lnTo>
                    <a:pt x="992" y="890"/>
                  </a:lnTo>
                  <a:lnTo>
                    <a:pt x="992" y="894"/>
                  </a:lnTo>
                  <a:lnTo>
                    <a:pt x="996" y="894"/>
                  </a:lnTo>
                  <a:lnTo>
                    <a:pt x="1000" y="898"/>
                  </a:lnTo>
                  <a:lnTo>
                    <a:pt x="1005" y="898"/>
                  </a:lnTo>
                  <a:lnTo>
                    <a:pt x="1005" y="903"/>
                  </a:lnTo>
                  <a:lnTo>
                    <a:pt x="1009" y="903"/>
                  </a:lnTo>
                  <a:lnTo>
                    <a:pt x="1009" y="907"/>
                  </a:lnTo>
                  <a:lnTo>
                    <a:pt x="1013" y="907"/>
                  </a:lnTo>
                  <a:lnTo>
                    <a:pt x="1018" y="907"/>
                  </a:lnTo>
                  <a:lnTo>
                    <a:pt x="1018" y="911"/>
                  </a:lnTo>
                  <a:lnTo>
                    <a:pt x="1022" y="911"/>
                  </a:lnTo>
                  <a:lnTo>
                    <a:pt x="1026" y="911"/>
                  </a:lnTo>
                  <a:lnTo>
                    <a:pt x="1026" y="916"/>
                  </a:lnTo>
                  <a:lnTo>
                    <a:pt x="1031" y="916"/>
                  </a:lnTo>
                  <a:lnTo>
                    <a:pt x="1035" y="916"/>
                  </a:lnTo>
                  <a:lnTo>
                    <a:pt x="1039" y="916"/>
                  </a:lnTo>
                  <a:lnTo>
                    <a:pt x="1039" y="920"/>
                  </a:lnTo>
                  <a:lnTo>
                    <a:pt x="1044" y="920"/>
                  </a:lnTo>
                  <a:lnTo>
                    <a:pt x="1048" y="920"/>
                  </a:lnTo>
                  <a:lnTo>
                    <a:pt x="1052" y="920"/>
                  </a:lnTo>
                  <a:lnTo>
                    <a:pt x="1052" y="924"/>
                  </a:lnTo>
                  <a:lnTo>
                    <a:pt x="1057" y="924"/>
                  </a:lnTo>
                  <a:lnTo>
                    <a:pt x="1061" y="924"/>
                  </a:lnTo>
                  <a:lnTo>
                    <a:pt x="1065" y="924"/>
                  </a:lnTo>
                  <a:lnTo>
                    <a:pt x="1070" y="924"/>
                  </a:lnTo>
                  <a:lnTo>
                    <a:pt x="1070" y="929"/>
                  </a:lnTo>
                  <a:lnTo>
                    <a:pt x="1074" y="929"/>
                  </a:lnTo>
                  <a:lnTo>
                    <a:pt x="1078" y="929"/>
                  </a:lnTo>
                  <a:lnTo>
                    <a:pt x="1083" y="929"/>
                  </a:lnTo>
                  <a:lnTo>
                    <a:pt x="1087" y="929"/>
                  </a:lnTo>
                  <a:lnTo>
                    <a:pt x="1091" y="929"/>
                  </a:lnTo>
                  <a:lnTo>
                    <a:pt x="1096" y="929"/>
                  </a:lnTo>
                  <a:lnTo>
                    <a:pt x="1100" y="929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0" y="933"/>
                  </a:lnTo>
                  <a:lnTo>
                    <a:pt x="1135" y="933"/>
                  </a:lnTo>
                  <a:lnTo>
                    <a:pt x="1139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2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5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78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1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4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17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39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2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5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78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1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4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17" y="933"/>
                  </a:lnTo>
                  <a:lnTo>
                    <a:pt x="1321" y="933"/>
                  </a:lnTo>
                  <a:lnTo>
                    <a:pt x="1325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326" h="934">
                  <a:moveTo>
                    <a:pt x="0" y="933"/>
                  </a:moveTo>
                  <a:lnTo>
                    <a:pt x="0" y="933"/>
                  </a:lnTo>
                  <a:lnTo>
                    <a:pt x="4" y="933"/>
                  </a:lnTo>
                  <a:lnTo>
                    <a:pt x="9" y="933"/>
                  </a:lnTo>
                  <a:lnTo>
                    <a:pt x="13" y="933"/>
                  </a:lnTo>
                  <a:lnTo>
                    <a:pt x="17" y="933"/>
                  </a:lnTo>
                  <a:lnTo>
                    <a:pt x="22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5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48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1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4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7" y="933"/>
                  </a:lnTo>
                  <a:lnTo>
                    <a:pt x="91" y="933"/>
                  </a:lnTo>
                  <a:lnTo>
                    <a:pt x="95" y="933"/>
                  </a:lnTo>
                  <a:lnTo>
                    <a:pt x="100" y="933"/>
                  </a:lnTo>
                  <a:lnTo>
                    <a:pt x="104" y="933"/>
                  </a:lnTo>
                  <a:lnTo>
                    <a:pt x="108" y="933"/>
                  </a:lnTo>
                  <a:lnTo>
                    <a:pt x="113" y="933"/>
                  </a:lnTo>
                  <a:lnTo>
                    <a:pt x="117" y="933"/>
                  </a:lnTo>
                  <a:lnTo>
                    <a:pt x="121" y="933"/>
                  </a:lnTo>
                  <a:lnTo>
                    <a:pt x="126" y="933"/>
                  </a:lnTo>
                  <a:lnTo>
                    <a:pt x="130" y="933"/>
                  </a:lnTo>
                  <a:lnTo>
                    <a:pt x="134" y="933"/>
                  </a:lnTo>
                  <a:lnTo>
                    <a:pt x="139" y="933"/>
                  </a:lnTo>
                  <a:lnTo>
                    <a:pt x="143" y="933"/>
                  </a:lnTo>
                  <a:lnTo>
                    <a:pt x="147" y="933"/>
                  </a:lnTo>
                  <a:lnTo>
                    <a:pt x="152" y="933"/>
                  </a:lnTo>
                  <a:lnTo>
                    <a:pt x="156" y="933"/>
                  </a:lnTo>
                  <a:lnTo>
                    <a:pt x="160" y="933"/>
                  </a:lnTo>
                  <a:lnTo>
                    <a:pt x="165" y="933"/>
                  </a:lnTo>
                  <a:lnTo>
                    <a:pt x="169" y="933"/>
                  </a:lnTo>
                  <a:lnTo>
                    <a:pt x="173" y="933"/>
                  </a:lnTo>
                  <a:lnTo>
                    <a:pt x="178" y="933"/>
                  </a:lnTo>
                  <a:lnTo>
                    <a:pt x="182" y="933"/>
                  </a:lnTo>
                  <a:lnTo>
                    <a:pt x="186" y="933"/>
                  </a:lnTo>
                  <a:lnTo>
                    <a:pt x="191" y="933"/>
                  </a:lnTo>
                  <a:lnTo>
                    <a:pt x="195" y="933"/>
                  </a:lnTo>
                  <a:lnTo>
                    <a:pt x="199" y="933"/>
                  </a:lnTo>
                  <a:lnTo>
                    <a:pt x="204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17" y="933"/>
                  </a:lnTo>
                  <a:lnTo>
                    <a:pt x="221" y="933"/>
                  </a:lnTo>
                  <a:lnTo>
                    <a:pt x="225" y="933"/>
                  </a:lnTo>
                  <a:lnTo>
                    <a:pt x="230" y="933"/>
                  </a:lnTo>
                  <a:lnTo>
                    <a:pt x="234" y="933"/>
                  </a:lnTo>
                  <a:lnTo>
                    <a:pt x="238" y="933"/>
                  </a:lnTo>
                  <a:lnTo>
                    <a:pt x="243" y="933"/>
                  </a:lnTo>
                  <a:lnTo>
                    <a:pt x="247" y="933"/>
                  </a:lnTo>
                  <a:lnTo>
                    <a:pt x="251" y="933"/>
                  </a:lnTo>
                  <a:lnTo>
                    <a:pt x="256" y="933"/>
                  </a:lnTo>
                  <a:lnTo>
                    <a:pt x="260" y="933"/>
                  </a:lnTo>
                  <a:lnTo>
                    <a:pt x="264" y="933"/>
                  </a:lnTo>
                  <a:lnTo>
                    <a:pt x="269" y="933"/>
                  </a:lnTo>
                  <a:lnTo>
                    <a:pt x="273" y="933"/>
                  </a:lnTo>
                  <a:lnTo>
                    <a:pt x="277" y="933"/>
                  </a:lnTo>
                  <a:lnTo>
                    <a:pt x="282" y="933"/>
                  </a:lnTo>
                  <a:lnTo>
                    <a:pt x="286" y="933"/>
                  </a:lnTo>
                  <a:lnTo>
                    <a:pt x="290" y="933"/>
                  </a:lnTo>
                  <a:lnTo>
                    <a:pt x="295" y="933"/>
                  </a:lnTo>
                  <a:lnTo>
                    <a:pt x="299" y="933"/>
                  </a:lnTo>
                  <a:lnTo>
                    <a:pt x="303" y="933"/>
                  </a:lnTo>
                  <a:lnTo>
                    <a:pt x="308" y="933"/>
                  </a:lnTo>
                  <a:lnTo>
                    <a:pt x="312" y="933"/>
                  </a:lnTo>
                  <a:lnTo>
                    <a:pt x="316" y="933"/>
                  </a:lnTo>
                  <a:lnTo>
                    <a:pt x="321" y="933"/>
                  </a:lnTo>
                  <a:lnTo>
                    <a:pt x="325" y="933"/>
                  </a:lnTo>
                  <a:lnTo>
                    <a:pt x="329" y="933"/>
                  </a:lnTo>
                  <a:lnTo>
                    <a:pt x="334" y="933"/>
                  </a:lnTo>
                  <a:lnTo>
                    <a:pt x="338" y="933"/>
                  </a:lnTo>
                  <a:lnTo>
                    <a:pt x="342" y="933"/>
                  </a:lnTo>
                  <a:lnTo>
                    <a:pt x="347" y="933"/>
                  </a:lnTo>
                  <a:lnTo>
                    <a:pt x="351" y="933"/>
                  </a:lnTo>
                  <a:lnTo>
                    <a:pt x="355" y="933"/>
                  </a:lnTo>
                  <a:lnTo>
                    <a:pt x="360" y="933"/>
                  </a:lnTo>
                  <a:lnTo>
                    <a:pt x="364" y="933"/>
                  </a:lnTo>
                  <a:lnTo>
                    <a:pt x="368" y="933"/>
                  </a:lnTo>
                  <a:lnTo>
                    <a:pt x="373" y="933"/>
                  </a:lnTo>
                  <a:lnTo>
                    <a:pt x="377" y="933"/>
                  </a:lnTo>
                  <a:lnTo>
                    <a:pt x="381" y="933"/>
                  </a:lnTo>
                  <a:lnTo>
                    <a:pt x="385" y="933"/>
                  </a:lnTo>
                  <a:lnTo>
                    <a:pt x="390" y="933"/>
                  </a:lnTo>
                  <a:lnTo>
                    <a:pt x="394" y="933"/>
                  </a:lnTo>
                  <a:lnTo>
                    <a:pt x="398" y="933"/>
                  </a:lnTo>
                  <a:lnTo>
                    <a:pt x="403" y="933"/>
                  </a:lnTo>
                  <a:lnTo>
                    <a:pt x="403" y="799"/>
                  </a:lnTo>
                  <a:lnTo>
                    <a:pt x="403" y="794"/>
                  </a:lnTo>
                  <a:lnTo>
                    <a:pt x="407" y="790"/>
                  </a:lnTo>
                  <a:lnTo>
                    <a:pt x="407" y="786"/>
                  </a:lnTo>
                  <a:lnTo>
                    <a:pt x="411" y="781"/>
                  </a:lnTo>
                  <a:lnTo>
                    <a:pt x="411" y="777"/>
                  </a:lnTo>
                  <a:lnTo>
                    <a:pt x="416" y="773"/>
                  </a:lnTo>
                  <a:lnTo>
                    <a:pt x="416" y="768"/>
                  </a:lnTo>
                  <a:lnTo>
                    <a:pt x="420" y="764"/>
                  </a:lnTo>
                  <a:lnTo>
                    <a:pt x="420" y="759"/>
                  </a:lnTo>
                  <a:lnTo>
                    <a:pt x="420" y="755"/>
                  </a:lnTo>
                  <a:lnTo>
                    <a:pt x="424" y="751"/>
                  </a:lnTo>
                  <a:lnTo>
                    <a:pt x="424" y="746"/>
                  </a:lnTo>
                  <a:lnTo>
                    <a:pt x="424" y="742"/>
                  </a:lnTo>
                  <a:lnTo>
                    <a:pt x="429" y="742"/>
                  </a:lnTo>
                  <a:lnTo>
                    <a:pt x="429" y="738"/>
                  </a:lnTo>
                  <a:lnTo>
                    <a:pt x="429" y="733"/>
                  </a:lnTo>
                  <a:lnTo>
                    <a:pt x="433" y="729"/>
                  </a:lnTo>
                  <a:lnTo>
                    <a:pt x="433" y="725"/>
                  </a:lnTo>
                  <a:lnTo>
                    <a:pt x="433" y="720"/>
                  </a:lnTo>
                  <a:lnTo>
                    <a:pt x="437" y="720"/>
                  </a:lnTo>
                  <a:lnTo>
                    <a:pt x="437" y="716"/>
                  </a:lnTo>
                  <a:lnTo>
                    <a:pt x="437" y="712"/>
                  </a:lnTo>
                  <a:lnTo>
                    <a:pt x="437" y="707"/>
                  </a:lnTo>
                  <a:lnTo>
                    <a:pt x="442" y="703"/>
                  </a:lnTo>
                  <a:lnTo>
                    <a:pt x="442" y="699"/>
                  </a:lnTo>
                  <a:lnTo>
                    <a:pt x="442" y="694"/>
                  </a:lnTo>
                  <a:lnTo>
                    <a:pt x="446" y="690"/>
                  </a:lnTo>
                  <a:lnTo>
                    <a:pt x="446" y="686"/>
                  </a:lnTo>
                  <a:lnTo>
                    <a:pt x="446" y="681"/>
                  </a:lnTo>
                  <a:lnTo>
                    <a:pt x="450" y="681"/>
                  </a:lnTo>
                  <a:lnTo>
                    <a:pt x="450" y="677"/>
                  </a:lnTo>
                  <a:lnTo>
                    <a:pt x="450" y="673"/>
                  </a:lnTo>
                  <a:lnTo>
                    <a:pt x="450" y="668"/>
                  </a:lnTo>
                  <a:lnTo>
                    <a:pt x="455" y="664"/>
                  </a:lnTo>
                  <a:lnTo>
                    <a:pt x="455" y="660"/>
                  </a:lnTo>
                  <a:lnTo>
                    <a:pt x="455" y="655"/>
                  </a:lnTo>
                  <a:lnTo>
                    <a:pt x="459" y="651"/>
                  </a:lnTo>
                  <a:lnTo>
                    <a:pt x="459" y="647"/>
                  </a:lnTo>
                  <a:lnTo>
                    <a:pt x="459" y="642"/>
                  </a:lnTo>
                  <a:lnTo>
                    <a:pt x="463" y="638"/>
                  </a:lnTo>
                  <a:lnTo>
                    <a:pt x="463" y="634"/>
                  </a:lnTo>
                  <a:lnTo>
                    <a:pt x="463" y="629"/>
                  </a:lnTo>
                  <a:lnTo>
                    <a:pt x="468" y="621"/>
                  </a:lnTo>
                  <a:lnTo>
                    <a:pt x="468" y="616"/>
                  </a:lnTo>
                  <a:lnTo>
                    <a:pt x="468" y="612"/>
                  </a:lnTo>
                  <a:lnTo>
                    <a:pt x="468" y="608"/>
                  </a:lnTo>
                  <a:lnTo>
                    <a:pt x="472" y="603"/>
                  </a:lnTo>
                  <a:lnTo>
                    <a:pt x="472" y="599"/>
                  </a:lnTo>
                  <a:lnTo>
                    <a:pt x="472" y="595"/>
                  </a:lnTo>
                  <a:lnTo>
                    <a:pt x="476" y="590"/>
                  </a:lnTo>
                  <a:lnTo>
                    <a:pt x="476" y="586"/>
                  </a:lnTo>
                  <a:lnTo>
                    <a:pt x="476" y="582"/>
                  </a:lnTo>
                  <a:lnTo>
                    <a:pt x="481" y="573"/>
                  </a:lnTo>
                  <a:lnTo>
                    <a:pt x="481" y="569"/>
                  </a:lnTo>
                  <a:lnTo>
                    <a:pt x="481" y="564"/>
                  </a:lnTo>
                  <a:lnTo>
                    <a:pt x="485" y="560"/>
                  </a:lnTo>
                  <a:lnTo>
                    <a:pt x="485" y="555"/>
                  </a:lnTo>
                  <a:lnTo>
                    <a:pt x="485" y="551"/>
                  </a:lnTo>
                  <a:lnTo>
                    <a:pt x="485" y="542"/>
                  </a:lnTo>
                  <a:lnTo>
                    <a:pt x="489" y="538"/>
                  </a:lnTo>
                  <a:lnTo>
                    <a:pt x="489" y="534"/>
                  </a:lnTo>
                  <a:lnTo>
                    <a:pt x="489" y="529"/>
                  </a:lnTo>
                  <a:lnTo>
                    <a:pt x="494" y="525"/>
                  </a:lnTo>
                  <a:lnTo>
                    <a:pt x="494" y="516"/>
                  </a:lnTo>
                  <a:lnTo>
                    <a:pt x="494" y="512"/>
                  </a:lnTo>
                  <a:lnTo>
                    <a:pt x="498" y="508"/>
                  </a:lnTo>
                  <a:lnTo>
                    <a:pt x="498" y="503"/>
                  </a:lnTo>
                  <a:lnTo>
                    <a:pt x="498" y="495"/>
                  </a:lnTo>
                  <a:lnTo>
                    <a:pt x="502" y="490"/>
                  </a:lnTo>
                  <a:lnTo>
                    <a:pt x="502" y="486"/>
                  </a:lnTo>
                  <a:lnTo>
                    <a:pt x="502" y="482"/>
                  </a:lnTo>
                  <a:lnTo>
                    <a:pt x="502" y="473"/>
                  </a:lnTo>
                  <a:lnTo>
                    <a:pt x="507" y="469"/>
                  </a:lnTo>
                  <a:lnTo>
                    <a:pt x="507" y="464"/>
                  </a:lnTo>
                  <a:lnTo>
                    <a:pt x="507" y="460"/>
                  </a:lnTo>
                  <a:lnTo>
                    <a:pt x="511" y="451"/>
                  </a:lnTo>
                  <a:lnTo>
                    <a:pt x="511" y="447"/>
                  </a:lnTo>
                  <a:lnTo>
                    <a:pt x="511" y="443"/>
                  </a:lnTo>
                  <a:lnTo>
                    <a:pt x="515" y="434"/>
                  </a:lnTo>
                  <a:lnTo>
                    <a:pt x="515" y="430"/>
                  </a:lnTo>
                  <a:lnTo>
                    <a:pt x="515" y="425"/>
                  </a:lnTo>
                  <a:lnTo>
                    <a:pt x="520" y="421"/>
                  </a:lnTo>
                  <a:lnTo>
                    <a:pt x="520" y="412"/>
                  </a:lnTo>
                  <a:lnTo>
                    <a:pt x="520" y="408"/>
                  </a:lnTo>
                  <a:lnTo>
                    <a:pt x="520" y="404"/>
                  </a:lnTo>
                  <a:lnTo>
                    <a:pt x="524" y="395"/>
                  </a:lnTo>
                  <a:lnTo>
                    <a:pt x="524" y="391"/>
                  </a:lnTo>
                  <a:lnTo>
                    <a:pt x="524" y="386"/>
                  </a:lnTo>
                  <a:lnTo>
                    <a:pt x="528" y="378"/>
                  </a:lnTo>
                  <a:lnTo>
                    <a:pt x="528" y="373"/>
                  </a:lnTo>
                  <a:lnTo>
                    <a:pt x="528" y="369"/>
                  </a:lnTo>
                  <a:lnTo>
                    <a:pt x="533" y="364"/>
                  </a:lnTo>
                  <a:lnTo>
                    <a:pt x="533" y="356"/>
                  </a:lnTo>
                  <a:lnTo>
                    <a:pt x="533" y="351"/>
                  </a:lnTo>
                  <a:lnTo>
                    <a:pt x="537" y="347"/>
                  </a:lnTo>
                  <a:lnTo>
                    <a:pt x="537" y="338"/>
                  </a:lnTo>
                  <a:lnTo>
                    <a:pt x="537" y="334"/>
                  </a:lnTo>
                  <a:lnTo>
                    <a:pt x="537" y="330"/>
                  </a:lnTo>
                  <a:lnTo>
                    <a:pt x="541" y="321"/>
                  </a:lnTo>
                  <a:lnTo>
                    <a:pt x="541" y="317"/>
                  </a:lnTo>
                  <a:lnTo>
                    <a:pt x="541" y="312"/>
                  </a:lnTo>
                  <a:lnTo>
                    <a:pt x="546" y="308"/>
                  </a:lnTo>
                  <a:lnTo>
                    <a:pt x="546" y="299"/>
                  </a:lnTo>
                  <a:lnTo>
                    <a:pt x="546" y="295"/>
                  </a:lnTo>
                  <a:lnTo>
                    <a:pt x="550" y="291"/>
                  </a:lnTo>
                  <a:lnTo>
                    <a:pt x="550" y="282"/>
                  </a:lnTo>
                  <a:lnTo>
                    <a:pt x="550" y="278"/>
                  </a:lnTo>
                  <a:lnTo>
                    <a:pt x="554" y="273"/>
                  </a:lnTo>
                  <a:lnTo>
                    <a:pt x="554" y="269"/>
                  </a:lnTo>
                  <a:lnTo>
                    <a:pt x="554" y="260"/>
                  </a:lnTo>
                  <a:lnTo>
                    <a:pt x="554" y="256"/>
                  </a:lnTo>
                  <a:lnTo>
                    <a:pt x="559" y="252"/>
                  </a:lnTo>
                  <a:lnTo>
                    <a:pt x="559" y="247"/>
                  </a:lnTo>
                  <a:lnTo>
                    <a:pt x="559" y="239"/>
                  </a:lnTo>
                  <a:lnTo>
                    <a:pt x="563" y="234"/>
                  </a:lnTo>
                  <a:lnTo>
                    <a:pt x="563" y="230"/>
                  </a:lnTo>
                  <a:lnTo>
                    <a:pt x="563" y="226"/>
                  </a:lnTo>
                  <a:lnTo>
                    <a:pt x="567" y="217"/>
                  </a:lnTo>
                  <a:lnTo>
                    <a:pt x="567" y="213"/>
                  </a:lnTo>
                  <a:lnTo>
                    <a:pt x="567" y="208"/>
                  </a:lnTo>
                  <a:lnTo>
                    <a:pt x="572" y="204"/>
                  </a:lnTo>
                  <a:lnTo>
                    <a:pt x="572" y="200"/>
                  </a:lnTo>
                  <a:lnTo>
                    <a:pt x="572" y="195"/>
                  </a:lnTo>
                  <a:lnTo>
                    <a:pt x="572" y="187"/>
                  </a:lnTo>
                  <a:lnTo>
                    <a:pt x="576" y="182"/>
                  </a:lnTo>
                  <a:lnTo>
                    <a:pt x="576" y="178"/>
                  </a:lnTo>
                  <a:lnTo>
                    <a:pt x="576" y="174"/>
                  </a:lnTo>
                  <a:lnTo>
                    <a:pt x="580" y="169"/>
                  </a:lnTo>
                  <a:lnTo>
                    <a:pt x="580" y="165"/>
                  </a:lnTo>
                  <a:lnTo>
                    <a:pt x="580" y="160"/>
                  </a:lnTo>
                  <a:lnTo>
                    <a:pt x="585" y="156"/>
                  </a:lnTo>
                  <a:lnTo>
                    <a:pt x="585" y="147"/>
                  </a:lnTo>
                  <a:lnTo>
                    <a:pt x="585" y="143"/>
                  </a:lnTo>
                  <a:lnTo>
                    <a:pt x="589" y="139"/>
                  </a:lnTo>
                  <a:lnTo>
                    <a:pt x="589" y="134"/>
                  </a:lnTo>
                  <a:lnTo>
                    <a:pt x="589" y="130"/>
                  </a:lnTo>
                  <a:lnTo>
                    <a:pt x="589" y="126"/>
                  </a:lnTo>
                  <a:lnTo>
                    <a:pt x="593" y="121"/>
                  </a:lnTo>
                  <a:lnTo>
                    <a:pt x="593" y="117"/>
                  </a:lnTo>
                  <a:lnTo>
                    <a:pt x="593" y="113"/>
                  </a:lnTo>
                  <a:lnTo>
                    <a:pt x="598" y="108"/>
                  </a:lnTo>
                  <a:lnTo>
                    <a:pt x="598" y="104"/>
                  </a:lnTo>
                  <a:lnTo>
                    <a:pt x="602" y="100"/>
                  </a:lnTo>
                  <a:lnTo>
                    <a:pt x="602" y="95"/>
                  </a:lnTo>
                  <a:lnTo>
                    <a:pt x="602" y="91"/>
                  </a:lnTo>
                  <a:lnTo>
                    <a:pt x="602" y="87"/>
                  </a:lnTo>
                  <a:lnTo>
                    <a:pt x="606" y="82"/>
                  </a:lnTo>
                  <a:lnTo>
                    <a:pt x="606" y="78"/>
                  </a:lnTo>
                  <a:lnTo>
                    <a:pt x="606" y="74"/>
                  </a:lnTo>
                  <a:lnTo>
                    <a:pt x="611" y="74"/>
                  </a:lnTo>
                  <a:lnTo>
                    <a:pt x="611" y="69"/>
                  </a:lnTo>
                  <a:lnTo>
                    <a:pt x="611" y="65"/>
                  </a:lnTo>
                  <a:lnTo>
                    <a:pt x="615" y="61"/>
                  </a:lnTo>
                  <a:lnTo>
                    <a:pt x="615" y="56"/>
                  </a:lnTo>
                  <a:lnTo>
                    <a:pt x="619" y="52"/>
                  </a:lnTo>
                  <a:lnTo>
                    <a:pt x="619" y="48"/>
                  </a:lnTo>
                  <a:lnTo>
                    <a:pt x="619" y="43"/>
                  </a:lnTo>
                  <a:lnTo>
                    <a:pt x="624" y="43"/>
                  </a:lnTo>
                  <a:lnTo>
                    <a:pt x="624" y="39"/>
                  </a:lnTo>
                  <a:lnTo>
                    <a:pt x="624" y="35"/>
                  </a:lnTo>
                  <a:lnTo>
                    <a:pt x="628" y="35"/>
                  </a:lnTo>
                  <a:lnTo>
                    <a:pt x="628" y="30"/>
                  </a:lnTo>
                  <a:lnTo>
                    <a:pt x="632" y="26"/>
                  </a:lnTo>
                  <a:lnTo>
                    <a:pt x="632" y="22"/>
                  </a:lnTo>
                  <a:lnTo>
                    <a:pt x="637" y="22"/>
                  </a:lnTo>
                  <a:lnTo>
                    <a:pt x="637" y="17"/>
                  </a:lnTo>
                  <a:lnTo>
                    <a:pt x="641" y="13"/>
                  </a:lnTo>
                  <a:lnTo>
                    <a:pt x="641" y="9"/>
                  </a:lnTo>
                  <a:lnTo>
                    <a:pt x="645" y="9"/>
                  </a:lnTo>
                  <a:lnTo>
                    <a:pt x="650" y="4"/>
                  </a:lnTo>
                  <a:lnTo>
                    <a:pt x="654" y="4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3" y="0"/>
                  </a:lnTo>
                  <a:lnTo>
                    <a:pt x="667" y="0"/>
                  </a:lnTo>
                  <a:lnTo>
                    <a:pt x="671" y="0"/>
                  </a:lnTo>
                  <a:lnTo>
                    <a:pt x="671" y="4"/>
                  </a:lnTo>
                  <a:lnTo>
                    <a:pt x="676" y="4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4" y="13"/>
                  </a:lnTo>
                  <a:lnTo>
                    <a:pt x="689" y="17"/>
                  </a:lnTo>
                  <a:lnTo>
                    <a:pt x="689" y="22"/>
                  </a:lnTo>
                  <a:lnTo>
                    <a:pt x="693" y="22"/>
                  </a:lnTo>
                  <a:lnTo>
                    <a:pt x="693" y="26"/>
                  </a:lnTo>
                  <a:lnTo>
                    <a:pt x="697" y="30"/>
                  </a:lnTo>
                  <a:lnTo>
                    <a:pt x="697" y="35"/>
                  </a:lnTo>
                  <a:lnTo>
                    <a:pt x="702" y="35"/>
                  </a:lnTo>
                  <a:lnTo>
                    <a:pt x="702" y="39"/>
                  </a:lnTo>
                  <a:lnTo>
                    <a:pt x="702" y="43"/>
                  </a:lnTo>
                  <a:lnTo>
                    <a:pt x="706" y="43"/>
                  </a:lnTo>
                  <a:lnTo>
                    <a:pt x="706" y="48"/>
                  </a:lnTo>
                  <a:lnTo>
                    <a:pt x="706" y="52"/>
                  </a:lnTo>
                  <a:lnTo>
                    <a:pt x="710" y="56"/>
                  </a:lnTo>
                  <a:lnTo>
                    <a:pt x="710" y="61"/>
                  </a:lnTo>
                  <a:lnTo>
                    <a:pt x="715" y="65"/>
                  </a:lnTo>
                  <a:lnTo>
                    <a:pt x="715" y="69"/>
                  </a:lnTo>
                  <a:lnTo>
                    <a:pt x="715" y="74"/>
                  </a:lnTo>
                  <a:lnTo>
                    <a:pt x="719" y="74"/>
                  </a:lnTo>
                  <a:lnTo>
                    <a:pt x="719" y="78"/>
                  </a:lnTo>
                  <a:lnTo>
                    <a:pt x="719" y="82"/>
                  </a:lnTo>
                  <a:lnTo>
                    <a:pt x="723" y="87"/>
                  </a:lnTo>
                  <a:lnTo>
                    <a:pt x="723" y="91"/>
                  </a:lnTo>
                  <a:lnTo>
                    <a:pt x="723" y="95"/>
                  </a:lnTo>
                  <a:lnTo>
                    <a:pt x="723" y="100"/>
                  </a:lnTo>
                  <a:lnTo>
                    <a:pt x="728" y="104"/>
                  </a:lnTo>
                  <a:lnTo>
                    <a:pt x="728" y="108"/>
                  </a:lnTo>
                  <a:lnTo>
                    <a:pt x="732" y="113"/>
                  </a:lnTo>
                  <a:lnTo>
                    <a:pt x="732" y="117"/>
                  </a:lnTo>
                  <a:lnTo>
                    <a:pt x="732" y="121"/>
                  </a:lnTo>
                  <a:lnTo>
                    <a:pt x="736" y="126"/>
                  </a:lnTo>
                  <a:lnTo>
                    <a:pt x="736" y="130"/>
                  </a:lnTo>
                  <a:lnTo>
                    <a:pt x="736" y="134"/>
                  </a:lnTo>
                  <a:lnTo>
                    <a:pt x="736" y="139"/>
                  </a:lnTo>
                  <a:lnTo>
                    <a:pt x="741" y="143"/>
                  </a:lnTo>
                  <a:lnTo>
                    <a:pt x="741" y="147"/>
                  </a:lnTo>
                  <a:lnTo>
                    <a:pt x="741" y="156"/>
                  </a:lnTo>
                  <a:lnTo>
                    <a:pt x="745" y="160"/>
                  </a:lnTo>
                  <a:lnTo>
                    <a:pt x="745" y="165"/>
                  </a:lnTo>
                  <a:lnTo>
                    <a:pt x="745" y="169"/>
                  </a:lnTo>
                  <a:lnTo>
                    <a:pt x="749" y="174"/>
                  </a:lnTo>
                  <a:lnTo>
                    <a:pt x="749" y="178"/>
                  </a:lnTo>
                  <a:lnTo>
                    <a:pt x="749" y="182"/>
                  </a:lnTo>
                  <a:lnTo>
                    <a:pt x="754" y="187"/>
                  </a:lnTo>
                  <a:lnTo>
                    <a:pt x="754" y="195"/>
                  </a:lnTo>
                  <a:lnTo>
                    <a:pt x="754" y="200"/>
                  </a:lnTo>
                  <a:lnTo>
                    <a:pt x="754" y="204"/>
                  </a:lnTo>
                  <a:lnTo>
                    <a:pt x="758" y="208"/>
                  </a:lnTo>
                  <a:lnTo>
                    <a:pt x="758" y="213"/>
                  </a:lnTo>
                  <a:lnTo>
                    <a:pt x="758" y="217"/>
                  </a:lnTo>
                  <a:lnTo>
                    <a:pt x="762" y="226"/>
                  </a:lnTo>
                  <a:lnTo>
                    <a:pt x="762" y="230"/>
                  </a:lnTo>
                  <a:lnTo>
                    <a:pt x="762" y="234"/>
                  </a:lnTo>
                  <a:lnTo>
                    <a:pt x="767" y="239"/>
                  </a:lnTo>
                  <a:lnTo>
                    <a:pt x="767" y="247"/>
                  </a:lnTo>
                  <a:lnTo>
                    <a:pt x="767" y="252"/>
                  </a:lnTo>
                  <a:lnTo>
                    <a:pt x="771" y="256"/>
                  </a:lnTo>
                  <a:lnTo>
                    <a:pt x="771" y="260"/>
                  </a:lnTo>
                  <a:lnTo>
                    <a:pt x="771" y="269"/>
                  </a:lnTo>
                  <a:lnTo>
                    <a:pt x="771" y="273"/>
                  </a:lnTo>
                  <a:lnTo>
                    <a:pt x="775" y="278"/>
                  </a:lnTo>
                  <a:lnTo>
                    <a:pt x="775" y="282"/>
                  </a:lnTo>
                  <a:lnTo>
                    <a:pt x="775" y="291"/>
                  </a:lnTo>
                  <a:lnTo>
                    <a:pt x="780" y="295"/>
                  </a:lnTo>
                  <a:lnTo>
                    <a:pt x="780" y="299"/>
                  </a:lnTo>
                  <a:lnTo>
                    <a:pt x="780" y="308"/>
                  </a:lnTo>
                  <a:lnTo>
                    <a:pt x="784" y="312"/>
                  </a:lnTo>
                  <a:lnTo>
                    <a:pt x="784" y="317"/>
                  </a:lnTo>
                  <a:lnTo>
                    <a:pt x="784" y="321"/>
                  </a:lnTo>
                  <a:lnTo>
                    <a:pt x="788" y="330"/>
                  </a:lnTo>
                  <a:lnTo>
                    <a:pt x="788" y="334"/>
                  </a:lnTo>
                  <a:lnTo>
                    <a:pt x="788" y="338"/>
                  </a:lnTo>
                  <a:lnTo>
                    <a:pt x="788" y="347"/>
                  </a:lnTo>
                  <a:lnTo>
                    <a:pt x="793" y="351"/>
                  </a:lnTo>
                  <a:lnTo>
                    <a:pt x="793" y="356"/>
                  </a:lnTo>
                  <a:lnTo>
                    <a:pt x="793" y="364"/>
                  </a:lnTo>
                  <a:lnTo>
                    <a:pt x="797" y="369"/>
                  </a:lnTo>
                  <a:lnTo>
                    <a:pt x="797" y="373"/>
                  </a:lnTo>
                  <a:lnTo>
                    <a:pt x="797" y="378"/>
                  </a:lnTo>
                  <a:lnTo>
                    <a:pt x="801" y="386"/>
                  </a:lnTo>
                  <a:lnTo>
                    <a:pt x="801" y="391"/>
                  </a:lnTo>
                  <a:lnTo>
                    <a:pt x="801" y="395"/>
                  </a:lnTo>
                  <a:lnTo>
                    <a:pt x="806" y="404"/>
                  </a:lnTo>
                  <a:lnTo>
                    <a:pt x="806" y="408"/>
                  </a:lnTo>
                  <a:lnTo>
                    <a:pt x="806" y="412"/>
                  </a:lnTo>
                  <a:lnTo>
                    <a:pt x="806" y="421"/>
                  </a:lnTo>
                  <a:lnTo>
                    <a:pt x="810" y="425"/>
                  </a:lnTo>
                  <a:lnTo>
                    <a:pt x="810" y="430"/>
                  </a:lnTo>
                  <a:lnTo>
                    <a:pt x="810" y="434"/>
                  </a:lnTo>
                  <a:lnTo>
                    <a:pt x="814" y="443"/>
                  </a:lnTo>
                  <a:lnTo>
                    <a:pt x="814" y="447"/>
                  </a:lnTo>
                  <a:lnTo>
                    <a:pt x="814" y="451"/>
                  </a:lnTo>
                  <a:lnTo>
                    <a:pt x="819" y="460"/>
                  </a:lnTo>
                  <a:lnTo>
                    <a:pt x="819" y="464"/>
                  </a:lnTo>
                  <a:lnTo>
                    <a:pt x="819" y="469"/>
                  </a:lnTo>
                  <a:lnTo>
                    <a:pt x="823" y="473"/>
                  </a:lnTo>
                  <a:lnTo>
                    <a:pt x="823" y="482"/>
                  </a:lnTo>
                  <a:lnTo>
                    <a:pt x="823" y="486"/>
                  </a:lnTo>
                  <a:lnTo>
                    <a:pt x="823" y="490"/>
                  </a:lnTo>
                  <a:lnTo>
                    <a:pt x="827" y="495"/>
                  </a:lnTo>
                  <a:lnTo>
                    <a:pt x="827" y="503"/>
                  </a:lnTo>
                  <a:lnTo>
                    <a:pt x="827" y="508"/>
                  </a:lnTo>
                  <a:lnTo>
                    <a:pt x="832" y="512"/>
                  </a:lnTo>
                  <a:lnTo>
                    <a:pt x="832" y="516"/>
                  </a:lnTo>
                  <a:lnTo>
                    <a:pt x="832" y="525"/>
                  </a:lnTo>
                  <a:lnTo>
                    <a:pt x="836" y="529"/>
                  </a:lnTo>
                  <a:lnTo>
                    <a:pt x="836" y="534"/>
                  </a:lnTo>
                  <a:lnTo>
                    <a:pt x="836" y="538"/>
                  </a:lnTo>
                  <a:lnTo>
                    <a:pt x="840" y="542"/>
                  </a:lnTo>
                  <a:lnTo>
                    <a:pt x="840" y="551"/>
                  </a:lnTo>
                  <a:lnTo>
                    <a:pt x="840" y="555"/>
                  </a:lnTo>
                  <a:lnTo>
                    <a:pt x="840" y="560"/>
                  </a:lnTo>
                  <a:lnTo>
                    <a:pt x="845" y="564"/>
                  </a:lnTo>
                  <a:lnTo>
                    <a:pt x="845" y="569"/>
                  </a:lnTo>
                  <a:lnTo>
                    <a:pt x="845" y="573"/>
                  </a:lnTo>
                  <a:lnTo>
                    <a:pt x="849" y="582"/>
                  </a:lnTo>
                  <a:lnTo>
                    <a:pt x="849" y="586"/>
                  </a:lnTo>
                  <a:lnTo>
                    <a:pt x="849" y="590"/>
                  </a:lnTo>
                  <a:lnTo>
                    <a:pt x="853" y="595"/>
                  </a:lnTo>
                  <a:lnTo>
                    <a:pt x="853" y="599"/>
                  </a:lnTo>
                  <a:lnTo>
                    <a:pt x="853" y="603"/>
                  </a:lnTo>
                  <a:lnTo>
                    <a:pt x="858" y="608"/>
                  </a:lnTo>
                  <a:lnTo>
                    <a:pt x="858" y="612"/>
                  </a:lnTo>
                  <a:lnTo>
                    <a:pt x="858" y="616"/>
                  </a:lnTo>
                  <a:lnTo>
                    <a:pt x="858" y="621"/>
                  </a:lnTo>
                  <a:lnTo>
                    <a:pt x="862" y="629"/>
                  </a:lnTo>
                  <a:lnTo>
                    <a:pt x="862" y="634"/>
                  </a:lnTo>
                  <a:lnTo>
                    <a:pt x="862" y="638"/>
                  </a:lnTo>
                  <a:lnTo>
                    <a:pt x="866" y="642"/>
                  </a:lnTo>
                  <a:lnTo>
                    <a:pt x="866" y="647"/>
                  </a:lnTo>
                  <a:lnTo>
                    <a:pt x="866" y="651"/>
                  </a:lnTo>
                  <a:lnTo>
                    <a:pt x="871" y="655"/>
                  </a:lnTo>
                  <a:lnTo>
                    <a:pt x="871" y="660"/>
                  </a:lnTo>
                  <a:lnTo>
                    <a:pt x="871" y="664"/>
                  </a:lnTo>
                  <a:lnTo>
                    <a:pt x="875" y="668"/>
                  </a:lnTo>
                  <a:lnTo>
                    <a:pt x="875" y="673"/>
                  </a:lnTo>
                  <a:lnTo>
                    <a:pt x="875" y="677"/>
                  </a:lnTo>
                  <a:lnTo>
                    <a:pt x="875" y="681"/>
                  </a:lnTo>
                  <a:lnTo>
                    <a:pt x="879" y="681"/>
                  </a:lnTo>
                  <a:lnTo>
                    <a:pt x="879" y="686"/>
                  </a:lnTo>
                  <a:lnTo>
                    <a:pt x="879" y="690"/>
                  </a:lnTo>
                  <a:lnTo>
                    <a:pt x="884" y="694"/>
                  </a:lnTo>
                  <a:lnTo>
                    <a:pt x="884" y="699"/>
                  </a:lnTo>
                  <a:lnTo>
                    <a:pt x="884" y="703"/>
                  </a:lnTo>
                  <a:lnTo>
                    <a:pt x="888" y="707"/>
                  </a:lnTo>
                  <a:lnTo>
                    <a:pt x="888" y="712"/>
                  </a:lnTo>
                  <a:lnTo>
                    <a:pt x="888" y="716"/>
                  </a:lnTo>
                  <a:lnTo>
                    <a:pt x="888" y="720"/>
                  </a:lnTo>
                  <a:lnTo>
                    <a:pt x="892" y="720"/>
                  </a:lnTo>
                  <a:lnTo>
                    <a:pt x="892" y="725"/>
                  </a:lnTo>
                  <a:lnTo>
                    <a:pt x="892" y="729"/>
                  </a:lnTo>
                  <a:lnTo>
                    <a:pt x="897" y="733"/>
                  </a:lnTo>
                  <a:lnTo>
                    <a:pt x="897" y="738"/>
                  </a:lnTo>
                  <a:lnTo>
                    <a:pt x="897" y="742"/>
                  </a:lnTo>
                  <a:lnTo>
                    <a:pt x="901" y="742"/>
                  </a:lnTo>
                  <a:lnTo>
                    <a:pt x="901" y="746"/>
                  </a:lnTo>
                  <a:lnTo>
                    <a:pt x="901" y="751"/>
                  </a:lnTo>
                  <a:lnTo>
                    <a:pt x="905" y="755"/>
                  </a:lnTo>
                  <a:lnTo>
                    <a:pt x="905" y="759"/>
                  </a:lnTo>
                  <a:lnTo>
                    <a:pt x="905" y="764"/>
                  </a:lnTo>
                  <a:lnTo>
                    <a:pt x="910" y="768"/>
                  </a:lnTo>
                  <a:lnTo>
                    <a:pt x="910" y="773"/>
                  </a:lnTo>
                  <a:lnTo>
                    <a:pt x="914" y="777"/>
                  </a:lnTo>
                  <a:lnTo>
                    <a:pt x="914" y="781"/>
                  </a:lnTo>
                  <a:lnTo>
                    <a:pt x="918" y="786"/>
                  </a:lnTo>
                  <a:lnTo>
                    <a:pt x="918" y="790"/>
                  </a:lnTo>
                  <a:lnTo>
                    <a:pt x="923" y="794"/>
                  </a:lnTo>
                  <a:lnTo>
                    <a:pt x="923" y="799"/>
                  </a:lnTo>
                  <a:lnTo>
                    <a:pt x="923" y="933"/>
                  </a:lnTo>
                  <a:lnTo>
                    <a:pt x="927" y="933"/>
                  </a:lnTo>
                  <a:lnTo>
                    <a:pt x="931" y="933"/>
                  </a:lnTo>
                  <a:lnTo>
                    <a:pt x="936" y="933"/>
                  </a:lnTo>
                  <a:lnTo>
                    <a:pt x="940" y="933"/>
                  </a:lnTo>
                  <a:lnTo>
                    <a:pt x="944" y="933"/>
                  </a:lnTo>
                  <a:lnTo>
                    <a:pt x="949" y="933"/>
                  </a:lnTo>
                  <a:lnTo>
                    <a:pt x="953" y="933"/>
                  </a:lnTo>
                  <a:lnTo>
                    <a:pt x="957" y="933"/>
                  </a:lnTo>
                  <a:lnTo>
                    <a:pt x="961" y="933"/>
                  </a:lnTo>
                  <a:lnTo>
                    <a:pt x="966" y="933"/>
                  </a:lnTo>
                  <a:lnTo>
                    <a:pt x="970" y="933"/>
                  </a:lnTo>
                  <a:lnTo>
                    <a:pt x="974" y="933"/>
                  </a:lnTo>
                  <a:lnTo>
                    <a:pt x="979" y="933"/>
                  </a:lnTo>
                  <a:lnTo>
                    <a:pt x="983" y="933"/>
                  </a:lnTo>
                  <a:lnTo>
                    <a:pt x="987" y="933"/>
                  </a:lnTo>
                  <a:lnTo>
                    <a:pt x="992" y="933"/>
                  </a:lnTo>
                  <a:lnTo>
                    <a:pt x="996" y="933"/>
                  </a:lnTo>
                  <a:lnTo>
                    <a:pt x="1000" y="933"/>
                  </a:lnTo>
                  <a:lnTo>
                    <a:pt x="1005" y="933"/>
                  </a:lnTo>
                  <a:lnTo>
                    <a:pt x="1009" y="933"/>
                  </a:lnTo>
                  <a:lnTo>
                    <a:pt x="1013" y="933"/>
                  </a:lnTo>
                  <a:lnTo>
                    <a:pt x="1018" y="933"/>
                  </a:lnTo>
                  <a:lnTo>
                    <a:pt x="1022" y="933"/>
                  </a:lnTo>
                  <a:lnTo>
                    <a:pt x="1026" y="933"/>
                  </a:lnTo>
                  <a:lnTo>
                    <a:pt x="1031" y="933"/>
                  </a:lnTo>
                  <a:lnTo>
                    <a:pt x="1035" y="933"/>
                  </a:lnTo>
                  <a:lnTo>
                    <a:pt x="1039" y="933"/>
                  </a:lnTo>
                  <a:lnTo>
                    <a:pt x="1044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57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0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3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096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09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2" y="933"/>
                  </a:lnTo>
                  <a:lnTo>
                    <a:pt x="1126" y="933"/>
                  </a:lnTo>
                  <a:lnTo>
                    <a:pt x="1130" y="933"/>
                  </a:lnTo>
                  <a:lnTo>
                    <a:pt x="1135" y="933"/>
                  </a:lnTo>
                  <a:lnTo>
                    <a:pt x="1139" y="933"/>
                  </a:lnTo>
                  <a:lnTo>
                    <a:pt x="1143" y="933"/>
                  </a:lnTo>
                  <a:lnTo>
                    <a:pt x="1148" y="933"/>
                  </a:lnTo>
                  <a:lnTo>
                    <a:pt x="1152" y="933"/>
                  </a:lnTo>
                  <a:lnTo>
                    <a:pt x="1156" y="933"/>
                  </a:lnTo>
                  <a:lnTo>
                    <a:pt x="1161" y="933"/>
                  </a:lnTo>
                  <a:lnTo>
                    <a:pt x="1165" y="933"/>
                  </a:lnTo>
                  <a:lnTo>
                    <a:pt x="1169" y="933"/>
                  </a:lnTo>
                  <a:lnTo>
                    <a:pt x="1174" y="933"/>
                  </a:lnTo>
                  <a:lnTo>
                    <a:pt x="1178" y="933"/>
                  </a:lnTo>
                  <a:lnTo>
                    <a:pt x="1182" y="933"/>
                  </a:lnTo>
                  <a:lnTo>
                    <a:pt x="1187" y="933"/>
                  </a:lnTo>
                  <a:lnTo>
                    <a:pt x="1191" y="933"/>
                  </a:lnTo>
                  <a:lnTo>
                    <a:pt x="1195" y="933"/>
                  </a:lnTo>
                  <a:lnTo>
                    <a:pt x="1200" y="933"/>
                  </a:lnTo>
                  <a:lnTo>
                    <a:pt x="1204" y="933"/>
                  </a:lnTo>
                  <a:lnTo>
                    <a:pt x="1208" y="933"/>
                  </a:lnTo>
                  <a:lnTo>
                    <a:pt x="1213" y="933"/>
                  </a:lnTo>
                  <a:lnTo>
                    <a:pt x="1217" y="933"/>
                  </a:lnTo>
                  <a:lnTo>
                    <a:pt x="1221" y="933"/>
                  </a:lnTo>
                  <a:lnTo>
                    <a:pt x="1226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39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2" y="933"/>
                  </a:lnTo>
                  <a:lnTo>
                    <a:pt x="1256" y="933"/>
                  </a:lnTo>
                  <a:lnTo>
                    <a:pt x="1260" y="933"/>
                  </a:lnTo>
                  <a:lnTo>
                    <a:pt x="1265" y="933"/>
                  </a:lnTo>
                  <a:lnTo>
                    <a:pt x="1269" y="933"/>
                  </a:lnTo>
                  <a:lnTo>
                    <a:pt x="1273" y="933"/>
                  </a:lnTo>
                  <a:lnTo>
                    <a:pt x="1278" y="933"/>
                  </a:lnTo>
                  <a:lnTo>
                    <a:pt x="1282" y="933"/>
                  </a:lnTo>
                  <a:lnTo>
                    <a:pt x="1286" y="933"/>
                  </a:lnTo>
                  <a:lnTo>
                    <a:pt x="1291" y="933"/>
                  </a:lnTo>
                  <a:lnTo>
                    <a:pt x="1295" y="933"/>
                  </a:lnTo>
                  <a:lnTo>
                    <a:pt x="1299" y="933"/>
                  </a:lnTo>
                  <a:lnTo>
                    <a:pt x="1304" y="933"/>
                  </a:lnTo>
                  <a:lnTo>
                    <a:pt x="1308" y="933"/>
                  </a:lnTo>
                  <a:lnTo>
                    <a:pt x="1312" y="933"/>
                  </a:lnTo>
                  <a:lnTo>
                    <a:pt x="1317" y="933"/>
                  </a:lnTo>
                  <a:lnTo>
                    <a:pt x="1321" y="933"/>
                  </a:lnTo>
                  <a:lnTo>
                    <a:pt x="1325" y="933"/>
                  </a:lnTo>
                </a:path>
              </a:pathLst>
            </a:cu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custGeom>
            <a:avLst/>
            <a:gdLst>
              <a:gd name="textAreaLeft" fmla="*/ 0 w 3644640"/>
              <a:gd name="textAreaRight" fmla="*/ 3645000 w 3644640"/>
              <a:gd name="textAreaTop" fmla="*/ 0 h 2365200"/>
              <a:gd name="textAreaBottom" fmla="*/ 2365560 h 2365200"/>
            </a:gdLst>
            <a:ahLst/>
            <a:rect l="textAreaLeft" t="textAreaTop" r="textAreaRight" b="textAreaBottom"/>
            <a:pathLst>
              <a:path w="2296" h="1616">
                <a:moveTo>
                  <a:pt x="0" y="1615"/>
                </a:moveTo>
                <a:lnTo>
                  <a:pt x="2295" y="1615"/>
                </a:lnTo>
                <a:lnTo>
                  <a:pt x="2295" y="0"/>
                </a:lnTo>
                <a:lnTo>
                  <a:pt x="0" y="0"/>
                </a:lnTo>
                <a:lnTo>
                  <a:pt x="0" y="16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custGeom>
            <a:avLst/>
            <a:gdLst>
              <a:gd name="textAreaLeft" fmla="*/ 0 w 2187360"/>
              <a:gd name="textAreaRight" fmla="*/ 2187720 w 2187360"/>
              <a:gd name="textAreaTop" fmla="*/ 0 h 1536840"/>
              <a:gd name="textAreaBottom" fmla="*/ 1537200 h 1536840"/>
            </a:gdLst>
            <a:ahLst/>
            <a:rect l="textAreaLeft" t="textAreaTop" r="textAreaRight" b="textAreaBottom"/>
            <a:pathLst>
              <a:path w="1378" h="968">
                <a:moveTo>
                  <a:pt x="0" y="967"/>
                </a:moveTo>
                <a:lnTo>
                  <a:pt x="1377" y="967"/>
                </a:lnTo>
                <a:lnTo>
                  <a:pt x="1377" y="0"/>
                </a:lnTo>
                <a:lnTo>
                  <a:pt x="0" y="0"/>
                </a:lnTo>
                <a:lnTo>
                  <a:pt x="0" y="9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1326" h="934">
                <a:moveTo>
                  <a:pt x="0" y="933"/>
                </a:moveTo>
                <a:lnTo>
                  <a:pt x="0" y="933"/>
                </a:lnTo>
                <a:lnTo>
                  <a:pt x="4" y="933"/>
                </a:lnTo>
                <a:lnTo>
                  <a:pt x="9" y="933"/>
                </a:lnTo>
                <a:lnTo>
                  <a:pt x="13" y="933"/>
                </a:lnTo>
                <a:lnTo>
                  <a:pt x="17" y="933"/>
                </a:lnTo>
                <a:lnTo>
                  <a:pt x="22" y="933"/>
                </a:lnTo>
                <a:lnTo>
                  <a:pt x="26" y="933"/>
                </a:lnTo>
                <a:lnTo>
                  <a:pt x="30" y="933"/>
                </a:lnTo>
                <a:lnTo>
                  <a:pt x="35" y="933"/>
                </a:lnTo>
                <a:lnTo>
                  <a:pt x="39" y="933"/>
                </a:lnTo>
                <a:lnTo>
                  <a:pt x="43" y="933"/>
                </a:lnTo>
                <a:lnTo>
                  <a:pt x="48" y="933"/>
                </a:lnTo>
                <a:lnTo>
                  <a:pt x="52" y="933"/>
                </a:lnTo>
                <a:lnTo>
                  <a:pt x="56" y="933"/>
                </a:lnTo>
                <a:lnTo>
                  <a:pt x="61" y="933"/>
                </a:lnTo>
                <a:lnTo>
                  <a:pt x="65" y="933"/>
                </a:lnTo>
                <a:lnTo>
                  <a:pt x="69" y="933"/>
                </a:lnTo>
                <a:lnTo>
                  <a:pt x="74" y="933"/>
                </a:lnTo>
                <a:lnTo>
                  <a:pt x="78" y="933"/>
                </a:lnTo>
                <a:lnTo>
                  <a:pt x="82" y="933"/>
                </a:lnTo>
                <a:lnTo>
                  <a:pt x="87" y="933"/>
                </a:lnTo>
                <a:lnTo>
                  <a:pt x="91" y="933"/>
                </a:lnTo>
                <a:lnTo>
                  <a:pt x="95" y="933"/>
                </a:lnTo>
                <a:lnTo>
                  <a:pt x="100" y="933"/>
                </a:lnTo>
                <a:lnTo>
                  <a:pt x="104" y="933"/>
                </a:lnTo>
                <a:lnTo>
                  <a:pt x="108" y="933"/>
                </a:lnTo>
                <a:lnTo>
                  <a:pt x="113" y="933"/>
                </a:lnTo>
                <a:lnTo>
                  <a:pt x="117" y="933"/>
                </a:lnTo>
                <a:lnTo>
                  <a:pt x="121" y="933"/>
                </a:lnTo>
                <a:lnTo>
                  <a:pt x="126" y="933"/>
                </a:lnTo>
                <a:lnTo>
                  <a:pt x="130" y="933"/>
                </a:lnTo>
                <a:lnTo>
                  <a:pt x="134" y="933"/>
                </a:lnTo>
                <a:lnTo>
                  <a:pt x="139" y="933"/>
                </a:lnTo>
                <a:lnTo>
                  <a:pt x="143" y="933"/>
                </a:lnTo>
                <a:lnTo>
                  <a:pt x="147" y="933"/>
                </a:lnTo>
                <a:lnTo>
                  <a:pt x="152" y="933"/>
                </a:lnTo>
                <a:lnTo>
                  <a:pt x="156" y="933"/>
                </a:lnTo>
                <a:lnTo>
                  <a:pt x="160" y="933"/>
                </a:lnTo>
                <a:lnTo>
                  <a:pt x="165" y="933"/>
                </a:lnTo>
                <a:lnTo>
                  <a:pt x="169" y="933"/>
                </a:lnTo>
                <a:lnTo>
                  <a:pt x="173" y="933"/>
                </a:lnTo>
                <a:lnTo>
                  <a:pt x="178" y="933"/>
                </a:lnTo>
                <a:lnTo>
                  <a:pt x="182" y="933"/>
                </a:lnTo>
                <a:lnTo>
                  <a:pt x="186" y="933"/>
                </a:lnTo>
                <a:lnTo>
                  <a:pt x="191" y="933"/>
                </a:lnTo>
                <a:lnTo>
                  <a:pt x="195" y="933"/>
                </a:lnTo>
                <a:lnTo>
                  <a:pt x="199" y="933"/>
                </a:lnTo>
                <a:lnTo>
                  <a:pt x="204" y="933"/>
                </a:lnTo>
                <a:lnTo>
                  <a:pt x="208" y="933"/>
                </a:lnTo>
                <a:lnTo>
                  <a:pt x="212" y="933"/>
                </a:lnTo>
                <a:lnTo>
                  <a:pt x="217" y="933"/>
                </a:lnTo>
                <a:lnTo>
                  <a:pt x="221" y="933"/>
                </a:lnTo>
                <a:lnTo>
                  <a:pt x="225" y="933"/>
                </a:lnTo>
                <a:lnTo>
                  <a:pt x="225" y="929"/>
                </a:lnTo>
                <a:lnTo>
                  <a:pt x="230" y="929"/>
                </a:lnTo>
                <a:lnTo>
                  <a:pt x="234" y="929"/>
                </a:lnTo>
                <a:lnTo>
                  <a:pt x="238" y="929"/>
                </a:lnTo>
                <a:lnTo>
                  <a:pt x="243" y="929"/>
                </a:lnTo>
                <a:lnTo>
                  <a:pt x="247" y="929"/>
                </a:lnTo>
                <a:lnTo>
                  <a:pt x="251" y="929"/>
                </a:lnTo>
                <a:lnTo>
                  <a:pt x="256" y="929"/>
                </a:lnTo>
                <a:lnTo>
                  <a:pt x="256" y="924"/>
                </a:lnTo>
                <a:lnTo>
                  <a:pt x="260" y="924"/>
                </a:lnTo>
                <a:lnTo>
                  <a:pt x="264" y="924"/>
                </a:lnTo>
                <a:lnTo>
                  <a:pt x="269" y="924"/>
                </a:lnTo>
                <a:lnTo>
                  <a:pt x="273" y="924"/>
                </a:lnTo>
                <a:lnTo>
                  <a:pt x="273" y="920"/>
                </a:lnTo>
                <a:lnTo>
                  <a:pt x="277" y="920"/>
                </a:lnTo>
                <a:lnTo>
                  <a:pt x="282" y="920"/>
                </a:lnTo>
                <a:lnTo>
                  <a:pt x="286" y="920"/>
                </a:lnTo>
                <a:lnTo>
                  <a:pt x="286" y="916"/>
                </a:lnTo>
                <a:lnTo>
                  <a:pt x="290" y="916"/>
                </a:lnTo>
                <a:lnTo>
                  <a:pt x="295" y="916"/>
                </a:lnTo>
                <a:lnTo>
                  <a:pt x="299" y="916"/>
                </a:lnTo>
                <a:lnTo>
                  <a:pt x="299" y="911"/>
                </a:lnTo>
                <a:lnTo>
                  <a:pt x="303" y="911"/>
                </a:lnTo>
                <a:lnTo>
                  <a:pt x="308" y="911"/>
                </a:lnTo>
                <a:lnTo>
                  <a:pt x="308" y="907"/>
                </a:lnTo>
                <a:lnTo>
                  <a:pt x="312" y="907"/>
                </a:lnTo>
                <a:lnTo>
                  <a:pt x="316" y="907"/>
                </a:lnTo>
                <a:lnTo>
                  <a:pt x="316" y="903"/>
                </a:lnTo>
                <a:lnTo>
                  <a:pt x="321" y="903"/>
                </a:lnTo>
                <a:lnTo>
                  <a:pt x="321" y="898"/>
                </a:lnTo>
                <a:lnTo>
                  <a:pt x="325" y="898"/>
                </a:lnTo>
                <a:lnTo>
                  <a:pt x="329" y="894"/>
                </a:lnTo>
                <a:lnTo>
                  <a:pt x="334" y="894"/>
                </a:lnTo>
                <a:lnTo>
                  <a:pt x="334" y="890"/>
                </a:lnTo>
                <a:lnTo>
                  <a:pt x="338" y="890"/>
                </a:lnTo>
                <a:lnTo>
                  <a:pt x="338" y="885"/>
                </a:lnTo>
                <a:lnTo>
                  <a:pt x="342" y="885"/>
                </a:lnTo>
                <a:lnTo>
                  <a:pt x="342" y="881"/>
                </a:lnTo>
                <a:lnTo>
                  <a:pt x="347" y="881"/>
                </a:lnTo>
                <a:lnTo>
                  <a:pt x="351" y="877"/>
                </a:lnTo>
                <a:lnTo>
                  <a:pt x="351" y="872"/>
                </a:lnTo>
                <a:lnTo>
                  <a:pt x="355" y="872"/>
                </a:lnTo>
                <a:lnTo>
                  <a:pt x="355" y="868"/>
                </a:lnTo>
                <a:lnTo>
                  <a:pt x="360" y="868"/>
                </a:lnTo>
                <a:lnTo>
                  <a:pt x="360" y="864"/>
                </a:lnTo>
                <a:lnTo>
                  <a:pt x="364" y="864"/>
                </a:lnTo>
                <a:lnTo>
                  <a:pt x="364" y="859"/>
                </a:lnTo>
                <a:lnTo>
                  <a:pt x="368" y="859"/>
                </a:lnTo>
                <a:lnTo>
                  <a:pt x="368" y="855"/>
                </a:lnTo>
                <a:lnTo>
                  <a:pt x="368" y="851"/>
                </a:lnTo>
                <a:lnTo>
                  <a:pt x="373" y="851"/>
                </a:lnTo>
                <a:lnTo>
                  <a:pt x="373" y="846"/>
                </a:lnTo>
                <a:lnTo>
                  <a:pt x="377" y="846"/>
                </a:lnTo>
                <a:lnTo>
                  <a:pt x="377" y="842"/>
                </a:lnTo>
                <a:lnTo>
                  <a:pt x="381" y="838"/>
                </a:lnTo>
                <a:lnTo>
                  <a:pt x="381" y="833"/>
                </a:lnTo>
                <a:lnTo>
                  <a:pt x="385" y="833"/>
                </a:lnTo>
                <a:lnTo>
                  <a:pt x="385" y="829"/>
                </a:lnTo>
                <a:lnTo>
                  <a:pt x="385" y="825"/>
                </a:lnTo>
                <a:lnTo>
                  <a:pt x="390" y="825"/>
                </a:lnTo>
                <a:lnTo>
                  <a:pt x="390" y="820"/>
                </a:lnTo>
                <a:lnTo>
                  <a:pt x="394" y="816"/>
                </a:lnTo>
                <a:lnTo>
                  <a:pt x="394" y="812"/>
                </a:lnTo>
                <a:lnTo>
                  <a:pt x="398" y="807"/>
                </a:lnTo>
                <a:lnTo>
                  <a:pt x="398" y="803"/>
                </a:lnTo>
                <a:lnTo>
                  <a:pt x="403" y="803"/>
                </a:lnTo>
                <a:lnTo>
                  <a:pt x="403" y="799"/>
                </a:lnTo>
                <a:lnTo>
                  <a:pt x="403" y="794"/>
                </a:lnTo>
                <a:lnTo>
                  <a:pt x="407" y="790"/>
                </a:lnTo>
                <a:lnTo>
                  <a:pt x="407" y="786"/>
                </a:lnTo>
                <a:lnTo>
                  <a:pt x="411" y="781"/>
                </a:lnTo>
                <a:lnTo>
                  <a:pt x="411" y="777"/>
                </a:lnTo>
                <a:lnTo>
                  <a:pt x="416" y="773"/>
                </a:lnTo>
                <a:lnTo>
                  <a:pt x="416" y="768"/>
                </a:lnTo>
                <a:lnTo>
                  <a:pt x="420" y="764"/>
                </a:lnTo>
                <a:lnTo>
                  <a:pt x="420" y="759"/>
                </a:lnTo>
                <a:lnTo>
                  <a:pt x="420" y="755"/>
                </a:lnTo>
                <a:lnTo>
                  <a:pt x="424" y="751"/>
                </a:lnTo>
                <a:lnTo>
                  <a:pt x="424" y="746"/>
                </a:lnTo>
                <a:lnTo>
                  <a:pt x="424" y="742"/>
                </a:lnTo>
                <a:lnTo>
                  <a:pt x="429" y="742"/>
                </a:lnTo>
                <a:lnTo>
                  <a:pt x="429" y="738"/>
                </a:lnTo>
                <a:lnTo>
                  <a:pt x="429" y="733"/>
                </a:lnTo>
                <a:lnTo>
                  <a:pt x="433" y="729"/>
                </a:lnTo>
                <a:lnTo>
                  <a:pt x="433" y="725"/>
                </a:lnTo>
                <a:lnTo>
                  <a:pt x="433" y="720"/>
                </a:lnTo>
                <a:lnTo>
                  <a:pt x="437" y="720"/>
                </a:lnTo>
                <a:lnTo>
                  <a:pt x="437" y="716"/>
                </a:lnTo>
                <a:lnTo>
                  <a:pt x="437" y="712"/>
                </a:lnTo>
                <a:lnTo>
                  <a:pt x="437" y="707"/>
                </a:lnTo>
                <a:lnTo>
                  <a:pt x="442" y="703"/>
                </a:lnTo>
                <a:lnTo>
                  <a:pt x="442" y="699"/>
                </a:lnTo>
                <a:lnTo>
                  <a:pt x="442" y="694"/>
                </a:lnTo>
                <a:lnTo>
                  <a:pt x="446" y="690"/>
                </a:lnTo>
                <a:lnTo>
                  <a:pt x="446" y="686"/>
                </a:lnTo>
                <a:lnTo>
                  <a:pt x="446" y="681"/>
                </a:lnTo>
                <a:lnTo>
                  <a:pt x="450" y="681"/>
                </a:lnTo>
                <a:lnTo>
                  <a:pt x="450" y="677"/>
                </a:lnTo>
                <a:lnTo>
                  <a:pt x="450" y="673"/>
                </a:lnTo>
                <a:lnTo>
                  <a:pt x="450" y="668"/>
                </a:lnTo>
                <a:lnTo>
                  <a:pt x="455" y="664"/>
                </a:lnTo>
                <a:lnTo>
                  <a:pt x="455" y="660"/>
                </a:lnTo>
                <a:lnTo>
                  <a:pt x="455" y="655"/>
                </a:lnTo>
                <a:lnTo>
                  <a:pt x="459" y="651"/>
                </a:lnTo>
                <a:lnTo>
                  <a:pt x="459" y="647"/>
                </a:lnTo>
                <a:lnTo>
                  <a:pt x="459" y="642"/>
                </a:lnTo>
                <a:lnTo>
                  <a:pt x="463" y="638"/>
                </a:lnTo>
                <a:lnTo>
                  <a:pt x="463" y="634"/>
                </a:lnTo>
                <a:lnTo>
                  <a:pt x="463" y="629"/>
                </a:lnTo>
                <a:lnTo>
                  <a:pt x="468" y="621"/>
                </a:lnTo>
                <a:lnTo>
                  <a:pt x="468" y="616"/>
                </a:lnTo>
                <a:lnTo>
                  <a:pt x="468" y="612"/>
                </a:lnTo>
                <a:lnTo>
                  <a:pt x="468" y="608"/>
                </a:lnTo>
                <a:lnTo>
                  <a:pt x="472" y="603"/>
                </a:lnTo>
                <a:lnTo>
                  <a:pt x="472" y="599"/>
                </a:lnTo>
                <a:lnTo>
                  <a:pt x="472" y="595"/>
                </a:lnTo>
                <a:lnTo>
                  <a:pt x="476" y="590"/>
                </a:lnTo>
                <a:lnTo>
                  <a:pt x="476" y="586"/>
                </a:lnTo>
                <a:lnTo>
                  <a:pt x="476" y="582"/>
                </a:lnTo>
                <a:lnTo>
                  <a:pt x="481" y="573"/>
                </a:lnTo>
                <a:lnTo>
                  <a:pt x="481" y="569"/>
                </a:lnTo>
                <a:lnTo>
                  <a:pt x="481" y="564"/>
                </a:lnTo>
                <a:lnTo>
                  <a:pt x="485" y="560"/>
                </a:lnTo>
                <a:lnTo>
                  <a:pt x="485" y="555"/>
                </a:lnTo>
                <a:lnTo>
                  <a:pt x="485" y="551"/>
                </a:lnTo>
                <a:lnTo>
                  <a:pt x="485" y="542"/>
                </a:lnTo>
                <a:lnTo>
                  <a:pt x="489" y="538"/>
                </a:lnTo>
                <a:lnTo>
                  <a:pt x="489" y="534"/>
                </a:lnTo>
                <a:lnTo>
                  <a:pt x="489" y="529"/>
                </a:lnTo>
                <a:lnTo>
                  <a:pt x="494" y="525"/>
                </a:lnTo>
                <a:lnTo>
                  <a:pt x="494" y="516"/>
                </a:lnTo>
                <a:lnTo>
                  <a:pt x="494" y="512"/>
                </a:lnTo>
                <a:lnTo>
                  <a:pt x="498" y="508"/>
                </a:lnTo>
                <a:lnTo>
                  <a:pt x="498" y="503"/>
                </a:lnTo>
                <a:lnTo>
                  <a:pt x="498" y="495"/>
                </a:lnTo>
                <a:lnTo>
                  <a:pt x="502" y="490"/>
                </a:lnTo>
                <a:lnTo>
                  <a:pt x="502" y="486"/>
                </a:lnTo>
                <a:lnTo>
                  <a:pt x="502" y="482"/>
                </a:lnTo>
                <a:lnTo>
                  <a:pt x="502" y="473"/>
                </a:lnTo>
                <a:lnTo>
                  <a:pt x="507" y="469"/>
                </a:lnTo>
                <a:lnTo>
                  <a:pt x="507" y="464"/>
                </a:lnTo>
                <a:lnTo>
                  <a:pt x="507" y="460"/>
                </a:lnTo>
                <a:lnTo>
                  <a:pt x="511" y="451"/>
                </a:lnTo>
                <a:lnTo>
                  <a:pt x="511" y="447"/>
                </a:lnTo>
                <a:lnTo>
                  <a:pt x="511" y="443"/>
                </a:lnTo>
                <a:lnTo>
                  <a:pt x="515" y="434"/>
                </a:lnTo>
                <a:lnTo>
                  <a:pt x="515" y="430"/>
                </a:lnTo>
                <a:lnTo>
                  <a:pt x="515" y="425"/>
                </a:lnTo>
                <a:lnTo>
                  <a:pt x="520" y="421"/>
                </a:lnTo>
                <a:lnTo>
                  <a:pt x="520" y="412"/>
                </a:lnTo>
                <a:lnTo>
                  <a:pt x="520" y="408"/>
                </a:lnTo>
                <a:lnTo>
                  <a:pt x="520" y="404"/>
                </a:lnTo>
                <a:lnTo>
                  <a:pt x="524" y="395"/>
                </a:lnTo>
                <a:lnTo>
                  <a:pt x="524" y="391"/>
                </a:lnTo>
                <a:lnTo>
                  <a:pt x="524" y="386"/>
                </a:lnTo>
                <a:lnTo>
                  <a:pt x="528" y="378"/>
                </a:lnTo>
                <a:lnTo>
                  <a:pt x="528" y="373"/>
                </a:lnTo>
                <a:lnTo>
                  <a:pt x="528" y="369"/>
                </a:lnTo>
                <a:lnTo>
                  <a:pt x="533" y="364"/>
                </a:lnTo>
                <a:lnTo>
                  <a:pt x="533" y="356"/>
                </a:lnTo>
                <a:lnTo>
                  <a:pt x="533" y="351"/>
                </a:lnTo>
                <a:lnTo>
                  <a:pt x="537" y="347"/>
                </a:lnTo>
                <a:lnTo>
                  <a:pt x="537" y="338"/>
                </a:lnTo>
                <a:lnTo>
                  <a:pt x="537" y="334"/>
                </a:lnTo>
                <a:lnTo>
                  <a:pt x="537" y="330"/>
                </a:lnTo>
                <a:lnTo>
                  <a:pt x="541" y="321"/>
                </a:lnTo>
                <a:lnTo>
                  <a:pt x="541" y="317"/>
                </a:lnTo>
                <a:lnTo>
                  <a:pt x="541" y="312"/>
                </a:lnTo>
                <a:lnTo>
                  <a:pt x="546" y="308"/>
                </a:lnTo>
                <a:lnTo>
                  <a:pt x="546" y="299"/>
                </a:lnTo>
                <a:lnTo>
                  <a:pt x="546" y="295"/>
                </a:lnTo>
                <a:lnTo>
                  <a:pt x="550" y="291"/>
                </a:lnTo>
                <a:lnTo>
                  <a:pt x="550" y="282"/>
                </a:lnTo>
                <a:lnTo>
                  <a:pt x="550" y="278"/>
                </a:lnTo>
                <a:lnTo>
                  <a:pt x="554" y="273"/>
                </a:lnTo>
                <a:lnTo>
                  <a:pt x="554" y="269"/>
                </a:lnTo>
                <a:lnTo>
                  <a:pt x="554" y="260"/>
                </a:lnTo>
                <a:lnTo>
                  <a:pt x="554" y="256"/>
                </a:lnTo>
                <a:lnTo>
                  <a:pt x="559" y="252"/>
                </a:lnTo>
                <a:lnTo>
                  <a:pt x="559" y="247"/>
                </a:lnTo>
                <a:lnTo>
                  <a:pt x="559" y="239"/>
                </a:lnTo>
                <a:lnTo>
                  <a:pt x="563" y="234"/>
                </a:lnTo>
                <a:lnTo>
                  <a:pt x="563" y="230"/>
                </a:lnTo>
                <a:lnTo>
                  <a:pt x="563" y="226"/>
                </a:lnTo>
                <a:lnTo>
                  <a:pt x="567" y="217"/>
                </a:lnTo>
                <a:lnTo>
                  <a:pt x="567" y="213"/>
                </a:lnTo>
                <a:lnTo>
                  <a:pt x="567" y="208"/>
                </a:lnTo>
                <a:lnTo>
                  <a:pt x="572" y="204"/>
                </a:lnTo>
                <a:lnTo>
                  <a:pt x="572" y="200"/>
                </a:lnTo>
                <a:lnTo>
                  <a:pt x="572" y="195"/>
                </a:lnTo>
                <a:lnTo>
                  <a:pt x="572" y="187"/>
                </a:lnTo>
                <a:lnTo>
                  <a:pt x="576" y="182"/>
                </a:lnTo>
                <a:lnTo>
                  <a:pt x="576" y="178"/>
                </a:lnTo>
                <a:lnTo>
                  <a:pt x="576" y="174"/>
                </a:lnTo>
                <a:lnTo>
                  <a:pt x="580" y="169"/>
                </a:lnTo>
                <a:lnTo>
                  <a:pt x="580" y="165"/>
                </a:lnTo>
                <a:lnTo>
                  <a:pt x="580" y="160"/>
                </a:lnTo>
                <a:lnTo>
                  <a:pt x="585" y="156"/>
                </a:lnTo>
                <a:lnTo>
                  <a:pt x="585" y="147"/>
                </a:lnTo>
                <a:lnTo>
                  <a:pt x="585" y="143"/>
                </a:lnTo>
                <a:lnTo>
                  <a:pt x="589" y="139"/>
                </a:lnTo>
                <a:lnTo>
                  <a:pt x="589" y="134"/>
                </a:lnTo>
                <a:lnTo>
                  <a:pt x="589" y="130"/>
                </a:lnTo>
                <a:lnTo>
                  <a:pt x="589" y="126"/>
                </a:lnTo>
                <a:lnTo>
                  <a:pt x="593" y="121"/>
                </a:lnTo>
                <a:lnTo>
                  <a:pt x="593" y="117"/>
                </a:lnTo>
                <a:lnTo>
                  <a:pt x="593" y="113"/>
                </a:lnTo>
                <a:lnTo>
                  <a:pt x="598" y="108"/>
                </a:lnTo>
                <a:lnTo>
                  <a:pt x="598" y="104"/>
                </a:lnTo>
                <a:lnTo>
                  <a:pt x="602" y="100"/>
                </a:lnTo>
                <a:lnTo>
                  <a:pt x="602" y="95"/>
                </a:lnTo>
                <a:lnTo>
                  <a:pt x="602" y="91"/>
                </a:lnTo>
                <a:lnTo>
                  <a:pt x="602" y="87"/>
                </a:lnTo>
                <a:lnTo>
                  <a:pt x="606" y="82"/>
                </a:lnTo>
                <a:lnTo>
                  <a:pt x="606" y="78"/>
                </a:lnTo>
                <a:lnTo>
                  <a:pt x="606" y="74"/>
                </a:lnTo>
                <a:lnTo>
                  <a:pt x="611" y="74"/>
                </a:lnTo>
                <a:lnTo>
                  <a:pt x="611" y="69"/>
                </a:lnTo>
                <a:lnTo>
                  <a:pt x="611" y="65"/>
                </a:lnTo>
                <a:lnTo>
                  <a:pt x="615" y="61"/>
                </a:lnTo>
                <a:lnTo>
                  <a:pt x="615" y="56"/>
                </a:lnTo>
                <a:lnTo>
                  <a:pt x="619" y="52"/>
                </a:lnTo>
                <a:lnTo>
                  <a:pt x="619" y="48"/>
                </a:lnTo>
                <a:lnTo>
                  <a:pt x="619" y="43"/>
                </a:lnTo>
                <a:lnTo>
                  <a:pt x="624" y="43"/>
                </a:lnTo>
                <a:lnTo>
                  <a:pt x="624" y="39"/>
                </a:lnTo>
                <a:lnTo>
                  <a:pt x="624" y="35"/>
                </a:lnTo>
                <a:lnTo>
                  <a:pt x="628" y="35"/>
                </a:lnTo>
                <a:lnTo>
                  <a:pt x="628" y="30"/>
                </a:lnTo>
                <a:lnTo>
                  <a:pt x="632" y="26"/>
                </a:lnTo>
                <a:lnTo>
                  <a:pt x="632" y="22"/>
                </a:lnTo>
                <a:lnTo>
                  <a:pt x="637" y="22"/>
                </a:lnTo>
                <a:lnTo>
                  <a:pt x="637" y="17"/>
                </a:lnTo>
                <a:lnTo>
                  <a:pt x="641" y="13"/>
                </a:lnTo>
                <a:lnTo>
                  <a:pt x="641" y="9"/>
                </a:lnTo>
                <a:lnTo>
                  <a:pt x="645" y="9"/>
                </a:lnTo>
                <a:lnTo>
                  <a:pt x="650" y="4"/>
                </a:lnTo>
                <a:lnTo>
                  <a:pt x="654" y="4"/>
                </a:lnTo>
                <a:lnTo>
                  <a:pt x="654" y="0"/>
                </a:lnTo>
                <a:lnTo>
                  <a:pt x="658" y="0"/>
                </a:lnTo>
                <a:lnTo>
                  <a:pt x="663" y="0"/>
                </a:lnTo>
                <a:lnTo>
                  <a:pt x="667" y="0"/>
                </a:lnTo>
                <a:lnTo>
                  <a:pt x="671" y="0"/>
                </a:lnTo>
                <a:lnTo>
                  <a:pt x="671" y="4"/>
                </a:lnTo>
                <a:lnTo>
                  <a:pt x="676" y="4"/>
                </a:lnTo>
                <a:lnTo>
                  <a:pt x="680" y="9"/>
                </a:lnTo>
                <a:lnTo>
                  <a:pt x="684" y="9"/>
                </a:lnTo>
                <a:lnTo>
                  <a:pt x="684" y="13"/>
                </a:lnTo>
                <a:lnTo>
                  <a:pt x="689" y="17"/>
                </a:lnTo>
                <a:lnTo>
                  <a:pt x="689" y="22"/>
                </a:lnTo>
                <a:lnTo>
                  <a:pt x="693" y="22"/>
                </a:lnTo>
                <a:lnTo>
                  <a:pt x="693" y="26"/>
                </a:lnTo>
                <a:lnTo>
                  <a:pt x="697" y="30"/>
                </a:lnTo>
                <a:lnTo>
                  <a:pt x="697" y="35"/>
                </a:lnTo>
                <a:lnTo>
                  <a:pt x="702" y="35"/>
                </a:lnTo>
                <a:lnTo>
                  <a:pt x="702" y="39"/>
                </a:lnTo>
                <a:lnTo>
                  <a:pt x="702" y="43"/>
                </a:lnTo>
                <a:lnTo>
                  <a:pt x="706" y="43"/>
                </a:lnTo>
                <a:lnTo>
                  <a:pt x="706" y="48"/>
                </a:lnTo>
                <a:lnTo>
                  <a:pt x="706" y="52"/>
                </a:lnTo>
                <a:lnTo>
                  <a:pt x="710" y="56"/>
                </a:lnTo>
                <a:lnTo>
                  <a:pt x="710" y="61"/>
                </a:lnTo>
                <a:lnTo>
                  <a:pt x="715" y="65"/>
                </a:lnTo>
                <a:lnTo>
                  <a:pt x="715" y="69"/>
                </a:lnTo>
                <a:lnTo>
                  <a:pt x="715" y="74"/>
                </a:lnTo>
                <a:lnTo>
                  <a:pt x="719" y="74"/>
                </a:lnTo>
                <a:lnTo>
                  <a:pt x="719" y="78"/>
                </a:lnTo>
                <a:lnTo>
                  <a:pt x="719" y="82"/>
                </a:lnTo>
                <a:lnTo>
                  <a:pt x="723" y="87"/>
                </a:lnTo>
                <a:lnTo>
                  <a:pt x="723" y="91"/>
                </a:lnTo>
                <a:lnTo>
                  <a:pt x="723" y="95"/>
                </a:lnTo>
                <a:lnTo>
                  <a:pt x="723" y="100"/>
                </a:lnTo>
                <a:lnTo>
                  <a:pt x="728" y="104"/>
                </a:lnTo>
                <a:lnTo>
                  <a:pt x="728" y="108"/>
                </a:lnTo>
                <a:lnTo>
                  <a:pt x="732" y="113"/>
                </a:lnTo>
                <a:lnTo>
                  <a:pt x="732" y="117"/>
                </a:lnTo>
                <a:lnTo>
                  <a:pt x="732" y="121"/>
                </a:lnTo>
                <a:lnTo>
                  <a:pt x="736" y="126"/>
                </a:lnTo>
                <a:lnTo>
                  <a:pt x="736" y="130"/>
                </a:lnTo>
                <a:lnTo>
                  <a:pt x="736" y="134"/>
                </a:lnTo>
                <a:lnTo>
                  <a:pt x="736" y="139"/>
                </a:lnTo>
                <a:lnTo>
                  <a:pt x="741" y="143"/>
                </a:lnTo>
                <a:lnTo>
                  <a:pt x="741" y="147"/>
                </a:lnTo>
                <a:lnTo>
                  <a:pt x="741" y="156"/>
                </a:lnTo>
                <a:lnTo>
                  <a:pt x="745" y="160"/>
                </a:lnTo>
                <a:lnTo>
                  <a:pt x="745" y="165"/>
                </a:lnTo>
                <a:lnTo>
                  <a:pt x="745" y="169"/>
                </a:lnTo>
                <a:lnTo>
                  <a:pt x="749" y="174"/>
                </a:lnTo>
                <a:lnTo>
                  <a:pt x="749" y="178"/>
                </a:lnTo>
                <a:lnTo>
                  <a:pt x="749" y="182"/>
                </a:lnTo>
                <a:lnTo>
                  <a:pt x="754" y="187"/>
                </a:lnTo>
                <a:lnTo>
                  <a:pt x="754" y="195"/>
                </a:lnTo>
                <a:lnTo>
                  <a:pt x="754" y="200"/>
                </a:lnTo>
                <a:lnTo>
                  <a:pt x="754" y="204"/>
                </a:lnTo>
                <a:lnTo>
                  <a:pt x="758" y="208"/>
                </a:lnTo>
                <a:lnTo>
                  <a:pt x="758" y="213"/>
                </a:lnTo>
                <a:lnTo>
                  <a:pt x="758" y="217"/>
                </a:lnTo>
                <a:lnTo>
                  <a:pt x="762" y="226"/>
                </a:lnTo>
                <a:lnTo>
                  <a:pt x="762" y="230"/>
                </a:lnTo>
                <a:lnTo>
                  <a:pt x="762" y="234"/>
                </a:lnTo>
                <a:lnTo>
                  <a:pt x="767" y="239"/>
                </a:lnTo>
                <a:lnTo>
                  <a:pt x="767" y="247"/>
                </a:lnTo>
                <a:lnTo>
                  <a:pt x="767" y="252"/>
                </a:lnTo>
                <a:lnTo>
                  <a:pt x="771" y="256"/>
                </a:lnTo>
                <a:lnTo>
                  <a:pt x="771" y="260"/>
                </a:lnTo>
                <a:lnTo>
                  <a:pt x="771" y="269"/>
                </a:lnTo>
                <a:lnTo>
                  <a:pt x="771" y="273"/>
                </a:lnTo>
                <a:lnTo>
                  <a:pt x="775" y="278"/>
                </a:lnTo>
                <a:lnTo>
                  <a:pt x="775" y="282"/>
                </a:lnTo>
                <a:lnTo>
                  <a:pt x="775" y="291"/>
                </a:lnTo>
                <a:lnTo>
                  <a:pt x="780" y="295"/>
                </a:lnTo>
                <a:lnTo>
                  <a:pt x="780" y="299"/>
                </a:lnTo>
                <a:lnTo>
                  <a:pt x="780" y="308"/>
                </a:lnTo>
                <a:lnTo>
                  <a:pt x="784" y="312"/>
                </a:lnTo>
                <a:lnTo>
                  <a:pt x="784" y="317"/>
                </a:lnTo>
                <a:lnTo>
                  <a:pt x="784" y="321"/>
                </a:lnTo>
                <a:lnTo>
                  <a:pt x="788" y="330"/>
                </a:lnTo>
                <a:lnTo>
                  <a:pt x="788" y="334"/>
                </a:lnTo>
                <a:lnTo>
                  <a:pt x="788" y="338"/>
                </a:lnTo>
                <a:lnTo>
                  <a:pt x="788" y="347"/>
                </a:lnTo>
                <a:lnTo>
                  <a:pt x="793" y="351"/>
                </a:lnTo>
                <a:lnTo>
                  <a:pt x="793" y="356"/>
                </a:lnTo>
                <a:lnTo>
                  <a:pt x="793" y="364"/>
                </a:lnTo>
                <a:lnTo>
                  <a:pt x="797" y="369"/>
                </a:lnTo>
                <a:lnTo>
                  <a:pt x="797" y="373"/>
                </a:lnTo>
                <a:lnTo>
                  <a:pt x="797" y="378"/>
                </a:lnTo>
                <a:lnTo>
                  <a:pt x="801" y="386"/>
                </a:lnTo>
                <a:lnTo>
                  <a:pt x="801" y="391"/>
                </a:lnTo>
                <a:lnTo>
                  <a:pt x="801" y="395"/>
                </a:lnTo>
                <a:lnTo>
                  <a:pt x="806" y="404"/>
                </a:lnTo>
                <a:lnTo>
                  <a:pt x="806" y="408"/>
                </a:lnTo>
                <a:lnTo>
                  <a:pt x="806" y="412"/>
                </a:lnTo>
                <a:lnTo>
                  <a:pt x="806" y="421"/>
                </a:lnTo>
                <a:lnTo>
                  <a:pt x="810" y="425"/>
                </a:lnTo>
                <a:lnTo>
                  <a:pt x="810" y="430"/>
                </a:lnTo>
                <a:lnTo>
                  <a:pt x="810" y="434"/>
                </a:lnTo>
                <a:lnTo>
                  <a:pt x="814" y="443"/>
                </a:lnTo>
                <a:lnTo>
                  <a:pt x="814" y="447"/>
                </a:lnTo>
                <a:lnTo>
                  <a:pt x="814" y="451"/>
                </a:lnTo>
                <a:lnTo>
                  <a:pt x="819" y="460"/>
                </a:lnTo>
                <a:lnTo>
                  <a:pt x="819" y="464"/>
                </a:lnTo>
                <a:lnTo>
                  <a:pt x="819" y="469"/>
                </a:lnTo>
                <a:lnTo>
                  <a:pt x="823" y="473"/>
                </a:lnTo>
                <a:lnTo>
                  <a:pt x="823" y="482"/>
                </a:lnTo>
                <a:lnTo>
                  <a:pt x="823" y="486"/>
                </a:lnTo>
                <a:lnTo>
                  <a:pt x="823" y="490"/>
                </a:lnTo>
                <a:lnTo>
                  <a:pt x="827" y="495"/>
                </a:lnTo>
                <a:lnTo>
                  <a:pt x="827" y="503"/>
                </a:lnTo>
                <a:lnTo>
                  <a:pt x="827" y="508"/>
                </a:lnTo>
                <a:lnTo>
                  <a:pt x="832" y="512"/>
                </a:lnTo>
                <a:lnTo>
                  <a:pt x="832" y="516"/>
                </a:lnTo>
                <a:lnTo>
                  <a:pt x="832" y="525"/>
                </a:lnTo>
                <a:lnTo>
                  <a:pt x="836" y="529"/>
                </a:lnTo>
                <a:lnTo>
                  <a:pt x="836" y="534"/>
                </a:lnTo>
                <a:lnTo>
                  <a:pt x="836" y="538"/>
                </a:lnTo>
                <a:lnTo>
                  <a:pt x="840" y="542"/>
                </a:lnTo>
                <a:lnTo>
                  <a:pt x="840" y="551"/>
                </a:lnTo>
                <a:lnTo>
                  <a:pt x="840" y="555"/>
                </a:lnTo>
                <a:lnTo>
                  <a:pt x="840" y="560"/>
                </a:lnTo>
                <a:lnTo>
                  <a:pt x="845" y="564"/>
                </a:lnTo>
                <a:lnTo>
                  <a:pt x="845" y="569"/>
                </a:lnTo>
                <a:lnTo>
                  <a:pt x="845" y="573"/>
                </a:lnTo>
                <a:lnTo>
                  <a:pt x="849" y="582"/>
                </a:lnTo>
                <a:lnTo>
                  <a:pt x="849" y="586"/>
                </a:lnTo>
                <a:lnTo>
                  <a:pt x="849" y="590"/>
                </a:lnTo>
                <a:lnTo>
                  <a:pt x="853" y="595"/>
                </a:lnTo>
                <a:lnTo>
                  <a:pt x="853" y="599"/>
                </a:lnTo>
                <a:lnTo>
                  <a:pt x="853" y="603"/>
                </a:lnTo>
                <a:lnTo>
                  <a:pt x="858" y="608"/>
                </a:lnTo>
                <a:lnTo>
                  <a:pt x="858" y="612"/>
                </a:lnTo>
                <a:lnTo>
                  <a:pt x="858" y="616"/>
                </a:lnTo>
                <a:lnTo>
                  <a:pt x="858" y="621"/>
                </a:lnTo>
                <a:lnTo>
                  <a:pt x="862" y="629"/>
                </a:lnTo>
                <a:lnTo>
                  <a:pt x="862" y="634"/>
                </a:lnTo>
                <a:lnTo>
                  <a:pt x="862" y="638"/>
                </a:lnTo>
                <a:lnTo>
                  <a:pt x="866" y="642"/>
                </a:lnTo>
                <a:lnTo>
                  <a:pt x="866" y="647"/>
                </a:lnTo>
                <a:lnTo>
                  <a:pt x="866" y="651"/>
                </a:lnTo>
                <a:lnTo>
                  <a:pt x="871" y="655"/>
                </a:lnTo>
                <a:lnTo>
                  <a:pt x="871" y="660"/>
                </a:lnTo>
                <a:lnTo>
                  <a:pt x="871" y="664"/>
                </a:lnTo>
                <a:lnTo>
                  <a:pt x="875" y="668"/>
                </a:lnTo>
                <a:lnTo>
                  <a:pt x="875" y="673"/>
                </a:lnTo>
                <a:lnTo>
                  <a:pt x="875" y="677"/>
                </a:lnTo>
                <a:lnTo>
                  <a:pt x="875" y="681"/>
                </a:lnTo>
                <a:lnTo>
                  <a:pt x="879" y="681"/>
                </a:lnTo>
                <a:lnTo>
                  <a:pt x="879" y="686"/>
                </a:lnTo>
                <a:lnTo>
                  <a:pt x="879" y="690"/>
                </a:lnTo>
                <a:lnTo>
                  <a:pt x="884" y="694"/>
                </a:lnTo>
                <a:lnTo>
                  <a:pt x="884" y="699"/>
                </a:lnTo>
                <a:lnTo>
                  <a:pt x="884" y="703"/>
                </a:lnTo>
                <a:lnTo>
                  <a:pt x="888" y="707"/>
                </a:lnTo>
                <a:lnTo>
                  <a:pt x="888" y="712"/>
                </a:lnTo>
                <a:lnTo>
                  <a:pt x="888" y="716"/>
                </a:lnTo>
                <a:lnTo>
                  <a:pt x="888" y="720"/>
                </a:lnTo>
                <a:lnTo>
                  <a:pt x="892" y="720"/>
                </a:lnTo>
                <a:lnTo>
                  <a:pt x="892" y="725"/>
                </a:lnTo>
                <a:lnTo>
                  <a:pt x="892" y="729"/>
                </a:lnTo>
                <a:lnTo>
                  <a:pt x="897" y="733"/>
                </a:lnTo>
                <a:lnTo>
                  <a:pt x="897" y="738"/>
                </a:lnTo>
                <a:lnTo>
                  <a:pt x="897" y="742"/>
                </a:lnTo>
                <a:lnTo>
                  <a:pt x="901" y="742"/>
                </a:lnTo>
                <a:lnTo>
                  <a:pt x="901" y="746"/>
                </a:lnTo>
                <a:lnTo>
                  <a:pt x="901" y="751"/>
                </a:lnTo>
                <a:lnTo>
                  <a:pt x="905" y="755"/>
                </a:lnTo>
                <a:lnTo>
                  <a:pt x="905" y="759"/>
                </a:lnTo>
                <a:lnTo>
                  <a:pt x="905" y="764"/>
                </a:lnTo>
                <a:lnTo>
                  <a:pt x="910" y="768"/>
                </a:lnTo>
                <a:lnTo>
                  <a:pt x="910" y="773"/>
                </a:lnTo>
                <a:lnTo>
                  <a:pt x="914" y="777"/>
                </a:lnTo>
                <a:lnTo>
                  <a:pt x="914" y="781"/>
                </a:lnTo>
                <a:lnTo>
                  <a:pt x="918" y="786"/>
                </a:lnTo>
                <a:lnTo>
                  <a:pt x="918" y="790"/>
                </a:lnTo>
                <a:lnTo>
                  <a:pt x="923" y="794"/>
                </a:lnTo>
                <a:lnTo>
                  <a:pt x="923" y="799"/>
                </a:lnTo>
                <a:lnTo>
                  <a:pt x="923" y="803"/>
                </a:lnTo>
                <a:lnTo>
                  <a:pt x="927" y="803"/>
                </a:lnTo>
                <a:lnTo>
                  <a:pt x="927" y="807"/>
                </a:lnTo>
                <a:lnTo>
                  <a:pt x="931" y="812"/>
                </a:lnTo>
                <a:lnTo>
                  <a:pt x="931" y="816"/>
                </a:lnTo>
                <a:lnTo>
                  <a:pt x="936" y="820"/>
                </a:lnTo>
                <a:lnTo>
                  <a:pt x="936" y="825"/>
                </a:lnTo>
                <a:lnTo>
                  <a:pt x="940" y="825"/>
                </a:lnTo>
                <a:lnTo>
                  <a:pt x="940" y="829"/>
                </a:lnTo>
                <a:lnTo>
                  <a:pt x="940" y="833"/>
                </a:lnTo>
                <a:lnTo>
                  <a:pt x="944" y="833"/>
                </a:lnTo>
                <a:lnTo>
                  <a:pt x="944" y="838"/>
                </a:lnTo>
                <a:lnTo>
                  <a:pt x="949" y="842"/>
                </a:lnTo>
                <a:lnTo>
                  <a:pt x="949" y="846"/>
                </a:lnTo>
                <a:lnTo>
                  <a:pt x="953" y="846"/>
                </a:lnTo>
                <a:lnTo>
                  <a:pt x="953" y="851"/>
                </a:lnTo>
                <a:lnTo>
                  <a:pt x="957" y="851"/>
                </a:lnTo>
                <a:lnTo>
                  <a:pt x="957" y="855"/>
                </a:lnTo>
                <a:lnTo>
                  <a:pt x="957" y="859"/>
                </a:lnTo>
                <a:lnTo>
                  <a:pt x="961" y="859"/>
                </a:lnTo>
                <a:lnTo>
                  <a:pt x="961" y="864"/>
                </a:lnTo>
                <a:lnTo>
                  <a:pt x="966" y="864"/>
                </a:lnTo>
                <a:lnTo>
                  <a:pt x="966" y="868"/>
                </a:lnTo>
                <a:lnTo>
                  <a:pt x="970" y="868"/>
                </a:lnTo>
                <a:lnTo>
                  <a:pt x="970" y="872"/>
                </a:lnTo>
                <a:lnTo>
                  <a:pt x="974" y="872"/>
                </a:lnTo>
                <a:lnTo>
                  <a:pt x="974" y="877"/>
                </a:lnTo>
                <a:lnTo>
                  <a:pt x="979" y="881"/>
                </a:lnTo>
                <a:lnTo>
                  <a:pt x="983" y="881"/>
                </a:lnTo>
                <a:lnTo>
                  <a:pt x="983" y="885"/>
                </a:lnTo>
                <a:lnTo>
                  <a:pt x="987" y="885"/>
                </a:lnTo>
                <a:lnTo>
                  <a:pt x="987" y="890"/>
                </a:lnTo>
                <a:lnTo>
                  <a:pt x="992" y="890"/>
                </a:lnTo>
                <a:lnTo>
                  <a:pt x="992" y="894"/>
                </a:lnTo>
                <a:lnTo>
                  <a:pt x="996" y="894"/>
                </a:lnTo>
                <a:lnTo>
                  <a:pt x="1000" y="898"/>
                </a:lnTo>
                <a:lnTo>
                  <a:pt x="1005" y="898"/>
                </a:lnTo>
                <a:lnTo>
                  <a:pt x="1005" y="903"/>
                </a:lnTo>
                <a:lnTo>
                  <a:pt x="1009" y="903"/>
                </a:lnTo>
                <a:lnTo>
                  <a:pt x="1009" y="907"/>
                </a:lnTo>
                <a:lnTo>
                  <a:pt x="1013" y="907"/>
                </a:lnTo>
                <a:lnTo>
                  <a:pt x="1018" y="907"/>
                </a:lnTo>
                <a:lnTo>
                  <a:pt x="1018" y="911"/>
                </a:lnTo>
                <a:lnTo>
                  <a:pt x="1022" y="911"/>
                </a:lnTo>
                <a:lnTo>
                  <a:pt x="1026" y="911"/>
                </a:lnTo>
                <a:lnTo>
                  <a:pt x="1026" y="916"/>
                </a:lnTo>
                <a:lnTo>
                  <a:pt x="1031" y="916"/>
                </a:lnTo>
                <a:lnTo>
                  <a:pt x="1035" y="916"/>
                </a:lnTo>
                <a:lnTo>
                  <a:pt x="1039" y="916"/>
                </a:lnTo>
                <a:lnTo>
                  <a:pt x="1039" y="920"/>
                </a:lnTo>
                <a:lnTo>
                  <a:pt x="1044" y="920"/>
                </a:lnTo>
                <a:lnTo>
                  <a:pt x="1048" y="920"/>
                </a:lnTo>
                <a:lnTo>
                  <a:pt x="1052" y="920"/>
                </a:lnTo>
                <a:lnTo>
                  <a:pt x="1052" y="924"/>
                </a:lnTo>
                <a:lnTo>
                  <a:pt x="1057" y="924"/>
                </a:lnTo>
                <a:lnTo>
                  <a:pt x="1061" y="924"/>
                </a:lnTo>
                <a:lnTo>
                  <a:pt x="1065" y="924"/>
                </a:lnTo>
                <a:lnTo>
                  <a:pt x="1070" y="924"/>
                </a:lnTo>
                <a:lnTo>
                  <a:pt x="1070" y="929"/>
                </a:lnTo>
                <a:lnTo>
                  <a:pt x="1074" y="929"/>
                </a:lnTo>
                <a:lnTo>
                  <a:pt x="1078" y="929"/>
                </a:lnTo>
                <a:lnTo>
                  <a:pt x="1083" y="929"/>
                </a:lnTo>
                <a:lnTo>
                  <a:pt x="1087" y="929"/>
                </a:lnTo>
                <a:lnTo>
                  <a:pt x="1091" y="929"/>
                </a:lnTo>
                <a:lnTo>
                  <a:pt x="1096" y="929"/>
                </a:lnTo>
                <a:lnTo>
                  <a:pt x="1100" y="929"/>
                </a:lnTo>
                <a:lnTo>
                  <a:pt x="1100" y="933"/>
                </a:lnTo>
                <a:lnTo>
                  <a:pt x="1104" y="933"/>
                </a:lnTo>
                <a:lnTo>
                  <a:pt x="1109" y="933"/>
                </a:lnTo>
                <a:lnTo>
                  <a:pt x="1113" y="933"/>
                </a:lnTo>
                <a:lnTo>
                  <a:pt x="1117" y="933"/>
                </a:lnTo>
                <a:lnTo>
                  <a:pt x="1122" y="933"/>
                </a:lnTo>
                <a:lnTo>
                  <a:pt x="1126" y="933"/>
                </a:lnTo>
                <a:lnTo>
                  <a:pt x="1130" y="933"/>
                </a:lnTo>
                <a:lnTo>
                  <a:pt x="1135" y="933"/>
                </a:lnTo>
                <a:lnTo>
                  <a:pt x="1139" y="933"/>
                </a:lnTo>
                <a:lnTo>
                  <a:pt x="1143" y="933"/>
                </a:lnTo>
                <a:lnTo>
                  <a:pt x="1148" y="933"/>
                </a:lnTo>
                <a:lnTo>
                  <a:pt x="1152" y="933"/>
                </a:lnTo>
                <a:lnTo>
                  <a:pt x="1156" y="933"/>
                </a:lnTo>
                <a:lnTo>
                  <a:pt x="1161" y="933"/>
                </a:lnTo>
                <a:lnTo>
                  <a:pt x="1165" y="933"/>
                </a:lnTo>
                <a:lnTo>
                  <a:pt x="1169" y="933"/>
                </a:lnTo>
                <a:lnTo>
                  <a:pt x="1174" y="933"/>
                </a:lnTo>
                <a:lnTo>
                  <a:pt x="1178" y="933"/>
                </a:lnTo>
                <a:lnTo>
                  <a:pt x="1182" y="933"/>
                </a:lnTo>
                <a:lnTo>
                  <a:pt x="1187" y="933"/>
                </a:lnTo>
                <a:lnTo>
                  <a:pt x="1191" y="933"/>
                </a:lnTo>
                <a:lnTo>
                  <a:pt x="1195" y="933"/>
                </a:lnTo>
                <a:lnTo>
                  <a:pt x="1200" y="933"/>
                </a:lnTo>
                <a:lnTo>
                  <a:pt x="1204" y="933"/>
                </a:lnTo>
                <a:lnTo>
                  <a:pt x="1208" y="933"/>
                </a:lnTo>
                <a:lnTo>
                  <a:pt x="1213" y="933"/>
                </a:lnTo>
                <a:lnTo>
                  <a:pt x="1217" y="933"/>
                </a:lnTo>
                <a:lnTo>
                  <a:pt x="1221" y="933"/>
                </a:lnTo>
                <a:lnTo>
                  <a:pt x="1226" y="933"/>
                </a:lnTo>
                <a:lnTo>
                  <a:pt x="1230" y="933"/>
                </a:lnTo>
                <a:lnTo>
                  <a:pt x="1234" y="933"/>
                </a:lnTo>
                <a:lnTo>
                  <a:pt x="1239" y="933"/>
                </a:lnTo>
                <a:lnTo>
                  <a:pt x="1243" y="933"/>
                </a:lnTo>
                <a:lnTo>
                  <a:pt x="1247" y="933"/>
                </a:lnTo>
                <a:lnTo>
                  <a:pt x="1252" y="933"/>
                </a:lnTo>
                <a:lnTo>
                  <a:pt x="1256" y="933"/>
                </a:lnTo>
                <a:lnTo>
                  <a:pt x="1260" y="933"/>
                </a:lnTo>
                <a:lnTo>
                  <a:pt x="1265" y="933"/>
                </a:lnTo>
                <a:lnTo>
                  <a:pt x="1269" y="933"/>
                </a:lnTo>
                <a:lnTo>
                  <a:pt x="1273" y="933"/>
                </a:lnTo>
                <a:lnTo>
                  <a:pt x="1278" y="933"/>
                </a:lnTo>
                <a:lnTo>
                  <a:pt x="1282" y="933"/>
                </a:lnTo>
                <a:lnTo>
                  <a:pt x="1286" y="933"/>
                </a:lnTo>
                <a:lnTo>
                  <a:pt x="1291" y="933"/>
                </a:lnTo>
                <a:lnTo>
                  <a:pt x="1295" y="933"/>
                </a:lnTo>
                <a:lnTo>
                  <a:pt x="1299" y="933"/>
                </a:lnTo>
                <a:lnTo>
                  <a:pt x="1304" y="933"/>
                </a:lnTo>
                <a:lnTo>
                  <a:pt x="1308" y="933"/>
                </a:lnTo>
                <a:lnTo>
                  <a:pt x="1312" y="933"/>
                </a:lnTo>
                <a:lnTo>
                  <a:pt x="1317" y="933"/>
                </a:lnTo>
                <a:lnTo>
                  <a:pt x="1321" y="933"/>
                </a:lnTo>
                <a:lnTo>
                  <a:pt x="1325" y="9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custGeom>
            <a:avLst/>
            <a:gdLst>
              <a:gd name="textAreaLeft" fmla="*/ 0 w 2104920"/>
              <a:gd name="textAreaRight" fmla="*/ 2105280 w 210492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326" h="934">
                <a:moveTo>
                  <a:pt x="0" y="933"/>
                </a:moveTo>
                <a:lnTo>
                  <a:pt x="0" y="933"/>
                </a:lnTo>
                <a:lnTo>
                  <a:pt x="4" y="933"/>
                </a:lnTo>
                <a:lnTo>
                  <a:pt x="9" y="933"/>
                </a:lnTo>
                <a:lnTo>
                  <a:pt x="13" y="933"/>
                </a:lnTo>
                <a:lnTo>
                  <a:pt x="17" y="933"/>
                </a:lnTo>
                <a:lnTo>
                  <a:pt x="22" y="933"/>
                </a:lnTo>
                <a:lnTo>
                  <a:pt x="26" y="933"/>
                </a:lnTo>
                <a:lnTo>
                  <a:pt x="30" y="933"/>
                </a:lnTo>
                <a:lnTo>
                  <a:pt x="35" y="933"/>
                </a:lnTo>
                <a:lnTo>
                  <a:pt x="39" y="933"/>
                </a:lnTo>
                <a:lnTo>
                  <a:pt x="43" y="933"/>
                </a:lnTo>
                <a:lnTo>
                  <a:pt x="48" y="933"/>
                </a:lnTo>
                <a:lnTo>
                  <a:pt x="52" y="933"/>
                </a:lnTo>
                <a:lnTo>
                  <a:pt x="56" y="933"/>
                </a:lnTo>
                <a:lnTo>
                  <a:pt x="61" y="933"/>
                </a:lnTo>
                <a:lnTo>
                  <a:pt x="65" y="933"/>
                </a:lnTo>
                <a:lnTo>
                  <a:pt x="69" y="933"/>
                </a:lnTo>
                <a:lnTo>
                  <a:pt x="74" y="933"/>
                </a:lnTo>
                <a:lnTo>
                  <a:pt x="78" y="933"/>
                </a:lnTo>
                <a:lnTo>
                  <a:pt x="82" y="933"/>
                </a:lnTo>
                <a:lnTo>
                  <a:pt x="87" y="933"/>
                </a:lnTo>
                <a:lnTo>
                  <a:pt x="91" y="933"/>
                </a:lnTo>
                <a:lnTo>
                  <a:pt x="95" y="933"/>
                </a:lnTo>
                <a:lnTo>
                  <a:pt x="100" y="933"/>
                </a:lnTo>
                <a:lnTo>
                  <a:pt x="104" y="933"/>
                </a:lnTo>
                <a:lnTo>
                  <a:pt x="108" y="933"/>
                </a:lnTo>
                <a:lnTo>
                  <a:pt x="113" y="933"/>
                </a:lnTo>
                <a:lnTo>
                  <a:pt x="117" y="933"/>
                </a:lnTo>
                <a:lnTo>
                  <a:pt x="121" y="933"/>
                </a:lnTo>
                <a:lnTo>
                  <a:pt x="126" y="933"/>
                </a:lnTo>
                <a:lnTo>
                  <a:pt x="130" y="933"/>
                </a:lnTo>
                <a:lnTo>
                  <a:pt x="134" y="933"/>
                </a:lnTo>
                <a:lnTo>
                  <a:pt x="139" y="933"/>
                </a:lnTo>
                <a:lnTo>
                  <a:pt x="143" y="933"/>
                </a:lnTo>
                <a:lnTo>
                  <a:pt x="147" y="933"/>
                </a:lnTo>
                <a:lnTo>
                  <a:pt x="152" y="933"/>
                </a:lnTo>
                <a:lnTo>
                  <a:pt x="156" y="933"/>
                </a:lnTo>
                <a:lnTo>
                  <a:pt x="160" y="933"/>
                </a:lnTo>
                <a:lnTo>
                  <a:pt x="165" y="933"/>
                </a:lnTo>
                <a:lnTo>
                  <a:pt x="169" y="933"/>
                </a:lnTo>
                <a:lnTo>
                  <a:pt x="173" y="933"/>
                </a:lnTo>
                <a:lnTo>
                  <a:pt x="178" y="933"/>
                </a:lnTo>
                <a:lnTo>
                  <a:pt x="182" y="933"/>
                </a:lnTo>
                <a:lnTo>
                  <a:pt x="186" y="933"/>
                </a:lnTo>
                <a:lnTo>
                  <a:pt x="191" y="933"/>
                </a:lnTo>
                <a:lnTo>
                  <a:pt x="195" y="933"/>
                </a:lnTo>
                <a:lnTo>
                  <a:pt x="199" y="933"/>
                </a:lnTo>
                <a:lnTo>
                  <a:pt x="204" y="933"/>
                </a:lnTo>
                <a:lnTo>
                  <a:pt x="208" y="933"/>
                </a:lnTo>
                <a:lnTo>
                  <a:pt x="212" y="933"/>
                </a:lnTo>
                <a:lnTo>
                  <a:pt x="217" y="933"/>
                </a:lnTo>
                <a:lnTo>
                  <a:pt x="221" y="933"/>
                </a:lnTo>
                <a:lnTo>
                  <a:pt x="225" y="933"/>
                </a:lnTo>
                <a:lnTo>
                  <a:pt x="230" y="933"/>
                </a:lnTo>
                <a:lnTo>
                  <a:pt x="234" y="933"/>
                </a:lnTo>
                <a:lnTo>
                  <a:pt x="238" y="933"/>
                </a:lnTo>
                <a:lnTo>
                  <a:pt x="243" y="933"/>
                </a:lnTo>
                <a:lnTo>
                  <a:pt x="247" y="933"/>
                </a:lnTo>
                <a:lnTo>
                  <a:pt x="251" y="933"/>
                </a:lnTo>
                <a:lnTo>
                  <a:pt x="256" y="933"/>
                </a:lnTo>
                <a:lnTo>
                  <a:pt x="260" y="933"/>
                </a:lnTo>
                <a:lnTo>
                  <a:pt x="264" y="933"/>
                </a:lnTo>
                <a:lnTo>
                  <a:pt x="269" y="933"/>
                </a:lnTo>
                <a:lnTo>
                  <a:pt x="273" y="933"/>
                </a:lnTo>
                <a:lnTo>
                  <a:pt x="277" y="933"/>
                </a:lnTo>
                <a:lnTo>
                  <a:pt x="282" y="933"/>
                </a:lnTo>
                <a:lnTo>
                  <a:pt x="286" y="933"/>
                </a:lnTo>
                <a:lnTo>
                  <a:pt x="290" y="933"/>
                </a:lnTo>
                <a:lnTo>
                  <a:pt x="295" y="933"/>
                </a:lnTo>
                <a:lnTo>
                  <a:pt x="299" y="933"/>
                </a:lnTo>
                <a:lnTo>
                  <a:pt x="303" y="933"/>
                </a:lnTo>
                <a:lnTo>
                  <a:pt x="308" y="933"/>
                </a:lnTo>
                <a:lnTo>
                  <a:pt x="312" y="933"/>
                </a:lnTo>
                <a:lnTo>
                  <a:pt x="316" y="933"/>
                </a:lnTo>
                <a:lnTo>
                  <a:pt x="321" y="933"/>
                </a:lnTo>
                <a:lnTo>
                  <a:pt x="325" y="933"/>
                </a:lnTo>
                <a:lnTo>
                  <a:pt x="329" y="933"/>
                </a:lnTo>
                <a:lnTo>
                  <a:pt x="334" y="933"/>
                </a:lnTo>
                <a:lnTo>
                  <a:pt x="338" y="933"/>
                </a:lnTo>
                <a:lnTo>
                  <a:pt x="342" y="933"/>
                </a:lnTo>
                <a:lnTo>
                  <a:pt x="347" y="933"/>
                </a:lnTo>
                <a:lnTo>
                  <a:pt x="351" y="933"/>
                </a:lnTo>
                <a:lnTo>
                  <a:pt x="355" y="933"/>
                </a:lnTo>
                <a:lnTo>
                  <a:pt x="360" y="933"/>
                </a:lnTo>
                <a:lnTo>
                  <a:pt x="364" y="933"/>
                </a:lnTo>
                <a:lnTo>
                  <a:pt x="368" y="933"/>
                </a:lnTo>
                <a:lnTo>
                  <a:pt x="373" y="933"/>
                </a:lnTo>
                <a:lnTo>
                  <a:pt x="377" y="933"/>
                </a:lnTo>
                <a:lnTo>
                  <a:pt x="381" y="933"/>
                </a:lnTo>
                <a:lnTo>
                  <a:pt x="385" y="933"/>
                </a:lnTo>
                <a:lnTo>
                  <a:pt x="390" y="933"/>
                </a:lnTo>
                <a:lnTo>
                  <a:pt x="394" y="933"/>
                </a:lnTo>
                <a:lnTo>
                  <a:pt x="398" y="933"/>
                </a:lnTo>
                <a:lnTo>
                  <a:pt x="403" y="933"/>
                </a:lnTo>
                <a:lnTo>
                  <a:pt x="403" y="799"/>
                </a:lnTo>
                <a:lnTo>
                  <a:pt x="403" y="794"/>
                </a:lnTo>
                <a:lnTo>
                  <a:pt x="407" y="790"/>
                </a:lnTo>
                <a:lnTo>
                  <a:pt x="407" y="786"/>
                </a:lnTo>
                <a:lnTo>
                  <a:pt x="411" y="781"/>
                </a:lnTo>
                <a:lnTo>
                  <a:pt x="411" y="777"/>
                </a:lnTo>
                <a:lnTo>
                  <a:pt x="416" y="773"/>
                </a:lnTo>
                <a:lnTo>
                  <a:pt x="416" y="768"/>
                </a:lnTo>
                <a:lnTo>
                  <a:pt x="420" y="764"/>
                </a:lnTo>
                <a:lnTo>
                  <a:pt x="420" y="759"/>
                </a:lnTo>
                <a:lnTo>
                  <a:pt x="420" y="755"/>
                </a:lnTo>
                <a:lnTo>
                  <a:pt x="424" y="751"/>
                </a:lnTo>
                <a:lnTo>
                  <a:pt x="424" y="746"/>
                </a:lnTo>
                <a:lnTo>
                  <a:pt x="424" y="742"/>
                </a:lnTo>
                <a:lnTo>
                  <a:pt x="429" y="742"/>
                </a:lnTo>
                <a:lnTo>
                  <a:pt x="429" y="738"/>
                </a:lnTo>
                <a:lnTo>
                  <a:pt x="429" y="733"/>
                </a:lnTo>
                <a:lnTo>
                  <a:pt x="433" y="729"/>
                </a:lnTo>
                <a:lnTo>
                  <a:pt x="433" y="725"/>
                </a:lnTo>
                <a:lnTo>
                  <a:pt x="433" y="720"/>
                </a:lnTo>
                <a:lnTo>
                  <a:pt x="437" y="720"/>
                </a:lnTo>
                <a:lnTo>
                  <a:pt x="437" y="716"/>
                </a:lnTo>
                <a:lnTo>
                  <a:pt x="437" y="712"/>
                </a:lnTo>
                <a:lnTo>
                  <a:pt x="437" y="707"/>
                </a:lnTo>
                <a:lnTo>
                  <a:pt x="442" y="703"/>
                </a:lnTo>
                <a:lnTo>
                  <a:pt x="442" y="699"/>
                </a:lnTo>
                <a:lnTo>
                  <a:pt x="442" y="694"/>
                </a:lnTo>
                <a:lnTo>
                  <a:pt x="446" y="690"/>
                </a:lnTo>
                <a:lnTo>
                  <a:pt x="446" y="686"/>
                </a:lnTo>
                <a:lnTo>
                  <a:pt x="446" y="681"/>
                </a:lnTo>
                <a:lnTo>
                  <a:pt x="450" y="681"/>
                </a:lnTo>
                <a:lnTo>
                  <a:pt x="450" y="677"/>
                </a:lnTo>
                <a:lnTo>
                  <a:pt x="450" y="673"/>
                </a:lnTo>
                <a:lnTo>
                  <a:pt x="450" y="668"/>
                </a:lnTo>
                <a:lnTo>
                  <a:pt x="455" y="664"/>
                </a:lnTo>
                <a:lnTo>
                  <a:pt x="455" y="660"/>
                </a:lnTo>
                <a:lnTo>
                  <a:pt x="455" y="655"/>
                </a:lnTo>
                <a:lnTo>
                  <a:pt x="459" y="651"/>
                </a:lnTo>
                <a:lnTo>
                  <a:pt x="459" y="647"/>
                </a:lnTo>
                <a:lnTo>
                  <a:pt x="459" y="642"/>
                </a:lnTo>
                <a:lnTo>
                  <a:pt x="463" y="638"/>
                </a:lnTo>
                <a:lnTo>
                  <a:pt x="463" y="634"/>
                </a:lnTo>
                <a:lnTo>
                  <a:pt x="463" y="629"/>
                </a:lnTo>
                <a:lnTo>
                  <a:pt x="468" y="621"/>
                </a:lnTo>
                <a:lnTo>
                  <a:pt x="468" y="616"/>
                </a:lnTo>
                <a:lnTo>
                  <a:pt x="468" y="612"/>
                </a:lnTo>
                <a:lnTo>
                  <a:pt x="468" y="608"/>
                </a:lnTo>
                <a:lnTo>
                  <a:pt x="472" y="603"/>
                </a:lnTo>
                <a:lnTo>
                  <a:pt x="472" y="599"/>
                </a:lnTo>
                <a:lnTo>
                  <a:pt x="472" y="595"/>
                </a:lnTo>
                <a:lnTo>
                  <a:pt x="476" y="590"/>
                </a:lnTo>
                <a:lnTo>
                  <a:pt x="476" y="586"/>
                </a:lnTo>
                <a:lnTo>
                  <a:pt x="476" y="582"/>
                </a:lnTo>
                <a:lnTo>
                  <a:pt x="481" y="573"/>
                </a:lnTo>
                <a:lnTo>
                  <a:pt x="481" y="569"/>
                </a:lnTo>
                <a:lnTo>
                  <a:pt x="481" y="564"/>
                </a:lnTo>
                <a:lnTo>
                  <a:pt x="485" y="560"/>
                </a:lnTo>
                <a:lnTo>
                  <a:pt x="485" y="555"/>
                </a:lnTo>
                <a:lnTo>
                  <a:pt x="485" y="551"/>
                </a:lnTo>
                <a:lnTo>
                  <a:pt x="485" y="542"/>
                </a:lnTo>
                <a:lnTo>
                  <a:pt x="489" y="538"/>
                </a:lnTo>
                <a:lnTo>
                  <a:pt x="489" y="534"/>
                </a:lnTo>
                <a:lnTo>
                  <a:pt x="489" y="529"/>
                </a:lnTo>
                <a:lnTo>
                  <a:pt x="494" y="525"/>
                </a:lnTo>
                <a:lnTo>
                  <a:pt x="494" y="516"/>
                </a:lnTo>
                <a:lnTo>
                  <a:pt x="494" y="512"/>
                </a:lnTo>
                <a:lnTo>
                  <a:pt x="498" y="508"/>
                </a:lnTo>
                <a:lnTo>
                  <a:pt x="498" y="503"/>
                </a:lnTo>
                <a:lnTo>
                  <a:pt x="498" y="495"/>
                </a:lnTo>
                <a:lnTo>
                  <a:pt x="502" y="490"/>
                </a:lnTo>
                <a:lnTo>
                  <a:pt x="502" y="486"/>
                </a:lnTo>
                <a:lnTo>
                  <a:pt x="502" y="482"/>
                </a:lnTo>
                <a:lnTo>
                  <a:pt x="502" y="473"/>
                </a:lnTo>
                <a:lnTo>
                  <a:pt x="507" y="469"/>
                </a:lnTo>
                <a:lnTo>
                  <a:pt x="507" y="464"/>
                </a:lnTo>
                <a:lnTo>
                  <a:pt x="507" y="460"/>
                </a:lnTo>
                <a:lnTo>
                  <a:pt x="511" y="451"/>
                </a:lnTo>
                <a:lnTo>
                  <a:pt x="511" y="447"/>
                </a:lnTo>
                <a:lnTo>
                  <a:pt x="511" y="443"/>
                </a:lnTo>
                <a:lnTo>
                  <a:pt x="515" y="434"/>
                </a:lnTo>
                <a:lnTo>
                  <a:pt x="515" y="430"/>
                </a:lnTo>
                <a:lnTo>
                  <a:pt x="515" y="425"/>
                </a:lnTo>
                <a:lnTo>
                  <a:pt x="520" y="421"/>
                </a:lnTo>
                <a:lnTo>
                  <a:pt x="520" y="412"/>
                </a:lnTo>
                <a:lnTo>
                  <a:pt x="520" y="408"/>
                </a:lnTo>
                <a:lnTo>
                  <a:pt x="520" y="404"/>
                </a:lnTo>
                <a:lnTo>
                  <a:pt x="524" y="395"/>
                </a:lnTo>
                <a:lnTo>
                  <a:pt x="524" y="391"/>
                </a:lnTo>
                <a:lnTo>
                  <a:pt x="524" y="386"/>
                </a:lnTo>
                <a:lnTo>
                  <a:pt x="528" y="378"/>
                </a:lnTo>
                <a:lnTo>
                  <a:pt x="528" y="373"/>
                </a:lnTo>
                <a:lnTo>
                  <a:pt x="528" y="369"/>
                </a:lnTo>
                <a:lnTo>
                  <a:pt x="533" y="364"/>
                </a:lnTo>
                <a:lnTo>
                  <a:pt x="533" y="356"/>
                </a:lnTo>
                <a:lnTo>
                  <a:pt x="533" y="351"/>
                </a:lnTo>
                <a:lnTo>
                  <a:pt x="537" y="347"/>
                </a:lnTo>
                <a:lnTo>
                  <a:pt x="537" y="338"/>
                </a:lnTo>
                <a:lnTo>
                  <a:pt x="537" y="334"/>
                </a:lnTo>
                <a:lnTo>
                  <a:pt x="537" y="330"/>
                </a:lnTo>
                <a:lnTo>
                  <a:pt x="541" y="321"/>
                </a:lnTo>
                <a:lnTo>
                  <a:pt x="541" y="317"/>
                </a:lnTo>
                <a:lnTo>
                  <a:pt x="541" y="312"/>
                </a:lnTo>
                <a:lnTo>
                  <a:pt x="546" y="308"/>
                </a:lnTo>
                <a:lnTo>
                  <a:pt x="546" y="299"/>
                </a:lnTo>
                <a:lnTo>
                  <a:pt x="546" y="295"/>
                </a:lnTo>
                <a:lnTo>
                  <a:pt x="550" y="291"/>
                </a:lnTo>
                <a:lnTo>
                  <a:pt x="550" y="282"/>
                </a:lnTo>
                <a:lnTo>
                  <a:pt x="550" y="278"/>
                </a:lnTo>
                <a:lnTo>
                  <a:pt x="554" y="273"/>
                </a:lnTo>
                <a:lnTo>
                  <a:pt x="554" y="269"/>
                </a:lnTo>
                <a:lnTo>
                  <a:pt x="554" y="260"/>
                </a:lnTo>
                <a:lnTo>
                  <a:pt x="554" y="256"/>
                </a:lnTo>
                <a:lnTo>
                  <a:pt x="559" y="252"/>
                </a:lnTo>
                <a:lnTo>
                  <a:pt x="559" y="247"/>
                </a:lnTo>
                <a:lnTo>
                  <a:pt x="559" y="239"/>
                </a:lnTo>
                <a:lnTo>
                  <a:pt x="563" y="234"/>
                </a:lnTo>
                <a:lnTo>
                  <a:pt x="563" y="230"/>
                </a:lnTo>
                <a:lnTo>
                  <a:pt x="563" y="226"/>
                </a:lnTo>
                <a:lnTo>
                  <a:pt x="567" y="217"/>
                </a:lnTo>
                <a:lnTo>
                  <a:pt x="567" y="213"/>
                </a:lnTo>
                <a:lnTo>
                  <a:pt x="567" y="208"/>
                </a:lnTo>
                <a:lnTo>
                  <a:pt x="572" y="204"/>
                </a:lnTo>
                <a:lnTo>
                  <a:pt x="572" y="200"/>
                </a:lnTo>
                <a:lnTo>
                  <a:pt x="572" y="195"/>
                </a:lnTo>
                <a:lnTo>
                  <a:pt x="572" y="187"/>
                </a:lnTo>
                <a:lnTo>
                  <a:pt x="576" y="182"/>
                </a:lnTo>
                <a:lnTo>
                  <a:pt x="576" y="178"/>
                </a:lnTo>
                <a:lnTo>
                  <a:pt x="576" y="174"/>
                </a:lnTo>
                <a:lnTo>
                  <a:pt x="580" y="169"/>
                </a:lnTo>
                <a:lnTo>
                  <a:pt x="580" y="165"/>
                </a:lnTo>
                <a:lnTo>
                  <a:pt x="580" y="160"/>
                </a:lnTo>
                <a:lnTo>
                  <a:pt x="585" y="156"/>
                </a:lnTo>
                <a:lnTo>
                  <a:pt x="585" y="147"/>
                </a:lnTo>
                <a:lnTo>
                  <a:pt x="585" y="143"/>
                </a:lnTo>
                <a:lnTo>
                  <a:pt x="589" y="139"/>
                </a:lnTo>
                <a:lnTo>
                  <a:pt x="589" y="134"/>
                </a:lnTo>
                <a:lnTo>
                  <a:pt x="589" y="130"/>
                </a:lnTo>
                <a:lnTo>
                  <a:pt x="589" y="126"/>
                </a:lnTo>
                <a:lnTo>
                  <a:pt x="593" y="121"/>
                </a:lnTo>
                <a:lnTo>
                  <a:pt x="593" y="117"/>
                </a:lnTo>
                <a:lnTo>
                  <a:pt x="593" y="113"/>
                </a:lnTo>
                <a:lnTo>
                  <a:pt x="598" y="108"/>
                </a:lnTo>
                <a:lnTo>
                  <a:pt x="598" y="104"/>
                </a:lnTo>
                <a:lnTo>
                  <a:pt x="602" y="100"/>
                </a:lnTo>
                <a:lnTo>
                  <a:pt x="602" y="95"/>
                </a:lnTo>
                <a:lnTo>
                  <a:pt x="602" y="91"/>
                </a:lnTo>
                <a:lnTo>
                  <a:pt x="602" y="87"/>
                </a:lnTo>
                <a:lnTo>
                  <a:pt x="606" y="82"/>
                </a:lnTo>
                <a:lnTo>
                  <a:pt x="606" y="78"/>
                </a:lnTo>
                <a:lnTo>
                  <a:pt x="606" y="74"/>
                </a:lnTo>
                <a:lnTo>
                  <a:pt x="611" y="74"/>
                </a:lnTo>
                <a:lnTo>
                  <a:pt x="611" y="69"/>
                </a:lnTo>
                <a:lnTo>
                  <a:pt x="611" y="65"/>
                </a:lnTo>
                <a:lnTo>
                  <a:pt x="615" y="61"/>
                </a:lnTo>
                <a:lnTo>
                  <a:pt x="615" y="56"/>
                </a:lnTo>
                <a:lnTo>
                  <a:pt x="619" y="52"/>
                </a:lnTo>
                <a:lnTo>
                  <a:pt x="619" y="48"/>
                </a:lnTo>
                <a:lnTo>
                  <a:pt x="619" y="43"/>
                </a:lnTo>
                <a:lnTo>
                  <a:pt x="624" y="43"/>
                </a:lnTo>
                <a:lnTo>
                  <a:pt x="624" y="39"/>
                </a:lnTo>
                <a:lnTo>
                  <a:pt x="624" y="35"/>
                </a:lnTo>
                <a:lnTo>
                  <a:pt x="628" y="35"/>
                </a:lnTo>
                <a:lnTo>
                  <a:pt x="628" y="30"/>
                </a:lnTo>
                <a:lnTo>
                  <a:pt x="632" y="26"/>
                </a:lnTo>
                <a:lnTo>
                  <a:pt x="632" y="22"/>
                </a:lnTo>
                <a:lnTo>
                  <a:pt x="637" y="22"/>
                </a:lnTo>
                <a:lnTo>
                  <a:pt x="637" y="17"/>
                </a:lnTo>
                <a:lnTo>
                  <a:pt x="641" y="13"/>
                </a:lnTo>
                <a:lnTo>
                  <a:pt x="641" y="9"/>
                </a:lnTo>
                <a:lnTo>
                  <a:pt x="645" y="9"/>
                </a:lnTo>
                <a:lnTo>
                  <a:pt x="650" y="4"/>
                </a:lnTo>
                <a:lnTo>
                  <a:pt x="654" y="4"/>
                </a:lnTo>
                <a:lnTo>
                  <a:pt x="654" y="0"/>
                </a:lnTo>
                <a:lnTo>
                  <a:pt x="658" y="0"/>
                </a:lnTo>
                <a:lnTo>
                  <a:pt x="663" y="0"/>
                </a:lnTo>
                <a:lnTo>
                  <a:pt x="667" y="0"/>
                </a:lnTo>
                <a:lnTo>
                  <a:pt x="671" y="0"/>
                </a:lnTo>
                <a:lnTo>
                  <a:pt x="671" y="4"/>
                </a:lnTo>
                <a:lnTo>
                  <a:pt x="676" y="4"/>
                </a:lnTo>
                <a:lnTo>
                  <a:pt x="680" y="9"/>
                </a:lnTo>
                <a:lnTo>
                  <a:pt x="684" y="9"/>
                </a:lnTo>
                <a:lnTo>
                  <a:pt x="684" y="13"/>
                </a:lnTo>
                <a:lnTo>
                  <a:pt x="689" y="17"/>
                </a:lnTo>
                <a:lnTo>
                  <a:pt x="689" y="22"/>
                </a:lnTo>
                <a:lnTo>
                  <a:pt x="693" y="22"/>
                </a:lnTo>
                <a:lnTo>
                  <a:pt x="693" y="26"/>
                </a:lnTo>
                <a:lnTo>
                  <a:pt x="697" y="30"/>
                </a:lnTo>
                <a:lnTo>
                  <a:pt x="697" y="35"/>
                </a:lnTo>
                <a:lnTo>
                  <a:pt x="702" y="35"/>
                </a:lnTo>
                <a:lnTo>
                  <a:pt x="702" y="39"/>
                </a:lnTo>
                <a:lnTo>
                  <a:pt x="702" y="43"/>
                </a:lnTo>
                <a:lnTo>
                  <a:pt x="706" y="43"/>
                </a:lnTo>
                <a:lnTo>
                  <a:pt x="706" y="48"/>
                </a:lnTo>
                <a:lnTo>
                  <a:pt x="706" y="52"/>
                </a:lnTo>
                <a:lnTo>
                  <a:pt x="710" y="56"/>
                </a:lnTo>
                <a:lnTo>
                  <a:pt x="710" y="61"/>
                </a:lnTo>
                <a:lnTo>
                  <a:pt x="715" y="65"/>
                </a:lnTo>
                <a:lnTo>
                  <a:pt x="715" y="69"/>
                </a:lnTo>
                <a:lnTo>
                  <a:pt x="715" y="74"/>
                </a:lnTo>
                <a:lnTo>
                  <a:pt x="719" y="74"/>
                </a:lnTo>
                <a:lnTo>
                  <a:pt x="719" y="78"/>
                </a:lnTo>
                <a:lnTo>
                  <a:pt x="719" y="82"/>
                </a:lnTo>
                <a:lnTo>
                  <a:pt x="723" y="87"/>
                </a:lnTo>
                <a:lnTo>
                  <a:pt x="723" y="91"/>
                </a:lnTo>
                <a:lnTo>
                  <a:pt x="723" y="95"/>
                </a:lnTo>
                <a:lnTo>
                  <a:pt x="723" y="100"/>
                </a:lnTo>
                <a:lnTo>
                  <a:pt x="728" y="104"/>
                </a:lnTo>
                <a:lnTo>
                  <a:pt x="728" y="108"/>
                </a:lnTo>
                <a:lnTo>
                  <a:pt x="732" y="113"/>
                </a:lnTo>
                <a:lnTo>
                  <a:pt x="732" y="117"/>
                </a:lnTo>
                <a:lnTo>
                  <a:pt x="732" y="121"/>
                </a:lnTo>
                <a:lnTo>
                  <a:pt x="736" y="126"/>
                </a:lnTo>
                <a:lnTo>
                  <a:pt x="736" y="130"/>
                </a:lnTo>
                <a:lnTo>
                  <a:pt x="736" y="134"/>
                </a:lnTo>
                <a:lnTo>
                  <a:pt x="736" y="139"/>
                </a:lnTo>
                <a:lnTo>
                  <a:pt x="741" y="143"/>
                </a:lnTo>
                <a:lnTo>
                  <a:pt x="741" y="147"/>
                </a:lnTo>
                <a:lnTo>
                  <a:pt x="741" y="156"/>
                </a:lnTo>
                <a:lnTo>
                  <a:pt x="745" y="160"/>
                </a:lnTo>
                <a:lnTo>
                  <a:pt x="745" y="165"/>
                </a:lnTo>
                <a:lnTo>
                  <a:pt x="745" y="169"/>
                </a:lnTo>
                <a:lnTo>
                  <a:pt x="749" y="174"/>
                </a:lnTo>
                <a:lnTo>
                  <a:pt x="749" y="178"/>
                </a:lnTo>
                <a:lnTo>
                  <a:pt x="749" y="182"/>
                </a:lnTo>
                <a:lnTo>
                  <a:pt x="754" y="187"/>
                </a:lnTo>
                <a:lnTo>
                  <a:pt x="754" y="195"/>
                </a:lnTo>
                <a:lnTo>
                  <a:pt x="754" y="200"/>
                </a:lnTo>
                <a:lnTo>
                  <a:pt x="754" y="204"/>
                </a:lnTo>
                <a:lnTo>
                  <a:pt x="758" y="208"/>
                </a:lnTo>
                <a:lnTo>
                  <a:pt x="758" y="213"/>
                </a:lnTo>
                <a:lnTo>
                  <a:pt x="758" y="217"/>
                </a:lnTo>
                <a:lnTo>
                  <a:pt x="762" y="226"/>
                </a:lnTo>
                <a:lnTo>
                  <a:pt x="762" y="230"/>
                </a:lnTo>
                <a:lnTo>
                  <a:pt x="762" y="234"/>
                </a:lnTo>
                <a:lnTo>
                  <a:pt x="767" y="239"/>
                </a:lnTo>
                <a:lnTo>
                  <a:pt x="767" y="247"/>
                </a:lnTo>
                <a:lnTo>
                  <a:pt x="767" y="252"/>
                </a:lnTo>
                <a:lnTo>
                  <a:pt x="771" y="256"/>
                </a:lnTo>
                <a:lnTo>
                  <a:pt x="771" y="260"/>
                </a:lnTo>
                <a:lnTo>
                  <a:pt x="771" y="269"/>
                </a:lnTo>
                <a:lnTo>
                  <a:pt x="771" y="273"/>
                </a:lnTo>
                <a:lnTo>
                  <a:pt x="775" y="278"/>
                </a:lnTo>
                <a:lnTo>
                  <a:pt x="775" y="282"/>
                </a:lnTo>
                <a:lnTo>
                  <a:pt x="775" y="291"/>
                </a:lnTo>
                <a:lnTo>
                  <a:pt x="780" y="295"/>
                </a:lnTo>
                <a:lnTo>
                  <a:pt x="780" y="299"/>
                </a:lnTo>
                <a:lnTo>
                  <a:pt x="780" y="308"/>
                </a:lnTo>
                <a:lnTo>
                  <a:pt x="784" y="312"/>
                </a:lnTo>
                <a:lnTo>
                  <a:pt x="784" y="317"/>
                </a:lnTo>
                <a:lnTo>
                  <a:pt x="784" y="321"/>
                </a:lnTo>
                <a:lnTo>
                  <a:pt x="788" y="330"/>
                </a:lnTo>
                <a:lnTo>
                  <a:pt x="788" y="334"/>
                </a:lnTo>
                <a:lnTo>
                  <a:pt x="788" y="338"/>
                </a:lnTo>
                <a:lnTo>
                  <a:pt x="788" y="347"/>
                </a:lnTo>
                <a:lnTo>
                  <a:pt x="793" y="351"/>
                </a:lnTo>
                <a:lnTo>
                  <a:pt x="793" y="356"/>
                </a:lnTo>
                <a:lnTo>
                  <a:pt x="793" y="364"/>
                </a:lnTo>
                <a:lnTo>
                  <a:pt x="797" y="369"/>
                </a:lnTo>
                <a:lnTo>
                  <a:pt x="797" y="373"/>
                </a:lnTo>
                <a:lnTo>
                  <a:pt x="797" y="378"/>
                </a:lnTo>
                <a:lnTo>
                  <a:pt x="801" y="386"/>
                </a:lnTo>
                <a:lnTo>
                  <a:pt x="801" y="391"/>
                </a:lnTo>
                <a:lnTo>
                  <a:pt x="801" y="395"/>
                </a:lnTo>
                <a:lnTo>
                  <a:pt x="806" y="404"/>
                </a:lnTo>
                <a:lnTo>
                  <a:pt x="806" y="408"/>
                </a:lnTo>
                <a:lnTo>
                  <a:pt x="806" y="412"/>
                </a:lnTo>
                <a:lnTo>
                  <a:pt x="806" y="421"/>
                </a:lnTo>
                <a:lnTo>
                  <a:pt x="810" y="425"/>
                </a:lnTo>
                <a:lnTo>
                  <a:pt x="810" y="430"/>
                </a:lnTo>
                <a:lnTo>
                  <a:pt x="810" y="434"/>
                </a:lnTo>
                <a:lnTo>
                  <a:pt x="814" y="443"/>
                </a:lnTo>
                <a:lnTo>
                  <a:pt x="814" y="447"/>
                </a:lnTo>
                <a:lnTo>
                  <a:pt x="814" y="451"/>
                </a:lnTo>
                <a:lnTo>
                  <a:pt x="819" y="460"/>
                </a:lnTo>
                <a:lnTo>
                  <a:pt x="819" y="464"/>
                </a:lnTo>
                <a:lnTo>
                  <a:pt x="819" y="469"/>
                </a:lnTo>
                <a:lnTo>
                  <a:pt x="823" y="473"/>
                </a:lnTo>
                <a:lnTo>
                  <a:pt x="823" y="482"/>
                </a:lnTo>
                <a:lnTo>
                  <a:pt x="823" y="486"/>
                </a:lnTo>
                <a:lnTo>
                  <a:pt x="823" y="490"/>
                </a:lnTo>
                <a:lnTo>
                  <a:pt x="827" y="495"/>
                </a:lnTo>
                <a:lnTo>
                  <a:pt x="827" y="503"/>
                </a:lnTo>
                <a:lnTo>
                  <a:pt x="827" y="508"/>
                </a:lnTo>
                <a:lnTo>
                  <a:pt x="832" y="512"/>
                </a:lnTo>
                <a:lnTo>
                  <a:pt x="832" y="516"/>
                </a:lnTo>
                <a:lnTo>
                  <a:pt x="832" y="525"/>
                </a:lnTo>
                <a:lnTo>
                  <a:pt x="836" y="529"/>
                </a:lnTo>
                <a:lnTo>
                  <a:pt x="836" y="534"/>
                </a:lnTo>
                <a:lnTo>
                  <a:pt x="836" y="538"/>
                </a:lnTo>
                <a:lnTo>
                  <a:pt x="840" y="542"/>
                </a:lnTo>
                <a:lnTo>
                  <a:pt x="840" y="551"/>
                </a:lnTo>
                <a:lnTo>
                  <a:pt x="840" y="555"/>
                </a:lnTo>
                <a:lnTo>
                  <a:pt x="840" y="560"/>
                </a:lnTo>
                <a:lnTo>
                  <a:pt x="845" y="564"/>
                </a:lnTo>
                <a:lnTo>
                  <a:pt x="845" y="569"/>
                </a:lnTo>
                <a:lnTo>
                  <a:pt x="845" y="573"/>
                </a:lnTo>
                <a:lnTo>
                  <a:pt x="849" y="582"/>
                </a:lnTo>
                <a:lnTo>
                  <a:pt x="849" y="586"/>
                </a:lnTo>
                <a:lnTo>
                  <a:pt x="849" y="590"/>
                </a:lnTo>
                <a:lnTo>
                  <a:pt x="853" y="595"/>
                </a:lnTo>
                <a:lnTo>
                  <a:pt x="853" y="599"/>
                </a:lnTo>
                <a:lnTo>
                  <a:pt x="853" y="603"/>
                </a:lnTo>
                <a:lnTo>
                  <a:pt x="858" y="608"/>
                </a:lnTo>
                <a:lnTo>
                  <a:pt x="858" y="612"/>
                </a:lnTo>
                <a:lnTo>
                  <a:pt x="858" y="616"/>
                </a:lnTo>
                <a:lnTo>
                  <a:pt x="858" y="621"/>
                </a:lnTo>
                <a:lnTo>
                  <a:pt x="862" y="629"/>
                </a:lnTo>
                <a:lnTo>
                  <a:pt x="862" y="634"/>
                </a:lnTo>
                <a:lnTo>
                  <a:pt x="862" y="638"/>
                </a:lnTo>
                <a:lnTo>
                  <a:pt x="866" y="642"/>
                </a:lnTo>
                <a:lnTo>
                  <a:pt x="866" y="647"/>
                </a:lnTo>
                <a:lnTo>
                  <a:pt x="866" y="651"/>
                </a:lnTo>
                <a:lnTo>
                  <a:pt x="871" y="655"/>
                </a:lnTo>
                <a:lnTo>
                  <a:pt x="871" y="660"/>
                </a:lnTo>
                <a:lnTo>
                  <a:pt x="871" y="664"/>
                </a:lnTo>
                <a:lnTo>
                  <a:pt x="875" y="668"/>
                </a:lnTo>
                <a:lnTo>
                  <a:pt x="875" y="673"/>
                </a:lnTo>
                <a:lnTo>
                  <a:pt x="875" y="677"/>
                </a:lnTo>
                <a:lnTo>
                  <a:pt x="875" y="681"/>
                </a:lnTo>
                <a:lnTo>
                  <a:pt x="879" y="681"/>
                </a:lnTo>
                <a:lnTo>
                  <a:pt x="879" y="686"/>
                </a:lnTo>
                <a:lnTo>
                  <a:pt x="879" y="690"/>
                </a:lnTo>
                <a:lnTo>
                  <a:pt x="884" y="694"/>
                </a:lnTo>
                <a:lnTo>
                  <a:pt x="884" y="699"/>
                </a:lnTo>
                <a:lnTo>
                  <a:pt x="884" y="703"/>
                </a:lnTo>
                <a:lnTo>
                  <a:pt x="888" y="707"/>
                </a:lnTo>
                <a:lnTo>
                  <a:pt x="888" y="712"/>
                </a:lnTo>
                <a:lnTo>
                  <a:pt x="888" y="716"/>
                </a:lnTo>
                <a:lnTo>
                  <a:pt x="888" y="720"/>
                </a:lnTo>
                <a:lnTo>
                  <a:pt x="892" y="720"/>
                </a:lnTo>
                <a:lnTo>
                  <a:pt x="892" y="725"/>
                </a:lnTo>
                <a:lnTo>
                  <a:pt x="892" y="729"/>
                </a:lnTo>
                <a:lnTo>
                  <a:pt x="897" y="733"/>
                </a:lnTo>
                <a:lnTo>
                  <a:pt x="897" y="738"/>
                </a:lnTo>
                <a:lnTo>
                  <a:pt x="897" y="742"/>
                </a:lnTo>
                <a:lnTo>
                  <a:pt x="901" y="742"/>
                </a:lnTo>
                <a:lnTo>
                  <a:pt x="901" y="746"/>
                </a:lnTo>
                <a:lnTo>
                  <a:pt x="901" y="751"/>
                </a:lnTo>
                <a:lnTo>
                  <a:pt x="905" y="755"/>
                </a:lnTo>
                <a:lnTo>
                  <a:pt x="905" y="759"/>
                </a:lnTo>
                <a:lnTo>
                  <a:pt x="905" y="764"/>
                </a:lnTo>
                <a:lnTo>
                  <a:pt x="910" y="768"/>
                </a:lnTo>
                <a:lnTo>
                  <a:pt x="910" y="773"/>
                </a:lnTo>
                <a:lnTo>
                  <a:pt x="914" y="777"/>
                </a:lnTo>
                <a:lnTo>
                  <a:pt x="914" y="781"/>
                </a:lnTo>
                <a:lnTo>
                  <a:pt x="918" y="786"/>
                </a:lnTo>
                <a:lnTo>
                  <a:pt x="918" y="790"/>
                </a:lnTo>
                <a:lnTo>
                  <a:pt x="923" y="794"/>
                </a:lnTo>
                <a:lnTo>
                  <a:pt x="923" y="799"/>
                </a:lnTo>
                <a:lnTo>
                  <a:pt x="923" y="933"/>
                </a:lnTo>
                <a:lnTo>
                  <a:pt x="927" y="933"/>
                </a:lnTo>
                <a:lnTo>
                  <a:pt x="931" y="933"/>
                </a:lnTo>
                <a:lnTo>
                  <a:pt x="936" y="933"/>
                </a:lnTo>
                <a:lnTo>
                  <a:pt x="940" y="933"/>
                </a:lnTo>
                <a:lnTo>
                  <a:pt x="944" y="933"/>
                </a:lnTo>
                <a:lnTo>
                  <a:pt x="949" y="933"/>
                </a:lnTo>
                <a:lnTo>
                  <a:pt x="953" y="933"/>
                </a:lnTo>
                <a:lnTo>
                  <a:pt x="957" y="933"/>
                </a:lnTo>
                <a:lnTo>
                  <a:pt x="961" y="933"/>
                </a:lnTo>
                <a:lnTo>
                  <a:pt x="966" y="933"/>
                </a:lnTo>
                <a:lnTo>
                  <a:pt x="970" y="933"/>
                </a:lnTo>
                <a:lnTo>
                  <a:pt x="974" y="933"/>
                </a:lnTo>
                <a:lnTo>
                  <a:pt x="979" y="933"/>
                </a:lnTo>
                <a:lnTo>
                  <a:pt x="983" y="933"/>
                </a:lnTo>
                <a:lnTo>
                  <a:pt x="987" y="933"/>
                </a:lnTo>
                <a:lnTo>
                  <a:pt x="992" y="933"/>
                </a:lnTo>
                <a:lnTo>
                  <a:pt x="996" y="933"/>
                </a:lnTo>
                <a:lnTo>
                  <a:pt x="1000" y="933"/>
                </a:lnTo>
                <a:lnTo>
                  <a:pt x="1005" y="933"/>
                </a:lnTo>
                <a:lnTo>
                  <a:pt x="1009" y="933"/>
                </a:lnTo>
                <a:lnTo>
                  <a:pt x="1013" y="933"/>
                </a:lnTo>
                <a:lnTo>
                  <a:pt x="1018" y="933"/>
                </a:lnTo>
                <a:lnTo>
                  <a:pt x="1022" y="933"/>
                </a:lnTo>
                <a:lnTo>
                  <a:pt x="1026" y="933"/>
                </a:lnTo>
                <a:lnTo>
                  <a:pt x="1031" y="933"/>
                </a:lnTo>
                <a:lnTo>
                  <a:pt x="1035" y="933"/>
                </a:lnTo>
                <a:lnTo>
                  <a:pt x="1039" y="933"/>
                </a:lnTo>
                <a:lnTo>
                  <a:pt x="1044" y="933"/>
                </a:lnTo>
                <a:lnTo>
                  <a:pt x="1048" y="933"/>
                </a:lnTo>
                <a:lnTo>
                  <a:pt x="1052" y="933"/>
                </a:lnTo>
                <a:lnTo>
                  <a:pt x="1057" y="933"/>
                </a:lnTo>
                <a:lnTo>
                  <a:pt x="1061" y="933"/>
                </a:lnTo>
                <a:lnTo>
                  <a:pt x="1065" y="933"/>
                </a:lnTo>
                <a:lnTo>
                  <a:pt x="1070" y="933"/>
                </a:lnTo>
                <a:lnTo>
                  <a:pt x="1074" y="933"/>
                </a:lnTo>
                <a:lnTo>
                  <a:pt x="1078" y="933"/>
                </a:lnTo>
                <a:lnTo>
                  <a:pt x="1083" y="933"/>
                </a:lnTo>
                <a:lnTo>
                  <a:pt x="1087" y="933"/>
                </a:lnTo>
                <a:lnTo>
                  <a:pt x="1091" y="933"/>
                </a:lnTo>
                <a:lnTo>
                  <a:pt x="1096" y="933"/>
                </a:lnTo>
                <a:lnTo>
                  <a:pt x="1100" y="933"/>
                </a:lnTo>
                <a:lnTo>
                  <a:pt x="1104" y="933"/>
                </a:lnTo>
                <a:lnTo>
                  <a:pt x="1109" y="933"/>
                </a:lnTo>
                <a:lnTo>
                  <a:pt x="1113" y="933"/>
                </a:lnTo>
                <a:lnTo>
                  <a:pt x="1117" y="933"/>
                </a:lnTo>
                <a:lnTo>
                  <a:pt x="1122" y="933"/>
                </a:lnTo>
                <a:lnTo>
                  <a:pt x="1126" y="933"/>
                </a:lnTo>
                <a:lnTo>
                  <a:pt x="1130" y="933"/>
                </a:lnTo>
                <a:lnTo>
                  <a:pt x="1135" y="933"/>
                </a:lnTo>
                <a:lnTo>
                  <a:pt x="1139" y="933"/>
                </a:lnTo>
                <a:lnTo>
                  <a:pt x="1143" y="933"/>
                </a:lnTo>
                <a:lnTo>
                  <a:pt x="1148" y="933"/>
                </a:lnTo>
                <a:lnTo>
                  <a:pt x="1152" y="933"/>
                </a:lnTo>
                <a:lnTo>
                  <a:pt x="1156" y="933"/>
                </a:lnTo>
                <a:lnTo>
                  <a:pt x="1161" y="933"/>
                </a:lnTo>
                <a:lnTo>
                  <a:pt x="1165" y="933"/>
                </a:lnTo>
                <a:lnTo>
                  <a:pt x="1169" y="933"/>
                </a:lnTo>
                <a:lnTo>
                  <a:pt x="1174" y="933"/>
                </a:lnTo>
                <a:lnTo>
                  <a:pt x="1178" y="933"/>
                </a:lnTo>
                <a:lnTo>
                  <a:pt x="1182" y="933"/>
                </a:lnTo>
                <a:lnTo>
                  <a:pt x="1187" y="933"/>
                </a:lnTo>
                <a:lnTo>
                  <a:pt x="1191" y="933"/>
                </a:lnTo>
                <a:lnTo>
                  <a:pt x="1195" y="933"/>
                </a:lnTo>
                <a:lnTo>
                  <a:pt x="1200" y="933"/>
                </a:lnTo>
                <a:lnTo>
                  <a:pt x="1204" y="933"/>
                </a:lnTo>
                <a:lnTo>
                  <a:pt x="1208" y="933"/>
                </a:lnTo>
                <a:lnTo>
                  <a:pt x="1213" y="933"/>
                </a:lnTo>
                <a:lnTo>
                  <a:pt x="1217" y="933"/>
                </a:lnTo>
                <a:lnTo>
                  <a:pt x="1221" y="933"/>
                </a:lnTo>
                <a:lnTo>
                  <a:pt x="1226" y="933"/>
                </a:lnTo>
                <a:lnTo>
                  <a:pt x="1230" y="933"/>
                </a:lnTo>
                <a:lnTo>
                  <a:pt x="1234" y="933"/>
                </a:lnTo>
                <a:lnTo>
                  <a:pt x="1239" y="933"/>
                </a:lnTo>
                <a:lnTo>
                  <a:pt x="1243" y="933"/>
                </a:lnTo>
                <a:lnTo>
                  <a:pt x="1247" y="933"/>
                </a:lnTo>
                <a:lnTo>
                  <a:pt x="1252" y="933"/>
                </a:lnTo>
                <a:lnTo>
                  <a:pt x="1256" y="933"/>
                </a:lnTo>
                <a:lnTo>
                  <a:pt x="1260" y="933"/>
                </a:lnTo>
                <a:lnTo>
                  <a:pt x="1265" y="933"/>
                </a:lnTo>
                <a:lnTo>
                  <a:pt x="1269" y="933"/>
                </a:lnTo>
                <a:lnTo>
                  <a:pt x="1273" y="933"/>
                </a:lnTo>
                <a:lnTo>
                  <a:pt x="1278" y="933"/>
                </a:lnTo>
                <a:lnTo>
                  <a:pt x="1282" y="933"/>
                </a:lnTo>
                <a:lnTo>
                  <a:pt x="1286" y="933"/>
                </a:lnTo>
                <a:lnTo>
                  <a:pt x="1291" y="933"/>
                </a:lnTo>
                <a:lnTo>
                  <a:pt x="1295" y="933"/>
                </a:lnTo>
                <a:lnTo>
                  <a:pt x="1299" y="933"/>
                </a:lnTo>
                <a:lnTo>
                  <a:pt x="1304" y="933"/>
                </a:lnTo>
                <a:lnTo>
                  <a:pt x="1308" y="933"/>
                </a:lnTo>
                <a:lnTo>
                  <a:pt x="1312" y="933"/>
                </a:lnTo>
                <a:lnTo>
                  <a:pt x="1317" y="933"/>
                </a:lnTo>
                <a:lnTo>
                  <a:pt x="1321" y="933"/>
                </a:lnTo>
                <a:lnTo>
                  <a:pt x="1325" y="933"/>
                </a:lnTo>
              </a:path>
            </a:pathLst>
          </a:cu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custGeom>
              <a:avLst/>
              <a:gdLst/>
              <a:ahLst/>
              <a:rect l="l" t="t" r="r" b="b"/>
              <a:pathLst>
                <a:path w="2743" h="1943">
                  <a:moveTo>
                    <a:pt x="0" y="1943"/>
                  </a:moveTo>
                  <a:lnTo>
                    <a:pt x="2743" y="1943"/>
                  </a:lnTo>
                  <a:lnTo>
                    <a:pt x="2743" y="0"/>
                  </a:lnTo>
                  <a:lnTo>
                    <a:pt x="0" y="0"/>
                  </a:lnTo>
                  <a:lnTo>
                    <a:pt x="0" y="1943"/>
                  </a:lnTo>
                  <a:lnTo>
                    <a:pt x="0" y="194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custGeom>
              <a:avLst/>
              <a:gdLst>
                <a:gd name="textAreaLeft" fmla="*/ 0 w 3541680"/>
                <a:gd name="textAreaRight" fmla="*/ 3542040 w 3541680"/>
                <a:gd name="textAreaTop" fmla="*/ 0 h 1919160"/>
                <a:gd name="textAreaBottom" fmla="*/ 1919520 h 1919160"/>
              </a:gdLst>
              <a:ahLst/>
              <a:rect l="textAreaLeft" t="textAreaTop" r="textAreaRight" b="textAreaBottom"/>
              <a:pathLst>
                <a:path w="1645" h="1164">
                  <a:moveTo>
                    <a:pt x="0" y="1164"/>
                  </a:moveTo>
                  <a:lnTo>
                    <a:pt x="1645" y="1164"/>
                  </a:lnTo>
                  <a:lnTo>
                    <a:pt x="1645" y="0"/>
                  </a:lnTo>
                  <a:lnTo>
                    <a:pt x="0" y="0"/>
                  </a:lnTo>
                  <a:lnTo>
                    <a:pt x="0" y="11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581" h="475">
                  <a:moveTo>
                    <a:pt x="0" y="474"/>
                  </a:moveTo>
                  <a:lnTo>
                    <a:pt x="5" y="474"/>
                  </a:lnTo>
                  <a:lnTo>
                    <a:pt x="16" y="474"/>
                  </a:lnTo>
                  <a:lnTo>
                    <a:pt x="20" y="474"/>
                  </a:lnTo>
                  <a:lnTo>
                    <a:pt x="31" y="474"/>
                  </a:lnTo>
                  <a:lnTo>
                    <a:pt x="36" y="474"/>
                  </a:lnTo>
                  <a:lnTo>
                    <a:pt x="47" y="474"/>
                  </a:lnTo>
                  <a:lnTo>
                    <a:pt x="51" y="474"/>
                  </a:lnTo>
                  <a:lnTo>
                    <a:pt x="62" y="474"/>
                  </a:lnTo>
                  <a:lnTo>
                    <a:pt x="67" y="474"/>
                  </a:lnTo>
                  <a:lnTo>
                    <a:pt x="78" y="474"/>
                  </a:lnTo>
                  <a:lnTo>
                    <a:pt x="82" y="474"/>
                  </a:lnTo>
                  <a:lnTo>
                    <a:pt x="93" y="474"/>
                  </a:lnTo>
                  <a:lnTo>
                    <a:pt x="98" y="474"/>
                  </a:lnTo>
                  <a:lnTo>
                    <a:pt x="109" y="474"/>
                  </a:lnTo>
                  <a:lnTo>
                    <a:pt x="119" y="474"/>
                  </a:lnTo>
                  <a:lnTo>
                    <a:pt x="124" y="474"/>
                  </a:lnTo>
                  <a:lnTo>
                    <a:pt x="135" y="474"/>
                  </a:lnTo>
                  <a:lnTo>
                    <a:pt x="140" y="474"/>
                  </a:lnTo>
                  <a:lnTo>
                    <a:pt x="150" y="474"/>
                  </a:lnTo>
                  <a:lnTo>
                    <a:pt x="155" y="474"/>
                  </a:lnTo>
                  <a:lnTo>
                    <a:pt x="166" y="474"/>
                  </a:lnTo>
                  <a:lnTo>
                    <a:pt x="171" y="474"/>
                  </a:lnTo>
                  <a:lnTo>
                    <a:pt x="181" y="474"/>
                  </a:lnTo>
                  <a:lnTo>
                    <a:pt x="186" y="474"/>
                  </a:lnTo>
                  <a:lnTo>
                    <a:pt x="197" y="474"/>
                  </a:lnTo>
                  <a:lnTo>
                    <a:pt x="202" y="474"/>
                  </a:lnTo>
                  <a:lnTo>
                    <a:pt x="212" y="474"/>
                  </a:lnTo>
                  <a:lnTo>
                    <a:pt x="217" y="474"/>
                  </a:lnTo>
                  <a:lnTo>
                    <a:pt x="228" y="474"/>
                  </a:lnTo>
                  <a:lnTo>
                    <a:pt x="237" y="474"/>
                  </a:lnTo>
                  <a:lnTo>
                    <a:pt x="243" y="474"/>
                  </a:lnTo>
                  <a:lnTo>
                    <a:pt x="253" y="474"/>
                  </a:lnTo>
                  <a:lnTo>
                    <a:pt x="259" y="474"/>
                  </a:lnTo>
                  <a:lnTo>
                    <a:pt x="268" y="474"/>
                  </a:lnTo>
                  <a:lnTo>
                    <a:pt x="274" y="469"/>
                  </a:lnTo>
                  <a:lnTo>
                    <a:pt x="284" y="469"/>
                  </a:lnTo>
                  <a:lnTo>
                    <a:pt x="290" y="469"/>
                  </a:lnTo>
                  <a:lnTo>
                    <a:pt x="299" y="469"/>
                  </a:lnTo>
                  <a:lnTo>
                    <a:pt x="305" y="463"/>
                  </a:lnTo>
                  <a:lnTo>
                    <a:pt x="315" y="463"/>
                  </a:lnTo>
                  <a:lnTo>
                    <a:pt x="321" y="463"/>
                  </a:lnTo>
                  <a:lnTo>
                    <a:pt x="330" y="459"/>
                  </a:lnTo>
                  <a:lnTo>
                    <a:pt x="341" y="459"/>
                  </a:lnTo>
                  <a:lnTo>
                    <a:pt x="346" y="454"/>
                  </a:lnTo>
                  <a:lnTo>
                    <a:pt x="357" y="454"/>
                  </a:lnTo>
                  <a:lnTo>
                    <a:pt x="361" y="448"/>
                  </a:lnTo>
                  <a:lnTo>
                    <a:pt x="372" y="443"/>
                  </a:lnTo>
                  <a:lnTo>
                    <a:pt x="377" y="438"/>
                  </a:lnTo>
                  <a:lnTo>
                    <a:pt x="388" y="432"/>
                  </a:lnTo>
                  <a:lnTo>
                    <a:pt x="392" y="428"/>
                  </a:lnTo>
                  <a:lnTo>
                    <a:pt x="403" y="423"/>
                  </a:lnTo>
                  <a:lnTo>
                    <a:pt x="408" y="412"/>
                  </a:lnTo>
                  <a:lnTo>
                    <a:pt x="419" y="407"/>
                  </a:lnTo>
                  <a:lnTo>
                    <a:pt x="423" y="397"/>
                  </a:lnTo>
                  <a:lnTo>
                    <a:pt x="434" y="386"/>
                  </a:lnTo>
                  <a:lnTo>
                    <a:pt x="439" y="377"/>
                  </a:lnTo>
                  <a:lnTo>
                    <a:pt x="450" y="366"/>
                  </a:lnTo>
                  <a:lnTo>
                    <a:pt x="459" y="355"/>
                  </a:lnTo>
                  <a:lnTo>
                    <a:pt x="465" y="340"/>
                  </a:lnTo>
                  <a:lnTo>
                    <a:pt x="475" y="324"/>
                  </a:lnTo>
                  <a:lnTo>
                    <a:pt x="481" y="309"/>
                  </a:lnTo>
                  <a:lnTo>
                    <a:pt x="490" y="293"/>
                  </a:lnTo>
                  <a:lnTo>
                    <a:pt x="496" y="278"/>
                  </a:lnTo>
                  <a:lnTo>
                    <a:pt x="506" y="258"/>
                  </a:lnTo>
                  <a:lnTo>
                    <a:pt x="512" y="236"/>
                  </a:lnTo>
                  <a:lnTo>
                    <a:pt x="521" y="216"/>
                  </a:lnTo>
                  <a:lnTo>
                    <a:pt x="527" y="190"/>
                  </a:lnTo>
                  <a:lnTo>
                    <a:pt x="537" y="170"/>
                  </a:lnTo>
                  <a:lnTo>
                    <a:pt x="543" y="144"/>
                  </a:lnTo>
                  <a:lnTo>
                    <a:pt x="552" y="119"/>
                  </a:lnTo>
                  <a:lnTo>
                    <a:pt x="558" y="88"/>
                  </a:lnTo>
                  <a:lnTo>
                    <a:pt x="568" y="62"/>
                  </a:lnTo>
                  <a:lnTo>
                    <a:pt x="578" y="31"/>
                  </a:lnTo>
                  <a:lnTo>
                    <a:pt x="583" y="0"/>
                  </a:lnTo>
                  <a:lnTo>
                    <a:pt x="594" y="474"/>
                  </a:lnTo>
                  <a:lnTo>
                    <a:pt x="599" y="474"/>
                  </a:lnTo>
                  <a:lnTo>
                    <a:pt x="609" y="474"/>
                  </a:lnTo>
                  <a:lnTo>
                    <a:pt x="614" y="474"/>
                  </a:lnTo>
                  <a:lnTo>
                    <a:pt x="625" y="474"/>
                  </a:lnTo>
                  <a:lnTo>
                    <a:pt x="630" y="474"/>
                  </a:lnTo>
                  <a:lnTo>
                    <a:pt x="640" y="474"/>
                  </a:lnTo>
                  <a:lnTo>
                    <a:pt x="645" y="474"/>
                  </a:lnTo>
                  <a:lnTo>
                    <a:pt x="656" y="474"/>
                  </a:lnTo>
                  <a:lnTo>
                    <a:pt x="661" y="474"/>
                  </a:lnTo>
                  <a:lnTo>
                    <a:pt x="671" y="474"/>
                  </a:lnTo>
                  <a:lnTo>
                    <a:pt x="682" y="474"/>
                  </a:lnTo>
                  <a:lnTo>
                    <a:pt x="687" y="474"/>
                  </a:lnTo>
                  <a:lnTo>
                    <a:pt x="698" y="474"/>
                  </a:lnTo>
                  <a:lnTo>
                    <a:pt x="702" y="474"/>
                  </a:lnTo>
                  <a:lnTo>
                    <a:pt x="713" y="474"/>
                  </a:lnTo>
                  <a:lnTo>
                    <a:pt x="718" y="474"/>
                  </a:lnTo>
                  <a:lnTo>
                    <a:pt x="729" y="474"/>
                  </a:lnTo>
                  <a:lnTo>
                    <a:pt x="733" y="474"/>
                  </a:lnTo>
                  <a:lnTo>
                    <a:pt x="744" y="474"/>
                  </a:lnTo>
                  <a:lnTo>
                    <a:pt x="749" y="474"/>
                  </a:lnTo>
                  <a:lnTo>
                    <a:pt x="760" y="474"/>
                  </a:lnTo>
                  <a:lnTo>
                    <a:pt x="764" y="474"/>
                  </a:lnTo>
                  <a:lnTo>
                    <a:pt x="775" y="474"/>
                  </a:lnTo>
                  <a:lnTo>
                    <a:pt x="780" y="474"/>
                  </a:lnTo>
                  <a:lnTo>
                    <a:pt x="791" y="474"/>
                  </a:lnTo>
                  <a:lnTo>
                    <a:pt x="800" y="474"/>
                  </a:lnTo>
                  <a:lnTo>
                    <a:pt x="806" y="474"/>
                  </a:lnTo>
                  <a:lnTo>
                    <a:pt x="816" y="474"/>
                  </a:lnTo>
                  <a:lnTo>
                    <a:pt x="822" y="474"/>
                  </a:lnTo>
                  <a:lnTo>
                    <a:pt x="831" y="474"/>
                  </a:lnTo>
                  <a:lnTo>
                    <a:pt x="837" y="474"/>
                  </a:lnTo>
                  <a:lnTo>
                    <a:pt x="847" y="474"/>
                  </a:lnTo>
                  <a:lnTo>
                    <a:pt x="853" y="474"/>
                  </a:lnTo>
                  <a:lnTo>
                    <a:pt x="862" y="474"/>
                  </a:lnTo>
                  <a:lnTo>
                    <a:pt x="868" y="474"/>
                  </a:lnTo>
                  <a:lnTo>
                    <a:pt x="878" y="474"/>
                  </a:lnTo>
                  <a:lnTo>
                    <a:pt x="884" y="474"/>
                  </a:lnTo>
                  <a:lnTo>
                    <a:pt x="893" y="474"/>
                  </a:lnTo>
                  <a:lnTo>
                    <a:pt x="899" y="474"/>
                  </a:lnTo>
                  <a:lnTo>
                    <a:pt x="909" y="474"/>
                  </a:lnTo>
                  <a:lnTo>
                    <a:pt x="919" y="474"/>
                  </a:lnTo>
                  <a:lnTo>
                    <a:pt x="924" y="474"/>
                  </a:lnTo>
                  <a:lnTo>
                    <a:pt x="935" y="474"/>
                  </a:lnTo>
                  <a:lnTo>
                    <a:pt x="940" y="474"/>
                  </a:lnTo>
                  <a:lnTo>
                    <a:pt x="950" y="474"/>
                  </a:lnTo>
                  <a:lnTo>
                    <a:pt x="955" y="474"/>
                  </a:lnTo>
                  <a:lnTo>
                    <a:pt x="966" y="474"/>
                  </a:lnTo>
                  <a:lnTo>
                    <a:pt x="971" y="474"/>
                  </a:lnTo>
                  <a:lnTo>
                    <a:pt x="981" y="474"/>
                  </a:lnTo>
                  <a:lnTo>
                    <a:pt x="986" y="474"/>
                  </a:lnTo>
                  <a:lnTo>
                    <a:pt x="997" y="0"/>
                  </a:lnTo>
                  <a:lnTo>
                    <a:pt x="1002" y="31"/>
                  </a:lnTo>
                  <a:lnTo>
                    <a:pt x="1012" y="62"/>
                  </a:lnTo>
                  <a:lnTo>
                    <a:pt x="1023" y="88"/>
                  </a:lnTo>
                  <a:lnTo>
                    <a:pt x="1028" y="119"/>
                  </a:lnTo>
                  <a:lnTo>
                    <a:pt x="1039" y="144"/>
                  </a:lnTo>
                  <a:lnTo>
                    <a:pt x="1043" y="170"/>
                  </a:lnTo>
                  <a:lnTo>
                    <a:pt x="1054" y="190"/>
                  </a:lnTo>
                  <a:lnTo>
                    <a:pt x="1059" y="216"/>
                  </a:lnTo>
                  <a:lnTo>
                    <a:pt x="1070" y="236"/>
                  </a:lnTo>
                  <a:lnTo>
                    <a:pt x="1074" y="258"/>
                  </a:lnTo>
                  <a:lnTo>
                    <a:pt x="1085" y="278"/>
                  </a:lnTo>
                  <a:lnTo>
                    <a:pt x="1090" y="293"/>
                  </a:lnTo>
                  <a:lnTo>
                    <a:pt x="1101" y="309"/>
                  </a:lnTo>
                  <a:lnTo>
                    <a:pt x="1105" y="324"/>
                  </a:lnTo>
                  <a:lnTo>
                    <a:pt x="1116" y="340"/>
                  </a:lnTo>
                  <a:lnTo>
                    <a:pt x="1121" y="355"/>
                  </a:lnTo>
                  <a:lnTo>
                    <a:pt x="1132" y="366"/>
                  </a:lnTo>
                  <a:lnTo>
                    <a:pt x="1141" y="377"/>
                  </a:lnTo>
                  <a:lnTo>
                    <a:pt x="1146" y="386"/>
                  </a:lnTo>
                  <a:lnTo>
                    <a:pt x="1157" y="397"/>
                  </a:lnTo>
                  <a:lnTo>
                    <a:pt x="1161" y="407"/>
                  </a:lnTo>
                  <a:lnTo>
                    <a:pt x="1172" y="412"/>
                  </a:lnTo>
                  <a:lnTo>
                    <a:pt x="1177" y="423"/>
                  </a:lnTo>
                  <a:lnTo>
                    <a:pt x="1188" y="428"/>
                  </a:lnTo>
                  <a:lnTo>
                    <a:pt x="1192" y="432"/>
                  </a:lnTo>
                  <a:lnTo>
                    <a:pt x="1203" y="438"/>
                  </a:lnTo>
                  <a:lnTo>
                    <a:pt x="1208" y="443"/>
                  </a:lnTo>
                  <a:lnTo>
                    <a:pt x="1219" y="448"/>
                  </a:lnTo>
                  <a:lnTo>
                    <a:pt x="1223" y="454"/>
                  </a:lnTo>
                  <a:lnTo>
                    <a:pt x="1234" y="454"/>
                  </a:lnTo>
                  <a:lnTo>
                    <a:pt x="1239" y="459"/>
                  </a:lnTo>
                  <a:lnTo>
                    <a:pt x="1250" y="459"/>
                  </a:lnTo>
                  <a:lnTo>
                    <a:pt x="1260" y="463"/>
                  </a:lnTo>
                  <a:lnTo>
                    <a:pt x="1265" y="463"/>
                  </a:lnTo>
                  <a:lnTo>
                    <a:pt x="1276" y="463"/>
                  </a:lnTo>
                  <a:lnTo>
                    <a:pt x="1281" y="469"/>
                  </a:lnTo>
                  <a:lnTo>
                    <a:pt x="1291" y="469"/>
                  </a:lnTo>
                  <a:lnTo>
                    <a:pt x="1296" y="469"/>
                  </a:lnTo>
                  <a:lnTo>
                    <a:pt x="1307" y="469"/>
                  </a:lnTo>
                  <a:lnTo>
                    <a:pt x="1312" y="474"/>
                  </a:lnTo>
                  <a:lnTo>
                    <a:pt x="1322" y="474"/>
                  </a:lnTo>
                  <a:lnTo>
                    <a:pt x="1327" y="474"/>
                  </a:lnTo>
                  <a:lnTo>
                    <a:pt x="1338" y="474"/>
                  </a:lnTo>
                  <a:lnTo>
                    <a:pt x="1343" y="474"/>
                  </a:lnTo>
                  <a:lnTo>
                    <a:pt x="1353" y="474"/>
                  </a:lnTo>
                  <a:lnTo>
                    <a:pt x="1363" y="474"/>
                  </a:lnTo>
                  <a:lnTo>
                    <a:pt x="1369" y="474"/>
                  </a:lnTo>
                  <a:lnTo>
                    <a:pt x="1378" y="474"/>
                  </a:lnTo>
                  <a:lnTo>
                    <a:pt x="1384" y="474"/>
                  </a:lnTo>
                  <a:lnTo>
                    <a:pt x="1394" y="474"/>
                  </a:lnTo>
                  <a:lnTo>
                    <a:pt x="1400" y="474"/>
                  </a:lnTo>
                  <a:lnTo>
                    <a:pt x="1409" y="474"/>
                  </a:lnTo>
                  <a:lnTo>
                    <a:pt x="1415" y="474"/>
                  </a:lnTo>
                  <a:lnTo>
                    <a:pt x="1425" y="474"/>
                  </a:lnTo>
                  <a:lnTo>
                    <a:pt x="1431" y="474"/>
                  </a:lnTo>
                  <a:lnTo>
                    <a:pt x="1440" y="474"/>
                  </a:lnTo>
                  <a:lnTo>
                    <a:pt x="1446" y="474"/>
                  </a:lnTo>
                  <a:lnTo>
                    <a:pt x="1456" y="474"/>
                  </a:lnTo>
                  <a:lnTo>
                    <a:pt x="1462" y="474"/>
                  </a:lnTo>
                  <a:lnTo>
                    <a:pt x="1471" y="474"/>
                  </a:lnTo>
                  <a:lnTo>
                    <a:pt x="1482" y="474"/>
                  </a:lnTo>
                  <a:lnTo>
                    <a:pt x="1487" y="474"/>
                  </a:lnTo>
                  <a:lnTo>
                    <a:pt x="1498" y="474"/>
                  </a:lnTo>
                  <a:lnTo>
                    <a:pt x="1502" y="474"/>
                  </a:lnTo>
                  <a:lnTo>
                    <a:pt x="1513" y="474"/>
                  </a:lnTo>
                  <a:lnTo>
                    <a:pt x="1518" y="474"/>
                  </a:lnTo>
                  <a:lnTo>
                    <a:pt x="1529" y="474"/>
                  </a:lnTo>
                  <a:lnTo>
                    <a:pt x="1533" y="474"/>
                  </a:lnTo>
                  <a:lnTo>
                    <a:pt x="1544" y="474"/>
                  </a:lnTo>
                  <a:lnTo>
                    <a:pt x="1549" y="474"/>
                  </a:lnTo>
                  <a:lnTo>
                    <a:pt x="1560" y="474"/>
                  </a:lnTo>
                  <a:lnTo>
                    <a:pt x="1564" y="474"/>
                  </a:lnTo>
                  <a:lnTo>
                    <a:pt x="1575" y="474"/>
                  </a:lnTo>
                  <a:lnTo>
                    <a:pt x="1580" y="474"/>
                  </a:lnTo>
                  <a:lnTo>
                    <a:pt x="1575" y="474"/>
                  </a:lnTo>
                  <a:lnTo>
                    <a:pt x="1564" y="474"/>
                  </a:lnTo>
                  <a:lnTo>
                    <a:pt x="1560" y="474"/>
                  </a:lnTo>
                  <a:lnTo>
                    <a:pt x="1549" y="474"/>
                  </a:lnTo>
                  <a:lnTo>
                    <a:pt x="1544" y="474"/>
                  </a:lnTo>
                  <a:lnTo>
                    <a:pt x="1533" y="474"/>
                  </a:lnTo>
                  <a:lnTo>
                    <a:pt x="1529" y="474"/>
                  </a:lnTo>
                  <a:lnTo>
                    <a:pt x="1518" y="474"/>
                  </a:lnTo>
                  <a:lnTo>
                    <a:pt x="1513" y="474"/>
                  </a:lnTo>
                  <a:lnTo>
                    <a:pt x="1502" y="474"/>
                  </a:lnTo>
                  <a:lnTo>
                    <a:pt x="1498" y="474"/>
                  </a:lnTo>
                  <a:lnTo>
                    <a:pt x="1487" y="474"/>
                  </a:lnTo>
                  <a:lnTo>
                    <a:pt x="1482" y="474"/>
                  </a:lnTo>
                  <a:lnTo>
                    <a:pt x="1471" y="474"/>
                  </a:lnTo>
                  <a:lnTo>
                    <a:pt x="1462" y="474"/>
                  </a:lnTo>
                  <a:lnTo>
                    <a:pt x="1456" y="474"/>
                  </a:lnTo>
                  <a:lnTo>
                    <a:pt x="1446" y="474"/>
                  </a:lnTo>
                  <a:lnTo>
                    <a:pt x="1440" y="474"/>
                  </a:lnTo>
                  <a:lnTo>
                    <a:pt x="1431" y="474"/>
                  </a:lnTo>
                  <a:lnTo>
                    <a:pt x="1425" y="474"/>
                  </a:lnTo>
                  <a:lnTo>
                    <a:pt x="1415" y="474"/>
                  </a:lnTo>
                  <a:lnTo>
                    <a:pt x="1409" y="474"/>
                  </a:lnTo>
                  <a:lnTo>
                    <a:pt x="1400" y="474"/>
                  </a:lnTo>
                  <a:lnTo>
                    <a:pt x="1394" y="474"/>
                  </a:lnTo>
                  <a:lnTo>
                    <a:pt x="1384" y="474"/>
                  </a:lnTo>
                  <a:lnTo>
                    <a:pt x="1378" y="474"/>
                  </a:lnTo>
                  <a:lnTo>
                    <a:pt x="1369" y="474"/>
                  </a:lnTo>
                  <a:lnTo>
                    <a:pt x="1363" y="474"/>
                  </a:lnTo>
                  <a:lnTo>
                    <a:pt x="1353" y="474"/>
                  </a:lnTo>
                  <a:lnTo>
                    <a:pt x="1343" y="474"/>
                  </a:lnTo>
                  <a:lnTo>
                    <a:pt x="1338" y="474"/>
                  </a:lnTo>
                  <a:lnTo>
                    <a:pt x="1327" y="474"/>
                  </a:lnTo>
                  <a:lnTo>
                    <a:pt x="1322" y="474"/>
                  </a:lnTo>
                  <a:lnTo>
                    <a:pt x="1312" y="474"/>
                  </a:lnTo>
                  <a:lnTo>
                    <a:pt x="1307" y="474"/>
                  </a:lnTo>
                  <a:lnTo>
                    <a:pt x="1296" y="474"/>
                  </a:lnTo>
                  <a:lnTo>
                    <a:pt x="1291" y="474"/>
                  </a:lnTo>
                  <a:lnTo>
                    <a:pt x="1281" y="474"/>
                  </a:lnTo>
                  <a:lnTo>
                    <a:pt x="1276" y="474"/>
                  </a:lnTo>
                  <a:lnTo>
                    <a:pt x="1265" y="474"/>
                  </a:lnTo>
                  <a:lnTo>
                    <a:pt x="1260" y="474"/>
                  </a:lnTo>
                  <a:lnTo>
                    <a:pt x="1250" y="474"/>
                  </a:lnTo>
                  <a:lnTo>
                    <a:pt x="1239" y="474"/>
                  </a:lnTo>
                  <a:lnTo>
                    <a:pt x="1234" y="474"/>
                  </a:lnTo>
                  <a:lnTo>
                    <a:pt x="1223" y="474"/>
                  </a:lnTo>
                  <a:lnTo>
                    <a:pt x="1219" y="474"/>
                  </a:lnTo>
                  <a:lnTo>
                    <a:pt x="1208" y="474"/>
                  </a:lnTo>
                  <a:lnTo>
                    <a:pt x="1203" y="474"/>
                  </a:lnTo>
                  <a:lnTo>
                    <a:pt x="1192" y="474"/>
                  </a:lnTo>
                  <a:lnTo>
                    <a:pt x="1188" y="474"/>
                  </a:lnTo>
                  <a:lnTo>
                    <a:pt x="1177" y="474"/>
                  </a:lnTo>
                  <a:lnTo>
                    <a:pt x="1172" y="474"/>
                  </a:lnTo>
                  <a:lnTo>
                    <a:pt x="1161" y="474"/>
                  </a:lnTo>
                  <a:lnTo>
                    <a:pt x="1157" y="474"/>
                  </a:lnTo>
                  <a:lnTo>
                    <a:pt x="1146" y="474"/>
                  </a:lnTo>
                  <a:lnTo>
                    <a:pt x="1141" y="474"/>
                  </a:lnTo>
                  <a:lnTo>
                    <a:pt x="1132" y="474"/>
                  </a:lnTo>
                  <a:lnTo>
                    <a:pt x="1121" y="474"/>
                  </a:lnTo>
                  <a:lnTo>
                    <a:pt x="1116" y="474"/>
                  </a:lnTo>
                  <a:lnTo>
                    <a:pt x="1105" y="474"/>
                  </a:lnTo>
                  <a:lnTo>
                    <a:pt x="1101" y="474"/>
                  </a:lnTo>
                  <a:lnTo>
                    <a:pt x="1090" y="474"/>
                  </a:lnTo>
                  <a:lnTo>
                    <a:pt x="1085" y="474"/>
                  </a:lnTo>
                  <a:lnTo>
                    <a:pt x="1074" y="474"/>
                  </a:lnTo>
                  <a:lnTo>
                    <a:pt x="1070" y="474"/>
                  </a:lnTo>
                  <a:lnTo>
                    <a:pt x="1059" y="474"/>
                  </a:lnTo>
                  <a:lnTo>
                    <a:pt x="1054" y="474"/>
                  </a:lnTo>
                  <a:lnTo>
                    <a:pt x="1043" y="474"/>
                  </a:lnTo>
                  <a:lnTo>
                    <a:pt x="1039" y="474"/>
                  </a:lnTo>
                  <a:lnTo>
                    <a:pt x="1028" y="474"/>
                  </a:lnTo>
                  <a:lnTo>
                    <a:pt x="1023" y="474"/>
                  </a:lnTo>
                  <a:lnTo>
                    <a:pt x="1012" y="474"/>
                  </a:lnTo>
                  <a:lnTo>
                    <a:pt x="1002" y="474"/>
                  </a:lnTo>
                  <a:lnTo>
                    <a:pt x="997" y="474"/>
                  </a:lnTo>
                  <a:lnTo>
                    <a:pt x="986" y="474"/>
                  </a:lnTo>
                  <a:lnTo>
                    <a:pt x="981" y="474"/>
                  </a:lnTo>
                  <a:lnTo>
                    <a:pt x="971" y="474"/>
                  </a:lnTo>
                  <a:lnTo>
                    <a:pt x="966" y="474"/>
                  </a:lnTo>
                  <a:lnTo>
                    <a:pt x="955" y="474"/>
                  </a:lnTo>
                  <a:lnTo>
                    <a:pt x="950" y="474"/>
                  </a:lnTo>
                  <a:lnTo>
                    <a:pt x="940" y="474"/>
                  </a:lnTo>
                  <a:lnTo>
                    <a:pt x="935" y="474"/>
                  </a:lnTo>
                  <a:lnTo>
                    <a:pt x="924" y="474"/>
                  </a:lnTo>
                  <a:lnTo>
                    <a:pt x="919" y="474"/>
                  </a:lnTo>
                  <a:lnTo>
                    <a:pt x="909" y="474"/>
                  </a:lnTo>
                  <a:lnTo>
                    <a:pt x="899" y="474"/>
                  </a:lnTo>
                  <a:lnTo>
                    <a:pt x="893" y="474"/>
                  </a:lnTo>
                  <a:lnTo>
                    <a:pt x="884" y="474"/>
                  </a:lnTo>
                  <a:lnTo>
                    <a:pt x="878" y="474"/>
                  </a:lnTo>
                  <a:lnTo>
                    <a:pt x="868" y="474"/>
                  </a:lnTo>
                  <a:lnTo>
                    <a:pt x="862" y="474"/>
                  </a:lnTo>
                  <a:lnTo>
                    <a:pt x="853" y="474"/>
                  </a:lnTo>
                  <a:lnTo>
                    <a:pt x="847" y="474"/>
                  </a:lnTo>
                  <a:lnTo>
                    <a:pt x="837" y="474"/>
                  </a:lnTo>
                  <a:lnTo>
                    <a:pt x="831" y="474"/>
                  </a:lnTo>
                  <a:lnTo>
                    <a:pt x="822" y="474"/>
                  </a:lnTo>
                  <a:lnTo>
                    <a:pt x="816" y="474"/>
                  </a:lnTo>
                  <a:lnTo>
                    <a:pt x="806" y="474"/>
                  </a:lnTo>
                  <a:lnTo>
                    <a:pt x="800" y="474"/>
                  </a:lnTo>
                  <a:lnTo>
                    <a:pt x="791" y="474"/>
                  </a:lnTo>
                  <a:lnTo>
                    <a:pt x="780" y="474"/>
                  </a:lnTo>
                  <a:lnTo>
                    <a:pt x="775" y="474"/>
                  </a:lnTo>
                  <a:lnTo>
                    <a:pt x="764" y="474"/>
                  </a:lnTo>
                  <a:lnTo>
                    <a:pt x="760" y="474"/>
                  </a:lnTo>
                  <a:lnTo>
                    <a:pt x="749" y="474"/>
                  </a:lnTo>
                  <a:lnTo>
                    <a:pt x="744" y="474"/>
                  </a:lnTo>
                  <a:lnTo>
                    <a:pt x="733" y="474"/>
                  </a:lnTo>
                  <a:lnTo>
                    <a:pt x="729" y="474"/>
                  </a:lnTo>
                  <a:lnTo>
                    <a:pt x="718" y="474"/>
                  </a:lnTo>
                  <a:lnTo>
                    <a:pt x="713" y="474"/>
                  </a:lnTo>
                  <a:lnTo>
                    <a:pt x="702" y="474"/>
                  </a:lnTo>
                  <a:lnTo>
                    <a:pt x="698" y="474"/>
                  </a:lnTo>
                  <a:lnTo>
                    <a:pt x="687" y="474"/>
                  </a:lnTo>
                  <a:lnTo>
                    <a:pt x="682" y="474"/>
                  </a:lnTo>
                  <a:lnTo>
                    <a:pt x="671" y="474"/>
                  </a:lnTo>
                  <a:lnTo>
                    <a:pt x="661" y="474"/>
                  </a:lnTo>
                  <a:lnTo>
                    <a:pt x="656" y="474"/>
                  </a:lnTo>
                  <a:lnTo>
                    <a:pt x="645" y="474"/>
                  </a:lnTo>
                  <a:lnTo>
                    <a:pt x="640" y="474"/>
                  </a:lnTo>
                  <a:lnTo>
                    <a:pt x="630" y="474"/>
                  </a:lnTo>
                  <a:lnTo>
                    <a:pt x="625" y="474"/>
                  </a:lnTo>
                  <a:lnTo>
                    <a:pt x="614" y="474"/>
                  </a:lnTo>
                  <a:lnTo>
                    <a:pt x="609" y="474"/>
                  </a:lnTo>
                  <a:lnTo>
                    <a:pt x="599" y="474"/>
                  </a:lnTo>
                  <a:lnTo>
                    <a:pt x="594" y="474"/>
                  </a:lnTo>
                  <a:lnTo>
                    <a:pt x="583" y="474"/>
                  </a:lnTo>
                  <a:lnTo>
                    <a:pt x="578" y="474"/>
                  </a:lnTo>
                  <a:lnTo>
                    <a:pt x="568" y="474"/>
                  </a:lnTo>
                  <a:lnTo>
                    <a:pt x="558" y="474"/>
                  </a:lnTo>
                  <a:lnTo>
                    <a:pt x="552" y="474"/>
                  </a:lnTo>
                  <a:lnTo>
                    <a:pt x="543" y="474"/>
                  </a:lnTo>
                  <a:lnTo>
                    <a:pt x="537" y="474"/>
                  </a:lnTo>
                  <a:lnTo>
                    <a:pt x="527" y="474"/>
                  </a:lnTo>
                  <a:lnTo>
                    <a:pt x="521" y="474"/>
                  </a:lnTo>
                  <a:lnTo>
                    <a:pt x="512" y="474"/>
                  </a:lnTo>
                  <a:lnTo>
                    <a:pt x="506" y="474"/>
                  </a:lnTo>
                  <a:lnTo>
                    <a:pt x="496" y="474"/>
                  </a:lnTo>
                  <a:lnTo>
                    <a:pt x="490" y="474"/>
                  </a:lnTo>
                  <a:lnTo>
                    <a:pt x="481" y="474"/>
                  </a:lnTo>
                  <a:lnTo>
                    <a:pt x="475" y="474"/>
                  </a:lnTo>
                  <a:lnTo>
                    <a:pt x="465" y="474"/>
                  </a:lnTo>
                  <a:lnTo>
                    <a:pt x="459" y="474"/>
                  </a:lnTo>
                  <a:lnTo>
                    <a:pt x="450" y="474"/>
                  </a:lnTo>
                  <a:lnTo>
                    <a:pt x="439" y="474"/>
                  </a:lnTo>
                  <a:lnTo>
                    <a:pt x="434" y="474"/>
                  </a:lnTo>
                  <a:lnTo>
                    <a:pt x="423" y="474"/>
                  </a:lnTo>
                  <a:lnTo>
                    <a:pt x="419" y="474"/>
                  </a:lnTo>
                  <a:lnTo>
                    <a:pt x="408" y="474"/>
                  </a:lnTo>
                  <a:lnTo>
                    <a:pt x="403" y="474"/>
                  </a:lnTo>
                  <a:lnTo>
                    <a:pt x="392" y="474"/>
                  </a:lnTo>
                  <a:lnTo>
                    <a:pt x="388" y="474"/>
                  </a:lnTo>
                  <a:lnTo>
                    <a:pt x="377" y="474"/>
                  </a:lnTo>
                  <a:lnTo>
                    <a:pt x="372" y="474"/>
                  </a:lnTo>
                  <a:lnTo>
                    <a:pt x="361" y="474"/>
                  </a:lnTo>
                  <a:lnTo>
                    <a:pt x="357" y="474"/>
                  </a:lnTo>
                  <a:lnTo>
                    <a:pt x="346" y="474"/>
                  </a:lnTo>
                  <a:lnTo>
                    <a:pt x="341" y="474"/>
                  </a:lnTo>
                  <a:lnTo>
                    <a:pt x="330" y="474"/>
                  </a:lnTo>
                  <a:lnTo>
                    <a:pt x="321" y="474"/>
                  </a:lnTo>
                  <a:lnTo>
                    <a:pt x="315" y="474"/>
                  </a:lnTo>
                  <a:lnTo>
                    <a:pt x="305" y="474"/>
                  </a:lnTo>
                  <a:lnTo>
                    <a:pt x="299" y="474"/>
                  </a:lnTo>
                  <a:lnTo>
                    <a:pt x="290" y="474"/>
                  </a:lnTo>
                  <a:lnTo>
                    <a:pt x="284" y="474"/>
                  </a:lnTo>
                  <a:lnTo>
                    <a:pt x="274" y="474"/>
                  </a:lnTo>
                  <a:lnTo>
                    <a:pt x="268" y="474"/>
                  </a:lnTo>
                  <a:lnTo>
                    <a:pt x="259" y="474"/>
                  </a:lnTo>
                  <a:lnTo>
                    <a:pt x="253" y="474"/>
                  </a:lnTo>
                  <a:lnTo>
                    <a:pt x="243" y="474"/>
                  </a:lnTo>
                  <a:lnTo>
                    <a:pt x="237" y="474"/>
                  </a:lnTo>
                  <a:lnTo>
                    <a:pt x="228" y="474"/>
                  </a:lnTo>
                  <a:lnTo>
                    <a:pt x="217" y="474"/>
                  </a:lnTo>
                  <a:lnTo>
                    <a:pt x="212" y="474"/>
                  </a:lnTo>
                  <a:lnTo>
                    <a:pt x="202" y="474"/>
                  </a:lnTo>
                  <a:lnTo>
                    <a:pt x="197" y="474"/>
                  </a:lnTo>
                  <a:lnTo>
                    <a:pt x="186" y="474"/>
                  </a:lnTo>
                  <a:lnTo>
                    <a:pt x="181" y="474"/>
                  </a:lnTo>
                  <a:lnTo>
                    <a:pt x="171" y="474"/>
                  </a:lnTo>
                  <a:lnTo>
                    <a:pt x="166" y="474"/>
                  </a:lnTo>
                  <a:lnTo>
                    <a:pt x="155" y="474"/>
                  </a:lnTo>
                  <a:lnTo>
                    <a:pt x="150" y="474"/>
                  </a:lnTo>
                  <a:lnTo>
                    <a:pt x="140" y="474"/>
                  </a:lnTo>
                  <a:lnTo>
                    <a:pt x="135" y="474"/>
                  </a:lnTo>
                  <a:lnTo>
                    <a:pt x="124" y="474"/>
                  </a:lnTo>
                  <a:lnTo>
                    <a:pt x="119" y="474"/>
                  </a:lnTo>
                  <a:lnTo>
                    <a:pt x="109" y="474"/>
                  </a:lnTo>
                  <a:lnTo>
                    <a:pt x="98" y="474"/>
                  </a:lnTo>
                  <a:lnTo>
                    <a:pt x="93" y="474"/>
                  </a:lnTo>
                  <a:lnTo>
                    <a:pt x="82" y="474"/>
                  </a:lnTo>
                  <a:lnTo>
                    <a:pt x="78" y="474"/>
                  </a:lnTo>
                  <a:lnTo>
                    <a:pt x="67" y="474"/>
                  </a:lnTo>
                  <a:lnTo>
                    <a:pt x="62" y="474"/>
                  </a:lnTo>
                  <a:lnTo>
                    <a:pt x="51" y="474"/>
                  </a:lnTo>
                  <a:lnTo>
                    <a:pt x="47" y="474"/>
                  </a:lnTo>
                  <a:lnTo>
                    <a:pt x="36" y="474"/>
                  </a:lnTo>
                  <a:lnTo>
                    <a:pt x="31" y="474"/>
                  </a:lnTo>
                  <a:lnTo>
                    <a:pt x="20" y="474"/>
                  </a:lnTo>
                  <a:lnTo>
                    <a:pt x="16" y="474"/>
                  </a:lnTo>
                  <a:lnTo>
                    <a:pt x="5" y="474"/>
                  </a:lnTo>
                  <a:lnTo>
                    <a:pt x="0" y="474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custGeom>
              <a:avLst/>
              <a:gdLst>
                <a:gd name="textAreaLeft" fmla="*/ 0 w 3556080"/>
                <a:gd name="textAreaRight" fmla="*/ 3556440 w 3556080"/>
                <a:gd name="textAreaTop" fmla="*/ 0 h 1846080"/>
                <a:gd name="textAreaBottom" fmla="*/ 1846440 h 1846080"/>
              </a:gdLst>
              <a:ahLst/>
              <a:rect l="textAreaLeft" t="textAreaTop" r="textAreaRight" b="textAreaBottom"/>
              <a:pathLst>
                <a:path w="1581" h="1120">
                  <a:moveTo>
                    <a:pt x="0" y="1119"/>
                  </a:moveTo>
                  <a:lnTo>
                    <a:pt x="5" y="1119"/>
                  </a:lnTo>
                  <a:lnTo>
                    <a:pt x="16" y="1119"/>
                  </a:lnTo>
                  <a:lnTo>
                    <a:pt x="20" y="1119"/>
                  </a:lnTo>
                  <a:lnTo>
                    <a:pt x="31" y="1119"/>
                  </a:lnTo>
                  <a:lnTo>
                    <a:pt x="36" y="1119"/>
                  </a:lnTo>
                  <a:lnTo>
                    <a:pt x="47" y="1119"/>
                  </a:lnTo>
                  <a:lnTo>
                    <a:pt x="51" y="1119"/>
                  </a:lnTo>
                  <a:lnTo>
                    <a:pt x="62" y="1119"/>
                  </a:lnTo>
                  <a:lnTo>
                    <a:pt x="67" y="1119"/>
                  </a:lnTo>
                  <a:lnTo>
                    <a:pt x="78" y="1119"/>
                  </a:lnTo>
                  <a:lnTo>
                    <a:pt x="82" y="1119"/>
                  </a:lnTo>
                  <a:lnTo>
                    <a:pt x="93" y="1119"/>
                  </a:lnTo>
                  <a:lnTo>
                    <a:pt x="98" y="1119"/>
                  </a:lnTo>
                  <a:lnTo>
                    <a:pt x="109" y="1119"/>
                  </a:lnTo>
                  <a:lnTo>
                    <a:pt x="119" y="1119"/>
                  </a:lnTo>
                  <a:lnTo>
                    <a:pt x="124" y="1119"/>
                  </a:lnTo>
                  <a:lnTo>
                    <a:pt x="135" y="1119"/>
                  </a:lnTo>
                  <a:lnTo>
                    <a:pt x="140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6" y="1119"/>
                  </a:lnTo>
                  <a:lnTo>
                    <a:pt x="171" y="1119"/>
                  </a:lnTo>
                  <a:lnTo>
                    <a:pt x="181" y="1119"/>
                  </a:lnTo>
                  <a:lnTo>
                    <a:pt x="186" y="1119"/>
                  </a:lnTo>
                  <a:lnTo>
                    <a:pt x="197" y="1119"/>
                  </a:lnTo>
                  <a:lnTo>
                    <a:pt x="202" y="1119"/>
                  </a:lnTo>
                  <a:lnTo>
                    <a:pt x="212" y="1119"/>
                  </a:lnTo>
                  <a:lnTo>
                    <a:pt x="217" y="1119"/>
                  </a:lnTo>
                  <a:lnTo>
                    <a:pt x="228" y="1119"/>
                  </a:lnTo>
                  <a:lnTo>
                    <a:pt x="237" y="1119"/>
                  </a:lnTo>
                  <a:lnTo>
                    <a:pt x="243" y="1119"/>
                  </a:lnTo>
                  <a:lnTo>
                    <a:pt x="253" y="1119"/>
                  </a:lnTo>
                  <a:lnTo>
                    <a:pt x="259" y="1119"/>
                  </a:lnTo>
                  <a:lnTo>
                    <a:pt x="268" y="1119"/>
                  </a:lnTo>
                  <a:lnTo>
                    <a:pt x="274" y="1119"/>
                  </a:lnTo>
                  <a:lnTo>
                    <a:pt x="284" y="1119"/>
                  </a:lnTo>
                  <a:lnTo>
                    <a:pt x="290" y="1119"/>
                  </a:lnTo>
                  <a:lnTo>
                    <a:pt x="299" y="1119"/>
                  </a:lnTo>
                  <a:lnTo>
                    <a:pt x="305" y="1119"/>
                  </a:lnTo>
                  <a:lnTo>
                    <a:pt x="315" y="1119"/>
                  </a:lnTo>
                  <a:lnTo>
                    <a:pt x="321" y="1119"/>
                  </a:lnTo>
                  <a:lnTo>
                    <a:pt x="330" y="1119"/>
                  </a:lnTo>
                  <a:lnTo>
                    <a:pt x="341" y="1119"/>
                  </a:lnTo>
                  <a:lnTo>
                    <a:pt x="346" y="1119"/>
                  </a:lnTo>
                  <a:lnTo>
                    <a:pt x="357" y="1119"/>
                  </a:lnTo>
                  <a:lnTo>
                    <a:pt x="361" y="1119"/>
                  </a:lnTo>
                  <a:lnTo>
                    <a:pt x="372" y="1119"/>
                  </a:lnTo>
                  <a:lnTo>
                    <a:pt x="377" y="1119"/>
                  </a:lnTo>
                  <a:lnTo>
                    <a:pt x="388" y="1119"/>
                  </a:lnTo>
                  <a:lnTo>
                    <a:pt x="392" y="1119"/>
                  </a:lnTo>
                  <a:lnTo>
                    <a:pt x="403" y="1119"/>
                  </a:lnTo>
                  <a:lnTo>
                    <a:pt x="408" y="1119"/>
                  </a:lnTo>
                  <a:lnTo>
                    <a:pt x="419" y="1119"/>
                  </a:lnTo>
                  <a:lnTo>
                    <a:pt x="423" y="1119"/>
                  </a:lnTo>
                  <a:lnTo>
                    <a:pt x="434" y="1119"/>
                  </a:lnTo>
                  <a:lnTo>
                    <a:pt x="439" y="1119"/>
                  </a:lnTo>
                  <a:lnTo>
                    <a:pt x="450" y="1119"/>
                  </a:lnTo>
                  <a:lnTo>
                    <a:pt x="459" y="1119"/>
                  </a:lnTo>
                  <a:lnTo>
                    <a:pt x="465" y="1119"/>
                  </a:lnTo>
                  <a:lnTo>
                    <a:pt x="475" y="1119"/>
                  </a:lnTo>
                  <a:lnTo>
                    <a:pt x="481" y="1119"/>
                  </a:lnTo>
                  <a:lnTo>
                    <a:pt x="490" y="1119"/>
                  </a:lnTo>
                  <a:lnTo>
                    <a:pt x="496" y="1119"/>
                  </a:lnTo>
                  <a:lnTo>
                    <a:pt x="506" y="1119"/>
                  </a:lnTo>
                  <a:lnTo>
                    <a:pt x="512" y="1119"/>
                  </a:lnTo>
                  <a:lnTo>
                    <a:pt x="521" y="1119"/>
                  </a:lnTo>
                  <a:lnTo>
                    <a:pt x="527" y="1119"/>
                  </a:lnTo>
                  <a:lnTo>
                    <a:pt x="537" y="1119"/>
                  </a:lnTo>
                  <a:lnTo>
                    <a:pt x="543" y="1119"/>
                  </a:lnTo>
                  <a:lnTo>
                    <a:pt x="552" y="1119"/>
                  </a:lnTo>
                  <a:lnTo>
                    <a:pt x="558" y="1119"/>
                  </a:lnTo>
                  <a:lnTo>
                    <a:pt x="568" y="1119"/>
                  </a:lnTo>
                  <a:lnTo>
                    <a:pt x="578" y="1119"/>
                  </a:lnTo>
                  <a:lnTo>
                    <a:pt x="583" y="1119"/>
                  </a:lnTo>
                  <a:lnTo>
                    <a:pt x="594" y="609"/>
                  </a:lnTo>
                  <a:lnTo>
                    <a:pt x="599" y="578"/>
                  </a:lnTo>
                  <a:lnTo>
                    <a:pt x="609" y="541"/>
                  </a:lnTo>
                  <a:lnTo>
                    <a:pt x="614" y="510"/>
                  </a:lnTo>
                  <a:lnTo>
                    <a:pt x="625" y="474"/>
                  </a:lnTo>
                  <a:lnTo>
                    <a:pt x="630" y="443"/>
                  </a:lnTo>
                  <a:lnTo>
                    <a:pt x="640" y="405"/>
                  </a:lnTo>
                  <a:lnTo>
                    <a:pt x="645" y="374"/>
                  </a:lnTo>
                  <a:lnTo>
                    <a:pt x="656" y="338"/>
                  </a:lnTo>
                  <a:lnTo>
                    <a:pt x="661" y="307"/>
                  </a:lnTo>
                  <a:lnTo>
                    <a:pt x="671" y="276"/>
                  </a:lnTo>
                  <a:lnTo>
                    <a:pt x="682" y="245"/>
                  </a:lnTo>
                  <a:lnTo>
                    <a:pt x="687" y="213"/>
                  </a:lnTo>
                  <a:lnTo>
                    <a:pt x="698" y="187"/>
                  </a:lnTo>
                  <a:lnTo>
                    <a:pt x="702" y="156"/>
                  </a:lnTo>
                  <a:lnTo>
                    <a:pt x="713" y="130"/>
                  </a:lnTo>
                  <a:lnTo>
                    <a:pt x="718" y="109"/>
                  </a:lnTo>
                  <a:lnTo>
                    <a:pt x="729" y="89"/>
                  </a:lnTo>
                  <a:lnTo>
                    <a:pt x="733" y="67"/>
                  </a:lnTo>
                  <a:lnTo>
                    <a:pt x="744" y="52"/>
                  </a:lnTo>
                  <a:lnTo>
                    <a:pt x="749" y="36"/>
                  </a:lnTo>
                  <a:lnTo>
                    <a:pt x="760" y="20"/>
                  </a:lnTo>
                  <a:lnTo>
                    <a:pt x="764" y="11"/>
                  </a:lnTo>
                  <a:lnTo>
                    <a:pt x="775" y="5"/>
                  </a:lnTo>
                  <a:lnTo>
                    <a:pt x="780" y="0"/>
                  </a:lnTo>
                  <a:lnTo>
                    <a:pt x="791" y="0"/>
                  </a:lnTo>
                  <a:lnTo>
                    <a:pt x="800" y="0"/>
                  </a:lnTo>
                  <a:lnTo>
                    <a:pt x="806" y="5"/>
                  </a:lnTo>
                  <a:lnTo>
                    <a:pt x="816" y="11"/>
                  </a:lnTo>
                  <a:lnTo>
                    <a:pt x="822" y="20"/>
                  </a:lnTo>
                  <a:lnTo>
                    <a:pt x="831" y="36"/>
                  </a:lnTo>
                  <a:lnTo>
                    <a:pt x="837" y="52"/>
                  </a:lnTo>
                  <a:lnTo>
                    <a:pt x="847" y="67"/>
                  </a:lnTo>
                  <a:lnTo>
                    <a:pt x="853" y="89"/>
                  </a:lnTo>
                  <a:lnTo>
                    <a:pt x="862" y="109"/>
                  </a:lnTo>
                  <a:lnTo>
                    <a:pt x="868" y="130"/>
                  </a:lnTo>
                  <a:lnTo>
                    <a:pt x="878" y="156"/>
                  </a:lnTo>
                  <a:lnTo>
                    <a:pt x="884" y="187"/>
                  </a:lnTo>
                  <a:lnTo>
                    <a:pt x="893" y="213"/>
                  </a:lnTo>
                  <a:lnTo>
                    <a:pt x="899" y="245"/>
                  </a:lnTo>
                  <a:lnTo>
                    <a:pt x="909" y="276"/>
                  </a:lnTo>
                  <a:lnTo>
                    <a:pt x="919" y="307"/>
                  </a:lnTo>
                  <a:lnTo>
                    <a:pt x="924" y="338"/>
                  </a:lnTo>
                  <a:lnTo>
                    <a:pt x="935" y="374"/>
                  </a:lnTo>
                  <a:lnTo>
                    <a:pt x="940" y="405"/>
                  </a:lnTo>
                  <a:lnTo>
                    <a:pt x="950" y="443"/>
                  </a:lnTo>
                  <a:lnTo>
                    <a:pt x="955" y="474"/>
                  </a:lnTo>
                  <a:lnTo>
                    <a:pt x="966" y="510"/>
                  </a:lnTo>
                  <a:lnTo>
                    <a:pt x="971" y="541"/>
                  </a:lnTo>
                  <a:lnTo>
                    <a:pt x="981" y="578"/>
                  </a:lnTo>
                  <a:lnTo>
                    <a:pt x="986" y="609"/>
                  </a:lnTo>
                  <a:lnTo>
                    <a:pt x="997" y="1119"/>
                  </a:lnTo>
                  <a:lnTo>
                    <a:pt x="1002" y="1119"/>
                  </a:lnTo>
                  <a:lnTo>
                    <a:pt x="1012" y="1119"/>
                  </a:lnTo>
                  <a:lnTo>
                    <a:pt x="1023" y="1119"/>
                  </a:lnTo>
                  <a:lnTo>
                    <a:pt x="1028" y="1119"/>
                  </a:lnTo>
                  <a:lnTo>
                    <a:pt x="1039" y="1119"/>
                  </a:lnTo>
                  <a:lnTo>
                    <a:pt x="1043" y="1119"/>
                  </a:lnTo>
                  <a:lnTo>
                    <a:pt x="1054" y="1119"/>
                  </a:lnTo>
                  <a:lnTo>
                    <a:pt x="1059" y="1119"/>
                  </a:lnTo>
                  <a:lnTo>
                    <a:pt x="1070" y="1119"/>
                  </a:lnTo>
                  <a:lnTo>
                    <a:pt x="1074" y="1119"/>
                  </a:lnTo>
                  <a:lnTo>
                    <a:pt x="1085" y="1119"/>
                  </a:lnTo>
                  <a:lnTo>
                    <a:pt x="1090" y="1119"/>
                  </a:lnTo>
                  <a:lnTo>
                    <a:pt x="1101" y="1119"/>
                  </a:lnTo>
                  <a:lnTo>
                    <a:pt x="1105" y="1119"/>
                  </a:lnTo>
                  <a:lnTo>
                    <a:pt x="1116" y="1119"/>
                  </a:lnTo>
                  <a:lnTo>
                    <a:pt x="1121" y="1119"/>
                  </a:lnTo>
                  <a:lnTo>
                    <a:pt x="1132" y="1119"/>
                  </a:lnTo>
                  <a:lnTo>
                    <a:pt x="1141" y="1119"/>
                  </a:lnTo>
                  <a:lnTo>
                    <a:pt x="1146" y="1119"/>
                  </a:lnTo>
                  <a:lnTo>
                    <a:pt x="1157" y="1119"/>
                  </a:lnTo>
                  <a:lnTo>
                    <a:pt x="1161" y="1119"/>
                  </a:lnTo>
                  <a:lnTo>
                    <a:pt x="1172" y="1119"/>
                  </a:lnTo>
                  <a:lnTo>
                    <a:pt x="1177" y="1119"/>
                  </a:lnTo>
                  <a:lnTo>
                    <a:pt x="1188" y="1119"/>
                  </a:lnTo>
                  <a:lnTo>
                    <a:pt x="1192" y="1119"/>
                  </a:lnTo>
                  <a:lnTo>
                    <a:pt x="1203" y="1119"/>
                  </a:lnTo>
                  <a:lnTo>
                    <a:pt x="1208" y="1119"/>
                  </a:lnTo>
                  <a:lnTo>
                    <a:pt x="1219" y="1119"/>
                  </a:lnTo>
                  <a:lnTo>
                    <a:pt x="1223" y="1119"/>
                  </a:lnTo>
                  <a:lnTo>
                    <a:pt x="1234" y="1119"/>
                  </a:lnTo>
                  <a:lnTo>
                    <a:pt x="1239" y="1119"/>
                  </a:lnTo>
                  <a:lnTo>
                    <a:pt x="1250" y="1119"/>
                  </a:lnTo>
                  <a:lnTo>
                    <a:pt x="1260" y="1119"/>
                  </a:lnTo>
                  <a:lnTo>
                    <a:pt x="1265" y="1119"/>
                  </a:lnTo>
                  <a:lnTo>
                    <a:pt x="1276" y="1119"/>
                  </a:lnTo>
                  <a:lnTo>
                    <a:pt x="1281" y="1119"/>
                  </a:lnTo>
                  <a:lnTo>
                    <a:pt x="1291" y="1119"/>
                  </a:lnTo>
                  <a:lnTo>
                    <a:pt x="1296" y="1119"/>
                  </a:lnTo>
                  <a:lnTo>
                    <a:pt x="1307" y="1119"/>
                  </a:lnTo>
                  <a:lnTo>
                    <a:pt x="1312" y="1119"/>
                  </a:lnTo>
                  <a:lnTo>
                    <a:pt x="1322" y="1119"/>
                  </a:lnTo>
                  <a:lnTo>
                    <a:pt x="1327" y="1119"/>
                  </a:lnTo>
                  <a:lnTo>
                    <a:pt x="1338" y="1119"/>
                  </a:lnTo>
                  <a:lnTo>
                    <a:pt x="1343" y="1119"/>
                  </a:lnTo>
                  <a:lnTo>
                    <a:pt x="1353" y="1119"/>
                  </a:lnTo>
                  <a:lnTo>
                    <a:pt x="1363" y="1119"/>
                  </a:lnTo>
                  <a:lnTo>
                    <a:pt x="1369" y="1119"/>
                  </a:lnTo>
                  <a:lnTo>
                    <a:pt x="1378" y="1119"/>
                  </a:lnTo>
                  <a:lnTo>
                    <a:pt x="1384" y="1119"/>
                  </a:lnTo>
                  <a:lnTo>
                    <a:pt x="1394" y="1119"/>
                  </a:lnTo>
                  <a:lnTo>
                    <a:pt x="1400" y="1119"/>
                  </a:lnTo>
                  <a:lnTo>
                    <a:pt x="1409" y="1119"/>
                  </a:lnTo>
                  <a:lnTo>
                    <a:pt x="1415" y="1119"/>
                  </a:lnTo>
                  <a:lnTo>
                    <a:pt x="1425" y="1119"/>
                  </a:lnTo>
                  <a:lnTo>
                    <a:pt x="1431" y="1119"/>
                  </a:lnTo>
                  <a:lnTo>
                    <a:pt x="1440" y="1119"/>
                  </a:lnTo>
                  <a:lnTo>
                    <a:pt x="1446" y="1119"/>
                  </a:lnTo>
                  <a:lnTo>
                    <a:pt x="1456" y="1119"/>
                  </a:lnTo>
                  <a:lnTo>
                    <a:pt x="1462" y="1119"/>
                  </a:lnTo>
                  <a:lnTo>
                    <a:pt x="1471" y="1119"/>
                  </a:lnTo>
                  <a:lnTo>
                    <a:pt x="1482" y="1119"/>
                  </a:lnTo>
                  <a:lnTo>
                    <a:pt x="1487" y="1119"/>
                  </a:lnTo>
                  <a:lnTo>
                    <a:pt x="1498" y="1119"/>
                  </a:lnTo>
                  <a:lnTo>
                    <a:pt x="1502" y="1119"/>
                  </a:lnTo>
                  <a:lnTo>
                    <a:pt x="1513" y="1119"/>
                  </a:lnTo>
                  <a:lnTo>
                    <a:pt x="1518" y="1119"/>
                  </a:lnTo>
                  <a:lnTo>
                    <a:pt x="1529" y="1119"/>
                  </a:lnTo>
                  <a:lnTo>
                    <a:pt x="1533" y="1119"/>
                  </a:lnTo>
                  <a:lnTo>
                    <a:pt x="1544" y="1119"/>
                  </a:lnTo>
                  <a:lnTo>
                    <a:pt x="1549" y="1119"/>
                  </a:lnTo>
                  <a:lnTo>
                    <a:pt x="1560" y="1119"/>
                  </a:lnTo>
                  <a:lnTo>
                    <a:pt x="1564" y="1119"/>
                  </a:lnTo>
                  <a:lnTo>
                    <a:pt x="1575" y="1119"/>
                  </a:lnTo>
                  <a:lnTo>
                    <a:pt x="1580" y="1119"/>
                  </a:lnTo>
                  <a:lnTo>
                    <a:pt x="1575" y="1119"/>
                  </a:lnTo>
                  <a:lnTo>
                    <a:pt x="1564" y="1119"/>
                  </a:lnTo>
                  <a:lnTo>
                    <a:pt x="1560" y="1119"/>
                  </a:lnTo>
                  <a:lnTo>
                    <a:pt x="1549" y="1119"/>
                  </a:lnTo>
                  <a:lnTo>
                    <a:pt x="1544" y="1119"/>
                  </a:lnTo>
                  <a:lnTo>
                    <a:pt x="1533" y="1119"/>
                  </a:lnTo>
                  <a:lnTo>
                    <a:pt x="1529" y="1119"/>
                  </a:lnTo>
                  <a:lnTo>
                    <a:pt x="1518" y="1119"/>
                  </a:lnTo>
                  <a:lnTo>
                    <a:pt x="1513" y="1119"/>
                  </a:lnTo>
                  <a:lnTo>
                    <a:pt x="1502" y="1119"/>
                  </a:lnTo>
                  <a:lnTo>
                    <a:pt x="1498" y="1119"/>
                  </a:lnTo>
                  <a:lnTo>
                    <a:pt x="1487" y="1119"/>
                  </a:lnTo>
                  <a:lnTo>
                    <a:pt x="1482" y="1119"/>
                  </a:lnTo>
                  <a:lnTo>
                    <a:pt x="1471" y="1119"/>
                  </a:lnTo>
                  <a:lnTo>
                    <a:pt x="1462" y="1119"/>
                  </a:lnTo>
                  <a:lnTo>
                    <a:pt x="1456" y="1119"/>
                  </a:lnTo>
                  <a:lnTo>
                    <a:pt x="1446" y="1119"/>
                  </a:lnTo>
                  <a:lnTo>
                    <a:pt x="1440" y="1119"/>
                  </a:lnTo>
                  <a:lnTo>
                    <a:pt x="1431" y="1119"/>
                  </a:lnTo>
                  <a:lnTo>
                    <a:pt x="1425" y="1119"/>
                  </a:lnTo>
                  <a:lnTo>
                    <a:pt x="1415" y="1119"/>
                  </a:lnTo>
                  <a:lnTo>
                    <a:pt x="1409" y="1119"/>
                  </a:lnTo>
                  <a:lnTo>
                    <a:pt x="1400" y="1119"/>
                  </a:lnTo>
                  <a:lnTo>
                    <a:pt x="1394" y="1119"/>
                  </a:lnTo>
                  <a:lnTo>
                    <a:pt x="1384" y="1119"/>
                  </a:lnTo>
                  <a:lnTo>
                    <a:pt x="1378" y="1119"/>
                  </a:lnTo>
                  <a:lnTo>
                    <a:pt x="1369" y="1119"/>
                  </a:lnTo>
                  <a:lnTo>
                    <a:pt x="1363" y="1119"/>
                  </a:lnTo>
                  <a:lnTo>
                    <a:pt x="1353" y="1119"/>
                  </a:lnTo>
                  <a:lnTo>
                    <a:pt x="1343" y="1119"/>
                  </a:lnTo>
                  <a:lnTo>
                    <a:pt x="1338" y="1119"/>
                  </a:lnTo>
                  <a:lnTo>
                    <a:pt x="1327" y="1119"/>
                  </a:lnTo>
                  <a:lnTo>
                    <a:pt x="1322" y="1119"/>
                  </a:lnTo>
                  <a:lnTo>
                    <a:pt x="1312" y="1119"/>
                  </a:lnTo>
                  <a:lnTo>
                    <a:pt x="1307" y="1119"/>
                  </a:lnTo>
                  <a:lnTo>
                    <a:pt x="1296" y="1119"/>
                  </a:lnTo>
                  <a:lnTo>
                    <a:pt x="1291" y="1119"/>
                  </a:lnTo>
                  <a:lnTo>
                    <a:pt x="1281" y="1119"/>
                  </a:lnTo>
                  <a:lnTo>
                    <a:pt x="1276" y="1119"/>
                  </a:lnTo>
                  <a:lnTo>
                    <a:pt x="1265" y="1119"/>
                  </a:lnTo>
                  <a:lnTo>
                    <a:pt x="1260" y="1119"/>
                  </a:lnTo>
                  <a:lnTo>
                    <a:pt x="1250" y="1119"/>
                  </a:lnTo>
                  <a:lnTo>
                    <a:pt x="1239" y="1119"/>
                  </a:lnTo>
                  <a:lnTo>
                    <a:pt x="1234" y="1119"/>
                  </a:lnTo>
                  <a:lnTo>
                    <a:pt x="1223" y="1119"/>
                  </a:lnTo>
                  <a:lnTo>
                    <a:pt x="1219" y="1119"/>
                  </a:lnTo>
                  <a:lnTo>
                    <a:pt x="1208" y="1119"/>
                  </a:lnTo>
                  <a:lnTo>
                    <a:pt x="1203" y="1119"/>
                  </a:lnTo>
                  <a:lnTo>
                    <a:pt x="1192" y="1119"/>
                  </a:lnTo>
                  <a:lnTo>
                    <a:pt x="1188" y="1119"/>
                  </a:lnTo>
                  <a:lnTo>
                    <a:pt x="1177" y="1119"/>
                  </a:lnTo>
                  <a:lnTo>
                    <a:pt x="1172" y="1119"/>
                  </a:lnTo>
                  <a:lnTo>
                    <a:pt x="1161" y="1119"/>
                  </a:lnTo>
                  <a:lnTo>
                    <a:pt x="1157" y="1119"/>
                  </a:lnTo>
                  <a:lnTo>
                    <a:pt x="1146" y="1119"/>
                  </a:lnTo>
                  <a:lnTo>
                    <a:pt x="1141" y="1119"/>
                  </a:lnTo>
                  <a:lnTo>
                    <a:pt x="1132" y="1119"/>
                  </a:lnTo>
                  <a:lnTo>
                    <a:pt x="1121" y="1119"/>
                  </a:lnTo>
                  <a:lnTo>
                    <a:pt x="1116" y="1119"/>
                  </a:lnTo>
                  <a:lnTo>
                    <a:pt x="1105" y="1119"/>
                  </a:lnTo>
                  <a:lnTo>
                    <a:pt x="1101" y="1119"/>
                  </a:lnTo>
                  <a:lnTo>
                    <a:pt x="1090" y="1119"/>
                  </a:lnTo>
                  <a:lnTo>
                    <a:pt x="1085" y="1119"/>
                  </a:lnTo>
                  <a:lnTo>
                    <a:pt x="1074" y="1119"/>
                  </a:lnTo>
                  <a:lnTo>
                    <a:pt x="1070" y="1119"/>
                  </a:lnTo>
                  <a:lnTo>
                    <a:pt x="1059" y="1119"/>
                  </a:lnTo>
                  <a:lnTo>
                    <a:pt x="1054" y="1119"/>
                  </a:lnTo>
                  <a:lnTo>
                    <a:pt x="1043" y="1119"/>
                  </a:lnTo>
                  <a:lnTo>
                    <a:pt x="1039" y="1119"/>
                  </a:lnTo>
                  <a:lnTo>
                    <a:pt x="1028" y="1119"/>
                  </a:lnTo>
                  <a:lnTo>
                    <a:pt x="1023" y="1119"/>
                  </a:lnTo>
                  <a:lnTo>
                    <a:pt x="1012" y="1119"/>
                  </a:lnTo>
                  <a:lnTo>
                    <a:pt x="1002" y="1119"/>
                  </a:lnTo>
                  <a:lnTo>
                    <a:pt x="997" y="1119"/>
                  </a:lnTo>
                  <a:lnTo>
                    <a:pt x="986" y="1119"/>
                  </a:lnTo>
                  <a:lnTo>
                    <a:pt x="981" y="1119"/>
                  </a:lnTo>
                  <a:lnTo>
                    <a:pt x="971" y="1119"/>
                  </a:lnTo>
                  <a:lnTo>
                    <a:pt x="966" y="1119"/>
                  </a:lnTo>
                  <a:lnTo>
                    <a:pt x="955" y="1119"/>
                  </a:lnTo>
                  <a:lnTo>
                    <a:pt x="950" y="1119"/>
                  </a:lnTo>
                  <a:lnTo>
                    <a:pt x="940" y="1119"/>
                  </a:lnTo>
                  <a:lnTo>
                    <a:pt x="935" y="1119"/>
                  </a:lnTo>
                  <a:lnTo>
                    <a:pt x="924" y="1119"/>
                  </a:lnTo>
                  <a:lnTo>
                    <a:pt x="919" y="1119"/>
                  </a:lnTo>
                  <a:lnTo>
                    <a:pt x="909" y="1119"/>
                  </a:lnTo>
                  <a:lnTo>
                    <a:pt x="899" y="1119"/>
                  </a:lnTo>
                  <a:lnTo>
                    <a:pt x="893" y="1119"/>
                  </a:lnTo>
                  <a:lnTo>
                    <a:pt x="884" y="1119"/>
                  </a:lnTo>
                  <a:lnTo>
                    <a:pt x="878" y="1119"/>
                  </a:lnTo>
                  <a:lnTo>
                    <a:pt x="868" y="1119"/>
                  </a:lnTo>
                  <a:lnTo>
                    <a:pt x="862" y="1119"/>
                  </a:lnTo>
                  <a:lnTo>
                    <a:pt x="853" y="1119"/>
                  </a:lnTo>
                  <a:lnTo>
                    <a:pt x="847" y="1119"/>
                  </a:lnTo>
                  <a:lnTo>
                    <a:pt x="837" y="1119"/>
                  </a:lnTo>
                  <a:lnTo>
                    <a:pt x="831" y="1119"/>
                  </a:lnTo>
                  <a:lnTo>
                    <a:pt x="822" y="1119"/>
                  </a:lnTo>
                  <a:lnTo>
                    <a:pt x="816" y="1119"/>
                  </a:lnTo>
                  <a:lnTo>
                    <a:pt x="806" y="1119"/>
                  </a:lnTo>
                  <a:lnTo>
                    <a:pt x="800" y="1119"/>
                  </a:lnTo>
                  <a:lnTo>
                    <a:pt x="791" y="1119"/>
                  </a:lnTo>
                  <a:lnTo>
                    <a:pt x="780" y="1119"/>
                  </a:lnTo>
                  <a:lnTo>
                    <a:pt x="775" y="1119"/>
                  </a:lnTo>
                  <a:lnTo>
                    <a:pt x="764" y="1119"/>
                  </a:lnTo>
                  <a:lnTo>
                    <a:pt x="760" y="1119"/>
                  </a:lnTo>
                  <a:lnTo>
                    <a:pt x="749" y="1119"/>
                  </a:lnTo>
                  <a:lnTo>
                    <a:pt x="744" y="1119"/>
                  </a:lnTo>
                  <a:lnTo>
                    <a:pt x="733" y="1119"/>
                  </a:lnTo>
                  <a:lnTo>
                    <a:pt x="729" y="1119"/>
                  </a:lnTo>
                  <a:lnTo>
                    <a:pt x="718" y="1119"/>
                  </a:lnTo>
                  <a:lnTo>
                    <a:pt x="713" y="1119"/>
                  </a:lnTo>
                  <a:lnTo>
                    <a:pt x="702" y="1119"/>
                  </a:lnTo>
                  <a:lnTo>
                    <a:pt x="698" y="1119"/>
                  </a:lnTo>
                  <a:lnTo>
                    <a:pt x="687" y="1119"/>
                  </a:lnTo>
                  <a:lnTo>
                    <a:pt x="682" y="1119"/>
                  </a:lnTo>
                  <a:lnTo>
                    <a:pt x="671" y="1119"/>
                  </a:lnTo>
                  <a:lnTo>
                    <a:pt x="661" y="1119"/>
                  </a:lnTo>
                  <a:lnTo>
                    <a:pt x="656" y="1119"/>
                  </a:lnTo>
                  <a:lnTo>
                    <a:pt x="645" y="1119"/>
                  </a:lnTo>
                  <a:lnTo>
                    <a:pt x="640" y="1119"/>
                  </a:lnTo>
                  <a:lnTo>
                    <a:pt x="630" y="1119"/>
                  </a:lnTo>
                  <a:lnTo>
                    <a:pt x="625" y="1119"/>
                  </a:lnTo>
                  <a:lnTo>
                    <a:pt x="614" y="1119"/>
                  </a:lnTo>
                  <a:lnTo>
                    <a:pt x="609" y="1119"/>
                  </a:lnTo>
                  <a:lnTo>
                    <a:pt x="599" y="1119"/>
                  </a:lnTo>
                  <a:lnTo>
                    <a:pt x="594" y="1119"/>
                  </a:lnTo>
                  <a:lnTo>
                    <a:pt x="583" y="1119"/>
                  </a:lnTo>
                  <a:lnTo>
                    <a:pt x="578" y="1119"/>
                  </a:lnTo>
                  <a:lnTo>
                    <a:pt x="568" y="1119"/>
                  </a:lnTo>
                  <a:lnTo>
                    <a:pt x="558" y="1119"/>
                  </a:lnTo>
                  <a:lnTo>
                    <a:pt x="552" y="1119"/>
                  </a:lnTo>
                  <a:lnTo>
                    <a:pt x="543" y="1119"/>
                  </a:lnTo>
                  <a:lnTo>
                    <a:pt x="537" y="1119"/>
                  </a:lnTo>
                  <a:lnTo>
                    <a:pt x="527" y="1119"/>
                  </a:lnTo>
                  <a:lnTo>
                    <a:pt x="521" y="1119"/>
                  </a:lnTo>
                  <a:lnTo>
                    <a:pt x="512" y="1119"/>
                  </a:lnTo>
                  <a:lnTo>
                    <a:pt x="506" y="1119"/>
                  </a:lnTo>
                  <a:lnTo>
                    <a:pt x="496" y="1119"/>
                  </a:lnTo>
                  <a:lnTo>
                    <a:pt x="490" y="1119"/>
                  </a:lnTo>
                  <a:lnTo>
                    <a:pt x="481" y="1119"/>
                  </a:lnTo>
                  <a:lnTo>
                    <a:pt x="475" y="1119"/>
                  </a:lnTo>
                  <a:lnTo>
                    <a:pt x="465" y="1119"/>
                  </a:lnTo>
                  <a:lnTo>
                    <a:pt x="459" y="1119"/>
                  </a:lnTo>
                  <a:lnTo>
                    <a:pt x="450" y="1119"/>
                  </a:lnTo>
                  <a:lnTo>
                    <a:pt x="439" y="1119"/>
                  </a:lnTo>
                  <a:lnTo>
                    <a:pt x="434" y="1119"/>
                  </a:lnTo>
                  <a:lnTo>
                    <a:pt x="423" y="1119"/>
                  </a:lnTo>
                  <a:lnTo>
                    <a:pt x="419" y="1119"/>
                  </a:lnTo>
                  <a:lnTo>
                    <a:pt x="408" y="1119"/>
                  </a:lnTo>
                  <a:lnTo>
                    <a:pt x="403" y="1119"/>
                  </a:lnTo>
                  <a:lnTo>
                    <a:pt x="392" y="1119"/>
                  </a:lnTo>
                  <a:lnTo>
                    <a:pt x="388" y="1119"/>
                  </a:lnTo>
                  <a:lnTo>
                    <a:pt x="377" y="1119"/>
                  </a:lnTo>
                  <a:lnTo>
                    <a:pt x="372" y="1119"/>
                  </a:lnTo>
                  <a:lnTo>
                    <a:pt x="361" y="1119"/>
                  </a:lnTo>
                  <a:lnTo>
                    <a:pt x="357" y="1119"/>
                  </a:lnTo>
                  <a:lnTo>
                    <a:pt x="346" y="1119"/>
                  </a:lnTo>
                  <a:lnTo>
                    <a:pt x="341" y="1119"/>
                  </a:lnTo>
                  <a:lnTo>
                    <a:pt x="330" y="1119"/>
                  </a:lnTo>
                  <a:lnTo>
                    <a:pt x="321" y="1119"/>
                  </a:lnTo>
                  <a:lnTo>
                    <a:pt x="315" y="1119"/>
                  </a:lnTo>
                  <a:lnTo>
                    <a:pt x="305" y="1119"/>
                  </a:lnTo>
                  <a:lnTo>
                    <a:pt x="299" y="1119"/>
                  </a:lnTo>
                  <a:lnTo>
                    <a:pt x="290" y="1119"/>
                  </a:lnTo>
                  <a:lnTo>
                    <a:pt x="284" y="1119"/>
                  </a:lnTo>
                  <a:lnTo>
                    <a:pt x="274" y="1119"/>
                  </a:lnTo>
                  <a:lnTo>
                    <a:pt x="268" y="1119"/>
                  </a:lnTo>
                  <a:lnTo>
                    <a:pt x="259" y="1119"/>
                  </a:lnTo>
                  <a:lnTo>
                    <a:pt x="253" y="1119"/>
                  </a:lnTo>
                  <a:lnTo>
                    <a:pt x="243" y="1119"/>
                  </a:lnTo>
                  <a:lnTo>
                    <a:pt x="237" y="1119"/>
                  </a:lnTo>
                  <a:lnTo>
                    <a:pt x="228" y="1119"/>
                  </a:lnTo>
                  <a:lnTo>
                    <a:pt x="217" y="1119"/>
                  </a:lnTo>
                  <a:lnTo>
                    <a:pt x="212" y="1119"/>
                  </a:lnTo>
                  <a:lnTo>
                    <a:pt x="202" y="1119"/>
                  </a:lnTo>
                  <a:lnTo>
                    <a:pt x="197" y="1119"/>
                  </a:lnTo>
                  <a:lnTo>
                    <a:pt x="186" y="1119"/>
                  </a:lnTo>
                  <a:lnTo>
                    <a:pt x="181" y="1119"/>
                  </a:lnTo>
                  <a:lnTo>
                    <a:pt x="171" y="1119"/>
                  </a:lnTo>
                  <a:lnTo>
                    <a:pt x="166" y="1119"/>
                  </a:lnTo>
                  <a:lnTo>
                    <a:pt x="155" y="1119"/>
                  </a:lnTo>
                  <a:lnTo>
                    <a:pt x="150" y="1119"/>
                  </a:lnTo>
                  <a:lnTo>
                    <a:pt x="140" y="1119"/>
                  </a:lnTo>
                  <a:lnTo>
                    <a:pt x="135" y="1119"/>
                  </a:lnTo>
                  <a:lnTo>
                    <a:pt x="124" y="1119"/>
                  </a:lnTo>
                  <a:lnTo>
                    <a:pt x="119" y="1119"/>
                  </a:lnTo>
                  <a:lnTo>
                    <a:pt x="109" y="1119"/>
                  </a:lnTo>
                  <a:lnTo>
                    <a:pt x="98" y="1119"/>
                  </a:lnTo>
                  <a:lnTo>
                    <a:pt x="93" y="1119"/>
                  </a:lnTo>
                  <a:lnTo>
                    <a:pt x="82" y="1119"/>
                  </a:lnTo>
                  <a:lnTo>
                    <a:pt x="78" y="1119"/>
                  </a:lnTo>
                  <a:lnTo>
                    <a:pt x="67" y="1119"/>
                  </a:lnTo>
                  <a:lnTo>
                    <a:pt x="62" y="1119"/>
                  </a:lnTo>
                  <a:lnTo>
                    <a:pt x="51" y="1119"/>
                  </a:lnTo>
                  <a:lnTo>
                    <a:pt x="47" y="1119"/>
                  </a:lnTo>
                  <a:lnTo>
                    <a:pt x="36" y="1119"/>
                  </a:lnTo>
                  <a:lnTo>
                    <a:pt x="31" y="1119"/>
                  </a:lnTo>
                  <a:lnTo>
                    <a:pt x="20" y="1119"/>
                  </a:lnTo>
                  <a:lnTo>
                    <a:pt x="16" y="1119"/>
                  </a:lnTo>
                  <a:lnTo>
                    <a:pt x="5" y="1119"/>
                  </a:lnTo>
                  <a:lnTo>
                    <a:pt x="0" y="1119"/>
                  </a:lnTo>
                </a:path>
              </a:pathLst>
            </a:cu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Nadia MS</cp:lastModifiedBy>
  <cp:lastPrinted>1998-07-07T20:53:03Z</cp:lastPrinted>
  <dcterms:modified xsi:type="dcterms:W3CDTF">2017-04-19T21:48:01Z</dcterms:modified>
  <cp:revision>104</cp:revision>
  <dc:subject/>
  <dc:title>Chapter 6: Confidence Intervals</dc:title>
</cp:coreProperties>
</file>