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LECTUR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1080" y="0"/>
            <a:ext cx="29466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44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Human Growth &amp; Development (NUR 35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1080" y="9429840"/>
            <a:ext cx="29466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AA98C-7536-410A-9D04-A81B6593BB19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1440" y="942984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39C1C-A20E-4E4A-8066-76536FB04755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1440" y="942984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91021-F9AE-4E8A-99FD-D3B6700A3E7D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1440" y="942984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FC6CB-F2F7-49C3-992F-C688DCA2895D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1440" y="942984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84577-414C-4739-B791-192A90EC02E6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1440" y="942984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8338B-044A-42A0-B5FE-BD83A9293A2A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1440" y="942984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3F83F-E327-484C-ABC1-71C17C5A9691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1440" y="942984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E72A4-3A0C-4B56-8E3B-0774B318557F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1440" y="942984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555B6-3D6C-4827-85C5-1435DAE72620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1440" y="942984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9C31D-CBE3-4B54-8425-7D7618FE333B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7616-C981-4F2F-B3BA-D470FA3B9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80AA-9EED-40F7-BFB9-658BA8E8A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2232-C180-44B1-8BC1-8D0F4A3E9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FE8D-A2D8-4928-A6E2-77D6C45C0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36BAF-DFD6-4CFE-8B73-77E022A5A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4B7BB-745B-49BD-83F5-AC96E4E04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12F85-5522-439F-9D35-AAE513707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C4A19-54B0-4051-B3FD-2520EADFE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9C881-DC16-4DA9-8774-35D43F8A7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3B0E9-722F-4FB6-947E-74733A49D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F2353-EE2B-4139-B23D-43422BB4E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BC46-7C40-4CDE-B562-8893DAC7E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2BE62-AC5A-4F8E-9E3C-3FD767A4F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4FCD1-B7B4-474C-84A1-F7070DCB9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E619E-9BEC-45E2-8F4A-4D1EDADA6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34818-C3B5-4667-934D-88EF195C0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744EB-D1BC-45C9-A83B-301DE30C9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6DA5-FCF4-40E4-AF0F-3E0806956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A2AD-FA5C-4BA3-9A66-706522E48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F51A-F67C-48E5-B9D5-5827729B1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46F2-650C-4D7B-80D2-13E14C52E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12CD-868D-4BCA-A2E4-144058F46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41BC-921B-4A72-A575-0847C1925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12EC-761B-4357-A4B8-744D315D7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 algn="r" rtl="1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 algn="r" rtl="1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 algn="r" rtl="1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 algn="r" rtl="1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 algn="r" rtl="1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 algn="r" rtl="1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2C2A4-4E8A-4656-AAF7-7ED22A8C283B}" type="datetime">
              <a:rPr b="0" lang="ar-SA" sz="1200" spc="-1" strike="noStrike">
                <a:solidFill>
                  <a:srgbClr val="000000"/>
                </a:solidFill>
                <a:latin typeface="Garamond"/>
              </a:rPr>
              <a:t>١٤٤٨/٠٢/١٦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30109-0841-41C7-82E1-496DA17C953E}" type="slidenum">
              <a:rPr b="0" lang="ar-SA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 algn="r" rtl="1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 algn="r" rtl="1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 algn="r" rtl="1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 algn="r" rtl="1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 algn="r" rtl="1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 algn="r" rtl="1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D1685-2A89-4955-B902-B80BF3644859}" type="datetime">
              <a:rPr b="0" lang="ar-SA" sz="1200" spc="-1" strike="noStrike">
                <a:solidFill>
                  <a:srgbClr val="000000"/>
                </a:solidFill>
                <a:latin typeface="Garamond"/>
              </a:rPr>
              <a:t>١٤٤٨/٠٢/١٦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1DCFB-D22F-46A5-B472-80733C9FC481}" type="slidenum">
              <a:rPr b="0" lang="ar-SA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E8E69-0C26-4E83-94FE-E7E7EFB933C7}" type="slidenum">
              <a:rPr b="0" lang="ar-SA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3640" y="1341000"/>
            <a:ext cx="55292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man Growth and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R 311</a:t>
            </a:r>
            <a:br>
              <a:rPr sz="2800"/>
            </a:br>
            <a:r>
              <a:rPr b="1" lang="en-US" sz="2800" spc="-1" strike="noStrike">
                <a:solidFill>
                  <a:srgbClr val="006633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6633"/>
                </a:solidFill>
                <a:latin typeface="Times New Roman"/>
                <a:ea typeface="Times New Roman"/>
              </a:rPr>
              <a:t>Growth and Development of Infancy Stage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7956720" y="189000"/>
            <a:ext cx="903240" cy="1773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"/>
          <p:cNvPicPr/>
          <p:nvPr/>
        </p:nvPicPr>
        <p:blipFill>
          <a:blip r:embed="rId2"/>
          <a:stretch/>
        </p:blipFill>
        <p:spPr>
          <a:xfrm>
            <a:off x="0" y="5734080"/>
            <a:ext cx="971640" cy="9446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"/>
          <p:cNvPicPr/>
          <p:nvPr/>
        </p:nvPicPr>
        <p:blipFill>
          <a:blip r:embed="rId3"/>
          <a:stretch/>
        </p:blipFill>
        <p:spPr>
          <a:xfrm>
            <a:off x="3203640" y="3573360"/>
            <a:ext cx="1098360" cy="8715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7" descr=""/>
          <p:cNvPicPr/>
          <p:nvPr/>
        </p:nvPicPr>
        <p:blipFill>
          <a:blip r:embed="rId4"/>
          <a:stretch/>
        </p:blipFill>
        <p:spPr>
          <a:xfrm>
            <a:off x="5651640" y="2276640"/>
            <a:ext cx="1403280" cy="11080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8" descr=""/>
          <p:cNvPicPr/>
          <p:nvPr/>
        </p:nvPicPr>
        <p:blipFill>
          <a:blip r:embed="rId5"/>
          <a:stretch/>
        </p:blipFill>
        <p:spPr>
          <a:xfrm>
            <a:off x="1042920" y="4292640"/>
            <a:ext cx="1090800" cy="122400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10"/>
          <p:cNvSpPr/>
          <p:nvPr/>
        </p:nvSpPr>
        <p:spPr>
          <a:xfrm>
            <a:off x="6084720" y="5084640"/>
            <a:ext cx="2752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cture 4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7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A0B25-3AE7-461F-8FA2-47A43C8FE958}" type="slidenum">
              <a:rPr b="0" lang="ar-SA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The 1st Month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79280" y="1197000"/>
          <a:ext cx="8785440" cy="4824360"/>
        </p:xfrm>
        <a:graphic>
          <a:graphicData uri="http://schemas.openxmlformats.org/drawingml/2006/table">
            <a:tbl>
              <a:tblPr/>
              <a:tblGrid>
                <a:gridCol w="2382840"/>
                <a:gridCol w="2536920"/>
                <a:gridCol w="1846440"/>
                <a:gridCol w="2019240"/>
              </a:tblGrid>
              <a:tr h="530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hysi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99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n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ngu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oc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6666"/>
                    </a:solidFill>
                  </a:tcPr>
                </a:tc>
              </a:tr>
              <a:tr h="4294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m and leg movement are reflex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c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00000"/>
                          </a:solidFill>
                          <a:uFillTx/>
                          <a:latin typeface="Times New Roman"/>
                          <a:ea typeface="Times New Roman"/>
                        </a:rPr>
                        <a:t>head flops if not suppor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n see things about 25 cm aw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ares at object but does not rea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c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00000"/>
                          </a:solidFill>
                          <a:uFillTx/>
                          <a:latin typeface="Times New Roman"/>
                          <a:ea typeface="Times New Roman"/>
                        </a:rPr>
                        <a:t>Alert 1 out of every 10 h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c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00000"/>
                          </a:solidFill>
                          <a:uFillTx/>
                          <a:latin typeface="Times New Roman"/>
                          <a:ea typeface="Times New Roman"/>
                        </a:rPr>
                        <a:t>- begins to trust caregiv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most behavior is reflex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will cry if under stimulated or over stimula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sponds to voi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small cooing begi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00000"/>
                          </a:solidFill>
                          <a:uFillTx/>
                          <a:latin typeface="Times New Roman"/>
                          <a:ea typeface="Times New Roman"/>
                        </a:rPr>
                        <a:t>- likes it when you talk to h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c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00000"/>
                          </a:solidFill>
                          <a:uFillTx/>
                          <a:latin typeface="Times New Roman"/>
                          <a:ea typeface="Times New Roman"/>
                        </a:rPr>
                        <a:t>Enjoys eye conta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smiles at fa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00000"/>
                          </a:solidFill>
                          <a:uFillTx/>
                          <a:latin typeface="Times New Roman"/>
                          <a:ea typeface="Times New Roman"/>
                        </a:rPr>
                        <a:t>- recognizes parent's voi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EF2F8-0FEA-4294-85D8-853D48843EA9}" type="slidenum">
              <a:rPr b="0" lang="ar-SA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The 2nd Month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79280" y="981000"/>
          <a:ext cx="8785440" cy="4848480"/>
        </p:xfrm>
        <a:graphic>
          <a:graphicData uri="http://schemas.openxmlformats.org/drawingml/2006/table">
            <a:tbl>
              <a:tblPr/>
              <a:tblGrid>
                <a:gridCol w="2197080"/>
                <a:gridCol w="2195640"/>
                <a:gridCol w="2197080"/>
                <a:gridCol w="2195640"/>
              </a:tblGrid>
              <a:tr h="1008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hysi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99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n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ngu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oc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6666"/>
                    </a:solidFill>
                  </a:tcPr>
                </a:tc>
              </a:tr>
              <a:tr h="3840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uscles rel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c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00000"/>
                          </a:solidFill>
                          <a:uFillTx/>
                          <a:latin typeface="Arial"/>
                          <a:ea typeface="Times New Roman"/>
                        </a:rPr>
                        <a:t>can lift head 45 degre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c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c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00000"/>
                          </a:solidFill>
                          <a:uFillTx/>
                          <a:latin typeface="Arial"/>
                          <a:ea typeface="Times New Roman"/>
                        </a:rPr>
                        <a:t>hands start to unfo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c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00000"/>
                          </a:solidFill>
                          <a:uFillTx/>
                          <a:latin typeface="Arial"/>
                          <a:ea typeface="Times New Roman"/>
                        </a:rPr>
                        <a:t>starts to make associations - cry gets a need m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ants visual stimul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c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00000"/>
                          </a:solidFill>
                          <a:uFillTx/>
                          <a:latin typeface="Arial"/>
                          <a:ea typeface="Times New Roman"/>
                        </a:rPr>
                        <a:t>gurgles, coos, and sque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sponsive smil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municates moo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udies fa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c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00000"/>
                          </a:solidFill>
                          <a:uFillTx/>
                          <a:latin typeface="Arial"/>
                          <a:ea typeface="Times New Roman"/>
                        </a:rPr>
                        <a:t>your baby's personality become more obvio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19C62-C18D-4685-AEA8-18B2EC1022FB}" type="slidenum">
              <a:rPr b="0" lang="ar-SA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The 3rd Month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79280" y="981000"/>
          <a:ext cx="8856720" cy="5015160"/>
        </p:xfrm>
        <a:graphic>
          <a:graphicData uri="http://schemas.openxmlformats.org/drawingml/2006/table">
            <a:tbl>
              <a:tblPr/>
              <a:tblGrid>
                <a:gridCol w="2432160"/>
                <a:gridCol w="2050920"/>
                <a:gridCol w="2239920"/>
                <a:gridCol w="2133720"/>
              </a:tblGrid>
              <a:tr h="935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hysi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99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n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ngu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oc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6666"/>
                    </a:solidFill>
                  </a:tcPr>
                </a:tc>
              </a:tr>
              <a:tr h="4079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n stretch limbs all the way o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c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00000"/>
                          </a:solidFill>
                          <a:uFillTx/>
                          <a:latin typeface="Arial"/>
                          <a:ea typeface="Times New Roman"/>
                        </a:rPr>
                        <a:t>can roll back to s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c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c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00000"/>
                          </a:solidFill>
                          <a:uFillTx/>
                          <a:latin typeface="Arial"/>
                          <a:ea typeface="Times New Roman"/>
                        </a:rPr>
                        <a:t>holds head up to sear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lays with han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n briefly bear weight on leg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c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00000"/>
                          </a:solidFill>
                          <a:uFillTx/>
                          <a:latin typeface="Arial"/>
                          <a:ea typeface="Times New Roman"/>
                        </a:rPr>
                        <a:t>discovers hands &amp; fe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gins extended vowel soun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c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00000"/>
                          </a:solidFill>
                          <a:uFillTx/>
                          <a:latin typeface="Arial"/>
                          <a:ea typeface="Times New Roman"/>
                        </a:rPr>
                        <a:t>starts to laug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as different cries for different nee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buClr>
                          <a:srgbClr val="c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00000"/>
                          </a:solidFill>
                          <a:uFillTx/>
                          <a:latin typeface="Arial"/>
                          <a:ea typeface="Times New Roman"/>
                        </a:rPr>
                        <a:t>makes eye conta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miles at fa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c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00000"/>
                          </a:solidFill>
                          <a:uFillTx/>
                          <a:latin typeface="Arial"/>
                          <a:ea typeface="Times New Roman"/>
                        </a:rPr>
                        <a:t>knows difference between parents and strang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ops crying when you come in the ro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9D963-AD92-4629-B478-ED528AAB0888}" type="slidenum">
              <a:rPr b="0" lang="ar-SA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The 4th Month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79280" y="981000"/>
          <a:ext cx="8856720" cy="4940280"/>
        </p:xfrm>
        <a:graphic>
          <a:graphicData uri="http://schemas.openxmlformats.org/drawingml/2006/table">
            <a:tbl>
              <a:tblPr/>
              <a:tblGrid>
                <a:gridCol w="2239920"/>
                <a:gridCol w="2541600"/>
                <a:gridCol w="1940040"/>
                <a:gridCol w="2135160"/>
              </a:tblGrid>
              <a:tr h="100800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hysi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99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n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ngu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cc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oc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6666"/>
                    </a:solidFill>
                  </a:tcPr>
                </a:tc>
              </a:tr>
              <a:tr h="393228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c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00000"/>
                          </a:solidFill>
                          <a:uFillTx/>
                          <a:latin typeface="Arial"/>
                          <a:ea typeface="Times New Roman"/>
                        </a:rPr>
                        <a:t>can stand up with hel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olls front to s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c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00000"/>
                          </a:solidFill>
                          <a:uFillTx/>
                          <a:latin typeface="Arial"/>
                          <a:ea typeface="Times New Roman"/>
                        </a:rPr>
                        <a:t>lifts head 90 degre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ts with arms propp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aches for objec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c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00000"/>
                          </a:solidFill>
                          <a:uFillTx/>
                          <a:latin typeface="Arial"/>
                          <a:ea typeface="Times New Roman"/>
                        </a:rPr>
                        <a:t>Is aware that people and things have labels (dadd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arts to explore things by tasting th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c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00000"/>
                          </a:solidFill>
                          <a:uFillTx/>
                          <a:latin typeface="Arial"/>
                          <a:ea typeface="Times New Roman"/>
                        </a:rPr>
                        <a:t>changes shape of mouth to change soun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utt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ughs hard when tickl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c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00000"/>
                          </a:solidFill>
                          <a:uFillTx/>
                          <a:latin typeface="Arial"/>
                          <a:ea typeface="Times New Roman"/>
                        </a:rPr>
                        <a:t>social gestures-moves arms to signal "pick me up"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c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c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00000"/>
                          </a:solidFill>
                          <a:uFillTx/>
                          <a:latin typeface="Arial"/>
                          <a:ea typeface="Times New Roman"/>
                        </a:rPr>
                        <a:t>likes social intera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3E621-D0D9-49FD-A488-A7E3F4633784}" type="slidenum">
              <a:rPr b="0" lang="ar-SA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The 5th Month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79280" y="1197000"/>
          <a:ext cx="8785440" cy="4968720"/>
        </p:xfrm>
        <a:graphic>
          <a:graphicData uri="http://schemas.openxmlformats.org/drawingml/2006/table">
            <a:tbl>
              <a:tblPr/>
              <a:tblGrid>
                <a:gridCol w="2197080"/>
                <a:gridCol w="2414880"/>
                <a:gridCol w="1976400"/>
                <a:gridCol w="2197080"/>
              </a:tblGrid>
              <a:tr h="1322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hysi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99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n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ngu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oc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6666"/>
                    </a:solidFill>
                  </a:tcPr>
                </a:tc>
              </a:tr>
              <a:tr h="3646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c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00000"/>
                          </a:solidFill>
                          <a:uFillTx/>
                          <a:latin typeface="Arial"/>
                          <a:ea typeface="Times New Roman"/>
                        </a:rPr>
                        <a:t>rolls over from front to ba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rabs to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c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00000"/>
                          </a:solidFill>
                          <a:uFillTx/>
                          <a:latin typeface="Arial"/>
                          <a:ea typeface="Times New Roman"/>
                        </a:rPr>
                        <a:t>transfers objects from hand to h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c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00000"/>
                          </a:solidFill>
                          <a:uFillTx/>
                          <a:latin typeface="Arial"/>
                          <a:ea typeface="Times New Roman"/>
                        </a:rPr>
                        <a:t>shows interest in colo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splays expression of decision-mak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c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00000"/>
                          </a:solidFill>
                          <a:uFillTx/>
                          <a:latin typeface="Arial"/>
                          <a:ea typeface="Times New Roman"/>
                        </a:rPr>
                        <a:t>babbles (ba-b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ies to mimic soun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c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00000"/>
                          </a:solidFill>
                          <a:uFillTx/>
                          <a:latin typeface="Arial"/>
                          <a:ea typeface="Times New Roman"/>
                        </a:rPr>
                        <a:t>turns head toward speak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c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c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00000"/>
                          </a:solidFill>
                          <a:uFillTx/>
                          <a:latin typeface="Arial"/>
                          <a:ea typeface="Times New Roman"/>
                        </a:rPr>
                        <a:t>watches your mouth move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F87EA-7690-4B50-A89B-3BAFC6C7B7BB}" type="slidenum">
              <a:rPr b="0" lang="ar-SA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6-9</a:t>
            </a: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months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54080" y="836640"/>
          <a:ext cx="8707320" cy="5459400"/>
        </p:xfrm>
        <a:graphic>
          <a:graphicData uri="http://schemas.openxmlformats.org/drawingml/2006/table">
            <a:tbl>
              <a:tblPr/>
              <a:tblGrid>
                <a:gridCol w="2360880"/>
                <a:gridCol w="1831320"/>
                <a:gridCol w="2625840"/>
                <a:gridCol w="1671120"/>
                <a:gridCol w="218880"/>
              </a:tblGrid>
              <a:tr h="576360">
                <a:tc>
                  <a:txBody>
                    <a:bodyPr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hysi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99cc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n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ngu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cc99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oc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6666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marL="343080" indent="-343080"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3040">
                <a:tc>
                  <a:txBody>
                    <a:bodyPr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c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00000"/>
                          </a:solidFill>
                          <a:uFillTx/>
                          <a:latin typeface="Arial"/>
                          <a:ea typeface="Times New Roman"/>
                        </a:rPr>
                        <a:t>can sit unsuppor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n stand if leaning on other obje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icks up small objects with thumb and fing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c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00000"/>
                          </a:solidFill>
                          <a:uFillTx/>
                          <a:latin typeface="Arial"/>
                          <a:ea typeface="Times New Roman"/>
                        </a:rPr>
                        <a:t>can feed hersel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c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c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00000"/>
                          </a:solidFill>
                          <a:uFillTx/>
                          <a:latin typeface="Arial"/>
                          <a:ea typeface="Times New Roman"/>
                        </a:rPr>
                        <a:t>can drink from a c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c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00000"/>
                          </a:solidFill>
                          <a:uFillTx/>
                          <a:latin typeface="Arial"/>
                          <a:ea typeface="Times New Roman"/>
                        </a:rPr>
                        <a:t>concentrates on one toy at a ti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alyses what to do with her to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nderstands an obje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nger and more varied soun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c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00000"/>
                          </a:solidFill>
                          <a:uFillTx/>
                          <a:latin typeface="Arial"/>
                          <a:ea typeface="Times New Roman"/>
                        </a:rPr>
                        <a:t>experiments with different volumes of soun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 gridSpan="2">
                  <a:txBody>
                    <a:bodyPr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mics facial expr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c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00000"/>
                          </a:solidFill>
                          <a:uFillTx/>
                          <a:latin typeface="Arial"/>
                          <a:ea typeface="Times New Roman"/>
                        </a:rPr>
                        <a:t>may be shy or afraid of strang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c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c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00000"/>
                          </a:solidFill>
                          <a:uFillTx/>
                          <a:latin typeface="Arial"/>
                          <a:ea typeface="Times New Roman"/>
                        </a:rPr>
                        <a:t>responds to her 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ises arms to signal her wanting to be picked 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0AF2D-B7DF-445E-991B-E14A273801A8}" type="slidenum">
              <a:rPr b="0" lang="ar-SA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9-12</a:t>
            </a: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month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79280" y="1052640"/>
          <a:ext cx="8785440" cy="4748040"/>
        </p:xfrm>
        <a:graphic>
          <a:graphicData uri="http://schemas.openxmlformats.org/drawingml/2006/table">
            <a:tbl>
              <a:tblPr/>
              <a:tblGrid>
                <a:gridCol w="2130480"/>
                <a:gridCol w="2129040"/>
                <a:gridCol w="2130120"/>
                <a:gridCol w="2395800"/>
              </a:tblGrid>
              <a:tr h="1081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hysi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99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n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ngu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oc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6666"/>
                    </a:solidFill>
                  </a:tcPr>
                </a:tc>
              </a:tr>
              <a:tr h="3666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c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00000"/>
                          </a:solidFill>
                          <a:uFillTx/>
                          <a:latin typeface="Arial"/>
                          <a:ea typeface="Times New Roman"/>
                        </a:rPr>
                        <a:t>masters crawl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c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c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00000"/>
                          </a:solidFill>
                          <a:uFillTx/>
                          <a:latin typeface="Arial"/>
                          <a:ea typeface="Times New Roman"/>
                        </a:rPr>
                        <a:t>can stand when suppor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c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c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00000"/>
                          </a:solidFill>
                          <a:uFillTx/>
                          <a:latin typeface="Arial"/>
                          <a:ea typeface="Times New Roman"/>
                        </a:rPr>
                        <a:t>climbs on furnit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c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c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00000"/>
                          </a:solidFill>
                          <a:uFillTx/>
                          <a:latin typeface="Arial"/>
                          <a:ea typeface="Times New Roman"/>
                        </a:rPr>
                        <a:t>walks with hel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buClr>
                          <a:srgbClr val="c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00000"/>
                          </a:solidFill>
                          <a:uFillTx/>
                          <a:latin typeface="Arial"/>
                          <a:ea typeface="Times New Roman"/>
                        </a:rPr>
                        <a:t>start to understand phrases (like "come here"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ants to explore things by touching everyth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c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00000"/>
                          </a:solidFill>
                          <a:uFillTx/>
                          <a:latin typeface="Arial"/>
                          <a:ea typeface="Times New Roman"/>
                        </a:rPr>
                        <a:t>builds, stacks and disassem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buClr>
                          <a:srgbClr val="c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00000"/>
                          </a:solidFill>
                          <a:uFillTx/>
                          <a:latin typeface="Arial"/>
                          <a:ea typeface="Times New Roman"/>
                        </a:rPr>
                        <a:t>says simple words ("dog", "hot"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c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c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00000"/>
                          </a:solidFill>
                          <a:uFillTx/>
                          <a:latin typeface="Arial"/>
                          <a:ea typeface="Times New Roman"/>
                        </a:rPr>
                        <a:t>understands "no"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mics sounds like tongue, and coug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njoys mimick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c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00000"/>
                          </a:solidFill>
                          <a:uFillTx/>
                          <a:latin typeface="Arial"/>
                          <a:ea typeface="Times New Roman"/>
                        </a:rPr>
                        <a:t>points to things she wa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eels pride (especially when praise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c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00000"/>
                          </a:solidFill>
                          <a:uFillTx/>
                          <a:latin typeface="Arial"/>
                          <a:ea typeface="Times New Roman"/>
                        </a:rPr>
                        <a:t>likes ga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C51D4-6244-40FE-A0A5-6C48A92B8EB1}" type="slidenum">
              <a:rPr b="0" lang="ar-SA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Infant Nutritional Need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4360" y="1557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 to 165 ml of water per Kg of body weight is needed to meet daily fluid require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recommended that the infant be fed breast milk or formula for the first 6 month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second 6 months solids should be gradually introduc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7T18:00:31Z</dcterms:created>
  <dc:creator>User</dc:creator>
  <dc:description/>
  <dc:language>en-US</dc:language>
  <cp:lastModifiedBy>Yara</cp:lastModifiedBy>
  <dcterms:modified xsi:type="dcterms:W3CDTF">2017-04-13T14:33:41Z</dcterms:modified>
  <cp:revision>56</cp:revision>
  <dc:subject/>
  <dc:title>Assessment of Growth &amp; Development of Children</dc:title>
</cp:coreProperties>
</file>