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Human Growth &amp; Development (NUR 35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4296-474F-493D-A9B3-8054357164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1C78-48DC-4EBD-A340-AFAA7C517E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E59F-C1DA-4EAD-9901-F5F3770D86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B9E0-9516-4BF8-9EF4-6743A364A2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C9A-68D9-4491-B353-3134D4E50A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F94-1A67-4076-B75C-360E25BF66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C6F1-BA4C-481E-ACD4-45F707C940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96BA-F553-4DA9-8C39-A138BD75E9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6CD-6A45-4C5A-8F9B-A5A53DFE7C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1E3-FAC4-4C64-BC49-DF32BAD619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FAA-D0E8-4DD9-B417-4469A0A0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433-994A-4F60-9B8E-DFEC732E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FAE-7CE1-4DFF-9780-03D9238E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F87-F0FF-427B-A3AF-FD68449D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5FB-700F-4C79-BEAC-C9C97E15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E8A8-1D04-4B22-832D-355AFC0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53EF-AA7D-4C42-99A5-95523BD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386-0D96-4D52-98AF-12731F2F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B53-E49F-4E48-A5A4-7461CBB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6DC-5A2A-434A-8A79-3C59365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B27-859A-4A8B-BEB1-C6EC31F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681-015E-4EB3-917E-33506972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87CD-60A6-4D2A-BDB4-F19D612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091E-17C4-4943-9EAC-E08E32E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DFA-ADFD-4730-A747-BDBA05C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CEA-A944-4507-ABF9-C684A5ED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A6EA-181B-4DD6-BAF7-5148007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05C-8716-47CC-BCC2-EA864B3F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A42-9E26-4973-933C-99791827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C47-3E08-45B6-B266-81DED7E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F03-7E47-48BB-83BD-870B8D0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ECE-2E68-4578-99BC-8F4A334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16E-3EF1-490B-9BF4-6741316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D95-4C12-429C-B9A5-3344944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5E84-BBD9-458F-80A3-7B9A800BCA41}" type="datetime">
              <a:rPr b="0" lang="ar-SA" sz="1200" spc="-1" strike="noStrike">
                <a:solidFill>
                  <a:srgbClr val="000000"/>
                </a:solidFill>
                <a:latin typeface="Garamond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606E-724A-47EB-9C17-D48EF1434DD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0B7-235A-41FF-BC32-EE0BCB61F248}" type="datetime">
              <a:rPr b="0" lang="ar-SA" sz="1200" spc="-1" strike="noStrike">
                <a:solidFill>
                  <a:srgbClr val="000000"/>
                </a:solidFill>
                <a:latin typeface="Garamond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A25-A993-4118-99BA-8CAABDB400E6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BA8-2154-412B-B48D-C9B6ACEFCE7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552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Growth and Development of Infancy Stag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03240" cy="177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0" y="5734080"/>
            <a:ext cx="971640" cy="9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3203640" y="3573360"/>
            <a:ext cx="1098360" cy="87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1403280" cy="110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10908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6084720" y="5084640"/>
            <a:ext cx="275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63D-C09A-406A-8EE7-09587D9EE261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1st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197000"/>
          <a:ext cx="8785440" cy="4824360"/>
        </p:xfrm>
        <a:graphic>
          <a:graphicData uri="http://schemas.openxmlformats.org/drawingml/2006/table">
            <a:tbl>
              <a:tblPr/>
              <a:tblGrid>
                <a:gridCol w="2382840"/>
                <a:gridCol w="2536920"/>
                <a:gridCol w="1846440"/>
                <a:gridCol w="201924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429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 and leg movement are refle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head flops if no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 see things about 25 cm a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es at object but does not r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Alert 1 out of every 10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begins to trust careg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most behavior is reflex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will cry if under stimulated or over stim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ds to v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mall cooing beg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likes it when you talk to 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Enjoys eye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miles at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recognizes parent's v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48F-9DC3-43DC-8656-53F3A126302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2nd Mon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981000"/>
          <a:ext cx="8785440" cy="484848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84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cles rel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lift head 45 deg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hands start to unf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s to make associations - cry gets a need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nts visual sti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gurgles, coos, and squ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ive sm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es m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ies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your baby's personality become more obv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903-C87E-45A5-AA04-87771124BB2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3rd Mon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981000"/>
          <a:ext cx="8856720" cy="5015160"/>
        </p:xfrm>
        <a:graphic>
          <a:graphicData uri="http://schemas.openxmlformats.org/drawingml/2006/table">
            <a:tbl>
              <a:tblPr/>
              <a:tblGrid>
                <a:gridCol w="2432160"/>
                <a:gridCol w="2050920"/>
                <a:gridCol w="2239920"/>
                <a:gridCol w="213372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407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stretch limbs all the way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roll back to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holds head up to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ys with h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briefly bear weight on l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discovers hands &amp; 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 extended vowel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s to la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different cries for different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kes eye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iles at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knows difference between parents and stra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s crying when you come in the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F10-CD2D-416F-934F-AAE09397B145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4th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981000"/>
          <a:ext cx="8856720" cy="4940280"/>
        </p:xfrm>
        <a:graphic>
          <a:graphicData uri="http://schemas.openxmlformats.org/drawingml/2006/table">
            <a:tbl>
              <a:tblPr/>
              <a:tblGrid>
                <a:gridCol w="2239920"/>
                <a:gridCol w="2541600"/>
                <a:gridCol w="1940040"/>
                <a:gridCol w="2135160"/>
              </a:tblGrid>
              <a:tr h="1008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tand up with h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ls front to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fts head 90 deg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s with arms prop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hes for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Is aware that people and things have labels (dad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s to explore things by tasting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hanges shape of mouth to change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u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ughs hard when tick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ocial gestures-moves arms to signal "pick me up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kes social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DEC9-AB0E-4FD1-8A1E-790A4D2DA181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5th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197000"/>
          <a:ext cx="8785440" cy="4968720"/>
        </p:xfrm>
        <a:graphic>
          <a:graphicData uri="http://schemas.openxmlformats.org/drawingml/2006/table">
            <a:tbl>
              <a:tblPr/>
              <a:tblGrid>
                <a:gridCol w="2197080"/>
                <a:gridCol w="2414880"/>
                <a:gridCol w="1976400"/>
                <a:gridCol w="2197080"/>
              </a:tblGrid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6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rolls over from front to 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bs 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transfers objects from hand to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hows interest in col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lays expression of decision-m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abbles (ba-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es to mimic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turns head toward spe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watches your mouth m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4CFC-B498-4CAB-8F4E-2C1AA00BE5D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6-9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nth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4080" y="836640"/>
          <a:ext cx="8707320" cy="5459400"/>
        </p:xfrm>
        <a:graphic>
          <a:graphicData uri="http://schemas.openxmlformats.org/drawingml/2006/table">
            <a:tbl>
              <a:tblPr/>
              <a:tblGrid>
                <a:gridCol w="2360880"/>
                <a:gridCol w="1831320"/>
                <a:gridCol w="2625840"/>
                <a:gridCol w="1671120"/>
                <a:gridCol w="218880"/>
              </a:tblGrid>
              <a:tr h="57636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3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it un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stand if leaning on other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ks up small objects with thumb and fi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feed 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drink from a c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oncentrates on one toy at a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s what to do with her t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stands an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er and more varied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experiments with different volumes of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mics facial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y be shy or afraid of stra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responds to her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ises arms to signal her wanting to be pick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9866-BC04-4EE9-832E-4FB987A86DEB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9-12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t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052640"/>
          <a:ext cx="8785440" cy="4748040"/>
        </p:xfrm>
        <a:graphic>
          <a:graphicData uri="http://schemas.openxmlformats.org/drawingml/2006/table">
            <a:tbl>
              <a:tblPr/>
              <a:tblGrid>
                <a:gridCol w="2130480"/>
                <a:gridCol w="2129040"/>
                <a:gridCol w="2130120"/>
                <a:gridCol w="239580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6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sters craw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tand when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limbs on 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walks with h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 to understand phrases (like "come here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nts to explore things by touching 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uilds, stacks and disassem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ays simple words ("dog", "hot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understands "no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mics sounds like tongue, and c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joys mimi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points to things she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ls pride (especially when prai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kes g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347-DB35-4549-9A78-99714A35CF6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ant Nutritional Nee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to 165 ml of water per Kg of body weight is needed to meet daily fluid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commended that the infant be fed breast milk or formula for the first 6 mon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cond 6 months solids should be gradually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8:00:31Z</dcterms:created>
  <dc:creator>User</dc:creator>
  <dc:description/>
  <dc:language>en-US</dc:language>
  <cp:lastModifiedBy>Yara</cp:lastModifiedBy>
  <dcterms:modified xsi:type="dcterms:W3CDTF">2017-04-13T14:33:41Z</dcterms:modified>
  <cp:revision>56</cp:revision>
  <dc:subject/>
  <dc:title>Assessment of Growth &amp; Development of Children</dc:title>
</cp:coreProperties>
</file>