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68D-6F71-40D4-A6D7-45A8404D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86E-4DEC-451A-8742-77FB0CD5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AC0-C061-46ED-8E59-D541007A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398-6B72-41B7-BDC1-7CBB8925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BDA-C283-46ED-AE37-23612BA5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302-D7AB-4AC4-B531-12FDCF2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EF7A-964F-4350-B601-3EBBB929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C70-23D1-4CA3-9F21-E4B3C0BA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EE99-9F80-49F8-BF18-595941D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A9B-08DB-4B07-8AA3-554C77FB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BEBF-4A98-46D8-AF6A-355D457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16A-5FEC-4377-AACE-9B75641E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227-9E7F-4261-ABFA-6DCC818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721-5622-4D1E-927D-25F50C99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FD80-92BE-4D3F-88F0-07FE8641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680-6141-4951-ADB9-2E7954EB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36D2-D8AC-4436-9EE9-6B31F093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F771-908D-48F4-BE04-41FF6750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37D5E-A26D-45D8-AAED-22DE7EC0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3816-6E5E-4F4E-863C-97E68EE8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D34D-5A74-4227-A6D9-4D4AEC2C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E193-42E1-460E-9242-6348689A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065-72BB-4A20-80E2-15578B4B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DFA4-E2B4-4765-9FA1-84F9C3ED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FD34-454E-4D0A-84C7-589E57E5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77A4-7598-4C99-94F0-A4C6686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4D8DA-2BFC-4EB2-B365-8D43867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5E0B-3C2B-4D66-BB6F-1691D5A8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694F-9630-458F-B0D6-08A4B80A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8E04-90CF-4275-9137-48E1580B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26C8-A632-4DEF-BFF8-CB764894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C470-CFF1-437E-B6F4-A5F354A0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E6DF5-02D5-40C4-BBCE-167CF587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868-9909-4769-8E60-009E7E8F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B6E18-92FB-49E9-A2E1-5814FA5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3001A-6DF5-40E2-8EF8-CEBDDC23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E2AE-FC6A-4A6E-9923-F0C71866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8D45-B955-4572-965C-EAD3318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03E7-53B3-45F3-9BBD-61531660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098C-634E-4F29-AD30-211F3A2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0581-3F89-4887-BC3B-72B9728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B579-BB33-42CF-810A-EED1DF44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1889-C530-45EE-B9E2-BA6ADFB2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889-9C35-499C-93EE-5692CEA4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6BB-D973-4D5C-873A-DD52711D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619-7E10-4122-A1D4-7AD6A83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86C-8BC9-4EA9-A870-DCF15AC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597-629D-4959-8328-DA92BB7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BB3-2682-4799-99AA-2C0EAD286808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3792-5CE3-4A79-8C82-01674CA0012A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BCBC-8070-4B60-AD9F-FE3233D74370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F3D-A011-44F6-A3C4-81B9EA472272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24220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</a:rPr>
              <a:t>المحاضرة الرابعة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التربية الإسلامية لم تكن تربية دنيوية محضة كما كانت التربية الرومانية واليونانية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التربية الإسلامية لم تكن تربية دينية خالصة كما كانت التربية المسيحية في صدرها الأول </a:t>
            </a:r>
            <a:r>
              <a:rPr b="0" lang="ar-SA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وإنما هي تربية دينية ودنيوية معاً تهدف إلى إعداد الفرد للحياة الدنيا والآخرة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030a0"/>
                </a:solidFill>
                <a:latin typeface="Arial Unicode MS"/>
                <a:cs typeface="Arial Unicode MS"/>
              </a:rPr>
              <a:t>قال تعالى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(وَابْتَغِ فِيْمَا آتَآكَ الله الدَّارَ الأخِرَةَ وَلاتَنس نَصِيِبكَ مِنَ الدُّنْيَا)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47592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c000"/>
                </a:solidFill>
                <a:latin typeface="Arial Unicode MS"/>
                <a:cs typeface="Arial Unicode MS"/>
              </a:rPr>
              <a:t>اذكري مايجب على </a:t>
            </a:r>
            <a:r>
              <a:rPr b="0" lang="ar-SA" sz="72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الآباء نحو أبنائهم مع </a:t>
            </a:r>
            <a:r>
              <a:rPr b="0" lang="ar-SA" sz="7200" spc="-1" strike="noStrike">
                <a:solidFill>
                  <a:srgbClr val="ffc000"/>
                </a:solidFill>
                <a:latin typeface="Arial Unicode MS"/>
                <a:cs typeface="Arial Unicode MS"/>
              </a:rPr>
              <a:t>ذكر أدلة من القرآن </a:t>
            </a:r>
            <a:r>
              <a:rPr b="0" lang="ar-SA" sz="72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الكريم والسنة النبوية ؟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0070c0"/>
                </a:solidFill>
                <a:latin typeface="Courier New"/>
                <a:cs typeface="Courier New"/>
              </a:rPr>
              <a:t>منهج </a:t>
            </a:r>
            <a:r>
              <a:rPr b="1" lang="ar-SA" sz="3600" spc="-1" strike="noStrike">
                <a:solidFill>
                  <a:srgbClr val="7030a0"/>
                </a:solidFill>
                <a:latin typeface="Courier New"/>
                <a:cs typeface="Courier New"/>
              </a:rPr>
              <a:t>العلماء</a:t>
            </a:r>
            <a:r>
              <a:rPr b="1" lang="ar-SA" sz="3600" spc="-1" strike="noStrike">
                <a:solidFill>
                  <a:srgbClr val="0070c0"/>
                </a:solidFill>
                <a:latin typeface="Courier New"/>
                <a:ea typeface="Courier New"/>
              </a:rPr>
              <a:t> المسلمين</a:t>
            </a:r>
            <a:r>
              <a:rPr b="1" lang="ar-SA" sz="3600" spc="-1" strike="noStrike">
                <a:solidFill>
                  <a:srgbClr val="7030a0"/>
                </a:solidFill>
                <a:latin typeface="Courier New"/>
                <a:ea typeface="Courier New"/>
              </a:rPr>
              <a:t> في </a:t>
            </a:r>
            <a:r>
              <a:rPr b="1" lang="ar-SA" sz="3600" spc="-1" strike="noStrike">
                <a:solidFill>
                  <a:srgbClr val="0070c0"/>
                </a:solidFill>
                <a:latin typeface="Courier New"/>
                <a:cs typeface="Courier New"/>
              </a:rPr>
              <a:t>التربية </a:t>
            </a:r>
            <a:r>
              <a:rPr b="1" lang="ar-SA" sz="3600" spc="-1" strike="noStrike">
                <a:solidFill>
                  <a:srgbClr val="7030a0"/>
                </a:solidFill>
                <a:latin typeface="Courier New"/>
                <a:cs typeface="Courier New"/>
              </a:rPr>
              <a:t>الدينية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0066"/>
                </a:solidFill>
                <a:latin typeface="Courier New"/>
                <a:ea typeface="Courier New"/>
              </a:rPr>
              <a:t>1</a:t>
            </a:r>
            <a:r>
              <a:rPr b="1" lang="ar-SA" sz="2600" spc="-1" strike="noStrike">
                <a:solidFill>
                  <a:srgbClr val="660066"/>
                </a:solidFill>
                <a:latin typeface="Courier New"/>
                <a:ea typeface="Courier New"/>
              </a:rPr>
              <a:t>- ابن سينا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Courier New"/>
                <a:cs typeface="Courier New"/>
              </a:rPr>
              <a:t>متى تبدأ التربية الخلقية 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0066"/>
                </a:solidFill>
                <a:latin typeface="Courier New"/>
                <a:cs typeface="Courier New"/>
              </a:rPr>
              <a:t>مارأيه في العقاب ؟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Courier New"/>
                <a:cs typeface="Courier New"/>
              </a:rPr>
              <a:t>أيهم أفضل التشجيع أم التأنيب ؟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0066"/>
                </a:solidFill>
                <a:latin typeface="Courier New"/>
                <a:cs typeface="Courier New"/>
              </a:rPr>
              <a:t>ماطريقة الضرب للطفل ؟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ea typeface="Arabic Typesetting"/>
              </a:rPr>
              <a:t>2</a:t>
            </a: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ea typeface="Arabic Typesetting"/>
              </a:rPr>
              <a:t>- الإمام الغزالي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 أهم غرض للتربية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كيف يتم تربية الطفل من صغره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هو منهج التأديب عند الغزالي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ماطريقة التربية العقلية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طريقة التربية الوجدانية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ماطريقة نهي التلاميذ عن قبيح الأفعال (التعريض او التصريح)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دح الصبي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cbc00"/>
                </a:solidFill>
                <a:latin typeface="Arabic Typesetting"/>
                <a:cs typeface="Arabic Typesetting"/>
              </a:rPr>
              <a:t>ذم الصبي ؟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معاتبة تكون سرية أم علنية ؟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omic"/>
                <a:ea typeface="Akhbar MT"/>
              </a:rPr>
              <a:t>3</a:t>
            </a:r>
            <a:r>
              <a:rPr b="0" lang="ar-SA" sz="4800" spc="-1" strike="noStrike">
                <a:solidFill>
                  <a:srgbClr val="ff0000"/>
                </a:solidFill>
                <a:latin typeface="comic"/>
                <a:ea typeface="Akhbar MT"/>
              </a:rPr>
              <a:t>- ابن تيمية :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6686d"/>
                </a:solidFill>
                <a:latin typeface="comic"/>
                <a:cs typeface="Akhbar MT"/>
              </a:rPr>
              <a:t>ما طرق وأساليب التربية عند ابن تيمية ؟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omic"/>
                <a:cs typeface="Akhbar MT"/>
              </a:rPr>
              <a:t>ما هي أساليب الطريقة العلمية ؟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6686d"/>
                </a:solidFill>
                <a:latin typeface="comic"/>
                <a:cs typeface="Akhbar MT"/>
              </a:rPr>
              <a:t>ما هي أساليب تربية الإرادة ؟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nstantia"/>
                <a:cs typeface="Akhbar MT"/>
              </a:rPr>
              <a:t>يستخدم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khbar MT"/>
              </a:rPr>
              <a:t>المنهج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20c9f8"/>
                </a:solidFill>
                <a:latin typeface="Constantia"/>
                <a:cs typeface="Akhbar MT"/>
              </a:rPr>
              <a:t>الإسلامي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00b050"/>
                </a:solidFill>
                <a:latin typeface="Constantia"/>
                <a:cs typeface="Akhbar MT"/>
              </a:rPr>
              <a:t>لتنمية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7030a0"/>
                </a:solidFill>
                <a:latin typeface="Constantia"/>
                <a:cs typeface="Akhbar MT"/>
              </a:rPr>
              <a:t>الأحساس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Constantia"/>
                <a:cs typeface="Akhbar MT"/>
              </a:rPr>
              <a:t>الديني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khbar MT"/>
              </a:rPr>
              <a:t>والخلقي</a:t>
            </a:r>
            <a:r>
              <a:rPr b="0" lang="ar-SA" sz="4000" spc="-1" strike="noStrike">
                <a:solidFill>
                  <a:srgbClr val="000000"/>
                </a:solidFill>
                <a:latin typeface="Constantia"/>
                <a:ea typeface="Akhbar MT"/>
              </a:rPr>
              <a:t> </a:t>
            </a:r>
            <a:r>
              <a:rPr b="0" lang="ar-SA" sz="4000" spc="-1" strike="noStrike">
                <a:solidFill>
                  <a:srgbClr val="20c9f8"/>
                </a:solidFill>
                <a:latin typeface="Constantia"/>
                <a:cs typeface="Akhbar MT"/>
              </a:rPr>
              <a:t>عدة </a:t>
            </a:r>
            <a:r>
              <a:rPr b="0" lang="ar-SA" sz="4000" spc="-1" strike="noStrike">
                <a:solidFill>
                  <a:srgbClr val="0c9b74"/>
                </a:solidFill>
                <a:latin typeface="Constantia"/>
                <a:cs typeface="Akhbar MT"/>
              </a:rPr>
              <a:t>أساليب ...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ar-SA" sz="4000" spc="-1" strike="noStrike">
                <a:solidFill>
                  <a:srgbClr val="92d050"/>
                </a:solidFill>
                <a:latin typeface="Arial Unicode MS"/>
                <a:cs typeface="Arial Unicode MS"/>
              </a:rPr>
              <a:t>م</a:t>
            </a:r>
            <a:r>
              <a:rPr b="0" lang="ar-SA" sz="4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ـ</a:t>
            </a:r>
            <a:r>
              <a:rPr b="0" lang="ar-SA" sz="4000" spc="-1" strike="noStrike">
                <a:solidFill>
                  <a:srgbClr val="0c9b74"/>
                </a:solidFill>
                <a:latin typeface="Arial Unicode MS"/>
                <a:cs typeface="Arial Unicode MS"/>
              </a:rPr>
              <a:t>ـــ</a:t>
            </a:r>
            <a:r>
              <a:rPr b="0" lang="ar-SA" sz="40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ـــ</a:t>
            </a:r>
            <a:r>
              <a:rPr b="0" lang="ar-SA" sz="4000" spc="-1" strike="noStrike">
                <a:solidFill>
                  <a:srgbClr val="00b0f0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ffff00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002060"/>
                </a:solidFill>
                <a:latin typeface="Arial Unicode MS"/>
                <a:cs typeface="Arial Unicode MS"/>
              </a:rPr>
              <a:t>ــــ</a:t>
            </a:r>
            <a:r>
              <a:rPr b="0" lang="ar-SA" sz="4000" spc="-1" strike="noStrike">
                <a:solidFill>
                  <a:srgbClr val="ffc000"/>
                </a:solidFill>
                <a:latin typeface="Arial Unicode MS"/>
                <a:cs typeface="Arial Unicode MS"/>
              </a:rPr>
              <a:t>ـا</a:t>
            </a:r>
            <a:r>
              <a:rPr b="0" lang="ar-SA" sz="40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ه</a:t>
            </a:r>
            <a:r>
              <a:rPr b="0" lang="ar-SA" sz="4000" spc="-1" strike="noStrike">
                <a:solidFill>
                  <a:srgbClr val="660066"/>
                </a:solidFill>
                <a:latin typeface="Arial Unicode MS"/>
                <a:cs typeface="Arial Unicode MS"/>
              </a:rPr>
              <a:t>ي</a:t>
            </a:r>
            <a:r>
              <a:rPr b="0" lang="ar-SA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ar-SA" sz="4000" spc="-1" strike="noStrike">
                <a:solidFill>
                  <a:srgbClr val="92d050"/>
                </a:solidFill>
                <a:latin typeface="Arial Unicode MS"/>
                <a:cs typeface="Arial Unicode MS"/>
              </a:rPr>
              <a:t>؟</a:t>
            </a:r>
            <a:r>
              <a:rPr b="0" lang="ar-SA" sz="4000" spc="-1" strike="noStrike">
                <a:solidFill>
                  <a:srgbClr val="660066"/>
                </a:solidFill>
                <a:latin typeface="Arial Unicode MS"/>
                <a:cs typeface="Arial Unicode MS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</a:t>
            </a:r>
            <a:r>
              <a:rPr b="0" lang="ar-SA" sz="5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؟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وجه ضاحك 3"/>
          <p:cNvSpPr/>
          <p:nvPr/>
        </p:nvSpPr>
        <p:spPr>
          <a:xfrm>
            <a:off x="3419640" y="4365720"/>
            <a:ext cx="2376360" cy="1871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36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4:20:07Z</dcterms:created>
  <dc:creator>vista</dc:creator>
  <dc:description/>
  <dc:language>en-US</dc:language>
  <cp:lastModifiedBy>DELL</cp:lastModifiedBy>
  <dcterms:modified xsi:type="dcterms:W3CDTF">2011-12-11T16:54:10Z</dcterms:modified>
  <cp:revision>7</cp:revision>
  <dc:subject/>
  <dc:title>أساليب التربية الدينية للأطفال</dc:title>
</cp:coreProperties>
</file>