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734-A633-4A85-81CB-449414CE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D1D-4171-4FD4-9126-1A49083B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A54-BF23-4599-8136-03F78724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4D7-EF25-4B77-ADA1-E4B7C2A1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C90-6B1E-4186-8292-826C89E8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EB6-4D33-485F-9CBA-1EA0E244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ACCA-B271-4255-AAD3-857663AF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71D4-2DC9-4EC1-813B-CB76891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471-BADE-42F8-BAAD-0E033BB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626-2B92-4EC8-B0DD-852E7E8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7582-494C-42E2-90AE-742302F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BE9-85F6-4BAD-B850-21A3116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DD41-9425-44AB-98CF-A120F9F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6A7-D79E-4CB4-9D88-9511077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B19-6E5A-44E5-BF08-1ACD12B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72B-E835-41D7-A63C-F865B0F8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490-6050-4A6D-829A-FF8B50B8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A583-0A96-40C5-A1B5-1806FE2E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26A7-CFE8-4BD2-B02C-69F33258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949A-775D-422B-842F-D87F9A7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0326-16B9-4DEA-ADF5-DE99C65A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BCD3-A1B4-44C6-944A-286F9454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451-02FB-484C-AD06-358F7A06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7E65-2A61-4B75-9E32-C6E14D0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8805-99A1-41FE-8BD4-1B26A6A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86B0-87DB-464D-9651-185AA05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27C2-3F8D-4767-BBDD-3D3EAC8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D22E-77AD-4B16-847A-92A925E7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E113-6F89-4581-8148-497709CD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8DE7-8DA4-40E3-86D3-3A078204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D227-7047-4875-82AA-AD37F3F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880C-B5C2-4DBA-84D9-073F7059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1485-15DE-4B64-AF16-0181B872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FDC-8C3D-4C3B-9872-61353AFD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01AC-CCD6-4E79-844A-3589669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BEA4-026E-4253-B5A6-55CB6B51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6803-EBEB-4A64-8496-A4EE00FB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80ED-80BB-4E58-B32B-5817488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04C2-ED4E-4570-B209-5E9A84C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925E-5C5D-4EB2-A88E-F14CB1B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500D-0B2A-4FC6-831B-222AB25C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71D1-B285-4087-A21F-F7C53D4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42FC-B226-418D-B26C-FD03E81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421-B6C7-465E-8DE0-53D78D93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53D-950F-4196-9620-CA164E1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291-BEFD-45C2-B39C-4E15303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333-6472-498F-9C0B-FA50401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F98-8F13-4E06-BF29-189DD74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C1A-0041-4877-BB03-BDF4BBA23C2C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F24-4BE0-4416-B40E-262912D1A2A7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A04A-D293-4BFB-B144-C4EDF7C3B216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3A1B-C0B8-4A19-A904-C2F5435AF6F4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24220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</a:rPr>
              <a:t>المحاضرة الرابعة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التربية الإسلامية لم تكن تربية دنيوية محضة كما كانت التربية الرومانية واليونانية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التربية الإسلامية لم تكن تربية دينية خالصة كما كانت التربية المسيحية في صدرها الأول </a:t>
            </a:r>
            <a:r>
              <a:rPr b="0" lang="ar-SA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وإنما هي تربية دينية ودنيوية معاً تهدف إلى إعداد الفرد للحياة الدنيا والآخرة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قال تعالى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(وَابْتَغِ فِيْمَا آتَآكَ الله الدَّارَ الأخِرَةَ وَلاتَنس نَصِيِبكَ مِنَ الدُّنْيَا)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47592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000"/>
                </a:solidFill>
                <a:latin typeface="Arial Unicode MS"/>
                <a:cs typeface="Arial Unicode MS"/>
              </a:rPr>
              <a:t>اذكري مايجب على </a:t>
            </a:r>
            <a:r>
              <a:rPr b="0" lang="ar-SA" sz="72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الآباء نحو أبنائهم مع </a:t>
            </a:r>
            <a:r>
              <a:rPr b="0" lang="ar-SA" sz="7200" spc="-1" strike="noStrike">
                <a:solidFill>
                  <a:srgbClr val="ffc000"/>
                </a:solidFill>
                <a:latin typeface="Arial Unicode MS"/>
                <a:cs typeface="Arial Unicode MS"/>
              </a:rPr>
              <a:t>ذكر أدلة من القرآن </a:t>
            </a:r>
            <a:r>
              <a:rPr b="0" lang="ar-SA" sz="72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الكريم والسنة النبوية ؟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0070c0"/>
                </a:solidFill>
                <a:latin typeface="Courier New"/>
                <a:cs typeface="Courier New"/>
              </a:rPr>
              <a:t>منهج </a:t>
            </a:r>
            <a:r>
              <a:rPr b="1" lang="ar-SA" sz="3600" spc="-1" strike="noStrike">
                <a:solidFill>
                  <a:srgbClr val="7030a0"/>
                </a:solidFill>
                <a:latin typeface="Courier New"/>
                <a:cs typeface="Courier New"/>
              </a:rPr>
              <a:t>العلماء</a:t>
            </a:r>
            <a:r>
              <a:rPr b="1" lang="ar-SA" sz="3600" spc="-1" strike="noStrike">
                <a:solidFill>
                  <a:srgbClr val="0070c0"/>
                </a:solidFill>
                <a:latin typeface="Courier New"/>
                <a:ea typeface="Courier New"/>
              </a:rPr>
              <a:t> المسلمين</a:t>
            </a:r>
            <a:r>
              <a:rPr b="1" lang="ar-SA" sz="3600" spc="-1" strike="noStrike">
                <a:solidFill>
                  <a:srgbClr val="7030a0"/>
                </a:solidFill>
                <a:latin typeface="Courier New"/>
                <a:ea typeface="Courier New"/>
              </a:rPr>
              <a:t> في </a:t>
            </a:r>
            <a:r>
              <a:rPr b="1" lang="ar-SA" sz="3600" spc="-1" strike="noStrike">
                <a:solidFill>
                  <a:srgbClr val="0070c0"/>
                </a:solidFill>
                <a:latin typeface="Courier New"/>
                <a:cs typeface="Courier New"/>
              </a:rPr>
              <a:t>التربية </a:t>
            </a:r>
            <a:r>
              <a:rPr b="1" lang="ar-SA" sz="3600" spc="-1" strike="noStrike">
                <a:solidFill>
                  <a:srgbClr val="7030a0"/>
                </a:solidFill>
                <a:latin typeface="Courier New"/>
                <a:cs typeface="Courier New"/>
              </a:rPr>
              <a:t>الدينية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0066"/>
                </a:solidFill>
                <a:latin typeface="Courier New"/>
                <a:ea typeface="Courier New"/>
              </a:rPr>
              <a:t>1</a:t>
            </a:r>
            <a:r>
              <a:rPr b="1" lang="ar-SA" sz="2600" spc="-1" strike="noStrike">
                <a:solidFill>
                  <a:srgbClr val="660066"/>
                </a:solidFill>
                <a:latin typeface="Courier New"/>
                <a:ea typeface="Courier New"/>
              </a:rPr>
              <a:t>- ابن سينا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Courier New"/>
                <a:cs typeface="Courier New"/>
              </a:rPr>
              <a:t>متى تبدأ التربية الخلقية 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0066"/>
                </a:solidFill>
                <a:latin typeface="Courier New"/>
                <a:cs typeface="Courier New"/>
              </a:rPr>
              <a:t>مارأيه في العقاب 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Courier New"/>
                <a:cs typeface="Courier New"/>
              </a:rPr>
              <a:t>أيهم أفضل التشجيع أم التأنيب ؟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0066"/>
                </a:solidFill>
                <a:latin typeface="Courier New"/>
                <a:cs typeface="Courier New"/>
              </a:rPr>
              <a:t>ماطريقة الضرب للطفل ؟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ea typeface="Arabic Typesetting"/>
              </a:rPr>
              <a:t>2</a:t>
            </a: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ea typeface="Arabic Typesetting"/>
              </a:rPr>
              <a:t>- الإمام الغزالي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 أهم غرض للتربية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كيف يتم تربية الطفل من صغره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هو منهج التأديب عند الغزالي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ماطريقة التربية العقلية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طريقة التربية الوجدانية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ماطريقة نهي التلاميذ عن قبيح الأفعال (التعريض او التصريح)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دح الصبي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ذم الصبي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معاتبة تكون سرية أم علنية ؟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omic"/>
                <a:ea typeface="Akhbar MT"/>
              </a:rPr>
              <a:t>3</a:t>
            </a:r>
            <a:r>
              <a:rPr b="0" lang="ar-SA" sz="4800" spc="-1" strike="noStrike">
                <a:solidFill>
                  <a:srgbClr val="ff0000"/>
                </a:solidFill>
                <a:latin typeface="comic"/>
                <a:ea typeface="Akhbar MT"/>
              </a:rPr>
              <a:t>- ابن تيمية 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6686d"/>
                </a:solidFill>
                <a:latin typeface="comic"/>
                <a:cs typeface="Akhbar MT"/>
              </a:rPr>
              <a:t>ما طرق وأساليب التربية عند ابن تيمية ؟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omic"/>
                <a:cs typeface="Akhbar MT"/>
              </a:rPr>
              <a:t>ما هي أساليب الطريقة العلمية ؟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6686d"/>
                </a:solidFill>
                <a:latin typeface="comic"/>
                <a:cs typeface="Akhbar MT"/>
              </a:rPr>
              <a:t>ما هي أساليب تربية الإرادة ؟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nstantia"/>
                <a:cs typeface="Akhbar MT"/>
              </a:rPr>
              <a:t>يستخدم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khbar MT"/>
              </a:rPr>
              <a:t>المنهج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20c9f8"/>
                </a:solidFill>
                <a:latin typeface="Constantia"/>
                <a:cs typeface="Akhbar MT"/>
              </a:rPr>
              <a:t>الإسلامي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00b050"/>
                </a:solidFill>
                <a:latin typeface="Constantia"/>
                <a:cs typeface="Akhbar MT"/>
              </a:rPr>
              <a:t>لتنمية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7030a0"/>
                </a:solidFill>
                <a:latin typeface="Constantia"/>
                <a:cs typeface="Akhbar MT"/>
              </a:rPr>
              <a:t>الأحساس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Constantia"/>
                <a:cs typeface="Akhbar MT"/>
              </a:rPr>
              <a:t>الديني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khbar MT"/>
              </a:rPr>
              <a:t>والخلقي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20c9f8"/>
                </a:solidFill>
                <a:latin typeface="Constantia"/>
                <a:cs typeface="Akhbar MT"/>
              </a:rPr>
              <a:t>عدة </a:t>
            </a:r>
            <a:r>
              <a:rPr b="0" lang="ar-SA" sz="4000" spc="-1" strike="noStrike">
                <a:solidFill>
                  <a:srgbClr val="0c9b74"/>
                </a:solidFill>
                <a:latin typeface="Constantia"/>
                <a:cs typeface="Akhbar MT"/>
              </a:rPr>
              <a:t>أساليب ...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ar-SA" sz="4000" spc="-1" strike="noStrike">
                <a:solidFill>
                  <a:srgbClr val="92d050"/>
                </a:solidFill>
                <a:latin typeface="Arial Unicode MS"/>
                <a:cs typeface="Arial Unicode MS"/>
              </a:rPr>
              <a:t>م</a:t>
            </a:r>
            <a:r>
              <a:rPr b="0" lang="ar-SA" sz="4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ـ</a:t>
            </a:r>
            <a:r>
              <a:rPr b="0" lang="ar-SA" sz="4000" spc="-1" strike="noStrike">
                <a:solidFill>
                  <a:srgbClr val="0c9b74"/>
                </a:solidFill>
                <a:latin typeface="Arial Unicode MS"/>
                <a:cs typeface="Arial Unicode MS"/>
              </a:rPr>
              <a:t>ـــ</a:t>
            </a:r>
            <a:r>
              <a:rPr b="0" lang="ar-SA" sz="4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ـــ</a:t>
            </a:r>
            <a:r>
              <a:rPr b="0" lang="ar-SA" sz="4000" spc="-1" strike="noStrike">
                <a:solidFill>
                  <a:srgbClr val="00b0f0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ffff00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ffc000"/>
                </a:solidFill>
                <a:latin typeface="Arial Unicode MS"/>
                <a:cs typeface="Arial Unicode MS"/>
              </a:rPr>
              <a:t>ـا</a:t>
            </a:r>
            <a:r>
              <a:rPr b="0" lang="ar-SA" sz="40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ه</a:t>
            </a:r>
            <a:r>
              <a:rPr b="0" lang="ar-SA" sz="4000" spc="-1" strike="noStrike">
                <a:solidFill>
                  <a:srgbClr val="660066"/>
                </a:solidFill>
                <a:latin typeface="Arial Unicode MS"/>
                <a:cs typeface="Arial Unicode MS"/>
              </a:rPr>
              <a:t>ي</a:t>
            </a:r>
            <a:r>
              <a:rPr b="0" lang="ar-SA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ar-SA" sz="4000" spc="-1" strike="noStrike">
                <a:solidFill>
                  <a:srgbClr val="92d050"/>
                </a:solidFill>
                <a:latin typeface="Arial Unicode MS"/>
                <a:cs typeface="Arial Unicode MS"/>
              </a:rPr>
              <a:t>؟</a:t>
            </a:r>
            <a:r>
              <a:rPr b="0" lang="ar-SA" sz="4000" spc="-1" strike="noStrike">
                <a:solidFill>
                  <a:srgbClr val="660066"/>
                </a:solidFill>
                <a:latin typeface="Arial Unicode MS"/>
                <a:cs typeface="Arial Unicode MS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</a:t>
            </a:r>
            <a:r>
              <a:rPr b="0" lang="ar-SA" sz="5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؟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وجه ضاحك 3"/>
          <p:cNvSpPr/>
          <p:nvPr/>
        </p:nvSpPr>
        <p:spPr>
          <a:xfrm>
            <a:off x="3419640" y="4365720"/>
            <a:ext cx="2376360" cy="1871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36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4:20:07Z</dcterms:created>
  <dc:creator>vista</dc:creator>
  <dc:description/>
  <dc:language>en-US</dc:language>
  <cp:lastModifiedBy>DELL</cp:lastModifiedBy>
  <dcterms:modified xsi:type="dcterms:W3CDTF">2011-12-11T16:54:10Z</dcterms:modified>
  <cp:revision>7</cp:revision>
  <dc:subject/>
  <dc:title>أساليب التربية الدينية للأطفال</dc:title>
</cp:coreProperties>
</file>