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9D8-4D36-4226-8F10-B27E4225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BAA-1A8C-4693-82EE-DD4F29E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3BD-47E3-4E3B-8E9C-D77B975B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75C-295B-4826-B843-19D2C78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A649-95AA-41A1-83F1-C591F02E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DE6-74C3-4CA3-8D28-60DE7990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D2A-4BE2-4272-B58E-C6E146AE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CC9-149D-4BDB-8B88-81DEDAB8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0441-5109-4563-BFC2-250F9D71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F577-B04F-428E-9317-CAB03D6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7DA0-19D5-40CD-B195-EEEC26E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1B7-FFAE-4601-83D3-4BB392A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936-9533-4218-A099-77098DE4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CE8-4915-410A-BBF0-1327932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F3A-F2E8-4E7F-A858-37CA2645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4BC-090A-437F-8B52-53CF8B47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89F8-99B8-40D8-B9F3-426E04FE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2925-3207-47AD-8F6E-864B53E9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9F73-1BF6-4EE1-98B0-DBBD5B04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EA3C-9EE0-4CCF-8872-27DFA7B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A100D-DC94-459A-8068-4BC98E4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1B6D-9E64-409E-8596-0A31F51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C0E-B55E-48E5-B32F-5A5585C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0221-2090-4347-AF82-8BEFDC3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8D99-6185-4272-B23E-FE539685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1382-20EE-4BB9-8B25-D5FAC9A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E569-D8F4-4C71-98C8-BF80E84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F67C-8446-4C22-9A65-4F86039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01B2-9037-4668-AEE5-2E9A9D10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D4D1-77D4-4212-8BF0-1439FF59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033D-8BB6-43CB-8079-7A29E442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C41E-C3EA-4B66-8119-9D5E3CFA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71BD-6238-48EB-BDF3-8D981E59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482-B1A2-494A-9B87-5FC30EDB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ECB9-F4BC-430F-BD17-A89039B3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FD67-B521-4B5B-845F-8FBCC0FC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E407-CD9C-4D56-9417-42D2B5C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30ED-1C9E-406D-BADF-B4C4BB70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28329-533D-426D-AAF1-3A37DC6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B170-CF1F-4C99-8A01-4154E04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678B-0001-45FB-A57D-3F361F6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9A027-141E-4395-A4DD-1C68FFCC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A8FB-2363-4B55-B2B1-CF8EFA56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05D-4116-4F70-8327-7C1D773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758-B3A2-476D-8992-628D66F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BF4-DD45-43B8-91F8-512695D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656-BC44-47B1-90B0-2D1A2BC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23F-62C9-44B5-BA6B-319FFB4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12DE-C16F-4F2C-A645-9E05549A42F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FF4-A8E9-4B09-AF4B-5B35162C71C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38EA-7259-4BEC-917E-8E17E5C532B1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F2C9-1831-4A29-8477-6AB4CB74355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296560" cy="2316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قرر : مناهج وطرق تدريس تربية بدني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د. راشد محمد الجسا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إحماء محطات و موانع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99920" y="1600200"/>
            <a:ext cx="51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صف الاحماء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حوى عدد من المحطات موزعة على منطقة اللعب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خصص تمرين و نشاط لكل محط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نتقل الطالب من محطة لأخرى بعد تنفيذ التمرين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ضبط التمرين بعدد محدد من التكرارات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راعى تنوع ، وقت الانتقال بين المحطات عند الادا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محطات.jpg"/>
          <p:cNvPicPr/>
          <p:nvPr/>
        </p:nvPicPr>
        <p:blipFill>
          <a:blip r:embed="rId1"/>
          <a:stretch/>
        </p:blipFill>
        <p:spPr>
          <a:xfrm>
            <a:off x="285840" y="2357280"/>
            <a:ext cx="321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نموذج لإحماء محطات و موانع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ستخدم الأنشطة والتمرينات ادناه في تصميم احماء الموانع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الوثب داخل الاطواق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مشي على مقعد سويدي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جري زجزاج حول اقماع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وثب بالقدمين فوق مقعد سويدي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دحرجة الامامية على مرتب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حجل فوق العصا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ضغط عشر مرات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لعاب الصغي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صف الاحماء بالالعاب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ختار المعلم لعبة توافق طبيعة موضوع الدرس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صادر الالعاب تشمل : الموروث الثقافي للمجتمع ، لعبة رياضية معدل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ميزاته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زيز العلاقات الطيبة بين الطلاب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ربط الطالب بالموروث الثقافي للمجتمع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عيوبه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صعوبة ربط الجانب موضوع الدرس مع اللعب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خالفة الصورة الذهنية لدرس التربية البدنية التي تقوم على تمرينات بدنية ذات نسق و رتم منتظم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ثال لألعاب صغي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مطاردة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طاق طاقي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ثعبا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تصويب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صياد السم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بطل الدائر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عاب الحجل والقف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مروح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سباق الخيا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3" descr="طاق طاقية.jpg"/>
          <p:cNvPicPr/>
          <p:nvPr/>
        </p:nvPicPr>
        <p:blipFill>
          <a:blip r:embed="rId1"/>
          <a:stretch/>
        </p:blipFill>
        <p:spPr>
          <a:xfrm>
            <a:off x="357120" y="1714680"/>
            <a:ext cx="3602160" cy="236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الخياش.jpg"/>
          <p:cNvPicPr/>
          <p:nvPr/>
        </p:nvPicPr>
        <p:blipFill>
          <a:blip r:embed="rId2"/>
          <a:stretch/>
        </p:blipFill>
        <p:spPr>
          <a:xfrm>
            <a:off x="357120" y="4076640"/>
            <a:ext cx="361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ثالث : النشاط التعليم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ي الجزء التعليمي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شرح المعلم  موضوع الدرس (المهارة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عرض نموذج توضيحي للمهارة في مدة لا تزيد ع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دقائق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إعطاء فرصة للتلاميذ لتطبيق المهارة و تلقي تغذية راجعة مباشرة امام جميع الطلاب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بعد وصول التلاميذ إلى التوافق المبدئ للأداء المهارة ينتقلون إلى الجزء التالي من الدرس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وقت + التشكيلات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6" descr="تشكيلات كشافة.jpg"/>
          <p:cNvPicPr/>
          <p:nvPr/>
        </p:nvPicPr>
        <p:blipFill>
          <a:blip r:embed="rId1"/>
          <a:stretch/>
        </p:blipFill>
        <p:spPr>
          <a:xfrm>
            <a:off x="1743120" y="1401840"/>
            <a:ext cx="7304040" cy="5449680"/>
          </a:xfrm>
          <a:prstGeom prst="rect">
            <a:avLst/>
          </a:prstGeom>
          <a:ln w="0">
            <a:noFill/>
          </a:ln>
        </p:spPr>
      </p:pic>
      <p:pic>
        <p:nvPicPr>
          <p:cNvPr id="234" name="صورة 1" descr=""/>
          <p:cNvPicPr/>
          <p:nvPr/>
        </p:nvPicPr>
        <p:blipFill>
          <a:blip r:embed="rId2"/>
          <a:stretch/>
        </p:blipFill>
        <p:spPr>
          <a:xfrm>
            <a:off x="250920" y="32353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رابع : النشاط التطبيق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هدف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عنى الجزء التطبيقي بإعطاء الطالب فرصة لممارسة المهارة حتى يصل لدرجة من التوافق والاتقا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توزيعات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مارس الطلاب المهارة في اشكال متعددة حسب خطة المعلم : فردي ، زوجي ، مجموعات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لتدرج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راعى عند تنظيم النشاط التطبيقي التدرج في تعليم المهارة ، بحيث يؤدي الطالب الخطوات الفنية السهلة قبل الصعبة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طبيق عملي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يفضل ختم الجزء التطبيقي بأداء المهارة في سياقها الطبيعي حتى نساعد الطالب على فه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تحفيز الطلاب : </a:t>
            </a:r>
            <a:r>
              <a:rPr b="0" lang="ar-SA" sz="2400" spc="-1" strike="noStrike">
                <a:solidFill>
                  <a:srgbClr val="000000"/>
                </a:solidFill>
                <a:latin typeface="Constantia"/>
              </a:rPr>
              <a:t>تشجيع الطلاب على تطبيق ما تعلموه بالجزء التعليمي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خامس: الختامي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هدف الجزء الختامي الى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هدئة الجسم فسيولوجيا من حمل التدريب الذي تناوله في الدرس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إعداد الطالب للعودة لحجرة الصف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كونا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مرينات استرخاء لتنظيم التنفس و تهدئة الاجهزة العضو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راجعة سريعة لأهداف الدرس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تعزيز تعلم الطلاب من خلال ابرز اداء جيد للمهارة من قبل احده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أهداف المحاض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ن يعرف الطالب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كونات اجزاء الدرس الرئيسي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كونات كل جزء ، و ادوار المعلم المختل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هارة – الشرح ، العروض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نماط التغذية الراجعة  في درس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ميزات درس التربية البدني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تميز درس التربية البدنية بـ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يزة مكانية : يمارس في الاماكن المفتوحة والصالات المغلق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طبيعة المادة : يشكل النشاط البدني العمود الفقري لمادة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طبيعة المتعلمين: الشباب من سن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حتى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سنه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اول : مهام لوجستية  عامة ؟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يسمى بـ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جزء التمهيدي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دوار المعلم 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جهيز الملعب ( اول حصة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خذ الحضور والغياب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قدمة عن الدرس واهداف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حصر مخالفات الطلاب النظامية والرياضية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تجهيز الملعب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sport tools2.jpg"/>
          <p:cNvPicPr/>
          <p:nvPr/>
        </p:nvPicPr>
        <p:blipFill>
          <a:blip r:embed="rId1"/>
          <a:stretch/>
        </p:blipFill>
        <p:spPr>
          <a:xfrm>
            <a:off x="142920" y="2286000"/>
            <a:ext cx="4351320" cy="3929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4714920" y="1643040"/>
            <a:ext cx="4143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عليمات عامة حول استخدام الادوات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راعي المعلم تجهيز الادوات الرياضية و التقنية  التي يحتاجها لتنفيذ الدرس قبل بداية الحصة و نزول الطلاب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حدد المعلم مكان مخصص لجمع الادوات بعد استخدامها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يعطي المعلم اوامره للطلاب لجمع الادوات من ارضية الملعب بعد انتهاء النشاط و الدرس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الادوات موزعة على اجزاء المعلب وفق رغبة المعلم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حضور والغياب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عمال رئيسية خلال الجزء الاول من الدرس 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لتجهيز كشف حضور الطلاب لحصة التربية البدنية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اخذ الغياب مباشرة عند حضور الطلاب ، وعدم الانتظار حتى اكتمال حضور كافة الطلاب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تنبيه هام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ابدأ الدرس ( الاحماء) حال تواجد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أغلب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الفصل بالملعب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لا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تنتظر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، بعض الطلاب يتأخر في تغيير الملابس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حد اقصى لبداية الدرس </a:t>
            </a: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خمس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</a:rPr>
              <a:t> دقائق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5 mins clock.jpg"/>
          <p:cNvPicPr/>
          <p:nvPr/>
        </p:nvPicPr>
        <p:blipFill>
          <a:blip r:embed="rId1"/>
          <a:stretch/>
        </p:blipFill>
        <p:spPr>
          <a:xfrm>
            <a:off x="0" y="28584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5 mins clock.jpg"/>
          <p:cNvPicPr/>
          <p:nvPr/>
        </p:nvPicPr>
        <p:blipFill>
          <a:blip r:embed="rId2"/>
          <a:stretch/>
        </p:blipFill>
        <p:spPr>
          <a:xfrm>
            <a:off x="90360" y="500076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لجزء الثاني : التهيئة والاعداد البدن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هدف إلى تهيئة الطالب لدرس التربية البدنية 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عناصر التهئية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Diagram 5" descr=""/>
          <p:cNvPicPr/>
          <p:nvPr/>
        </p:nvPicPr>
        <p:blipFill>
          <a:blip r:embed="rId1"/>
          <a:stretch/>
        </p:blipFill>
        <p:spPr>
          <a:xfrm>
            <a:off x="927000" y="2792520"/>
            <a:ext cx="45356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تنبيه هام جدا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وقت الجزء الثاني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إلى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اختصر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في التعليمات الموجهه للطالب بما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يتعلق شرح الاوضاع في التمرينات ، التمري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ten mins clock.jpg"/>
          <p:cNvPicPr/>
          <p:nvPr/>
        </p:nvPicPr>
        <p:blipFill>
          <a:blip r:embed="rId1"/>
          <a:stretch/>
        </p:blipFill>
        <p:spPr>
          <a:xfrm>
            <a:off x="500040" y="235728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احماء بسي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شكل واحد من النشاط البدني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( جري ، مشي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مميزا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: سهولة التنفي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عيوب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: مُمل للطلا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running1.jpg"/>
          <p:cNvPicPr/>
          <p:nvPr/>
        </p:nvPicPr>
        <p:blipFill>
          <a:blip r:embed="rId1"/>
          <a:stretch/>
        </p:blipFill>
        <p:spPr>
          <a:xfrm>
            <a:off x="428760" y="2286000"/>
            <a:ext cx="4425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5:02:56Z</dcterms:created>
  <dc:creator>user</dc:creator>
  <dc:description/>
  <dc:language>en-US</dc:language>
  <cp:lastModifiedBy>user</cp:lastModifiedBy>
  <dcterms:modified xsi:type="dcterms:W3CDTF">2013-12-22T05:16:45Z</dcterms:modified>
  <cp:revision>45</cp:revision>
  <dc:subject/>
  <dc:title>تخطيط درس تربية بدنية</dc:title>
</cp:coreProperties>
</file>