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19DE-41C1-438C-9D16-2050A94D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FC02-0E4C-46D9-810B-1B980536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B0B5-3F4D-4835-B39E-27D8B1D6C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0F8A-355C-4000-9912-0A689941D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613C-6C1D-4270-997C-825134294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91D9-AEA0-4970-8973-1D94C120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A6F5-56B1-4E2F-A9B4-85B49FC8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B88C-C399-4397-A786-47C7DB75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3A16-E09F-4723-A4A4-E2D3B4C5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34B8-0103-4295-817B-460A0609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E088-F1A8-4458-9C3A-80DDD79E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B2BC-22EF-4399-86A8-2F08A7B7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8E7C-5FBE-41F9-BB50-053204E4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FEC0-6960-4FD0-A8F7-F3B0A65F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37F8-C507-4BD3-9821-7E023A6B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D606-F9CE-44C4-8DDB-A99F026DA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4ED2-B4A3-4550-A65B-9804A6F2F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AD05F-F630-4131-9EF5-64FD04956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CE3F4-17BF-40F0-8672-7B691ECD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135B5-5825-49C8-AC14-5DF1777A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90413-D1CF-4E3F-B541-03ADDA4D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FDBB2-191E-4439-8ECA-AE45AF7D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EC7B-EB5A-43F4-9382-FBFD38A6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2E239-4305-468E-95C3-C16D756F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09009-9E0B-4429-A0FD-6AD7A9BB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07856-6531-4187-91E1-38CC257A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0F382-4C3C-4B61-A2A3-35190519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1A470-6C56-4067-AB95-D2D27D2B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F9BDB-3251-4150-A883-2392E4318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9A877-1218-481D-BEFD-FBC1C46E4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D4C49-B96F-49AA-8093-5A7B5D68C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ED99E-BF27-4ACF-8DFB-573C3648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9F1AD-16F3-4AA9-8BF0-6BEAE963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3B1B-EC06-48D7-9CCC-A9327650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2E81C-8EB0-48B6-B1DC-FBD4ECA8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D5CA0-A0A0-4D72-9203-6002A4C7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8A49F-A9B6-4415-8E17-509AE4DE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88CD9-A59D-4C39-B285-8F418843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BD014-A0E7-47DB-8E75-B76CF8FF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9C3B8-470C-4536-B5D0-0784C451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98AF8-F5CA-464A-95DF-040D4AB9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72CC9-424C-43DD-AF9E-F5D6796A3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5B87D-90B7-4844-A27C-C703EDAAD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E765-49AD-4B63-9C8E-6043B28E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9654-3ABA-4386-BAC6-A0FAF6A6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7A3F-30B3-44BF-8D9E-239A8864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C307-D22F-49AA-BDF3-808442FD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78D3-6A69-4773-9102-10E96A77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0FF9-A695-4993-B79D-161C1942AB22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3692-C39F-40E8-AED8-CB6B50112EB8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CAEC-EAD1-4972-8514-5B556F1619E4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EB20-B1B4-469F-A952-18A17D9897FD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8296560" cy="2316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Constantia"/>
              </a:rPr>
              <a:t>مقرر : مناهج وطرق تدريس تربية بدنية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Constantia"/>
              </a:rPr>
              <a:t>د. راشد محمد الجساس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4617b"/>
                </a:solidFill>
                <a:latin typeface="Calibri"/>
              </a:rPr>
              <a:t>إحماء محطات و موانع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499920" y="1600200"/>
            <a:ext cx="5186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</a:rPr>
              <a:t>وصف الاحماء 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يحوى عدد من المحطات موزعة على منطقة اللعب 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يخصص تمرين و نشاط لكل محطة 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ينتقل الطالب من محطة لأخرى بعد تنفيذ التمرين 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يضبط التمرين بعدد محدد من التكرارات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يراعى تنوع ، وقت الانتقال بين المحطات عند الاداء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3" descr="محطات.jpg"/>
          <p:cNvPicPr/>
          <p:nvPr/>
        </p:nvPicPr>
        <p:blipFill>
          <a:blip r:embed="rId1"/>
          <a:stretch/>
        </p:blipFill>
        <p:spPr>
          <a:xfrm>
            <a:off x="285840" y="2357280"/>
            <a:ext cx="32144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نموذج لإحماء محطات و موانع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</a:rPr>
              <a:t>تستخدم الأنشطة والتمرينات ادناه في تصميم احماء الموانع 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الوثب داخل الاطواق 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المشي على مقعد سويدي 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الجري زجزاج حول اقماع 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الوثب بالقدمين فوق مقعد سويدي 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الدحرجة الامامية على مرتبة 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الحجل فوق العصا 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ضغط عشر مرات 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اللعاب الصغيرة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r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</a:rPr>
              <a:t>وصف الاحماء بالالعاب 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يختار المعلم لعبة توافق طبيعة موضوع الدرس 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مصادر الالعاب تشمل : الموروث الثقافي للمجتمع ، لعبة رياضية معدلة 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</a:rPr>
              <a:t>مميزاته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تعزيز العلاقات الطيبة بين الطلاب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تربط الطالب بالموروث الثقافي للمجتمع 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</a:rPr>
              <a:t>عيوبه 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صعوبة ربط الجانب موضوع الدرس مع اللعبة 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مخالفة الصورة الذهنية لدرس التربية البدنية التي تقوم على تمرينات بدنية ذات نسق و رتم منتظم 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مثال لألعاب صغيرة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nstantia"/>
              </a:rPr>
              <a:t>العاب المطاردة 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طاق طاقية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الثعبان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nstantia"/>
              </a:rPr>
              <a:t>العاب التصويب 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صياد السمك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بطل الدائرة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nstantia"/>
              </a:rPr>
              <a:t>العاب الحجل والقفز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المروحة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سباق الخياش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3" descr="طاق طاقية.jpg"/>
          <p:cNvPicPr/>
          <p:nvPr/>
        </p:nvPicPr>
        <p:blipFill>
          <a:blip r:embed="rId1"/>
          <a:stretch/>
        </p:blipFill>
        <p:spPr>
          <a:xfrm>
            <a:off x="357120" y="1714680"/>
            <a:ext cx="3602160" cy="2366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الخياش.jpg"/>
          <p:cNvPicPr/>
          <p:nvPr/>
        </p:nvPicPr>
        <p:blipFill>
          <a:blip r:embed="rId2"/>
          <a:stretch/>
        </p:blipFill>
        <p:spPr>
          <a:xfrm>
            <a:off x="357120" y="4076640"/>
            <a:ext cx="361800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الجزء الثالث : النشاط التعليمي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في الجزء التعليمي 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يشرح المعلم  موضوع الدرس (المهارة)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يعرض نموذج توضيحي للمهارة في مدة لا تزيد عن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5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دقائق 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إعطاء فرصة للتلاميذ لتطبيق المهارة و تلقي تغذية راجعة مباشرة امام جميع الطلاب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بعد وصول التلاميذ إلى التوافق المبدئ للأداء المهارة ينتقلون إلى الجزء التالي من الدرس 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الوقت + التشكيلات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3" name="Picture 6" descr="تشكيلات كشافة.jpg"/>
          <p:cNvPicPr/>
          <p:nvPr/>
        </p:nvPicPr>
        <p:blipFill>
          <a:blip r:embed="rId1"/>
          <a:stretch/>
        </p:blipFill>
        <p:spPr>
          <a:xfrm>
            <a:off x="1743120" y="1401840"/>
            <a:ext cx="7304040" cy="5449680"/>
          </a:xfrm>
          <a:prstGeom prst="rect">
            <a:avLst/>
          </a:prstGeom>
          <a:ln w="0">
            <a:noFill/>
          </a:ln>
        </p:spPr>
      </p:pic>
      <p:pic>
        <p:nvPicPr>
          <p:cNvPr id="234" name="صورة 1" descr=""/>
          <p:cNvPicPr/>
          <p:nvPr/>
        </p:nvPicPr>
        <p:blipFill>
          <a:blip r:embed="rId2"/>
          <a:stretch/>
        </p:blipFill>
        <p:spPr>
          <a:xfrm>
            <a:off x="250920" y="323532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الجزء الرابع : النشاط التطبيقي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</a:rPr>
              <a:t>الهدف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: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يعنى الجزء التطبيقي بإعطاء الطالب فرصة لممارسة المهارة حتى يصل لدرجة من التوافق والاتقان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</a:rPr>
              <a:t>التوزيعات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: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يمارس الطلاب المهارة في اشكال متعددة حسب خطة المعلم : فردي ، زوجي ، مجموعات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Constantia"/>
              </a:rPr>
              <a:t>التدرج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: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يراعى عند تنظيم النشاط التطبيقي التدرج في تعليم المهارة ، بحيث يؤدي الطالب الخطوات الفنية السهلة قبل الصعبة 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</a:rPr>
              <a:t>تطبيق عملي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يفضل ختم الجزء التطبيقي بأداء المهارة في سياقها الطبيعي حتى نساعد الطالب على فهم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</a:rPr>
              <a:t>تحفيز الطلاب :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تشجيع الطلاب على تطبيق ما تعلموه بالجزء التعليمي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الجزء الخامس: الختامي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</a:rPr>
              <a:t>يهدف الجزء الختامي الى 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تهدئة الجسم فسيولوجيا من حمل التدريب الذي تناوله في الدرس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إعداد الطالب للعودة لحجرة الصف 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</a:rPr>
              <a:t>مكوناته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تمرينات استرخاء لتنظيم التنفس و تهدئة الاجهزة العضوية 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مراجعة سريعة لأهداف الدرس 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تعزيز تعلم الطلاب من خلال ابرز اداء جيد للمهارة من قبل احدهم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أهداف المحاضرة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ان يعرف الطالب 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r" rtl="1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مكونات اجزاء الدرس الرئيسية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r" rtl="1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مكونات كل جزء ، و ادوار المعلم المختلف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r" rtl="1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مهارة – الشرح ، العروض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r" rtl="1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انماط التغذية الراجعة  في درس التربية البدنية 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مميزات درس التربية البدنية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</a:rPr>
              <a:t>يتميز درس التربية البدنية بـ 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ميزة مكانية : يمارس في الاماكن المفتوحة والصالات المغلقة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طبيعة المادة : يشكل النشاط البدني العمود الفقري لمادة التربية البدنية 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طبيعة المتعلمين: الشباب من سن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حتى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17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سنه 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الجزء الاول : مهام لوجستية  عامة ؟ 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</a:rPr>
              <a:t>يسمى بـ 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الجزء التمهيدي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</a:rPr>
              <a:t>ادوار المعلم 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تجهيز الملعب ( اول حصة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اخذ الحضور والغياب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مقدمة عن الدرس واهدافه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حصر مخالفات الطلاب النظامية والرياضية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تجهيز الملعب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Picture 4" descr="sport tools2.jpg"/>
          <p:cNvPicPr/>
          <p:nvPr/>
        </p:nvPicPr>
        <p:blipFill>
          <a:blip r:embed="rId1"/>
          <a:stretch/>
        </p:blipFill>
        <p:spPr>
          <a:xfrm>
            <a:off x="142920" y="2286000"/>
            <a:ext cx="4351320" cy="3929040"/>
          </a:xfrm>
          <a:prstGeom prst="rect">
            <a:avLst/>
          </a:prstGeom>
          <a:ln w="0">
            <a:noFill/>
          </a:ln>
        </p:spPr>
      </p:pic>
      <p:sp>
        <p:nvSpPr>
          <p:cNvPr id="205" name="TextBox 6"/>
          <p:cNvSpPr/>
          <p:nvPr/>
        </p:nvSpPr>
        <p:spPr>
          <a:xfrm>
            <a:off x="4714920" y="1643040"/>
            <a:ext cx="4143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عليمات عامة حول استخدام الادوات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يراعي المعلم تجهيز الادوات الرياضية و التقنية  التي يحتاجها لتنفيذ الدرس قبل بداية الحصة و نزول الطلاب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يحدد المعلم مكان مخصص لجمع الادوات بعد استخدامها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يعطي المعلم اوامره للطلاب لجمع الادوات من ارضية الملعب بعد انتهاء النشاط و الدرس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ادوات موزعة على اجزاء المعلب وفق رغبة المعلم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الحضور والغياب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nstantia"/>
              </a:rPr>
              <a:t>اعمال رئيسية خلال الجزء الاول من الدرس 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التجهيز كشف حضور الطلاب لحصة التربية البدنية 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اخذ الغياب مباشرة عند حضور الطلاب ، وعدم الانتظار حتى اكتمال حضور كافة الطلاب 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nstantia"/>
              </a:rPr>
              <a:t>تنبيه هام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 ابدأ الدرس ( الاحماء) حال تواجد </a:t>
            </a:r>
            <a:r>
              <a:rPr b="1" lang="ar-SA" sz="2800" spc="-1" strike="noStrike">
                <a:solidFill>
                  <a:srgbClr val="000000"/>
                </a:solidFill>
                <a:latin typeface="Constantia"/>
              </a:rPr>
              <a:t>أغلب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 الفصل بالملعب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لا </a:t>
            </a:r>
            <a:r>
              <a:rPr b="1" lang="ar-SA" sz="2800" spc="-1" strike="noStrike">
                <a:solidFill>
                  <a:srgbClr val="000000"/>
                </a:solidFill>
                <a:latin typeface="Constantia"/>
              </a:rPr>
              <a:t>تنتظر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 ، بعض الطلاب يتأخر في تغيير الملابس 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حد اقصى لبداية الدرس </a:t>
            </a:r>
            <a:r>
              <a:rPr b="1" lang="ar-SA" sz="2800" spc="-1" strike="noStrike">
                <a:solidFill>
                  <a:srgbClr val="000000"/>
                </a:solidFill>
                <a:latin typeface="Constantia"/>
              </a:rPr>
              <a:t>خمس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 دقائق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3" descr="5 mins clock.jpg"/>
          <p:cNvPicPr/>
          <p:nvPr/>
        </p:nvPicPr>
        <p:blipFill>
          <a:blip r:embed="rId1"/>
          <a:stretch/>
        </p:blipFill>
        <p:spPr>
          <a:xfrm>
            <a:off x="0" y="28584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5 mins clock.jpg"/>
          <p:cNvPicPr/>
          <p:nvPr/>
        </p:nvPicPr>
        <p:blipFill>
          <a:blip r:embed="rId2"/>
          <a:stretch/>
        </p:blipFill>
        <p:spPr>
          <a:xfrm>
            <a:off x="90360" y="5000760"/>
            <a:ext cx="255276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الجزء الثاني : التهيئة والاعداد البدني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يهدف إلى تهيئة الطالب لدرس التربية البدنية 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عناصر التهئية =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Diagram 5" descr=""/>
          <p:cNvPicPr/>
          <p:nvPr/>
        </p:nvPicPr>
        <p:blipFill>
          <a:blip r:embed="rId1"/>
          <a:stretch/>
        </p:blipFill>
        <p:spPr>
          <a:xfrm>
            <a:off x="927000" y="2792520"/>
            <a:ext cx="453564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4617b"/>
                </a:solidFill>
                <a:latin typeface="Calibri"/>
              </a:rPr>
              <a:t>تنبيه هام جدا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</a:rPr>
              <a:t>وقت الجزء الثاني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=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7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إلى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دقائ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</a:rPr>
              <a:t>اختصر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في التعليمات الموجهه للطالب بما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يتعلق شرح الاوضاع في التمرينات ، التمرين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4" descr="ten mins clock.jpg"/>
          <p:cNvPicPr/>
          <p:nvPr/>
        </p:nvPicPr>
        <p:blipFill>
          <a:blip r:embed="rId1"/>
          <a:stretch/>
        </p:blipFill>
        <p:spPr>
          <a:xfrm>
            <a:off x="500040" y="2357280"/>
            <a:ext cx="33577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4617b"/>
                </a:solidFill>
                <a:latin typeface="Calibri"/>
              </a:rPr>
              <a:t>احماء بسيط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شكل واحد من النشاط البدني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( جري ، مشي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</a:rPr>
              <a:t>مميزاته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: سهولة التنفي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</a:rPr>
              <a:t>عيوبه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: مُمل للطلاب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3" descr="running1.jpg"/>
          <p:cNvPicPr/>
          <p:nvPr/>
        </p:nvPicPr>
        <p:blipFill>
          <a:blip r:embed="rId1"/>
          <a:stretch/>
        </p:blipFill>
        <p:spPr>
          <a:xfrm>
            <a:off x="428760" y="2286000"/>
            <a:ext cx="44258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4T15:02:56Z</dcterms:created>
  <dc:creator>user</dc:creator>
  <dc:description/>
  <dc:language>en-US</dc:language>
  <cp:lastModifiedBy>user</cp:lastModifiedBy>
  <dcterms:modified xsi:type="dcterms:W3CDTF">2013-12-22T05:16:45Z</dcterms:modified>
  <cp:revision>45</cp:revision>
  <dc:subject/>
  <dc:title>تخطيط درس تربية بدنية</dc:title>
</cp:coreProperties>
</file>