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7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3294-F38A-4966-9F30-25515A699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94BD-CEB6-416F-ACC4-DB51650F7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2EC6-8F92-4013-A1D9-327B95CD6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114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ireless connections do not use a solid substance to connect; uses the air itsel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ypes of wireless connections 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Infra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ight waves used over short dista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ometimes called line of sight communication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ending and receiving devices must be in clear view of one anoth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Broadcast rad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ses towers called transceivers (key ter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eb-enabled devices follow a standard known as Wi-Fi (wireless fidelit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icrowa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ses high-frequency radio wav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lso line of sigh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sed for short distanc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atellite uses satellites orbiting about 22,000 miles above the earth as microwave relay stations; many of these offered by Intelsat, the International Telecommunications Satellite Consortium which is owned by 114 governments and forms a worldwide communications sys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atellites can be used to send and receive data; Uplin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is sending data to satellite and Downlink refers to receiving data from a Satel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GPS (Global Positioning system)  use a network of 24 satellites owned and managed by the Defense Department which continuously sends location information to ear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B23E-5FBC-45A1-B975-25096C94E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1C21-ABE4-4C08-BE6C-663DBE8BB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g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nt analog – telephone signals; continuous electronic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nt digital – computer signals; presence or absence of an electronic pulse; on/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53AE-EF9D-4ACD-B406-ADA45C533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dem – modulator-demod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dulation (key term) is the name of the process for converting from digital to an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modulation (key term) is the name of the process for converting from analog to 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ephone – can be either internal or external; connects computer directly to a telephone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SL – uses standard phone lines; external and uses either USB or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ble – coaxial cable – same as your television; uses either USB or Ether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eless mod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oes not use cab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so known as WWAN (wireless wide are network modem) (key ter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gnals are sent through the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er Speed or transfer rate (key term)-measured in bits per second (key term); the higher the speed the faster the transfer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1460-1391-4F37-A860-5C1FCF29E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telephone lines and conventional modems use a dial-up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popular, but many are using other types of conn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, T2, T3, and T4 leased lines – do not require conventional modems and provide very high capacity and is expensive—mainly used by corporations not typical end user; T1 lines provide a speed of 1.5 mbps (mega bits per second)(key term) which is over 26 times as fast as a conventional mod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L – uses existing telephone lines to provide high-speed connections; uses DSL mod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– Cable connections reach 90% of homes in America but not all cable companies support cable modems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/air connection services – Uses just what it says—satellite and air connections; older satellites could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upload and dial up was still used for the process; but newer satellites are two-way satellites capable of handling both uploading and downloading; available almost anywhere but slower than D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services – option for mobile devices and laptops using 3G cellular networks (key term) – current access is limited but growing – download speed 400 – 700 Kpbs and upload at 50 Kbps – future service to have speeds equal to D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717B-BB2A-42F8-82F9-08DF35C63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is is a good time to discuss the various connection services available  to the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ime War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m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86B3-8A4F-46C5-AB0A-6F8FCA63E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veral technical matters affect data commun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e is bandwidth – bits-per-second (bps) transmission capability of a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iceband –  also known as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w bandwid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standard phone line; too slow for many types of transmissions – especially high-quality video; typical speeds are 56 to 96 k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dium band – with special leased lines to connect minicomputers and mainframes as well as to transmit data over long distances (for larger computer systems); not typically used by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oadband – used for high-capacity transmissions (DSL, cable, satellite connections);  specialized high-speed devices; effectively transmits high-quality video and other communication needs; typically 1.5 mbps; higher speeds pos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seband – widely used to connect individual computers that are located close to one an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1202-92AF-4BC3-AA92-A1AA29F5F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ules for exchanging data between 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sential features of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tion - Identifying sending and receiving devices (IP address); (key term) Internet unique number address; domain name server (DNS) (key term) converts text-based addresses to IP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cketization – allows message to be broken into so easier to transmit over Internet through various interconnected networks; allows message to be reassembled at 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7DBB-0CC8-480A-B77F-751528C6D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58A6-7688-4FD4-B74C-E08AF19C0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F867-40E3-4E7D-A7ED-5CA2AFB59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5F43-124D-4388-BBB6-6C080C306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3AD4-1F82-4064-A74B-86B23DEF3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E350-47EF-49A2-A0D6-44B567216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students to give examples of communication devices that they use da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4917-D03F-424C-A10F-76F59E4D7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ity is a concept related to using computer networks to link people and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computers. minicomputers, and mainframes can all be conn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revo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mobile or wireless de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olution is the support of more than just the wireless teleph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vices can and will connect to one another without any physical conn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ACAA-D52C-4156-BA21-5A4AB3222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systems that transmit data from one location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systems can be wired or wirel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el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ing and receiving devices – computer or a specialized communication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channel – carries the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devices – act as an interface between sending and receiving devices; convert outgoing messages into packets (key term) that can travel across the communication chan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transmission specifications – rules and procedures that coordinate the sending and receiving de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2403-0985-4297-A377-605E3E28E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s are essential to a communicatio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phone lines (key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xial cables(key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-optic cable (key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(key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cast radio (key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wave (key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(key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9B88-4C71-4EB5-A72E-EFCB42825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 cab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sists of twisted pair cable; slowest; being phased out by more advanced and reliable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xial cab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ngle solid copper core; 80 times transmission of twisted pair; television and compute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 optic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6,000 times capacity of twisted pair cable; more secure and reliable; best over limited distances; lighter, more reliable, and less expensive than coaxial 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927F-DF2F-4166-B69C-D2BD5C604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264D-6004-4D88-A4D0-F210E6E7D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3A88-A6BF-47F9-9F45-46225A2D1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2D52-902A-46C6-9D1D-7DC45D3B9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7FA8-266B-464A-B83F-474B0B7D0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110-4246-4C10-8474-1B234AF5D3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9B4-AD7F-4FAD-8A51-FE07239C15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8A2-F410-4C11-B2C2-1C7BF99F3A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F72-00B9-4592-AFE1-EF39F0F74C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58E-6439-4BE2-9CC2-6998D53460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4AD8-B226-4736-9F8D-E6BEEEEC40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4C7-5DA2-4B4F-AD19-5913B087D6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CD07-1D2D-45AA-A6BB-8A07BBF772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BA8-F24E-4601-8483-A076C02910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DD5-D5BA-4A4B-ABED-B9078B303A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FCA-3DA6-4055-B00D-DDB4571065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69B-0B95-4C24-9167-2A29B38E2F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920-1511-4D41-922A-E8720ECBF4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C5C71-EDF3-4D36-8F82-AADFC9945D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9A2CA-39BA-4054-A18E-6FB1509812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2B9C7-D5D0-42AB-AB1C-2BEC61E26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4AE4-DE1E-439A-9172-466401FBE8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E67C7-305B-4B93-BEF2-046BA8CA8B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2676D-5F2C-4895-97F5-0EBA31C081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530BD-7540-48FD-870A-ADA89ADA59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CEDDD-54BD-42BB-8C06-B99129E18A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9D657-0206-48C5-8D04-03D7A12828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931D2-30AB-4485-8212-56CC0C9D83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F23ED-DFFA-4589-8747-04EB1BBEE0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383DA-F2D8-4064-8D5C-FE992CB922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05586-53AC-4B88-A5AB-D5AE72DBFF0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7545-AED0-4147-A654-AB3D1DC4D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7479-8BB2-400E-BB1D-DC7663DEA86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B0B9-254E-4869-B8EE-7E5A73AA2E9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69EB-8ECF-4DC3-925A-31697A61370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CED6-E03F-47D8-942B-BF097104DC3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5BCC-CD31-4AFB-B8F0-7E0F16C865E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B6D7-A37D-45BD-A249-04BA3D769CB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8945-B960-44F5-9EE4-6C010F3622F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5C40-0C27-41A0-B0B1-C6C7A2D3FA7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954D-5730-44E0-A022-E79B2B9613B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AC6B-9234-418D-A513-2AD677313F3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94ED-2914-44D9-A01A-26B9C3C64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8AEB-35FF-4955-8B82-3BFF4696DEE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B83F-CCB3-4667-B395-D5812D14F30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2EB6-481A-4815-B77D-EEBEF8D70C5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CB7A-9D4C-4551-8124-06049E9CD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F72C-096C-4081-A734-DD3407ACD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ov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57AB4E62-04B8-45B6-8DA5-4040048E66F0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ov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over.jpg"/>
          <p:cNvPicPr/>
          <p:nvPr/>
        </p:nvPicPr>
        <p:blipFill>
          <a:blip r:embed="rId3"/>
          <a:stretch/>
        </p:blipFill>
        <p:spPr>
          <a:xfrm>
            <a:off x="0" y="1981080"/>
            <a:ext cx="3124080" cy="3562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Cov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43F3DF1A-790E-401A-B383-99596A44088C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4"/>
          </p:nvPr>
        </p:nvSpPr>
        <p:spPr>
          <a:xfrm>
            <a:off x="41911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Cov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77839034-3900-45A1-A719-7C2490E91880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Cov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99ED0CA5-B1FF-42AD-A30F-C9D26A07CCD0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Page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123720" y="3657240"/>
            <a:ext cx="57913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and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276720" y="2690640"/>
            <a:ext cx="55656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-76320" y="65530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cGraw-Hi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eless Connectio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6216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dio frequency (RF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ff"/>
                </a:solidFill>
                <a:latin typeface="Arial"/>
              </a:rPr>
              <a:t>Wi-F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66ff"/>
                </a:solidFill>
                <a:latin typeface="Arial"/>
              </a:rPr>
              <a:t>(wireless fidelity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802.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ne of sig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ff"/>
                </a:solidFill>
                <a:latin typeface="Arial"/>
              </a:rPr>
              <a:t>G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frar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ort dista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ne of sigh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ole36075_co09bcL"/>
          <p:cNvPicPr/>
          <p:nvPr/>
        </p:nvPicPr>
        <p:blipFill>
          <a:blip r:embed="rId1"/>
          <a:stretch/>
        </p:blipFill>
        <p:spPr>
          <a:xfrm>
            <a:off x="6781680" y="990720"/>
            <a:ext cx="1830600" cy="24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1" name="Slide Number Placeholder 4"/>
          <p:cNvSpPr/>
          <p:nvPr/>
        </p:nvSpPr>
        <p:spPr>
          <a:xfrm>
            <a:off x="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E04B78F6-0167-4620-A1C7-27C3D6864C6E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2"/>
          <a:stretch/>
        </p:blipFill>
        <p:spPr>
          <a:xfrm>
            <a:off x="4114800" y="2819520"/>
            <a:ext cx="1724040" cy="2533680"/>
          </a:xfrm>
          <a:prstGeom prst="rect">
            <a:avLst/>
          </a:prstGeom>
          <a:ln w="0">
            <a:noFill/>
          </a:ln>
        </p:spPr>
      </p:pic>
      <p:sp>
        <p:nvSpPr>
          <p:cNvPr id="303" name="Footer Placeholder 11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3"/>
          <a:stretch/>
        </p:blipFill>
        <p:spPr>
          <a:xfrm>
            <a:off x="6477120" y="3352680"/>
            <a:ext cx="2409840" cy="31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 Channels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C9F4CEF3-04FB-468E-957C-0F42DCB9B5F7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985680" y="1657440"/>
            <a:ext cx="717264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600200"/>
            <a:ext cx="78487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on Device Sig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0D6B9EC8-7164-435D-BC3E-DDB4B122346E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5029200" y="2514600"/>
            <a:ext cx="268596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mod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el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on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06A75827-51FB-4C66-91CD-D379801A98EF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4495680" y="54864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Transfer Sp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8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3809880" y="2133720"/>
            <a:ext cx="4343400" cy="24764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380880" y="4800600"/>
            <a:ext cx="317196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ial-Up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ed lines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3 and DS3 have higher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igital subscriber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existing phone 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ype widely used is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D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existing TV c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speeds as fast as DSL at a low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atellite/air connection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 times faster than dial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er than DSL &amp; cable 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ellular Services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3G cellular net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on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C93C182A-7A64-4C51-A6AC-9C8C7BAF0A81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5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1"/>
          <a:stretch/>
        </p:blipFill>
        <p:spPr>
          <a:xfrm>
            <a:off x="6553080" y="1371600"/>
            <a:ext cx="193356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User Connection Costs &amp; Sp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73AB741D-E144-41A6-AC7B-47D3A9D0F74E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5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995400" y="2338560"/>
            <a:ext cx="7153200" cy="21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of the capacity of th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Voice b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known as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ow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Medium b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road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ase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5A619FCA-D526-4DEE-83E5-3A6A3893AD45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communication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or Internet: TCP/IP (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ransmission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rotocol/Internet protoc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95FF4CB2-E827-4589-BE76-A8E0BFB0DE4F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286000" y="4603680"/>
            <a:ext cx="63244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ers In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a compan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LAN and WAN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hardware an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e and repai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s usually have a bachel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degree in computer science and practical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salary is typically between $48,500 and $79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C50B817C-9FDB-40E9-9A7C-EC468A911565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40384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resence Lets You Be T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s to create the illusion that you are actually at a remote 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implementations mainly focus on an extension of video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day coul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yond simp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ook to 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E1433E7D-7522-4CBC-A885-40E11180D971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4575240" y="3733920"/>
            <a:ext cx="40370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nne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wireless revolution,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physical and wireless communications chann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connection devices, and services including dial-up, DSL, cable, satellite/air, and cell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ata transmission factors, including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andwid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e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ge 1 of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BB91E824-0A65-45B1-A8DE-55DA74E1F5BB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e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ge 2 of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networks and key network termi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ifferent types of networks, including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local, home, wireless, personal, metropolita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wide are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network architecture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op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trate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organization issues related to Internet technologies and network 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2D589F58-97B4-4BED-859D-A9F2AA5AF897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920" y="1447920"/>
            <a:ext cx="861048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ive in a truly connected socie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connectivity potentially means increased productivit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ly in the busines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learn more about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 of connectivity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act of the wireles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 in this chap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8C148418-5BFA-46EF-85C1-90EDAF344EE7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5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tretch/>
        </p:blipFill>
        <p:spPr>
          <a:xfrm>
            <a:off x="6326280" y="2514600"/>
            <a:ext cx="25416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B29ACAEF-116E-4A1B-BD63-AD0F109883C8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0880" y="55306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rocess of sharing data, programs, and information between two or more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52280" y="2341440"/>
            <a:ext cx="8763120" cy="26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s To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applications depend on communication systems—E-mail, Instant messaging (IM), Internet telephone, and Electronic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vity uses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mputer networ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ink people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ing wireless has been the most dramatic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B8726D26-A2C2-4ED0-A459-A624E11AD283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9" descr="ole16708_cut0905"/>
          <p:cNvPicPr/>
          <p:nvPr/>
        </p:nvPicPr>
        <p:blipFill>
          <a:blip r:embed="rId1"/>
          <a:stretch/>
        </p:blipFill>
        <p:spPr>
          <a:xfrm>
            <a:off x="2895480" y="4267080"/>
            <a:ext cx="3641760" cy="2170080"/>
          </a:xfrm>
          <a:prstGeom prst="rect">
            <a:avLst/>
          </a:prstGeom>
          <a:ln w="0">
            <a:noFill/>
          </a:ln>
        </p:spPr>
      </p:pic>
      <p:sp>
        <p:nvSpPr>
          <p:cNvPr id="274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basic 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and receiv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mmunication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mission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096578B1-D3EB-4F4F-BAE2-047D36863357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8"/>
          <p:cNvGrpSpPr/>
          <p:nvPr/>
        </p:nvGrpSpPr>
        <p:grpSpPr>
          <a:xfrm>
            <a:off x="152280" y="3733920"/>
            <a:ext cx="8839440" cy="2844720"/>
            <a:chOff x="152280" y="3733920"/>
            <a:chExt cx="8839440" cy="2844720"/>
          </a:xfrm>
        </p:grpSpPr>
        <p:pic>
          <p:nvPicPr>
            <p:cNvPr id="279" name="Picture 7" descr=""/>
            <p:cNvPicPr/>
            <p:nvPr/>
          </p:nvPicPr>
          <p:blipFill>
            <a:blip r:embed="rId1"/>
            <a:stretch/>
          </p:blipFill>
          <p:spPr>
            <a:xfrm>
              <a:off x="152280" y="3733920"/>
              <a:ext cx="883944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7"/>
            <p:cNvSpPr/>
            <p:nvPr/>
          </p:nvSpPr>
          <p:spPr>
            <a:xfrm>
              <a:off x="6629400" y="6184800"/>
              <a:ext cx="22096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Footer Placeholder 9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s carry data from one computer to an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tegories of communica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hysical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Wireless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 Chann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8807C845-1007-4C85-8731-1B7D78214C7B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pgshplmq[1]"/>
          <p:cNvPicPr/>
          <p:nvPr/>
        </p:nvPicPr>
        <p:blipFill>
          <a:blip r:embed="rId3"/>
          <a:stretch/>
        </p:blipFill>
        <p:spPr>
          <a:xfrm>
            <a:off x="7734240" y="3352680"/>
            <a:ext cx="1409760" cy="1755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1pp2qib1[1]"/>
          <p:cNvPicPr/>
          <p:nvPr/>
        </p:nvPicPr>
        <p:blipFill>
          <a:blip r:embed="rId4"/>
          <a:stretch/>
        </p:blipFill>
        <p:spPr>
          <a:xfrm>
            <a:off x="5410080" y="4648320"/>
            <a:ext cx="1752840" cy="1252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f3yyw3ne[1]"/>
          <p:cNvPicPr/>
          <p:nvPr/>
        </p:nvPicPr>
        <p:blipFill>
          <a:blip r:embed="rId5"/>
          <a:stretch/>
        </p:blipFill>
        <p:spPr>
          <a:xfrm>
            <a:off x="6553080" y="3657600"/>
            <a:ext cx="1165320" cy="1752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ole61102_ch09_web"/>
          <p:cNvPicPr/>
          <p:nvPr/>
        </p:nvPicPr>
        <p:blipFill>
          <a:blip r:embed="rId6"/>
          <a:stretch/>
        </p:blipFill>
        <p:spPr>
          <a:xfrm>
            <a:off x="7277040" y="4724280"/>
            <a:ext cx="1866960" cy="1621080"/>
          </a:xfrm>
          <a:prstGeom prst="rect">
            <a:avLst/>
          </a:prstGeom>
          <a:ln w="0">
            <a:noFill/>
          </a:ln>
        </p:spPr>
      </p:pic>
      <p:sp>
        <p:nvSpPr>
          <p:cNvPr id="289" name="Footer Placeholder 9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wisted pair cable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xial ca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-optic c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1196467D-B5D3-4636-BBF8-6CE3808FBAB0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ole36075_0905"/>
          <p:cNvPicPr/>
          <p:nvPr/>
        </p:nvPicPr>
        <p:blipFill>
          <a:blip r:embed="rId1"/>
          <a:stretch/>
        </p:blipFill>
        <p:spPr>
          <a:xfrm>
            <a:off x="4419720" y="4952880"/>
            <a:ext cx="1676160" cy="835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ole36075_0903"/>
          <p:cNvPicPr/>
          <p:nvPr/>
        </p:nvPicPr>
        <p:blipFill>
          <a:blip r:embed="rId2"/>
          <a:stretch/>
        </p:blipFill>
        <p:spPr>
          <a:xfrm>
            <a:off x="5105520" y="1676520"/>
            <a:ext cx="1304640" cy="1160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ole36075_0904"/>
          <p:cNvPicPr/>
          <p:nvPr/>
        </p:nvPicPr>
        <p:blipFill>
          <a:blip r:embed="rId3"/>
          <a:stretch/>
        </p:blipFill>
        <p:spPr>
          <a:xfrm>
            <a:off x="5257800" y="2971800"/>
            <a:ext cx="1609560" cy="143208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8"/>
          <p:cNvSpPr/>
          <p:nvPr/>
        </p:nvSpPr>
        <p:spPr>
          <a:xfrm>
            <a:off x="4114800" y="6248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9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00:32:28Z</dcterms:created>
  <dc:creator>Greg Gaudet</dc:creator>
  <dc:description/>
  <dc:language>en-US</dc:language>
  <cp:lastModifiedBy>AZ</cp:lastModifiedBy>
  <dcterms:modified xsi:type="dcterms:W3CDTF">2012-11-22T05:40:39Z</dcterms:modified>
  <cp:revision>1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