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EA7-59DF-4827-BDFA-25E1DC3BE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EC46-9040-4C03-93C1-B744798F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00F-CE49-47AD-9282-928519F0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114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ireless connections do not use a solid substance to connect; uses the air itsel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of wireless connections 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nfr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ight waves used over short dista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called line of sight communication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nding and receiving devices must be in clear view of one anoth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roadcast rad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owers called transceivers (key ter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Web-enabled devices follow a standard known as Wi-Fi (wireless fidelit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icrowa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es high-frequency radio wav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lso line of sigh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ed for short distanc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tellite uses satellites orbiting about 22,000 miles above the earth as microwave relay stations; many of these offered by Intelsat, the International Telecommunications Satellite Consortium which is owned by 114 governments and forms a worldwide communications syst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atellites can be used to send and receive data; Uplin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is sending data to satellite and Downlink refers to receiving data from a Satell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GPS (Global Positioning system)  use a network of 24 satellites owned and managed by the Defense Department which continuously sends location information to ear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B7A8-7790-424E-971A-177596917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7B2A-FB5D-445E-A422-74850EBF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nt analog – telephone signals; continuous electronic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nt digital – computer signals; presence or absence of an electronic pulse;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4C7A-1F32-4B79-9EAD-44367ECE8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dem – modulator-demod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dulation (key term) is the name of the process for converting from digital to an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modulation (key term) is the name of the process for converting from analog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ephone – can be either internal or external; connects computer directly to a telephon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SL – uses standard phone lines; external and uses either USB or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ble – coaxial cable – same as your television; uses either USB or Ether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eless 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not use c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so known as WWAN (wireless wide are network modem) (key ter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gnals are sent through the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er Speed or transfer rate (key term)-measured in bits per second (key term); the higher the speed the faster the transfer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C541-216F-44FE-9F50-333C6A34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telephone lines and conventional modems use a dial-up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popular, but many are using other types of conn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, T2, T3, and T4 leased lines – do not require conventional modems and provide very high capacity and is expensive—mainly used by corporations not typical end user; T1 lines provide a speed of 1.5 mbps (mega bits per second)(key term) which is over 26 times as fast as a conventional mod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 – uses existing telephone lines to provide high-speed connections; uses DSL mod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– Cable connections reach 90% of homes in America but not all cable companies support cable modems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/air connection services – Uses just what it says—satellite and air connections; older satellites could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pload and dial up was still used for the process; but newer satellites are two-way satellites capable of handling both uploading and downloading; available almost anywhere but slower than 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services – option for mobile devices and laptops using 3G cellular networks (key term) – current access is limited but growing – download speed 400 – 700 Kpbs and upload at 50 Kbps – future service to have speeds equal to 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7A0A-78A8-49BC-8AA1-6F4E0740C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is is a good time to discuss the various connection services available  to the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m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8E82-3BA8-40FA-BF99-B26F4334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technical matters affect data commun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e is bandwidth – bits-per-second (bps) transmission capability of a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iceband –  also known as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w bandwid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standard phone line; too slow for many types of transmissions – especially high-quality video; typical speeds are 56 to 96 k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dium band – with special leased lines to connect minicomputers and mainframes as well as to transmit data over long distances (for larger computer systems); not typically used by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oadband – used for high-capacity transmissions (DSL, cable, satellite connections);  specialized high-speed devices; effectively transmits high-quality video and other communication needs; typically 1.5 mbps; higher speeds pos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seband – widely used to connect individual computers that are located close to one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1294-FAE2-4CB9-BF69-31DCC3CE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ules for exchanging data between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sential features of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tion - Identifying sending and receiving devices (IP address); (key term) Internet unique number address; domain name server (DNS) (key term) converts text-based addresses to IP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cketization – allows message to be broken into so easier to transmit over Internet through various interconnected networks; allows message to be reassembled at 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0019-6FC1-4F99-8BB5-56A6A45C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F1B0-C220-459F-BB14-9F34536E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B526-874C-45B5-89E7-66779AD1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8900-A421-49AF-93A7-44B61226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1281-BC6B-4B4C-8EB7-FDC6B668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A820-8CC6-4607-A41B-4A867A426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to give examples of communication devices that they use da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B4F4-3A45-4405-B4D2-6520C094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ity is a concept related to using computer networks to link people an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mputers. minicomputers, and mainframes can all be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 rev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mobile or wireless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 is the support of more than just the wireless teleph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evices can and will connect to one another without any physical conn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AA9E-3B2F-4476-B9B1-5877FC5E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systems that transmit data from one location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systems can be wired or wirel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ing and receiving devices – computer or a specialized communication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channel – carries the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devices – act as an interface between sending and receiving devices; convert outgoing messages into packets (key term) that can travel across the communication chan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mission specifications – rules and procedures that coordinate the sending and receiving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81C6-B864-4F3D-82EB-2C08FB6C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s are essential to a communicatio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lines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xial cables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-optic cable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cast radio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(key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B319-60DE-4541-8DF8-B3E77C213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 cab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ists of twisted pair cable; slowest; being phased out by more advanced and reliabl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xial cab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ngle solid copper core; 80 times transmission of twisted pair; television and compute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 opt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6,000 times capacity of twisted pair cable; more secure and reliable; best over limited distances; lighter, more reliable, and less expensive than coaxial 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C956-5E6D-4F52-ABFE-82EED01E7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84D5-5304-45A9-AE10-354048C7E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8B9B-A2E6-4275-BD12-64B1D1802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C89E-AEA8-471C-8314-C13C3FEFA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85A0-6B82-46C8-A58B-3EA0FD2F2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AD5-EC6F-45C0-ADF9-8785D2F297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BEB-2272-43EB-BEC8-641E85C3A6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B4FE-8E6F-4F2F-BB9A-39BBF52D50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D04-6F97-48FE-A0AB-6896D4C33B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1A6-8020-4CE6-A255-D283B57503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8F71-3541-46BC-8A51-B9D90FC811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ED00-8788-4A8C-B955-EF9F424544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270-A93C-4613-B3A0-8271249045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AEC-A256-4E8C-A6DE-CF4F6E6B1F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8DC-F2E9-4185-AA33-917F18C919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912-BE42-419E-8EFB-98916267EC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05A0-7DC8-49F2-A544-BC699C271D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D77-FC1B-4E37-B564-5E5C13B430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4A447-0428-455E-B052-2DD1FD2793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D89EF-AFC0-4B07-A25E-11BDAFD862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2A2CC-6AA8-490B-A292-2004D8384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6755-3249-4EC4-9EA4-1D26D124E7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7931F-FCDF-4C8F-8688-DF97AC5C79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31227-6EE6-4C92-9A2F-60327F238C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219A-2951-4069-8524-CCD8ABDEAA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11F39-0A77-4DD0-A713-07FA6F7F0D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0E26E-255E-4F41-AC23-653C3B2200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18EFC-CD13-4AB2-85D9-ECE1E67686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EDE63-48DB-4748-9C8A-6FC1796786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9F859-CC08-4EB7-87E9-406416BF08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13D98-EFEA-4BC1-A434-19539E5FE46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645D-7B18-4C31-85C0-69A6144B7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96FF-EC61-4DDD-9F99-23903E33AC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2D72-EAAA-414D-A478-4C0A56323E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26B5-AF15-418E-BA26-B1A7F144A1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9D73-31EF-4EF4-B114-05AF743517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9C88-033F-431E-B425-B398C7F561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9B79-F391-4B0D-9357-74A26D2EC2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73EB-EEA3-41DD-9964-B65BBFEA5B2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AB6E-8D60-4AD0-A346-C08EF80E1E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103-829B-49DC-BF07-D67CB776A6E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F84B-FCF4-4E57-8178-5D3CC35F59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EB57-E453-41E5-8757-B862EDF92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377C-D5BE-4E69-8E09-58BDDDE7B5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C96D-76FD-467D-875B-36893AD6038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5688-4772-4AF8-9592-578F3B371B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3E95-8924-46CF-BCB5-F9BD1B90C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263B-8CA1-43EB-978D-3035F043D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EA3B790-D124-4FF3-B50D-BD94C9191838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over.jpg"/>
          <p:cNvPicPr/>
          <p:nvPr/>
        </p:nvPicPr>
        <p:blipFill>
          <a:blip r:embed="rId3"/>
          <a:stretch/>
        </p:blipFill>
        <p:spPr>
          <a:xfrm>
            <a:off x="0" y="1981080"/>
            <a:ext cx="3124080" cy="3562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A58E387-E22A-43EE-9494-3F842D1A3630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4"/>
          </p:nvPr>
        </p:nvSpPr>
        <p:spPr>
          <a:xfrm>
            <a:off x="41911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9DB8D33-D06B-44D5-A7BF-0A6CC4E61ED9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ov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315948D-5906-4104-84EF-409FAF6A44DD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Page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8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123720" y="3657240"/>
            <a:ext cx="5791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an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276720" y="2690640"/>
            <a:ext cx="55656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-7632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cGraw-Hi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eless Connectio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6216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dio frequency (RF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ff"/>
                </a:solidFill>
                <a:latin typeface="Arial"/>
              </a:rPr>
              <a:t>Wi-F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66ff"/>
                </a:solidFill>
                <a:latin typeface="Arial"/>
              </a:rPr>
              <a:t>(wireless fidelity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802.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 of s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ff"/>
                </a:solidFill>
                <a:latin typeface="Arial"/>
              </a:rPr>
              <a:t>G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hort distan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 of sigh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ole36075_co09bcL"/>
          <p:cNvPicPr/>
          <p:nvPr/>
        </p:nvPicPr>
        <p:blipFill>
          <a:blip r:embed="rId1"/>
          <a:stretch/>
        </p:blipFill>
        <p:spPr>
          <a:xfrm>
            <a:off x="6781680" y="990720"/>
            <a:ext cx="1830600" cy="24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1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F3033E9E-8462-464D-BB2A-38FFF29C342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1724040" cy="2533680"/>
          </a:xfrm>
          <a:prstGeom prst="rect">
            <a:avLst/>
          </a:prstGeom>
          <a:ln w="0">
            <a:noFill/>
          </a:ln>
        </p:spPr>
      </p:pic>
      <p:sp>
        <p:nvSpPr>
          <p:cNvPr id="303" name="Footer Placeholder 11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3"/>
          <a:stretch/>
        </p:blipFill>
        <p:spPr>
          <a:xfrm>
            <a:off x="6477120" y="3352680"/>
            <a:ext cx="240984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Channel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3ADEA6B9-C2BC-4D15-B608-1AB64E84816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985680" y="1657440"/>
            <a:ext cx="717264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600200"/>
            <a:ext cx="78487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Device Sig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64F5A08E-A325-4C7D-9167-F54B5D86B06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268596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od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ele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ir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B7E35D47-E62F-48EC-A3B4-79B4BBD74F2B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4495680" y="54864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Transfer Sp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8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317196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al-Up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d lines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3 and DS3 have higher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gital subscriber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S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existing phone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ype widely used i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D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existing TV 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peeds as fast as DSL at a low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atellite/air connection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times faster than dial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than DSL &amp; cable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ellular Services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3G cellular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2E7EE30A-63F0-4D2A-869F-78FC0C2AC9E9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1"/>
          <a:stretch/>
        </p:blipFill>
        <p:spPr>
          <a:xfrm>
            <a:off x="6553080" y="1371600"/>
            <a:ext cx="193356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 User Connection Costs &amp; Sp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3E691A77-1C47-415B-9D6F-87719E364C5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995400" y="2338560"/>
            <a:ext cx="7153200" cy="21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the capacity of th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Voice b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known a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ow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Medium b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road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ase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5DAEB8F0-0CBA-40EC-A727-B4B084C9C714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communicatio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or Internet: TCP/IP (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ransmission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rotocol/Internet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29E7A108-CCA4-4CA3-A025-4C9B216901A5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286000" y="4603680"/>
            <a:ext cx="63244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ers In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a compan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LAN and WA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hardware an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e and repair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s usually have a bachelo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degree in computer science and practical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salary is typically between $48,500 and $79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8283B7DF-1716-4BF2-9DAA-F6D25959178F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038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resence Lets You Be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to create the illusion that you are actually at a remote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implementations mainly focus on an extension of video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day c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simp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ok to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1501B177-DA85-40B4-BB36-1925F3DF0ABA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4575240" y="3733920"/>
            <a:ext cx="40370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nnec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wireless revolution,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physical and wireless communications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connection devices, and services including dial-up, DSL, cable, satellite/air, and cell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ata transmission factors, including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andwid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ge 1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0157DE05-298D-4582-BFFD-A0DD175A7B40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ge 2 of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networks and key network termi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types of networks, including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ocal, home, wireless, personal, metropolit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wide ar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network architectur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op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trate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rganization issues related to Internet technologies and network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AE0494DB-1A08-465B-A8BB-73B9F2A71F34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920" y="1447920"/>
            <a:ext cx="86104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ive in a truly connected soc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nectivity potentially means increased productiv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ecially in the busine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learn more about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of connectivity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the wirele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 in this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8F44CA54-EFE3-4184-A84D-61CC6673759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6326280" y="2514600"/>
            <a:ext cx="25416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2B3D1704-F725-4FE7-B41C-56ADACDC1E32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0880" y="5530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ocess of sharing data, programs, and information between two or more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52280" y="2341440"/>
            <a:ext cx="8763120" cy="26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s 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applications depend on communication systems—E-mail, Instant messaging (IM), Internet telephone, and Electronic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ity uses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mputer net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link people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ing wireless has been the most dramatic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87CA2326-E22E-4CC4-8B90-E1BB85D950F0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ole16708_cut0905"/>
          <p:cNvPicPr/>
          <p:nvPr/>
        </p:nvPicPr>
        <p:blipFill>
          <a:blip r:embed="rId1"/>
          <a:stretch/>
        </p:blipFill>
        <p:spPr>
          <a:xfrm>
            <a:off x="2895480" y="4267080"/>
            <a:ext cx="3641760" cy="2170080"/>
          </a:xfrm>
          <a:prstGeom prst="rect">
            <a:avLst/>
          </a:prstGeom>
          <a:ln w="0">
            <a:noFill/>
          </a:ln>
        </p:spPr>
      </p:pic>
      <p:sp>
        <p:nvSpPr>
          <p:cNvPr id="274" name="Footer Placeholder 6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and receiv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munication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mission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A9A5F908-6402-4241-80F2-CF5DA89D9F7E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152280" y="3733920"/>
            <a:ext cx="8839440" cy="2844720"/>
            <a:chOff x="152280" y="3733920"/>
            <a:chExt cx="8839440" cy="2844720"/>
          </a:xfrm>
        </p:grpSpPr>
        <p:pic>
          <p:nvPicPr>
            <p:cNvPr id="279" name="Picture 7" descr=""/>
            <p:cNvPicPr/>
            <p:nvPr/>
          </p:nvPicPr>
          <p:blipFill>
            <a:blip r:embed="rId1"/>
            <a:stretch/>
          </p:blipFill>
          <p:spPr>
            <a:xfrm>
              <a:off x="152280" y="3733920"/>
              <a:ext cx="883944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7"/>
            <p:cNvSpPr/>
            <p:nvPr/>
          </p:nvSpPr>
          <p:spPr>
            <a:xfrm>
              <a:off x="6629400" y="6184800"/>
              <a:ext cx="22096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Footer Placeholder 9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s carry data from one computer to an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ategories of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hysical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Wireless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Chann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6E5A4997-9ABC-4B0E-AC8C-70F5C3B744A3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pgshplmq[1]"/>
          <p:cNvPicPr/>
          <p:nvPr/>
        </p:nvPicPr>
        <p:blipFill>
          <a:blip r:embed="rId3"/>
          <a:stretch/>
        </p:blipFill>
        <p:spPr>
          <a:xfrm>
            <a:off x="7734240" y="3352680"/>
            <a:ext cx="1409760" cy="1755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1pp2qib1[1]"/>
          <p:cNvPicPr/>
          <p:nvPr/>
        </p:nvPicPr>
        <p:blipFill>
          <a:blip r:embed="rId4"/>
          <a:stretch/>
        </p:blipFill>
        <p:spPr>
          <a:xfrm>
            <a:off x="5410080" y="4648320"/>
            <a:ext cx="1752840" cy="1252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f3yyw3ne[1]"/>
          <p:cNvPicPr/>
          <p:nvPr/>
        </p:nvPicPr>
        <p:blipFill>
          <a:blip r:embed="rId5"/>
          <a:stretch/>
        </p:blipFill>
        <p:spPr>
          <a:xfrm>
            <a:off x="6553080" y="3657600"/>
            <a:ext cx="1165320" cy="1752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ole61102_ch09_web"/>
          <p:cNvPicPr/>
          <p:nvPr/>
        </p:nvPicPr>
        <p:blipFill>
          <a:blip r:embed="rId6"/>
          <a:stretch/>
        </p:blipFill>
        <p:spPr>
          <a:xfrm>
            <a:off x="7277040" y="4724280"/>
            <a:ext cx="1866960" cy="1621080"/>
          </a:xfrm>
          <a:prstGeom prst="rect">
            <a:avLst/>
          </a:prstGeom>
          <a:ln w="0">
            <a:noFill/>
          </a:ln>
        </p:spPr>
      </p:pic>
      <p:sp>
        <p:nvSpPr>
          <p:cNvPr id="289" name="Footer Placeholder 9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wisted pair cable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xial c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-optic c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0" y="655308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-</a:t>
            </a:r>
            <a:fld id="{9F0F7F8D-0B12-4FB1-85CD-D42CF2B7C0A5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ole36075_0905"/>
          <p:cNvPicPr/>
          <p:nvPr/>
        </p:nvPicPr>
        <p:blipFill>
          <a:blip r:embed="rId1"/>
          <a:stretch/>
        </p:blipFill>
        <p:spPr>
          <a:xfrm>
            <a:off x="4419720" y="4952880"/>
            <a:ext cx="1676160" cy="835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ole36075_0903"/>
          <p:cNvPicPr/>
          <p:nvPr/>
        </p:nvPicPr>
        <p:blipFill>
          <a:blip r:embed="rId2"/>
          <a:stretch/>
        </p:blipFill>
        <p:spPr>
          <a:xfrm>
            <a:off x="5105520" y="1676520"/>
            <a:ext cx="1304640" cy="1160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ole36075_0904"/>
          <p:cNvPicPr/>
          <p:nvPr/>
        </p:nvPicPr>
        <p:blipFill>
          <a:blip r:embed="rId3"/>
          <a:stretch/>
        </p:blipFill>
        <p:spPr>
          <a:xfrm>
            <a:off x="5257800" y="2971800"/>
            <a:ext cx="1609560" cy="14320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8"/>
          <p:cNvSpPr/>
          <p:nvPr/>
        </p:nvSpPr>
        <p:spPr>
          <a:xfrm>
            <a:off x="4114800" y="6248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9"/>
          <p:cNvSpPr/>
          <p:nvPr/>
        </p:nvSpPr>
        <p:spPr>
          <a:xfrm>
            <a:off x="4191120" y="65530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1 by The McGraw-Hill Companies, Inc. All rights reserv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0:32:28Z</dcterms:created>
  <dc:creator>Greg Gaudet</dc:creator>
  <dc:description/>
  <dc:language>en-US</dc:language>
  <cp:lastModifiedBy>AZ</cp:lastModifiedBy>
  <dcterms:modified xsi:type="dcterms:W3CDTF">2012-11-22T05:40:39Z</dcterms:modified>
  <cp:revision>1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