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D95E-ECE1-412E-A40F-187A2F2D4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Technology may allow two Fıs to jointly use their input resources, such as capital and labor, to produce a set of financial services at a lower cost than if financial service products were produced independently of one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A26A-BDEE-4F38-992D-7240B416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369F-D6F7-4DC2-AF39-8EC54B87B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5EE9-459C-4F5D-9B50-7868007F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tiality br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Theft of code by ex-Goldman pro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lation of ethical problems via email ex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satisfa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oorly performing technology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37D4-DA2C-42DB-88A1-51CA32DF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érôme Kerviel was allegedly involved in an illegal trading scheme amounting to €50 bn., which resulted in a loss of €4.9 bn at Société Générale, the second largest bank in F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g.org/article.asp?id=60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C0A7-17E7-455A-BCEA-ABFA57D2D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ww.bi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earing Ho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p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IC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www.fdic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wap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sd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Street Jour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www.wsj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9723-DE95-46DD-865A-6541A87A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0567-8C23-459E-8B95-7E5EAF270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695F-E7DE-4DCA-9C9E-E896BED2B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39E6-5B8C-492D-927E-42430B1F4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782E-B2CF-4C29-9C66-F2F138CE4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1BF2-2CAE-4322-8621-07D1643D6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89DD-C0F0-45DB-A251-2A665C2CF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0CE8-582A-41C5-AA75-1854F4C6D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6D8A-0493-4277-9DCC-C7FBCAADE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EB0C-B387-4686-9A09-637DA1F1A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4E7E-B726-4FFC-8B5E-BEAFEC58D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B855-C11F-4348-A02B-2AB5BCFED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7C87-D5EB-4DAA-A9EC-1349CCAF1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8839080" y="380880"/>
            <a:ext cx="3049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"/>
          <p:cNvPicPr/>
          <p:nvPr/>
        </p:nvPicPr>
        <p:blipFill>
          <a:blip r:embed="rId3"/>
          <a:stretch/>
        </p:blipFill>
        <p:spPr>
          <a:xfrm>
            <a:off x="228600" y="6629400"/>
            <a:ext cx="8763120" cy="228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5" name="Picture 1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B2994BF-2D3D-45CF-B5B2-6AE7D96218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481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"/>
          <p:cNvPicPr/>
          <p:nvPr/>
        </p:nvPicPr>
        <p:blipFill>
          <a:blip r:embed="rId4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2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HAPTER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echnology and Other Operational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4600440" y="6477120"/>
            <a:ext cx="44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opyright © 2011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76320" y="6477120"/>
            <a:ext cx="12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DF21593-5122-44ED-9682-44921CD9CD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Impact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of IT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on Wholesale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&amp; </a:t>
            </a:r>
            <a:r>
              <a:rPr b="0" lang="tr-TR" sz="3200" spc="-1" strike="noStrike" u="sng">
                <a:solidFill>
                  <a:srgbClr val="990033"/>
                </a:solidFill>
                <a:uFillTx/>
                <a:latin typeface="Century Gothic"/>
              </a:rPr>
              <a:t>Retail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Banking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Automated teller machines</a:t>
            </a:r>
            <a:r>
              <a:rPr b="0" lang="tr-TR" sz="3200" spc="-1" strike="noStrike">
                <a:solidFill>
                  <a:srgbClr val="333399"/>
                </a:solidFill>
                <a:latin typeface="Century Gothic"/>
              </a:rPr>
              <a:t> (ATMs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oint-of-sale debit cards</a:t>
            </a:r>
            <a:r>
              <a:rPr b="0" lang="tr-TR" sz="3200" spc="-1" strike="noStrike">
                <a:solidFill>
                  <a:srgbClr val="333399"/>
                </a:solidFill>
                <a:latin typeface="Century Gothic"/>
              </a:rPr>
              <a:t> (POS)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Home bank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reauthorized debits/credit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Pay-by-phon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Online banking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Smart card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Century Gothic"/>
              </a:rPr>
              <a:t>+++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1DFD89BA-A99A-4674-8A5A-49DF76A56C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5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Revenues &amp; Cost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-1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Investment in technology </a:t>
            </a:r>
            <a:r>
              <a:rPr b="1" lang="tr-TR" sz="2800" spc="-1" strike="noStrike">
                <a:solidFill>
                  <a:srgbClr val="333399"/>
                </a:solidFill>
                <a:latin typeface="Century Gothic"/>
              </a:rPr>
              <a:t>is</a:t>
            </a: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 risky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Innovations may fail to attract sufficient business, it is risky !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Innovations may turn out to be negative net present value projects. (because of 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uncertainty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over revenue and cost)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P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otential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competitive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 responses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 from the rivals may be another problem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(mimicing the successfull project)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Manager’s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growth oriented investment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vs.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stockholder’s value maximizing objective can be in conflict.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537660E7-E0E7-4DB7-BF44-8957851334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Revenues &amp; Cost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-2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Profitabilty of product innovation </a:t>
            </a: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negatively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related with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initial setup and development cost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and </a:t>
            </a: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positively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related with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expected cash flow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You should consider whether direct or indirect evidence shows if IT invesment to increase revenue or decrease cost !!!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&amp; Innovation cannot be evaluated independently from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regulation&amp;regulatory changes. 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Evidence shows the impact of regulation on the value of technological innovation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for example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Branching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restrictions in U.S. affect the 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alue of cash management services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entury Gothic"/>
              </a:rPr>
              <a:t>2 dimentions of Technology we will discuss are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Century Gothic"/>
              </a:rPr>
              <a:t>Product revenue side  / Operating cost side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DFB37E6-4C77-402E-B332-ACBB142AB0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</a:t>
            </a:r>
            <a:br>
              <a:rPr sz="3200"/>
            </a:br>
            <a:r>
              <a:rPr b="0" lang="en-US" sz="3200" spc="-1" strike="noStrike" u="sng">
                <a:solidFill>
                  <a:srgbClr val="990033"/>
                </a:solidFill>
                <a:uFillTx/>
                <a:latin typeface="Century Gothic"/>
              </a:rPr>
              <a:t>Revenues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 &amp; Cost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-3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Revenue effects: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acilitates cross-marketing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Mixed succes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Example: Citigroup and insurance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Technology i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ncreases innovation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 (new products)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Service quality and convenience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 is another diment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Inability of ATMs to interact with customers as humans can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xample:  Customers compare mortgage rates online, but only 2% close online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Virtual FIs operating branch offic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3" marL="1551960" indent="-221400">
              <a:spcBef>
                <a:spcPts val="400"/>
              </a:spcBef>
              <a:buClr>
                <a:srgbClr val="333399"/>
              </a:buClr>
              <a:buFont typeface="Arial"/>
              <a:buChar char="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Example: ING Direct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E6218F6-C709-4FAE-9F91-301A88D67F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Revenues &amp;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Century Gothic"/>
              </a:rPr>
              <a:t>Cost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-4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The </a:t>
            </a:r>
            <a:r>
              <a:rPr b="1" lang="tr-TR" sz="2000" spc="-1" strike="noStrike">
                <a:solidFill>
                  <a:srgbClr val="ff0000"/>
                </a:solidFill>
                <a:latin typeface="Century Gothic"/>
              </a:rPr>
              <a:t>benefits</a:t>
            </a: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are considered more on the </a:t>
            </a: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costs side </a:t>
            </a: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rather then </a:t>
            </a:r>
            <a:r>
              <a:rPr b="1" lang="tr-TR" sz="2000" spc="-1" strike="noStrike">
                <a:solidFill>
                  <a:srgbClr val="ff0000"/>
                </a:solidFill>
                <a:latin typeface="Century Gothic"/>
              </a:rPr>
              <a:t>revenue side</a:t>
            </a:r>
            <a:r>
              <a:rPr b="0" lang="tr-TR" sz="20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333399"/>
                </a:solidFill>
                <a:uFillTx/>
                <a:latin typeface="Century Gothic"/>
              </a:rPr>
              <a:t>Economies of Scale: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Potential 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average cost advantage 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for larger FI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Economies of scale</a:t>
            </a:r>
            <a:r>
              <a:rPr b="0" lang="tr-TR" sz="1800" spc="-1" strike="noStrike">
                <a:solidFill>
                  <a:srgbClr val="ff0000"/>
                </a:solidFill>
                <a:latin typeface="Century Gothic"/>
              </a:rPr>
              <a:t> imply that the unit or average cost of producing FI services in aggregate falls as the size of the FI expand.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Potential elimination of smaller banks?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echnological investments are risky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Potential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diseconomies of scale</a:t>
            </a:r>
            <a:r>
              <a:rPr b="0" lang="tr-TR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(increase in the average costs of production as the output of an FI increases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071C2A2-E7C4-4E9B-83AA-F263C4CADD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conomies of Scale in FIs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44400" y="1162080"/>
            <a:ext cx="7972560" cy="4842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4952880" y="16002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The unit or average cost of producing FI services in aggregate (or some specifics services) falls as the size of the FI expands. (S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"/>
          <p:cNvSpPr/>
          <p:nvPr/>
        </p:nvSpPr>
        <p:spPr>
          <a:xfrm>
            <a:off x="5181480" y="5334120"/>
            <a:ext cx="838440" cy="6699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79CF4925-D41F-42AF-840B-E4CE316FC6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Effects of Technological Improvement</a:t>
            </a:r>
            <a:endParaRPr b="0" lang="en-US" sz="2800" spc="-1" strike="noStrike">
              <a:solidFill>
                <a:srgbClr val="990033"/>
              </a:solidFill>
              <a:latin typeface="Century Gothic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224240" cy="28954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4970520" y="1263600"/>
            <a:ext cx="329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effects of improving technology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over time is to shift the AC curve downward but with a larger downward shift for large F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995720" y="2743200"/>
            <a:ext cx="346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If not (due to excess capacity, or integration problems etc.) than small FIs with simple and easily managed computer systems without a huge fixed cost will have advantage causing </a:t>
            </a: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diseconomies of sca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333440" y="5181480"/>
            <a:ext cx="69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Diseconomies of scale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imply that small FIs are more cost efficient than large FIs and that in a freely competitive environment for financial servi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8A5C144-F533-4176-A517-6CD1F85ABF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ffects of Technology on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Revenues &amp;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Century Gothic"/>
              </a:rPr>
              <a:t>Cost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-5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Economies of Scope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The ability of FIs to generate synergistic cost savings through joint use of inputs in producing multiple products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Diseconomies of </a:t>
            </a: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cope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: Instead of joint production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entury Gothic"/>
              </a:rPr>
              <a:t>specialization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 may have cost benefits in production and delivery of some FI services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FIs are </a:t>
            </a: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multiproduct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firms producing services involving different technological needs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Improving technology in one service may synergistic benefits in lowering the costs of some other areas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333399"/>
                </a:solidFill>
                <a:uFillTx/>
                <a:latin typeface="Century Gothic"/>
              </a:rPr>
              <a:t>Economies of scale </a:t>
            </a:r>
            <a:r>
              <a:rPr b="0" lang="tr-TR" sz="2000" spc="-1" strike="noStrike" u="sng">
                <a:solidFill>
                  <a:srgbClr val="333399"/>
                </a:solidFill>
                <a:uFillTx/>
                <a:latin typeface="Century Gothic"/>
              </a:rPr>
              <a:t>ignores this interrelationship  while </a:t>
            </a:r>
            <a:r>
              <a:rPr b="1" lang="tr-TR" sz="2000" spc="-1" strike="noStrike" u="sng">
                <a:solidFill>
                  <a:srgbClr val="333399"/>
                </a:solidFill>
                <a:uFillTx/>
                <a:latin typeface="Century Gothic"/>
              </a:rPr>
              <a:t>Economies of scope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does not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54ABCCE2-7222-4B25-8DA1-7E80529666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990033"/>
                </a:solidFill>
                <a:latin typeface="Century Gothic"/>
              </a:rPr>
              <a:t>Calculation of Average Costs</a:t>
            </a:r>
            <a:endParaRPr b="0" lang="en-US" sz="36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  <p:grpSp>
        <p:nvGrpSpPr>
          <p:cNvPr id="153" name="Group 1"/>
          <p:cNvGrpSpPr/>
          <p:nvPr/>
        </p:nvGrpSpPr>
        <p:grpSpPr>
          <a:xfrm>
            <a:off x="1447920" y="1492200"/>
            <a:ext cx="5933880" cy="4991040"/>
            <a:chOff x="1447920" y="1492200"/>
            <a:chExt cx="5933880" cy="4991040"/>
          </a:xfrm>
        </p:grpSpPr>
        <p:pic>
          <p:nvPicPr>
            <p:cNvPr id="154" name="Picture 6" descr=""/>
            <p:cNvPicPr/>
            <p:nvPr/>
          </p:nvPicPr>
          <p:blipFill>
            <a:blip r:embed="rId1"/>
            <a:stretch/>
          </p:blipFill>
          <p:spPr>
            <a:xfrm>
              <a:off x="1447920" y="4736160"/>
              <a:ext cx="5933880" cy="174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5" descr=""/>
            <p:cNvPicPr/>
            <p:nvPr/>
          </p:nvPicPr>
          <p:blipFill>
            <a:blip r:embed="rId2"/>
            <a:srcRect l="0" t="0" r="0" b="4503"/>
            <a:stretch/>
          </p:blipFill>
          <p:spPr>
            <a:xfrm>
              <a:off x="1447920" y="1492200"/>
              <a:ext cx="5925600" cy="34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Oval 7"/>
          <p:cNvSpPr/>
          <p:nvPr/>
        </p:nvSpPr>
        <p:spPr>
          <a:xfrm>
            <a:off x="5410080" y="5889600"/>
            <a:ext cx="1295640" cy="5112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9BA08BA-7234-4E6F-A346-1117E08748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0033"/>
                </a:solidFill>
                <a:latin typeface="Century Gothic"/>
              </a:rPr>
              <a:t>6.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Testing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 for Economies of Scale and Scope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Production approach: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Views FI as producing output of services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using inputs of labor and capital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entury Gothic"/>
              </a:rPr>
              <a:t>C</a:t>
            </a:r>
            <a:r>
              <a:rPr b="0" i="1" lang="tr-TR" sz="2400" spc="-1" strike="noStrike">
                <a:solidFill>
                  <a:srgbClr val="333399"/>
                </a:solidFill>
                <a:latin typeface="Century Gothic"/>
              </a:rPr>
              <a:t>ost function</a:t>
            </a:r>
            <a:r>
              <a:rPr b="0" i="1" lang="en-US" sz="2400" spc="-1" strike="noStrike">
                <a:solidFill>
                  <a:srgbClr val="333399"/>
                </a:solidFill>
                <a:latin typeface="Century Gothic"/>
              </a:rPr>
              <a:t> = f(y,w,r)</a:t>
            </a:r>
            <a:r>
              <a:rPr b="0" i="1" lang="tr-TR" sz="2400" spc="-1" strike="noStrike">
                <a:solidFill>
                  <a:srgbClr val="333399"/>
                </a:solidFill>
                <a:latin typeface="Century Gothic"/>
              </a:rPr>
              <a:t> (output of services, wage, rent)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Intermediation approach: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Includes funds used to produce intermediated services among the inputs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entury Gothic"/>
              </a:rPr>
              <a:t>C</a:t>
            </a:r>
            <a:r>
              <a:rPr b="0" i="1" lang="tr-TR" sz="2400" spc="-1" strike="noStrike">
                <a:solidFill>
                  <a:srgbClr val="333399"/>
                </a:solidFill>
                <a:latin typeface="Century Gothic"/>
              </a:rPr>
              <a:t>ost function</a:t>
            </a:r>
            <a:r>
              <a:rPr b="0" i="1" lang="en-US" sz="2400" spc="-1" strike="noStrike">
                <a:solidFill>
                  <a:srgbClr val="333399"/>
                </a:solidFill>
                <a:latin typeface="Century Gothic"/>
              </a:rPr>
              <a:t> = f(y,w,r, </a:t>
            </a:r>
            <a:r>
              <a:rPr b="0" i="1" lang="en-US" sz="2400" spc="-1" strike="noStrike">
                <a:solidFill>
                  <a:srgbClr val="ff0000"/>
                </a:solidFill>
                <a:latin typeface="Century Gothic"/>
              </a:rPr>
              <a:t>k</a:t>
            </a:r>
            <a:r>
              <a:rPr b="0" i="1" lang="en-US" sz="2400" spc="-1" strike="noStrike">
                <a:solidFill>
                  <a:srgbClr val="333399"/>
                </a:solidFill>
                <a:latin typeface="Century Gothic"/>
              </a:rPr>
              <a:t>)</a:t>
            </a:r>
            <a:r>
              <a:rPr b="0" i="1" lang="tr-TR" sz="2400" spc="-1" strike="noStrike">
                <a:solidFill>
                  <a:srgbClr val="333399"/>
                </a:solidFill>
                <a:latin typeface="Century Gothic"/>
              </a:rPr>
              <a:t> (and cost of funds)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DFFA52E-A18C-4486-A3B1-287213D846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1. Introduction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99"/>
                </a:solidFill>
                <a:latin typeface="Century Gothic"/>
              </a:rPr>
              <a:t>Financial risk is only one part of a modern FI’s risk profile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99"/>
                </a:solidFill>
                <a:latin typeface="Century Gothic"/>
              </a:rPr>
              <a:t>FI’s have a real/production side to their operations that results in additional costs and revenues. 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This chapter discusses the factors 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That impact </a:t>
            </a:r>
            <a:r>
              <a:rPr b="0" lang="en-US" sz="1400" spc="-1" strike="noStrike">
                <a:solidFill>
                  <a:srgbClr val="333399"/>
                </a:solidFill>
                <a:latin typeface="Century Gothic"/>
              </a:rPr>
              <a:t>operational returns and risks, and also 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entury Gothic"/>
              </a:rPr>
              <a:t>the importance of optimal management and control of labor, capital, and other input sources and their costs. 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The emphasis is on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echnology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 and its impact on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risk and return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3399"/>
                </a:solidFill>
                <a:latin typeface="Century Gothic"/>
              </a:rPr>
              <a:t>Technology is not just a new distribution channel but a different way of providing financial services. 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xamples: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Risks resulting from innovations in IT and effects of terrorist attacks on key technologies</a:t>
            </a:r>
            <a:r>
              <a:rPr b="0" lang="tr-TR" sz="1600" spc="-1" strike="noStrike">
                <a:solidFill>
                  <a:srgbClr val="333399"/>
                </a:solidFill>
                <a:latin typeface="Century Gothic"/>
              </a:rPr>
              <a:t>. </a:t>
            </a:r>
            <a:br>
              <a:rPr sz="1600"/>
            </a:br>
            <a:r>
              <a:rPr b="1" lang="tr-TR" sz="1600" spc="-1" strike="noStrike">
                <a:solidFill>
                  <a:srgbClr val="ff0000"/>
                </a:solidFill>
                <a:latin typeface="Century Gothic"/>
              </a:rPr>
              <a:t>Technology effects our operations. So there are operational dimentions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Hitachi Data Systems indicates that back office system failures occur 4 times per year in a average firm. Recovery takes 12 hours. 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After 9/11 it took a week for Bank of New York to handle all the problems.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1C07310-F7E0-4293-9E40-C3AA60D294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7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Empirical Findings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 on Cost Economies of Scale and Scope 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vidence of economies of scale for banks up to the $10 billion to $25 billion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size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range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X-inefficiencies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(managerial performance and other hard-to-quantify factors)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may be more importan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conclusive evidence on scope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Recent studies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using a profit-based approach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find that large FIs tend to be more efficient in revenue generat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Potential long term gains from innovation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ashless payments system?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D892A203-6FF3-451F-AD9A-8D8BB46D4C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8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y and Evolution of the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Payments System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5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Use of electronic transactions higher in other countries</a:t>
            </a:r>
            <a:r>
              <a:rPr b="0" lang="tr-TR" sz="3200" spc="-1" strike="noStrike">
                <a:solidFill>
                  <a:srgbClr val="333399"/>
                </a:solidFill>
                <a:latin typeface="Century Gothic"/>
              </a:rPr>
              <a:t> than the USA.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Usage of checks rapidly becoming obsolete</a:t>
            </a:r>
            <a:r>
              <a:rPr b="0" lang="tr-TR" sz="2800" spc="-1" strike="noStrike">
                <a:solidFill>
                  <a:srgbClr val="333399"/>
                </a:solidFill>
                <a:latin typeface="Century Gothic"/>
              </a:rPr>
              <a:t> (outdated)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Checks cleared using electronic funds transfer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-money virtually non-existent in the U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2" marL="1097280" indent="-21924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Facilitates foreign currency transactions on the internet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2" marL="1097280" indent="-219240"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Not FDIC insured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3828C97-9F3E-4781-A764-9E66B21EC8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y and Evolution of the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Payments System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5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69" name="Picture 3" descr="C:\DOCUME~1\ADMINI~1\LOCALS~1\Temp\Rar$DR01.953\Chapter_16\Ch16_t2.jpg"/>
          <p:cNvPicPr/>
          <p:nvPr/>
        </p:nvPicPr>
        <p:blipFill>
          <a:blip r:embed="rId1"/>
          <a:stretch/>
        </p:blipFill>
        <p:spPr>
          <a:xfrm>
            <a:off x="457200" y="1371600"/>
            <a:ext cx="7010280" cy="257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~1\ADMINI~1\LOCALS~1\Temp\Rar$DR01.953\Chapter_16\Ch16_t3.jpg"/>
          <p:cNvPicPr/>
          <p:nvPr/>
        </p:nvPicPr>
        <p:blipFill>
          <a:blip r:embed="rId2"/>
          <a:stretch/>
        </p:blipFill>
        <p:spPr>
          <a:xfrm>
            <a:off x="304920" y="3925800"/>
            <a:ext cx="716256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7352E9C8-AA24-4D13-AE85-93A4C69F2B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y and Evolution of the </a:t>
            </a:r>
            <a:r>
              <a:rPr b="1" lang="en-US" sz="3200" spc="-1" strike="noStrike">
                <a:solidFill>
                  <a:srgbClr val="990033"/>
                </a:solidFill>
                <a:latin typeface="Century Gothic"/>
              </a:rPr>
              <a:t>Payments System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U.S. reluctance to abandon the use of checks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. Closing the gap will take time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U.S. payments system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628560" indent="-12564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FedWire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2" marL="628560" indent="-12564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Clearing House Interbank Payments System (CHIPS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ombined value of transactions often more than $4.5 trillion per day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408600" indent="-15696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188640" indent="-1886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188640" indent="-1886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188640" indent="-1886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99"/>
                </a:solidFill>
                <a:latin typeface="Century Gothic"/>
              </a:rPr>
              <a:t>F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or more information on the Clearing House Interbank Payments System, visit: 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CHIPS www.chips.org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74" name="Picture 5" descr="C:\DOCUME~1\ADMINI~1\LOCALS~1\Temp\Rar$DR01.953\Chapter_16\Ch16_t4.jpg"/>
          <p:cNvPicPr/>
          <p:nvPr/>
        </p:nvPicPr>
        <p:blipFill>
          <a:blip r:embed="rId1"/>
          <a:stretch/>
        </p:blipFill>
        <p:spPr>
          <a:xfrm>
            <a:off x="3276720" y="3657600"/>
            <a:ext cx="4724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200BF573-29AB-463F-B498-9CABB289A2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Risks that arise in an Electronic Transfer Payment System :Daylight Overdraft Risk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09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At the end of the banking day at 6.30 PM EST the bank </a:t>
            </a:r>
            <a:r>
              <a:rPr b="1" lang="tr-TR" sz="1800" spc="-1" strike="noStrike">
                <a:solidFill>
                  <a:srgbClr val="333399"/>
                </a:solidFill>
                <a:latin typeface="Century Gothic"/>
              </a:rPr>
              <a:t>should not have a negative reserve position with FED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, by rules. (Banks must maintain cash reserves on deposit at the FED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What is true at the end of the day is not true during the day.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Usually banks run daylight overdrafts on their reserve accounts at the Fed as their payment outflow messages exceed their payment inflow messages. (</a:t>
            </a:r>
            <a:r>
              <a:rPr b="1" lang="tr-TR" sz="1800" spc="-1" strike="noStrike">
                <a:solidFill>
                  <a:srgbClr val="333399"/>
                </a:solidFill>
                <a:latin typeface="Century Gothic"/>
              </a:rPr>
              <a:t>within day lending by Fed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99"/>
                </a:solidFill>
                <a:latin typeface="Century Gothic"/>
              </a:rPr>
              <a:t>Fed bears the Fedwire credit risk of bank failures </a:t>
            </a:r>
            <a:r>
              <a:rPr b="0" lang="tr-TR" sz="1800" spc="-1" strike="noStrike">
                <a:solidFill>
                  <a:srgbClr val="ff0000"/>
                </a:solidFill>
                <a:latin typeface="Century Gothic"/>
              </a:rPr>
              <a:t>by granting overdrafts 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without charging a market interest rate.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On CHIPS, privately owned payment system, operations are different but similar.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78" name="Picture 11" descr="C:\DOCUME~1\ADMINI~1\LOCALS~1\Temp\Rar$DR01.953\Chapter_16\sau30751_1603.jpg"/>
          <p:cNvPicPr/>
          <p:nvPr/>
        </p:nvPicPr>
        <p:blipFill>
          <a:blip r:embed="rId1"/>
          <a:stretch/>
        </p:blipFill>
        <p:spPr>
          <a:xfrm>
            <a:off x="2743200" y="4465800"/>
            <a:ext cx="53722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5ED58F3-8F00-494F-BD23-3D80381184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Risks that arise in an Electronic Transfer Payment System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International Technology Transfer Risk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While US FIs were unable to transfer their tech. İt is just the opposite for foreign FIs entering into US market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rime and Fraud Risk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Fraud risk, especially from FI employe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Riggs National Bank transactions with Saudi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Wachovia investigated in relation to money laundering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osts of complying with Patriot Act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82" name="Picture 7" descr="C:\DOCUME~1\ADMINI~1\LOCALS~1\Temp\Rar$DR01.953\Chapter_16\Ch16_t6.jpg"/>
          <p:cNvPicPr/>
          <p:nvPr/>
        </p:nvPicPr>
        <p:blipFill>
          <a:blip r:embed="rId1"/>
          <a:stretch/>
        </p:blipFill>
        <p:spPr>
          <a:xfrm>
            <a:off x="4114800" y="2666880"/>
            <a:ext cx="43243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7CE536D4-76A5-42D8-BA4A-9E2652D778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Risks that arise in an Electronic Transfer Payment System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Regulatory Risk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Technology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facilitates avoidance of regulation 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by locating in least regulated state or country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Citigroup credit card operations in South Dakota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South Dakota and Delaware liberal in terms of usury ceilings and other regulatory controls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Cayman Islands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Tax Avoidance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Internal pricing mechanisms </a:t>
            </a: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to shift profits to low tax regimes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UBS AG: the Hong Kong connection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Competition Risk: </a:t>
            </a: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nonfinancial firms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GMs credit card operation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AT&amp;T</a:t>
            </a:r>
            <a:r>
              <a:rPr b="0" lang="tr-TR" sz="1600" spc="-1" strike="noStrike">
                <a:solidFill>
                  <a:srgbClr val="333399"/>
                </a:solidFill>
                <a:latin typeface="Century Gothic"/>
              </a:rPr>
              <a:t> has also a financial institution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Industrial loan corporations (ILCs) 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Technology allows locating in Utah where regulation is more favorable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entury Gothic"/>
              </a:rPr>
              <a:t>Requirement to register ILCs as bank holding companies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1C14ED38-E6B1-4AA1-A9E1-26E424399C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9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Other Operational Risks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880" y="13716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89" name="Picture 8" descr="C:\DOCUME~1\ADMINI~1\LOCALS~1\Temp\Rar$DR01.953\Chapter_16\Ch16_t7.jpg"/>
          <p:cNvPicPr/>
          <p:nvPr/>
        </p:nvPicPr>
        <p:blipFill>
          <a:blip r:embed="rId1"/>
          <a:stretch/>
        </p:blipFill>
        <p:spPr>
          <a:xfrm>
            <a:off x="762120" y="1447920"/>
            <a:ext cx="7635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7937D16B-992D-4ECF-AA6F-428A6A7BA3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Controlling Operational Risk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prevention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Training, development, review of employee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control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lanning, organization, back-up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financing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External insurance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Loss insulation: 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FI capital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1972F220-E181-4BA4-92D6-5E765B7E74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990033"/>
                </a:solidFill>
                <a:latin typeface="Century Gothic"/>
              </a:rPr>
              <a:t>10. </a:t>
            </a: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Regulatory Issues</a:t>
            </a: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758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As FIs’ use of technology increases, operational risk increases as well.  (1980s-1990s lost over 200 billion Usd due to Op. Risk)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1999 Basel Committee on Banking Supervision noted the importance of operational risk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Follow up report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Required capital: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Basic Indicator Approach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Standardized Approach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Advanced Measurement Approach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onsumer protection issu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6217EB9-DF39-4FF7-8BDD-61EF0B853E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2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Sources of Operational Risk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At least five categories are available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echnology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5144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(Failure and declining systems)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mploye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5144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(human error and internal fraud like case of Jerome Kerviel in Feb2008 at Societe Generale) (same example is also involves </a:t>
            </a:r>
            <a:r>
              <a:rPr b="0" lang="tr-TR" sz="1400" spc="-1" strike="noStrike">
                <a:solidFill>
                  <a:srgbClr val="ff0000"/>
                </a:solidFill>
                <a:latin typeface="Century Gothic"/>
              </a:rPr>
              <a:t>market risk </a:t>
            </a: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and </a:t>
            </a:r>
            <a:r>
              <a:rPr b="0" lang="tr-TR" sz="1400" spc="-1" strike="noStrike">
                <a:solidFill>
                  <a:srgbClr val="ff0000"/>
                </a:solidFill>
                <a:latin typeface="Century Gothic"/>
              </a:rPr>
              <a:t>off balance sheet risk</a:t>
            </a: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 as well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ustomer relationship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5144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(contractual disputes) 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Capital asset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5144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(destruction by fire or other catastrophes)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External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914400" indent="-514440">
              <a:spcBef>
                <a:spcPts val="349"/>
              </a:spcBef>
              <a:buClr>
                <a:srgbClr val="333399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99"/>
                </a:solidFill>
                <a:latin typeface="Century Gothic"/>
              </a:rPr>
              <a:t>(external fraud)</a:t>
            </a:r>
            <a:endParaRPr b="0" lang="en-US" sz="1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1 to 4 are </a:t>
            </a:r>
            <a:r>
              <a:rPr b="1" lang="tr-TR" sz="2000" spc="-1" strike="noStrike">
                <a:solidFill>
                  <a:srgbClr val="333399"/>
                </a:solidFill>
                <a:latin typeface="Century Gothic"/>
              </a:rPr>
              <a:t>internally controllable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while item 5 is not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FD79D71-086A-42E7-A353-01CAF87DFD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entury Gothic"/>
              </a:rPr>
              <a:t>Other Concerns</a:t>
            </a:r>
            <a:endParaRPr b="0" lang="en-US" sz="44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Efforts to expand consumer acceptance of web-based services frustrated by scams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Phishing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Spoofing” messages purported to be from FI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entury Gothic"/>
              </a:rPr>
              <a:t>Identity theft concerns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entury Gothic"/>
              </a:rPr>
              <a:t>Vulnerability of online credit card usage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69E689F-FDD3-4EBF-9FEF-6BB451820A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0033"/>
                </a:solidFill>
                <a:latin typeface="Century Gothic"/>
              </a:rPr>
              <a:t>Thanks.</a:t>
            </a:r>
            <a:endParaRPr b="0" lang="en-US" sz="40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59CE6CB7-3870-4316-AEB4-81CE090C8A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3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ical Innovation and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Profitability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The US banks alone spend 20 billion USD per year in technology related expenditur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Efficient technological base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can result in: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Lower cost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Through improved allocation of inputs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/sources.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ncreased revenu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Through wider range of outputs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Importance of  operating cost and the efficient use of IT is demonstrated with the following </a:t>
            </a:r>
            <a:r>
              <a:rPr b="1" lang="tr-TR" sz="2000" spc="-1" strike="noStrike">
                <a:solidFill>
                  <a:srgbClr val="ff0000"/>
                </a:solidFill>
                <a:latin typeface="Century Gothic"/>
              </a:rPr>
              <a:t>profit function: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Earnings before taxes 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=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(Interest income - Interest expense) +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(Other income - Noninterest expense) –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Provision for loan losses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29623DE0-D497-4627-BF75-94428DC296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ical Innovation and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Profitability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Technological investments have the potential to increase both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the </a:t>
            </a:r>
            <a:r>
              <a:rPr b="1" lang="tr-TR" sz="2400" spc="-1" strike="noStrike">
                <a:solidFill>
                  <a:srgbClr val="ff0000"/>
                </a:solidFill>
                <a:latin typeface="Century Gothic"/>
              </a:rPr>
              <a:t>FI’s net interest margin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or </a:t>
            </a:r>
            <a:r>
              <a:rPr b="1" lang="tr-TR" sz="2400" spc="-1" strike="noStrike">
                <a:solidFill>
                  <a:srgbClr val="ff0000"/>
                </a:solidFill>
                <a:latin typeface="Century Gothic"/>
              </a:rPr>
              <a:t>the difference between interest income and interest expense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Earnings before taxes 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= 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(Interest income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 - Interest expense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) + 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(Other income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 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- Noninterest expense</a:t>
            </a:r>
            <a:r>
              <a:rPr b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) –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Provision for loan loss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6" name="Left Brace 4"/>
          <p:cNvSpPr/>
          <p:nvPr/>
        </p:nvSpPr>
        <p:spPr>
          <a:xfrm rot="16200000">
            <a:off x="3504960" y="2514240"/>
            <a:ext cx="304920" cy="4419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4419360"/>
              <a:gd name="textAreaBottom" fmla="*/ 441144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C1676919-4B08-4B15-8AD3-AF89DA1086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ical Innovation and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Profitability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(Interest income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 - Interest expense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) +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Interest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entury Gothic"/>
              </a:rPr>
              <a:t>income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 can be increased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hrough wider array of outputs or cross selling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 as a result of technological developments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Interest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entury Gothic"/>
              </a:rPr>
              <a:t>expense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 can be decreased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If access to markets for liabilities is directly dependent on the FI’s technological capability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Fedwire, CHIPS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tr-TR" sz="1800" spc="-1" strike="noStrike">
                <a:solidFill>
                  <a:srgbClr val="333399"/>
                </a:solidFill>
                <a:latin typeface="Century Gothic"/>
              </a:rPr>
              <a:t>link</a:t>
            </a: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 the </a:t>
            </a:r>
            <a:r>
              <a:rPr b="0" lang="tr-TR" sz="1800" spc="-1" strike="noStrike">
                <a:solidFill>
                  <a:srgbClr val="ff0000"/>
                </a:solidFill>
                <a:latin typeface="Century Gothic"/>
              </a:rPr>
              <a:t>domestic and international interbank lending markets.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Ability to originate and sell commercial paper is increasingly computer driven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0" name="Left Brace 4"/>
          <p:cNvSpPr/>
          <p:nvPr/>
        </p:nvSpPr>
        <p:spPr>
          <a:xfrm rot="16200000">
            <a:off x="3124080" y="228240"/>
            <a:ext cx="304920" cy="4419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4419720"/>
              <a:gd name="textAreaBottom" fmla="*/ 441180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CCE8649F-DE57-4B68-A021-C44A3370BC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Technolog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ical Innovation and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Profitability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(Other income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 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- Noninterest expense</a:t>
            </a:r>
            <a:r>
              <a:rPr b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) –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Provision for loan losses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Other income can be increased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332640" indent="-3326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hrough electronic handling of fee generating OBS activities such as LCs and derivatives</a:t>
            </a: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, many trade finance products are now on line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332640" indent="-3326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Century Gothic"/>
              </a:rPr>
              <a:t>These are linked to the quality of the FI’s technology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Noninterest expenses can be reduced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1" marL="332640" indent="-332640">
              <a:spcBef>
                <a:spcPts val="499"/>
              </a:spcBef>
              <a:buClr>
                <a:srgbClr val="3333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Through improved efficiency of back office operations using technology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entury Gothic"/>
              </a:rPr>
              <a:t>Especially true for securities-related activities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lvl="2" marL="1108440" indent="-221400">
              <a:spcBef>
                <a:spcPts val="45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Century Gothic"/>
              </a:rPr>
              <a:t>Collection, storage, processing and settlement of customer information are computer based.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4" name="Left Brace 4"/>
          <p:cNvSpPr/>
          <p:nvPr/>
        </p:nvSpPr>
        <p:spPr>
          <a:xfrm rot="16200000">
            <a:off x="3581280" y="-304920"/>
            <a:ext cx="304920" cy="5334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5334120"/>
              <a:gd name="textAreaBottom" fmla="*/ 5326200 h 533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A5AEF6F-5985-4D17-B5F7-4EA3CFF13F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4.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Impact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of IT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on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Century Gothic"/>
              </a:rPr>
              <a:t>Wholesale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&amp; Retail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Banking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entury Gothic"/>
              </a:rPr>
              <a:t>Improvements to </a:t>
            </a:r>
            <a:r>
              <a:rPr b="1" lang="en-US" sz="1200" spc="-1" strike="noStrike">
                <a:solidFill>
                  <a:srgbClr val="333399"/>
                </a:solidFill>
                <a:latin typeface="Century Gothic"/>
              </a:rPr>
              <a:t>cash management</a:t>
            </a:r>
            <a:r>
              <a:rPr b="0" lang="en-US" sz="1200" spc="-1" strike="noStrike">
                <a:solidFill>
                  <a:srgbClr val="333399"/>
                </a:solidFill>
                <a:latin typeface="Century Gothic"/>
              </a:rPr>
              <a:t>:</a:t>
            </a:r>
            <a:r>
              <a:rPr b="0" lang="tr-TR" sz="1200" spc="-1" strike="noStrike">
                <a:solidFill>
                  <a:srgbClr val="333399"/>
                </a:solidFill>
                <a:latin typeface="Century Gothic"/>
              </a:rPr>
              <a:t> (services designed to collect, disburse and transfer funds on a local, regional, national, international basis) </a:t>
            </a:r>
            <a:endParaRPr b="0" lang="en-US" sz="1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Century Gothic"/>
              </a:rPr>
              <a:t>These services required by corporates</a:t>
            </a:r>
            <a:endParaRPr b="0" lang="en-US" sz="12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249"/>
              </a:spcBef>
              <a:buClr>
                <a:srgbClr val="333399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Century Gothic"/>
              </a:rPr>
              <a:t>Excess cash balances result in a significant opportunity cost </a:t>
            </a:r>
            <a:endParaRPr b="0" lang="en-US" sz="10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249"/>
              </a:spcBef>
              <a:buClr>
                <a:srgbClr val="333399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Century Gothic"/>
              </a:rPr>
              <a:t>Need to know working capital or cash position real time.</a:t>
            </a:r>
            <a:endParaRPr b="0" lang="en-US" sz="10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ontrolled disbursement accounts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Account reconciliation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(by a feature which checks have been paid)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Wholesale lockbox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– regarding check payments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ectronic lockbox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– for online payments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unds concentration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– from several accounts to one FI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ectronic funds transfer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– including SWIFT</a:t>
            </a: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heck deposit services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 - 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ectronic initiation of letters of credit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Treasury management software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-allows efficienty for multiple currency-security transactions.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ectronic data interchange</a:t>
            </a:r>
            <a:r>
              <a:rPr b="0" lang="tr-TR" sz="1300" spc="-1" strike="noStrike">
                <a:solidFill>
                  <a:srgbClr val="000000"/>
                </a:solidFill>
                <a:latin typeface="Century Gothic"/>
              </a:rPr>
              <a:t>-EDI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acilitating B2B e-commerce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Electronic billing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Verifying identities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2" marL="125748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Issue of law enforcement access to encrypted data since September 11, 2001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  <a:p>
            <a:pPr lvl="1" marL="857160" indent="-457200">
              <a:spcBef>
                <a:spcPts val="326"/>
              </a:spcBef>
              <a:buClr>
                <a:srgbClr val="000000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Assisting small business entry into e-commerce</a:t>
            </a:r>
            <a:endParaRPr b="0" lang="en-US" sz="13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7867800" y="6191280"/>
            <a:ext cx="838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03B1100-6480-41ED-B4E6-001B48EEC6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Impact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of IT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on Wholesale 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&amp; </a:t>
            </a:r>
            <a:r>
              <a:rPr b="0" lang="tr-TR" sz="3200" spc="-1" strike="noStrike" u="sng">
                <a:solidFill>
                  <a:srgbClr val="990033"/>
                </a:solidFill>
                <a:uFillTx/>
                <a:latin typeface="Century Gothic"/>
              </a:rPr>
              <a:t>Retail</a:t>
            </a:r>
            <a:r>
              <a:rPr b="0" lang="tr-TR" sz="3200" spc="-1" strike="noStrike">
                <a:solidFill>
                  <a:srgbClr val="990033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Banking</a:t>
            </a:r>
            <a:endParaRPr b="0" lang="en-US" sz="3200" spc="-1" strike="noStrike">
              <a:solidFill>
                <a:srgbClr val="990033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Retail customers also want efficiency and flexibility in their financial transactions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With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a single click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Merrill Lynch customers can obtain information on all research (conducted by Merrill Lynch) on a company.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Another click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gives the customer information on the best terms available on a trade, an a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final click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executes a customer’s trade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A typical customer transaction 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through a branch or phone call </a:t>
            </a:r>
            <a:r>
              <a:rPr b="1" lang="tr-TR" sz="2400" spc="-1" strike="noStrike">
                <a:solidFill>
                  <a:srgbClr val="333399"/>
                </a:solidFill>
                <a:latin typeface="Century Gothic"/>
              </a:rPr>
              <a:t>costs a customer about $1</a:t>
            </a:r>
            <a:r>
              <a:rPr b="0" lang="tr-TR" sz="2400" spc="-1" strike="noStrike">
                <a:solidFill>
                  <a:srgbClr val="333399"/>
                </a:solidFill>
                <a:latin typeface="Century Gothic"/>
              </a:rPr>
              <a:t>, while a similar </a:t>
            </a:r>
            <a:r>
              <a:rPr b="0" lang="tr-TR" sz="2400" spc="-1" strike="noStrike">
                <a:solidFill>
                  <a:srgbClr val="ff0000"/>
                </a:solidFill>
                <a:latin typeface="Century Gothic"/>
              </a:rPr>
              <a:t>online transaction costs just $0.02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5:44:52Z</dcterms:created>
  <dc:creator>KeStanton</dc:creator>
  <dc:description/>
  <dc:language>en-US</dc:language>
  <cp:lastModifiedBy>monera</cp:lastModifiedBy>
  <dcterms:modified xsi:type="dcterms:W3CDTF">2015-01-26T07:23:31Z</dcterms:modified>
  <cp:revision>315</cp:revision>
  <dc:subject/>
  <dc:title>Slide 1</dc:title>
</cp:coreProperties>
</file>