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B1A9-2570-4E48-9798-46790D1B6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Technology may allow two Fıs to jointly use their input resources, such as capital and labor, to produce a set of financial services at a lower cost than if financial service products were produced independently of one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B040-5E54-4622-A01D-D8C3E9198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C66C-95FB-411C-AB57-D55BBBD76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59C6-74FD-4C65-83C6-51313C08D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tiality br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Theft of code by ex-Goldman pro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lation of ethical problems via email ex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satisfa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oorly performing technology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2600-BC2B-44E5-BBA7-39697EC8E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érôme Kerviel was allegedly involved in an illegal trading scheme amounting to €50 bn., which resulted in a loss of €4.9 bn at Société Générale, the second largest bank in F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g.org/article.asp?id=60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0CA4-86AC-447E-8180-A7742A87A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ww.bi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earing Ho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p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IC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www.fdic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wap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sd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Street Jour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www.wsj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9E29-9905-4CF5-B5CF-903368BEB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7033-EA15-4AEA-A0F8-71A686FD5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1277-FBB2-4393-B2C8-2218B27C8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B59F-0E50-47C0-B9BB-CB4A88794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4298-4E48-4DA6-B1B8-D18030FBA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D463-9C3F-4638-B6AA-824AEA4B7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4393-D719-4217-93A3-A4E32B4C2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EB32-8110-4EBE-94F2-99A026B5A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D1AC-C47F-4B88-A7F8-253869CCE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4B0C-6046-46C0-8AF5-7AF7941BC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CB29-E18C-43CC-A9D2-A85718AE4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19DB-D661-4D2B-B4B1-40C7B5023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835C-97C5-4F61-8395-5051A91A8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5" name="Picture 1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87676C5C-0889-4661-989F-E2C15E3FE0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481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"/>
          <p:cNvPicPr/>
          <p:nvPr/>
        </p:nvPicPr>
        <p:blipFill>
          <a:blip r:embed="rId4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2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HAPTER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echnology and Other Operational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4600440" y="6477120"/>
            <a:ext cx="442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pyright © 2011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76320" y="6477120"/>
            <a:ext cx="125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0A919169-3EE5-47BA-87E4-E0E916B905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Impact 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of IT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on Wholesale 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&amp; </a:t>
            </a:r>
            <a:r>
              <a:rPr b="0" lang="tr-TR" sz="3200" spc="-1" strike="noStrike" u="sng">
                <a:solidFill>
                  <a:srgbClr val="990033"/>
                </a:solidFill>
                <a:uFillTx/>
                <a:latin typeface="Century Gothic"/>
              </a:rPr>
              <a:t>Retail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Banking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Automated teller machines</a:t>
            </a:r>
            <a:r>
              <a:rPr b="0" lang="tr-TR" sz="3200" spc="-1" strike="noStrike">
                <a:solidFill>
                  <a:srgbClr val="333399"/>
                </a:solidFill>
                <a:latin typeface="Century Gothic"/>
              </a:rPr>
              <a:t> (ATMs)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oint-of-sale debit cards</a:t>
            </a:r>
            <a:r>
              <a:rPr b="0" lang="tr-TR" sz="3200" spc="-1" strike="noStrike">
                <a:solidFill>
                  <a:srgbClr val="333399"/>
                </a:solidFill>
                <a:latin typeface="Century Gothic"/>
              </a:rPr>
              <a:t> (POS)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Home bank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reauthorized debits/credit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ay-by-phon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nline bank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mart card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Century Gothic"/>
              </a:rPr>
              <a:t>+++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9E2DAEA4-ECDC-455D-AE47-5348B4D959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5.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Effects of Technology on 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Revenues &amp; Costs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-1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Investment in technology </a:t>
            </a:r>
            <a:r>
              <a:rPr b="1" lang="tr-TR" sz="2800" spc="-1" strike="noStrike">
                <a:solidFill>
                  <a:srgbClr val="333399"/>
                </a:solidFill>
                <a:latin typeface="Century Gothic"/>
              </a:rPr>
              <a:t>is</a:t>
            </a: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 risky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Innovations may fail to attract sufficient business, it is risky !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Innovations may turn out to be negative net present value projects. (because of 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uncertainty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over revenue and cost)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P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otential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competitive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 responses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 from the rivals may be another problem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(mimicing the successfull project)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Manager’s 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growth oriented investment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vs. 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stockholder’s value maximizing objective can be in conflict.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CAFF9840-2383-4890-948F-8899F0DF0C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Effects of Technology on 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Revenues &amp; Costs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-2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Profitabilty of product innovation </a:t>
            </a:r>
            <a:r>
              <a:rPr b="1" lang="tr-TR" sz="2000" spc="-1" strike="noStrike">
                <a:solidFill>
                  <a:srgbClr val="333399"/>
                </a:solidFill>
                <a:latin typeface="Century Gothic"/>
              </a:rPr>
              <a:t>negatively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 related with 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initial setup and development cost 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and </a:t>
            </a:r>
            <a:r>
              <a:rPr b="1" lang="tr-TR" sz="2000" spc="-1" strike="noStrike">
                <a:solidFill>
                  <a:srgbClr val="333399"/>
                </a:solidFill>
                <a:latin typeface="Century Gothic"/>
              </a:rPr>
              <a:t>positively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 related with 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expected cash flow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You should consider whether direct or indirect evidence shows if IT invesment to increase revenue or decrease cost !!!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&amp; Innovation cannot be evaluated independently from 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regulation&amp;regulatory changes. 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Evidence shows the impact of regulation on the value of technological innovation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for example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Branching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restrictions in U.S. affect the </a:t>
            </a: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value of cash management services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,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Century Gothic"/>
              </a:rPr>
              <a:t>2 dimentions of Technology we will discuss are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Century Gothic"/>
              </a:rPr>
              <a:t>Product revenue side  / Operating cost side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80E84E24-A355-4015-87CA-1B49F75DBB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Effects of Technology on </a:t>
            </a:r>
            <a:br>
              <a:rPr sz="3200"/>
            </a:br>
            <a:r>
              <a:rPr b="0" lang="en-US" sz="3200" spc="-1" strike="noStrike" u="sng">
                <a:solidFill>
                  <a:srgbClr val="990033"/>
                </a:solidFill>
                <a:uFillTx/>
                <a:latin typeface="Century Gothic"/>
              </a:rPr>
              <a:t>Revenues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 &amp; Costs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-3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Revenue effects: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Facilitates cross-marketing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Mixed succes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Example: Citigroup and insurance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Technology i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ncreases innovation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 (new products)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20720" indent="-27720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Service quality and convenience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 is another dimention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Inability of ATMs to interact with customers as humans can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Example:  Customers compare mortgage rates online, but only 2% close online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Virtual FIs operating branch office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3" marL="1551960" indent="-221400">
              <a:spcBef>
                <a:spcPts val="400"/>
              </a:spcBef>
              <a:buClr>
                <a:srgbClr val="333399"/>
              </a:buClr>
              <a:buFont typeface="Arial"/>
              <a:buChar char="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Example: ING Direct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83599C7E-590B-4A92-8BE3-483DEDF11B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Effects of Technology on 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Revenues &amp; 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Century Gothic"/>
              </a:rPr>
              <a:t>Costs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-4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entury Gothic"/>
              </a:rPr>
              <a:t>The </a:t>
            </a:r>
            <a:r>
              <a:rPr b="1" lang="tr-TR" sz="2000" spc="-1" strike="noStrike">
                <a:solidFill>
                  <a:srgbClr val="ff0000"/>
                </a:solidFill>
                <a:latin typeface="Century Gothic"/>
              </a:rPr>
              <a:t>benefits</a:t>
            </a:r>
            <a:r>
              <a:rPr b="0" lang="tr-TR" sz="2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tr-TR" sz="2000" spc="-1" strike="noStrike">
                <a:solidFill>
                  <a:srgbClr val="ff0000"/>
                </a:solidFill>
                <a:latin typeface="Century Gothic"/>
              </a:rPr>
              <a:t>are considered more on the </a:t>
            </a:r>
            <a:r>
              <a:rPr b="0" lang="tr-TR" sz="2000" spc="-1" strike="noStrike">
                <a:solidFill>
                  <a:srgbClr val="ff0000"/>
                </a:solidFill>
                <a:latin typeface="Century Gothic"/>
              </a:rPr>
              <a:t>costs side </a:t>
            </a:r>
            <a:r>
              <a:rPr b="0" lang="tr-TR" sz="2000" spc="-1" strike="noStrike">
                <a:solidFill>
                  <a:srgbClr val="ff0000"/>
                </a:solidFill>
                <a:latin typeface="Century Gothic"/>
              </a:rPr>
              <a:t>rather then </a:t>
            </a:r>
            <a:r>
              <a:rPr b="1" lang="tr-TR" sz="2000" spc="-1" strike="noStrike">
                <a:solidFill>
                  <a:srgbClr val="ff0000"/>
                </a:solidFill>
                <a:latin typeface="Century Gothic"/>
              </a:rPr>
              <a:t>revenue side</a:t>
            </a:r>
            <a:r>
              <a:rPr b="0" lang="tr-TR" sz="20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333399"/>
                </a:solidFill>
                <a:uFillTx/>
                <a:latin typeface="Century Gothic"/>
              </a:rPr>
              <a:t>Economies of Scale: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Potential </a:t>
            </a: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average cost advantage 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for larger FI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Economies of scale</a:t>
            </a:r>
            <a:r>
              <a:rPr b="0" lang="tr-TR" sz="1800" spc="-1" strike="noStrike">
                <a:solidFill>
                  <a:srgbClr val="ff0000"/>
                </a:solidFill>
                <a:latin typeface="Century Gothic"/>
              </a:rPr>
              <a:t> imply that the unit or average cost of producing FI services in aggregate falls as the size of the FI expand. 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Potential elimination of smaller banks?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Technological investments are risky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Potential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diseconomies of scale</a:t>
            </a:r>
            <a:r>
              <a:rPr b="0" lang="tr-TR" sz="1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(increase in the average costs of production as the output of an FI increases)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6ACE155D-FF7F-44ED-A53C-84255C7752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Economies of Scale in FIs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644400" y="1162080"/>
            <a:ext cx="7972560" cy="4842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4952880" y="16002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The unit or average cost of producing FI services in aggregate (or some specifics services) falls as the size of the FI expands. (S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"/>
          <p:cNvSpPr/>
          <p:nvPr/>
        </p:nvSpPr>
        <p:spPr>
          <a:xfrm>
            <a:off x="5181480" y="5334120"/>
            <a:ext cx="838440" cy="6699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AE85372B-3AC1-464F-9FD0-6C462844CA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entury Gothic"/>
              </a:rPr>
              <a:t>Effects of Technological Improvement</a:t>
            </a:r>
            <a:endParaRPr b="0" lang="en-US" sz="2800" spc="-1" strike="noStrike">
              <a:solidFill>
                <a:srgbClr val="990033"/>
              </a:solidFill>
              <a:latin typeface="Century Gothic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224240" cy="28954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4970520" y="1263600"/>
            <a:ext cx="329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effects of improving technology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over time is to shift the AC curve downward but with a larger downward shift for large F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4995720" y="2743200"/>
            <a:ext cx="346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If not (due to excess capacity, or integration problems etc.) than small FIs with simple and easily managed computer systems without a huge fixed cost will have advantage causing </a:t>
            </a: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diseconomies of sca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333440" y="5181480"/>
            <a:ext cx="693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Diseconomies of scale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imply that small FIs are more cost efficient than large FIs and that in a freely competitive environment for financial servi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757EDDC-499F-479C-B997-C9AB7B42F3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Effects of Technology on 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Revenues &amp; 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Century Gothic"/>
              </a:rPr>
              <a:t>Costs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-5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99"/>
                </a:solidFill>
                <a:latin typeface="Century Gothic"/>
              </a:rPr>
              <a:t>Economies of Scope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The ability of FIs to generate synergistic cost savings through joint use of inputs in producing multiple products.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Diseconomies of </a:t>
            </a:r>
            <a:r>
              <a:rPr b="1" lang="tr-TR" sz="20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cope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: Instead of joint production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Century Gothic"/>
              </a:rPr>
              <a:t>specialization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 may have cost benefits in production and delivery of some FI services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FIs are </a:t>
            </a:r>
            <a:r>
              <a:rPr b="1" lang="tr-TR" sz="2000" spc="-1" strike="noStrike">
                <a:solidFill>
                  <a:srgbClr val="333399"/>
                </a:solidFill>
                <a:latin typeface="Century Gothic"/>
              </a:rPr>
              <a:t>multiproduct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 firms producing services involving different technological needs.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Improving technology in one service may synergistic benefits in lowering the costs of some other areas.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333399"/>
                </a:solidFill>
                <a:uFillTx/>
                <a:latin typeface="Century Gothic"/>
              </a:rPr>
              <a:t>Economies of scale </a:t>
            </a:r>
            <a:r>
              <a:rPr b="0" lang="tr-TR" sz="2000" spc="-1" strike="noStrike" u="sng">
                <a:solidFill>
                  <a:srgbClr val="333399"/>
                </a:solidFill>
                <a:uFillTx/>
                <a:latin typeface="Century Gothic"/>
              </a:rPr>
              <a:t>ignores this interrelationship  while </a:t>
            </a:r>
            <a:r>
              <a:rPr b="1" lang="tr-TR" sz="2000" spc="-1" strike="noStrike" u="sng">
                <a:solidFill>
                  <a:srgbClr val="333399"/>
                </a:solidFill>
                <a:uFillTx/>
                <a:latin typeface="Century Gothic"/>
              </a:rPr>
              <a:t>Economies of scope 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does not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F39DA8EB-A369-4CDB-B846-B0E727AE08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990033"/>
                </a:solidFill>
                <a:latin typeface="Century Gothic"/>
              </a:rPr>
              <a:t>Calculation of Average Costs</a:t>
            </a:r>
            <a:endParaRPr b="0" lang="en-US" sz="36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grpSp>
        <p:nvGrpSpPr>
          <p:cNvPr id="153" name="Group 1"/>
          <p:cNvGrpSpPr/>
          <p:nvPr/>
        </p:nvGrpSpPr>
        <p:grpSpPr>
          <a:xfrm>
            <a:off x="1447920" y="1492200"/>
            <a:ext cx="5933880" cy="4991040"/>
            <a:chOff x="1447920" y="1492200"/>
            <a:chExt cx="5933880" cy="4991040"/>
          </a:xfrm>
        </p:grpSpPr>
        <p:pic>
          <p:nvPicPr>
            <p:cNvPr id="154" name="Picture 6" descr=""/>
            <p:cNvPicPr/>
            <p:nvPr/>
          </p:nvPicPr>
          <p:blipFill>
            <a:blip r:embed="rId1"/>
            <a:stretch/>
          </p:blipFill>
          <p:spPr>
            <a:xfrm>
              <a:off x="1447920" y="4736160"/>
              <a:ext cx="5933880" cy="174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5" descr=""/>
            <p:cNvPicPr/>
            <p:nvPr/>
          </p:nvPicPr>
          <p:blipFill>
            <a:blip r:embed="rId2"/>
            <a:srcRect l="0" t="0" r="0" b="4503"/>
            <a:stretch/>
          </p:blipFill>
          <p:spPr>
            <a:xfrm>
              <a:off x="1447920" y="1492200"/>
              <a:ext cx="5925600" cy="34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Oval 7"/>
          <p:cNvSpPr/>
          <p:nvPr/>
        </p:nvSpPr>
        <p:spPr>
          <a:xfrm>
            <a:off x="5410080" y="5889600"/>
            <a:ext cx="1295640" cy="5112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656EBC95-85CE-4845-B52C-08E8F2110D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990033"/>
                </a:solidFill>
                <a:latin typeface="Century Gothic"/>
              </a:rPr>
              <a:t>6. </a:t>
            </a:r>
            <a:r>
              <a:rPr b="1" lang="en-US" sz="3200" spc="-1" strike="noStrike">
                <a:solidFill>
                  <a:srgbClr val="990033"/>
                </a:solidFill>
                <a:latin typeface="Century Gothic"/>
              </a:rPr>
              <a:t>Testing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 for Economies of Scale and Scope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Production approach: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Views FI as producing output of services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using inputs of labor and capital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entury Gothic"/>
              </a:rPr>
              <a:t>C</a:t>
            </a:r>
            <a:r>
              <a:rPr b="0" i="1" lang="tr-TR" sz="2400" spc="-1" strike="noStrike">
                <a:solidFill>
                  <a:srgbClr val="333399"/>
                </a:solidFill>
                <a:latin typeface="Century Gothic"/>
              </a:rPr>
              <a:t>ost function</a:t>
            </a:r>
            <a:r>
              <a:rPr b="0" i="1" lang="en-US" sz="2400" spc="-1" strike="noStrike">
                <a:solidFill>
                  <a:srgbClr val="333399"/>
                </a:solidFill>
                <a:latin typeface="Century Gothic"/>
              </a:rPr>
              <a:t> = f(y,w,r)</a:t>
            </a:r>
            <a:r>
              <a:rPr b="0" i="1" lang="tr-TR" sz="2400" spc="-1" strike="noStrike">
                <a:solidFill>
                  <a:srgbClr val="333399"/>
                </a:solidFill>
                <a:latin typeface="Century Gothic"/>
              </a:rPr>
              <a:t> (output of services, wage, rent)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Intermediation approach: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Includes funds used to produce intermediated services among the input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entury Gothic"/>
              </a:rPr>
              <a:t>C</a:t>
            </a:r>
            <a:r>
              <a:rPr b="0" i="1" lang="tr-TR" sz="2400" spc="-1" strike="noStrike">
                <a:solidFill>
                  <a:srgbClr val="333399"/>
                </a:solidFill>
                <a:latin typeface="Century Gothic"/>
              </a:rPr>
              <a:t>ost function</a:t>
            </a:r>
            <a:r>
              <a:rPr b="0" i="1" lang="en-US" sz="2400" spc="-1" strike="noStrike">
                <a:solidFill>
                  <a:srgbClr val="333399"/>
                </a:solidFill>
                <a:latin typeface="Century Gothic"/>
              </a:rPr>
              <a:t> = f(y,w,r, </a:t>
            </a:r>
            <a:r>
              <a:rPr b="0" i="1" lang="en-US" sz="2400" spc="-1" strike="noStrike">
                <a:solidFill>
                  <a:srgbClr val="ff0000"/>
                </a:solidFill>
                <a:latin typeface="Century Gothic"/>
              </a:rPr>
              <a:t>k</a:t>
            </a:r>
            <a:r>
              <a:rPr b="0" i="1" lang="en-US" sz="2400" spc="-1" strike="noStrike">
                <a:solidFill>
                  <a:srgbClr val="333399"/>
                </a:solidFill>
                <a:latin typeface="Century Gothic"/>
              </a:rPr>
              <a:t>)</a:t>
            </a:r>
            <a:r>
              <a:rPr b="0" i="1" lang="tr-TR" sz="2400" spc="-1" strike="noStrike">
                <a:solidFill>
                  <a:srgbClr val="333399"/>
                </a:solidFill>
                <a:latin typeface="Century Gothic"/>
              </a:rPr>
              <a:t> (and cost of funds)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AD380D06-E684-4768-8A0B-357BD9FDD7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1. Introduction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333399"/>
                </a:solidFill>
                <a:latin typeface="Century Gothic"/>
              </a:rPr>
              <a:t>Financial risk is only one part of a modern FI’s risk profile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333399"/>
                </a:solidFill>
                <a:latin typeface="Century Gothic"/>
              </a:rPr>
              <a:t>FI’s have a real/production side to their operations that results in additional costs and revenues. 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This chapter discusses the factors 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That impact </a:t>
            </a:r>
            <a:r>
              <a:rPr b="0" lang="en-US" sz="1400" spc="-1" strike="noStrike">
                <a:solidFill>
                  <a:srgbClr val="333399"/>
                </a:solidFill>
                <a:latin typeface="Century Gothic"/>
              </a:rPr>
              <a:t>operational returns and risks, and also 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entury Gothic"/>
              </a:rPr>
              <a:t>the importance of optimal management and control of labor, capital, and other input sources and their costs. 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The emphasis is on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echnology</a:t>
            </a: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 and its impact on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risk and return</a:t>
            </a: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333399"/>
                </a:solidFill>
                <a:latin typeface="Century Gothic"/>
              </a:rPr>
              <a:t>Technology is not just a new distribution channel but a different way of providing financial services. 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Examples: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Risks resulting from innovations in IT and effects of terrorist attacks on key technologies</a:t>
            </a:r>
            <a:r>
              <a:rPr b="0" lang="tr-TR" sz="1600" spc="-1" strike="noStrike">
                <a:solidFill>
                  <a:srgbClr val="333399"/>
                </a:solidFill>
                <a:latin typeface="Century Gothic"/>
              </a:rPr>
              <a:t>. </a:t>
            </a:r>
            <a:br>
              <a:rPr sz="1600"/>
            </a:br>
            <a:r>
              <a:rPr b="1" lang="tr-TR" sz="1600" spc="-1" strike="noStrike">
                <a:solidFill>
                  <a:srgbClr val="ff0000"/>
                </a:solidFill>
                <a:latin typeface="Century Gothic"/>
              </a:rPr>
              <a:t>Technology effects our operations. So there are operational dimentions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Hitachi Data Systems indicates that back office system failures occur 4 times per year in a average firm. Recovery takes 12 hours. 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After 9/11 it took a week for Bank of New York to handle all the problems.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9ED50CBA-1A44-4A80-804F-9DA5BBE146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7.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Empirical Findings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 on Cost Economies of Scale and Scope 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Evidence of economies of scale for banks up to the $10 billion to $25 billion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size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range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X-inefficiencies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(managerial performance and other hard-to-quantify factors)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may be more important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conclusive evidence on scope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Recent studies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using a profit-based approach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find that large FIs tend to be more efficient in revenue generation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Potential long term gains from innovation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Cashless payments system?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764B1D55-13BB-4053-BF38-8AD09117A1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8.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Technology and Evolution of the </a:t>
            </a:r>
            <a:r>
              <a:rPr b="1" lang="en-US" sz="3200" spc="-1" strike="noStrike">
                <a:solidFill>
                  <a:srgbClr val="990033"/>
                </a:solidFill>
                <a:latin typeface="Century Gothic"/>
              </a:rPr>
              <a:t>Payments System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52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Use of electronic transactions higher in other countries</a:t>
            </a:r>
            <a:r>
              <a:rPr b="0" lang="tr-TR" sz="3200" spc="-1" strike="noStrike">
                <a:solidFill>
                  <a:srgbClr val="333399"/>
                </a:solidFill>
                <a:latin typeface="Century Gothic"/>
              </a:rPr>
              <a:t> than the USA.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Usage of checks rapidly becoming obsolete</a:t>
            </a:r>
            <a:r>
              <a:rPr b="0" lang="tr-TR" sz="2800" spc="-1" strike="noStrike">
                <a:solidFill>
                  <a:srgbClr val="333399"/>
                </a:solidFill>
                <a:latin typeface="Century Gothic"/>
              </a:rPr>
              <a:t> (outdated)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hecks cleared using electronic funds transfer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-money virtually non-existent in the U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097280" indent="-21924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Facilitates foreign currency transactions on the internet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097280" indent="-21924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Not FDIC insured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98ADE5C1-4322-46CF-99C6-48BA9721D2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Technology and Evolution of the </a:t>
            </a:r>
            <a:r>
              <a:rPr b="1" lang="en-US" sz="3200" spc="-1" strike="noStrike">
                <a:solidFill>
                  <a:srgbClr val="990033"/>
                </a:solidFill>
                <a:latin typeface="Century Gothic"/>
              </a:rPr>
              <a:t>Payments System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52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69" name="Picture 3" descr="C:\DOCUME~1\ADMINI~1\LOCALS~1\Temp\Rar$DR01.953\Chapter_16\Ch16_t2.jpg"/>
          <p:cNvPicPr/>
          <p:nvPr/>
        </p:nvPicPr>
        <p:blipFill>
          <a:blip r:embed="rId1"/>
          <a:stretch/>
        </p:blipFill>
        <p:spPr>
          <a:xfrm>
            <a:off x="457200" y="1371600"/>
            <a:ext cx="7010280" cy="257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~1\ADMINI~1\LOCALS~1\Temp\Rar$DR01.953\Chapter_16\Ch16_t3.jpg"/>
          <p:cNvPicPr/>
          <p:nvPr/>
        </p:nvPicPr>
        <p:blipFill>
          <a:blip r:embed="rId2"/>
          <a:stretch/>
        </p:blipFill>
        <p:spPr>
          <a:xfrm>
            <a:off x="304920" y="3925800"/>
            <a:ext cx="716256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4C06CA8-EBD5-4815-8F3C-36FEC27481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Technology and Evolution of the </a:t>
            </a:r>
            <a:r>
              <a:rPr b="1" lang="en-US" sz="3200" spc="-1" strike="noStrike">
                <a:solidFill>
                  <a:srgbClr val="990033"/>
                </a:solidFill>
                <a:latin typeface="Century Gothic"/>
              </a:rPr>
              <a:t>Payments System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lvl="1" marL="408600" indent="-156960" algn="ctr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U.S. reluctance to abandon the use of checks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. Closing the gap will take time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408600" indent="-15696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U.S. payments system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628560" indent="-12564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FedWire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2" marL="628560" indent="-12564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Clearing House Interbank Payments System (CHIPS)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1" marL="408600" indent="-15696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Combined value of transactions often more than $4.5 trillion per day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408600" indent="-15696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408600" indent="-15696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408600" indent="-15696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408600" indent="-15696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188640" indent="-18864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188640" indent="-18864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188640" indent="-18864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333399"/>
                </a:solidFill>
                <a:latin typeface="Century Gothic"/>
              </a:rPr>
              <a:t>F</a:t>
            </a: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or more information on the Clearing House Interbank Payments System, visit: </a:t>
            </a: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CHIPS www.chips.org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74" name="Picture 5" descr="C:\DOCUME~1\ADMINI~1\LOCALS~1\Temp\Rar$DR01.953\Chapter_16\Ch16_t4.jpg"/>
          <p:cNvPicPr/>
          <p:nvPr/>
        </p:nvPicPr>
        <p:blipFill>
          <a:blip r:embed="rId1"/>
          <a:stretch/>
        </p:blipFill>
        <p:spPr>
          <a:xfrm>
            <a:off x="3276720" y="3657600"/>
            <a:ext cx="4724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2D0FD3B-0CBA-49B5-90D6-BFC2E94441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Risks that arise in an Electronic Transfer Payment System :Daylight Overdraft Risk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09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At the end of the banking day at 6.30 PM EST the bank </a:t>
            </a:r>
            <a:r>
              <a:rPr b="1" lang="tr-TR" sz="1800" spc="-1" strike="noStrike">
                <a:solidFill>
                  <a:srgbClr val="333399"/>
                </a:solidFill>
                <a:latin typeface="Century Gothic"/>
              </a:rPr>
              <a:t>should not have a negative reserve position with FED</a:t>
            </a: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, by rules. (Banks must maintain cash reserves on deposit at the FED)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What is true at the end of the day is not true during the day.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Usually banks run daylight overdrafts on their reserve accounts at the Fed as their payment outflow messages exceed their payment inflow messages. (</a:t>
            </a:r>
            <a:r>
              <a:rPr b="1" lang="tr-TR" sz="1800" spc="-1" strike="noStrike">
                <a:solidFill>
                  <a:srgbClr val="333399"/>
                </a:solidFill>
                <a:latin typeface="Century Gothic"/>
              </a:rPr>
              <a:t>within day lending by Fed</a:t>
            </a: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3399"/>
                </a:solidFill>
                <a:latin typeface="Century Gothic"/>
              </a:rPr>
              <a:t>Fed bears the Fedwire credit risk of bank failures </a:t>
            </a:r>
            <a:r>
              <a:rPr b="0" lang="tr-TR" sz="1800" spc="-1" strike="noStrike">
                <a:solidFill>
                  <a:srgbClr val="ff0000"/>
                </a:solidFill>
                <a:latin typeface="Century Gothic"/>
              </a:rPr>
              <a:t>by granting overdrafts </a:t>
            </a: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without charging a market interest rate. 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On CHIPS, privately owned payment system, operations are different but similar.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78" name="Picture 11" descr="C:\DOCUME~1\ADMINI~1\LOCALS~1\Temp\Rar$DR01.953\Chapter_16\sau30751_1603.jpg"/>
          <p:cNvPicPr/>
          <p:nvPr/>
        </p:nvPicPr>
        <p:blipFill>
          <a:blip r:embed="rId1"/>
          <a:stretch/>
        </p:blipFill>
        <p:spPr>
          <a:xfrm>
            <a:off x="2743200" y="4465800"/>
            <a:ext cx="53722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63F650AA-9BE5-4EB2-814A-778990F3D3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Risks that arise in an Electronic Transfer Payment System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ternational Technology Transfer Risk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While US FIs were unable to transfer their tech. İt is just the opposite for foreign FIs entering into US market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rime and Fraud Risk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Fraud risk, especially from FI employee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Riggs National Bank transactions with Saudi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Wachovia investigated in relation to money laundering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Costs of complying with Patriot Act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82" name="Picture 7" descr="C:\DOCUME~1\ADMINI~1\LOCALS~1\Temp\Rar$DR01.953\Chapter_16\Ch16_t6.jpg"/>
          <p:cNvPicPr/>
          <p:nvPr/>
        </p:nvPicPr>
        <p:blipFill>
          <a:blip r:embed="rId1"/>
          <a:stretch/>
        </p:blipFill>
        <p:spPr>
          <a:xfrm>
            <a:off x="4114800" y="2666880"/>
            <a:ext cx="43243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1B8FF869-ED0A-4BEE-B21F-FF65DFF54A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Risks that arise in an Electronic Transfer Payment System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Regulatory Risk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Technology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facilitates avoidance of regulation </a:t>
            </a: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by locating in least regulated state or country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Citigroup credit card operations in South Dakota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South Dakota and Delaware liberal in terms of usury ceilings and other regulatory controls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Cayman Islands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Tax Avoidance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Internal pricing mechanisms </a:t>
            </a: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to shift profits to low tax regimes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UBS AG: the Hong Kong connection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Competition Risk: </a:t>
            </a: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nonfinancial firms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GMs credit card operation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AT&amp;T</a:t>
            </a:r>
            <a:r>
              <a:rPr b="0" lang="tr-TR" sz="1600" spc="-1" strike="noStrike">
                <a:solidFill>
                  <a:srgbClr val="333399"/>
                </a:solidFill>
                <a:latin typeface="Century Gothic"/>
              </a:rPr>
              <a:t> has also a financial institution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Industrial loan corporations (ILCs) 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Technology allows locating in Utah where regulation is more favorable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Requirement to register ILCs as bank holding companies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13D01855-A40E-41DB-BF38-2E8AB61864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9.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Other Operational Risks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880" y="13716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89" name="Picture 8" descr="C:\DOCUME~1\ADMINI~1\LOCALS~1\Temp\Rar$DR01.953\Chapter_16\Ch16_t7.jpg"/>
          <p:cNvPicPr/>
          <p:nvPr/>
        </p:nvPicPr>
        <p:blipFill>
          <a:blip r:embed="rId1"/>
          <a:stretch/>
        </p:blipFill>
        <p:spPr>
          <a:xfrm>
            <a:off x="762120" y="1447920"/>
            <a:ext cx="7635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097E82C-7DEA-4935-BA97-04239D9478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Controlling Operational Risk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 prevention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raining, development, review of employe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 control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lanning, organization, back-up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 financing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xternal insuranc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 insulation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I capital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02B0191-8DF2-4558-8807-7FCDC0997C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990033"/>
                </a:solidFill>
                <a:latin typeface="Century Gothic"/>
              </a:rPr>
              <a:t>10. </a:t>
            </a: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Regulatory Issues</a:t>
            </a: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758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As FIs’ use of technology increases, operational risk increases as well.  (1980s-1990s lost over 200 billion Usd due to Op. Risk)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1999 Basel Committee on Banking Supervision noted the importance of operational risk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Follow up report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Required capital: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Basic Indicator Approach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Standardized Approach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Advanced Measurement Approach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Consumer protection issue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3346707E-A047-4D73-AB56-B38C141D19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2.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Sources of Operational Risk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At least five categories are available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Technology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914400" indent="-5144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(Failure and declining systems)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Employee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914400" indent="-5144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(human error and internal fraud like case of Jerome Kerviel in Feb2008 at Societe Generale) (same example is also involves </a:t>
            </a:r>
            <a:r>
              <a:rPr b="0" lang="tr-TR" sz="1400" spc="-1" strike="noStrike">
                <a:solidFill>
                  <a:srgbClr val="ff0000"/>
                </a:solidFill>
                <a:latin typeface="Century Gothic"/>
              </a:rPr>
              <a:t>market risk </a:t>
            </a: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and </a:t>
            </a:r>
            <a:r>
              <a:rPr b="0" lang="tr-TR" sz="1400" spc="-1" strike="noStrike">
                <a:solidFill>
                  <a:srgbClr val="ff0000"/>
                </a:solidFill>
                <a:latin typeface="Century Gothic"/>
              </a:rPr>
              <a:t>off balance sheet risk</a:t>
            </a: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 as well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Customer relationship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914400" indent="-5144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(contractual disputes) 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Capital asset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914400" indent="-5144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(destruction by fire or other catastrophes)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External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914400" indent="-5144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(external fraud)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1 to 4 are </a:t>
            </a:r>
            <a:r>
              <a:rPr b="1" lang="tr-TR" sz="2000" spc="-1" strike="noStrike">
                <a:solidFill>
                  <a:srgbClr val="333399"/>
                </a:solidFill>
                <a:latin typeface="Century Gothic"/>
              </a:rPr>
              <a:t>internally controllable 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while item 5 is not.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53C97FD7-036E-4274-87BF-538FC75A22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Other Concerns</a:t>
            </a: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fforts to expand consumer acceptance of web-based services frustrated by scam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hishing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poofing” messages purported to be from FI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dentity theft concern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Vulnerability of online credit card usag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60160CDB-8074-427B-B7C7-0C5B8FE23A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0033"/>
                </a:solidFill>
                <a:latin typeface="Century Gothic"/>
              </a:rPr>
              <a:t>Thanks.</a:t>
            </a:r>
            <a:endParaRPr b="0" lang="en-US" sz="40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CEA9161B-D10B-460A-A430-443AFAF878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3.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Technolog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ical Innovation and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Profitability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The US banks alone spend 20 billion USD per year in technology related expenditure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Efficient technological base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an result in: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Lower cost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Through improved allocation of inputs</a:t>
            </a: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/sources.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Increased revenue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Through wider range of outputs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Importance of  operating cost and the efficient use of IT is demonstrated with the following </a:t>
            </a:r>
            <a:r>
              <a:rPr b="1" lang="tr-TR" sz="2000" spc="-1" strike="noStrike">
                <a:solidFill>
                  <a:srgbClr val="ff0000"/>
                </a:solidFill>
                <a:latin typeface="Century Gothic"/>
              </a:rPr>
              <a:t>profit function: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Earnings before taxes 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=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(Interest income - Interest expense) +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(Other income - Noninterest expense) –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Provision for loan losses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BA36CDCC-B3EE-4E27-88B2-0353E3E03E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Technolog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ical Innovation and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Profitability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Technological investments have the potential to increase both 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the </a:t>
            </a:r>
            <a:r>
              <a:rPr b="1" lang="tr-TR" sz="2400" spc="-1" strike="noStrike">
                <a:solidFill>
                  <a:srgbClr val="ff0000"/>
                </a:solidFill>
                <a:latin typeface="Century Gothic"/>
              </a:rPr>
              <a:t>FI’s net interest margin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or </a:t>
            </a:r>
            <a:r>
              <a:rPr b="1" lang="tr-TR" sz="2400" spc="-1" strike="noStrike">
                <a:solidFill>
                  <a:srgbClr val="ff0000"/>
                </a:solidFill>
                <a:latin typeface="Century Gothic"/>
              </a:rPr>
              <a:t>the difference between interest income and interest expense.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Earnings before taxes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= 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(Interest income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 - Interest expense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) + 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(Other income 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 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- Noninterest expense</a:t>
            </a:r>
            <a:r>
              <a:rPr b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) –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Provision for loan losse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6" name="Left Brace 4"/>
          <p:cNvSpPr/>
          <p:nvPr/>
        </p:nvSpPr>
        <p:spPr>
          <a:xfrm rot="16200000">
            <a:off x="3504960" y="2514240"/>
            <a:ext cx="304920" cy="4419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4419360"/>
              <a:gd name="textAreaBottom" fmla="*/ 4411440 h 44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5400" y="10800"/>
                  <a:pt x="0" y="10800"/>
                </a:cubicBezTo>
                <a:cubicBezTo>
                  <a:pt x="54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99A416CE-DE58-4369-8350-FB36CC8757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Technolog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ical Innovation and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Profitability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(Interest income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 - Interest expense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) +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Interest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Century Gothic"/>
              </a:rPr>
              <a:t>income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 can be increased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Through wider array of outputs or cross selling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 as a result of technological developments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Interest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Century Gothic"/>
              </a:rPr>
              <a:t>expense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 can be decreased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If access to markets for liabilities is directly dependent on the FI’s technological capability.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Fedwire, CHIPS</a:t>
            </a: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tr-TR" sz="1800" spc="-1" strike="noStrike">
                <a:solidFill>
                  <a:srgbClr val="333399"/>
                </a:solidFill>
                <a:latin typeface="Century Gothic"/>
              </a:rPr>
              <a:t>link</a:t>
            </a: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 the </a:t>
            </a:r>
            <a:r>
              <a:rPr b="0" lang="tr-TR" sz="1800" spc="-1" strike="noStrike">
                <a:solidFill>
                  <a:srgbClr val="ff0000"/>
                </a:solidFill>
                <a:latin typeface="Century Gothic"/>
              </a:rPr>
              <a:t>domestic and international interbank lending markets.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Ability to originate and sell commercial paper is increasingly computer driven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0" name="Left Brace 4"/>
          <p:cNvSpPr/>
          <p:nvPr/>
        </p:nvSpPr>
        <p:spPr>
          <a:xfrm rot="16200000">
            <a:off x="3124080" y="228240"/>
            <a:ext cx="304920" cy="4419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4419720"/>
              <a:gd name="textAreaBottom" fmla="*/ 441180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5400" y="10800"/>
                  <a:pt x="0" y="10800"/>
                </a:cubicBezTo>
                <a:cubicBezTo>
                  <a:pt x="54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F11FC28F-EB63-4CFD-AD44-461DF4493B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Technolog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ical Innovation and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Profitability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(Other income 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 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- Noninterest expense</a:t>
            </a:r>
            <a:r>
              <a:rPr b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) –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Provision for loan losse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Other income can be increased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332640" indent="-3326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Through electronic handling of fee generating OBS activities such as LCs and derivatives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, many trade finance products are now on line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332640" indent="-3326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These are linked to the quality of the FI’s technology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Noninterest expenses can be reduced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332640" indent="-3326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Through improved efficiency of back office operations using technology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Especially true for securities-related activities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Collection, storage, processing and settlement of customer information are computer based. 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4" name="Left Brace 4"/>
          <p:cNvSpPr/>
          <p:nvPr/>
        </p:nvSpPr>
        <p:spPr>
          <a:xfrm rot="16200000">
            <a:off x="3581280" y="-304920"/>
            <a:ext cx="304920" cy="5334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5334120"/>
              <a:gd name="textAreaBottom" fmla="*/ 5326200 h 533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"/>
                  <a:pt x="10800" y="103"/>
                </a:cubicBezTo>
                <a:lnTo>
                  <a:pt x="10800" y="10697"/>
                </a:lnTo>
                <a:cubicBezTo>
                  <a:pt x="10800" y="10749"/>
                  <a:pt x="5400" y="10800"/>
                  <a:pt x="0" y="10800"/>
                </a:cubicBezTo>
                <a:cubicBezTo>
                  <a:pt x="5400" y="10800"/>
                  <a:pt x="10800" y="10852"/>
                  <a:pt x="10800" y="10903"/>
                </a:cubicBezTo>
                <a:lnTo>
                  <a:pt x="10800" y="21497"/>
                </a:lnTo>
                <a:cubicBezTo>
                  <a:pt x="10800" y="2154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963B2335-8333-460F-B790-E117082248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4.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Impact 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of IT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on 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Century Gothic"/>
              </a:rPr>
              <a:t>Wholesale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 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&amp; Retail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Banking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entury Gothic"/>
              </a:rPr>
              <a:t>Improvements to </a:t>
            </a:r>
            <a:r>
              <a:rPr b="1" lang="en-US" sz="1200" spc="-1" strike="noStrike">
                <a:solidFill>
                  <a:srgbClr val="333399"/>
                </a:solidFill>
                <a:latin typeface="Century Gothic"/>
              </a:rPr>
              <a:t>cash management</a:t>
            </a:r>
            <a:r>
              <a:rPr b="0" lang="en-US" sz="1200" spc="-1" strike="noStrike">
                <a:solidFill>
                  <a:srgbClr val="333399"/>
                </a:solidFill>
                <a:latin typeface="Century Gothic"/>
              </a:rPr>
              <a:t>:</a:t>
            </a:r>
            <a:r>
              <a:rPr b="0" lang="tr-TR" sz="1200" spc="-1" strike="noStrike">
                <a:solidFill>
                  <a:srgbClr val="333399"/>
                </a:solidFill>
                <a:latin typeface="Century Gothic"/>
              </a:rPr>
              <a:t> (services designed to collect, disburse and transfer funds on a local, regional, national, international basis) </a:t>
            </a:r>
            <a:endParaRPr b="0" lang="en-US" sz="1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333399"/>
                </a:solidFill>
                <a:latin typeface="Century Gothic"/>
              </a:rPr>
              <a:t>These services required by corporates</a:t>
            </a:r>
            <a:endParaRPr b="0" lang="en-US" sz="12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249"/>
              </a:spcBef>
              <a:buClr>
                <a:srgbClr val="333399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Century Gothic"/>
              </a:rPr>
              <a:t>Excess cash balances result in a significant opportunity cost </a:t>
            </a:r>
            <a:endParaRPr b="0" lang="en-US" sz="10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249"/>
              </a:spcBef>
              <a:buClr>
                <a:srgbClr val="333399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Century Gothic"/>
              </a:rPr>
              <a:t>Need to know working capital or cash position real time.</a:t>
            </a:r>
            <a:endParaRPr b="0" lang="en-US" sz="10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Controlled disbursement accounts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Account reconciliation</a:t>
            </a:r>
            <a:r>
              <a:rPr b="0" lang="tr-TR" sz="1300" spc="-1" strike="noStrike">
                <a:solidFill>
                  <a:srgbClr val="000000"/>
                </a:solidFill>
                <a:latin typeface="Century Gothic"/>
              </a:rPr>
              <a:t> (by a feature which checks have been paid)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Wholesale lockbox</a:t>
            </a:r>
            <a:r>
              <a:rPr b="0" lang="tr-TR" sz="1300" spc="-1" strike="noStrike">
                <a:solidFill>
                  <a:srgbClr val="000000"/>
                </a:solidFill>
                <a:latin typeface="Century Gothic"/>
              </a:rPr>
              <a:t> – regarding check payments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Electronic lockbox</a:t>
            </a:r>
            <a:r>
              <a:rPr b="0" lang="tr-TR" sz="1300" spc="-1" strike="noStrike">
                <a:solidFill>
                  <a:srgbClr val="000000"/>
                </a:solidFill>
                <a:latin typeface="Century Gothic"/>
              </a:rPr>
              <a:t> – for online payments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unds concentration</a:t>
            </a:r>
            <a:r>
              <a:rPr b="0" lang="tr-TR" sz="1300" spc="-1" strike="noStrike">
                <a:solidFill>
                  <a:srgbClr val="000000"/>
                </a:solidFill>
                <a:latin typeface="Century Gothic"/>
              </a:rPr>
              <a:t> – from several accounts to one FI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Electronic funds transfer</a:t>
            </a:r>
            <a:r>
              <a:rPr b="0" lang="tr-TR" sz="1300" spc="-1" strike="noStrike">
                <a:solidFill>
                  <a:srgbClr val="000000"/>
                </a:solidFill>
                <a:latin typeface="Century Gothic"/>
              </a:rPr>
              <a:t> – including SWIFT</a:t>
            </a: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Check deposit services</a:t>
            </a:r>
            <a:r>
              <a:rPr b="0" lang="tr-TR" sz="1300" spc="-1" strike="noStrike">
                <a:solidFill>
                  <a:srgbClr val="000000"/>
                </a:solidFill>
                <a:latin typeface="Century Gothic"/>
              </a:rPr>
              <a:t> - 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Electronic initiation of letters of credit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Treasury management software</a:t>
            </a:r>
            <a:r>
              <a:rPr b="0" lang="tr-TR" sz="1300" spc="-1" strike="noStrike">
                <a:solidFill>
                  <a:srgbClr val="000000"/>
                </a:solidFill>
                <a:latin typeface="Century Gothic"/>
              </a:rPr>
              <a:t>-allows efficienty for multiple currency-security transactions.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Electronic data interchange</a:t>
            </a:r>
            <a:r>
              <a:rPr b="0" lang="tr-TR" sz="1300" spc="-1" strike="noStrike">
                <a:solidFill>
                  <a:srgbClr val="000000"/>
                </a:solidFill>
                <a:latin typeface="Century Gothic"/>
              </a:rPr>
              <a:t>-EDI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acilitating B2B e-commerce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Electronic billing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Verifying identities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2" marL="125748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Issue of law enforcement access to encrypted data since September 11, 2001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Assisting small business entry into e-commerce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B8252FF6-19FF-40D2-9356-6FFEECEBA6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Impact 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of IT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on Wholesale 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&amp; </a:t>
            </a:r>
            <a:r>
              <a:rPr b="0" lang="tr-TR" sz="3200" spc="-1" strike="noStrike" u="sng">
                <a:solidFill>
                  <a:srgbClr val="990033"/>
                </a:solidFill>
                <a:uFillTx/>
                <a:latin typeface="Century Gothic"/>
              </a:rPr>
              <a:t>Retail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Banking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Retail customers also want efficiency and flexibility in their financial transactions.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With 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a single click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Merrill Lynch customers can obtain information on all research (conducted by Merrill Lynch) on a company. 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Another click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gives the customer information on the best terms available on a trade, an a 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final click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executes a customer’s trade.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A typical customer transaction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through a branch or phone call 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costs a customer about $1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, while a similar </a:t>
            </a:r>
            <a:r>
              <a:rPr b="0" lang="tr-TR" sz="2400" spc="-1" strike="noStrike">
                <a:solidFill>
                  <a:srgbClr val="ff0000"/>
                </a:solidFill>
                <a:latin typeface="Century Gothic"/>
              </a:rPr>
              <a:t>online transaction costs just $0.02.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5:44:52Z</dcterms:created>
  <dc:creator>KeStanton</dc:creator>
  <dc:description/>
  <dc:language>en-US</dc:language>
  <cp:lastModifiedBy>monera</cp:lastModifiedBy>
  <dcterms:modified xsi:type="dcterms:W3CDTF">2015-01-26T07:23:31Z</dcterms:modified>
  <cp:revision>315</cp:revision>
  <dc:subject/>
  <dc:title>Slide 1</dc:title>
</cp:coreProperties>
</file>