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CDAD-2C8B-40BA-9BB7-6024DB1AC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4D16-DD5A-4278-AFB1-1F595814E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1DFD-FB05-4052-B884-AB63CD02C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B51D4-1C4B-4A10-AFD5-80047CEB7D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DA21B-1434-476E-9806-86C2946FBE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3383C-C0E4-4415-85BB-215156A998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63B19-D179-4FA8-86A6-04CEF8A9C1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B4BEA-B853-479A-A112-44E45B3434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525F6-727C-4C48-BCC1-DCF15B2771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13BDF-26E0-4DD0-B207-B4DD84CC5D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4B681-0223-43A9-8E19-CB2027F612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04127-7C35-4CC7-A21E-725978F42D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E4C2C-0AB6-4B43-92A4-68841BA433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26DB8-8397-4517-8C44-AEA08F1CF4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05B33-1827-40C9-B211-E6D536F91D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"/>
          <p:cNvPicPr/>
          <p:nvPr/>
        </p:nvPicPr>
        <p:blipFill>
          <a:blip r:embed="rId2"/>
          <a:stretch/>
        </p:blipFill>
        <p:spPr>
          <a:xfrm>
            <a:off x="883908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6" descr=""/>
          <p:cNvPicPr/>
          <p:nvPr/>
        </p:nvPicPr>
        <p:blipFill>
          <a:blip r:embed="rId3"/>
          <a:stretch/>
        </p:blipFill>
        <p:spPr>
          <a:xfrm>
            <a:off x="228600" y="6629400"/>
            <a:ext cx="8763120" cy="2286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4" descr=""/>
          <p:cNvPicPr/>
          <p:nvPr/>
        </p:nvPicPr>
        <p:blipFill>
          <a:blip r:embed="rId4"/>
          <a:stretch/>
        </p:blipFill>
        <p:spPr>
          <a:xfrm>
            <a:off x="0" y="380880"/>
            <a:ext cx="304920" cy="647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6-</a:t>
            </a:r>
            <a:fld id="{FE6736C9-6277-4CD1-9348-0622123665C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9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752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0" descr=""/>
          <p:cNvPicPr/>
          <p:nvPr/>
        </p:nvPicPr>
        <p:blipFill>
          <a:blip r:embed="rId3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22"/>
          <p:cNvSpPr/>
          <p:nvPr/>
        </p:nvSpPr>
        <p:spPr>
          <a:xfrm>
            <a:off x="0" y="231840"/>
            <a:ext cx="914400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HAPTER 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ceef"/>
                </a:solidFill>
                <a:latin typeface="Arial"/>
              </a:rPr>
              <a:t>Technology and Other Operational 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4"/>
          <a:stretch/>
        </p:blipFill>
        <p:spPr>
          <a:xfrm>
            <a:off x="0" y="1752480"/>
            <a:ext cx="9171000" cy="4572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2"/>
          <p:cNvSpPr/>
          <p:nvPr/>
        </p:nvSpPr>
        <p:spPr>
          <a:xfrm>
            <a:off x="4724280" y="66103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Copyright © 2014 by the McGraw-Hill Companies, Inc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2"/>
          </p:nvPr>
        </p:nvSpPr>
        <p:spPr>
          <a:xfrm>
            <a:off x="4723920" y="6610320"/>
            <a:ext cx="4419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Copyright © 2014  by the McGraw-Hill Companies, Inc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hips.org/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bis.org/" TargetMode="External"/><Relationship Id="rId2" Type="http://schemas.openxmlformats.org/officeDocument/2006/relationships/hyperlink" Target="http://www.chips.org/" TargetMode="External"/><Relationship Id="rId3" Type="http://schemas.openxmlformats.org/officeDocument/2006/relationships/hyperlink" Target="http://www.fdic.gov/" TargetMode="External"/><Relationship Id="rId4" Type="http://schemas.openxmlformats.org/officeDocument/2006/relationships/hyperlink" Target="http://www.isda.org/" TargetMode="External"/><Relationship Id="rId5" Type="http://schemas.openxmlformats.org/officeDocument/2006/relationships/hyperlink" Target="http://www.wsj.com/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Impact on Retail Banking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mart card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 social media site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Integration of online, offline, and mobile channel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nancial planning service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Instant ‘micro mobile loans’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Loyalty program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C5F5498A-9D73-45D4-9781-5ECBC5C474D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394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6bcf"/>
                </a:solidFill>
                <a:latin typeface="Century Gothic"/>
              </a:rPr>
              <a:t>Effects of Technology on Revenues &amp; Costs</a:t>
            </a:r>
            <a:endParaRPr b="0" lang="en-US" sz="32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Investments in technology are risky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20720" indent="-27720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Potentially </a:t>
            </a:r>
            <a:r>
              <a:rPr b="0" i="1" lang="en-US" sz="2800" spc="-1" strike="noStrike">
                <a:solidFill>
                  <a:srgbClr val="333399"/>
                </a:solidFill>
                <a:latin typeface="Century Gothic"/>
              </a:rPr>
              <a:t>negative 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NPV projects due to uncertainty and potential competitive response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20720" indent="-27720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Service quality and convenience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2" marL="1108440" indent="-221400"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Inability of ATMs to interact with customers as humans can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2" marL="1108440" indent="-221400"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Example:  Customers compare mortgage rates online, but only 2% close online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2" marL="1108440" indent="-221400"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Virtual FIs operating branch offices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3" marL="1551960" indent="-221400">
              <a:spcBef>
                <a:spcPts val="499"/>
              </a:spcBef>
              <a:buClr>
                <a:srgbClr val="333399"/>
              </a:buClr>
              <a:buFont typeface="Arial"/>
              <a:buChar char="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Example: ING Direct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39C37D67-B613-4AB8-85E3-2F94C59BC96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4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6bcf"/>
                </a:solidFill>
                <a:latin typeface="Century Gothic"/>
              </a:rPr>
              <a:t>Effects of Technology on Revenues &amp; Costs</a:t>
            </a:r>
            <a:endParaRPr b="0" lang="en-US" sz="32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Evidence shows the impact of regulation on the value of technological innovation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Branching restrictions in U.S. affect the value of cash management services, for example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Less valuable in Europe where comparable restrictions are absent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C80F9B4B-01B9-4D92-8B2A-D0F32714526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0520" y="14479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Revenue effects: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Facilitates cross-marketing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Mixed success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Example: Citigroup and insurance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Increases innovation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97AC6799-9E08-40DB-91B8-37742F8AAC5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0" y="609480"/>
            <a:ext cx="91440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Effects of Technology on Revenues &amp;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Technology and Costs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r larger FIs the scale and array of potential technology investments is greater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Potential average cost advantage for larger FI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Economies of scale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Potential elimination of smaller banks?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Technological investments are risky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Potential diseconomies of scale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5AA5115D-9A0B-4090-9472-2FA074CAEDB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Economies of Scale in FIs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3F0448E5-B42C-4F99-919D-6C2377D3856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348760" cy="50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entury Gothic"/>
              </a:rPr>
              <a:t>Effects of Technological Improvement</a:t>
            </a:r>
            <a:endParaRPr b="0" lang="en-US" sz="36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669543BA-DC1D-41C8-86ED-3D8CE912E86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754380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Effects on Costs (continued)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Economies of scope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Multiple outputs may provide synergies in production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FI size may affect potential gains and losses from IT investment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Diseconomies of scope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Specialization may have cost benefits in production and delivery of some FI service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380A7547-2627-40AF-AC28-33AA2286238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6bcf"/>
                </a:solidFill>
                <a:latin typeface="Century Gothic"/>
              </a:rPr>
              <a:t>Testing for Economies of Scale and Scope</a:t>
            </a:r>
            <a:endParaRPr b="0" lang="en-US" sz="32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Production approach: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Views FI as producing output of services using inputs of labor and capital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Century Gothic"/>
              </a:rPr>
              <a:t>C = f(y,w,r)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Intermediation approach: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Includes funds used to produce intermediated services among the input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Century Gothic"/>
              </a:rPr>
              <a:t>C = f(y,w,r, k)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70E12989-D277-4804-9EF1-5EC6CAD54AE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Empirical Findings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Evidence of economies of scale for banks up to the $10 billion to $25 billion range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X-inefficiencies may be more important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Inconclusive evidence on scope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Recent studies using a profit-based approach find that large FIs tend to be more efficient in revenue generation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Potential long term gains from innovation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Cashless payments system?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FCD5260D-1ED0-4983-B406-63590B97FBA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Overview</a:t>
            </a:r>
            <a:r>
              <a:rPr b="0" lang="en-US" sz="2800" spc="-1" strike="noStrike">
                <a:solidFill>
                  <a:srgbClr val="6b6bcf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actors affecting operational returns and risk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29040" indent="-3290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Importance of optimal management and control of labor, capital, and other input sources and their cost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29040" indent="-3290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echnology and its impact on risk and return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29040" indent="-3290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Examples: Risks resulting from innovations in IT and effects of terrorist attacks on key technologies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3D662A0B-95BE-4394-BEEC-C8DB438BAF7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6bcf"/>
                </a:solidFill>
                <a:latin typeface="Century Gothic"/>
              </a:rPr>
              <a:t>Technology and Evolution of the Payments System</a:t>
            </a:r>
            <a:endParaRPr b="0" lang="en-US" sz="27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Use of electronic transactions higher in other countrie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Usage of checks rapidly becoming obsolete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Checks cleared using electronic funds transfer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E-money virtually non-existent in the U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Facilitates foreign currency transactions on the internet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Not FDIC insured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FEC8F7E6-A14E-49B5-921E-7981D95619F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U.S. Payments System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U.S. reluctance to abandon the use of check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U.S. payments system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FedWire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Clearing House Interbank Payments System (CHIPS)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Combined value of transactions often more than $5 trillion per day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6EDADB37-C49D-4F02-956A-14FF74F4FA9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Web Resources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r more information on the Clearing House Interbank Payments System, visit: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HIP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www.chips.org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02F33E80-BDB3-42D0-A308-2AC748DB280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Wire Transfer System Risks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Daylight overdraft risk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05600" indent="-2714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FedWire settlement at 6:30 EST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05600" indent="-2714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Banks commonly ran daylight overdraft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2" marL="1085760" indent="-217080"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50 basis point interest rate introduced for daylight overdrafts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05600" indent="-2714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Regulation J guarantees payment finality of wire transfer messages by the Fed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2" marL="1085760" indent="-217080"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Fed bears the risk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05600" indent="-2714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Regulation F sets exposure limits to individual correspondent bank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74ADD69E-850B-4E62-BCAA-94FB7106E60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Risks (continued)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International Technology Transfer Risk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Crime and Fraud Risk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Fraud risk, especially from FI employees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Riggs National Bank transactions with Saudis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Costs of complying with Patriot Act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07F72D47-29C3-4C4D-86CE-1F36112E3AA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Risks (continued)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Regulatory Risk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Technology facilitates avoidance of regulation by locating in least regulated state or country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Citigroup credit card operations in South Dakota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South Dakota and Delaware liberal in terms of usury ceilings and other regulatory controls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Cayman Islands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07EAA620-ADAA-45B3-B17A-9E0E6D9F9FC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Risks (continued)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4479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Tax Avoidance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Internal pricing mechanisms to shift profits to low tax regimes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UBS AG: the Hong Kong connection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Competition Risk: nonfinancial firm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GMs credit card operation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AT&amp;T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Industrial loan corporations (ILCs) 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Technology allows locating in Utah where regulation is more favorable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Requirement to register ILCs as bank holding companies, 2009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44845EA5-CDB2-4F4C-8F5D-6F46074195A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Other Operational Risks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0880" y="137160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Employee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Turnover 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Key personnel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Fraud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Errors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Rogue trading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Money laundering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Confidentiality breach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Example: Theft of code by ex-Goldman programmer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Revelation of ethical problems via email exchanges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EC21634C-F860-431A-8C2A-0210B2FC108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Technology Risks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Programming error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Model risk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Mark-to-market error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Management information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IT/Telecommunications systems outage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echnology provider failure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ontingency planning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102B8D1B-DDB9-4221-B203-8B4B9144BC0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ustomer Relationship Risks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ontractual disagreemen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Dissatisfaction from poorly performing technology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Default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14ADAC07-1936-4880-836D-95F5F1B5B57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Sources of Operational Risk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echnology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Employee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ustomer relationship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apital asset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Externa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B87AF896-4FFE-4CDE-9C40-AB03EE3B2E0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apital Asset Risk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afety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curity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Operating cost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re/flood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0AF9825A-F862-40B6-9A2C-024C4927FBC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External Risks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External fraud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axation risk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Legal risk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War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Market collapse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Reputation risk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Relationship risk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8DADBDBF-B376-4516-9C1A-F63D77A810D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ontrolling Operational Risk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160" y="14475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Loss prevention: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Training, development, review of employee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Loss control: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Planning, organization, back-up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Loss financing: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External insurance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Loss insulation: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FI capital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A99D7D96-F485-4151-BA27-D42C6FA016A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Regulatory Issues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1999 Basel Committee on Banking Supervision noted the importance of operational risk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15360" indent="-3153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llow up repor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Required capital: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683280" indent="-26280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Basic Indicator Approach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683280" indent="-26280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Standardized Approach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683280" indent="-26280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Advanced Measurement Approach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15360" indent="-3153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onsumer protection issue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79315A4A-257E-421D-8854-1A3998393F1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Other Concerns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Efforts to expand consumer acceptance of web-based services frustrated by scam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Identity theft concern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Vulnerability of online credit card usage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206280FC-68AA-44FA-8DE4-70596C84F3F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b6bcf"/>
                </a:solidFill>
                <a:latin typeface="Century Gothic"/>
              </a:rPr>
              <a:t>Pertinent Websites</a:t>
            </a:r>
            <a:endParaRPr b="0" lang="en-US" sz="40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BIS 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      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www.bis.org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The Clearing House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  </a:t>
            </a:r>
            <a:r>
              <a:rPr b="0" lang="en-US" sz="12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www.chips.org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FDIC  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   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entury Gothic"/>
                <a:hlinkClick r:id="rId3"/>
              </a:rPr>
              <a:t>www.fdic.gov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International Swap and 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    </a:t>
            </a:r>
            <a:r>
              <a:rPr b="0" lang="en-US" sz="12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entury Gothic"/>
                <a:hlinkClick r:id="rId4"/>
              </a:rPr>
              <a:t>www.isda.org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Derivatives Association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The Wall Street Journal 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   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entury Gothic"/>
                <a:hlinkClick r:id="rId5"/>
              </a:rPr>
              <a:t>www.wsj.com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F2771AA9-2EAE-44BC-8FB3-EABDFE96FBC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Technology &amp; Profitability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Efficient technological base can result in: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Lower cost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2" marL="1119960" indent="-223920"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Through improved allocation of inputs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Increased revenue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2" marL="1119960" indent="-223920"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Through wider range of outputs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Earnings before taxes = (Interest income - Interest expense) + (Other income - Noninterest expense) - Provision for loan losse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622B4EA5-4E07-4956-8F0E-233B0B715BD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Impact of Technology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Interest income can be increased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Through wider array of outputs or cross selling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Interest expense can be decreased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Through improved access to markets for liabilitie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Fedwire, CHIPS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65391E23-9905-4F4E-97DF-CDF11F5DD37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Impact of Technology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Other income can be increased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Through electronic handling of fee generating OBS activities such as LCs and derivative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Noninterest expenses can be reduced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Through improved efficiency of back office operations using technology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Especially true for securities-related activities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0A539888-90C6-48E9-A1EC-0B75817B897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Impact on Wholesale Banking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Improvements to cash management: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Controlled disbursement account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Account reconciliation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Wholesale lockbox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Electronic lockbox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Funds concentration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Electronic funds transfer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Check deposit service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Electronic initiation of letters of credit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102E2B82-5950-4EA1-B47F-28BD35F7417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6bcf"/>
                </a:solidFill>
                <a:latin typeface="Century Gothic"/>
              </a:rPr>
              <a:t>Impact on Wholesale Banking (continued)</a:t>
            </a:r>
            <a:endParaRPr b="0" lang="en-US" sz="32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Treasury management software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Electronic data interchange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Facilitating B2B e-commerce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Electronic billing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Verifying identitie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20720" indent="-27720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Issue of law enforcement access to encrypted data since September 11, 2001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Assisting small business entry into e-commerce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Online customer-facing technologie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Cloud computing 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B2A5B00B-DEBB-4BAD-A85F-BA1B9DAD9CB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Impact on Retail Banking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0880" y="16761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Automated teller machine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Point-of-sale debit card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ablet banking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Preauthorized debits/credit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Mobile banking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Online banking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BEC680A9-73F4-4DB9-9A47-EC23620D184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5:44:52Z</dcterms:created>
  <dc:creator>KeStanton</dc:creator>
  <dc:description/>
  <dc:language>en-US</dc:language>
  <cp:lastModifiedBy>monera</cp:lastModifiedBy>
  <dcterms:modified xsi:type="dcterms:W3CDTF">2015-01-27T07:56:43Z</dcterms:modified>
  <cp:revision>229</cp:revision>
  <dc:subject/>
  <dc:title>Slide 1</dc:title>
</cp:coreProperties>
</file>