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4E1-1417-4794-9B96-DD2E558C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F8E7-02F3-492D-812E-82959697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4824-5391-4EE3-AC33-670C82A7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8BA-6683-4F97-BFC0-04C308C83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9EAD-F185-47AA-803A-589B72D77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85F8-C5FD-4BB5-9437-80C3DFA1F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7915-7D6C-4A00-9DE8-68DA22D9E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ACA4-8EF4-4008-86C9-AF4C0726B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4FB8-F503-4ED8-BFF7-A9A639BB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C4BA-6A0D-4DE6-82A9-8C9E2A508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1D5C-145D-4A96-AE82-C39618A8E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2A5D-BA87-4657-A8C7-A8A04ACC6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6800-A257-4789-A740-698577100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EC4C-2054-4AE1-AFBA-709FC020A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790E-47B4-4D66-8F8E-38403C967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6-</a:t>
            </a:r>
            <a:fld id="{5689C0CA-F156-4A2E-A66B-6E9D8C1EF4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Technology and Other Operation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 by the McGraw-Hill Compani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hips.org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chips.org/" TargetMode="External"/><Relationship Id="rId3" Type="http://schemas.openxmlformats.org/officeDocument/2006/relationships/hyperlink" Target="http://www.fdic.gov/" TargetMode="External"/><Relationship Id="rId4" Type="http://schemas.openxmlformats.org/officeDocument/2006/relationships/hyperlink" Target="http://www.isda.org/" TargetMode="External"/><Relationship Id="rId5" Type="http://schemas.openxmlformats.org/officeDocument/2006/relationships/hyperlink" Target="http://www.wsj.com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Retail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mar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 social media sit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gration of online, offline, and mobile channel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nancial planning servic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stant ‘micro mobile loans’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yalty progr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81F26209-421C-4E09-8B34-9FC23C1185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vestments in technology are risk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ly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negative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PV projects due to uncertainty and potential competitive respon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rvice quality and convenie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ability of ATMs to interact with customers as humans ca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xample:  Customers compare mortgage rates online, but only 2% close onlin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Virtual FIs operating branch offic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spcBef>
                <a:spcPts val="499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ING Direc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59DCA40B-3BFE-4DEA-B439-08F1C6F284B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vidence shows the impact of regulation on the value of technological innovation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ranching restrictions in U.S. affect the value of cash management services, for exampl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ess valuable in Europe where comparable restrictions are abs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B43880F-1E18-4CCC-8529-67F454ED977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venue effect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acilitates cross-market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ixed succes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Citigroup and insuranc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s innov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AF84EA0D-7E7C-43FE-B454-A10FA8B536B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609480"/>
            <a:ext cx="9144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Revenue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and Cost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larger FIs the scale and array of potential technology investments is great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 average cost advantage for larger FI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conomies of sca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elimination of smaller banks?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echnological investments are risk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diseconomies of scal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87FEFDD7-B29E-4079-B100-DAE6CB95B2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es of Scale in FI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66154D52-3D24-4724-A3D1-36AB3EB017B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487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Effects of Technological Improvement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706FEA1-8C64-493F-ADA2-D33ECFFD61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5438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ffects on Cost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ultiple outputs may provide synergies in produc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size may affect potential gains and losses from IT investme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seconomies of scop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pecialization may have cost benefits in production and delivery of some FI servic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ABC6BEC-E113-4358-864F-A6F246F507C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Testing for Economies of Scale and Scope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oduction approach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iews FI as producing output of services using inputs of labor and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C = f(y,w,r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mediation approach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ludes funds used to produce intermediated services among the inpu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C = f(y,w,r, k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61737FB-4DAC-4044-B5E7-9F1082242D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mpirical Finding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vidence of economies of scale for banks up to the $10 billion to $25 billion r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X-inefficiencies may be more importan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onclusive evidence on scop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cent studies using a profit-based approach find that large FIs tend to be more efficient in revenue gene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otential long term gains from innov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shless payments system?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4F878BE1-ACBF-4220-9469-DECD7CC930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actors affecting operational returns and risk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ortance of optimal management and control of labor, capital, and other input sources and their cos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 and its impact on risk and retur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s: Risks resulting from innovations in IT and effects of terrorist attacks on key technologies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FCCD82E5-F6F8-4652-924A-E4DB51AE2F1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6bcf"/>
                </a:solidFill>
                <a:latin typeface="Century Gothic"/>
              </a:rPr>
              <a:t>Technology and Evolution of the Payments System</a:t>
            </a:r>
            <a:endParaRPr b="0" lang="en-US" sz="27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e of electronic transactions higher in other countri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age of checks rapidly becoming obsole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s cleared using 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-money virtually non-existent in the U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foreign currency transactions on the interne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ot FDIC insur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82743BA8-861C-42A3-AF40-15C81427510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U.S. Payments System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.S. reluctance to abandon the use of check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.S. payments system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Wi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learing House Interbank Payments System (CHIPS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bined value of transactions often more than $5 trillion per da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A2B06D57-FC1A-4772-8167-E1FE6D9A39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eb Resourc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more information on the Clearing House Interbank Payments System, visit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HIP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chips.or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B69677BB-9765-45EC-B864-FB0023BD02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Wire Transfer System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aylight overdraft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edWire settlement at 6:30 ES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s commonly ran daylight overdraf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50 basis point interest rate introduced for daylight overdraf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gulation J guarantees payment finality of wire transfer messages by the F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85760" indent="-21708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ed bears the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egulation F sets exposure limits to individual correspondent bank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85E47BEF-9BB8-469A-9C0B-A625D648B0F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national Technology Transfer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rime and Fraud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raud risk, especially from FI employe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iggs National Bank transactions with Saudi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sts of complying with Patriot Ac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C749E6B-8587-4BA4-A29C-EAD2EB361DE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gulatory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echnology facilitates avoidance of regulation by locating in least regulated state or countr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itigroup credit card operations in South Dakota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outh Dakota and Delaware liberal in terms of usury ceilings and other regulatory control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yman Island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AC3FDEAB-BC22-470D-9F75-6BD40975E6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isks (continued)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ax Avoid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l pricing mechanisms to shift profits to low tax regim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BS AG: the Hong Kong connec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petition Risk: nonfinancial fir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GMs credit card oper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T&amp;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dustrial loan corporations (ILCs)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y allows locating in Utah where regulation is more favorabl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quirement to register ILCs as bank holding companies, 2009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6343C26-3061-42BB-844A-1E524F702CE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ther Operational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371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urnover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Key personnel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rau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rror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ogue trad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oney launder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nfidentiality breach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Theft of code by ex-Goldman programmer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evelation of ethical problems via email exchang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2ECD7093-32F9-49BD-89B3-C45222887B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ogramming erro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del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-to-market erro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nagement inform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T/Telecommunications systems out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 provider failur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tingency plann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E6A38D11-374B-4BE6-8488-674A4F30EE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ustomer Relationship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tractual disagreemen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issatisfaction from poorly performing technolog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efault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D4C2CC1-97D5-427F-BBD9-B6F998849C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ources of Operational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echnolog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ustomer relationship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apital asse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terna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A402A81C-8C91-49E5-9BBC-E88A9990DFC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apital Asset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afety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perating cos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re/floo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4599278E-FFFD-48F0-BAED-2D7A66EBC0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xternal Risk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ternal frau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axatio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egal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a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rket collaps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putation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lationship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1BA73AE0-BF91-4751-B719-B4BC3EC16B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trolling Operational Risk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preven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ining, development, review of 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control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lanning, organization, back-u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financing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ternal insur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insula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5B38B76C-1B88-46CF-9C25-0CC52BBBB7A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egulatory Issu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1999 Basel Committee on Banking Supervision noted the importance of operational risk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llow up repor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quired capital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sic Indicator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tandardized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83280" indent="-2628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dvanced Measurement Approach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umer protection issu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502D5534-0BDA-4384-A8D3-437461D23F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ther Concern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orts to expand consumer acceptance of web-based services frustrated by sc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dentity theft concer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Vulnerability of online credit card us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52BE7FEB-7A5A-421F-A9AD-587041DD0F2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IS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Clearing House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chips.or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DIC 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dic.gov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ternational Swap and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isda.or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rivatives Associ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Wall Street Journal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www.wsj.com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D66D6331-B748-49F7-A0A3-00D233FC35F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Technology &amp; Profitabil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icient technological base can result in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ower cos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rough improved allocation of in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ncreased revenu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rough wider range of out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arnings before taxes = (Interest income - Interest expense) + (Other income - Noninterest expense) - Provision for loan los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830F104-2BAE-47B1-9579-29AC347848A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f Technolog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income can be increased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wider array of outputs or cross sel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expense can be de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improved access to markets for liabilit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edwire, CHIP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0594F167-15F5-476A-841D-33D51EA3F9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f Technolog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ther income can be in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electronic handling of fee generating OBS activities such as LCs and derivativ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Noninterest expenses can be reduc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rough improved efficiency of back office operations using technolog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specially true for securities-related activitie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EDE17CA0-03B6-45AA-80B4-32DA8CB5991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Wholesale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mprovements to cash managemen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ntrolled disbursement accoun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ccount reconcili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holesale lockbo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lockbox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unds concent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 deposit servic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initiation of letters of credit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BA8C0726-AA2A-4E8B-BDB6-C75C7C5251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Impact on Wholesale Banking (continued)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easury management softwa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data interchang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acilitating B2B e-commer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lectronic bill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Verifying identit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ssue of law enforcement access to encrypted data since September 11, 2001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ssisting small business entry into e-commer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Online customer-facing technologi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loud computing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45F2570E-D9BB-44C5-916F-E84944B836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pact on Retail Bank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761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utomated teller machin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int-of-sale debi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ablet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authorized debits/credi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obil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nlin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17-</a:t>
            </a:r>
            <a:fld id="{34924079-0F6D-4546-9006-306F0ACD71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7T07:56:43Z</dcterms:modified>
  <cp:revision>229</cp:revision>
  <dc:subject/>
  <dc:title>Slide 1</dc:title>
</cp:coreProperties>
</file>