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248160"/>
            <a:ext cx="800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holipour A. 2006. Organizational Behavior. University of Tehr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447920"/>
            <a:ext cx="9144000" cy="326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al Behavior:</a:t>
            </a:r>
            <a:br>
              <a:rPr sz="4400"/>
            </a:br>
            <a:br>
              <a:rPr sz="4400"/>
            </a:b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ing and Behavior Modif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362320" y="2286000"/>
            <a:ext cx="4419360" cy="2971800"/>
          </a:xfrm>
          <a:prstGeom prst="ellipse">
            <a:avLst/>
          </a:prstGeom>
          <a:solidFill>
            <a:srgbClr val="3a392f"/>
          </a:solidFill>
          <a:ln w="507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dad0be"/>
                </a:solidFill>
                <a:latin typeface="Arial"/>
              </a:rPr>
              <a:t>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dad0be"/>
                </a:solidFill>
                <a:latin typeface="Arial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83080" y="1598760"/>
            <a:ext cx="2057400" cy="1143000"/>
          </a:xfrm>
          <a:prstGeom prst="rect">
            <a:avLst/>
          </a:prstGeom>
          <a:solidFill>
            <a:srgbClr val="7828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cfeb9"/>
                </a:solidFill>
                <a:latin typeface="Arial"/>
              </a:rPr>
              <a:t>Spec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2895480"/>
            <a:ext cx="2057400" cy="1143000"/>
          </a:xfrm>
          <a:prstGeom prst="rect">
            <a:avLst/>
          </a:prstGeom>
          <a:solidFill>
            <a:srgbClr val="00545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cfeb9"/>
                </a:solidFill>
                <a:latin typeface="Arial"/>
              </a:rPr>
              <a:t>Frequ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4495680"/>
            <a:ext cx="2057400" cy="1143000"/>
          </a:xfrm>
          <a:prstGeom prst="rect">
            <a:avLst/>
          </a:prstGeom>
          <a:solidFill>
            <a:srgbClr val="7a002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cfeb9"/>
                </a:solidFill>
                <a:latin typeface="Arial"/>
              </a:rPr>
              <a:t>Tim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895480"/>
            <a:ext cx="2057400" cy="1143000"/>
          </a:xfrm>
          <a:prstGeom prst="rect">
            <a:avLst/>
          </a:prstGeom>
          <a:solidFill>
            <a:srgbClr val="33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cfeb9"/>
                </a:solidFill>
                <a:latin typeface="Arial"/>
              </a:rPr>
              <a:t>Relev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4495680"/>
            <a:ext cx="2057400" cy="1143000"/>
          </a:xfrm>
          <a:prstGeom prst="rect">
            <a:avLst/>
          </a:prstGeom>
          <a:solidFill>
            <a:srgbClr val="00005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cfeb9"/>
                </a:solidFill>
                <a:latin typeface="Arial"/>
              </a:rPr>
              <a:t>Cred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ving Feedback Effective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a0028"/>
                </a:solidFill>
                <a:latin typeface="Arial"/>
              </a:rPr>
              <a:t>Other Key Term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01"/>
              </a:spcBef>
              <a:buClr>
                <a:srgbClr val="7a00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a0028"/>
                </a:solidFill>
                <a:latin typeface="Arial"/>
              </a:rPr>
              <a:t>Self-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01"/>
              </a:spcBef>
              <a:buClr>
                <a:srgbClr val="7a00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a0028"/>
                </a:solidFill>
                <a:latin typeface="Arial"/>
              </a:rPr>
              <a:t>Learning Through Exper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01"/>
              </a:spcBef>
              <a:buClr>
                <a:srgbClr val="7a00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a0028"/>
                </a:solidFill>
                <a:latin typeface="Arial"/>
              </a:rPr>
              <a:t>Actio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454"/>
                </a:solidFill>
                <a:latin typeface="Times New Roman"/>
                <a:ea typeface="Times New Roman"/>
              </a:rPr>
              <a:t>A relatively permanent change in behavior (or behavior tendency) that occurs as a result of a person’s interaction with the environ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ies of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75000"/>
              </a:lnSpc>
              <a:spcBef>
                <a:spcPts val="1001"/>
              </a:spcBef>
              <a:buClr>
                <a:srgbClr val="7a00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a0028"/>
                </a:solidFill>
                <a:latin typeface="Times New Roman"/>
                <a:ea typeface="Times New Roman"/>
              </a:rPr>
              <a:t>Classical Condition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75000"/>
              </a:lnSpc>
              <a:spcBef>
                <a:spcPts val="4249"/>
              </a:spcBef>
              <a:buClr>
                <a:srgbClr val="7a00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a0028"/>
                </a:solidFill>
                <a:latin typeface="Times New Roman"/>
                <a:ea typeface="Times New Roman"/>
              </a:rPr>
              <a:t>Operant Condition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5000"/>
              </a:lnSpc>
              <a:spcBef>
                <a:spcPts val="4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a0028"/>
                </a:solidFill>
                <a:latin typeface="Times New Roman"/>
                <a:ea typeface="Times New Roman"/>
              </a:rPr>
              <a:t>- Law of effe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75000"/>
              </a:lnSpc>
              <a:spcBef>
                <a:spcPts val="4249"/>
              </a:spcBef>
              <a:buClr>
                <a:srgbClr val="7a00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a0028"/>
                </a:solidFill>
                <a:latin typeface="Times New Roman"/>
                <a:ea typeface="Times New Roman"/>
              </a:rPr>
              <a:t>Social Learning ( </a:t>
            </a:r>
            <a:r>
              <a:rPr b="0" lang="en-US" sz="4000" spc="-1" strike="noStrike" u="sng">
                <a:solidFill>
                  <a:srgbClr val="7a0028"/>
                </a:solidFill>
                <a:uFillTx/>
                <a:latin typeface="Times New Roman"/>
                <a:ea typeface="Times New Roman"/>
              </a:rPr>
              <a:t>Attention, Retention, Reproduction, Reinforcement</a:t>
            </a:r>
            <a:r>
              <a:rPr b="1" lang="en-US" sz="4000" spc="-1" strike="noStrike">
                <a:solidFill>
                  <a:srgbClr val="7a0028"/>
                </a:solidFill>
                <a:latin typeface="Times New Roman"/>
                <a:ea typeface="Times New Roman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75000"/>
              </a:lnSpc>
              <a:spcBef>
                <a:spcPts val="4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a0028"/>
                </a:solidFill>
                <a:latin typeface="Times New Roman"/>
                <a:ea typeface="Times New Roman"/>
              </a:rPr>
              <a:t>- Cognition, Ins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5943600" y="1600200"/>
            <a:ext cx="2743200" cy="4343400"/>
            <a:chOff x="5943600" y="1600200"/>
            <a:chExt cx="2743200" cy="4343400"/>
          </a:xfrm>
        </p:grpSpPr>
        <p:sp>
          <p:nvSpPr>
            <p:cNvPr id="45" name=""/>
            <p:cNvSpPr/>
            <p:nvPr/>
          </p:nvSpPr>
          <p:spPr>
            <a:xfrm>
              <a:off x="5943600" y="5181480"/>
              <a:ext cx="324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324480" y="1600200"/>
              <a:ext cx="2362320" cy="1676520"/>
            </a:xfrm>
            <a:prstGeom prst="rect">
              <a:avLst/>
            </a:prstGeom>
            <a:solidFill>
              <a:srgbClr val="8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2c7a7"/>
                  </a:solidFill>
                  <a:latin typeface="Arial"/>
                </a:rPr>
                <a:t>Consequen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What happe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fter behavi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24480" y="4267080"/>
              <a:ext cx="2362320" cy="1676520"/>
            </a:xfrm>
            <a:prstGeom prst="rect">
              <a:avLst/>
            </a:prstGeom>
            <a:solidFill>
              <a:srgbClr val="8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mploy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ceiv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ttend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on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741960" y="3643200"/>
            <a:ext cx="1643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-B-Cs of Behavior Mod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895480" y="1600200"/>
            <a:ext cx="3048120" cy="4343400"/>
            <a:chOff x="2895480" y="1600200"/>
            <a:chExt cx="3048120" cy="4343400"/>
          </a:xfrm>
        </p:grpSpPr>
        <p:sp>
          <p:nvSpPr>
            <p:cNvPr id="51" name=""/>
            <p:cNvSpPr/>
            <p:nvPr/>
          </p:nvSpPr>
          <p:spPr>
            <a:xfrm>
              <a:off x="2895480" y="5181480"/>
              <a:ext cx="628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81280" y="1600200"/>
              <a:ext cx="2362320" cy="1676520"/>
            </a:xfrm>
            <a:prstGeom prst="rect">
              <a:avLst/>
            </a:prstGeom>
            <a:solidFill>
              <a:srgbClr val="005454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ad7b8"/>
                  </a:solidFill>
                  <a:latin typeface="Arial"/>
                </a:rPr>
                <a:t>Behavi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What per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ays or do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81280" y="4267080"/>
              <a:ext cx="2362320" cy="1676520"/>
            </a:xfrm>
            <a:prstGeom prst="rect">
              <a:avLst/>
            </a:prstGeom>
            <a:solidFill>
              <a:srgbClr val="005454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mploy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tte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chedul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838080" y="1600200"/>
            <a:ext cx="2362320" cy="4343400"/>
            <a:chOff x="838080" y="1600200"/>
            <a:chExt cx="2362320" cy="4343400"/>
          </a:xfrm>
        </p:grpSpPr>
        <p:sp>
          <p:nvSpPr>
            <p:cNvPr id="55" name=""/>
            <p:cNvSpPr/>
            <p:nvPr/>
          </p:nvSpPr>
          <p:spPr>
            <a:xfrm>
              <a:off x="838080" y="1600200"/>
              <a:ext cx="2362320" cy="16765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2c7a7"/>
                  </a:solidFill>
                  <a:latin typeface="Arial"/>
                </a:rPr>
                <a:t>Anteced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What happe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efore behavi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4267080"/>
              <a:ext cx="2362320" cy="16765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ttend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onus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s announc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ping Behavior: A Managerial T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828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2800"/>
                </a:solidFill>
                <a:latin typeface="Times New Roman"/>
                <a:ea typeface="Times New Roman"/>
              </a:rPr>
              <a:t>Positive Reinforce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49"/>
              </a:spcBef>
              <a:buClr>
                <a:srgbClr val="7828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2800"/>
                </a:solidFill>
                <a:latin typeface="Times New Roman"/>
                <a:ea typeface="Times New Roman"/>
              </a:rPr>
              <a:t>Negative Reinforce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49"/>
              </a:spcBef>
              <a:buClr>
                <a:srgbClr val="7828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2800"/>
                </a:solidFill>
                <a:latin typeface="Times New Roman"/>
                <a:ea typeface="Times New Roman"/>
              </a:rPr>
              <a:t>Punishmen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49"/>
              </a:spcBef>
              <a:buClr>
                <a:srgbClr val="7828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2800"/>
                </a:solidFill>
                <a:latin typeface="Times New Roman"/>
                <a:ea typeface="Times New Roman"/>
              </a:rPr>
              <a:t>Extin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dules of Reinfor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10560" y="1371600"/>
            <a:ext cx="3902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Behavi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1      2      3      4      5      6      7      8     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523880" y="1981080"/>
            <a:ext cx="6629400" cy="459720"/>
            <a:chOff x="1523880" y="1981080"/>
            <a:chExt cx="6629400" cy="459720"/>
          </a:xfrm>
        </p:grpSpPr>
        <p:sp>
          <p:nvSpPr>
            <p:cNvPr id="62" name=""/>
            <p:cNvSpPr/>
            <p:nvPr/>
          </p:nvSpPr>
          <p:spPr>
            <a:xfrm>
              <a:off x="4267080" y="2057400"/>
              <a:ext cx="152640" cy="3049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24680" y="2057400"/>
              <a:ext cx="152640" cy="3049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24280" y="2057400"/>
              <a:ext cx="152640" cy="3049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81480" y="2057400"/>
              <a:ext cx="152640" cy="3049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67480" y="2057400"/>
              <a:ext cx="152640" cy="3049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38680" y="2057400"/>
              <a:ext cx="152640" cy="3049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10280" y="2057400"/>
              <a:ext cx="152640" cy="3049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5880" y="2057400"/>
              <a:ext cx="152640" cy="3049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53080" y="2057400"/>
              <a:ext cx="152640" cy="3049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90560" y="19810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0000"/>
                  </a:solidFill>
                  <a:latin typeface="Arial"/>
                </a:rPr>
                <a:t>Continuo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23880" y="243828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523880" y="2666880"/>
            <a:ext cx="6629400" cy="459720"/>
            <a:chOff x="1523880" y="2666880"/>
            <a:chExt cx="6629400" cy="459720"/>
          </a:xfrm>
        </p:grpSpPr>
        <p:sp>
          <p:nvSpPr>
            <p:cNvPr id="74" name=""/>
            <p:cNvSpPr/>
            <p:nvPr/>
          </p:nvSpPr>
          <p:spPr>
            <a:xfrm>
              <a:off x="4267080" y="2743200"/>
              <a:ext cx="152640" cy="304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24680" y="2743200"/>
              <a:ext cx="152640" cy="304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81480" y="2743200"/>
              <a:ext cx="152640" cy="304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010280" y="2743200"/>
              <a:ext cx="152640" cy="304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95880" y="2743200"/>
              <a:ext cx="152640" cy="304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29200" y="266688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0000"/>
                  </a:solidFill>
                  <a:latin typeface="Arial"/>
                </a:rPr>
                <a:t>Fixed rat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312408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523880" y="3276720"/>
            <a:ext cx="6629400" cy="459720"/>
            <a:chOff x="1523880" y="3276720"/>
            <a:chExt cx="6629400" cy="459720"/>
          </a:xfrm>
        </p:grpSpPr>
        <p:sp>
          <p:nvSpPr>
            <p:cNvPr id="82" name=""/>
            <p:cNvSpPr/>
            <p:nvPr/>
          </p:nvSpPr>
          <p:spPr>
            <a:xfrm>
              <a:off x="1938960" y="3276720"/>
              <a:ext cx="21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0000"/>
                  </a:solidFill>
                  <a:latin typeface="Arial"/>
                </a:rPr>
                <a:t>Variable rat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924680" y="3352680"/>
              <a:ext cx="152640" cy="30492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24280" y="3352680"/>
              <a:ext cx="152640" cy="30492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67480" y="3352680"/>
              <a:ext cx="152640" cy="30492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15000" y="3352680"/>
              <a:ext cx="152280" cy="30492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23880" y="373392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523880" y="4419720"/>
            <a:ext cx="6629400" cy="459720"/>
            <a:chOff x="1523880" y="4419720"/>
            <a:chExt cx="6629400" cy="459720"/>
          </a:xfrm>
        </p:grpSpPr>
        <p:sp>
          <p:nvSpPr>
            <p:cNvPr id="89" name=""/>
            <p:cNvSpPr/>
            <p:nvPr/>
          </p:nvSpPr>
          <p:spPr>
            <a:xfrm>
              <a:off x="1905480" y="4419720"/>
              <a:ext cx="21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0000"/>
                  </a:solidFill>
                  <a:latin typeface="Arial"/>
                </a:rPr>
                <a:t>Fixed inter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48320" y="4495680"/>
              <a:ext cx="152280" cy="3049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20120" y="4495680"/>
              <a:ext cx="152280" cy="3049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34120" y="4495680"/>
              <a:ext cx="152280" cy="3049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81680" y="4495680"/>
              <a:ext cx="152640" cy="3049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19920" y="4495680"/>
              <a:ext cx="152280" cy="3049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23880" y="487692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4124520" y="3884760"/>
            <a:ext cx="4071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ime (Day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1  2  3  4  5  6  7  8  9 10 11 12 13 14 15 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515240" y="5181480"/>
            <a:ext cx="6638040" cy="459720"/>
            <a:chOff x="1515240" y="5181480"/>
            <a:chExt cx="6638040" cy="459720"/>
          </a:xfrm>
        </p:grpSpPr>
        <p:sp>
          <p:nvSpPr>
            <p:cNvPr id="98" name=""/>
            <p:cNvSpPr/>
            <p:nvPr/>
          </p:nvSpPr>
          <p:spPr>
            <a:xfrm>
              <a:off x="1515240" y="5181480"/>
              <a:ext cx="253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0000"/>
                  </a:solidFill>
                  <a:latin typeface="Arial"/>
                </a:rPr>
                <a:t>Variable inter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91120" y="5257800"/>
              <a:ext cx="15228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19720" y="5257800"/>
              <a:ext cx="15228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48520" y="5257800"/>
              <a:ext cx="15228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91320" y="5257800"/>
              <a:ext cx="15228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23880" y="563868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20120" y="5257800"/>
              <a:ext cx="152280" cy="3049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b Behavior Mod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 Identify Target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Functionally Analyze the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3: Arrange Antecedents and Provide Con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4: Evalu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through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information about consequences of our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es role perce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ive feedback improves 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feedback motivates future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13000" y="3251160"/>
            <a:ext cx="3029040" cy="131436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valu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38080" y="3505320"/>
            <a:ext cx="2330280" cy="761760"/>
            <a:chOff x="838080" y="3505320"/>
            <a:chExt cx="2330280" cy="761760"/>
          </a:xfrm>
        </p:grpSpPr>
        <p:sp>
          <p:nvSpPr>
            <p:cNvPr id="111" name=""/>
            <p:cNvSpPr/>
            <p:nvPr/>
          </p:nvSpPr>
          <p:spPr>
            <a:xfrm>
              <a:off x="2647800" y="3879720"/>
              <a:ext cx="520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8080" y="3505320"/>
              <a:ext cx="1828800" cy="761760"/>
            </a:xfrm>
            <a:prstGeom prst="rect">
              <a:avLst/>
            </a:prstGeom>
            <a:solidFill>
              <a:srgbClr val="8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o-wor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676520" y="1905120"/>
            <a:ext cx="2120400" cy="1434960"/>
            <a:chOff x="1676520" y="1905120"/>
            <a:chExt cx="2120400" cy="1434960"/>
          </a:xfrm>
        </p:grpSpPr>
        <p:sp>
          <p:nvSpPr>
            <p:cNvPr id="114" name=""/>
            <p:cNvSpPr/>
            <p:nvPr/>
          </p:nvSpPr>
          <p:spPr>
            <a:xfrm>
              <a:off x="3181320" y="2629080"/>
              <a:ext cx="615600" cy="711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76520" y="1905120"/>
              <a:ext cx="1828440" cy="761760"/>
            </a:xfrm>
            <a:prstGeom prst="rect">
              <a:avLst/>
            </a:prstGeom>
            <a:solidFill>
              <a:srgbClr val="cc66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usto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676520" y="4393800"/>
            <a:ext cx="1949400" cy="1397520"/>
            <a:chOff x="1676520" y="4393800"/>
            <a:chExt cx="1949400" cy="1397520"/>
          </a:xfrm>
        </p:grpSpPr>
        <p:sp>
          <p:nvSpPr>
            <p:cNvPr id="117" name=""/>
            <p:cNvSpPr/>
            <p:nvPr/>
          </p:nvSpPr>
          <p:spPr>
            <a:xfrm flipV="1">
              <a:off x="2381400" y="4393800"/>
              <a:ext cx="1244520" cy="647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76520" y="5029200"/>
              <a:ext cx="1828800" cy="7621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ubordin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765400" y="1905120"/>
            <a:ext cx="2007000" cy="1473120"/>
            <a:chOff x="5765400" y="1905120"/>
            <a:chExt cx="2007000" cy="1473120"/>
          </a:xfrm>
        </p:grpSpPr>
        <p:sp>
          <p:nvSpPr>
            <p:cNvPr id="120" name=""/>
            <p:cNvSpPr/>
            <p:nvPr/>
          </p:nvSpPr>
          <p:spPr>
            <a:xfrm flipH="1">
              <a:off x="5765400" y="2666880"/>
              <a:ext cx="819000" cy="711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43600" y="1905120"/>
              <a:ext cx="1828800" cy="761760"/>
            </a:xfrm>
            <a:prstGeom prst="rect">
              <a:avLst/>
            </a:prstGeom>
            <a:solidFill>
              <a:srgbClr val="00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ro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a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809880" y="1523880"/>
            <a:ext cx="1828800" cy="1683000"/>
            <a:chOff x="3809880" y="1523880"/>
            <a:chExt cx="1828800" cy="1683000"/>
          </a:xfrm>
        </p:grpSpPr>
        <p:sp>
          <p:nvSpPr>
            <p:cNvPr id="123" name=""/>
            <p:cNvSpPr/>
            <p:nvPr/>
          </p:nvSpPr>
          <p:spPr>
            <a:xfrm>
              <a:off x="4698720" y="2209680"/>
              <a:ext cx="0" cy="99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09880" y="1523880"/>
              <a:ext cx="1828800" cy="762120"/>
            </a:xfrm>
            <a:prstGeom prst="rect">
              <a:avLst/>
            </a:prstGeom>
            <a:solidFill>
              <a:srgbClr val="6600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upervis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279840" y="3505320"/>
            <a:ext cx="2330640" cy="761760"/>
            <a:chOff x="6279840" y="3505320"/>
            <a:chExt cx="2330640" cy="761760"/>
          </a:xfrm>
        </p:grpSpPr>
        <p:sp>
          <p:nvSpPr>
            <p:cNvPr id="126" name=""/>
            <p:cNvSpPr/>
            <p:nvPr/>
          </p:nvSpPr>
          <p:spPr>
            <a:xfrm flipH="1">
              <a:off x="6279840" y="3879720"/>
              <a:ext cx="571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3505320"/>
              <a:ext cx="1828800" cy="761760"/>
            </a:xfrm>
            <a:prstGeom prst="rect">
              <a:avLst/>
            </a:prstGeom>
            <a:solidFill>
              <a:srgbClr val="8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o-wor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809880" y="4565520"/>
            <a:ext cx="1828800" cy="1606680"/>
            <a:chOff x="3809880" y="4565520"/>
            <a:chExt cx="1828800" cy="1606680"/>
          </a:xfrm>
        </p:grpSpPr>
        <p:sp>
          <p:nvSpPr>
            <p:cNvPr id="129" name=""/>
            <p:cNvSpPr/>
            <p:nvPr/>
          </p:nvSpPr>
          <p:spPr>
            <a:xfrm flipV="1">
              <a:off x="4775040" y="4565520"/>
              <a:ext cx="0" cy="84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9880" y="5410080"/>
              <a:ext cx="1828800" cy="7621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ubordin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937120" y="4317840"/>
            <a:ext cx="1835280" cy="1473480"/>
            <a:chOff x="5937120" y="4317840"/>
            <a:chExt cx="1835280" cy="1473480"/>
          </a:xfrm>
        </p:grpSpPr>
        <p:sp>
          <p:nvSpPr>
            <p:cNvPr id="132" name=""/>
            <p:cNvSpPr/>
            <p:nvPr/>
          </p:nvSpPr>
          <p:spPr>
            <a:xfrm flipH="1" flipV="1">
              <a:off x="5937120" y="4317840"/>
              <a:ext cx="1238400" cy="704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43600" y="5029200"/>
              <a:ext cx="1828800" cy="7621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ubordin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-Source (360 Degree) Feedb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5:37:26Z</dcterms:created>
  <dc:creator>Steven L. McShane</dc:creator>
  <dc:description/>
  <dc:language>en-US</dc:language>
  <cp:lastModifiedBy>Administrator</cp:lastModifiedBy>
  <dcterms:modified xsi:type="dcterms:W3CDTF">2006-04-23T05:21:31Z</dcterms:modified>
  <cp:revision>61</cp:revision>
  <dc:subject/>
  <dc:title>PowerPoint Presentation</dc:title>
</cp:coreProperties>
</file>