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74136-D6C9-4322-919C-DD035C89B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BF4F4-839B-44CE-B946-7CF3898ED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C2B8-AFB6-423C-B858-4D74E14E77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84AF1-0FDD-4040-9EDC-17EB2F7B1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1CE1A-C01B-44E9-9A76-6FB403877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091BA-9BBD-49D9-8EF0-FF70BF5F5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CC826-1130-4E22-975C-1CD00059F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298EF-6A0F-4CA6-A389-F635FF033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DB7E44-A47F-4683-901F-44C0C888A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4A723-14EB-46B0-A8DB-601791DFC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F1943-0EEE-4E48-B2BD-A65BE5DEA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C20BB-7DE3-4BCF-A11E-4F00B5909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4FAC4-0ADD-4161-A9B9-2F39A2476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67A21-02A6-4082-BBBE-0745648C4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DD2FC-D6FB-4EF2-9AFD-89096917E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E1B6D-CF51-4E88-9C34-7173809E3E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A26B55-A815-45E4-919C-2120B43A2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D114A74-C8DD-4945-8F81-489D537C55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3E2A8D-7E38-42A3-A2B9-D3031E4F5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F989461-1CD0-4DA6-ACBD-570B7335B4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1E4D8D1-7DBB-4CF2-9899-18CE6563C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E321B9-6B7E-4364-83EC-E917AE1324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2F221-BB4E-48CC-8F96-FAF762889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E289507-AEF1-43BC-AD45-43ACAD579A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AC27C8-4E1A-435F-A444-1F6A2265E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7440F51-2998-4B6B-995A-79A5800055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49F41C-0689-4F7E-921A-50C19AF04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582576-F20C-47F0-8C33-6E2E3FE881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C90CA9C-299D-49B7-8C55-0F50E40358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51573E5-1577-48C9-83EA-C1BADCEA53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56BBDDB-7D30-419F-B7C2-73E764CD9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80AC2A-D8B2-43BB-87C4-4FF585653E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739DA5-F167-48EC-8BB9-8D25E37AB4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DEC9A-E64D-4758-9020-7DAF8818A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DC2B1-2242-4016-A43A-DA5BB010D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932C6-642B-4254-AF24-AF49FE05B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B065A2-2556-4265-B61B-75E64257E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14D946-8571-414C-A9A3-C6D5D24EEF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0C5432-440E-4931-BAE7-F572E3632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B23840-5CC4-4480-A2BE-C7EB905CA3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521725-E2A7-4AED-8EB0-01813EA1D4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D4DCC2-0B9F-4FD7-8E9B-972CFE9896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CF5F63-E225-4992-B279-AD8E8793D7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84C8E-439A-41FC-BDF6-C18E4F734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BC9C-0F01-4558-A79E-A3614B0DD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29ABC-177A-4296-BBD8-591A36275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9A8D-7AE6-41E9-A826-695A0CE23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135FD-4163-483D-AD6B-0B552B7C2D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5F1B7-A8EC-47C9-B4E3-4BEFB407ACC0}"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4FEAD-E207-453C-BB1C-6B33B72DE08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5B91-5DDD-4037-AA02-D134708CBE33}"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CB35-A6EC-4227-85E4-39FB0787D1DC}"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8EB91-437C-49A4-A9A7-CA8B21C233CA}"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72FC-B05E-4A2F-92F8-8A1FB4FB420B}"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281D-2FC2-48DD-8952-345D854B5F01}"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1961-E272-4FDF-BFD4-F1E2FA5BFE91}"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 product formulation to  prevent the growth of, or to destroy of ,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Conc</a:t>
                      </a:r>
                      <a:r>
                        <a:rPr b="1" lang="en-US" sz="1800" spc="-1" strike="noStrike">
                          <a:solidFill>
                            <a:srgbClr val="ffffff"/>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henylmercuric nitrate</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Methyl </a:t>
                      </a:r>
                      <a:r>
                        <a:rPr b="0" i="1" lang="en-US" sz="1800" spc="-1" strike="noStrike">
                          <a:solidFill>
                            <a:srgbClr val="000000"/>
                          </a:solidFill>
                          <a:latin typeface="Georgia"/>
                          <a:ea typeface="Arial"/>
                        </a:rPr>
                        <a:t>p</a:t>
                      </a:r>
                      <a:r>
                        <a:rPr b="0" lang="en-US" sz="1800" spc="-1" strike="noStrike">
                          <a:solidFill>
                            <a:srgbClr val="000000"/>
                          </a:solidFill>
                          <a:latin typeface="Georgia"/>
                          <a:ea typeface="Arial"/>
                        </a:rPr>
                        <a:t>-hydroxybenzoate</a:t>
                      </a:r>
                      <a:r>
                        <a:rPr b="0" lang="en-US" sz="1800" spc="-1" strike="noStrike">
                          <a:solidFill>
                            <a:srgbClr val="000000"/>
                          </a:solidFill>
                          <a:latin typeface="Georgia"/>
                          <a:ea typeface="Arial"/>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arabens</a:t>
                      </a:r>
                      <a:r>
                        <a:rPr b="0" lang="en-US" sz="1800" spc="-1" strike="noStrike">
                          <a:solidFill>
                            <a:srgbClr val="000000"/>
                          </a:solidFill>
                          <a:latin typeface="Georgia"/>
                          <a:ea typeface="Arial"/>
                        </a:rPr>
                        <a:t>)  </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2%</a:t>
                      </a:r>
                      <a:r>
                        <a:rPr b="0" lang="en-US" sz="1800" spc="-1" strike="noStrike">
                          <a:solidFill>
                            <a:srgbClr val="000000"/>
                          </a:solidFill>
                          <a:latin typeface="Georgia"/>
                          <a:ea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68360" y="2276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User</cp:lastModifiedBy>
  <dcterms:modified xsi:type="dcterms:W3CDTF">2010-11-02T05:09:40Z</dcterms:modified>
  <cp:revision>118</cp:revision>
  <dc:subject/>
  <dc:title>Isotonicity</dc:title>
</cp:coreProperties>
</file>