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725A2-3DEE-4B38-8C4D-A84A4B47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B707B-0DF9-4505-AB84-DD499EB3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4BA26-5E0C-4CA4-81B0-CACD96D31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42B7E-8DC3-470A-831C-C100A893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B06B6-4916-4706-BA20-F72F4A1A1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F5EB8-2F0E-431A-B7E8-79F3B93B9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3C1A4-BA38-4316-8B6F-CF405EBF5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662F8-D697-4B4A-8C9C-2650AB797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250EB-F400-4799-94A0-B998BC85F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9619-E3BB-4843-B5CD-CA4CF123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FE95A-2AA0-4FAF-B8D3-5E9F1948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93F4-5EBA-4D35-8E6F-1E6E2B5D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5686-EBDA-40E6-BAFC-5B6083D7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795BB-2572-45D3-8AD9-B338BB425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D546F-BE1A-4123-904A-DC7AB2F72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57085-B687-4D2A-8065-6F4DDE561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305EB-DF1A-4DD9-8781-B9517CADC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0D023A-9C39-4CA2-9D61-7C5DC7721A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D0577C-46EB-4BB8-84E3-6EC4B68E0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F17B90-DA2C-4141-BB7D-8B775808E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B0A6AA-0859-4146-8C9E-7803A7575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A6F522-5230-43DF-BDEA-C52C0A1322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F2E39-D7FE-4932-A1BA-A7216FC4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7AC129-468C-4B76-8B5C-B6866B4E6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BA5B3B-15DA-4017-BAD2-9917CBE4E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31ACFC-A504-46FC-B808-CE1742A3E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3F0153-69E9-4678-B911-B30B5CE31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7CA178-E55B-40A3-9C09-3D59535C8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37692FC-F221-47FC-86CD-C1644973B8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26EFB3-2596-4B6D-BC6D-C1D08E162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CAFE8-6BC8-4B0E-9FB4-BC9890C7CD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E1228E-CAA2-4C02-B632-099E01254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0655D-D014-44A2-930F-C3F5DD881D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0BCD-7B3F-4368-8521-CDA298038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4686B-8445-441D-9F19-D08B07D2A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7E6D5-FAFC-4930-A723-F9F022734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47945-DC9E-4E12-B240-111C30CA4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8CDC3-5CF2-43C1-B5BD-EB68362B0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6BA6F-DD1B-4928-BC77-3B6B14B00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31AC0-C561-4F86-87D9-FC743BF81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62988-0104-4480-BD0D-E30752B74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1AC7B-691C-463C-8925-2DBAC77CB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B35196-320C-4F0C-AC1B-BB9CFF28ED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A6BB5-6FC9-43CF-85AF-B8FAA8B6D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D125-7900-4EFD-B44D-FD9DB8B2A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C200-EC9D-4C18-95AB-17CCE989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C3A9-8BCC-4FCA-9EDE-AB412903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7521-8DE1-4CC2-A90C-351184E85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BD69-638A-4C52-9B82-71B40B3BA2A6}"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8C90-A48B-4E71-A026-F381565E51B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5A56-C220-40FE-BE49-69789666E3D2}"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9095-6BBC-4B3D-9FF1-EBCE71AFB32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27C5-B43E-4470-8BD5-D298C93F662C}"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0219-7D96-4BC6-8A02-D5317F1AD78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8D63-0CF4-4B38-8F36-90430C34BA71}"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FAF6-E4BB-4224-89CB-5DB0362EAEE5}"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 product formulation to  prevent the growth of, or to destroy of ,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Conc</a:t>
                      </a:r>
                      <a:r>
                        <a:rPr b="1" lang="en-US" sz="1800" spc="-1" strike="noStrike">
                          <a:solidFill>
                            <a:srgbClr val="ffffff"/>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henylmercuric nitrate</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Methyl </a:t>
                      </a:r>
                      <a:r>
                        <a:rPr b="0" i="1" lang="en-US" sz="1800" spc="-1" strike="noStrike">
                          <a:solidFill>
                            <a:srgbClr val="000000"/>
                          </a:solidFill>
                          <a:latin typeface="Georgia"/>
                          <a:ea typeface="Arial"/>
                        </a:rPr>
                        <a:t>p</a:t>
                      </a:r>
                      <a:r>
                        <a:rPr b="0" lang="en-US" sz="1800" spc="-1" strike="noStrike">
                          <a:solidFill>
                            <a:srgbClr val="000000"/>
                          </a:solidFill>
                          <a:latin typeface="Georgia"/>
                          <a:ea typeface="Arial"/>
                        </a:rPr>
                        <a:t>-hydroxybenzoate</a:t>
                      </a:r>
                      <a:r>
                        <a:rPr b="0" lang="en-US" sz="1800" spc="-1" strike="noStrike">
                          <a:solidFill>
                            <a:srgbClr val="000000"/>
                          </a:solidFill>
                          <a:latin typeface="Georgia"/>
                          <a:ea typeface="Arial"/>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arabens</a:t>
                      </a:r>
                      <a:r>
                        <a:rPr b="0" lang="en-US" sz="1800" spc="-1" strike="noStrike">
                          <a:solidFill>
                            <a:srgbClr val="000000"/>
                          </a:solidFill>
                          <a:latin typeface="Georgia"/>
                          <a:ea typeface="Arial"/>
                        </a:rPr>
                        <a:t>)  </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2%</a:t>
                      </a:r>
                      <a:r>
                        <a:rPr b="0" lang="en-US" sz="1800" spc="-1" strike="noStrike">
                          <a:solidFill>
                            <a:srgbClr val="000000"/>
                          </a:solidFill>
                          <a:latin typeface="Georgia"/>
                          <a:ea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68360" y="2276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User</cp:lastModifiedBy>
  <dcterms:modified xsi:type="dcterms:W3CDTF">2010-11-02T05:09:40Z</dcterms:modified>
  <cp:revision>118</cp:revision>
  <dc:subject/>
  <dc:title>Isotonicity</dc:title>
</cp:coreProperties>
</file>