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D0B23-D8D4-4934-92C7-519A5020D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4A548E-A281-4EE6-B2DD-00AB7F11C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CECF1-A625-4551-9A43-5D171C718D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F4D839-24B6-4FD0-862B-5843C7F2C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E048B7-E6BA-4C5C-BAEE-C8E3D29A0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F70E5-382E-4457-9125-B5120435E5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4FA0A-FBE5-481D-9B3C-B27CFD884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BAB4E5-FC98-4924-BFB3-09E2611901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D919E-F4D6-49E5-958B-744B239F2B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90408-7234-4258-81A2-C0C02B3ED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216B8-DB7D-4906-BC2B-2B86AC806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3DA5F-7076-474F-B29E-5B7FCFD1C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690E3-CECC-4BA5-A536-8EDCEA632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C3458-7777-4C56-A4EF-9B3025F35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AD59E-9617-46BC-A6B2-280791333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A620E6-E10C-4131-9278-F9355A8D0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5CCB39-84CF-42EC-8704-72AF8CC9C5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FC5C59A-E938-4BB5-900B-964D92346A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6D67153-57F1-4A7C-8BA4-4F243D902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3EFF9B-D01F-4FBA-B75A-DE99C0824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A9B1FCA-CF0E-4419-A037-41CA3AE5DB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0768D16-24AF-4BDE-A855-0246ABA13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622AC-BC07-44DC-AC16-CEF219F22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39AECC-0DD2-48EC-BE66-0AD6049D0B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D3DEFC-EBA6-4D5D-81F8-D9CBEAB13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6C9D928-2D90-430A-A85C-7A07DEBA8B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7C5073F-F9E4-4DEC-9699-97A0B89A71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5E8B5AA-7AF9-429D-9761-1E3E1C0484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ED5EFBD-6172-43A2-80BF-40D3E3262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25E0157-7946-4F0A-93D8-7E8522BDF3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AEB2EA-0840-4999-9E6B-E86B2E936B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3B0238-A4F6-41D9-9947-316D9BA989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D76611-9DF8-4F32-8DF1-FEA86CA28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8E69-3F77-4B2C-9CD5-578E69022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1D9C22-67D2-421A-A7B8-BD6BEFC7B2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234B79-DADF-4389-9AC3-C5DA2882C5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B144A2-9217-4EDE-883F-C4E19C2CC1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A45509-E592-4A3B-AE0F-D65E377C1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56292-3A0B-463F-BA33-FD066DF08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F3468B-76D1-43D5-9AD8-B5326D10DC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17534-DDC6-4D94-AB9C-35D509D29C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A970D3-DA43-4F33-89A0-166B74CC4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08FFDB-73D2-42B7-B44F-351C11609D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B76B4-2503-4D93-98BF-A03CD96F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D247-8E17-4AF1-9354-D4B9FEE5C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E80E1-7674-4EF1-8172-67613C8FC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5EFB2-0073-4786-9580-A0C27355E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F6B5C-5578-4C52-9C31-9FEF82097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56F9B-319F-4590-9D63-E5EC4B0E1893}"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2567-1062-482D-8ED5-3AD04AE4F5D3}"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E4DC-082F-4B90-B5DA-BB172CAC6676}"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43E53-7BD7-4E0A-8656-B2EDA675A62E}"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7736F-2629-443A-827D-04EABF46A39A}"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1F36-C061-49EB-9F55-45AFDC61A21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A2C6-D8D1-41D8-9D68-D8FED8979001}"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9D39E-5515-4B49-AB2D-E5095CB5DC6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215"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236"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a typeface="Tahoma"/>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 product formulation to  prevent the growth of, or to destroy of ,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225" name=""/>
          <p:cNvGraphicFramePr/>
          <p:nvPr/>
        </p:nvGraphicFramePr>
        <p:xfrm>
          <a:off x="457200" y="2249640"/>
          <a:ext cx="8229600" cy="4251240"/>
        </p:xfrm>
        <a:graphic>
          <a:graphicData uri="http://schemas.openxmlformats.org/drawingml/2006/table">
            <a:tbl>
              <a:tblPr/>
              <a:tblGrid>
                <a:gridCol w="4114800"/>
                <a:gridCol w="4114800"/>
              </a:tblGrid>
              <a:tr h="370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ea typeface="Arial"/>
                        </a:rPr>
                        <a:t>Conc</a:t>
                      </a:r>
                      <a:r>
                        <a:rPr b="1" lang="en-US" sz="1800" spc="-1" strike="noStrike">
                          <a:solidFill>
                            <a:srgbClr val="ffffff"/>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6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henylmercuric nitrate</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Methyl </a:t>
                      </a:r>
                      <a:r>
                        <a:rPr b="0" i="1" lang="en-US" sz="1800" spc="-1" strike="noStrike">
                          <a:solidFill>
                            <a:srgbClr val="000000"/>
                          </a:solidFill>
                          <a:latin typeface="Georgia"/>
                          <a:ea typeface="Arial"/>
                        </a:rPr>
                        <a:t>p</a:t>
                      </a:r>
                      <a:r>
                        <a:rPr b="0" lang="en-US" sz="1800" spc="-1" strike="noStrike">
                          <a:solidFill>
                            <a:srgbClr val="000000"/>
                          </a:solidFill>
                          <a:latin typeface="Georgia"/>
                          <a:ea typeface="Arial"/>
                        </a:rPr>
                        <a:t>-hydroxybenzoate</a:t>
                      </a:r>
                      <a:r>
                        <a:rPr b="0" lang="en-US" sz="1800" spc="-1" strike="noStrike">
                          <a:solidFill>
                            <a:srgbClr val="000000"/>
                          </a:solidFill>
                          <a:latin typeface="Georgia"/>
                          <a:ea typeface="Arial"/>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parabens</a:t>
                      </a:r>
                      <a:r>
                        <a:rPr b="0" lang="en-US" sz="1800" spc="-1" strike="noStrike">
                          <a:solidFill>
                            <a:srgbClr val="000000"/>
                          </a:solidFill>
                          <a:latin typeface="Georgia"/>
                          <a:ea typeface="Arial"/>
                        </a:rPr>
                        <a:t>)  </a:t>
                      </a:r>
                      <a:r>
                        <a:rPr b="0" lang="ar-SA" sz="1800" spc="-1" strike="noStrike">
                          <a:solidFill>
                            <a:srgbClr val="000000"/>
                          </a:solidFill>
                          <a:latin typeface="Georgia"/>
                          <a:ea typeface="Arial"/>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0.02%</a:t>
                      </a:r>
                      <a:r>
                        <a:rPr b="0" lang="en-US" sz="1800" spc="-1" strike="noStrike">
                          <a:solidFill>
                            <a:srgbClr val="000000"/>
                          </a:solidFill>
                          <a:latin typeface="Georgia"/>
                          <a:ea typeface="Arial"/>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a:t>
                      </a:r>
                      <a:r>
                        <a:rPr b="0" lang="en-US" sz="1800" spc="-1" strike="noStrike">
                          <a:solidFill>
                            <a:srgbClr val="000000"/>
                          </a:solidFill>
                          <a:latin typeface="Georgia"/>
                          <a:ea typeface="Arial"/>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ea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226"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232" name=""/>
          <p:cNvSpPr txBox="1"/>
          <p:nvPr/>
        </p:nvSpPr>
        <p:spPr>
          <a:xfrm>
            <a:off x="468360" y="2276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User</cp:lastModifiedBy>
  <dcterms:modified xsi:type="dcterms:W3CDTF">2010-11-02T05:09:40Z</dcterms:modified>
  <cp:revision>118</cp:revision>
  <dc:subject/>
  <dc:title>Isotonicity</dc:title>
</cp:coreProperties>
</file>