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9B7C4-4AC2-4111-AF15-51E0B75BA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5B345-F07D-4CAB-8245-D85749375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E4D0D-D89E-4A1C-A3D8-0BBE16F42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C71A2-3083-43E2-86AA-D97BEA296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13C0D-CC27-4E3C-A6BB-247609F53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00039-887F-4365-B955-BBC90EADD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2EC04-95EA-4923-95FF-78B213B53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2E7F5-E7B1-4ED7-863D-B20A29533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5F2CE-0225-43EE-A3BF-65B60BFF5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6BDA0-EDFD-4061-A4C7-7B36DE98C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0F478-2151-4926-8DD7-39CD21D17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1098B-41FC-4260-9986-7BD25874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7032E-86E7-4920-AB8D-C652A92FA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3FFFB-8C29-4131-A316-3989E366F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4B3D1-E6DB-439F-900A-59956E59F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3F7D9-DFA3-4941-8D74-6D4AC8EC2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7F195-2C73-4B91-88D2-D02FC9BA9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D9052B1-DC05-45C9-8664-702CC7C12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EEC70A-5831-4BB0-948B-8E6F1A958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D557CB-72A2-454B-B210-1AC85FD46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72A9A3-AA99-4EDF-8362-7B9C96961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2B22F66-4C98-48F2-BC4C-20478EEDF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DAF6-13BC-4E9F-AD17-C02F9DCE1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C02A34-FB2C-4050-AA5F-53B0540C5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C8AF5F-21D1-4968-8CE5-8F01E71FA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ACF495-0D2E-49CC-844F-0B450AFED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C05825-68A3-409D-83F5-0ACD7C10C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5A0E48B-C942-4B28-8BA7-06093873A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F727947-1E42-43AA-A1E7-82892142C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41D6025-B729-411C-B884-30C1D2FB92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BA4311-782E-4B50-91A5-C4A1C0152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F6482-546A-45AB-93EA-C07D47CA7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1A1493-3606-429B-82AE-13C48A8F10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2438F-C764-4CB9-8646-F1BBF4A8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5B999-E518-46AB-9500-D3F885CCB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12830-7811-401A-9AB7-4B227AB4D9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20EC6-520D-4161-91A0-28F2ABF2A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FC582-33E8-47EF-9DD5-D68B43B25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16697-CCCB-4E4B-8900-8815C8252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9E8D4-1CFE-4D57-9664-79374425E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FC43B2-C419-4EF8-9CAF-F498DB9CF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15438E-B906-4092-BB08-8D37D1D76F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2AE210-20A3-45B1-997D-0BBDCEBDA4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BBE1A-1378-4535-A322-E74970B4F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B0EEA-2AB3-48AD-823A-356087E97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BBA24-70E3-4810-B811-24560BD6B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29B46-BA0D-4B4D-A9C8-CA848EF1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9A1C-E402-4CC0-A18F-D2923461A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C407-20FC-465E-B48B-9A6BFD4C0CC9}"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EDD1-5487-4B61-8F30-4D3D155F4EF8}"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4BB9-E93C-4578-96B5-AFC8A12AE656}"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0A87-5864-4BCF-9ABB-4CFC9B3EA76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3AF2-97D2-4DE1-B7BC-6CB1B5BD3810}"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CC61-FD98-4638-8435-AF5B0529955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7616-275B-4C8A-B3B9-0F7F37AD3DBE}"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D92A-7228-4CE4-A7FB-CCFBC91523B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840" y="178560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preservatives</a:t>
            </a:r>
            <a:endParaRPr b="0" lang="en-US" sz="6000" spc="-1" strike="noStrike">
              <a:solidFill>
                <a:srgbClr val="424456"/>
              </a:solidFill>
              <a:latin typeface="Trebuchet MS"/>
            </a:endParaRPr>
          </a:p>
        </p:txBody>
      </p:sp>
      <p:sp>
        <p:nvSpPr>
          <p:cNvPr id="215" name="PlaceHolder 2"/>
          <p:cNvSpPr>
            <a:spLocks noGrp="1"/>
          </p:cNvSpPr>
          <p:nvPr>
            <p:ph type="subTitle"/>
          </p:nvPr>
        </p:nvSpPr>
        <p:spPr>
          <a:xfrm>
            <a:off x="7601040" y="4285800"/>
            <a:ext cx="1542960" cy="11718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PHT 43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4456"/>
                </a:solidFill>
                <a:latin typeface="Trebuchet MS"/>
              </a:rPr>
              <a:t>Protein pharmaceutical</a:t>
            </a:r>
            <a:r>
              <a:rPr b="0" lang="en-US" sz="4000" spc="-1" strike="noStrike">
                <a:solidFill>
                  <a:srgbClr val="424456"/>
                </a:solidFill>
                <a:latin typeface="Trebuchet MS"/>
              </a:rPr>
              <a:t> </a:t>
            </a:r>
            <a:br>
              <a:rPr sz="4000"/>
            </a:b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in pharmaceutical  are preferred to be available as multiple dose because of: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st</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requency of use</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uman insulin, human growth hormone, vaccines</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several proteins are reactive with preservative (e.g. interleukins) and, therefore, are only available as single dosage form unit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2920" y="642600"/>
            <a:ext cx="885816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Trebuchet MS"/>
              </a:rPr>
              <a:t>Criteria may be useful in preservative selection</a:t>
            </a:r>
            <a:endParaRPr b="0" lang="en-US" sz="3000" spc="-1" strike="noStrike">
              <a:solidFill>
                <a:srgbClr val="424456"/>
              </a:solidFill>
              <a:latin typeface="Trebuchet MS"/>
            </a:endParaRPr>
          </a:p>
        </p:txBody>
      </p:sp>
      <p:sp>
        <p:nvSpPr>
          <p:cNvPr id="236" name=""/>
          <p:cNvSpPr txBox="1"/>
          <p:nvPr/>
        </p:nvSpPr>
        <p:spPr>
          <a:xfrm>
            <a:off x="142920" y="1857240"/>
            <a:ext cx="8786880" cy="47167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have a broad spectrum and be active against Gm+ve and Gm-ve organism as well as fungi. The agent should exert a rapid bactericidal activity.</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be stable over a wide range of condition including autoclaving temperatures and  pH range.</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mpatibility should be established with other component of the preparation and with package systems.</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ck of toxicity and irritation should be established with a reasonable margin of safety. </a:t>
            </a:r>
            <a:r>
              <a:rPr b="0" lang="en-US" sz="2800" spc="-1" strike="noStrike">
                <a:solidFill>
                  <a:srgbClr val="000000"/>
                </a:solidFill>
                <a:latin typeface="Georgia"/>
              </a:rPr>
              <a:t> </a:t>
            </a:r>
            <a:endParaRPr b="0" lang="en-US" sz="2800" spc="-1" strike="noStrike">
              <a:solidFill>
                <a:srgbClr val="000000"/>
              </a:solidFill>
              <a:latin typeface="Georgia"/>
            </a:endParaRPr>
          </a:p>
          <a:p>
            <a:pPr marL="585000" indent="-483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040" y="633240"/>
            <a:ext cx="8229600" cy="1085400"/>
          </a:xfrm>
          <a:prstGeom prst="rect">
            <a:avLst/>
          </a:prstGeom>
          <a:solidFill>
            <a:srgbClr val="ffffff"/>
          </a:solidFill>
          <a:ln w="19080">
            <a:solidFill>
              <a:srgbClr val="000000"/>
            </a:solidFill>
            <a:miter/>
          </a:ln>
        </p:spPr>
        <p:txBody>
          <a:bodyPr lIns="99360" rIns="99360" tIns="56160" bIns="5616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424456"/>
              </a:solidFill>
              <a:latin typeface="Trebuchet MS"/>
              <a:ea typeface="Tahoma"/>
            </a:endParaRPr>
          </a:p>
        </p:txBody>
      </p:sp>
      <p:sp>
        <p:nvSpPr>
          <p:cNvPr id="23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 are used for topical ophthalmic products packaged in multiple dose container unless the formation itself is self-preservative, as in the case with some antimicrobial products like the ophthalmic solution Vigamox.</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reservatives</a:t>
            </a: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 a substance or mixture of substances added to a product formulation to  prevent the growth of, or to destroy of , microorganisms introduced accidently once the container is opened for us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must be added in adequate concentration at the time of use to prevent the multiplication of microorganisms inadvertently introduced into the preparation while withdrawing a portion of  the contents with hypodermic needle and syri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ossibility that microorganisms might contaminate medicines during manufacture, storage or use must be addressed to ensure the continued stability and safety of the product. </a:t>
            </a:r>
            <a:endParaRPr b="0" lang="en-US" sz="2800" spc="-1" strike="noStrike">
              <a:solidFill>
                <a:srgbClr val="000000"/>
              </a:solidFill>
              <a:latin typeface="Georgia"/>
            </a:endParaRPr>
          </a:p>
          <a:p>
            <a:pPr marL="585000" indent="-483480">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mplex chemical and physicochemical nature of many formulations is often found to be conducive to the survival and even multiplication of such contaminants, unless specific precautions are taken to prevent 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mush preservatives can be used</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antimicrobial agents may have inherent toxicity for patient, the USP prescribes maximum volume and concentration limited for those that are used commonly in a parental produc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s of parenteral preservatives</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graphicFrame>
        <p:nvGraphicFramePr>
          <p:cNvPr id="225" name=""/>
          <p:cNvGraphicFramePr/>
          <p:nvPr/>
        </p:nvGraphicFramePr>
        <p:xfrm>
          <a:off x="457200" y="2249640"/>
          <a:ext cx="8229600" cy="4251240"/>
        </p:xfrm>
        <a:graphic>
          <a:graphicData uri="http://schemas.openxmlformats.org/drawingml/2006/table">
            <a:tbl>
              <a:tblPr/>
              <a:tblGrid>
                <a:gridCol w="4114800"/>
                <a:gridCol w="4114800"/>
              </a:tblGrid>
              <a:tr h="370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Antimicrobial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Conc</a:t>
                      </a:r>
                      <a:r>
                        <a:rPr b="1" lang="en-US" sz="1800" spc="-1" strike="noStrike">
                          <a:solidFill>
                            <a:srgbClr val="ffffff"/>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6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henylmercuric nitrate</a:t>
                      </a:r>
                      <a:r>
                        <a:rPr b="0" lang="ar-SA" sz="1800" spc="-1" strike="noStrike">
                          <a:solidFill>
                            <a:srgbClr val="000000"/>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Thimer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Benzeth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Benzalk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Pheny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Cres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chlorobutan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69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Methyl </a:t>
                      </a:r>
                      <a:r>
                        <a:rPr b="0" i="1" lang="en-US" sz="1800" spc="-1" strike="noStrike">
                          <a:solidFill>
                            <a:srgbClr val="000000"/>
                          </a:solidFill>
                          <a:latin typeface="Georgia"/>
                          <a:ea typeface="Arial"/>
                        </a:rPr>
                        <a:t>p</a:t>
                      </a:r>
                      <a:r>
                        <a:rPr b="0" lang="en-US" sz="1800" spc="-1" strike="noStrike">
                          <a:solidFill>
                            <a:srgbClr val="000000"/>
                          </a:solidFill>
                          <a:latin typeface="Georgia"/>
                          <a:ea typeface="Arial"/>
                        </a:rPr>
                        <a:t>-hydroxybenzoate</a:t>
                      </a:r>
                      <a:r>
                        <a:rPr b="0" lang="en-US" sz="1800" spc="-1" strike="noStrike">
                          <a:solidFill>
                            <a:srgbClr val="000000"/>
                          </a:solidFill>
                          <a:latin typeface="Georgia"/>
                          <a:ea typeface="Arial"/>
                        </a:rPr>
                        <a:t> &amp;</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ropyl p-hydroxybenzoate</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parabens</a:t>
                      </a:r>
                      <a:r>
                        <a:rPr b="0" lang="en-US" sz="1800" spc="-1" strike="noStrike">
                          <a:solidFill>
                            <a:srgbClr val="000000"/>
                          </a:solidFill>
                          <a:latin typeface="Georgia"/>
                          <a:ea typeface="Arial"/>
                        </a:rPr>
                        <a:t>)  </a:t>
                      </a:r>
                      <a:r>
                        <a:rPr b="0" lang="ar-SA" sz="1800" spc="-1" strike="noStrike">
                          <a:solidFill>
                            <a:srgbClr val="000000"/>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18%</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2%</a:t>
                      </a:r>
                      <a:r>
                        <a:rPr b="0" lang="en-US" sz="1800" spc="-1" strike="noStrike">
                          <a:solidFill>
                            <a:srgbClr val="000000"/>
                          </a:solidFill>
                          <a:latin typeface="Georgia"/>
                          <a:ea typeface="Arial"/>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In comb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Benzyl 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226" name="TextBox 6"/>
          <p:cNvSpPr/>
          <p:nvPr/>
        </p:nvSpPr>
        <p:spPr>
          <a:xfrm>
            <a:off x="0" y="6488280"/>
            <a:ext cx="65008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used because mercury toxicity, * Most widely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o select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icular agents may be effective in one formulation and ineffective in another. so,</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patibility with all other components of formula must be evalua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ivity must be evaluated in the total formula.</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inding and inactivation of parabens by macromolecules such as polysorbate 80. </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uses</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s are used with:</a:t>
            </a:r>
            <a:endParaRPr b="0" lang="en-US" sz="2800" spc="-1" strike="noStrike">
              <a:solidFill>
                <a:srgbClr val="000000"/>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ultidose parenteral (insulin)</a:t>
            </a: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ngle dose, small volume parenteral for which the sterilization was not the last step of produc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not used with</a:t>
            </a:r>
            <a:endParaRPr b="0" lang="en-US" sz="4000" spc="-1" strike="noStrike">
              <a:solidFill>
                <a:srgbClr val="424456"/>
              </a:solidFill>
              <a:latin typeface="Trebuchet MS"/>
            </a:endParaRPr>
          </a:p>
        </p:txBody>
      </p:sp>
      <p:sp>
        <p:nvSpPr>
          <p:cNvPr id="232" name=""/>
          <p:cNvSpPr txBox="1"/>
          <p:nvPr/>
        </p:nvSpPr>
        <p:spPr>
          <a:xfrm>
            <a:off x="468360" y="2276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le dose containers and pharmacy bulk packs that  do not contain antimicrobial agents are expected to be used promptly after opening or to be discard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rge-volume , single dose container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ervation is prohibited as the amount of preservative will be high.</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0:04:28Z</dcterms:created>
  <dc:creator>M.Tayel</dc:creator>
  <dc:description/>
  <dc:language>en-US</dc:language>
  <cp:lastModifiedBy>User</cp:lastModifiedBy>
  <dcterms:modified xsi:type="dcterms:W3CDTF">2010-11-02T05:09:40Z</dcterms:modified>
  <cp:revision>118</cp:revision>
  <dc:subject/>
  <dc:title>Isotonicity</dc:title>
</cp:coreProperties>
</file>